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F35A-1F4F-4CD6-8E9A-7D29E10C5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F2C3-F1BA-4BEA-8884-D88A99100D5C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3AD-ED23-4751-AC5F-FF371803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1D4-EB2D-4526-821E-6B331421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3CC-3515-44CA-BC50-85D4A09F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340-A953-453C-B85A-E8EABAD4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B607-E5BE-41C9-91BF-286CB394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5A06-C582-4F7E-A2F0-D117DE2D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60AB-99AE-4F46-80C3-2C6C1804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F68C-DD51-4CAC-8929-31A5F78B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21FB-04FE-4414-AD31-BDB6094A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D0F4-8BB6-441E-8A42-7F175516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10E3-E6FD-4A37-833F-EA197F5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82C-581E-466F-82F1-B983A7F0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AC01-B73E-47F8-A475-A6D67407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AA12-6095-46B4-AFDA-DC522D7E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D3AE-E5A9-4195-B54B-3FA9CDDB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5A06-A34B-477D-855B-8B4225D7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5200-3310-499C-9D3C-265DBD47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888B-A6BA-40DB-8A80-3597ADA7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3597-39F8-4882-A9E0-33283DE6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C41A-4D90-4158-90D7-F6AF54C3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8166F-485E-4DCE-8FCF-B934F766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AD227-7B70-4326-9F7B-1051BE19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A37-665E-4BFC-8C63-EACDF0A0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0902-A4A6-4E6C-803F-0FF5EA13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3F5AC-B31D-437C-BF27-C2A17F0F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BB6A3-544F-4D36-9E59-164FAE4D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B46AA-E89E-4AE5-A795-4C6F6F24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A2062-5ABE-4179-B32F-77633C81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D1F0-574E-4E66-A147-87BF9800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3B7A-6EC2-4F93-82F7-7EB1978A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613F3-BD18-404E-86C5-6D79E8E3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BD8F-099D-46AB-B835-F9954345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6F75D-4127-420A-8DF8-8B8E4919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F4C-68FF-4FDD-BA61-E5CD99E3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FC4CC-7AC3-4ABA-80A1-6F2A8E7C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66D4F-93CE-4E87-9B6D-492946E3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15FD-7AC2-422B-A1F2-4CC59413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94D3E-52C1-42E8-8210-6C4CBCCD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3B9D6-9044-4B78-A6EC-EFE09C0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591DB-4084-414C-96DF-7B6842F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40DA8-6398-4156-A81A-E19F2A24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330F4-D3F5-4D52-BBFB-879522D0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26912-22D3-4512-81E4-5D7381DE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E5267-48D3-4B44-85AB-FC03134E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5DF-4DD6-4F54-9F7C-F5E4E172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E47E1-F744-49D4-AED3-2DDE478C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9DE00-0C68-4DA2-98E4-E353A112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7D523-C769-4BC4-8607-5479BECB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80091-2A58-4321-B560-5584C65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1826-3748-4ED1-9628-B829F62A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BA128-BA20-4219-AC11-ADE71F8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795B6-184E-4AF6-B608-6461D6BA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8274E-071C-45D5-881E-29110833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C8052-2015-4178-A631-06368B61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046CC-6760-4490-9E74-E169A701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708-94E6-4DB2-A50A-08C0F712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7F6FC-C279-45B1-8776-B20E0720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EFB-5810-4B75-9B42-A29EAB6C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47D-8667-43D2-9D61-C7C7B541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4FC-E477-44CB-A311-C1260F93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5D88-DCB3-41F4-8185-C257C4D6B2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BCC0-F4FF-405F-8A2B-60A113F1D8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EB4A-2CA2-420D-89E5-203505CF00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027E-8BB6-4547-8F89-2B486396BC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5F24-4222-4501-AF61-5F5FCB50E5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57576e"/>
                </a:solidFill>
                <a:latin typeface="Arial"/>
              </a:rPr>
              <a:t>Systems of Linear Equations 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3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3055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382240" cy="259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845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d2533c"/>
                </a:solidFill>
                <a:latin typeface="Arial"/>
              </a:rPr>
              <a:t>Systems of Linear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04920" y="152388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As the introductory example, consider the set of equations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2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− y = 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+ 2y = 6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which is a system of two equations in the common variables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and y.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A solution to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his system consists of values for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and y that simultaneously satisfy each equation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304920" y="7621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In this example we proceed by solving the first equation for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y, so that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y = 2x − 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o find the solution, substitute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y = 2x − 2 into the second equation to obtain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+ 2(2x − 2) = 6 and solving for x gives x = 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Substituting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= 2 back into the first equation yields 2(2) − y = 2, so that y = 2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80880" y="38862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herefore the unique solution to the system is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= 2, y = 2. Since both of these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equations represent straight lines, a solution exists provided that the lines intersect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A system of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equations is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consistent if there is at least one solution to the system. If there are no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solutions, the system is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inconsistent.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228600" y="99072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 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In the case of systems of two linear equations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with two variables, there are three possibilities: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1. The two lines have different slopes and hence intersect at a unique point, as shown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in Fig. 1(a)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2. The two lines are identical (one equation is a nonzero multiple of the other), so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here are infinitely many solutions, as shown in Fig. 1(b)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3. The two lines are parallel (have the same slope) and do not intersect, so th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system is inconsistent, as shown in Fig. 1(c)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Graphs of Linear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inear Equation in “n” variab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ystem of Linear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24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8076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User</cp:lastModifiedBy>
  <cp:lastPrinted>2015-11-09T09:01:35Z</cp:lastPrinted>
  <dcterms:modified xsi:type="dcterms:W3CDTF">2016-03-29T09:11:10Z</dcterms:modified>
  <cp:revision>265</cp:revision>
  <dc:subject/>
  <dc:title>PowerPoint Presentation</dc:title>
</cp:coreProperties>
</file>