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BA7-98A1-4F55-9F3B-2A53A6B1D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88FE-78B4-48D8-BB5B-8E025325A262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519-3260-4067-9C71-BE4BCDC7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620-427A-468D-B93E-1A6663F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8A3-A335-4529-9629-0D7C0979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59F-CAFD-40D0-B8DB-66DFC249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F397-1DB5-4212-B47D-63622D94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3D06-C3EF-436F-94CD-3499A2B5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5E53-8B41-4FED-8A83-B1DD2368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DC8B-CFE9-4BE1-9011-D5DB43D8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6942-95DD-4E68-8574-8927CDB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5693-52F9-480F-AE4E-F1B558DC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1749-B9D1-4CF3-9C19-C62447A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2B2-CAFF-4AB9-8BD0-9BDB481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CAF4-847D-4AC5-80A5-EA1CA75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BF33-4101-46B7-BA07-668C7F93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D49B-002A-49B7-96EB-A4DFD0C1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7F55-9259-43F1-B889-FC65D034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EF77-AAC8-44C5-884F-8C19E21A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3D73-5557-4D18-9A01-0138A2FB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D126-BE60-4BA7-91F8-36D3CB9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8D66-395C-48B0-ABC6-7E67FD4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C48D-26DB-4EA0-856F-1CB8CF2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572D-3BD9-4CEB-BF95-5B0173B6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FD8-A4BB-4C1C-8F7A-141C023E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DB4C-5AA7-4371-B621-87CECD44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75A8-6468-461E-93DD-D416A66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E4C8-A80B-4CFB-98F4-624A5DF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F8EA-CA97-4EE0-8BCC-E112FE8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8B26-A4EF-4576-A3CB-83DA4FE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46CB-C5C7-4C44-80D7-6E25B68E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8E0C-091A-44B1-80F4-EA22850D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2676-3ADB-481A-BCFA-719ACD2C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041DD-6FA3-496A-A06C-8BDE4F9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3C3D-A53A-4325-ABD4-B47608F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4AD-F190-422A-8726-9652CEB9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0AC9-B889-4FF8-9422-4991856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A1C8-C079-45CD-B8C3-E8966694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44CB-755A-4C7B-8564-BC23A03F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B2AF-2AC0-4A7A-9070-CD2B538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2F12-0505-4F74-ADEF-39B1A60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372F-38F8-4751-B5E0-6723493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3D5F-9633-41C4-89B8-38780A62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A3AF-CDB2-416A-8617-BA65C5E3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F061-4327-485F-802F-F4B22BBC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AACD-465C-4168-BA8F-AFB525C9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13D-A2C4-4259-AA93-35253EF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27F4-6D6A-41C8-9021-D14EF1A4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EF12-8A82-4A55-8BEC-9A463DF0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B3E2-4C58-40A4-B9E9-411B546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715D-B319-491B-9403-62FE34D7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5832-A633-4466-8970-6EBB930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FA098-2415-4600-889C-6B112EC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A1B8-046D-4C01-A291-E9A0B06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FE6F-4BCD-4076-856C-F01B520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FAF5-6BCF-435A-93D3-49A94683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8236-897C-4EDC-BD86-53CF5CF7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AB0-30BD-4695-9C1C-66C61538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3DB2-D18A-4E31-8C16-63D53EA6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9B3-63DC-4DA8-A0AA-A60FBD17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A44-FC84-4250-A79A-69C246E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284-7DF0-48EB-9CBE-90D3B21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C1C-E605-49FB-ABDD-BE361CF058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7B1-5FA3-40DB-A7E7-267568654B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9EF-49B0-4DC9-BEF0-B7C3BAD5DB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7354-C9A8-466F-A80C-861C932B88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8CC-E49C-488D-8205-CB2DEB8FA4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Systems of Linear Equations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259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d2533c"/>
                </a:solidFill>
                <a:latin typeface="Arial"/>
              </a:rPr>
              <a:t>System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04920" y="1523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As the introductory example, consider the set of equation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2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− y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y = 6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hich is a system of two equations in the common variable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olution t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is system consists of values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 that simultaneously satisfy each equation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04920" y="762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this example we proceed by solving the first equation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, so that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o find the solution, substitute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 into the second equation to obtai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(2x − 2) = 6 and solving for x gives x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ubstituting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 back into the first equation yields 2(2) − y = 2, so that y = 2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80880" y="3886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fore the unique solution to the system i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, y = 2. Since both of these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represent straight lines, a solution exists provided that the lines intersect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ystem of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consistent if there is at least one solution to the system. If there are n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olutions, the system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consistent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228600" y="9907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 the case of systems of two linear equations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ith two variables, there are three possibilities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1. The two lines have different slopes and hence intersect at a unique point, as show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Fig. 1(a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2. The two lines are identical (one equation is a nonzero multiple of the other), so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 are infinitely many solutions, as shown in Fig. 1(b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3. The two lines are parallel (have the same slope) and do not intersect, so th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ystem is inconsistent, as shown in Fig. 1(c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raph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inear Equation in “n” variab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ystem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5-11-09T09:01:35Z</cp:lastPrinted>
  <dcterms:modified xsi:type="dcterms:W3CDTF">2016-03-29T09:11:10Z</dcterms:modified>
  <cp:revision>265</cp:revision>
  <dc:subject/>
  <dc:title>PowerPoint Presentation</dc:title>
</cp:coreProperties>
</file>