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8B94-6494-4917-BB45-2705126CD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99F6-CF06-42F1-B8B8-6F305A1010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1DE5-7A8D-419F-B024-06A9DA9B70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D92C-C10B-4A67-8D16-573FC94E2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DA99-7EF9-441F-A9A3-5D1FB30ECC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1B54-101B-441E-BF07-5D6B9C924E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0213-2F90-40DD-8D02-F83229C807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412C-42C0-4DB1-B242-A96C51EBAB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95A7-2F61-4B55-B5EE-87D243E98A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1BD2-40E9-42EE-A7EB-FC7D90D679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605B-9129-4734-AC51-55DB672E0A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6C5F-722D-405B-BF73-DD2216CB0C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A362-E7B5-4E7D-A37D-64E9BAE3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D1E3-CE48-4F9A-A949-D77E02F6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E80D-F4AA-4112-9498-CF37A9AF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E753-D5B3-4755-834B-65F68C6A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4461-4814-4A57-B5D2-A17555F6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8F0D-8777-4538-BB76-40EAC6A2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309D-28F0-479C-88B5-29364375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56FC-CC2A-4AE0-B62F-7595EB17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09FB-E812-4FCD-9B32-A714DD44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2753-DE83-423A-9DC6-A9D1EDF1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E8BB-2A70-47C5-B763-A02829DA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04B0-7972-4112-A948-705FE35F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9666-2AA4-4BEF-A63B-FA3CD524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1C6C-81AD-441E-B409-2E6EA454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C2A6-735B-4F19-B4B6-36656E85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FAC4-52B9-40A7-8081-A7E4F1CA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6665-69A6-49D1-80D4-FDD72F76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D5B4-043F-4468-8D33-EC2B2CAA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0400-69C2-4483-8FDC-6466CB15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8B93-51F9-41F3-B983-621B900C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4BBE-8FC5-4C91-ADD7-EE4A8E6A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AD82-7EAB-4132-904D-8C79E6A1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6CD1-BD78-4F77-BA11-C294985D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BD4D-4202-4BFA-ACBE-54CD9688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8446-2688-4D04-8B42-C59910135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8CF1-4777-4C93-9DFE-D4D770A0F6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Solid dosage forms</a:t>
            </a:r>
            <a:br>
              <a:rPr sz="6000"/>
            </a:br>
            <a:r>
              <a:rPr b="0" lang="ar-EG" sz="6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ablet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51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Classification of tablet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cording to drug release rate from the tablets (USP classific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- Immediate release (conventional tabl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- Modified release tablets (extended and delayed release tabl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cording to method of manufact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- Compressed tab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- Modified tab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5"/>
          <p:cNvSpPr/>
          <p:nvPr/>
        </p:nvSpPr>
        <p:spPr>
          <a:xfrm>
            <a:off x="304920" y="22860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y attributes of tablet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includ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ct do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earance of the tablet should 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gant and its weight, siz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ance should be consisten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rug should be released from the tablet i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reproducible w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52280" y="31240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compatib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be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fficient mechanical strength to withstan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cture and erosion during hand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blet should b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ally, physically and microbiologically s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74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cc"/>
                </a:solidFill>
                <a:latin typeface="Arial"/>
              </a:rPr>
              <a:t>Solid dosage form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304920" y="1676520"/>
            <a:ext cx="2895480" cy="1295280"/>
          </a:xfrm>
          <a:prstGeom prst="ellipse">
            <a:avLst/>
          </a:prstGeom>
          <a:solidFill>
            <a:srgbClr val="0033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6"/>
          <p:cNvSpPr/>
          <p:nvPr/>
        </p:nvSpPr>
        <p:spPr>
          <a:xfrm>
            <a:off x="5105520" y="1676520"/>
            <a:ext cx="2895480" cy="12952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aps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7"/>
          <p:cNvSpPr/>
          <p:nvPr/>
        </p:nvSpPr>
        <p:spPr>
          <a:xfrm>
            <a:off x="380880" y="3809880"/>
            <a:ext cx="2895840" cy="1295640"/>
          </a:xfrm>
          <a:prstGeom prst="ellipse">
            <a:avLst/>
          </a:prstGeom>
          <a:solidFill>
            <a:srgbClr val="52527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8"/>
          <p:cNvSpPr/>
          <p:nvPr/>
        </p:nvSpPr>
        <p:spPr>
          <a:xfrm>
            <a:off x="2743200" y="5181480"/>
            <a:ext cx="2895480" cy="1447920"/>
          </a:xfrm>
          <a:prstGeom prst="ellipse">
            <a:avLst/>
          </a:prstGeom>
          <a:solidFill>
            <a:srgbClr val="52527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sito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9"/>
          <p:cNvSpPr/>
          <p:nvPr/>
        </p:nvSpPr>
        <p:spPr>
          <a:xfrm>
            <a:off x="5029200" y="3809880"/>
            <a:ext cx="2895480" cy="1295640"/>
          </a:xfrm>
          <a:prstGeom prst="ellipse">
            <a:avLst/>
          </a:prstGeom>
          <a:solidFill>
            <a:srgbClr val="52527c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10" descr="images[11]"/>
          <p:cNvPicPr/>
          <p:nvPr/>
        </p:nvPicPr>
        <p:blipFill>
          <a:blip r:embed="rId1"/>
          <a:stretch/>
        </p:blipFill>
        <p:spPr>
          <a:xfrm>
            <a:off x="2819520" y="1828800"/>
            <a:ext cx="1342800" cy="1190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AU8663PCADNCLRFCAOUXONXCAVS0VI6CA3SFAA2CASNTQG0CAOK8SRQCA41DC4MCAJGIYAXCA76A3I1CAOSIO3SCACEDDD9CANGB52ZCA9XXYUUCA5PAL3LCALEPCMCCA048T48CAU8NIDWCA98O1C9"/>
          <p:cNvPicPr/>
          <p:nvPr/>
        </p:nvPicPr>
        <p:blipFill>
          <a:blip r:embed="rId2"/>
          <a:stretch/>
        </p:blipFill>
        <p:spPr>
          <a:xfrm>
            <a:off x="7620120" y="1752480"/>
            <a:ext cx="1304640" cy="1295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2" descr="A8R6CD6CA5EX3WXCA5DCUA2CAQYX969CACSQMBRCA6V9AZ6CANGQNUJCANALFFBCAMMJOYZCAT5QUOCCA70FADACAISQ9IWCAOLZ8NBCANQ2A09CASAO58SCA8XC7D8CAEIE23WCAKSJ59VCAWUZHKV"/>
          <p:cNvPicPr/>
          <p:nvPr/>
        </p:nvPicPr>
        <p:blipFill>
          <a:blip r:embed="rId3"/>
          <a:stretch/>
        </p:blipFill>
        <p:spPr>
          <a:xfrm>
            <a:off x="7696080" y="3886200"/>
            <a:ext cx="1228680" cy="1143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3" descr="AZB2O8YCAUUR8A7CAZVILW2CALL1ACKCAE8F0BTCABUTF87CAODZ2GKCAAD5XARCAFEBB51CA2X3702CAQ5ITZBCAIABII4CA3IW7MGCAXI7V63CAWWIHMRCAFCAA9FCA3ICOB7CA6X2ROFCAB1HKW6"/>
          <p:cNvPicPr/>
          <p:nvPr/>
        </p:nvPicPr>
        <p:blipFill>
          <a:blip r:embed="rId4"/>
          <a:stretch/>
        </p:blipFill>
        <p:spPr>
          <a:xfrm>
            <a:off x="2895480" y="38862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4" descr="AWF74KCCAHQZ7EECA027EYVCA78D8N6CAHLC1L7CAIKWXITCA89V5DMCAEMFULFCA4G0468CA5F8QK2CAI4CSX1CA2LIG0ECAQD2MYECAYMA9K4CAWPPGRWCAGG4KQQCANHTVAKCAY9I188CAL3FOOU"/>
          <p:cNvPicPr/>
          <p:nvPr/>
        </p:nvPicPr>
        <p:blipFill>
          <a:blip r:embed="rId5"/>
          <a:stretch/>
        </p:blipFill>
        <p:spPr>
          <a:xfrm>
            <a:off x="5638680" y="5638680"/>
            <a:ext cx="13431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dvantages of solid dosage forms</a:t>
            </a:r>
            <a:br>
              <a:rPr sz="5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More stable than liquids, with longer expiration dates.</a:t>
            </a:r>
            <a:br>
              <a:rPr sz="5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Easy shipping and handling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Less needed shelf space.</a:t>
            </a:r>
            <a:br>
              <a:rPr sz="54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 Established method, Non-invasive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. Accurate dosage (single dose)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. Suitable for sustained release preparation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br>
              <a:rPr sz="5400"/>
            </a:b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Disadvantages of solid dosage form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ir preparation needs complicated and expensive machin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s a solid dosage form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Definition</a:t>
            </a:r>
            <a:r>
              <a:rPr b="0" lang="de-DE" sz="4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re solid preparations each containing a single dose of one or more active ingredients intended for oral administration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o produce certain therapeutic effect</a:t>
            </a: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nd usually obtained by compressing uniform volume of particles or some are prepared by moulding</a:t>
            </a:r>
            <a:r>
              <a:rPr b="0" lang="de-DE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7" descr="images[9]"/>
          <p:cNvPicPr/>
          <p:nvPr/>
        </p:nvPicPr>
        <p:blipFill>
          <a:blip r:embed="rId1"/>
          <a:stretch/>
        </p:blipFill>
        <p:spPr>
          <a:xfrm>
            <a:off x="5334120" y="1295280"/>
            <a:ext cx="3016080" cy="200988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585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ablets are usually prepared by the aid of some pharmaceutical exicipents (additives) to: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● help in tableting procedure</a:t>
            </a: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● ensure that the drug will be released as intended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termʺtabletsʺ (from the latin tabuletta) is associated with the appearance of the dosage form i.e tablets are small disc-like or cylindrical specimens. Tablets are solid, flat or biconvex discs.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st tablets are used for oral administration of drugs, others are administered sublingually buccaly or vaginally</a:t>
            </a:r>
            <a:r>
              <a:rPr b="0" lang="de-DE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ablets may be swallowed whole or being chewed. Some are dissolved or dispersed in water before administration. Some are put in oral cavity, where the active ingredient is liberated at a predetermined rate.</a:t>
            </a: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Implants or passeries may also be presented in form of table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ablet may vary in shape and differ greatly in size and weight depending on the amount of medicinal substance and the intended mode of administration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The compressed tablet is the most popular dosage form in use today. About two-thirds of all prescriptions are dispensed as solid dosage forms, and half of these are compressed tablets</a:t>
            </a: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Advantages of tablets (Tablets are popular WHY?):</a:t>
            </a:r>
            <a:br>
              <a:rPr sz="3600"/>
            </a:br>
            <a:br>
              <a:rPr sz="20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In U.K. Tablets represents about 46% of all other dosage forms.</a:t>
            </a:r>
            <a:br>
              <a:rPr sz="2000"/>
            </a:br>
            <a:br>
              <a:rPr sz="20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1- Compared to liquid dosage forms tablets possess more chemical and physical stability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2- Packaging in blister packs can also enhance the stability of tablet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3- They provide an accurately measured dose and low content variability of the unit dos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4- Low manufacturing cos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5- Easy to package (blister or strip) and ship. Easy handling over liquid dosage form</a:t>
            </a:r>
            <a:r>
              <a:rPr b="0" lang="en-US" sz="24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Advantages of tablets cont.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6- Simple to identify. Coatings can be colored or stamped to aid tablet recognition.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7- Manufacturing processes and techniques can provide tablets special properties for example enteric coatings or sustained release formulation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8- Lightest and most compact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9- Coating can mask unpleasant taste and improve patient acceptability</a:t>
            </a:r>
            <a:r>
              <a:rPr b="0" lang="en-US" sz="28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Disadvantages of tablets as a dosage form:</a:t>
            </a:r>
            <a:br>
              <a:rPr sz="4000"/>
            </a:br>
            <a:br>
              <a:rPr sz="48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- Poor bioavailability of poorly soluble drugs or poorly absorbable drug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- Some drugs may cause local irritation effect         harm GIT mucosa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- Some drugs resist compression into table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4- Difficulty in swallowing in some patients; pediatrics and geriatric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5- In emergency cases, intravenous or intramuscular injections are more effective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5486400" y="3809880"/>
            <a:ext cx="45720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23:34:03Z</dcterms:created>
  <dc:creator>Mohamad</dc:creator>
  <dc:description/>
  <dc:language>en-US</dc:language>
  <cp:lastModifiedBy>bquadeib</cp:lastModifiedBy>
  <dcterms:modified xsi:type="dcterms:W3CDTF">2017-04-09T18:49:33Z</dcterms:modified>
  <cp:revision>26</cp:revision>
  <dc:subject/>
  <dc:title>Solid dosage forms</dc:title>
</cp:coreProperties>
</file>