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D75-264C-4C74-AA84-865EAD99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32C-62E2-4DA3-AAF9-DCFB1EBC5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121-26EC-4C61-9B2C-6C3DDB843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B25-F00F-4B10-AD93-2D2C9B76D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C01F-DD46-4118-B3D9-67E1A3C6AD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A8C-560C-4FBF-BB84-DD575623A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C3A-2106-4634-B369-097FECE09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4E6E-A359-420D-A556-591BA6F77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F17-7280-4EB3-9BD1-657F7E01A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BCC2-6EC8-461B-8E9C-2C7DB9A06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E7F-DEC4-4310-8003-6CC846AF3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98B-117F-48C4-AD5D-C6FD841C10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31B5-C351-4E63-BBEA-32921CD8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8786-FB02-43AB-BE4A-3FF7633C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CCFE-FE56-4964-AD01-F4B565FF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8DD3-D12A-4816-B16D-AEEE0920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CD46-F655-4020-A4D4-E890BD51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9863-291A-4261-B1DD-9C2ACB6A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F067-F3A0-44F2-8DA4-CEF7DD04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222B-C097-496D-99B1-9848933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40D-BC31-446D-8D64-F376C25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641-FE65-4FE7-8130-7892324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4E2F-9F02-4740-AE0D-0D0A238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B1A6-A103-4E8B-B968-4FC06B7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DC2-226F-4D37-88D4-AE9FB70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A5D-B749-468D-AC95-11065E4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7166-81F0-4154-8377-440CF8C7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C34-1935-45EE-88DC-3F8B3C54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2F12-3E5F-4C20-B611-54EF1E98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5691-3D4F-4C45-8953-D8899862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6CDA-B27E-4709-AB8A-6E686F3B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7CAD-A429-459A-9966-B91919C5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59C6-06EB-48E3-9061-9A7796B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3215-BE5E-46D2-8E03-872A44B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AB34-B2B4-4CCB-AAD5-6A4986D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FBC3-8088-47B3-8A56-69A5986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0D6-FEE4-43B0-927E-DE30D8FC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324-4E60-4071-A8FB-012225E5C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Solid dosage forms</a:t>
            </a:r>
            <a:br>
              <a:rPr sz="6000"/>
            </a:b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Classification of 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drug release rate from the tablets (USP classific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Immediate release (conventional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release tablets (extended and delayed release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method of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Compress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y attributes of table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includ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ct d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earance of 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gant and its weight, siz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should be consist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rug should be released from the tablet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eproducible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52280" y="3124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compati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fficient mechanical strength to withst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cture and erosion during hand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, physically and microbiologically 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Arial"/>
              </a:rPr>
              <a:t>Solid dosage form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304920" y="1676520"/>
            <a:ext cx="2895480" cy="129528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5105520" y="1676520"/>
            <a:ext cx="2895480" cy="12952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380880" y="3809880"/>
            <a:ext cx="289584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"/>
          <p:cNvSpPr/>
          <p:nvPr/>
        </p:nvSpPr>
        <p:spPr>
          <a:xfrm>
            <a:off x="2743200" y="5181480"/>
            <a:ext cx="2895480" cy="144792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i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5029200" y="3809880"/>
            <a:ext cx="289548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0" descr="images[11]"/>
          <p:cNvPicPr/>
          <p:nvPr/>
        </p:nvPicPr>
        <p:blipFill>
          <a:blip r:embed="rId1"/>
          <a:stretch/>
        </p:blipFill>
        <p:spPr>
          <a:xfrm>
            <a:off x="2819520" y="1828800"/>
            <a:ext cx="1342800" cy="1190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AU8663PCADNCLRFCAOUXONXCAVS0VI6CA3SFAA2CASNTQG0CAOK8SRQCA41DC4MCAJGIYAXCA76A3I1CAOSIO3SCACEDDD9CANGB52ZCA9XXYUUCA5PAL3LCALEPCMCCA048T48CAU8NIDWCA98O1C9"/>
          <p:cNvPicPr/>
          <p:nvPr/>
        </p:nvPicPr>
        <p:blipFill>
          <a:blip r:embed="rId2"/>
          <a:stretch/>
        </p:blipFill>
        <p:spPr>
          <a:xfrm>
            <a:off x="7620120" y="1752480"/>
            <a:ext cx="1304640" cy="12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A8R6CD6CA5EX3WXCA5DCUA2CAQYX969CACSQMBRCA6V9AZ6CANGQNUJCANALFFBCAMMJOYZCAT5QUOCCA70FADACAISQ9IWCAOLZ8NBCANQ2A09CASAO58SCA8XC7D8CAEIE23WCAKSJ59VCAWUZHKV"/>
          <p:cNvPicPr/>
          <p:nvPr/>
        </p:nvPicPr>
        <p:blipFill>
          <a:blip r:embed="rId3"/>
          <a:stretch/>
        </p:blipFill>
        <p:spPr>
          <a:xfrm>
            <a:off x="7696080" y="388620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AZB2O8YCAUUR8A7CAZVILW2CALL1ACKCAE8F0BTCABUTF87CAODZ2GKCAAD5XARCAFEBB51CA2X3702CAQ5ITZBCAIABII4CA3IW7MGCAXI7V63CAWWIHMRCAFCAA9FCA3ICOB7CA6X2ROFCAB1HKW6"/>
          <p:cNvPicPr/>
          <p:nvPr/>
        </p:nvPicPr>
        <p:blipFill>
          <a:blip r:embed="rId4"/>
          <a:stretch/>
        </p:blipFill>
        <p:spPr>
          <a:xfrm>
            <a:off x="2895480" y="38862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AWF74KCCAHQZ7EECA027EYVCA78D8N6CAHLC1L7CAIKWXITCA89V5DMCAEMFULFCA4G0468CA5F8QK2CAI4CSX1CA2LIG0ECAQD2MYECAYMA9K4CAWPPGRWCAGG4KQQCANHTVAKCAY9I188CAL3FOOU"/>
          <p:cNvPicPr/>
          <p:nvPr/>
        </p:nvPicPr>
        <p:blipFill>
          <a:blip r:embed="rId5"/>
          <a:stretch/>
        </p:blipFill>
        <p:spPr>
          <a:xfrm>
            <a:off x="5638680" y="5638680"/>
            <a:ext cx="13431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vantages of solid dosage forms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More stable than liquids, with longer expiration dates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Easy shipping and handling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Less needed shelf space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 Established method, Non-invasive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 Accurate dosage (single dose)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. Suitable for sustained release preparation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isadvantages of solid dosage form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ir preparation needs complicated and expensive machin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s a solid dosage for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solid preparations each containing a single dose of one or more active ingredients intended for oral administration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 produce certain therapeutic effect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nd usually obtained by compressing uniform volume of particles or some are prepared by moulding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images[9]"/>
          <p:cNvPicPr/>
          <p:nvPr/>
        </p:nvPicPr>
        <p:blipFill>
          <a:blip r:embed="rId1"/>
          <a:stretch/>
        </p:blipFill>
        <p:spPr>
          <a:xfrm>
            <a:off x="5334120" y="1295280"/>
            <a:ext cx="3016080" cy="200988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585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usually prepared by the aid of some pharmaceutical exicipents (additives) to: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help in tableting procedure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ensure that the drug will be released as intended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termʺtabletsʺ (from the latin tabuletta) is associated with the appearance of the dosage form i.e tablets are small disc-like or cylindrical specimens. Tablets are solid, flat or biconvex discs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tablets are used for oral administration of drugs, others are administered sublingually buccaly or vaginally</a:t>
            </a: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 may be swallowed whole or being chewed. Some are dissolved or dispersed in water before administration. Some are put in oral cavity, where the active ingredient is liberated at a predetermined rate.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mplants or passeries may also be presented in form of table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 may vary in shape and differ greatly in size and weight depending on the amount of medicinal substance and the intended mode of administratio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he compressed tablet is the most popular dosage form in use today. About two-thirds of all prescriptions are dispensed as solid dosage forms, and half of these are compressed tablets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(Tablets are popular WHY?):</a:t>
            </a:r>
            <a:br>
              <a:rPr sz="36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n U.K. Tablets represents about 46% of all other dosage forms.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1- Compared to liquid dosage forms tablets possess more chemical and physical stabilit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2- Packaging in blister packs can also enhance the stability of tablet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3- They provide an accurately measured dose and low content variability of the unit do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4- Low manufacturing co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5- Easy to package (blister or strip) and ship. Easy handling over liquid dosage form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cont.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6- Simple to identify. Coatings can be colored or stamped to aid tablet recognition.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7- Manufacturing processes and techniques can provide tablets special properties for example enteric coatings or sustained release formul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8- Lightest and most compa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9- Coating can mask unpleasant taste and improve patient acceptability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Disadvantages of tablets as a dosage form:</a:t>
            </a:r>
            <a:br>
              <a:rPr sz="4000"/>
            </a:br>
            <a:br>
              <a:rPr sz="4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Poor bioavailability of poorly soluble drugs or poorly absorbable drug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Some drugs may cause local irritation effect         harm GIT mucos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- Some drugs resist compression into table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4- Difficulty in swallowing in some patients; pediatrics and geriatric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- In emergency cases, intravenous or intramuscular injections are more effectiv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3:34:03Z</dcterms:created>
  <dc:creator>Mohamad</dc:creator>
  <dc:description/>
  <dc:language>en-US</dc:language>
  <cp:lastModifiedBy>bquadeib</cp:lastModifiedBy>
  <dcterms:modified xsi:type="dcterms:W3CDTF">2017-04-09T18:49:33Z</dcterms:modified>
  <cp:revision>26</cp:revision>
  <dc:subject/>
  <dc:title>Solid dosage forms</dc:title>
</cp:coreProperties>
</file>