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B89-581F-4959-AA91-FD3469A3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2D2-EF0E-4B36-8ECF-B326AFAE7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DCAD-24D9-4318-8C1D-AE104ED8DC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998-031A-41D7-810A-9AE8D6BC7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245-0B31-4337-B8E4-2AD437EDB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4A3-5206-46FF-A2E4-5B97E8285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1264-CBC9-4996-A1EE-7E7FE95057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D03-7BDD-4B48-8106-BBBF2E2F84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85B-5635-41B4-A560-B230F35D2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E658-E6A8-4550-9B02-F7F2B7200E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396-37AE-4245-9056-BE80DB438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3031-3CEB-45BC-9BB3-214881A47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9445-5939-4333-93E4-5666B804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4B58-A0C2-485F-A76A-D706BD9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F6F3-989B-4AF3-ADCF-4E9702DE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EAAF-D7C9-4ADC-993C-CE5F3C44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49C-92AD-426A-83DB-C01661E4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B9C3-2847-4B92-915E-6E2B623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318C-1C4D-41B6-B88E-1799DB1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539B-2B97-4404-9BE3-B87E4721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962A-5D03-4C6B-B170-5F7850D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C37-55C3-49E1-BF53-37DE64B8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C6A-3766-42FB-9972-6F50E19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6E85-98EC-4CB2-BE92-D3B8F63B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AF3-46BE-4F62-9DDB-8F528EC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E947-1191-496F-854F-9259E76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2055-7997-45D6-83DA-F2E77A8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B791-A59A-4E19-9CDD-137DBDDB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9002-23BA-4890-97A6-16D08378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D762-4550-43E2-8BDE-754E78E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A8B0-E00B-40ED-8883-CC8D62D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24CC-D956-41CB-80B0-D5F81C6A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B0FB-E900-40EB-8975-C1B45ED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8622-0F44-4E36-B4C4-0DD9D0D5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E68D-7954-4360-9AB8-02752A50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88C-4ED5-4949-B780-E09A9B8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7A12-3F37-4E21-9E64-F999413E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587-0BFD-4ECF-8341-7897C5857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Solid dosage forms</a:t>
            </a:r>
            <a:br>
              <a:rPr sz="6000"/>
            </a:b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Classification of 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drug release rate from the tablets (USP classific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Immediate release (conventional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release tablets (extended and delayed release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method of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Compress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y attributes of table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includ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ct d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earance of 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gant and its weight, siz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should be consist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rug should be released from the tablet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eproducible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52280" y="3124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compati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fficient mechanical strength to withst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cture and erosion during hand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, physically and microbiologically 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Arial"/>
              </a:rPr>
              <a:t>Solid dosage form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304920" y="1676520"/>
            <a:ext cx="2895480" cy="129528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5105520" y="1676520"/>
            <a:ext cx="2895480" cy="12952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380880" y="3809880"/>
            <a:ext cx="289584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"/>
          <p:cNvSpPr/>
          <p:nvPr/>
        </p:nvSpPr>
        <p:spPr>
          <a:xfrm>
            <a:off x="2743200" y="5181480"/>
            <a:ext cx="2895480" cy="144792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i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5029200" y="3809880"/>
            <a:ext cx="289548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0" descr="images[11]"/>
          <p:cNvPicPr/>
          <p:nvPr/>
        </p:nvPicPr>
        <p:blipFill>
          <a:blip r:embed="rId1"/>
          <a:stretch/>
        </p:blipFill>
        <p:spPr>
          <a:xfrm>
            <a:off x="2819520" y="1828800"/>
            <a:ext cx="1342800" cy="1190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AU8663PCADNCLRFCAOUXONXCAVS0VI6CA3SFAA2CASNTQG0CAOK8SRQCA41DC4MCAJGIYAXCA76A3I1CAOSIO3SCACEDDD9CANGB52ZCA9XXYUUCA5PAL3LCALEPCMCCA048T48CAU8NIDWCA98O1C9"/>
          <p:cNvPicPr/>
          <p:nvPr/>
        </p:nvPicPr>
        <p:blipFill>
          <a:blip r:embed="rId2"/>
          <a:stretch/>
        </p:blipFill>
        <p:spPr>
          <a:xfrm>
            <a:off x="7620120" y="1752480"/>
            <a:ext cx="1304640" cy="12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A8R6CD6CA5EX3WXCA5DCUA2CAQYX969CACSQMBRCA6V9AZ6CANGQNUJCANALFFBCAMMJOYZCAT5QUOCCA70FADACAISQ9IWCAOLZ8NBCANQ2A09CASAO58SCA8XC7D8CAEIE23WCAKSJ59VCAWUZHKV"/>
          <p:cNvPicPr/>
          <p:nvPr/>
        </p:nvPicPr>
        <p:blipFill>
          <a:blip r:embed="rId3"/>
          <a:stretch/>
        </p:blipFill>
        <p:spPr>
          <a:xfrm>
            <a:off x="7696080" y="388620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AZB2O8YCAUUR8A7CAZVILW2CALL1ACKCAE8F0BTCABUTF87CAODZ2GKCAAD5XARCAFEBB51CA2X3702CAQ5ITZBCAIABII4CA3IW7MGCAXI7V63CAWWIHMRCAFCAA9FCA3ICOB7CA6X2ROFCAB1HKW6"/>
          <p:cNvPicPr/>
          <p:nvPr/>
        </p:nvPicPr>
        <p:blipFill>
          <a:blip r:embed="rId4"/>
          <a:stretch/>
        </p:blipFill>
        <p:spPr>
          <a:xfrm>
            <a:off x="2895480" y="38862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AWF74KCCAHQZ7EECA027EYVCA78D8N6CAHLC1L7CAIKWXITCA89V5DMCAEMFULFCA4G0468CA5F8QK2CAI4CSX1CA2LIG0ECAQD2MYECAYMA9K4CAWPPGRWCAGG4KQQCANHTVAKCAY9I188CAL3FOOU"/>
          <p:cNvPicPr/>
          <p:nvPr/>
        </p:nvPicPr>
        <p:blipFill>
          <a:blip r:embed="rId5"/>
          <a:stretch/>
        </p:blipFill>
        <p:spPr>
          <a:xfrm>
            <a:off x="5638680" y="5638680"/>
            <a:ext cx="13431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vantages of solid dosage forms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More stable than liquids, with longer expiration dates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Easy shipping and handling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Less needed shelf space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 No preservation requirements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 Accurate dosage (single dose)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. Suitable for sustained release preparation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isadvantages of solid dosage form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ir preparation needs complicated and expensive machin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s a solid dosage for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intended for oral administration to produce certain therapeutic effec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solid preparations each containing a single dose of one or more active ingredients and usually obtained by compressing uniform volume of particles or some are prepared by moulding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images[9]"/>
          <p:cNvPicPr/>
          <p:nvPr/>
        </p:nvPicPr>
        <p:blipFill>
          <a:blip r:embed="rId1"/>
          <a:stretch/>
        </p:blipFill>
        <p:spPr>
          <a:xfrm>
            <a:off x="5334120" y="1295280"/>
            <a:ext cx="3016080" cy="200988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585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usually prepared by the aid of some pharmaceutical exicipents (additives) to: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help in tableting procedure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ensure that the drug will be released as intended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termʺtabletsʺ (from the latin tabuletta) is associated with the appearance of the dosage form i.e tablets are small disc-like or cylindrical specimens. Tablets are solid, flat or biconvex discs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tablets are used for oral administration of drugs, others are administered sublingually buccaly or vaginally</a:t>
            </a: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 may be swallowed whole or being chewed. Some are dissolved or dispersed in water before administration. Some are put in oral cavity, where the active ingredient is liberated at a predetermined rate.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mplants or passeries may also be presented in form of table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 may vary in shape and differ greatly in size and weight depending on the amount of medicinal substance and the intended mode of administratio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he compressed tablet is the most popular dosage form in use today. About two-thirds of all prescriptions are dispensed as solid dosage forms, and half of these are compressed tablets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(Tablets are popular WHY?):</a:t>
            </a:r>
            <a:br>
              <a:rPr sz="36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n U.K. Tablets represents about 46% of all other dosage forms.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1- Compared to liquid dosage forms tablets possess more chemical and physical stabilit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2- Packaging in blister packs can also enhance the stability of tablet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3- They provide an accurately measured dose and low content variability of the unit do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4- Low manufacturing co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5- Easy to package (blister or strip) and ship. Easy handling over liquid dosage form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cont.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6- Simple to identify. Coatings can be colored or stamped to aid tablet recognition.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7- Manufacturing processes and techniques can provide tablets special properties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for example enteric coatings or sustained release formul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8- Lightest and most compa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9- Coating can mask unpleasant taste and improve patient acceptability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Disadvantages of tablets as a dosage form:</a:t>
            </a:r>
            <a:br>
              <a:rPr sz="4000"/>
            </a:br>
            <a:br>
              <a:rPr sz="4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Poor bioavailability of poorly soluble drugs or poorly absorbable drug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Some drugs may cause local irritation effect         harm GIT mucos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- Some drugs resist compression into table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4- Difficulty in swallowing in some patients; pediatrics and geriatric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- In emergency cases, intravenous or intramuscular injections are more effectiv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3:34:03Z</dcterms:created>
  <dc:creator>Mohamad</dc:creator>
  <dc:description/>
  <dc:language>en-US</dc:language>
  <cp:lastModifiedBy>win</cp:lastModifiedBy>
  <dcterms:modified xsi:type="dcterms:W3CDTF">2012-10-16T07:48:25Z</dcterms:modified>
  <cp:revision>21</cp:revision>
  <dc:subject/>
  <dc:title>Solid dosage forms</dc:title>
</cp:coreProperties>
</file>