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844A7-251E-4B4F-B0F5-CD2D5B01CA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98B2D-616B-4472-9AC7-AA980AE0AF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E7D2C-A42F-4330-8C97-6799F9CC449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DF647-B669-4F6E-8B0F-E137ABDFFD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77FB0-6299-4C55-8D05-176D022C66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4B6E3-AFC9-4932-967A-BE97359061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72352-B0A4-4484-B447-AB22AAE81A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CA22C-A806-46E6-9754-2B759EEAB1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5ADE4-76EF-4DE8-BD84-CAA02042A9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85003-9A1C-4A85-8858-9E958EE5EE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2524F-40A0-4CF3-818C-E0CC4AAF568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1CEBE-C546-4D6C-9CD5-F9B19D4C28A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56D16-4B12-4D03-8D69-B75689202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D6F44-870A-441F-8FFB-95763EF0A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6A6F4-9498-4CF1-98E5-88A447A5B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4B3FE-1C93-4338-9916-E8E17B27F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32429-5768-4471-BFE6-EED0198D3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6244B-CD09-46EA-83BE-2F2EB5F69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255AF-D9F3-43D7-B671-704438FD5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0A76B-29A1-4F28-9298-AEDAA7CA2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D8F59-CCD1-4D6F-976D-8391CDF4E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EFAD9-16A2-4B02-B07F-2D00221FC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F0987-1AAD-4ED0-A871-C0ACDB71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B4C1C-9C28-4DA9-ACBD-0CA889AE0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A0096-23BB-4546-97C3-9141FABC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581AF-94D0-4D89-AAAB-FE135636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782E6-FDD6-4017-9DA4-F5F4D7AD5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C8A50-FE1F-4F62-BC25-5DDC1CFC4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A63D6-80C2-44BA-B4E1-3F114E4F8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0FD9C-ECC8-4823-90AD-829F904FC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4867B-B7C1-47A8-A3E2-3C252ABD1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77B8A-BB4D-4846-8968-2F6CB927C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B44CD-CA17-4E9C-A2CA-EC5D04E2B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23349-FCE5-44B2-B432-29D47951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DDF1E-4BEA-43B8-8930-2F547AFF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21B39-054D-4B50-9BBE-BB8C0FAE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DCE78-A30C-48EF-B5D2-63B7A1CFE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19A75-6EAA-4C50-B518-CEEAE4D0C1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62120" y="2209320"/>
            <a:ext cx="7772400" cy="2117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6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Solid dosage forms</a:t>
            </a:r>
            <a:br>
              <a:rPr sz="6000"/>
            </a:br>
            <a:r>
              <a:rPr b="0" lang="ar-EG" sz="6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Tablets</a:t>
            </a: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51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Classification of tablets</a:t>
            </a: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ccording to drug release rate from the tablets (USP classific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- Immediate release (conventional table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b- Modified release tablets (extended and delayed release table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ccording to method of manufactu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- Compressed tabl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b- Modified tabl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5"/>
          <p:cNvSpPr/>
          <p:nvPr/>
        </p:nvSpPr>
        <p:spPr>
          <a:xfrm>
            <a:off x="304920" y="228600"/>
            <a:ext cx="8534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Quality attributes of tablets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tablet should include th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rect dos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the 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ppearance of the tablet should b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egant and its weight, siz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earance should be consisten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drug should be released from the tablet i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ontroll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reproducible wa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Rectangle 6"/>
          <p:cNvSpPr/>
          <p:nvPr/>
        </p:nvSpPr>
        <p:spPr>
          <a:xfrm>
            <a:off x="152280" y="3124080"/>
            <a:ext cx="876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tablet should b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compatibl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tablet should be of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fficient mechanical strength to withstand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acture and erosion during handl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tablet should b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mically, physically and microbiologically s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9745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400" spc="-1" strike="noStrike">
                <a:solidFill>
                  <a:srgbClr val="ffffcc"/>
                </a:solidFill>
                <a:latin typeface="Arial"/>
              </a:rPr>
              <a:t>Solid dosage forms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Oval 5"/>
          <p:cNvSpPr/>
          <p:nvPr/>
        </p:nvSpPr>
        <p:spPr>
          <a:xfrm>
            <a:off x="304920" y="1676520"/>
            <a:ext cx="2895480" cy="1295280"/>
          </a:xfrm>
          <a:prstGeom prst="ellipse">
            <a:avLst/>
          </a:prstGeom>
          <a:solidFill>
            <a:srgbClr val="003399"/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able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Oval 6"/>
          <p:cNvSpPr/>
          <p:nvPr/>
        </p:nvSpPr>
        <p:spPr>
          <a:xfrm>
            <a:off x="5105520" y="1676520"/>
            <a:ext cx="2895480" cy="1295280"/>
          </a:xfrm>
          <a:prstGeom prst="ellipse">
            <a:avLst/>
          </a:prstGeom>
          <a:solidFill>
            <a:srgbClr val="333399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apsu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Oval 7"/>
          <p:cNvSpPr/>
          <p:nvPr/>
        </p:nvSpPr>
        <p:spPr>
          <a:xfrm>
            <a:off x="380880" y="3809880"/>
            <a:ext cx="2895840" cy="1295640"/>
          </a:xfrm>
          <a:prstGeom prst="ellipse">
            <a:avLst/>
          </a:prstGeom>
          <a:solidFill>
            <a:srgbClr val="52527c"/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d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Oval 8"/>
          <p:cNvSpPr/>
          <p:nvPr/>
        </p:nvSpPr>
        <p:spPr>
          <a:xfrm>
            <a:off x="2743200" y="5181480"/>
            <a:ext cx="2895480" cy="1447920"/>
          </a:xfrm>
          <a:prstGeom prst="ellipse">
            <a:avLst/>
          </a:prstGeom>
          <a:solidFill>
            <a:srgbClr val="52527c"/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sitor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Oval 9"/>
          <p:cNvSpPr/>
          <p:nvPr/>
        </p:nvSpPr>
        <p:spPr>
          <a:xfrm>
            <a:off x="5029200" y="3809880"/>
            <a:ext cx="2895480" cy="1295640"/>
          </a:xfrm>
          <a:prstGeom prst="ellipse">
            <a:avLst/>
          </a:prstGeom>
          <a:solidFill>
            <a:srgbClr val="52527c"/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u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Picture 10" descr="images[11]"/>
          <p:cNvPicPr/>
          <p:nvPr/>
        </p:nvPicPr>
        <p:blipFill>
          <a:blip r:embed="rId1"/>
          <a:stretch/>
        </p:blipFill>
        <p:spPr>
          <a:xfrm>
            <a:off x="2819520" y="1828800"/>
            <a:ext cx="1342800" cy="119052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11" descr="AU8663PCADNCLRFCAOUXONXCAVS0VI6CA3SFAA2CASNTQG0CAOK8SRQCA41DC4MCAJGIYAXCA76A3I1CAOSIO3SCACEDDD9CANGB52ZCA9XXYUUCA5PAL3LCALEPCMCCA048T48CAU8NIDWCA98O1C9"/>
          <p:cNvPicPr/>
          <p:nvPr/>
        </p:nvPicPr>
        <p:blipFill>
          <a:blip r:embed="rId2"/>
          <a:stretch/>
        </p:blipFill>
        <p:spPr>
          <a:xfrm>
            <a:off x="7620120" y="1752480"/>
            <a:ext cx="1304640" cy="129564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12" descr="A8R6CD6CA5EX3WXCA5DCUA2CAQYX969CACSQMBRCA6V9AZ6CANGQNUJCANALFFBCAMMJOYZCAT5QUOCCA70FADACAISQ9IWCAOLZ8NBCANQ2A09CASAO58SCA8XC7D8CAEIE23WCAKSJ59VCAWUZHKV"/>
          <p:cNvPicPr/>
          <p:nvPr/>
        </p:nvPicPr>
        <p:blipFill>
          <a:blip r:embed="rId3"/>
          <a:stretch/>
        </p:blipFill>
        <p:spPr>
          <a:xfrm>
            <a:off x="7696080" y="3886200"/>
            <a:ext cx="1228680" cy="114300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13" descr="AZB2O8YCAUUR8A7CAZVILW2CALL1ACKCAE8F0BTCABUTF87CAODZ2GKCAAD5XARCAFEBB51CA2X3702CAQ5ITZBCAIABII4CA3IW7MGCAXI7V63CAWWIHMRCAFCAA9FCA3ICOB7CA6X2ROFCAB1HKW6"/>
          <p:cNvPicPr/>
          <p:nvPr/>
        </p:nvPicPr>
        <p:blipFill>
          <a:blip r:embed="rId4"/>
          <a:stretch/>
        </p:blipFill>
        <p:spPr>
          <a:xfrm>
            <a:off x="2895480" y="3886200"/>
            <a:ext cx="1238400" cy="123840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4" descr="AWF74KCCAHQZ7EECA027EYVCA78D8N6CAHLC1L7CAIKWXITCA89V5DMCAEMFULFCA4G0468CA5F8QK2CAI4CSX1CA2LIG0ECAQD2MYECAYMA9K4CAWPPGRWCAGG4KQQCANHTVAKCAY9I188CAL3FOOU"/>
          <p:cNvPicPr/>
          <p:nvPr/>
        </p:nvPicPr>
        <p:blipFill>
          <a:blip r:embed="rId5"/>
          <a:stretch/>
        </p:blipFill>
        <p:spPr>
          <a:xfrm>
            <a:off x="5638680" y="5638680"/>
            <a:ext cx="134316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Advantages of solid dosage forms</a:t>
            </a:r>
            <a:br>
              <a:rPr sz="54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 More stable than liquids, with longer expiration dates.</a:t>
            </a:r>
            <a:br>
              <a:rPr sz="54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 Easy shipping and handling.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 Less needed shelf space.</a:t>
            </a:r>
            <a:br>
              <a:rPr sz="54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4. No preservation requirements.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5. Accurate dosage (single dose).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6. Suitable for sustained release preparation</a:t>
            </a:r>
            <a:r>
              <a:rPr b="0" lang="en-US" sz="5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</a:t>
            </a:r>
            <a:br>
              <a:rPr sz="5400"/>
            </a:br>
            <a:r>
              <a:rPr b="0" lang="en-US" sz="32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Disadvantages of solid dosage forms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ir preparation needs complicated and expensive machine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ablets as a solid dosage form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6840" y="13712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Definition</a:t>
            </a:r>
            <a:r>
              <a:rPr b="0" lang="de-DE" sz="48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ablets are intended for oral administration to produce certain therapeutic effect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ablets are solid preparations each containing a single dose of one or more active ingredients and usually obtained by compressing uniform volume of particles or some are prepared by moulding</a:t>
            </a:r>
            <a:r>
              <a:rPr b="0" lang="de-DE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6" name="Picture 7" descr="images[9]"/>
          <p:cNvPicPr/>
          <p:nvPr/>
        </p:nvPicPr>
        <p:blipFill>
          <a:blip r:embed="rId1"/>
          <a:stretch/>
        </p:blipFill>
        <p:spPr>
          <a:xfrm>
            <a:off x="5334120" y="1295280"/>
            <a:ext cx="3016080" cy="2009880"/>
          </a:xfrm>
          <a:prstGeom prst="rect">
            <a:avLst/>
          </a:prstGeom>
          <a:ln w="316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5851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ablets are usually prepared by the aid of some pharmaceutical exicipents (additives) to:</a:t>
            </a:r>
            <a:br>
              <a:rPr sz="2800"/>
            </a:br>
            <a:r>
              <a:rPr b="0" lang="de-DE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● help in tableting procedure</a:t>
            </a:r>
            <a:br>
              <a:rPr sz="2800"/>
            </a:br>
            <a:r>
              <a:rPr b="0" lang="de-DE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● ensure that the drug will be released as intended</a:t>
            </a: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he termʺtabletsʺ (from the latin tabuletta) is associated with the appearance of the dosage form i.e tablets are small disc-like or cylindrical specimens. Tablets are solid, flat or biconvex discs.</a:t>
            </a: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Most tablets are used for oral administration of drugs, others are administered sublingually buccaly or vaginally</a:t>
            </a:r>
            <a:r>
              <a:rPr b="0" lang="de-DE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9600" cy="655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Tablets may be swallowed whole or being chewed. Some are dissolved or dispersed in water before administration. Some are put in oral cavity, where the active ingredient is liberated at a predetermined rate.</a:t>
            </a:r>
            <a:br>
              <a:rPr sz="2400"/>
            </a:br>
            <a:r>
              <a:rPr b="0" lang="en-US" sz="24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Implants or passeries may also be presented in form of tablet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Tablet may vary in shape and differ greatly in size and weight depending on the amount of medicinal substance and the intended mode of administration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The compressed tablet is the most popular dosage form in use today. About two-thirds of all prescriptions are dispensed as solid dosage forms, and half of these are compressed tablets</a:t>
            </a:r>
            <a:r>
              <a:rPr b="0" lang="en-US" sz="24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28600" y="13712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Advantages of tablets (Tablets are popular WHY?):</a:t>
            </a:r>
            <a:br>
              <a:rPr sz="3600"/>
            </a:br>
            <a:br>
              <a:rPr sz="2000"/>
            </a:br>
            <a:r>
              <a:rPr b="0" lang="en-US" sz="24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In U.K. Tablets represents about 46% of all other dosage forms.</a:t>
            </a:r>
            <a:br>
              <a:rPr sz="2000"/>
            </a:br>
            <a:br>
              <a:rPr sz="2000"/>
            </a:br>
            <a:r>
              <a:rPr b="0" lang="en-US" sz="24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1- Compared to liquid dosage forms tablets possess more chemical and physical stability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2- Packaging in blister packs can also enhance the stability of tablets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3- They provide an accurately measured dose and low content variability of the unit dose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4- Low manufacturing cost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5- Easy to package (blister or strip) and ship. Easy handling over liquid dosage form</a:t>
            </a:r>
            <a:r>
              <a:rPr b="0" lang="en-US" sz="24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Advantages of tablets cont.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6- Simple to identify. Coatings can be colored or stamped to aid tablet recognition.</a:t>
            </a:r>
            <a:br>
              <a:rPr sz="2800"/>
            </a:br>
            <a:r>
              <a:rPr b="0" lang="en-US" sz="28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7- Manufacturing processes and techniques can provide tablets special properties</a:t>
            </a:r>
            <a:br>
              <a:rPr sz="2800"/>
            </a:br>
            <a:r>
              <a:rPr b="0" lang="en-US" sz="28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for example enteric coatings or sustained release formulations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8- Lightest and most compact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9- Coating can mask unpleasant taste and improve patient acceptability</a:t>
            </a:r>
            <a:r>
              <a:rPr b="0" lang="en-US" sz="28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Disadvantages of tablets as a dosage form:</a:t>
            </a:r>
            <a:br>
              <a:rPr sz="4000"/>
            </a:br>
            <a:br>
              <a:rPr sz="4800"/>
            </a:br>
            <a:r>
              <a:rPr b="0" lang="en-US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1- Poor bioavailability of poorly soluble drugs or poorly absorbable drugs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2- Some drugs may cause local irritation effect         harm GIT mucosa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3- Some drugs resist compression into tablet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4- Difficulty in swallowing in some patients; pediatrics and geriatrics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5- In emergency cases, intravenous or intramuscular injections are more effective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Line 7"/>
          <p:cNvSpPr/>
          <p:nvPr/>
        </p:nvSpPr>
        <p:spPr>
          <a:xfrm>
            <a:off x="5486400" y="3809880"/>
            <a:ext cx="457200" cy="0"/>
          </a:xfrm>
          <a:prstGeom prst="line">
            <a:avLst/>
          </a:prstGeom>
          <a:ln w="255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6T23:34:03Z</dcterms:created>
  <dc:creator>Mohamad</dc:creator>
  <dc:description/>
  <dc:language>en-US</dc:language>
  <cp:lastModifiedBy>win</cp:lastModifiedBy>
  <dcterms:modified xsi:type="dcterms:W3CDTF">2012-10-16T07:48:25Z</dcterms:modified>
  <cp:revision>21</cp:revision>
  <dc:subject/>
  <dc:title>Solid dosage forms</dc:title>
</cp:coreProperties>
</file>