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03D-BD14-4577-AAB6-930C6D2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87C-D45C-405F-9D65-2F01B7C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C67-4AA0-47A8-A9D2-B7F2D66B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EE2-6247-4352-A68F-91BFF390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84D-3891-4D77-B2D4-2E25002A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7F5-E5FF-4F77-9C06-95ADFAAA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CF6-148D-47D6-914C-2A45AD8C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B85-BFB8-4D8A-AC54-AEC7B84C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562-11B5-4F46-BC08-F7B063C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A75-2325-4CAD-80C3-861E5C9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2CB-86A4-4F8A-BEA0-DE7D052C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DFE-99A6-4F33-9A4C-E38668C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B70-EEEA-4E60-B746-475F8EFE2B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ha.europa.eu/documents/10162/16908203/pt22_embalming_and_taxidermist_fluids_en.pdf" TargetMode="External"/><Relationship Id="rId2" Type="http://schemas.openxmlformats.org/officeDocument/2006/relationships/hyperlink" Target="http://echa.europa.eu/documents/10162/16908203/pt22_embalming_and_taxidermist_fluids_en.pdf" TargetMode="External"/><Relationship Id="rId3" Type="http://schemas.openxmlformats.org/officeDocument/2006/relationships/hyperlink" Target="http://echa.europa.eu/documents/10162/16908203/pt22_embalming_and_taxidermist_fluids_en.pdf" TargetMode="External"/><Relationship Id="rId4" Type="http://schemas.openxmlformats.org/officeDocument/2006/relationships/hyperlink" Target="http://echa.europa.eu/documents/10162/16908203/pt22_embalming_and_taxidermist_fluids_en.pdf" TargetMode="External"/><Relationship Id="rId5" Type="http://schemas.openxmlformats.org/officeDocument/2006/relationships/hyperlink" Target="http://echa.europa.eu/documents/10162/16908203/pt22_embalming_and_taxidermist_fluids_en.pdf" TargetMode="External"/><Relationship Id="rId6" Type="http://schemas.openxmlformats.org/officeDocument/2006/relationships/hyperlink" Target="http://echa.europa.eu/documents/10162/16908203/pt22_embalming_and_taxidermist_fluids_en.pdf" TargetMode="External"/><Relationship Id="rId7" Type="http://schemas.openxmlformats.org/officeDocument/2006/relationships/hyperlink" Target="http://echa.europa.eu/documents/10162/16908203/pt22_embalming_and_taxidermist_fluids_en.pdf" TargetMode="External"/><Relationship Id="rId8" Type="http://schemas.openxmlformats.org/officeDocument/2006/relationships/hyperlink" Target="http://echa.europa.eu/documents/10162/16908203/pt22_embalming_and_taxidermist_fluids_en.pdf" TargetMode="External"/><Relationship Id="rId9" Type="http://schemas.openxmlformats.org/officeDocument/2006/relationships/hyperlink" Target="http://echa.europa.eu/documents/10162/16908203/pt22_embalming_and_taxidermist_fluids_en.pdf" TargetMode="External"/><Relationship Id="rId10" Type="http://schemas.openxmlformats.org/officeDocument/2006/relationships/hyperlink" Target="http://echa.europa.eu/documents/10162/16908203/pt22_embalming_and_taxidermist_fluids_en.pdf" TargetMode="External"/><Relationship Id="rId11" Type="http://schemas.openxmlformats.org/officeDocument/2006/relationships/hyperlink" Target="http://echa.europa.eu/documents/10162/16908203/pt22_embalming_and_taxidermist_fluids_en.pdf" TargetMode="External"/><Relationship Id="rId12" Type="http://schemas.openxmlformats.org/officeDocument/2006/relationships/hyperlink" Target="http://echa.europa.eu/documents/10162/16908203/pt22_embalming_and_taxidermist_fluids_en.pdf" TargetMode="External"/><Relationship Id="rId13" Type="http://schemas.openxmlformats.org/officeDocument/2006/relationships/hyperlink" Target="http://echa.europa.eu/documents/10162/16908203/pt22_embalming_and_taxidermist_fluids_en.pdf" TargetMode="External"/><Relationship Id="rId14" Type="http://schemas.openxmlformats.org/officeDocument/2006/relationships/hyperlink" Target="http://echa.europa.eu/documents/10162/16908203/pt22_embalming_and_taxidermist_fluids_en.pdf" TargetMode="External"/><Relationship Id="rId15" Type="http://schemas.openxmlformats.org/officeDocument/2006/relationships/hyperlink" Target="http://echa.europa.eu/documents/10162/16908203/pt22_embalming_and_taxidermist_fluids_en.pdf" TargetMode="External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حن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طلوب في التقرير القادم.....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لخيص خطوات تحنيط الحيوانات مع ذكر المواد التي تستخدم في التحنيط وتجهيز الجل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99736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cha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u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ocuments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0162/16908203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t22_embalming_and_taxidermist_fluids_en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ge no. 6 only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1:05:33Z</dcterms:created>
  <dc:creator>خالد</dc:creator>
  <dc:description/>
  <dc:language>en-US</dc:language>
  <cp:lastModifiedBy>خالد</cp:lastModifiedBy>
  <dcterms:modified xsi:type="dcterms:W3CDTF">2014-11-27T07:21:10Z</dcterms:modified>
  <cp:revision>1</cp:revision>
  <dc:subject/>
  <dc:title>التحنيط </dc:title>
</cp:coreProperties>
</file>