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2B8-C449-4F7A-B2D0-65DB63FD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869-9A1F-4E3F-87F1-EF4FEFC5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491-073F-4D8A-BE1B-B96544B8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7D7-53CF-432A-BE00-9185D738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159-A0E1-461C-A840-7365D5C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51F-DD1A-4493-AB82-E2E92FA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681-EC91-4239-8AF9-847AD0A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3EB-4F51-4D72-9DD9-B2132282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A29-9B05-46C2-8C5D-CB16319D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054-FE2B-4A58-A1F6-2CFD489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85C-047A-495B-B1BB-9E8D7B6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000-BEF7-4269-B836-74E13ADE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1D55-40A3-4A09-BFC2-8D94DCD972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ha.europa.eu/documents/10162/16908203/pt22_embalming_and_taxidermist_fluids_en.pdf" TargetMode="External"/><Relationship Id="rId2" Type="http://schemas.openxmlformats.org/officeDocument/2006/relationships/hyperlink" Target="http://echa.europa.eu/documents/10162/16908203/pt22_embalming_and_taxidermist_fluids_en.pdf" TargetMode="External"/><Relationship Id="rId3" Type="http://schemas.openxmlformats.org/officeDocument/2006/relationships/hyperlink" Target="http://echa.europa.eu/documents/10162/16908203/pt22_embalming_and_taxidermist_fluids_en.pdf" TargetMode="External"/><Relationship Id="rId4" Type="http://schemas.openxmlformats.org/officeDocument/2006/relationships/hyperlink" Target="http://echa.europa.eu/documents/10162/16908203/pt22_embalming_and_taxidermist_fluids_en.pdf" TargetMode="External"/><Relationship Id="rId5" Type="http://schemas.openxmlformats.org/officeDocument/2006/relationships/hyperlink" Target="http://echa.europa.eu/documents/10162/16908203/pt22_embalming_and_taxidermist_fluids_en.pdf" TargetMode="External"/><Relationship Id="rId6" Type="http://schemas.openxmlformats.org/officeDocument/2006/relationships/hyperlink" Target="http://echa.europa.eu/documents/10162/16908203/pt22_embalming_and_taxidermist_fluids_en.pdf" TargetMode="External"/><Relationship Id="rId7" Type="http://schemas.openxmlformats.org/officeDocument/2006/relationships/hyperlink" Target="http://echa.europa.eu/documents/10162/16908203/pt22_embalming_and_taxidermist_fluids_en.pdf" TargetMode="External"/><Relationship Id="rId8" Type="http://schemas.openxmlformats.org/officeDocument/2006/relationships/hyperlink" Target="http://echa.europa.eu/documents/10162/16908203/pt22_embalming_and_taxidermist_fluids_en.pdf" TargetMode="External"/><Relationship Id="rId9" Type="http://schemas.openxmlformats.org/officeDocument/2006/relationships/hyperlink" Target="http://echa.europa.eu/documents/10162/16908203/pt22_embalming_and_taxidermist_fluids_en.pdf" TargetMode="External"/><Relationship Id="rId10" Type="http://schemas.openxmlformats.org/officeDocument/2006/relationships/hyperlink" Target="http://echa.europa.eu/documents/10162/16908203/pt22_embalming_and_taxidermist_fluids_en.pdf" TargetMode="External"/><Relationship Id="rId11" Type="http://schemas.openxmlformats.org/officeDocument/2006/relationships/hyperlink" Target="http://echa.europa.eu/documents/10162/16908203/pt22_embalming_and_taxidermist_fluids_en.pdf" TargetMode="External"/><Relationship Id="rId12" Type="http://schemas.openxmlformats.org/officeDocument/2006/relationships/hyperlink" Target="http://echa.europa.eu/documents/10162/16908203/pt22_embalming_and_taxidermist_fluids_en.pdf" TargetMode="External"/><Relationship Id="rId13" Type="http://schemas.openxmlformats.org/officeDocument/2006/relationships/hyperlink" Target="http://echa.europa.eu/documents/10162/16908203/pt22_embalming_and_taxidermist_fluids_en.pdf" TargetMode="External"/><Relationship Id="rId14" Type="http://schemas.openxmlformats.org/officeDocument/2006/relationships/hyperlink" Target="http://echa.europa.eu/documents/10162/16908203/pt22_embalming_and_taxidermist_fluids_en.pdf" TargetMode="External"/><Relationship Id="rId15" Type="http://schemas.openxmlformats.org/officeDocument/2006/relationships/hyperlink" Target="http://echa.europa.eu/documents/10162/16908203/pt22_embalming_and_taxidermist_fluids_en.pdf" TargetMode="External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حن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طلوب في التقرير القادم.....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لخيص خطوات تحنيط الحيوانات مع ذكر المواد التي تستخدم في التحنيط وتجهيز الجلد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99736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cha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u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ocuments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0162/16908203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t22_embalming_and_taxidermist_fluids_en</a:t>
            </a:r>
            <a:r>
              <a:rPr b="0" lang="ar-SA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ge no. 6 only…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1:05:33Z</dcterms:created>
  <dc:creator>خالد</dc:creator>
  <dc:description/>
  <dc:language>en-US</dc:language>
  <cp:lastModifiedBy>خالد</cp:lastModifiedBy>
  <dcterms:modified xsi:type="dcterms:W3CDTF">2014-11-27T07:21:10Z</dcterms:modified>
  <cp:revision>1</cp:revision>
  <dc:subject/>
  <dc:title>التحنيط </dc:title>
</cp:coreProperties>
</file>