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137-6202-4117-AE12-80747B09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C88-09CE-4B4D-AF6B-DD7D752C16B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268-426C-4F6E-AD0C-4E2FC9A1ABA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92F5-6137-4429-9173-563A60C5B9E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B6C-10D0-49C4-B4F1-46855F9A68E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F61-FE28-4E9D-916B-7AFA5C62C07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8229-0645-4E9B-9CC7-C88F3918DF5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9405-E08C-4B60-BDA0-C213DB276C5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9D1-9B9A-4D31-8747-2C92E78C7D4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931-F954-4A48-887A-475C3158541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2FF-BA4C-4F92-9B95-F1CF28ED28F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434-711F-463D-9CD1-1000041B424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EB0-714F-4968-84B3-5B3AA9543B5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571-1C45-4286-9A71-190CA421505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FE4-DA33-46E0-ADCB-84A145C3E2F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9CB8F30-C857-4227-86A1-ECF6FC2B55D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DB4A43B-D502-46DA-9956-64424B57F75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4DF50CB3-992B-49A6-9231-4398DAD1FB5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47B6DF4B-9E5D-4852-A259-5A3CF15AB65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62C47268-CB75-491E-AF49-CF51E12F00E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82DCF736-153F-4DAF-907A-E6867F2FC01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7760FEA-69D3-494B-9F95-47554C5AE83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4AEECB9-6DC9-4FFA-83DE-FC4DB1DD010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DCA22B0-4565-4E5E-8F09-D41F385CE2F3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56D217C-0431-461D-892C-D6FE628D14D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219C88A3-C59E-4981-8D64-4D93EEF10D7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86FF436-133C-4244-8DE3-C07F061804B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64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6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1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LENOVO</cp:lastModifiedBy>
  <cp:lastPrinted>2001-04-05T18:48:46Z</cp:lastPrinted>
  <dcterms:modified xsi:type="dcterms:W3CDTF">2017-02-12T20:27:48Z</dcterms:modified>
  <cp:revision>154</cp:revision>
  <dc:subject/>
  <dc:title>No Slide Title</dc:title>
</cp:coreProperties>
</file>