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0B85-C546-45BF-AE14-88A42A11A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E47-612C-4DF4-9B53-7D814E60E6E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0D97-9745-40B7-9A95-281ADFCB745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4C1-C1DE-4170-B528-69C2006105B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BF9-1EC9-4C44-BB80-43BD1C6B4EA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286C-078E-46DF-BBA3-59661B27835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BFC-7876-4D7F-BF69-5533DBBBAED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3D1A-3276-4D81-BF41-361C76351C8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4B45-017B-4F99-9DBA-89C6F6983C9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7871-170E-42BA-8FDA-316C1EAC9B3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5A6B-3FB3-42F4-B090-FA386D1AA11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521A-B747-4F06-AA20-73FB8D6E422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EAC5-2F70-4ADB-A17E-FEEFF7B389F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30B7-CBF1-40E6-BC8B-463B1C08AC8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E970-0F65-4A20-9C1F-FFD689D1154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B946A3C1-7A2A-4AE9-8355-39725F952DE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E81CB825-E3FE-42DA-A4D0-F839116E05B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C8B32BAD-9752-41E0-808D-7183243967A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A2B48F0C-6FC8-437A-8D8F-DEE04AC9D37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2C6341C6-A128-4F8D-A5BB-21002049D9A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F4B60F95-10D7-430F-A0EA-B0E0C658773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C6103E70-EE5B-474E-99CE-A18738B37029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F4B49A16-7898-40C2-85BB-68F219F3483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A1962D55-25E4-4839-A10D-8FE1549DDEA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314D7E88-D4ED-4D28-A924-05111F3D10E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801FF2FE-FE70-4BC2-98A8-FC6900A851A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E8BD32A7-EC8E-41E6-9EF1-8A37B9AB5A2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Management Science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133720" y="60958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6    Modeling Techniqu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ssification of Management Science Techniq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Rectangle 15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39" name="Picture 1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681440"/>
          </a:xfrm>
          <a:prstGeom prst="rect">
            <a:avLst/>
          </a:prstGeom>
          <a:ln w="0">
            <a:noFill/>
          </a:ln>
        </p:spPr>
      </p:pic>
      <p:sp>
        <p:nvSpPr>
          <p:cNvPr id="64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Linear Mathematical Programm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ear objective; restrictions on resources and requirements; parameters known with certainty. (Chap 2-6, 9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babilistic Technique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sults contain uncertainty. (Chap 11-13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Network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model often formulated as diagram; deterministic or probabilistic. (Chap 7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Other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variety of deterministic and probabilistic methods for specific types of problems including forecasting, inventory, simulation, multicriteria, etc. (Chap 10, 14-16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racteristics of Modeling Techniqu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ome application area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ject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Capital Budget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Inventory Analysi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duction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Schedul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514"/>
                </a:solidFill>
                <a:latin typeface="Garamond"/>
              </a:rPr>
              <a:t>Interfaces</a:t>
            </a:r>
            <a:r>
              <a:rPr b="0" i="1" lang="en-US" sz="2800" spc="-1" strike="noStrike">
                <a:solidFill>
                  <a:srgbClr val="000514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pplications journal published by Institute for Operations Research and Management Sciences  (INFORMS)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usiness Use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270000" y="1523520"/>
            <a:ext cx="860256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decision support syste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 computer-based system that helps decision makers address complex problems that cut across different parts of an organization and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Features of Decision Support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tera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 databases &amp; management science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ress “what if” ques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form sensitivity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 includ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RP – Enterprise Resource Plann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LAP – Online Analytical Process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DS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63200" cy="4800600"/>
          </a:xfrm>
          <a:prstGeom prst="rect">
            <a:avLst/>
          </a:prstGeom>
          <a:ln w="0">
            <a:noFill/>
          </a:ln>
        </p:spPr>
      </p:pic>
      <p:sp>
        <p:nvSpPr>
          <p:cNvPr id="65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6095880" y="51055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7  A Decision Support System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0" y="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anagement Science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0680" y="160020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Management Science Approach to Problem Solv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Building:  Break-Even Analysi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ing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Usage of Management Science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s in Decision Support Syst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use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2438280" y="1295280"/>
            <a:ext cx="42674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64771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11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61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Variable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X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$20X - $5X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4X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aximize Z =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subject to 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752480" y="1523880"/>
            <a:ext cx="69343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4x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(20)(25) – (5)(25)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2286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1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304920" y="1447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sed to determine the number of units of a product to sell or produce that  will equate total revenue with total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volume at which total revenue equals total cost is called the break-even poi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fit at break-even point is zero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LENOVO</cp:lastModifiedBy>
  <cp:lastPrinted>2001-04-05T18:48:46Z</cp:lastPrinted>
  <dcterms:modified xsi:type="dcterms:W3CDTF">2017-02-12T20:27:48Z</dcterms:modified>
  <cp:revision>154</cp:revision>
  <dc:subject/>
  <dc:title>No Slide Title</dc:title>
</cp:coreProperties>
</file>