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.wmf" ContentType="image/x-wmf"/>
  <Override PartName="/ppt/media/image28.jpeg" ContentType="image/jpeg"/>
  <Override PartName="/ppt/media/image20.png" ContentType="image/png"/>
  <Override PartName="/ppt/media/image18.png" ContentType="image/png"/>
  <Override PartName="/ppt/media/image14.png" ContentType="image/png"/>
  <Override PartName="/ppt/media/image1.png" ContentType="image/png"/>
  <Override PartName="/ppt/media/image24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B2A2-C129-4A81-B4F8-D7EE16DAB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6357-3B73-402F-A10F-2AECCD6D9854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F1DC-8CD7-4D31-86AA-069C8729CEF3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85CE-A929-4EBC-AA3E-CCA550B44283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DF4D-ED7E-44B2-9505-E23016EF8EFD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8FCF-2067-48B0-B5D0-798B7FE63823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8E54-399E-4DB1-8416-615F33C8DBC9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E922-C1A3-4A3D-B96D-1422DB20CD12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E432-ED41-4200-A8EC-20F1C7D94FAF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B7CF-7988-45F7-A8A0-D4C3852CF4CB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2198-C404-43BC-A749-C1A84D4BCDFB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2169-FFCA-4D52-92E6-7049E67418A3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A9AB-BF1F-4172-9AB8-2B0CADC4E695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E9C9-34CB-4D61-92A4-1EE37CBF78E8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0626-3FFB-4E18-A409-6497CF7B1E0D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5102-A0A1-4577-9E26-B80600D0B43A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47ED-1127-42FE-8F38-C9DD3D016A88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114B-1417-4A12-8CB5-F0DB001796C1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C5EB-6FC3-4370-9212-7F37FA10E314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63AE-6DB4-454A-9AFC-3B2FB269F413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F477-1CBC-43B3-BFD5-6375FE04E5EF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C864-F527-4198-81FC-4E2F6433E8FA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F85A-3D02-4EB4-A49D-09FDE32FD338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6C6E-C3FE-4C71-98AA-51AB89D1E4AF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12E3-12AC-4B3A-885E-C9D3A3B09AC0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1B45-0BF5-4B3C-AB2F-8E93ED8F0C00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A945-85C9-4533-9371-7DC67B414E65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B929-D51C-4E92-A9D2-06D8A8C562BE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1C39-DAFD-4158-AAA6-B96F76454B9A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A481-8E78-4243-BF69-11C89E39B9A0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2421-E9EA-4F42-ADA1-7D9C1C8D4051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0924-D4A4-4873-BB3E-CD00414D6B13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265D-FFF5-4923-8390-A65EC46DDD2F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528C-2615-49DB-93D7-7A7BDE56570C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0E67-0448-48DF-9A0D-D810861CE69C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E4B6-C635-4554-A2F6-CCC17CE2DC4D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D586-F134-441F-AF04-4BF2F29DE04B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71E6-DCB3-4FC9-973F-05A12071869E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6CA8-FEC1-4A11-A140-F1196E650B31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A472-B998-4EB0-A9BB-9ADC0FA9AA91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399C-E5EB-4103-8B58-57D411F637C2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0899-56A3-4A32-B933-B9F82D5D789E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5A58-D7A3-4AA1-938A-04AE38C818D3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1CAE-CC2F-4C5B-982C-BB6103DE9F58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61FD-9ABF-40AD-B3AB-FA57E7CE6BCF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CF4A-DC9F-4B20-95EA-F9C936C6808E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F717-0021-48F7-8FEA-53D40FC1AAB1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7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8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-360" y="638136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ACDF2141-0ABE-4F45-A06A-2ADFD89F83D3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2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43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5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6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7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48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49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50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6F19621A-8FCE-498C-A853-AB9268392AE2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ftr" idx="10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9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9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97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98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99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0F93E857-92FD-47A9-800C-761BC6980B32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ftr" idx="11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40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1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2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3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4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5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46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47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48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3021D758-9B24-46CC-99C6-25C49D27C9E0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1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51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6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8" name="TextBox 24"/>
          <p:cNvSpPr/>
          <p:nvPr/>
        </p:nvSpPr>
        <p:spPr>
          <a:xfrm>
            <a:off x="8458200" y="6581880"/>
            <a:ext cx="685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2-</a:t>
            </a:r>
            <a:fld id="{592FB7C1-6B71-4854-BECA-CCF1340AC45D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05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06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07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09DF9332-6ECF-4D9D-BA3B-67911DE6B941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ftr" idx="3"/>
          </p:nvPr>
        </p:nvSpPr>
        <p:spPr>
          <a:xfrm>
            <a:off x="-360" y="6381360"/>
            <a:ext cx="4419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54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55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56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57B41C9F-F92B-4D8A-82A3-133D56915D15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4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97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98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99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0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1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2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03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05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607DC3B2-7566-4F13-8471-7B75D09638D4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5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4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4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52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54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EB058D51-00BC-4A99-88AF-ED6AD94A247A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6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9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0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01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02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03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B14E0792-1BEB-4E01-A70E-F92CAF2E4E67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7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50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51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5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07F89EA8-205A-42B9-8579-D52F879F1152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8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9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9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9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01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08ABADBA-CBDF-4536-BB9C-77C583E0C689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9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4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Garamond"/>
              </a:rPr>
              <a:t>Linear Programming: Model Formulation and Graphical Solution</a:t>
            </a:r>
            <a:endParaRPr b="1" lang="en-US" sz="6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0" y="4292640"/>
            <a:ext cx="91440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hapter 2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598" name="Picture 9" descr=""/>
          <p:cNvPicPr/>
          <p:nvPr/>
        </p:nvPicPr>
        <p:blipFill>
          <a:blip r:embed="rId1"/>
          <a:stretch/>
        </p:blipFill>
        <p:spPr>
          <a:xfrm>
            <a:off x="358920" y="2708280"/>
            <a:ext cx="2890800" cy="3852720"/>
          </a:xfrm>
          <a:prstGeom prst="rect">
            <a:avLst/>
          </a:prstGeom>
          <a:ln w="9360">
            <a:solidFill>
              <a:srgbClr val="00051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5" name="Rectangle 1030"/>
          <p:cNvSpPr/>
          <p:nvPr/>
        </p:nvSpPr>
        <p:spPr>
          <a:xfrm>
            <a:off x="270000" y="1676520"/>
            <a:ext cx="86025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feasible solution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does not violate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any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of the constraints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Example: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= 5 bowl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= 10 mug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Z = $40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= $70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Labor constraint check: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1(5) + 2(10) = 25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&lt;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40 hours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Clay constraint check: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4(5) + 3(10) = 70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&lt;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120 pound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6" name="Rectangle 1028"/>
          <p:cNvSpPr/>
          <p:nvPr/>
        </p:nvSpPr>
        <p:spPr>
          <a:xfrm>
            <a:off x="0" y="0"/>
            <a:ext cx="77342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Feasible Solution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7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9" name="Rectangle 2"/>
          <p:cNvSpPr/>
          <p:nvPr/>
        </p:nvSpPr>
        <p:spPr>
          <a:xfrm>
            <a:off x="263520" y="1676520"/>
            <a:ext cx="86900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n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infeasible solution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violates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at least one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of the constraints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Example: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10 bowl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20 mug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Z = $40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= $140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Labor constraint check: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1(10) + 2(20) = 50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&gt;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40 hour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0" name="Rectangle 3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Infeasible Solution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1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Graphical solution is limited to linear programming models containing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only two decision variables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(can be used with three variables but only with great difficulty)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Graphical methods provid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visualization of how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 solution for a linear programming problem is obtaine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0" y="0"/>
            <a:ext cx="84582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Graphical Solution of LP Model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5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7" name="Rectangle 12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8" name="Rectangle 7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ordinate Ax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of Maximization Model (1 of 1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9" name="Text Box 4"/>
          <p:cNvSpPr/>
          <p:nvPr/>
        </p:nvSpPr>
        <p:spPr>
          <a:xfrm>
            <a:off x="2193840" y="286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50" name="Picture 5" descr="02-01"/>
          <p:cNvPicPr/>
          <p:nvPr/>
        </p:nvPicPr>
        <p:blipFill>
          <a:blip r:embed="rId1"/>
          <a:stretch/>
        </p:blipFill>
        <p:spPr>
          <a:xfrm>
            <a:off x="3695760" y="1298520"/>
            <a:ext cx="4856040" cy="4713480"/>
          </a:xfrm>
          <a:prstGeom prst="rect">
            <a:avLst/>
          </a:prstGeom>
          <a:ln w="0">
            <a:noFill/>
          </a:ln>
        </p:spPr>
      </p:pic>
      <p:sp>
        <p:nvSpPr>
          <p:cNvPr id="651" name="Text Box 13"/>
          <p:cNvSpPr/>
          <p:nvPr/>
        </p:nvSpPr>
        <p:spPr>
          <a:xfrm>
            <a:off x="3124080" y="6095880"/>
            <a:ext cx="586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2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Coordinates for Graphical Analysi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2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grpSp>
        <p:nvGrpSpPr>
          <p:cNvPr id="653" name="Group 18"/>
          <p:cNvGrpSpPr/>
          <p:nvPr/>
        </p:nvGrpSpPr>
        <p:grpSpPr>
          <a:xfrm>
            <a:off x="1504800" y="5838840"/>
            <a:ext cx="1609920" cy="606240"/>
            <a:chOff x="1504800" y="5838840"/>
            <a:chExt cx="1609920" cy="606240"/>
          </a:xfrm>
        </p:grpSpPr>
        <p:sp>
          <p:nvSpPr>
            <p:cNvPr id="654" name="Line Callout 1 10"/>
            <p:cNvSpPr/>
            <p:nvPr/>
          </p:nvSpPr>
          <p:spPr>
            <a:xfrm flipH="1">
              <a:off x="1504800" y="5838840"/>
              <a:ext cx="1609920" cy="606240"/>
            </a:xfrm>
            <a:prstGeom prst="borderCallout1">
              <a:avLst>
                <a:gd name="adj1" fmla="val 18750"/>
                <a:gd name="adj2" fmla="val -8333"/>
                <a:gd name="adj3" fmla="val -57342"/>
                <a:gd name="adj4" fmla="val -98564"/>
              </a:avLst>
            </a:prstGeom>
            <a:noFill/>
            <a:ln w="25560">
              <a:solidFill>
                <a:srgbClr val="0005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655" name="TextBox 11"/>
            <p:cNvSpPr/>
            <p:nvPr/>
          </p:nvSpPr>
          <p:spPr>
            <a:xfrm>
              <a:off x="1504800" y="5969880"/>
              <a:ext cx="160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Garamond"/>
                </a:rPr>
                <a:t>X</a:t>
              </a:r>
              <a:r>
                <a:rPr b="1" lang="en-US" sz="1200" spc="-1" strike="noStrike">
                  <a:solidFill>
                    <a:srgbClr val="ff0000"/>
                  </a:solidFill>
                  <a:latin typeface="Garamond"/>
                </a:rPr>
                <a:t>1</a:t>
              </a:r>
              <a:r>
                <a:rPr b="1" lang="en-US" sz="1800" spc="-1" strike="noStrike">
                  <a:solidFill>
                    <a:srgbClr val="ff0000"/>
                  </a:solidFill>
                  <a:latin typeface="Garamond"/>
                </a:rPr>
                <a:t> is bowls</a:t>
              </a:r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grpSp>
        <p:nvGrpSpPr>
          <p:cNvPr id="656" name="Group 17"/>
          <p:cNvGrpSpPr/>
          <p:nvPr/>
        </p:nvGrpSpPr>
        <p:grpSpPr>
          <a:xfrm>
            <a:off x="336240" y="2004840"/>
            <a:ext cx="1609920" cy="606600"/>
            <a:chOff x="336240" y="2004840"/>
            <a:chExt cx="1609920" cy="606600"/>
          </a:xfrm>
        </p:grpSpPr>
        <p:sp>
          <p:nvSpPr>
            <p:cNvPr id="657" name="Line Callout 1 15"/>
            <p:cNvSpPr/>
            <p:nvPr/>
          </p:nvSpPr>
          <p:spPr>
            <a:xfrm flipH="1">
              <a:off x="335880" y="2004840"/>
              <a:ext cx="1609560" cy="606600"/>
            </a:xfrm>
            <a:prstGeom prst="borderCallout1">
              <a:avLst>
                <a:gd name="adj1" fmla="val 18750"/>
                <a:gd name="adj2" fmla="val -8333"/>
                <a:gd name="adj3" fmla="val -49314"/>
                <a:gd name="adj4" fmla="val -134828"/>
              </a:avLst>
            </a:prstGeom>
            <a:noFill/>
            <a:ln w="25560">
              <a:solidFill>
                <a:srgbClr val="0005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658" name="TextBox 16"/>
            <p:cNvSpPr/>
            <p:nvPr/>
          </p:nvSpPr>
          <p:spPr>
            <a:xfrm>
              <a:off x="336600" y="2114280"/>
              <a:ext cx="160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Garamond"/>
                </a:rPr>
                <a:t>X</a:t>
              </a:r>
              <a:r>
                <a:rPr b="1" lang="en-US" sz="1200" spc="-1" strike="noStrike">
                  <a:solidFill>
                    <a:srgbClr val="ff0000"/>
                  </a:solidFill>
                  <a:latin typeface="Garamond"/>
                </a:rPr>
                <a:t>2</a:t>
              </a:r>
              <a:r>
                <a:rPr b="1" lang="en-US" sz="1800" spc="-1" strike="noStrike">
                  <a:solidFill>
                    <a:srgbClr val="ff0000"/>
                  </a:solidFill>
                  <a:latin typeface="Garamond"/>
                </a:rPr>
                <a:t> is mugs</a:t>
              </a:r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659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1" name="Rectangle 7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62" name="Picture 4" descr="02-02"/>
          <p:cNvPicPr/>
          <p:nvPr/>
        </p:nvPicPr>
        <p:blipFill>
          <a:blip r:embed="rId1"/>
          <a:stretch/>
        </p:blipFill>
        <p:spPr>
          <a:xfrm>
            <a:off x="3841920" y="1201680"/>
            <a:ext cx="5022720" cy="4610160"/>
          </a:xfrm>
          <a:prstGeom prst="rect">
            <a:avLst/>
          </a:prstGeom>
          <a:ln w="0">
            <a:noFill/>
          </a:ln>
        </p:spPr>
      </p:pic>
      <p:sp>
        <p:nvSpPr>
          <p:cNvPr id="663" name="Rectangle 8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abor Constraint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of Maximization Model (2 of 1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4" name="Text Box 11"/>
          <p:cNvSpPr/>
          <p:nvPr/>
        </p:nvSpPr>
        <p:spPr>
          <a:xfrm>
            <a:off x="3586320" y="5985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3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Graph of Labor Constraint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5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6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8" name="Rectangle 7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abor Constraint Area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of Maximization Model (3 of 1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9" name="Rectangle 6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0" name="Text Box 10"/>
          <p:cNvSpPr/>
          <p:nvPr/>
        </p:nvSpPr>
        <p:spPr>
          <a:xfrm>
            <a:off x="4267080" y="609588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4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Labor Constraint Area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71" name="Picture 4" descr="02-03"/>
          <p:cNvPicPr/>
          <p:nvPr/>
        </p:nvPicPr>
        <p:blipFill>
          <a:blip r:embed="rId1"/>
          <a:stretch/>
        </p:blipFill>
        <p:spPr>
          <a:xfrm>
            <a:off x="3768840" y="1274760"/>
            <a:ext cx="5178240" cy="488628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3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5" name="Rectangle 6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ay Constraint Area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of Maximization Model (4 of 1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6" name="Rectangle 8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77" name="Picture 4" descr="02-04"/>
          <p:cNvPicPr/>
          <p:nvPr/>
        </p:nvPicPr>
        <p:blipFill>
          <a:blip r:embed="rId1"/>
          <a:stretch/>
        </p:blipFill>
        <p:spPr>
          <a:xfrm>
            <a:off x="3805200" y="1238400"/>
            <a:ext cx="5216400" cy="4922640"/>
          </a:xfrm>
          <a:prstGeom prst="rect">
            <a:avLst/>
          </a:prstGeom>
          <a:ln w="0">
            <a:noFill/>
          </a:ln>
        </p:spPr>
      </p:pic>
      <p:sp>
        <p:nvSpPr>
          <p:cNvPr id="678" name="Text Box 10"/>
          <p:cNvSpPr/>
          <p:nvPr/>
        </p:nvSpPr>
        <p:spPr>
          <a:xfrm>
            <a:off x="4572000" y="60958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5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Clay Constraint Area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9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0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2" name="Rectangle 6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oth Constraint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of Maximization Model (5 of 1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3" name="Rectangle 8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84" name="Picture 4" descr="02-05"/>
          <p:cNvPicPr/>
          <p:nvPr/>
        </p:nvPicPr>
        <p:blipFill>
          <a:blip r:embed="rId1"/>
          <a:stretch/>
        </p:blipFill>
        <p:spPr>
          <a:xfrm>
            <a:off x="3768840" y="1274760"/>
            <a:ext cx="5184720" cy="4892760"/>
          </a:xfrm>
          <a:prstGeom prst="rect">
            <a:avLst/>
          </a:prstGeom>
          <a:ln w="0">
            <a:noFill/>
          </a:ln>
        </p:spPr>
      </p:pic>
      <p:sp>
        <p:nvSpPr>
          <p:cNvPr id="685" name="Text Box 10"/>
          <p:cNvSpPr/>
          <p:nvPr/>
        </p:nvSpPr>
        <p:spPr>
          <a:xfrm>
            <a:off x="3330720" y="6095880"/>
            <a:ext cx="569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6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Graph of Both Model Constraint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6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7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9" name="Rectangle 8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0" name="Rectangle 6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Feasible Solution Area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of Maximization Model (6 of 1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91" name="Picture 4" descr="02-06"/>
          <p:cNvPicPr/>
          <p:nvPr/>
        </p:nvPicPr>
        <p:blipFill>
          <a:blip r:embed="rId1"/>
          <a:stretch/>
        </p:blipFill>
        <p:spPr>
          <a:xfrm>
            <a:off x="3805200" y="1274760"/>
            <a:ext cx="5172120" cy="4813200"/>
          </a:xfrm>
          <a:prstGeom prst="rect">
            <a:avLst/>
          </a:prstGeom>
          <a:ln w="0">
            <a:noFill/>
          </a:ln>
        </p:spPr>
      </p:pic>
      <p:sp>
        <p:nvSpPr>
          <p:cNvPr id="692" name="Text Box 10"/>
          <p:cNvSpPr/>
          <p:nvPr/>
        </p:nvSpPr>
        <p:spPr>
          <a:xfrm>
            <a:off x="4097160" y="613080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7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easible Solution Area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3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4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6" name="Rectangle 6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Objective Function Solution = $800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of Maximization Model (7 of 1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7" name="Rectangle 8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98" name="Picture 4" descr="02-07"/>
          <p:cNvPicPr/>
          <p:nvPr/>
        </p:nvPicPr>
        <p:blipFill>
          <a:blip r:embed="rId1"/>
          <a:stretch/>
        </p:blipFill>
        <p:spPr>
          <a:xfrm>
            <a:off x="3914640" y="1292400"/>
            <a:ext cx="5081760" cy="4795560"/>
          </a:xfrm>
          <a:prstGeom prst="rect">
            <a:avLst/>
          </a:prstGeom>
          <a:ln w="0">
            <a:noFill/>
          </a:ln>
        </p:spPr>
      </p:pic>
      <p:sp>
        <p:nvSpPr>
          <p:cNvPr id="699" name="Text Box 10"/>
          <p:cNvSpPr/>
          <p:nvPr/>
        </p:nvSpPr>
        <p:spPr>
          <a:xfrm>
            <a:off x="2819520" y="609444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8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Objection Function Line for Z = $80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0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1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66400" y="228240"/>
            <a:ext cx="758196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Chapter Topics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541440" y="160020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odel Formulation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Maximization Model Example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Graphical Solutions of Linear Programming Model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Minimization Model Example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Irregular Types of Linear Programming Model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Characteristics of Linear Programming Problem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2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3" name="Rectangle 8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4" name="Rectangle 6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Alternative Objective Function Solution Line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Graphical Solution of Maximization Model (8 of 12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05" name="Picture 4" descr="02-08"/>
          <p:cNvPicPr/>
          <p:nvPr/>
        </p:nvPicPr>
        <p:blipFill>
          <a:blip r:embed="rId1"/>
          <a:stretch/>
        </p:blipFill>
        <p:spPr>
          <a:xfrm>
            <a:off x="3878280" y="1295280"/>
            <a:ext cx="5118120" cy="4829400"/>
          </a:xfrm>
          <a:prstGeom prst="rect">
            <a:avLst/>
          </a:prstGeom>
          <a:ln w="0">
            <a:noFill/>
          </a:ln>
        </p:spPr>
      </p:pic>
      <p:sp>
        <p:nvSpPr>
          <p:cNvPr id="706" name="Text Box 10"/>
          <p:cNvSpPr/>
          <p:nvPr/>
        </p:nvSpPr>
        <p:spPr>
          <a:xfrm>
            <a:off x="2971800" y="60958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9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Alternative Objective Function Line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7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8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0" name="Rectangle 6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Optimal Sol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of Maximization Model (9 of 1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1" name="Rectangle 8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12" name="Picture 4" descr="02-09"/>
          <p:cNvPicPr/>
          <p:nvPr/>
        </p:nvPicPr>
        <p:blipFill>
          <a:blip r:embed="rId1"/>
          <a:stretch/>
        </p:blipFill>
        <p:spPr>
          <a:xfrm>
            <a:off x="3878280" y="1347840"/>
            <a:ext cx="5046480" cy="4833720"/>
          </a:xfrm>
          <a:prstGeom prst="rect">
            <a:avLst/>
          </a:prstGeom>
          <a:ln w="0">
            <a:noFill/>
          </a:ln>
        </p:spPr>
      </p:pic>
      <p:sp>
        <p:nvSpPr>
          <p:cNvPr id="713" name="Text Box 10"/>
          <p:cNvSpPr/>
          <p:nvPr/>
        </p:nvSpPr>
        <p:spPr>
          <a:xfrm>
            <a:off x="2271600" y="6094440"/>
            <a:ext cx="587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0   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Identification of Optimal Solution Point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4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5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7" name="Rectangle 8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8" name="Rectangle 6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514"/>
                </a:solidFill>
                <a:latin typeface="Garamond"/>
              </a:rPr>
              <a:t>Optimal Solution Coordinates</a:t>
            </a:r>
            <a:endParaRPr b="0" lang="en-US" sz="30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514"/>
                </a:solidFill>
                <a:latin typeface="Garamond"/>
              </a:rPr>
              <a:t>Graphical Solution of Maximization Model (10 of 12)</a:t>
            </a:r>
            <a:endParaRPr b="0" lang="en-US" sz="30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19" name="Picture 4" descr="02-10"/>
          <p:cNvPicPr/>
          <p:nvPr/>
        </p:nvPicPr>
        <p:blipFill>
          <a:blip r:embed="rId1"/>
          <a:stretch/>
        </p:blipFill>
        <p:spPr>
          <a:xfrm>
            <a:off x="3848040" y="1384200"/>
            <a:ext cx="5099040" cy="4745160"/>
          </a:xfrm>
          <a:prstGeom prst="rect">
            <a:avLst/>
          </a:prstGeom>
          <a:ln w="0">
            <a:noFill/>
          </a:ln>
        </p:spPr>
      </p:pic>
      <p:sp>
        <p:nvSpPr>
          <p:cNvPr id="720" name="Text Box 10"/>
          <p:cNvSpPr/>
          <p:nvPr/>
        </p:nvSpPr>
        <p:spPr>
          <a:xfrm>
            <a:off x="3505320" y="6130800"/>
            <a:ext cx="548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1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Optimal Solution Coordinate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1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2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4" name="Rectangle 16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5" name="Rectangle 17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514"/>
                </a:solidFill>
                <a:latin typeface="Garamond"/>
              </a:rPr>
              <a:t>Extreme (Corner) Point Solutions</a:t>
            </a:r>
            <a:endParaRPr b="0" lang="en-US" sz="30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514"/>
                </a:solidFill>
                <a:latin typeface="Garamond"/>
              </a:rPr>
              <a:t>Graphical Solution of Maximization Model (11 of 12)</a:t>
            </a:r>
            <a:endParaRPr b="0" lang="en-US" sz="30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26" name="Picture 4" descr="02-11"/>
          <p:cNvPicPr/>
          <p:nvPr/>
        </p:nvPicPr>
        <p:blipFill>
          <a:blip r:embed="rId1"/>
          <a:stretch/>
        </p:blipFill>
        <p:spPr>
          <a:xfrm>
            <a:off x="3768840" y="1347840"/>
            <a:ext cx="5038560" cy="4754520"/>
          </a:xfrm>
          <a:prstGeom prst="rect">
            <a:avLst/>
          </a:prstGeom>
          <a:ln w="0">
            <a:noFill/>
          </a:ln>
        </p:spPr>
      </p:pic>
      <p:sp>
        <p:nvSpPr>
          <p:cNvPr id="727" name="Text Box 20"/>
          <p:cNvSpPr/>
          <p:nvPr/>
        </p:nvSpPr>
        <p:spPr>
          <a:xfrm>
            <a:off x="3581280" y="6095880"/>
            <a:ext cx="540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2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Solutions at All Corner Point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8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9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1" name="Rectangle 6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2" name="Rectangle 7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514"/>
                </a:solidFill>
                <a:latin typeface="Garamond"/>
              </a:rPr>
              <a:t>Optimal Solution for New Objective Function</a:t>
            </a:r>
            <a:endParaRPr b="0" lang="en-US" sz="30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514"/>
                </a:solidFill>
                <a:latin typeface="Garamond"/>
              </a:rPr>
              <a:t>Graphical Solution of Maximization Model (12 of 12)</a:t>
            </a:r>
            <a:endParaRPr b="0" lang="en-US" sz="30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33" name="Picture 4" descr="02-12"/>
          <p:cNvPicPr/>
          <p:nvPr/>
        </p:nvPicPr>
        <p:blipFill>
          <a:blip r:embed="rId1"/>
          <a:stretch/>
        </p:blipFill>
        <p:spPr>
          <a:xfrm>
            <a:off x="3841920" y="1494000"/>
            <a:ext cx="4641840" cy="4709880"/>
          </a:xfrm>
          <a:prstGeom prst="rect">
            <a:avLst/>
          </a:prstGeom>
          <a:ln w="0">
            <a:noFill/>
          </a:ln>
        </p:spPr>
      </p:pic>
      <p:sp>
        <p:nvSpPr>
          <p:cNvPr id="734" name="Text Box 8"/>
          <p:cNvSpPr/>
          <p:nvPr/>
        </p:nvSpPr>
        <p:spPr>
          <a:xfrm>
            <a:off x="0" y="2819520"/>
            <a:ext cx="3951360" cy="25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7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2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5" name="Text Box 10"/>
          <p:cNvSpPr/>
          <p:nvPr/>
        </p:nvSpPr>
        <p:spPr>
          <a:xfrm>
            <a:off x="2563920" y="6203880"/>
            <a:ext cx="6462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3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Optimal Solution with Z = 7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 + 2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  <a:ea typeface="Times New Roman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6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8" name="Rectangle 6"/>
          <p:cNvSpPr/>
          <p:nvPr/>
        </p:nvSpPr>
        <p:spPr>
          <a:xfrm>
            <a:off x="270000" y="1600200"/>
            <a:ext cx="860256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25"/>
              </a:spcBef>
              <a:buClr>
                <a:srgbClr val="297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tandard form requires that all constraints be in the form of equations (equalities)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297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slack variable is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added to a </a:t>
            </a:r>
            <a:r>
              <a:rPr b="1" i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 constraint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(weak  inequality) to convert it to an equation (=)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297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slack variable typically represents an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unused resource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297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slack variable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contributes nothing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o the objective function value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9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Slack Variable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0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2" name="Rectangle 14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43" name="Picture 4" descr="02-13"/>
          <p:cNvPicPr/>
          <p:nvPr/>
        </p:nvPicPr>
        <p:blipFill>
          <a:blip r:embed="rId1"/>
          <a:stretch/>
        </p:blipFill>
        <p:spPr>
          <a:xfrm>
            <a:off x="3951360" y="1201680"/>
            <a:ext cx="4778280" cy="4983120"/>
          </a:xfrm>
          <a:prstGeom prst="rect">
            <a:avLst/>
          </a:prstGeom>
          <a:ln w="0">
            <a:noFill/>
          </a:ln>
        </p:spPr>
      </p:pic>
      <p:sp>
        <p:nvSpPr>
          <p:cNvPr id="744" name="Rectangle 12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Linear Programming Model: Standard Form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5" name="Text Box 15"/>
          <p:cNvSpPr/>
          <p:nvPr/>
        </p:nvSpPr>
        <p:spPr>
          <a:xfrm>
            <a:off x="0" y="1828800"/>
            <a:ext cx="4381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 Z = 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s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s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+ s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=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+ s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=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s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s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Where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bowl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mug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s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are slack variable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6" name="Text Box 16"/>
          <p:cNvSpPr/>
          <p:nvPr/>
        </p:nvSpPr>
        <p:spPr>
          <a:xfrm>
            <a:off x="2452680" y="6172200"/>
            <a:ext cx="66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4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Solution Points A, B, and C with Slack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7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9" name="Rectangle 5"/>
          <p:cNvSpPr/>
          <p:nvPr/>
        </p:nvSpPr>
        <p:spPr>
          <a:xfrm>
            <a:off x="0" y="0"/>
            <a:ext cx="9144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P Model Formulation – Minimization (1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750" name="Object 2"/>
          <p:cNvGraphicFramePr/>
          <p:nvPr/>
        </p:nvGraphicFramePr>
        <p:xfrm>
          <a:off x="2454120" y="3976560"/>
          <a:ext cx="5531040" cy="249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4120" y="3976560"/>
                    <a:ext cx="5531040" cy="24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Rectangle 7"/>
          <p:cNvSpPr/>
          <p:nvPr/>
        </p:nvSpPr>
        <p:spPr>
          <a:xfrm>
            <a:off x="299880" y="1347840"/>
            <a:ext cx="8602920" cy="55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00f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wo brands of fertilizer available - Super-gro, Crop-quick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00f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Field requires at least 16 pounds of nitrogen and 24 pounds of phosphat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00f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per-gro costs $6 per bag, Crop-quick $3 per bag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00f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Problem: How much of each brand to purchase to minimize total cost of fertilizer given following data ?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3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5" name="Rectangle 5"/>
          <p:cNvSpPr/>
          <p:nvPr/>
        </p:nvSpPr>
        <p:spPr>
          <a:xfrm>
            <a:off x="0" y="0"/>
            <a:ext cx="9144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P Model Formulation – Minimization (2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6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57" name="Picture 5" descr="F:\POM\Chapter 2\AAFQRCK0.jpg"/>
          <p:cNvPicPr/>
          <p:nvPr/>
        </p:nvPicPr>
        <p:blipFill>
          <a:blip r:embed="rId1"/>
          <a:stretch/>
        </p:blipFill>
        <p:spPr>
          <a:xfrm>
            <a:off x="2928960" y="1274760"/>
            <a:ext cx="5567400" cy="5029200"/>
          </a:xfrm>
          <a:prstGeom prst="rect">
            <a:avLst/>
          </a:prstGeom>
          <a:ln w="0">
            <a:noFill/>
          </a:ln>
        </p:spPr>
      </p:pic>
      <p:sp>
        <p:nvSpPr>
          <p:cNvPr id="758" name="Text Box 16"/>
          <p:cNvSpPr/>
          <p:nvPr/>
        </p:nvSpPr>
        <p:spPr>
          <a:xfrm>
            <a:off x="154080" y="4633920"/>
            <a:ext cx="333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5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ertilizing farmer’s field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0" name="Text Box 3"/>
          <p:cNvSpPr/>
          <p:nvPr/>
        </p:nvSpPr>
        <p:spPr>
          <a:xfrm>
            <a:off x="304920" y="1320840"/>
            <a:ext cx="8534160" cy="52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Decision Variables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bags of Super-gro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bags of Crop-quick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Objective Function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inimize Z = $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Where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$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cost of bags of Super-Gro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$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cost of bags of Crop-Quick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odel Constraints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6 lb (nitrogen constraint)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4 lb (phosphate constraint)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 (non-negativity constraint)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1" name="Rectangle 5"/>
          <p:cNvSpPr/>
          <p:nvPr/>
        </p:nvSpPr>
        <p:spPr>
          <a:xfrm>
            <a:off x="0" y="0"/>
            <a:ext cx="86104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P Model Formulation – Minimization (3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2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4" name="Rectangle 4"/>
          <p:cNvSpPr/>
          <p:nvPr/>
        </p:nvSpPr>
        <p:spPr>
          <a:xfrm>
            <a:off x="8437680" y="3703680"/>
            <a:ext cx="183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270000" y="1327320"/>
            <a:ext cx="8602560" cy="50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Objectives of business decisions frequently involve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maximizing profit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or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minimizing costs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Linear programming uses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linear algebraic relationships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o represent a firm’s decisions, given a business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objective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, and resource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constraints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teps in application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lvl="1" marL="971640" indent="-514440">
              <a:lnSpc>
                <a:spcPct val="100000"/>
              </a:lnSpc>
              <a:buClr>
                <a:srgbClr val="000514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Identify problem as solvable by linear programming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lvl="1" marL="971640" indent="-514440">
              <a:lnSpc>
                <a:spcPct val="100000"/>
              </a:lnSpc>
              <a:buClr>
                <a:srgbClr val="000514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Formulate a mathematical model of the unstructured problem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lvl="1" marL="971640" indent="-514440">
              <a:lnSpc>
                <a:spcPct val="100000"/>
              </a:lnSpc>
              <a:buClr>
                <a:srgbClr val="000514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olve the model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lvl="1" marL="971640" indent="-514440">
              <a:lnSpc>
                <a:spcPct val="100000"/>
              </a:lnSpc>
              <a:buClr>
                <a:srgbClr val="000514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Implementation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6" name="Rectangle 7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Linear Programming:  An Overview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7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4" name="Rectangle 9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65" name="Picture 4" descr="02-14"/>
          <p:cNvPicPr/>
          <p:nvPr/>
        </p:nvPicPr>
        <p:blipFill>
          <a:blip r:embed="rId1"/>
          <a:stretch/>
        </p:blipFill>
        <p:spPr>
          <a:xfrm>
            <a:off x="3659040" y="1238400"/>
            <a:ext cx="5148360" cy="4724280"/>
          </a:xfrm>
          <a:prstGeom prst="rect">
            <a:avLst/>
          </a:prstGeom>
          <a:ln w="0">
            <a:noFill/>
          </a:ln>
        </p:spPr>
      </p:pic>
      <p:sp>
        <p:nvSpPr>
          <p:cNvPr id="766" name="Text Box 8"/>
          <p:cNvSpPr/>
          <p:nvPr/>
        </p:nvSpPr>
        <p:spPr>
          <a:xfrm>
            <a:off x="0" y="2819520"/>
            <a:ext cx="445788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inimize Z = $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6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7" name="Text Box 10"/>
          <p:cNvSpPr/>
          <p:nvPr/>
        </p:nvSpPr>
        <p:spPr>
          <a:xfrm>
            <a:off x="3200400" y="60958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6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Graph of Both Model Constraint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8" name="Rectangle 5"/>
          <p:cNvSpPr/>
          <p:nvPr/>
        </p:nvSpPr>
        <p:spPr>
          <a:xfrm>
            <a:off x="0" y="0"/>
            <a:ext cx="86104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Constraint Graph – Minimization (4 of 8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9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1" name="Rectangle 6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72" name="Picture 4" descr="02-15"/>
          <p:cNvPicPr/>
          <p:nvPr/>
        </p:nvPicPr>
        <p:blipFill>
          <a:blip r:embed="rId1"/>
          <a:stretch/>
        </p:blipFill>
        <p:spPr>
          <a:xfrm>
            <a:off x="3768840" y="1384200"/>
            <a:ext cx="5111640" cy="4691160"/>
          </a:xfrm>
          <a:prstGeom prst="rect">
            <a:avLst/>
          </a:prstGeom>
          <a:ln w="0">
            <a:noFill/>
          </a:ln>
        </p:spPr>
      </p:pic>
      <p:sp>
        <p:nvSpPr>
          <p:cNvPr id="773" name="Text Box 10"/>
          <p:cNvSpPr/>
          <p:nvPr/>
        </p:nvSpPr>
        <p:spPr>
          <a:xfrm>
            <a:off x="3886200" y="60958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7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easible Solution Area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4" name="Rectangle 5"/>
          <p:cNvSpPr/>
          <p:nvPr/>
        </p:nvSpPr>
        <p:spPr>
          <a:xfrm>
            <a:off x="0" y="0"/>
            <a:ext cx="86104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Feasible Region– Minimization (5 of 8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5" name="Text Box 8"/>
          <p:cNvSpPr/>
          <p:nvPr/>
        </p:nvSpPr>
        <p:spPr>
          <a:xfrm>
            <a:off x="0" y="2819520"/>
            <a:ext cx="445788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inimize Z = $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6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6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8" name="Rectangle 6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79" name="Picture 4" descr="02-16"/>
          <p:cNvPicPr/>
          <p:nvPr/>
        </p:nvPicPr>
        <p:blipFill>
          <a:blip r:embed="rId1"/>
          <a:stretch/>
        </p:blipFill>
        <p:spPr>
          <a:xfrm>
            <a:off x="4129200" y="1384200"/>
            <a:ext cx="5014800" cy="4602240"/>
          </a:xfrm>
          <a:prstGeom prst="rect">
            <a:avLst/>
          </a:prstGeom>
          <a:ln w="0">
            <a:noFill/>
          </a:ln>
        </p:spPr>
      </p:pic>
      <p:sp>
        <p:nvSpPr>
          <p:cNvPr id="780" name="Text Box 10"/>
          <p:cNvSpPr/>
          <p:nvPr/>
        </p:nvSpPr>
        <p:spPr>
          <a:xfrm>
            <a:off x="3809880" y="6095880"/>
            <a:ext cx="49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8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Optimum Solution Point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1" name="Rectangle 5"/>
          <p:cNvSpPr/>
          <p:nvPr/>
        </p:nvSpPr>
        <p:spPr>
          <a:xfrm>
            <a:off x="0" y="0"/>
            <a:ext cx="86104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Optimal Solution Point – Minimization (6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0" y="2819520"/>
            <a:ext cx="445788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inimize Z = $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6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3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5" name="Rectangle 7"/>
          <p:cNvSpPr/>
          <p:nvPr/>
        </p:nvSpPr>
        <p:spPr>
          <a:xfrm>
            <a:off x="263520" y="1238400"/>
            <a:ext cx="8602560" cy="48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surplus variable is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subtracted from a </a:t>
            </a:r>
            <a:r>
              <a:rPr b="1" i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 constraint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o convert it to an equation (=)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surplus variable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represents an excess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bove a constraint requirement level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surplus variable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contributes nothing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o the calculated value of the objective function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ubtracting surplus variables in the farmer problem constraints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2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+ 4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- s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16 (nitrogen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- s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24 (phosphate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6" name="Rectangle 5"/>
          <p:cNvSpPr/>
          <p:nvPr/>
        </p:nvSpPr>
        <p:spPr>
          <a:xfrm>
            <a:off x="0" y="0"/>
            <a:ext cx="86104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urplus Variables – Minimization (7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7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9" name="Rectangle 9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0" name="Text Box 11"/>
          <p:cNvSpPr/>
          <p:nvPr/>
        </p:nvSpPr>
        <p:spPr>
          <a:xfrm>
            <a:off x="3805200" y="609444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9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Graph of Fertilizer Example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91" name="Picture 4" descr="02-17"/>
          <p:cNvPicPr/>
          <p:nvPr/>
        </p:nvPicPr>
        <p:blipFill>
          <a:blip r:embed="rId1"/>
          <a:stretch/>
        </p:blipFill>
        <p:spPr>
          <a:xfrm>
            <a:off x="4389480" y="1420920"/>
            <a:ext cx="4271760" cy="4271760"/>
          </a:xfrm>
          <a:prstGeom prst="rect">
            <a:avLst/>
          </a:prstGeom>
          <a:ln w="0">
            <a:noFill/>
          </a:ln>
        </p:spPr>
      </p:pic>
      <p:sp>
        <p:nvSpPr>
          <p:cNvPr id="792" name="Rectangle 5"/>
          <p:cNvSpPr/>
          <p:nvPr/>
        </p:nvSpPr>
        <p:spPr>
          <a:xfrm>
            <a:off x="0" y="0"/>
            <a:ext cx="86104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s – Minimization (8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0" y="2819520"/>
            <a:ext cx="47545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Minimize Z = $6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$3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0s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0s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2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4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– s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= 16 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– s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= 24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, s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, s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4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For some linear programming models, the general rules do not apply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pecial types of problems include those with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spcBef>
                <a:spcPts val="1225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ultiple optimal solution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spcBef>
                <a:spcPts val="1225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Infeasible solution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spcBef>
                <a:spcPts val="1225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Unbounded solution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7" name="Rectangle 4"/>
          <p:cNvSpPr/>
          <p:nvPr/>
        </p:nvSpPr>
        <p:spPr>
          <a:xfrm>
            <a:off x="0" y="0"/>
            <a:ext cx="91440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Irregular Types of Linear Programming Problem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8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0" name="Rectangle 9"/>
          <p:cNvSpPr/>
          <p:nvPr/>
        </p:nvSpPr>
        <p:spPr>
          <a:xfrm>
            <a:off x="43941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801" name="Picture 4" descr="02-18"/>
          <p:cNvPicPr/>
          <p:nvPr/>
        </p:nvPicPr>
        <p:blipFill>
          <a:blip r:embed="rId1"/>
          <a:stretch/>
        </p:blipFill>
        <p:spPr>
          <a:xfrm>
            <a:off x="3951360" y="1494000"/>
            <a:ext cx="4829040" cy="4557600"/>
          </a:xfrm>
          <a:prstGeom prst="rect">
            <a:avLst/>
          </a:prstGeom>
          <a:ln w="0">
            <a:noFill/>
          </a:ln>
        </p:spPr>
      </p:pic>
      <p:sp>
        <p:nvSpPr>
          <p:cNvPr id="802" name="Text Box 10"/>
          <p:cNvSpPr/>
          <p:nvPr/>
        </p:nvSpPr>
        <p:spPr>
          <a:xfrm>
            <a:off x="2125800" y="6095880"/>
            <a:ext cx="69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20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Example with Multiple Optimal Solution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3" name="Rectangle 11"/>
          <p:cNvSpPr/>
          <p:nvPr/>
        </p:nvSpPr>
        <p:spPr>
          <a:xfrm>
            <a:off x="0" y="0"/>
            <a:ext cx="87249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Multiple Optimal Solutions Beaver Creek Pottery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4" name="Text Box 3"/>
          <p:cNvSpPr/>
          <p:nvPr/>
        </p:nvSpPr>
        <p:spPr>
          <a:xfrm>
            <a:off x="0" y="1752480"/>
            <a:ext cx="4343400" cy="42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objective function is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parallel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o a constraint line.       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=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Where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bowl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mug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5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7" name="Rectangle 9"/>
          <p:cNvSpPr/>
          <p:nvPr/>
        </p:nvSpPr>
        <p:spPr>
          <a:xfrm>
            <a:off x="43941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8" name="Rectangle 6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An Infeasible Problem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809" name="Picture 4" descr="02-19"/>
          <p:cNvPicPr/>
          <p:nvPr/>
        </p:nvPicPr>
        <p:blipFill>
          <a:blip r:embed="rId1"/>
          <a:stretch/>
        </p:blipFill>
        <p:spPr>
          <a:xfrm>
            <a:off x="3768840" y="1347840"/>
            <a:ext cx="5157720" cy="4440240"/>
          </a:xfrm>
          <a:prstGeom prst="rect">
            <a:avLst/>
          </a:prstGeom>
          <a:ln w="0">
            <a:noFill/>
          </a:ln>
        </p:spPr>
      </p:pic>
      <p:sp>
        <p:nvSpPr>
          <p:cNvPr id="810" name="Text Box 10"/>
          <p:cNvSpPr/>
          <p:nvPr/>
        </p:nvSpPr>
        <p:spPr>
          <a:xfrm>
            <a:off x="3352680" y="60958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21 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  <a:ea typeface="Times New Roman"/>
              </a:rPr>
              <a:t>Graph of an Infeasible Problem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1" name="Text Box 3"/>
          <p:cNvSpPr/>
          <p:nvPr/>
        </p:nvSpPr>
        <p:spPr>
          <a:xfrm>
            <a:off x="0" y="1895400"/>
            <a:ext cx="4267080" cy="34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Every possible solution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violates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at least one constraint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 Z = 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8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6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2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4" name="Rectangle 6"/>
          <p:cNvSpPr/>
          <p:nvPr/>
        </p:nvSpPr>
        <p:spPr>
          <a:xfrm>
            <a:off x="43941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815" name="Picture 4" descr="02-20"/>
          <p:cNvPicPr/>
          <p:nvPr/>
        </p:nvPicPr>
        <p:blipFill>
          <a:blip r:embed="rId1"/>
          <a:stretch/>
        </p:blipFill>
        <p:spPr>
          <a:xfrm>
            <a:off x="3841920" y="1311120"/>
            <a:ext cx="5002200" cy="4869000"/>
          </a:xfrm>
          <a:prstGeom prst="rect">
            <a:avLst/>
          </a:prstGeom>
          <a:ln w="0">
            <a:noFill/>
          </a:ln>
        </p:spPr>
      </p:pic>
      <p:sp>
        <p:nvSpPr>
          <p:cNvPr id="816" name="Rectangle 7"/>
          <p:cNvSpPr/>
          <p:nvPr/>
        </p:nvSpPr>
        <p:spPr>
          <a:xfrm>
            <a:off x="0" y="0"/>
            <a:ext cx="8610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An Unbounded Problem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7" name="Text Box 9"/>
          <p:cNvSpPr/>
          <p:nvPr/>
        </p:nvSpPr>
        <p:spPr>
          <a:xfrm>
            <a:off x="2965320" y="6094440"/>
            <a:ext cx="602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22 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  <a:ea typeface="Times New Roman"/>
              </a:rPr>
              <a:t>Graph of an Unbounded Problem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8" name="Text Box 3"/>
          <p:cNvSpPr/>
          <p:nvPr/>
        </p:nvSpPr>
        <p:spPr>
          <a:xfrm>
            <a:off x="0" y="2286000"/>
            <a:ext cx="434340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Value of the objective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function increases indefinitely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 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9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1" name="Rectangle 4"/>
          <p:cNvSpPr/>
          <p:nvPr/>
        </p:nvSpPr>
        <p:spPr>
          <a:xfrm>
            <a:off x="0" y="0"/>
            <a:ext cx="91440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haracteristics of Linear Programming Problem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 decision amongst alternative courses of action is require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decision is represented in the model by 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decision variables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problem encompasses a goal, expressed as an 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objective function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that the decision maker  wants to achiev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Restrictions (represented by 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constraints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)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exist that limit the extent of achievement of the objectiv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objective and constraints must be definable by 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linear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mathematical functional relationships. 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3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Decision variables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- mathematical symbols representing levels of activity of a firm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Objective function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- a linear mathematical relationship describing an objective of the firm, in terms of decision variables - this function is to be maximized or minimize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Constraints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– requirements or restrictions placed on the firm by the operating environment, stated in linear relationships of the decision variable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arameters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- numerical coefficients and constants used in the objective function and constraint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Model Component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1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Proportionality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- The rate of change (slope) of the objective function and constraint equations is constant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Additivity</a:t>
            </a:r>
            <a:r>
              <a:rPr b="1" lang="en-US" sz="24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- Terms in the objective function and constraint equations must be additiv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Divisibility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-Decision variables can take on any fractional value and are therefore continuous as opposed to integer  in natur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Certainty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Values of all the model parameters are assumed to be known with certainty (non-probabilistic)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6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Properties of Linear Programming Model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7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9" name="Rectangle 4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Problem Statement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Problem No. 1 (1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0" name="Rectangle 7"/>
          <p:cNvSpPr/>
          <p:nvPr/>
        </p:nvSpPr>
        <p:spPr>
          <a:xfrm>
            <a:off x="270000" y="1523880"/>
            <a:ext cx="860256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Hot dog mixture in 1000-pound batches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wo ingredients, chicken ($3/lb) and beef ($5/lb)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Recipe requirements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t least 500 pounds of “chicken”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t least 200 pounds of “beef”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Ratio of chicken to beef must be at least 2 to 1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Determine optimal mixture of ingredients that will minimize costs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1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3" name="Text Box 3"/>
          <p:cNvSpPr/>
          <p:nvPr/>
        </p:nvSpPr>
        <p:spPr>
          <a:xfrm>
            <a:off x="304920" y="1330200"/>
            <a:ext cx="8534160" cy="55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Step 1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Identify decision variables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lb of chicken in mixture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lb of beef in mixture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Step 2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Formulate the objective function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inimize Z = $3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+ $5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where Z = cost per 1,000-lb batch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$3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cost of chicken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$5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cost of beef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4" name="Rectangle 4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Problem No. 1 (2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5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7" name="Text Box 3"/>
          <p:cNvSpPr/>
          <p:nvPr/>
        </p:nvSpPr>
        <p:spPr>
          <a:xfrm>
            <a:off x="263520" y="1494000"/>
            <a:ext cx="8610480" cy="56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Step 3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Establish Model Constraint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1,000 lb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500 lb of chicken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00 lb of beef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/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/1 or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Model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Minimize Z = $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 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1,000 lb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5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0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   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8" name="Rectangle 4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Problem No. 1 (3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9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41" name="Rectangle 11"/>
          <p:cNvSpPr/>
          <p:nvPr/>
        </p:nvSpPr>
        <p:spPr>
          <a:xfrm>
            <a:off x="43941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42" name="Text Box 3"/>
          <p:cNvSpPr/>
          <p:nvPr/>
        </p:nvSpPr>
        <p:spPr>
          <a:xfrm>
            <a:off x="0" y="1295280"/>
            <a:ext cx="4038480" cy="43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olve the following model graphically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   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36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tep 1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Plot the constraints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s equation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843" name="Picture 4" descr="02-21"/>
          <p:cNvPicPr/>
          <p:nvPr/>
        </p:nvPicPr>
        <p:blipFill>
          <a:blip r:embed="rId1"/>
          <a:stretch/>
        </p:blipFill>
        <p:spPr>
          <a:xfrm>
            <a:off x="3768840" y="1238400"/>
            <a:ext cx="5002200" cy="4865400"/>
          </a:xfrm>
          <a:prstGeom prst="rect">
            <a:avLst/>
          </a:prstGeom>
          <a:ln w="0">
            <a:noFill/>
          </a:ln>
        </p:spPr>
      </p:pic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10480" cy="12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Example Problem No. 2 (1 of 3)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45" name="Text Box 12"/>
          <p:cNvSpPr/>
          <p:nvPr/>
        </p:nvSpPr>
        <p:spPr>
          <a:xfrm>
            <a:off x="4024440" y="609444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23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Constraint Equation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46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48" name="Rectangle 9"/>
          <p:cNvSpPr/>
          <p:nvPr/>
        </p:nvSpPr>
        <p:spPr>
          <a:xfrm>
            <a:off x="43941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849" name="Picture 4" descr="02-22"/>
          <p:cNvPicPr/>
          <p:nvPr/>
        </p:nvPicPr>
        <p:blipFill>
          <a:blip r:embed="rId1"/>
          <a:stretch/>
        </p:blipFill>
        <p:spPr>
          <a:xfrm>
            <a:off x="3951360" y="1494000"/>
            <a:ext cx="4709880" cy="4338360"/>
          </a:xfrm>
          <a:prstGeom prst="rect">
            <a:avLst/>
          </a:prstGeom>
          <a:ln w="0">
            <a:noFill/>
          </a:ln>
        </p:spPr>
      </p:pic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1048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Example Problem No. 2 (2 of 3)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51" name="Text Box 10"/>
          <p:cNvSpPr/>
          <p:nvPr/>
        </p:nvSpPr>
        <p:spPr>
          <a:xfrm>
            <a:off x="0" y="1752480"/>
            <a:ext cx="4114800" cy="30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   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36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tep 2: Determine the feasible solution space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2" name="Text Box 11"/>
          <p:cNvSpPr/>
          <p:nvPr/>
        </p:nvSpPr>
        <p:spPr>
          <a:xfrm>
            <a:off x="2417760" y="6094440"/>
            <a:ext cx="654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24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  <a:ea typeface="Times New Roman"/>
              </a:rPr>
              <a:t>Feasible Solution Space and Extreme Points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3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5" name="Rectangle 6"/>
          <p:cNvSpPr/>
          <p:nvPr/>
        </p:nvSpPr>
        <p:spPr>
          <a:xfrm>
            <a:off x="43941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856" name="Picture 4" descr="02-23"/>
          <p:cNvPicPr/>
          <p:nvPr/>
        </p:nvPicPr>
        <p:blipFill>
          <a:blip r:embed="rId1"/>
          <a:stretch/>
        </p:blipFill>
        <p:spPr>
          <a:xfrm>
            <a:off x="3805200" y="1420920"/>
            <a:ext cx="4929120" cy="4735440"/>
          </a:xfrm>
          <a:prstGeom prst="rect">
            <a:avLst/>
          </a:prstGeom>
          <a:ln w="0">
            <a:noFill/>
          </a:ln>
        </p:spPr>
      </p:pic>
      <p:sp>
        <p:nvSpPr>
          <p:cNvPr id="857" name="Rectangle 7"/>
          <p:cNvSpPr/>
          <p:nvPr/>
        </p:nvSpPr>
        <p:spPr>
          <a:xfrm>
            <a:off x="0" y="0"/>
            <a:ext cx="86104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Example Problem No. 2 (3 of 3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8" name="Text Box 9"/>
          <p:cNvSpPr/>
          <p:nvPr/>
        </p:nvSpPr>
        <p:spPr>
          <a:xfrm>
            <a:off x="0" y="1549440"/>
            <a:ext cx="3962520" cy="34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   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36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tep 3 and 4: Determine the solution points and optimal solution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9" name="Text Box 10"/>
          <p:cNvSpPr/>
          <p:nvPr/>
        </p:nvSpPr>
        <p:spPr>
          <a:xfrm>
            <a:off x="4038480" y="609588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25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Optimal Solution Point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60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862" name="Picture 5" descr="3287383400_2177562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2855880"/>
          </a:xfrm>
          <a:prstGeom prst="rect">
            <a:avLst/>
          </a:prstGeom>
          <a:ln w="0">
            <a:noFill/>
          </a:ln>
        </p:spPr>
      </p:pic>
      <p:sp>
        <p:nvSpPr>
          <p:cNvPr id="863" name="Line 10"/>
          <p:cNvSpPr/>
          <p:nvPr/>
        </p:nvSpPr>
        <p:spPr>
          <a:xfrm>
            <a:off x="0" y="6904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3" name="Text Box 4"/>
          <p:cNvSpPr/>
          <p:nvPr/>
        </p:nvSpPr>
        <p:spPr>
          <a:xfrm>
            <a:off x="0" y="0"/>
            <a:ext cx="86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Summary of Model Formulation Step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4" name="Text Box 5"/>
          <p:cNvSpPr/>
          <p:nvPr/>
        </p:nvSpPr>
        <p:spPr>
          <a:xfrm>
            <a:off x="1066680" y="2057400"/>
            <a:ext cx="7162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Step 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: Clearly define the decision variable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Step 2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: Construct the objective function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Step 3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: Formulate the constraint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5" name="Line 6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7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P Model Formula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Maximization Example (1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8" name="Rectangle 8"/>
          <p:cNvSpPr/>
          <p:nvPr/>
        </p:nvSpPr>
        <p:spPr>
          <a:xfrm>
            <a:off x="263520" y="1420920"/>
            <a:ext cx="86025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88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263520" y="1566360"/>
            <a:ext cx="8602560" cy="18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Product mix problem - Beaver Creek Pottery Compan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39480" indent="-3394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How many bowls and mugs should be produced to maximize profits given labor and materials constraints?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39480" indent="-3394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Product resource requirements and unit profit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1650960" y="3502080"/>
          <a:ext cx="5148360" cy="2336760"/>
        </p:xfrm>
        <a:graphic>
          <a:graphicData uri="http://schemas.openxmlformats.org/drawingml/2006/table">
            <a:tbl>
              <a:tblPr/>
              <a:tblGrid>
                <a:gridCol w="1039680"/>
                <a:gridCol w="1284480"/>
                <a:gridCol w="1284120"/>
                <a:gridCol w="1540080"/>
              </a:tblGrid>
              <a:tr h="466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Calibri"/>
                          <a:ea typeface="Calibri"/>
                        </a:rPr>
                        <a:t>Resource Requirements</a:t>
                      </a:r>
                      <a:endParaRPr b="0" lang="en-US" sz="18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5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Calibri"/>
                        </a:rPr>
                        <a:t>Product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Calibri"/>
                        </a:rPr>
                        <a:t>Labor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Calibri"/>
                        </a:rPr>
                        <a:t>(Hr./Unit)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Calibri"/>
                        </a:rPr>
                        <a:t>Clay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Calibri"/>
                        </a:rPr>
                        <a:t>(Lb./Unit)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Calibri"/>
                        </a:rPr>
                        <a:t>Profit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Calibri"/>
                        </a:rPr>
                        <a:t>($/Unit)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Calibri"/>
                        </a:rPr>
                        <a:t>Bowl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Calibri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Calibri"/>
                        </a:rPr>
                        <a:t>Mug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Calibri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1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23" name="Picture 4" descr=""/>
          <p:cNvPicPr/>
          <p:nvPr/>
        </p:nvPicPr>
        <p:blipFill>
          <a:blip r:embed="rId1"/>
          <a:stretch/>
        </p:blipFill>
        <p:spPr>
          <a:xfrm>
            <a:off x="920880" y="1165320"/>
            <a:ext cx="7638840" cy="5219640"/>
          </a:xfrm>
          <a:prstGeom prst="rect">
            <a:avLst/>
          </a:prstGeom>
          <a:ln w="0">
            <a:noFill/>
          </a:ln>
        </p:spPr>
      </p:pic>
      <p:sp>
        <p:nvSpPr>
          <p:cNvPr id="624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P Model Formula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Maximization Example (2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5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7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P Model Formula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Maximization Example (3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8" name="Rectangle 7"/>
          <p:cNvSpPr/>
          <p:nvPr/>
        </p:nvSpPr>
        <p:spPr>
          <a:xfrm>
            <a:off x="263520" y="1494000"/>
            <a:ext cx="860256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Resource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0 hrs of labor per da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Availability: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20 lbs of cla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Decision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bowls to produce per da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Variables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mugs to produce per day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Objective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Function: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Where Z = profit per da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Resource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hours of labor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Constraints: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 pounds of cla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Non-Negativity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;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Constraints: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9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1" name="Rectangle 1026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P Model Formula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Maximization Example (4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2" name="Rectangle 1028"/>
          <p:cNvSpPr/>
          <p:nvPr/>
        </p:nvSpPr>
        <p:spPr>
          <a:xfrm>
            <a:off x="914400" y="1828800"/>
            <a:ext cx="79581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Complete Linear Programming Model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aximize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Z  =  $40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  </a:t>
            </a:r>
            <a:r>
              <a:rPr b="0" lang="en-US" sz="28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4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  </a:t>
            </a:r>
            <a:r>
              <a:rPr b="0" lang="en-US" sz="28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12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  </a:t>
            </a:r>
            <a:r>
              <a:rPr b="0" lang="en-US" sz="28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3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4T23:17:01Z</dcterms:created>
  <dc:creator>GWillis</dc:creator>
  <dc:description/>
  <dc:language>en-US</dc:language>
  <cp:lastModifiedBy>Geoff</cp:lastModifiedBy>
  <dcterms:modified xsi:type="dcterms:W3CDTF">2009-04-29T14:59:29Z</dcterms:modified>
  <cp:revision>54</cp:revision>
  <dc:subject/>
  <dc:title>Slide 1</dc:title>
</cp:coreProperties>
</file>