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C47-F275-4924-AD66-DDBFAA50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7878-4661-4453-B204-9EE6BD09D88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1F7B-2732-464B-A714-18B27C7E21E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62CC-761A-4A99-BADA-24642D7EAB3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258-C520-406E-BEF8-4FC5F486136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CB4-3F82-4F88-AB1D-2E3256040C3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B291-4A69-4497-B562-F7E733C4A1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71B-AC2C-4C69-B5CF-0A0AFEA9670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C7A-D3FD-445F-81AD-DFA7EB9653B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B11-EE93-4477-9644-89AC61268D0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AE6-AEFB-47B6-A209-B3FD9071E65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814A-A6C3-4138-B05A-53144A1A1CF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CD8E-D472-47BE-8483-B6B528FD653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78C-03B7-4C9D-AB36-B8CE7E6F4AE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92BA-F9F4-41CA-BAC4-CF69AC1DFF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8146-0514-4DCF-BC4B-7DCC888322A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99F-8E21-44D9-8528-25B6B55EDE3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E923-0B28-4071-93BB-7905462A3A9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0CF-116D-4CE6-9E10-065547682E9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499B-A389-48CB-BAD9-ECC5B1CB63A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3A7F-58E7-4949-AF4B-E91F06CFA6F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24B-F710-435D-8B21-A1D17A019E9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75F9-114B-46D8-916C-BE1E4D924E9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6D9-3B46-44CB-AC7A-729152F4274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BB7A-1477-4E21-98B3-BE0C892C9EA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33E-7160-4435-8AFE-D172BA625D8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3B8-6A5F-478E-B0D5-801278B90F0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7286-2880-4DA7-A034-A7B2196F645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4F54-7142-4A27-9A21-F5F8199C44E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DFB-B8F9-433C-92DA-120123AAD6C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0C8F-F4DF-4B6B-8B45-586FAC81F19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862-5E09-4FEB-8B61-5D5882EA18D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F8F2-8337-4194-B690-CE666448F7B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8C0-7663-4A9C-B586-4C48F684835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7EB-6EE0-4E4E-B1F3-786B6351719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EA2-BD9B-4764-9DDC-A5365C005E7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6B00-3336-4147-8065-C0F8C137798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91E-9C6B-4722-AA26-2E35FA9B1FF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3173-2532-4A3A-A4BC-5E9DC9687B3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2692-2419-4B6B-83BB-73FAF168050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FB5-C9EC-4976-B3ED-DAFD7118B3D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5EB-395B-4ABA-87FC-D537F9530E8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7864-105D-49D6-9A18-D629823D275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8EB-1DBB-4B40-A444-EA45F39DA76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2A7-219F-449C-B8C1-7DBBCCED9B1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AD1-799D-4FE7-9B8C-17189783A72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2B3-2988-42EE-8F8E-45959F6247B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7957B7C-976B-4C12-A088-E89C858EE05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68AC6CF-4F67-44C5-A643-0AE822AA51C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9D6F23E-F9CC-448E-9638-B88A279B962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6D0262D-563D-423B-9000-E1C08C7255A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19D18093-6FA4-4795-9571-310E9AA7990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97C09EA0-6876-4EAF-8970-255E0C13E0E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C87B36F-6BE3-4A33-8490-8FD64593418A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8DEEECA-5FFE-4220-B077-4A1D026CABD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FE93264-5D4E-4F28-99FE-231D4FF54A1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95420A13-7E21-43E4-AE4D-3598878D7B7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60C8EE3-B8C3-41B0-8E38-199FA08C3B4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A29073DC-A37A-49F5-A3C3-A935AD38ECA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7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3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4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5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7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8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7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1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9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5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9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15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3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9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863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Geoff</cp:lastModifiedBy>
  <dcterms:modified xsi:type="dcterms:W3CDTF">2009-04-29T14:59:29Z</dcterms:modified>
  <cp:revision>54</cp:revision>
  <dc:subject/>
  <dc:title>Slide 1</dc:title>
</cp:coreProperties>
</file>