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5BE1-04D9-467A-B27C-60613CC10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32E3-D09D-4200-A637-BF0006B9C1B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7689-13A6-4E1C-A243-24044059FBF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3F86-D0E4-46AE-91D6-696AD54257F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40E1-82C9-4607-8463-E47581866AB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9C29-A0FD-4EE8-9A4D-3ED905EFB7B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B874-6536-4964-9C39-01863E26DAD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F49C-790B-4C69-95BE-9C2D6DAA3B4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C6D5-8041-441F-92F7-4614AFB9D6D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CE76-E345-4775-804C-AD9695CD2D40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6B33-86CB-452E-A585-0AEB76306D9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8C60-D137-4A0D-AE16-3C94ADA3CB1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5114-9732-4D27-A870-1207B62521B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B88A-11C2-45E0-9DE3-2F225E1FF23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89AA-4F5E-4888-8C8B-34ED022A1BF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6449-64EA-4A0E-A277-9B7C29A82BB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8F8D-80C6-453C-89D8-83EEEE381D7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1C3C-6799-4D1B-A921-4896FF91381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8FA7-8606-416C-9CFC-56ED6111B29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B9AA-84FB-4CBA-96FA-C91EB5CDBB2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FC81-6D9A-4BF4-8E8C-6EB2EFF5F38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6648-76A4-49EB-807A-107ABD88CA7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05F4-B3C9-4017-ACAC-34DE9872B51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40BB-A89A-4E8F-955D-0C14024AA04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4699-ACB3-4091-AFA9-E66281F510B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88BB-58EB-4B6F-8CB6-C0D12486B1B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2443-15A6-4410-AB34-ADFFE5D6DC8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9F92-5DA4-4A4D-A4FB-B3C8F0BFC14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1674-48EC-46B4-BE84-C6D6BB03076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9FFC-F5B8-41F1-AC78-81E8FB31E94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1D5E9B6B-F47F-4CE9-8B38-184C64E73CE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382F1DB1-6F43-4A2A-BA85-3FD6649431B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494AD494-E8D8-4DA3-96BB-E42304BCFDA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4F230761-5E4B-497B-AFD1-D1F5FFB3544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9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9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4D5381BD-F565-460D-975A-D28FA8551D3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7-</a:t>
            </a:r>
            <a:fld id="{115E43CA-EDA2-41C2-BADD-104F24140EA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5F84FE89-0A2A-4773-A592-D2D46D4C878C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AD13FB84-2251-4DE6-9ED8-F8DE0B22C00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1CA7F103-4B97-4586-8DBC-973FF3999706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310A1CA7-8264-47A5-8DF6-F0F19BA17ED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C41148E5-D68B-4BBF-917C-9E475EBF42C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A83B1FA6-788A-42AE-826C-4C0431CCD27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927A334A-2C5C-4ED5-B763-F8CDC4DE37D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itle 1"/>
          <p:cNvSpPr/>
          <p:nvPr/>
        </p:nvSpPr>
        <p:spPr>
          <a:xfrm>
            <a:off x="0" y="990720"/>
            <a:ext cx="91440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Network Flow Models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Subtitle 2"/>
          <p:cNvSpPr/>
          <p:nvPr/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7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13"/>
          <p:cNvSpPr/>
          <p:nvPr/>
        </p:nvSpPr>
        <p:spPr>
          <a:xfrm>
            <a:off x="533520" y="2057400"/>
            <a:ext cx="80769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1" name="Text Box 9"/>
          <p:cNvSpPr/>
          <p:nvPr/>
        </p:nvSpPr>
        <p:spPr>
          <a:xfrm>
            <a:off x="0" y="6070680"/>
            <a:ext cx="872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6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with Nodes 1, 2, and 3 in the Permanent Se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Rectangle 12"/>
          <p:cNvSpPr/>
          <p:nvPr/>
        </p:nvSpPr>
        <p:spPr>
          <a:xfrm>
            <a:off x="270000" y="1073160"/>
            <a:ext cx="860256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define the permanent se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3" name="Picture 3" descr="07-06"/>
          <p:cNvPicPr/>
          <p:nvPr/>
        </p:nvPicPr>
        <p:blipFill>
          <a:blip r:embed="rId1"/>
          <a:stretch/>
        </p:blipFill>
        <p:spPr>
          <a:xfrm>
            <a:off x="291960" y="1743120"/>
            <a:ext cx="8623440" cy="405936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10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3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5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14"/>
          <p:cNvSpPr/>
          <p:nvPr/>
        </p:nvSpPr>
        <p:spPr>
          <a:xfrm>
            <a:off x="762120" y="1905120"/>
            <a:ext cx="761976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8" name="Picture 5" descr="07-07"/>
          <p:cNvPicPr/>
          <p:nvPr/>
        </p:nvPicPr>
        <p:blipFill>
          <a:blip r:embed="rId1"/>
          <a:stretch/>
        </p:blipFill>
        <p:spPr>
          <a:xfrm>
            <a:off x="152280" y="1447920"/>
            <a:ext cx="8813880" cy="443232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9"/>
          <p:cNvSpPr/>
          <p:nvPr/>
        </p:nvSpPr>
        <p:spPr>
          <a:xfrm>
            <a:off x="0" y="6032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7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with Nodes 1, 2, 3, and 4 in the Permanent Se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0" name="Rectangle 10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4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270000" y="971640"/>
            <a:ext cx="860256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3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13"/>
          <p:cNvSpPr/>
          <p:nvPr/>
        </p:nvSpPr>
        <p:spPr>
          <a:xfrm>
            <a:off x="1143000" y="1892160"/>
            <a:ext cx="68580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5" name="Rectangle 10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5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6" name="Picture 4" descr="07-08"/>
          <p:cNvPicPr/>
          <p:nvPr/>
        </p:nvPicPr>
        <p:blipFill>
          <a:blip r:embed="rId1"/>
          <a:stretch/>
        </p:blipFill>
        <p:spPr>
          <a:xfrm>
            <a:off x="228600" y="1320840"/>
            <a:ext cx="8756640" cy="466092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9"/>
          <p:cNvSpPr/>
          <p:nvPr/>
        </p:nvSpPr>
        <p:spPr>
          <a:xfrm>
            <a:off x="0" y="622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8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with Nodes 1, 2, 3, 4, &amp; 6 in the Permanent Se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Rectangle 12"/>
          <p:cNvSpPr/>
          <p:nvPr/>
        </p:nvSpPr>
        <p:spPr>
          <a:xfrm>
            <a:off x="270000" y="971640"/>
            <a:ext cx="860256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9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0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13"/>
          <p:cNvSpPr/>
          <p:nvPr/>
        </p:nvSpPr>
        <p:spPr>
          <a:xfrm>
            <a:off x="1028880" y="1879560"/>
            <a:ext cx="7086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2" name="Rectangle 10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6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3" name="Picture 5" descr="07-09"/>
          <p:cNvPicPr/>
          <p:nvPr/>
        </p:nvPicPr>
        <p:blipFill>
          <a:blip r:embed="rId1"/>
          <a:stretch/>
        </p:blipFill>
        <p:spPr>
          <a:xfrm>
            <a:off x="343080" y="1359000"/>
            <a:ext cx="8432640" cy="441468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9"/>
          <p:cNvSpPr/>
          <p:nvPr/>
        </p:nvSpPr>
        <p:spPr>
          <a:xfrm>
            <a:off x="0" y="6159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9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with Nodes 1, 2, 3, 4, 5 &amp; 6 in the Permanent Se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5" name="Rectangle 12"/>
          <p:cNvSpPr/>
          <p:nvPr/>
        </p:nvSpPr>
        <p:spPr>
          <a:xfrm>
            <a:off x="270000" y="882720"/>
            <a:ext cx="86025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6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07-10"/>
          <p:cNvPicPr/>
          <p:nvPr/>
        </p:nvPicPr>
        <p:blipFill>
          <a:blip r:embed="rId1"/>
          <a:stretch/>
        </p:blipFill>
        <p:spPr>
          <a:xfrm>
            <a:off x="216000" y="1333440"/>
            <a:ext cx="8750160" cy="48229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7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0" name="Text Box 8"/>
          <p:cNvSpPr/>
          <p:nvPr/>
        </p:nvSpPr>
        <p:spPr>
          <a:xfrm>
            <a:off x="0" y="6070680"/>
            <a:ext cx="60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0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with Optimal Rout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2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4"/>
          <p:cNvSpPr/>
          <p:nvPr/>
        </p:nvSpPr>
        <p:spPr>
          <a:xfrm>
            <a:off x="492120" y="227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0"/>
            <a:ext cx="872496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8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187200" y="1116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6" name="Picture 8" descr="tb07_01"/>
          <p:cNvPicPr/>
          <p:nvPr/>
        </p:nvPicPr>
        <p:blipFill>
          <a:blip r:embed="rId1"/>
          <a:stretch/>
        </p:blipFill>
        <p:spPr>
          <a:xfrm>
            <a:off x="520560" y="1265400"/>
            <a:ext cx="8217000" cy="448920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10"/>
          <p:cNvSpPr/>
          <p:nvPr/>
        </p:nvSpPr>
        <p:spPr>
          <a:xfrm>
            <a:off x="0" y="6005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able 7.1    Shortest Travel Time from Origin to Each Destinatio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8" name="Footer Placeholder 10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9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Method Summar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1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152280" y="1263600"/>
            <a:ext cx="86742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elect the node with the shortest direct route from the origin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457200" indent="-45720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stablish a permanent set with the origin node and the node that was selected in step 1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457200" indent="-45720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all nodes directly connected to the permanent set of nod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457200" indent="-45720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elect the node with the shortest route from the group of nodes directly connected to the permanent set of nod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457200" indent="-45720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peat steps 3 &amp; 4 until all nodes have joined the permanent se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457200" indent="-45720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304920" y="1231920"/>
            <a:ext cx="853416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mulation as a 0 - 1 integer linear programming proble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0 if branch i-j is not selected as part of the shortest route and 1 if it is select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1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9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5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2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6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5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17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6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9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7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8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57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67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1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5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6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4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5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6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7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5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5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57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6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6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67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7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57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67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0 or 1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0" y="0"/>
            <a:ext cx="87249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with Excel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7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1092240" y="55497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7.3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with Excel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0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1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2" name="Picture 7" descr="F:\POM\Chapter 7\AAIOQKX0.jpg"/>
          <p:cNvPicPr/>
          <p:nvPr/>
        </p:nvPicPr>
        <p:blipFill>
          <a:blip r:embed="rId1"/>
          <a:stretch/>
        </p:blipFill>
        <p:spPr>
          <a:xfrm>
            <a:off x="355680" y="1235160"/>
            <a:ext cx="82296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6"/>
          <p:cNvSpPr/>
          <p:nvPr/>
        </p:nvSpPr>
        <p:spPr>
          <a:xfrm>
            <a:off x="863640" y="561348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7.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with Excel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5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6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7" name="Picture 6" descr="F:\POM\Chapter 7\AAFQRHF0.jpg"/>
          <p:cNvPicPr/>
          <p:nvPr/>
        </p:nvPicPr>
        <p:blipFill>
          <a:blip r:embed="rId1"/>
          <a:stretch/>
        </p:blipFill>
        <p:spPr>
          <a:xfrm>
            <a:off x="457200" y="1793880"/>
            <a:ext cx="82296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0" y="0"/>
            <a:ext cx="82677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541440" y="169560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9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5"/>
          <p:cNvSpPr/>
          <p:nvPr/>
        </p:nvSpPr>
        <p:spPr>
          <a:xfrm>
            <a:off x="5648400" y="619776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7.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9" name="Rectangle 6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with Excel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0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1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52" name="Picture 7" descr="F:\POM\Chapter 7\AAIOQKY0.jpg"/>
          <p:cNvPicPr/>
          <p:nvPr/>
        </p:nvPicPr>
        <p:blipFill>
          <a:blip r:embed="rId1"/>
          <a:srcRect l="0" t="0" r="20989" b="0"/>
          <a:stretch/>
        </p:blipFill>
        <p:spPr>
          <a:xfrm>
            <a:off x="304920" y="1378080"/>
            <a:ext cx="819612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07-11"/>
          <p:cNvPicPr/>
          <p:nvPr/>
        </p:nvPicPr>
        <p:blipFill>
          <a:blip r:embed="rId1"/>
          <a:stretch/>
        </p:blipFill>
        <p:spPr>
          <a:xfrm>
            <a:off x="482760" y="2104920"/>
            <a:ext cx="8010360" cy="385128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6"/>
          <p:cNvSpPr/>
          <p:nvPr/>
        </p:nvSpPr>
        <p:spPr>
          <a:xfrm>
            <a:off x="152280" y="60451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1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of Possible Cable TV Path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finition and Example Problem Dat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6" name="Rectangle 9"/>
          <p:cNvSpPr/>
          <p:nvPr/>
        </p:nvSpPr>
        <p:spPr>
          <a:xfrm>
            <a:off x="270000" y="1136520"/>
            <a:ext cx="860256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blem: Connect all nodes in a network so that the total of the branch lengths are minimiz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7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8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1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60" name="Picture 4" descr="07-12"/>
          <p:cNvPicPr/>
          <p:nvPr/>
        </p:nvPicPr>
        <p:blipFill>
          <a:blip r:embed="rId1"/>
          <a:stretch/>
        </p:blipFill>
        <p:spPr>
          <a:xfrm>
            <a:off x="423720" y="1960560"/>
            <a:ext cx="8440920" cy="3981600"/>
          </a:xfrm>
          <a:prstGeom prst="rect">
            <a:avLst/>
          </a:prstGeom>
          <a:ln w="0">
            <a:noFill/>
          </a:ln>
        </p:spPr>
      </p:pic>
      <p:sp>
        <p:nvSpPr>
          <p:cNvPr id="761" name="Text Box 6"/>
          <p:cNvSpPr/>
          <p:nvPr/>
        </p:nvSpPr>
        <p:spPr>
          <a:xfrm>
            <a:off x="0" y="5931000"/>
            <a:ext cx="650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2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panning Tree with Nodes 1 and 3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2" name="Rectangle 9"/>
          <p:cNvSpPr/>
          <p:nvPr/>
        </p:nvSpPr>
        <p:spPr>
          <a:xfrm>
            <a:off x="270000" y="1136520"/>
            <a:ext cx="860256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art with any node in the network and select the closest node to join the spanning tre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3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4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4" descr="07-13"/>
          <p:cNvPicPr/>
          <p:nvPr/>
        </p:nvPicPr>
        <p:blipFill>
          <a:blip r:embed="rId1"/>
          <a:stretch/>
        </p:blipFill>
        <p:spPr>
          <a:xfrm>
            <a:off x="762120" y="1560600"/>
            <a:ext cx="8381880" cy="417024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8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2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7" name="Text Box 9"/>
          <p:cNvSpPr/>
          <p:nvPr/>
        </p:nvSpPr>
        <p:spPr>
          <a:xfrm>
            <a:off x="0" y="6032520"/>
            <a:ext cx="76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3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panning Tree with Nodes 1, 3, and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8" name="Rectangle 11"/>
          <p:cNvSpPr/>
          <p:nvPr/>
        </p:nvSpPr>
        <p:spPr>
          <a:xfrm>
            <a:off x="270000" y="1181160"/>
            <a:ext cx="86025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elect the closest node not presently in the spanning area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9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0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5" descr="07-14"/>
          <p:cNvPicPr/>
          <p:nvPr/>
        </p:nvPicPr>
        <p:blipFill>
          <a:blip r:embed="rId1"/>
          <a:stretch/>
        </p:blipFill>
        <p:spPr>
          <a:xfrm>
            <a:off x="393840" y="1614600"/>
            <a:ext cx="8305560" cy="4037040"/>
          </a:xfrm>
          <a:prstGeom prst="rect">
            <a:avLst/>
          </a:prstGeom>
          <a:ln w="0">
            <a:noFill/>
          </a:ln>
        </p:spPr>
      </p:pic>
      <p:sp>
        <p:nvSpPr>
          <p:cNvPr id="772" name="Rectangle 9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3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3" name="Text Box 10"/>
          <p:cNvSpPr/>
          <p:nvPr/>
        </p:nvSpPr>
        <p:spPr>
          <a:xfrm>
            <a:off x="0" y="5803920"/>
            <a:ext cx="74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4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panning Tree with Nodes 1, 2, 3, and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4" name="Rectangle 12"/>
          <p:cNvSpPr/>
          <p:nvPr/>
        </p:nvSpPr>
        <p:spPr>
          <a:xfrm>
            <a:off x="270000" y="1022400"/>
            <a:ext cx="8874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ntinue to select the closest node not presently in the spanning area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5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3" descr="07-15"/>
          <p:cNvPicPr/>
          <p:nvPr/>
        </p:nvPicPr>
        <p:blipFill>
          <a:blip r:embed="rId1"/>
          <a:stretch/>
        </p:blipFill>
        <p:spPr>
          <a:xfrm>
            <a:off x="355680" y="1630440"/>
            <a:ext cx="8435880" cy="41990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8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4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9" name="Text Box 9"/>
          <p:cNvSpPr/>
          <p:nvPr/>
        </p:nvSpPr>
        <p:spPr>
          <a:xfrm>
            <a:off x="190440" y="6032520"/>
            <a:ext cx="73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5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panning Tree with Nodes 1, 2, 3, 4, and 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0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1" name="Rectangle 12"/>
          <p:cNvSpPr/>
          <p:nvPr/>
        </p:nvSpPr>
        <p:spPr>
          <a:xfrm>
            <a:off x="270000" y="1162080"/>
            <a:ext cx="8874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ntinue to select the closest node not presently in the spanning area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2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1028" descr="07-16"/>
          <p:cNvPicPr/>
          <p:nvPr/>
        </p:nvPicPr>
        <p:blipFill>
          <a:blip r:embed="rId1"/>
          <a:stretch/>
        </p:blipFill>
        <p:spPr>
          <a:xfrm>
            <a:off x="304920" y="1652760"/>
            <a:ext cx="8089920" cy="4135320"/>
          </a:xfrm>
          <a:prstGeom prst="rect">
            <a:avLst/>
          </a:prstGeom>
          <a:ln w="0">
            <a:noFill/>
          </a:ln>
        </p:spPr>
      </p:pic>
      <p:sp>
        <p:nvSpPr>
          <p:cNvPr id="784" name="Rectangle 1032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5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5" name="Text Box 1033"/>
          <p:cNvSpPr/>
          <p:nvPr/>
        </p:nvSpPr>
        <p:spPr>
          <a:xfrm>
            <a:off x="0" y="6172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6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panning Tree with Nodes 1, 2, 3, 4, 5, and 7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6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7" name="Rectangle 12"/>
          <p:cNvSpPr/>
          <p:nvPr/>
        </p:nvSpPr>
        <p:spPr>
          <a:xfrm>
            <a:off x="270000" y="1111320"/>
            <a:ext cx="8874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ntinue to select the closest node not presently in the spanning area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8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6"/>
          <p:cNvSpPr/>
          <p:nvPr/>
        </p:nvSpPr>
        <p:spPr>
          <a:xfrm>
            <a:off x="698400" y="1994040"/>
            <a:ext cx="772164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90" name="Picture 3" descr="07-17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4662360"/>
          </a:xfrm>
          <a:prstGeom prst="rect">
            <a:avLst/>
          </a:prstGeom>
          <a:ln w="0">
            <a:noFill/>
          </a:ln>
        </p:spPr>
      </p:pic>
      <p:sp>
        <p:nvSpPr>
          <p:cNvPr id="791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6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0" y="6095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7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Minimal Spanning Tree for Cable TV Networ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3" name="Rectangle 10"/>
          <p:cNvSpPr/>
          <p:nvPr/>
        </p:nvSpPr>
        <p:spPr>
          <a:xfrm>
            <a:off x="270000" y="996840"/>
            <a:ext cx="86025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ptimal Solutio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4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5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Method Summar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307800" y="1492200"/>
            <a:ext cx="86029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elect any starting node (conventionally, node 1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514440" indent="-51444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elect the node closest to the starting node to join the spanning tre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514440" indent="-51444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elect the closest node not presently in the spanning tre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514440" indent="-51444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peat step 3 until all nodes have joined the spanning tre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8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9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01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0" y="0"/>
            <a:ext cx="953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Network Component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0" y="139068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etwork is an arrangement of path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(branches)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nnected at various point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(nodes) through which one or more items move from one point to another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network is drawn as a diagram providing a picture of the system thus enabling visual representation and enhanced understanding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large number of real-life systems can be modeled as networks which are relatively easy to conceive and construc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6"/>
          <p:cNvSpPr/>
          <p:nvPr/>
        </p:nvSpPr>
        <p:spPr>
          <a:xfrm>
            <a:off x="358920" y="170820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Network diagrams consist o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odes and branch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odes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(circles),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present junction point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or location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Branch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(lines), connect nodes and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present flow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5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Network Components (1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6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0"/>
          <p:cNvSpPr/>
          <p:nvPr/>
        </p:nvSpPr>
        <p:spPr>
          <a:xfrm>
            <a:off x="2006640" y="3213000"/>
            <a:ext cx="510552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59" name="Picture 3" descr="07-01"/>
          <p:cNvPicPr/>
          <p:nvPr/>
        </p:nvPicPr>
        <p:blipFill>
          <a:blip r:embed="rId1"/>
          <a:stretch/>
        </p:blipFill>
        <p:spPr>
          <a:xfrm>
            <a:off x="1736640" y="2933640"/>
            <a:ext cx="7081920" cy="32814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5"/>
          <p:cNvSpPr/>
          <p:nvPr/>
        </p:nvSpPr>
        <p:spPr>
          <a:xfrm>
            <a:off x="0" y="5956200"/>
            <a:ext cx="538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of Railroad Rout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212760" y="1098720"/>
            <a:ext cx="86900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ur nodes, four branches in figur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tlanta”, node 1, termed 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rigi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any of other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estination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Branches identified by beginning and ending node number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Value assigned to each branch (distance, time, cost, etc.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Network Components (2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3" name="Footer Placeholder 10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07-02"/>
          <p:cNvPicPr/>
          <p:nvPr/>
        </p:nvPicPr>
        <p:blipFill>
          <a:blip r:embed="rId1"/>
          <a:stretch/>
        </p:blipFill>
        <p:spPr>
          <a:xfrm>
            <a:off x="0" y="170172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10"/>
          <p:cNvSpPr/>
          <p:nvPr/>
        </p:nvSpPr>
        <p:spPr>
          <a:xfrm>
            <a:off x="244440" y="104760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blem: Determine the shortest routes from the origin  to all destination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5842080" y="6083280"/>
            <a:ext cx="16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finition and Example Problem Data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Footer Placeholder 10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036"/>
          <p:cNvSpPr/>
          <p:nvPr/>
        </p:nvSpPr>
        <p:spPr>
          <a:xfrm>
            <a:off x="533520" y="1638360"/>
            <a:ext cx="807696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2" name="Picture 1029" descr="07-03"/>
          <p:cNvPicPr/>
          <p:nvPr/>
        </p:nvPicPr>
        <p:blipFill>
          <a:blip r:embed="rId1"/>
          <a:stretch/>
        </p:blipFill>
        <p:spPr>
          <a:xfrm>
            <a:off x="177840" y="1308240"/>
            <a:ext cx="8788320" cy="43704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032"/>
          <p:cNvSpPr/>
          <p:nvPr/>
        </p:nvSpPr>
        <p:spPr>
          <a:xfrm>
            <a:off x="762120" y="591804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3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Representatio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4" name="Rectangle 1033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finition and Example Problem Data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4" descr="07-04"/>
          <p:cNvPicPr/>
          <p:nvPr/>
        </p:nvPicPr>
        <p:blipFill>
          <a:blip r:embed="rId1"/>
          <a:stretch/>
        </p:blipFill>
        <p:spPr>
          <a:xfrm>
            <a:off x="228600" y="1981080"/>
            <a:ext cx="8534520" cy="365292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6"/>
          <p:cNvSpPr/>
          <p:nvPr/>
        </p:nvSpPr>
        <p:spPr>
          <a:xfrm>
            <a:off x="482760" y="5842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4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with Node 1 in the Permanent Se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1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0" name="Rectangle 10"/>
          <p:cNvSpPr/>
          <p:nvPr/>
        </p:nvSpPr>
        <p:spPr>
          <a:xfrm>
            <a:off x="270000" y="1181160"/>
            <a:ext cx="86025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termine the initial shortest route from the origin (node 1) to the closest node (3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1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12"/>
          <p:cNvSpPr/>
          <p:nvPr/>
        </p:nvSpPr>
        <p:spPr>
          <a:xfrm>
            <a:off x="762120" y="2209680"/>
            <a:ext cx="76197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4" name="Picture 4" descr="07-05"/>
          <p:cNvPicPr/>
          <p:nvPr/>
        </p:nvPicPr>
        <p:blipFill>
          <a:blip r:embed="rId1"/>
          <a:stretch/>
        </p:blipFill>
        <p:spPr>
          <a:xfrm>
            <a:off x="279360" y="1682640"/>
            <a:ext cx="8559720" cy="388620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8"/>
          <p:cNvSpPr/>
          <p:nvPr/>
        </p:nvSpPr>
        <p:spPr>
          <a:xfrm>
            <a:off x="495360" y="5816520"/>
            <a:ext cx="81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5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with Nodes 1 and 3 in the Permanent Se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Rectangle 9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2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270000" y="1270080"/>
            <a:ext cx="860256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termine all nodes directly connected to the permanent se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8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9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KSU</cp:lastModifiedBy>
  <cp:lastPrinted>2001-04-05T18:48:46Z</cp:lastPrinted>
  <dcterms:modified xsi:type="dcterms:W3CDTF">2012-05-07T15:37:29Z</dcterms:modified>
  <cp:revision>209</cp:revision>
  <dc:subject/>
  <dc:title>No Slide Title</dc:title>
</cp:coreProperties>
</file>