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A99B-2A27-4A28-AD45-55A30CE0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12A-26C4-4E5C-B213-071E1D2FFB8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250-F155-4A52-982C-DCDD37A2660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E45-1043-4E05-8900-C1BE4FD92B1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D56-7A58-451C-B559-AD9F29D2CCC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8387-9EB4-4C80-B673-38F0D1D72D9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254-164C-494D-89A2-F2A618193D9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84F-3A3A-48E7-B1A6-77B43C7118F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249-AC24-4934-82D5-B42546CB122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6632-17B6-47B6-B4FF-668FEF89FFC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ED1-0286-4F62-8429-D5FF8219D54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8AD-F95F-4DD7-9C90-62D5BB09B3D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F534-8473-4385-9B16-EF334BABBF8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9D4D-F4D8-4A96-979F-8B3F7D77D5C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22E-0CA5-4623-BC75-6BE11D5A46A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0CAC-7902-454B-9576-A91170DCD66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148-5A8F-4C4E-AACA-2A2BCD1DEE5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2F4-8787-4866-8C54-F2C14FC67FD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54C-12EC-42D5-8B52-BC84EE9B5F1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A136-818B-4735-B269-9D07CED8AF6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FED-F1DE-46A3-BC19-27C456DEE25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B3B-88DE-443B-BEF4-97006BBA8DD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938B-B9A2-4737-990D-47AC7F332D9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570-805E-4B30-A986-1BAC7D9C9B7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69C1-E78E-451E-AB7F-3B2C8B1A03E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EA1-666B-4E54-A44D-D719F79FF0D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2DE5-1179-4A5D-8C10-2D96D160E3D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0E1-3378-44DE-B2F2-73D03BC285F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A5C-ED92-4234-A715-406D6557EDB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C2B-B767-4355-8DCD-872EEEAA95D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CACF23D2-EE63-4801-B22E-494F0B157B4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3C36FAD4-2DCA-4C9F-B7D6-E348D8C1182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6765EACD-9BA2-434D-997A-607044E6742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578BE712-E980-48E1-8FDC-C907B14D4F4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8A670F05-FFBE-415B-B5BF-79E56DD0357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7-</a:t>
            </a:r>
            <a:fld id="{4F8EEDCD-6879-41C9-8FCA-714701F01C0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44D1E691-19BF-423E-986E-99F419ECFA2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93C32B99-A58B-4CCE-B484-3C96C2C09A6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2018AECE-DA93-4DF1-ACB5-CBC7DF48666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DB7B4331-EA38-4907-A970-F8A46CF4ADA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FD3645EA-8300-4B2A-A676-07ECD29B428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0C596F17-2F65-4CDF-B22E-8835D6762AF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7-</a:t>
            </a:r>
            <a:fld id="{7E59A65D-758B-4D3D-BE27-C4E1EC05908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990720"/>
            <a:ext cx="9144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Network Flow Model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7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3"/>
          <p:cNvSpPr/>
          <p:nvPr/>
        </p:nvSpPr>
        <p:spPr>
          <a:xfrm>
            <a:off x="533520" y="2057400"/>
            <a:ext cx="80769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0" y="6070680"/>
            <a:ext cx="87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6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and 3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270000" y="107316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define the permanent se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3" name="Picture 3" descr="07-06"/>
          <p:cNvPicPr/>
          <p:nvPr/>
        </p:nvPicPr>
        <p:blipFill>
          <a:blip r:embed="rId1"/>
          <a:stretch/>
        </p:blipFill>
        <p:spPr>
          <a:xfrm>
            <a:off x="291960" y="1743120"/>
            <a:ext cx="8623440" cy="405936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4"/>
          <p:cNvSpPr/>
          <p:nvPr/>
        </p:nvSpPr>
        <p:spPr>
          <a:xfrm>
            <a:off x="762120" y="1905120"/>
            <a:ext cx="76197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5" descr="07-07"/>
          <p:cNvPicPr/>
          <p:nvPr/>
        </p:nvPicPr>
        <p:blipFill>
          <a:blip r:embed="rId1"/>
          <a:stretch/>
        </p:blipFill>
        <p:spPr>
          <a:xfrm>
            <a:off x="152280" y="1447920"/>
            <a:ext cx="8813880" cy="443232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9"/>
          <p:cNvSpPr/>
          <p:nvPr/>
        </p:nvSpPr>
        <p:spPr>
          <a:xfrm>
            <a:off x="0" y="6032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7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and 4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4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270000" y="97164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3"/>
          <p:cNvSpPr/>
          <p:nvPr/>
        </p:nvSpPr>
        <p:spPr>
          <a:xfrm>
            <a:off x="1143000" y="1892160"/>
            <a:ext cx="68580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5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4" descr="07-08"/>
          <p:cNvPicPr/>
          <p:nvPr/>
        </p:nvPicPr>
        <p:blipFill>
          <a:blip r:embed="rId1"/>
          <a:stretch/>
        </p:blipFill>
        <p:spPr>
          <a:xfrm>
            <a:off x="228600" y="1320840"/>
            <a:ext cx="8756640" cy="466092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9"/>
          <p:cNvSpPr/>
          <p:nvPr/>
        </p:nvSpPr>
        <p:spPr>
          <a:xfrm>
            <a:off x="0" y="622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8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4, &amp; 6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270000" y="97164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3"/>
          <p:cNvSpPr/>
          <p:nvPr/>
        </p:nvSpPr>
        <p:spPr>
          <a:xfrm>
            <a:off x="1028880" y="1879560"/>
            <a:ext cx="7086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3" name="Picture 5" descr="07-09"/>
          <p:cNvPicPr/>
          <p:nvPr/>
        </p:nvPicPr>
        <p:blipFill>
          <a:blip r:embed="rId1"/>
          <a:stretch/>
        </p:blipFill>
        <p:spPr>
          <a:xfrm>
            <a:off x="343080" y="1359000"/>
            <a:ext cx="8432640" cy="44146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9"/>
          <p:cNvSpPr/>
          <p:nvPr/>
        </p:nvSpPr>
        <p:spPr>
          <a:xfrm>
            <a:off x="0" y="6159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9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, 2, 3, 4, 5 &amp; 6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270000" y="882720"/>
            <a:ext cx="86025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07-10"/>
          <p:cNvPicPr/>
          <p:nvPr/>
        </p:nvPicPr>
        <p:blipFill>
          <a:blip r:embed="rId1"/>
          <a:stretch/>
        </p:blipFill>
        <p:spPr>
          <a:xfrm>
            <a:off x="216000" y="1333440"/>
            <a:ext cx="8750160" cy="48229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0" y="6070680"/>
            <a:ext cx="60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0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Optimal Rou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92120" y="227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87249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187200" y="111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8" descr="tb07_01"/>
          <p:cNvPicPr/>
          <p:nvPr/>
        </p:nvPicPr>
        <p:blipFill>
          <a:blip r:embed="rId1"/>
          <a:stretch/>
        </p:blipFill>
        <p:spPr>
          <a:xfrm>
            <a:off x="520560" y="1265400"/>
            <a:ext cx="8217000" cy="4489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10"/>
          <p:cNvSpPr/>
          <p:nvPr/>
        </p:nvSpPr>
        <p:spPr>
          <a:xfrm>
            <a:off x="0" y="60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able 7.1    Shortest Travel Time from Origin to Each Destin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Method Summa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152280" y="1263600"/>
            <a:ext cx="86742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with the shortest direct route from the origi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stablish a permanent set with the origin node and the node that was selected in step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all nodes directly connected to the permanent set of nod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with the shortest route from the group of nodes directly connected to the permanent set of nod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peat steps 3 &amp; 4 until all nodes have joined the permanent se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304920" y="1231920"/>
            <a:ext cx="85341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mulation as a 0 - 1 integer linear programming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 if branch i-j is not selected as part of the shortest route and 1 if it is selec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1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2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5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6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5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67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0 or 1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0"/>
            <a:ext cx="8724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092240" y="55497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2" name="Picture 7" descr="F:\POM\Chapter 7\AAIOQKX0.jpg"/>
          <p:cNvPicPr/>
          <p:nvPr/>
        </p:nvPicPr>
        <p:blipFill>
          <a:blip r:embed="rId1"/>
          <a:stretch/>
        </p:blipFill>
        <p:spPr>
          <a:xfrm>
            <a:off x="355680" y="1235160"/>
            <a:ext cx="8229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6"/>
          <p:cNvSpPr/>
          <p:nvPr/>
        </p:nvSpPr>
        <p:spPr>
          <a:xfrm>
            <a:off x="863640" y="561348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7" name="Picture 6" descr="F:\POM\Chapter 7\AAFQRHF0.jpg"/>
          <p:cNvPicPr/>
          <p:nvPr/>
        </p:nvPicPr>
        <p:blipFill>
          <a:blip r:embed="rId1"/>
          <a:stretch/>
        </p:blipFill>
        <p:spPr>
          <a:xfrm>
            <a:off x="457200" y="1793880"/>
            <a:ext cx="82296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0" y="0"/>
            <a:ext cx="82677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541440" y="16956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5"/>
          <p:cNvSpPr/>
          <p:nvPr/>
        </p:nvSpPr>
        <p:spPr>
          <a:xfrm>
            <a:off x="5648400" y="61977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7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2" name="Picture 7" descr="F:\POM\Chapter 7\AAIOQKY0.jpg"/>
          <p:cNvPicPr/>
          <p:nvPr/>
        </p:nvPicPr>
        <p:blipFill>
          <a:blip r:embed="rId1"/>
          <a:srcRect l="0" t="0" r="20989" b="0"/>
          <a:stretch/>
        </p:blipFill>
        <p:spPr>
          <a:xfrm>
            <a:off x="304920" y="1378080"/>
            <a:ext cx="81961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07-11"/>
          <p:cNvPicPr/>
          <p:nvPr/>
        </p:nvPicPr>
        <p:blipFill>
          <a:blip r:embed="rId1"/>
          <a:stretch/>
        </p:blipFill>
        <p:spPr>
          <a:xfrm>
            <a:off x="482760" y="2104920"/>
            <a:ext cx="8010360" cy="385128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6"/>
          <p:cNvSpPr/>
          <p:nvPr/>
        </p:nvSpPr>
        <p:spPr>
          <a:xfrm>
            <a:off x="152280" y="6045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1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of Possible Cable TV Path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270000" y="1136520"/>
            <a:ext cx="86025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Connect all nodes in a network so that the total of the branch lengths are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0" name="Picture 4" descr="07-12"/>
          <p:cNvPicPr/>
          <p:nvPr/>
        </p:nvPicPr>
        <p:blipFill>
          <a:blip r:embed="rId1"/>
          <a:stretch/>
        </p:blipFill>
        <p:spPr>
          <a:xfrm>
            <a:off x="423720" y="1960560"/>
            <a:ext cx="8440920" cy="398160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6"/>
          <p:cNvSpPr/>
          <p:nvPr/>
        </p:nvSpPr>
        <p:spPr>
          <a:xfrm>
            <a:off x="0" y="593100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2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 and 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270000" y="1136520"/>
            <a:ext cx="86025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art with any node in the network and select the closest node to join the spanning tre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4" descr="07-13"/>
          <p:cNvPicPr/>
          <p:nvPr/>
        </p:nvPicPr>
        <p:blipFill>
          <a:blip r:embed="rId1"/>
          <a:stretch/>
        </p:blipFill>
        <p:spPr>
          <a:xfrm>
            <a:off x="762120" y="1560600"/>
            <a:ext cx="8381880" cy="4170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603252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3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3, and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270000" y="1181160"/>
            <a:ext cx="8602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07-14"/>
          <p:cNvPicPr/>
          <p:nvPr/>
        </p:nvPicPr>
        <p:blipFill>
          <a:blip r:embed="rId1"/>
          <a:stretch/>
        </p:blipFill>
        <p:spPr>
          <a:xfrm>
            <a:off x="393840" y="1614600"/>
            <a:ext cx="8305560" cy="403704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0" y="5803920"/>
            <a:ext cx="74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4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and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270000" y="102240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3" descr="07-15"/>
          <p:cNvPicPr/>
          <p:nvPr/>
        </p:nvPicPr>
        <p:blipFill>
          <a:blip r:embed="rId1"/>
          <a:stretch/>
        </p:blipFill>
        <p:spPr>
          <a:xfrm>
            <a:off x="355680" y="1630440"/>
            <a:ext cx="8435880" cy="4199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190440" y="6032520"/>
            <a:ext cx="73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5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4, and 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270000" y="116208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028" descr="07-16"/>
          <p:cNvPicPr/>
          <p:nvPr/>
        </p:nvPicPr>
        <p:blipFill>
          <a:blip r:embed="rId1"/>
          <a:stretch/>
        </p:blipFill>
        <p:spPr>
          <a:xfrm>
            <a:off x="304920" y="1652760"/>
            <a:ext cx="8089920" cy="413532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1032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Text Box 1033"/>
          <p:cNvSpPr/>
          <p:nvPr/>
        </p:nvSpPr>
        <p:spPr>
          <a:xfrm>
            <a:off x="0" y="6172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6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panning Tree with Nodes 1, 2, 3, 4, 5, and 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270000" y="1111320"/>
            <a:ext cx="8874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ntinue to select the closest node not presently in the spanning area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6"/>
          <p:cNvSpPr/>
          <p:nvPr/>
        </p:nvSpPr>
        <p:spPr>
          <a:xfrm>
            <a:off x="698400" y="1994040"/>
            <a:ext cx="772164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0" name="Picture 3" descr="07-17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466236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0" y="6095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7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Minimal Spanning Tree for Cable TV Networ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Rectangle 10"/>
          <p:cNvSpPr/>
          <p:nvPr/>
        </p:nvSpPr>
        <p:spPr>
          <a:xfrm>
            <a:off x="270000" y="996840"/>
            <a:ext cx="86025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Minimal Spanning Tre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Method Summa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07800" y="1492200"/>
            <a:ext cx="86029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any starting node (conventionally, node 1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node closest to the starting node to join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elect the closest node not presently in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514440" indent="-514440">
              <a:spcBef>
                <a:spcPts val="1225"/>
              </a:spcBef>
              <a:buClr>
                <a:srgbClr val="000514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peat step 3 until all nodes have joined the spanning tre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0" y="0"/>
            <a:ext cx="953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139068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etwork is an arrangement of path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branches)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nected at various po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odes) through which one or more items move from one point to anoth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network is drawn as a diagram providing a picture of the system thus enabling visual representation and enhanced understandin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large number of real-life systems can be modeled as networks which are relatively easy to conceive and construc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6"/>
          <p:cNvSpPr/>
          <p:nvPr/>
        </p:nvSpPr>
        <p:spPr>
          <a:xfrm>
            <a:off x="358920" y="1708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etwork diagrams consis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des and branch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de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ircles)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present junction po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or loc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ranch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lines), connect nodes 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present flow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0"/>
          <p:cNvSpPr/>
          <p:nvPr/>
        </p:nvSpPr>
        <p:spPr>
          <a:xfrm>
            <a:off x="2006640" y="3213000"/>
            <a:ext cx="51055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9" name="Picture 3" descr="07-01"/>
          <p:cNvPicPr/>
          <p:nvPr/>
        </p:nvPicPr>
        <p:blipFill>
          <a:blip r:embed="rId1"/>
          <a:stretch/>
        </p:blipFill>
        <p:spPr>
          <a:xfrm>
            <a:off x="1736640" y="2933640"/>
            <a:ext cx="7081920" cy="32814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5"/>
          <p:cNvSpPr/>
          <p:nvPr/>
        </p:nvSpPr>
        <p:spPr>
          <a:xfrm>
            <a:off x="0" y="5956200"/>
            <a:ext cx="53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1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of Railroad Rou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212760" y="1098720"/>
            <a:ext cx="86900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ur nodes, four branches in fig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tlanta”, node 1, termed 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rigi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any of other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stination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ranches identified by beginning and ending node numb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assigned to each branch (distance, time, cost, etc.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Network Component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07-02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0"/>
          <p:cNvSpPr/>
          <p:nvPr/>
        </p:nvSpPr>
        <p:spPr>
          <a:xfrm>
            <a:off x="244440" y="10476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Determine the shortest routes from the origin  to all destin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842080" y="6083280"/>
            <a:ext cx="16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36"/>
          <p:cNvSpPr/>
          <p:nvPr/>
        </p:nvSpPr>
        <p:spPr>
          <a:xfrm>
            <a:off x="533520" y="1638360"/>
            <a:ext cx="807696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2" name="Picture 1029" descr="07-03"/>
          <p:cNvPicPr/>
          <p:nvPr/>
        </p:nvPicPr>
        <p:blipFill>
          <a:blip r:embed="rId1"/>
          <a:stretch/>
        </p:blipFill>
        <p:spPr>
          <a:xfrm>
            <a:off x="177840" y="1308240"/>
            <a:ext cx="8788320" cy="4370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032"/>
          <p:cNvSpPr/>
          <p:nvPr/>
        </p:nvSpPr>
        <p:spPr>
          <a:xfrm>
            <a:off x="762120" y="591804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3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Represent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1033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 and Example Problem Data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4" descr="07-04"/>
          <p:cNvPicPr/>
          <p:nvPr/>
        </p:nvPicPr>
        <p:blipFill>
          <a:blip r:embed="rId1"/>
          <a:stretch/>
        </p:blipFill>
        <p:spPr>
          <a:xfrm>
            <a:off x="228600" y="1981080"/>
            <a:ext cx="8534520" cy="36529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6"/>
          <p:cNvSpPr/>
          <p:nvPr/>
        </p:nvSpPr>
        <p:spPr>
          <a:xfrm>
            <a:off x="482760" y="584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4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 1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270000" y="1181160"/>
            <a:ext cx="8602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the initial shortest route from the origin (node 1) to the closest node (3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2"/>
          <p:cNvSpPr/>
          <p:nvPr/>
        </p:nvSpPr>
        <p:spPr>
          <a:xfrm>
            <a:off x="762120" y="2209680"/>
            <a:ext cx="76197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7-05"/>
          <p:cNvPicPr/>
          <p:nvPr/>
        </p:nvPicPr>
        <p:blipFill>
          <a:blip r:embed="rId1"/>
          <a:stretch/>
        </p:blipFill>
        <p:spPr>
          <a:xfrm>
            <a:off x="279360" y="1682640"/>
            <a:ext cx="8559720" cy="38862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495360" y="581652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7.5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Network with Nodes 1 and 3 in the Permanent Se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Shortest Rout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Approach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70000" y="1270080"/>
            <a:ext cx="86025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all nodes directly connected to the permanent s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Line 9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KSU</cp:lastModifiedBy>
  <cp:lastPrinted>2001-04-05T18:48:46Z</cp:lastPrinted>
  <dcterms:modified xsi:type="dcterms:W3CDTF">2012-05-07T15:37:29Z</dcterms:modified>
  <cp:revision>209</cp:revision>
  <dc:subject/>
  <dc:title>No Slide Title</dc:title>
</cp:coreProperties>
</file>