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png" ContentType="image/png"/>
  <Override PartName="/ppt/media/image10.png" ContentType="image/png"/>
  <Override PartName="/ppt/media/image8.png" ContentType="image/png"/>
  <Override PartName="/ppt/media/image17.wmf" ContentType="image/x-wmf"/>
  <Override PartName="/ppt/media/image9.png" ContentType="image/png"/>
  <Override PartName="/ppt/media/image27.jpeg" ContentType="image/jpeg"/>
  <Override PartName="/ppt/media/image13.wmf" ContentType="image/x-wmf"/>
  <Override PartName="/ppt/media/image28.png" ContentType="image/png"/>
  <Override PartName="/ppt/media/image5.png" ContentType="image/png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24.jpeg" ContentType="image/jpeg"/>
  <Override PartName="/ppt/media/image4.png" ContentType="image/png"/>
  <Override PartName="/ppt/media/image3.wmf" ContentType="image/x-wmf"/>
  <Override PartName="/ppt/media/image15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4.wmf" ContentType="image/x-wmf"/>
  <Override PartName="/ppt/media/image16.png" ContentType="image/png"/>
  <Override PartName="/ppt/media/image18.jpeg" ContentType="image/jpeg"/>
  <Override PartName="/ppt/media/image29.png" ContentType="image/png"/>
  <Override PartName="/ppt/media/image21.jpeg" ContentType="image/jpeg"/>
  <Override PartName="/ppt/media/image20.jpeg" ContentType="image/jpeg"/>
  <Override PartName="/ppt/media/image22.wmf" ContentType="image/x-wmf"/>
  <Override PartName="/ppt/media/image23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F2F3-715D-4834-BE6F-6D2D637D2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19D1-5152-4DE3-870F-001190516C5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AA92-C687-4A6B-80AF-3FE4037E7CA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2278-2DEA-4878-A8C5-BD0622589830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65E8-65C8-4E5A-947F-B121E384AB5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03D4-044B-4A49-9F49-47F763A7E3D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30D4-4F2F-4321-98FC-56996A8A6E0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73A9-15D6-40D7-8516-414A6471791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0460-C586-451E-83F9-FF3D0BC0982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A744-9C7A-42E6-AA7C-316AEF09DFB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D661-808D-4D3A-BC7A-5C7B7DF8F2E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E28A-185C-41D5-BE34-3869533D98B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DB42-0B63-416B-8083-3C53503D2A2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A50D-0388-4704-B5D7-D1EB3A66E6A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8205-A891-43C8-9BAF-E10BF1C4B62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8A02-E2DA-4DE4-A3E8-AEAAB783291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8B38-3D91-45DB-9544-F596FF3E512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9B48-4B2C-4871-A4EF-8D5848FC0DB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6CA4-C8D9-4BE8-B8F8-92EC60D5446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C407-74EF-40FB-BC2E-340D93D0F50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481E-2140-455B-A7D7-DDBE8B26751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540D-EB35-494A-8A6E-FDE94A625FE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08AA-63B4-448B-B06F-FCECC7A90260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AF34-769F-48C4-B0E2-CD6520C18B5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95A6-8F73-469D-830D-8C78C96EBB1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DD5C-C423-4829-93A8-25FFA82DAAB0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8B12-F8D1-4A68-8BFE-3DA6D31CDBC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2359-D46B-4668-A9FF-72EFCD12D66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6F67-C8D0-4669-A0B7-D437EE5BB67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7F0C-866D-4E90-8CEC-48089612682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7A0B-DA22-4565-B527-2A6BD3269C9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3B5A-2E65-4530-9846-A0C7CD8034C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BE8E-D944-48E4-88D3-31A4BDC36A9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B8A9-7403-4D1F-AC0F-1F9590D4BB0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2B06-37B5-466E-91F2-F3C56E2E910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7CA1-CA62-43B3-A69E-3B03DA607C5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AAAA-F0A2-4839-852E-7294277E91C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04A7-215E-47DE-9430-AB4CA066426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046B-2C6A-46A5-9823-6409B9D985D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826D-A250-44EB-869C-3496AE1C33C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E044-09C8-45B8-801E-B02935AB4BF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C3F6-A2A5-4212-BA59-AA0432339F8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E8BB-6462-4619-B560-125619B8C3F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3882-0F35-4243-AF67-CBF77906851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0BC1-70A1-463C-AE1D-C2B15B861CD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DBDB-E2B6-4C0A-A90C-3A7467A0DC9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FF79-FF1B-40A0-83B2-C642ABC54DC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3DA0-6E4B-4E1E-9BD9-D45F304C23E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E2B4-B110-4308-B682-738D56A5ED7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575C-4018-490F-9A04-FA1B7527343B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870A-D256-4722-98E9-CDE7D6BAC03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F158-0D8C-4D24-BB8C-4308173B33A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D917-7B47-4835-B610-8F730FA00A9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EA03-54AB-4C6F-917C-9C6DA0168B0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49AB-1764-4A5C-8E4F-4F71B682651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E86B-B848-4EC5-99F4-022C0D08745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0BD2-DCED-4D75-8865-B4FDFC6C4C6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F5CD-AE61-4038-AD2C-DE5C88D3737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C98D-86E1-4DC4-A27F-EC9417E48280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8AB7-ED9A-4451-8DFE-292CE6E1F67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63A2-8D16-44E8-BC8B-175092F8B6E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339A-C889-4BA5-8CE4-4A3546B2C3D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C84B9F05-576E-46F8-8FCD-1C7C569F40E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0147E028-7954-4493-9A84-55CA8C76CC2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441ADBEA-12E2-4814-BA24-DF8ABA45FA2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8D31A4B2-5398-40B5-93A6-00B139A233DC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9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9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967B2DC0-FE81-4B1D-841F-988B7EBEA51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98AAFD3A-F095-439B-9720-F8EC9161AB6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030C18CA-9C33-4C66-9800-99A68880612F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D2F4978A-3CB6-498F-8374-37F43696F60C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35D7EF82-CD4E-4B0C-869A-8A1CD88852B7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1AF4E24F-B504-4740-955E-D4412BF54D2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F36BABC2-62A0-4889-8711-593C4FB65EE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77A24AAF-9040-480C-A6C1-766E1936532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1-</a:t>
            </a:r>
            <a:fld id="{5D1FED56-87C1-4F77-B40C-8EE1ABB7BD0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itle 1"/>
          <p:cNvSpPr/>
          <p:nvPr/>
        </p:nvSpPr>
        <p:spPr>
          <a:xfrm>
            <a:off x="0" y="1473120"/>
            <a:ext cx="91440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48f"/>
                </a:solidFill>
                <a:latin typeface="Garamond"/>
              </a:rPr>
              <a:t>Probability and Statistics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Subtitle 2"/>
          <p:cNvSpPr/>
          <p:nvPr/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11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46" name="Picture 9" descr=""/>
          <p:cNvPicPr/>
          <p:nvPr/>
        </p:nvPicPr>
        <p:blipFill>
          <a:blip r:embed="rId1"/>
          <a:stretch/>
        </p:blipFill>
        <p:spPr>
          <a:xfrm>
            <a:off x="358920" y="2708280"/>
            <a:ext cx="2890800" cy="38527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6"/>
          <p:cNvSpPr/>
          <p:nvPr/>
        </p:nvSpPr>
        <p:spPr>
          <a:xfrm>
            <a:off x="255600" y="162864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robability that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on-mutually exclusive events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and B or both will occur expressed a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A or B) = P(A) + P(B) - P(AB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joint probability,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(AB),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the probability that two or more events that are not mutually exclusive can occur simultaneousl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Non-Mutually Exclusive Events &amp; Joint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5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9"/>
          <p:cNvSpPr/>
          <p:nvPr/>
        </p:nvSpPr>
        <p:spPr>
          <a:xfrm>
            <a:off x="1422360" y="1816200"/>
            <a:ext cx="62866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8" name="Picture 4" descr="11-02"/>
          <p:cNvPicPr/>
          <p:nvPr/>
        </p:nvPicPr>
        <p:blipFill>
          <a:blip r:embed="rId1"/>
          <a:stretch/>
        </p:blipFill>
        <p:spPr>
          <a:xfrm>
            <a:off x="1514520" y="1892160"/>
            <a:ext cx="6114960" cy="327996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5"/>
          <p:cNvSpPr/>
          <p:nvPr/>
        </p:nvSpPr>
        <p:spPr>
          <a:xfrm>
            <a:off x="727200" y="5384880"/>
            <a:ext cx="79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2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Venn Diagram for Non–Mutually Exclusive Events and the Joint Event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Non-Mutually Exclusive Events &amp; Joint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1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5"/>
          <p:cNvSpPr/>
          <p:nvPr/>
        </p:nvSpPr>
        <p:spPr>
          <a:xfrm>
            <a:off x="268200" y="1314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an be developed by adding the probability of an event to the sum of all previously listed probabilities in a probability distrib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robability that a student will get a grade of C or higher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A or B or C) = P(A) + P(B) + P(C) = .10 + .20 + .50 = .8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694" name="Object 2"/>
          <p:cNvGraphicFramePr/>
          <p:nvPr/>
        </p:nvGraphicFramePr>
        <p:xfrm>
          <a:off x="2679840" y="2082960"/>
          <a:ext cx="4686120" cy="284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9840" y="2082960"/>
                    <a:ext cx="468612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umulative Probability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7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4"/>
          <p:cNvSpPr/>
          <p:nvPr/>
        </p:nvSpPr>
        <p:spPr>
          <a:xfrm>
            <a:off x="514440" y="154620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succession o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vents that do not affect each other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re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independent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robability of independent events occurring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 a succession is computed by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multiplying the probabilities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f each eve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nditional probability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the probability that an event will occur given that another event has already occurred, denoted as  P(A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B).  If events A and B are independent, then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AB) = P(A)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P(B) and P(A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B) = P(A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dependent Even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14"/>
          <p:cNvSpPr/>
          <p:nvPr/>
        </p:nvSpPr>
        <p:spPr>
          <a:xfrm>
            <a:off x="2590920" y="1841400"/>
            <a:ext cx="4940280" cy="308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514440" y="116532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or coin tossed three consecutive time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robability of getting head on first toss, tail on second, tail on third is .125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HTT) = P(H)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P(T)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P(T) = (.5)(.5)(.5) = .12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5" name="Picture 4" descr="11-03"/>
          <p:cNvPicPr/>
          <p:nvPr/>
        </p:nvPicPr>
        <p:blipFill>
          <a:blip r:embed="rId6"/>
          <a:stretch/>
        </p:blipFill>
        <p:spPr>
          <a:xfrm>
            <a:off x="295200" y="1590840"/>
            <a:ext cx="8493120" cy="352728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6"/>
          <p:cNvSpPr/>
          <p:nvPr/>
        </p:nvSpPr>
        <p:spPr>
          <a:xfrm>
            <a:off x="157320" y="4503600"/>
            <a:ext cx="155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3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dependent Events – Probability Tre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9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4"/>
          <p:cNvSpPr/>
          <p:nvPr/>
        </p:nvSpPr>
        <p:spPr>
          <a:xfrm>
            <a:off x="0" y="1504800"/>
            <a:ext cx="91440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roperties of a Bernoulli Proces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re ar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two possible outcomes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or each tria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robability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of the outcom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mains constant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ver  tim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utcomes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of the trials ar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independent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umber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of trials i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iscrete and integer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1" name="Rectangle 5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dependent Events – Bernoulli Process Defini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2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3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6"/>
          <p:cNvSpPr/>
          <p:nvPr/>
        </p:nvSpPr>
        <p:spPr>
          <a:xfrm>
            <a:off x="268200" y="1314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SzPct val="102884"/>
              <a:buBlip>
                <a:blip r:embed="rId1"/>
              </a:buBlip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binomial probability distribution function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used to determine the probability of a number of successes in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 n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trial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2"/>
              </a:buBlip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t is 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iscrete probability distribution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ince the number of successes and trials  is discret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3"/>
              </a:buBlip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 = probability of a succes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q = 1- p = probability of a failur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n = number of tria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 = number of successes in n tria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2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3"/>
              <p:cNvSpPr txBox="1"/>
              <p:nvPr/>
            </p:nvSpPr>
            <p:spPr>
              <a:xfrm>
                <a:off x="3333600" y="3429000"/>
                <a:ext cx="2476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!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!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-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7" name="Rectangle 7"/>
          <p:cNvSpPr/>
          <p:nvPr/>
        </p:nvSpPr>
        <p:spPr>
          <a:xfrm>
            <a:off x="0" y="0"/>
            <a:ext cx="85471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dependent Events – Binomi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8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9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6"/>
          <p:cNvSpPr/>
          <p:nvPr/>
        </p:nvSpPr>
        <p:spPr>
          <a:xfrm>
            <a:off x="268200" y="1314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termine probability of getting exactly two tails in three tosses of a coin.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2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3"/>
              <p:cNvSpPr txBox="1"/>
              <p:nvPr/>
            </p:nvSpPr>
            <p:spPr>
              <a:xfrm>
                <a:off x="1511280" y="2844720"/>
                <a:ext cx="5372280" cy="24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 tail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!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 -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P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3" name="Rectangle 7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inomial Distribution Example – Tossed Coin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6" name="Object 2"/>
              <p:cNvSpPr txBox="1"/>
              <p:nvPr/>
            </p:nvSpPr>
            <p:spPr>
              <a:xfrm>
                <a:off x="1854360" y="3263760"/>
                <a:ext cx="50036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 defective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!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-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6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7" name="Rectangle 5"/>
          <p:cNvSpPr/>
          <p:nvPr/>
        </p:nvSpPr>
        <p:spPr>
          <a:xfrm>
            <a:off x="268200" y="1314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icrochip production; sample of four items/batch, 20% of all microchips are defecti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at is the probability that each batch will contain exactly two defectives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8" name="Rectangle 6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inomial Distribution Example – Quality Contro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9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0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6"/>
          <p:cNvSpPr/>
          <p:nvPr/>
        </p:nvSpPr>
        <p:spPr>
          <a:xfrm>
            <a:off x="268200" y="1314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our microchips  tested/batch; if two or more found defective, batch is reject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at is probability of rejecting entire batch if batch in fact has 20% defective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1"/>
              </a:buBlip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2"/>
              </a:buBlip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3"/>
              </a:buBlip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robability of less than two defective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r&lt;2) = P(r=0) + P(r=1) = 1.0 - [P(r=2) + P(r=3) + P(r=4)]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1.0 - .1808 = .819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514"/>
              </a:buClr>
              <a:buFont typeface="Garamond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0" y="327672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2"/>
              <p:cNvSpPr txBox="1"/>
              <p:nvPr/>
            </p:nvSpPr>
            <p:spPr>
              <a:xfrm>
                <a:off x="330120" y="3092400"/>
                <a:ext cx="85248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!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-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!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!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!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-4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36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6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4" name="Rectangle 7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inomial Distribution Example – Quality Contro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541440" y="144612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Types of Probability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Expected Valu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9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0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4" descr="11-04"/>
          <p:cNvPicPr/>
          <p:nvPr/>
        </p:nvPicPr>
        <p:blipFill>
          <a:blip r:embed="rId1"/>
          <a:stretch/>
        </p:blipFill>
        <p:spPr>
          <a:xfrm>
            <a:off x="887400" y="1442880"/>
            <a:ext cx="7562880" cy="420696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5"/>
          <p:cNvSpPr/>
          <p:nvPr/>
        </p:nvSpPr>
        <p:spPr>
          <a:xfrm>
            <a:off x="5578560" y="5899320"/>
            <a:ext cx="22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4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Dependent Events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0"/>
            <a:ext cx="86994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pendent Events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0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1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6"/>
          <p:cNvSpPr/>
          <p:nvPr/>
        </p:nvSpPr>
        <p:spPr>
          <a:xfrm>
            <a:off x="295200" y="1449360"/>
            <a:ext cx="84423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f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ccurrence of one event affects the probability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f the occurrence of another event, the events ar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epende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in toss to select bucket, draw for blue bal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f tail occurs, 1/6 chance of drawing blue ball from bucket 2; if head results, no possibility of drawing blue ball from bucket 1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robability of  event “drawing a blue ball” dependent on event “flipping a coin.”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0" y="0"/>
            <a:ext cx="86486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pendent Events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4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5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13"/>
          <p:cNvSpPr/>
          <p:nvPr/>
        </p:nvSpPr>
        <p:spPr>
          <a:xfrm>
            <a:off x="1879560" y="2133720"/>
            <a:ext cx="537228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7" name="Rectangle 9"/>
          <p:cNvSpPr/>
          <p:nvPr/>
        </p:nvSpPr>
        <p:spPr>
          <a:xfrm>
            <a:off x="309600" y="112392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Unconditional:  P(H) = .5; P(T) = .5, must sum to on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8" name="Picture 5" descr="11-05"/>
          <p:cNvPicPr/>
          <p:nvPr/>
        </p:nvPicPr>
        <p:blipFill>
          <a:blip r:embed="rId1"/>
          <a:stretch/>
        </p:blipFill>
        <p:spPr>
          <a:xfrm>
            <a:off x="876240" y="1622520"/>
            <a:ext cx="7419960" cy="414792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7"/>
          <p:cNvSpPr/>
          <p:nvPr/>
        </p:nvSpPr>
        <p:spPr>
          <a:xfrm>
            <a:off x="2340000" y="5851440"/>
            <a:ext cx="43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5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Another Set of Dependent Events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0" name="Rectangle 10"/>
          <p:cNvSpPr/>
          <p:nvPr/>
        </p:nvSpPr>
        <p:spPr>
          <a:xfrm>
            <a:off x="0" y="0"/>
            <a:ext cx="86994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pendent Events – Unconditional Probabiliti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1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14"/>
          <p:cNvSpPr/>
          <p:nvPr/>
        </p:nvSpPr>
        <p:spPr>
          <a:xfrm>
            <a:off x="1015920" y="2349360"/>
            <a:ext cx="7124760" cy="30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0" y="1101600"/>
            <a:ext cx="91440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ditional:   P(R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H) =.33, P(W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H) = .67, P(R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) = .83, P(W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) = .17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55" name="Picture 6" descr="11-06"/>
          <p:cNvPicPr/>
          <p:nvPr/>
        </p:nvPicPr>
        <p:blipFill>
          <a:blip r:embed="rId1"/>
          <a:stretch/>
        </p:blipFill>
        <p:spPr>
          <a:xfrm>
            <a:off x="334800" y="1838160"/>
            <a:ext cx="8598240" cy="409752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10"/>
          <p:cNvSpPr/>
          <p:nvPr/>
        </p:nvSpPr>
        <p:spPr>
          <a:xfrm>
            <a:off x="0" y="0"/>
            <a:ext cx="86994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pendent Events – Conditional Probabiliti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7" name="Text Box 13"/>
          <p:cNvSpPr/>
          <p:nvPr/>
        </p:nvSpPr>
        <p:spPr>
          <a:xfrm>
            <a:off x="528480" y="5535720"/>
            <a:ext cx="417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6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Probability tree for dependent events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8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9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4"/>
          <p:cNvSpPr/>
          <p:nvPr/>
        </p:nvSpPr>
        <p:spPr>
          <a:xfrm>
            <a:off x="268200" y="1314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Given two dependent events A and B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A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B) = P(A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B)/P(B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ith data from previous exampl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RH) = P(R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H)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P(H) = (.33)(.5) = .16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WH) = P(W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H)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P(H) = (.67)(.5) = .33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RT) = P(R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)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P(T) = (.83)(.5) = .41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WT) = P(W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)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P(T) = (.17)(.5) = .08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ath Formulation of Conditional Probabiliti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2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3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3" descr="11-07"/>
          <p:cNvPicPr/>
          <p:nvPr/>
        </p:nvPicPr>
        <p:blipFill>
          <a:blip r:embed="rId1"/>
          <a:stretch/>
        </p:blipFill>
        <p:spPr>
          <a:xfrm>
            <a:off x="177840" y="1359000"/>
            <a:ext cx="8717040" cy="467208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5"/>
          <p:cNvSpPr/>
          <p:nvPr/>
        </p:nvSpPr>
        <p:spPr>
          <a:xfrm>
            <a:off x="2122560" y="606096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7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0" y="0"/>
            <a:ext cx="86234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ummary of Example Problem Probabiliti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7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4" descr="tb11_01"/>
          <p:cNvPicPr/>
          <p:nvPr/>
        </p:nvPicPr>
        <p:blipFill>
          <a:blip r:embed="rId1"/>
          <a:stretch/>
        </p:blipFill>
        <p:spPr>
          <a:xfrm>
            <a:off x="569880" y="1574640"/>
            <a:ext cx="7964640" cy="415620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6"/>
          <p:cNvSpPr/>
          <p:nvPr/>
        </p:nvSpPr>
        <p:spPr>
          <a:xfrm>
            <a:off x="4888080" y="5961240"/>
            <a:ext cx="31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able 11.1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Joint Probability Table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1" name="Rectangle 8"/>
          <p:cNvSpPr/>
          <p:nvPr/>
        </p:nvSpPr>
        <p:spPr>
          <a:xfrm>
            <a:off x="0" y="0"/>
            <a:ext cx="86234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ummary of Example Problem Probabiliti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2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3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4" name="Object 2"/>
              <p:cNvSpPr txBox="1"/>
              <p:nvPr/>
            </p:nvSpPr>
            <p:spPr>
              <a:xfrm>
                <a:off x="2438280" y="4348080"/>
                <a:ext cx="42674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5" name="Rectangle 5"/>
          <p:cNvSpPr/>
          <p:nvPr/>
        </p:nvSpPr>
        <p:spPr>
          <a:xfrm>
            <a:off x="282600" y="161460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 Bayesian analysis,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additional information is used to alter the marginal probability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f the occurrence of an eve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osterior probability is the altered marginal probability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f an event based on additional inform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Bayes’ Rule for two events, A and B, and third event, C, conditionally dependent on A and B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6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yesian Analysi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7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5"/>
          <p:cNvSpPr/>
          <p:nvPr/>
        </p:nvSpPr>
        <p:spPr>
          <a:xfrm>
            <a:off x="268200" y="1477800"/>
            <a:ext cx="8875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achine setup; if correct 10% chance of defective part; if incorrect, 40%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50% chance setup will be correct or incorrec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at is probability that machine setup is incorrect if sample part is defective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olution: P(C) = .50, P(IC) = .50, P(D|C) = .10, P(D|IC) = .4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ere C = correct, IC = incorrect, D = defectiv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0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yesian Analysis – Example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1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3" name="Object 2"/>
              <p:cNvSpPr txBox="1"/>
              <p:nvPr/>
            </p:nvSpPr>
            <p:spPr>
              <a:xfrm>
                <a:off x="1727280" y="2343240"/>
                <a:ext cx="502920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4" name="Rectangle 3"/>
          <p:cNvSpPr/>
          <p:nvPr/>
        </p:nvSpPr>
        <p:spPr>
          <a:xfrm>
            <a:off x="268200" y="154620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osterior probabilitie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tistical Independence and Depende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yesian Analysis – Example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6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7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4"/>
          <p:cNvSpPr/>
          <p:nvPr/>
        </p:nvSpPr>
        <p:spPr>
          <a:xfrm>
            <a:off x="0" y="1628640"/>
            <a:ext cx="8832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lassical, or a priori (prior to the occurrence)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bability is an objective probability that can be stated prior to the occurrence of the event. It is based on the logic of the process producing the outcom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bjective probabiliti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at ar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tated after the outcom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f an event have been observed ar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lative frequenci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based on observation of past occurrenc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lative frequency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s the more widely used definition o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bjective probabilit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ype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bjective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4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4"/>
          <p:cNvSpPr/>
          <p:nvPr/>
        </p:nvSpPr>
        <p:spPr>
          <a:xfrm>
            <a:off x="268200" y="151776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en the values of variables occur in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o particular order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r sequence, the variables are referred to as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andom variables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andom variables are represented symbolically by a letter x, y, z, etc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lthough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xact values of random variables are not known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rior to events, it is possible to assign a probability to the occurrence of possible valu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9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pected Valu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andom Variab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1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Object 2"/>
          <p:cNvGraphicFramePr/>
          <p:nvPr/>
        </p:nvGraphicFramePr>
        <p:xfrm>
          <a:off x="2184480" y="2781360"/>
          <a:ext cx="507996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4480" y="2781360"/>
                    <a:ext cx="50799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4" name="Rectangle 5"/>
          <p:cNvSpPr/>
          <p:nvPr/>
        </p:nvSpPr>
        <p:spPr>
          <a:xfrm>
            <a:off x="268200" y="141120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achines break down 0, 1, 2, 3, or 4 times per month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lative frequency of  breakdowns , or a 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probability distribution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5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pected Valu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6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7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5"/>
          <p:cNvSpPr/>
          <p:nvPr/>
        </p:nvSpPr>
        <p:spPr>
          <a:xfrm>
            <a:off x="268200" y="153180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xpected value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f a random variable is computed by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multiplying each possible value of the variable by its probability and summing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se produc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xpected value is the weighted average, or mean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,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of the probability distribution of the random variabl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xpected value of number of breakdowns per month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(x) = (0)(.10) + (1)(.20) + (2)(.30) + (3)(.25) + (4)(.15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0 + .20 + .60 + .75 + .6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2.15 breakdowns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buClr>
                <a:srgbClr val="000514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pected Valu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1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5"/>
          <p:cNvSpPr/>
          <p:nvPr/>
        </p:nvSpPr>
        <p:spPr>
          <a:xfrm>
            <a:off x="268200" y="1353960"/>
            <a:ext cx="862956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Variance is a measure of the dispersion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f a random variable’s values about the mea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Variance is computed as follow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Garamond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quare the difference between each value and the expected valu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Garamond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ultiply resulting amounts by the probability of each valu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buClr>
                <a:srgbClr val="000514"/>
              </a:buClr>
              <a:buFont typeface="Garamond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um the values compiled in step 2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General formula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lnSpc>
                <a:spcPct val="65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</a:t>
            </a:r>
            <a:r>
              <a:rPr b="1" lang="en-US" sz="3200" spc="-1" strike="noStrike">
                <a:solidFill>
                  <a:srgbClr val="000514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[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i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- E(x)] 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P(x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i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3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pected Valu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pSp>
        <p:nvGrpSpPr>
          <p:cNvPr id="804" name="Group 10"/>
          <p:cNvGrpSpPr/>
          <p:nvPr/>
        </p:nvGrpSpPr>
        <p:grpSpPr>
          <a:xfrm>
            <a:off x="4475160" y="5253120"/>
            <a:ext cx="509760" cy="969840"/>
            <a:chOff x="4475160" y="5253120"/>
            <a:chExt cx="509760" cy="969840"/>
          </a:xfrm>
        </p:grpSpPr>
        <p:sp>
          <p:nvSpPr>
            <p:cNvPr id="805" name="Text Box 8"/>
            <p:cNvSpPr/>
            <p:nvPr/>
          </p:nvSpPr>
          <p:spPr>
            <a:xfrm>
              <a:off x="4475160" y="585468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Garamond"/>
                </a:rPr>
                <a:t>i=1</a:t>
              </a: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06" name="Text Box 10"/>
            <p:cNvSpPr/>
            <p:nvPr/>
          </p:nvSpPr>
          <p:spPr>
            <a:xfrm>
              <a:off x="4551120" y="5253120"/>
              <a:ext cx="32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Garamond"/>
                </a:rPr>
                <a:t>n</a:t>
              </a: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807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6"/>
          <p:cNvSpPr/>
          <p:nvPr/>
        </p:nvSpPr>
        <p:spPr>
          <a:xfrm>
            <a:off x="295200" y="118440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tandard deviation computed by taking the square root of the varianc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or example data 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[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E(x) = 2.15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]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1.425 (breakdowns per month)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tandard deviation =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sqrt(1.425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1.19 breakdowns per month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10" name="Object 2"/>
          <p:cNvGraphicFramePr/>
          <p:nvPr/>
        </p:nvGraphicFramePr>
        <p:xfrm>
          <a:off x="1041480" y="2590920"/>
          <a:ext cx="6756480" cy="24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2590920"/>
                    <a:ext cx="67564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Rectangle 7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pected Valu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3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4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4"/>
          <p:cNvSpPr/>
          <p:nvPr/>
        </p:nvSpPr>
        <p:spPr>
          <a:xfrm>
            <a:off x="268200" y="1395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ntinuous random variable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an take on an infinite number of values within some interva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tinuous random variables hav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values that are not specifically countable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and are often fractiona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annot assign a unique probability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o each value of a continuous random variabl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 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ntinuous probability distribution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probability refers to a value of the random variable being within som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ang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6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ntinuous Random Variabl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7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6"/>
          <p:cNvSpPr/>
          <p:nvPr/>
        </p:nvSpPr>
        <p:spPr>
          <a:xfrm>
            <a:off x="204840" y="13539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ormal distribution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a continuous probability distribution that is symmetrical on both sides of the mea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center of a normal distribution is it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mean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area under the normal curve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presents  probability, and total area under the curv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ums to one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552600" y="4678200"/>
            <a:ext cx="254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8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he Normal Curve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fini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22" name="Picture 7" descr="F:\POM\Chapter 11\AAFQROH0.jpg"/>
          <p:cNvPicPr/>
          <p:nvPr/>
        </p:nvPicPr>
        <p:blipFill>
          <a:blip r:embed="rId1"/>
          <a:stretch/>
        </p:blipFill>
        <p:spPr>
          <a:xfrm>
            <a:off x="3117960" y="3459240"/>
            <a:ext cx="5803920" cy="3095640"/>
          </a:xfrm>
          <a:prstGeom prst="rect">
            <a:avLst/>
          </a:prstGeom>
          <a:ln w="0">
            <a:noFill/>
          </a:ln>
        </p:spPr>
      </p:pic>
      <p:sp>
        <p:nvSpPr>
          <p:cNvPr id="823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281160" y="163512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ean weekly carpet sales of  4,200 yards, with standard deviation of 1,400 yard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at is the probability of sales exceeding  6,000 yards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4,200 yd;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1,400 yd; probability that number of yards of carpet will be equal to or greater than 6,000 expressed as: P(x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6,000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5" name="Rectangle 8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1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6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2374920" y="480060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9" name="Text Box 4"/>
          <p:cNvSpPr/>
          <p:nvPr/>
        </p:nvSpPr>
        <p:spPr>
          <a:xfrm>
            <a:off x="6224760" y="59738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9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0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2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1" name="Text Box 11"/>
          <p:cNvSpPr/>
          <p:nvPr/>
        </p:nvSpPr>
        <p:spPr>
          <a:xfrm>
            <a:off x="6325560" y="3146400"/>
            <a:ext cx="189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514"/>
                </a:solidFill>
                <a:latin typeface="Garamond"/>
              </a:rPr>
              <a:t>P(x</a:t>
            </a:r>
            <a:r>
              <a:rPr b="0" lang="en-US" sz="2600" spc="-1" strike="noStrike">
                <a:solidFill>
                  <a:srgbClr val="000514"/>
                </a:solidFill>
                <a:latin typeface="Garamond"/>
                <a:ea typeface="Arial"/>
              </a:rPr>
              <a:t>≥6,000)</a:t>
            </a:r>
            <a:endParaRPr b="0" lang="en-US" sz="2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2" name="Line 12"/>
          <p:cNvSpPr/>
          <p:nvPr/>
        </p:nvSpPr>
        <p:spPr>
          <a:xfrm flipH="1">
            <a:off x="5757840" y="3500280"/>
            <a:ext cx="743040" cy="771840"/>
          </a:xfrm>
          <a:prstGeom prst="line">
            <a:avLst/>
          </a:prstGeom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3" name="Footer Placeholder 12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grpSp>
        <p:nvGrpSpPr>
          <p:cNvPr id="834" name="Group 16"/>
          <p:cNvGrpSpPr/>
          <p:nvPr/>
        </p:nvGrpSpPr>
        <p:grpSpPr>
          <a:xfrm>
            <a:off x="419040" y="1101600"/>
            <a:ext cx="8724960" cy="4770720"/>
            <a:chOff x="419040" y="1101600"/>
            <a:chExt cx="8724960" cy="4770720"/>
          </a:xfrm>
        </p:grpSpPr>
        <p:pic>
          <p:nvPicPr>
            <p:cNvPr id="835" name="Picture 3" descr="11-09"/>
            <p:cNvPicPr/>
            <p:nvPr/>
          </p:nvPicPr>
          <p:blipFill>
            <a:blip r:embed="rId1"/>
            <a:stretch/>
          </p:blipFill>
          <p:spPr>
            <a:xfrm>
              <a:off x="419040" y="1101600"/>
              <a:ext cx="8724960" cy="477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Box 13"/>
            <p:cNvSpPr/>
            <p:nvPr/>
          </p:nvSpPr>
          <p:spPr>
            <a:xfrm>
              <a:off x="3301920" y="4876920"/>
              <a:ext cx="3682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514"/>
                  </a:solidFill>
                  <a:latin typeface="Garamond"/>
                </a:rPr>
                <a:t>µ</a:t>
              </a:r>
              <a:endParaRPr b="0" lang="en-US" sz="36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37" name="Straight Connector 15"/>
            <p:cNvSpPr/>
            <p:nvPr/>
          </p:nvSpPr>
          <p:spPr>
            <a:xfrm>
              <a:off x="3060720" y="4953240"/>
              <a:ext cx="939600" cy="1440"/>
            </a:xfrm>
            <a:prstGeom prst="line">
              <a:avLst/>
            </a:prstGeom>
            <a:ln w="255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83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6"/>
          <p:cNvSpPr/>
          <p:nvPr/>
        </p:nvSpPr>
        <p:spPr>
          <a:xfrm>
            <a:off x="268200" y="173664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area or probability  under a normal curve is measured by determining the number of standard deviations the value of a random variable x is from the mea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Number of standard deviations a value is from the mean designated as Z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ndard Normal Curve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1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42" name="Object 2"/>
          <p:cNvGraphicFramePr/>
          <p:nvPr/>
        </p:nvGraphicFramePr>
        <p:xfrm>
          <a:off x="3016080" y="4273560"/>
          <a:ext cx="1860840" cy="10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080" y="4273560"/>
                    <a:ext cx="186084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4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311040" y="1450800"/>
            <a:ext cx="8832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ubjective probability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an estimate based on personal belief, experience, or knowledge of a situ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t i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ften the only means available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or making probabilistic estimat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requently used in making business decision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ifferent people often arrive at different subjective probabiliti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bjective probabilities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used in this text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unless otherwise indicat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ype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ubjective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8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tandard Normal Curve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6" name="Text Box 10"/>
          <p:cNvSpPr/>
          <p:nvPr/>
        </p:nvSpPr>
        <p:spPr>
          <a:xfrm>
            <a:off x="1576440" y="6118200"/>
            <a:ext cx="593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10 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he Standard Normal Distribution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7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48" name="Picture 6" descr="F:\POM\Chapter 11\AAFQROJ0.jpg"/>
          <p:cNvPicPr/>
          <p:nvPr/>
        </p:nvPicPr>
        <p:blipFill>
          <a:blip r:embed="rId1"/>
          <a:stretch/>
        </p:blipFill>
        <p:spPr>
          <a:xfrm>
            <a:off x="1397160" y="1405080"/>
            <a:ext cx="6416640" cy="4665600"/>
          </a:xfrm>
          <a:prstGeom prst="rect">
            <a:avLst/>
          </a:prstGeom>
          <a:ln w="0">
            <a:noFill/>
          </a:ln>
        </p:spPr>
      </p:pic>
      <p:sp>
        <p:nvSpPr>
          <p:cNvPr id="849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 Box 5"/>
          <p:cNvSpPr/>
          <p:nvPr/>
        </p:nvSpPr>
        <p:spPr>
          <a:xfrm>
            <a:off x="1798560" y="6189840"/>
            <a:ext cx="50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11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Determination of the Z Value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3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2" name="Rectangle 10"/>
          <p:cNvSpPr/>
          <p:nvPr/>
        </p:nvSpPr>
        <p:spPr>
          <a:xfrm>
            <a:off x="266760" y="132228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Z = (x -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/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(6,000 - 4,200)/1,4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1.29 standard devi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x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6,000) = .5000 - .4015 = .098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3" name="Text Box 13"/>
          <p:cNvSpPr/>
          <p:nvPr/>
        </p:nvSpPr>
        <p:spPr>
          <a:xfrm>
            <a:off x="6546960" y="3913200"/>
            <a:ext cx="162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5e5ff"/>
                </a:solidFill>
                <a:latin typeface="Garamond"/>
              </a:rPr>
              <a:t>P(x≥6,000)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4" name="Line 14"/>
          <p:cNvSpPr/>
          <p:nvPr/>
        </p:nvSpPr>
        <p:spPr>
          <a:xfrm flipH="1">
            <a:off x="5800680" y="4257720"/>
            <a:ext cx="858960" cy="682560"/>
          </a:xfrm>
          <a:prstGeom prst="line">
            <a:avLst/>
          </a:prstGeom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5" name="Footer Placeholder 1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56" name="Picture 9" descr="F:\POM\Chapter 11\AAFQROK0.jpg"/>
          <p:cNvPicPr/>
          <p:nvPr/>
        </p:nvPicPr>
        <p:blipFill>
          <a:blip r:embed="rId1"/>
          <a:stretch/>
        </p:blipFill>
        <p:spPr>
          <a:xfrm>
            <a:off x="1257480" y="2720880"/>
            <a:ext cx="6527520" cy="3357720"/>
          </a:xfrm>
          <a:prstGeom prst="rect">
            <a:avLst/>
          </a:prstGeom>
          <a:ln w="0">
            <a:noFill/>
          </a:ln>
        </p:spPr>
      </p:pic>
      <p:sp>
        <p:nvSpPr>
          <p:cNvPr id="857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204840" y="1217520"/>
            <a:ext cx="89391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termine probability that demand will be 5,000 yards or les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Z = (x -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/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(5,000 - 4,200)/1,400 = .57 standard devi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x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5,000) = .5000 + .2157 = .7157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9" name="Text Box 5"/>
          <p:cNvSpPr/>
          <p:nvPr/>
        </p:nvSpPr>
        <p:spPr>
          <a:xfrm>
            <a:off x="1204920" y="6299280"/>
            <a:ext cx="64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12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Normal distribution for P(x </a:t>
            </a:r>
            <a:r>
              <a:rPr b="1" lang="en-US" sz="20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 5,000 yards)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4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1" name="Footer Placeholder 12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62" name="Picture 10" descr="F:\POM\Chapter 11\AAFQROL0.jpg"/>
          <p:cNvPicPr/>
          <p:nvPr/>
        </p:nvPicPr>
        <p:blipFill>
          <a:blip r:embed="rId1"/>
          <a:stretch/>
        </p:blipFill>
        <p:spPr>
          <a:xfrm>
            <a:off x="965160" y="2449440"/>
            <a:ext cx="6921720" cy="3854520"/>
          </a:xfrm>
          <a:prstGeom prst="rect">
            <a:avLst/>
          </a:prstGeom>
          <a:ln w="0">
            <a:noFill/>
          </a:ln>
        </p:spPr>
      </p:pic>
      <p:sp>
        <p:nvSpPr>
          <p:cNvPr id="863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9"/>
          <p:cNvSpPr/>
          <p:nvPr/>
        </p:nvSpPr>
        <p:spPr>
          <a:xfrm>
            <a:off x="203040" y="1216080"/>
            <a:ext cx="862992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termine probability that demand will be between 3,000 yards and 5,000 yard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Z = (3,000 - 4,200)/1,400 = -1,200/1,400 = -.8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3,000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x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5,000) = .2157 + .3051= .520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5" name="Rectangle 10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5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423720" y="61405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13 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 Normal Distribution with P(3,000 yards </a:t>
            </a:r>
            <a:r>
              <a:rPr b="1" lang="en-US" sz="20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 x </a:t>
            </a:r>
            <a:r>
              <a:rPr b="1" lang="en-US" sz="20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 5,000 yards)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7" name="Footer Placeholder 1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68" name="Picture 7" descr="F:\POM\Chapter 11\AAFQROM0.jpg"/>
          <p:cNvPicPr/>
          <p:nvPr/>
        </p:nvPicPr>
        <p:blipFill>
          <a:blip r:embed="rId1"/>
          <a:stretch/>
        </p:blipFill>
        <p:spPr>
          <a:xfrm>
            <a:off x="851040" y="2787480"/>
            <a:ext cx="6045120" cy="3365640"/>
          </a:xfrm>
          <a:prstGeom prst="rect">
            <a:avLst/>
          </a:prstGeom>
          <a:ln w="0">
            <a:noFill/>
          </a:ln>
        </p:spPr>
      </p:pic>
      <p:sp>
        <p:nvSpPr>
          <p:cNvPr id="869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4"/>
          <p:cNvSpPr/>
          <p:nvPr/>
        </p:nvSpPr>
        <p:spPr>
          <a:xfrm>
            <a:off x="243000" y="161460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ean and variance are for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ntire set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f data being analyz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25000"/>
              </a:lnSpc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ample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mean and variance are derived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from a subset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f the population data  and are used to make inferences about the popul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ample Mean and Varia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2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3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1027"/>
          <p:cNvSpPr/>
          <p:nvPr/>
        </p:nvSpPr>
        <p:spPr>
          <a:xfrm>
            <a:off x="0" y="144792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Object 2"/>
              <p:cNvSpPr txBox="1"/>
              <p:nvPr/>
            </p:nvSpPr>
            <p:spPr>
              <a:xfrm>
                <a:off x="831960" y="1708200"/>
                <a:ext cx="5155920" cy="32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ample mean 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ample variance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 - 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ample standard deviatio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sSup>
                                  <m:e/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6" name="Rectangle 1030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ing the Sample Mean and Varianc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7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3"/>
          <p:cNvSpPr/>
          <p:nvPr/>
        </p:nvSpPr>
        <p:spPr>
          <a:xfrm>
            <a:off x="368280" y="1320840"/>
            <a:ext cx="83818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ample mean = 42,000/10 = 4,200 yd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ample variance = [(190,060,000) - (1,764,000,000/10)]/9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1,517,777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ample std. dev. = sqrt(1,517,777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      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1,232 yd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80" name="Object 2"/>
          <p:cNvGraphicFramePr/>
          <p:nvPr/>
        </p:nvGraphicFramePr>
        <p:xfrm>
          <a:off x="5130720" y="2311560"/>
          <a:ext cx="3340080" cy="454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0720" y="2311560"/>
                    <a:ext cx="334008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Revisited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3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4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4"/>
          <p:cNvSpPr/>
          <p:nvPr/>
        </p:nvSpPr>
        <p:spPr>
          <a:xfrm>
            <a:off x="243000" y="140976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t can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ever be simply assumed that data are normally distribut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hi-square test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used to determine if a set o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ata fit a particular distrib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hi-square test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compares an observed frequency distribution with a theoretical frequency distribution (testing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goodness-of-fit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i-Square Test for Normality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7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5"/>
          <p:cNvSpPr/>
          <p:nvPr/>
        </p:nvSpPr>
        <p:spPr>
          <a:xfrm>
            <a:off x="243000" y="146376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 the test,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actual number of frequencies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 each range of frequency distribution i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mpared to the theoretical frequencies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that should occur in each range if the data follow a particular distrib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Chi-square statistic is then calculated and compared to a number, called 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ritical value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rom a chi-square tabl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f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test statistic is greater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an the critical value,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istribution does not follow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distribution being tested; if it is less, the distribution fi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hi-square test is a form o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hypothesis testing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i-Square Test for Normality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5"/>
          <p:cNvSpPr/>
          <p:nvPr/>
        </p:nvSpPr>
        <p:spPr>
          <a:xfrm>
            <a:off x="243000" y="123840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ssume sample mean = 4,200 yards, and sample standard deviation =1,232 yard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94" name="Object 2"/>
          <p:cNvGraphicFramePr/>
          <p:nvPr/>
        </p:nvGraphicFramePr>
        <p:xfrm>
          <a:off x="2120760" y="2082960"/>
          <a:ext cx="5740560" cy="44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0760" y="2082960"/>
                    <a:ext cx="57405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6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of Chi-Square Test (1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7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5"/>
          <p:cNvSpPr/>
          <p:nvPr/>
        </p:nvSpPr>
        <p:spPr>
          <a:xfrm>
            <a:off x="311040" y="1409760"/>
            <a:ext cx="88329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n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xperiment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is an activity that results in one of several possibl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utcomes which are termed even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robability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of an event is alway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greater than or equal to zero and less than or equal to on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robabilities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f all the events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ncluded in an experiment must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um to on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events in an experiment ar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mutually exclusive if only one can occur at a tim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robabilities of mutually exclusive events sum to one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utcomes and Even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Text Box 5"/>
          <p:cNvSpPr/>
          <p:nvPr/>
        </p:nvSpPr>
        <p:spPr>
          <a:xfrm>
            <a:off x="2200320" y="6062760"/>
            <a:ext cx="620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14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he Theoretical Normal Distribution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0" name="Rectangle 8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of Chi-Square Test (2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1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902" name="Picture 7" descr="F:\POM\Chapter 11\AAFQRON0.jpg"/>
          <p:cNvPicPr/>
          <p:nvPr/>
        </p:nvPicPr>
        <p:blipFill>
          <a:blip r:embed="rId1"/>
          <a:stretch/>
        </p:blipFill>
        <p:spPr>
          <a:xfrm>
            <a:off x="343080" y="1674720"/>
            <a:ext cx="8229600" cy="3811680"/>
          </a:xfrm>
          <a:prstGeom prst="rect">
            <a:avLst/>
          </a:prstGeom>
          <a:ln w="0">
            <a:noFill/>
          </a:ln>
        </p:spPr>
      </p:pic>
      <p:sp>
        <p:nvSpPr>
          <p:cNvPr id="903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4" descr="tb11_02"/>
          <p:cNvPicPr/>
          <p:nvPr/>
        </p:nvPicPr>
        <p:blipFill>
          <a:blip r:embed="rId1"/>
          <a:stretch/>
        </p:blipFill>
        <p:spPr>
          <a:xfrm>
            <a:off x="330120" y="1295280"/>
            <a:ext cx="7658280" cy="4411800"/>
          </a:xfrm>
          <a:prstGeom prst="rect">
            <a:avLst/>
          </a:prstGeom>
          <a:ln w="0">
            <a:noFill/>
          </a:ln>
        </p:spPr>
      </p:pic>
      <p:sp>
        <p:nvSpPr>
          <p:cNvPr id="905" name="Text Box 6"/>
          <p:cNvSpPr/>
          <p:nvPr/>
        </p:nvSpPr>
        <p:spPr>
          <a:xfrm>
            <a:off x="865080" y="6143760"/>
            <a:ext cx="798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able 11.2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he Determination of the Theoretical Range Frequencies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6" name="Rectangle 8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of Chi-Square Test (3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7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8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of Chi-Square Test (4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0" name="Rectangle 9"/>
          <p:cNvSpPr/>
          <p:nvPr/>
        </p:nvSpPr>
        <p:spPr>
          <a:xfrm>
            <a:off x="270000" y="154476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mparing  theoretical frequencies with actual frequencie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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k-p-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(f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o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- f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t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/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ere:  f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o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observed frequenc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t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theoretical frequenc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k = the number of classes,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 = the number of estimated parameter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k-p-1 = degrees of freedo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2" descr="tb11_03"/>
          <p:cNvPicPr/>
          <p:nvPr/>
        </p:nvPicPr>
        <p:blipFill>
          <a:blip r:embed="rId1"/>
          <a:stretch/>
        </p:blipFill>
        <p:spPr>
          <a:xfrm>
            <a:off x="380880" y="1434960"/>
            <a:ext cx="8242560" cy="424656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3"/>
          <p:cNvSpPr/>
          <p:nvPr/>
        </p:nvSpPr>
        <p:spPr>
          <a:xfrm>
            <a:off x="1924200" y="6093000"/>
            <a:ext cx="51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able 11.3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Computation of </a:t>
            </a:r>
            <a:r>
              <a:rPr b="1" lang="en-US" sz="2000" spc="-1" strike="noStrike">
                <a:solidFill>
                  <a:srgbClr val="000514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000514"/>
                </a:solidFill>
                <a:latin typeface="Garamond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 Test Statistic</a:t>
            </a:r>
            <a:r>
              <a:rPr b="1" lang="en-US" sz="2000" spc="-1" strike="noStrike">
                <a:solidFill>
                  <a:srgbClr val="00051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of Chi-Square Test (5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6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7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8"/>
          <p:cNvSpPr/>
          <p:nvPr/>
        </p:nvSpPr>
        <p:spPr>
          <a:xfrm>
            <a:off x="243000" y="147636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k-p-1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(f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o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- f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t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/10 = 2.58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k - p -1 = 6 - 2 – 1 = 3 degrees of freedom,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ith level of significance (deg of confidence) of .05 (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.05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rom Table A.2,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 baseline="30000">
                <a:solidFill>
                  <a:srgbClr val="000514"/>
                </a:solidFill>
                <a:latin typeface="Garamond"/>
              </a:rPr>
              <a:t>2</a:t>
            </a:r>
            <a:r>
              <a:rPr b="1" lang="en-US" sz="2400" spc="-1" strike="noStrike" baseline="-25000">
                <a:solidFill>
                  <a:srgbClr val="000514"/>
                </a:solidFill>
                <a:latin typeface="Garamond"/>
              </a:rPr>
              <a:t>.05,3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7.815; because 7.815 &gt; 2.588,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ccept hypothesis that distribution is norma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9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he Normal Distrib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of Chi-Square Test (6 of 6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1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 Box 4"/>
          <p:cNvSpPr/>
          <p:nvPr/>
        </p:nvSpPr>
        <p:spPr>
          <a:xfrm>
            <a:off x="5273640" y="618804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1.1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3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tatistical Analysis with Excel (1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4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925" name="Picture 6" descr="F:\POM\Chapter 11\AAIPMNM0.jpg"/>
          <p:cNvPicPr/>
          <p:nvPr/>
        </p:nvPicPr>
        <p:blipFill>
          <a:blip r:embed="rId1"/>
          <a:stretch/>
        </p:blipFill>
        <p:spPr>
          <a:xfrm>
            <a:off x="431640" y="1305000"/>
            <a:ext cx="8229600" cy="4933800"/>
          </a:xfrm>
          <a:prstGeom prst="rect">
            <a:avLst/>
          </a:prstGeom>
          <a:ln w="0">
            <a:noFill/>
          </a:ln>
        </p:spPr>
      </p:pic>
      <p:sp>
        <p:nvSpPr>
          <p:cNvPr id="926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1030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tatistical Analysis with Excel (2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928" name="Picture 1034" descr=""/>
          <p:cNvPicPr/>
          <p:nvPr/>
        </p:nvPicPr>
        <p:blipFill>
          <a:blip r:embed="rId1"/>
          <a:stretch/>
        </p:blipFill>
        <p:spPr>
          <a:xfrm>
            <a:off x="495360" y="1276200"/>
            <a:ext cx="7505640" cy="4491360"/>
          </a:xfrm>
          <a:prstGeom prst="rect">
            <a:avLst/>
          </a:prstGeom>
          <a:ln w="0">
            <a:noFill/>
          </a:ln>
        </p:spPr>
      </p:pic>
      <p:sp>
        <p:nvSpPr>
          <p:cNvPr id="929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6102360" y="6127920"/>
            <a:ext cx="19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1.2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1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268200" y="1314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adcliff Chemical Company and Arsena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nnual number of accidents normally distributed with mean of 8.3 and standard deviation of 1.8 acciden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Garamond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What is the probability that the company will have fewer than five accidents next year? More than ten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Garamond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Garamond"/>
              <a:buAutoNum type="arabicPeriod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government will fine the company $200,000 if the number of accidents exceeds 12 in a one-year period. What average annual fine can the company expect?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3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at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4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5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sl_48"/>
          <p:cNvPicPr/>
          <p:nvPr/>
        </p:nvPicPr>
        <p:blipFill>
          <a:blip r:embed="rId1"/>
          <a:stretch/>
        </p:blipFill>
        <p:spPr>
          <a:xfrm>
            <a:off x="1128600" y="1916280"/>
            <a:ext cx="7294680" cy="3824280"/>
          </a:xfrm>
          <a:prstGeom prst="rect">
            <a:avLst/>
          </a:prstGeom>
          <a:ln w="0">
            <a:noFill/>
          </a:ln>
        </p:spPr>
      </p:pic>
      <p:sp>
        <p:nvSpPr>
          <p:cNvPr id="937" name="Text Box 5"/>
          <p:cNvSpPr/>
          <p:nvPr/>
        </p:nvSpPr>
        <p:spPr>
          <a:xfrm>
            <a:off x="2189160" y="55926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8" name="Rectangle 7"/>
          <p:cNvSpPr/>
          <p:nvPr/>
        </p:nvSpPr>
        <p:spPr>
          <a:xfrm>
            <a:off x="268200" y="131436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et up the Normal Distrib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9" name="Rectangle 8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0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 Box 1027"/>
          <p:cNvSpPr/>
          <p:nvPr/>
        </p:nvSpPr>
        <p:spPr>
          <a:xfrm>
            <a:off x="317520" y="1447920"/>
            <a:ext cx="85089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olve Part 1: P(x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5 accidents) and P(x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10 accidents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Z = (x -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/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= (5 - 8.3)/1.8 = -1.83.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rom Table A.1, Z = -1.83 corresponds to probability of .4664, and P(x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5) = .5000 - .4664 = .03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Z = (10 - 8.3)/1.8 = .94.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rom Table A.1, Z = .94 corresponds to probability of .3264 and P(x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10) = .5000 - .3264 = .173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3" name="Rectangle 1031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4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5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5"/>
          <p:cNvSpPr/>
          <p:nvPr/>
        </p:nvSpPr>
        <p:spPr>
          <a:xfrm>
            <a:off x="311040" y="1492200"/>
            <a:ext cx="8832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frequency distribution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an organization of numerical data about the events in an experime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list o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rresponding probabilities for each event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referred to as 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robability distribution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two or more events cannot occur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t the same time they are termed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mutually exclusi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set of events i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llectively exhaustive when it includes all the events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that can occur in an experime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istribution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 Box 2"/>
          <p:cNvSpPr/>
          <p:nvPr/>
        </p:nvSpPr>
        <p:spPr>
          <a:xfrm>
            <a:off x="317520" y="1719360"/>
            <a:ext cx="850896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olve Part 2: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x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12 accidents)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Z = 2.06, corresponding to probability of .4803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x </a:t>
            </a:r>
            <a:r>
              <a:rPr b="1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12)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.5000 - .4803 = .0197,  expected annual fin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= $200,000(.0197) = $3,94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7" name="Rectangle 3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8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9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951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5"/>
          <p:cNvSpPr/>
          <p:nvPr/>
        </p:nvSpPr>
        <p:spPr>
          <a:xfrm>
            <a:off x="255600" y="1547640"/>
            <a:ext cx="8629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tate University, 3000 students, management science grades for past four year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668" name="Object 2"/>
          <p:cNvGraphicFramePr/>
          <p:nvPr/>
        </p:nvGraphicFramePr>
        <p:xfrm>
          <a:off x="1028880" y="2565360"/>
          <a:ext cx="7340400" cy="28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2565360"/>
                    <a:ext cx="73404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Rectangle 6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Frequency Distribution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1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6"/>
          <p:cNvSpPr/>
          <p:nvPr/>
        </p:nvSpPr>
        <p:spPr>
          <a:xfrm>
            <a:off x="255600" y="1573200"/>
            <a:ext cx="8629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marginal probability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the probability of a single event occurring, denoted by P(A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or mutually exclusive events, the probability that one or the other of several events will occur is found by summing the individual probabilities of the event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(A or B) = P(A) + P(B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Venn diagram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s used to show mutually exclusive even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utually Exclusive Events &amp; Marginal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1034"/>
          <p:cNvSpPr/>
          <p:nvPr/>
        </p:nvSpPr>
        <p:spPr>
          <a:xfrm>
            <a:off x="1422360" y="1714680"/>
            <a:ext cx="6299280" cy="34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8" name="Picture 1028" descr="11-01"/>
          <p:cNvPicPr/>
          <p:nvPr/>
        </p:nvPicPr>
        <p:blipFill>
          <a:blip r:embed="rId1"/>
          <a:stretch/>
        </p:blipFill>
        <p:spPr>
          <a:xfrm>
            <a:off x="1509840" y="1803240"/>
            <a:ext cx="6124320" cy="328464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1029"/>
          <p:cNvSpPr/>
          <p:nvPr/>
        </p:nvSpPr>
        <p:spPr>
          <a:xfrm>
            <a:off x="1563840" y="5384880"/>
            <a:ext cx="652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1.1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Venn Diagram for Mutually Exclusive Eve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0" name="Rectangle 1032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undamentals of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utually Exclusive Events &amp; Marginal Probabilit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1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Line 7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Geoff</cp:lastModifiedBy>
  <cp:lastPrinted>2001-04-05T18:48:46Z</cp:lastPrinted>
  <dcterms:modified xsi:type="dcterms:W3CDTF">2009-04-29T21:37:27Z</dcterms:modified>
  <cp:revision>359</cp:revision>
  <dc:subject/>
  <dc:title>No Slide Title</dc:title>
</cp:coreProperties>
</file>