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wmf" ContentType="image/x-wmf"/>
  <Override PartName="/ppt/media/image24.jpeg" ContentType="image/jpeg"/>
  <Override PartName="/ppt/media/image23.jpeg" ContentType="image/jpeg"/>
  <Override PartName="/ppt/media/image5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56.wmf" ContentType="image/x-wmf"/>
  <Override PartName="/ppt/media/image22.jpeg" ContentType="image/jpeg"/>
  <Override PartName="/ppt/media/image39.png" ContentType="image/png"/>
  <Override PartName="/ppt/media/image15.wmf" ContentType="image/x-wmf"/>
  <Override PartName="/ppt/media/image14.wmf" ContentType="image/x-wmf"/>
  <Override PartName="/ppt/media/image58.jpeg" ContentType="image/jpeg"/>
  <Override PartName="/ppt/media/image1.png" ContentType="image/png"/>
  <Override PartName="/ppt/media/image29.wmf" ContentType="image/x-wmf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0.png" ContentType="image/png"/>
  <Override PartName="/ppt/media/image45.wmf" ContentType="image/x-wmf"/>
  <Override PartName="/ppt/media/image2.png" ContentType="image/png"/>
  <Override PartName="/ppt/media/image25.png" ContentType="image/png"/>
  <Override PartName="/ppt/media/image46.wmf" ContentType="image/x-wmf"/>
  <Override PartName="/ppt/media/image44.jpeg" ContentType="image/jpeg"/>
  <Override PartName="/ppt/media/image54.wmf" ContentType="image/x-wmf"/>
  <Override PartName="/ppt/media/image48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jpeg" ContentType="image/jpeg"/>
  <Override PartName="/ppt/media/image43.wmf" ContentType="image/x-wmf"/>
  <Override PartName="/ppt/media/image38.png" ContentType="image/png"/>
  <Override PartName="/ppt/media/image41.wmf" ContentType="image/x-wmf"/>
  <Override PartName="/ppt/media/image42.png" ContentType="image/png"/>
  <Override PartName="/ppt/media/image53.wmf" ContentType="image/x-wmf"/>
  <Override PartName="/ppt/media/image55.wmf" ContentType="image/x-wmf"/>
  <Override PartName="/ppt/media/image36.png" ContentType="image/png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11.png" ContentType="image/png"/>
  <Override PartName="/ppt/media/image6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8185-E677-4B79-ABED-472DFC3D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628-E13F-43B7-8E2B-56516AB7FD5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306-DBD6-41DD-B913-C1D4A0F1C3E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CAE-84DD-4EE3-9EA0-7E97031B8B2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4C4-47DF-48BE-B6E8-572F573232F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73E-AA9E-477F-97CE-C90CE8C1277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A663-AD89-400F-9ADB-A2E6C7BD694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C45-F9A2-428B-A9D8-54453625BAC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073-895D-4A6D-BA44-B4220CAF999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AA75-35C5-4CEC-B5D6-97B3FF56FAB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DF2-27F7-438B-B38C-DF4A3C097A4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A8DB-CB85-46A9-8F8D-3695E70F153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E60-8F04-4283-8D1F-AF493972812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8C0-8374-41B7-A010-9708792295D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BCF6-7527-4353-95D5-328FBC273F0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833A-A328-4CD3-A789-04D7434E27D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0892-1B83-4375-8DF3-52BC1B14ADA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CBF-B760-4C63-B633-ADE955D380A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FE1-5CFD-4898-8EB7-4DF7480B37D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F0C-B206-4B15-AB3E-F109038130C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8D6-5334-4471-9AF1-8CD2DD6A289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6F8-0C34-421F-B4B5-B26C8BBF2C4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FEA0-11B3-49DA-9B3C-75682C48766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C30F-CE22-4924-8159-06584EA5CE3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F42-620A-45A6-9606-B5DEB02BB25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423-52CD-4902-859C-14B10F85097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6EF-2D41-4FBE-913B-24DAC1C176C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75A-428C-406F-AC72-CEDD51BF618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74A-0B19-433F-904C-CC55C61A05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488-02E3-40BE-A6C7-6D0E9E5B5CB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814-EE01-4F71-A2BA-7E91798AB43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42A-0038-48A0-A804-83965DAB85C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AD9-ECCB-4CCA-8EF9-E70D51F532C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216B-FBD1-49F1-9C67-2696DD96970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A24-2844-44B1-96D3-685968C7631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143E-B2EE-412C-91A6-7CC4A669E6A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B7F-8EAD-4A12-A341-E5EB2AAB3C6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E03-09B4-4418-992A-66DC3973AE2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3B39-F0BC-424F-9146-034E4009CBD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5E4E-D2F0-43EE-B090-3A464CD8757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B4EE-0C6C-4CB2-839B-008541ABAAE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A113-49C3-4213-89BD-179957DE6FC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0D2D-3903-425F-B43B-CB35977266C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A2E-C1A3-4D84-A965-D0ACC0EB3CC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841-7790-4EED-9756-79E6E945121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E8F-95CD-4412-AE8D-BB87E542526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557-8EC7-4A32-841F-FDD50ED58D8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5B6-A083-4C94-A5DB-EB4375011B5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5519-29AD-4053-8015-70F4BEAD755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FF8D-4EF0-4817-9982-5289784D58F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DFA-BC36-4D4E-A9D7-23E46FE5298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2800-A87E-4D83-97F6-E3740179AA1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F3E-D33E-40DC-BCE2-B13E72D9951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C116-77A1-4A4C-BCE1-1849026F23B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846-022D-4BE8-8A3C-C8176F4F9B4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6EF4-1C97-4A34-B7E5-B29CD27D331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C8A-CC11-44C6-B30A-0BD6564EDE1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44B1-8577-4F7E-9472-F7579893905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998A-F792-419C-9A62-2A6F0C09B93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699-41E3-43B6-B1E5-C939887F4C8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240-BF07-49FA-B387-1538874DC65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32E-CEB9-4A35-9DA2-1A0CC578A39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6EA5-C4E0-4C72-ACB4-2B7E54E9C2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B91-43F7-45FF-B14B-37764D317C1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9E7-8EC3-4D65-B324-9EC96672593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A31-BC2C-4412-A515-9971455A0D5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B4A9-8436-4BB4-BD06-331FE9F2A92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214-708F-4399-9CE6-8BF6CF6865E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80A-A594-41BA-A7E1-24FB32CDA9C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C05-BBC9-476F-B9B6-BEB98BB4FF7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902-4118-49AC-8A4B-DC7B5231653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06B-D780-43F6-B6F0-34268B573FE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67F-997D-4EA7-8F0D-283F8C93405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18FA5941-8090-4771-A129-C743A4A25A4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DF003B75-2680-4D19-8B8A-63C4BE508E4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FB372AAB-A970-4A7F-AA2C-8F3DD869690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84E235AF-E11C-4938-9B76-3F9B680FEFD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5C86156E-6436-420D-8DB5-2C4E7B192D3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522D31CE-E661-46B4-8B13-E6C0A7CFEE5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305CE579-88C2-4EB8-917F-6FCD3AEF417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ACBE58D3-746D-4380-90F8-678DDC7A7B1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6180D06E-AAF6-4D59-94BD-BA4528CE297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A13048D3-CE07-42C5-A6A0-3DC3AED9F43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ADAF6AE9-24F5-4D43-A19D-7C1EA2BF1D5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D16F4BF8-9619-499D-AC15-4D61220B7DE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F69AD9D4-4EA0-474C-A8F5-7FE870EC3EC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1473120"/>
            <a:ext cx="914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48f"/>
                </a:solidFill>
                <a:latin typeface="Garamond"/>
              </a:rPr>
              <a:t>Inventory Management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6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6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4"/>
          <p:cNvSpPr/>
          <p:nvPr/>
        </p:nvSpPr>
        <p:spPr>
          <a:xfrm>
            <a:off x="270000" y="1370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continual record of inventory level is main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ever inventory decreases to a predetermined level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an  order is placed for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 amoun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replenish the sto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fixed amount is termed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conomic order quanti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whose magnitude is set at a level that minimizes the total inventory carrying, ordering, and shortage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ecause of continual monitoring, management is always aware of status of inventory level and critical parts, but system is relatively expensive to maintai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tinuous Inventory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on hand is counted at specific time intervals and an order placed that brings inventory up to a specifi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not monitored between counts and system is therefore less costly to track and keep account of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ults in less direct control by management and thus generally higher levels of inventory to guard against stockou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ystem requires a new order quantity each time an order is plac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d in smaller retail stores, drugstores, grocery stores and offic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iodic Inventory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4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conomic order quanti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or economic lot size, is the quantity ordered when inventory decreases to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mount is determined using the economic order quantity 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(EOQ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od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urpose of the EOQ model is to determine the optimal order size that will minimize total inventory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ree model versions to be discussed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model without instantaneous receip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309600" y="1463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formula for determining the optimal order size that minimizes the sum of carrying costs and ordering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implifying assumptions and restriction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mand is known with certainty and is relatively constant over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 shortages are allow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ead time for the receipt of order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rder quantity is received all at once and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stantaneousl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asic EOQ Model (1 of 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16-01"/>
          <p:cNvPicPr/>
          <p:nvPr/>
        </p:nvPicPr>
        <p:blipFill>
          <a:blip r:embed="rId1"/>
          <a:stretch/>
        </p:blipFill>
        <p:spPr>
          <a:xfrm>
            <a:off x="409680" y="1384200"/>
            <a:ext cx="8111880" cy="4454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1411200" y="6108840"/>
            <a:ext cx="476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Inventory Order Cycl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270000" y="14508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rying cost usually expressed on a per unit basis of time, traditionally one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carrying cost equals carrying cost per unit per year times average inventory level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rying cost per unit per year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verage inventory = Q/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carrying cost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Q/2.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arrying Cost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4" descr="16-04"/>
          <p:cNvPicPr/>
          <p:nvPr/>
        </p:nvPicPr>
        <p:blipFill>
          <a:blip r:embed="rId1"/>
          <a:stretch/>
        </p:blipFill>
        <p:spPr>
          <a:xfrm>
            <a:off x="351000" y="1409760"/>
            <a:ext cx="7434000" cy="443232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4657680" y="6013440"/>
            <a:ext cx="36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4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Average Inventory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arrying Cost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0" y="20574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spcBef>
                <a:spcPts val="112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231840" y="15908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annual ordering cost equals cost per order (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times number of orders per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umber of orders per year, with known and constant demand, D, is D/Q, where Q is the order size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ordering cost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/Q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nly variable is Q,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nd D are constant paramet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lative magnitude of the ordering cost is dependent on order size.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ing Cos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2119320" y="2374920"/>
          <a:ext cx="353232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2374920"/>
                    <a:ext cx="35323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Rectangle 7"/>
          <p:cNvSpPr/>
          <p:nvPr/>
        </p:nvSpPr>
        <p:spPr>
          <a:xfrm>
            <a:off x="297000" y="15778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annual inventory cost is sum of ordering and carrying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ventory Cost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16-05"/>
          <p:cNvPicPr/>
          <p:nvPr/>
        </p:nvPicPr>
        <p:blipFill>
          <a:blip r:embed="rId1"/>
          <a:stretch/>
        </p:blipFill>
        <p:spPr>
          <a:xfrm>
            <a:off x="406440" y="1371600"/>
            <a:ext cx="7823160" cy="45450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6"/>
          <p:cNvSpPr/>
          <p:nvPr/>
        </p:nvSpPr>
        <p:spPr>
          <a:xfrm>
            <a:off x="4635360" y="6054840"/>
            <a:ext cx="40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5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Cost Mode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ventory Cost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028"/>
          <p:cNvSpPr/>
          <p:nvPr/>
        </p:nvSpPr>
        <p:spPr>
          <a:xfrm>
            <a:off x="244440" y="10857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Basic EOQ Mode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with Non-Instantaneous Receip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with Shorta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Analysis with QM for Window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Analysis with Excel and Excel Q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Quantity Discou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ing Safety Stocks Using Service Lev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Quantity for a Periodic Inventory Syst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102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Topic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5"/>
          <p:cNvSpPr/>
          <p:nvPr/>
        </p:nvSpPr>
        <p:spPr>
          <a:xfrm>
            <a:off x="270000" y="112392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occurs where total cost curve is at minimum value and carrying cost equals ordering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is robust because Q is a square root and errors in the estimation of D,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nd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dampe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2779560" y="2382840"/>
          <a:ext cx="300996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2382840"/>
                    <a:ext cx="30099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d Minimum Total Cos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Object 2"/>
          <p:cNvGraphicFramePr/>
          <p:nvPr/>
        </p:nvGraphicFramePr>
        <p:xfrm>
          <a:off x="1768320" y="3473280"/>
          <a:ext cx="54104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473280"/>
                    <a:ext cx="54104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Rectangle 6"/>
          <p:cNvSpPr/>
          <p:nvPr/>
        </p:nvSpPr>
        <p:spPr>
          <a:xfrm>
            <a:off x="255600" y="10414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, Super Shag carpet sa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iven following data, determine number of orders to be made annually and time between orders given store is open every day except Sunday, Thanksgiving Day, and Christmas Da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2"/>
          <p:cNvGraphicFramePr/>
          <p:nvPr/>
        </p:nvGraphicFramePr>
        <p:xfrm>
          <a:off x="623880" y="1549440"/>
          <a:ext cx="7950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549440"/>
                    <a:ext cx="7950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Rectangle 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Object 2"/>
          <p:cNvGraphicFramePr/>
          <p:nvPr/>
        </p:nvGraphicFramePr>
        <p:xfrm>
          <a:off x="1160640" y="2446200"/>
          <a:ext cx="528300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446200"/>
                    <a:ext cx="528300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5"/>
          <p:cNvSpPr/>
          <p:nvPr/>
        </p:nvSpPr>
        <p:spPr>
          <a:xfrm>
            <a:off x="230040" y="1055520"/>
            <a:ext cx="86029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ny time period unit of analysis, EOQ is the sa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hag Carpet example on monthly basi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Over Tim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Object 2"/>
          <p:cNvGraphicFramePr/>
          <p:nvPr/>
        </p:nvGraphicFramePr>
        <p:xfrm>
          <a:off x="558720" y="1467000"/>
          <a:ext cx="763452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67000"/>
                    <a:ext cx="763452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Over Tim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n-instantaneous receipt model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assumption that orders are received all at once is relaxed. (Also known a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radual usag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duction lot siz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odel.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rder quantity  is received gradually over time and inventory is drawn on at the same time it is being replenish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Descrip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4" descr="16-06"/>
          <p:cNvPicPr/>
          <p:nvPr/>
        </p:nvPicPr>
        <p:blipFill>
          <a:blip r:embed="rId1"/>
          <a:stretch/>
        </p:blipFill>
        <p:spPr>
          <a:xfrm>
            <a:off x="438120" y="1473120"/>
            <a:ext cx="8121600" cy="448812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5"/>
          <p:cNvSpPr/>
          <p:nvPr/>
        </p:nvSpPr>
        <p:spPr>
          <a:xfrm>
            <a:off x="738360" y="6178680"/>
            <a:ext cx="79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6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Model with Non-Instantaneous Order Receip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Descrip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3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700200" y="1635120"/>
          <a:ext cx="6973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635120"/>
                    <a:ext cx="6973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72" name="Object 2"/>
          <p:cNvGraphicFramePr/>
          <p:nvPr/>
        </p:nvGraphicFramePr>
        <p:xfrm>
          <a:off x="871560" y="1954080"/>
          <a:ext cx="663084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1954080"/>
                    <a:ext cx="66308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7" name="Object 2"/>
          <p:cNvGraphicFramePr/>
          <p:nvPr/>
        </p:nvGraphicFramePr>
        <p:xfrm>
          <a:off x="749160" y="2197080"/>
          <a:ext cx="72662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197080"/>
                    <a:ext cx="72662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 Shag carpet manufacturing facilit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028"/>
          <p:cNvSpPr/>
          <p:nvPr/>
        </p:nvSpPr>
        <p:spPr>
          <a:xfrm>
            <a:off x="270000" y="1409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is a stock of items kept on hand  used to meet customer demand.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level of inventory is maintained that will meet anticipated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f demand not known with certainty, safety (buffer) stocks are kept on h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itional stocks are sometimes built up to meet seasonal or cyclical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arge amounts of inventory sometimes purchased to take advantage of discou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Rectangle 102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ole of Inventory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Object 2"/>
          <p:cNvGraphicFramePr/>
          <p:nvPr/>
        </p:nvGraphicFramePr>
        <p:xfrm>
          <a:off x="434880" y="1604880"/>
          <a:ext cx="825516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4880"/>
                    <a:ext cx="825516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p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84040" y="1355760"/>
            <a:ext cx="8602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the EOQ model with shortages, the assumption that shortages cannot exist is relax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umed that unmet demand can be backordered with all demand eventually satisfi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4" descr="16-07"/>
          <p:cNvPicPr/>
          <p:nvPr/>
        </p:nvPicPr>
        <p:blipFill>
          <a:blip r:embed="rId1"/>
          <a:stretch/>
        </p:blipFill>
        <p:spPr>
          <a:xfrm>
            <a:off x="347760" y="1447920"/>
            <a:ext cx="7893000" cy="44956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3083040" y="6154560"/>
            <a:ext cx="547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7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Model with Shortage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p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3"/>
          <p:cNvSpPr/>
          <p:nvPr/>
        </p:nvSpPr>
        <p:spPr>
          <a:xfrm>
            <a:off x="0" y="99072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98" name="Object 2"/>
          <p:cNvGraphicFramePr/>
          <p:nvPr/>
        </p:nvGraphicFramePr>
        <p:xfrm>
          <a:off x="295200" y="1463760"/>
          <a:ext cx="846288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463760"/>
                    <a:ext cx="846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3"/>
          <p:cNvSpPr/>
          <p:nvPr/>
        </p:nvSpPr>
        <p:spPr>
          <a:xfrm>
            <a:off x="0" y="99072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4" name="Picture 5" descr="16-08"/>
          <p:cNvPicPr/>
          <p:nvPr/>
        </p:nvPicPr>
        <p:blipFill>
          <a:blip r:embed="rId1"/>
          <a:stretch/>
        </p:blipFill>
        <p:spPr>
          <a:xfrm>
            <a:off x="307800" y="1384200"/>
            <a:ext cx="8099640" cy="471492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6"/>
          <p:cNvSpPr/>
          <p:nvPr/>
        </p:nvSpPr>
        <p:spPr>
          <a:xfrm>
            <a:off x="3543480" y="6172200"/>
            <a:ext cx="461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8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Cost Model with Shortages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Object 2"/>
          <p:cNvGraphicFramePr/>
          <p:nvPr/>
        </p:nvGraphicFramePr>
        <p:xfrm>
          <a:off x="835200" y="2232000"/>
          <a:ext cx="777384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232000"/>
                    <a:ext cx="77738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Rectangle 8"/>
          <p:cNvSpPr/>
          <p:nvPr/>
        </p:nvSpPr>
        <p:spPr>
          <a:xfrm>
            <a:off x="270000" y="10144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 allows shortages; shortage cost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s,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is $2/yard per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Object 2"/>
          <p:cNvGraphicFramePr/>
          <p:nvPr/>
        </p:nvGraphicFramePr>
        <p:xfrm>
          <a:off x="1328760" y="1571760"/>
          <a:ext cx="6161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71760"/>
                    <a:ext cx="6161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3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22" name="Object 2"/>
          <p:cNvGraphicFramePr/>
          <p:nvPr/>
        </p:nvGraphicFramePr>
        <p:xfrm>
          <a:off x="457200" y="1473120"/>
          <a:ext cx="815652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15652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3821760" y="6056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30" name="Picture 6" descr="F:\POM\Chapter16\AAFQRST0.jpg"/>
          <p:cNvPicPr/>
          <p:nvPr/>
        </p:nvPicPr>
        <p:blipFill>
          <a:blip r:embed="rId1"/>
          <a:stretch/>
        </p:blipFill>
        <p:spPr>
          <a:xfrm>
            <a:off x="457200" y="1606680"/>
            <a:ext cx="82296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4"/>
          <p:cNvSpPr/>
          <p:nvPr/>
        </p:nvSpPr>
        <p:spPr>
          <a:xfrm>
            <a:off x="5728320" y="61531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Excel and Excel QM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35" name="Picture 7" descr="F:\POM\Chapter16\AAIPNLT0.jpg"/>
          <p:cNvPicPr/>
          <p:nvPr/>
        </p:nvPicPr>
        <p:blipFill>
          <a:blip r:embed="rId1"/>
          <a:stretch/>
        </p:blipFill>
        <p:spPr>
          <a:xfrm>
            <a:off x="419040" y="1677960"/>
            <a:ext cx="82296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70000" y="1436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-process inventori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intained to provide independence between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w materials inventor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kept to avoid delays in case of supplier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ock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nished par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kept to meet customer demand in event of work stoppag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general inventory serves to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coupl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consecutive step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ole of Inventory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4"/>
          <p:cNvSpPr/>
          <p:nvPr/>
        </p:nvSpPr>
        <p:spPr>
          <a:xfrm>
            <a:off x="6303240" y="62532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3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Excel and Excel QM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0" name="Picture 6" descr="F:\POM\Chapter16\AAIPNLU0.jpg"/>
          <p:cNvPicPr/>
          <p:nvPr/>
        </p:nvPicPr>
        <p:blipFill>
          <a:blip r:embed="rId1"/>
          <a:stretch/>
        </p:blipFill>
        <p:spPr>
          <a:xfrm>
            <a:off x="343080" y="133992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Price discounts are often offered if a predetermined number of units is ordered or when ordering materials in high volume.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Basic EOQ model used with purchase price added: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here:  P = per unit price of the item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D = annual demand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Quantity discounts are evaluated under two different scenarios: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ith constant carrying costs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ith carrying costs as a percentage of purchase price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43" name="Object 3"/>
          <p:cNvGraphicFramePr/>
          <p:nvPr/>
        </p:nvGraphicFramePr>
        <p:xfrm>
          <a:off x="1617840" y="2629080"/>
          <a:ext cx="27684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7840" y="2629080"/>
                    <a:ext cx="27684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 Analysis Approach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270000" y="168264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is the same regardless of the discount pri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total cost with the optimal order size must be compared with any lower total cost with a discount price to determine which is the less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284040" y="1185840"/>
            <a:ext cx="8602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niversity bookstore: For following discount schedule offered by Comptek, should bookstore buy at the discount terms or order the basic EOQ order siz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optimal order size and total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53" name="Object 2"/>
          <p:cNvGraphicFramePr/>
          <p:nvPr/>
        </p:nvGraphicFramePr>
        <p:xfrm>
          <a:off x="4394160" y="2108160"/>
          <a:ext cx="3022560" cy="19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4160" y="2108160"/>
                    <a:ext cx="30225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5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56" name="Object 3"/>
          <p:cNvGraphicFramePr/>
          <p:nvPr/>
        </p:nvGraphicFramePr>
        <p:xfrm>
          <a:off x="933480" y="4573440"/>
          <a:ext cx="70232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4573440"/>
                    <a:ext cx="70232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270000" y="125892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total cost at eligible discount price ($1,100)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are with total cost of with order size of 90 and price of $90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ecause $194,105 &lt; $233,784, maximum discount price should be taken and 90 units orde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61" name="Object 2"/>
          <p:cNvGraphicFramePr/>
          <p:nvPr/>
        </p:nvGraphicFramePr>
        <p:xfrm>
          <a:off x="1419120" y="1809720"/>
          <a:ext cx="7150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809720"/>
                    <a:ext cx="7150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3"/>
          <p:cNvGraphicFramePr/>
          <p:nvPr/>
        </p:nvGraphicFramePr>
        <p:xfrm>
          <a:off x="1833480" y="4152960"/>
          <a:ext cx="641376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4152960"/>
                    <a:ext cx="641376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Rectangle 9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4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niversity Bookstore example, but a different optimal order size for each price discou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and total cost determined using basic EOQ model with no quantity discou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is cost then compared with various discount quantity order sizes to determine minimum cost ord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is must be compared with EOQ-determined order size for specific discount pri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ata: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$2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 = 200 computers per yea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270000" y="10605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optimum order size for purchase price without discount and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$21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new order siz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241200" y="1333440"/>
            <a:ext cx="792504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Quantity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  Price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   Carrying Cos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0 - 49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1,4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,400(.15) = $2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50 - 89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1,1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,100(.15) = 16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90 +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9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900(.15) = 13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75" name="Object 2"/>
          <p:cNvGraphicFramePr/>
          <p:nvPr/>
        </p:nvGraphicFramePr>
        <p:xfrm>
          <a:off x="2792520" y="3727440"/>
          <a:ext cx="4419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3727440"/>
                    <a:ext cx="4419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3432240" y="5627520"/>
          <a:ext cx="34923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2240" y="5627520"/>
                    <a:ext cx="3492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11"/>
          <p:cNvSpPr/>
          <p:nvPr/>
        </p:nvSpPr>
        <p:spPr>
          <a:xfrm>
            <a:off x="190440" y="1184400"/>
            <a:ext cx="85471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minimum total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are with cost, discount price of $900, order quantity of 9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computed as follow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ince this order size is less than 90 units 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t is not feasibl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us 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ptimal order size is 90 uni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961920" y="1717560"/>
          <a:ext cx="759456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717560"/>
                    <a:ext cx="75945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3"/>
          <p:cNvGraphicFramePr/>
          <p:nvPr/>
        </p:nvGraphicFramePr>
        <p:xfrm>
          <a:off x="1136520" y="3583080"/>
          <a:ext cx="641376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3583080"/>
                    <a:ext cx="64137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4"/>
          <p:cNvGraphicFramePr/>
          <p:nvPr/>
        </p:nvGraphicFramePr>
        <p:xfrm>
          <a:off x="2463840" y="5073480"/>
          <a:ext cx="349236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5073480"/>
                    <a:ext cx="3492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Rectangle 1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3"/>
          <p:cNvSpPr/>
          <p:nvPr/>
        </p:nvSpPr>
        <p:spPr>
          <a:xfrm>
            <a:off x="3748680" y="6029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92" name="Picture 4" descr="Exhibit16-4"/>
          <p:cNvPicPr/>
          <p:nvPr/>
        </p:nvPicPr>
        <p:blipFill>
          <a:blip r:embed="rId1"/>
          <a:srcRect l="0" t="18073" r="20300" b="4756"/>
          <a:stretch/>
        </p:blipFill>
        <p:spPr>
          <a:xfrm>
            <a:off x="542880" y="1460520"/>
            <a:ext cx="8029800" cy="43308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5"/>
          <p:cNvSpPr/>
          <p:nvPr/>
        </p:nvSpPr>
        <p:spPr>
          <a:xfrm>
            <a:off x="0" y="0"/>
            <a:ext cx="57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7" name="Text Box 7"/>
          <p:cNvSpPr/>
          <p:nvPr/>
        </p:nvSpPr>
        <p:spPr>
          <a:xfrm>
            <a:off x="5815800" y="61070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5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00" name="Picture 6" descr="F:\POM\Chapter16\AAIPNLV0.jpg"/>
          <p:cNvPicPr/>
          <p:nvPr/>
        </p:nvPicPr>
        <p:blipFill>
          <a:blip r:embed="rId1"/>
          <a:stretch/>
        </p:blipFill>
        <p:spPr>
          <a:xfrm>
            <a:off x="444600" y="1798560"/>
            <a:ext cx="8229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3"/>
          <p:cNvSpPr/>
          <p:nvPr/>
        </p:nvSpPr>
        <p:spPr>
          <a:xfrm>
            <a:off x="0" y="213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270000" y="1397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exists to meet the demand of custom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ustomers can b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tern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purchasers of products) 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tern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workers using material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nagement needs an accurate forecast of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 that are used internally to produce a final product are referred to a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pendent demand item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 that are final products demanded by an external customer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 demand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0" y="0"/>
            <a:ext cx="8915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 Deman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the inventory level at which a new order is plac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must be made while there is enough stock in place to cover demand during lead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mula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 = d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d = demand rate per time perio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 = lead tim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Carpet Discount store problem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 = dL = (10,000/311)(10) = 321.5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16-09"/>
          <p:cNvPicPr/>
          <p:nvPr/>
        </p:nvPicPr>
        <p:blipFill>
          <a:blip r:embed="rId1"/>
          <a:stretch/>
        </p:blipFill>
        <p:spPr>
          <a:xfrm>
            <a:off x="291960" y="1292400"/>
            <a:ext cx="8077320" cy="48034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5"/>
          <p:cNvSpPr/>
          <p:nvPr/>
        </p:nvSpPr>
        <p:spPr>
          <a:xfrm>
            <a:off x="2536920" y="6170760"/>
            <a:ext cx="54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9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Reorder Point and Lead Tim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4" descr="16-10"/>
          <p:cNvPicPr/>
          <p:nvPr/>
        </p:nvPicPr>
        <p:blipFill>
          <a:blip r:embed="rId1"/>
          <a:stretch/>
        </p:blipFill>
        <p:spPr>
          <a:xfrm>
            <a:off x="774720" y="2741760"/>
            <a:ext cx="6991200" cy="335412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6"/>
          <p:cNvSpPr/>
          <p:nvPr/>
        </p:nvSpPr>
        <p:spPr>
          <a:xfrm>
            <a:off x="1504800" y="6103800"/>
            <a:ext cx="65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0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nventory Model with Uncertain Demand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2" name="Rectangle 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Rectangle 11"/>
          <p:cNvSpPr/>
          <p:nvPr/>
        </p:nvSpPr>
        <p:spPr>
          <a:xfrm>
            <a:off x="270000" y="1243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level might be depleted at slower or faster rate during lead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 demand is uncertain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afety stock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dded as a hedge against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16-11"/>
          <p:cNvPicPr/>
          <p:nvPr/>
        </p:nvPicPr>
        <p:blipFill>
          <a:blip r:embed="rId1"/>
          <a:stretch/>
        </p:blipFill>
        <p:spPr>
          <a:xfrm>
            <a:off x="330120" y="1303200"/>
            <a:ext cx="8013960" cy="488664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1528920" y="6208560"/>
            <a:ext cx="67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1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nventory model with safety stock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termining Safety Stocks Using Service Lev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rvice level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probability that amount of inventory on hand is sufficient to meet demand during lead time (probability stockout will not occur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higher the probability inventory will be on hand, the more likely customer demand will be m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rvice level of 90% means there is a .90 probability that demand will be met during lead time and .10 probability of a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3"/>
          <p:cNvSpPr/>
          <p:nvPr/>
        </p:nvSpPr>
        <p:spPr>
          <a:xfrm>
            <a:off x="380880" y="1371600"/>
            <a:ext cx="8458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590400" y="1244520"/>
          <a:ext cx="66564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244520"/>
                    <a:ext cx="6656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6"/>
          <p:cNvSpPr/>
          <p:nvPr/>
        </p:nvSpPr>
        <p:spPr>
          <a:xfrm>
            <a:off x="1357200" y="6072120"/>
            <a:ext cx="64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Reorder Point for a Service Leve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398520" y="1397160"/>
            <a:ext cx="7678800" cy="4451040"/>
          </a:xfrm>
          <a:prstGeom prst="rect">
            <a:avLst/>
          </a:prstGeom>
          <a:ln w="0">
            <a:noFill/>
          </a:ln>
        </p:spPr>
      </p:pic>
      <p:sp>
        <p:nvSpPr>
          <p:cNvPr id="93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647640" y="2660760"/>
          <a:ext cx="775008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660760"/>
                    <a:ext cx="7750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Rectangle 6"/>
          <p:cNvSpPr/>
          <p:nvPr/>
        </p:nvSpPr>
        <p:spPr>
          <a:xfrm>
            <a:off x="243000" y="1146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 Super Shag carp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following data, determine reorder point and safety stock for service level of 95%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4"/>
          <p:cNvSpPr/>
          <p:nvPr/>
        </p:nvSpPr>
        <p:spPr>
          <a:xfrm>
            <a:off x="5685480" y="62006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termining Reorder Point with Exc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46" name="Picture 7" descr="F:\POM\Chapter16\AAIPNLW0.jpg"/>
          <p:cNvPicPr/>
          <p:nvPr/>
        </p:nvPicPr>
        <p:blipFill>
          <a:blip r:embed="rId1"/>
          <a:srcRect l="0" t="0" r="57100" b="0"/>
          <a:stretch/>
        </p:blipFill>
        <p:spPr>
          <a:xfrm>
            <a:off x="419040" y="1536840"/>
            <a:ext cx="72406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7" name="Object 2"/>
          <p:cNvGraphicFramePr/>
          <p:nvPr/>
        </p:nvGraphicFramePr>
        <p:xfrm>
          <a:off x="1028880" y="1930320"/>
          <a:ext cx="736596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930320"/>
                    <a:ext cx="73659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Lead Tim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0" name="Rectangle 1032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constant demand and variable lead tim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5"/>
          <p:cNvSpPr/>
          <p:nvPr/>
        </p:nvSpPr>
        <p:spPr>
          <a:xfrm>
            <a:off x="270000" y="1301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arrying costs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sts of holding items in storage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ry with level of inventory and sometimes with length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time hel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clude facility operating costs, record keeping, interest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igned on a per unit basis per time period, or a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centage of average inventory value (usuall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imated as 10% to 40%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3467160" y="1898640"/>
          <a:ext cx="439416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98640"/>
                    <a:ext cx="439416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Lead Time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pet Discount Sto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Object 2"/>
          <p:cNvGraphicFramePr/>
          <p:nvPr/>
        </p:nvGraphicFramePr>
        <p:xfrm>
          <a:off x="1447920" y="1936800"/>
          <a:ext cx="641340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36800"/>
                    <a:ext cx="64134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9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 both demand and lead time are variab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Variable Demand and Lead Tim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5" name="Object 2"/>
          <p:cNvGraphicFramePr/>
          <p:nvPr/>
        </p:nvGraphicFramePr>
        <p:xfrm>
          <a:off x="2387520" y="1822320"/>
          <a:ext cx="618660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822320"/>
                    <a:ext cx="618660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7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pet Discount Sto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Variable Demand and Lead Time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a Periodic Inventory Syst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eriodic, or fixed-time period inventory system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one in which time between orders is constant and the order size vari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endors make periodic visits, and stock of inventory is coun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 order is placed, if necessary, to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ring inventory level back up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some desir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t monitored between visi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t times, inventory can be exhausted prior to the visit, resulting in a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arger safety stocks are generally required for the periodic inventory syst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normally distributed variable daily demand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2260440" y="2063880"/>
          <a:ext cx="46483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063880"/>
                    <a:ext cx="46483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Variable Deman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1" name="Object 2"/>
          <p:cNvGraphicFramePr/>
          <p:nvPr/>
        </p:nvGraphicFramePr>
        <p:xfrm>
          <a:off x="2006640" y="2228760"/>
          <a:ext cx="51307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228760"/>
                    <a:ext cx="51307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Rectangle 6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rner Drug Store with periodic inventory syst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size to maintain 95% service level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Variable Demand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5918760" y="61149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7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the Fixed-Period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91" name="Picture 7" descr="F:\POM\Chapter16\AAIPNLX0.jpg"/>
          <p:cNvPicPr/>
          <p:nvPr/>
        </p:nvPicPr>
        <p:blipFill>
          <a:blip r:embed="rId1"/>
          <a:srcRect l="0" t="0" r="61575" b="0"/>
          <a:stretch/>
        </p:blipFill>
        <p:spPr>
          <a:xfrm>
            <a:off x="444600" y="1522440"/>
            <a:ext cx="57783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5"/>
          <p:cNvSpPr/>
          <p:nvPr/>
        </p:nvSpPr>
        <p:spPr>
          <a:xfrm>
            <a:off x="270000" y="1216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data below determin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quantity and total minimum inventory cos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ume shortage cost of $600 per unit per year, compute optimal order quantity  and minimum inventory cos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 (part a): Determine the Optimal Order Quantit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3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94" name="Object 2"/>
          <p:cNvGraphicFramePr/>
          <p:nvPr/>
        </p:nvGraphicFramePr>
        <p:xfrm>
          <a:off x="1130400" y="3740040"/>
          <a:ext cx="688320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3740040"/>
                    <a:ext cx="68832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1030"/>
          <p:cNvSpPr/>
          <p:nvPr/>
        </p:nvSpPr>
        <p:spPr>
          <a:xfrm>
            <a:off x="270000" y="14652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 (part b): Compute the EOQ with Shortag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99" name="Object 2"/>
          <p:cNvGraphicFramePr/>
          <p:nvPr/>
        </p:nvGraphicFramePr>
        <p:xfrm>
          <a:off x="1473120" y="1414440"/>
          <a:ext cx="60325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414440"/>
                    <a:ext cx="60325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1" name="Rectangle 1031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02" name="Object 3"/>
          <p:cNvGraphicFramePr/>
          <p:nvPr/>
        </p:nvGraphicFramePr>
        <p:xfrm>
          <a:off x="1628640" y="3843360"/>
          <a:ext cx="58309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3843360"/>
                    <a:ext cx="5830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02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07" name="Object 2"/>
          <p:cNvGraphicFramePr/>
          <p:nvPr/>
        </p:nvGraphicFramePr>
        <p:xfrm>
          <a:off x="933480" y="1717560"/>
          <a:ext cx="7278480" cy="34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717560"/>
                    <a:ext cx="72784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270000" y="1424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rdering cost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costs of replenishing stock of inventor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pressed as dollar amount per order, independent of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siz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ry with the number of orders mad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clude purchase orders, shipping, handling,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spection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1" name="Object 2"/>
          <p:cNvGraphicFramePr/>
          <p:nvPr/>
        </p:nvGraphicFramePr>
        <p:xfrm>
          <a:off x="2857680" y="3708360"/>
          <a:ext cx="42415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708360"/>
                    <a:ext cx="42415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3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Products Stor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4" name="Rectangle 103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lls monitors  with daily demand normally distributed with a mean of 1.6 monitors and standard deviation of 0.4 monitors. Lead time for delivery from supplier is 15 day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the reorder point to achieve a 98% service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 Identify paramet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102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Products Stor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8" name="Rectangle 1029"/>
          <p:cNvSpPr/>
          <p:nvPr/>
        </p:nvSpPr>
        <p:spPr>
          <a:xfrm>
            <a:off x="298440" y="16416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Solve for 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19" name="Object 2"/>
          <p:cNvGraphicFramePr/>
          <p:nvPr/>
        </p:nvGraphicFramePr>
        <p:xfrm>
          <a:off x="1689120" y="2584440"/>
          <a:ext cx="52466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2584440"/>
                    <a:ext cx="52466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1024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270000" y="14652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hortage (stockou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sts - Associated with insufficient inventor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ult in permanent loss of sales and profits for item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t on h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metimes penalties involved; if customer is internal,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ork delays could resul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 inventory control system controls the level of inventory by determ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how much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replenishment level) 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whe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to ord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asic types of systems -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-order quantity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eriodic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-tim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a continuous system, an order is placed for the same constant amount when inventory decreases to a specifi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a periodic system, an order is placed for a variable amount after a specified period of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Geoff</cp:lastModifiedBy>
  <cp:lastPrinted>2001-04-05T18:48:46Z</cp:lastPrinted>
  <dcterms:modified xsi:type="dcterms:W3CDTF">2009-04-29T23:04:37Z</dcterms:modified>
  <cp:revision>490</cp:revision>
  <dc:subject/>
  <dc:title>No Slide Title</dc:title>
</cp:coreProperties>
</file>