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wmf" ContentType="image/x-wmf"/>
  <Override PartName="/ppt/media/image24.jpeg" ContentType="image/jpeg"/>
  <Override PartName="/ppt/media/image23.jpeg" ContentType="image/jpeg"/>
  <Override PartName="/ppt/media/image52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56.wmf" ContentType="image/x-wmf"/>
  <Override PartName="/ppt/media/image22.jpeg" ContentType="image/jpeg"/>
  <Override PartName="/ppt/media/image39.png" ContentType="image/png"/>
  <Override PartName="/ppt/media/image15.wmf" ContentType="image/x-wmf"/>
  <Override PartName="/ppt/media/image14.wmf" ContentType="image/x-wmf"/>
  <Override PartName="/ppt/media/image58.jpeg" ContentType="image/jpeg"/>
  <Override PartName="/ppt/media/image1.png" ContentType="image/png"/>
  <Override PartName="/ppt/media/image29.wmf" ContentType="image/x-wmf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0.png" ContentType="image/png"/>
  <Override PartName="/ppt/media/image45.wmf" ContentType="image/x-wmf"/>
  <Override PartName="/ppt/media/image2.png" ContentType="image/png"/>
  <Override PartName="/ppt/media/image25.png" ContentType="image/png"/>
  <Override PartName="/ppt/media/image46.wmf" ContentType="image/x-wmf"/>
  <Override PartName="/ppt/media/image44.jpeg" ContentType="image/jpeg"/>
  <Override PartName="/ppt/media/image54.wmf" ContentType="image/x-wmf"/>
  <Override PartName="/ppt/media/image48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jpeg" ContentType="image/jpeg"/>
  <Override PartName="/ppt/media/image43.wmf" ContentType="image/x-wmf"/>
  <Override PartName="/ppt/media/image38.png" ContentType="image/png"/>
  <Override PartName="/ppt/media/image41.wmf" ContentType="image/x-wmf"/>
  <Override PartName="/ppt/media/image42.png" ContentType="image/png"/>
  <Override PartName="/ppt/media/image53.wmf" ContentType="image/x-wmf"/>
  <Override PartName="/ppt/media/image55.wmf" ContentType="image/x-wmf"/>
  <Override PartName="/ppt/media/image36.png" ContentType="image/png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11.png" ContentType="image/png"/>
  <Override PartName="/ppt/media/image6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C88-51CA-40AA-A74F-9CA94A340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095-BD46-44BD-B33D-8424D8372F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7B4-A630-4956-A4BB-168443D02AB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9DA7-8EE1-424B-811F-8776E501953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FE3C-2F48-41F2-A3B4-EDC6FF2EAB9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7D6-F201-4E15-B056-1BCD33729B8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AAC-41D0-4FE2-84B2-FA121459C5A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D98-8909-4957-86D8-7A95371BE1A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793C-6E47-4E2D-BBF5-D00048ECBE7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6BA-90DF-4AEE-A8E6-456408A704D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49A-1058-4307-B1AA-8B3A2C1BADA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07D-A305-4B5A-BB9C-E3A1FCFAF17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955-A2CF-4A0C-8F72-6A4B902A88F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2B0-5FFB-4F23-BAAC-9E1D78D93D6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F0E7-F87D-445E-8309-554A639153A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15F4-B984-454A-BA7A-8957EFB9CC0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F21-51E3-4087-A3CE-DA1B3131E38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3A3-D4D7-43A1-ADC4-99383029836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3F8-5098-413F-8B79-EE4FFC582C0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676-670A-47E4-A7EB-8BCA008AE9B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97B-CEBF-4E68-B9F5-5066400A0B6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CB1-B480-422B-A605-49F9800E453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3EA-80EC-4BCC-8DC0-833DC0AEA9E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69CF-BEB2-4A87-8EE8-B35592E6C52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AC5-DBCD-4ABA-924C-476E71F0B36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A19-6157-438E-BC9F-D675C385B6F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41F8-94FD-4AA1-8192-1FC67982CD6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76C-A2C4-4DBA-834D-F2C4D30B825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0449-717F-419A-8E62-8B0FF5CDFCF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3764-9983-40AD-BC1D-C9ECAD9097E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B85A-4EFF-4532-B788-165112A6B0C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E84-A5C4-4B1B-A8E4-DE66DA81B16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56B-90DF-4457-A14F-448BC46237E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2DE8-3879-4CE6-B983-CB162859299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E092-9386-4009-B56C-A406A5F44A9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E22-6AB8-4A32-8DB4-1C62CA5F7C3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F4B5-2F24-4F13-89C8-4FCB859D8C2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BEE-0CCA-43CF-A1D2-3A9B2EE317D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5242-9867-4B6B-80CA-0AE25238486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69D-197A-4E24-82AE-614BDDE6816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23B-C4F6-4451-A1A5-DA3FD61BEB3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C0DF-9B2E-4172-A067-B73B3CFECD3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AF6-6AF6-4570-999C-C7C498E913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03B-1E25-4DF1-BC39-B48BD987886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691-3007-4657-86B4-C0DF9E91C59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5B0E-C9F1-412D-A2AE-13BA9A79823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4E3-B8AD-4B8D-BB28-E1B9B497BC5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BA4-6818-465A-980F-A44D6B790C5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56D-CA35-43C3-82D5-7C157A48B6D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985-1213-40CC-A583-5F362B8A07B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7912-7AEF-44C2-B279-DBBD0DA94A8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684-D40F-4DF3-AF89-B6DC9B95C9A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0098-9CA6-4395-BE01-F30D39F14F2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02C-71B3-4371-8C76-41C693C5011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7A2-B6A7-4579-A2D3-5F5EC4E4F88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E12-BB05-4F11-83FC-D22C098D974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5A03-5DA8-48CA-B26F-4F3376FACD7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E8F-8C9E-4EC3-ADB2-728B7109397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BD5-7B81-4177-8B82-ECC0FE318C6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F7F-0010-417B-9958-0A7D33D5801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73B-DCCE-4A63-B90D-C6A891F4DD8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0A7-4295-43BD-90F1-76BE52C834A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028B-F9A5-4AE7-9296-E610EEC3CF6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CA8-9B78-4A06-9473-C95F2C103C4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72FD-C798-400C-A94F-ED3849C5F5C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91C-ED73-4FE9-A618-5E1CD42680C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6A1-EBFA-4656-A399-9FAB10F8F0A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E360-4E11-47EB-AE61-5B6D6294AAA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8847-E3D4-46E8-8B1A-04E793C6695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5FE-14FD-4D7E-8C7D-59F90F3E72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32B4-6BCE-4622-990D-F0782F494DE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EEE-C596-491E-A089-F6DA6B1DBC3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6BB3-B0AF-46AD-9436-7C694DCF600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1007265F-88CD-4E54-A178-F21EDCC80C6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8BC6BEBC-799D-4A98-90CD-19ABAFFACF5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C81AA56E-5E9E-4BA4-AE8F-90FB8D44365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56EA08EE-5A78-4F95-A482-62187368B89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9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523D5E75-F91F-4C2D-A4AA-3F62240F72C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24F1CC3E-D205-4512-8397-16A84BA71ED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EA4B2D19-23D9-46FE-8F5B-DFDFF5E2314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75D81F66-AE29-4574-A9F0-02F23DBC1C3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A396C71E-D047-4650-A6C1-C165DF35798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3BCC5A04-6B21-4B05-A94B-6D286A34644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5830C8A7-3757-441F-81A3-230E648FF47F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A284A165-BEF7-4949-A13C-2DF882C2F56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6-</a:t>
            </a:r>
            <a:fld id="{CEB610F8-B3BA-4426-862E-977D52574CF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itle 1"/>
          <p:cNvSpPr/>
          <p:nvPr/>
        </p:nvSpPr>
        <p:spPr>
          <a:xfrm>
            <a:off x="0" y="1473120"/>
            <a:ext cx="914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48f"/>
                </a:solidFill>
                <a:latin typeface="Garamond"/>
              </a:rPr>
              <a:t>Inventory Management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6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46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4"/>
          <p:cNvSpPr/>
          <p:nvPr/>
        </p:nvSpPr>
        <p:spPr>
          <a:xfrm>
            <a:off x="270000" y="1370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continual record of inventory level is main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ever inventory decreases to a predetermined level,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an  order is placed for 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 amoun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replenish the sto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fixed amount is termed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conomic order quanti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whose magnitude is set at a level that minimizes the total inventory carrying, ordering, and shortage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ecause of continual monitoring, management is always aware of status of inventory level and critical parts, but system is relatively expensive to maintai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ntinuous Inventory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on hand is counted at specific time intervals and an order placed that brings inventory up to a specifi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not monitored between counts and system is therefore less costly to track and keep account of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ults in less direct control by management and thus generally higher levels of inventory to guard against stockou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ystem requires a new order quantity each time an order is plac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d in smaller retail stores, drugstores, grocery stores and offic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iodic Inventory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4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conomic order quanti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or economic lot size, is the quantity ordered when inventory decreases to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mount is determined using the economic order quantity 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(EOQ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od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urpose of the EOQ model is to determine the optimal order size that will minimize total inventory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ree model versions to be discussed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model without instantaneous receip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309600" y="1463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formula for determining the optimal order size that minimizes the sum of carrying costs and ordering cos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implifying assumptions and restriction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mand is known with certainty and is relatively constant over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 shortages are allow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ead time for the receipt of order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rder quantity is received all at once and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stantaneousl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asic EOQ Model (1 of 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16-01"/>
          <p:cNvPicPr/>
          <p:nvPr/>
        </p:nvPicPr>
        <p:blipFill>
          <a:blip r:embed="rId1"/>
          <a:stretch/>
        </p:blipFill>
        <p:spPr>
          <a:xfrm>
            <a:off x="409680" y="1384200"/>
            <a:ext cx="8111880" cy="4454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1411200" y="6108840"/>
            <a:ext cx="476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Inventory Order Cycl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270000" y="14508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rying cost usually expressed on a per unit basis of time, traditionally one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457200" indent="-45720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carrying cost equals carrying cost per unit per year times average inventory level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rying cost per unit per year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verage inventory = Q/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carrying cost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Q/2.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arrying Cost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4" descr="16-04"/>
          <p:cNvPicPr/>
          <p:nvPr/>
        </p:nvPicPr>
        <p:blipFill>
          <a:blip r:embed="rId1"/>
          <a:stretch/>
        </p:blipFill>
        <p:spPr>
          <a:xfrm>
            <a:off x="351000" y="1409760"/>
            <a:ext cx="7434000" cy="443232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4657680" y="6013440"/>
            <a:ext cx="36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4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Average Inventory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arrying Cost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0" y="20574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spcBef>
                <a:spcPts val="1125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231840" y="15908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annual ordering cost equals cost per order (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) times number of orders per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umber of orders per year, with known and constant demand, D, is D/Q, where Q is the order size: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nual ordering cost =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/Q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nly variable is Q,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nd D are constant paramet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lative magnitude of the ordering cost is dependent on order size.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ing Cos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2119320" y="2374920"/>
          <a:ext cx="353232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2374920"/>
                    <a:ext cx="35323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Rectangle 7"/>
          <p:cNvSpPr/>
          <p:nvPr/>
        </p:nvSpPr>
        <p:spPr>
          <a:xfrm>
            <a:off x="297000" y="15778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tal annual inventory cost is sum of ordering and carrying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ventory Cost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16-05"/>
          <p:cNvPicPr/>
          <p:nvPr/>
        </p:nvPicPr>
        <p:blipFill>
          <a:blip r:embed="rId1"/>
          <a:stretch/>
        </p:blipFill>
        <p:spPr>
          <a:xfrm>
            <a:off x="406440" y="1371600"/>
            <a:ext cx="7823160" cy="45450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6"/>
          <p:cNvSpPr/>
          <p:nvPr/>
        </p:nvSpPr>
        <p:spPr>
          <a:xfrm>
            <a:off x="4635360" y="6054840"/>
            <a:ext cx="40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5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Cost Mode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Total Inventory Cost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028"/>
          <p:cNvSpPr/>
          <p:nvPr/>
        </p:nvSpPr>
        <p:spPr>
          <a:xfrm>
            <a:off x="244440" y="10857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conomic Order Quantity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Basic EOQ Mode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with Non-Instantaneous Receip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with Shortag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Analysis with QM for Window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Analysis with Excel and Excel Q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Quantity Discou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ing Safety Stocks Using Service Lev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Quantity for a Periodic Inventory System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102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 Topic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5"/>
          <p:cNvSpPr/>
          <p:nvPr/>
        </p:nvSpPr>
        <p:spPr>
          <a:xfrm>
            <a:off x="270000" y="112392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OQ occurs where total cost curve is at minimum value and carrying cost equals ordering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EOQ model is robust because Q is a square root and errors in the estimation of D,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nd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dampe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2779560" y="2382840"/>
          <a:ext cx="300996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2382840"/>
                    <a:ext cx="30099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d Minimum Total Cos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Object 2"/>
          <p:cNvGraphicFramePr/>
          <p:nvPr/>
        </p:nvGraphicFramePr>
        <p:xfrm>
          <a:off x="1768320" y="3473280"/>
          <a:ext cx="5410440" cy="27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473280"/>
                    <a:ext cx="54104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Rectangle 6"/>
          <p:cNvSpPr/>
          <p:nvPr/>
        </p:nvSpPr>
        <p:spPr>
          <a:xfrm>
            <a:off x="255600" y="10414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, Super Shag carpet sa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iven following data, determine number of orders to be made annually and time between orders given store is open every day except Sunday, Thanksgiving Day, and Christmas Da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2"/>
          <p:cNvGraphicFramePr/>
          <p:nvPr/>
        </p:nvGraphicFramePr>
        <p:xfrm>
          <a:off x="623880" y="1549440"/>
          <a:ext cx="7950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549440"/>
                    <a:ext cx="7950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Rectangle 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Object 2"/>
          <p:cNvGraphicFramePr/>
          <p:nvPr/>
        </p:nvGraphicFramePr>
        <p:xfrm>
          <a:off x="1160640" y="2446200"/>
          <a:ext cx="528300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446200"/>
                    <a:ext cx="528300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5"/>
          <p:cNvSpPr/>
          <p:nvPr/>
        </p:nvSpPr>
        <p:spPr>
          <a:xfrm>
            <a:off x="230040" y="1055520"/>
            <a:ext cx="86029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any time period unit of analysis, EOQ is the sa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hag Carpet example on monthly basi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Over Tim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Object 2"/>
          <p:cNvGraphicFramePr/>
          <p:nvPr/>
        </p:nvGraphicFramePr>
        <p:xfrm>
          <a:off x="558720" y="1467000"/>
          <a:ext cx="763452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67000"/>
                    <a:ext cx="763452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asic 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Over Tim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n-instantaneous receipt model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assumption that orders are received all at once is relaxed. (Also known a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gradual usag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roduction lot siz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odel.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rder quantity  is received gradually over time and inventory is drawn on at the same time it is being replenish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Descrip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4" descr="16-06"/>
          <p:cNvPicPr/>
          <p:nvPr/>
        </p:nvPicPr>
        <p:blipFill>
          <a:blip r:embed="rId1"/>
          <a:stretch/>
        </p:blipFill>
        <p:spPr>
          <a:xfrm>
            <a:off x="438120" y="1473120"/>
            <a:ext cx="8121600" cy="448812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5"/>
          <p:cNvSpPr/>
          <p:nvPr/>
        </p:nvSpPr>
        <p:spPr>
          <a:xfrm>
            <a:off x="738360" y="6178680"/>
            <a:ext cx="79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6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Model with Non-Instantaneous Order Receip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Descrip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3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700200" y="1635120"/>
          <a:ext cx="6973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635120"/>
                    <a:ext cx="6973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72" name="Object 2"/>
          <p:cNvGraphicFramePr/>
          <p:nvPr/>
        </p:nvGraphicFramePr>
        <p:xfrm>
          <a:off x="871560" y="1954080"/>
          <a:ext cx="663084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1954080"/>
                    <a:ext cx="66308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7" name="Object 2"/>
          <p:cNvGraphicFramePr/>
          <p:nvPr/>
        </p:nvGraphicFramePr>
        <p:xfrm>
          <a:off x="749160" y="2197080"/>
          <a:ext cx="72662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197080"/>
                    <a:ext cx="72662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 Shag carpet manufacturing facilit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028"/>
          <p:cNvSpPr/>
          <p:nvPr/>
        </p:nvSpPr>
        <p:spPr>
          <a:xfrm>
            <a:off x="270000" y="1409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is a stock of items kept on hand  used to meet customer demand.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level of inventory is maintained that will meet anticipated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f demand not known with certainty, safety (buffer) stocks are kept on h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itional stocks are sometimes built up to meet seasonal or cyclical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arge amounts of inventory sometimes purchased to take advantage of discou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Rectangle 102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ole of Inventory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Object 2"/>
          <p:cNvGraphicFramePr/>
          <p:nvPr/>
        </p:nvGraphicFramePr>
        <p:xfrm>
          <a:off x="434880" y="1604880"/>
          <a:ext cx="825516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4880"/>
                    <a:ext cx="825516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Non-Instantaneous Receip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p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84040" y="1355760"/>
            <a:ext cx="8602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the EOQ model with shortages, the assumption that shortages cannot exist is relax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umed that unmet demand can be backordered with all demand eventually satisfi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4" descr="16-07"/>
          <p:cNvPicPr/>
          <p:nvPr/>
        </p:nvPicPr>
        <p:blipFill>
          <a:blip r:embed="rId1"/>
          <a:stretch/>
        </p:blipFill>
        <p:spPr>
          <a:xfrm>
            <a:off x="347760" y="1447920"/>
            <a:ext cx="7893000" cy="44956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3083040" y="6154560"/>
            <a:ext cx="547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7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The EOQ Model with Shortages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p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5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3"/>
          <p:cNvSpPr/>
          <p:nvPr/>
        </p:nvSpPr>
        <p:spPr>
          <a:xfrm>
            <a:off x="0" y="99072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98" name="Object 2"/>
          <p:cNvGraphicFramePr/>
          <p:nvPr/>
        </p:nvGraphicFramePr>
        <p:xfrm>
          <a:off x="295200" y="1463760"/>
          <a:ext cx="846288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463760"/>
                    <a:ext cx="846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3"/>
          <p:cNvSpPr/>
          <p:nvPr/>
        </p:nvSpPr>
        <p:spPr>
          <a:xfrm>
            <a:off x="0" y="99072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4" name="Picture 5" descr="16-08"/>
          <p:cNvPicPr/>
          <p:nvPr/>
        </p:nvPicPr>
        <p:blipFill>
          <a:blip r:embed="rId1"/>
          <a:stretch/>
        </p:blipFill>
        <p:spPr>
          <a:xfrm>
            <a:off x="307800" y="1384200"/>
            <a:ext cx="8099640" cy="471492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6"/>
          <p:cNvSpPr/>
          <p:nvPr/>
        </p:nvSpPr>
        <p:spPr>
          <a:xfrm>
            <a:off x="3543480" y="6172200"/>
            <a:ext cx="461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8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Cost Model with Shortages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Object 2"/>
          <p:cNvGraphicFramePr/>
          <p:nvPr/>
        </p:nvGraphicFramePr>
        <p:xfrm>
          <a:off x="835200" y="2232000"/>
          <a:ext cx="777384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232000"/>
                    <a:ext cx="77738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Rectangle 8"/>
          <p:cNvSpPr/>
          <p:nvPr/>
        </p:nvSpPr>
        <p:spPr>
          <a:xfrm>
            <a:off x="270000" y="10144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 allows shortages; shortage cost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s,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is $2/yard per yea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Object 2"/>
          <p:cNvGraphicFramePr/>
          <p:nvPr/>
        </p:nvGraphicFramePr>
        <p:xfrm>
          <a:off x="1328760" y="1571760"/>
          <a:ext cx="6161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71760"/>
                    <a:ext cx="6161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3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22" name="Object 2"/>
          <p:cNvGraphicFramePr/>
          <p:nvPr/>
        </p:nvGraphicFramePr>
        <p:xfrm>
          <a:off x="457200" y="1473120"/>
          <a:ext cx="815652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15652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Model with Shortag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odel Formulation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3821760" y="6056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1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30" name="Picture 6" descr="F:\POM\Chapter16\AAFQRST0.jpg"/>
          <p:cNvPicPr/>
          <p:nvPr/>
        </p:nvPicPr>
        <p:blipFill>
          <a:blip r:embed="rId1"/>
          <a:stretch/>
        </p:blipFill>
        <p:spPr>
          <a:xfrm>
            <a:off x="457200" y="1606680"/>
            <a:ext cx="82296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4"/>
          <p:cNvSpPr/>
          <p:nvPr/>
        </p:nvSpPr>
        <p:spPr>
          <a:xfrm>
            <a:off x="5728320" y="61531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2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Excel and Excel QM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35" name="Picture 7" descr="F:\POM\Chapter16\AAIPNLT0.jpg"/>
          <p:cNvPicPr/>
          <p:nvPr/>
        </p:nvPicPr>
        <p:blipFill>
          <a:blip r:embed="rId1"/>
          <a:stretch/>
        </p:blipFill>
        <p:spPr>
          <a:xfrm>
            <a:off x="419040" y="1677960"/>
            <a:ext cx="82296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70000" y="1436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-process inventori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intained to provide independence between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aw materials inventor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kept to avoid delays in case of supplier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ock of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nished par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kept to meet customer demand in event of work stoppag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general inventory serves to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coupl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consecutive step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ole of Inventory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4"/>
          <p:cNvSpPr/>
          <p:nvPr/>
        </p:nvSpPr>
        <p:spPr>
          <a:xfrm>
            <a:off x="6303240" y="62532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3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OQ Analysis with Excel and Excel QM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0" name="Picture 6" descr="F:\POM\Chapter16\AAIPNLU0.jpg"/>
          <p:cNvPicPr/>
          <p:nvPr/>
        </p:nvPicPr>
        <p:blipFill>
          <a:blip r:embed="rId1"/>
          <a:stretch/>
        </p:blipFill>
        <p:spPr>
          <a:xfrm>
            <a:off x="343080" y="1339920"/>
            <a:ext cx="82296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Price discounts are often offered if a predetermined number of units is ordered or when ordering materials in high volume.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Basic EOQ model used with purchase price added: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here:  P = per unit price of the item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D = annual demand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Quantity discounts are evaluated under two different scenarios: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ith constant carrying costs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300" spc="-1" strike="noStrike">
                <a:solidFill>
                  <a:srgbClr val="000514"/>
                </a:solidFill>
                <a:latin typeface="Garamond"/>
              </a:rPr>
              <a:t>With carrying costs as a percentage of purchase price</a:t>
            </a:r>
            <a:endParaRPr b="0" lang="en-US" sz="23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43" name="Object 3"/>
          <p:cNvGraphicFramePr/>
          <p:nvPr/>
        </p:nvGraphicFramePr>
        <p:xfrm>
          <a:off x="1617840" y="2629080"/>
          <a:ext cx="27684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7840" y="2629080"/>
                    <a:ext cx="27684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 Analysis Approach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270000" y="168264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is the same regardless of the discount pri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total cost with the optimal order size must be compared with any lower total cost with a discount price to determine which is the less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284040" y="1185840"/>
            <a:ext cx="8602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niversity bookstore: For following discount schedule offered by Comptek, should bookstore buy at the discount terms or order the basic EOQ order size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optimal order size and total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53" name="Object 2"/>
          <p:cNvGraphicFramePr/>
          <p:nvPr/>
        </p:nvGraphicFramePr>
        <p:xfrm>
          <a:off x="4394160" y="2108160"/>
          <a:ext cx="3022560" cy="19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4160" y="2108160"/>
                    <a:ext cx="30225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5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56" name="Object 3"/>
          <p:cNvGraphicFramePr/>
          <p:nvPr/>
        </p:nvGraphicFramePr>
        <p:xfrm>
          <a:off x="933480" y="4573440"/>
          <a:ext cx="70232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4573440"/>
                    <a:ext cx="70232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270000" y="125892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total cost at eligible discount price ($1,100)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are with total cost of with order size of 90 and price of $90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Because $194,105 &lt; $233,784, maximum discount price should be taken and 90 units orde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61" name="Object 2"/>
          <p:cNvGraphicFramePr/>
          <p:nvPr/>
        </p:nvGraphicFramePr>
        <p:xfrm>
          <a:off x="1419120" y="1809720"/>
          <a:ext cx="71503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809720"/>
                    <a:ext cx="71503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3"/>
          <p:cNvGraphicFramePr/>
          <p:nvPr/>
        </p:nvGraphicFramePr>
        <p:xfrm>
          <a:off x="1833480" y="4152960"/>
          <a:ext cx="641376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4152960"/>
                    <a:ext cx="641376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Rectangle 9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onstant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6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4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niversity Bookstore example, but a different optimal order size for each price discou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and total cost determined using basic EOQ model with no quantity discou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is cost then compared with various discount quantity order sizes to determine minimum cost ord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is must be compared with EOQ-determined order size for specific discount pric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ata: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$2,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 = 200 computers per yea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270000" y="10605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optimum order size for purchase price without discount and C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c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$21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new order siz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241200" y="1333440"/>
            <a:ext cx="792504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Quantity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  Price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   Carrying Cos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0 - 49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1,4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,400(.15) = $2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50 - 89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1,1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,100(.15) = 16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857160"/>
                <a:tab algn="l" pos="1943280"/>
                <a:tab algn="l" pos="37720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90 +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900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900(.15) = 13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75" name="Object 2"/>
          <p:cNvGraphicFramePr/>
          <p:nvPr/>
        </p:nvGraphicFramePr>
        <p:xfrm>
          <a:off x="2792520" y="3727440"/>
          <a:ext cx="4419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3727440"/>
                    <a:ext cx="4419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3432240" y="5627520"/>
          <a:ext cx="34923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2240" y="5627520"/>
                    <a:ext cx="3492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11"/>
          <p:cNvSpPr/>
          <p:nvPr/>
        </p:nvSpPr>
        <p:spPr>
          <a:xfrm>
            <a:off x="190440" y="1184400"/>
            <a:ext cx="85471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ute minimum total cos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mpare with cost, discount price of $900, order quantity of 90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size computed as follow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ince this order size is less than 90 units 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t is not feasibl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us 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ptimal order size is 90 uni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961920" y="1717560"/>
          <a:ext cx="759456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717560"/>
                    <a:ext cx="75945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3"/>
          <p:cNvGraphicFramePr/>
          <p:nvPr/>
        </p:nvGraphicFramePr>
        <p:xfrm>
          <a:off x="1136520" y="3583080"/>
          <a:ext cx="641376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3583080"/>
                    <a:ext cx="64137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4"/>
          <p:cNvGraphicFramePr/>
          <p:nvPr/>
        </p:nvGraphicFramePr>
        <p:xfrm>
          <a:off x="2463840" y="5073480"/>
          <a:ext cx="349236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5073480"/>
                    <a:ext cx="3492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Rectangle 1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s with Carrying Cos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ercentage of Price Example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3"/>
          <p:cNvSpPr/>
          <p:nvPr/>
        </p:nvSpPr>
        <p:spPr>
          <a:xfrm>
            <a:off x="3748680" y="60292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4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92" name="Picture 4" descr="Exhibit16-4"/>
          <p:cNvPicPr/>
          <p:nvPr/>
        </p:nvPicPr>
        <p:blipFill>
          <a:blip r:embed="rId1"/>
          <a:srcRect l="0" t="18073" r="20300" b="4756"/>
          <a:stretch/>
        </p:blipFill>
        <p:spPr>
          <a:xfrm>
            <a:off x="542880" y="1460520"/>
            <a:ext cx="8029800" cy="43308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5"/>
          <p:cNvSpPr/>
          <p:nvPr/>
        </p:nvSpPr>
        <p:spPr>
          <a:xfrm>
            <a:off x="0" y="0"/>
            <a:ext cx="57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Quantity Discount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QM for Window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7" name="Text Box 7"/>
          <p:cNvSpPr/>
          <p:nvPr/>
        </p:nvSpPr>
        <p:spPr>
          <a:xfrm>
            <a:off x="5815800" y="61070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5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00" name="Picture 6" descr="F:\POM\Chapter16\AAIPNLV0.jpg"/>
          <p:cNvPicPr/>
          <p:nvPr/>
        </p:nvPicPr>
        <p:blipFill>
          <a:blip r:embed="rId1"/>
          <a:stretch/>
        </p:blipFill>
        <p:spPr>
          <a:xfrm>
            <a:off x="444600" y="1798560"/>
            <a:ext cx="8229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3"/>
          <p:cNvSpPr/>
          <p:nvPr/>
        </p:nvSpPr>
        <p:spPr>
          <a:xfrm>
            <a:off x="0" y="213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270000" y="1397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exists to meet the demand of custom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ustomers can b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extern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purchasers of products) 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ternal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(workers using material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nagement needs an accurate forecast of dem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 that are used internally to produce a final product are referred to as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dependent demand item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 that are final products demanded by an external customer ar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independent demand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tems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0" y="0"/>
            <a:ext cx="8915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 Deman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2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reorder poin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the inventory level at which a new order is plac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must be made while there is enough stock in place to cover demand during lead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mula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 = dL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d = demand rate per time perio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91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 = lead tim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Carpet Discount store problem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 = dL = (10,000/311)(10) = 321.5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16-09"/>
          <p:cNvPicPr/>
          <p:nvPr/>
        </p:nvPicPr>
        <p:blipFill>
          <a:blip r:embed="rId1"/>
          <a:stretch/>
        </p:blipFill>
        <p:spPr>
          <a:xfrm>
            <a:off x="291960" y="1292400"/>
            <a:ext cx="8077320" cy="480348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5"/>
          <p:cNvSpPr/>
          <p:nvPr/>
        </p:nvSpPr>
        <p:spPr>
          <a:xfrm>
            <a:off x="2536920" y="6170760"/>
            <a:ext cx="54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9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Reorder Point and Lead Time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8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4" descr="16-10"/>
          <p:cNvPicPr/>
          <p:nvPr/>
        </p:nvPicPr>
        <p:blipFill>
          <a:blip r:embed="rId1"/>
          <a:stretch/>
        </p:blipFill>
        <p:spPr>
          <a:xfrm>
            <a:off x="774720" y="2741760"/>
            <a:ext cx="6991200" cy="335412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6"/>
          <p:cNvSpPr/>
          <p:nvPr/>
        </p:nvSpPr>
        <p:spPr>
          <a:xfrm>
            <a:off x="1504800" y="6103800"/>
            <a:ext cx="65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0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nventory Model with Uncertain Demand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2" name="Rectangle 9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Rectangle 11"/>
          <p:cNvSpPr/>
          <p:nvPr/>
        </p:nvSpPr>
        <p:spPr>
          <a:xfrm>
            <a:off x="270000" y="1243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level might be depleted at slower or faster rate during lead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 demand is uncertain,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afety stock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dded as a hedge against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16-11"/>
          <p:cNvPicPr/>
          <p:nvPr/>
        </p:nvPicPr>
        <p:blipFill>
          <a:blip r:embed="rId1"/>
          <a:stretch/>
        </p:blipFill>
        <p:spPr>
          <a:xfrm>
            <a:off x="330120" y="1303200"/>
            <a:ext cx="8013960" cy="488664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1528920" y="6208560"/>
            <a:ext cx="67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1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nventory model with safety stock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termining Safety Stocks Using Service Lev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Rectangle 6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ervice level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probability that amount of inventory on hand is sufficient to meet demand during lead time (probability stockout will not occur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higher the probability inventory will be on hand, the more likely customer demand will be m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rvice level of 90% means there is a .90 probability that demand will be met during lead time and .10 probability of a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3"/>
          <p:cNvSpPr/>
          <p:nvPr/>
        </p:nvSpPr>
        <p:spPr>
          <a:xfrm>
            <a:off x="380880" y="1371600"/>
            <a:ext cx="8458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590400" y="1244520"/>
          <a:ext cx="66564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244520"/>
                    <a:ext cx="6656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6"/>
          <p:cNvSpPr/>
          <p:nvPr/>
        </p:nvSpPr>
        <p:spPr>
          <a:xfrm>
            <a:off x="1357200" y="6072120"/>
            <a:ext cx="64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6.12   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Reorder Point for a Service Leve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398520" y="1397160"/>
            <a:ext cx="7678800" cy="4451040"/>
          </a:xfrm>
          <a:prstGeom prst="rect">
            <a:avLst/>
          </a:prstGeom>
          <a:ln w="0">
            <a:noFill/>
          </a:ln>
        </p:spPr>
      </p:pic>
      <p:sp>
        <p:nvSpPr>
          <p:cNvPr id="93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647640" y="2660760"/>
          <a:ext cx="775008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660760"/>
                    <a:ext cx="7750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Rectangle 6"/>
          <p:cNvSpPr/>
          <p:nvPr/>
        </p:nvSpPr>
        <p:spPr>
          <a:xfrm>
            <a:off x="243000" y="1146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-75 Carpet Discount Store Super Shag carpe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following data, determine reorder point and safety stock for service level of 95%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Demand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4"/>
          <p:cNvSpPr/>
          <p:nvPr/>
        </p:nvSpPr>
        <p:spPr>
          <a:xfrm>
            <a:off x="5685480" y="62006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6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termining Reorder Point with Exc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4" name="Footer Placeholder 9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46" name="Picture 7" descr="F:\POM\Chapter16\AAIPNLW0.jpg"/>
          <p:cNvPicPr/>
          <p:nvPr/>
        </p:nvPicPr>
        <p:blipFill>
          <a:blip r:embed="rId1"/>
          <a:srcRect l="0" t="0" r="57100" b="0"/>
          <a:stretch/>
        </p:blipFill>
        <p:spPr>
          <a:xfrm>
            <a:off x="419040" y="1536840"/>
            <a:ext cx="72406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7" name="Object 2"/>
          <p:cNvGraphicFramePr/>
          <p:nvPr/>
        </p:nvGraphicFramePr>
        <p:xfrm>
          <a:off x="1028880" y="1930320"/>
          <a:ext cx="736596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930320"/>
                    <a:ext cx="73659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Lead Tim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0" name="Rectangle 1032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constant demand and variable lead tim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5"/>
          <p:cNvSpPr/>
          <p:nvPr/>
        </p:nvSpPr>
        <p:spPr>
          <a:xfrm>
            <a:off x="270000" y="13017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arrying costs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-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sts of holding items in storage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ry with level of inventory and sometimes with length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f time hel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clude facility operating costs, record keeping, interest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igned on a per unit basis per time period, or a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centage of average inventory value (usually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imated as 10% to 40%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3467160" y="1898640"/>
          <a:ext cx="439416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98640"/>
                    <a:ext cx="439416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 with Variable Lead Time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pet Discount Sto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7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Object 2"/>
          <p:cNvGraphicFramePr/>
          <p:nvPr/>
        </p:nvGraphicFramePr>
        <p:xfrm>
          <a:off x="1447920" y="1936800"/>
          <a:ext cx="641340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36800"/>
                    <a:ext cx="64134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9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n both demand and lead time are variabl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Variable Demand and Lead Tim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3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5" name="Object 2"/>
          <p:cNvGraphicFramePr/>
          <p:nvPr/>
        </p:nvGraphicFramePr>
        <p:xfrm>
          <a:off x="2387520" y="1822320"/>
          <a:ext cx="618660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822320"/>
                    <a:ext cx="618660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7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arpet Discount Sto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8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Reorder Po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Variable Demand and Lead Time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a Periodic Inventory Syste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eriodic, or fixed-time period inventory system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one in which time between orders is constant and the order size vari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endors make periodic visits, and stock of inventory is count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 order is placed, if necessary, to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bring inventory level back up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some desir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ventory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not monitored between visi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t times, inventory can be exhausted prior to the visit, resulting in a stockou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Larger safety stocks are generally required for the periodic inventory syst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4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normally distributed variable daily demand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76" name="Object 2"/>
          <p:cNvGraphicFramePr/>
          <p:nvPr/>
        </p:nvGraphicFramePr>
        <p:xfrm>
          <a:off x="2260440" y="2063880"/>
          <a:ext cx="46483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063880"/>
                    <a:ext cx="46483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Variable Demand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1" name="Object 2"/>
          <p:cNvGraphicFramePr/>
          <p:nvPr/>
        </p:nvGraphicFramePr>
        <p:xfrm>
          <a:off x="2006640" y="2228760"/>
          <a:ext cx="51307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228760"/>
                    <a:ext cx="51307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Rectangle 6"/>
          <p:cNvSpPr/>
          <p:nvPr/>
        </p:nvSpPr>
        <p:spPr>
          <a:xfrm>
            <a:off x="270000" y="120024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rner Drug Store with periodic inventory syst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size to maintain 95% service level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Variable Demand Example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5918760" y="61149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xhibit 16.7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rder Quantity for the Fixed-Period Mod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 with Exc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9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991" name="Picture 7" descr="F:\POM\Chapter16\AAIPNLX0.jpg"/>
          <p:cNvPicPr/>
          <p:nvPr/>
        </p:nvPicPr>
        <p:blipFill>
          <a:blip r:embed="rId1"/>
          <a:srcRect l="0" t="0" r="61575" b="0"/>
          <a:stretch/>
        </p:blipFill>
        <p:spPr>
          <a:xfrm>
            <a:off x="444600" y="1522440"/>
            <a:ext cx="57783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5"/>
          <p:cNvSpPr/>
          <p:nvPr/>
        </p:nvSpPr>
        <p:spPr>
          <a:xfrm>
            <a:off x="270000" y="121608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or data below determin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ptimal order quantity and total minimum inventory cos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sume shortage cost of $600 per unit per year, compute optimal order quantity  and minimum inventory cos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 (part a): Determine the Optimal Order Quantit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3" name="Rectangle 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94" name="Object 2"/>
          <p:cNvGraphicFramePr/>
          <p:nvPr/>
        </p:nvGraphicFramePr>
        <p:xfrm>
          <a:off x="1130400" y="3740040"/>
          <a:ext cx="688320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3740040"/>
                    <a:ext cx="68832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1030"/>
          <p:cNvSpPr/>
          <p:nvPr/>
        </p:nvSpPr>
        <p:spPr>
          <a:xfrm>
            <a:off x="270000" y="14652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 (part b): Compute the EOQ with Shortag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999" name="Object 2"/>
          <p:cNvGraphicFramePr/>
          <p:nvPr/>
        </p:nvGraphicFramePr>
        <p:xfrm>
          <a:off x="1473120" y="1414440"/>
          <a:ext cx="60325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414440"/>
                    <a:ext cx="60325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1" name="Rectangle 1031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02" name="Object 3"/>
          <p:cNvGraphicFramePr/>
          <p:nvPr/>
        </p:nvGraphicFramePr>
        <p:xfrm>
          <a:off x="1628640" y="3843360"/>
          <a:ext cx="58309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3843360"/>
                    <a:ext cx="5830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4" name="Footer Placeholder 8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028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ctronic Village Store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07" name="Object 2"/>
          <p:cNvGraphicFramePr/>
          <p:nvPr/>
        </p:nvGraphicFramePr>
        <p:xfrm>
          <a:off x="933480" y="1717560"/>
          <a:ext cx="7278480" cy="34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717560"/>
                    <a:ext cx="727848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0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270000" y="142416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rdering cost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costs of replenishing stock of inventor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pressed as dollar amount per order, independent of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rder siz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ry with the number of orders mad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clude purchase orders, shipping, handling,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spection, etc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1" name="Object 2"/>
          <p:cNvGraphicFramePr/>
          <p:nvPr/>
        </p:nvGraphicFramePr>
        <p:xfrm>
          <a:off x="2857680" y="3708360"/>
          <a:ext cx="42415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3708360"/>
                    <a:ext cx="42415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3" name="Rectangle 1030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Products Store (1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4" name="Rectangle 1033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ells monitors  with daily demand normally distributed with a mean of 1.6 monitors and standard deviation of 0.4 monitors. Lead time for delivery from supplier is 15 day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Determine the reorder point to achieve a 98% service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 Identify parameter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5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6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102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mputer Products Store (2 of 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18" name="Rectangle 1029"/>
          <p:cNvSpPr/>
          <p:nvPr/>
        </p:nvSpPr>
        <p:spPr>
          <a:xfrm>
            <a:off x="298440" y="16416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Solve for 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1019" name="Object 2"/>
          <p:cNvGraphicFramePr/>
          <p:nvPr/>
        </p:nvGraphicFramePr>
        <p:xfrm>
          <a:off x="1689120" y="2584440"/>
          <a:ext cx="52466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2584440"/>
                    <a:ext cx="52466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Footer Placeholder 7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22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1024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270000" y="146520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Shortage (stockout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costs - Associated with insufficient inventory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ult in permanent loss of sales and profits for item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not on han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metimes penalties involved; if customer is internal,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ork delays could resul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lements of Inventory Manag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sts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4"/>
          <p:cNvSpPr/>
          <p:nvPr/>
        </p:nvSpPr>
        <p:spPr>
          <a:xfrm>
            <a:off x="270000" y="118728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 inventory control system controls the level of inventory by determ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how much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replenishment level) 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whe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to order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asic types of systems -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continuou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-order quantity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)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nd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periodic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fixed-tim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a continuous system, an order is placed for the same constant amount when inventory decreases to a specified level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5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 a periodic system, an order is placed for a variable amount after a specified period of tim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ventory Control Syst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Line 8"/>
          <p:cNvSpPr/>
          <p:nvPr/>
        </p:nvSpPr>
        <p:spPr>
          <a:xfrm flipV="1">
            <a:off x="0" y="1049400"/>
            <a:ext cx="9144000" cy="1440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Geoff</cp:lastModifiedBy>
  <cp:lastPrinted>2001-04-05T18:48:46Z</cp:lastPrinted>
  <dcterms:modified xsi:type="dcterms:W3CDTF">2009-04-29T23:04:37Z</dcterms:modified>
  <cp:revision>490</cp:revision>
  <dc:subject/>
  <dc:title>No Slide Title</dc:title>
</cp:coreProperties>
</file>