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786B-C0D7-4E20-B805-2613D7F50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7D9B-ACB2-4985-803A-21EBAF442B05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5BE9-7522-45C1-8438-501DCE9FB5B7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689C-F020-4C43-A125-30042ABAA4E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3310-2643-4083-94B3-65DC39787DA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5600-3690-42E9-9465-9E90A4624B00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97CB-28F8-4DD2-AC4B-C29418A51C72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5BFC-9285-4919-A19A-CF9F8A2C6B08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F730-7ACB-4A53-B807-2E60E65CDCE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8962-7BD8-4CA4-9E4F-7AE1A69F8BD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850E-7A91-4D0B-BAD8-F657BB0CD60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6D92-5502-461D-8A37-64A7F2E9E74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E3E0-FC4C-42F4-BFEE-DD5717A3670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B85A-AFAE-4D54-93E5-60AE70A525BA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2855-E62E-407A-9BEA-18F9563CCF6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CE87-5C2B-4114-9D4E-672D5063E526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31F3-960D-406E-800A-0ABD4DAD25B3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D25D-634C-45FD-9FF3-F3BCAF449059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1939-860F-4C6C-9EEA-563A6E61B633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FEE0-9AAD-47B9-846C-D4369539A4D3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3F19-2A2D-43B7-848C-007AA28E877C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B60B-431C-4F4E-8208-1D220A166CBA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14D7-10D2-4005-A611-65086E07C72D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CAE2-0F76-44E2-A2D3-6F6B1C153FE8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838B-3AF0-4F9E-9AB8-F55EE14F614E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6FF2-BEF8-453B-89B0-7C9ACF6FFF1A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21BE-AC7E-4F81-8ED4-EF4817314D64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BB12-7AAC-4760-968E-4A5041EB355F}" type="slidenum"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-360" y="6381360"/>
            <a:ext cx="4343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76CEC20F-CC2D-4ACF-9503-3C034670C80B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4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4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4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50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553A60DA-BDD6-487B-9FEB-8E98F6B40181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0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49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99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E56E7A04-6BB6-4327-B8A4-1031FDCABE45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4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48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55520A35-B27E-4CE1-B8BC-EB63820C98D1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8" name="TextBox 24"/>
          <p:cNvSpPr/>
          <p:nvPr/>
        </p:nvSpPr>
        <p:spPr>
          <a:xfrm>
            <a:off x="8458200" y="6581880"/>
            <a:ext cx="685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1-</a:t>
            </a:r>
            <a:fld id="{E850CBB8-653E-418F-8E92-F26862322D9E}" type="slidenum">
              <a:rPr b="0" lang="en-US" sz="12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7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B3CFC947-7691-4D46-8B85-80F151B030F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3"/>
          </p:nvPr>
        </p:nvSpPr>
        <p:spPr>
          <a:xfrm>
            <a:off x="-360" y="638136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56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9F28779F-9E21-45C9-A3FD-7DA2B025AC08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4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03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05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3C0190FA-EC5D-4C1D-ABAB-B5758D6809DD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4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5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25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254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3548BC08-7C22-4243-8A58-5CB09EA642BE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2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0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03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56FBDC08-64F9-470A-AF54-E24A6AB01B94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7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352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18FF879D-D365-45D9-8F5D-630A44C75FEC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8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39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401" name="TextBox 15"/>
          <p:cNvSpPr/>
          <p:nvPr/>
        </p:nvSpPr>
        <p:spPr>
          <a:xfrm>
            <a:off x="8458200" y="6581880"/>
            <a:ext cx="68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1-</a:t>
            </a:r>
            <a:fld id="{D2B51BFC-D263-4CF8-9B1D-65E20DCF4CD0}" type="slidenum">
              <a:rPr b="0" lang="en-US" sz="1400" spc="-1" strike="noStrike">
                <a:solidFill>
                  <a:srgbClr val="000514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1" marL="727920" indent="-28008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2" marL="1119960" indent="-223920">
              <a:spcBef>
                <a:spcPts val="9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3" marL="1568160" indent="-2239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4" marL="2016000" indent="-223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5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lvl="6" marL="2016000" indent="-223920">
              <a:spcBef>
                <a:spcPts val="901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9"/>
          </p:nvPr>
        </p:nvSpPr>
        <p:spPr>
          <a:xfrm>
            <a:off x="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Management Science</a:t>
            </a:r>
            <a:endParaRPr b="1" lang="en-US" sz="6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0" y="4266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514"/>
                </a:solidFill>
                <a:latin typeface="Garamond"/>
              </a:rPr>
              <a:t>Chapter 1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598" name="Picture 9" descr=""/>
          <p:cNvPicPr/>
          <p:nvPr/>
        </p:nvPicPr>
        <p:blipFill>
          <a:blip r:embed="rId1"/>
          <a:stretch/>
        </p:blipFill>
        <p:spPr>
          <a:xfrm>
            <a:off x="358920" y="2708280"/>
            <a:ext cx="2890800" cy="385272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0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Model Component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Fixed Cost (c</a:t>
            </a:r>
            <a:r>
              <a:rPr b="1" lang="en-US" sz="2800" spc="-1" strike="noStrike" baseline="-25000">
                <a:solidFill>
                  <a:srgbClr val="000514"/>
                </a:solidFill>
                <a:latin typeface="Garamond"/>
              </a:rPr>
              <a:t>f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)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costs that remain constant regardless of number of units produced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Variable Cost (c</a:t>
            </a:r>
            <a:r>
              <a:rPr b="1" lang="en-US" sz="2800" spc="-1" strike="noStrike" baseline="-25000">
                <a:solidFill>
                  <a:srgbClr val="000514"/>
                </a:solidFill>
                <a:latin typeface="Garamond"/>
              </a:rPr>
              <a:t>v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)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unit production cost of produc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Volume (v)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– the number of units produced or sold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Total variable cost (vc</a:t>
            </a:r>
            <a:r>
              <a:rPr b="1" lang="en-US" sz="2800" spc="-1" strike="noStrike" baseline="-25000">
                <a:solidFill>
                  <a:srgbClr val="000514"/>
                </a:solidFill>
                <a:latin typeface="Garamond"/>
              </a:rPr>
              <a:t>v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)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function of volume (v) and unit variable cost.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6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br>
              <a:rPr sz="3600"/>
            </a:b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2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228600" y="1523880"/>
            <a:ext cx="8602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051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8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269640" y="1345680"/>
            <a:ext cx="8645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Model Component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Total Cost (TC)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total fixed cost plus total variable cos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Profit (Z)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difference between total revenue vp (p = unit price) and total cost, i.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1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br>
              <a:rPr sz="3600"/>
            </a:b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3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271440" y="1346040"/>
            <a:ext cx="8602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051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Object 2"/>
              <p:cNvSpPr txBox="1"/>
              <p:nvPr/>
            </p:nvSpPr>
            <p:spPr>
              <a:xfrm>
                <a:off x="3184560" y="2514600"/>
                <a:ext cx="2305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Object 3"/>
              <p:cNvSpPr txBox="1"/>
              <p:nvPr/>
            </p:nvSpPr>
            <p:spPr>
              <a:xfrm>
                <a:off x="3200400" y="4419720"/>
                <a:ext cx="2759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vp - c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- v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5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br>
              <a:rPr sz="3600"/>
            </a:b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4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48" name="Rectangle 8"/>
          <p:cNvSpPr/>
          <p:nvPr/>
        </p:nvSpPr>
        <p:spPr>
          <a:xfrm>
            <a:off x="270000" y="1523880"/>
            <a:ext cx="860256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Computing the Break-Even Point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break-even point is that volume at which total revenue equals total cost and profit is zero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9"/>
              <p:cNvSpPr txBox="1"/>
              <p:nvPr/>
            </p:nvSpPr>
            <p:spPr>
              <a:xfrm>
                <a:off x="4572000" y="3200400"/>
                <a:ext cx="2598840" cy="30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/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0" name="TextBox 7"/>
          <p:cNvSpPr/>
          <p:nvPr/>
        </p:nvSpPr>
        <p:spPr>
          <a:xfrm>
            <a:off x="380880" y="52578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break-even point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1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0" y="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5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898560" y="1752480"/>
            <a:ext cx="6721560" cy="61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Example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Western Clothing Company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xed Costs:      c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f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$100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Variable Costs:  c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Garamond"/>
              </a:rPr>
              <a:t>v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= $8 per pair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ice :                p = $23 per pair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Break-Even Point i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v  =  (10,000)/(23 -8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 666.7 pair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5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7" name="Rectangle 8"/>
          <p:cNvSpPr/>
          <p:nvPr/>
        </p:nvSpPr>
        <p:spPr>
          <a:xfrm>
            <a:off x="0" y="0"/>
            <a:ext cx="8877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 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6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2235240" y="354348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59" name="TextBox 12"/>
          <p:cNvSpPr/>
          <p:nvPr/>
        </p:nvSpPr>
        <p:spPr>
          <a:xfrm>
            <a:off x="7086600" y="5562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gure 1.2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0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61" name="Picture 9" descr="F:\POM\Chapter 1\AAFQRBL0.jpg"/>
          <p:cNvPicPr/>
          <p:nvPr/>
        </p:nvPicPr>
        <p:blipFill>
          <a:blip r:embed="rId1"/>
          <a:stretch/>
        </p:blipFill>
        <p:spPr>
          <a:xfrm>
            <a:off x="457200" y="1533600"/>
            <a:ext cx="82296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 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7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1727280" y="388620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5" name="TextBox 11"/>
          <p:cNvSpPr/>
          <p:nvPr/>
        </p:nvSpPr>
        <p:spPr>
          <a:xfrm>
            <a:off x="7086600" y="5562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gure 1.3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6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67" name="Picture 9" descr="F:\POM\Chapter 1\AAFQRBM0.jpg"/>
          <p:cNvPicPr/>
          <p:nvPr/>
        </p:nvPicPr>
        <p:blipFill>
          <a:blip r:embed="rId1"/>
          <a:stretch/>
        </p:blipFill>
        <p:spPr>
          <a:xfrm>
            <a:off x="457200" y="1533600"/>
            <a:ext cx="82296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1117440" y="1771560"/>
            <a:ext cx="7112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1625760" y="3086280"/>
            <a:ext cx="62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1" name="Rectangle 10"/>
          <p:cNvSpPr/>
          <p:nvPr/>
        </p:nvSpPr>
        <p:spPr>
          <a:xfrm>
            <a:off x="0" y="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8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2" name="TextBox 11"/>
          <p:cNvSpPr/>
          <p:nvPr/>
        </p:nvSpPr>
        <p:spPr>
          <a:xfrm>
            <a:off x="7086600" y="5562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gure 1.4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3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74" name="Picture 10" descr="F:\POM\Chapter 1\AAFQRBN0.jpg"/>
          <p:cNvPicPr/>
          <p:nvPr/>
        </p:nvPicPr>
        <p:blipFill>
          <a:blip r:embed="rId1"/>
          <a:stretch/>
        </p:blipFill>
        <p:spPr>
          <a:xfrm>
            <a:off x="457200" y="1533600"/>
            <a:ext cx="82296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6" name="Rectangle 11"/>
          <p:cNvSpPr/>
          <p:nvPr/>
        </p:nvSpPr>
        <p:spPr>
          <a:xfrm>
            <a:off x="304920" y="1397160"/>
            <a:ext cx="85341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2336760" y="331488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8" name="Rectangle 8"/>
          <p:cNvSpPr/>
          <p:nvPr/>
        </p:nvSpPr>
        <p:spPr>
          <a:xfrm>
            <a:off x="266760" y="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9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79" name="TextBox 10"/>
          <p:cNvSpPr/>
          <p:nvPr/>
        </p:nvSpPr>
        <p:spPr>
          <a:xfrm>
            <a:off x="7086600" y="5562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gure 1.5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0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1" name="Picture 10" descr="F:\POM\Chapter 1\AAFQRBO0.jpg"/>
          <p:cNvPicPr/>
          <p:nvPr/>
        </p:nvPicPr>
        <p:blipFill>
          <a:blip r:embed="rId1"/>
          <a:stretch/>
        </p:blipFill>
        <p:spPr>
          <a:xfrm>
            <a:off x="457200" y="1533600"/>
            <a:ext cx="82296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3" name="Rectangle 10"/>
          <p:cNvSpPr/>
          <p:nvPr/>
        </p:nvSpPr>
        <p:spPr>
          <a:xfrm>
            <a:off x="0" y="0"/>
            <a:ext cx="9144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: Excel Solution (1 of 5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3251160" y="4000680"/>
            <a:ext cx="386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6172200" y="6095880"/>
            <a:ext cx="229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1.1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6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87" name="Picture 10" descr="F:\POM\Chapter 1\AAIOQIW0.jpg"/>
          <p:cNvPicPr/>
          <p:nvPr/>
        </p:nvPicPr>
        <p:blipFill>
          <a:blip r:embed="rId1"/>
          <a:stretch/>
        </p:blipFill>
        <p:spPr>
          <a:xfrm>
            <a:off x="457200" y="2419200"/>
            <a:ext cx="822960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89" name="Rectangle 9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reak-Even Analysis: Excel QM Solution (2 of 5)</a:t>
            </a:r>
            <a:br>
              <a:rPr sz="3200"/>
            </a:b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0" name="Text Box 4"/>
          <p:cNvSpPr/>
          <p:nvPr/>
        </p:nvSpPr>
        <p:spPr>
          <a:xfrm>
            <a:off x="2895480" y="41911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1" name="Text Box 8"/>
          <p:cNvSpPr/>
          <p:nvPr/>
        </p:nvSpPr>
        <p:spPr>
          <a:xfrm>
            <a:off x="4724280" y="6248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1.2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2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3" name="Picture 2" descr="F:\POM\Chapter 1\AAIOQIX0.jpg"/>
          <p:cNvPicPr/>
          <p:nvPr/>
        </p:nvPicPr>
        <p:blipFill>
          <a:blip r:embed="rId1"/>
          <a:stretch/>
        </p:blipFill>
        <p:spPr>
          <a:xfrm>
            <a:off x="152280" y="1981080"/>
            <a:ext cx="885348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514"/>
                </a:solidFill>
                <a:latin typeface="Garamond"/>
              </a:rPr>
              <a:t>Chapter Topics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90680" y="160020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Management Science Approach to Problem Solv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odel Building:  Break-Even Analysi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omputer Solution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 Modeling Techniqu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Business Usage of Management Science Technique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2120" indent="-31212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 Models in Decision Support System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2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5" name="Rectangle 9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reak-Even Analysis: Excel QM Solution (3 of 5)</a:t>
            </a:r>
            <a:br>
              <a:rPr sz="3200"/>
            </a:b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2895480" y="41911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7" name="Text Box 8"/>
          <p:cNvSpPr/>
          <p:nvPr/>
        </p:nvSpPr>
        <p:spPr>
          <a:xfrm>
            <a:off x="4724280" y="6248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1.3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98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699" name="Picture 10" descr="F:\POM\Chapter 1\AAIOQIY0.jpg"/>
          <p:cNvPicPr/>
          <p:nvPr/>
        </p:nvPicPr>
        <p:blipFill>
          <a:blip r:embed="rId1"/>
          <a:stretch/>
        </p:blipFill>
        <p:spPr>
          <a:xfrm>
            <a:off x="228600" y="1523880"/>
            <a:ext cx="853452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1" name="Rectangle 11"/>
          <p:cNvSpPr/>
          <p:nvPr/>
        </p:nvSpPr>
        <p:spPr>
          <a:xfrm>
            <a:off x="343080" y="1447920"/>
            <a:ext cx="8458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0" y="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reak-Even Analysis: QM Solution (4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2235240" y="3943440"/>
            <a:ext cx="447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4" name="Text Box 7"/>
          <p:cNvSpPr/>
          <p:nvPr/>
        </p:nvSpPr>
        <p:spPr>
          <a:xfrm>
            <a:off x="3505320" y="6172200"/>
            <a:ext cx="213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1.4</a:t>
            </a:r>
            <a:endParaRPr b="0" lang="en-US" sz="2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5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06" name="Picture 9" descr="F:\POM\Chapter 1\AAFQRBS0.jpg"/>
          <p:cNvPicPr/>
          <p:nvPr/>
        </p:nvPicPr>
        <p:blipFill>
          <a:blip r:embed="rId1"/>
          <a:stretch/>
        </p:blipFill>
        <p:spPr>
          <a:xfrm>
            <a:off x="228600" y="1752480"/>
            <a:ext cx="822960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8" name="Text Box 4"/>
          <p:cNvSpPr/>
          <p:nvPr/>
        </p:nvSpPr>
        <p:spPr>
          <a:xfrm>
            <a:off x="2540160" y="4000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9" name="Rectangle 8"/>
          <p:cNvSpPr/>
          <p:nvPr/>
        </p:nvSpPr>
        <p:spPr>
          <a:xfrm>
            <a:off x="0" y="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Break-Even Analysis: QM Solution (5 of 5)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0" name="Text Box 9"/>
          <p:cNvSpPr/>
          <p:nvPr/>
        </p:nvSpPr>
        <p:spPr>
          <a:xfrm>
            <a:off x="4952880" y="6334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  <a:ea typeface="Times New Roman"/>
              </a:rPr>
              <a:t>Exhibit 1.5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1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12" name="Picture 10" descr="F:\POM\Chapter 1\AAFQRBT0.jpg"/>
          <p:cNvPicPr/>
          <p:nvPr/>
        </p:nvPicPr>
        <p:blipFill>
          <a:blip r:embed="rId1"/>
          <a:stretch/>
        </p:blipFill>
        <p:spPr>
          <a:xfrm>
            <a:off x="838080" y="1371600"/>
            <a:ext cx="70866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2641680" y="3828960"/>
            <a:ext cx="47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5" name="Text Box 8"/>
          <p:cNvSpPr/>
          <p:nvPr/>
        </p:nvSpPr>
        <p:spPr>
          <a:xfrm>
            <a:off x="2133720" y="6095880"/>
            <a:ext cx="556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.6    Modeling Techniques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6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Classification of Management Science Techniques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17" name="Rectangle 15"/>
          <p:cNvSpPr/>
          <p:nvPr/>
        </p:nvSpPr>
        <p:spPr>
          <a:xfrm>
            <a:off x="318960" y="4343400"/>
            <a:ext cx="7632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18" name="Picture 1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96080" cy="4681440"/>
          </a:xfrm>
          <a:prstGeom prst="rect">
            <a:avLst/>
          </a:prstGeom>
          <a:ln w="0">
            <a:noFill/>
          </a:ln>
        </p:spPr>
      </p:pic>
      <p:sp>
        <p:nvSpPr>
          <p:cNvPr id="719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270000" y="1219320"/>
            <a:ext cx="8602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Linear Mathematical Programming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clear objective; restrictions on resources and requirements; parameters known with certainty. (Chap 2-6, 9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Probabilistic Techniques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results contain uncertainty. (Chap 11-13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Network Techniques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model often formulated as diagram; deterministic or probabilistic. (Chap 7-8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Other Techniques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- variety of deterministic and probabilistic methods for specific types of problems including forecasting, inventory, simulation, multicriteria, etc. (Chap 10, 14-16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0" y="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Characteristics of Modeling Technique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3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Some application areas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Project Plann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Capital Budget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Inventory Analysis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Production Plann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- Scheduling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514"/>
                </a:solidFill>
                <a:latin typeface="Garamond"/>
              </a:rPr>
              <a:t>Interfaces</a:t>
            </a:r>
            <a:r>
              <a:rPr b="0" i="1" lang="en-US" sz="2800" spc="-1" strike="noStrike">
                <a:solidFill>
                  <a:srgbClr val="000514"/>
                </a:solidFill>
                <a:latin typeface="Garamond"/>
              </a:rPr>
              <a:t> -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Applications journal published by Institute for Operations Research and Management Sciences  (INFORMS)       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0" y="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usiness Use of Management Science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7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270000" y="1523520"/>
            <a:ext cx="8602560" cy="47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 </a:t>
            </a:r>
            <a:r>
              <a:rPr b="1" i="1" lang="en-US" sz="2400" spc="-1" strike="noStrike">
                <a:solidFill>
                  <a:srgbClr val="000514"/>
                </a:solidFill>
                <a:latin typeface="Garamond"/>
              </a:rPr>
              <a:t>decision support system 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s a computer-based system that helps decision makers address complex problems that cut across different parts of an organization and operation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514"/>
                </a:solidFill>
                <a:uFillTx/>
                <a:latin typeface="Garamond"/>
              </a:rPr>
              <a:t>Features of Decision Support System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Interactive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Use databases &amp; management science model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Address “what if” question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Perform sensitivity analysis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xamples include: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ERP – Enterprise Resource Planning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OLAP – Online Analytical Processing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Decision Support Systems (DSS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1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13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63200" cy="4800600"/>
          </a:xfrm>
          <a:prstGeom prst="rect">
            <a:avLst/>
          </a:prstGeom>
          <a:ln w="0">
            <a:noFill/>
          </a:ln>
        </p:spPr>
      </p:pic>
      <p:sp>
        <p:nvSpPr>
          <p:cNvPr id="733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4" name="Text Box 3"/>
          <p:cNvSpPr/>
          <p:nvPr/>
        </p:nvSpPr>
        <p:spPr>
          <a:xfrm>
            <a:off x="2641680" y="3828960"/>
            <a:ext cx="47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5" name="Text Box 5"/>
          <p:cNvSpPr/>
          <p:nvPr/>
        </p:nvSpPr>
        <p:spPr>
          <a:xfrm>
            <a:off x="6095880" y="51055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.7  A Decision Support System</a:t>
            </a: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6" name="Rectangle 10"/>
          <p:cNvSpPr/>
          <p:nvPr/>
        </p:nvSpPr>
        <p:spPr>
          <a:xfrm>
            <a:off x="318960" y="4343400"/>
            <a:ext cx="7632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0" y="0"/>
            <a:ext cx="8610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anagement Science Model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Decision Support Systems (2 of 2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38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740" name="Picture 5" descr="3287383400_217756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The Management Science Approach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 uses a scientific approach to solving management problem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t is used in a variety of organizations to solve many different types of problems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It encompasses a logical mathematical approach to problem solving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18960" indent="-318960">
              <a:spcBef>
                <a:spcPts val="1225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Management science, also known as operations research, quantitative methods, etc., involves a philosophy of problem solving in a logical manner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6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8" name="Rectangle 10"/>
          <p:cNvSpPr/>
          <p:nvPr/>
        </p:nvSpPr>
        <p:spPr>
          <a:xfrm>
            <a:off x="2438280" y="1295280"/>
            <a:ext cx="426744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6477120" y="5638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Figure 1.1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The Management Science Process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611" name="Picture 8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612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Steps in the Management Science Process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228600" y="1219320"/>
            <a:ext cx="8915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Observa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Identification of a problem that exists (or may occur soon) in a system or organiza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Definition of the Problem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problem must be clearly and consistently defined, showing its boundaries and interactions with the objectives of the organiza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Construc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Development of the functional mathematical relationships that describe the decision variables, objective function and constraints of the problem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Solu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Models solved using management science techniques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Model Implementation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- Actual use of the model or its solution.</a:t>
            </a: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6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270000" y="1314360"/>
            <a:ext cx="8602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Information and Data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Business firm makes and sells a  steel product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duct costs $5 to produc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duct sells for $2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duct requires 4 pounds of steel to make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Firm has 100 pounds of steel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Business Problem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Determine the number of units to produce to make the most profit, given the limited amount of steel available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1 of 3)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0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oter Placeholder 4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270000" y="1314360"/>
            <a:ext cx="860256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Variables: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X = # units to produce (decision variable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Z = total profit (in $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Model: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Z = $20X - $5X (objective function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4X = 100 lb of steel (resource constraint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Parameters: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$20, $5, 4 lbs, 100 lbs (known values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Formal Specification of Model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maximize Z = $20X - $5X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  <a:ea typeface="Arial"/>
              </a:rPr>
              <a:t>subject to 4X = 1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2 of 3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4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oter Placeholder 3"/>
          <p:cNvSpPr/>
          <p:nvPr/>
        </p:nvSpPr>
        <p:spPr>
          <a:xfrm>
            <a:off x="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-538920" y="0"/>
            <a:ext cx="919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Example of Model Construction (3 of 3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1752480" y="1523880"/>
            <a:ext cx="693432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olve the constraint equa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4x = 100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(4x)/4 = (100)/4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x = 25 units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Substitute this value into the profit func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Z  =   $20x - $5x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                  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  (20)(25) – (5)(25) 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=    $375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(Produce 25 units, to yield a profit of $375)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228600" y="12193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Model Solution: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29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oter Placeholder 5"/>
          <p:cNvSpPr/>
          <p:nvPr/>
        </p:nvSpPr>
        <p:spPr>
          <a:xfrm>
            <a:off x="0" y="638172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Garamond"/>
              </a:rPr>
              <a:t>Copyright © 2010 Pearson Education, Inc. Publishing as Prentice Hall</a:t>
            </a:r>
            <a:endParaRPr b="0" lang="en-US" sz="1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0" y="0"/>
            <a:ext cx="8610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Model Building: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Break-Even Analysis (1 of 9)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304920" y="1447920"/>
            <a:ext cx="8602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Used to determine the number of units of a product to sell or produce that  will equate total revenue with total cos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The volume at which total revenue equals total cost is called the break-even point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  <a:p>
            <a:pPr marL="343080" indent="-343080">
              <a:spcBef>
                <a:spcPts val="1225"/>
              </a:spcBef>
              <a:buClr>
                <a:srgbClr val="003399"/>
              </a:buClr>
              <a:buFont typeface="Garamond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Profit at break-even point is zero.</a:t>
            </a:r>
            <a:endParaRPr b="0" lang="en-US" sz="2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3" name="Line 9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63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7:58:54Z</dcterms:created>
  <dc:creator>Preferred Customer</dc:creator>
  <dc:description/>
  <dc:language>en-US</dc:language>
  <cp:lastModifiedBy>Nadia MS</cp:lastModifiedBy>
  <cp:lastPrinted>2001-04-05T18:48:46Z</cp:lastPrinted>
  <dcterms:modified xsi:type="dcterms:W3CDTF">2016-09-01T20:58:57Z</dcterms:modified>
  <cp:revision>155</cp:revision>
  <dc:subject/>
  <dc:title>No Slide Title</dc:title>
</cp:coreProperties>
</file>