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1CB-3FD1-4639-A634-E6E3E20D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0E34-12B5-4C2C-BD74-59C4FF9AEE8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48B-C7EA-40F8-87A5-734E3F5091F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A67-118B-4B1E-BB95-94AA1DF2011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C5CA-778D-41B8-A13C-6C5D6772F06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5FF9-A1D1-4096-AFE3-883FE45EFD3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D67-BA9B-4FFE-9830-EBA86BC2E28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E94-5650-4EE9-B18B-C97D21E5497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0C3-3E1D-42D4-BF35-018911398E1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B26-3C45-491E-BEF2-A37658A9078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7F9-703A-44A3-86C7-5CE64EEA779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973-F1F9-4DBD-B41A-DCEA7AD948C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3DB-7F56-4823-99BC-A7F5A3C7D15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522-11DE-40A1-9A7B-74C5291A71C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2C2-EF2C-4181-8C57-3D573991273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E1B-CECB-4E5C-9547-69DBF69044C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E69-4C5B-45F0-8544-13791C0964C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1A53-BE5A-46E3-9F84-C65120DAAD3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1F97-97D6-4D06-A156-14E61E9AB3A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10F-0718-4FD5-A3BD-E3B0070F918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FCB4-F060-43EC-84F7-B4CF0EFF636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8B75-DF55-42B7-AF8C-F31F019DD42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5375-A9C0-463F-938F-C6BCA1ADB2C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CC1F-CDA3-407F-90EE-4FC30513884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1CE-2635-4F1A-A4D9-55B4698AD1E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DA4-6E01-49FA-86E7-FA7842C3DFA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FA0-16C5-4AF6-B86B-234BF05A8D7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A3E-F356-494F-9AEE-D633D44D700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F289E04-7ED4-4CD9-9230-9D5675A119F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754439B3-158C-4E8A-BEB2-48B748A5A48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002F7E3E-5596-43EF-AAEE-6C3DB7DABA5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6738E29-BDB9-45FF-8230-B5908A31054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6DC9D5B6-1042-4293-89BA-A0BECF6119D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F23E95FE-7517-43F9-887A-9A2D4B37E94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6D6C91E-BF8A-48A4-930D-91ED51FBC05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D0725F9-37F8-4159-837F-F6E14C83676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212DA90B-798C-4826-8A53-662930F6E43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CD9697B4-41D6-41D9-AB3A-9DC67F85912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F9DAA4B9-8C9A-49D7-A741-6DFF463AC36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863C8EDC-1E24-4C29-999B-B5A009E8206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costs that remain constant regardless of number of units produced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ariable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unit production cost of produc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olume (v)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– the number of units produced or sold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function of volume (v) and unit variable cost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2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228600" y="152388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269640" y="1345680"/>
            <a:ext cx="864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Cost (TC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total fixed cost plus total variable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fit (Z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difference between total revenue vp (p = unit price) and total cost, i.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3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71440" y="134604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2"/>
              <p:cNvSpPr txBox="1"/>
              <p:nvPr/>
            </p:nvSpPr>
            <p:spPr>
              <a:xfrm>
                <a:off x="3184560" y="2514600"/>
                <a:ext cx="2305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3200400" y="4419720"/>
                <a:ext cx="2759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p - 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4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270000" y="1523880"/>
            <a:ext cx="860256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uting 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 that volume at which total revenue equals total cost and profit is zero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9"/>
              <p:cNvSpPr txBox="1"/>
              <p:nvPr/>
            </p:nvSpPr>
            <p:spPr>
              <a:xfrm>
                <a:off x="4572000" y="3200400"/>
                <a:ext cx="259884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TextBox 7"/>
          <p:cNvSpPr/>
          <p:nvPr/>
        </p:nvSpPr>
        <p:spPr>
          <a:xfrm>
            <a:off x="3808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5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98560" y="1752480"/>
            <a:ext cx="672156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s:    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100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riable Costs: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8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ice :                p = $23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  =  (10,000)/(23 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666.7 pai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0" y="0"/>
            <a:ext cx="887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6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235240" y="354348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9" descr="F:\POM\Chapter 1\AAFQRBL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7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727280" y="388620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7" name="Picture 9" descr="F:\POM\Chapter 1\AAFQRBM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117440" y="1771560"/>
            <a:ext cx="7112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625760" y="308628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8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4" name="Picture 10" descr="F:\POM\Chapter 1\AAFQRBN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304920" y="1397160"/>
            <a:ext cx="8534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336760" y="3314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9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1" name="Picture 10" descr="F:\POM\Chapter 1\AAFQRBO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Excel Solution (1 of 5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3251160" y="4000680"/>
            <a:ext cx="386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172200" y="6095880"/>
            <a:ext cx="229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7" name="Picture 10" descr="F:\POM\Chapter 1\AAIOQIW0.jpg"/>
          <p:cNvPicPr/>
          <p:nvPr/>
        </p:nvPicPr>
        <p:blipFill>
          <a:blip r:embed="rId1"/>
          <a:stretch/>
        </p:blipFill>
        <p:spPr>
          <a:xfrm>
            <a:off x="457200" y="2419200"/>
            <a:ext cx="82296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Excel QM Solution (2 of 5)</a:t>
            </a:r>
            <a:br>
              <a:rPr sz="3200"/>
            </a:b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289548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4724280" y="6248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3" name="Picture 2" descr="F:\POM\Chapter 1\AAIOQIX0.jpg"/>
          <p:cNvPicPr/>
          <p:nvPr/>
        </p:nvPicPr>
        <p:blipFill>
          <a:blip r:embed="rId1"/>
          <a:stretch/>
        </p:blipFill>
        <p:spPr>
          <a:xfrm>
            <a:off x="152280" y="1981080"/>
            <a:ext cx="8853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Excel QM Solution (3 of 5)</a:t>
            </a:r>
            <a:br>
              <a:rPr sz="3200"/>
            </a:b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289548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4724280" y="6248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10" descr="F:\POM\Chapter 1\AAIOQIY0.jpg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343080" y="1447920"/>
            <a:ext cx="8458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QM Solution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235240" y="3943440"/>
            <a:ext cx="447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505320" y="617220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9" descr="F:\POM\Chapter 1\AAFQRBS0.jpg"/>
          <p:cNvPicPr/>
          <p:nvPr/>
        </p:nvPicPr>
        <p:blipFill>
          <a:blip r:embed="rId1"/>
          <a:stretch/>
        </p:blipFill>
        <p:spPr>
          <a:xfrm>
            <a:off x="228600" y="1752480"/>
            <a:ext cx="82296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2540160" y="4000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0" y="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QM Solution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4952880" y="6334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10" descr="F:\POM\Chapter 1\AAFQRBT0.jpg"/>
          <p:cNvPicPr/>
          <p:nvPr/>
        </p:nvPicPr>
        <p:blipFill>
          <a:blip r:embed="rId1"/>
          <a:stretch/>
        </p:blipFill>
        <p:spPr>
          <a:xfrm>
            <a:off x="838080" y="1371600"/>
            <a:ext cx="7086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73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0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1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Nadia MS</cp:lastModifiedBy>
  <cp:lastPrinted>2001-04-05T18:48:46Z</cp:lastPrinted>
  <dcterms:modified xsi:type="dcterms:W3CDTF">2016-09-01T20:58:57Z</dcterms:modified>
  <cp:revision>155</cp:revision>
  <dc:subject/>
  <dc:title>No Slide Title</dc:title>
</cp:coreProperties>
</file>