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EC91-D73A-4518-A48F-C6BF28E6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C74-C559-48EF-9A1E-E2A5974169A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526B-EB03-489F-BA34-5DFFD581381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8C56-6479-43A7-91DF-75E87E37327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AD05-FB39-4C3C-B9C1-621B5EC03CC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339-E0EA-4BC3-AA2C-D3F2EAC494C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5141-832B-4D8A-9EAD-9790A8C3D95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8F9B-4694-497E-B076-B9E82F3EFAB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EB96-4B32-4F32-AF64-03D6F1459FA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09AB-2C19-430D-8C2F-CA1F0F298E7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B24E-0C37-4C2B-93AC-5E619E4EC27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369-E8B7-498B-815C-164B981FF79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F991-9F25-46A3-978A-1164D6D141C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467-150C-4952-AEFC-0B87299B6B4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53D-1C7A-4A2F-9127-C600B880FD6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298C-4521-4A77-B965-7BAB79E823F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238-2BFA-458F-9CD3-BD13EBF6C26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05AC-3E36-4541-92FC-69FECBA6821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0FCF-4173-4BCD-BB5C-6A1DDC3A576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685E-348A-4E42-872A-5204D1FE1C3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68B7-7468-4DE0-A0C7-A7DDD1774C9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214-ED7B-4149-9C5C-8AEE21CD98A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2823-8CA4-4C2E-BBE3-A2AB2AEF567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0F7-8171-4BA0-B272-4176F4A3964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7B3-BA30-4849-81AB-B56583B862F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871-7B7F-4E3D-9392-DDA64DABAB2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B840-6CDE-489A-882F-F40850C718C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B2F6-BBB9-4C7E-A140-1DCCDC7403C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0142-5AF4-4166-BB77-02160A1445F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343-168C-4304-95A6-DFA2130ED34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202D-0387-4E1A-B077-38F3107393D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A12-7428-4B33-8713-3FC3B52B618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F70D-ADD0-4889-A780-EA30D2A1C97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2492-1C32-4A14-AF1B-4027F0DA642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53D1-BB73-4EEB-9129-205DBF7C656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F397-3739-4B18-8880-031E8C0BFB7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D22A-F07F-4259-835A-DA75C840650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CD5-EE4C-4C12-A03C-70DB8E3EF00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455C-BEF9-483D-917E-33A9367FF81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BF6-C233-4027-BEF7-BF08CBB0990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4FE4-9A8F-47AC-BFF8-79DBF6AA44C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B732-FB7A-456A-BA60-97C3B6097C1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010-8E97-4388-9377-943F6EC6C75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DFB-9714-4D7B-9FA7-B6BD983BB61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EF5-62E2-4572-84E6-6500D3F66C0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5E79-2A6B-4596-80F6-72012238CF2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B40-EAB5-45BF-ADFC-EA631421D69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2152A670-C1EF-4775-A692-7B95CF1724E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DBD2F9D0-7031-4924-8238-15E497BA8FF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76E00F17-47AD-437C-97F1-CBE06BA8DDC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FD361F9C-4439-4D3C-A921-CA407E5202F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5D6AAC40-5BC6-4985-9D0A-58C009D536B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CC6BB3FC-3968-4835-AE6E-5D1863B8292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2DDB524E-51EF-4BCB-84C4-3CF82649AB8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2C0E921C-61C9-4E28-BE61-F4F6BED3A39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1F2BA311-A2E7-49F8-BC35-8995ABB736B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C47E871D-8545-427F-B484-94CB5A53BD5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25982DE5-2EBC-473E-9534-C93E147973E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A9A2CC20-2B2D-46E8-9338-957A95381C7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1030"/>
          <p:cNvSpPr/>
          <p:nvPr/>
        </p:nvSpPr>
        <p:spPr>
          <a:xfrm>
            <a:off x="270000" y="1676520"/>
            <a:ext cx="8602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oes not violat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ny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5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1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7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5) + 2(10) = 25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ay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(5) + 3(1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120 pound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1028"/>
          <p:cNvSpPr/>
          <p:nvPr/>
        </p:nvSpPr>
        <p:spPr>
          <a:xfrm>
            <a:off x="0" y="0"/>
            <a:ext cx="7734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263520" y="1676520"/>
            <a:ext cx="869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n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iolat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t least on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0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14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10) + 2(2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solution is limited to linear programming models conta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nly two 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an be used with three variables but only with great difficulty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methods provid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isualization of how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solution for a linear programming problem is ob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8458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Graphical Solution of LP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ordinate Ax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1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21938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0" name="Picture 5" descr="02-01"/>
          <p:cNvPicPr/>
          <p:nvPr/>
        </p:nvPicPr>
        <p:blipFill>
          <a:blip r:embed="rId1"/>
          <a:stretch/>
        </p:blipFill>
        <p:spPr>
          <a:xfrm>
            <a:off x="3695760" y="1298520"/>
            <a:ext cx="4856040" cy="47134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3"/>
          <p:cNvSpPr/>
          <p:nvPr/>
        </p:nvSpPr>
        <p:spPr>
          <a:xfrm>
            <a:off x="3124080" y="60958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ordinates for Graphical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653" name="Group 18"/>
          <p:cNvGrpSpPr/>
          <p:nvPr/>
        </p:nvGrpSpPr>
        <p:grpSpPr>
          <a:xfrm>
            <a:off x="1504800" y="5838840"/>
            <a:ext cx="1609920" cy="606240"/>
            <a:chOff x="1504800" y="5838840"/>
            <a:chExt cx="1609920" cy="606240"/>
          </a:xfrm>
        </p:grpSpPr>
        <p:sp>
          <p:nvSpPr>
            <p:cNvPr id="654" name="Line Callout 1 10"/>
            <p:cNvSpPr/>
            <p:nvPr/>
          </p:nvSpPr>
          <p:spPr>
            <a:xfrm flipH="1">
              <a:off x="1504800" y="5838840"/>
              <a:ext cx="1609920" cy="606240"/>
            </a:xfrm>
            <a:prstGeom prst="borderCallout1">
              <a:avLst>
                <a:gd name="adj1" fmla="val 18750"/>
                <a:gd name="adj2" fmla="val -8333"/>
                <a:gd name="adj3" fmla="val -57342"/>
                <a:gd name="adj4" fmla="val -98564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5" name="TextBox 11"/>
            <p:cNvSpPr/>
            <p:nvPr/>
          </p:nvSpPr>
          <p:spPr>
            <a:xfrm>
              <a:off x="1504800" y="5969880"/>
              <a:ext cx="16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bowl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336240" y="2004840"/>
            <a:ext cx="1609920" cy="606600"/>
            <a:chOff x="336240" y="2004840"/>
            <a:chExt cx="1609920" cy="606600"/>
          </a:xfrm>
        </p:grpSpPr>
        <p:sp>
          <p:nvSpPr>
            <p:cNvPr id="657" name="Line Callout 1 15"/>
            <p:cNvSpPr/>
            <p:nvPr/>
          </p:nvSpPr>
          <p:spPr>
            <a:xfrm flipH="1">
              <a:off x="335880" y="2004840"/>
              <a:ext cx="1609560" cy="606600"/>
            </a:xfrm>
            <a:prstGeom prst="borderCallout1">
              <a:avLst>
                <a:gd name="adj1" fmla="val 18750"/>
                <a:gd name="adj2" fmla="val -8333"/>
                <a:gd name="adj3" fmla="val -49314"/>
                <a:gd name="adj4" fmla="val -134828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8" name="TextBox 16"/>
            <p:cNvSpPr/>
            <p:nvPr/>
          </p:nvSpPr>
          <p:spPr>
            <a:xfrm>
              <a:off x="336600" y="2114280"/>
              <a:ext cx="16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mug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65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2" name="Picture 4" descr="02-02"/>
          <p:cNvPicPr/>
          <p:nvPr/>
        </p:nvPicPr>
        <p:blipFill>
          <a:blip r:embed="rId1"/>
          <a:stretch/>
        </p:blipFill>
        <p:spPr>
          <a:xfrm>
            <a:off x="3841920" y="1201680"/>
            <a:ext cx="5022720" cy="46101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8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2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3586320" y="598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3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Labor Constra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3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4267080" y="6095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Labor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4" descr="02-03"/>
          <p:cNvPicPr/>
          <p:nvPr/>
        </p:nvPicPr>
        <p:blipFill>
          <a:blip r:embed="rId1"/>
          <a:stretch/>
        </p:blipFill>
        <p:spPr>
          <a:xfrm>
            <a:off x="3768840" y="1274760"/>
            <a:ext cx="5178240" cy="48862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y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4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7" name="Picture 4" descr="02-04"/>
          <p:cNvPicPr/>
          <p:nvPr/>
        </p:nvPicPr>
        <p:blipFill>
          <a:blip r:embed="rId1"/>
          <a:stretch/>
        </p:blipFill>
        <p:spPr>
          <a:xfrm>
            <a:off x="3805200" y="1238400"/>
            <a:ext cx="5216400" cy="49226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572000" y="6095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lay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oth Constrai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5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4" descr="02-05"/>
          <p:cNvPicPr/>
          <p:nvPr/>
        </p:nvPicPr>
        <p:blipFill>
          <a:blip r:embed="rId1"/>
          <a:stretch/>
        </p:blipFill>
        <p:spPr>
          <a:xfrm>
            <a:off x="3768840" y="1274760"/>
            <a:ext cx="5184720" cy="48927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0"/>
          <p:cNvSpPr/>
          <p:nvPr/>
        </p:nvSpPr>
        <p:spPr>
          <a:xfrm>
            <a:off x="3330720" y="609588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6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easible Solution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6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1" name="Picture 4" descr="02-06"/>
          <p:cNvPicPr/>
          <p:nvPr/>
        </p:nvPicPr>
        <p:blipFill>
          <a:blip r:embed="rId1"/>
          <a:stretch/>
        </p:blipFill>
        <p:spPr>
          <a:xfrm>
            <a:off x="3805200" y="1274760"/>
            <a:ext cx="5172120" cy="48132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0"/>
          <p:cNvSpPr/>
          <p:nvPr/>
        </p:nvSpPr>
        <p:spPr>
          <a:xfrm>
            <a:off x="4097160" y="6130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7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Solution = $800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7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8" name="Picture 4" descr="02-07"/>
          <p:cNvPicPr/>
          <p:nvPr/>
        </p:nvPicPr>
        <p:blipFill>
          <a:blip r:embed="rId1"/>
          <a:stretch/>
        </p:blipFill>
        <p:spPr>
          <a:xfrm>
            <a:off x="3914640" y="1292400"/>
            <a:ext cx="5081760" cy="479556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10"/>
          <p:cNvSpPr/>
          <p:nvPr/>
        </p:nvSpPr>
        <p:spPr>
          <a:xfrm>
            <a:off x="2819520" y="60944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8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bjection Function Line for Z = $8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7581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541440" y="1600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Formul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ax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 Solution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in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rregular Type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lternative Objective Function Solution Lin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Graphical Solution of Maximization Model (8 of 1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4" descr="02-08"/>
          <p:cNvPicPr/>
          <p:nvPr/>
        </p:nvPicPr>
        <p:blipFill>
          <a:blip r:embed="rId1"/>
          <a:stretch/>
        </p:blipFill>
        <p:spPr>
          <a:xfrm>
            <a:off x="3878280" y="1295280"/>
            <a:ext cx="5118120" cy="48294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0"/>
          <p:cNvSpPr/>
          <p:nvPr/>
        </p:nvSpPr>
        <p:spPr>
          <a:xfrm>
            <a:off x="29718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Alternative Objective Function Lin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9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2" name="Picture 4" descr="02-09"/>
          <p:cNvPicPr/>
          <p:nvPr/>
        </p:nvPicPr>
        <p:blipFill>
          <a:blip r:embed="rId1"/>
          <a:stretch/>
        </p:blipFill>
        <p:spPr>
          <a:xfrm>
            <a:off x="3878280" y="1347840"/>
            <a:ext cx="5046480" cy="4833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0"/>
          <p:cNvSpPr/>
          <p:nvPr/>
        </p:nvSpPr>
        <p:spPr>
          <a:xfrm>
            <a:off x="2271600" y="6094440"/>
            <a:ext cx="58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0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dentification of Optimal Solution Poi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Coordinate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0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9" name="Picture 4" descr="02-10"/>
          <p:cNvPicPr/>
          <p:nvPr/>
        </p:nvPicPr>
        <p:blipFill>
          <a:blip r:embed="rId1"/>
          <a:stretch/>
        </p:blipFill>
        <p:spPr>
          <a:xfrm>
            <a:off x="3848040" y="1384200"/>
            <a:ext cx="5099040" cy="47451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10"/>
          <p:cNvSpPr/>
          <p:nvPr/>
        </p:nvSpPr>
        <p:spPr>
          <a:xfrm>
            <a:off x="3505320" y="6130800"/>
            <a:ext cx="54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Coordina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Extreme (Corner) Point Solution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1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6" name="Picture 4" descr="02-11"/>
          <p:cNvPicPr/>
          <p:nvPr/>
        </p:nvPicPr>
        <p:blipFill>
          <a:blip r:embed="rId1"/>
          <a:stretch/>
        </p:blipFill>
        <p:spPr>
          <a:xfrm>
            <a:off x="3768840" y="1347840"/>
            <a:ext cx="5038560" cy="475452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20"/>
          <p:cNvSpPr/>
          <p:nvPr/>
        </p:nvSpPr>
        <p:spPr>
          <a:xfrm>
            <a:off x="3581280" y="6095880"/>
            <a:ext cx="54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s at All Corner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for New Objective Function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2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3" name="Picture 4" descr="02-12"/>
          <p:cNvPicPr/>
          <p:nvPr/>
        </p:nvPicPr>
        <p:blipFill>
          <a:blip r:embed="rId1"/>
          <a:stretch/>
        </p:blipFill>
        <p:spPr>
          <a:xfrm>
            <a:off x="3841920" y="1494000"/>
            <a:ext cx="4641840" cy="47098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8"/>
          <p:cNvSpPr/>
          <p:nvPr/>
        </p:nvSpPr>
        <p:spPr>
          <a:xfrm>
            <a:off x="0" y="2819520"/>
            <a:ext cx="39513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2563920" y="6203880"/>
            <a:ext cx="64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with Z = 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+ 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270000" y="1600200"/>
            <a:ext cx="8602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andard form requires that all constraints be in the form of equations (equalities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dded to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weak  inequality) 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typically represents 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unused resourc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objective function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lack Variabl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3" name="Picture 4" descr="02-13"/>
          <p:cNvPicPr/>
          <p:nvPr/>
        </p:nvPicPr>
        <p:blipFill>
          <a:blip r:embed="rId1"/>
          <a:stretch/>
        </p:blipFill>
        <p:spPr>
          <a:xfrm>
            <a:off x="3951360" y="1201680"/>
            <a:ext cx="4778280" cy="49831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2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 Model: Standard For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0" y="1828800"/>
            <a:ext cx="438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 Z = 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slack variabl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2452680" y="61722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 Points A, B, and C with Sla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50" name="Object 2"/>
          <p:cNvGraphicFramePr/>
          <p:nvPr/>
        </p:nvGraphicFramePr>
        <p:xfrm>
          <a:off x="2454120" y="3976560"/>
          <a:ext cx="5531040" cy="24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3976560"/>
                    <a:ext cx="553104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7"/>
          <p:cNvSpPr/>
          <p:nvPr/>
        </p:nvSpPr>
        <p:spPr>
          <a:xfrm>
            <a:off x="299880" y="1347840"/>
            <a:ext cx="860292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rands of fertilizer available - Super-gro, Crop-qui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eld requires at least 16 pounds of nitrogen and 24 pounds of phospha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-gro costs $6 per bag, Crop-quick $3 per ba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How much of each brand to purchase to minimize total cost of fertilizer given following data 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7" name="Picture 5" descr="F:\POM\Chapter 2\AAFQRCK0.jpg"/>
          <p:cNvPicPr/>
          <p:nvPr/>
        </p:nvPicPr>
        <p:blipFill>
          <a:blip r:embed="rId1"/>
          <a:stretch/>
        </p:blipFill>
        <p:spPr>
          <a:xfrm>
            <a:off x="2928960" y="1274760"/>
            <a:ext cx="5567400" cy="502920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16"/>
          <p:cNvSpPr/>
          <p:nvPr/>
        </p:nvSpPr>
        <p:spPr>
          <a:xfrm>
            <a:off x="154080" y="4633920"/>
            <a:ext cx="33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rtilizing farmer’s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04920" y="1320840"/>
            <a:ext cx="853416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Objective Func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lb (nitrogen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 lb (phosphate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(non-negativity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8437680" y="370368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70000" y="1327320"/>
            <a:ext cx="86025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bjectives of business decisions frequently involv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ximizing profi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inimizing cos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inear programming us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linear algebraic relationship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represent a firm’s decisions, given a busines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and resourc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eps in applic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problem as solvable by linear programm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a mathematical model of the unstructured problem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mod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:  An Overview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5" name="Picture 4" descr="02-14"/>
          <p:cNvPicPr/>
          <p:nvPr/>
        </p:nvPicPr>
        <p:blipFill>
          <a:blip r:embed="rId1"/>
          <a:stretch/>
        </p:blipFill>
        <p:spPr>
          <a:xfrm>
            <a:off x="3659040" y="1238400"/>
            <a:ext cx="5148360" cy="472428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04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6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onstraint Graph – Minimization (4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2" name="Picture 4" descr="02-15"/>
          <p:cNvPicPr/>
          <p:nvPr/>
        </p:nvPicPr>
        <p:blipFill>
          <a:blip r:embed="rId1"/>
          <a:stretch/>
        </p:blipFill>
        <p:spPr>
          <a:xfrm>
            <a:off x="3768840" y="1384200"/>
            <a:ext cx="5111640" cy="469116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0"/>
          <p:cNvSpPr/>
          <p:nvPr/>
        </p:nvSpPr>
        <p:spPr>
          <a:xfrm>
            <a:off x="3886200" y="6095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Region– Minimization (5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9" name="Picture 4" descr="02-16"/>
          <p:cNvPicPr/>
          <p:nvPr/>
        </p:nvPicPr>
        <p:blipFill>
          <a:blip r:embed="rId1"/>
          <a:stretch/>
        </p:blipFill>
        <p:spPr>
          <a:xfrm>
            <a:off x="4129200" y="1384200"/>
            <a:ext cx="5014800" cy="460224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3809880" y="6095880"/>
            <a:ext cx="49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8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um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 Point – Minimization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263520" y="1238400"/>
            <a:ext cx="860256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ubtracted from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represents an exces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bove a constraint requirement lev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calculated value of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tracting surplus variables in the farmer problem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6 (nitroge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4 (phosphat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rplus Variables – Minimization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3805200" y="609444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Fertilizer Exampl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91" name="Picture 4" descr="02-17"/>
          <p:cNvPicPr/>
          <p:nvPr/>
        </p:nvPicPr>
        <p:blipFill>
          <a:blip r:embed="rId1"/>
          <a:stretch/>
        </p:blipFill>
        <p:spPr>
          <a:xfrm>
            <a:off x="4389480" y="1420920"/>
            <a:ext cx="4271760" cy="427176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s – Minimization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0" y="2819520"/>
            <a:ext cx="4754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6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= 2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some linear programming models, the general rules do not appl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pecial types of problems include those with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ultiple optimal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nbounded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rregular Type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1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0" y="1752480"/>
            <a:ext cx="43434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function i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rallel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a constraint line.  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9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0" y="1895400"/>
            <a:ext cx="426708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very possible solution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violat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t least one constrain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15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0" y="2286000"/>
            <a:ext cx="4343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of the obj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unction increases indefinite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decision amongst alternative courses of action is requi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decision is represented in the model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ecision variabl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problem encompasses a goal, expressed as an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objective fun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at the decision maker  wants to achie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trictions (represented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exist that limit the extent of achievement of the obj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and constraints must be definable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inear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athematical functional relationships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mathematical symbols representing levels of activity of a fir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a linear mathematical relationship describing an objective of the firm, in terms of decision variables - this function is to be maximized or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– requirements or restrictions placed on the firm by the operating environment, stated in linear relationships of the decision variab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arameter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numerical coefficients and constants used in the objective function and constrai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oportionality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he rate of change (slope) of the objective function and constraint equation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ditivity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erms in the objective function and constraint equations must be addi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visi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Decision variables can take on any fractional value and are therefore continuous as opposed to integer  in nat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ertain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Values of all the model parameters are assumed to be known with certainty (non-probabilistic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Properties of Linear Programming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70000" y="1523880"/>
            <a:ext cx="86025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Hot dog mixture in 1000-pound batch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wo ingredients, chicken ($3/lb) and beef ($5/lb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cipe requireme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500 pounds of “chicken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200 pounds of “beef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atio of chicken to beef must be at least 2 to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optimal mixture of ingredients that will minimize cost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304920" y="1330200"/>
            <a:ext cx="85341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decision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chicken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beef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inimize Z = 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where Z = cost per 1,000-lb batch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chick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beef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263520" y="1494000"/>
            <a:ext cx="86104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ep 3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ablis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lb of chicke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lb of beef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/1 or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inimize Z =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3" name="Picture 4" descr="02-21"/>
          <p:cNvPicPr/>
          <p:nvPr/>
        </p:nvPicPr>
        <p:blipFill>
          <a:blip r:embed="rId1"/>
          <a:stretch/>
        </p:blipFill>
        <p:spPr>
          <a:xfrm>
            <a:off x="3768840" y="1238400"/>
            <a:ext cx="5002200" cy="486540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4024440" y="609444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nstraint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9" name="Picture 4" descr="02-22"/>
          <p:cNvPicPr/>
          <p:nvPr/>
        </p:nvPicPr>
        <p:blipFill>
          <a:blip r:embed="rId1"/>
          <a:stretch/>
        </p:blipFill>
        <p:spPr>
          <a:xfrm>
            <a:off x="3951360" y="1494000"/>
            <a:ext cx="4709880" cy="433836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2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0" y="1752480"/>
            <a:ext cx="41148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Determine the feasible solution spa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2" name="Text Box 11"/>
          <p:cNvSpPr/>
          <p:nvPr/>
        </p:nvSpPr>
        <p:spPr>
          <a:xfrm>
            <a:off x="2417760" y="60944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4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and Extreme Point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56" name="Picture 4" descr="02-23"/>
          <p:cNvPicPr/>
          <p:nvPr/>
        </p:nvPicPr>
        <p:blipFill>
          <a:blip r:embed="rId1"/>
          <a:stretch/>
        </p:blipFill>
        <p:spPr>
          <a:xfrm>
            <a:off x="3805200" y="1420920"/>
            <a:ext cx="4929120" cy="47354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0" y="0"/>
            <a:ext cx="8610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0" y="1549440"/>
            <a:ext cx="39625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3 and 4: Determine the solution points and 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038480" y="6095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2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  <p:sp>
        <p:nvSpPr>
          <p:cNvPr id="863" name="Line 10"/>
          <p:cNvSpPr/>
          <p:nvPr/>
        </p:nvSpPr>
        <p:spPr>
          <a:xfrm>
            <a:off x="0" y="6904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0" y="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ummary of Model Formulation Step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066680" y="2057400"/>
            <a:ext cx="716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learly define the decision variab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onstruct the objective func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3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Formulate the constrai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263520" y="1420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63520" y="1566360"/>
            <a:ext cx="860256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mix problem - Beaver Creek Pottery Compan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bowls and mugs should be produced to maximize profits given labor and materials constraint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resource requirements and unit profi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650960" y="3502080"/>
          <a:ext cx="5148360" cy="2336760"/>
        </p:xfrm>
        <a:graphic>
          <a:graphicData uri="http://schemas.openxmlformats.org/drawingml/2006/table">
            <a:tbl>
              <a:tblPr/>
              <a:tblGrid>
                <a:gridCol w="1039680"/>
                <a:gridCol w="1284480"/>
                <a:gridCol w="1284120"/>
                <a:gridCol w="1540080"/>
              </a:tblGrid>
              <a:tr h="46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Resource Requirements</a:t>
                      </a: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5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Labor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Hr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Clay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Lb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$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Bowl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Mug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920880" y="1165320"/>
            <a:ext cx="7638840" cy="521964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63520" y="1494000"/>
            <a:ext cx="86025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0 hrs of labor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vailability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20 lb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 to produce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 to produce per day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unction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Z = profit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hours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 pound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on-Negativity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;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102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1028"/>
          <p:cNvSpPr/>
          <p:nvPr/>
        </p:nvSpPr>
        <p:spPr>
          <a:xfrm>
            <a:off x="91440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lete Linear Programming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ximiz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4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1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نادىة</cp:lastModifiedBy>
  <dcterms:modified xsi:type="dcterms:W3CDTF">2016-05-16T21:14:49Z</dcterms:modified>
  <cp:revision>58</cp:revision>
  <dc:subject/>
  <dc:title>Slide 1</dc:title>
</cp:coreProperties>
</file>