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24A-4419-4719-86B2-09AC2C101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4B77-B652-4C41-A4F7-15039B671F5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73E6-78D9-4095-94EE-108334CCDE7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5BD9-F448-42C9-8A2A-41F4C148654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4ED-B570-442E-8A06-72B168FC005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0FCA-04ED-4207-9C2C-7CDEAD84FD1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191D-E56D-4648-8068-D1081DC6775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476-651D-49D3-8E54-548324C2E18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DCD8-8799-43A6-8DAE-DD77F3FE2B8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D1A1-3A75-4BB0-8B5F-62FBF5FD236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B836-95E2-4BD4-8393-5878F05A2A8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7E8-98CE-470C-95CB-2325DAE6BDE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766B-26A8-4BC1-9034-AAD43F59431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557D-E750-4B9A-B986-E926B15C245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513-1018-4AAC-89B9-08FC8001C09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117-CB33-43AE-9C78-1927AD16600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460-7CF8-4832-ABE8-9FEB43324554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B94-518E-4817-8741-F7AADCC0D8B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CCA2-6F22-452A-B388-DE994FF9A13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35D7-CBA6-424D-8889-E6456ED8C0F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BED0-EC8F-4DB2-A9B3-DADF28DE576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2F66-6D60-471A-ADB7-FA4BD20F52E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83C-F0CE-429F-B4E5-47F6A9FD0EE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C542-FEAD-4562-BFE7-514676754AC3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4BE-7464-41F0-A084-4D4FBF43FFB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420-3CE6-47C0-940B-ABE4B43B3ED6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0E73-F617-4CFA-B176-967A5A55330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EE13-4A72-4AEB-8828-816C0AE80565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508E-10B0-4F18-82C6-4D4A741DAD7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46D8-8CF1-4600-A62C-7293EF9B678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F61-81BC-499C-AD20-7CC702131CC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1BA-3490-49B2-AC32-FC2C6A73F2C0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3F51-4D91-414F-9560-CE551AFEFF8D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2AEC-671B-4118-9205-F91F12606C3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1017-E54B-4D8E-A16E-1DA78D3F046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9F8D-8B02-484D-B412-B06F993A5D5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4C4-4124-46F1-A741-3F41F10EA981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2C3-750C-4046-BCC0-2257AD3926EC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896E-868B-49C9-8683-9F348721BC37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A2FB-47B6-4C91-B7C8-86F41C957F5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BF52-7A92-4A62-BDC6-A4C57599786B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02B8-07C5-4E82-BAE9-33B89FEBBF52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0D61-27E6-4CBD-9A63-E5BFD16E025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8EFB-8B07-43DA-A957-0922040B1AA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7228-1781-4281-96F4-BBC898010539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A7DD-3CE2-45B2-9ECA-8828E61CF17A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BEF8-2FA7-42FF-B4CE-7B4C6CE3244F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5E41F7B6-C57A-48C6-B2DE-38D72F16F69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94019A4-BC31-49C3-8A6B-B38B93D0655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412CBAAB-C055-4D6F-96FF-BCA840AF5452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838B36C7-8BCF-4804-879A-EB785272407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2-</a:t>
            </a:r>
            <a:fld id="{FA18EB54-972E-47B2-8B23-4A411EF63998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F5E5856D-2B25-4443-BD71-811DACF05F7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5F53AD7F-9F31-4A7B-AF9B-DA1BE79A30A6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20C5C3BA-9EA4-490C-AC26-AEC4CA6E5B2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1F821476-C9E7-4EA8-B3D5-37E0F638379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EB51A17B-6850-4547-8638-B8A2647B62A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00EDC0C6-1091-473A-9784-8DA0AE144DD7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2-</a:t>
            </a:r>
            <a:fld id="{D0301014-20D4-4DF7-9065-4B3D306E145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Linear Programming: Model Formulation and Graphical Solution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9264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2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Rectangle 1030"/>
          <p:cNvSpPr/>
          <p:nvPr/>
        </p:nvSpPr>
        <p:spPr>
          <a:xfrm>
            <a:off x="270000" y="1676520"/>
            <a:ext cx="8602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oes not violat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ny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5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1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7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5) + 2(10) = 25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ay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(5) + 3(1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l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120 pound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1028"/>
          <p:cNvSpPr/>
          <p:nvPr/>
        </p:nvSpPr>
        <p:spPr>
          <a:xfrm>
            <a:off x="0" y="0"/>
            <a:ext cx="7734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263520" y="1676520"/>
            <a:ext cx="869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nfeasible solution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iolat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t least one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f the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0 bow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0 mug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=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$14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abor constraint check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(10) + 2(20) = 50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40 hou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solution is limited to linear programming models containing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only two 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(can be used with three variables but only with great difficulty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Graphical methods provide 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visualization of how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solution for a linear programming problem is obtain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8458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Graphical Solution of LP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oordinate Ax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1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21938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50" name="Picture 5" descr="02-01"/>
          <p:cNvPicPr/>
          <p:nvPr/>
        </p:nvPicPr>
        <p:blipFill>
          <a:blip r:embed="rId1"/>
          <a:stretch/>
        </p:blipFill>
        <p:spPr>
          <a:xfrm>
            <a:off x="3695760" y="1298520"/>
            <a:ext cx="4856040" cy="47134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3"/>
          <p:cNvSpPr/>
          <p:nvPr/>
        </p:nvSpPr>
        <p:spPr>
          <a:xfrm>
            <a:off x="3124080" y="6095880"/>
            <a:ext cx="58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ordinates for Graphical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pSp>
        <p:nvGrpSpPr>
          <p:cNvPr id="653" name="Group 18"/>
          <p:cNvGrpSpPr/>
          <p:nvPr/>
        </p:nvGrpSpPr>
        <p:grpSpPr>
          <a:xfrm>
            <a:off x="1504800" y="5838840"/>
            <a:ext cx="1609920" cy="606240"/>
            <a:chOff x="1504800" y="5838840"/>
            <a:chExt cx="1609920" cy="606240"/>
          </a:xfrm>
        </p:grpSpPr>
        <p:sp>
          <p:nvSpPr>
            <p:cNvPr id="654" name="Line Callout 1 10"/>
            <p:cNvSpPr/>
            <p:nvPr/>
          </p:nvSpPr>
          <p:spPr>
            <a:xfrm flipH="1">
              <a:off x="1504800" y="5838840"/>
              <a:ext cx="1609920" cy="606240"/>
            </a:xfrm>
            <a:prstGeom prst="borderCallout1">
              <a:avLst>
                <a:gd name="adj1" fmla="val 18750"/>
                <a:gd name="adj2" fmla="val -8333"/>
                <a:gd name="adj3" fmla="val -57342"/>
                <a:gd name="adj4" fmla="val -98564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5" name="TextBox 11"/>
            <p:cNvSpPr/>
            <p:nvPr/>
          </p:nvSpPr>
          <p:spPr>
            <a:xfrm>
              <a:off x="1504800" y="5969880"/>
              <a:ext cx="160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bowl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336240" y="2004840"/>
            <a:ext cx="1609920" cy="606600"/>
            <a:chOff x="336240" y="2004840"/>
            <a:chExt cx="1609920" cy="606600"/>
          </a:xfrm>
        </p:grpSpPr>
        <p:sp>
          <p:nvSpPr>
            <p:cNvPr id="657" name="Line Callout 1 15"/>
            <p:cNvSpPr/>
            <p:nvPr/>
          </p:nvSpPr>
          <p:spPr>
            <a:xfrm flipH="1">
              <a:off x="335880" y="2004840"/>
              <a:ext cx="1609560" cy="606600"/>
            </a:xfrm>
            <a:prstGeom prst="borderCallout1">
              <a:avLst>
                <a:gd name="adj1" fmla="val 18750"/>
                <a:gd name="adj2" fmla="val -8333"/>
                <a:gd name="adj3" fmla="val -49314"/>
                <a:gd name="adj4" fmla="val -134828"/>
              </a:avLst>
            </a:prstGeom>
            <a:noFill/>
            <a:ln w="25560">
              <a:solidFill>
                <a:srgbClr val="0005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658" name="TextBox 16"/>
            <p:cNvSpPr/>
            <p:nvPr/>
          </p:nvSpPr>
          <p:spPr>
            <a:xfrm>
              <a:off x="336600" y="2114280"/>
              <a:ext cx="16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X</a:t>
              </a:r>
              <a:r>
                <a:rPr b="1" lang="en-US" sz="1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 is mugs</a:t>
              </a:r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65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2" name="Picture 4" descr="02-02"/>
          <p:cNvPicPr/>
          <p:nvPr/>
        </p:nvPicPr>
        <p:blipFill>
          <a:blip r:embed="rId1"/>
          <a:stretch/>
        </p:blipFill>
        <p:spPr>
          <a:xfrm>
            <a:off x="3841920" y="1201680"/>
            <a:ext cx="5022720" cy="46101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8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2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3586320" y="598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3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Labor Constra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abor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3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4267080" y="6095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4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Labor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1" name="Picture 4" descr="02-03"/>
          <p:cNvPicPr/>
          <p:nvPr/>
        </p:nvPicPr>
        <p:blipFill>
          <a:blip r:embed="rId1"/>
          <a:stretch/>
        </p:blipFill>
        <p:spPr>
          <a:xfrm>
            <a:off x="3768840" y="1274760"/>
            <a:ext cx="5178240" cy="48862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y Constraint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4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7" name="Picture 4" descr="02-04"/>
          <p:cNvPicPr/>
          <p:nvPr/>
        </p:nvPicPr>
        <p:blipFill>
          <a:blip r:embed="rId1"/>
          <a:stretch/>
        </p:blipFill>
        <p:spPr>
          <a:xfrm>
            <a:off x="3805200" y="1238400"/>
            <a:ext cx="5216400" cy="49226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572000" y="6095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lay Constraint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oth Constraint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5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4" name="Picture 4" descr="02-05"/>
          <p:cNvPicPr/>
          <p:nvPr/>
        </p:nvPicPr>
        <p:blipFill>
          <a:blip r:embed="rId1"/>
          <a:stretch/>
        </p:blipFill>
        <p:spPr>
          <a:xfrm>
            <a:off x="3768840" y="1274760"/>
            <a:ext cx="5184720" cy="48927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0"/>
          <p:cNvSpPr/>
          <p:nvPr/>
        </p:nvSpPr>
        <p:spPr>
          <a:xfrm>
            <a:off x="3330720" y="6095880"/>
            <a:ext cx="56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6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Feasible Solution Area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6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1" name="Picture 4" descr="02-06"/>
          <p:cNvPicPr/>
          <p:nvPr/>
        </p:nvPicPr>
        <p:blipFill>
          <a:blip r:embed="rId1"/>
          <a:stretch/>
        </p:blipFill>
        <p:spPr>
          <a:xfrm>
            <a:off x="3805200" y="1274760"/>
            <a:ext cx="5172120" cy="48132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10"/>
          <p:cNvSpPr/>
          <p:nvPr/>
        </p:nvSpPr>
        <p:spPr>
          <a:xfrm>
            <a:off x="4097160" y="6130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7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bjective Function Solution = $800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7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8" name="Picture 4" descr="02-07"/>
          <p:cNvPicPr/>
          <p:nvPr/>
        </p:nvPicPr>
        <p:blipFill>
          <a:blip r:embed="rId1"/>
          <a:stretch/>
        </p:blipFill>
        <p:spPr>
          <a:xfrm>
            <a:off x="3914640" y="1292400"/>
            <a:ext cx="5081760" cy="479556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10"/>
          <p:cNvSpPr/>
          <p:nvPr/>
        </p:nvSpPr>
        <p:spPr>
          <a:xfrm>
            <a:off x="2819520" y="60944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8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bjection Function Line for Z = $8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66400" y="228240"/>
            <a:ext cx="7581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541440" y="1600200"/>
            <a:ext cx="8602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Formul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ax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Graphical Solution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Minimization Model Exampl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rregular Types of Linear Programming Model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lternative Objective Function Solution Lin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Graphical Solution of Maximization Model (8 of 12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5" name="Picture 4" descr="02-08"/>
          <p:cNvPicPr/>
          <p:nvPr/>
        </p:nvPicPr>
        <p:blipFill>
          <a:blip r:embed="rId1"/>
          <a:stretch/>
        </p:blipFill>
        <p:spPr>
          <a:xfrm>
            <a:off x="3878280" y="1295280"/>
            <a:ext cx="5118120" cy="48294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0"/>
          <p:cNvSpPr/>
          <p:nvPr/>
        </p:nvSpPr>
        <p:spPr>
          <a:xfrm>
            <a:off x="29718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Alternative Objective Function Lin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 of Maximization Model (9 of 12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2" name="Picture 4" descr="02-09"/>
          <p:cNvPicPr/>
          <p:nvPr/>
        </p:nvPicPr>
        <p:blipFill>
          <a:blip r:embed="rId1"/>
          <a:stretch/>
        </p:blipFill>
        <p:spPr>
          <a:xfrm>
            <a:off x="3878280" y="1347840"/>
            <a:ext cx="5046480" cy="4833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0"/>
          <p:cNvSpPr/>
          <p:nvPr/>
        </p:nvSpPr>
        <p:spPr>
          <a:xfrm>
            <a:off x="2271600" y="6094440"/>
            <a:ext cx="587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0  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Identification of Optimal Solution Point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Coordinate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0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9" name="Picture 4" descr="02-10"/>
          <p:cNvPicPr/>
          <p:nvPr/>
        </p:nvPicPr>
        <p:blipFill>
          <a:blip r:embed="rId1"/>
          <a:stretch/>
        </p:blipFill>
        <p:spPr>
          <a:xfrm>
            <a:off x="3848040" y="1384200"/>
            <a:ext cx="5099040" cy="47451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10"/>
          <p:cNvSpPr/>
          <p:nvPr/>
        </p:nvSpPr>
        <p:spPr>
          <a:xfrm>
            <a:off x="3505320" y="6130800"/>
            <a:ext cx="54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Coordinat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4" name="Rectangle 1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Extreme (Corner) Point Solutions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1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26" name="Picture 4" descr="02-11"/>
          <p:cNvPicPr/>
          <p:nvPr/>
        </p:nvPicPr>
        <p:blipFill>
          <a:blip r:embed="rId1"/>
          <a:stretch/>
        </p:blipFill>
        <p:spPr>
          <a:xfrm>
            <a:off x="3768840" y="1347840"/>
            <a:ext cx="5038560" cy="475452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20"/>
          <p:cNvSpPr/>
          <p:nvPr/>
        </p:nvSpPr>
        <p:spPr>
          <a:xfrm>
            <a:off x="3581280" y="6095880"/>
            <a:ext cx="54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2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s at All Corner Po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0" y="2819520"/>
            <a:ext cx="4114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Optimal Solution for New Objective Function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514"/>
                </a:solidFill>
                <a:latin typeface="Garamond"/>
              </a:rPr>
              <a:t>Graphical Solution of Maximization Model (12 of 12)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33" name="Picture 4" descr="02-12"/>
          <p:cNvPicPr/>
          <p:nvPr/>
        </p:nvPicPr>
        <p:blipFill>
          <a:blip r:embed="rId1"/>
          <a:stretch/>
        </p:blipFill>
        <p:spPr>
          <a:xfrm>
            <a:off x="3841920" y="1494000"/>
            <a:ext cx="4641840" cy="470988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8"/>
          <p:cNvSpPr/>
          <p:nvPr/>
        </p:nvSpPr>
        <p:spPr>
          <a:xfrm>
            <a:off x="0" y="2819520"/>
            <a:ext cx="39513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2563920" y="6203880"/>
            <a:ext cx="64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with Z = 7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 + 2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270000" y="1600200"/>
            <a:ext cx="8602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andard form requires that all constraints be in the form of equations (equalities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added to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weak  inequality) 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typically represents an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unused resourc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297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lack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objective function valu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lack Variabl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Rectangle 14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3" name="Picture 4" descr="02-13"/>
          <p:cNvPicPr/>
          <p:nvPr/>
        </p:nvPicPr>
        <p:blipFill>
          <a:blip r:embed="rId1"/>
          <a:stretch/>
        </p:blipFill>
        <p:spPr>
          <a:xfrm>
            <a:off x="3951360" y="1201680"/>
            <a:ext cx="4778280" cy="49831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2"/>
          <p:cNvSpPr/>
          <p:nvPr/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 Model: Standard For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0" y="1828800"/>
            <a:ext cx="438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 Z = 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4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=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re slack variable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2452680" y="61722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4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Solution Points A, B, and C with Sla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1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750" name="Object 2"/>
          <p:cNvGraphicFramePr/>
          <p:nvPr/>
        </p:nvGraphicFramePr>
        <p:xfrm>
          <a:off x="2454120" y="3976560"/>
          <a:ext cx="5531040" cy="24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3976560"/>
                    <a:ext cx="553104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Rectangle 7"/>
          <p:cNvSpPr/>
          <p:nvPr/>
        </p:nvSpPr>
        <p:spPr>
          <a:xfrm>
            <a:off x="299880" y="1347840"/>
            <a:ext cx="860292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wo brands of fertilizer available - Super-gro, Crop-quick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ield requires at least 16 pounds of nitrogen and 24 pounds of phosphat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per-gro costs $6 per bag, Crop-quick $3 per bag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00f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blem: How much of each brand to purchase to minimize total cost of fertilizer given following data 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0" y="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2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57" name="Picture 5" descr="F:\POM\Chapter 2\AAFQRCK0.jpg"/>
          <p:cNvPicPr/>
          <p:nvPr/>
        </p:nvPicPr>
        <p:blipFill>
          <a:blip r:embed="rId1"/>
          <a:stretch/>
        </p:blipFill>
        <p:spPr>
          <a:xfrm>
            <a:off x="2928960" y="1274760"/>
            <a:ext cx="5567400" cy="5029200"/>
          </a:xfrm>
          <a:prstGeom prst="rect">
            <a:avLst/>
          </a:prstGeom>
          <a:ln w="0">
            <a:noFill/>
          </a:ln>
        </p:spPr>
      </p:pic>
      <p:sp>
        <p:nvSpPr>
          <p:cNvPr id="758" name="Text Box 16"/>
          <p:cNvSpPr/>
          <p:nvPr/>
        </p:nvSpPr>
        <p:spPr>
          <a:xfrm>
            <a:off x="154080" y="4633920"/>
            <a:ext cx="33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5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rtilizing farmer’s field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04920" y="1320840"/>
            <a:ext cx="853416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Objective Function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Super-Gro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cost of bags of Crop-Quick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aints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lb (nitrogen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 lb (phosphate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(non-negativity constraint)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 – Minimization (3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8437680" y="370368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270000" y="1327320"/>
            <a:ext cx="860256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bjectives of business decisions frequently involv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aximizing profi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minimizing cos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Linear programming use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linear algebraic relationship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represent a firm’s decisions, given a busines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objectiv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and resourc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teps in applic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problem as solvable by linear programm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a mathematical model of the unstructured problem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mod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000514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Linear Programming:  An Overview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4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65" name="Picture 4" descr="02-14"/>
          <p:cNvPicPr/>
          <p:nvPr/>
        </p:nvPicPr>
        <p:blipFill>
          <a:blip r:embed="rId1"/>
          <a:stretch/>
        </p:blipFill>
        <p:spPr>
          <a:xfrm>
            <a:off x="3659040" y="1238400"/>
            <a:ext cx="5148360" cy="472428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0400" y="6095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6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Bot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onstraint Graph – Minimization (4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2" name="Picture 4" descr="02-15"/>
          <p:cNvPicPr/>
          <p:nvPr/>
        </p:nvPicPr>
        <p:blipFill>
          <a:blip r:embed="rId1"/>
          <a:stretch/>
        </p:blipFill>
        <p:spPr>
          <a:xfrm>
            <a:off x="3768840" y="1384200"/>
            <a:ext cx="5111640" cy="469116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0"/>
          <p:cNvSpPr/>
          <p:nvPr/>
        </p:nvSpPr>
        <p:spPr>
          <a:xfrm>
            <a:off x="3886200" y="6095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7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Area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Feasible Region– Minimization (5 of 8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79" name="Picture 4" descr="02-16"/>
          <p:cNvPicPr/>
          <p:nvPr/>
        </p:nvPicPr>
        <p:blipFill>
          <a:blip r:embed="rId1"/>
          <a:stretch/>
        </p:blipFill>
        <p:spPr>
          <a:xfrm>
            <a:off x="4129200" y="1384200"/>
            <a:ext cx="5014800" cy="460224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3809880" y="6095880"/>
            <a:ext cx="49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8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um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Optimal Solution Point – Minimization (6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0" y="2819520"/>
            <a:ext cx="44578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6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263520" y="1238400"/>
            <a:ext cx="860256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is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subtracted from a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 constraint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convert it to an equation (=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represents an exces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bove a constraint requirement level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 surplus variable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contributes noth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o the calculated value of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tracting surplus variables in the farmer problem constrai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16 (nitroge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s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24 (phosphat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6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urplus Variables – Minimization (7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43815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3805200" y="609444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19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Fertilizer Exampl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91" name="Picture 4" descr="02-17"/>
          <p:cNvPicPr/>
          <p:nvPr/>
        </p:nvPicPr>
        <p:blipFill>
          <a:blip r:embed="rId1"/>
          <a:stretch/>
        </p:blipFill>
        <p:spPr>
          <a:xfrm>
            <a:off x="4389480" y="1420920"/>
            <a:ext cx="4271760" cy="427176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5"/>
          <p:cNvSpPr/>
          <p:nvPr/>
        </p:nvSpPr>
        <p:spPr>
          <a:xfrm>
            <a:off x="0" y="0"/>
            <a:ext cx="86104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Graphical Solutions – Minimization (8 of 8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0" y="2819520"/>
            <a:ext cx="4754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Minimize Z = $6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$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0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2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= 16 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–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= 2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          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, s</a:t>
            </a:r>
            <a:r>
              <a:rPr b="0" lang="en-US" sz="22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4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 some linear programming models, the general rules do not apply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pecial types of problems include those with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ultiple optimal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nfeasible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1225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nbounded solution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rregular Type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1" name="Picture 4" descr="02-18"/>
          <p:cNvPicPr/>
          <p:nvPr/>
        </p:nvPicPr>
        <p:blipFill>
          <a:blip r:embed="rId1"/>
          <a:stretch/>
        </p:blipFill>
        <p:spPr>
          <a:xfrm>
            <a:off x="3951360" y="1494000"/>
            <a:ext cx="4829040" cy="455760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0"/>
          <p:cNvSpPr/>
          <p:nvPr/>
        </p:nvSpPr>
        <p:spPr>
          <a:xfrm>
            <a:off x="2125800" y="609588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0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ample with Multiple Optimal Solu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0" y="0"/>
            <a:ext cx="8724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Multiple Optimal Solutions Beaver Creek Pottery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0" y="1752480"/>
            <a:ext cx="434340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function is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rallel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o a constraint line.    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=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Infeasible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09" name="Picture 4" descr="02-19"/>
          <p:cNvPicPr/>
          <p:nvPr/>
        </p:nvPicPr>
        <p:blipFill>
          <a:blip r:embed="rId1"/>
          <a:stretch/>
        </p:blipFill>
        <p:spPr>
          <a:xfrm>
            <a:off x="3768840" y="1347840"/>
            <a:ext cx="5157720" cy="44402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10"/>
          <p:cNvSpPr/>
          <p:nvPr/>
        </p:nvSpPr>
        <p:spPr>
          <a:xfrm>
            <a:off x="3352680" y="6095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1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Infeasible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0" y="1895400"/>
            <a:ext cx="426708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very possible solution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violat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at least one constrain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 Z =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8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15" name="Picture 4" descr="02-20"/>
          <p:cNvPicPr/>
          <p:nvPr/>
        </p:nvPicPr>
        <p:blipFill>
          <a:blip r:embed="rId1"/>
          <a:stretch/>
        </p:blipFill>
        <p:spPr>
          <a:xfrm>
            <a:off x="3841920" y="1311120"/>
            <a:ext cx="5002200" cy="486900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0" y="0"/>
            <a:ext cx="8610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n Unbounded Problem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2965320" y="6094440"/>
            <a:ext cx="60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2 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Graph of an Unbounded Problem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0" y="2286000"/>
            <a:ext cx="4343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Value of the obje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function increases indefinite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1" name="Rectangle 4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haracteristics of Linear Programming Problem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decision amongst alternative courses of action is requir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decision is represented in the model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ecision variable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problem encompasses a goal, expressed as an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objective fun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that the decision maker  wants to achie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Restrictions (represented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nstraints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exist that limit the extent of achievement of the objec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The objective and constraints must be definable by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inear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mathematical functional relationships.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 variable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mathematical symbols representing levels of activity of a fir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 function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a linear mathematical relationship describing an objective of the firm, in terms of decision variables - this function is to be maximized or minimized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– requirements or restrictions placed on the firm by the operating environment, stated in linear relationships of the decision variabl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Parameters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numerical coefficients and constants used in the objective function and constraint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oportionality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he rate of change (slope) of the objective function and constraint equations is constant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ditivity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 Terms in the objective function and constraint equations must be additiv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visibility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-Decision variables can take on any fractional value and are therefore continuous as opposed to integer  in nature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ertainty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Values of all the model parameters are assumed to be known with certainty (non-probabilistic)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Properties of Linear Programming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7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roblem Statemen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1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70000" y="1523880"/>
            <a:ext cx="86025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Hot dog mixture in 1000-pound batch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wo ingredients, chicken ($3/lb) and beef ($5/lb)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cipe requirement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500 pounds of “chicken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t least 200 pounds of “beef”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atio of chicken to beef must be at least 2 to 1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a47ff"/>
              </a:buClr>
              <a:buSzPct val="70000"/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optimal mixture of ingredients that will minimize cost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304920" y="1330200"/>
            <a:ext cx="85341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dentify decision variable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chicken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lb of beef in mixtur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ormulate the objective function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inimize Z = 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where Z = cost per 1,000-lb batch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chicke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$5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cost of beef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2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263520" y="1494000"/>
            <a:ext cx="86104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Step 3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stablish Model Constraint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 lb of chicke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lb of beef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/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/1 or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The Model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Minimize Z = $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1,000 lb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50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20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  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0"/>
            <a:ext cx="8724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Solu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Example Problem No. 1 (3 of 3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1" name="Rectangle 11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2" name="Text Box 3"/>
          <p:cNvSpPr/>
          <p:nvPr/>
        </p:nvSpPr>
        <p:spPr>
          <a:xfrm>
            <a:off x="0" y="1295280"/>
            <a:ext cx="403848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lve the following model graphically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1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lot the constraints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s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3" name="Picture 4" descr="02-21"/>
          <p:cNvPicPr/>
          <p:nvPr/>
        </p:nvPicPr>
        <p:blipFill>
          <a:blip r:embed="rId1"/>
          <a:stretch/>
        </p:blipFill>
        <p:spPr>
          <a:xfrm>
            <a:off x="3768840" y="1238400"/>
            <a:ext cx="5002200" cy="486540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4024440" y="609444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3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Constraint Equa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49" name="Picture 4" descr="02-22"/>
          <p:cNvPicPr/>
          <p:nvPr/>
        </p:nvPicPr>
        <p:blipFill>
          <a:blip r:embed="rId1"/>
          <a:stretch/>
        </p:blipFill>
        <p:spPr>
          <a:xfrm>
            <a:off x="3951360" y="1494000"/>
            <a:ext cx="4709880" cy="433836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2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0" y="1752480"/>
            <a:ext cx="41148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2: Determine the feasible solution spac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2" name="Text Box 11"/>
          <p:cNvSpPr/>
          <p:nvPr/>
        </p:nvSpPr>
        <p:spPr>
          <a:xfrm>
            <a:off x="2417760" y="60944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4 </a:t>
            </a: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Feasible Solution Space and Extreme Points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4394160" y="1371600"/>
            <a:ext cx="4419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56" name="Picture 4" descr="02-23"/>
          <p:cNvPicPr/>
          <p:nvPr/>
        </p:nvPicPr>
        <p:blipFill>
          <a:blip r:embed="rId1"/>
          <a:stretch/>
        </p:blipFill>
        <p:spPr>
          <a:xfrm>
            <a:off x="3805200" y="1420920"/>
            <a:ext cx="4929120" cy="47354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0" y="0"/>
            <a:ext cx="8610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Problem No. 2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0" y="1549440"/>
            <a:ext cx="39625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5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ubject to:   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6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36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tep 3 and 4: Determine the solution points and optimal solution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038480" y="6095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2.25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Optimal Solution Point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0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862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  <p:sp>
        <p:nvSpPr>
          <p:cNvPr id="863" name="Line 10"/>
          <p:cNvSpPr/>
          <p:nvPr/>
        </p:nvSpPr>
        <p:spPr>
          <a:xfrm>
            <a:off x="0" y="69048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0" y="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ummary of Model Formulation Step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066680" y="2057400"/>
            <a:ext cx="716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learly define the decision variabl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2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Construct the objective func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tep 3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: Formulate the constrai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1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263520" y="1420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63520" y="1566360"/>
            <a:ext cx="8602560" cy="18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mix problem - Beaver Creek Pottery Compan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ow many bowls and mugs should be produced to maximize profits given labor and materials constraints?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39480" indent="-339480">
              <a:spcBef>
                <a:spcPts val="104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roduct resource requirements and unit profit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650960" y="3502080"/>
          <a:ext cx="5148360" cy="2336760"/>
        </p:xfrm>
        <a:graphic>
          <a:graphicData uri="http://schemas.openxmlformats.org/drawingml/2006/table">
            <a:tbl>
              <a:tblPr/>
              <a:tblGrid>
                <a:gridCol w="1039680"/>
                <a:gridCol w="1284480"/>
                <a:gridCol w="1284120"/>
                <a:gridCol w="1540080"/>
              </a:tblGrid>
              <a:tr h="46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Resource Requirements</a:t>
                      </a:r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5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Labor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Hr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Clay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Lb.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($/Unit)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Bowl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Mug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514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920880" y="1165320"/>
            <a:ext cx="7638840" cy="521964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2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5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3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263520" y="1494000"/>
            <a:ext cx="86025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0 hrs of labor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vailability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20 lb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cis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bowls to produce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Variables: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= number of mugs to produce per day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jectiv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ximize Z = $4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unction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Where Z = profit per d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Resource 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+ 2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40 hours of labor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120 pounds of clay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on-Negativity   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1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; x</a:t>
            </a:r>
            <a:r>
              <a:rPr b="0" lang="en-US" sz="2400" spc="-1" strike="noStrike" baseline="-25000">
                <a:solidFill>
                  <a:srgbClr val="000514"/>
                </a:solidFill>
                <a:latin typeface="Garamond"/>
              </a:rPr>
              <a:t>2 </a:t>
            </a:r>
            <a:r>
              <a:rPr b="0" lang="en-US" sz="24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0 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Constraints: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1026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LP Model Formulation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 Maximization Example (4 of 4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1028"/>
          <p:cNvSpPr/>
          <p:nvPr/>
        </p:nvSpPr>
        <p:spPr>
          <a:xfrm>
            <a:off x="91440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lete Linear Programming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ximize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$4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$50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ject to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1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2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4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+ 3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1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, x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2  </a:t>
            </a:r>
            <a:r>
              <a:rPr b="0" lang="en-US" sz="2800" spc="-1" strike="noStrike">
                <a:solidFill>
                  <a:srgbClr val="000514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0" y="1092240"/>
            <a:ext cx="9144000" cy="0"/>
          </a:xfrm>
          <a:prstGeom prst="line">
            <a:avLst/>
          </a:prstGeom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23:17:01Z</dcterms:created>
  <dc:creator>GWillis</dc:creator>
  <dc:description/>
  <dc:language>en-US</dc:language>
  <cp:lastModifiedBy>نادىة</cp:lastModifiedBy>
  <dcterms:modified xsi:type="dcterms:W3CDTF">2016-05-16T21:14:49Z</dcterms:modified>
  <cp:revision>58</cp:revision>
  <dc:subject/>
  <dc:title>Slide 1</dc:title>
</cp:coreProperties>
</file>