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494F0-D594-4439-902E-8B28D59AA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F1134-7F85-4308-8359-8EFC9F145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C70C0-86A8-42A9-BA9B-4029A9650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71A67-CCC2-4593-BBB7-0130C4A8F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8F82F-9390-40AF-8891-ABC18DD33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88A4D-3B87-436B-ACC0-4A54F4606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F3F72-7903-4C57-B153-A9BE614E0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F93D2-CE21-4187-879F-770F5D903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6C917-8B16-4ED9-A0A7-7159870E2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5DC97-BBE9-47B7-BC81-F96278F28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1273B-8FF7-4798-AD21-ED1E7F3FA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B19F-B8AD-4419-BA6F-655EBE50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62A21-51A4-43EC-A280-8BE8A746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0EF8A-3D6A-4596-A845-1BBFB185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28FD9-62FB-44A6-BCAB-C056C27D3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B8A16-3448-4CF0-B719-ED9352F93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5DD67-F4B2-4C15-8059-BC82DB748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1254-90A4-4F31-8596-C53EBBF1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56EBC-0FF3-4D77-8469-023BA8B9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A3638-A18D-4152-AA2F-A77FA95F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D754-5245-4F33-9B4B-005A901C2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D5E82-9D8B-46BC-A5BC-BD0E82A6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E5C9-9BDD-4C6C-B5FE-706BFF95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B385-B9C5-4844-B78C-34DFB14A3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4328-82CC-4B10-B8F9-AAADA634EE68}" type="slidenum">
              <a:rPr b="0" lang="ar-SA"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7A73-2481-4C6D-9BFB-AB4426A8537C}" type="slidenum">
              <a:rPr b="0" lang="ar-SA"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037520" y="2565000"/>
            <a:ext cx="7913520" cy="6426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ابع الفصل الرابع :تسوية الحسابات</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خطوات إعداد ورقة العمل :</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1</a:t>
            </a:r>
            <a:r>
              <a:rPr b="0" lang="ar-SA" sz="2400" spc="-1" strike="noStrike">
                <a:solidFill>
                  <a:srgbClr val="ffffff"/>
                </a:solidFill>
                <a:latin typeface="Verdana"/>
              </a:rPr>
              <a:t>-بعد عمل القيود الخاصة بالتسويات يتم نقلها في ورقة العمل في قائمة التسويات </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ثم يتم جمع المبالغ الظاهرة في الخانة المدينة وجمع المبالغ الظاهرة في الخانة الدائنة .ثم التأكد من تساوي الخانتين.</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2</a:t>
            </a:r>
            <a:r>
              <a:rPr b="0" lang="ar-SA" sz="2400" spc="-1" strike="noStrike">
                <a:solidFill>
                  <a:srgbClr val="ffffff"/>
                </a:solidFill>
                <a:latin typeface="Verdana"/>
              </a:rPr>
              <a:t>- يتم عمل ميزان المراجعة بعد التسويات ويتم جمع الرصيد المدين في ميزان المراجعة مع مايقابله في الجهة المدينة من قائمة التسويات وطرح مايقابلة في الجهة الدائنة .وجمع الرصيد الدائن في ميزان المراجعة مع مايقابله في الجهة الدائنة من قائمة التسويات وطرح مايقابله في الجهة المدينه.</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3</a:t>
            </a:r>
            <a:r>
              <a:rPr b="0" lang="ar-SA" sz="2400" spc="-1" strike="noStrike">
                <a:solidFill>
                  <a:srgbClr val="ffffff"/>
                </a:solidFill>
                <a:latin typeface="Verdana"/>
              </a:rPr>
              <a:t>- يتم جمع الأرصده المدينه لميزان المراجعه بعد التسويات وجمع الأرصدة الدائنة والتحقق من تساوي الطرفين.</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4</a:t>
            </a:r>
            <a:r>
              <a:rPr b="0" lang="ar-SA" sz="2400" spc="-1" strike="noStrike">
                <a:solidFill>
                  <a:srgbClr val="ffffff"/>
                </a:solidFill>
                <a:latin typeface="Verdana"/>
              </a:rPr>
              <a:t>- يتم نقل هذه الأرصدة إلى الأعمدة المناسبة لها في قائمة الدخل وقائمة المركز المالي.</a:t>
            </a:r>
            <a:endParaRPr b="0" lang="en-US" sz="2400" spc="-1" strike="noStrike">
              <a:solidFill>
                <a:srgbClr val="ffffff"/>
              </a:solidFill>
              <a:latin typeface="Verdana"/>
            </a:endParaRPr>
          </a:p>
          <a:p>
            <a:pPr marL="284400" indent="-2844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ثم يتم جمع الطرفين المدين والدائن لكلا القائمتين ولابد من تساوي الطرفين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611280" y="1916280"/>
          <a:ext cx="8229600" cy="4614840"/>
        </p:xfrm>
        <a:graphic>
          <a:graphicData uri="http://schemas.openxmlformats.org/drawingml/2006/table">
            <a:tbl>
              <a:tblPr/>
              <a:tblGrid>
                <a:gridCol w="749160"/>
                <a:gridCol w="747720"/>
                <a:gridCol w="747720"/>
                <a:gridCol w="747720"/>
                <a:gridCol w="749160"/>
                <a:gridCol w="747720"/>
                <a:gridCol w="747720"/>
                <a:gridCol w="747720"/>
                <a:gridCol w="749520"/>
                <a:gridCol w="747720"/>
                <a:gridCol w="747720"/>
              </a:tblGrid>
              <a:tr h="106596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قائمة المركز المالي</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قائمة الدخل</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يزان مراجعة بعد التسوي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تسويات</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ميزان المراجعة </a:t>
                      </a:r>
                      <a:endParaRPr b="0" lang="en-US" sz="1800" spc="-1" strike="noStrike">
                        <a:solidFill>
                          <a:srgbClr val="ffffff"/>
                        </a:solidFill>
                        <a:latin typeface="Verdana"/>
                      </a:endParaRPr>
                    </a:p>
                  </a:txBody>
                  <a:tcPr anchor="t" marL="90000" marR="90000">
                    <a:lnL w="5760">
                      <a:solidFill>
                        <a:srgbClr val="ffffff"/>
                      </a:solidFill>
                    </a:lnL>
                    <a:lnR>
                      <a:noFill/>
                    </a:lnR>
                    <a:lnT w="5760">
                      <a:solidFill>
                        <a:srgbClr val="ffffff"/>
                      </a:solidFill>
                    </a:lnT>
                    <a:lnB w="18720">
                      <a:solidFill>
                        <a:srgbClr val="ffffff"/>
                      </a:solidFill>
                    </a:lnB>
                    <a:solidFill>
                      <a:srgbClr val="33cccc"/>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إسم الحساب</a:t>
                      </a:r>
                      <a:endParaRPr b="0" lang="en-US" sz="1800" spc="-1" strike="noStrike">
                        <a:solidFill>
                          <a:srgbClr val="ffffff"/>
                        </a:solidFill>
                        <a:latin typeface="Verdana"/>
                      </a:endParaRPr>
                    </a:p>
                  </a:txBody>
                  <a:tcPr anchor="t" marL="90000" marR="90000">
                    <a:lnL>
                      <a:noFill/>
                    </a:lnL>
                    <a:lnR>
                      <a:noFill/>
                    </a:lnR>
                    <a:lnT>
                      <a:noFill/>
                    </a:lnT>
                    <a:lnB>
                      <a:noFill/>
                    </a:lnB>
                    <a:solidFill>
                      <a:srgbClr val="33cccc"/>
                    </a:solidFill>
                  </a:tcPr>
                </a:tc>
              </a:tr>
              <a:tr h="9169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دائن</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b76"/>
                          </a:solidFill>
                          <a:latin typeface="Verdana"/>
                        </a:rPr>
                        <a:t>مدين </a:t>
                      </a:r>
                      <a:endParaRPr b="0" lang="en-US" sz="1800" spc="-1" strike="noStrike">
                        <a:solidFill>
                          <a:srgbClr val="ffffff"/>
                        </a:solidFill>
                        <a:latin typeface="Verdana"/>
                      </a:endParaRPr>
                    </a:p>
                  </a:txBody>
                  <a:tcPr anchor="t" marL="90000" marR="90000">
                    <a:lnL w="5760">
                      <a:solidFill>
                        <a:srgbClr val="ffffff"/>
                      </a:solidFill>
                    </a:lnL>
                    <a:lnR>
                      <a:noFill/>
                    </a:lnR>
                    <a:lnT w="18720">
                      <a:solidFill>
                        <a:srgbClr val="ffffff"/>
                      </a:solidFill>
                    </a:lnT>
                    <a:lnB w="5760">
                      <a:solidFill>
                        <a:srgbClr val="ffffff"/>
                      </a:solidFill>
                    </a:lnB>
                    <a:solidFill>
                      <a:srgbClr val="cdecec"/>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26319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a:noFill/>
                    </a:lnT>
                    <a:lnB w="5760">
                      <a:solidFill>
                        <a:srgbClr val="ffffff"/>
                      </a:solidFill>
                    </a:lnB>
                    <a:solidFill>
                      <a:srgbClr val="e8f6f6"/>
                    </a:solidFill>
                  </a:tcPr>
                </a:tc>
              </a:tr>
            </a:tbl>
          </a:graphicData>
        </a:graphic>
      </p:graphicFrame>
      <p:sp>
        <p:nvSpPr>
          <p:cNvPr id="160" name="مربع نص 2"/>
          <p:cNvSpPr/>
          <p:nvPr/>
        </p:nvSpPr>
        <p:spPr>
          <a:xfrm>
            <a:off x="2627280" y="476280"/>
            <a:ext cx="371628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Verdana"/>
              </a:rPr>
              <a:t>شكل ورقة العمل</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قفل الحسابات وتدويرها :</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2" name="PlaceHolder 2"/>
          <p:cNvSpPr>
            <a:spLocks noGrp="1"/>
          </p:cNvSpPr>
          <p:nvPr>
            <p:ph/>
          </p:nvPr>
        </p:nvSpPr>
        <p:spPr>
          <a:xfrm>
            <a:off x="0" y="1599840"/>
            <a:ext cx="8686800" cy="4924440"/>
          </a:xfrm>
          <a:prstGeom prst="rect">
            <a:avLst/>
          </a:prstGeom>
          <a:noFill/>
          <a:ln w="0">
            <a:noFill/>
          </a:ln>
        </p:spPr>
        <p:txBody>
          <a:bodyPr anchor="t">
            <a:normAutofit fontScale="94000"/>
          </a:bodyPr>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a:t>
            </a:r>
            <a:r>
              <a:rPr b="0" lang="ar-SA" sz="2800" spc="-1" strike="noStrike">
                <a:solidFill>
                  <a:srgbClr val="ffffff"/>
                </a:solidFill>
                <a:latin typeface="Verdana"/>
              </a:rPr>
              <a:t>الأصول – الخصوم – حقوق الملاك            حسابات حقيقي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ميزاتها:</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أ- لها صفة الإنتقال من فترة محاسبية إلى أخرى ولها صفة الدوام والإستمرار (ولا يصبح رصيدها صفر لذلك لا يجب قفلها إنما يتم إستبدال سجلات العام المنتهي بسجلات العام الجديد)</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r>
              <a:rPr b="0" lang="ar-SA" sz="2800" spc="-1" strike="noStrike">
                <a:solidFill>
                  <a:srgbClr val="ffffff"/>
                </a:solidFill>
                <a:latin typeface="Verdana"/>
              </a:rPr>
              <a:t>- المصروفات – الإيرادات                  حسابات إسمي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ميزاتها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هي حسابات تنتهي بإنتهاء السنة المالية التي تخصها لأن أرصدتها تؤثر على نتيجة نشاط المنشأة .</a:t>
            </a:r>
            <a:endParaRPr b="0" lang="en-US" sz="2800" spc="-1" strike="noStrike">
              <a:solidFill>
                <a:srgbClr val="ffffff"/>
              </a:solidFill>
              <a:latin typeface="Verdana"/>
            </a:endParaRPr>
          </a:p>
          <a:p>
            <a:pPr marL="322200" indent="-32220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بناء على ذلك يفتح في آخر الفترة المحاسبية (حساب للمتاجرة والأرباح والخسائر )</a:t>
            </a:r>
            <a:endParaRPr b="0" lang="en-US" sz="2800" spc="-1" strike="noStrike">
              <a:solidFill>
                <a:srgbClr val="ffffff"/>
              </a:solidFill>
              <a:latin typeface="Verdan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حسب طبيعة عمل المنشأة .</a:t>
            </a:r>
            <a:endParaRPr b="0" lang="en-US" sz="2800" spc="-1" strike="noStrike">
              <a:solidFill>
                <a:srgbClr val="ffffff"/>
              </a:solidFill>
              <a:latin typeface="Verdana"/>
            </a:endParaRPr>
          </a:p>
        </p:txBody>
      </p:sp>
      <p:sp>
        <p:nvSpPr>
          <p:cNvPr id="163" name="Line 4"/>
          <p:cNvSpPr/>
          <p:nvPr/>
        </p:nvSpPr>
        <p:spPr>
          <a:xfrm flipH="1">
            <a:off x="2987280" y="177336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Line 5"/>
          <p:cNvSpPr/>
          <p:nvPr/>
        </p:nvSpPr>
        <p:spPr>
          <a:xfrm flipH="1">
            <a:off x="3492000" y="37162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عريف حساب متاجرة أرباح وخسائر :</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هو حساب تقفل به في نهاية العام الحسابات المتعلقة بالدخل من حسابات الإيرادات والمصروفات بحيث يجعل الحساب مدينا بالمصروفات ودائنا بالإيرادات .</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فل حساب المصروف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ن حـ / الأرباح والخسائر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لى حـ / المصروفات </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فل حساب الإيراد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ن حـ / الإيرادات </a:t>
            </a:r>
            <a:endParaRPr b="0" lang="en-US" sz="2800" spc="-1" strike="noStrike">
              <a:solidFill>
                <a:srgbClr val="ffffff"/>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إلى حـ / الأرباح والخسائر</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00680" y="938880"/>
            <a:ext cx="10167480" cy="3751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ندر أن تتساوى الإيرادات والمصروفات وينتج عن عدم التساوي إما ربح أو خسارة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فل حساب المتاجرة الأرباح والخسائر</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هناك أرباح يكون القيد</a:t>
            </a:r>
            <a:r>
              <a:rPr b="0" lang="ar-SA" sz="2400" spc="-1" strike="noStrike">
                <a:solidFill>
                  <a:srgbClr val="ffffff"/>
                </a:solidFill>
                <a:latin typeface="Arial"/>
              </a:rPr>
              <a:t>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الأرباح والخسائر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 جاري المالك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هناك خسائريكون القيد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حـ / جاري المالك </a:t>
            </a:r>
            <a:endParaRPr b="0" lang="en-US" sz="2400" spc="-1" strike="noStrike">
              <a:solidFill>
                <a:srgbClr val="ffffff"/>
              </a:solidFill>
              <a:latin typeface="Verdan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رباح والخسائر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324000" y="1847880"/>
            <a:ext cx="8497800" cy="2927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فل حساب الأصول والخصوم وحقوق الملاك ( بجعل حساب الخصوم وحقوق الملاك مدينا والأصول دائنا ) </a:t>
            </a:r>
            <a:endParaRPr b="0" lang="en-US" sz="28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ثم عند بداية السنة المالية الجديدة يستدعي ذلك فتح حسابات في بداية السنة المالية الجديدة بقيد يومية معاكس لقيد الإقفال السابق . </a:t>
            </a:r>
            <a:endParaRPr b="0" lang="en-US" sz="28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يزان المراجعة بعد الإقفال :</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قفل حساب الإيرادات والمصروفات وقفل حسابات قائمة المركز المالي يعد ميزان المراجعة بعد الإقفال يظهر الأرصدة المدينة والدائنة للمنشأة للتأكد من تساوي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53:50Z</dcterms:created>
  <dc:creator>User</dc:creator>
  <dc:description/>
  <dc:language>en-US</dc:language>
  <cp:lastModifiedBy>Amal alfawaz</cp:lastModifiedBy>
  <dcterms:modified xsi:type="dcterms:W3CDTF">2015-02-21T16:58:38Z</dcterms:modified>
  <cp:revision>2</cp:revision>
  <dc:subject/>
  <dc:title>Slide 1</dc:title>
</cp:coreProperties>
</file>