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1303B-A2FA-4753-A3E4-FE7F1750D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A86CD-91C2-438B-9D0B-88F0F07C0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DD257-0768-4666-8988-7A7BBF3F3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17986-F082-43F5-8F45-4FEB84617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F44A2-95E9-4544-A6F2-AFCA6286A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02911-535A-4FFD-84D2-7284A1A92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ACB0D-9AAF-4037-A3CF-46AF78131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53D26-F0EA-4C99-BC6F-11B82A783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7326C-F02D-4B04-8740-ECA418E1E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8379E-D36D-4D27-B21C-5C57858AD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DF7F4-4DE4-43B7-B033-CC251F43E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0468F-C760-473C-BFB1-4BD7C72E9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3274C-9922-4858-9DF3-73CDCB0FB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856DD-3D98-46AE-9D92-891698A80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71DA2-690C-4926-9F59-B470C2EAC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43596D-8F8B-48C8-B0AA-925F1E355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CEAD2D-E8FD-4640-A5E9-D6ECE85A17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06AD0-E356-4187-A940-48391C20C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8DA0D-C988-4A54-A340-E8AC8DF49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4EF58-1B54-4A79-B02D-9509B27FA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80604-EC4E-4BBF-AF29-7A219EC3D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73245-FFD7-440A-B0EA-9C2BC1C82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D556-D472-4AF5-83C1-FD2C366B3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1E5A7-E3E7-436E-ABA7-7CC7E21D1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5074-FA1F-481E-91AD-C1330F2F7DF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C7DC-4DCE-4DD1-942B-A43C3B27E7A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
          <p:cNvSpPr/>
          <p:nvPr/>
        </p:nvSpPr>
        <p:spPr>
          <a:xfrm>
            <a:off x="0" y="1316520"/>
            <a:ext cx="9144000" cy="3933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نيا : أوراق القبض</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ي أصل متداول يظهر في قائمة المركز المالي إذاتم البيع بالأجل فقد يطلب البائع من المشتري تحرير تعهد بالدفع في تاريخ معين على أن يكون التعهد غير مربوط بشرط.</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سمى كمبيالة وهي وعد بقبض مبلغ من النقود في تاريخ معين .وتسمى في يد المستفيد (أ.ق) وقد تكون الورقة نشأت بسبب بيع بضاعة للمشتري أو بسبب تحويل دينه من مجرد دين بإسمه إلى دين موثق بورقة قبض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
          <p:cNvSpPr/>
          <p:nvPr/>
        </p:nvSpPr>
        <p:spPr>
          <a:xfrm>
            <a:off x="250920" y="1555560"/>
            <a:ext cx="8497800" cy="3751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ستعادة ماسبق إعدامه من الديون :</a:t>
            </a:r>
            <a:endParaRPr b="0" lang="en-US" sz="2400" spc="-1" strike="noStrike">
              <a:solidFill>
                <a:srgbClr val="ffffff"/>
              </a:solidFill>
              <a:latin typeface="Arial"/>
            </a:endParaRPr>
          </a:p>
          <a:p>
            <a:pPr algn="r" rtl="1">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تتمكن المنشأة من إستعادة ديون قد سبق إعدامها فتقوم بإعادة تسجيل الدين في حساب المدينين وتجعل المخصص دائنا ثم قيد التحصيل </a:t>
            </a:r>
            <a:endParaRPr b="0" lang="en-US" sz="2400" spc="-1" strike="noStrike">
              <a:solidFill>
                <a:srgbClr val="ffffff"/>
              </a:solidFill>
              <a:latin typeface="Arial"/>
            </a:endParaRPr>
          </a:p>
          <a:p>
            <a:pPr algn="r" rtl="1">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المدينين </a:t>
            </a:r>
            <a:endParaRPr b="0" lang="en-US" sz="2400" spc="-1" strike="noStrike">
              <a:solidFill>
                <a:srgbClr val="ffffff"/>
              </a:solidFill>
              <a:latin typeface="Arial"/>
            </a:endParaRPr>
          </a:p>
          <a:p>
            <a:pPr algn="r" rtl="1">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مخصص الديون المشكوك في تحصيلها </a:t>
            </a:r>
            <a:endParaRPr b="0" lang="en-US" sz="2400" spc="-1" strike="noStrike">
              <a:solidFill>
                <a:srgbClr val="ffffff"/>
              </a:solidFill>
              <a:latin typeface="Arial"/>
            </a:endParaRPr>
          </a:p>
          <a:p>
            <a:pPr algn="r" rtl="1">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يد التحصيل :</a:t>
            </a:r>
            <a:endParaRPr b="0" lang="en-US" sz="2400" spc="-1" strike="noStrike">
              <a:solidFill>
                <a:srgbClr val="ffffff"/>
              </a:solidFill>
              <a:latin typeface="Arial"/>
            </a:endParaRPr>
          </a:p>
          <a:p>
            <a:pPr algn="r" rtl="1">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النقدية </a:t>
            </a:r>
            <a:endParaRPr b="0" lang="en-US" sz="2400" spc="-1" strike="noStrike">
              <a:solidFill>
                <a:srgbClr val="ffffff"/>
              </a:solidFill>
              <a:latin typeface="Arial"/>
            </a:endParaRPr>
          </a:p>
          <a:p>
            <a:pPr algn="r" rtl="1">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المدينين</a:t>
            </a:r>
            <a:r>
              <a:rPr b="0" lang="ar-SA"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
          <p:cNvSpPr/>
          <p:nvPr/>
        </p:nvSpPr>
        <p:spPr>
          <a:xfrm>
            <a:off x="1734840" y="2317680"/>
            <a:ext cx="5676120" cy="22269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نشاء الكمبيالة (إصدار الكمبيالة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حـ/ أوراق القبض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إلى حـ / المبيعات</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
          <p:cNvSpPr/>
          <p:nvPr/>
        </p:nvSpPr>
        <p:spPr>
          <a:xfrm>
            <a:off x="2022840" y="615600"/>
            <a:ext cx="7468560" cy="5641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الات التصرف بالكمبيالة :</a:t>
            </a:r>
            <a:endParaRPr b="0" lang="en-US" sz="28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الإحتفاظ بالكمبيالة حتى تاريخ الإستحقاق لتحصيلها: </a:t>
            </a:r>
            <a:endParaRPr b="0" lang="en-US" sz="2400" spc="-1" strike="noStrike">
              <a:solidFill>
                <a:srgbClr val="ffffff"/>
              </a:solidFill>
              <a:latin typeface="Arial"/>
            </a:endParaRPr>
          </a:p>
          <a:p>
            <a:pPr lvl="1" marL="457200" algn="r" rtl="1">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قيام المسحوب علية بسداد الكمبيالة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البنك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أوراق القبض</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رفض المسحوب علية سداد قيمة الكمبيالة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هناك مصاريف يلتزم بدفعها بالإضافة إلى قيمة الورقة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مصاريف بروتستو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بنك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ثم قيد تحميلة بالمصاريف بالإضافة للدين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المدينين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مذكورين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ـ / أوراق القبض</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مصاريف بروتستو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
          <p:cNvSpPr/>
          <p:nvPr/>
        </p:nvSpPr>
        <p:spPr>
          <a:xfrm>
            <a:off x="0" y="1683360"/>
            <a:ext cx="9144000" cy="3507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تظهير الكمبيالة:</a:t>
            </a:r>
            <a:endParaRPr b="0" lang="en-US" sz="2800" spc="-1" strike="noStrike">
              <a:solidFill>
                <a:srgbClr val="ffffff"/>
              </a:solidFill>
              <a:latin typeface="Arial"/>
            </a:endParaRPr>
          </a:p>
          <a:p>
            <a:pPr algn="r" rtl="1">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يس من الضروري أن تبقى الورقة لدى المنشأة المستفيدة منها حتى موعد الإستحقاق فقد تتصرف بها إما بتظهيرها لمنشأة أخرى لبضاعة مشتراة أوخدمة مقدمة أوسداد لدين أوخصم قيمتها لدى البنك وأخذ قيمتها الحالية</a:t>
            </a:r>
            <a:endParaRPr b="0" lang="en-US" sz="2400" spc="-1" strike="noStrike">
              <a:solidFill>
                <a:srgbClr val="ffffff"/>
              </a:solidFill>
              <a:latin typeface="Arial"/>
            </a:endParaRPr>
          </a:p>
          <a:p>
            <a:pPr algn="r" rtl="1">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خصم الكمبيالة لدى البنك:</a:t>
            </a:r>
            <a:endParaRPr b="0" lang="en-US" sz="2800" spc="-1" strike="noStrike">
              <a:solidFill>
                <a:srgbClr val="ffffff"/>
              </a:solidFill>
              <a:latin typeface="Arial"/>
            </a:endParaRPr>
          </a:p>
          <a:p>
            <a:pPr algn="r" rtl="1">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خذ قيمتها الحالية نقدا من البنك قبل موعد إستحقاقها .</a:t>
            </a:r>
            <a:endParaRPr b="0" lang="en-US" sz="2400" spc="-1" strike="noStrike">
              <a:solidFill>
                <a:srgbClr val="ffffff"/>
              </a:solidFill>
              <a:latin typeface="Arial"/>
            </a:endParaRPr>
          </a:p>
          <a:p>
            <a:pPr algn="ct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
          <p:cNvSpPr/>
          <p:nvPr/>
        </p:nvSpPr>
        <p:spPr>
          <a:xfrm>
            <a:off x="138240" y="2742840"/>
            <a:ext cx="8868960" cy="13737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يف يتم إظهار أوراق القبض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إظهارها في قائمة المركز المالي ضمن الأصول المتداول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
          <p:cNvSpPr/>
          <p:nvPr/>
        </p:nvSpPr>
        <p:spPr>
          <a:xfrm>
            <a:off x="825120" y="755640"/>
            <a:ext cx="8532360" cy="49705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ثالثا :المدينين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بيع بالأجل هو سبب وجود المدينين وهو أصل من الأصول المتداول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يد البيع بالأجل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ن حـ / المدين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مبيع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قد يحصل على خصم عند السداد قبل الأجل (خصم مسموح ب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خصم مسموح ب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مدين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يقوم برد جزء من البضاعه أوكل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مردودات ومسموحات المبيع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مدينين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
          <p:cNvSpPr/>
          <p:nvPr/>
        </p:nvSpPr>
        <p:spPr>
          <a:xfrm>
            <a:off x="0" y="1556640"/>
            <a:ext cx="9144000" cy="3751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ديون المعدومة والديون المشكوك في تحصيلها</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بيع بالأجل يساعد على ترويج السلع ولكن في نفس الوقت يراعي عدم تحصيل بعض الديون من المدينين لأسباب من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فلاس المدينين / وفاته دون ترك تركه تكفي لسداد ديون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إستحالة تحصيل الديون يعتبر دينا معدوما يمثل خسارة للمنشأ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المنشأة يجب أن تحمل كل سنة تم البيع فيها بخسارة بالديون المعدومة من ذلك البيع فلا يتحمله إيراد سنة أخرى تطبيقا لمبدأ المقابلة ومبدأ الحيطة والحذر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تعمل دراسة دقيقه لديونها وتعمل مخصص لها يخصم من إيراد السنة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
          <p:cNvSpPr/>
          <p:nvPr/>
        </p:nvSpPr>
        <p:spPr>
          <a:xfrm>
            <a:off x="-10800" y="1770480"/>
            <a:ext cx="9710280" cy="22885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خصص الديون المشكوك في تحصيل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ند إعداد المخصص لابد م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تحديد نسبة من رصيد المدين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تحديد نسبة من المبيعات الآجل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دراسة لكل حساب وتقدير المبالغ التي لاتحصل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 دراسة تاريخ الديون وتقسم الديون إلى ديون مستحقة وديون غير مستحق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
          <p:cNvSpPr/>
          <p:nvPr/>
        </p:nvSpPr>
        <p:spPr>
          <a:xfrm>
            <a:off x="0" y="1055880"/>
            <a:ext cx="8964720" cy="4757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دام الديون مع وجود المخصص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ندما تتأكد المنشأة من إستحالة قيام المدين بالسداد تقرر إعتبار الدين معدوما وهذا يحتم تخفيض حساب المدينين بذلك الدين ويخصم ذلك الدين من المخصص.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دام الديون مع عدم وجود مخصص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لايكون هناك مخصص للديون المشكوك في تحصيلها وتقرر المنشأة إعدام ديون لإستحالة تحصيلها فإنه يخصم مباشرة من المدينين ويضاف على مصاريف الديون المشكوك في تحصيلها</a:t>
            </a:r>
            <a:r>
              <a:rPr b="0" lang="ar-SA" sz="1800" spc="-1" strike="noStrike">
                <a:solidFill>
                  <a:srgbClr val="ffffff"/>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ظهار المدينين ومخصص الديون المشكوك في تحصيل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تم إظهار المدينين في قائمة المركز المالي ضمن الاصول المتداولة ويخصم منها مخصص الديون المشكوك في تحصيلها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2T09:13:58Z</dcterms:created>
  <dc:creator>User</dc:creator>
  <dc:description/>
  <dc:language>en-US</dc:language>
  <cp:lastModifiedBy>User</cp:lastModifiedBy>
  <dcterms:modified xsi:type="dcterms:W3CDTF">2009-12-13T07:40:16Z</dcterms:modified>
  <cp:revision>3</cp:revision>
  <dc:subject/>
  <dc:title>Slide 1</dc:title>
</cp:coreProperties>
</file>