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5A7F5-C34C-43C6-A7DF-7AA35434F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47522-776D-4AD2-B47C-9BD772A8C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DCF67-CCCB-4A5F-A855-5E677C618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0C219-9E86-4E2A-A158-79BB9B56D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221AD4-F5EB-47C1-B49F-85DD1E0078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B8B6C-03AD-448A-BE86-EB7384ECA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9D091-4B8A-4947-8E82-8008EDB5F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50192-C694-4056-B768-CA234229E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99BAA-533B-4D65-8103-B85F7C261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FB15C-0A6D-4663-91CA-E8ECA7AD1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9E1B9-5BAB-48BD-B043-4D670E211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F1856-2850-41BD-BA93-5479CC28B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8F01D-913F-48A9-A7C3-BF5B0F4D0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20A53-4E6C-4DF6-AF82-6C5C6E21C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39EF9-1A89-4EC0-A0BB-FD9A5164B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7647B0-1A89-48CC-BBAE-9111A165A0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B1D24B-B930-4923-9013-71DDD85260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08F4E-414B-4DAE-8DCC-4328147D4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97413-280D-4AB6-95C4-B84498853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2A108-F63D-4A7C-9C5E-6E3101DFE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E5611-82A4-41AE-8FBD-9EA5788A7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F8350-B1F1-42FF-9EFE-60347B6C4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1A24F-82F1-4613-9321-0CB1E26FD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1CD55-408C-44A1-B859-2CF5093967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29916-541F-447F-B1CB-65FA4C07EB1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2853E-CC42-45BF-A337-72489ABDE79B}"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9" name=""/>
          <p:cNvSpPr/>
          <p:nvPr/>
        </p:nvSpPr>
        <p:spPr>
          <a:xfrm>
            <a:off x="0" y="1316520"/>
            <a:ext cx="9144000" cy="3933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ثانيا : أوراق القبض</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هي أصل متداول يظهر في قائمة المركز المالي إذاتم البيع بالأجل فقد يطلب البائع من المشتري تحرير تعهد بالدفع في تاريخ معين على أن يكون التعهد غير مربوط بشرط.</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تسمى كمبيالة وهي وعد بقبض مبلغ من النقود في تاريخ معين .وتسمى في يد المستفيد (أ.ق) وقد تكون الورقة نشأت بسبب بيع بضاعة للمشتري أو بسبب تحويل دينه من مجرد دين بإسمه إلى دين موثق بورقة قبض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
          <p:cNvSpPr/>
          <p:nvPr/>
        </p:nvSpPr>
        <p:spPr>
          <a:xfrm>
            <a:off x="250920" y="1555560"/>
            <a:ext cx="8497800" cy="3751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ستعادة ماسبق إعدامه من الديون :</a:t>
            </a:r>
            <a:endParaRPr b="0" lang="en-US" sz="2400" spc="-1" strike="noStrike">
              <a:solidFill>
                <a:srgbClr val="ffffff"/>
              </a:solidFill>
              <a:latin typeface="Arial"/>
            </a:endParaRPr>
          </a:p>
          <a:p>
            <a:pPr algn="r" rtl="1">
              <a:tabLst>
                <a:tab algn="l" pos="0"/>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د تتمكن المنشأة من إستعادة ديون قد سبق إعدامها فتقوم بإعادة تسجيل الدين في حساب المدينين وتجعل المخصص دائنا ثم قيد التحصيل </a:t>
            </a:r>
            <a:endParaRPr b="0" lang="en-US" sz="2400" spc="-1" strike="noStrike">
              <a:solidFill>
                <a:srgbClr val="ffffff"/>
              </a:solidFill>
              <a:latin typeface="Arial"/>
            </a:endParaRPr>
          </a:p>
          <a:p>
            <a:pPr algn="r" rtl="1">
              <a:tabLst>
                <a:tab algn="l" pos="0"/>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حـ / المدينين </a:t>
            </a:r>
            <a:endParaRPr b="0" lang="en-US" sz="2400" spc="-1" strike="noStrike">
              <a:solidFill>
                <a:srgbClr val="ffffff"/>
              </a:solidFill>
              <a:latin typeface="Arial"/>
            </a:endParaRPr>
          </a:p>
          <a:p>
            <a:pPr algn="r" rtl="1">
              <a:tabLst>
                <a:tab algn="l" pos="0"/>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ـ / مخصص الديون المشكوك في تحصيلها </a:t>
            </a:r>
            <a:endParaRPr b="0" lang="en-US" sz="2400" spc="-1" strike="noStrike">
              <a:solidFill>
                <a:srgbClr val="ffffff"/>
              </a:solidFill>
              <a:latin typeface="Arial"/>
            </a:endParaRPr>
          </a:p>
          <a:p>
            <a:pPr algn="r" rtl="1">
              <a:tabLst>
                <a:tab algn="l" pos="0"/>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يد التحصيل :</a:t>
            </a:r>
            <a:endParaRPr b="0" lang="en-US" sz="2400" spc="-1" strike="noStrike">
              <a:solidFill>
                <a:srgbClr val="ffffff"/>
              </a:solidFill>
              <a:latin typeface="Arial"/>
            </a:endParaRPr>
          </a:p>
          <a:p>
            <a:pPr algn="r" rtl="1">
              <a:tabLst>
                <a:tab algn="l" pos="0"/>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حـ / النقدية </a:t>
            </a:r>
            <a:endParaRPr b="0" lang="en-US" sz="2400" spc="-1" strike="noStrike">
              <a:solidFill>
                <a:srgbClr val="ffffff"/>
              </a:solidFill>
              <a:latin typeface="Arial"/>
            </a:endParaRPr>
          </a:p>
          <a:p>
            <a:pPr algn="r" rtl="1">
              <a:tabLst>
                <a:tab algn="l" pos="0"/>
                <a:tab algn="l" pos="5014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ـ /المدينين</a:t>
            </a:r>
            <a:r>
              <a:rPr b="0" lang="ar-SA"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501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
          <p:cNvSpPr/>
          <p:nvPr/>
        </p:nvSpPr>
        <p:spPr>
          <a:xfrm>
            <a:off x="1734840" y="2317680"/>
            <a:ext cx="5676120" cy="22269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نشاء الكمبيالة (إصدار الكمبيالة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ن حـ/ أوراق القبض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إلى حـ / المبيعات</a:t>
            </a:r>
            <a:r>
              <a:rPr b="0"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1" name=""/>
          <p:cNvSpPr/>
          <p:nvPr/>
        </p:nvSpPr>
        <p:spPr>
          <a:xfrm>
            <a:off x="2022840" y="615600"/>
            <a:ext cx="7468560" cy="5641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حالات التصرف بالكمبيالة :</a:t>
            </a:r>
            <a:endParaRPr b="0" lang="en-US" sz="2800" spc="-1" strike="noStrike">
              <a:solidFill>
                <a:srgbClr val="ffffff"/>
              </a:solidFill>
              <a:latin typeface="Arial"/>
            </a:endParaRPr>
          </a:p>
          <a:p>
            <a:pPr algn="r" rtl="1">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الإحتفاظ بالكمبيالة حتى تاريخ الإستحقاق لتحصيلها: </a:t>
            </a:r>
            <a:endParaRPr b="0" lang="en-US" sz="2400" spc="-1" strike="noStrike">
              <a:solidFill>
                <a:srgbClr val="ffffff"/>
              </a:solidFill>
              <a:latin typeface="Arial"/>
            </a:endParaRPr>
          </a:p>
          <a:p>
            <a:pPr lvl="1" marL="457200" algn="r" rtl="1">
              <a:lnSpc>
                <a:spcPct val="100000"/>
              </a:lnSpc>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أ-قيام المسحوب علية بسداد الكمبيالة </a:t>
            </a:r>
            <a:endParaRPr b="0" lang="en-US" sz="2400" spc="-1" strike="noStrike">
              <a:solidFill>
                <a:srgbClr val="ffffff"/>
              </a:solidFill>
              <a:latin typeface="Arial"/>
            </a:endParaRPr>
          </a:p>
          <a:p>
            <a:pPr algn="r" rtl="1">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حـ / البنك </a:t>
            </a:r>
            <a:endParaRPr b="0" lang="en-US" sz="2400" spc="-1" strike="noStrike">
              <a:solidFill>
                <a:srgbClr val="ffffff"/>
              </a:solidFill>
              <a:latin typeface="Arial"/>
            </a:endParaRPr>
          </a:p>
          <a:p>
            <a:pPr algn="r" rtl="1">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ـ / أوراق القبض</a:t>
            </a:r>
            <a:endParaRPr b="0" lang="en-US" sz="2400" spc="-1" strike="noStrike">
              <a:solidFill>
                <a:srgbClr val="ffffff"/>
              </a:solidFill>
              <a:latin typeface="Arial"/>
            </a:endParaRPr>
          </a:p>
          <a:p>
            <a:pPr algn="r" rtl="1">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ب-رفض المسحوب علية سداد قيمة الكمبيالة            </a:t>
            </a:r>
            <a:endParaRPr b="0" lang="en-US" sz="2400" spc="-1" strike="noStrike">
              <a:solidFill>
                <a:srgbClr val="ffffff"/>
              </a:solidFill>
              <a:latin typeface="Arial"/>
            </a:endParaRPr>
          </a:p>
          <a:p>
            <a:pPr algn="r" rtl="1">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كون هناك مصاريف يلتزم بدفعها بالإضافة إلى قيمة الورقة </a:t>
            </a:r>
            <a:endParaRPr b="0" lang="en-US" sz="2400" spc="-1" strike="noStrike">
              <a:solidFill>
                <a:srgbClr val="ffffff"/>
              </a:solidFill>
              <a:latin typeface="Arial"/>
            </a:endParaRPr>
          </a:p>
          <a:p>
            <a:pPr algn="r" rtl="1">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حـ / مصاريف بروتستو </a:t>
            </a:r>
            <a:endParaRPr b="0" lang="en-US" sz="2400" spc="-1" strike="noStrike">
              <a:solidFill>
                <a:srgbClr val="ffffff"/>
              </a:solidFill>
              <a:latin typeface="Arial"/>
            </a:endParaRPr>
          </a:p>
          <a:p>
            <a:pPr algn="r" rtl="1">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ـ / البنك </a:t>
            </a:r>
            <a:endParaRPr b="0" lang="en-US" sz="2400" spc="-1" strike="noStrike">
              <a:solidFill>
                <a:srgbClr val="ffffff"/>
              </a:solidFill>
              <a:latin typeface="Arial"/>
            </a:endParaRPr>
          </a:p>
          <a:p>
            <a:pPr algn="r" rtl="1">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ثم قيد تحميلة بالمصاريف بالإضافة للدين </a:t>
            </a:r>
            <a:endParaRPr b="0" lang="en-US" sz="2400" spc="-1" strike="noStrike">
              <a:solidFill>
                <a:srgbClr val="ffffff"/>
              </a:solidFill>
              <a:latin typeface="Arial"/>
            </a:endParaRPr>
          </a:p>
          <a:p>
            <a:pPr algn="r" rtl="1">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حـ / المدينين </a:t>
            </a:r>
            <a:endParaRPr b="0" lang="en-US" sz="2400" spc="-1" strike="noStrike">
              <a:solidFill>
                <a:srgbClr val="ffffff"/>
              </a:solidFill>
              <a:latin typeface="Arial"/>
            </a:endParaRPr>
          </a:p>
          <a:p>
            <a:pPr algn="r" rtl="1">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مذكورين </a:t>
            </a:r>
            <a:endParaRPr b="0" lang="en-US" sz="2400" spc="-1" strike="noStrike">
              <a:solidFill>
                <a:srgbClr val="ffffff"/>
              </a:solidFill>
              <a:latin typeface="Arial"/>
            </a:endParaRPr>
          </a:p>
          <a:p>
            <a:pPr algn="r" rtl="1">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ـ / أوراق القبض</a:t>
            </a:r>
            <a:endParaRPr b="0" lang="en-US" sz="2400" spc="-1" strike="noStrike">
              <a:solidFill>
                <a:srgbClr val="ffffff"/>
              </a:solidFill>
              <a:latin typeface="Arial"/>
            </a:endParaRPr>
          </a:p>
          <a:p>
            <a:pPr algn="r" rtl="1">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 مصاريف بروتستو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
          <p:cNvSpPr/>
          <p:nvPr/>
        </p:nvSpPr>
        <p:spPr>
          <a:xfrm>
            <a:off x="0" y="1683360"/>
            <a:ext cx="9144000" cy="3507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a:t>
            </a:r>
            <a:r>
              <a:rPr b="1" lang="ar-SA" sz="2800" spc="-1" strike="noStrike">
                <a:solidFill>
                  <a:srgbClr val="ffffff"/>
                </a:solidFill>
                <a:latin typeface="Arial"/>
              </a:rPr>
              <a:t>-تظهير الكمبيالة:</a:t>
            </a:r>
            <a:endParaRPr b="0" lang="en-US" sz="2800" spc="-1" strike="noStrike">
              <a:solidFill>
                <a:srgbClr val="ffffff"/>
              </a:solidFill>
              <a:latin typeface="Arial"/>
            </a:endParaRPr>
          </a:p>
          <a:p>
            <a:pPr algn="r" rtl="1">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يس من الضروري أن تبقى الورقة لدى المنشأة المستفيدة منها حتى موعد الإستحقاق فقد تتصرف بها إما بتظهيرها لمنشأة أخرى لبضاعة مشتراة أوخدمة مقدمة أوسداد لدين أوخصم قيمتها لدى البنك وأخذ قيمتها الحالية</a:t>
            </a:r>
            <a:endParaRPr b="0" lang="en-US" sz="2400" spc="-1" strike="noStrike">
              <a:solidFill>
                <a:srgbClr val="ffffff"/>
              </a:solidFill>
              <a:latin typeface="Arial"/>
            </a:endParaRPr>
          </a:p>
          <a:p>
            <a:pPr algn="r" rtl="1">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3</a:t>
            </a:r>
            <a:r>
              <a:rPr b="1" lang="ar-SA" sz="2800" spc="-1" strike="noStrike">
                <a:solidFill>
                  <a:srgbClr val="ffffff"/>
                </a:solidFill>
                <a:latin typeface="Arial"/>
              </a:rPr>
              <a:t>-خصم الكمبيالة لدى البنك:</a:t>
            </a:r>
            <a:endParaRPr b="0" lang="en-US" sz="2800" spc="-1" strike="noStrike">
              <a:solidFill>
                <a:srgbClr val="ffffff"/>
              </a:solidFill>
              <a:latin typeface="Arial"/>
            </a:endParaRPr>
          </a:p>
          <a:p>
            <a:pPr algn="r" rtl="1">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خذ قيمتها الحالية نقدا من البنك قبل موعد إستحقاقها .</a:t>
            </a:r>
            <a:endParaRPr b="0" lang="en-US" sz="2400" spc="-1" strike="noStrike">
              <a:solidFill>
                <a:srgbClr val="ffffff"/>
              </a:solidFill>
              <a:latin typeface="Arial"/>
            </a:endParaRPr>
          </a:p>
          <a:p>
            <a:pPr algn="ct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
          <p:cNvSpPr/>
          <p:nvPr/>
        </p:nvSpPr>
        <p:spPr>
          <a:xfrm>
            <a:off x="138240" y="2742840"/>
            <a:ext cx="8868960" cy="13737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كيف يتم إظهار أوراق القبض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تم إظهارها في قائمة المركز المالي ضمن الأصول المتداول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
          <p:cNvSpPr/>
          <p:nvPr/>
        </p:nvSpPr>
        <p:spPr>
          <a:xfrm>
            <a:off x="825120" y="755640"/>
            <a:ext cx="8532360" cy="49705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ثالثا :المدينين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بيع بالأجل هو سبب وجود المدينين وهو أصل من الأصول المتداول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يد البيع بالأجل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ن حـ / المديني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ـ / المبيعات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قد يحصل على خصم عند السداد قبل الأجل (خصم مسموح به):</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حـ / خصم مسموح به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ـ / المدينين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د يقوم برد جزء من البضاعه أوكلها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حـ / مردودات ومسموحات المبيعات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ـ / المدينين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
          <p:cNvSpPr/>
          <p:nvPr/>
        </p:nvSpPr>
        <p:spPr>
          <a:xfrm>
            <a:off x="0" y="1556640"/>
            <a:ext cx="9144000" cy="3751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ديون المعدومة والديون المشكوك في تحصيلها</a:t>
            </a: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بيع بالأجل يساعد على ترويج السلع ولكن في نفس الوقت يراعي عدم تحصيل بعض الديون من المدينين لأسباب منها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إفلاس المدينين / وفاته دون ترك تركه تكفي لسداد ديونه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فإستحالة تحصيل الديون يعتبر دينا معدوما يمثل خسارة للمنشأ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فالمنشأة يجب أن تحمل كل سنة تم البيع فيها بخسارة بالديون المعدومة من ذلك البيع فلا يتحمله إيراد سنة أخرى تطبيقا لمبدأ المقابلة ومبدأ الحيطة والحذر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فتعمل دراسة دقيقه لديونها وتعمل مخصص لها يخصم من إيراد السنة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
          <p:cNvSpPr/>
          <p:nvPr/>
        </p:nvSpPr>
        <p:spPr>
          <a:xfrm>
            <a:off x="-10800" y="1770480"/>
            <a:ext cx="9710280" cy="22885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خصص الديون المشكوك في تحصيلها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عند إعداد المخصص لابد من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 تحديد نسبة من رصيد المدينين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 تحديد نسبة من المبيعات الآجل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3</a:t>
            </a:r>
            <a:r>
              <a:rPr b="0" lang="ar-SA" sz="2400" spc="-1" strike="noStrike">
                <a:solidFill>
                  <a:srgbClr val="ffffff"/>
                </a:solidFill>
                <a:latin typeface="Arial"/>
              </a:rPr>
              <a:t>- دراسة لكل حساب وتقدير المبالغ التي لاتحصل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4</a:t>
            </a:r>
            <a:r>
              <a:rPr b="0" lang="ar-SA" sz="2400" spc="-1" strike="noStrike">
                <a:solidFill>
                  <a:srgbClr val="ffffff"/>
                </a:solidFill>
                <a:latin typeface="Arial"/>
              </a:rPr>
              <a:t>- دراسة تاريخ الديون وتقسم الديون إلى ديون مستحقة وديون غير مستحق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
          <p:cNvSpPr/>
          <p:nvPr/>
        </p:nvSpPr>
        <p:spPr>
          <a:xfrm>
            <a:off x="0" y="1055880"/>
            <a:ext cx="8964720" cy="4757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عدام الديون مع وجود المخصص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عندما تتأكد المنشأة من إستحالة قيام المدين بالسداد تقرر إعتبار الدين معدوما وهذا يحتم تخفيض حساب المدينين بذلك الدين ويخصم ذلك الدين من المخصص.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عدام الديون مع عدم وجود مخصص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د لايكون هناك مخصص للديون المشكوك في تحصيلها وتقرر المنشأة إعدام ديون لإستحالة تحصيلها فإنه يخصم مباشرة من المدينين ويضاف على مصاريف الديون المشكوك في تحصيلها</a:t>
            </a:r>
            <a:r>
              <a:rPr b="0" lang="ar-SA" sz="1800" spc="-1" strike="noStrike">
                <a:solidFill>
                  <a:srgbClr val="ffffff"/>
                </a:solidFill>
                <a:latin typeface="Arial"/>
              </a:rPr>
              <a:t>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ظهار المدينين ومخصص الديون المشكوك في تحصيلها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تم إظهار المدينين في قائمة المركز المالي ضمن الاصول المتداولة ويخصم منها مخصص الديون المشكوك في تحصيلها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2T09:13:58Z</dcterms:created>
  <dc:creator>User</dc:creator>
  <dc:description/>
  <dc:language>en-US</dc:language>
  <cp:lastModifiedBy>User</cp:lastModifiedBy>
  <dcterms:modified xsi:type="dcterms:W3CDTF">2009-12-13T07:40:16Z</dcterms:modified>
  <cp:revision>3</cp:revision>
  <dc:subject/>
  <dc:title>Slide 1</dc:title>
</cp:coreProperties>
</file>