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7.gif" ContentType="image/gif"/>
  <Override PartName="/ppt/media/image35.png" ContentType="image/png"/>
  <Override PartName="/ppt/media/image17.wmf" ContentType="image/x-wmf"/>
  <Override PartName="/ppt/media/image9.png" ContentType="image/pn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png" ContentType="image/png"/>
  <Override PartName="/ppt/media/image29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36.png" ContentType="image/png"/>
  <Override PartName="/ppt/media/image8.png" ContentType="image/png"/>
  <Override PartName="/ppt/media/image39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6.jpeg" ContentType="image/jpe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EE59-EEFC-43DD-9ECA-AE59353D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FF8-93D5-47CC-8C9E-2E815129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go through a cycle that consists of four stages: G1, S, G2, and M. During G1, growth occurs as organelles double. During the S stage, DNA replication occurs as chromosomes duplicate. During the G2 stage, growth occurs as the cell prepares to divide. During the M stage, mitosis and cytokinesis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886-6AC7-4305-8F7C-FCBD9D57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A8FE-F788-43BB-B071-2CC7E4DE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C43-5520-41BE-ADD4-3E89E51D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6A7-8F4E-4766-806A-EA334F19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216-BB89-47B0-A57E-AFD4D39B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67F-1131-473E-8CCF-585E5C2A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CB2-8882-4A91-85A0-31CE8E79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1A4-04B7-4757-AFCA-A444B410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7C3-5627-4D9A-A2E0-C515DB5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6C2-C47E-4EEC-8DD0-0BA82864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A2A-2137-407D-ABCD-BD6409E9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1D3-4C40-48D6-82D2-DBCC21CD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240-7533-4EE3-A6E4-48CAD77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A16-3B10-4BFF-84B4-A683AED1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962-7ADD-47A4-9CDD-BE50303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424-1F80-4AFA-9AC5-F4D1273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7AE-3212-48CB-9268-AD1D65627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75;&#1604;&#1582;&#1604;&#1610;&#1577;" TargetMode="External"/><Relationship Id="rId2" Type="http://schemas.openxmlformats.org/officeDocument/2006/relationships/hyperlink" Target="http://ar.wikipedia.org/wiki/&#1575;&#1606;&#1602;&#1587;&#1575;&#1605;_&#1582;&#1604;&#1608;&#1610;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ff9999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066680"/>
            <a:ext cx="5715000" cy="44960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286000"/>
            <a:ext cx="4896000" cy="76428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تضاعف الد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8769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352680"/>
            <a:ext cx="4952880" cy="1535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              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إعداد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د. مها حسن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عبد العزيز داغ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800600"/>
            <a:ext cx="25905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طالبات موهبة صيف </a:t>
            </a: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2438280"/>
            <a:ext cx="84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4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28880" y="1498680"/>
            <a:ext cx="8115120" cy="535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7840" y="8388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يلف شريط الـ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DNA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على بروتينات الهستونات ليكون النيوكليسومات التي تكون المصفوفات النووية التي ترص فوق بعضها لتكوين الكروموسوم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91628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199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75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060640"/>
            <a:ext cx="29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ucle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64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903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335268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8840" y="3429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enoid 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180800" y="33904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00" y="3048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er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ne oc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247840" y="41522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9520" y="4038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6858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295280"/>
            <a:ext cx="5715000" cy="42674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2743200"/>
            <a:ext cx="43434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bd7c9d"/>
                    </a:gs>
                  </a:gsLst>
                  <a:lin ang="5400000"/>
                </a:gradFill>
                <a:latin typeface="ParkAvenue BT"/>
              </a:rPr>
              <a:t>تضاعف الدنا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100000">
                    <a:srgbClr val="bd7c9d"/>
                  </a:gs>
                </a:gsLst>
                <a:lin ang="5400000"/>
              </a:gradFill>
              <a:latin typeface="ParkAvenue BT"/>
              <a:ea typeface="ParkAvenue B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9000" y="23623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latin typeface="Garamond"/>
              </a:rPr>
              <a:t>DNA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latin typeface="Garamond"/>
              <a:ea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cycle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ورة الخل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39080" cy="483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05720" y="46483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ضاعف الد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057400"/>
            <a:ext cx="28954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مو الخ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 تضاعف العض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4038480" cy="457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مو الخلوي و إستعداد الخلية للإنقس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9907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إنقس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دورة الخلية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(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Cell Cycl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ي الفترة التي تمر ب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الخ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انقسامين خلويي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تتالي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م تقسيم هذه الدورة إلى عدة أطوار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يعرفوا باسم الطَّورُ البَينِيّ و الطور الأخي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يتضمن حدوث عمليتين انقسام نووي و سيتوبلازمي. بعض الخلايا التي لم تعد تنقسم أو دخلت السبات تعطى أنها ف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تمر دورة الخلية لمد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ة كحد ادنى ، ولا تنتقل الخلية من الطور الأو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تى تجهز المركبات الكيميائيةالتى تحتاجها للانقسام من أحماض أمينية و ليبيدات و سكريات و لذلك يعتمد وقت و سرعة انقسام الخلية على كمية المواد الغذائية التى يتلقاها الجس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33"/>
                </a:solidFill>
                <a:latin typeface="Arial"/>
              </a:rPr>
              <a:t>ولدورة حياة الخليةطورين هما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لطور البيني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ستغرق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من الدوره ،ويتم في ثلاث فترات ه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00"/>
                </a:solidFill>
                <a:latin typeface="Arial"/>
              </a:rPr>
              <a:t>الفترة الأولى للنم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. فيها يتضاعف عدد عضيات الخلية وإنزم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فترة البناء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ضاعف ال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الضع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فترة الثانية للنم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: فيها تنمو الخلية سريعاً إستعدادً للإنقس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ور الإنقسام الخلو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ينتهي هذا الطور بتكون خليتن تدخل كل واحدة فيهما طوراً بينياً جديدا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جزئ الد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752480"/>
            <a:ext cx="1295280" cy="1143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752480"/>
            <a:ext cx="685800" cy="1067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440" y="3124080"/>
            <a:ext cx="685800" cy="838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114800"/>
            <a:ext cx="685800" cy="10666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5440" y="5486400"/>
            <a:ext cx="685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81952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5181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962520"/>
            <a:ext cx="5335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53316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324480"/>
            <a:ext cx="53352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447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828800"/>
            <a:ext cx="30456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11480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19520" y="1371600"/>
            <a:ext cx="914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U      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G      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       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R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-        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       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      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505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eoxiribose (S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9960" y="12193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5040" y="30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3120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5760" y="1447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14479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4048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61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54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312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8040" y="3022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2193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3733560" cy="762120"/>
          </a:xfrm>
          <a:prstGeom prst="rect">
            <a:avLst/>
          </a:prstGeom>
          <a:noFill/>
          <a:ln w="57240">
            <a:solidFill>
              <a:srgbClr val="3333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تضاعف الد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647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جب أن يتم التضاعف قبل الإنقسام الخل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عمل إنزيم الهلكيز على فتح شريط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يعمل إنزيم البوليمريز على تكوين شريط جديد مكمل للشريط القد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0481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040" y="274320"/>
            <a:ext cx="3048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c80"/>
                </a:solidFill>
                <a:latin typeface="Arial"/>
              </a:rPr>
              <a:t>مق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د.ن.أ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زن الرئيسي للمعلومات في ال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طلق على تدفق الأحداث البيولوجية الهامة التي تحدث من خلال جزئ د.ن.أ اسم </a:t>
            </a:r>
            <a:r>
              <a:rPr b="1" lang="ar-SA" sz="3200" spc="-1" strike="noStrike">
                <a:solidFill>
                  <a:srgbClr val="666699"/>
                </a:solidFill>
                <a:latin typeface="Arial"/>
              </a:rPr>
              <a:t>المبدأ المركز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i-conservative Replication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يتم التضاعف بشكل نصف محاف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828800"/>
          <a:ext cx="8458200" cy="476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48320" y="1584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-72000"/>
          </a:blip>
          <a:srcRect l="0" t="0" r="1803" b="9437"/>
          <a:stretch/>
        </p:blipFill>
        <p:spPr>
          <a:xfrm>
            <a:off x="395280" y="333360"/>
            <a:ext cx="4100400" cy="626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74600" y="3637080"/>
            <a:ext cx="2729160" cy="177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417680" y="2036880"/>
            <a:ext cx="2095560" cy="23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65320" y="1198440"/>
            <a:ext cx="1355760" cy="2357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827440" y="1122480"/>
            <a:ext cx="1135080" cy="1685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>
            <a:lum bright="-72000"/>
          </a:blip>
          <a:srcRect l="0" t="0" r="1890" b="9437"/>
          <a:stretch/>
        </p:blipFill>
        <p:spPr>
          <a:xfrm>
            <a:off x="4648320" y="304920"/>
            <a:ext cx="4027320" cy="6324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812480" y="761400"/>
            <a:ext cx="31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نزيم البوليمري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286360"/>
            <a:ext cx="344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ه بناء شريط جديد ع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يق إضافة النيوكليوتي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حددة تلو الأخرى حتى يتك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ريط الدنا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1120" y="1676520"/>
            <a:ext cx="46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NA polymeraseII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-72000"/>
          </a:blip>
          <a:srcRect l="0" t="0" r="1890" b="9437"/>
          <a:stretch/>
        </p:blipFill>
        <p:spPr>
          <a:xfrm>
            <a:off x="4648320" y="990720"/>
            <a:ext cx="3733560" cy="548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76720" y="1723680"/>
            <a:ext cx="297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 للإنزيم د.ن.ا بوليمري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إضا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يكلوتيدات فقط لو كان السكر خماسي منقوص الاكس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10000" y="-4853160"/>
            <a:ext cx="324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>
            <a:lum bright="-72000"/>
          </a:blip>
          <a:srcRect l="0" t="0" r="1890" b="9437"/>
          <a:stretch/>
        </p:blipFill>
        <p:spPr>
          <a:xfrm>
            <a:off x="468360" y="990720"/>
            <a:ext cx="3875040" cy="548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729160" cy="2122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409760" y="2514600"/>
            <a:ext cx="2095560" cy="233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057400" y="1676520"/>
            <a:ext cx="1355760" cy="235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819520" y="1600200"/>
            <a:ext cx="1135080" cy="168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21566400">
            <a:off x="2057400" y="838080"/>
            <a:ext cx="54100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NA polymerase II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5880" y="2648880"/>
            <a:ext cx="2590920" cy="33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</a:rPr>
              <a:t>لاحظي السكر منقوص الاكسجين في كل نيكلوتيدة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1752480" y="716040"/>
            <a:ext cx="3962520" cy="2636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>
            <a:lum bright="-36000"/>
          </a:blip>
          <a:srcRect l="0" t="0" r="1890" b="9437"/>
          <a:stretch/>
        </p:blipFill>
        <p:spPr>
          <a:xfrm>
            <a:off x="1752480" y="3535200"/>
            <a:ext cx="3962520" cy="263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057400" y="944640"/>
            <a:ext cx="3300480" cy="2081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981080" y="3763800"/>
            <a:ext cx="330048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685800" y="609480"/>
            <a:ext cx="350532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62120" y="685800"/>
            <a:ext cx="3300120" cy="2081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762120" y="3352680"/>
            <a:ext cx="3352680" cy="2243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28800" y="274320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733920"/>
            <a:ext cx="15264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rcRect l="0" t="16734" r="15622" b="9437"/>
          <a:stretch/>
        </p:blipFill>
        <p:spPr>
          <a:xfrm>
            <a:off x="5181480" y="1371600"/>
            <a:ext cx="289584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150160" y="2558160"/>
            <a:ext cx="30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وهذه الهيدروج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4400" y="17215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زع مجموعة الهيدروك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8520" y="408204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ff"/>
                </a:solidFill>
                <a:latin typeface="Arial"/>
              </a:rPr>
              <a:t>ليتكون جزئ م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09320" y="2209680"/>
            <a:ext cx="3886200" cy="457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52120" y="3048120"/>
            <a:ext cx="3962520" cy="6094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75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75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25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25"/>
                            </p:stCondLst>
                            <p:childTnLst>
                              <p:par>
                                <p:cTn id="1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86440" y="-2383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685800" y="609480"/>
            <a:ext cx="350532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0" t="16734" r="15622" b="9437"/>
          <a:stretch/>
        </p:blipFill>
        <p:spPr>
          <a:xfrm>
            <a:off x="5181480" y="1371600"/>
            <a:ext cx="289584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62120" y="6094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62120" y="3352680"/>
            <a:ext cx="3352680" cy="2452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3880" y="2286000"/>
            <a:ext cx="685800" cy="60948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276720"/>
            <a:ext cx="609480" cy="76176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79756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- H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686440" y="-2383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16734" r="15622" b="9437"/>
          <a:stretch/>
        </p:blipFill>
        <p:spPr>
          <a:xfrm>
            <a:off x="762120" y="457200"/>
            <a:ext cx="3504960" cy="2211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2">
            <a:lum bright="-36000"/>
          </a:blip>
          <a:srcRect l="0" t="0" r="1890" b="9437"/>
          <a:stretch/>
        </p:blipFill>
        <p:spPr>
          <a:xfrm>
            <a:off x="685800" y="3276720"/>
            <a:ext cx="3505320" cy="2332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0" t="16734" r="15622" b="9437"/>
          <a:stretch/>
        </p:blipFill>
        <p:spPr>
          <a:xfrm>
            <a:off x="5181480" y="1371600"/>
            <a:ext cx="3206880" cy="5081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3276720" cy="2159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762120" y="3124080"/>
            <a:ext cx="3724200" cy="2552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508720" y="2288880"/>
            <a:ext cx="256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Arial"/>
              </a:rPr>
              <a:t>تبقى رابطتين غير فارغتين بعد نزع جزئ الم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2286000"/>
            <a:ext cx="685800" cy="60948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76720"/>
            <a:ext cx="609480" cy="761760"/>
          </a:xfrm>
          <a:prstGeom prst="irregularSeal1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279756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- H</a:t>
            </a:r>
            <a:r>
              <a:rPr b="0" lang="en-US" sz="20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990720"/>
            <a:ext cx="5943600" cy="5410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0480" y="199440"/>
            <a:ext cx="16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58064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Arial"/>
              </a:rPr>
              <a:t>تربط بين الجزيئ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21566400">
            <a:off x="1752480" y="609480"/>
            <a:ext cx="541044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phosphodieste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6403320" y="22824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لتكون راب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1828800"/>
            <a:ext cx="4225680" cy="3657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00"/>
              </a:gs>
              <a:gs pos="100000">
                <a:srgbClr val="000066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819520" cy="1858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743200" cy="1808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1800" y="3048120"/>
            <a:ext cx="1447920" cy="1676160"/>
          </a:xfrm>
          <a:prstGeom prst="irregularSeal1">
            <a:avLst/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286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297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ابطة ثنائية الأست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75"/>
                            </p:stCondLst>
                            <p:childTnLst>
                              <p:par>
                                <p:cTn id="20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375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066680" y="1675440"/>
            <a:ext cx="7086600" cy="37335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2133720"/>
          <a:ext cx="624852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523880" y="2133720"/>
                    <a:ext cx="6248520" cy="281916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6003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52480" y="44208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University Roman LET"/>
              </a:rPr>
              <a:t>Growing daughter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42920" y="692280"/>
            <a:ext cx="6934320" cy="5486400"/>
          </a:xfrm>
          <a:prstGeom prst="bevel">
            <a:avLst>
              <a:gd name="adj" fmla="val 11065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1268280"/>
            <a:ext cx="5715000" cy="426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يمكن إستعراض ماسب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</a:rPr>
              <a:t>بشكل اخ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2971800" cy="808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57240">
            <a:solidFill>
              <a:srgbClr val="ffff99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0033"/>
                </a:solidFill>
                <a:latin typeface="Arial"/>
              </a:rPr>
              <a:t>المبدء المرك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يحتوي المبدء المركزي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أحياء الجزيئية على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ت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متين تتحكمان في سريان المعلومات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اولى تتمثل في 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</a:rPr>
              <a:t>تضاعف جزئ الدنا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غير مباشر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إختزالي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ثانية فتتلخص في عمليتي النسخ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الترجمة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ranslation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لتصنيع البروت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905120"/>
            <a:ext cx="914400" cy="3045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905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1905120"/>
            <a:ext cx="76212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1905120"/>
            <a:ext cx="304920" cy="304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1143000"/>
            <a:ext cx="76212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rot="5400000">
            <a:off x="2228040" y="11235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14300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5400000">
            <a:off x="2075760" y="11235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94560" y="2666880"/>
            <a:ext cx="76212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733400" y="2647440"/>
            <a:ext cx="30492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08960" y="266688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885680" y="2647440"/>
            <a:ext cx="304920" cy="3427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057400" y="3429000"/>
            <a:ext cx="91440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056680" y="3429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294560" y="3429000"/>
            <a:ext cx="76212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05120" y="342900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99072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15238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7524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25146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27672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895480" y="3352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71800" y="312336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95480" y="2590200"/>
            <a:ext cx="457200" cy="5331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971800" y="23616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895480" y="18288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71800" y="15994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895480" y="1066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5791320"/>
            <a:ext cx="7617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5400000">
            <a:off x="2685240" y="5771880"/>
            <a:ext cx="30456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63868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61722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2971800"/>
            <a:ext cx="7621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rot="5400000">
            <a:off x="6419160" y="2952360"/>
            <a:ext cx="304920" cy="3430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637960" y="2362320"/>
            <a:ext cx="762120" cy="3045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6114960" y="2342880"/>
            <a:ext cx="30456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637960" y="1752480"/>
            <a:ext cx="76212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520" y="17524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066680"/>
            <a:ext cx="91440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38680" y="4114800"/>
            <a:ext cx="457200" cy="5335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638680" y="358056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2480" y="990720"/>
            <a:ext cx="215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yt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gua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oxyribose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1920" y="502920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NA 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2880" y="556272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oxyrib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5760" y="64008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2440" y="609588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ous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uan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5791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447920" y="632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66652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61722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2520" y="502920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NA 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1440" y="5562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b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6360" y="640080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3040" y="609588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ous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urac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57913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248520" y="632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746712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791320"/>
            <a:ext cx="9144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5791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590920"/>
            <a:ext cx="380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26880" y="4202280"/>
            <a:ext cx="22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Sugar / phosphate “stran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106668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 rot="5400000">
            <a:off x="2019240" y="3237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5880" y="441972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itrogenous base “rung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828800" y="4114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5638680"/>
            <a:ext cx="457200" cy="533520"/>
          </a:xfrm>
          <a:prstGeom prst="pentagon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800" y="31608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-bo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00200" y="6858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1600200" y="6854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189000"/>
            <a:ext cx="23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NA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104840" y="1143000"/>
            <a:ext cx="1485720" cy="5105520"/>
            <a:chOff x="1104840" y="1143000"/>
            <a:chExt cx="1485720" cy="5105520"/>
          </a:xfrm>
        </p:grpSpPr>
        <p:sp>
          <p:nvSpPr>
            <p:cNvPr id="307" name=""/>
            <p:cNvSpPr/>
            <p:nvPr/>
          </p:nvSpPr>
          <p:spPr>
            <a:xfrm>
              <a:off x="1485720" y="2057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5560" y="2057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5720" y="129564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5400000">
              <a:off x="2266920" y="127656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85000" y="2819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1923840" y="2800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485000" y="3581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95560" y="3581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04840" y="1143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1160" y="1676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04840" y="1905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1160" y="2438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04840" y="2667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1160" y="320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04840" y="3429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24160" y="198144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85720" y="4343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556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485000" y="5105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1923840" y="5086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24712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485000" y="5867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95560" y="5867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81160" y="3962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4840" y="4191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1160" y="4724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4840" y="4953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81160" y="5486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04840" y="5715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47840" y="426744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590920" y="1218960"/>
            <a:ext cx="1485360" cy="5105160"/>
            <a:chOff x="2590920" y="1218960"/>
            <a:chExt cx="1485360" cy="5105160"/>
          </a:xfrm>
        </p:grpSpPr>
        <p:sp>
          <p:nvSpPr>
            <p:cNvPr id="338" name=""/>
            <p:cNvSpPr/>
            <p:nvPr/>
          </p:nvSpPr>
          <p:spPr>
            <a:xfrm>
              <a:off x="2628720" y="2057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2057040"/>
              <a:ext cx="76176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1295280"/>
              <a:ext cx="761760" cy="30420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5400000">
              <a:off x="2952000" y="1275840"/>
              <a:ext cx="304200" cy="34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933640" y="2819160"/>
              <a:ext cx="76176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610000" y="280008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80640" y="3581280"/>
              <a:ext cx="914040" cy="3042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780640" y="3581280"/>
              <a:ext cx="30420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619440" y="35042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695760" y="327636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619440" y="274212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95760" y="251424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619440" y="1981080"/>
              <a:ext cx="456840" cy="5328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695760" y="175248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619440" y="121860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5040" y="3504960"/>
              <a:ext cx="1519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81360" y="2057040"/>
              <a:ext cx="30420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28720" y="4343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33640" y="4343040"/>
              <a:ext cx="76176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81360" y="4343040"/>
              <a:ext cx="30420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933640" y="5105160"/>
              <a:ext cx="76176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780640" y="5867280"/>
              <a:ext cx="914040" cy="3042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780640" y="5867280"/>
              <a:ext cx="30420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619440" y="57902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95760" y="556236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9440" y="502812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695760" y="480024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619440" y="4267080"/>
              <a:ext cx="456840" cy="5328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695760" y="403848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040" y="5790960"/>
              <a:ext cx="2282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2647800" y="508608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 txBox="1"/>
          <p:nvPr/>
        </p:nvSpPr>
        <p:spPr>
          <a:xfrm>
            <a:off x="2514600" y="380880"/>
            <a:ext cx="40766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NA Re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336920" y="1484280"/>
            <a:ext cx="462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الخطوة الأولى:  تتكسر الروابط الهيدروجينية بين شريطين الدنا</a:t>
            </a: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يصبح الشريط الدنا مفتوح</a:t>
            </a:r>
            <a:r>
              <a:rPr b="1" lang="ar-SA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DNA “unzip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37640" y="6843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33"/>
                </a:solidFill>
                <a:latin typeface="Times New Roman"/>
              </a:rPr>
              <a:t>تضاغف الد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762120" y="1143000"/>
            <a:ext cx="1485720" cy="5105520"/>
            <a:chOff x="762120" y="1143000"/>
            <a:chExt cx="1485720" cy="5105520"/>
          </a:xfrm>
        </p:grpSpPr>
        <p:sp>
          <p:nvSpPr>
            <p:cNvPr id="373" name=""/>
            <p:cNvSpPr/>
            <p:nvPr/>
          </p:nvSpPr>
          <p:spPr>
            <a:xfrm>
              <a:off x="1143000" y="2057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2840" y="2057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43000" y="129564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5400000">
              <a:off x="1924200" y="127656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142280" y="2819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1581120" y="2800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142280" y="3581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52840" y="3581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120" y="1143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440" y="1676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2120" y="1905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440" y="2438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2120" y="2667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440" y="320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3429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1440" y="198144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43000" y="4343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284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42280" y="51055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1581120" y="50860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0440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142280" y="586764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752840" y="5867640"/>
              <a:ext cx="30456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440" y="39625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419112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440" y="4724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953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440" y="5486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120" y="57150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5120" y="426744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781680" y="1371600"/>
            <a:ext cx="1486080" cy="5105520"/>
            <a:chOff x="6781680" y="1371600"/>
            <a:chExt cx="1486080" cy="5105520"/>
          </a:xfrm>
        </p:grpSpPr>
        <p:sp>
          <p:nvSpPr>
            <p:cNvPr id="404" name=""/>
            <p:cNvSpPr/>
            <p:nvPr/>
          </p:nvSpPr>
          <p:spPr>
            <a:xfrm>
              <a:off x="6819840" y="2209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24760" y="2209680"/>
              <a:ext cx="76212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24760" y="1447920"/>
              <a:ext cx="762120" cy="30456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7143840" y="142884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124040" y="297180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6800760" y="29523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72480" y="37339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972480" y="3733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810560" y="3657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86880" y="34282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810560" y="28954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86880" y="26661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810560" y="21330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886880" y="1904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810560" y="1371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96160" y="365760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72480" y="2209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19840" y="4495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24760" y="4495680"/>
              <a:ext cx="76212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72480" y="4495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124040" y="525780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72480" y="60199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72480" y="6019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810560" y="59436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86880" y="57142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810560" y="51814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886880" y="49521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810560" y="44190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886880" y="4190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6160" y="5943600"/>
              <a:ext cx="228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6838920" y="52383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52320" y="2514600"/>
            <a:ext cx="76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00"/>
                </a:solidFill>
                <a:latin typeface="Times New Roman"/>
              </a:rPr>
              <a:t>الخطوة الثانية : يبتعد الشريطين عن بعضه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56000" y="549360"/>
            <a:ext cx="4752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Times New Roman"/>
              </a:rPr>
              <a:t>تضاعف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666880" y="304920"/>
            <a:ext cx="40770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NA Re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52440" y="2453400"/>
            <a:ext cx="1186920" cy="799560"/>
            <a:chOff x="5752440" y="2453400"/>
            <a:chExt cx="1186920" cy="799560"/>
          </a:xfrm>
        </p:grpSpPr>
        <p:sp>
          <p:nvSpPr>
            <p:cNvPr id="439" name=""/>
            <p:cNvSpPr/>
            <p:nvPr/>
          </p:nvSpPr>
          <p:spPr>
            <a:xfrm flipH="1" rot="21214800">
              <a:off x="6161760" y="25693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5814800">
              <a:off x="6599520" y="2526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1214800">
              <a:off x="5780520" y="247716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1214800">
              <a:off x="5899680" y="30121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3200400"/>
            <a:ext cx="1294920" cy="533520"/>
            <a:chOff x="5334120" y="3200400"/>
            <a:chExt cx="1294920" cy="533520"/>
          </a:xfrm>
        </p:grpSpPr>
        <p:sp>
          <p:nvSpPr>
            <p:cNvPr id="444" name=""/>
            <p:cNvSpPr/>
            <p:nvPr/>
          </p:nvSpPr>
          <p:spPr>
            <a:xfrm flipH="1">
              <a:off x="5714280" y="3352680"/>
              <a:ext cx="761400" cy="304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324480" y="3352680"/>
              <a:ext cx="304560" cy="304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3200400"/>
              <a:ext cx="45684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99840" y="914400"/>
            <a:ext cx="1143360" cy="533520"/>
            <a:chOff x="1599840" y="914400"/>
            <a:chExt cx="1143360" cy="533520"/>
          </a:xfrm>
        </p:grpSpPr>
        <p:sp>
          <p:nvSpPr>
            <p:cNvPr id="448" name=""/>
            <p:cNvSpPr/>
            <p:nvPr/>
          </p:nvSpPr>
          <p:spPr>
            <a:xfrm>
              <a:off x="1600200" y="99072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5400000">
              <a:off x="1618560" y="97128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286000" y="9144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726200" y="2418120"/>
            <a:ext cx="1526400" cy="808920"/>
            <a:chOff x="1726200" y="2418120"/>
            <a:chExt cx="1526400" cy="808920"/>
          </a:xfrm>
        </p:grpSpPr>
        <p:sp>
          <p:nvSpPr>
            <p:cNvPr id="452" name=""/>
            <p:cNvSpPr/>
            <p:nvPr/>
          </p:nvSpPr>
          <p:spPr>
            <a:xfrm flipH="1" rot="499800">
              <a:off x="2083680" y="266184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699200">
              <a:off x="1765440" y="256392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499800">
              <a:off x="2758680" y="266328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499800">
              <a:off x="2890440" y="24332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248520" y="1523880"/>
            <a:ext cx="1371600" cy="762120"/>
            <a:chOff x="6248520" y="1523880"/>
            <a:chExt cx="1371600" cy="762120"/>
          </a:xfrm>
        </p:grpSpPr>
        <p:sp>
          <p:nvSpPr>
            <p:cNvPr id="457" name=""/>
            <p:cNvSpPr/>
            <p:nvPr/>
          </p:nvSpPr>
          <p:spPr>
            <a:xfrm>
              <a:off x="6629400" y="167652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924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48520" y="15238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4840" y="20574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67840" y="1600200"/>
              <a:ext cx="152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590920" y="3276720"/>
            <a:ext cx="1371600" cy="761040"/>
            <a:chOff x="2590920" y="3276720"/>
            <a:chExt cx="1371600" cy="761040"/>
          </a:xfrm>
        </p:grpSpPr>
        <p:sp>
          <p:nvSpPr>
            <p:cNvPr id="463" name=""/>
            <p:cNvSpPr/>
            <p:nvPr/>
          </p:nvSpPr>
          <p:spPr>
            <a:xfrm flipH="1">
              <a:off x="2666880" y="3581280"/>
              <a:ext cx="91440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66160" y="35812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505320" y="350424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581280" y="3276720"/>
              <a:ext cx="22860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3504960"/>
              <a:ext cx="1522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04920" y="838080"/>
            <a:ext cx="1638000" cy="5105520"/>
            <a:chOff x="304920" y="838080"/>
            <a:chExt cx="1638000" cy="5105520"/>
          </a:xfrm>
        </p:grpSpPr>
        <p:sp>
          <p:nvSpPr>
            <p:cNvPr id="469" name=""/>
            <p:cNvSpPr/>
            <p:nvPr/>
          </p:nvSpPr>
          <p:spPr>
            <a:xfrm>
              <a:off x="685800" y="175248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95280" y="1752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rot="5400000">
              <a:off x="1618560" y="971280"/>
              <a:ext cx="30456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800" y="990720"/>
              <a:ext cx="7621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5400000">
              <a:off x="1467000" y="971640"/>
              <a:ext cx="30456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5080" y="25146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6200000">
              <a:off x="1123920" y="24951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447920" y="3276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85080" y="32767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294560" y="32767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838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0880" y="13716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920" y="1600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880" y="21337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920" y="23623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880" y="28954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920" y="3124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3880" y="1676520"/>
              <a:ext cx="15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403848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95280" y="4038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85080" y="48006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1123920" y="47811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447920" y="5562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85080" y="55627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294560" y="55627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36576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4920" y="3886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880" y="441972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920" y="46483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880" y="51814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5410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7920" y="3962520"/>
              <a:ext cx="228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316880" y="4191120"/>
            <a:ext cx="657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الخطوة الثالثة: تتجمع النيوكلوتيدات المك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من الشريط الجديد لترتبط بالنيوكليوتيدة</a:t>
            </a: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</a:rPr>
              <a:t>من الشريط القد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وبذلك يكمل كل شريط دنا قديم الشر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الجديد المكمل له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447920" y="1447920"/>
            <a:ext cx="1294920" cy="761040"/>
            <a:chOff x="1447920" y="1447920"/>
            <a:chExt cx="1294920" cy="761040"/>
          </a:xfrm>
        </p:grpSpPr>
        <p:sp>
          <p:nvSpPr>
            <p:cNvPr id="503" name=""/>
            <p:cNvSpPr/>
            <p:nvPr/>
          </p:nvSpPr>
          <p:spPr>
            <a:xfrm>
              <a:off x="1600200" y="1752480"/>
              <a:ext cx="761400" cy="304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7920" y="1752480"/>
              <a:ext cx="304560" cy="304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286000" y="1675440"/>
              <a:ext cx="45684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361960" y="1447920"/>
              <a:ext cx="22824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937320" y="741960"/>
            <a:ext cx="1524960" cy="809640"/>
            <a:chOff x="3937320" y="741960"/>
            <a:chExt cx="1524960" cy="809640"/>
          </a:xfrm>
        </p:grpSpPr>
        <p:sp>
          <p:nvSpPr>
            <p:cNvPr id="508" name=""/>
            <p:cNvSpPr/>
            <p:nvPr/>
          </p:nvSpPr>
          <p:spPr>
            <a:xfrm flipH="1" rot="498600">
              <a:off x="4293720" y="98676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699200">
              <a:off x="3976200" y="88776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498600">
              <a:off x="4968720" y="98784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498600">
              <a:off x="5100840" y="7570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618720" y="1843920"/>
            <a:ext cx="1186920" cy="799560"/>
            <a:chOff x="3618720" y="1843920"/>
            <a:chExt cx="1186920" cy="799560"/>
          </a:xfrm>
        </p:grpSpPr>
        <p:sp>
          <p:nvSpPr>
            <p:cNvPr id="513" name=""/>
            <p:cNvSpPr/>
            <p:nvPr/>
          </p:nvSpPr>
          <p:spPr>
            <a:xfrm flipH="1" rot="21214800">
              <a:off x="4028040" y="195984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5814800">
              <a:off x="4465800" y="191736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1214800">
              <a:off x="3646800" y="186768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1214800">
              <a:off x="3765960" y="240264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53360" y="838080"/>
            <a:ext cx="1485720" cy="5105520"/>
            <a:chOff x="7353360" y="838080"/>
            <a:chExt cx="1485720" cy="5105520"/>
          </a:xfrm>
        </p:grpSpPr>
        <p:sp>
          <p:nvSpPr>
            <p:cNvPr id="518" name=""/>
            <p:cNvSpPr/>
            <p:nvPr/>
          </p:nvSpPr>
          <p:spPr>
            <a:xfrm>
              <a:off x="739152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96080" y="16765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96080" y="914400"/>
              <a:ext cx="762120" cy="304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5400000">
              <a:off x="7714440" y="894960"/>
              <a:ext cx="304920" cy="34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695360" y="243828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6200000">
              <a:off x="7372080" y="2418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543800" y="3200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543080" y="3200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381880" y="3124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458200" y="28947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381880" y="23616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458200" y="21330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381880" y="1600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458200" y="13708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381880" y="838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67480" y="3124080"/>
              <a:ext cx="152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43800" y="16765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91520" y="3962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96080" y="3962520"/>
              <a:ext cx="76212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43800" y="3962520"/>
              <a:ext cx="304920" cy="3045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695360" y="4724280"/>
              <a:ext cx="7621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543800" y="5486400"/>
              <a:ext cx="9144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543080" y="5486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381880" y="541008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458200" y="518076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381880" y="464760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458200" y="441900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381880" y="3886200"/>
              <a:ext cx="457200" cy="5335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458200" y="3656880"/>
              <a:ext cx="228600" cy="2286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67480" y="5410080"/>
              <a:ext cx="228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7410240" y="4704840"/>
              <a:ext cx="30492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248520" y="762120"/>
            <a:ext cx="1485720" cy="761400"/>
            <a:chOff x="6248520" y="762120"/>
            <a:chExt cx="1485720" cy="761400"/>
          </a:xfrm>
        </p:grpSpPr>
        <p:sp>
          <p:nvSpPr>
            <p:cNvPr id="550" name=""/>
            <p:cNvSpPr/>
            <p:nvPr/>
          </p:nvSpPr>
          <p:spPr>
            <a:xfrm>
              <a:off x="6629400" y="914400"/>
              <a:ext cx="762120" cy="304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5400000">
              <a:off x="7410600" y="894600"/>
              <a:ext cx="304200" cy="342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8520" y="762120"/>
              <a:ext cx="457200" cy="5331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295280"/>
              <a:ext cx="228600" cy="2282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132360" y="2602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0680" y="414000"/>
            <a:ext cx="412416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The Bases</a:t>
            </a: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…</a:t>
            </a:r>
            <a:br>
              <a:rPr sz="2800"/>
            </a:b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 القواعد النيتروجي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14702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5943600" y="228600"/>
            <a:ext cx="2895480" cy="29289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5720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urine Bas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 (A); Guani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قواعد البيورنية : تشمل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أدن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1800" spc="-1" strike="noStrike">
                <a:solidFill>
                  <a:srgbClr val="009999"/>
                </a:solidFill>
                <a:latin typeface="Arial"/>
              </a:rPr>
              <a:t>الجوان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60199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yramidine Bas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(T); Cytosine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قواعد البيراميدنية: تشمل </a:t>
            </a:r>
            <a:r>
              <a:rPr b="1" lang="ar-SA" sz="1800" spc="-1" strike="noStrike">
                <a:solidFill>
                  <a:srgbClr val="cc0066"/>
                </a:solidFill>
                <a:latin typeface="Arial"/>
              </a:rPr>
              <a:t>الثيم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1800" spc="-1" strike="noStrike">
                <a:solidFill>
                  <a:srgbClr val="660033"/>
                </a:solidFill>
                <a:latin typeface="Arial"/>
              </a:rPr>
              <a:t>السيتوسي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943600" y="358128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5334120" y="1295280"/>
            <a:ext cx="3808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Georgia"/>
              </a:rPr>
              <a:t>The Pairing Rule…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800000"/>
                </a:solidFill>
                <a:latin typeface="Georgia"/>
              </a:rPr>
              <a:t>قانون التزاوج بين القواعد النيتروجي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80880" y="5257800"/>
            <a:ext cx="3810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Georgi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1800" spc="-1" strike="noStrike">
                <a:solidFill>
                  <a:srgbClr val="9900cc"/>
                </a:solidFill>
                <a:latin typeface="Georg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paired through </a:t>
            </a:r>
            <a:r>
              <a:rPr b="0" lang="en-US" sz="1800" spc="-1" strike="noStrike">
                <a:solidFill>
                  <a:srgbClr val="800000"/>
                </a:solidFill>
                <a:latin typeface="Georgia"/>
              </a:rPr>
              <a:t>TWO </a:t>
            </a:r>
            <a:r>
              <a:rPr b="0" lang="en-US" sz="1800" spc="-1" strike="noStrike">
                <a:solidFill>
                  <a:srgbClr val="808080"/>
                </a:solidFill>
                <a:latin typeface="Georgia"/>
              </a:rPr>
              <a:t>hydrogen 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08080"/>
                </a:solidFill>
                <a:latin typeface="Georgia"/>
              </a:rPr>
              <a:t>يرتبط الأدنين مع الثايمين برابطتين هيدروج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800600" y="5257800"/>
            <a:ext cx="3809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Georgi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1800" spc="-1" strike="noStrike">
                <a:solidFill>
                  <a:srgbClr val="cc0066"/>
                </a:solidFill>
                <a:latin typeface="Georgi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paired through </a:t>
            </a:r>
            <a:r>
              <a:rPr b="0" lang="en-US" sz="1800" spc="-1" strike="noStrike">
                <a:solidFill>
                  <a:srgbClr val="800000"/>
                </a:solidFill>
                <a:latin typeface="Georgia"/>
              </a:rPr>
              <a:t>THREE </a:t>
            </a:r>
            <a:r>
              <a:rPr b="0" lang="en-US" sz="1800" spc="-1" strike="noStrike">
                <a:solidFill>
                  <a:srgbClr val="808080"/>
                </a:solidFill>
                <a:latin typeface="Georgia"/>
              </a:rPr>
              <a:t>hydrogen 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808080"/>
                </a:solidFill>
                <a:latin typeface="Georgia"/>
              </a:rPr>
              <a:t>يرتبط الجوانين و السيتوسين بثلاث روابط هيدروج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66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chanism of DNA Replication</a:t>
            </a:r>
            <a:br>
              <a:rPr sz="3200"/>
            </a:br>
            <a:r>
              <a:rPr b="0" lang="ar-SA" sz="3200" spc="-1" strike="noStrike">
                <a:solidFill>
                  <a:srgbClr val="ff0066"/>
                </a:solidFill>
                <a:latin typeface="Arial"/>
              </a:rPr>
              <a:t>الية تضاعف ال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738600" y="1908000"/>
            <a:ext cx="1639800" cy="434052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504960" cy="411480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76320" y="2057400"/>
            <a:ext cx="3504960" cy="403848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شكراً لحسن الإصغ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Arial"/>
              </a:rPr>
              <a:t>دعونا نستعرض بعض الحقائق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9387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8640" y="380520"/>
            <a:ext cx="3390840" cy="11178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</a:rPr>
              <a:t>الخ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Arial"/>
                <a:cs typeface="Times New Roman"/>
              </a:rPr>
              <a:t>تحتوى الخ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على مخزون من المعلوم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خطط اللازمة لتأدية عملها داخل النوا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3110040"/>
            <a:ext cx="6159600" cy="374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1600" y="177480"/>
            <a:ext cx="444024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6600"/>
                </a:solidFill>
                <a:latin typeface="Arial"/>
                <a:cs typeface="Times New Roman"/>
              </a:rPr>
              <a:t>ميتوكوندر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7521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بعض الآخر خارج النواة في إحدى عضيواتها وهو ما يسمى </a:t>
            </a:r>
            <a:r>
              <a:rPr b="0" lang="ar-SA" sz="3200" spc="-1" strike="noStrike">
                <a:solidFill>
                  <a:srgbClr val="6699ff"/>
                </a:solidFill>
                <a:latin typeface="Arial"/>
                <a:cs typeface="Times New Roman"/>
              </a:rPr>
              <a:t>بالميتوكوندري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هو بيت الطاقة في الخلية حيث انه المسئول عن أكسدة السكر وإنتاج الطاقة اللازمة للخلية في تسير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6858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240" y="274320"/>
            <a:ext cx="47466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60093"/>
                </a:solidFill>
                <a:latin typeface="Arial"/>
                <a:cs typeface="Times New Roman"/>
              </a:rPr>
              <a:t>الخلاي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القول أن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جسم الإن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بلايين الخلايا، وأن كل خلية من جسم الإنسان تحتوي على نسخة طبق الأصل من المادة الوراثية التي هي عبارة عن </a:t>
            </a:r>
            <a:r>
              <a:rPr b="1" lang="ar-SA" sz="2800" spc="-1" strike="noStrike">
                <a:solidFill>
                  <a:srgbClr val="666699"/>
                </a:solidFill>
                <a:latin typeface="Arial"/>
              </a:rPr>
              <a:t>الحامض النووي منزوع الأكسيجين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ذي يكوّن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جي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ي بدورها تُحمل على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كروموس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تُورث من جيل إلى جي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46040" y="4419720"/>
            <a:ext cx="5838840" cy="22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0" y="351000"/>
            <a:ext cx="5083200" cy="901440"/>
          </a:xfrm>
          <a:prstGeom prst="rect">
            <a:avLst/>
          </a:prstGeom>
          <a:gradFill rotWithShape="0">
            <a:gsLst>
              <a:gs pos="0">
                <a:srgbClr val="351158"/>
              </a:gs>
              <a:gs pos="50000">
                <a:srgbClr val="9933ff"/>
              </a:gs>
              <a:gs pos="100000">
                <a:srgbClr val="351158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be0e3"/>
                </a:solidFill>
                <a:latin typeface="Arial"/>
              </a:rPr>
              <a:t>ما هي الكروموس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كون الكروموسوم كيميائيا من حمض يسمى الحمض النووى والذى يرمز لة بالدنا ا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يث يتكون من عدد هائل من الوحدات الصغيرة مرتبطة فى شكل سلسله وكل جزئ كامل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ركب من سلسلتين تلتفان كجديلتي حبل لتأخذ شكل اللولب المزدوج والوحدات الأساسية لهذه السلسة هى اربع قواعد تسم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: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الادينوزين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3333cc"/>
                </a:solidFill>
                <a:latin typeface="Arial"/>
              </a:rPr>
              <a:t>السيتوزي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</a:rPr>
              <a:t>الثياميدين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الجواندين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55880" y="2514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48:26Z</dcterms:created>
  <dc:creator> Dr.Maha Daghestani</dc:creator>
  <dc:description/>
  <dc:language>en-US</dc:language>
  <cp:lastModifiedBy> Dr.Maha Daghestani</cp:lastModifiedBy>
  <dcterms:modified xsi:type="dcterms:W3CDTF">2009-07-17T20:17:16Z</dcterms:modified>
  <cp:revision>24</cp:revision>
  <dc:subject/>
  <dc:title>ماهو الدنا</dc:title>
</cp:coreProperties>
</file>