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24.png" ContentType="image/png"/>
  <Override PartName="/ppt/media/image1.gif" ContentType="image/gif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.jpeg" ContentType="image/jpeg"/>
  <Override PartName="/ppt/media/image7.gif" ContentType="image/gif"/>
  <Override PartName="/ppt/media/image35.png" ContentType="image/png"/>
  <Override PartName="/ppt/media/image17.wmf" ContentType="image/x-wmf"/>
  <Override PartName="/ppt/media/image9.png" ContentType="image/png"/>
  <Override PartName="/ppt/media/image38.jpeg" ContentType="image/jpeg"/>
  <Override PartName="/ppt/media/image28.png" ContentType="image/png"/>
  <Override PartName="/ppt/media/image30.png" ContentType="image/png"/>
  <Override PartName="/ppt/media/image37.jpeg" ContentType="image/jpeg"/>
  <Override PartName="/ppt/media/image34.png" ContentType="image/png"/>
  <Override PartName="/ppt/media/image12.jpeg" ContentType="image/jpeg"/>
  <Override PartName="/ppt/media/image31.png" ContentType="image/png"/>
  <Override PartName="/ppt/media/image29.png" ContentType="image/png"/>
  <Override PartName="/ppt/media/image32.png" ContentType="image/png"/>
  <Override PartName="/ppt/media/image13.jpeg" ContentType="image/jpeg"/>
  <Override PartName="/ppt/media/image23.png" ContentType="image/png"/>
  <Override PartName="/ppt/media/image33.png" ContentType="image/png"/>
  <Override PartName="/ppt/media/image36.png" ContentType="image/png"/>
  <Override PartName="/ppt/media/image8.png" ContentType="image/png"/>
  <Override PartName="/ppt/media/image39.jpeg" ContentType="image/jpeg"/>
  <Override PartName="/ppt/media/image4.jpeg" ContentType="image/jpeg"/>
  <Override PartName="/ppt/media/image2.gif" ContentType="image/gif"/>
  <Override PartName="/ppt/media/image25.png" ContentType="image/png"/>
  <Override PartName="/ppt/media/image27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jpeg" ContentType="image/jpeg"/>
  <Override PartName="/ppt/media/image18.png" ContentType="image/png"/>
  <Override PartName="/ppt/media/image6.jpeg" ContentType="image/jpeg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776A-64A0-4746-BA50-E9770B889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4C12-BC29-4732-B8D7-95506113C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go through a cycle that consists of four stages: G1, S, G2, and M. During G1, growth occurs as organelles double. During the S stage, DNA replication occurs as chromosomes duplicate. During the G2 stage, growth occurs as the cell prepares to divide. During the M stage, mitosis and cytokinesis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0D2D-F428-473F-BE61-4C195875F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9F8C-B5CD-48E8-82EE-8CD778D96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A0A9-B4C0-41F3-BE09-F781E9379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70B4-3687-4163-949B-B19997D0C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956D-B5C5-44C7-9E69-E43920D1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903D-01BE-4137-88F0-B5A5D346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3C9B-BC2C-4A58-873A-E78877AA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B35D-0462-496E-870D-B68F74957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3511-0ACC-4F3F-8C18-B9FE85F5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EBE6-4185-4EA9-BC82-A0262813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24F0-4CF3-417E-89B8-09D1D2E6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72C3-4997-491F-884E-B3FECCA0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D977-9C9C-4C2E-B9DE-A3ECCD3D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2590-51F9-4AF2-8039-B35D6D49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5C61-C68F-4342-84F0-582F57D0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B788-DDAF-4595-9435-26B30E89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E7FA-C600-4DB2-97E8-DF427138F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75;&#1604;&#1582;&#1604;&#1610;&#1577;" TargetMode="External"/><Relationship Id="rId2" Type="http://schemas.openxmlformats.org/officeDocument/2006/relationships/hyperlink" Target="http://ar.wikipedia.org/wiki/&#1575;&#1606;&#1602;&#1587;&#1575;&#1605;_&#1582;&#1604;&#1608;&#1610;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8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8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8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457200"/>
            <a:ext cx="6933960" cy="5486400"/>
          </a:xfrm>
          <a:prstGeom prst="bevel">
            <a:avLst>
              <a:gd name="adj" fmla="val 11065"/>
            </a:avLst>
          </a:prstGeom>
          <a:solidFill>
            <a:srgbClr val="ff9999">
              <a:alpha val="50000"/>
            </a:srgbClr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1066680"/>
            <a:ext cx="5715000" cy="44960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8000" y="2286000"/>
            <a:ext cx="4896000" cy="764280"/>
          </a:xfrm>
          <a:prstGeom prst="rect">
            <a:avLst/>
          </a:prstGeom>
          <a:gradFill rotWithShape="0">
            <a:gsLst>
              <a:gs pos="0">
                <a:srgbClr val="993366"/>
              </a:gs>
              <a:gs pos="50000">
                <a:srgbClr val="000000"/>
              </a:gs>
              <a:gs pos="100000">
                <a:srgbClr val="99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99"/>
                </a:solidFill>
                <a:latin typeface="Arial"/>
              </a:rPr>
              <a:t>تضاعف الدن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487692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33720" y="3352680"/>
            <a:ext cx="4952880" cy="15350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100008"/>
              </a:gs>
              <a:gs pos="100000">
                <a:srgbClr val="6600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Arial"/>
              </a:rPr>
              <a:t>               </a:t>
            </a:r>
            <a:r>
              <a:rPr b="0" lang="ar-SA" sz="2400" spc="-1" strike="noStrike">
                <a:solidFill>
                  <a:srgbClr val="ffff99"/>
                </a:solidFill>
                <a:latin typeface="Arial"/>
              </a:rPr>
              <a:t>إعداد</a:t>
            </a:r>
            <a:r>
              <a:rPr b="0" lang="ar-SA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د. مها حسن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 عبد العزيز داغستا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4800600"/>
            <a:ext cx="259056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0033"/>
              </a:gs>
              <a:gs pos="50000">
                <a:srgbClr val="100008"/>
              </a:gs>
              <a:gs pos="100000">
                <a:srgbClr val="6600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99"/>
                </a:solidFill>
                <a:latin typeface="Arial"/>
              </a:rPr>
              <a:t>طالبات موهبة صيف </a:t>
            </a:r>
            <a:r>
              <a:rPr b="1" lang="ar-SA" sz="1800" spc="-1" strike="noStrike">
                <a:solidFill>
                  <a:srgbClr val="ffff99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99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077320" y="2438280"/>
            <a:ext cx="84600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84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28880" y="1498680"/>
            <a:ext cx="8115120" cy="5359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077840" y="83880"/>
            <a:ext cx="768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9900"/>
                </a:solidFill>
                <a:latin typeface="Times New Roman"/>
                <a:cs typeface="Times New Roman"/>
              </a:rPr>
              <a:t>يلف شريط الـ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DNA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 على بروتينات الهستونات ليكون النيوكليسومات التي تكون المصفوفات النووية التي ترص فوق بعضها لتكوين الكروموسوم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romosom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8569080" cy="3960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28600" y="1916280"/>
            <a:ext cx="264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Chrom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419904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erco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29280" y="3755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51280" y="2060640"/>
            <a:ext cx="29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ucle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6466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st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2903400"/>
            <a:ext cx="7621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4582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486400" y="3352680"/>
            <a:ext cx="380880" cy="762120"/>
          </a:xfrm>
          <a:custGeom>
            <a:avLst/>
            <a:gdLst>
              <a:gd name="textAreaLeft" fmla="*/ 0 w 380880"/>
              <a:gd name="textAreaRight" fmla="*/ 137520 w 3808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8840" y="342900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enoid Co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1180800" y="339048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600" y="30481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perco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295280"/>
            <a:ext cx="2819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ne oc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2247840" y="415224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9520" y="40384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90720" y="685800"/>
            <a:ext cx="6933960" cy="5486400"/>
          </a:xfrm>
          <a:prstGeom prst="bevel">
            <a:avLst>
              <a:gd name="adj" fmla="val 1106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1295280"/>
            <a:ext cx="5715000" cy="426744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86000" y="2743200"/>
            <a:ext cx="4343400" cy="1219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bd7c9d"/>
                    </a:gs>
                  </a:gsLst>
                  <a:lin ang="5400000"/>
                </a:gradFill>
                <a:latin typeface="ParkAvenue BT"/>
              </a:rPr>
              <a:t>تضاعف الدنا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66"/>
                  </a:gs>
                  <a:gs pos="100000">
                    <a:srgbClr val="bd7c9d"/>
                  </a:gs>
                </a:gsLst>
                <a:lin ang="5400000"/>
              </a:gradFill>
              <a:latin typeface="ParkAvenue BT"/>
              <a:ea typeface="ParkAvenue B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429000" y="2362320"/>
            <a:ext cx="2133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33"/>
                </a:solidFill>
                <a:latin typeface="Garamond"/>
              </a:rPr>
              <a:t>DNA</a:t>
            </a:r>
            <a:endParaRPr b="0" lang="en-US" sz="1800" spc="1" strike="noStrike">
              <a:ln w="0">
                <a:noFill/>
              </a:ln>
              <a:solidFill>
                <a:srgbClr val="990033"/>
              </a:solidFill>
              <a:latin typeface="Garamond"/>
              <a:ea typeface="Garamond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ell cycle</a:t>
            </a: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دورة الخلو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839080" cy="4830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705720" y="464832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ضاعف الدن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43600" y="2057400"/>
            <a:ext cx="289548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نمو الخل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 تضاعف العضي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172200"/>
            <a:ext cx="4038480" cy="4572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نمو الخلوي و إستعداد الخلية للإنقس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9907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إنقس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cc"/>
                </a:solidFill>
                <a:latin typeface="Arial"/>
              </a:rPr>
              <a:t>دورة الخلية</a:t>
            </a: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 (</a:t>
            </a: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Cell Cycle</a:t>
            </a: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ي الفترة التي تمر به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الخلي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ي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انقسامين خلويي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تتاليا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يتم تقسيم هذه الدورة إلى عدة أطوار</a:t>
            </a: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G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 يعرفوا باسم الطَّورُ البَينِيّ و الطور الأخي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 يتضمن حدوث عمليتين انقسام نووي و سيتوبلازمي. بعض الخلايا التي لم تعد تنقسم أو دخلت السبات تعطى أنها ف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ستمر دورة الخلية لمدة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ساعة كحد ادنى ، ولا تنتقل الخلية من الطور الأو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حتى تجهز المركبات الكيميائيةالتى تحتاجها للانقسام من أحماض أمينية و ليبيدات و سكريات و لذلك يعتمد وقت و سرعة انقسام الخلية على كمية المواد الغذائية التى يتلقاها الجس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3366"/>
            </a:solidFill>
            <a:prstDash val="lgDash"/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33"/>
                </a:solidFill>
                <a:latin typeface="Arial"/>
              </a:rPr>
              <a:t>ولدورة حياة الخليةطورين هما</a:t>
            </a: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66"/>
                </a:solidFill>
                <a:latin typeface="Arial"/>
              </a:rPr>
              <a:t>الطور البيني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يستغرق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%من الدوره ،ويتم في ثلاث فترات ه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spcBef>
                <a:spcPts val="700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6600"/>
                </a:solidFill>
                <a:latin typeface="Arial"/>
              </a:rPr>
              <a:t>الفترة الأولى للنمو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:. فيها يتضاعف عدد عضيات الخلية وإنزماته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spcBef>
                <a:spcPts val="700"/>
              </a:spcBef>
              <a:buClr>
                <a:srgbClr val="cc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66"/>
                </a:solidFill>
                <a:latin typeface="Arial"/>
              </a:rPr>
              <a:t>فترة البناء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يه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يتضاعف ال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إلى الضع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الفترة الثانية للنمو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 : فيها تنمو الخلية سريعاً إستعدادً للإنقسا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طور الإنقسام الخلو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ينتهي هذا الطور بتكون خليتن تدخل كل واحدة فيهما طوراً بينياً جديدا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Georgia"/>
              </a:rPr>
              <a:t>جزئ الدن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1752480"/>
            <a:ext cx="1295280" cy="114300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1752480"/>
            <a:ext cx="685800" cy="10670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85440" y="3124080"/>
            <a:ext cx="685800" cy="838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114800"/>
            <a:ext cx="685800" cy="10666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85440" y="5486400"/>
            <a:ext cx="685800" cy="8380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2819520"/>
            <a:ext cx="38088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5181480"/>
            <a:ext cx="3808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3962520"/>
            <a:ext cx="533520" cy="152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5105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600200"/>
            <a:ext cx="533160" cy="152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6324480"/>
            <a:ext cx="533520" cy="1526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1447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809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86600" y="3048120"/>
            <a:ext cx="304920" cy="3045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1828800"/>
            <a:ext cx="304560" cy="3049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419720" y="4114800"/>
            <a:ext cx="4114800" cy="22575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819520" y="1371600"/>
            <a:ext cx="914400" cy="51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S       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U       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G       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A       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R       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-        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P       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H       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350532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Deoxiribose (Sug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1828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86600" y="1828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00800" y="1523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49960" y="121932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5040" y="304812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31200" y="3048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35760" y="144792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11880" y="144792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40480" y="2590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936120" y="2590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45400" y="22096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31200" y="22096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88040" y="302256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3048120"/>
            <a:ext cx="304920" cy="3045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1981080"/>
            <a:ext cx="304920" cy="3049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1219320"/>
            <a:ext cx="304920" cy="3045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90560" y="380520"/>
            <a:ext cx="3733560" cy="762120"/>
          </a:xfrm>
          <a:prstGeom prst="rect">
            <a:avLst/>
          </a:prstGeom>
          <a:noFill/>
          <a:ln w="57240">
            <a:solidFill>
              <a:srgbClr val="333399"/>
            </a:solidFill>
            <a:prstDash val="lgDashDot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cc00"/>
                </a:solidFill>
                <a:latin typeface="Arial"/>
              </a:rPr>
              <a:t>تضاعف الدن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190760" y="1294920"/>
            <a:ext cx="46479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يجب أن يتم التضاعف قبل الإنقسام الخل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يعمل إنزيم الهلكيز على فتح شريط الد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يعمل إنزيم البوليمريز على تكوين شريط جديد مكمل للشريط القد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304812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00040" y="274320"/>
            <a:ext cx="30481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666699"/>
            </a:solidFill>
            <a:prstDash val="lgDashDot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7c80"/>
                </a:solidFill>
                <a:latin typeface="Arial"/>
              </a:rPr>
              <a:t>مقدم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1599840"/>
            <a:ext cx="6553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عتبر </a:t>
            </a:r>
            <a:r>
              <a:rPr b="0" lang="ar-SA" sz="3200" spc="-1" strike="noStrike">
                <a:solidFill>
                  <a:srgbClr val="cc3300"/>
                </a:solidFill>
                <a:latin typeface="Arial"/>
              </a:rPr>
              <a:t>د.ن.أ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مخزن الرئيسي للمعلومات في الخ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طلق على تدفق الأحداث البيولوجية الهامة التي تحدث من خلال جزئ د.ن.أ اسم </a:t>
            </a:r>
            <a:r>
              <a:rPr b="1" lang="ar-SA" sz="3200" spc="-1" strike="noStrike">
                <a:solidFill>
                  <a:srgbClr val="666699"/>
                </a:solidFill>
                <a:latin typeface="Arial"/>
              </a:rPr>
              <a:t>المبدأ المركز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5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mi-conservative Replication</a:t>
            </a: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يتم التضاعف بشكل نصف محاف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1828800"/>
          <a:ext cx="8458200" cy="4762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845820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48320" y="15840"/>
            <a:ext cx="3808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>
            <a:lum bright="-72000"/>
          </a:blip>
          <a:srcRect l="0" t="0" r="1803" b="9437"/>
          <a:stretch/>
        </p:blipFill>
        <p:spPr>
          <a:xfrm>
            <a:off x="395280" y="333360"/>
            <a:ext cx="4100400" cy="6264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074600" y="3637080"/>
            <a:ext cx="2729160" cy="1773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417680" y="2036880"/>
            <a:ext cx="2095560" cy="2333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065320" y="1198440"/>
            <a:ext cx="1355760" cy="2357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2827440" y="1122480"/>
            <a:ext cx="1135080" cy="16858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>
            <a:lum bright="-72000"/>
          </a:blip>
          <a:srcRect l="0" t="0" r="1890" b="9437"/>
          <a:stretch/>
        </p:blipFill>
        <p:spPr>
          <a:xfrm>
            <a:off x="4648320" y="304920"/>
            <a:ext cx="4027320" cy="63244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4812480" y="761400"/>
            <a:ext cx="317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إنزيم البوليمريز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2286360"/>
            <a:ext cx="3441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مكنه بناء شريط جديد ع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طريق إضافة النيوكليوتيد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حددة تلو الأخرى حتى يتكون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شريط الدنا الجد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191120" y="1676520"/>
            <a:ext cx="4667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NA polymeraseIII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75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75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75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75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>
            <a:lum bright="-72000"/>
          </a:blip>
          <a:srcRect l="0" t="0" r="1890" b="9437"/>
          <a:stretch/>
        </p:blipFill>
        <p:spPr>
          <a:xfrm>
            <a:off x="4648320" y="990720"/>
            <a:ext cx="3733560" cy="5486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69" name=""/>
          <p:cNvSpPr/>
          <p:nvPr/>
        </p:nvSpPr>
        <p:spPr>
          <a:xfrm>
            <a:off x="5076720" y="1723680"/>
            <a:ext cx="2979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مكن للإنزيم د.ن.ا بوليمريز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إضاف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نيكلوتيدات فقط لو كان السكر خماسي منقوص الاكسج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10000" y="-4853160"/>
            <a:ext cx="3240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>
            <a:lum bright="-72000"/>
          </a:blip>
          <a:srcRect l="0" t="0" r="1890" b="9437"/>
          <a:stretch/>
        </p:blipFill>
        <p:spPr>
          <a:xfrm>
            <a:off x="468360" y="990720"/>
            <a:ext cx="3875040" cy="5486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066680" y="4114800"/>
            <a:ext cx="2729160" cy="2122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1409760" y="2514600"/>
            <a:ext cx="2095560" cy="23335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2057400" y="1676520"/>
            <a:ext cx="1355760" cy="2357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2819520" y="1600200"/>
            <a:ext cx="1135080" cy="1685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 rot="21566400">
            <a:off x="2057400" y="838080"/>
            <a:ext cx="5410080" cy="10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NA polymerase III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2438280" y="5715000"/>
            <a:ext cx="304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75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75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095880" y="2648880"/>
            <a:ext cx="2590920" cy="338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aeaea"/>
                </a:solidFill>
                <a:latin typeface="Times New Roman"/>
              </a:rPr>
              <a:t>لاحظي السكر منقوص الاكسجين في كل نيكلوتيدة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>
            <a:lum bright="-36000"/>
          </a:blip>
          <a:srcRect l="0" t="0" r="1890" b="9437"/>
          <a:stretch/>
        </p:blipFill>
        <p:spPr>
          <a:xfrm>
            <a:off x="1752480" y="716040"/>
            <a:ext cx="3962520" cy="2636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3">
            <a:lum bright="-36000"/>
          </a:blip>
          <a:srcRect l="0" t="0" r="1890" b="9437"/>
          <a:stretch/>
        </p:blipFill>
        <p:spPr>
          <a:xfrm>
            <a:off x="1752480" y="3535200"/>
            <a:ext cx="3962520" cy="2637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2057400" y="944640"/>
            <a:ext cx="3300480" cy="20811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1981080" y="3763800"/>
            <a:ext cx="3300480" cy="20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75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75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rcRect l="0" t="16734" r="15622" b="9437"/>
          <a:stretch/>
        </p:blipFill>
        <p:spPr>
          <a:xfrm>
            <a:off x="685800" y="609480"/>
            <a:ext cx="3505320" cy="22114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2">
            <a:lum bright="-36000"/>
          </a:blip>
          <a:srcRect l="0" t="0" r="1890" b="9437"/>
          <a:stretch/>
        </p:blipFill>
        <p:spPr>
          <a:xfrm>
            <a:off x="685800" y="3276720"/>
            <a:ext cx="3505320" cy="2332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762120" y="685800"/>
            <a:ext cx="3300120" cy="2081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762120" y="3352680"/>
            <a:ext cx="3352680" cy="22431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828800" y="2743200"/>
            <a:ext cx="228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3733920"/>
            <a:ext cx="15264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5"/>
          <a:srcRect l="0" t="16734" r="15622" b="9437"/>
          <a:stretch/>
        </p:blipFill>
        <p:spPr>
          <a:xfrm>
            <a:off x="5181480" y="1371600"/>
            <a:ext cx="2895840" cy="3733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5150160" y="2558160"/>
            <a:ext cx="30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Arial"/>
              </a:rPr>
              <a:t>وهذه الهيدروجي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4400" y="1721520"/>
            <a:ext cx="35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نزع مجموعة الهيدروكسي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58520" y="4082040"/>
            <a:ext cx="283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ff"/>
                </a:solidFill>
                <a:latin typeface="Arial"/>
              </a:rPr>
              <a:t>ليتكون جزئ م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209320" y="2209680"/>
            <a:ext cx="3886200" cy="4572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752120" y="3048120"/>
            <a:ext cx="3962520" cy="60948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75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75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75"/>
                            </p:stCondLst>
                            <p:childTnLst>
                              <p:par>
                                <p:cTn id="1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75"/>
                            </p:stCondLst>
                            <p:childTnLst>
                              <p:par>
                                <p:cTn id="14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7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7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125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625"/>
                            </p:stCondLst>
                            <p:childTnLst>
                              <p:par>
                                <p:cTn id="15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686440" y="-2383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16734" r="15622" b="9437"/>
          <a:stretch/>
        </p:blipFill>
        <p:spPr>
          <a:xfrm>
            <a:off x="685800" y="609480"/>
            <a:ext cx="3505320" cy="22114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2">
            <a:lum bright="-36000"/>
          </a:blip>
          <a:srcRect l="0" t="0" r="1890" b="9437"/>
          <a:stretch/>
        </p:blipFill>
        <p:spPr>
          <a:xfrm>
            <a:off x="685800" y="3276720"/>
            <a:ext cx="3505320" cy="2332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3"/>
          <a:srcRect l="0" t="16734" r="15622" b="9437"/>
          <a:stretch/>
        </p:blipFill>
        <p:spPr>
          <a:xfrm>
            <a:off x="5181480" y="1371600"/>
            <a:ext cx="2895840" cy="3733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62120" y="609480"/>
            <a:ext cx="3352680" cy="22100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762120" y="3352680"/>
            <a:ext cx="3352680" cy="24526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523880" y="2286000"/>
            <a:ext cx="685800" cy="609480"/>
          </a:xfrm>
          <a:prstGeom prst="irregularSeal1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3276720"/>
            <a:ext cx="609480" cy="761760"/>
          </a:xfrm>
          <a:prstGeom prst="irregularSeal1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3720" y="2797560"/>
            <a:ext cx="99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- H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686440" y="-2383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0" t="16734" r="15622" b="9437"/>
          <a:stretch/>
        </p:blipFill>
        <p:spPr>
          <a:xfrm>
            <a:off x="762120" y="457200"/>
            <a:ext cx="3504960" cy="22114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06" name="" descr=""/>
          <p:cNvPicPr/>
          <p:nvPr/>
        </p:nvPicPr>
        <p:blipFill>
          <a:blip r:embed="rId2">
            <a:lum bright="-36000"/>
          </a:blip>
          <a:srcRect l="0" t="0" r="1890" b="9437"/>
          <a:stretch/>
        </p:blipFill>
        <p:spPr>
          <a:xfrm>
            <a:off x="685800" y="3276720"/>
            <a:ext cx="3505320" cy="2332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07" name="" descr=""/>
          <p:cNvPicPr/>
          <p:nvPr/>
        </p:nvPicPr>
        <p:blipFill>
          <a:blip r:embed="rId3"/>
          <a:srcRect l="0" t="16734" r="15622" b="9437"/>
          <a:stretch/>
        </p:blipFill>
        <p:spPr>
          <a:xfrm>
            <a:off x="5181480" y="1371600"/>
            <a:ext cx="3206880" cy="5081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838080" y="609480"/>
            <a:ext cx="3276720" cy="21592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762120" y="3124080"/>
            <a:ext cx="3724200" cy="25527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508720" y="2288880"/>
            <a:ext cx="2568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ff00"/>
                </a:solidFill>
                <a:latin typeface="Arial"/>
              </a:rPr>
              <a:t>تبقى رابطتين غير فارغتين بعد نزع جزئ الم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2286000"/>
            <a:ext cx="685800" cy="609480"/>
          </a:xfrm>
          <a:prstGeom prst="irregularSeal1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3276720"/>
            <a:ext cx="609480" cy="761760"/>
          </a:xfrm>
          <a:prstGeom prst="irregularSeal1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33720" y="2797560"/>
            <a:ext cx="99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- H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75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447920" y="990720"/>
            <a:ext cx="5943600" cy="54100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0480" y="199440"/>
            <a:ext cx="162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جدي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47920" y="580644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تربط بين الجزيئ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 rot="21566400">
            <a:off x="1752480" y="609480"/>
            <a:ext cx="5410440" cy="10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phosphodiester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6403320" y="228240"/>
            <a:ext cx="29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لتكون رابط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62320" y="1828800"/>
            <a:ext cx="4225680" cy="36576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0000"/>
              </a:gs>
              <a:gs pos="100000">
                <a:srgbClr val="000066"/>
              </a:gs>
            </a:gsLst>
            <a:lin ang="135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2819520" cy="18586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276720" y="3429000"/>
            <a:ext cx="2743200" cy="1808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971800" y="3048120"/>
            <a:ext cx="1447920" cy="1676160"/>
          </a:xfrm>
          <a:prstGeom prst="irregularSeal1">
            <a:avLst/>
          </a:prstGeom>
          <a:noFill/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48120" y="22860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2970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رابطة ثنائية الأستر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75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75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75"/>
                            </p:stCondLst>
                            <p:childTnLst>
                              <p:par>
                                <p:cTn id="20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375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75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 flipV="1">
            <a:off x="1066680" y="1675440"/>
            <a:ext cx="7086600" cy="37335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523880" y="2133720"/>
          <a:ext cx="6248520" cy="281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>
                    <a:alphaModFix amt="50000"/>
                  </a:blip>
                  <a:stretch/>
                </p:blipFill>
                <p:spPr>
                  <a:xfrm>
                    <a:off x="1523880" y="2133720"/>
                    <a:ext cx="6248520" cy="2819160"/>
                  </a:xfrm>
                  <a:prstGeom prst="rect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360036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752480" y="442080"/>
            <a:ext cx="42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University Roman LET"/>
              </a:rPr>
              <a:t>Growing daughter str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5580000" y="0"/>
            <a:ext cx="356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042920" y="692280"/>
            <a:ext cx="6934320" cy="5486400"/>
          </a:xfrm>
          <a:prstGeom prst="bevel">
            <a:avLst>
              <a:gd name="adj" fmla="val 11065"/>
            </a:avLst>
          </a:prstGeom>
          <a:solidFill>
            <a:srgbClr val="000000">
              <a:alpha val="50000"/>
            </a:srgbClr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1268280"/>
            <a:ext cx="5715000" cy="426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cc00"/>
                </a:solidFill>
                <a:latin typeface="Times New Roman"/>
              </a:rPr>
              <a:t>يمكن إستعراض ماسب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ar-SA" sz="4800" spc="-1" strike="noStrike">
                <a:solidFill>
                  <a:srgbClr val="ffcc00"/>
                </a:solidFill>
                <a:latin typeface="Times New Roman"/>
              </a:rPr>
              <a:t>بشكل اخ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71440" y="456840"/>
            <a:ext cx="2971800" cy="8082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57240">
            <a:solidFill>
              <a:srgbClr val="ffff99"/>
            </a:solidFill>
            <a:prstDash val="lgDash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90033"/>
                </a:solidFill>
                <a:latin typeface="Arial"/>
              </a:rPr>
              <a:t>المبدء المركز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0033"/>
                </a:solidFill>
                <a:latin typeface="Arial"/>
              </a:rPr>
              <a:t>يحتوي المبدء المركزي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Central Dog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في الأحياء الجزيئية على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عمليتين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امتين تتحكمان في سريان المعلومات الوراث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0033"/>
                </a:solidFill>
                <a:latin typeface="Arial"/>
              </a:rPr>
              <a:t>العملية الاولى تتمثل في </a:t>
            </a:r>
            <a:r>
              <a:rPr b="0" lang="ar-SA" sz="3200" spc="-1" strike="noStrike">
                <a:solidFill>
                  <a:srgbClr val="000099"/>
                </a:solidFill>
                <a:latin typeface="Arial"/>
              </a:rPr>
              <a:t>تضاعف جزئ الدنا</a:t>
            </a:r>
            <a:r>
              <a:rPr b="0" lang="ar-SA" sz="3200" spc="-1" strike="noStrike">
                <a:solidFill>
                  <a:srgbClr val="990033"/>
                </a:solidFill>
                <a:latin typeface="Arial"/>
              </a:rPr>
              <a:t> خلال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إنقسام الغير مباشر</a:t>
            </a:r>
            <a:r>
              <a:rPr b="0" lang="ar-SA" sz="3200" spc="-1" strike="noStrike">
                <a:solidFill>
                  <a:srgbClr val="990033"/>
                </a:solidFill>
                <a:latin typeface="Arial"/>
              </a:rPr>
              <a:t> و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إنقسام الإختزالي</a:t>
            </a:r>
            <a:r>
              <a:rPr b="0" lang="ar-SA" sz="32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0033"/>
                </a:solidFill>
                <a:latin typeface="Arial"/>
              </a:rPr>
              <a:t>العملية الثانية فتتلخص في عمليتي النسخ </a:t>
            </a: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transcription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990033"/>
                </a:solidFill>
                <a:latin typeface="Arial"/>
              </a:rPr>
              <a:t> و الترجمة </a:t>
            </a: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translation</a:t>
            </a:r>
            <a:r>
              <a:rPr b="0" lang="ar-SA" sz="3200" spc="-1" strike="noStrike">
                <a:solidFill>
                  <a:srgbClr val="990033"/>
                </a:solidFill>
                <a:latin typeface="Arial"/>
              </a:rPr>
              <a:t> لتصنيع البروتي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295280" y="1905120"/>
            <a:ext cx="914400" cy="30456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05120" y="19051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09680" y="1905120"/>
            <a:ext cx="762120" cy="30456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7400" y="1905120"/>
            <a:ext cx="304920" cy="30456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09680" y="1143000"/>
            <a:ext cx="762120" cy="30492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rot="5400000">
            <a:off x="2228040" y="1123560"/>
            <a:ext cx="304920" cy="343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1143000"/>
            <a:ext cx="7621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rot="5400000">
            <a:off x="2075760" y="1123560"/>
            <a:ext cx="304920" cy="34308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294560" y="2666880"/>
            <a:ext cx="762120" cy="30492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6200000">
            <a:off x="1733400" y="2647440"/>
            <a:ext cx="304920" cy="342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208960" y="2666880"/>
            <a:ext cx="7621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1885680" y="2647440"/>
            <a:ext cx="304920" cy="34272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057400" y="3429000"/>
            <a:ext cx="914400" cy="30492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056680" y="3429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294560" y="3429000"/>
            <a:ext cx="762120" cy="30492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1905120" y="3429000"/>
            <a:ext cx="304560" cy="3049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14400" y="990720"/>
            <a:ext cx="457200" cy="5331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1523880"/>
            <a:ext cx="228600" cy="22860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752480"/>
            <a:ext cx="457200" cy="53352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90720" y="2286000"/>
            <a:ext cx="228600" cy="22860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2514600"/>
            <a:ext cx="457200" cy="53352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3048120"/>
            <a:ext cx="228600" cy="22860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14400" y="3276720"/>
            <a:ext cx="457200" cy="5331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2895480" y="3352680"/>
            <a:ext cx="457200" cy="53352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971800" y="3123360"/>
            <a:ext cx="228600" cy="22860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895480" y="2590200"/>
            <a:ext cx="457200" cy="5331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971800" y="2361600"/>
            <a:ext cx="228600" cy="22860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895480" y="1828800"/>
            <a:ext cx="457200" cy="53352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971800" y="1599480"/>
            <a:ext cx="228600" cy="22860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895480" y="1066680"/>
            <a:ext cx="457200" cy="53352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05120" y="5791320"/>
            <a:ext cx="76176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rot="5400000">
            <a:off x="2685240" y="5771880"/>
            <a:ext cx="304560" cy="34308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23880" y="5638680"/>
            <a:ext cx="457200" cy="53352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00200" y="6172200"/>
            <a:ext cx="228600" cy="22860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638680" y="2971800"/>
            <a:ext cx="7621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 rot="5400000">
            <a:off x="6419160" y="2952360"/>
            <a:ext cx="304920" cy="34308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637960" y="2362320"/>
            <a:ext cx="762120" cy="30456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6200000">
            <a:off x="6114960" y="2342880"/>
            <a:ext cx="304560" cy="343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637960" y="1752480"/>
            <a:ext cx="762120" cy="30492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6248520" y="1752480"/>
            <a:ext cx="304560" cy="3049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638680" y="1066680"/>
            <a:ext cx="914400" cy="30492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324480" y="10666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638680" y="4114800"/>
            <a:ext cx="457200" cy="53352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638680" y="3580560"/>
            <a:ext cx="228600" cy="22860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702480" y="990720"/>
            <a:ext cx="2157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thym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aden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cytos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guan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phosph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deoxyribose s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1920" y="5029200"/>
            <a:ext cx="19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DNA nucleo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-2880" y="5562720"/>
            <a:ext cx="152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oxyribose sug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5760" y="6400800"/>
            <a:ext cx="90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osph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12440" y="6095880"/>
            <a:ext cx="147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itrogenous b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guan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143000" y="57913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1447920" y="6324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2666520" y="58669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400800" y="6172200"/>
            <a:ext cx="228600" cy="22860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942520" y="5029200"/>
            <a:ext cx="19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RNA nucleo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51440" y="556272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bose sug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256360" y="6400800"/>
            <a:ext cx="90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osph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313040" y="6095880"/>
            <a:ext cx="147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itrogenous b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uraci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943600" y="57913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6248520" y="6324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7467120" y="58669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705720" y="5791320"/>
            <a:ext cx="91440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391520" y="5791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33920" y="2590920"/>
            <a:ext cx="3808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26880" y="4202280"/>
            <a:ext cx="22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Sugar / phosphate “strand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505320" y="1066680"/>
            <a:ext cx="152280" cy="2819520"/>
          </a:xfrm>
          <a:custGeom>
            <a:avLst/>
            <a:gdLst>
              <a:gd name="textAreaLeft" fmla="*/ 0 w 152280"/>
              <a:gd name="textAreaRight" fmla="*/ 55080 w 15228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 rot="5400000">
            <a:off x="2019240" y="3237480"/>
            <a:ext cx="228600" cy="1523880"/>
          </a:xfrm>
          <a:custGeom>
            <a:avLst/>
            <a:gdLst>
              <a:gd name="textAreaLeft" fmla="*/ 0 w 228600"/>
              <a:gd name="textAreaRight" fmla="*/ 8244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5880" y="4419720"/>
            <a:ext cx="20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Nitrogenous base “rung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1828800" y="41144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24480" y="5638680"/>
            <a:ext cx="457200" cy="533520"/>
          </a:xfrm>
          <a:prstGeom prst="pentagon">
            <a:avLst/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14800" y="316080"/>
            <a:ext cx="130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ydrogen b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H-bon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1600200" y="68580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1600200" y="68544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348000" y="189000"/>
            <a:ext cx="23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DNA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1104840" y="1143000"/>
            <a:ext cx="1485720" cy="5105520"/>
            <a:chOff x="1104840" y="1143000"/>
            <a:chExt cx="1485720" cy="5105520"/>
          </a:xfrm>
        </p:grpSpPr>
        <p:sp>
          <p:nvSpPr>
            <p:cNvPr id="307" name=""/>
            <p:cNvSpPr/>
            <p:nvPr/>
          </p:nvSpPr>
          <p:spPr>
            <a:xfrm>
              <a:off x="1485720" y="2057400"/>
              <a:ext cx="914400" cy="3049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95560" y="20574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85720" y="1295640"/>
              <a:ext cx="7621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rot="5400000">
              <a:off x="2266920" y="1276560"/>
              <a:ext cx="304560" cy="34272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485000" y="2819520"/>
              <a:ext cx="762120" cy="30492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6200000">
              <a:off x="1923840" y="2800080"/>
              <a:ext cx="304920" cy="343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1485000" y="3581640"/>
              <a:ext cx="762120" cy="30456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2095560" y="3581640"/>
              <a:ext cx="304560" cy="30456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04840" y="114300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181160" y="167652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04840" y="190512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81160" y="243864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04840" y="2667240"/>
              <a:ext cx="457200" cy="5331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81160" y="320040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04840" y="342900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24160" y="1981440"/>
              <a:ext cx="152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485720" y="4343400"/>
              <a:ext cx="914400" cy="3049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095560" y="43434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1485000" y="5105520"/>
              <a:ext cx="762120" cy="30492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6200000">
              <a:off x="1923840" y="5086080"/>
              <a:ext cx="304920" cy="343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2247120" y="5867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485000" y="5867640"/>
              <a:ext cx="762120" cy="30456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2095560" y="5867640"/>
              <a:ext cx="304560" cy="30456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181160" y="396252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104840" y="419112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81160" y="472464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104840" y="4953240"/>
              <a:ext cx="457200" cy="5331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181160" y="548640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04840" y="571500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247840" y="4267440"/>
              <a:ext cx="2286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2590920" y="1218960"/>
            <a:ext cx="1485360" cy="5105160"/>
            <a:chOff x="2590920" y="1218960"/>
            <a:chExt cx="1485360" cy="5105160"/>
          </a:xfrm>
        </p:grpSpPr>
        <p:sp>
          <p:nvSpPr>
            <p:cNvPr id="338" name=""/>
            <p:cNvSpPr/>
            <p:nvPr/>
          </p:nvSpPr>
          <p:spPr>
            <a:xfrm>
              <a:off x="2628720" y="205704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33640" y="2057040"/>
              <a:ext cx="761760" cy="30456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933640" y="1295280"/>
              <a:ext cx="761760" cy="30420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rot="5400000">
              <a:off x="2952000" y="1275840"/>
              <a:ext cx="304200" cy="342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2933640" y="2819160"/>
              <a:ext cx="76176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6200000">
              <a:off x="2610000" y="2800080"/>
              <a:ext cx="304560" cy="34272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2780640" y="3581280"/>
              <a:ext cx="914040" cy="30420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2780640" y="3581280"/>
              <a:ext cx="304200" cy="30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3619440" y="3504240"/>
              <a:ext cx="456840" cy="5331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3695760" y="3276360"/>
              <a:ext cx="228240" cy="22824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3619440" y="2742120"/>
              <a:ext cx="456840" cy="5331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3695760" y="2514240"/>
              <a:ext cx="228240" cy="22824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3619440" y="1981080"/>
              <a:ext cx="456840" cy="53280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695760" y="1752480"/>
              <a:ext cx="228240" cy="22824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3619440" y="1218600"/>
              <a:ext cx="456840" cy="5331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05040" y="3504960"/>
              <a:ext cx="15192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81360" y="2057040"/>
              <a:ext cx="304200" cy="30456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628720" y="434304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33640" y="4343040"/>
              <a:ext cx="761760" cy="30456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781360" y="4343040"/>
              <a:ext cx="304200" cy="30456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2933640" y="5105160"/>
              <a:ext cx="76176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2780640" y="5867280"/>
              <a:ext cx="914040" cy="30420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2780640" y="5867280"/>
              <a:ext cx="304200" cy="30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3619440" y="5790240"/>
              <a:ext cx="456840" cy="5331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3695760" y="5562360"/>
              <a:ext cx="228240" cy="22824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3619440" y="5028120"/>
              <a:ext cx="456840" cy="5331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3695760" y="4800240"/>
              <a:ext cx="228240" cy="22824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3619440" y="4267080"/>
              <a:ext cx="456840" cy="53280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695760" y="4038480"/>
              <a:ext cx="228240" cy="22824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705040" y="5790960"/>
              <a:ext cx="2282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16200000">
              <a:off x="2647800" y="5086080"/>
              <a:ext cx="304560" cy="34272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 txBox="1"/>
          <p:nvPr/>
        </p:nvSpPr>
        <p:spPr>
          <a:xfrm>
            <a:off x="2514600" y="380880"/>
            <a:ext cx="407664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NA Repli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0" name=""/>
          <p:cNvSpPr/>
          <p:nvPr/>
        </p:nvSpPr>
        <p:spPr>
          <a:xfrm>
            <a:off x="4336920" y="1484280"/>
            <a:ext cx="462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96600"/>
                </a:solidFill>
                <a:latin typeface="Times New Roman"/>
              </a:rPr>
              <a:t>الخطوة الأولى:  تتكسر الروابط الهيدروجينية بين شريطين الدنا</a:t>
            </a:r>
            <a:r>
              <a:rPr b="1" lang="ar-SA" sz="3600" spc="-1" strike="noStrike">
                <a:solidFill>
                  <a:srgbClr val="9966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96600"/>
                </a:solidFill>
                <a:latin typeface="Times New Roman"/>
              </a:rPr>
              <a:t>يصبح الشريط الدنا مفتوح</a:t>
            </a:r>
            <a:r>
              <a:rPr b="1" lang="ar-SA" sz="3600" spc="-1" strike="noStrike">
                <a:solidFill>
                  <a:srgbClr val="9966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DNA “unzip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437640" y="684360"/>
            <a:ext cx="17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33"/>
                </a:solidFill>
                <a:latin typeface="Times New Roman"/>
              </a:rPr>
              <a:t>تضاغف الدن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762120" y="1143000"/>
            <a:ext cx="1485720" cy="5105520"/>
            <a:chOff x="762120" y="1143000"/>
            <a:chExt cx="1485720" cy="5105520"/>
          </a:xfrm>
        </p:grpSpPr>
        <p:sp>
          <p:nvSpPr>
            <p:cNvPr id="373" name=""/>
            <p:cNvSpPr/>
            <p:nvPr/>
          </p:nvSpPr>
          <p:spPr>
            <a:xfrm>
              <a:off x="1143000" y="2057400"/>
              <a:ext cx="914400" cy="3049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2840" y="20574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143000" y="1295640"/>
              <a:ext cx="7621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rot="5400000">
              <a:off x="1924200" y="1276560"/>
              <a:ext cx="304560" cy="34272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1142280" y="2819520"/>
              <a:ext cx="762120" cy="30492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16200000">
              <a:off x="1581120" y="2800080"/>
              <a:ext cx="304920" cy="343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1142280" y="3581640"/>
              <a:ext cx="762120" cy="30456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1752840" y="3581640"/>
              <a:ext cx="304560" cy="30456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120" y="114300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38440" y="167652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62120" y="190512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38440" y="243864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62120" y="2667240"/>
              <a:ext cx="457200" cy="5331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8440" y="320040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2120" y="342900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981440" y="1981440"/>
              <a:ext cx="152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43000" y="4343400"/>
              <a:ext cx="914400" cy="3049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52840" y="43434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142280" y="5105520"/>
              <a:ext cx="762120" cy="30492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6200000">
              <a:off x="1581120" y="5086080"/>
              <a:ext cx="304920" cy="343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1904400" y="5867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1142280" y="5867640"/>
              <a:ext cx="762120" cy="30456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1752840" y="5867640"/>
              <a:ext cx="304560" cy="30456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38440" y="396252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2120" y="419112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8440" y="472464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62120" y="4953240"/>
              <a:ext cx="457200" cy="5331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38440" y="548640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2120" y="571500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05120" y="4267440"/>
              <a:ext cx="2286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6781680" y="1371600"/>
            <a:ext cx="1486080" cy="5105520"/>
            <a:chOff x="6781680" y="1371600"/>
            <a:chExt cx="1486080" cy="5105520"/>
          </a:xfrm>
        </p:grpSpPr>
        <p:sp>
          <p:nvSpPr>
            <p:cNvPr id="404" name=""/>
            <p:cNvSpPr/>
            <p:nvPr/>
          </p:nvSpPr>
          <p:spPr>
            <a:xfrm>
              <a:off x="6819840" y="220968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124760" y="2209680"/>
              <a:ext cx="762120" cy="30492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124760" y="1447920"/>
              <a:ext cx="762120" cy="30456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rot="5400000">
              <a:off x="7143840" y="1428840"/>
              <a:ext cx="304560" cy="342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7124040" y="2971800"/>
              <a:ext cx="7621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16200000">
              <a:off x="6800760" y="2952360"/>
              <a:ext cx="304920" cy="34308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6972480" y="3733920"/>
              <a:ext cx="91440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6972480" y="37339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7810560" y="365760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7886880" y="342828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7810560" y="289548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7886880" y="266616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7810560" y="2133000"/>
              <a:ext cx="457200" cy="5331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7886880" y="190440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7810560" y="137160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896160" y="3657600"/>
              <a:ext cx="152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72480" y="2209680"/>
              <a:ext cx="304560" cy="3049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819840" y="449568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124760" y="4495680"/>
              <a:ext cx="762120" cy="30492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972480" y="4495680"/>
              <a:ext cx="304560" cy="3049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124040" y="5257800"/>
              <a:ext cx="7621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6972480" y="6019920"/>
              <a:ext cx="91440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6972480" y="60199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7810560" y="594360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7886880" y="571428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7810560" y="518148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7886880" y="495216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7810560" y="4419000"/>
              <a:ext cx="457200" cy="5331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7886880" y="419040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96160" y="5943600"/>
              <a:ext cx="2286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6200000">
              <a:off x="6838920" y="5238360"/>
              <a:ext cx="304920" cy="34308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652320" y="2514600"/>
            <a:ext cx="76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00"/>
                </a:solidFill>
                <a:latin typeface="Times New Roman"/>
              </a:rPr>
              <a:t>الخطوة الثانية : يبتعد الشريطين عن بعضهم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556000" y="549360"/>
            <a:ext cx="475272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cc99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ff33"/>
                </a:solidFill>
                <a:latin typeface="Times New Roman"/>
              </a:rPr>
              <a:t>تضاعف الد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2666880" y="304920"/>
            <a:ext cx="407700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NA Repli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5752440" y="2453400"/>
            <a:ext cx="1186920" cy="799560"/>
            <a:chOff x="5752440" y="2453400"/>
            <a:chExt cx="1186920" cy="799560"/>
          </a:xfrm>
        </p:grpSpPr>
        <p:sp>
          <p:nvSpPr>
            <p:cNvPr id="439" name=""/>
            <p:cNvSpPr/>
            <p:nvPr/>
          </p:nvSpPr>
          <p:spPr>
            <a:xfrm flipH="1" rot="21214800">
              <a:off x="6161760" y="2569320"/>
              <a:ext cx="762120" cy="30492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5814800">
              <a:off x="6599520" y="2526840"/>
              <a:ext cx="304920" cy="342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21214800">
              <a:off x="5780520" y="2477160"/>
              <a:ext cx="457200" cy="5331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21214800">
              <a:off x="5899680" y="301212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334120" y="3200400"/>
            <a:ext cx="1294920" cy="533520"/>
            <a:chOff x="5334120" y="3200400"/>
            <a:chExt cx="1294920" cy="533520"/>
          </a:xfrm>
        </p:grpSpPr>
        <p:sp>
          <p:nvSpPr>
            <p:cNvPr id="444" name=""/>
            <p:cNvSpPr/>
            <p:nvPr/>
          </p:nvSpPr>
          <p:spPr>
            <a:xfrm flipH="1">
              <a:off x="5714280" y="3352680"/>
              <a:ext cx="761400" cy="30492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6324480" y="3352680"/>
              <a:ext cx="304560" cy="3049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334120" y="3200400"/>
              <a:ext cx="45684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599840" y="914400"/>
            <a:ext cx="1143360" cy="533520"/>
            <a:chOff x="1599840" y="914400"/>
            <a:chExt cx="1143360" cy="533520"/>
          </a:xfrm>
        </p:grpSpPr>
        <p:sp>
          <p:nvSpPr>
            <p:cNvPr id="448" name=""/>
            <p:cNvSpPr/>
            <p:nvPr/>
          </p:nvSpPr>
          <p:spPr>
            <a:xfrm>
              <a:off x="1600200" y="990720"/>
              <a:ext cx="762120" cy="30492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rot="5400000">
              <a:off x="1618560" y="971280"/>
              <a:ext cx="304920" cy="343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2286000" y="91440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1726200" y="2418120"/>
            <a:ext cx="1526400" cy="808920"/>
            <a:chOff x="1726200" y="2418120"/>
            <a:chExt cx="1526400" cy="808920"/>
          </a:xfrm>
        </p:grpSpPr>
        <p:sp>
          <p:nvSpPr>
            <p:cNvPr id="452" name=""/>
            <p:cNvSpPr/>
            <p:nvPr/>
          </p:nvSpPr>
          <p:spPr>
            <a:xfrm flipH="1" rot="499800">
              <a:off x="2083680" y="2661840"/>
              <a:ext cx="7621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6699200">
              <a:off x="1765440" y="2563920"/>
              <a:ext cx="304560" cy="34272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 rot="499800">
              <a:off x="2758680" y="2663280"/>
              <a:ext cx="457200" cy="5331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 rot="499800">
              <a:off x="2890440" y="243324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6248520" y="1523880"/>
            <a:ext cx="1371600" cy="762120"/>
            <a:chOff x="6248520" y="1523880"/>
            <a:chExt cx="1371600" cy="762120"/>
          </a:xfrm>
        </p:grpSpPr>
        <p:sp>
          <p:nvSpPr>
            <p:cNvPr id="457" name=""/>
            <p:cNvSpPr/>
            <p:nvPr/>
          </p:nvSpPr>
          <p:spPr>
            <a:xfrm>
              <a:off x="6629400" y="1676520"/>
              <a:ext cx="91440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39240" y="16765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48520" y="152388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324840" y="205740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67840" y="1600200"/>
              <a:ext cx="152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2590920" y="3276720"/>
            <a:ext cx="1371600" cy="761040"/>
            <a:chOff x="2590920" y="3276720"/>
            <a:chExt cx="1371600" cy="761040"/>
          </a:xfrm>
        </p:grpSpPr>
        <p:sp>
          <p:nvSpPr>
            <p:cNvPr id="463" name=""/>
            <p:cNvSpPr/>
            <p:nvPr/>
          </p:nvSpPr>
          <p:spPr>
            <a:xfrm flipH="1">
              <a:off x="2666880" y="3581280"/>
              <a:ext cx="91440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2666160" y="358128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3505320" y="3504240"/>
              <a:ext cx="457200" cy="5331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3581280" y="3276720"/>
              <a:ext cx="228600" cy="22824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90920" y="3504960"/>
              <a:ext cx="15228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04920" y="838080"/>
            <a:ext cx="1638000" cy="5105520"/>
            <a:chOff x="304920" y="838080"/>
            <a:chExt cx="1638000" cy="5105520"/>
          </a:xfrm>
        </p:grpSpPr>
        <p:sp>
          <p:nvSpPr>
            <p:cNvPr id="469" name=""/>
            <p:cNvSpPr/>
            <p:nvPr/>
          </p:nvSpPr>
          <p:spPr>
            <a:xfrm>
              <a:off x="685800" y="1752480"/>
              <a:ext cx="914400" cy="3049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295280" y="175248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 rot="5400000">
              <a:off x="1618560" y="971280"/>
              <a:ext cx="304560" cy="343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85800" y="990720"/>
              <a:ext cx="7621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 rot="5400000">
              <a:off x="1467000" y="971640"/>
              <a:ext cx="304560" cy="34272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685080" y="2514600"/>
              <a:ext cx="762120" cy="30492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16200000">
              <a:off x="1123920" y="2495160"/>
              <a:ext cx="304920" cy="343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1447920" y="32767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685080" y="3276720"/>
              <a:ext cx="762120" cy="30456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1294560" y="3276720"/>
              <a:ext cx="304920" cy="30456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4920" y="83808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80880" y="137160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04920" y="160020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80880" y="213372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04920" y="2362320"/>
              <a:ext cx="457200" cy="5331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80880" y="289548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04920" y="312408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523880" y="1676520"/>
              <a:ext cx="1526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5800" y="4038480"/>
              <a:ext cx="914400" cy="3049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295280" y="403848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685080" y="4800600"/>
              <a:ext cx="762120" cy="30492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16200000">
              <a:off x="1123920" y="4781160"/>
              <a:ext cx="304920" cy="343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1447920" y="55627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685080" y="5562720"/>
              <a:ext cx="762120" cy="30456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1294560" y="5562720"/>
              <a:ext cx="304920" cy="30456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0880" y="365760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04920" y="388620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0880" y="441972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04920" y="4648320"/>
              <a:ext cx="457200" cy="5331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80880" y="518148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04920" y="541008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47920" y="3962520"/>
              <a:ext cx="2286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1316880" y="4191120"/>
            <a:ext cx="657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00"/>
                </a:solidFill>
                <a:latin typeface="Times New Roman"/>
              </a:rPr>
              <a:t>الخطوة الثالثة: تتجمع النيوكلوتيدات المكم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333300"/>
                </a:solidFill>
                <a:latin typeface="Times New Roman"/>
              </a:rPr>
              <a:t>من الشريط الجديد لترتبط بالنيوكليوتيدة</a:t>
            </a:r>
            <a:r>
              <a:rPr b="1" lang="ar-SA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00"/>
                </a:solidFill>
                <a:latin typeface="Times New Roman"/>
              </a:rPr>
              <a:t>من الشريط القدي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0033"/>
                </a:solidFill>
                <a:latin typeface="Times New Roman"/>
              </a:rPr>
              <a:t>وبذلك يكمل كل شريط دنا قديم الشري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990033"/>
                </a:solidFill>
                <a:latin typeface="Times New Roman"/>
              </a:rPr>
              <a:t>الجديد المكمل له</a:t>
            </a:r>
            <a:r>
              <a:rPr b="0" lang="ar-SA" sz="2400" spc="-1" strike="noStrike">
                <a:solidFill>
                  <a:srgbClr val="9900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1447920" y="1447920"/>
            <a:ext cx="1294920" cy="761040"/>
            <a:chOff x="1447920" y="1447920"/>
            <a:chExt cx="1294920" cy="761040"/>
          </a:xfrm>
        </p:grpSpPr>
        <p:sp>
          <p:nvSpPr>
            <p:cNvPr id="503" name=""/>
            <p:cNvSpPr/>
            <p:nvPr/>
          </p:nvSpPr>
          <p:spPr>
            <a:xfrm>
              <a:off x="1600200" y="1752480"/>
              <a:ext cx="761400" cy="304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447920" y="1752480"/>
              <a:ext cx="304560" cy="3042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286000" y="1675440"/>
              <a:ext cx="456840" cy="5331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2361960" y="1447920"/>
              <a:ext cx="228240" cy="22824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3937320" y="741960"/>
            <a:ext cx="1524960" cy="809640"/>
            <a:chOff x="3937320" y="741960"/>
            <a:chExt cx="1524960" cy="809640"/>
          </a:xfrm>
        </p:grpSpPr>
        <p:sp>
          <p:nvSpPr>
            <p:cNvPr id="508" name=""/>
            <p:cNvSpPr/>
            <p:nvPr/>
          </p:nvSpPr>
          <p:spPr>
            <a:xfrm flipH="1" rot="498600">
              <a:off x="4293720" y="986760"/>
              <a:ext cx="7621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16699200">
              <a:off x="3976200" y="887760"/>
              <a:ext cx="304920" cy="34272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 rot="498600">
              <a:off x="4968720" y="98784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 rot="498600">
              <a:off x="5100840" y="75708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3618720" y="1843920"/>
            <a:ext cx="1186920" cy="799560"/>
            <a:chOff x="3618720" y="1843920"/>
            <a:chExt cx="1186920" cy="799560"/>
          </a:xfrm>
        </p:grpSpPr>
        <p:sp>
          <p:nvSpPr>
            <p:cNvPr id="513" name=""/>
            <p:cNvSpPr/>
            <p:nvPr/>
          </p:nvSpPr>
          <p:spPr>
            <a:xfrm flipH="1" rot="21214800">
              <a:off x="4028040" y="1959840"/>
              <a:ext cx="762120" cy="30492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15814800">
              <a:off x="4465800" y="1917360"/>
              <a:ext cx="304920" cy="342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21214800">
              <a:off x="3646800" y="1867680"/>
              <a:ext cx="457200" cy="5331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21214800">
              <a:off x="3765960" y="240264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7353360" y="838080"/>
            <a:ext cx="1485720" cy="5105520"/>
            <a:chOff x="7353360" y="838080"/>
            <a:chExt cx="1485720" cy="5105520"/>
          </a:xfrm>
        </p:grpSpPr>
        <p:sp>
          <p:nvSpPr>
            <p:cNvPr id="518" name=""/>
            <p:cNvSpPr/>
            <p:nvPr/>
          </p:nvSpPr>
          <p:spPr>
            <a:xfrm>
              <a:off x="7391520" y="16765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696080" y="1676520"/>
              <a:ext cx="762120" cy="30456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696080" y="914400"/>
              <a:ext cx="762120" cy="30492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rot="5400000">
              <a:off x="7714440" y="894960"/>
              <a:ext cx="304920" cy="343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7695360" y="2438280"/>
              <a:ext cx="7621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16200000">
              <a:off x="7372080" y="2418840"/>
              <a:ext cx="304920" cy="34272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7543800" y="3200400"/>
              <a:ext cx="914400" cy="3049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7543080" y="320040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8381880" y="312408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8458200" y="289476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8381880" y="2361600"/>
              <a:ext cx="457200" cy="5331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8458200" y="213300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8381880" y="160020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8458200" y="137088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8381880" y="83808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467480" y="3124080"/>
              <a:ext cx="1526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543800" y="1676520"/>
              <a:ext cx="304920" cy="30456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91520" y="39625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696080" y="3962520"/>
              <a:ext cx="762120" cy="30456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543800" y="3962520"/>
              <a:ext cx="304920" cy="30456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7695360" y="4724280"/>
              <a:ext cx="7621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7543800" y="5486400"/>
              <a:ext cx="914400" cy="3049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7543080" y="548640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8381880" y="541008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8458200" y="518076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8381880" y="4647600"/>
              <a:ext cx="457200" cy="5331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8458200" y="441900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8381880" y="388620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8458200" y="365688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467480" y="5410080"/>
              <a:ext cx="2286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16200000">
              <a:off x="7410240" y="4704840"/>
              <a:ext cx="304920" cy="34272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6248520" y="762120"/>
            <a:ext cx="1485720" cy="761400"/>
            <a:chOff x="6248520" y="762120"/>
            <a:chExt cx="1485720" cy="761400"/>
          </a:xfrm>
        </p:grpSpPr>
        <p:sp>
          <p:nvSpPr>
            <p:cNvPr id="550" name=""/>
            <p:cNvSpPr/>
            <p:nvPr/>
          </p:nvSpPr>
          <p:spPr>
            <a:xfrm>
              <a:off x="6629400" y="914400"/>
              <a:ext cx="762120" cy="3042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rot="5400000">
              <a:off x="7410600" y="894600"/>
              <a:ext cx="304200" cy="34272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48520" y="762120"/>
              <a:ext cx="457200" cy="5331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324480" y="1295280"/>
              <a:ext cx="228600" cy="22824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3132360" y="260280"/>
            <a:ext cx="23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DNA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90680" y="414000"/>
            <a:ext cx="412416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Georgia"/>
              </a:rPr>
              <a:t>The Bases</a:t>
            </a:r>
            <a:r>
              <a:rPr b="1" lang="en-US" sz="2800" spc="-1" strike="noStrike">
                <a:solidFill>
                  <a:srgbClr val="800000"/>
                </a:solidFill>
                <a:latin typeface="Georgia"/>
              </a:rPr>
              <a:t>…</a:t>
            </a:r>
            <a:br>
              <a:rPr sz="2800"/>
            </a:br>
            <a:r>
              <a:rPr b="1" lang="ar-SA" sz="2800" spc="-1" strike="noStrike">
                <a:solidFill>
                  <a:srgbClr val="800000"/>
                </a:solidFill>
                <a:latin typeface="Georgia"/>
              </a:rPr>
              <a:t> القواعد النيتروجين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267080" cy="147024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4267080" cy="190512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3"/>
          <a:stretch/>
        </p:blipFill>
        <p:spPr>
          <a:xfrm>
            <a:off x="5943600" y="228600"/>
            <a:ext cx="2895480" cy="292896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457200" y="3200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Purine Base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enine (A); Guanine (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قواعد البيورنية : تشمل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الأدني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ar-SA" sz="1800" spc="-1" strike="noStrike">
                <a:solidFill>
                  <a:srgbClr val="009999"/>
                </a:solidFill>
                <a:latin typeface="Arial"/>
              </a:rPr>
              <a:t>الجوان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57200" y="601992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Pyramidine Bas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ymine (T); Cytosine 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قواعد البيراميدنية: تشمل </a:t>
            </a:r>
            <a:r>
              <a:rPr b="1" lang="ar-SA" sz="1800" spc="-1" strike="noStrike">
                <a:solidFill>
                  <a:srgbClr val="cc0066"/>
                </a:solidFill>
                <a:latin typeface="Arial"/>
              </a:rPr>
              <a:t>الثيمي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ar-SA" sz="1800" spc="-1" strike="noStrike">
                <a:solidFill>
                  <a:srgbClr val="660033"/>
                </a:solidFill>
                <a:latin typeface="Arial"/>
              </a:rPr>
              <a:t>السيتوسي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4"/>
          <a:stretch/>
        </p:blipFill>
        <p:spPr>
          <a:xfrm>
            <a:off x="5943600" y="3581280"/>
            <a:ext cx="2895480" cy="297180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5334120" y="1295280"/>
            <a:ext cx="38088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Georgia"/>
              </a:rPr>
              <a:t>The Pairing Rule…</a:t>
            </a:r>
            <a:br>
              <a:rPr sz="2800"/>
            </a:br>
            <a:br>
              <a:rPr sz="2800"/>
            </a:br>
            <a:r>
              <a:rPr b="1" lang="ar-SA" sz="2800" spc="-1" strike="noStrike">
                <a:solidFill>
                  <a:srgbClr val="800000"/>
                </a:solidFill>
                <a:latin typeface="Georgia"/>
              </a:rPr>
              <a:t>قانون التزاوج بين القواعد النيتروجين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809880" cy="320040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380880" y="5257800"/>
            <a:ext cx="38102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Georgi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and </a:t>
            </a:r>
            <a:r>
              <a:rPr b="1" lang="en-US" sz="1800" spc="-1" strike="noStrike">
                <a:solidFill>
                  <a:srgbClr val="9900cc"/>
                </a:solidFill>
                <a:latin typeface="Georgia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paired through </a:t>
            </a:r>
            <a:r>
              <a:rPr b="0" lang="en-US" sz="1800" spc="-1" strike="noStrike">
                <a:solidFill>
                  <a:srgbClr val="800000"/>
                </a:solidFill>
                <a:latin typeface="Georgia"/>
              </a:rPr>
              <a:t>TWO </a:t>
            </a:r>
            <a:r>
              <a:rPr b="0" lang="en-US" sz="1800" spc="-1" strike="noStrike">
                <a:solidFill>
                  <a:srgbClr val="808080"/>
                </a:solidFill>
                <a:latin typeface="Georgia"/>
              </a:rPr>
              <a:t>hydrogen b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808080"/>
                </a:solidFill>
                <a:latin typeface="Georgia"/>
              </a:rPr>
              <a:t>يرتبط الأدنين مع الثايمين برابطتين هيدروجي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4800600" y="1752480"/>
            <a:ext cx="3809880" cy="319104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4800600" y="5257800"/>
            <a:ext cx="38098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Georgi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and </a:t>
            </a:r>
            <a:r>
              <a:rPr b="1" lang="en-US" sz="1800" spc="-1" strike="noStrike">
                <a:solidFill>
                  <a:srgbClr val="cc0066"/>
                </a:solidFill>
                <a:latin typeface="Georgi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paired through </a:t>
            </a:r>
            <a:r>
              <a:rPr b="0" lang="en-US" sz="1800" spc="-1" strike="noStrike">
                <a:solidFill>
                  <a:srgbClr val="800000"/>
                </a:solidFill>
                <a:latin typeface="Georgia"/>
              </a:rPr>
              <a:t>THREE </a:t>
            </a:r>
            <a:r>
              <a:rPr b="0" lang="en-US" sz="1800" spc="-1" strike="noStrike">
                <a:solidFill>
                  <a:srgbClr val="808080"/>
                </a:solidFill>
                <a:latin typeface="Georgia"/>
              </a:rPr>
              <a:t>hydrogen b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808080"/>
                </a:solidFill>
                <a:latin typeface="Georgia"/>
              </a:rPr>
              <a:t>يرتبط الجوانين و السيتوسين بثلاث روابط هيدروجي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c66"/>
            </a:solidFill>
            <a:prstDash val="dash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Mechanism of DNA Replication</a:t>
            </a:r>
            <a:br>
              <a:rPr sz="3200"/>
            </a:br>
            <a:r>
              <a:rPr b="0" lang="ar-SA" sz="3200" spc="-1" strike="noStrike">
                <a:solidFill>
                  <a:srgbClr val="ff0066"/>
                </a:solidFill>
                <a:latin typeface="Arial"/>
              </a:rPr>
              <a:t>الية تضاعف الد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738600" y="1908000"/>
            <a:ext cx="1639800" cy="4340520"/>
          </a:xfrm>
          <a:prstGeom prst="rect">
            <a:avLst/>
          </a:prstGeom>
          <a:ln w="25560">
            <a:solidFill>
              <a:srgbClr val="bbe0e3"/>
            </a:solidFill>
            <a:miter/>
          </a:ln>
        </p:spPr>
      </p:pic>
      <p:pic>
        <p:nvPicPr>
          <p:cNvPr id="570" name="" descr=""/>
          <p:cNvPicPr/>
          <p:nvPr/>
        </p:nvPicPr>
        <p:blipFill>
          <a:blip r:embed="rId2"/>
          <a:stretch/>
        </p:blipFill>
        <p:spPr>
          <a:xfrm>
            <a:off x="5562720" y="2057400"/>
            <a:ext cx="3504960" cy="4114800"/>
          </a:xfrm>
          <a:prstGeom prst="rect">
            <a:avLst/>
          </a:prstGeom>
          <a:ln w="25560">
            <a:solidFill>
              <a:srgbClr val="bbe0e3"/>
            </a:solidFill>
            <a:miter/>
          </a:ln>
        </p:spPr>
      </p:pic>
      <p:pic>
        <p:nvPicPr>
          <p:cNvPr id="571" name="" descr=""/>
          <p:cNvPicPr/>
          <p:nvPr/>
        </p:nvPicPr>
        <p:blipFill>
          <a:blip r:embed="rId3"/>
          <a:stretch/>
        </p:blipFill>
        <p:spPr>
          <a:xfrm>
            <a:off x="76320" y="2057400"/>
            <a:ext cx="3504960" cy="4038480"/>
          </a:xfrm>
          <a:prstGeom prst="rect">
            <a:avLst/>
          </a:prstGeom>
          <a:ln w="255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cc66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333399"/>
                </a:solidFill>
                <a:latin typeface="Arial"/>
              </a:rPr>
              <a:t>شكراً لحسن الإصغا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381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93366"/>
            </a:solidFill>
            <a:prstDash val="lgDash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66"/>
                </a:solidFill>
                <a:latin typeface="Arial"/>
              </a:rPr>
              <a:t>دعونا نستعرض بعض الحقائق الأساس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09680" y="2971800"/>
            <a:ext cx="393876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8640" y="380520"/>
            <a:ext cx="3390840" cy="1117800"/>
          </a:xfrm>
          <a:prstGeom prst="rect">
            <a:avLst/>
          </a:prstGeom>
          <a:gradFill rotWithShape="0">
            <a:gsLst>
              <a:gs pos="0">
                <a:srgbClr val="755e5e"/>
              </a:gs>
              <a:gs pos="50000">
                <a:srgbClr val="ffcccc"/>
              </a:gs>
              <a:gs pos="100000">
                <a:srgbClr val="755e5e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99"/>
                </a:solidFill>
                <a:latin typeface="Arial"/>
              </a:rPr>
              <a:t>الخل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333cc"/>
                </a:solidFill>
                <a:latin typeface="Arial"/>
                <a:cs typeface="Times New Roman"/>
              </a:rPr>
              <a:t>تحتوى الخلية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على مخزون من المعلوم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Times New Roman"/>
              </a:rPr>
              <a:t>والخطط اللازمة لتأدية عملها داخل النوا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14600" y="3110040"/>
            <a:ext cx="6159600" cy="3747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11600" y="177480"/>
            <a:ext cx="4440240" cy="1143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96600"/>
                </a:solidFill>
                <a:latin typeface="Arial"/>
                <a:cs typeface="Times New Roman"/>
              </a:rPr>
              <a:t>ميتوكوندري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57400" y="17521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Times New Roman"/>
              </a:rPr>
              <a:t>والبعض الآخر خارج النواة في إحدى عضيواتها وهو ما يسمى </a:t>
            </a:r>
            <a:r>
              <a:rPr b="0" lang="ar-SA" sz="3200" spc="-1" strike="noStrike">
                <a:solidFill>
                  <a:srgbClr val="6699ff"/>
                </a:solidFill>
                <a:latin typeface="Arial"/>
                <a:cs typeface="Times New Roman"/>
              </a:rPr>
              <a:t>بالميتوكوندري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Times New Roman"/>
              </a:rPr>
              <a:t>وهو بيت الطاقة في الخلية حيث انه المسئول عن أكسدة السكر وإنتاج الطاقة اللازمة للخلية في تسير عمل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05120" y="3886200"/>
            <a:ext cx="6858000" cy="2971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240" y="274320"/>
            <a:ext cx="4746600" cy="114300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d60093"/>
                </a:solidFill>
                <a:latin typeface="Arial"/>
                <a:cs typeface="Times New Roman"/>
              </a:rPr>
              <a:t>الخلاي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مكن القول أن </a:t>
            </a:r>
            <a:r>
              <a:rPr b="0" lang="ar-SA" sz="2800" spc="-1" strike="noStrike">
                <a:solidFill>
                  <a:srgbClr val="800080"/>
                </a:solidFill>
                <a:latin typeface="Arial"/>
              </a:rPr>
              <a:t>جسم الإنسان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يتكون من بلايين الخلايا، وأن كل خلية من جسم الإنسان تحتوي على نسخة طبق الأصل من المادة الوراثية التي هي عبارة عن </a:t>
            </a:r>
            <a:r>
              <a:rPr b="1" lang="ar-SA" sz="2800" spc="-1" strike="noStrike">
                <a:solidFill>
                  <a:srgbClr val="666699"/>
                </a:solidFill>
                <a:latin typeface="Arial"/>
              </a:rPr>
              <a:t>الحامض النووي منزوع الأكسيجين 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DNA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الذي يكوّن </a:t>
            </a:r>
            <a:r>
              <a:rPr b="1" lang="ar-SA" sz="2800" spc="-1" strike="noStrike">
                <a:solidFill>
                  <a:srgbClr val="d60093"/>
                </a:solidFill>
                <a:latin typeface="Arial"/>
              </a:rPr>
              <a:t>الجينا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التي بدورها تُحمل على </a:t>
            </a:r>
            <a:r>
              <a:rPr b="1" lang="ar-SA" sz="2800" spc="-1" strike="noStrike">
                <a:solidFill>
                  <a:srgbClr val="d60093"/>
                </a:solidFill>
                <a:latin typeface="Arial"/>
              </a:rPr>
              <a:t>الكروموسوما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وتُورث من جيل إلى جيل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346040" y="4419720"/>
            <a:ext cx="5838840" cy="2270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57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8400" y="351000"/>
            <a:ext cx="5083200" cy="901440"/>
          </a:xfrm>
          <a:prstGeom prst="rect">
            <a:avLst/>
          </a:prstGeom>
          <a:gradFill rotWithShape="0">
            <a:gsLst>
              <a:gs pos="0">
                <a:srgbClr val="351158"/>
              </a:gs>
              <a:gs pos="50000">
                <a:srgbClr val="9933ff"/>
              </a:gs>
              <a:gs pos="100000">
                <a:srgbClr val="351158"/>
              </a:gs>
            </a:gsLst>
            <a:lin ang="5400000"/>
          </a:gradFill>
          <a:ln w="38160">
            <a:solidFill>
              <a:srgbClr val="80008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be0e3"/>
                </a:solidFill>
                <a:latin typeface="Arial"/>
              </a:rPr>
              <a:t>ما هي الكروموسوم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47920" y="4343400"/>
            <a:ext cx="5943600" cy="2286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8600" y="1447920"/>
            <a:ext cx="8534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تكون الكروموسوم كيميائيا من حمض يسمى الحمض النووى والذى يرمز لة بالدنا ا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D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حيث يتكون من عدد هائل من الوحدات الصغيرة مرتبطة فى شكل سلسله وكل جزئ كامل م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DNA</a:t>
            </a: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تركب من سلسلتين تلتفان كجديلتي حبل لتأخذ شكل اللولب المزدوج والوحدات الأساسية لهذه السلسة هى اربع قواعد تسم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:</a:t>
            </a:r>
            <a:br>
              <a:rPr sz="2800"/>
            </a:br>
            <a:r>
              <a:rPr b="1" lang="ar-SA" sz="2800" spc="-1" strike="noStrike">
                <a:solidFill>
                  <a:srgbClr val="cc0000"/>
                </a:solidFill>
                <a:latin typeface="Arial"/>
              </a:rPr>
              <a:t>الادينوزين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 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1" lang="ar-SA" sz="2800" spc="-1" strike="noStrike">
                <a:solidFill>
                  <a:srgbClr val="3333cc"/>
                </a:solidFill>
                <a:latin typeface="Arial"/>
              </a:rPr>
              <a:t>السيتوزين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ar-SA" sz="2800" spc="-1" strike="noStrike">
                <a:solidFill>
                  <a:srgbClr val="009900"/>
                </a:solidFill>
                <a:latin typeface="Arial"/>
              </a:rPr>
              <a:t>الثياميدين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ar-SA" sz="2800" spc="-1" strike="noStrike">
                <a:solidFill>
                  <a:srgbClr val="cc0066"/>
                </a:solidFill>
                <a:latin typeface="Arial"/>
              </a:rPr>
              <a:t>الجواندين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55880" y="251460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07:48:26Z</dcterms:created>
  <dc:creator> Dr.Maha Daghestani</dc:creator>
  <dc:description/>
  <dc:language>en-US</dc:language>
  <cp:lastModifiedBy> Dr.Maha Daghestani</cp:lastModifiedBy>
  <dcterms:modified xsi:type="dcterms:W3CDTF">2009-07-17T20:17:16Z</dcterms:modified>
  <cp:revision>24</cp:revision>
  <dc:subject/>
  <dc:title>ماهو الدنا</dc:title>
</cp:coreProperties>
</file>