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7.gif" ContentType="image/gif"/>
  <Override PartName="/ppt/media/image5.jpeg" ContentType="image/jpeg"/>
  <Override PartName="/ppt/media/image26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WHOOSH.WAV" ContentType="audio/x-wav"/>
  <Override PartName="/ppt/media/image6.jpeg" ContentType="image/jpeg"/>
  <Override PartName="/ppt/media/image27.jpeg" ContentType="image/jpeg"/>
  <Override PartName="/ppt/media/image10.jpeg" ContentType="image/jpeg"/>
  <Override PartName="/ppt/media/image2.gif" ContentType="image/gif"/>
  <Override PartName="/ppt/media/image28.png" ContentType="image/png"/>
  <Override PartName="/ppt/media/image4.jpeg" ContentType="image/jpeg"/>
  <Override PartName="/ppt/media/image25.jpeg" ContentType="image/jpeg"/>
  <Override PartName="/ppt/media/image24.png" ContentType="image/png"/>
  <Override PartName="/ppt/media/image3.gif" ContentType="image/gif"/>
  <Override PartName="/ppt/media/image23.png" ContentType="image/png"/>
  <Override PartName="/ppt/media/image22.png" ContentType="image/png"/>
  <Override PartName="/ppt/media/image1.gif" ContentType="image/gi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C203-E00F-4E4D-AC62-E49F8E26B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E301-14AA-4895-9598-711AF1C0C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9257-AEC0-43DA-9D8B-987E0D4A6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678B-45D5-43BB-8F52-A5E004F99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E837-56D1-4C92-B9B8-D3D624B46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B178-C29B-4CEB-9A3C-5225152C5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43D4-3E41-4AD9-AF2C-3AAE12884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F86F-25EF-4A46-93DB-74E72B40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D6B9-5ABB-40EA-A34A-3F5E1F42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B575-BB74-4BEE-8B96-E994B32E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04B7-CDE5-456C-AE84-05E505EE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E467-853E-4849-93DE-DCFE4F92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EF10-F353-481B-B59E-628B3B26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F97A-AA57-4911-9CB4-93F6B35D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6BDA-F88C-45DD-8B1C-2A8CF980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7D9-B14E-4EFD-804E-949A45BA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828-3EF3-4AF0-90CC-A6D0DA4C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BD46-95B8-4798-B782-B6113E88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9048-24AC-4AF1-B86E-C5817C03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145E-E8F3-4104-9C7A-11C892970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457200"/>
            <a:ext cx="6933960" cy="5486400"/>
          </a:xfrm>
          <a:prstGeom prst="bevel">
            <a:avLst>
              <a:gd name="adj" fmla="val 11065"/>
            </a:avLst>
          </a:prstGeom>
          <a:solidFill>
            <a:srgbClr val="ff9999">
              <a:alpha val="50000"/>
            </a:srgbClr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1066680"/>
            <a:ext cx="5715000" cy="44960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8000" y="2286000"/>
            <a:ext cx="4896000" cy="76428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50000">
                <a:srgbClr val="000000"/>
              </a:gs>
              <a:gs pos="100000">
                <a:srgbClr val="99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تضاعف الدن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487692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3352680"/>
            <a:ext cx="4952880" cy="15350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00008"/>
              </a:gs>
              <a:gs pos="100000">
                <a:srgbClr val="6600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"/>
              </a:rPr>
              <a:t>               </a:t>
            </a:r>
            <a:r>
              <a:rPr b="0" lang="ar-SA" sz="2400" spc="-1" strike="noStrike">
                <a:solidFill>
                  <a:srgbClr val="ffff99"/>
                </a:solidFill>
                <a:latin typeface="Arial"/>
              </a:rPr>
              <a:t>إعداد</a:t>
            </a:r>
            <a:r>
              <a:rPr b="0" lang="ar-SA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د. مها حسن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 عبد العزيز داغست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4800600"/>
            <a:ext cx="38862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33"/>
              </a:gs>
              <a:gs pos="50000">
                <a:srgbClr val="100008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99"/>
                </a:solidFill>
                <a:latin typeface="Arial"/>
              </a:rPr>
              <a:t>طالبات مدارس التربية النموذجية </a:t>
            </a:r>
            <a:r>
              <a:rPr b="1" lang="ar-SA" sz="1800" spc="-1" strike="noStrike">
                <a:solidFill>
                  <a:srgbClr val="ffff99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99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077320" y="2438280"/>
            <a:ext cx="84600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84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28880" y="1498680"/>
            <a:ext cx="8115120" cy="5359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77840" y="83880"/>
            <a:ext cx="76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9900"/>
                </a:solidFill>
                <a:latin typeface="Times New Roman"/>
                <a:cs typeface="Times New Roman"/>
              </a:rPr>
              <a:t>يلف شريط الـ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DNA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 على بروتينات الهستونات ليكون النيوكليسومات التي تكون المصفوفات النووية التي ترص فوق بعضها لتكوين الكروموسوم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8569080" cy="3960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1916280"/>
            <a:ext cx="264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Chrom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419904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erco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29280" y="3755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1280" y="2060640"/>
            <a:ext cx="29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ucle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646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st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2903400"/>
            <a:ext cx="7621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486400" y="3352680"/>
            <a:ext cx="380880" cy="762120"/>
          </a:xfrm>
          <a:custGeom>
            <a:avLst/>
            <a:gdLst>
              <a:gd name="textAreaLeft" fmla="*/ 0 w 380880"/>
              <a:gd name="textAreaRight" fmla="*/ 137520 w 3808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8840" y="342900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enoid Co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1180800" y="339048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600" y="30481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perco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2819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ne oc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2247840" y="415224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9520" y="40384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800000"/>
                </a:solidFill>
                <a:latin typeface="Georgia"/>
              </a:rPr>
              <a:t>جزئ الدن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1752480"/>
            <a:ext cx="1295280" cy="114300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752480"/>
            <a:ext cx="685800" cy="10670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85440" y="3124080"/>
            <a:ext cx="685800" cy="838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4114800"/>
            <a:ext cx="685800" cy="10666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85440" y="5486400"/>
            <a:ext cx="685800" cy="838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819520"/>
            <a:ext cx="3808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518148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3962520"/>
            <a:ext cx="533520" cy="152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5105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600200"/>
            <a:ext cx="533160" cy="152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6324480"/>
            <a:ext cx="533520" cy="1526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447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3809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3048120"/>
            <a:ext cx="304920" cy="3045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1828800"/>
            <a:ext cx="304560" cy="304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419720" y="4114800"/>
            <a:ext cx="4114800" cy="2257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819520" y="1371600"/>
            <a:ext cx="91440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S      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U       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G      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A       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R      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-        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P       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H       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Georgia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35053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Deoxiribose (Sug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1828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1828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1523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9960" y="121932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45040" y="30481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31200" y="3048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35760" y="14479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11880" y="144792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40480" y="2590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36120" y="2590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5400" y="22096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31200" y="22096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88040" y="302256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3048120"/>
            <a:ext cx="304920" cy="3045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1981080"/>
            <a:ext cx="304920" cy="304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1219320"/>
            <a:ext cx="304920" cy="3045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692280"/>
            <a:ext cx="8280360" cy="5486400"/>
          </a:xfrm>
          <a:prstGeom prst="bevel">
            <a:avLst>
              <a:gd name="adj" fmla="val 11065"/>
            </a:avLst>
          </a:prstGeom>
          <a:solidFill>
            <a:srgbClr val="000000">
              <a:alpha val="50000"/>
            </a:srgbClr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1-Basic chemical uni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1341360"/>
            <a:ext cx="6842160" cy="426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imes New Roman"/>
              </a:rPr>
              <a:t>1-Basic chemical uni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A 5 carbon sugar - deoxyribos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hosphate - link between suga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Times New Roman"/>
              </a:rPr>
              <a:t>bases: purin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adenine and guanine</a:t>
            </a:r>
            <a:br>
              <a:rPr sz="3600"/>
            </a:br>
            <a:r>
              <a:rPr b="0" lang="en-US" sz="3600" spc="-1" strike="noStrike">
                <a:solidFill>
                  <a:srgbClr val="cc9900"/>
                </a:solidFill>
                <a:latin typeface="Times New Roman"/>
              </a:rPr>
              <a:t>pyrimidines </a:t>
            </a:r>
            <a:r>
              <a:rPr b="0" lang="en-US" sz="3600" spc="-1" strike="noStrike">
                <a:solidFill>
                  <a:srgbClr val="cccc00"/>
                </a:solidFill>
                <a:latin typeface="Times New Roman"/>
              </a:rPr>
              <a:t>= thymine and cytos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1640" y="-131724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>
            <a:lum bright="-72000"/>
          </a:blip>
          <a:srcRect l="0" t="0" r="1890" b="9437"/>
          <a:stretch/>
        </p:blipFill>
        <p:spPr>
          <a:xfrm>
            <a:off x="533520" y="620640"/>
            <a:ext cx="8076960" cy="5472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46000" y="3560760"/>
            <a:ext cx="3005280" cy="2460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189080" y="1960560"/>
            <a:ext cx="23749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836720" y="1122480"/>
            <a:ext cx="1616040" cy="2811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2411280" y="784080"/>
            <a:ext cx="2846520" cy="1936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680080" y="22086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67280" y="242100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Nucleoti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260280"/>
            <a:ext cx="4262400" cy="63374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 rot="21566400">
            <a:off x="914400" y="121896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ribos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644080" y="793080"/>
            <a:ext cx="160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imes New Roman"/>
              </a:rPr>
              <a:t>This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 rot="21566400">
            <a:off x="5027760" y="1976040"/>
            <a:ext cx="3863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abic Transparent"/>
              </a:rPr>
              <a:t>ribos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abic Transparent"/>
              <a:ea typeface="Arabic Transparent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3276360" cy="25956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4795920" y="3141360"/>
            <a:ext cx="434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the five-carbon su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found in R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57200"/>
            <a:ext cx="3886200" cy="58514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 rot="21566400">
            <a:off x="914040" y="988560"/>
            <a:ext cx="2971800" cy="9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ribos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380880"/>
            <a:ext cx="3962160" cy="58676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 rot="840000">
            <a:off x="4419360" y="1371240"/>
            <a:ext cx="43462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deoxyribos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6020280" y="76104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hi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181480" y="2843280"/>
            <a:ext cx="2895840" cy="21859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85800" y="2209680"/>
            <a:ext cx="3276720" cy="316404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5227200" y="5180040"/>
            <a:ext cx="277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the five-carbon 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ound in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75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75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0880" y="457200"/>
            <a:ext cx="3886200" cy="4724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 rot="21566400">
            <a:off x="914400" y="99036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ribos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25672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are they diffe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276720" cy="247824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2743200" y="3962520"/>
            <a:ext cx="762120" cy="838080"/>
          </a:xfrm>
          <a:prstGeom prst="irregularSeal1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380880"/>
            <a:ext cx="3962160" cy="58676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181480" y="2843280"/>
            <a:ext cx="2895840" cy="21859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168" name=""/>
          <p:cNvSpPr txBox="1"/>
          <p:nvPr/>
        </p:nvSpPr>
        <p:spPr>
          <a:xfrm rot="840000">
            <a:off x="4571640" y="1523520"/>
            <a:ext cx="4346640" cy="105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deoxyribos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69" name=""/>
          <p:cNvSpPr/>
          <p:nvPr/>
        </p:nvSpPr>
        <p:spPr>
          <a:xfrm rot="961800">
            <a:off x="4641480" y="2036880"/>
            <a:ext cx="1978200" cy="207720"/>
          </a:xfrm>
          <a:custGeom>
            <a:avLst/>
            <a:gdLst/>
            <a:ahLst/>
            <a:rect l="l" t="t" r="r" b="b"/>
            <a:pathLst>
              <a:path w="1083" h="400">
                <a:moveTo>
                  <a:pt x="2" y="0"/>
                </a:moveTo>
                <a:cubicBezTo>
                  <a:pt x="6" y="22"/>
                  <a:pt x="0" y="49"/>
                  <a:pt x="13" y="67"/>
                </a:cubicBezTo>
                <a:cubicBezTo>
                  <a:pt x="25" y="83"/>
                  <a:pt x="48" y="87"/>
                  <a:pt x="68" y="89"/>
                </a:cubicBezTo>
                <a:cubicBezTo>
                  <a:pt x="138" y="98"/>
                  <a:pt x="209" y="96"/>
                  <a:pt x="279" y="100"/>
                </a:cubicBezTo>
                <a:cubicBezTo>
                  <a:pt x="355" y="113"/>
                  <a:pt x="416" y="149"/>
                  <a:pt x="491" y="167"/>
                </a:cubicBezTo>
                <a:cubicBezTo>
                  <a:pt x="586" y="240"/>
                  <a:pt x="576" y="236"/>
                  <a:pt x="668" y="267"/>
                </a:cubicBezTo>
                <a:cubicBezTo>
                  <a:pt x="727" y="323"/>
                  <a:pt x="845" y="333"/>
                  <a:pt x="924" y="356"/>
                </a:cubicBezTo>
                <a:cubicBezTo>
                  <a:pt x="958" y="366"/>
                  <a:pt x="990" y="379"/>
                  <a:pt x="1024" y="389"/>
                </a:cubicBezTo>
                <a:cubicBezTo>
                  <a:pt x="1038" y="393"/>
                  <a:pt x="1083" y="400"/>
                  <a:pt x="1068" y="400"/>
                </a:cubicBezTo>
                <a:cubicBezTo>
                  <a:pt x="794" y="400"/>
                  <a:pt x="565" y="244"/>
                  <a:pt x="302" y="200"/>
                </a:cubicBezTo>
                <a:cubicBezTo>
                  <a:pt x="218" y="167"/>
                  <a:pt x="164" y="104"/>
                  <a:pt x="90" y="56"/>
                </a:cubicBezTo>
                <a:cubicBezTo>
                  <a:pt x="57" y="35"/>
                  <a:pt x="163" y="89"/>
                  <a:pt x="202" y="89"/>
                </a:cubicBezTo>
              </a:path>
            </a:pathLst>
          </a:custGeom>
          <a:noFill/>
          <a:ln w="1908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961800">
            <a:off x="4343400" y="1752480"/>
            <a:ext cx="1978200" cy="208080"/>
          </a:xfrm>
          <a:custGeom>
            <a:avLst/>
            <a:gdLst/>
            <a:ahLst/>
            <a:rect l="l" t="t" r="r" b="b"/>
            <a:pathLst>
              <a:path w="1083" h="400">
                <a:moveTo>
                  <a:pt x="2" y="0"/>
                </a:moveTo>
                <a:cubicBezTo>
                  <a:pt x="6" y="22"/>
                  <a:pt x="0" y="49"/>
                  <a:pt x="13" y="67"/>
                </a:cubicBezTo>
                <a:cubicBezTo>
                  <a:pt x="25" y="83"/>
                  <a:pt x="48" y="87"/>
                  <a:pt x="68" y="89"/>
                </a:cubicBezTo>
                <a:cubicBezTo>
                  <a:pt x="138" y="98"/>
                  <a:pt x="209" y="96"/>
                  <a:pt x="279" y="100"/>
                </a:cubicBezTo>
                <a:cubicBezTo>
                  <a:pt x="355" y="113"/>
                  <a:pt x="416" y="149"/>
                  <a:pt x="491" y="167"/>
                </a:cubicBezTo>
                <a:cubicBezTo>
                  <a:pt x="586" y="240"/>
                  <a:pt x="576" y="236"/>
                  <a:pt x="668" y="267"/>
                </a:cubicBezTo>
                <a:cubicBezTo>
                  <a:pt x="727" y="323"/>
                  <a:pt x="845" y="333"/>
                  <a:pt x="924" y="356"/>
                </a:cubicBezTo>
                <a:cubicBezTo>
                  <a:pt x="958" y="366"/>
                  <a:pt x="990" y="379"/>
                  <a:pt x="1024" y="389"/>
                </a:cubicBezTo>
                <a:cubicBezTo>
                  <a:pt x="1038" y="393"/>
                  <a:pt x="1083" y="400"/>
                  <a:pt x="1068" y="400"/>
                </a:cubicBezTo>
                <a:cubicBezTo>
                  <a:pt x="794" y="400"/>
                  <a:pt x="565" y="244"/>
                  <a:pt x="302" y="200"/>
                </a:cubicBezTo>
                <a:cubicBezTo>
                  <a:pt x="218" y="167"/>
                  <a:pt x="164" y="104"/>
                  <a:pt x="90" y="56"/>
                </a:cubicBezTo>
                <a:cubicBezTo>
                  <a:pt x="57" y="35"/>
                  <a:pt x="163" y="89"/>
                  <a:pt x="202" y="89"/>
                </a:cubicBezTo>
              </a:path>
            </a:pathLst>
          </a:custGeom>
          <a:noFill/>
          <a:ln w="1908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0" y="4343400"/>
            <a:ext cx="762120" cy="838080"/>
          </a:xfrm>
          <a:prstGeom prst="irregularSeal1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2611440" cy="18129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2355840" cy="18651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2666880" cy="1673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486400" y="4572000"/>
            <a:ext cx="2216160" cy="17496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1221480" y="22766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phosph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70320" y="3276720"/>
            <a:ext cx="8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19840" y="14130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Comic Sans MS"/>
              </a:rPr>
              <a:t>ADENINE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52040" y="135252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Comic Sans MS"/>
              </a:rPr>
              <a:t>THYMINE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12640" y="4019400"/>
            <a:ext cx="21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Comic Sans MS"/>
              </a:rPr>
              <a:t>CYTOSINE (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58920" y="422100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Comic Sans MS"/>
              </a:rPr>
              <a:t>GUANINE (G</a:t>
            </a:r>
            <a:r>
              <a:rPr b="1" lang="en-US" sz="1600" spc="-1" strike="noStrike">
                <a:solidFill>
                  <a:srgbClr val="993366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29160" y="1828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mic Sans MS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304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 DNA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 rot="21582600">
            <a:off x="3962160" y="1628640"/>
            <a:ext cx="1379520" cy="4822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00040" y="274320"/>
            <a:ext cx="30481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6699"/>
            </a:solidFill>
            <a:prstDash val="lgDashDot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7c80"/>
                </a:solidFill>
                <a:latin typeface="Arial"/>
              </a:rPr>
              <a:t>مقدم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1599840"/>
            <a:ext cx="6553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عتبر </a:t>
            </a:r>
            <a:r>
              <a:rPr b="0" lang="ar-SA" sz="3200" spc="-1" strike="noStrike">
                <a:solidFill>
                  <a:srgbClr val="cc3300"/>
                </a:solidFill>
                <a:latin typeface="Arial"/>
              </a:rPr>
              <a:t>د.ن.أ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مخزن الرئيسي للمعلومات في الخ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طلق على تدفق الأحداث البيولوجية الهامة التي تحدث من خلال جزئ د.ن.أ اسم </a:t>
            </a:r>
            <a:r>
              <a:rPr b="1" lang="ar-SA" sz="3200" spc="-1" strike="noStrike">
                <a:solidFill>
                  <a:srgbClr val="666699"/>
                </a:solidFill>
                <a:latin typeface="Arial"/>
              </a:rPr>
              <a:t>المبدأ المركز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5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351640" cy="61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4360" y="1100160"/>
            <a:ext cx="7848360" cy="52084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556000" y="4046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Nitrogen 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38240" y="114480"/>
            <a:ext cx="8105760" cy="67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cc66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99"/>
                </a:solidFill>
                <a:latin typeface="Arial"/>
              </a:rPr>
              <a:t>شكراً لحسن الإصغا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381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71440" y="456840"/>
            <a:ext cx="2971800" cy="8082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57240">
            <a:solidFill>
              <a:srgbClr val="ffff99"/>
            </a:solidFill>
            <a:prstDash val="lgDash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90033"/>
                </a:solidFill>
                <a:latin typeface="Arial"/>
              </a:rPr>
              <a:t>المبدء المركز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يحتوي المبدء المركزي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Central Dog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ي الأحياء الجزيئية على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عمليتي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امتين تتحكمان في سريان المعلومات الوراث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العملية الاولى تتمثل في </a:t>
            </a:r>
            <a:r>
              <a:rPr b="0" lang="ar-SA" sz="3200" spc="-1" strike="noStrike">
                <a:solidFill>
                  <a:srgbClr val="000099"/>
                </a:solidFill>
                <a:latin typeface="Arial"/>
              </a:rPr>
              <a:t>تضاعف جزئ الدنا</a:t>
            </a: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 خلا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إنقسام الغير مباشر</a:t>
            </a: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 و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إنقسام الإختزالي</a:t>
            </a: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العملية الثانية فتتلخص في عمليتي النسخ 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transcription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 و الترجمة </a:t>
            </a: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translation</a:t>
            </a:r>
            <a:r>
              <a:rPr b="0" lang="ar-SA" sz="3200" spc="-1" strike="noStrike">
                <a:solidFill>
                  <a:srgbClr val="990033"/>
                </a:solidFill>
                <a:latin typeface="Arial"/>
              </a:rPr>
              <a:t> لتصنيع البروت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93366"/>
            </a:solidFill>
            <a:prstDash val="lgDash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66"/>
                </a:solidFill>
                <a:latin typeface="Arial"/>
              </a:rPr>
              <a:t>دعونا نستعرض بعض الحقائق الأساس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393876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8640" y="380520"/>
            <a:ext cx="3390840" cy="1117800"/>
          </a:xfrm>
          <a:prstGeom prst="rect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99"/>
                </a:solidFill>
                <a:latin typeface="Arial"/>
              </a:rPr>
              <a:t>الخ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cc"/>
                </a:solidFill>
                <a:latin typeface="Arial"/>
                <a:cs typeface="Times New Roman"/>
              </a:rPr>
              <a:t>تحتوى الخلي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على مخزون من المعلوم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Times New Roman"/>
              </a:rPr>
              <a:t>والخطط اللازمة لتأدية عملها داخل النوا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14600" y="3110040"/>
            <a:ext cx="6159600" cy="3747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11600" y="177480"/>
            <a:ext cx="4440240" cy="1143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6600"/>
                </a:solidFill>
                <a:latin typeface="Arial"/>
                <a:cs typeface="Times New Roman"/>
              </a:rPr>
              <a:t>ميتوكوندري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400" y="17521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Times New Roman"/>
              </a:rPr>
              <a:t>والبعض الآخر خارج النواة في إحدى عضيواتها وهو ما يسمى </a:t>
            </a:r>
            <a:r>
              <a:rPr b="0" lang="ar-SA" sz="3200" spc="-1" strike="noStrike">
                <a:solidFill>
                  <a:srgbClr val="6699ff"/>
                </a:solidFill>
                <a:latin typeface="Arial"/>
                <a:cs typeface="Times New Roman"/>
              </a:rPr>
              <a:t>بالميتوكوندري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Times New Roman"/>
              </a:rPr>
              <a:t>وهو بيت الطاقة في الخلية حيث انه المسئول عن أكسدة السكر وإنتاج الطاقة اللازمة للخلية في تسير عمل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5120" y="3886200"/>
            <a:ext cx="6858000" cy="2971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240" y="274320"/>
            <a:ext cx="4746600" cy="11430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d60093"/>
                </a:solidFill>
                <a:latin typeface="Arial"/>
                <a:cs typeface="Times New Roman"/>
              </a:rPr>
              <a:t>الخلاي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مكن القول أن </a:t>
            </a:r>
            <a:r>
              <a:rPr b="0" lang="ar-SA" sz="2800" spc="-1" strike="noStrike">
                <a:solidFill>
                  <a:srgbClr val="800080"/>
                </a:solidFill>
                <a:latin typeface="Arial"/>
              </a:rPr>
              <a:t>جسم الإنسان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يتكون من بلايين الخلايا، وأن كل خلية من جسم الإنسان تحتوي على نسخة طبق الأصل من المادة الوراثية التي هي عبارة عن </a:t>
            </a:r>
            <a:r>
              <a:rPr b="1" lang="ar-SA" sz="2800" spc="-1" strike="noStrike">
                <a:solidFill>
                  <a:srgbClr val="666699"/>
                </a:solidFill>
                <a:latin typeface="Arial"/>
              </a:rPr>
              <a:t>الحامض النووي منزوع الأكسيجين 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DNA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ذي يكوّن </a:t>
            </a:r>
            <a:r>
              <a:rPr b="1" lang="ar-SA" sz="2800" spc="-1" strike="noStrike">
                <a:solidFill>
                  <a:srgbClr val="d60093"/>
                </a:solidFill>
                <a:latin typeface="Arial"/>
              </a:rPr>
              <a:t>الجين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تي بدورها تُحمل على </a:t>
            </a:r>
            <a:r>
              <a:rPr b="1" lang="ar-SA" sz="2800" spc="-1" strike="noStrike">
                <a:solidFill>
                  <a:srgbClr val="d60093"/>
                </a:solidFill>
                <a:latin typeface="Arial"/>
              </a:rPr>
              <a:t>الكروموسوم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تُورث من جيل إلى جيل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46040" y="4419720"/>
            <a:ext cx="5838840" cy="227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57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8400" y="351000"/>
            <a:ext cx="5083200" cy="901440"/>
          </a:xfrm>
          <a:prstGeom prst="rect">
            <a:avLst/>
          </a:prstGeom>
          <a:gradFill rotWithShape="0">
            <a:gsLst>
              <a:gs pos="0">
                <a:srgbClr val="351158"/>
              </a:gs>
              <a:gs pos="50000">
                <a:srgbClr val="9933ff"/>
              </a:gs>
              <a:gs pos="100000">
                <a:srgbClr val="351158"/>
              </a:gs>
            </a:gsLst>
            <a:lin ang="5400000"/>
          </a:gradFill>
          <a:ln w="38160">
            <a:solidFill>
              <a:srgbClr val="800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be0e3"/>
                </a:solidFill>
                <a:latin typeface="Arial"/>
              </a:rPr>
              <a:t>ما هي الكروموسو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47920" y="4343400"/>
            <a:ext cx="5943600" cy="2286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" y="1447920"/>
            <a:ext cx="8534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تكون الكروموسوم كيميائيا من حمض يسمى الحمض النووى والذى يرمز لة بالدنا ا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D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حيث يتكون من عدد هائل من الوحدات الصغيرة مرتبطة فى شكل سلسله وكل جزئ كامل م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DNA</a:t>
            </a: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تركب من سلسلتين تلتفان كجديلتي حبل لتأخذ شكل اللولب المزدوج والوحدات الأساسية لهذه السلسة هى اربع قواعد تسم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:</a:t>
            </a:r>
            <a:br>
              <a:rPr sz="2800"/>
            </a:br>
            <a:r>
              <a:rPr b="1" lang="ar-SA" sz="2800" spc="-1" strike="noStrike">
                <a:solidFill>
                  <a:srgbClr val="cc0000"/>
                </a:solidFill>
                <a:latin typeface="Arial"/>
              </a:rPr>
              <a:t>الادينوزين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 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1" lang="ar-SA" sz="2800" spc="-1" strike="noStrike">
                <a:solidFill>
                  <a:srgbClr val="3333cc"/>
                </a:solidFill>
                <a:latin typeface="Arial"/>
              </a:rPr>
              <a:t>السيتوزين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ar-SA" sz="2800" spc="-1" strike="noStrike">
                <a:solidFill>
                  <a:srgbClr val="009900"/>
                </a:solidFill>
                <a:latin typeface="Arial"/>
              </a:rPr>
              <a:t>الثياميدين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ar-SA" sz="2800" spc="-1" strike="noStrike">
                <a:solidFill>
                  <a:srgbClr val="cc0066"/>
                </a:solidFill>
                <a:latin typeface="Arial"/>
              </a:rPr>
              <a:t>الجواندين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55880" y="251460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7:48:26Z</dcterms:created>
  <dc:creator> Dr.Maha Daghestani</dc:creator>
  <dc:description/>
  <dc:language>en-US</dc:language>
  <cp:lastModifiedBy> Dr.Maha Daghestani</cp:lastModifiedBy>
  <dcterms:modified xsi:type="dcterms:W3CDTF">2009-11-06T19:37:59Z</dcterms:modified>
  <cp:revision>26</cp:revision>
  <dc:subject/>
  <dc:title>ماهو الدنا</dc:title>
</cp:coreProperties>
</file>