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WHOOSH.WAV" ContentType="audio/x-wav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28.png" ContentType="image/png"/>
  <Override PartName="/ppt/media/image4.jpeg" ContentType="image/jpeg"/>
  <Override PartName="/ppt/media/image25.jpeg" ContentType="image/jpeg"/>
  <Override PartName="/ppt/media/image24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825-2B16-4FF5-BB09-CD719417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31E1-D53C-4B0C-BD7B-93E47700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0F6-7754-49DF-B19E-77191322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1A9-4BDF-4156-90EC-DBB25F17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5B00-9285-49B0-B13A-34499445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8164-8929-4325-8413-C860C3F7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E347-D247-4CB3-ADD8-26CD1B31A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C05-13D5-4529-98BA-1198253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26A-9C74-4A54-B119-367D13A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308-2E55-45AE-AC35-6C5BC3BE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F2B-2D3C-4617-AB31-B4B5577B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F5D-5A20-4CE6-80CC-E43D7D0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C01-A34B-43C3-A144-7F289FB9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B9B-BA28-4925-935F-5D132B1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897-DAAB-4E67-9505-A64B1951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145-ED55-4DE5-BD52-DA64669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2E4-15D7-49BD-97DC-F02720A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564-6FC1-4AF0-BFE9-30D61BB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359-131B-477D-865D-F171D1C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95C-EAE7-46C1-8D56-2511DBAB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ff9999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066680"/>
            <a:ext cx="5715000" cy="44960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286000"/>
            <a:ext cx="4896000" cy="76428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تضاعف الد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8769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352680"/>
            <a:ext cx="4952880" cy="1535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              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إعداد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د. مها حسن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عبد العزيز داغ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800600"/>
            <a:ext cx="3886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طالبات مدارس التربية النموذجية </a:t>
            </a: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2438280"/>
            <a:ext cx="84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4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28880" y="1498680"/>
            <a:ext cx="8115120" cy="535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7840" y="8388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يلف شريط الـ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DNA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على بروتينات الهستونات ليكون النيوكليسومات التي تكون المصفوفات النووية التي ترص فوق بعضها لتكوين الكروموسوم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91628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199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75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060640"/>
            <a:ext cx="29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ucle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64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903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335268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8840" y="3429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enoid 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180800" y="33904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00" y="3048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er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ne oc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247840" y="41522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9520" y="4038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Georgia"/>
              </a:rPr>
              <a:t>جزئ الد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1752480"/>
            <a:ext cx="1295280" cy="1143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752480"/>
            <a:ext cx="685800" cy="1067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5440" y="3124080"/>
            <a:ext cx="685800" cy="838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114800"/>
            <a:ext cx="685800" cy="10666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5440" y="5486400"/>
            <a:ext cx="685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81952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181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62520"/>
            <a:ext cx="5335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00200"/>
            <a:ext cx="53316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324480"/>
            <a:ext cx="53352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447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828800"/>
            <a:ext cx="30456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114800" cy="2257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19520" y="1371600"/>
            <a:ext cx="914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U      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G      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       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R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-        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       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      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505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eoxiribose (S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12193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5040" y="30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120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5760" y="1447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1880" y="14479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4048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361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54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312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8040" y="3022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2193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692280"/>
            <a:ext cx="8280360" cy="5486400"/>
          </a:xfrm>
          <a:prstGeom prst="bevel">
            <a:avLst>
              <a:gd name="adj" fmla="val 11065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1-Basic chemical uni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341360"/>
            <a:ext cx="6842160" cy="426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1-Basic chemical uni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A 5 carbon sugar - deoxyribo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hosphate - link between suga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Times New Roman"/>
              </a:rPr>
              <a:t>bases: puri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denine and guanine</a:t>
            </a:r>
            <a:br>
              <a:rPr sz="3600"/>
            </a:br>
            <a:r>
              <a:rPr b="0" lang="en-US" sz="3600" spc="-1" strike="noStrike">
                <a:solidFill>
                  <a:srgbClr val="cc9900"/>
                </a:solidFill>
                <a:latin typeface="Times New Roman"/>
              </a:rPr>
              <a:t>pyrimidines </a:t>
            </a: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= thymine and cytos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1640" y="-13172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-72000"/>
          </a:blip>
          <a:srcRect l="0" t="0" r="1890" b="9437"/>
          <a:stretch/>
        </p:blipFill>
        <p:spPr>
          <a:xfrm>
            <a:off x="533520" y="620640"/>
            <a:ext cx="8076960" cy="547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46000" y="3560760"/>
            <a:ext cx="3005280" cy="2460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189080" y="1960560"/>
            <a:ext cx="23749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836720" y="1122480"/>
            <a:ext cx="1616040" cy="2811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411280" y="784080"/>
            <a:ext cx="2846520" cy="1936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80080" y="2208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421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Nucleot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60280"/>
            <a:ext cx="4262400" cy="633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21566400">
            <a:off x="914400" y="121896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644080" y="79308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This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1566400">
            <a:off x="5027760" y="1976040"/>
            <a:ext cx="386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abic Transparent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abic Transparent"/>
              <a:ea typeface="Arabic Transparen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276360" cy="259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795920" y="3141360"/>
            <a:ext cx="43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the five-carbon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found in R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57200"/>
            <a:ext cx="3886200" cy="5851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21566400">
            <a:off x="914040" y="988560"/>
            <a:ext cx="29718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880"/>
            <a:ext cx="3962160" cy="5867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840000">
            <a:off x="4419360" y="1371240"/>
            <a:ext cx="43462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oxy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6020280" y="7610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hi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2843280"/>
            <a:ext cx="2895840" cy="2185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276720" cy="31640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5227200" y="518004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he five-carbon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ound in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457200"/>
            <a:ext cx="3886200" cy="472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21566400">
            <a:off x="914400" y="99036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2567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276720" cy="2478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743200" y="3962520"/>
            <a:ext cx="762120" cy="838080"/>
          </a:xfrm>
          <a:prstGeom prst="irregularSeal1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80880"/>
            <a:ext cx="3962160" cy="5867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81480" y="2843280"/>
            <a:ext cx="2895840" cy="2185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8" name=""/>
          <p:cNvSpPr txBox="1"/>
          <p:nvPr/>
        </p:nvSpPr>
        <p:spPr>
          <a:xfrm rot="840000">
            <a:off x="4571640" y="1523520"/>
            <a:ext cx="43466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oxy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 rot="961800">
            <a:off x="4641480" y="2036880"/>
            <a:ext cx="1978200" cy="207720"/>
          </a:xfrm>
          <a:custGeom>
            <a:avLst/>
            <a:gdLst/>
            <a:ahLst/>
            <a:rect l="l" t="t" r="r" b="b"/>
            <a:pathLst>
              <a:path w="1083" h="400">
                <a:moveTo>
                  <a:pt x="2" y="0"/>
                </a:moveTo>
                <a:cubicBezTo>
                  <a:pt x="6" y="22"/>
                  <a:pt x="0" y="49"/>
                  <a:pt x="13" y="67"/>
                </a:cubicBezTo>
                <a:cubicBezTo>
                  <a:pt x="25" y="83"/>
                  <a:pt x="48" y="87"/>
                  <a:pt x="68" y="89"/>
                </a:cubicBezTo>
                <a:cubicBezTo>
                  <a:pt x="138" y="98"/>
                  <a:pt x="209" y="96"/>
                  <a:pt x="279" y="100"/>
                </a:cubicBezTo>
                <a:cubicBezTo>
                  <a:pt x="355" y="113"/>
                  <a:pt x="416" y="149"/>
                  <a:pt x="491" y="167"/>
                </a:cubicBezTo>
                <a:cubicBezTo>
                  <a:pt x="586" y="240"/>
                  <a:pt x="576" y="236"/>
                  <a:pt x="668" y="267"/>
                </a:cubicBezTo>
                <a:cubicBezTo>
                  <a:pt x="727" y="323"/>
                  <a:pt x="845" y="333"/>
                  <a:pt x="924" y="356"/>
                </a:cubicBezTo>
                <a:cubicBezTo>
                  <a:pt x="958" y="366"/>
                  <a:pt x="990" y="379"/>
                  <a:pt x="1024" y="389"/>
                </a:cubicBezTo>
                <a:cubicBezTo>
                  <a:pt x="1038" y="393"/>
                  <a:pt x="1083" y="400"/>
                  <a:pt x="1068" y="400"/>
                </a:cubicBezTo>
                <a:cubicBezTo>
                  <a:pt x="794" y="400"/>
                  <a:pt x="565" y="244"/>
                  <a:pt x="302" y="200"/>
                </a:cubicBezTo>
                <a:cubicBezTo>
                  <a:pt x="218" y="167"/>
                  <a:pt x="164" y="104"/>
                  <a:pt x="90" y="56"/>
                </a:cubicBezTo>
                <a:cubicBezTo>
                  <a:pt x="57" y="35"/>
                  <a:pt x="163" y="89"/>
                  <a:pt x="202" y="89"/>
                </a:cubicBezTo>
              </a:path>
            </a:pathLst>
          </a:custGeom>
          <a:noFill/>
          <a:ln w="1908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961800">
            <a:off x="4343400" y="1752480"/>
            <a:ext cx="1978200" cy="208080"/>
          </a:xfrm>
          <a:custGeom>
            <a:avLst/>
            <a:gdLst/>
            <a:ahLst/>
            <a:rect l="l" t="t" r="r" b="b"/>
            <a:pathLst>
              <a:path w="1083" h="400">
                <a:moveTo>
                  <a:pt x="2" y="0"/>
                </a:moveTo>
                <a:cubicBezTo>
                  <a:pt x="6" y="22"/>
                  <a:pt x="0" y="49"/>
                  <a:pt x="13" y="67"/>
                </a:cubicBezTo>
                <a:cubicBezTo>
                  <a:pt x="25" y="83"/>
                  <a:pt x="48" y="87"/>
                  <a:pt x="68" y="89"/>
                </a:cubicBezTo>
                <a:cubicBezTo>
                  <a:pt x="138" y="98"/>
                  <a:pt x="209" y="96"/>
                  <a:pt x="279" y="100"/>
                </a:cubicBezTo>
                <a:cubicBezTo>
                  <a:pt x="355" y="113"/>
                  <a:pt x="416" y="149"/>
                  <a:pt x="491" y="167"/>
                </a:cubicBezTo>
                <a:cubicBezTo>
                  <a:pt x="586" y="240"/>
                  <a:pt x="576" y="236"/>
                  <a:pt x="668" y="267"/>
                </a:cubicBezTo>
                <a:cubicBezTo>
                  <a:pt x="727" y="323"/>
                  <a:pt x="845" y="333"/>
                  <a:pt x="924" y="356"/>
                </a:cubicBezTo>
                <a:cubicBezTo>
                  <a:pt x="958" y="366"/>
                  <a:pt x="990" y="379"/>
                  <a:pt x="1024" y="389"/>
                </a:cubicBezTo>
                <a:cubicBezTo>
                  <a:pt x="1038" y="393"/>
                  <a:pt x="1083" y="400"/>
                  <a:pt x="1068" y="400"/>
                </a:cubicBezTo>
                <a:cubicBezTo>
                  <a:pt x="794" y="400"/>
                  <a:pt x="565" y="244"/>
                  <a:pt x="302" y="200"/>
                </a:cubicBezTo>
                <a:cubicBezTo>
                  <a:pt x="218" y="167"/>
                  <a:pt x="164" y="104"/>
                  <a:pt x="90" y="56"/>
                </a:cubicBezTo>
                <a:cubicBezTo>
                  <a:pt x="57" y="35"/>
                  <a:pt x="163" y="89"/>
                  <a:pt x="202" y="89"/>
                </a:cubicBezTo>
              </a:path>
            </a:pathLst>
          </a:custGeom>
          <a:noFill/>
          <a:ln w="1908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4343400"/>
            <a:ext cx="762120" cy="838080"/>
          </a:xfrm>
          <a:prstGeom prst="irregularSeal1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611440" cy="1812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355840" cy="1865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666880" cy="167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2216160" cy="174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22148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hosph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0320" y="327672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9840" y="14130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ADENIN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2040" y="13525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THYMINE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12640" y="40194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CYTOSINE (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2210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GUANINE (G</a:t>
            </a:r>
            <a:r>
              <a:rPr b="1" lang="en-US" sz="1600" spc="-1" strike="noStrike">
                <a:solidFill>
                  <a:srgbClr val="9933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29160" y="1828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DNA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21582600">
            <a:off x="3962160" y="1628640"/>
            <a:ext cx="1379520" cy="4822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040" y="274320"/>
            <a:ext cx="3048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c80"/>
                </a:solidFill>
                <a:latin typeface="Arial"/>
              </a:rPr>
              <a:t>مق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د.ن.أ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زن الرئيسي للمعلومات في ال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طلق على تدفق الأحداث البيولوجية الهامة التي تحدث من خلال جزئ د.ن.أ اسم </a:t>
            </a:r>
            <a:r>
              <a:rPr b="1" lang="ar-SA" sz="3200" spc="-1" strike="noStrike">
                <a:solidFill>
                  <a:srgbClr val="666699"/>
                </a:solidFill>
                <a:latin typeface="Arial"/>
              </a:rPr>
              <a:t>المبدأ المركز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1100160"/>
            <a:ext cx="7848360" cy="520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56000" y="40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Nitrogen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38240" y="114480"/>
            <a:ext cx="810576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شكراً لحسن الإصغ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2971800" cy="808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57240">
            <a:solidFill>
              <a:srgbClr val="ffff99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0033"/>
                </a:solidFill>
                <a:latin typeface="Arial"/>
              </a:rPr>
              <a:t>المبدء المرك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يحتوي المبدء المركزي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أحياء الجزيئية على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ت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متين تتحكمان في سريان المعلومات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اولى تتمثل في 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</a:rPr>
              <a:t>تضاعف جزئ الدنا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غير مباشر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إختزالي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ثانية فتتلخص في عمليتي النسخ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الترجمة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ranslation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لتصنيع البروت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Arial"/>
              </a:rPr>
              <a:t>دعونا نستعرض بعض الحقائق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9387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8640" y="380520"/>
            <a:ext cx="3390840" cy="11178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</a:rPr>
              <a:t>الخ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Arial"/>
                <a:cs typeface="Times New Roman"/>
              </a:rPr>
              <a:t>تحتوى الخ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على مخزون من المعلوم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خطط اللازمة لتأدية عملها داخل النوا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3110040"/>
            <a:ext cx="6159600" cy="374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1600" y="177480"/>
            <a:ext cx="444024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6600"/>
                </a:solidFill>
                <a:latin typeface="Arial"/>
                <a:cs typeface="Times New Roman"/>
              </a:rPr>
              <a:t>ميتوكوندر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7521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بعض الآخر خارج النواة في إحدى عضيواتها وهو ما يسمى </a:t>
            </a:r>
            <a:r>
              <a:rPr b="0" lang="ar-SA" sz="3200" spc="-1" strike="noStrike">
                <a:solidFill>
                  <a:srgbClr val="6699ff"/>
                </a:solidFill>
                <a:latin typeface="Arial"/>
                <a:cs typeface="Times New Roman"/>
              </a:rPr>
              <a:t>بالميتوكوندري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هو بيت الطاقة في الخلية حيث انه المسئول عن أكسدة السكر وإنتاج الطاقة اللازمة للخلية في تسير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6858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240" y="274320"/>
            <a:ext cx="47466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60093"/>
                </a:solidFill>
                <a:latin typeface="Arial"/>
                <a:cs typeface="Times New Roman"/>
              </a:rPr>
              <a:t>الخلاي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القول أن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جسم الإن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بلايين الخلايا، وأن كل خلية من جسم الإنسان تحتوي على نسخة طبق الأصل من المادة الوراثية التي هي عبارة عن </a:t>
            </a:r>
            <a:r>
              <a:rPr b="1" lang="ar-SA" sz="2800" spc="-1" strike="noStrike">
                <a:solidFill>
                  <a:srgbClr val="666699"/>
                </a:solidFill>
                <a:latin typeface="Arial"/>
              </a:rPr>
              <a:t>الحامض النووي منزوع الأكسيجين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ذي يكوّن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جي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ي بدورها تُحمل على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كروموس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تُورث من جيل إلى جي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46040" y="4419720"/>
            <a:ext cx="5838840" cy="22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0" y="351000"/>
            <a:ext cx="5083200" cy="901440"/>
          </a:xfrm>
          <a:prstGeom prst="rect">
            <a:avLst/>
          </a:prstGeom>
          <a:gradFill rotWithShape="0">
            <a:gsLst>
              <a:gs pos="0">
                <a:srgbClr val="351158"/>
              </a:gs>
              <a:gs pos="50000">
                <a:srgbClr val="9933ff"/>
              </a:gs>
              <a:gs pos="100000">
                <a:srgbClr val="351158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be0e3"/>
                </a:solidFill>
                <a:latin typeface="Arial"/>
              </a:rPr>
              <a:t>ما هي الكروموس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كون الكروموسوم كيميائيا من حمض يسمى الحمض النووى والذى يرمز لة بالدنا ا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يث يتكون من عدد هائل من الوحدات الصغيرة مرتبطة فى شكل سلسله وكل جزئ كامل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ركب من سلسلتين تلتفان كجديلتي حبل لتأخذ شكل اللولب المزدوج والوحدات الأساسية لهذه السلسة هى اربع قواعد تسم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: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الادينوزين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3333cc"/>
                </a:solidFill>
                <a:latin typeface="Arial"/>
              </a:rPr>
              <a:t>السيتوزي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</a:rPr>
              <a:t>الثياميدين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الجواندين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55880" y="2514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48:26Z</dcterms:created>
  <dc:creator> Dr.Maha Daghestani</dc:creator>
  <dc:description/>
  <dc:language>en-US</dc:language>
  <cp:lastModifiedBy> Dr.Maha Daghestani</cp:lastModifiedBy>
  <dcterms:modified xsi:type="dcterms:W3CDTF">2009-11-06T19:37:59Z</dcterms:modified>
  <cp:revision>26</cp:revision>
  <dc:subject/>
  <dc:title>ماهو الدنا</dc:title>
</cp:coreProperties>
</file>