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C48-5309-42B9-8A6B-98B97785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57F-941A-4B7A-8824-8CB6FCE8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338-720C-4581-B3B9-86786B9B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808-2CEC-4D96-BC4C-8DF330C3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B7E-937E-487A-9EE7-262FF78F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F96-817D-4EE4-8CEF-1FAB69D1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532-ABAD-4C01-81D2-F4787AD0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DF8-B799-4A02-9D3A-05145F44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D9A-C899-4D3A-ABEC-2B64F86A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722-C0A7-46D6-87B2-7FEC0242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544-8667-49E4-97C1-DE735FD0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F6F-E4A0-4516-9631-AECC794C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0509-282E-441E-AE12-CB673676278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daviddarling.info/encyclopedia/E/eye.html" TargetMode="External"/><Relationship Id="rId3" Type="http://schemas.openxmlformats.org/officeDocument/2006/relationships/hyperlink" Target="http://www.daviddarling.info/encyclopedia/A/autonomic_nervous_system.html" TargetMode="External"/><Relationship Id="rId4" Type="http://schemas.openxmlformats.org/officeDocument/2006/relationships/hyperlink" Target="http://www.daviddarling.info/encyclopedia/C/cornea.html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.wikipedia.org/wiki/Mammal" TargetMode="External"/><Relationship Id="rId3" Type="http://schemas.openxmlformats.org/officeDocument/2006/relationships/hyperlink" Target="http://en.wikipedia.org/wiki/Cornea" TargetMode="External"/><Relationship Id="rId4" Type="http://schemas.openxmlformats.org/officeDocument/2006/relationships/hyperlink" Target="http://en.wikipedia.org/wiki/Dust" TargetMode="External"/><Relationship Id="rId5" Type="http://schemas.openxmlformats.org/officeDocument/2006/relationships/hyperlink" Target="http://en.wikipedia.org/wiki/Mucin" TargetMode="External"/><Relationship Id="rId6" Type="http://schemas.openxmlformats.org/officeDocument/2006/relationships/hyperlink" Target="http://en.wikipedia.org/wiki/Lipids" TargetMode="External"/><Relationship Id="rId7" Type="http://schemas.openxmlformats.org/officeDocument/2006/relationships/hyperlink" Target="http://en.wikipedia.org/wiki/Lysozyme" TargetMode="External"/><Relationship Id="rId8" Type="http://schemas.openxmlformats.org/officeDocument/2006/relationships/hyperlink" Target="http://en.wikipedia.org/wiki/Lactoferrin" TargetMode="External"/><Relationship Id="rId9" Type="http://schemas.openxmlformats.org/officeDocument/2006/relationships/hyperlink" Target="http://en.wikipedia.org/wiki/Lipocalin" TargetMode="External"/><Relationship Id="rId10" Type="http://schemas.openxmlformats.org/officeDocument/2006/relationships/hyperlink" Target="http://en.wikipedia.org/wiki/Lacritin" TargetMode="External"/><Relationship Id="rId11" Type="http://schemas.openxmlformats.org/officeDocument/2006/relationships/hyperlink" Target="http://en.wikipedia.org/wiki/Immunoglobulin" TargetMode="External"/><Relationship Id="rId12" Type="http://schemas.openxmlformats.org/officeDocument/2006/relationships/hyperlink" Target="http://en.wikipedia.org/wiki/Glucose" TargetMode="External"/><Relationship Id="rId13" Type="http://schemas.openxmlformats.org/officeDocument/2006/relationships/hyperlink" Target="http://en.wikipedia.org/wiki/Urea" TargetMode="External"/><Relationship Id="rId14" Type="http://schemas.openxmlformats.org/officeDocument/2006/relationships/hyperlink" Target="http://en.wikipedia.org/wiki/Sodium" TargetMode="External"/><Relationship Id="rId15" Type="http://schemas.openxmlformats.org/officeDocument/2006/relationships/hyperlink" Target="http://en.wikipedia.org/wiki/Potassium" TargetMode="External"/><Relationship Id="rId16" Type="http://schemas.openxmlformats.org/officeDocument/2006/relationships/hyperlink" Target="http://en.wikipedia.org/wiki/Bacterium" TargetMode="External"/><Relationship Id="rId17" Type="http://schemas.openxmlformats.org/officeDocument/2006/relationships/hyperlink" Target="http://en.wikipedia.org/wiki/Infection" TargetMode="External"/><Relationship Id="rId18" Type="http://schemas.openxmlformats.org/officeDocument/2006/relationships/hyperlink" Target="http://en.wikipedia.org/wiki/Immune_system" TargetMode="External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Onion" TargetMode="External"/><Relationship Id="rId2" Type="http://schemas.openxmlformats.org/officeDocument/2006/relationships/hyperlink" Target="http://en.wikipedia.org/wiki/Tear_gas" TargetMode="External"/><Relationship Id="rId3" Type="http://schemas.openxmlformats.org/officeDocument/2006/relationships/hyperlink" Target="http://en.wikipedia.org/wiki/Pepper_spray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rying" TargetMode="External"/><Relationship Id="rId2" Type="http://schemas.openxmlformats.org/officeDocument/2006/relationships/hyperlink" Target="http://en.wikipedia.org/wiki/Emotional_stress" TargetMode="External"/><Relationship Id="rId3" Type="http://schemas.openxmlformats.org/officeDocument/2006/relationships/hyperlink" Target="http://en.wikipedia.org/wiki/Suffering" TargetMode="External"/><Relationship Id="rId4" Type="http://schemas.openxmlformats.org/officeDocument/2006/relationships/hyperlink" Target="http://en.wikipedia.org/wiki/Pain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olactin" TargetMode="External"/><Relationship Id="rId2" Type="http://schemas.openxmlformats.org/officeDocument/2006/relationships/hyperlink" Target="http://en.wikipedia.org/wiki/Adrenocorticotropic_hormone" TargetMode="External"/><Relationship Id="rId3" Type="http://schemas.openxmlformats.org/officeDocument/2006/relationships/hyperlink" Target="http://en.wikipedia.org/wiki/Leucine" TargetMode="External"/><Relationship Id="rId4" Type="http://schemas.openxmlformats.org/officeDocument/2006/relationships/hyperlink" Target="http://en.wikipedia.org/wiki/Enkephalin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ye" TargetMode="External"/><Relationship Id="rId2" Type="http://schemas.openxmlformats.org/officeDocument/2006/relationships/hyperlink" Target="http://en.wikipedia.org/wiki/Lipid" TargetMode="External"/><Relationship Id="rId3" Type="http://schemas.openxmlformats.org/officeDocument/2006/relationships/hyperlink" Target="http://en.wikipedia.org/wiki/Meibomian_glands" TargetMode="External"/><Relationship Id="rId4" Type="http://schemas.openxmlformats.org/officeDocument/2006/relationships/hyperlink" Target="http://en.wikipedia.org/wiki/Hydrophobic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Keratoconjunctivitis_sicca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ater" TargetMode="External"/><Relationship Id="rId2" Type="http://schemas.openxmlformats.org/officeDocument/2006/relationships/hyperlink" Target="http://en.wikipedia.org/wiki/Lactoferrin" TargetMode="External"/><Relationship Id="rId3" Type="http://schemas.openxmlformats.org/officeDocument/2006/relationships/hyperlink" Target="http://en.wikipedia.org/wiki/Lysozyme" TargetMode="External"/><Relationship Id="rId4" Type="http://schemas.openxmlformats.org/officeDocument/2006/relationships/hyperlink" Target="http://en.wikipedia.org/wiki/Lacritin" TargetMode="External"/><Relationship Id="rId5" Type="http://schemas.openxmlformats.org/officeDocument/2006/relationships/hyperlink" Target="http://en.wikipedia.org/wiki/Lacrimal_gland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ucin" TargetMode="External"/><Relationship Id="rId2" Type="http://schemas.openxmlformats.org/officeDocument/2006/relationships/hyperlink" Target="http://en.wikipedia.org/wiki/Goblet_cells" TargetMode="External"/><Relationship Id="rId3" Type="http://schemas.openxmlformats.org/officeDocument/2006/relationships/hyperlink" Target="http://en.wikipedia.org/wiki/Cornea" TargetMode="External"/><Relationship Id="rId4" Type="http://schemas.openxmlformats.org/officeDocument/2006/relationships/hyperlink" Target="http://en.wikipedia.org/wiki/Hydrophilic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ffffff"/>
              </a:solidFill>
              <a:latin typeface="Book Antiqua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www.dry-eyes.com.au/images/meibomian_glands.jpg"/>
          <p:cNvPicPr/>
          <p:nvPr/>
        </p:nvPicPr>
        <p:blipFill>
          <a:blip r:embed="rId1"/>
          <a:stretch/>
        </p:blipFill>
        <p:spPr>
          <a:xfrm>
            <a:off x="609480" y="762120"/>
            <a:ext cx="7790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962520" y="990720"/>
            <a:ext cx="5181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tear gland of the </a:t>
            </a:r>
            <a:r>
              <a:rPr b="0" lang="en-GB" sz="20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ey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humans and other vertebrates. It lies beneath the upper eyel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achrymal gland is controlled by the  </a:t>
            </a:r>
            <a:r>
              <a:rPr b="0" lang="en-GB" sz="20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autonomic nervous syste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It continuously secretes small amounts of sterile, slightly antiseptic, tears which keep the </a:t>
            </a:r>
            <a:r>
              <a:rPr b="0" lang="en-GB" sz="2000" spc="-1" strike="noStrike" u="sng">
                <a:solidFill>
                  <a:srgbClr val="ffde66"/>
                </a:solidFill>
                <a:uFillTx/>
                <a:latin typeface="Arial"/>
                <a:hlinkClick r:id="rId4"/>
              </a:rPr>
              <a:t>corne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ois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ars drain away through two small openings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unc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at the inner corner of the eye into the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acrimal canicul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From there the tears pass into the nasal cavity via the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acrimal sa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solacrimal duc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or tear duct.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Content Placeholder 6" descr="tears.jpg"/>
          <p:cNvPicPr/>
          <p:nvPr/>
        </p:nvPicPr>
        <p:blipFill>
          <a:blip r:embed="rId5"/>
          <a:stretch/>
        </p:blipFill>
        <p:spPr>
          <a:xfrm>
            <a:off x="228600" y="990720"/>
            <a:ext cx="3733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Basal tear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 In healthy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mammalia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eyes, the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cornea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is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continually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kept wet and nourished by 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basal tear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 They lubricate the eye, and help to keep it clear of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4"/>
              </a:rPr>
              <a:t>dust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 Tear fluid contains water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5"/>
              </a:rPr>
              <a:t>muci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6"/>
              </a:rPr>
              <a:t>lipid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7"/>
              </a:rPr>
              <a:t>lysozym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8"/>
              </a:rPr>
              <a:t>lactoferri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9"/>
              </a:rPr>
              <a:t>lipocali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0"/>
              </a:rPr>
              <a:t>lacriti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1"/>
              </a:rPr>
              <a:t>immunoglobulin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2"/>
              </a:rPr>
              <a:t>glucos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3"/>
              </a:rPr>
              <a:t>urea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4"/>
              </a:rPr>
              <a:t>sodium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and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5"/>
              </a:rPr>
              <a:t>potassium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 Some of the substances in lacrimal fluid (such as lysozyme) fight against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6"/>
              </a:rPr>
              <a:t>bacterial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7"/>
              </a:rPr>
              <a:t>infectio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as a part of the </a:t>
            </a:r>
            <a:r>
              <a:rPr b="0" lang="en-US" sz="2600" spc="-1" strike="noStrike" u="sng">
                <a:solidFill>
                  <a:srgbClr val="ffde66"/>
                </a:solidFill>
                <a:uFillTx/>
                <a:latin typeface="Book Antiqua"/>
                <a:hlinkClick r:id="rId18"/>
              </a:rPr>
              <a:t>immune system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It is a typical body fluid with a salt content similar to blood plasma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 Usually, in a 24-hour period, 0.75 to 1.1 grams of tears are secreted, this rate slows with age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eflex tear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The second type of tears results from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rrit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f the eye by foreign particles, or from the presence of irritant substances such as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on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apors,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tear ga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pepper spra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n the eye's environment. It can also occur with bright light and hot or peppery stimuli to the tongue and mouth. It is also linked with vomiting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s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flex tear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ttempt to wash out irritants that may have come into contact with the ey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.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Crying or weeping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(psychic tears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The third category, generally referred to as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ry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weep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is increased lacrymation due to strong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emotional stres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suffer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4"/>
              </a:rPr>
              <a:t>physical pa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otional tears contain more of the protein-based hormones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prolact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adrenocorticotropic hormon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and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leucin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4"/>
              </a:rPr>
              <a:t>enkephal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a natural painkiller) than basal or reflex tea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298440" y="208080"/>
            <a:ext cx="8242200" cy="1322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lytes, the electrolytes are principally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HCO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th lower levels of M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+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s –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ed from the lacrimal gland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ysozyme, lactoferrin, lipocalin, and sIgA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pids - from the meibomian glands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i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0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0880" y="1295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sozyme (an enzyme capable of destroying the cell walls of certain bacteria and thereby acting as a mild antiseptic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toferrinan (an iron-binding protein , by combining with iron, lactoferrin prevents microorganisms from combining with and using iron for their growth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evels of the major tear proteins are known to decline with age at the same time the volume of tears also tends to decline leading to a dryer eye parallel to ag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52280" y="990360"/>
            <a:ext cx="105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Tears act as both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 delivery and an excretor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nutrients and metabolic products of the corneal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thelium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 presence of the tear film improves the quality of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tinal imag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smoothing out irregularities of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llular surfac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It acts as a lubricant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ng eye drynes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provided by the tear film coating the corne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It plays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ve ro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ainst infection carried out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ly by its protein content of  lysozymal enzymes,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toferrin,  secretory IgA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photo 1.PNG"/>
          <p:cNvPicPr/>
          <p:nvPr/>
        </p:nvPicPr>
        <p:blipFill>
          <a:blip r:embed="rId1"/>
          <a:stretch/>
        </p:blipFill>
        <p:spPr>
          <a:xfrm>
            <a:off x="762120" y="990720"/>
            <a:ext cx="72151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ear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re the liquid product of a process of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lacrim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clean and lubricate the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ey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human, the tear film coating the eye, known as the pre-corneal film, has three distinct layers, from the most outer surfac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.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ipid lay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contains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oil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secreted by the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meibomian gland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or tarsal glands). The outer-most layer of the tear film coats the aqueous layer to provide a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4"/>
              </a:rPr>
              <a:t>hydrophobic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barrier that retards evaporation and prevents tears spilling onto the chee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Book Antiqua"/>
              </a:rPr>
              <a:t>"Crocodile tears syndrome”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Shedding tears while eat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blogs.lubbockonline.com/lubbockleft/files/2009/08/crocodiletears-gop.gif"/>
          <p:cNvPicPr/>
          <p:nvPr/>
        </p:nvPicPr>
        <p:blipFill>
          <a:blip r:embed="rId1"/>
          <a:stretch/>
        </p:blipFill>
        <p:spPr>
          <a:xfrm>
            <a:off x="2590920" y="380880"/>
            <a:ext cx="37335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Keratoconjunctivitis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more commonly known as dry eye, is a very common disorder of the tear 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9" name="Picture 2" descr="http://t2.gstatic.com/images?q=tbn:iqvuWqw8kA5ZwM:http://www.aurorahealthcare.org/healthgate/images/si1307.jpg"/>
          <p:cNvPicPr/>
          <p:nvPr/>
        </p:nvPicPr>
        <p:blipFill>
          <a:blip r:embed="rId2"/>
          <a:stretch/>
        </p:blipFill>
        <p:spPr>
          <a:xfrm>
            <a:off x="2819520" y="3429000"/>
            <a:ext cx="35812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itle 1" descr=""/>
          <p:cNvPicPr/>
          <p:nvPr/>
        </p:nvPicPr>
        <p:blipFill>
          <a:blip r:embed="rId1"/>
          <a:stretch/>
        </p:blipFill>
        <p:spPr>
          <a:xfrm>
            <a:off x="530280" y="433440"/>
            <a:ext cx="8242200" cy="1328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 sensitiv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ritty sens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eling of a foreign body or sand in the ey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ch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n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urring of vi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hidden truth behind tears"/>
          <p:cNvPicPr/>
          <p:nvPr/>
        </p:nvPicPr>
        <p:blipFill>
          <a:blip r:embed="rId2"/>
          <a:stretch/>
        </p:blipFill>
        <p:spPr>
          <a:xfrm>
            <a:off x="1523880" y="1449360"/>
            <a:ext cx="6363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2" descr="hidden truth behind tears"/>
          <p:cNvPicPr/>
          <p:nvPr/>
        </p:nvPicPr>
        <p:blipFill>
          <a:blip r:embed="rId2"/>
          <a:stretch/>
        </p:blipFill>
        <p:spPr>
          <a:xfrm>
            <a:off x="1828800" y="1447920"/>
            <a:ext cx="59817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ffffff"/>
              </a:solidFill>
              <a:latin typeface="Lucida Sans"/>
              <a:ea typeface="Tahoma"/>
            </a:endParaRPr>
          </a:p>
        </p:txBody>
      </p:sp>
      <p:pic>
        <p:nvPicPr>
          <p:cNvPr id="89" name="Picture 4" descr="1316_image[1]"/>
          <p:cNvPicPr/>
          <p:nvPr/>
        </p:nvPicPr>
        <p:blipFill>
          <a:blip r:embed="rId1"/>
          <a:stretch/>
        </p:blipFill>
        <p:spPr>
          <a:xfrm>
            <a:off x="762120" y="762120"/>
            <a:ext cx="7640640" cy="56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ffffff"/>
              </a:solidFill>
              <a:latin typeface="Lucida Sans"/>
              <a:ea typeface="Tahoma"/>
            </a:endParaRPr>
          </a:p>
        </p:txBody>
      </p:sp>
      <p:pic>
        <p:nvPicPr>
          <p:cNvPr id="91" name="Picture 2" descr="C:\Users\AAN\Desktop\dryeye1[1].jpg"/>
          <p:cNvPicPr/>
          <p:nvPr/>
        </p:nvPicPr>
        <p:blipFill>
          <a:blip r:embed="rId1"/>
          <a:stretch/>
        </p:blipFill>
        <p:spPr>
          <a:xfrm>
            <a:off x="1066680" y="914400"/>
            <a:ext cx="65725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ffffff"/>
              </a:solidFill>
              <a:latin typeface="Lucida Sans"/>
              <a:ea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7" name="Picture 2" descr="http://4.bp.blogspot.com/-pLDDzg8vzR0/VnmttfiETwI/AAAAAAAAAN4/0INJnIMrtAw/s1600/lapisan%2Bair%2Bmata.jpg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en.academic.ru/pictures/enwiki/71/Gray1205.png"/>
          <p:cNvPicPr/>
          <p:nvPr/>
        </p:nvPicPr>
        <p:blipFill>
          <a:blip r:embed="rId1"/>
          <a:stretch/>
        </p:blipFill>
        <p:spPr>
          <a:xfrm>
            <a:off x="762120" y="563400"/>
            <a:ext cx="769608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.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queous lay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contains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other substances such as proteins (e.g. tear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lipocal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lactoferr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lysozym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4"/>
              </a:rPr>
              <a:t>lacrit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secreted by  the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5"/>
              </a:rPr>
              <a:t>lacrimal glan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The aqueous layer serves to promote spreading of the tear film, control of infectious agents and osmotic regul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lacrimal_gland.gif"/>
          <p:cNvPicPr/>
          <p:nvPr/>
        </p:nvPicPr>
        <p:blipFill>
          <a:blip r:embed="rId1"/>
          <a:stretch/>
        </p:blipFill>
        <p:spPr>
          <a:xfrm>
            <a:off x="1066680" y="380880"/>
            <a:ext cx="66294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tear paper.png"/>
          <p:cNvPicPr/>
          <p:nvPr/>
        </p:nvPicPr>
        <p:blipFill>
          <a:blip r:embed="rId1"/>
          <a:stretch/>
        </p:blipFill>
        <p:spPr>
          <a:xfrm>
            <a:off x="228600" y="990720"/>
            <a:ext cx="856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. 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ucous lay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contains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1"/>
              </a:rPr>
              <a:t>muc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secreted by the conjunctival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2"/>
              </a:rPr>
              <a:t>goblet cell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The inner-most layer of the tear film, it coats the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3"/>
              </a:rPr>
              <a:t>corne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provide a </a:t>
            </a:r>
            <a:r>
              <a:rPr b="0" lang="en-US" sz="2800" spc="-1" strike="noStrike" u="sng">
                <a:solidFill>
                  <a:srgbClr val="ffde66"/>
                </a:solidFill>
                <a:uFillTx/>
                <a:latin typeface="Book Antiqua"/>
                <a:hlinkClick r:id="rId4"/>
              </a:rPr>
              <a:t>hydrophilic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layer that allows for even distribution of the tear film, as well as mucus covering of the cornea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edinburgh-eyetests.co.uk/tearfilm.jpg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20:03:41Z</dcterms:created>
  <dc:creator>Rehab</dc:creator>
  <dc:description/>
  <dc:language>en-US</dc:language>
  <cp:lastModifiedBy>aalbity</cp:lastModifiedBy>
  <dcterms:modified xsi:type="dcterms:W3CDTF">2016-03-30T06:53:14Z</dcterms:modified>
  <cp:revision>32</cp:revision>
  <dc:subject/>
  <dc:title>Tears</dc:title>
</cp:coreProperties>
</file>