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2D76-0451-470F-BC30-12EE98839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8881C-D34A-43BF-A67B-AD2EB1E13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71CDB-167C-452F-80CA-A6CAE32EB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E3E52-3D3C-414F-ABF0-09C44D6C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6ABAF-24AE-4834-9F48-E8FB7564A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6FCC0-9C39-471B-ACE6-AF71C19C4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907A6-403A-463C-9C11-6FAEBA57C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2EC75-6966-459C-99BE-5E89C5BCF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BA91B-E504-40B8-8F5B-104CD848D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372F5-D674-4CFE-99B6-A97AB2426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7FFB3-5B6F-4A0B-8AFE-0A6640352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26EF1-AD64-4509-8EB4-54239C82B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909B-291F-4303-91DF-363F6751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D3B0-ECC0-4A6B-824B-ADBF3660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4FA99-FE63-4B4B-98A3-E3CFA0ADD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DA301-A107-4DAC-BBE0-D7734DD07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E5C08-5B6E-4BC9-BDD6-C61EB723D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EF1EA-EB7E-4443-93C0-274BD9C1E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3A1FB-4001-459D-A4D7-4E197483F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AEC1E-2D94-4AB0-A3C5-160EBB35E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6BE93-98B8-4EF1-9D3A-B46442D61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946FE-C89B-4801-B6F7-44D5002FC6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A6B5A6-4662-4ACF-AC4C-D8CAED0E6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12F18-8334-42ED-BEFD-75333B43F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22371-DE86-47CD-ADB7-4493F0B9B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D225C-099A-4DC4-9203-1BC1B0287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6701D-35B3-4F6B-AE88-7039BC7EE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AED6B-0E74-49BB-8567-DD0ED1A39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BC934-64D9-4D3F-9AA3-70E674B1E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711E61-CE53-4C18-A399-F42EDBDD7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819A31-E3BE-44B0-A99D-5B53ACBA7F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F2C14-8A21-4149-9094-3B38212546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4200C-38A1-4C0B-A3F3-B7DD494A8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73186-7E23-4F17-A2FA-5B093DD25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1EEB-3731-459D-9D9C-140B9E21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BC1EB-5E6D-40DA-B887-2A8E1AD1C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D5F90-4E15-4D67-B306-6A14BB7FC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692D1-947A-47E6-9662-ED0D4C7A8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3B0F4-C7BD-4C6C-B67D-98CE73934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2BE75-18B3-4483-98D0-1AF53175E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DCD7F-5334-4847-A986-0ED0C4CF8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A21A86-63D4-476E-8A6F-01C3E73C4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978C1F-A4B4-4F96-84B1-5FD07BA3CB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EBE64-C583-4E25-B1FA-9203B8F40A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8001-FE6D-4565-8A94-9EABE4D2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64412-89E0-4351-8F9D-86CC4DEE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1137A-92B0-482C-A5D8-049D04DE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A1F4-6BE0-4BAA-A8C2-685D4DC1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1F61-136E-4EC9-A97A-E50183385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C64B-7B6E-4DDC-B929-B6AD289BB4C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9C66-3CFE-4A18-B842-70DE4D63A81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C91C-CB16-41EE-A192-48D051511F6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DB5D-5B79-4B8B-8D44-695A3158C48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6400" y="2322360"/>
            <a:ext cx="7851960" cy="243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cidic,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920" y="1752120"/>
            <a:ext cx="7772400" cy="1219320"/>
          </a:xfrm>
          <a:prstGeom prst="rect">
            <a:avLst/>
          </a:prstGeom>
          <a:noFill/>
          <a:ln w="0">
            <a:noFill/>
          </a:ln>
        </p:spPr>
        <p:txBody>
          <a:bodyPr anchor="t">
            <a:normAutofit fontScale="34000"/>
          </a:bodyPr>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a:t>
            </a:r>
            <a:r>
              <a:rPr b="0" lang="cs-CZ" sz="2600" spc="-1" strike="noStrike">
                <a:solidFill>
                  <a:srgbClr val="000000"/>
                </a:solidFill>
                <a:latin typeface="Constantia"/>
              </a:rPr>
              <a:t>.</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6477120" y="3048120"/>
          <a:ext cx="1371600" cy="3336840"/>
        </p:xfrm>
        <a:graphic>
          <a:graphicData uri="http://schemas.openxmlformats.org/presentationml/2006/ole">
            <p:oleObj r:id="rId1" spid="">
              <p:embed/>
              <p:pic>
                <p:nvPicPr>
                  <p:cNvPr id="295" name="Object 3" descr=""/>
                  <p:cNvPicPr/>
                  <p:nvPr/>
                </p:nvPicPr>
                <p:blipFill>
                  <a:blip r:embed="rId2"/>
                  <a:stretch/>
                </p:blipFill>
                <p:spPr>
                  <a:xfrm>
                    <a:off x="6477120" y="30481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2"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21384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143760" cy="4500720"/>
        </p:xfrm>
        <a:graphic>
          <a:graphicData uri="http://schemas.openxmlformats.org/drawingml/2006/table">
            <a:tbl>
              <a:tblPr/>
              <a:tblGrid>
                <a:gridCol w="3498840"/>
                <a:gridCol w="2644920"/>
              </a:tblGrid>
              <a:tr h="13809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a:t>
                      </a:r>
                      <a:r>
                        <a:rPr b="0" lang="en-US" sz="1400" spc="-1" strike="noStrike">
                          <a:solidFill>
                            <a:srgbClr val="0f6fc6"/>
                          </a:solidFill>
                          <a:latin typeface="Constantia"/>
                        </a:rPr>
                        <a:t>0.6-1.2 milligrams per deciliter (mg/dL) or 71-106 micromoles per liter (mcmo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 or 36-90 mcmol/L</a:t>
                      </a:r>
                      <a:endParaRPr b="0" lang="en-US" sz="1400" spc="-1" strike="noStrike">
                        <a:solidFill>
                          <a:srgbClr val="000000"/>
                        </a:solidFill>
                        <a:latin typeface="Arial"/>
                      </a:endParaRPr>
                    </a:p>
                  </a:txBody>
                  <a:tcPr anchor="t" marL="34200" marR="34200">
                    <a:lnL>
                      <a:noFill/>
                    </a:lnL>
                    <a:lnR>
                      <a:noFill/>
                    </a:lnR>
                    <a:lnT>
                      <a:noFill/>
                    </a:lnT>
                    <a:lnB>
                      <a:noFill/>
                    </a:lnB>
                    <a:noFill/>
                  </a:tcPr>
                </a:tc>
              </a:tr>
              <a:tr h="31197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milliliters per minute (mL/min) or 1.8-2.3 milliliters per second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 or 1.5-1.8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31840"/>
            <a:ext cx="8686800" cy="152388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000000"/>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differen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mal Albity</cp:lastModifiedBy>
  <dcterms:modified xsi:type="dcterms:W3CDTF">2016-02-01T06:28:04Z</dcterms:modified>
  <cp:revision>32</cp:revision>
  <dc:subject/>
  <dc:title>The kidneys and formation of urine</dc:title>
</cp:coreProperties>
</file>