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ABB2-D749-443B-A1F6-A5F1844C9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5FAC6-9866-4B6E-9336-43E1B8949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591AC-96D6-4FF4-BCA4-778F24A8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7B6A7-11F1-4993-82D5-B5ABC10D9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5EBF3-8FCE-4C87-BEE2-D8CCD4063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9CF01-4A65-4138-81BA-00CF2D954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F586C-08BC-4926-AD2F-649DDFCDF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3EF63-ECD2-4DBF-A2E9-C818E0194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03B97-2B8E-4531-86CB-C47B6FCEC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A6235-F3ED-4ED4-832C-36CCABA4A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90F0C-CC6C-48AF-AF17-C6D742C5F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757F4-9408-4B2B-B1C8-CB9484F2B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C860-5E62-453C-A09A-5B31ECF27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AB62-92EE-4E17-8D34-1DBAD4C0A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B9874-86FF-4055-A9A9-1684CC3A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30FB3-303B-40ED-8EB9-FFDB27D90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E0167-D694-48DE-8198-3806761D2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37A0B-CEA7-4244-AAF8-762370A6F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7A39A-742F-4919-A628-85C5278D6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671E0-49F4-4705-8E96-9051D1670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E1D75-A689-4107-9842-3376C2441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2C1F0-68EE-4CED-AADE-526414F9D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30090-8C9C-498A-A893-35C13CFA5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1C0F-8F4F-4336-A5E1-9478D781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45E4F-3061-4308-BED3-6EDBB7E11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E8D1A-8631-4AF3-9F24-6D0B69416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8901D-B347-4A98-A3CD-5C37A0852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3937E-2C81-492A-96FC-F1F8D52F3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0587D-0FE1-4563-AF8E-DF06D4421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F3B93-9469-4B39-9B50-A17E76F0A9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B89CD8-FC8A-4894-91AB-40DF5BE739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BD4328-BB50-4319-BA75-0C303B3BF9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C5774-6A20-4E6D-ADA3-A9811430F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798E6-6FC5-4093-90C6-D1EBBAD7E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F59F-F95B-4FE8-9E03-EF629BB7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E1644-BB50-4D91-9FFF-F11B6499B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F2437-F933-4D9F-AF88-0A930BE29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6CFC0-CDA4-4E2B-9E0F-6611D3D99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A764E-55A1-4078-91F7-A96911428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C1EFD-B07F-49D6-AC2D-9622418F4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5C674-7534-4BAE-ABA8-66C049C8A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61739-6C9F-4990-A037-5AF6DF65C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C54BEC-0E83-4AA6-8B29-2DB2CA6B8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48356-E2D0-4509-BAFB-E72A045C5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2825-6A4C-4BB1-AB4D-D7D5700E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B443-E9D0-4888-B0B4-DFBB31523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B8681-CD8E-4B7A-A01E-E6DDF669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D13D-257B-4D8E-B489-8ABE1969B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0A77-EF5B-498B-8287-97BB4953A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1257-2722-46CB-A363-22FE9E043C0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A0D5-11D9-4CBE-B814-1A8CAC081AC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7BEC-C9CD-431E-A8EB-19737ACCA8B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271F-D442-452A-BA6E-BCE5A15648B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hyperlink" Target="http://www.webmd.com/hw-popup/milligrams-per-deciliter-mgdl" TargetMode="External"/><Relationship Id="rId2" Type="http://schemas.openxmlformats.org/officeDocument/2006/relationships/hyperlink" Target="http://www.webmd.com/hw-popup/milligrams-per-deciliter-mgdl"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0280" y="2322360"/>
            <a:ext cx="7864560" cy="201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t>
            </a:r>
            <a:r>
              <a:rPr b="0" i="1" lang="en-GB" sz="2800" spc="-1" strike="noStrike">
                <a:solidFill>
                  <a:srgbClr val="21b2c9"/>
                </a:solidFill>
                <a:latin typeface="Times New Roman"/>
                <a:ea typeface="Times New Roman"/>
              </a:rPr>
              <a:t>acidic</a:t>
            </a:r>
            <a:r>
              <a:rPr b="0" lang="en-GB" sz="2800" spc="-1" strike="noStrike">
                <a:solidFill>
                  <a:srgbClr val="000000"/>
                </a:solidFill>
                <a:latin typeface="Times New Roman"/>
                <a:ea typeface="Times New Roman"/>
              </a:rPr>
              <a:t>,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560" y="1752480"/>
            <a:ext cx="7848360" cy="4267440"/>
          </a:xfrm>
          <a:prstGeom prst="rect">
            <a:avLst/>
          </a:prstGeom>
          <a:noFill/>
          <a:ln w="0">
            <a:noFill/>
          </a:ln>
        </p:spPr>
        <p:txBody>
          <a:bodyPr anchor="t">
            <a:normAutofit fontScale="87000"/>
          </a:bodyPr>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 is </a:t>
            </a:r>
            <a:r>
              <a:rPr b="1" lang="en-US" sz="2600" spc="-1" strike="noStrike">
                <a:solidFill>
                  <a:srgbClr val="000000"/>
                </a:solidFill>
                <a:latin typeface="Constantia"/>
              </a:rPr>
              <a:t>Creatine</a:t>
            </a:r>
            <a:r>
              <a:rPr b="1" lang="cs-CZ" sz="2600" spc="-1" strike="noStrike">
                <a:solidFill>
                  <a:srgbClr val="000000"/>
                </a:solidFill>
                <a:latin typeface="Constantia"/>
              </a:rPr>
              <a:t>.</a:t>
            </a: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ince creatinine  is readily filtered by the kidneys and   </a:t>
            </a:r>
            <a:endParaRPr b="0" lang="en-US" sz="24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is not reabsorbed by the tubules , and is 100%   </a:t>
            </a:r>
            <a:endParaRPr b="0" lang="en-US" sz="2400" spc="-1" strike="noStrike">
              <a:solidFill>
                <a:srgbClr val="000000"/>
              </a:solidFill>
              <a:latin typeface="Constantia"/>
            </a:endParaRPr>
          </a:p>
          <a:p>
            <a:pPr marL="23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creted thus its clearance is a measure of the GFR.</a:t>
            </a:r>
            <a:endParaRPr b="0" lang="en-US" sz="2400" spc="-1" strike="noStrike">
              <a:solidFill>
                <a:srgbClr val="000000"/>
              </a:solidFill>
              <a:latin typeface="Constantia"/>
            </a:endParaRPr>
          </a:p>
          <a:p>
            <a:pPr marL="237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_</a:t>
            </a: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23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7543800" y="1447920"/>
          <a:ext cx="1371600" cy="3336840"/>
        </p:xfrm>
        <a:graphic>
          <a:graphicData uri="http://schemas.openxmlformats.org/presentationml/2006/ole">
            <p:oleObj r:id="rId1" spid="">
              <p:embed/>
              <p:pic>
                <p:nvPicPr>
                  <p:cNvPr id="295" name="Object 3" descr=""/>
                  <p:cNvPicPr/>
                  <p:nvPr/>
                </p:nvPicPr>
                <p:blipFill>
                  <a:blip r:embed="rId2"/>
                  <a:stretch/>
                </p:blipFill>
                <p:spPr>
                  <a:xfrm>
                    <a:off x="7543800" y="14479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5" end="5"/>
                                            </p:txEl>
                                          </p:spTgt>
                                        </p:tgtEl>
                                        <p:attrNameLst>
                                          <p:attrName>style.visibility</p:attrName>
                                        </p:attrNameLst>
                                      </p:cBhvr>
                                      <p:to>
                                        <p:strVal val="visible"/>
                                      </p:to>
                                    </p:set>
                                    <p:animEffect filter="wipe(left)" transition="in">
                                      <p:cBhvr additive="repl">
                                        <p:cTn id="12" dur="500"/>
                                        <p:tgtEl>
                                          <p:spTgt spid="287">
                                            <p:txEl>
                                              <p:pRg st="5" end="5"/>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7" dur="500"/>
                                        <p:tgtEl>
                                          <p:spTgt spid="287">
                                            <p:txEl>
                                              <p:pRg st="6" end="6"/>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87">
                                            <p:txEl>
                                              <p:pRg st="7" end="7"/>
                                            </p:txEl>
                                          </p:spTgt>
                                        </p:tgtEl>
                                        <p:attrNameLst>
                                          <p:attrName>style.visibility</p:attrName>
                                        </p:attrNameLst>
                                      </p:cBhvr>
                                      <p:to>
                                        <p:strVal val="visible"/>
                                      </p:to>
                                    </p:set>
                                    <p:animEffect filter="wipe(left)" transition="in">
                                      <p:cBhvr additive="repl">
                                        <p:cTn id="22" dur="500"/>
                                        <p:tgtEl>
                                          <p:spTgt spid="287">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87">
                                            <p:txEl>
                                              <p:pRg st="8" end="8"/>
                                            </p:txEl>
                                          </p:spTgt>
                                        </p:tgtEl>
                                        <p:attrNameLst>
                                          <p:attrName>style.visibility</p:attrName>
                                        </p:attrNameLst>
                                      </p:cBhvr>
                                      <p:to>
                                        <p:strVal val="visible"/>
                                      </p:to>
                                    </p:set>
                                    <p:animEffect filter="wipe(left)" transition="in">
                                      <p:cBhvr additive="repl">
                                        <p:cTn id="27" dur="500"/>
                                        <p:tgtEl>
                                          <p:spTgt spid="2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3045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248520" cy="3657600"/>
        </p:xfrm>
        <a:graphic>
          <a:graphicData uri="http://schemas.openxmlformats.org/drawingml/2006/table">
            <a:tbl>
              <a:tblPr/>
              <a:tblGrid>
                <a:gridCol w="3543480"/>
                <a:gridCol w="2705040"/>
              </a:tblGrid>
              <a:tr h="112248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0.6-1.2 </a:t>
                      </a:r>
                      <a:r>
                        <a:rPr b="0" lang="en-US" sz="1400" spc="-1" strike="noStrike" u="sng">
                          <a:solidFill>
                            <a:srgbClr val="e2d700"/>
                          </a:solidFill>
                          <a:uFillTx/>
                          <a:latin typeface="Constantia"/>
                          <a:hlinkClick r:id="rId1"/>
                        </a:rPr>
                        <a:t>milligrams per deciliter (mg/dL</a:t>
                      </a:r>
                      <a:r>
                        <a:rPr b="0" lang="en-US" sz="1400" spc="-1" strike="noStrike" u="sng">
                          <a:solidFill>
                            <a:srgbClr val="e2d700"/>
                          </a:solidFill>
                          <a:uFillTx/>
                          <a:latin typeface="Constantia"/>
                          <a:hlinkClick r:id="rId2"/>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a:t>
                      </a:r>
                      <a:endParaRPr b="0" lang="en-US" sz="1400" spc="-1" strike="noStrike">
                        <a:solidFill>
                          <a:srgbClr val="000000"/>
                        </a:solidFill>
                        <a:latin typeface="Arial"/>
                      </a:endParaRPr>
                    </a:p>
                  </a:txBody>
                  <a:tcPr anchor="t" marL="34200" marR="34200">
                    <a:lnL>
                      <a:noFill/>
                    </a:lnL>
                    <a:lnR>
                      <a:noFill/>
                    </a:lnR>
                    <a:lnT>
                      <a:noFill/>
                    </a:lnT>
                    <a:lnB>
                      <a:noFill/>
                    </a:lnB>
                    <a:noFill/>
                  </a:tcPr>
                </a:tc>
              </a:tr>
              <a:tr h="253512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mL/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25360"/>
            <a:ext cx="8692920" cy="115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21b2c9"/>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a:t>
            </a:r>
            <a:r>
              <a:rPr b="1" lang="en-US" sz="3600" spc="-1" strike="noStrike">
                <a:solidFill>
                  <a:srgbClr val="21b2c9"/>
                </a:solidFill>
                <a:latin typeface="Times New Roman"/>
                <a:ea typeface="Times New Roman"/>
              </a:rPr>
              <a:t>different</a:t>
            </a:r>
            <a:r>
              <a:rPr b="1" lang="en-US" sz="3600" spc="-1" strike="noStrike">
                <a:solidFill>
                  <a:srgbClr val="000000"/>
                </a:solidFill>
                <a:latin typeface="Times New Roman"/>
                <a:ea typeface="Times New Roman"/>
              </a:rPr>
              <a: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albity</cp:lastModifiedBy>
  <dcterms:modified xsi:type="dcterms:W3CDTF">2017-02-19T08:19:09Z</dcterms:modified>
  <cp:revision>36</cp:revision>
  <dc:subject/>
  <dc:title>The kidneys and formation of urine</dc:title>
</cp:coreProperties>
</file>