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7B8-4BB7-4AC9-8F8A-12BBE22A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C9B-A7A7-41DB-A014-DBB1DC5D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9C5-C999-4A4F-8960-6CAE0EC2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082-2172-491A-9560-7630D634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E1C3-5378-49C9-B5EA-FD8B4104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0656-D9A3-4091-AACB-93F59197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33A0-31E5-4B17-A757-C87C876C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8E16-291D-418D-BE0A-1031D87B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E0C5-407F-4C60-8984-830770E0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98C1-8A32-478D-81C1-D503BE89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E6C2-35CB-4D8B-9F37-97CA23B5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121-6994-43EB-A327-5255BD0D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C97E-14F8-4F46-A99A-3B834E58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CAF3-EF83-4B8B-8516-EA1EB33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061E-FCD4-4BEA-8D42-DCBE7CAF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4D3C-D856-4881-8D20-BD500AB9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E27A-3CF9-4B16-9F7E-24261A53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32C-7764-46FB-BC58-32F90525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4E7-A1B6-48D9-8948-0E420E01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AC8-AED1-4DE2-B600-30AEF27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535-0B33-4AB7-8FD5-83DFA822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693-F630-4A47-A197-3A9C0614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90C-1E5D-4D62-822B-6311597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E2B-8D79-49B9-AC6E-F58BCFB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360D-DB1A-4FE3-AFE7-1DA947D46B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CA8B-F4F1-4322-9407-9962DEEC8D7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9" name="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nes around the nasal cavity are hollowed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cavities are the paranasal sinuses and  communicate by small aperture with the ca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ghten the 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onance of v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ulator for incoming cold 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termine the position of the orbital ca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d by respiratory epithelium, columnar ciliated with mucous g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43400" y="2514600"/>
            <a:ext cx="457200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753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 </a:t>
            </a:r>
            <a:r>
              <a:rPr b="1" i="1" lang="en-US" sz="1600" spc="-1" strike="noStrike" u="sng">
                <a:solidFill>
                  <a:srgbClr val="996633"/>
                </a:solidFill>
                <a:uFillTx/>
                <a:latin typeface="Times New Roman"/>
              </a:rPr>
              <a:t>Ethmoidal sinus: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ood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both internal and external carotid arteries via the supraorbital, anterior and posterior ethmoidal and sphenopalat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rve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both maxillary and ophthalmic nerves, supra-orbital, anterior &amp; posterior ethmoidal, orbital and lateral posterior nasal.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Referred pain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Lymph drain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andibular and retropharyngeal nod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henoidal sinu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arge cavity situated in the body of the sphenoid b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ded by a septum that bend to one side leading to right and left halves, that vary greatly in siz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lies beneath the pituitary fossa, extend into the basiocciput, greater wing of sphenoid and the pterygoid proc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gins to develop at the 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month of I-U life as a recess in the nasal bone and extend into the sphenoid bone at the age of 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381024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of is related to the pituitary fossa and the optic nerve 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udden loss of vision in case of sinus infection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eriorly, the ethmoid air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ral, the cavernous sinus containing the internal carotid artery and Abducent nerve 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tabismus and Diplopi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loor is the n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81480" y="2313000"/>
            <a:ext cx="39625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stium is in the anterior wall of the sinus and open into the sphenoethmoidal recess, above superior conch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lood supp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terior ethmoidal &amp; sphenopalatine from maxil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erve supp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sterior ethmoid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al branch of pterygopalatine gangl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hthalmic and maxillary ne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05520" y="2174760"/>
            <a:ext cx="403848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rontal sinu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nly sinuses not present at birth, appear after the second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wo sinuses are unequal in extent. They are related to the anterior cranial fossa and the or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present a posterosuperior wall, anterior wall and flo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sterosuperior wall is thin and separate the sinus from the meninges and the frontal lobe of the b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anterior wall form the forehe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loor separate the sinus fron the orbit, nose and anterior ethmoid si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stium open into the semilunar hiatus, with the other opening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ection travel from one sinus to the 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viation of the nasal septum might aggravate the inf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ection give serious com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posterosuperior wall, infecting the b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loor, eye inf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od supp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ratrochlear, supraorbital and anterior ethmoid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rve supp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raorbital and supratrochlear nerv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inical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axillary si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ght get infected from the nasal cavity or upper molar tee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 maxillary sinus might spread medially, superiorly, inferiorly, laterally or posterior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thmoidal and frontal Sinu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rontal lobe abs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racture with C.S.F. lea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53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he maxillary sinu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t is pyramidal in shape wi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base at the lateral wall of the no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apex the zygomatic process of the maxi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roof is the floor of the orbi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floor is the alveolar process of the maxi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9387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gins developing about the 4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onth of intra-uterine life and continue to grow till the 3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ec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varies in size and is the largest of all the paranasal sin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53000" y="198108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1911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lies at a lower level than the floor of the no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ostium is high up on its nasal wall, 2 – 4 mm in diameter at the posterior end of hiatus semilunaris in the middle meatu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3160" y="2209680"/>
            <a:ext cx="40096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infra-orbital nerve lie in the roof, its branches to the teeth descend along the anterolateral wall, leadind to facial and dental pain when the sinus is dis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pper teeth are in close relation to the floor,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nd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molar tee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ease of the sinus as a result of infected tee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53000" y="198108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753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 </a:t>
            </a:r>
            <a:r>
              <a:rPr b="1" i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maxillary sin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ches from the facial, maxillary, infraorbital and greater palatine art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rve suppl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ied by branches from the superior alveolar nerves and the greater palatine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mph drain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in into the submandibular 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6633"/>
                </a:solidFill>
                <a:uFillTx/>
                <a:latin typeface="Times New Roman"/>
              </a:rPr>
              <a:t>Ethmoidal sinu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es between the orbit and the nose in the ethmoidal labyrin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is not a single cavity (8-10 thin-walled intercommunicating cav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is divided by bony septa into three ethmoidal air cells, anterior, middle and posterior, each with it is own ostium, draining into the middle and superior meat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448000"/>
            <a:ext cx="4495680" cy="36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eral wall is the medial surface of the orb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dial wall is the lateral surface of the nasal cavity with the superior and middle conchae projecting from 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51520" y="2362320"/>
            <a:ext cx="39402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40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nose &amp; Paranasal sin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bove is the anterior cranial fossa and the frontal lo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teriorly, is the frontal si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teriorly, the sphenoid b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feriorly, the n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parated from these surrounding structures by thin 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fection (ethmoiditis) spread rapid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s the commonest cause of orbital cellulit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eningitis, subdural and cerebral abscesses and cavernous sinus thrombo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34120" y="2514600"/>
            <a:ext cx="38098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18:12:16Z</dcterms:created>
  <dc:creator>Dr Abdin</dc:creator>
  <dc:description/>
  <dc:language>en-US</dc:language>
  <cp:lastModifiedBy>Helabdin</cp:lastModifiedBy>
  <dcterms:modified xsi:type="dcterms:W3CDTF">2004-12-13T20:01:09Z</dcterms:modified>
  <cp:revision>32</cp:revision>
  <dc:subject/>
  <dc:title>The nose &amp; Paranasal sinuses</dc:title>
</cp:coreProperties>
</file>