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E3A0-7BC9-41B6-94F3-45A13061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8D7-3062-4B4F-9EDE-E8510F25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E4C-1883-4E19-B84D-82311D3F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FCD-5BAA-4513-93D1-6CBE7CB8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7ED5-7270-4EE6-9371-4BC94110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1CFE-F639-4B71-BD2B-7671FA58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8DAC-E4D6-47FF-87B8-E27B8F69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B8F7-4FA3-4ED6-8D9F-E4C83155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76DA-AC36-44C3-80BF-E192066B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1600-AC47-4359-8FC8-5F54989B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DDF4-CCE3-4F87-B257-2330C1CA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FB67-9CF5-4999-8504-BFAB18DF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39D4-3EDF-443B-9B60-4BD37038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C8CB-A634-4438-B00D-FE89C1E4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DE15-9280-469D-9690-A0AFEC07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67CD-3106-4EEA-BFEE-98AFB458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C81C-10AD-4E57-95C8-4F96D83E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22F-78E1-462C-989E-3C280FFF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2B7-5272-494A-8DC4-BD08AB51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0CE-F156-48B7-BD13-03896C6D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6838-88F5-4C0F-BD72-4931C843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00D-B026-4ED8-99B2-F618A117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E7C-5A52-43A1-889F-A8A846F0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F9E-DC89-4FD3-8D6D-B9EEA378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B878-89E6-46C2-AA0A-7DEF647FDD4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6BB7-340B-4EFA-902A-4953620BF37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9" name="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nes around the nasal cavity are hollowed ou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se cavities are the paranasal sinuses and  communicate by small aperture with the cav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ghten the 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sonance of v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sulator for incoming cold 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termine the position of the orbital ca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ed by respiratory epithelium, columnar ciliated with mucous gl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343400" y="2514600"/>
            <a:ext cx="4572000" cy="37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753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nose &amp; Paranasal sinuses </a:t>
            </a:r>
            <a:r>
              <a:rPr b="1" i="1" lang="en-US" sz="1600" spc="-1" strike="noStrike" u="sng">
                <a:solidFill>
                  <a:srgbClr val="996633"/>
                </a:solidFill>
                <a:uFillTx/>
                <a:latin typeface="Times New Roman"/>
              </a:rPr>
              <a:t>Ethmoidal sinus: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lood suppl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both internal and external carotid arteries via the supraorbital, anterior and posterior ethmoidal and sphenopalat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rve suppl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both maxillary and ophthalmic nerves, supra-orbital, anterior &amp; posterior ethmoidal, orbital and lateral posterior nasal. </a:t>
            </a:r>
            <a:r>
              <a:rPr b="1" i="1" lang="en-US" sz="1800" spc="-1" strike="noStrike" u="sng">
                <a:solidFill>
                  <a:srgbClr val="ff3300"/>
                </a:solidFill>
                <a:uFillTx/>
                <a:latin typeface="Times New Roman"/>
              </a:rPr>
              <a:t>Referred pain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Lymph drain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mandibular and retropharyngeal nod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343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phenoidal sinu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large cavity situated in the body of the sphenoid b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vided by a septum that bend to one side leading to right and left halves, that vary greatly in siz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 lies beneath the pituitary fossa, extend into the basiocciput, greater wing of sphenoid and the pterygoid proces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gins to develop at the 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month of I-U life as a recess in the nasal bone and extend into the sphenoid bone at the age of 7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181480" y="2514600"/>
            <a:ext cx="381024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oof is related to the pituitary fossa and the optic nerve –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udden loss of vision in case of sinus infection</a:t>
            </a: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eriorly, the ethmoid air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ral, the cavernous sinus containing the internal carotid artery and Abducent nerve –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tabismus and Diplopia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loor is the n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81480" y="2313000"/>
            <a:ext cx="39625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ostium is in the anterior wall of the sinus and open into the sphenoethmoidal recess, above superior conch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lood suppl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terior ethmoidal &amp; sphenopalatine from maxill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erve suppl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sterior ethmoid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bital branch of pterygopalatine gangl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hthalmic and maxillary ner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105520" y="2174760"/>
            <a:ext cx="403848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rontal sinu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only sinuses not present at birth, appear after the second ye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two sinuses are unequal in extent. They are related to the anterior cranial fossa and the or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 present a posterosuperior wall, anterior wall and flo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sterosuperior wall is thin and separate the sinus from the meninges and the frontal lobe of the b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anterior wall form the forehea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floor separate the sinus fron the orbit, nose and anterior ethmoid sin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ostium open into the semilunar hiatus, with the other opening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fection travel from one sinus to the ot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viation of the nasal septum might aggravate the inf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fection give serious com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posterosuperior wall, infecting the b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floor, eye inf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ood suppl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ratrochlear, supraorbital and anterior ethmoid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rve suppl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raorbital and supratrochlear nerv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753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10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inicall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Maxillary si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ight get infected from the nasal cavity or upper molar tee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 maxillary sinus might spread medially, superiorly, inferiorly, laterally or posterior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thmoidal and frontal Sinu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rontal lobe abs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racture with C.S.F. lea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53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he maxillary sinu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t is pyramidal in shape wi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e base at the lateral wall of the no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e apex the zygomatic process of the maxill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e roof is the floor of the orbi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e floor is the alveolar process of the maxil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9387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gins developing about the 4</a:t>
            </a:r>
            <a:r>
              <a:rPr b="0" lang="en-GB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onth of intra-uterine life and continue to grow till the 3</a:t>
            </a:r>
            <a:r>
              <a:rPr b="0" lang="en-GB" sz="28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ec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varies in size and is the largest of all the paranasal sin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53000" y="1981080"/>
            <a:ext cx="379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753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1911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lies at a lower level than the floor of the no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ostium is high up on its nasal wall, 2 – 4 mm in diameter at the posterior end of hiatus semilunaris in the middle meatu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53160" y="2209680"/>
            <a:ext cx="40096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infra-orbital nerve lie in the roof, its branches to the teeth descend along the anterolateral wall, leadind to facial and dental pain when the sinus is dis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upper teeth are in close relation to the floor,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nd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molar tee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isease of the sinus as a result of infected tee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53000" y="1981080"/>
            <a:ext cx="379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7533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nose &amp; Paranasal sinuses </a:t>
            </a: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maxillary sinu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338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suppl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anches from the facial, maxillary, infraorbital and greater palatine arte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rve suppl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ied by branches from the superior alveolar nerves and the greater palatine ner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ymph drain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in into the submandibular lymph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6633"/>
                </a:solidFill>
                <a:uFillTx/>
                <a:latin typeface="Times New Roman"/>
              </a:rPr>
              <a:t>Ethmoidal sinu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es between the orbit and the nose in the ethmoidal labyrint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 is not a single cavity (8-10 thin-walled intercommunicating cav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 is divided by bony septa into three ethmoidal air cells, anterior, middle and posterior, each with it is own ostium, draining into the middle and superior meat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48320" y="2448000"/>
            <a:ext cx="4495680" cy="36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753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eral wall is the medial surface of the orb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edial wall is the lateral surface of the nasal cavity with the superior and middle conchae projecting from 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51520" y="2362320"/>
            <a:ext cx="39402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40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343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bove is the anterior cranial fossa and the frontal lo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teriorly, is the frontal sin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steriorly, the sphenoid b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feriorly, the n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parated from these surrounding structures by thin w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fection (ethmoiditis) spread rapid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is the commonest cause of orbital cellulit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Meningitis, subdural and cerebral abscesses and cavernous sinus thrombo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34120" y="2514600"/>
            <a:ext cx="38098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9T18:12:16Z</dcterms:created>
  <dc:creator>Dr Abdin</dc:creator>
  <dc:description/>
  <dc:language>en-US</dc:language>
  <cp:lastModifiedBy>Helabdin</cp:lastModifiedBy>
  <dcterms:modified xsi:type="dcterms:W3CDTF">2004-12-13T20:01:09Z</dcterms:modified>
  <cp:revision>32</cp:revision>
  <dc:subject/>
  <dc:title>The nose &amp; Paranasal sinuses</dc:title>
</cp:coreProperties>
</file>