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442F-36C8-4784-B19A-AF7DECC8D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489D-A1D3-49CD-B816-2CEDC5F1F9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B0C7-229A-4447-A829-F0CB094453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8B22-28FC-4053-96A7-D7555F6126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3948-FF4C-48AF-B132-44370FA856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5A97-4FC4-4582-BD1C-2438F80290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5BD5-54B5-4444-9A98-30A8F10E70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6697-2849-420B-A2E8-B77E638BEE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37FB-0C4C-44A2-A602-10719B66CB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3F7F-CF38-41AF-8F2C-24124B23AC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4EC6-97CA-4294-8C29-BADD546BA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1C92-5A76-45AF-B89F-7AB1DDE9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6B6E-B298-42B2-B897-A99C2E6C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A13A-F247-4803-94F2-6FA141FC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6A35-4DCF-4CD9-99C6-3F8112A0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E87C-3B4C-4F82-83E1-DF1FE0B66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4072-8139-4086-B797-C950CA47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D842-AB17-48E1-92AA-B2B75CD6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19C8-DB35-4DA3-B232-3B8711A7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2FC7-083E-4558-8F82-34AEFAD0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6A97-6568-48D5-BF29-43D9C822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30C5-EFC0-458A-97EA-7A56A6A7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3A4A-72E1-45E0-A596-02D04C044D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Reproductive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https://encrypted-tbn3.gstatic.com/images?q=tbn:ANd9GcQGhJgbXHOfo_JZN4hPwJD4iRmoZ1vxDeshlkXmgyFwy4T0IGEH"/>
          <p:cNvPicPr/>
          <p:nvPr/>
        </p:nvPicPr>
        <p:blipFill>
          <a:blip r:embed="rId1"/>
          <a:stretch/>
        </p:blipFill>
        <p:spPr>
          <a:xfrm>
            <a:off x="3276720" y="205740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r. Malak Qatt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Male Reproductive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71280" y="-944640"/>
            <a:ext cx="643896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8" descr="MALE REPRODUCTIVE ORGANS"/>
          <p:cNvPicPr/>
          <p:nvPr/>
        </p:nvPicPr>
        <p:blipFill>
          <a:blip r:embed="rId1"/>
          <a:stretch/>
        </p:blipFill>
        <p:spPr>
          <a:xfrm>
            <a:off x="2057400" y="1676520"/>
            <a:ext cx="48132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Tes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38096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lso called gon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2 of th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oduce spe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oduces testosterone, male horm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0" descr="C:\Users\win-7\Pictures\testes1.gif"/>
          <p:cNvPicPr/>
          <p:nvPr/>
        </p:nvPicPr>
        <p:blipFill>
          <a:blip r:embed="rId1"/>
          <a:stretch/>
        </p:blipFill>
        <p:spPr>
          <a:xfrm>
            <a:off x="5410080" y="914400"/>
            <a:ext cx="3275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Prostate G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 rot="10800000">
            <a:off x="380160" y="3961800"/>
            <a:ext cx="304920" cy="75960"/>
          </a:xfrm>
          <a:prstGeom prst="rect">
            <a:avLst/>
          </a:prstGeom>
          <a:noFill/>
          <a:ln w="0">
            <a:noFill/>
          </a:ln>
        </p:spPr>
        <p:txBody>
          <a:bodyPr tIns="30240" bIns="3024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0" descr="ProstateAnat2"/>
          <p:cNvPicPr/>
          <p:nvPr/>
        </p:nvPicPr>
        <p:blipFill>
          <a:blip r:embed="rId1"/>
          <a:stretch/>
        </p:blipFill>
        <p:spPr>
          <a:xfrm>
            <a:off x="96840" y="1828800"/>
            <a:ext cx="3771720" cy="40384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876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ocated below the blad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oduces an alkaline secretion that increases sperm motility During ejaculation, the prostate g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Female Reproductive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7" descr="C:\Users\win-7\Pictures\adam-female-reproductive-system.jpg"/>
          <p:cNvPicPr/>
          <p:nvPr/>
        </p:nvPicPr>
        <p:blipFill>
          <a:blip r:embed="rId1"/>
          <a:stretch/>
        </p:blipFill>
        <p:spPr>
          <a:xfrm>
            <a:off x="2362320" y="1676520"/>
            <a:ext cx="441936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Ov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572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Female gon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oduce the hormones estrogen and progester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esponsible for the secondary sex characteristics – breasts, hips widen, body hai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8" descr="Endocrine%20Ovaries"/>
          <p:cNvPicPr/>
          <p:nvPr/>
        </p:nvPicPr>
        <p:blipFill>
          <a:blip r:embed="rId1"/>
          <a:stretch/>
        </p:blipFill>
        <p:spPr>
          <a:xfrm>
            <a:off x="5486400" y="2743200"/>
            <a:ext cx="33130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Fallopian Tub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95680" cy="769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2 of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5 inches in leng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ttached to the upper part of the uter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ove the ovum from the ovary to the uter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ite of fertilization, the union of the egg and spe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8" descr="diagram showing  fallopian tubes, ovaries, uterus, cervical canal, cervix and vagina"/>
          <p:cNvPicPr/>
          <p:nvPr/>
        </p:nvPicPr>
        <p:blipFill>
          <a:blip r:embed="rId1"/>
          <a:stretch/>
        </p:blipFill>
        <p:spPr>
          <a:xfrm>
            <a:off x="4638600" y="2362320"/>
            <a:ext cx="450540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Uterus(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womb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5320" y="213372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Hollow,  muscular, pear-shaped org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ourishes fertilized egg=embry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C:\Users\win-7\Pictures\Uterus.gif"/>
          <p:cNvPicPr/>
          <p:nvPr/>
        </p:nvPicPr>
        <p:blipFill>
          <a:blip r:embed="rId1"/>
          <a:stretch/>
        </p:blipFill>
        <p:spPr>
          <a:xfrm>
            <a:off x="2411280" y="3809880"/>
            <a:ext cx="48578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Vag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5029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uscular tube that connects the cervix to the outside of the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8" descr="vagina"/>
          <p:cNvPicPr/>
          <p:nvPr/>
        </p:nvPicPr>
        <p:blipFill>
          <a:blip r:embed="rId1"/>
          <a:stretch/>
        </p:blipFill>
        <p:spPr>
          <a:xfrm>
            <a:off x="5110200" y="2286000"/>
            <a:ext cx="403380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02:47:57Z</dcterms:created>
  <dc:creator>PlanoISD</dc:creator>
  <dc:description/>
  <dc:language>en-US</dc:language>
  <cp:lastModifiedBy>win-7</cp:lastModifiedBy>
  <dcterms:modified xsi:type="dcterms:W3CDTF">2014-12-01T22:00:53Z</dcterms:modified>
  <cp:revision>45</cp:revision>
  <dc:subject/>
  <dc:title>Reproductive System</dc:title>
</cp:coreProperties>
</file>