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52F0-FA28-42CA-A0AD-4D2A8F631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B2F4-C0B5-4FA3-8C92-DA5EA3606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1833-1D74-4BC9-87B5-7BA32B32F9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E352-A462-46E3-BEA6-426AF3FCD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73A0-4916-4322-8BEF-630923D1A5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6D50-AA17-4CAE-9F80-57FE9A093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2F64-1380-40F1-BBDB-DB7FAC4208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B08C-5601-410E-8CC9-7F0576DE85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F51F-4BA7-4446-BFF0-5906082B1F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C448-2431-4740-8A43-07277E7FD9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280-6517-4940-93E3-ECD05A6B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D6E-5A3A-4BFA-8AD9-1D78459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165-BAA9-42A7-8ACD-0EAD823D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358-0CF5-40DD-98B1-997C8800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9C3-069D-402C-9EFA-4C042BBE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ABF-EFBD-4E99-9E98-1DE1409B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FA4-E5A9-45F2-AC11-7C6DB15B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E38-11D8-4BA2-A598-66C4D4D2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578-750B-44CA-ADF5-EF28750B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301-91D5-4001-89B8-9ACC38C4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077-49B0-4789-9ADE-5BEA6AF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31E-BC17-4077-80F1-AFEBB96D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8D34-C3DE-434F-A868-F3BF63697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roductiv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s://encrypted-tbn3.gstatic.com/images?q=tbn:ANd9GcQGhJgbXHOfo_JZN4hPwJD4iRmoZ1vxDeshlkXmgyFwy4T0IGEH"/>
          <p:cNvPicPr/>
          <p:nvPr/>
        </p:nvPicPr>
        <p:blipFill>
          <a:blip r:embed="rId1"/>
          <a:stretch/>
        </p:blipFill>
        <p:spPr>
          <a:xfrm>
            <a:off x="3276720" y="20574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. Malak Qat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le Reproductiv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71280" y="-944640"/>
            <a:ext cx="643896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MALE REPRODUCTIVE ORGANS"/>
          <p:cNvPicPr/>
          <p:nvPr/>
        </p:nvPicPr>
        <p:blipFill>
          <a:blip r:embed="rId1"/>
          <a:stretch/>
        </p:blipFill>
        <p:spPr>
          <a:xfrm>
            <a:off x="2057400" y="1676520"/>
            <a:ext cx="48132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38096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lso called gon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 of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duce sp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duces testosterone, male horm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0" descr="C:\Users\win-7\Pictures\testes1.gif"/>
          <p:cNvPicPr/>
          <p:nvPr/>
        </p:nvPicPr>
        <p:blipFill>
          <a:blip r:embed="rId1"/>
          <a:stretch/>
        </p:blipFill>
        <p:spPr>
          <a:xfrm>
            <a:off x="5410080" y="914400"/>
            <a:ext cx="3275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state G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 rot="10800000">
            <a:off x="380160" y="3961800"/>
            <a:ext cx="30492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ProstateAnat2"/>
          <p:cNvPicPr/>
          <p:nvPr/>
        </p:nvPicPr>
        <p:blipFill>
          <a:blip r:embed="rId1"/>
          <a:stretch/>
        </p:blipFill>
        <p:spPr>
          <a:xfrm>
            <a:off x="96840" y="1828800"/>
            <a:ext cx="3771720" cy="4038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ocated below the b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es an alkaline secretion that increases sperm motility During ejaculation, the prostate 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emale Reproductiv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C:\Users\win-7\Pictures\adam-female-reproductive-system.jpg"/>
          <p:cNvPicPr/>
          <p:nvPr/>
        </p:nvPicPr>
        <p:blipFill>
          <a:blip r:embed="rId1"/>
          <a:stretch/>
        </p:blipFill>
        <p:spPr>
          <a:xfrm>
            <a:off x="2362320" y="1676520"/>
            <a:ext cx="44193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v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emale gon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duce the hormones estrogen and progeste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sponsible for the secondary sex characteristics – breasts, hips widen, body h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Endocrine%20Ovaries"/>
          <p:cNvPicPr/>
          <p:nvPr/>
        </p:nvPicPr>
        <p:blipFill>
          <a:blip r:embed="rId1"/>
          <a:stretch/>
        </p:blipFill>
        <p:spPr>
          <a:xfrm>
            <a:off x="5486400" y="2743200"/>
            <a:ext cx="3313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allopian T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769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of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inches in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ttached to the upper part of the ute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ove the ovum from the ovary to the ute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te of fertilization, the union of the egg and sp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diagram showing  fallopian tubes, ovaries, uterus, cervical canal, cervix and vagina"/>
          <p:cNvPicPr/>
          <p:nvPr/>
        </p:nvPicPr>
        <p:blipFill>
          <a:blip r:embed="rId1"/>
          <a:stretch/>
        </p:blipFill>
        <p:spPr>
          <a:xfrm>
            <a:off x="4638600" y="2362320"/>
            <a:ext cx="450540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terus(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wom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320" y="213372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ollow,  muscular, pear-shaped org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urishes fertilized egg=embry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:\Users\win-7\Pictures\Uterus.gif"/>
          <p:cNvPicPr/>
          <p:nvPr/>
        </p:nvPicPr>
        <p:blipFill>
          <a:blip r:embed="rId1"/>
          <a:stretch/>
        </p:blipFill>
        <p:spPr>
          <a:xfrm>
            <a:off x="2411280" y="3809880"/>
            <a:ext cx="48578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ag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uscular tube that connects the cervix to the outside of th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vagina"/>
          <p:cNvPicPr/>
          <p:nvPr/>
        </p:nvPicPr>
        <p:blipFill>
          <a:blip r:embed="rId1"/>
          <a:stretch/>
        </p:blipFill>
        <p:spPr>
          <a:xfrm>
            <a:off x="5110200" y="2286000"/>
            <a:ext cx="40338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47:57Z</dcterms:created>
  <dc:creator>PlanoISD</dc:creator>
  <dc:description/>
  <dc:language>en-US</dc:language>
  <cp:lastModifiedBy>win-7</cp:lastModifiedBy>
  <dcterms:modified xsi:type="dcterms:W3CDTF">2014-12-01T22:00:53Z</dcterms:modified>
  <cp:revision>45</cp:revision>
  <dc:subject/>
  <dc:title>Reproductive System</dc:title>
</cp:coreProperties>
</file>