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E445-5EF3-4649-92B2-587F94F2D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F8A7-44BF-4FBA-9787-055A01310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0E1F-0365-402E-A424-284AD1B9E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DB86-796D-4D82-A9AE-6593CB322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78DC-9D05-4A13-81AD-17332E8CC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2C58-8F3F-4066-915E-E84228F38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BE15-2321-4A6F-9AE8-EEDC726B2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FA0A-0D06-4F7B-853B-BDFAC6C5F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477B-8F3F-46C5-919B-17345D28A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0058-48E9-40BE-A589-F5B89C80A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C613-8330-4026-B487-FF30078F2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C36E-4D25-4C9D-8959-9964A0626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9BF84-BD08-446E-80A5-350B7DCA1B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.uk/url?sa=i&amp;rct=j&amp;q=&amp;esrc=s&amp;source=images&amp;cd=&amp;cad=rja&amp;uact=8&amp;docid=5WF2YF-ZBgnLkM&amp;tbnid=Uq3fmSznVOr0OM:&amp;ved=0CAUQjRw&amp;url=http%3A%2F%2Fibnlive.in.com%2Fnews%2Fdiabetes-and-bp-are-enemies-of-kidney-dr-vyanketesh-joshi%2F403755-17.html&amp;ei=QuTuU6TfCMOqO-WXgJgP&amp;psig=AFQjCNETnIMR5n_ADZ7BHXePpO-K7bMiGQ&amp;ust=1408251270747183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2133720" y="990720"/>
            <a:ext cx="47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  <a:ea typeface="Times New Roman"/>
              </a:rPr>
              <a:t>The Urinary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https://encrypted-tbn3.gstatic.com/images?q=tbn:ANd9GcQzb1Fm0ZRbLNcv9-ylbUMyerm6-XjLn60aClBtIwPPAVZhVvG4B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87600" y="1828800"/>
            <a:ext cx="4343400" cy="2895480"/>
          </a:xfrm>
          <a:prstGeom prst="rect">
            <a:avLst/>
          </a:prstGeom>
          <a:ln w="0">
            <a:noFill/>
          </a:ln>
        </p:spPr>
      </p:pic>
      <p:sp>
        <p:nvSpPr>
          <p:cNvPr id="43" name="TextBox 1"/>
          <p:cNvSpPr/>
          <p:nvPr/>
        </p:nvSpPr>
        <p:spPr>
          <a:xfrm>
            <a:off x="3048120" y="518004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. Malak Qatt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7"/>
          <p:cNvSpPr/>
          <p:nvPr/>
        </p:nvSpPr>
        <p:spPr>
          <a:xfrm>
            <a:off x="2438280" y="228600"/>
            <a:ext cx="6019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Object 9"/>
          <p:cNvGraphicFramePr/>
          <p:nvPr/>
        </p:nvGraphicFramePr>
        <p:xfrm>
          <a:off x="2438280" y="1752480"/>
          <a:ext cx="4476960" cy="449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1752480"/>
                    <a:ext cx="4476960" cy="449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Rectangle 12"/>
          <p:cNvSpPr/>
          <p:nvPr/>
        </p:nvSpPr>
        <p:spPr>
          <a:xfrm>
            <a:off x="1066680" y="68580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Composition of the Urinary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609480" y="457200"/>
            <a:ext cx="472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Functions of the Kidne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838080" y="1371600"/>
            <a:ext cx="47246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4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Times New Roman"/>
              </a:rPr>
              <a:t>filter blood plasma, separate wastes, return useful materials to the blood, and eliminate the was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Object 11"/>
          <p:cNvGraphicFramePr/>
          <p:nvPr/>
        </p:nvGraphicFramePr>
        <p:xfrm>
          <a:off x="5638680" y="1143000"/>
          <a:ext cx="2951280" cy="327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143000"/>
                    <a:ext cx="2951280" cy="327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Rectangle 2"/>
          <p:cNvSpPr/>
          <p:nvPr/>
        </p:nvSpPr>
        <p:spPr>
          <a:xfrm>
            <a:off x="762120" y="3424320"/>
            <a:ext cx="4419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Times New Roman"/>
              </a:rPr>
              <a:t>produce horm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914400" y="304920"/>
            <a:ext cx="6781680" cy="19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Arial"/>
              </a:rPr>
              <a:t>The Uret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reters are muscular tubes leading from the renal pelvis to the lower bladd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2362320" y="2286000"/>
            <a:ext cx="5486400" cy="40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Object 5"/>
          <p:cNvGraphicFramePr/>
          <p:nvPr/>
        </p:nvGraphicFramePr>
        <p:xfrm>
          <a:off x="0" y="1905120"/>
          <a:ext cx="6019920" cy="45147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05120"/>
                    <a:ext cx="6019920" cy="451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Rectangle 7"/>
          <p:cNvSpPr/>
          <p:nvPr/>
        </p:nvSpPr>
        <p:spPr>
          <a:xfrm>
            <a:off x="5791320" y="1542960"/>
            <a:ext cx="83808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8" descr=""/>
          <p:cNvPicPr/>
          <p:nvPr/>
        </p:nvPicPr>
        <p:blipFill>
          <a:blip r:embed="rId3"/>
          <a:stretch/>
        </p:blipFill>
        <p:spPr>
          <a:xfrm>
            <a:off x="5715000" y="3048120"/>
            <a:ext cx="3141720" cy="320040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9"/>
          <p:cNvSpPr/>
          <p:nvPr/>
        </p:nvSpPr>
        <p:spPr>
          <a:xfrm>
            <a:off x="0" y="1828800"/>
            <a:ext cx="586728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"/>
          <p:cNvSpPr/>
          <p:nvPr/>
        </p:nvSpPr>
        <p:spPr>
          <a:xfrm>
            <a:off x="1066680" y="380880"/>
            <a:ext cx="7543800" cy="12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Arial"/>
              </a:rPr>
              <a:t>The Urinary Blad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is a muscular sac on the floor of the pelvic cavit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1"/>
          <p:cNvSpPr/>
          <p:nvPr/>
        </p:nvSpPr>
        <p:spPr>
          <a:xfrm>
            <a:off x="0" y="6324480"/>
            <a:ext cx="58672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2"/>
          <p:cNvSpPr/>
          <p:nvPr/>
        </p:nvSpPr>
        <p:spPr>
          <a:xfrm>
            <a:off x="5638680" y="2819520"/>
            <a:ext cx="1526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3"/>
          <p:cNvSpPr/>
          <p:nvPr/>
        </p:nvSpPr>
        <p:spPr>
          <a:xfrm>
            <a:off x="1101960" y="1600200"/>
            <a:ext cx="568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is highly distensible and expands eas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685800" y="808200"/>
            <a:ext cx="7010280" cy="32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The Urethr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transfer urine from the urinary bladder to the outside of the bod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3429000" y="2311560"/>
            <a:ext cx="1812960" cy="2133360"/>
          </a:xfrm>
          <a:prstGeom prst="rect">
            <a:avLst/>
          </a:prstGeom>
          <a:ln w="0">
            <a:noFill/>
          </a:ln>
        </p:spPr>
      </p:pic>
      <p:sp>
        <p:nvSpPr>
          <p:cNvPr id="66" name="Oval 6"/>
          <p:cNvSpPr/>
          <p:nvPr/>
        </p:nvSpPr>
        <p:spPr>
          <a:xfrm>
            <a:off x="2590920" y="2971800"/>
            <a:ext cx="22860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3"/>
          <p:cNvSpPr/>
          <p:nvPr/>
        </p:nvSpPr>
        <p:spPr>
          <a:xfrm>
            <a:off x="990720" y="4419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2286000" y="1219320"/>
            <a:ext cx="5029200" cy="5410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rinary tract infection (UTI’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flammatory disord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rinary tract ob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umor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nal cell carcino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ladder canc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nal fail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cu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hro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ialysi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380880" y="304920"/>
            <a:ext cx="457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Aparajita"/>
                <a:ea typeface="Aparajita"/>
              </a:rPr>
              <a:t>Urinary Tract Disorder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527040" y="1676520"/>
            <a:ext cx="7696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. C. Dugdale, David (2011).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emale urinary trac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.  Maton, Anthea; Jean Hopkins; Charles William McLaughlin; Susan Johnson; Maryanna Quon Warner; David LaHart; Jill D. Wright (1993).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uman Biology and Health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1T18:36:44Z</dcterms:created>
  <dc:creator>Chris Ritzi</dc:creator>
  <dc:description/>
  <dc:language>en-US</dc:language>
  <cp:lastModifiedBy>win-7</cp:lastModifiedBy>
  <dcterms:modified xsi:type="dcterms:W3CDTF">2014-11-24T21:08:43Z</dcterms:modified>
  <cp:revision>131</cp:revision>
  <dc:subject/>
  <dc:title>PowerPoint Presentation</dc:title>
</cp:coreProperties>
</file>