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771-F1D3-481E-AC22-666D066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516-9DC4-4101-B9DA-6687D83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CC7-8384-4448-A98A-7F2398C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BE7-525A-4AF4-BC45-D4959BD3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70B-46C9-4102-B3A3-2232AD4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3BE-0A96-4DD3-88A1-43BDDD1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B48-B4D2-4244-96CF-8E11CB44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6B-5067-4069-A16A-66293870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1DE-5AA0-47AF-9603-90BB1EC2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958-0F18-4A4C-B3AF-51EE127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884-302F-43DB-A9BB-C2FF14E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07C-6BC1-42F4-BD36-B0F1723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845-AEF0-4034-AA8B-70A4D81F6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docid=5WF2YF-ZBgnLkM&amp;tbnid=Uq3fmSznVOr0OM:&amp;ved=0CAUQjRw&amp;url=http%3A%2F%2Fibnlive.in.com%2Fnews%2Fdiabetes-and-bp-are-enemies-of-kidney-dr-vyanketesh-joshi%2F403755-17.html&amp;ei=QuTuU6TfCMOqO-WXgJgP&amp;psig=AFQjCNETnIMR5n_ADZ7BHXePpO-K7bMiGQ&amp;ust=140825127074718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33720" y="990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The Urina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s://encrypted-tbn3.gstatic.com/images?q=tbn:ANd9GcQzb1Fm0ZRbLNcv9-ylbUMyerm6-XjLn60aClBtIwPPAVZhVvG4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7600" y="18288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048120" y="5180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alak Q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2438280" y="228600"/>
            <a:ext cx="6019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9"/>
          <p:cNvGraphicFramePr/>
          <p:nvPr/>
        </p:nvGraphicFramePr>
        <p:xfrm>
          <a:off x="2438280" y="1752480"/>
          <a:ext cx="44769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44769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12"/>
          <p:cNvSpPr/>
          <p:nvPr/>
        </p:nvSpPr>
        <p:spPr>
          <a:xfrm>
            <a:off x="1066680" y="685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Composition of the Urin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457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Functions of the 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38080" y="1371600"/>
            <a:ext cx="472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filter blood plasma, separate wastes, return useful materials to the blood, and eliminate the wa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5638680" y="1143000"/>
          <a:ext cx="29512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29512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2"/>
          <p:cNvSpPr/>
          <p:nvPr/>
        </p:nvSpPr>
        <p:spPr>
          <a:xfrm>
            <a:off x="762120" y="3424320"/>
            <a:ext cx="441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duce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914400" y="304920"/>
            <a:ext cx="678168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e Ure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reters are muscular tubes leading from the renal pelvis to the lower bl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54864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0" y="1905120"/>
          <a:ext cx="6019920" cy="451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60199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>
            <a:off x="5791320" y="1542960"/>
            <a:ext cx="8380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31417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0" y="1828800"/>
            <a:ext cx="5867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066680" y="380880"/>
            <a:ext cx="7543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e 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s a muscular sac on the floor of the pelvic ca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6324480"/>
            <a:ext cx="5867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638680" y="2819520"/>
            <a:ext cx="1526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101960" y="160020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s highly distensible and expands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808200"/>
            <a:ext cx="7010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Ureth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ransfer urine from the urinary bladder to the outside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429000" y="2311560"/>
            <a:ext cx="1812960" cy="2133360"/>
          </a:xfrm>
          <a:prstGeom prst="rect">
            <a:avLst/>
          </a:prstGeom>
          <a:ln w="0">
            <a:noFill/>
          </a:ln>
        </p:spPr>
      </p:pic>
      <p:sp>
        <p:nvSpPr>
          <p:cNvPr id="66" name="Oval 6"/>
          <p:cNvSpPr/>
          <p:nvPr/>
        </p:nvSpPr>
        <p:spPr>
          <a:xfrm>
            <a:off x="2590920" y="2971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9907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0" y="1219320"/>
            <a:ext cx="50292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inary tract infection (UTI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lammatory dis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inary tract ob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m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al cell 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adder 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304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parajita"/>
                <a:ea typeface="Aparajita"/>
              </a:rPr>
              <a:t>Urinary Tract Disord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7040" y="16765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C. Dugdale, David (2011)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male urinary tr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Maton, Anthea; Jean Hopkins; Charles William McLaughlin; Susan Johnson; Maryanna Quon Warner; David LaHart; Jill D. Wright (1993)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Biology and Heal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18:36:44Z</dcterms:created>
  <dc:creator>Chris Ritzi</dc:creator>
  <dc:description/>
  <dc:language>en-US</dc:language>
  <cp:lastModifiedBy>win-7</cp:lastModifiedBy>
  <dcterms:modified xsi:type="dcterms:W3CDTF">2014-11-24T21:08:43Z</dcterms:modified>
  <cp:revision>131</cp:revision>
  <dc:subject/>
  <dc:title>PowerPoint Presentation</dc:title>
</cp:coreProperties>
</file>