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3F7D-F46A-4FEC-8FB5-59B219F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730-3DFF-46AC-A491-B416759E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D2A4-E5DD-450A-B93B-822F4B69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E22D-5038-4676-AB0F-1847CBE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03CA-7A18-43BA-9B49-01A9852F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28DA-6AE2-4AAE-A3FA-80EF785C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6807-187B-4C90-8B81-D58FF7DC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E5CE-58E3-46A5-83C7-DE075A2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9597-6D35-4548-B679-995742B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1259-57EB-4604-89A1-2CB851B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AD67-E9DD-4812-8FAB-88A7E76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260B-9ECD-4F7E-BC01-70B9753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1282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160-6503-4983-A0C0-8E09FF03D0BE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1282e"/>
                </a:solidFill>
                <a:latin typeface="Cambria"/>
                <a:cs typeface="Times New Roman"/>
              </a:rPr>
              <a:t>المحاضرة الأولى</a:t>
            </a:r>
            <a:br>
              <a:rPr sz="5400"/>
            </a:br>
            <a:r>
              <a:rPr b="0" lang="ar-SA" sz="54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 وعناصرها</a:t>
            </a:r>
            <a:endParaRPr b="0" lang="en-US" sz="5400" spc="-1" strike="noStrike">
              <a:solidFill>
                <a:srgbClr val="d1282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عريف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ناقشي صديقتك التي بجانبك و قدمي لنا تعريفا عن الثقاف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عمومي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طرق مشتركة تقود الى مزيد من التماسك الاجتماع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خصوصي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لكل شريحة متميزة في المجتمع لها مهارات و ممارسات و جوانب معرفية، وانماط سلوك تميزها عن الا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نقسم الخصوصيات إلى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صوصيات مهني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صوصيات طبق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92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متغير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عناصر تظهر حديثة وتجرب لأول مرة في ثقافة المجتم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سم المتغيرات بالاضطراب الى ان تستقر على وضع تتحول فيه الى خصوصيات او الى عمومي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تغيرات المتصلة بالجوانب المادية يسهل استقرارها لتقبل المجتمع لها, ولكن المتغيرات المتصلة بالجوانب المعنوية كالعادات والتقاليد يصعب استقرارها لصعوبة تكيف الأفراد مع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مكونات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نظم الاجتماع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هي الطرق التي ينشئها المجتمع وينظمها لتحقيق حاجات إنسانية ضرورية لأفراد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نقسم إلى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طرق الشعب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ماط سلوك يقوم بها افراد المجتمع بشكل آلي لا يعتمد على التفكير، مث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25720" indent="-200880" algn="r" rtl="1">
              <a:lnSpc>
                <a:spcPct val="80000"/>
              </a:lnSpc>
              <a:spcBef>
                <a:spcPts val="400"/>
              </a:spcBef>
              <a:buClr>
                <a:srgbClr val="989aac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ريقة التحية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عرا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قوم العرف بوظيفة الضبط الاجتماعي حيث أن الخروج عليه يعرض الفرد للنق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اد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ثل الأفعال التي يتبعها أفراد مجتمع معين و لها دلالات أخلاقية و دينية، مث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قاليد الخاصة بالزواج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قوانين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كون القوانين من عدة قواعد تنظم العلاقات بين الأفراد وسلوك الأفراد في المجتمع, ويحدد القانون طبيعة العقا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المكونات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أفكار والمعتقدات والقي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ضمن الأفكار مجموعة معقدة من الظواهر الاجتماعية والمعتقدات التي تتعلق بأفراد الجماعة والتي تفسر عالمهم المادي والاجتماعي وعلاقاتهم بعضهم البع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ثقافة الماد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شمل كل ما هو من صنع الإنسا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وظائف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د الأفراد بمجموعة من الأنماط السلوك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د أفرادها بمجموعة من القوانين والنظم التي تتيح التعاون بين أعضائها مما ينتج عنه تكيف مع المواقف البيئية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قدم الثقافة لأعضائها الوسائل المختلفة التي تهئ لهم التفاعل داخل الجم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ها تخلق حاجات يكتسبها الفرد ثم تمده بوسائل إشباعها فالاهتمامات الجمالية والأخلاقية والدينية تخلقها الثقافة ثم تهيء للفرد وسائل إشباع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قدم الثقافة للفرد تفسيرات تقليد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تنبؤ بجزء كبير من سلوك الفرد والجماعة في مواقف معين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ثقافة الطفل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ثقافة الاطفال في مجتمع تختلف عنها في مجتمع آخ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لأطفال في كل مجتمع مفردات لغوية متميزة، طرق خاصة في اللعب، أساليب خاصة في التعبير عن أنفسهم، أتجاهاتهم، انفعالاته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ثقافة الاطفال هي ثقافة فرعية في المجتم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1282e"/>
                </a:solidFill>
                <a:latin typeface="Cambria"/>
                <a:cs typeface="Times New Roman"/>
              </a:rPr>
              <a:t>هناك عوامل كثيرة تؤثر في تكوين ثقافة الطفل منها</a:t>
            </a:r>
            <a:endParaRPr b="0" lang="en-US" sz="40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ظرة المجتمع نفسة للطفول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وسائل المجتمع في نقل الثقافة للأطفا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ظم المجتمع الاجتماعية والاقتصاد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715160" cy="33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 algn="ctr" rtl="1">
              <a:buClr>
                <a:srgbClr val="d1282e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ar-SA" sz="4400" spc="-1" strike="noStrike" u="sng">
                <a:solidFill>
                  <a:srgbClr val="7f7f7f"/>
                </a:solidFill>
                <a:uFillTx/>
                <a:latin typeface="Cambria"/>
                <a:cs typeface="Times New Roman"/>
              </a:rPr>
              <a:t>محاور المحاضرة: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ماهية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مكونات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وظائف الثقافة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d1282e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ماهية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واحدة يشترك في صنعها عدد كبير من الشخصيات بالإضافة الى عناصر أخرى غير 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ا يوجد ثقافات متطابقة تماما فكل مجتمع تتميز ثقافته بطابع خا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إنسان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وذلك لأن الثقافة هي أفكار يخترعها العقل البشري وينفذها الإنسان بأعضائه وبغيرها من الأدوات والآلات التي صنعها ولا خلاف على أن العقل قدرة خاصة بالإنسان وحد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كتسب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كتسب الإنسان الثقافة من مجتمعه منذ مولده عن طريق الخبرة الشخصية والتعل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أفكار وأعما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لا تخرج عن كونها أفكار وأعمال اخترعها الإنسان لسد حاجاته الأول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تراكم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تميز الثقافة بخاصية التراكم ذلك أن حياة كل جيل تعتمد على التراث الثقافي الذي خلفته له الأجيال السابقة, يتم اكتسابها وتطويرها وتكيفها لحاجات الإنسان وأفكاره وآمال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نتشار الثقاف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نتشار العناصر الثقافية المادية أسرع من انتشار العناصر الثقافية غير الماد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قد يحدث الانتشار لبعض العناصر الثقافية من مجتمع الى آخر نتيجة للأزمات  كما يحدث في الحروب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تأثر الانتشار من حيث سرعته بمعوقات وهي: الخوف من الجديد, قوة التقاليد القائمة وشدة فعالي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ديناميكية الثقافة وجمودها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ديناميكية هي الثقافة المفتوحة على الثقافات الأخرى فتتأثر بها وتؤثر فيها, وتتمثل في ثقافة المد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جامدة هي التي تبدو في حالة استقرار, فحياة الأفراد فيها حياة نمطية ومتشابه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اجتماع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ضج الثقافة ونموها معناه رقي الجماعة وزيادة قدرتها في استغلال موارد الطبيعة في مواجهة مشكلات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نوعة المضمو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ختلف الثقافات في مضمونها, بحيث نجد أن النظم التي يتبعها مجتمع ما ويعتقد أنها الفضيلة تعتبر جريمة في مجتمع آخر يعاقب عليها القانو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سباب تباين مضمون الثقافات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لعقل البشري قدرة على اختراع أعداد لا نهاية لها من الأفكا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لعب البيئة الجغرافية وتنوعها في تنوع القطاع المادي للثقافات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حجم الجماعة ال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مدى الاتصال والتعاون بين الجماعات ال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لعب القيم التي يؤمن بها المجتمع الإنساني دور كبير في تنوع الثقافات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شابهة الشك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في كل ثقافة نجد القطاعات الثلاثة وهي القطاع المادي والقطاع الاجتماعي والقطاع الفكري والرمزي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غيرة ومتصل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تغير ثقافة المجتمعات من وقت إلى آخر ولكن تختلف في درجة وأسلوب التغير من ثقافة الى أخرى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ثال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نظر الى العادات الاجتماعية التي تكون الثقافة على أنها تمثل نماذج مثالية ينبغي على أعضاء المجتمع أن يحتذو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انتقائ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نتقال عناصر الثقافة انتقائي بمعنى أن الجيل الذي يتلقى عناصر الثقافة ينتقي منها البعض ويستبعد البعض الآخر تبعا لظروفه وحاجات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5:30:21Z</dcterms:created>
  <dc:creator>aggeel</dc:creator>
  <dc:description/>
  <dc:language>en-US</dc:language>
  <cp:lastModifiedBy>Lama Aljathlan</cp:lastModifiedBy>
  <dcterms:modified xsi:type="dcterms:W3CDTF">2015-09-01T07:10:12Z</dcterms:modified>
  <cp:revision>19</cp:revision>
  <dc:subject/>
  <dc:title>ثقافة الطفل تعريفها عناصرها انماطها مرحلة الطفولة </dc:title>
</cp:coreProperties>
</file>