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BAE-30BC-465A-9720-C1BF2B7E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A16-C88E-413F-A4C1-5F9B2A95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348-5FAF-4562-B171-146012EB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BD8-EFC4-40CC-8588-CB33A6D0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43D6-4108-4085-8996-149EA37E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4435-740B-405B-B2A8-20A4A37B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0FE6-B076-437F-A639-3E169824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B460-5548-4E79-9C8F-6FB0E4E8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7C5A-DC0E-4874-B71F-4E236645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9646-5817-40D0-8CFC-9A75B3F0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EDB4-9104-400E-AC73-7B61A00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FE8-2A3D-429D-B619-87D630F9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D398-C0E0-4421-981A-683FA5B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2E1D-E6C5-4DDB-995F-FA09460D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2B9A-679E-4EA5-BD24-D0F393E9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C85-5D57-4C74-A469-4905BED9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92F6-98FC-4EF2-87EB-EBAEDD55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C34-3744-406B-A976-FCFF5AE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9A9-B31B-438F-8C34-BF9F178F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126-D491-4391-8C91-7202A874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1AE-C35C-49D9-8E0B-CE363478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E16-8050-48FD-A6A5-B1837E22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0F3-2209-4F80-A244-8D6F1239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ADD-0CA8-4BB0-BB30-C41B4838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2E9B-7471-47E2-98CE-E64E55166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F32A-6405-47AB-9821-524EAF6B847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2400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ar-SA" sz="4800" spc="-1" strike="noStrike">
                <a:solidFill>
                  <a:srgbClr val="ffffcc"/>
                </a:solidFill>
                <a:latin typeface="Arial Black"/>
              </a:rPr>
              <a:t>دور الثقافة في تكوين شخصيات الأطفال وتحديد سلوكهم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99" name="Picture 4" descr="books-1"/>
          <p:cNvPicPr/>
          <p:nvPr/>
        </p:nvPicPr>
        <p:blipFill>
          <a:blip r:embed="rId1"/>
          <a:stretch/>
        </p:blipFill>
        <p:spPr>
          <a:xfrm>
            <a:off x="6659640" y="476280"/>
            <a:ext cx="2484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نقد النظريات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8" name="Picture 4" descr="books-1"/>
          <p:cNvPicPr/>
          <p:nvPr/>
        </p:nvPicPr>
        <p:blipFill>
          <a:blip r:embed="rId1"/>
          <a:stretch/>
        </p:blipFill>
        <p:spPr>
          <a:xfrm>
            <a:off x="250920" y="2276640"/>
            <a:ext cx="207792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8000" y="1904760"/>
            <a:ext cx="7272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نظريات التي تنسب السلوك إلى ذات الفرد وحدها أو إلى البيئة وحدها ليست صحيحة, لأن السلوك هو محصلة للتفاعل بين الشخصية التي عملت الثقافة على بلورتها و بين الثقافة نفس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يث أن الشخص يحس ويدرك ويستجيب ويفكر ويعمل بطريقة تحددها عناصر الثقافة التي يحيا فيها ويتشكل سلوكه ليتلاءم مع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لوك في مجملة  لا يخضع للعقل قدر خضوع العقل للمعايير الثقاف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ذا يقال أن الثقافة هي نظرية في السلوك أكثر من كونها نظرية في المعرف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books-1"/>
          <p:cNvPicPr/>
          <p:nvPr/>
        </p:nvPicPr>
        <p:blipFill>
          <a:blip r:embed="rId1"/>
          <a:stretch/>
        </p:blipFill>
        <p:spPr>
          <a:xfrm>
            <a:off x="7093080" y="404640"/>
            <a:ext cx="16398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الثقافة و نمو الأطفال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3" name="Picture 4" descr="books-1"/>
          <p:cNvPicPr/>
          <p:nvPr/>
        </p:nvPicPr>
        <p:blipFill>
          <a:blip r:embed="rId1"/>
          <a:stretch/>
        </p:blipFill>
        <p:spPr>
          <a:xfrm>
            <a:off x="838080" y="2286000"/>
            <a:ext cx="243864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03280" y="1904760"/>
            <a:ext cx="5832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أ) النمو العقلي</a:t>
            </a: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ذكاء الادراك والتصور والتخيل والتفكير ونمو اللغة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ذكاء يرتبط بالنجاح في التكيف مع البيئة الطبيعية و الثقاف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درة على حل المشكلات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ا يهيئ للأطفال من ظروف لكي يكتسب الطفل خبرات و مهار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درات العقلية والمعرفية قابلة للت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ب) النمو الانفعالي</a:t>
            </a: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6" name="Picture 4" descr="books-1"/>
          <p:cNvPicPr/>
          <p:nvPr/>
        </p:nvPicPr>
        <p:blipFill>
          <a:blip r:embed="rId1"/>
          <a:stretch/>
        </p:blipFill>
        <p:spPr>
          <a:xfrm>
            <a:off x="826920" y="2276640"/>
            <a:ext cx="392760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0360" y="1904760"/>
            <a:ext cx="4344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ستوى النضج يتضح في استخدام الطفل لانفعالاته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ستجابات الطفل الانفعالية لها علاقة بتحديد نوع السل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نظريات تنقسم الى قسمين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) الطفل يولد مزودا ببعض الانفعالات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) ليس لدى الطفل عند ولادته سوى نوع من التهيج الع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ooks-1"/>
          <p:cNvPicPr/>
          <p:nvPr/>
        </p:nvPicPr>
        <p:blipFill>
          <a:blip r:embed="rId1"/>
          <a:stretch/>
        </p:blipFill>
        <p:spPr>
          <a:xfrm>
            <a:off x="468360" y="2349360"/>
            <a:ext cx="194472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195280" y="475920"/>
            <a:ext cx="6624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عادات الانفعالية لدى الاطفال هي وليدة مجموعة من الانفعالات المتجانسة وكثيرا ما تنظم في موقف م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عادات الانفعالية لها تأثيرها في السلوك و من ثم في امتصاص الاطفال للثقافة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قيم الاطفال بعض المواقف او الأشياء أو الاشخاص بناء على عواطفه و التي تقوم على أساس شخصي لا عقلي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وف غير الاعتيادية مثل الخوف الشديد أو القوة او القلق تؤثر سلبا على نمو الطفل الانفعال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books-1"/>
          <p:cNvPicPr/>
          <p:nvPr/>
        </p:nvPicPr>
        <p:blipFill>
          <a:blip r:embed="rId1"/>
          <a:stretch/>
        </p:blipFill>
        <p:spPr>
          <a:xfrm>
            <a:off x="6443640" y="189000"/>
            <a:ext cx="1639800" cy="1431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7586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جـ) النمو الاجتماع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طفل يتفاعل مع مفردات الوحدات الاجتماعية الأولية (الأسرة) والثانوية (المدرسة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يكتسب الطفل العادات القيم و معايير المجتمع من خلال التفاعل الاجتماعي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د) النمو الحركي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4" name="Picture 4" descr="books-1"/>
          <p:cNvPicPr/>
          <p:nvPr/>
        </p:nvPicPr>
        <p:blipFill>
          <a:blip r:embed="rId1"/>
          <a:stretch/>
        </p:blipFill>
        <p:spPr>
          <a:xfrm>
            <a:off x="826920" y="2276640"/>
            <a:ext cx="223236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87640" y="1904760"/>
            <a:ext cx="5857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درج من الحركات البسيطة الى الحركات التوافقية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ور الحضانة في توجيه أنشطة الاطفال الحركية من خلال التدريب وإثارة دوافعهم الى الحركات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439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على هذا كله فإن للثقافة دورها الكبير في نمو الأطفا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عقليا من خلال تأثر النشاط العقلي بما يستمده الطفل من البيئ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قاف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في نموهم عاطفيا وانفعاليا من خلال تنمية استجاباتهم للمؤثرات المختلفة وإكسابهم الميول والاتجاهات وطرق التعبير عن انفعالاته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في نموهم اجتماعيا من خلال بناء يسبق علاقاته بالآخري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في نموهم حركيا من خلال تنظيم حركاته ونشاطاته ومهاراته, وينطوي ذلك كله على بناء شخصياتهم وتحديد سلوكه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books-1"/>
          <p:cNvPicPr/>
          <p:nvPr/>
        </p:nvPicPr>
        <p:blipFill>
          <a:blip r:embed="rId1"/>
          <a:stretch/>
        </p:blipFill>
        <p:spPr>
          <a:xfrm>
            <a:off x="3828960" y="244440"/>
            <a:ext cx="16398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تم بحمد الله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9" name="Picture 4" descr="books-1"/>
          <p:cNvPicPr/>
          <p:nvPr/>
        </p:nvPicPr>
        <p:blipFill>
          <a:blip r:embed="rId1"/>
          <a:stretch/>
        </p:blipFill>
        <p:spPr>
          <a:xfrm>
            <a:off x="2855880" y="2266920"/>
            <a:ext cx="3971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ربع نص 3"/>
          <p:cNvSpPr/>
          <p:nvPr/>
        </p:nvSpPr>
        <p:spPr>
          <a:xfrm>
            <a:off x="1763640" y="1844640"/>
            <a:ext cx="61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إنسان يحيا في بيئة ذات بعدين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يئة جغرافية «طبيعية»: تشمل جميع الظواهر التي ليست بالأساس من صنع الإنسان كالأرض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المناخ والتضاريس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بيئة الثقافية: التي تتضمن جميع المثيرات الثقافية التي يتعرض لها الانسان في المجتمع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73803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 Black"/>
              </a:rPr>
              <a:t>ثأثر الثقافة في الطفل في ثلاث جوانب اساسية: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Arial Black"/>
              </a:rPr>
              <a:t>* دور الثقافة في تكوين شخصية الطفل.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Arial Black"/>
              </a:rPr>
              <a:t>* تحديد انماط سلوك الاطفال.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.</a:t>
            </a:r>
            <a:r>
              <a:rPr b="1" lang="ar-SA" sz="4000" spc="-1" strike="noStrike">
                <a:solidFill>
                  <a:srgbClr val="ffffcc"/>
                </a:solidFill>
                <a:latin typeface="Arial Black"/>
              </a:rPr>
              <a:t>* نموهم الانفعالي و العقلي و الاجتماعي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2" name="Picture 4" descr="books-1"/>
          <p:cNvPicPr/>
          <p:nvPr/>
        </p:nvPicPr>
        <p:blipFill>
          <a:blip r:embed="rId1"/>
          <a:stretch/>
        </p:blipFill>
        <p:spPr>
          <a:xfrm>
            <a:off x="6877080" y="1916280"/>
            <a:ext cx="2603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الثقافة وشخصية الطفل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4" name="Picture 4" descr="books-1"/>
          <p:cNvPicPr/>
          <p:nvPr/>
        </p:nvPicPr>
        <p:blipFill>
          <a:blip r:embed="rId1"/>
          <a:stretch/>
        </p:blipFill>
        <p:spPr>
          <a:xfrm>
            <a:off x="395280" y="1844640"/>
            <a:ext cx="1800360" cy="4392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55640" y="1904760"/>
            <a:ext cx="628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تشكل خبرات الطفل من خلال التفاعل الاجتماع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طفل لا يولد شخصا بل فرد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بد من اكتساب الفرد لغة و افكار و اهداف و قيم لكي يكتسب شخص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فرد يتميز عن غيرة بشخصي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شخصية لا تتشكل مع الولادة و لكن بالتفاعل مع البيئ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خصية الطفل هي صورة لثقاف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طفل يعد صنيعة للثقاف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books-1"/>
          <p:cNvPicPr/>
          <p:nvPr/>
        </p:nvPicPr>
        <p:blipFill>
          <a:blip r:embed="rId1"/>
          <a:stretch/>
        </p:blipFill>
        <p:spPr>
          <a:xfrm>
            <a:off x="6588000" y="260280"/>
            <a:ext cx="1640160" cy="1432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شخصيات الأطفال في الثقافة الواحدة تتشابة في الطابع الع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طفل لا يستجيب للمؤثرات الثقافية بشكل سلب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اهي الشخصية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سلوب عام منظم نسبيا لنماذج السلوك و الاتجاهات و المعتقدات والقيم والعادات والتعبيرات لشخص معين و هو محصلة خبرات الفرد في بيئة ثقافية معينة من خلال التفاعل الاجتماع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oks-1"/>
          <p:cNvPicPr/>
          <p:nvPr/>
        </p:nvPicPr>
        <p:blipFill>
          <a:blip r:embed="rId1"/>
          <a:stretch/>
        </p:blipFill>
        <p:spPr>
          <a:xfrm>
            <a:off x="6588000" y="260280"/>
            <a:ext cx="1640160" cy="1432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560" y="2060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ؤلف الطفولة مرحلة حاسمة في تشكيل شخصية الطفل, ويؤكد بعض الباحثين على أن السنوات الخمس الأولى من حياة الطفل هي الفترة الأكثر خصوبة وأهمية, والتي تنجم عنها ملامح شخصية الطف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الثقافة و سلوك الأطفال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 هو السلوك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كل ما يحس به الفرد و يفكر ب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كل ما يمارسه الشخص من نشاط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جابات ال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يرات ال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ا يقوم به الفرد من أعم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ial Black"/>
              </a:rPr>
              <a:t>نظريات تفسير السلوك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3" name="Picture 4" descr="books-1"/>
          <p:cNvPicPr/>
          <p:nvPr/>
        </p:nvPicPr>
        <p:blipFill>
          <a:blip r:embed="rId1"/>
          <a:stretch/>
        </p:blipFill>
        <p:spPr>
          <a:xfrm>
            <a:off x="250920" y="2276640"/>
            <a:ext cx="207792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68000" y="1904760"/>
            <a:ext cx="7272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غرائز هي التي تكمن وراء السلوك على أساس انها ميول فطرية و وراثية دافعة للقيام بسلوك ما لإشباع حاجة حيوية (عالم النفس البريطاني مكدوكل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طاقة نفسية تولد مع الانسان تتولى تحريك السلوك (فروي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موقف يتفاعل الفرد معه واستبعدت الخبرات الماضية (نظرية المجال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سلوك هو نتاج الخبرة المنظمة ( نظرية الصيغة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مربع نص 4"/>
          <p:cNvSpPr/>
          <p:nvPr/>
        </p:nvSpPr>
        <p:spPr>
          <a:xfrm>
            <a:off x="1332000" y="285264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ناقشي مع مجموعت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ن النظريات السابقة ما هي النظرية التي تفسر السلوك أكثر من غيرها؟ و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C:\Users\laljathlan\Desktop\imagesTH97UH22.jpg"/>
          <p:cNvPicPr/>
          <p:nvPr/>
        </p:nvPicPr>
        <p:blipFill>
          <a:blip r:embed="rId1"/>
          <a:stretch/>
        </p:blipFill>
        <p:spPr>
          <a:xfrm>
            <a:off x="7308720" y="0"/>
            <a:ext cx="18097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2:13:46Z</dcterms:created>
  <dc:creator>aggeel</dc:creator>
  <dc:description/>
  <dc:language>en-US</dc:language>
  <cp:lastModifiedBy>Lama Aljathlan</cp:lastModifiedBy>
  <dcterms:modified xsi:type="dcterms:W3CDTF">2017-03-13T07:00:33Z</dcterms:modified>
  <cp:revision>15</cp:revision>
  <dc:subject/>
  <dc:title>Slide 1</dc:title>
</cp:coreProperties>
</file>