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E1F-44BB-4C8B-8645-99FCEBB7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D63-90AE-401F-89AE-7F8D4603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9F4-CF77-4C9F-8606-70720ED7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56C-3E44-4033-91F9-D5E6BD31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2EAC-6F33-43B9-9B5F-9BADE38A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A01D-E78C-465B-BDCE-10E19AD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63BA-0308-460F-AFBC-256B6B1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9C5-1064-43DC-AC2B-8B53DD3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B1C-0CDD-43FF-ACC7-F216F4F0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40A0-56DE-4E7B-81AA-F94E89D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B03-CC26-4F20-950B-4E7D07E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58C-B42C-400B-ABC6-2D210AD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19E0-42AC-4C13-AC89-E16CE883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DFF4-D2CB-40FB-9022-CF01EC7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E2B-5F53-424C-B948-D9B73CA9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205E-C5AA-4FDA-B581-73E02102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73C5-8505-4A0E-9921-EF2E22A4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CCD-0C80-4888-9267-FC7F95F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438-F2AD-41F8-A459-E1CD822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D55-ECF4-4879-A8A2-BEC6F97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147-80F5-4FE1-82C6-7476B7C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88E-E94A-4683-B8B1-73D99F6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87B-A46D-451E-9FC7-5EA0339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A0A-FA1D-4744-BC62-EB0267E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624-895C-45BC-A240-8F84B559F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9316-D348-4CF4-BC47-596ED43B8D30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h_mpaVqsTTI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دور الثقافة في تفكير الأطفا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ar-SA" sz="3600" spc="-1" strike="noStrike">
                <a:solidFill>
                  <a:srgbClr val="002060"/>
                </a:solidFill>
                <a:latin typeface="Tahoma"/>
              </a:rPr>
              <a:t>ما هو التفكير الذي يعد مطلبا تربويا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children thinking 1"/>
          <p:cNvPicPr/>
          <p:nvPr/>
        </p:nvPicPr>
        <p:blipFill>
          <a:blip r:embed="rId1"/>
          <a:stretch/>
        </p:blipFill>
        <p:spPr>
          <a:xfrm>
            <a:off x="0" y="429264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تفكير العلمي هو المطلب التربو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بقصد حل المشكلات و تفسيره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ستعانة بلغة مميزة للتعبير عن نمط تفكيرهم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تباع منهج معين في حل المشكلة و أدوات خاصة بها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child thinking 4"/>
          <p:cNvPicPr/>
          <p:nvPr/>
        </p:nvPicPr>
        <p:blipFill>
          <a:blip r:embed="rId1"/>
          <a:stretch/>
        </p:blipFill>
        <p:spPr>
          <a:xfrm>
            <a:off x="1187280" y="3789360"/>
            <a:ext cx="18957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عوامل توجيه الطفل نحو التفكير العل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رس اتجاهات قبول نتائج التفكير العلمي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تجاهات البحث عن الأسباب الحقيقة للظواهر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نمية حب الأستطلا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بناء الاراء استنادا على الادلة الكافي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قبل الرأي الاخر و الجدل البنا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سمات التفكير العل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ير مجازف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مضي في خطوات معتمدة على بعضها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هادف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دقيق ومرن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غير قائم على التعصب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اقعي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ؤثر </a:t>
            </a:r>
            <a:r>
              <a:rPr b="1" lang="ar-SA" sz="3200" spc="-1" strike="noStrike">
                <a:solidFill>
                  <a:srgbClr val="262673"/>
                </a:solidFill>
                <a:latin typeface="Tahoma"/>
              </a:rPr>
              <a:t>البيئة الثقافية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ي ينشأ فيها الأطفال تأثيرا كبيرا في أساليب وأهداف ومستويات التفكير لديهم, حيث أن هذه البيئة تزود الأطفال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بالخبرات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تي تعد المعين الأول للتفكير, وتشكل أنواع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الحوافز والمواقف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ثيرة لتفكيرهم, وأيضا </a:t>
            </a:r>
            <a:r>
              <a:rPr b="0" lang="ar-SA" sz="3200" spc="-1" strike="noStrike">
                <a:solidFill>
                  <a:srgbClr val="262673"/>
                </a:solidFill>
                <a:latin typeface="Tahoma"/>
              </a:rPr>
              <a:t>حاجات ودوافع وميول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أطفال تؤثر في تفكيرهم, وعلى هذا في الوقت الذي يعتبر التفكير نشاط ذهني إلا أنه يتحدد بالثقافة إلى حد كبير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تفكير و الايح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نشاط سلوكي ذهني لمواجهة المواقف والمشكلات يصاحبها عمليات الاتصال الثقافي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قبل الفرد الأفكار دون توفر أسباب منطقية أو دون مناقشة أو تمحيص يسمى الايحا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62673"/>
                </a:solidFill>
                <a:latin typeface="Tahoma"/>
              </a:rPr>
              <a:t>هل مررت بتجربة اتخاذ قرار سيطر عليك الايحاء اكثر من التفكير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هو طريق اكتساب الاطفال لعناصر الثقاف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يقود الى الفه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ينتهي بالطفل الى الحلول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هو جوهر التعل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أبرز مهمات مؤسسات التثقيف والاتصا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مية قدرة الأطفال على التفكير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ن توفر وسائل الاتصال الخبرات المختلفة للأطف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خبرات العوضية التي تتوسل بمسرح الافكار للأطفال وعرضها بشكل درامي للطف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عدم حشو اذهان الأطفال بالمعلومات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نقل المعلومات للأطفال بالطرق التجريبية و ليس بالتلقي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دريب الأطفال على تنظيم الخبرات و المعلومات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تاحة الفرصة للأطفال للتعبير عن أفكارهم و إبعادهم عن الانفعالات الشديد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خراج الاطفال من سلبيتهم عند تعرضهم للاتصال بوسائل المختلفة لأن السلبية تدفع الى خمود التفك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ن تستغل وسائل الاتصال ميل الاطفال الى السؤال بأثارتهم و تحفيزهم على التفكير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مية قدرة الأطفال على النقد و اكسابهم العادات التي تبعدهم عن التسرع في إطلاق الاحكام.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(من منكم تتسرع في اطلاق احكامها؟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حترام عقلية الاطفال في التفكير و مواجهتهم بمشاكل تتحدى تفكيرهم و لا تستخف ب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لما للغة من علاقة في التفكير فيجب على وسائل الاتصال أن تنمي ثروة الطفل اللغو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مواجهة الأطفال بمشاكل عقلية تناسب مستوى نموهم العقلي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على المربين عدم الوقوف عائق امام نمو تفكير الأطفال وذلك بحل جميع مواقف الطفل والإجابة على جميع تساؤلاته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شاعة قيم المرونة في تفكير الأطفال من خلال العمل على تعميق وعي الأطفال بأن الأفكار ليست جامدة بل هي عرضة للتغ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laljathlan\Desktop\t.png"/>
          <p:cNvPicPr/>
          <p:nvPr/>
        </p:nvPicPr>
        <p:blipFill>
          <a:blip r:embed="rId1"/>
          <a:stretch/>
        </p:blipFill>
        <p:spPr>
          <a:xfrm>
            <a:off x="2687760" y="2924280"/>
            <a:ext cx="3671640" cy="2284200"/>
          </a:xfrm>
          <a:prstGeom prst="rect">
            <a:avLst/>
          </a:prstGeom>
          <a:ln w="0">
            <a:noFill/>
          </a:ln>
        </p:spPr>
      </p:pic>
      <p:sp>
        <p:nvSpPr>
          <p:cNvPr id="101" name="مستطيل 3"/>
          <p:cNvSpPr/>
          <p:nvPr/>
        </p:nvSpPr>
        <p:spPr>
          <a:xfrm>
            <a:off x="1924200" y="1989000"/>
            <a:ext cx="4951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s://www.youtube.com/watch?v=h_mpaVqsTT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واجه الأطفال منذ صغرهم ما يبدو لهم صعبا, أثناء أداء فعالياتهم اليومية, ويتصرفون الأطفال بشكل ذاتي لمواجهة هذه المواقف وهذا يعني أنهم يمارسون عملية التفكي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عمليات الاتصال ترتبط بالعمليات العقلية والمعرفية من اهمها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در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خي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ا هو التفكير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نشاط قصدي يهدف الى حل المشكلات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بط بين الخبرات الماضية و اخرى حاضر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ربط بين الأسباب والنتائج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فكير كسلوك هو عملية مستمرة لدى الإنسان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هناك ترابط بين التخيل والادراك والتذكر والتصور مع التفكي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تبر اللغة وعاء رمزي للتعبير عن الأفكار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مربع نص 3"/>
          <p:cNvSpPr/>
          <p:nvPr/>
        </p:nvSpPr>
        <p:spPr>
          <a:xfrm>
            <a:off x="2120760" y="2276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عرفي التفكير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تعريف التفكير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نشاط ذهني يمارسه الفرد عند شعوره بحيرة أو تردد أو شك أو كل ما يبدو بمثابة مشكلة تتطلب سلوك أو حل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اطفال و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نمو قدرات الاطفال على التفكير تدريجيا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تبط التفكير مع قدرات الاطفال العقلية، اللغوية، الاجتماعية و النفسية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لبيئة الثقافية اثر في تطور التفكير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رى بياجيه أن الطفل قبل سن الحادي عش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فتقر الى التفكير المعتمد على التعليل المنطق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002060"/>
                </a:solidFill>
                <a:latin typeface="Tahoma"/>
              </a:rPr>
              <a:t>ناقشي ذلك مع صديقتك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imagesCAN9B9ES-6"/>
          <p:cNvPicPr/>
          <p:nvPr/>
        </p:nvPicPr>
        <p:blipFill>
          <a:blip r:embed="rId1"/>
          <a:stretch/>
        </p:blipFill>
        <p:spPr>
          <a:xfrm>
            <a:off x="0" y="4437000"/>
            <a:ext cx="22478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أنواع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خرافي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سب من خلاله الظواهر والمشكلات المختلفة إلى أساليب وعوامل شائعة لم يتم التحقق من صحت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تسلطي او التفكير بعقول الاخرين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(استيحاء الفرد تفكيره من أساليب الاخرين)، هنا قد يخضع الفرد تفكيره لأسلوب جماعة من الجماعات دون أن يتيح لنفسه التفكير إلا في حدود ضيق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التفكير اللفظي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يعتمد على إقناع الفرد لنفسة بعد تردد بكلمات لفظ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5:17:23Z</dcterms:created>
  <dc:creator>aggeel</dc:creator>
  <dc:description/>
  <dc:language>en-US</dc:language>
  <cp:lastModifiedBy>SSC1</cp:lastModifiedBy>
  <cp:lastPrinted>2015-10-03T19:30:40Z</cp:lastPrinted>
  <dcterms:modified xsi:type="dcterms:W3CDTF">2015-10-03T19:41:35Z</dcterms:modified>
  <cp:revision>18</cp:revision>
  <dc:subject/>
  <dc:title>Slide 1</dc:title>
</cp:coreProperties>
</file>