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69113" cy="9993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1FB-A41D-4CD7-AC63-A4E479A9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051-085D-43E1-9CD1-D120474F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8E5-CA6F-4364-90EC-D54EDD93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31E-60D6-4325-8AF1-336AD0AD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8E33-7167-49C8-B48E-903897DC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58AC-F9B7-4A3E-9883-8A91E5EE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E3E1-F71A-40D8-B8D7-58070BF2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E0ED-E932-40DB-A0D2-93346A11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FDC3-C93A-447F-8B2F-64557C12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A264-5F8C-4772-A413-34808A60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D671-D534-40DA-8572-44F44AFC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36F-E7F4-4111-A5C6-ED2D6A93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DFE7-BD40-49F1-983A-921A4F61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A61C-1B59-4C74-B7F1-4693074B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9C54-0444-4271-A99E-4D3D6355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10E5-D009-49A2-9782-06CD2D88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A44A-2F87-4DF6-8860-3BFDE875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C62-D3CA-437D-8222-F71AE855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9C0-5E28-45BF-A711-F00D0C48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47A-8DBF-4F81-A491-9D89A25E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317-07AA-42D9-8FAC-9D7A24B5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FFD-A5A4-4005-B780-6CA91695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F88-4D1C-4104-A3D9-2F18BEEF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69E-D913-4C1A-96D8-2A87D132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573E-0EEE-4DAB-9831-2348560ED5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9ABE-52A0-4F66-99D6-E08CB11B4A93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youtube.com/watch?v=h_mpaVqsTTI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دور الثقافة في تفكير الأطفا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ar-SA" sz="3600" spc="-1" strike="noStrike">
                <a:solidFill>
                  <a:srgbClr val="002060"/>
                </a:solidFill>
                <a:latin typeface="Tahoma"/>
              </a:rPr>
              <a:t>ما هو التفكير الذي يعد مطلبا تربويا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4" descr="children thinking 1"/>
          <p:cNvPicPr/>
          <p:nvPr/>
        </p:nvPicPr>
        <p:blipFill>
          <a:blip r:embed="rId1"/>
          <a:stretch/>
        </p:blipFill>
        <p:spPr>
          <a:xfrm>
            <a:off x="0" y="429264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تفكير العلمي هو المطلب التربو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فكير بقصد حل المشكلات و تفسيرها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استعانة بلغة مميزة للتعبير عن نمط تفكيرهم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تباع منهج معين في حل المشكلة و أدوات خاصة بها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child thinking 4"/>
          <p:cNvPicPr/>
          <p:nvPr/>
        </p:nvPicPr>
        <p:blipFill>
          <a:blip r:embed="rId1"/>
          <a:stretch/>
        </p:blipFill>
        <p:spPr>
          <a:xfrm>
            <a:off x="1187280" y="3789360"/>
            <a:ext cx="18957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عوامل توجيه الطفل نحو التفكير العلم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غرس اتجاهات قبول نتائج التفكير العلمي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تجاهات البحث عن الأسباب الحقيقة للظواهر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نمية حب الأستطلا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بناء الاراء استنادا على الادلة الكافية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قبل الرأي الاخر و الجدل البنا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سمات التفكير العلم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غير مجازف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يمضي في خطوات معتمدة على بعضها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هادف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دقيق ومرن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غير قائم على التعصب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واقعي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ؤثر </a:t>
            </a:r>
            <a:r>
              <a:rPr b="1" lang="ar-SA" sz="3200" spc="-1" strike="noStrike">
                <a:solidFill>
                  <a:srgbClr val="262673"/>
                </a:solidFill>
                <a:latin typeface="Tahoma"/>
              </a:rPr>
              <a:t>البيئة الثقافية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ي ينشأ فيها الأطفال تأثيرا كبيرا في أساليب وأهداف ومستويات التفكير لديهم, حيث أن هذه البيئة تزود الأطفال </a:t>
            </a:r>
            <a:r>
              <a:rPr b="0" lang="ar-SA" sz="3200" spc="-1" strike="noStrike">
                <a:solidFill>
                  <a:srgbClr val="262673"/>
                </a:solidFill>
                <a:latin typeface="Tahoma"/>
              </a:rPr>
              <a:t>بالخبرات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التي تعد المعين الأول للتفكير, وتشكل أنواع </a:t>
            </a:r>
            <a:r>
              <a:rPr b="0" lang="ar-SA" sz="3200" spc="-1" strike="noStrike">
                <a:solidFill>
                  <a:srgbClr val="262673"/>
                </a:solidFill>
                <a:latin typeface="Tahoma"/>
              </a:rPr>
              <a:t>الحوافز والمواقف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مثيرة لتفكيرهم, وأيضا </a:t>
            </a:r>
            <a:r>
              <a:rPr b="0" lang="ar-SA" sz="3200" spc="-1" strike="noStrike">
                <a:solidFill>
                  <a:srgbClr val="262673"/>
                </a:solidFill>
                <a:latin typeface="Tahoma"/>
              </a:rPr>
              <a:t>حاجات ودوافع وميول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الأطفال تؤثر في تفكيرهم, وعلى هذا في الوقت الذي يعتبر التفكير نشاط ذهني إلا أنه يتحدد بالثقافة إلى حد كبير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تفكير و الايح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فكير نشاط سلوكي ذهني لمواجهة المواقف والمشكلات يصاحبها عمليات الاتصال الثقافي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قبل الفرد الأفكار دون توفر أسباب منطقية أو دون مناقشة أو تمحيص يسمى الايحاء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62673"/>
                </a:solidFill>
                <a:latin typeface="Tahoma"/>
              </a:rPr>
              <a:t>هل مررت بتجربة اتخاذ قرار سيطر عليك الايحاء اكثر من التفكير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915920"/>
            <a:ext cx="7772400" cy="51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فكير هو طريق اكتساب الاطفال لعناصر الثقافة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فكير يقود الى الفه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فكير ينتهي بالطفل الى الحلول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فكير هو جوهر التعل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أبرز مهمات مؤسسات التثقيف والاتصا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نمية قدرة الأطفال على التفكير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ن توفر وسائل الاتصال الخبرات المختلفة للأطفا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خبرات العوضية التي تتوسل بمسرح الافكار للأطفال وعرضها بشكل درامي للطف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عدم حشو اذهان الأطفال بالمعلومات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نقل المعلومات للأطفال بالطرق التجريبية و ليس بالتلقي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دريب الأطفال على تنظيم الخبرات و المعلومات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52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تاحة الفرصة للأطفال للتعبير عن أفكارهم و إبعادهم عن الانفعالات الشديد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خراج الاطفال من سلبيتهم عند تعرضهم للاتصال بوسائل المختلفة لأن السلبية تدفع الى خمود التفكي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ن تستغل وسائل الاتصال ميل الاطفال الى السؤال بأثارتهم و تحفيزهم على التفكير الفعا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نمية قدرة الأطفال على النقد و اكسابهم العادات التي تبعدهم عن التسرع في إطلاق الاحكام. 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(من منكم تتسرع في اطلاق احكامها؟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حترام عقلية الاطفال في التفكير و مواجهتهم بمشاكل تتحدى تفكيرهم و لا تستخف ب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لما للغة من علاقة في التفكير فيجب على وسائل الاتصال أن تنمي ثروة الطفل اللغو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مواجهة الأطفال بمشاكل عقلية تناسب مستوى نموهم العقلي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على المربين عدم الوقوف عائق امام نمو تفكير الأطفال وذلك بحل جميع مواقف الطفل والإجابة على جميع تساؤلاته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شاعة قيم المرونة في تفكير الأطفال من خلال العمل على تعميق وعي الأطفال بأن الأفكار ليست جامدة بل هي عرضة للتغي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laljathlan\Desktop\t.png"/>
          <p:cNvPicPr/>
          <p:nvPr/>
        </p:nvPicPr>
        <p:blipFill>
          <a:blip r:embed="rId1"/>
          <a:stretch/>
        </p:blipFill>
        <p:spPr>
          <a:xfrm>
            <a:off x="2687760" y="2924280"/>
            <a:ext cx="3671640" cy="2284200"/>
          </a:xfrm>
          <a:prstGeom prst="rect">
            <a:avLst/>
          </a:prstGeom>
          <a:ln w="0">
            <a:noFill/>
          </a:ln>
        </p:spPr>
      </p:pic>
      <p:sp>
        <p:nvSpPr>
          <p:cNvPr id="101" name="مستطيل 3"/>
          <p:cNvSpPr/>
          <p:nvPr/>
        </p:nvSpPr>
        <p:spPr>
          <a:xfrm>
            <a:off x="1924200" y="1989000"/>
            <a:ext cx="4951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s://www.youtube.com/watch?v=h_mpaVqsTT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يواجه الأطفال منذ صغرهم ما يبدو لهم صعبا, أثناء أداء فعالياتهم اليومية, ويتصرفون الأطفال بشكل ذاتي لمواجهة هذه المواقف وهذا يعني أنهم يمارسون عملية التفكي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عمليات الاتصال ترتبط بالعمليات العقلية والمعرفية من اهمها</a:t>
            </a: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ادر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فكير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خي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ما هو التفكير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نشاط قصدي يهدف الى حل المشكلات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يربط بين الخبرات الماضية و اخرى حاضرة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ربط بين الأسباب والنتائج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فكير كسلوك هو عملية مستمرة لدى الإنسان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هناك ترابط بين التخيل والادراك والتذكر والتصور مع التفكير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عتبر اللغة وعاء رمزي للتعبير عن الأفكار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مربع نص 3"/>
          <p:cNvSpPr/>
          <p:nvPr/>
        </p:nvSpPr>
        <p:spPr>
          <a:xfrm>
            <a:off x="2120760" y="227664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عرفي التفكير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تعريف التفكير</a:t>
            </a: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نشاط ذهني يمارسه الفرد عند شعوره بحيرة أو تردد أو شك أو كل ما يبدو بمثابة مشكلة تتطلب سلوك أو حل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اطفال و التفكي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نمو قدرات الاطفال على التفكير تدريجيا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يرتبط التفكير مع قدرات الاطفال العقلية، اللغوية، الاجتماعية و النفسية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للبيئة الثقافية اثر في تطور التفكير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يرى بياجيه أن الطفل قبل سن الحادي عشر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يفتقر الى التفكير المعتمد على التعليل المنطق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002060"/>
                </a:solidFill>
                <a:latin typeface="Tahoma"/>
              </a:rPr>
              <a:t>ناقشي ذلك مع صديقتك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imagesCAN9B9ES-6"/>
          <p:cNvPicPr/>
          <p:nvPr/>
        </p:nvPicPr>
        <p:blipFill>
          <a:blip r:embed="rId1"/>
          <a:stretch/>
        </p:blipFill>
        <p:spPr>
          <a:xfrm>
            <a:off x="0" y="4437000"/>
            <a:ext cx="22478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أنواع التفكي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ahoma"/>
              </a:rPr>
              <a:t>التفكير الخرافي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نسب من خلاله الظواهر والمشكلات المختلفة إلى أساليب وعوامل شائعة لم يتم التحقق من صحت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ahoma"/>
              </a:rPr>
              <a:t>التفكير التسلطي او التفكير بعقول الاخرين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(استيحاء الفرد تفكيره من أساليب الاخرين)، هنا قد يخضع الفرد تفكيره لأسلوب جماعة من الجماعات دون أن يتيح لنفسه التفكير إلا في حدود ضيق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ahoma"/>
              </a:rPr>
              <a:t>التفكير اللفظي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يعتمد على إقناع الفرد لنفسة بعد تردد بكلمات لفظ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15:17:23Z</dcterms:created>
  <dc:creator>aggeel</dc:creator>
  <dc:description/>
  <dc:language>en-US</dc:language>
  <cp:lastModifiedBy>SSC1</cp:lastModifiedBy>
  <cp:lastPrinted>2015-10-03T19:30:40Z</cp:lastPrinted>
  <dcterms:modified xsi:type="dcterms:W3CDTF">2015-10-03T19:41:35Z</dcterms:modified>
  <cp:revision>18</cp:revision>
  <dc:subject/>
  <dc:title>Slide 1</dc:title>
</cp:coreProperties>
</file>