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89CD0-17E4-410D-8D4E-C3F8B8C37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68E6C-C13E-4047-A54E-E36D63B5B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C81D0-8214-4270-B271-5D4FBE7D2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07D80-8DB6-4F77-85AE-AA0ADD0C2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E1F8F-2859-4D7B-83E3-8C47D9C60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87B22-7091-45F9-8D7A-F7F151BFD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00063-0CAF-4E40-946C-0F0A15851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D763F-9D2A-4DE1-8820-02B1CC0EC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71D4F-50CF-4402-B4BA-030D75BE7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884BA-E320-440A-B782-9E789D131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54514-3875-405D-BDC8-D70563F7D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6653D-296C-4B7C-8D21-0F6F8A837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6F267-819A-4F6D-BBEE-4B2A81880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BF2C3-3BC6-429D-8687-DC2DB882F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F5AD5-DAFA-488E-844B-5373C6B69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29DA0-9809-480A-BA36-B3EA6CA221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ADD53-BA13-483D-B68C-357502003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4BE024-E01F-4E6D-AA06-6E7E27A7E2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084047-DBC3-4CCF-8D82-40EBD6E98E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DAD9DE-070F-4A8E-B01E-4984FE2FDE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3066AD-1976-4878-8C00-4EE121DA1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DFAAB-2862-4588-ADF2-7B1A3B45E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C885D-272C-43EB-A21A-D81E1F483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E4C051-B57E-417D-B820-81ADE9C90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8545E-80B0-40F0-9F7E-66FD0B9A4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678DF-C7F4-4044-8533-A3B26AC90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D616D-C482-4243-8E9D-1ED5314EB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AA652-6501-4F05-97B9-8D166B79D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1B999D-168B-4012-9B91-6C3C2C3583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8423D2-F1A9-4A39-98B0-5E9B404FC7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21D874-F3A8-4532-B2C2-6342473187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D511DE-79C4-48B8-A622-24D601440A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A50C8D-B570-4870-9902-492BC4913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3A85A-C5F0-4882-A367-6F7D3A504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A14AE4-671C-4FE3-AEC3-D1FE86F5E3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7904C0-69DE-474C-93D3-5EF1CD74EA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10AE4B-739C-4815-8572-AF23F62652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80171B-D68C-4875-93ED-79B973FEA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36A6E-F922-4F73-A6F9-891E6D6B7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EB843-256A-45C3-BFB8-7133DF8DA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8F326-AF4B-4523-89A1-39102BC922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0C63A5-5144-42DD-A5B5-9F764B82CF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BC7C85-E519-435E-91E7-0AABEC9B05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A31D81-6135-458C-8AF2-24E962556D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B3CDD-BBE4-4E24-B460-DC680A38C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5761A1-91F7-442B-8CA7-3BCBA30E3C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E2493-F3BB-4460-B2FE-3199F00FB0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C5DA46-61B7-4EFD-BEDE-5DA3A38722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4D488-1D9B-4A80-9F4F-4D9F08AE00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472A63-BE95-4114-8A97-3BA46E13F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84D30-1DA2-468A-ADC3-C054E5BFE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A0773-B641-4863-A73D-83AEDCF34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88E2E-7F38-434F-B301-5CBEB91DCC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701132-A2A2-4F09-80DA-F28CF66F1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A8AF95-EF8B-4AD5-A4EE-5B9BCDC3BB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05570-746F-4487-818C-61320E0C9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DE8509-E79B-46D3-A3AF-AA87C1D3BA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1F635C-2B14-43D4-B689-0A84AC5DEB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2D8F98-C7AD-4936-9F14-3507B477EF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E75C37-3273-4896-B996-54A41FE490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0862AB-8D57-4766-A1B1-CCEEA7404C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739C01-B821-4A2A-ABD7-7BF6B230D5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A371C3-4C38-4B5F-850E-3BD2631B7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0284DE-475D-4375-994C-9086B9AF4D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67F02-D64F-453A-99E0-6AEAEB031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85933-12EA-4E7D-8465-DADD23208B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1C22A-0472-466F-A20F-2F898A387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1847FD-E06D-4EEB-A4C6-942D0DB2A6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653363-9C5E-4B8D-8226-674A501F38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B97C2A-0563-4F66-B136-D499C83EC4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1D170C-0B58-42D9-B985-1C676B2C6C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6B384D-6492-4F2D-A82F-46CE96AB19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11038D-6EA2-4B3D-95CA-DF06588F47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BEB0AF-AC89-4360-8AB1-3369EF7558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EDC2E2-AF33-45DF-8157-58450B31B8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99CE84-10AF-42CC-A409-1A4C5D9C27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6A83FD-B5E6-44E5-A519-C456596407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51A6D-C526-4902-803F-D83C2F2AF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25CF03-4355-4E7A-A09D-362095F6F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D538F6-34D3-464E-83A3-FA202A6166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6F65AF-60DF-492E-A566-79C41AAE20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A2FDEC-6162-419F-815D-A6F3AEA5DA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9CEF34-5B08-4604-ABAF-50CE4C8FDE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13f2a"/>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038F7-CB2E-4B14-BA8C-E86FE6744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8ffe5">
              <a:alpha val="33000"/>
            </a:srgbClr>
          </a:solidFill>
          <a:ln cap="rnd" w="3240">
            <a:solidFill>
              <a:srgbClr val="beff31"/>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شكل بيضاوي 7"/>
          <p:cNvSpPr/>
          <p:nvPr/>
        </p:nvSpPr>
        <p:spPr>
          <a:xfrm>
            <a:off x="168120" y="20520"/>
            <a:ext cx="1703520" cy="1703520"/>
          </a:xfrm>
          <a:prstGeom prst="ellipse">
            <a:avLst/>
          </a:prstGeom>
          <a:noFill/>
          <a:ln cap="rnd" w="27360">
            <a:solidFill>
              <a:srgbClr val="f3ffa3"/>
            </a:solidFill>
            <a:miter/>
          </a:ln>
          <a:effectLst>
            <a:outerShdw dist="12600" dir="5400000" blurRad="0" rotWithShape="0">
              <a:srgbClr val="9cc94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581A-0989-470E-901F-67205D4B5817}"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627833">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8ffe5">
              <a:alpha val="33000"/>
            </a:srgbClr>
          </a:solidFill>
          <a:ln cap="rnd" w="3240">
            <a:solidFill>
              <a:srgbClr val="beff31"/>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 name="شكل بيضاوي 7"/>
          <p:cNvSpPr/>
          <p:nvPr/>
        </p:nvSpPr>
        <p:spPr>
          <a:xfrm>
            <a:off x="168120" y="20520"/>
            <a:ext cx="1703520" cy="1703520"/>
          </a:xfrm>
          <a:prstGeom prst="ellipse">
            <a:avLst/>
          </a:prstGeom>
          <a:noFill/>
          <a:ln cap="rnd" w="27360">
            <a:solidFill>
              <a:srgbClr val="f3ffa3"/>
            </a:solidFill>
            <a:miter/>
          </a:ln>
          <a:effectLst>
            <a:outerShdw dist="12600" dir="5400000" blurRad="0" rotWithShape="0">
              <a:srgbClr val="9cc94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627833">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شكل بيضاوي 13"/>
          <p:cNvSpPr/>
          <p:nvPr/>
        </p:nvSpPr>
        <p:spPr>
          <a:xfrm>
            <a:off x="1157400" y="1344600"/>
            <a:ext cx="63360" cy="65160"/>
          </a:xfrm>
          <a:prstGeom prst="ellipse">
            <a:avLst/>
          </a:prstGeom>
          <a:noFill/>
          <a:ln cap="rnd" w="12600">
            <a:solidFill>
              <a:srgbClr val="82ae00">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2D66-AE69-4896-8C8B-6E24978EEACC}"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627833">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5" name="شكل بيضاوي 16"/>
          <p:cNvSpPr/>
          <p:nvPr/>
        </p:nvSpPr>
        <p:spPr>
          <a:xfrm>
            <a:off x="2408400" y="2746440"/>
            <a:ext cx="63360" cy="63360"/>
          </a:xfrm>
          <a:prstGeom prst="ellipse">
            <a:avLst/>
          </a:prstGeom>
          <a:noFill/>
          <a:ln cap="rnd" w="12600">
            <a:solidFill>
              <a:srgbClr val="82ae00">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F02D-E6E0-4A30-AF9D-CDD71EB2F7A8}"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425B-6DFD-4E4A-8F5F-96040BF64188}"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627833">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5ECD-640A-4B13-9BB7-832C17EFA057}"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CBE2-8F14-4DB1-89E3-EDBED1A6D726}"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d5ff38">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af278">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13f2a"/>
                </a:solidFill>
                <a:latin typeface="Gill Sans MT"/>
              </a:rPr>
              <a:t>Click to edit the title text format</a:t>
            </a:r>
            <a:endParaRPr b="0" lang="en-US" sz="4300" spc="-1" strike="noStrike">
              <a:solidFill>
                <a:srgbClr val="413f2a"/>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94c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71685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ff67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90946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a4df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4046-E7F6-4D30-982B-8440320A0003}" type="slidenum">
              <a:rPr b="0" lang="en-GB" sz="1200" spc="-1" strike="noStrike">
                <a:solidFill>
                  <a:srgbClr val="a4df2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1628640"/>
            <a:ext cx="8353440" cy="14702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413f2a"/>
                </a:solidFill>
                <a:latin typeface="Gill Sans MT"/>
                <a:cs typeface="Majalla UI"/>
              </a:rPr>
              <a:t>دور الثقافة في إدراك الأطفال</a:t>
            </a:r>
            <a:endParaRPr b="0" lang="en-US" sz="4300" spc="-1" strike="noStrike">
              <a:solidFill>
                <a:srgbClr val="413f2a"/>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دراك الاطفال للمواقف و الافكار في حالة مستمرة،</a:t>
            </a:r>
            <a:endParaRPr b="0" lang="en-US" sz="3200" spc="-1" strike="noStrike">
              <a:solidFill>
                <a:srgbClr val="000000"/>
              </a:solidFill>
              <a:latin typeface="Gill Sans MT"/>
            </a:endParaRPr>
          </a:p>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طفل لا يتعلم من بيئته كيف يسمع أو يبصر بل يتعلم معنى ما يسمع ومعنى ما يبصر.</a:t>
            </a:r>
            <a:endParaRPr b="0" lang="en-US" sz="3200" spc="-1" strike="noStrike">
              <a:solidFill>
                <a:srgbClr val="000000"/>
              </a:solidFill>
              <a:latin typeface="Gill Sans MT"/>
            </a:endParaRPr>
          </a:p>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13f2a"/>
                </a:solidFill>
                <a:latin typeface="Gill Sans MT"/>
                <a:cs typeface="Majalla UI"/>
              </a:rPr>
              <a:t>أثر خصائص الإدراك على عملية الاتصال</a:t>
            </a:r>
            <a:endParaRPr b="0" lang="en-US" sz="4300" spc="-1" strike="noStrike">
              <a:solidFill>
                <a:srgbClr val="413f2a"/>
              </a:solidFill>
              <a:latin typeface="Gill Sans MT"/>
            </a:endParaRPr>
          </a:p>
        </p:txBody>
      </p:sp>
      <p:sp>
        <p:nvSpPr>
          <p:cNvPr id="333" name=""/>
          <p:cNvSpPr txBox="1"/>
          <p:nvPr/>
        </p:nvSpPr>
        <p:spPr>
          <a:xfrm>
            <a:off x="1331640" y="1699920"/>
            <a:ext cx="749916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يعتبر علماء الاتصال ما ينطوي عليه الادراك من حذف واضافة وانتقاء وترتيب ومحدودية قدرات الحواس أحد العوامل الأساسية في عدم وصول الرسالة الاتصالية إلى الأطفال بنفس المعاني التي يريدها المصدر.</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عد تعرّف المصدر الاتصالي إلى مدركات الأطفال مسألة جوهرية لأن الاتصال يعني المشاركة في الخبرة والمعاني عبر رموز مشتركة. وإذا لم تتهيأ للمصدر صياغة الرسائل بصورة يستطيع بها الأطفال إدراك ما تحمل من معان فإن الاتصال غير فعال.</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رغم طبيعة الادراك المعقدة واختلاف العالم الادراكي إلا أنه يمكن الحديث عن عالم إدراكي عام للأفراد, وخصوصا الأطفال في كل مرحلة من مراحل نموهم نظرا لاشتراكهم في الحاجات, ومواجهتهم مشاكل ومواقف وخبرات مشتركة الى حد م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ومن بين ما انتهت اليه الدراسات الاتصالية أنه كلما كان عدد الحواس التي تتلقى المثيرات أكثر كان الإدراك اقرب الى ان يكون صحيح.</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ولهذا يعتبر خبراء الاتصال أن التلفاز أكثر قدرة على إيصال الرسالة الاتصالية من الإذاعة لاعتماد التلفاز على الصورة والصوت معا.</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المعروف أن الأطفال لا يدركون في صغرهم المعنويات كالعزة والكرامة, لذا تبتعد مصادر الاتصال بالأطفال عن إطلاق هذه المعنويات في رسائلها الاتصالية.</a:t>
            </a:r>
            <a:endParaRPr b="0" lang="en-US" sz="3200" spc="-1" strike="noStrike">
              <a:solidFill>
                <a:srgbClr val="000000"/>
              </a:solidFill>
              <a:latin typeface="Gill Sans MT"/>
            </a:endParaRPr>
          </a:p>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لما كان الإدراك انتقائيا, فإن وسائل الاتصال تعمل على جذب انتباههم من خلال الألوان والأضواء والحركات السريع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258560" y="2091960"/>
            <a:ext cx="7499160" cy="4800600"/>
          </a:xfrm>
          <a:prstGeom prst="rect">
            <a:avLst/>
          </a:prstGeom>
          <a:noFill/>
          <a:ln w="0">
            <a:noFill/>
          </a:ln>
        </p:spPr>
        <p:txBody>
          <a:bodyPr anchor="t">
            <a:normAutofit/>
          </a:bodyPr>
          <a:p>
            <a:pPr marL="365040" indent="-282600" algn="ct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إدراك الصحيح هو الطريق إلى فهم الطفل لثقافة مجتمعه.</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214200"/>
            <a:ext cx="7792920" cy="177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13f2a"/>
                </a:solidFill>
                <a:latin typeface="Gill Sans MT"/>
                <a:cs typeface="Majalla UI"/>
              </a:rPr>
              <a:t>عمليات الاتصال ترتبط بالعمليات العقلية والمعرفية ومن اهمها: </a:t>
            </a:r>
            <a:endParaRPr b="0" lang="en-US" sz="4300" spc="-1" strike="noStrike">
              <a:solidFill>
                <a:srgbClr val="413f2a"/>
              </a:solidFill>
              <a:latin typeface="Gill Sans MT"/>
            </a:endParaRPr>
          </a:p>
        </p:txBody>
      </p:sp>
      <p:sp>
        <p:nvSpPr>
          <p:cNvPr id="320" name=""/>
          <p:cNvSpPr txBox="1"/>
          <p:nvPr/>
        </p:nvSpPr>
        <p:spPr>
          <a:xfrm>
            <a:off x="1402920" y="1844280"/>
            <a:ext cx="7497720" cy="4800600"/>
          </a:xfrm>
          <a:prstGeom prst="rect">
            <a:avLst/>
          </a:prstGeom>
          <a:noFill/>
          <a:ln w="0">
            <a:noFill/>
          </a:ln>
        </p:spPr>
        <p:txBody>
          <a:bodyPr anchor="t">
            <a:normAutofit/>
          </a:bodyPr>
          <a:p>
            <a:pPr marL="365040" indent="-28260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ادراك </a:t>
            </a:r>
            <a:endParaRPr b="0" lang="en-US" sz="3200" spc="-1" strike="noStrike">
              <a:solidFill>
                <a:srgbClr val="000000"/>
              </a:solidFill>
              <a:latin typeface="Gill Sans MT"/>
            </a:endParaRPr>
          </a:p>
          <a:p>
            <a:pPr marL="365040" indent="-28260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تفكير </a:t>
            </a:r>
            <a:endParaRPr b="0" lang="en-US" sz="3200" spc="-1" strike="noStrike">
              <a:solidFill>
                <a:srgbClr val="000000"/>
              </a:solidFill>
              <a:latin typeface="Gill Sans MT"/>
            </a:endParaRPr>
          </a:p>
          <a:p>
            <a:pPr marL="365040" indent="-28260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تخيل</a:t>
            </a:r>
            <a:endParaRPr b="0" lang="en-US" sz="3200" spc="-1" strike="noStrike">
              <a:solidFill>
                <a:srgbClr val="000000"/>
              </a:solidFill>
              <a:latin typeface="Gill Sans MT"/>
            </a:endParaRPr>
          </a:p>
          <a:p>
            <a:pPr marL="365040" indent="-28260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طفل يتعرض لمؤثرات الثقافة من بصرية، سمعية، ذوقية، شمية او لمسية</a:t>
            </a: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لكل طفل له عالمة الادراكي الخاص به و المتعرض للمؤثرات السابقة بنسب مختلف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79280" y="267840"/>
            <a:ext cx="8964720" cy="1398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13f2a"/>
                </a:solidFill>
                <a:latin typeface="Gill Sans MT"/>
                <a:cs typeface="Majalla UI"/>
              </a:rPr>
              <a:t>هل للثقافة دور في تشكيل مدركاتنا؟ </a:t>
            </a:r>
            <a:endParaRPr b="0" lang="en-US" sz="4300" spc="-1" strike="noStrike">
              <a:solidFill>
                <a:srgbClr val="413f2a"/>
              </a:solidFill>
              <a:latin typeface="Gill Sans MT"/>
            </a:endParaRPr>
          </a:p>
        </p:txBody>
      </p:sp>
      <p:sp>
        <p:nvSpPr>
          <p:cNvPr id="322" name=""/>
          <p:cNvSpPr txBox="1"/>
          <p:nvPr/>
        </p:nvSpPr>
        <p:spPr>
          <a:xfrm>
            <a:off x="1187280" y="2088720"/>
            <a:ext cx="749808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فهم الذي يتميز في مدركاتنا و تنظيمها او الاختيار من بينها نتيجة الادراك و هو المدخل لتثقيف الطفل،</a:t>
            </a:r>
            <a:endParaRPr b="0" lang="en-US" sz="3200" spc="-1" strike="noStrike">
              <a:solidFill>
                <a:srgbClr val="000000"/>
              </a:solidFill>
              <a:latin typeface="Gill Sans MT"/>
            </a:endParaRPr>
          </a:p>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طفل يحس ثم يدرك ثم يفهم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1115640" y="1052280"/>
            <a:ext cx="7497720" cy="4800600"/>
          </a:xfrm>
          <a:prstGeom prst="rect">
            <a:avLst/>
          </a:prstGeom>
          <a:noFill/>
          <a:ln w="0">
            <a:noFill/>
          </a:ln>
        </p:spPr>
        <p:txBody>
          <a:bodyPr anchor="t">
            <a:normAutofit fontScale="93000"/>
          </a:bodyPr>
          <a:p>
            <a:pPr marL="339480" indent="-2628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لإحساس الواحد لدى الأطفال المختلفين يرجع إلى إدراكات متباينة, لأن لكل طفل عالمه الإدراكي الخاص به, وتتباين أيضا مدركات الطفل الواحد من موقف إلى آخر, لأن الإدراك نشاط نفسي له علاقة بالشخص وحالته النفسية وثقافته, وله علاقة بموضوع الإدراك نفسه.</a:t>
            </a:r>
            <a:endParaRPr b="0" lang="en-US" sz="3200" spc="-1" strike="noStrike">
              <a:solidFill>
                <a:srgbClr val="000000"/>
              </a:solidFill>
              <a:latin typeface="Gill Sans MT"/>
            </a:endParaRPr>
          </a:p>
          <a:p>
            <a:pPr marL="339480" indent="-2628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9480" indent="-2628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aea25"/>
                </a:solidFill>
                <a:latin typeface="Gill Sans MT"/>
                <a:cs typeface="Majalla UI"/>
              </a:rPr>
              <a:t>وهذا يعني أن للثقافة دور في تشكيل مدركاتنا</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أي فكرة أو موقف أو حدث لا يعني نفس المعنى بالنسبة إلى الأطفال المختلفين, ومع هذا فإن مدركات الأطفال تتقارب إلى حد كبير في البيئة الثقافية الواحدة, وهي تتقارب أكثر في مرحلة النمو الواحدة لدى الأطفال في الثقافة الفرعية الواحد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طفل العاجز عن الإدراك هو كائن بيولوجي لا ثقافي, ووجود فكرة أو موقف أو حدث في عالم الطفل الخارجي لا يعني له شيئا مالم يحس به ويدركه, ومن ثم يفهمه, بل إن الفهم يتطلب توفر خبرات سبق للطفل الإحساس بها. (قصة الطفل الذي ولد أعمى)</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13f2a"/>
                </a:solidFill>
                <a:latin typeface="Gill Sans MT"/>
                <a:cs typeface="Majalla UI"/>
              </a:rPr>
              <a:t>خصائص الأدراك</a:t>
            </a:r>
            <a:endParaRPr b="0" lang="en-US" sz="4300" spc="-1" strike="noStrike">
              <a:solidFill>
                <a:srgbClr val="413f2a"/>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نتقاء</a:t>
            </a:r>
            <a:endParaRPr b="0" lang="en-US" sz="2400" spc="-1" strike="noStrike">
              <a:solidFill>
                <a:srgbClr val="000000"/>
              </a:solidFill>
              <a:latin typeface="Gill Sans MT"/>
            </a:endParaRPr>
          </a:p>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أ</a:t>
            </a:r>
            <a:endParaRPr b="0" lang="en-US" sz="2400" spc="-1" strike="noStrike">
              <a:solidFill>
                <a:srgbClr val="000000"/>
              </a:solidFill>
              <a:latin typeface="Gill Sans MT"/>
            </a:endParaRPr>
          </a:p>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ذاتية </a:t>
            </a:r>
            <a:endParaRPr b="0" lang="en-US" sz="2400" spc="-1" strike="noStrike">
              <a:solidFill>
                <a:srgbClr val="000000"/>
              </a:solidFill>
              <a:latin typeface="Gill Sans MT"/>
            </a:endParaRPr>
          </a:p>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حذف </a:t>
            </a:r>
            <a:endParaRPr b="0" lang="en-US" sz="2400" spc="-1" strike="noStrike">
              <a:solidFill>
                <a:srgbClr val="000000"/>
              </a:solidFill>
              <a:latin typeface="Gill Sans MT"/>
            </a:endParaRPr>
          </a:p>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ضافة </a:t>
            </a:r>
            <a:endParaRPr b="0" lang="en-US" sz="2400" spc="-1" strike="noStrike">
              <a:solidFill>
                <a:srgbClr val="000000"/>
              </a:solidFill>
              <a:latin typeface="Gill Sans MT"/>
            </a:endParaRPr>
          </a:p>
          <a:p>
            <a:pPr marL="539640" indent="-457200" algn="r" rtl="1">
              <a:lnSpc>
                <a:spcPct val="90000"/>
              </a:lnSpc>
              <a:spcBef>
                <a:spcPts val="601"/>
              </a:spcBef>
              <a:buClr>
                <a:srgbClr val="94c6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رتيب</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13f2a"/>
                </a:solidFill>
                <a:latin typeface="Gill Sans MT"/>
                <a:cs typeface="Majalla UI"/>
              </a:rPr>
              <a:t>خصائص الأدراك</a:t>
            </a:r>
            <a:endParaRPr b="0" lang="en-US" sz="4300" spc="-1" strike="noStrike">
              <a:solidFill>
                <a:srgbClr val="413f2a"/>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fontScale="91000"/>
          </a:bodyPr>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نتقاء ( اختيار الاطفال بعض الاحاسيس والتركيز عليها اكثر من الاخر, حيث أن هناك الكثير من المثيرات التي تعجز الحواس عن الإحساس بها)</a:t>
            </a:r>
            <a:endParaRPr b="0" lang="en-US" sz="2400" spc="-1" strike="noStrike">
              <a:solidFill>
                <a:srgbClr val="000000"/>
              </a:solidFill>
              <a:latin typeface="Gill Sans MT"/>
            </a:endParaRPr>
          </a:p>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خطأ (مما يقود إلى تكوين مدركات بعيدة عن الواقع)</a:t>
            </a:r>
            <a:endParaRPr b="0" lang="en-US" sz="2400" spc="-1" strike="noStrike">
              <a:solidFill>
                <a:srgbClr val="000000"/>
              </a:solidFill>
              <a:latin typeface="Gill Sans MT"/>
            </a:endParaRPr>
          </a:p>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ذاتية (العوامل الذاتية تتغير مع تغير الظروف النفسية للطفل بما في ذلك حاجاته ودوافعه والظروف الأخرى في بيئته الثقافية)</a:t>
            </a:r>
            <a:endParaRPr b="0" lang="en-US" sz="2400" spc="-1" strike="noStrike">
              <a:solidFill>
                <a:srgbClr val="000000"/>
              </a:solidFill>
              <a:latin typeface="Gill Sans MT"/>
            </a:endParaRPr>
          </a:p>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حذف (التركيز في بعض التفاصيل و اهمال البعض الاخر)</a:t>
            </a:r>
            <a:endParaRPr b="0" lang="en-US" sz="2400" spc="-1" strike="noStrike">
              <a:solidFill>
                <a:srgbClr val="000000"/>
              </a:solidFill>
              <a:latin typeface="Gill Sans MT"/>
            </a:endParaRPr>
          </a:p>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اضافة (أضافة تفاصيل الى الاصل غير موجودة فيه)</a:t>
            </a:r>
            <a:endParaRPr b="0" lang="en-US" sz="2400" spc="-1" strike="noStrike">
              <a:solidFill>
                <a:srgbClr val="000000"/>
              </a:solidFill>
              <a:latin typeface="Gill Sans MT"/>
            </a:endParaRPr>
          </a:p>
          <a:p>
            <a:pPr marL="331920" indent="-257040" algn="r" rtl="1">
              <a:lnSpc>
                <a:spcPct val="90000"/>
              </a:lnSpc>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الترتيب (يتمثل في تكوين الطفل لكيان من المدركات من خلال الربط بسبب تشابهها أو تقاربه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434960" y="1447560"/>
            <a:ext cx="7499520" cy="4800600"/>
          </a:xfrm>
          <a:prstGeom prst="rect">
            <a:avLst/>
          </a:prstGeom>
          <a:noFill/>
          <a:ln w="0">
            <a:noFill/>
          </a:ln>
        </p:spPr>
        <p:txBody>
          <a:bodyPr anchor="t">
            <a:norm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جربة الأطفال وتقدير حجم العمل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8T15:17:23Z</dcterms:created>
  <dc:creator>aggeel</dc:creator>
  <dc:description/>
  <dc:language>en-US</dc:language>
  <cp:lastModifiedBy>SSC1</cp:lastModifiedBy>
  <dcterms:modified xsi:type="dcterms:W3CDTF">2015-03-03T18:45:48Z</dcterms:modified>
  <cp:revision>13</cp:revision>
  <dc:subject/>
  <dc:title>Slide 1</dc:title>
</cp:coreProperties>
</file>