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3B0-3A74-48FB-9967-CEA4310C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F30-289A-4EA3-846B-300D64F6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B38-A114-43FF-8FA9-13299961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241-40E5-45DF-9761-BEA35BF3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89C-2EA6-4867-AB53-16ACA607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C35-8184-4D03-9D51-24DC8E06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14F-94DB-449A-AA3F-21443502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5709-2737-4496-973C-389011FC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41B-1803-4E10-8ADD-6414F80D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DF1-4104-4432-9DEF-DA22D50F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5BD-12D6-4C58-A7E4-C006D04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9B7-756F-45A8-ACC3-42E76AC4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5DC3-4516-4747-81AE-979E8C6D99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FwhqmyqFrU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sCADJFWA9"/>
          <p:cNvPicPr/>
          <p:nvPr/>
        </p:nvPicPr>
        <p:blipFill>
          <a:blip r:embed="rId1"/>
          <a:stretch/>
        </p:blipFill>
        <p:spPr>
          <a:xfrm>
            <a:off x="250920" y="404640"/>
            <a:ext cx="8499240" cy="612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دور الثقافة في خيال الأطفا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نواع التخ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خيل الأبد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ستحضر الفرد صور خيالية لم يسبق تكوي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 rtl="1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خيل التقليد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طفل يستحضر صور خيالية انشئها الاخرون مثل: قراءة قص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 rtl="1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imagesCALMNZYP"/>
          <p:cNvPicPr/>
          <p:nvPr/>
        </p:nvPicPr>
        <p:blipFill>
          <a:blip r:embed="rId1"/>
          <a:stretch/>
        </p:blipFill>
        <p:spPr>
          <a:xfrm>
            <a:off x="179280" y="1341360"/>
            <a:ext cx="24861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مربع نص 4"/>
          <p:cNvSpPr/>
          <p:nvPr/>
        </p:nvSpPr>
        <p:spPr>
          <a:xfrm>
            <a:off x="2340000" y="1700280"/>
            <a:ext cx="568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صورة البصرية تشغل حيزا واضحا في نشاط الطفل الخيالي, خلال فترة الطفولة المبكرة والمتوسطة, ثم يأخذ الاتجاه نحو الخيال المجرد, الذي يقوم على الرموز وتكوين الأ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Users\SSC1\Desktop\4.jpg"/>
          <p:cNvPicPr/>
          <p:nvPr/>
        </p:nvPicPr>
        <p:blipFill>
          <a:blip r:embed="rId1"/>
          <a:stretch/>
        </p:blipFill>
        <p:spPr>
          <a:xfrm>
            <a:off x="874800" y="46530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تصنيف مراحل الطفولة مستندة الى الخي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رحلة الواقعية والخيال المحدود بالبيئ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سنوا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خيالهم حاد ولكن يكون محدود باطار البيئة (يتصور العصا حصا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ؤدي خيال الطفل في هذه المرحلة وظيفة مهمة في نموه لأنه يشكل له طريقة لتنظيم الكثير من نشاطاته, وأساسا لممارسة مهاراته الحركية, وتنشيط فعالياته الأخر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طفال هذه المرحلة ميالون إلى القصص الواقعية الممزوجة بشيء من الخيال لأن تخيلاتهم محدودة بالبيئ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Users\SSC1\Desktop\1.png"/>
          <p:cNvPicPr/>
          <p:nvPr/>
        </p:nvPicPr>
        <p:blipFill>
          <a:blip r:embed="rId1"/>
          <a:stretch/>
        </p:blipFill>
        <p:spPr>
          <a:xfrm>
            <a:off x="468360" y="47242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تصنيف مراحل الطفولة مستندة الى الخي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رحلة الخيال المنطلق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 سنوا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خيالهم مطلق فهو تجاوز النوع الإيهامي الى النوع الإبداع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تميز الأطفال في هذه المرحلة بسرعة نمو تخيله, وبشدة تطلعه إلى الآفاق البعيد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ذا يتبلور ولعه بالقصص الخيالية التي تخرج في مضامينها عن محيطه وعالمه: مثل قصص الجا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يتشبه الأطفال في هذه المرحلة بالمغامرين الأبطال, لذا ينجذبون الى قصص المغامرات الخيا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Users\SSC1\Desktop\3.png"/>
          <p:cNvPicPr/>
          <p:nvPr/>
        </p:nvPicPr>
        <p:blipFill>
          <a:blip r:embed="rId1"/>
          <a:stretch/>
        </p:blipFill>
        <p:spPr>
          <a:xfrm>
            <a:off x="324000" y="4797360"/>
            <a:ext cx="24667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تصنيف مراحل الطفولة مستندة الى الخي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رحلة البطول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سن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نتقل الطفل من مرحلة الواقعية والخيال المنطلق الى مرحلة أقرب الى الواق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بتعد عن التخيل الجامح بعض الابتع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هتم بالحقائ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شتد ميله الى الألعاب التي تتطلب مهارة ومنافس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ظهر على الطفل انماط سلوكية فيها تحد للأسرة ولبعض تقاليد المجتم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ستهوي الطفل قصص الشجاعة والمخاط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SSC1\Desktop\2.png"/>
          <p:cNvPicPr/>
          <p:nvPr/>
        </p:nvPicPr>
        <p:blipFill>
          <a:blip r:embed="rId1"/>
          <a:stretch/>
        </p:blipFill>
        <p:spPr>
          <a:xfrm>
            <a:off x="250920" y="4869000"/>
            <a:ext cx="24573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تصنيف مراحل الطفولة مستندة الى الخي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رحلة المثالي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سن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تصف بالاستقرار العاطفي النسب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يل الى قصص التي تمتزج فيها المغامرة بالعاطفة, وتقل فيها الواقعية, وتزيد فيها المثا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تشوقون الى القصص البوليس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جذبهم الموضوعات التي تتناول العلاقات الجنس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يلون الى اختلاق أقاصيص من الخيال وهذا ما يسمى بأحلام اليقظ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تتميز هذه المرحلة بسعة خيال الطف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Users\SSC1\Desktop\5.jpg"/>
          <p:cNvPicPr/>
          <p:nvPr/>
        </p:nvPicPr>
        <p:blipFill>
          <a:blip r:embed="rId1"/>
          <a:stretch/>
        </p:blipFill>
        <p:spPr>
          <a:xfrm>
            <a:off x="0" y="4721400"/>
            <a:ext cx="2484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” ان اول قدرة يجب أن نهتم بها، قبل أن تصدأ بسبب عدم الأستعمال، هي الخيال.... فالخيال هو الذي يجعل العالم يبدو لنا كل يوم جديدا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   كريستوفر فرا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خيال وقانون الجذ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XFwhqmyqFrU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مسميات أخرى للتخ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يه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حل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فكير الهام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إث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magesCALMNZYP"/>
          <p:cNvPicPr/>
          <p:nvPr/>
        </p:nvPicPr>
        <p:blipFill>
          <a:blip r:embed="rId1"/>
          <a:stretch/>
        </p:blipFill>
        <p:spPr>
          <a:xfrm>
            <a:off x="324000" y="1413000"/>
            <a:ext cx="4608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ملامح التخيل و الخي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طواف بالذه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سم صور رمز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وين و تأليف صور جديدة مغايرة للأص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ا تعبر عن ظاهرة ح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ا تعبر عن صور تذك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لتخيل دور في تبلور الأ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وهبة لا يختص بها الا أفراد معدودون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agesCAFKGUS7"/>
          <p:cNvPicPr/>
          <p:nvPr/>
        </p:nvPicPr>
        <p:blipFill>
          <a:blip r:embed="rId1"/>
          <a:stretch/>
        </p:blipFill>
        <p:spPr>
          <a:xfrm>
            <a:off x="250920" y="1557360"/>
            <a:ext cx="2582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ما هو التخ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خيل هو استحضار صور لم يسبق إدراكها من قبل إدراكا حس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و تأليف صور ذهنية تحاكي ظواهر عديدة مختل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imagesCAU1RMTV"/>
          <p:cNvPicPr/>
          <p:nvPr/>
        </p:nvPicPr>
        <p:blipFill>
          <a:blip r:embed="rId1"/>
          <a:stretch/>
        </p:blipFill>
        <p:spPr>
          <a:xfrm>
            <a:off x="539640" y="1125360"/>
            <a:ext cx="2390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التخ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59280" y="14130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بارة عن تأليف صور جدي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رتبط التخيل بالإحساس و الإدراك و التذك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فرد أثناء تخيله ينتقي و يحور الى ان يصل الى الصور الجدي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قوم التخيل بدور هام في عملية التفك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ولا قدرة التخيل لما استطاع الانسان ان يستوعب وقائع التاريخ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خيل يساعد في ظهور الاكتشافات والانتاجات الأدبية و الفن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عملية التخيل دور كبير في تبلور الأفكا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s-1"/>
          <p:cNvPicPr/>
          <p:nvPr/>
        </p:nvPicPr>
        <p:blipFill>
          <a:blip r:embed="rId1"/>
          <a:stretch/>
        </p:blipFill>
        <p:spPr>
          <a:xfrm>
            <a:off x="595440" y="1916280"/>
            <a:ext cx="2147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التخ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59280" y="14130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مثل التخيل صفة إنسانية مكنت الإنسان من إنجاز الابداعات المختل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خلال تخيل الإنسان لأمور أفضل وسعيه إلى إنجازها, يستطيع أن يواصل نموه باستمرا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ages-1"/>
          <p:cNvPicPr/>
          <p:nvPr/>
        </p:nvPicPr>
        <p:blipFill>
          <a:blip r:embed="rId1"/>
          <a:stretch/>
        </p:blipFill>
        <p:spPr>
          <a:xfrm>
            <a:off x="595440" y="1916280"/>
            <a:ext cx="2147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99"/>
                </a:solidFill>
                <a:latin typeface="Arial"/>
              </a:rPr>
              <a:t>هناك ربط بين الخبرات الخيالية وبعض العواطف ذات التأثير الضار على حياة الطفل؟</a:t>
            </a:r>
            <a:br>
              <a:rPr sz="4000"/>
            </a:br>
            <a:r>
              <a:rPr b="0" lang="ar-SA" sz="4000" spc="-1" strike="noStrike">
                <a:solidFill>
                  <a:srgbClr val="333399"/>
                </a:solidFill>
                <a:latin typeface="Arial"/>
              </a:rPr>
              <a:t>ناقشي العبارة مع صديقت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agesCAEKG4TT"/>
          <p:cNvPicPr/>
          <p:nvPr/>
        </p:nvPicPr>
        <p:blipFill>
          <a:blip r:embed="rId1"/>
          <a:stretch/>
        </p:blipFill>
        <p:spPr>
          <a:xfrm>
            <a:off x="684360" y="2492280"/>
            <a:ext cx="7920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7:09:10Z</dcterms:created>
  <dc:creator>aggeel</dc:creator>
  <dc:description/>
  <dc:language>en-US</dc:language>
  <cp:lastModifiedBy>Lama Aljathlan</cp:lastModifiedBy>
  <dcterms:modified xsi:type="dcterms:W3CDTF">2017-04-10T07:38:25Z</dcterms:modified>
  <cp:revision>15</cp:revision>
  <dc:subject/>
  <dc:title>Slide 1</dc:title>
</cp:coreProperties>
</file>