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C7E-7CE8-4A93-A039-27722E78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4E6-7E64-4EC9-BC2D-7F6C1099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DD2-3444-4390-856F-70BB4F68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7B6-DF55-4D32-9CAC-710B19B8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4A00-B4F2-494E-86AF-5F0981CA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6218-A458-4206-8422-1E6F9BAF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6D17-70ED-40F1-8659-B77C0B41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1A0B-0530-4753-B086-55F296FC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EFA7-6575-4CDA-A502-2356B2A2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329D-7C57-4B7C-867C-B139BEF0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9C59-5D11-4F7F-A931-ABED19C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89C-6928-4452-936B-12655F59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646D-8E3E-4549-8FFC-2001600B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8B39-5C10-4308-A7C8-DC5E094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78F0-99E7-4E98-B988-53E2C41A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0F76-D592-48B7-9BA7-23DF8ABB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410F-895E-4F92-8373-BB1A7EE8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BDB79-A85B-4BE3-B07D-AC9AB882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513A3-255C-469A-BE22-70B862AE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29F2C-4137-49A5-938C-70F65709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2DE85-B893-4530-95A9-7D67E51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490DB-1964-4506-A03F-CB9F48D9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287-1631-4096-B0D1-85E20BC4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03DAB-43A5-466A-9212-5E6BF650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A6CF6-6EE2-4B6A-A6A3-B4A2F492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FEB31-E80F-4EEF-8C7E-37BEF83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AE503-8913-45B4-BD3D-999989A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0E169-94FB-4181-92C7-B4B1098B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4D2E2-135D-41AD-8682-2EA967D2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6F4FD-6933-4A14-A74F-9304C6DB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1A04-E95C-45C7-B392-BCE17E70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E93E-AB4A-4DA9-9BE8-D179347B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C3B1-CBC2-49D3-AD73-2BA7333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B49-9143-4E36-98C1-3955C30A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1A3BB-4400-43AC-B336-FA7AAA32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C952-BC66-43AE-88A8-B4ED189E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2960-8B5B-430C-8DE5-CCC31E01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C38C-9937-42B5-A8C6-15BC828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43E6D-F480-4441-8C9B-7F0D6C48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737CB-259F-413F-A348-4F92E02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FAD4-2F77-4B1C-BD76-2BAC7320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99CDB-82F3-4E1E-A838-5F849074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5C96A-E120-40B8-BE8E-67447CAE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F4FD7-0F05-454A-9D2C-2903BBD5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102-A120-4CEB-B94F-0E1EA9F8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7633A-360D-4A10-AAD7-4FA97ABC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E9985-E821-4287-975E-B44A0709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540A8-B032-4C58-AF0C-D1CAAB09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6D6E4-BA40-469A-99FD-C84B85CD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9AF5B-B501-4FD2-8F27-72FA7E32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203C0-8BF9-488B-A59D-FE45996D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E095B-7EB7-4981-A559-EA07FFCF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C87A2-90C0-4B34-996E-6E6DF89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F8F06-834F-4CF9-91A5-F29E146A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8C458-8478-41DD-AE37-70FC764A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8F7-7154-498F-BD17-22A3F8A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9ED8F-2F2A-420E-B0F8-C32FB8B5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CA32B-F575-4BA7-9363-0402468D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ABFF4-3221-4619-920B-94F35C79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51F5C-C9DD-4E1E-A351-CFF60436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64372-E13C-430D-85D7-4D470712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68438-D187-446A-8510-FFA6DE5F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091A5-DA90-42A0-BF53-D4B96DFD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5CD8F-745D-4EA9-8CDB-C8716F0E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C1F21-A8C7-4211-94E1-9E1D9CF8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F1CC8-094B-47BA-98F9-65522355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FE7-5534-4912-BB01-DA6EB6FD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69C8A-C238-4038-9466-E8E39447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5FE85-76BD-40A2-B234-10317FEB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5FED9-8833-490A-9486-B33C13BE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537F0-E371-4B66-A64A-D0C297A6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DCD99-836B-4BED-BF57-B2760BAA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58835-C5FF-4E87-AEAD-71C3E25B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8C944-82E6-4AB5-9400-C1AF049C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EF089-7363-4D49-BD9F-5303B5EA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B93A9-5289-4501-AD35-A74068B4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2D927-6B86-40CC-A4E7-B1BF4982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4F5-431F-4C92-8AD1-882648F7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673E4-EC98-4806-8EB9-E56C3900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F1335-513B-4759-9AD6-1649933F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32DD1-7CE8-4C8A-BF24-FABE94A6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B7EBA-945F-48B7-A5D1-0338A16B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FDE84-C6BE-4665-B80E-B1109B49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FC5-483D-4078-8537-C502E9BC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5310-5C7F-40E7-90FA-E26ED22552F5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B8A3-6622-407E-9BF0-03B3CD466CA4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1A88-39B3-4E07-967F-ED3BB30ACB66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FBF4-BC7A-460D-8227-6738E9A22439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098D-A08E-401F-BDAB-ED6EDDA734E8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رابط مستقيم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رابط مستقيم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رابط مستقيم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E850-B72F-42F4-A3DD-D0ED1FF9BD4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رابط مستقيم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244-7420-4EC0-8400-F06B5078155B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61196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b13f9a"/>
                </a:solidFill>
                <a:latin typeface="Century Schoolbook"/>
                <a:cs typeface="Times New Roman"/>
              </a:rPr>
              <a:t>التجسيد الفني لمضمون ثقافة الأطفال</a:t>
            </a:r>
            <a:endParaRPr b="0" lang="en-US" sz="4000" spc="-1" strike="noStrike">
              <a:solidFill>
                <a:srgbClr val="b13f9a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13f9a"/>
                </a:solidFill>
                <a:latin typeface="Century Schoolbook"/>
                <a:cs typeface="Times New Roman"/>
              </a:rPr>
              <a:t>عناصر التجسيد الفني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00000" y="15685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852f74"/>
                </a:solidFill>
                <a:uFillTx/>
                <a:latin typeface="Century Schoolbook"/>
                <a:cs typeface="Times New Roman"/>
              </a:rPr>
              <a:t>الألوان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لألوان تأثيرها في جذب الانتباه أو التوجيه أو الإثار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كد بعض العلماء أهمية الألوان في النف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488c5"/>
                </a:solidFill>
                <a:latin typeface="Century Schoolbook"/>
                <a:cs typeface="Times New Roman"/>
              </a:rPr>
              <a:t>ما هو لونك المفضل؟ وما مدى تأثيره على نفسيتك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C:\Users\SSC1\Desktop\1.jpg"/>
          <p:cNvPicPr/>
          <p:nvPr/>
        </p:nvPicPr>
        <p:blipFill>
          <a:blip r:embed="rId1"/>
          <a:stretch/>
        </p:blipFill>
        <p:spPr>
          <a:xfrm>
            <a:off x="39528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13f9a"/>
                </a:solidFill>
                <a:latin typeface="Century Schoolbook"/>
                <a:cs typeface="Times New Roman"/>
              </a:rPr>
              <a:t>عناصر التجسيد الفني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852f74"/>
                </a:solidFill>
                <a:uFillTx/>
                <a:latin typeface="Century Schoolbook"/>
                <a:cs typeface="Times New Roman"/>
              </a:rPr>
              <a:t>الصور والرسوم المتحركة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د الصور والرسوم أوعية تعبير ذات أهمية كبيرة بالنسبة للطفل, فهم يعبرون عن أنفسهم بالرسوم منذ عمر مبك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شير الدراسات إلى أن الرسم أو الصورة أكثر إقناعا من الكلم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حركات عنصر آخر من عناصر الجاذبية والتشوي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ميز الرسوم المتحركة إدخال الحياة في الصور والرسوم الجامدة وتشكيل عالم خيالي مثي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لائم رغبات الأطفا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ناسب طبيعة عملياتهم العقلية والانفعالي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ضافة الى انها قريبة من حيث بناؤها الفني والنفسي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عتمادها على الخيال والإثار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b13f9a"/>
                </a:solidFill>
                <a:latin typeface="Century Schoolbook"/>
                <a:cs typeface="Times New Roman"/>
              </a:rPr>
              <a:t>التجسيد الفني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حويل المعاني و الحالات الى صور و هيئات بحيث تبدو جميلة و مثير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مكن تحقيق جانب من التجسيد الفني عن طريق اللغة لوحدها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أعمال الأدبية تجسد فنيا من خلال اللغة مثل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 القص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 الشع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 المقال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34b73"/>
                </a:solidFill>
                <a:latin typeface="Century Schoolbook"/>
                <a:cs typeface="Times New Roman"/>
              </a:rPr>
              <a:t>ولكن هل يكفي الاستعانة باللغة وحدها لإعطاء المضمون صفة الجاذبية و الوضوح والقوة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7" descr="images-2"/>
          <p:cNvPicPr/>
          <p:nvPr/>
        </p:nvPicPr>
        <p:blipFill>
          <a:blip r:embed="rId1"/>
          <a:stretch/>
        </p:blipFill>
        <p:spPr>
          <a:xfrm>
            <a:off x="395280" y="1700280"/>
            <a:ext cx="1441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34b73"/>
                </a:solidFill>
                <a:latin typeface="Century Schoolbook"/>
                <a:cs typeface="Times New Roman"/>
              </a:rPr>
              <a:t>نشاط (ارسمي)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ظهره أحدب، أطرافه قصيرة تنتهي بمخالب قوية، أذناه طويلتان، و ذيله متين عند القاعدة رفيع عند الطرف، اما رأسه فهو مستطيل. ينتهي رأسه بقرص يبدو فيه منخاران، أما فمه فقصير و لكنه مفلطح و بداخله لسان طويل يستطيع أن يمده لمسافة غير قصيرة. يبلغ طول الحيوان نحو المترين، ولونه رملي أو أصفر و يكسو جلده شعر رقي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C:\Users\laljathlan\Desktop\1.jpg"/>
          <p:cNvPicPr/>
          <p:nvPr/>
        </p:nvPicPr>
        <p:blipFill>
          <a:blip r:embed="rId1"/>
          <a:stretch/>
        </p:blipFill>
        <p:spPr>
          <a:xfrm>
            <a:off x="5219640" y="2421000"/>
            <a:ext cx="2567160" cy="3019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C:\Users\laljathlan\Desktop\2.png"/>
          <p:cNvPicPr/>
          <p:nvPr/>
        </p:nvPicPr>
        <p:blipFill>
          <a:blip r:embed="rId2"/>
          <a:stretch/>
        </p:blipFill>
        <p:spPr>
          <a:xfrm>
            <a:off x="900000" y="2639880"/>
            <a:ext cx="3467160" cy="2167200"/>
          </a:xfrm>
          <a:prstGeom prst="rect">
            <a:avLst/>
          </a:prstGeom>
          <a:ln w="0">
            <a:noFill/>
          </a:ln>
        </p:spPr>
      </p:pic>
      <p:sp>
        <p:nvSpPr>
          <p:cNvPr id="358" name="مربع نص 3"/>
          <p:cNvSpPr/>
          <p:nvPr/>
        </p:nvSpPr>
        <p:spPr>
          <a:xfrm>
            <a:off x="2633760" y="692280"/>
            <a:ext cx="38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آكل الن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وصف اللفظي غير دقي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عالم الإدراكي للشخص مقيد بجمل معينة محدود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ن غير المستطاع للإنسان ان يدرك ما لم يمر به من خبر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ذا فإن كلمة او جملة لا تعني مفهوم متطابقا لدى جميع النا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ذا فإن التجسيد الفني يتيح جانب آخر للعمليات العقلية المعرفية، تذكر+ خبرة سابقة + خيال = صور جديدة مركبة في ادراك الأطفا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Users\SSC1\Desktop\3.jpg"/>
          <p:cNvPicPr/>
          <p:nvPr/>
        </p:nvPicPr>
        <p:blipFill>
          <a:blip r:embed="rId1"/>
          <a:stretch/>
        </p:blipFill>
        <p:spPr>
          <a:xfrm>
            <a:off x="395280" y="4076640"/>
            <a:ext cx="200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جسيد الفني يهيء الأطفال ان يروا أو يسمعوا المعنويات دون الاستعانة بالعيون و الأذان حيث تبدو لهم و كانها محسوسة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جسيد يعطي مدلولات خاصة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و تفنن في تكوين الانتاج المسموع او المقروء و المواءمة بينهما مع طبيعة الأتصا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C:\Users\SSC1\Desktop\4.jpg"/>
          <p:cNvPicPr/>
          <p:nvPr/>
        </p:nvPicPr>
        <p:blipFill>
          <a:blip r:embed="rId1"/>
          <a:stretch/>
        </p:blipFill>
        <p:spPr>
          <a:xfrm>
            <a:off x="468360" y="450864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ذا كانت اللغة اللفظية وعاء للفكر فإن اللغة غير اللفظية تعد وعاء آخر له, حيث أتيح للإنسان بفضلها أن يفكر من خلال الأشكال والإشارات والأصوات والألوان والحرك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Users\SSC1\Desktop\2.jpg"/>
          <p:cNvPicPr/>
          <p:nvPr/>
        </p:nvPicPr>
        <p:blipFill>
          <a:blip r:embed="rId1"/>
          <a:stretch/>
        </p:blipFill>
        <p:spPr>
          <a:xfrm>
            <a:off x="743040" y="4221000"/>
            <a:ext cx="25527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52f74"/>
                </a:solidFill>
                <a:latin typeface="Century Schoolbook"/>
                <a:cs typeface="Times New Roman"/>
              </a:rPr>
              <a:t>فوائد عناصر التجسي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دوات للإيضاح وإبراز المعاني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شكل حوافز لإثارة انتباه الطفل, وإثارة اهتمام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خلق الاستمرارية لديه في استقبال المضمون من خلال ما تضفيه من عناصر تشويق وجاذبي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C:\Users\SSC1\Desktop\44.jpg"/>
          <p:cNvPicPr/>
          <p:nvPr/>
        </p:nvPicPr>
        <p:blipFill>
          <a:blip r:embed="rId1"/>
          <a:stretch/>
        </p:blipFill>
        <p:spPr>
          <a:xfrm>
            <a:off x="871560" y="4221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13f9a"/>
                </a:solidFill>
                <a:latin typeface="Century Schoolbook"/>
                <a:cs typeface="Times New Roman"/>
              </a:rPr>
              <a:t>عناصر التجسيد الفني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852f74"/>
                </a:solidFill>
                <a:uFillTx/>
                <a:latin typeface="Century Schoolbook"/>
                <a:cs typeface="Times New Roman"/>
              </a:rPr>
              <a:t>الصو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لكلمة الواحدة أحيانا معان متعددة لكن السياق اللفظي الذي ترد فيه يحدد للسامع أو القارئ نوع الدلال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لكلمة في حد ذاتها قوة, وقد تفقد هذه القوة في بعض الحالات إلا أنها بفضل الوقع الصوتي يكون لها تأثير عاطفي للمعنى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غرم الأطفال بكثير من الأصوات التي يحملها الاتصا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توسل بعض وسائل الاتصال بالصوت الانساني وبمؤثرات صوتيه كالموسيقى والغناء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ستقبل حاسة السمع الصوت فيثير الصوت ذهنة من خلال قيام العقل بواحدة أو أكثر من العمليات المعرفي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تبر الموسيقى مثير لانفعالات الأطفا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4:50:49Z</dcterms:created>
  <dc:creator>aggeel</dc:creator>
  <dc:description/>
  <dc:language>en-US</dc:language>
  <cp:lastModifiedBy>Lama Aljathlan</cp:lastModifiedBy>
  <dcterms:modified xsi:type="dcterms:W3CDTF">2017-04-17T08:06:10Z</dcterms:modified>
  <cp:revision>14</cp:revision>
  <dc:subject/>
  <dc:title>الادب الفني  و ثقافة الأطفال</dc:title>
</cp:coreProperties>
</file>