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CF8-F3A5-4694-9D44-B4E7AE27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C92-6EB4-483E-BD8A-275EDFB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DCA-B505-47D5-9A23-2CC5ADFD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BA0-61D0-461A-A6F2-F06145FD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64D7-7B00-4409-8D5F-D6528871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3EB-445D-48B5-A6C0-195D208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EDB-AF18-43EC-A419-59A84CE9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0AB8-7663-4CD9-8322-6C78D4F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9ABF-9C08-4001-8F49-273306AF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3CFD-F733-416B-B69A-1010908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F206-A881-478C-B4FB-2FF202B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EB0-2E0D-4BED-9F47-E0C00961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9E6E-72C2-4138-9672-2E2C9BF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951-F359-41AE-B46B-F2D17C0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64FE-2B69-42AE-BB30-AE7BCCF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3194-E72C-4083-8D89-A35D49E3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626E-0C65-4D93-9232-D1B47FCE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30ABD-A0BE-43D9-BCBE-DB708F5F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E7017-46A0-4BD5-BF16-A585E002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11FE1-687C-44F5-89F4-D43D785D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9EE9F-3679-49D5-8880-CFB7D9F4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C8743-5D7D-49C9-8121-FB9C7F65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EEF-5D1F-40E8-A85E-FE3FD00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5207B-2F45-4CA8-BEE9-85C8F70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1146F-3A64-496B-9B5E-CBD7862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3F4DC-B0FB-417C-A40D-3D7AA9B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DB86E-B049-4925-A807-931DDAB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ED500-E2F8-47BF-BE60-660496C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6AA57-97EF-4DCD-AA5A-A96294D8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197FE-1FA6-4564-AFAE-AA366732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64B8-5C50-4AC3-BA6F-82862E61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DA13-30BB-4BAD-BCE9-4B3A9C4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0F25-BCC9-403D-99BA-5DEF6ADD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C65-BE08-45CB-B0AB-3725BB2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BC21-CD4C-44E4-B71E-85D7F3F6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CF87-348B-4B4E-970E-CC6097C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863E-2DC6-406C-B2C2-F77FFE0E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BEE3-DD10-4296-8C61-7A4D51A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F029-5502-4FAC-BACF-CB8FC27E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6E2A-5886-40F0-812C-095E8DD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64E6-4EA1-4F4B-84B9-003181F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81B1-F576-47FC-B677-0F7E299E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85BF-22B4-495F-BB49-1F0236CD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E6D5E-895A-444A-8966-22EE5172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86D-FBB3-4E33-82EA-09F83F9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64455-48C0-4AF0-9757-C142FB0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2AA21-D7FD-4D96-9E13-2613D05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C73CF-4D59-417C-B101-3866B1D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99460-EDF8-4C83-B21B-B4436B1D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8AB43-63DF-4134-8ACB-F5BD40E2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E7617-7542-4E48-987E-41AED7E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16A39-FEB8-4FB9-A0AB-E9B4033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4BCA7-E7F4-4F9D-8FD6-97F946B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86EE2-FD7A-4A52-8E27-8ADFDD9B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E9F14-A1B3-49A8-9BCB-A3ADFDAD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26D-4C0F-4DE6-9A69-6CCEA17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F10A7-3606-4313-BF7F-D7F4BEF2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1D966-A222-4932-BA8E-ED99D07C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0A3C1-ABC1-4491-BB90-4B9EE5A6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3DB8C-2F11-4D9D-93B3-7FB5F34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5577F-C9F7-46B2-B4D5-0E716C5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27033-9E87-4BF2-9B83-62090AF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FD509-3925-4174-8D25-FC6D256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3B786-18DA-4DC2-8F7C-9EFAE56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3FED4-92F5-4BDF-90F2-81378D4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01BA5-43E8-483A-A24E-95778C8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CA5-A1A4-4518-8833-B5708DE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55FC7-562C-4749-AC37-02AC1CBF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7D048-C1BE-46E7-A534-57249F1E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8A197-12ED-4044-B2E0-D93F82CE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F8AA5-CEBF-4234-98CD-266472BA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79B78-472A-49FD-853F-CF9BD67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C6B8C-2356-4F2F-8703-8126E5CE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C6153-5566-436D-B425-73C42729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39068-8A6C-47E4-A8E4-AB615D9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A8026-0CCB-41A6-BB74-B6BC6079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F4B00-8372-4C76-B368-61D00AF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830-6489-4B7A-8D2E-F5F144A5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16ADB-741E-48EE-A198-27C2ACC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A153F-66F7-4422-BFDC-D2EF20F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A584A-387E-4CF8-933B-14E7710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504CC-8EC0-4D2E-8D27-F48A3DC6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196CF-8C24-4A13-86E9-008C2115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5F2-5CAA-4E91-AFE0-649F871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51D5-12CA-4478-9043-05CF26F7FA1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4260-0A73-45EB-8A9C-4B1FFF6F919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E31-7020-4927-AD33-9BC4DADF024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C9DE-A290-4711-9BD5-42F44C87EF90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703-6042-4C1D-BA2F-8E57F4648686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رابط مستقيم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رابط مستقيم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E42-B13E-4601-BF9D-5188B63B82D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رابط مستقيم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BC7-1A64-4F5D-8A0E-8BA271F6508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61196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التجسيد الفني لمضمون ثقافة الأطفال</a:t>
            </a:r>
            <a:endParaRPr b="0" lang="en-US" sz="4000" spc="-1" strike="noStrike">
              <a:solidFill>
                <a:srgbClr val="b13f9a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عناصر التجسيد الفني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00000" y="15685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852f74"/>
                </a:solidFill>
                <a:uFillTx/>
                <a:latin typeface="Century Schoolbook"/>
                <a:cs typeface="Times New Roman"/>
              </a:rPr>
              <a:t>الألوان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لألوان تأثيرها في جذب الانتباه أو التوجيه أو الإثار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كد بعض العلماء أهمية الألوان في النف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488c5"/>
                </a:solidFill>
                <a:latin typeface="Century Schoolbook"/>
                <a:cs typeface="Times New Roman"/>
              </a:rPr>
              <a:t>ما هو لونك المفضل؟ وما مدى تأثيره على نفسيتك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SSC1\Desktop\1.jpg"/>
          <p:cNvPicPr/>
          <p:nvPr/>
        </p:nvPicPr>
        <p:blipFill>
          <a:blip r:embed="rId1"/>
          <a:stretch/>
        </p:blipFill>
        <p:spPr>
          <a:xfrm>
            <a:off x="39528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عناصر التجسيد الفني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852f74"/>
                </a:solidFill>
                <a:uFillTx/>
                <a:latin typeface="Century Schoolbook"/>
                <a:cs typeface="Times New Roman"/>
              </a:rPr>
              <a:t>الصور والرسوم المتحركة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د الصور والرسوم أوعية تعبير ذات أهمية كبيرة بالنسبة للطفل, فهم يعبرون عن أنفسهم بالرسوم منذ عمر مبك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شير الدراسات إلى أن الرسم أو الصورة أكثر إقناعا من الكلم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حركات عنصر آخر من عناصر الجاذبية والتشوي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ميز الرسوم المتحركة إدخال الحياة في الصور والرسوم الجامدة وتشكيل عالم خيالي مثي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لائم رغبات الأطف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ناسب طبيعة عملياتهم العقلية والانفعال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ضافة الى انها قريبة من حيث بناؤها الفني والنفسي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عتمادها على الخيال والإثار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التجسيد الفني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حويل المعاني و الحالات الى صور و هيئات بحيث تبدو جميلة و مثير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مكن تحقيق جانب من التجسيد الفني عن طريق اللغة لوحدها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أعمال الأدبية تجسد فنيا من خلال اللغة مثل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القص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الشع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 المقال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Century Schoolbook"/>
                <a:cs typeface="Times New Roman"/>
              </a:rPr>
              <a:t>ولكن هل يكفي الاستعانة باللغة وحدها لإعطاء المضمون صفة الجاذبية و الوضوح والقوة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7" descr="images-2"/>
          <p:cNvPicPr/>
          <p:nvPr/>
        </p:nvPicPr>
        <p:blipFill>
          <a:blip r:embed="rId1"/>
          <a:stretch/>
        </p:blipFill>
        <p:spPr>
          <a:xfrm>
            <a:off x="395280" y="1700280"/>
            <a:ext cx="144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34b73"/>
                </a:solidFill>
                <a:latin typeface="Century Schoolbook"/>
                <a:cs typeface="Times New Roman"/>
              </a:rPr>
              <a:t>نشاط (ارسمي)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ظهره أحدب، أطرافه قصيرة تنتهي بمخالب قوية، أذناه طويلتان، و ذيله متين عند القاعدة رفيع عند الطرف، اما رأسه فهو مستطيل. ينتهي رأسه بقرص يبدو فيه منخاران، أما فمه فقصير و لكنه مفلطح و بداخله لسان طويل يستطيع أن يمده لمسافة غير قصيرة. يبلغ طول الحيوان نحو المترين، ولونه رملي أو أصفر و يكسو جلده شعر رقي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C:\Users\laljathlan\Desktop\1.jpg"/>
          <p:cNvPicPr/>
          <p:nvPr/>
        </p:nvPicPr>
        <p:blipFill>
          <a:blip r:embed="rId1"/>
          <a:stretch/>
        </p:blipFill>
        <p:spPr>
          <a:xfrm>
            <a:off x="5219640" y="2421000"/>
            <a:ext cx="2567160" cy="3019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C:\Users\laljathlan\Desktop\2.png"/>
          <p:cNvPicPr/>
          <p:nvPr/>
        </p:nvPicPr>
        <p:blipFill>
          <a:blip r:embed="rId2"/>
          <a:stretch/>
        </p:blipFill>
        <p:spPr>
          <a:xfrm>
            <a:off x="900000" y="2639880"/>
            <a:ext cx="3467160" cy="2167200"/>
          </a:xfrm>
          <a:prstGeom prst="rect">
            <a:avLst/>
          </a:prstGeom>
          <a:ln w="0">
            <a:noFill/>
          </a:ln>
        </p:spPr>
      </p:pic>
      <p:sp>
        <p:nvSpPr>
          <p:cNvPr id="358" name="مربع نص 3"/>
          <p:cNvSpPr/>
          <p:nvPr/>
        </p:nvSpPr>
        <p:spPr>
          <a:xfrm>
            <a:off x="2633760" y="692280"/>
            <a:ext cx="38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آكل الن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وصف اللفظي غير دقي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الم الإدراكي للشخص مقيد بجمل معينة محدود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ن غير المستطاع للإنسان ان يدرك ما لم يمر به من خبر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ذا فإن كلمة او جملة لا تعني مفهوم متطابقا لدى جميع النا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ذا فإن التجسيد الفني يتيح جانب آخر للعمليات العقلية المعرفية، تذكر+ خبرة سابقة + خيال = صور جديدة مركبة في ادراك الأطف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SSC1\Desktop\3.jpg"/>
          <p:cNvPicPr/>
          <p:nvPr/>
        </p:nvPicPr>
        <p:blipFill>
          <a:blip r:embed="rId1"/>
          <a:stretch/>
        </p:blipFill>
        <p:spPr>
          <a:xfrm>
            <a:off x="395280" y="407664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جسيد الفني يهيء الأطفال ان يروا أو يسمعوا المعنويات دون الاستعانة بالعيون و الأذان حيث تبدو لهم و كانها محسوسة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جسيد يعطي مدلولات خاصة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و تفنن في تكوين الانتاج المسموع او المقروء و المواءمة بينهما مع طبيعة الأتص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C:\Users\SSC1\Desktop\4.jpg"/>
          <p:cNvPicPr/>
          <p:nvPr/>
        </p:nvPicPr>
        <p:blipFill>
          <a:blip r:embed="rId1"/>
          <a:stretch/>
        </p:blipFill>
        <p:spPr>
          <a:xfrm>
            <a:off x="468360" y="450864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ذا كانت اللغة اللفظية وعاء للفكر فإن اللغة غير اللفظية تعد وعاء آخر له, حيث أتيح للإنسان بفضلها أن يفكر من خلال الأشكال والإشارات والأصوات والألوان والحرك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SSC1\Desktop\2.jpg"/>
          <p:cNvPicPr/>
          <p:nvPr/>
        </p:nvPicPr>
        <p:blipFill>
          <a:blip r:embed="rId1"/>
          <a:stretch/>
        </p:blipFill>
        <p:spPr>
          <a:xfrm>
            <a:off x="743040" y="4221000"/>
            <a:ext cx="25527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52f74"/>
                </a:solidFill>
                <a:latin typeface="Century Schoolbook"/>
                <a:cs typeface="Times New Roman"/>
              </a:rPr>
              <a:t>فوائد عناصر التجسي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دوات للإيضاح وإبراز المعاني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شكل حوافز لإثارة انتباه الطفل, وإثارة اهتمام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خلق الاستمرارية لديه في استقبال المضمون من خلال ما تضفيه من عناصر تشويق وجاذب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C:\Users\SSC1\Desktop\44.jpg"/>
          <p:cNvPicPr/>
          <p:nvPr/>
        </p:nvPicPr>
        <p:blipFill>
          <a:blip r:embed="rId1"/>
          <a:stretch/>
        </p:blipFill>
        <p:spPr>
          <a:xfrm>
            <a:off x="87156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13f9a"/>
                </a:solidFill>
                <a:latin typeface="Century Schoolbook"/>
                <a:cs typeface="Times New Roman"/>
              </a:rPr>
              <a:t>عناصر التجسيد الفني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852f74"/>
                </a:solidFill>
                <a:uFillTx/>
                <a:latin typeface="Century Schoolbook"/>
                <a:cs typeface="Times New Roman"/>
              </a:rPr>
              <a:t>الصو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لكلمة الواحدة أحيانا معان متعددة لكن السياق اللفظي الذي ترد فيه يحدد للسامع أو القارئ نوع الدلال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لكلمة في حد ذاتها قوة, وقد تفقد هذه القوة في بعض الحالات إلا أنها بفضل الوقع الصوتي يكون لها تأثير عاطفي للمعنى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غرم الأطفال بكثير من الأصوات التي يحملها الاتص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وسل بعض وسائل الاتصال بالصوت الانساني وبمؤثرات صوتيه كالموسيقى والغناء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ستقبل حاسة السمع الصوت فيثير الصوت ذهنة من خلال قيام العقل بواحدة أو أكثر من العمليات المعرف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تبر الموسيقى مثير لانفعالات الأطفا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4:50:49Z</dcterms:created>
  <dc:creator>aggeel</dc:creator>
  <dc:description/>
  <dc:language>en-US</dc:language>
  <cp:lastModifiedBy>Lama Aljathlan</cp:lastModifiedBy>
  <dcterms:modified xsi:type="dcterms:W3CDTF">2017-04-17T08:06:10Z</dcterms:modified>
  <cp:revision>14</cp:revision>
  <dc:subject/>
  <dc:title>الادب الفني  و ثقافة الأطفال</dc:title>
</cp:coreProperties>
</file>