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2.xml" ContentType="application/vnd.openxmlformats-officedocument.presentationml.notesSlide+xml"/>
  <Override PartName="/ppt/notesSlides/_rels/notesSlide3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9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4D9EAA6-B0BB-4A89-A3D1-A74125915E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9AD13F5-28EA-4CA2-8F85-6ADDE48D29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n obvious extension the moving average method. With simple moving average forecasts the mean of the past k observations used as a forecast have equal eights (1/k) for all k data points. With  exponential smoothing the idea is that the most recent observations will usually provide the best guide as to the future, so we want a weighting scheme that has decreasing weights as the observations get ol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9063683-1D7A-4A0A-A835-2F6BC63AEB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Rectangle 2"/>
          <p:cNvSpPr/>
          <p:nvPr/>
        </p:nvSpPr>
        <p:spPr>
          <a:xfrm>
            <a:off x="3971880" y="7920"/>
            <a:ext cx="303840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Rectangle 3"/>
          <p:cNvSpPr/>
          <p:nvPr/>
        </p:nvSpPr>
        <p:spPr>
          <a:xfrm>
            <a:off x="3971880" y="8850240"/>
            <a:ext cx="303840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7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Rectangle 4"/>
          <p:cNvSpPr/>
          <p:nvPr/>
        </p:nvSpPr>
        <p:spPr>
          <a:xfrm>
            <a:off x="0" y="8850240"/>
            <a:ext cx="303840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Rectangle 5"/>
          <p:cNvSpPr/>
          <p:nvPr/>
        </p:nvSpPr>
        <p:spPr>
          <a:xfrm>
            <a:off x="0" y="7920"/>
            <a:ext cx="303840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body"/>
          </p:nvPr>
        </p:nvSpPr>
        <p:spPr>
          <a:xfrm>
            <a:off x="934560" y="4427640"/>
            <a:ext cx="514044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5080" cy="3483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C386517-3D9B-41B5-B377-2FF4581713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Rectangle 2"/>
          <p:cNvSpPr/>
          <p:nvPr/>
        </p:nvSpPr>
        <p:spPr>
          <a:xfrm>
            <a:off x="3971880" y="7920"/>
            <a:ext cx="303840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Rectangle 3"/>
          <p:cNvSpPr/>
          <p:nvPr/>
        </p:nvSpPr>
        <p:spPr>
          <a:xfrm>
            <a:off x="3971880" y="8850240"/>
            <a:ext cx="303840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7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Rectangle 4"/>
          <p:cNvSpPr/>
          <p:nvPr/>
        </p:nvSpPr>
        <p:spPr>
          <a:xfrm>
            <a:off x="0" y="8850240"/>
            <a:ext cx="303840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Rectangle 5"/>
          <p:cNvSpPr/>
          <p:nvPr/>
        </p:nvSpPr>
        <p:spPr>
          <a:xfrm>
            <a:off x="0" y="7920"/>
            <a:ext cx="303840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body"/>
          </p:nvPr>
        </p:nvSpPr>
        <p:spPr>
          <a:xfrm>
            <a:off x="934560" y="4427640"/>
            <a:ext cx="514044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5080" cy="3483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7258F00-718E-44A0-96E3-223B3E7946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Rectangle 2"/>
          <p:cNvSpPr/>
          <p:nvPr/>
        </p:nvSpPr>
        <p:spPr>
          <a:xfrm>
            <a:off x="3971880" y="7920"/>
            <a:ext cx="303840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Rectangle 3"/>
          <p:cNvSpPr/>
          <p:nvPr/>
        </p:nvSpPr>
        <p:spPr>
          <a:xfrm>
            <a:off x="3971880" y="8850240"/>
            <a:ext cx="303840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Rectangle 4"/>
          <p:cNvSpPr/>
          <p:nvPr/>
        </p:nvSpPr>
        <p:spPr>
          <a:xfrm>
            <a:off x="0" y="8850240"/>
            <a:ext cx="303840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Rectangle 5"/>
          <p:cNvSpPr/>
          <p:nvPr/>
        </p:nvSpPr>
        <p:spPr>
          <a:xfrm>
            <a:off x="0" y="7920"/>
            <a:ext cx="303840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body"/>
          </p:nvPr>
        </p:nvSpPr>
        <p:spPr>
          <a:xfrm>
            <a:off x="934560" y="4427640"/>
            <a:ext cx="514044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5080" cy="34830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BE03-7BCE-4A7C-AC04-DAE1F74E8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8F37-A357-4DC9-BD3D-E46477039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90CB-C75C-4F71-AAA3-A9736F507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953B-7267-437B-BB17-7FFB466EA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F8C3-EA07-4C59-8D4D-C61FD0670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9169-A210-4277-921B-F41A72960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3D82-911A-42DF-BE08-3B0CE5677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2D3C-FD81-408B-A3D2-8A99999BA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A518-E48D-437C-B37E-631C34CD3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B526-83A3-40DB-8805-C366FBAE9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760D-485D-421D-83C3-EC51F8D99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AD4A-BF29-451A-BFA8-DBDDF441C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2FDBD-492F-4E43-981F-918C6EFBF6A3}" type="datetime5">
              <a:rPr b="0" lang="en-US" sz="1400" spc="-1" strike="noStrike">
                <a:solidFill>
                  <a:srgbClr val="000000"/>
                </a:solidFill>
                <a:latin typeface="Arial"/>
              </a:rPr>
              <a:t>Jul 29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.B.Sasidh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99721-B184-48EC-8AB0-A31D282A9B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file:///..%5CPowerPoint/Additional/21-1-Indexes.ppt" TargetMode="External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1026"/>
          <p:cNvSpPr/>
          <p:nvPr/>
        </p:nvSpPr>
        <p:spPr>
          <a:xfrm>
            <a:off x="609480" y="68580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033"/>
          <p:cNvSpPr/>
          <p:nvPr/>
        </p:nvSpPr>
        <p:spPr>
          <a:xfrm>
            <a:off x="762120" y="2666880"/>
            <a:ext cx="7848360" cy="19227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91b09"/>
                </a:solidFill>
                <a:latin typeface="Times New Roman"/>
              </a:rPr>
              <a:t>TIME SERIES MODEL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039"/>
          <p:cNvSpPr/>
          <p:nvPr/>
        </p:nvSpPr>
        <p:spPr>
          <a:xfrm>
            <a:off x="10499760" y="3165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ing Aver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monthly data, a 12-month moving average, MA(12), eliminate or averages out seasonal eff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qual weights are assigned to each observation used in the aver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new data point is included in the average as it becomes available, and the oldest data point is discar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 of Moving Aver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dvantages of Moving Average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sily underst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sily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s stable foreca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sadvantages of Moving Average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saving all past n data po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gs behind a tr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gnores complex relationships in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e Moving Average – Example (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ile: PPT_M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Group 3"/>
          <p:cNvGrpSpPr/>
          <p:nvPr/>
        </p:nvGrpSpPr>
        <p:grpSpPr>
          <a:xfrm>
            <a:off x="4267080" y="1143000"/>
            <a:ext cx="4343040" cy="4952880"/>
            <a:chOff x="4267080" y="1143000"/>
            <a:chExt cx="4343040" cy="4952880"/>
          </a:xfrm>
        </p:grpSpPr>
        <p:grpSp>
          <p:nvGrpSpPr>
            <p:cNvPr id="174" name="Group 4"/>
            <p:cNvGrpSpPr/>
            <p:nvPr/>
          </p:nvGrpSpPr>
          <p:grpSpPr>
            <a:xfrm>
              <a:off x="4273920" y="1145520"/>
              <a:ext cx="4327920" cy="4946760"/>
              <a:chOff x="4273920" y="1145520"/>
              <a:chExt cx="4327920" cy="4946760"/>
            </a:xfrm>
          </p:grpSpPr>
          <p:grpSp>
            <p:nvGrpSpPr>
              <p:cNvPr id="175" name="Group 5"/>
              <p:cNvGrpSpPr/>
              <p:nvPr/>
            </p:nvGrpSpPr>
            <p:grpSpPr>
              <a:xfrm>
                <a:off x="4273920" y="1145520"/>
                <a:ext cx="1081440" cy="371880"/>
                <a:chOff x="4273920" y="1145520"/>
                <a:chExt cx="1081440" cy="371880"/>
              </a:xfrm>
            </p:grpSpPr>
            <p:sp>
              <p:nvSpPr>
                <p:cNvPr id="176" name="Rectangle 6"/>
                <p:cNvSpPr/>
                <p:nvPr/>
              </p:nvSpPr>
              <p:spPr>
                <a:xfrm>
                  <a:off x="4273920" y="1145520"/>
                  <a:ext cx="1081440" cy="37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700" spc="-1" strike="noStrike">
                      <a:solidFill>
                        <a:srgbClr val="990000"/>
                      </a:solidFill>
                      <a:latin typeface="Arial"/>
                      <a:ea typeface="Arial"/>
                    </a:rPr>
                    <a:t>Period</a:t>
                  </a: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Rectangle 7"/>
                <p:cNvSpPr/>
                <p:nvPr/>
              </p:nvSpPr>
              <p:spPr>
                <a:xfrm>
                  <a:off x="4273920" y="1145520"/>
                  <a:ext cx="1081440" cy="37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8" name="Group 8"/>
              <p:cNvGrpSpPr/>
              <p:nvPr/>
            </p:nvGrpSpPr>
            <p:grpSpPr>
              <a:xfrm>
                <a:off x="5355720" y="1145520"/>
                <a:ext cx="1081800" cy="371880"/>
                <a:chOff x="5355720" y="1145520"/>
                <a:chExt cx="1081800" cy="371880"/>
              </a:xfrm>
            </p:grpSpPr>
            <p:sp>
              <p:nvSpPr>
                <p:cNvPr id="179" name="Rectangle 9"/>
                <p:cNvSpPr/>
                <p:nvPr/>
              </p:nvSpPr>
              <p:spPr>
                <a:xfrm>
                  <a:off x="5355720" y="1145520"/>
                  <a:ext cx="1081800" cy="37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700" spc="-1" strike="noStrike">
                      <a:solidFill>
                        <a:srgbClr val="990000"/>
                      </a:solidFill>
                      <a:latin typeface="Arial"/>
                      <a:ea typeface="Arial"/>
                    </a:rPr>
                    <a:t>Actual</a:t>
                  </a: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Rectangle 10"/>
                <p:cNvSpPr/>
                <p:nvPr/>
              </p:nvSpPr>
              <p:spPr>
                <a:xfrm>
                  <a:off x="5355720" y="1145520"/>
                  <a:ext cx="1081800" cy="37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1" name="Group 11"/>
              <p:cNvGrpSpPr/>
              <p:nvPr/>
            </p:nvGrpSpPr>
            <p:grpSpPr>
              <a:xfrm>
                <a:off x="6438240" y="1145520"/>
                <a:ext cx="1081440" cy="371880"/>
                <a:chOff x="6438240" y="1145520"/>
                <a:chExt cx="1081440" cy="371880"/>
              </a:xfrm>
            </p:grpSpPr>
            <p:sp>
              <p:nvSpPr>
                <p:cNvPr id="182" name="Rectangle 12"/>
                <p:cNvSpPr/>
                <p:nvPr/>
              </p:nvSpPr>
              <p:spPr>
                <a:xfrm>
                  <a:off x="6438240" y="1145520"/>
                  <a:ext cx="1081440" cy="37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700" spc="-1" strike="noStrike">
                      <a:solidFill>
                        <a:srgbClr val="990000"/>
                      </a:solidFill>
                      <a:latin typeface="Arial"/>
                      <a:ea typeface="Arial"/>
                    </a:rPr>
                    <a:t>MA3</a:t>
                  </a: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Rectangle 13"/>
                <p:cNvSpPr/>
                <p:nvPr/>
              </p:nvSpPr>
              <p:spPr>
                <a:xfrm>
                  <a:off x="6438240" y="1145520"/>
                  <a:ext cx="1081440" cy="37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4" name="Group 14"/>
              <p:cNvGrpSpPr/>
              <p:nvPr/>
            </p:nvGrpSpPr>
            <p:grpSpPr>
              <a:xfrm>
                <a:off x="7520040" y="1145520"/>
                <a:ext cx="1081800" cy="371880"/>
                <a:chOff x="7520040" y="1145520"/>
                <a:chExt cx="1081800" cy="371880"/>
              </a:xfrm>
            </p:grpSpPr>
            <p:sp>
              <p:nvSpPr>
                <p:cNvPr id="185" name="Rectangle 15"/>
                <p:cNvSpPr/>
                <p:nvPr/>
              </p:nvSpPr>
              <p:spPr>
                <a:xfrm>
                  <a:off x="7520040" y="1145520"/>
                  <a:ext cx="1081800" cy="37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700" spc="-1" strike="noStrike">
                      <a:solidFill>
                        <a:srgbClr val="990000"/>
                      </a:solidFill>
                      <a:latin typeface="Arial"/>
                      <a:ea typeface="Arial"/>
                    </a:rPr>
                    <a:t>MA5</a:t>
                  </a: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Rectangle 16"/>
                <p:cNvSpPr/>
                <p:nvPr/>
              </p:nvSpPr>
              <p:spPr>
                <a:xfrm>
                  <a:off x="7520040" y="1145520"/>
                  <a:ext cx="1081800" cy="37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7" name="Group 17"/>
              <p:cNvGrpSpPr/>
              <p:nvPr/>
            </p:nvGrpSpPr>
            <p:grpSpPr>
              <a:xfrm>
                <a:off x="4273920" y="1517400"/>
                <a:ext cx="1081440" cy="390240"/>
                <a:chOff x="4273920" y="1517400"/>
                <a:chExt cx="1081440" cy="390240"/>
              </a:xfrm>
            </p:grpSpPr>
            <p:sp>
              <p:nvSpPr>
                <p:cNvPr id="188" name="Rectangle 18"/>
                <p:cNvSpPr/>
                <p:nvPr/>
              </p:nvSpPr>
              <p:spPr>
                <a:xfrm>
                  <a:off x="4273920" y="1517400"/>
                  <a:ext cx="1081440" cy="39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700" spc="-1" strike="noStrike">
                      <a:solidFill>
                        <a:srgbClr val="990000"/>
                      </a:solidFill>
                      <a:latin typeface="Arial"/>
                      <a:ea typeface="Arial"/>
                    </a:rPr>
                    <a:t>1</a:t>
                  </a: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Rectangle 19"/>
                <p:cNvSpPr/>
                <p:nvPr/>
              </p:nvSpPr>
              <p:spPr>
                <a:xfrm>
                  <a:off x="4273920" y="1517400"/>
                  <a:ext cx="1081440" cy="390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0" name="Group 20"/>
              <p:cNvGrpSpPr/>
              <p:nvPr/>
            </p:nvGrpSpPr>
            <p:grpSpPr>
              <a:xfrm>
                <a:off x="5355720" y="1517400"/>
                <a:ext cx="1081800" cy="390240"/>
                <a:chOff x="5355720" y="1517400"/>
                <a:chExt cx="1081800" cy="390240"/>
              </a:xfrm>
            </p:grpSpPr>
            <p:sp>
              <p:nvSpPr>
                <p:cNvPr id="191" name="Rectangle 21"/>
                <p:cNvSpPr/>
                <p:nvPr/>
              </p:nvSpPr>
              <p:spPr>
                <a:xfrm>
                  <a:off x="5355720" y="1517400"/>
                  <a:ext cx="1081800" cy="39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700" spc="-1" strike="noStrike">
                      <a:solidFill>
                        <a:srgbClr val="990000"/>
                      </a:solidFill>
                      <a:latin typeface="Arial"/>
                      <a:ea typeface="Arial"/>
                    </a:rPr>
                    <a:t>42</a:t>
                  </a: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Rectangle 22"/>
                <p:cNvSpPr/>
                <p:nvPr/>
              </p:nvSpPr>
              <p:spPr>
                <a:xfrm>
                  <a:off x="5355720" y="1517400"/>
                  <a:ext cx="1081800" cy="390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3" name="Group 23"/>
              <p:cNvGrpSpPr/>
              <p:nvPr/>
            </p:nvGrpSpPr>
            <p:grpSpPr>
              <a:xfrm>
                <a:off x="6438240" y="1517400"/>
                <a:ext cx="1081440" cy="390240"/>
                <a:chOff x="6438240" y="1517400"/>
                <a:chExt cx="1081440" cy="390240"/>
              </a:xfrm>
            </p:grpSpPr>
            <p:sp>
              <p:nvSpPr>
                <p:cNvPr id="194" name="Rectangle 24"/>
                <p:cNvSpPr/>
                <p:nvPr/>
              </p:nvSpPr>
              <p:spPr>
                <a:xfrm>
                  <a:off x="6438240" y="1517400"/>
                  <a:ext cx="1081440" cy="39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700" spc="-1" strike="noStrike">
                      <a:solidFill>
                        <a:srgbClr val="990000"/>
                      </a:solidFill>
                      <a:latin typeface="Arial"/>
                      <a:ea typeface="Times New Roman"/>
                    </a:rPr>
                    <a:t> </a:t>
                  </a: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Rectangle 25"/>
                <p:cNvSpPr/>
                <p:nvPr/>
              </p:nvSpPr>
              <p:spPr>
                <a:xfrm>
                  <a:off x="6438240" y="1517400"/>
                  <a:ext cx="1081440" cy="390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6" name="Group 26"/>
              <p:cNvGrpSpPr/>
              <p:nvPr/>
            </p:nvGrpSpPr>
            <p:grpSpPr>
              <a:xfrm>
                <a:off x="7520040" y="1517400"/>
                <a:ext cx="1081800" cy="390240"/>
                <a:chOff x="7520040" y="1517400"/>
                <a:chExt cx="1081800" cy="390240"/>
              </a:xfrm>
            </p:grpSpPr>
            <p:sp>
              <p:nvSpPr>
                <p:cNvPr id="197" name="Rectangle 27"/>
                <p:cNvSpPr/>
                <p:nvPr/>
              </p:nvSpPr>
              <p:spPr>
                <a:xfrm>
                  <a:off x="7520040" y="1517400"/>
                  <a:ext cx="1081800" cy="39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700" spc="-1" strike="noStrike">
                      <a:solidFill>
                        <a:srgbClr val="990000"/>
                      </a:solidFill>
                      <a:latin typeface="Arial"/>
                      <a:ea typeface="Times New Roman"/>
                    </a:rPr>
                    <a:t> </a:t>
                  </a: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Rectangle 28"/>
                <p:cNvSpPr/>
                <p:nvPr/>
              </p:nvSpPr>
              <p:spPr>
                <a:xfrm>
                  <a:off x="7520040" y="1517400"/>
                  <a:ext cx="1081800" cy="390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9" name="Group 29"/>
              <p:cNvGrpSpPr/>
              <p:nvPr/>
            </p:nvGrpSpPr>
            <p:grpSpPr>
              <a:xfrm>
                <a:off x="4273920" y="1907640"/>
                <a:ext cx="1081440" cy="390600"/>
                <a:chOff x="4273920" y="1907640"/>
                <a:chExt cx="1081440" cy="390600"/>
              </a:xfrm>
            </p:grpSpPr>
            <p:sp>
              <p:nvSpPr>
                <p:cNvPr id="200" name="Rectangle 30"/>
                <p:cNvSpPr/>
                <p:nvPr/>
              </p:nvSpPr>
              <p:spPr>
                <a:xfrm>
                  <a:off x="4273920" y="1907640"/>
                  <a:ext cx="1081440" cy="39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700" spc="-1" strike="noStrike">
                      <a:solidFill>
                        <a:srgbClr val="990000"/>
                      </a:solidFill>
                      <a:latin typeface="Arial"/>
                      <a:ea typeface="Arial"/>
                    </a:rPr>
                    <a:t>2</a:t>
                  </a: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Rectangle 31"/>
                <p:cNvSpPr/>
                <p:nvPr/>
              </p:nvSpPr>
              <p:spPr>
                <a:xfrm>
                  <a:off x="4273920" y="1907640"/>
                  <a:ext cx="1081440" cy="390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2" name="Group 32"/>
              <p:cNvGrpSpPr/>
              <p:nvPr/>
            </p:nvGrpSpPr>
            <p:grpSpPr>
              <a:xfrm>
                <a:off x="5355720" y="1907640"/>
                <a:ext cx="1081800" cy="390600"/>
                <a:chOff x="5355720" y="1907640"/>
                <a:chExt cx="1081800" cy="390600"/>
              </a:xfrm>
            </p:grpSpPr>
            <p:sp>
              <p:nvSpPr>
                <p:cNvPr id="203" name="Rectangle 33"/>
                <p:cNvSpPr/>
                <p:nvPr/>
              </p:nvSpPr>
              <p:spPr>
                <a:xfrm>
                  <a:off x="5355720" y="1907640"/>
                  <a:ext cx="1081800" cy="39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700" spc="-1" strike="noStrike">
                      <a:solidFill>
                        <a:srgbClr val="990000"/>
                      </a:solidFill>
                      <a:latin typeface="Arial"/>
                      <a:ea typeface="Arial"/>
                    </a:rPr>
                    <a:t>40</a:t>
                  </a: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Rectangle 34"/>
                <p:cNvSpPr/>
                <p:nvPr/>
              </p:nvSpPr>
              <p:spPr>
                <a:xfrm>
                  <a:off x="5355720" y="1907640"/>
                  <a:ext cx="1081800" cy="390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5" name="Group 35"/>
              <p:cNvGrpSpPr/>
              <p:nvPr/>
            </p:nvGrpSpPr>
            <p:grpSpPr>
              <a:xfrm>
                <a:off x="6438240" y="1907640"/>
                <a:ext cx="1081440" cy="390600"/>
                <a:chOff x="6438240" y="1907640"/>
                <a:chExt cx="1081440" cy="390600"/>
              </a:xfrm>
            </p:grpSpPr>
            <p:sp>
              <p:nvSpPr>
                <p:cNvPr id="206" name="Rectangle 36"/>
                <p:cNvSpPr/>
                <p:nvPr/>
              </p:nvSpPr>
              <p:spPr>
                <a:xfrm>
                  <a:off x="6438240" y="1907640"/>
                  <a:ext cx="1081440" cy="39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700" spc="-1" strike="noStrike">
                      <a:solidFill>
                        <a:srgbClr val="990000"/>
                      </a:solidFill>
                      <a:latin typeface="Arial"/>
                      <a:ea typeface="Times New Roman"/>
                    </a:rPr>
                    <a:t> </a:t>
                  </a: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Rectangle 37"/>
                <p:cNvSpPr/>
                <p:nvPr/>
              </p:nvSpPr>
              <p:spPr>
                <a:xfrm>
                  <a:off x="6438240" y="1907640"/>
                  <a:ext cx="1081440" cy="390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8" name="Group 38"/>
              <p:cNvGrpSpPr/>
              <p:nvPr/>
            </p:nvGrpSpPr>
            <p:grpSpPr>
              <a:xfrm>
                <a:off x="7520040" y="1907640"/>
                <a:ext cx="1081800" cy="390600"/>
                <a:chOff x="7520040" y="1907640"/>
                <a:chExt cx="1081800" cy="390600"/>
              </a:xfrm>
            </p:grpSpPr>
            <p:sp>
              <p:nvSpPr>
                <p:cNvPr id="209" name="Rectangle 39"/>
                <p:cNvSpPr/>
                <p:nvPr/>
              </p:nvSpPr>
              <p:spPr>
                <a:xfrm>
                  <a:off x="7520040" y="1907640"/>
                  <a:ext cx="1081800" cy="39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700" spc="-1" strike="noStrike">
                      <a:solidFill>
                        <a:srgbClr val="990000"/>
                      </a:solidFill>
                      <a:latin typeface="Arial"/>
                      <a:ea typeface="Times New Roman"/>
                    </a:rPr>
                    <a:t> </a:t>
                  </a: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Rectangle 40"/>
                <p:cNvSpPr/>
                <p:nvPr/>
              </p:nvSpPr>
              <p:spPr>
                <a:xfrm>
                  <a:off x="7520040" y="1907640"/>
                  <a:ext cx="1081800" cy="390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1" name="Group 41"/>
              <p:cNvGrpSpPr/>
              <p:nvPr/>
            </p:nvGrpSpPr>
            <p:grpSpPr>
              <a:xfrm>
                <a:off x="4273920" y="2298600"/>
                <a:ext cx="1081440" cy="390240"/>
                <a:chOff x="4273920" y="2298600"/>
                <a:chExt cx="1081440" cy="390240"/>
              </a:xfrm>
            </p:grpSpPr>
            <p:sp>
              <p:nvSpPr>
                <p:cNvPr id="212" name="Rectangle 42"/>
                <p:cNvSpPr/>
                <p:nvPr/>
              </p:nvSpPr>
              <p:spPr>
                <a:xfrm>
                  <a:off x="4273920" y="2298600"/>
                  <a:ext cx="1081440" cy="39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700" spc="-1" strike="noStrike">
                      <a:solidFill>
                        <a:srgbClr val="990000"/>
                      </a:solidFill>
                      <a:latin typeface="Arial"/>
                      <a:ea typeface="Arial"/>
                    </a:rPr>
                    <a:t>3</a:t>
                  </a: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Rectangle 43"/>
                <p:cNvSpPr/>
                <p:nvPr/>
              </p:nvSpPr>
              <p:spPr>
                <a:xfrm>
                  <a:off x="4273920" y="2298600"/>
                  <a:ext cx="1081440" cy="390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4" name="Group 44"/>
              <p:cNvGrpSpPr/>
              <p:nvPr/>
            </p:nvGrpSpPr>
            <p:grpSpPr>
              <a:xfrm>
                <a:off x="5355720" y="2298600"/>
                <a:ext cx="1081800" cy="390240"/>
                <a:chOff x="5355720" y="2298600"/>
                <a:chExt cx="1081800" cy="390240"/>
              </a:xfrm>
            </p:grpSpPr>
            <p:sp>
              <p:nvSpPr>
                <p:cNvPr id="215" name="Rectangle 45"/>
                <p:cNvSpPr/>
                <p:nvPr/>
              </p:nvSpPr>
              <p:spPr>
                <a:xfrm>
                  <a:off x="5355720" y="2298600"/>
                  <a:ext cx="1081800" cy="39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700" spc="-1" strike="noStrike">
                      <a:solidFill>
                        <a:srgbClr val="990000"/>
                      </a:solidFill>
                      <a:latin typeface="Arial"/>
                      <a:ea typeface="Arial"/>
                    </a:rPr>
                    <a:t>43</a:t>
                  </a: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Rectangle 46"/>
                <p:cNvSpPr/>
                <p:nvPr/>
              </p:nvSpPr>
              <p:spPr>
                <a:xfrm>
                  <a:off x="5355720" y="2298600"/>
                  <a:ext cx="1081800" cy="390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7" name="Group 47"/>
              <p:cNvGrpSpPr/>
              <p:nvPr/>
            </p:nvGrpSpPr>
            <p:grpSpPr>
              <a:xfrm>
                <a:off x="6438240" y="2298600"/>
                <a:ext cx="1081440" cy="390240"/>
                <a:chOff x="6438240" y="2298600"/>
                <a:chExt cx="1081440" cy="390240"/>
              </a:xfrm>
            </p:grpSpPr>
            <p:sp>
              <p:nvSpPr>
                <p:cNvPr id="218" name="Rectangle 48"/>
                <p:cNvSpPr/>
                <p:nvPr/>
              </p:nvSpPr>
              <p:spPr>
                <a:xfrm>
                  <a:off x="6438240" y="2298600"/>
                  <a:ext cx="1081440" cy="39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700" spc="-1" strike="noStrike">
                      <a:solidFill>
                        <a:srgbClr val="990000"/>
                      </a:solidFill>
                      <a:latin typeface="Arial"/>
                      <a:ea typeface="Times New Roman"/>
                    </a:rPr>
                    <a:t> </a:t>
                  </a: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Rectangle 49"/>
                <p:cNvSpPr/>
                <p:nvPr/>
              </p:nvSpPr>
              <p:spPr>
                <a:xfrm>
                  <a:off x="6438240" y="2298600"/>
                  <a:ext cx="1081440" cy="390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0" name="Group 50"/>
              <p:cNvGrpSpPr/>
              <p:nvPr/>
            </p:nvGrpSpPr>
            <p:grpSpPr>
              <a:xfrm>
                <a:off x="7520040" y="2298600"/>
                <a:ext cx="1081800" cy="390240"/>
                <a:chOff x="7520040" y="2298600"/>
                <a:chExt cx="1081800" cy="390240"/>
              </a:xfrm>
            </p:grpSpPr>
            <p:sp>
              <p:nvSpPr>
                <p:cNvPr id="221" name="Rectangle 51"/>
                <p:cNvSpPr/>
                <p:nvPr/>
              </p:nvSpPr>
              <p:spPr>
                <a:xfrm>
                  <a:off x="7520040" y="2298600"/>
                  <a:ext cx="1081800" cy="39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700" spc="-1" strike="noStrike">
                      <a:solidFill>
                        <a:srgbClr val="990000"/>
                      </a:solidFill>
                      <a:latin typeface="Arial"/>
                      <a:ea typeface="Times New Roman"/>
                    </a:rPr>
                    <a:t> </a:t>
                  </a: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Rectangle 52"/>
                <p:cNvSpPr/>
                <p:nvPr/>
              </p:nvSpPr>
              <p:spPr>
                <a:xfrm>
                  <a:off x="7520040" y="2298600"/>
                  <a:ext cx="1081800" cy="390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3" name="Group 53"/>
              <p:cNvGrpSpPr/>
              <p:nvPr/>
            </p:nvGrpSpPr>
            <p:grpSpPr>
              <a:xfrm>
                <a:off x="4273920" y="2688840"/>
                <a:ext cx="1081440" cy="390240"/>
                <a:chOff x="4273920" y="2688840"/>
                <a:chExt cx="1081440" cy="390240"/>
              </a:xfrm>
            </p:grpSpPr>
            <p:sp>
              <p:nvSpPr>
                <p:cNvPr id="224" name="Rectangle 54"/>
                <p:cNvSpPr/>
                <p:nvPr/>
              </p:nvSpPr>
              <p:spPr>
                <a:xfrm>
                  <a:off x="4273920" y="2688840"/>
                  <a:ext cx="1081440" cy="39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700" spc="-1" strike="noStrike">
                      <a:solidFill>
                        <a:srgbClr val="990000"/>
                      </a:solidFill>
                      <a:latin typeface="Arial"/>
                      <a:ea typeface="Arial"/>
                    </a:rPr>
                    <a:t>4</a:t>
                  </a: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Rectangle 55"/>
                <p:cNvSpPr/>
                <p:nvPr/>
              </p:nvSpPr>
              <p:spPr>
                <a:xfrm>
                  <a:off x="4273920" y="2688840"/>
                  <a:ext cx="1081440" cy="390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6" name="Group 56"/>
              <p:cNvGrpSpPr/>
              <p:nvPr/>
            </p:nvGrpSpPr>
            <p:grpSpPr>
              <a:xfrm>
                <a:off x="5355720" y="2688840"/>
                <a:ext cx="1081800" cy="390240"/>
                <a:chOff x="5355720" y="2688840"/>
                <a:chExt cx="1081800" cy="390240"/>
              </a:xfrm>
            </p:grpSpPr>
            <p:sp>
              <p:nvSpPr>
                <p:cNvPr id="227" name="Rectangle 57"/>
                <p:cNvSpPr/>
                <p:nvPr/>
              </p:nvSpPr>
              <p:spPr>
                <a:xfrm>
                  <a:off x="5355720" y="2688840"/>
                  <a:ext cx="1081800" cy="39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700" spc="-1" strike="noStrike">
                      <a:solidFill>
                        <a:srgbClr val="990000"/>
                      </a:solidFill>
                      <a:latin typeface="Arial"/>
                      <a:ea typeface="Arial"/>
                    </a:rPr>
                    <a:t>40</a:t>
                  </a: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Rectangle 58"/>
                <p:cNvSpPr/>
                <p:nvPr/>
              </p:nvSpPr>
              <p:spPr>
                <a:xfrm>
                  <a:off x="5355720" y="2688840"/>
                  <a:ext cx="1081800" cy="390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9" name="Group 59"/>
              <p:cNvGrpSpPr/>
              <p:nvPr/>
            </p:nvGrpSpPr>
            <p:grpSpPr>
              <a:xfrm>
                <a:off x="6438240" y="2688840"/>
                <a:ext cx="1081440" cy="390240"/>
                <a:chOff x="6438240" y="2688840"/>
                <a:chExt cx="1081440" cy="390240"/>
              </a:xfrm>
            </p:grpSpPr>
            <p:sp>
              <p:nvSpPr>
                <p:cNvPr id="230" name="Rectangle 60"/>
                <p:cNvSpPr/>
                <p:nvPr/>
              </p:nvSpPr>
              <p:spPr>
                <a:xfrm>
                  <a:off x="6438240" y="2688840"/>
                  <a:ext cx="1081440" cy="39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700" spc="-1" strike="noStrike">
                      <a:solidFill>
                        <a:srgbClr val="990000"/>
                      </a:solidFill>
                      <a:latin typeface="Arial"/>
                      <a:ea typeface="Arial"/>
                    </a:rPr>
                    <a:t>41.7</a:t>
                  </a: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Rectangle 61"/>
                <p:cNvSpPr/>
                <p:nvPr/>
              </p:nvSpPr>
              <p:spPr>
                <a:xfrm>
                  <a:off x="6438240" y="2688840"/>
                  <a:ext cx="1081440" cy="390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2" name="Group 62"/>
              <p:cNvGrpSpPr/>
              <p:nvPr/>
            </p:nvGrpSpPr>
            <p:grpSpPr>
              <a:xfrm>
                <a:off x="7520040" y="2688840"/>
                <a:ext cx="1081800" cy="390240"/>
                <a:chOff x="7520040" y="2688840"/>
                <a:chExt cx="1081800" cy="390240"/>
              </a:xfrm>
            </p:grpSpPr>
            <p:sp>
              <p:nvSpPr>
                <p:cNvPr id="233" name="Rectangle 63"/>
                <p:cNvSpPr/>
                <p:nvPr/>
              </p:nvSpPr>
              <p:spPr>
                <a:xfrm>
                  <a:off x="7520040" y="2688840"/>
                  <a:ext cx="1081800" cy="39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700" spc="-1" strike="noStrike">
                      <a:solidFill>
                        <a:srgbClr val="990000"/>
                      </a:solidFill>
                      <a:latin typeface="Arial"/>
                      <a:ea typeface="Times New Roman"/>
                    </a:rPr>
                    <a:t> </a:t>
                  </a: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64"/>
                <p:cNvSpPr/>
                <p:nvPr/>
              </p:nvSpPr>
              <p:spPr>
                <a:xfrm>
                  <a:off x="7520040" y="2688840"/>
                  <a:ext cx="1081800" cy="390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5" name="Group 65"/>
              <p:cNvGrpSpPr/>
              <p:nvPr/>
            </p:nvGrpSpPr>
            <p:grpSpPr>
              <a:xfrm>
                <a:off x="4273920" y="3079440"/>
                <a:ext cx="1081440" cy="390240"/>
                <a:chOff x="4273920" y="3079440"/>
                <a:chExt cx="1081440" cy="390240"/>
              </a:xfrm>
            </p:grpSpPr>
            <p:sp>
              <p:nvSpPr>
                <p:cNvPr id="236" name="Rectangle 66"/>
                <p:cNvSpPr/>
                <p:nvPr/>
              </p:nvSpPr>
              <p:spPr>
                <a:xfrm>
                  <a:off x="4273920" y="3079440"/>
                  <a:ext cx="1081440" cy="39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700" spc="-1" strike="noStrike">
                      <a:solidFill>
                        <a:srgbClr val="990000"/>
                      </a:solidFill>
                      <a:latin typeface="Arial"/>
                      <a:ea typeface="Arial"/>
                    </a:rPr>
                    <a:t>5</a:t>
                  </a: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Rectangle 67"/>
                <p:cNvSpPr/>
                <p:nvPr/>
              </p:nvSpPr>
              <p:spPr>
                <a:xfrm>
                  <a:off x="4273920" y="3079440"/>
                  <a:ext cx="1081440" cy="390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Group 68"/>
              <p:cNvGrpSpPr/>
              <p:nvPr/>
            </p:nvGrpSpPr>
            <p:grpSpPr>
              <a:xfrm>
                <a:off x="5355720" y="3079440"/>
                <a:ext cx="1081800" cy="390240"/>
                <a:chOff x="5355720" y="3079440"/>
                <a:chExt cx="1081800" cy="390240"/>
              </a:xfrm>
            </p:grpSpPr>
            <p:sp>
              <p:nvSpPr>
                <p:cNvPr id="239" name="Rectangle 69"/>
                <p:cNvSpPr/>
                <p:nvPr/>
              </p:nvSpPr>
              <p:spPr>
                <a:xfrm>
                  <a:off x="5355720" y="3079440"/>
                  <a:ext cx="1081800" cy="39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700" spc="-1" strike="noStrike">
                      <a:solidFill>
                        <a:srgbClr val="990000"/>
                      </a:solidFill>
                      <a:latin typeface="Arial"/>
                      <a:ea typeface="Arial"/>
                    </a:rPr>
                    <a:t>41</a:t>
                  </a: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Rectangle 70"/>
                <p:cNvSpPr/>
                <p:nvPr/>
              </p:nvSpPr>
              <p:spPr>
                <a:xfrm>
                  <a:off x="5355720" y="3079440"/>
                  <a:ext cx="1081800" cy="390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1" name="Group 71"/>
              <p:cNvGrpSpPr/>
              <p:nvPr/>
            </p:nvGrpSpPr>
            <p:grpSpPr>
              <a:xfrm>
                <a:off x="6438240" y="3079440"/>
                <a:ext cx="1081440" cy="390240"/>
                <a:chOff x="6438240" y="3079440"/>
                <a:chExt cx="1081440" cy="390240"/>
              </a:xfrm>
            </p:grpSpPr>
            <p:sp>
              <p:nvSpPr>
                <p:cNvPr id="242" name="Rectangle 72"/>
                <p:cNvSpPr/>
                <p:nvPr/>
              </p:nvSpPr>
              <p:spPr>
                <a:xfrm>
                  <a:off x="6438240" y="3079440"/>
                  <a:ext cx="1081440" cy="39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700" spc="-1" strike="noStrike">
                      <a:solidFill>
                        <a:srgbClr val="990000"/>
                      </a:solidFill>
                      <a:latin typeface="Arial"/>
                      <a:ea typeface="Arial"/>
                    </a:rPr>
                    <a:t>41.0</a:t>
                  </a: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" name="Rectangle 73"/>
                <p:cNvSpPr/>
                <p:nvPr/>
              </p:nvSpPr>
              <p:spPr>
                <a:xfrm>
                  <a:off x="6438240" y="3079440"/>
                  <a:ext cx="1081440" cy="390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4" name="Group 74"/>
              <p:cNvGrpSpPr/>
              <p:nvPr/>
            </p:nvGrpSpPr>
            <p:grpSpPr>
              <a:xfrm>
                <a:off x="7520040" y="3079440"/>
                <a:ext cx="1081800" cy="390240"/>
                <a:chOff x="7520040" y="3079440"/>
                <a:chExt cx="1081800" cy="390240"/>
              </a:xfrm>
            </p:grpSpPr>
            <p:sp>
              <p:nvSpPr>
                <p:cNvPr id="245" name="Rectangle 75"/>
                <p:cNvSpPr/>
                <p:nvPr/>
              </p:nvSpPr>
              <p:spPr>
                <a:xfrm>
                  <a:off x="7520040" y="3079440"/>
                  <a:ext cx="1081800" cy="39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700" spc="-1" strike="noStrike">
                      <a:solidFill>
                        <a:srgbClr val="990000"/>
                      </a:solidFill>
                      <a:latin typeface="Arial"/>
                      <a:ea typeface="Times New Roman"/>
                    </a:rPr>
                    <a:t> </a:t>
                  </a: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76"/>
                <p:cNvSpPr/>
                <p:nvPr/>
              </p:nvSpPr>
              <p:spPr>
                <a:xfrm>
                  <a:off x="7520040" y="3079440"/>
                  <a:ext cx="1081800" cy="390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Group 77"/>
              <p:cNvGrpSpPr/>
              <p:nvPr/>
            </p:nvGrpSpPr>
            <p:grpSpPr>
              <a:xfrm>
                <a:off x="4273920" y="3469680"/>
                <a:ext cx="1081440" cy="371880"/>
                <a:chOff x="4273920" y="3469680"/>
                <a:chExt cx="1081440" cy="371880"/>
              </a:xfrm>
            </p:grpSpPr>
            <p:sp>
              <p:nvSpPr>
                <p:cNvPr id="248" name="Rectangle 78"/>
                <p:cNvSpPr/>
                <p:nvPr/>
              </p:nvSpPr>
              <p:spPr>
                <a:xfrm>
                  <a:off x="4273920" y="3469680"/>
                  <a:ext cx="1081440" cy="37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700" spc="-1" strike="noStrike">
                      <a:solidFill>
                        <a:srgbClr val="990000"/>
                      </a:solidFill>
                      <a:latin typeface="Arial"/>
                      <a:ea typeface="Arial"/>
                    </a:rPr>
                    <a:t>6</a:t>
                  </a: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79"/>
                <p:cNvSpPr/>
                <p:nvPr/>
              </p:nvSpPr>
              <p:spPr>
                <a:xfrm>
                  <a:off x="4273920" y="3469680"/>
                  <a:ext cx="1081440" cy="37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0" name="Group 80"/>
              <p:cNvGrpSpPr/>
              <p:nvPr/>
            </p:nvGrpSpPr>
            <p:grpSpPr>
              <a:xfrm>
                <a:off x="5355720" y="3469680"/>
                <a:ext cx="1081800" cy="371880"/>
                <a:chOff x="5355720" y="3469680"/>
                <a:chExt cx="1081800" cy="371880"/>
              </a:xfrm>
            </p:grpSpPr>
            <p:sp>
              <p:nvSpPr>
                <p:cNvPr id="251" name="Rectangle 81"/>
                <p:cNvSpPr/>
                <p:nvPr/>
              </p:nvSpPr>
              <p:spPr>
                <a:xfrm>
                  <a:off x="5355720" y="3469680"/>
                  <a:ext cx="1081800" cy="37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700" spc="-1" strike="noStrike">
                      <a:solidFill>
                        <a:srgbClr val="990000"/>
                      </a:solidFill>
                      <a:latin typeface="Arial"/>
                      <a:ea typeface="Arial"/>
                    </a:rPr>
                    <a:t>39</a:t>
                  </a: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" name="Rectangle 82"/>
                <p:cNvSpPr/>
                <p:nvPr/>
              </p:nvSpPr>
              <p:spPr>
                <a:xfrm>
                  <a:off x="5355720" y="3469680"/>
                  <a:ext cx="1081800" cy="37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3" name="Group 83"/>
              <p:cNvGrpSpPr/>
              <p:nvPr/>
            </p:nvGrpSpPr>
            <p:grpSpPr>
              <a:xfrm>
                <a:off x="6438240" y="3469680"/>
                <a:ext cx="1081440" cy="371880"/>
                <a:chOff x="6438240" y="3469680"/>
                <a:chExt cx="1081440" cy="371880"/>
              </a:xfrm>
            </p:grpSpPr>
            <p:sp>
              <p:nvSpPr>
                <p:cNvPr id="254" name="Rectangle 84"/>
                <p:cNvSpPr/>
                <p:nvPr/>
              </p:nvSpPr>
              <p:spPr>
                <a:xfrm>
                  <a:off x="6438240" y="3469680"/>
                  <a:ext cx="1081440" cy="37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700" spc="-1" strike="noStrike">
                      <a:solidFill>
                        <a:srgbClr val="990000"/>
                      </a:solidFill>
                      <a:latin typeface="Arial"/>
                      <a:ea typeface="Arial"/>
                    </a:rPr>
                    <a:t>41.3</a:t>
                  </a: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Rectangle 85"/>
                <p:cNvSpPr/>
                <p:nvPr/>
              </p:nvSpPr>
              <p:spPr>
                <a:xfrm>
                  <a:off x="6438240" y="3469680"/>
                  <a:ext cx="1081440" cy="37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Group 86"/>
              <p:cNvGrpSpPr/>
              <p:nvPr/>
            </p:nvGrpSpPr>
            <p:grpSpPr>
              <a:xfrm>
                <a:off x="7520040" y="3469680"/>
                <a:ext cx="1081800" cy="371880"/>
                <a:chOff x="7520040" y="3469680"/>
                <a:chExt cx="1081800" cy="371880"/>
              </a:xfrm>
            </p:grpSpPr>
            <p:sp>
              <p:nvSpPr>
                <p:cNvPr id="257" name="Rectangle 87"/>
                <p:cNvSpPr/>
                <p:nvPr/>
              </p:nvSpPr>
              <p:spPr>
                <a:xfrm>
                  <a:off x="7520040" y="3469680"/>
                  <a:ext cx="1081800" cy="37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700" spc="-1" strike="noStrike">
                      <a:solidFill>
                        <a:srgbClr val="990000"/>
                      </a:solidFill>
                      <a:latin typeface="Arial"/>
                      <a:ea typeface="Arial"/>
                    </a:rPr>
                    <a:t>41.2</a:t>
                  </a: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88"/>
                <p:cNvSpPr/>
                <p:nvPr/>
              </p:nvSpPr>
              <p:spPr>
                <a:xfrm>
                  <a:off x="7520040" y="3469680"/>
                  <a:ext cx="1081800" cy="37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9" name="Group 89"/>
              <p:cNvGrpSpPr/>
              <p:nvPr/>
            </p:nvGrpSpPr>
            <p:grpSpPr>
              <a:xfrm>
                <a:off x="4273920" y="3841920"/>
                <a:ext cx="1081440" cy="371880"/>
                <a:chOff x="4273920" y="3841920"/>
                <a:chExt cx="1081440" cy="371880"/>
              </a:xfrm>
            </p:grpSpPr>
            <p:sp>
              <p:nvSpPr>
                <p:cNvPr id="260" name="Rectangle 90"/>
                <p:cNvSpPr/>
                <p:nvPr/>
              </p:nvSpPr>
              <p:spPr>
                <a:xfrm>
                  <a:off x="4273920" y="3841920"/>
                  <a:ext cx="1081440" cy="37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700" spc="-1" strike="noStrike">
                      <a:solidFill>
                        <a:srgbClr val="990000"/>
                      </a:solidFill>
                      <a:latin typeface="Arial"/>
                      <a:ea typeface="Arial"/>
                    </a:rPr>
                    <a:t>7</a:t>
                  </a: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Rectangle 91"/>
                <p:cNvSpPr/>
                <p:nvPr/>
              </p:nvSpPr>
              <p:spPr>
                <a:xfrm>
                  <a:off x="4273920" y="3841920"/>
                  <a:ext cx="1081440" cy="37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2" name="Group 92"/>
              <p:cNvGrpSpPr/>
              <p:nvPr/>
            </p:nvGrpSpPr>
            <p:grpSpPr>
              <a:xfrm>
                <a:off x="5355720" y="3841920"/>
                <a:ext cx="1081800" cy="371880"/>
                <a:chOff x="5355720" y="3841920"/>
                <a:chExt cx="1081800" cy="371880"/>
              </a:xfrm>
            </p:grpSpPr>
            <p:sp>
              <p:nvSpPr>
                <p:cNvPr id="263" name="Rectangle 93"/>
                <p:cNvSpPr/>
                <p:nvPr/>
              </p:nvSpPr>
              <p:spPr>
                <a:xfrm>
                  <a:off x="5355720" y="3841920"/>
                  <a:ext cx="1081800" cy="37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700" spc="-1" strike="noStrike">
                      <a:solidFill>
                        <a:srgbClr val="990000"/>
                      </a:solidFill>
                      <a:latin typeface="Arial"/>
                      <a:ea typeface="Arial"/>
                    </a:rPr>
                    <a:t>46</a:t>
                  </a: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Rectangle 94"/>
                <p:cNvSpPr/>
                <p:nvPr/>
              </p:nvSpPr>
              <p:spPr>
                <a:xfrm>
                  <a:off x="5355720" y="3841920"/>
                  <a:ext cx="1081800" cy="37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5" name="Group 95"/>
              <p:cNvGrpSpPr/>
              <p:nvPr/>
            </p:nvGrpSpPr>
            <p:grpSpPr>
              <a:xfrm>
                <a:off x="6438240" y="3841920"/>
                <a:ext cx="1081440" cy="371880"/>
                <a:chOff x="6438240" y="3841920"/>
                <a:chExt cx="1081440" cy="371880"/>
              </a:xfrm>
            </p:grpSpPr>
            <p:sp>
              <p:nvSpPr>
                <p:cNvPr id="266" name="Rectangle 96"/>
                <p:cNvSpPr/>
                <p:nvPr/>
              </p:nvSpPr>
              <p:spPr>
                <a:xfrm>
                  <a:off x="6438240" y="3841920"/>
                  <a:ext cx="1081440" cy="37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700" spc="-1" strike="noStrike">
                      <a:solidFill>
                        <a:srgbClr val="990000"/>
                      </a:solidFill>
                      <a:latin typeface="Arial"/>
                      <a:ea typeface="Arial"/>
                    </a:rPr>
                    <a:t>40.0</a:t>
                  </a: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" name="Rectangle 97"/>
                <p:cNvSpPr/>
                <p:nvPr/>
              </p:nvSpPr>
              <p:spPr>
                <a:xfrm>
                  <a:off x="6438240" y="3841920"/>
                  <a:ext cx="1081440" cy="37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8" name="Group 98"/>
              <p:cNvGrpSpPr/>
              <p:nvPr/>
            </p:nvGrpSpPr>
            <p:grpSpPr>
              <a:xfrm>
                <a:off x="7520040" y="3841920"/>
                <a:ext cx="1081800" cy="371880"/>
                <a:chOff x="7520040" y="3841920"/>
                <a:chExt cx="1081800" cy="371880"/>
              </a:xfrm>
            </p:grpSpPr>
            <p:sp>
              <p:nvSpPr>
                <p:cNvPr id="269" name="Rectangle 99"/>
                <p:cNvSpPr/>
                <p:nvPr/>
              </p:nvSpPr>
              <p:spPr>
                <a:xfrm>
                  <a:off x="7520040" y="3841920"/>
                  <a:ext cx="1081800" cy="37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700" spc="-1" strike="noStrike">
                      <a:solidFill>
                        <a:srgbClr val="990000"/>
                      </a:solidFill>
                      <a:latin typeface="Arial"/>
                      <a:ea typeface="Arial"/>
                    </a:rPr>
                    <a:t>40.6</a:t>
                  </a: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100"/>
                <p:cNvSpPr/>
                <p:nvPr/>
              </p:nvSpPr>
              <p:spPr>
                <a:xfrm>
                  <a:off x="7520040" y="3841920"/>
                  <a:ext cx="1081800" cy="37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1" name="Group 101"/>
              <p:cNvGrpSpPr/>
              <p:nvPr/>
            </p:nvGrpSpPr>
            <p:grpSpPr>
              <a:xfrm>
                <a:off x="4273920" y="4213800"/>
                <a:ext cx="1081440" cy="371880"/>
                <a:chOff x="4273920" y="4213800"/>
                <a:chExt cx="1081440" cy="371880"/>
              </a:xfrm>
            </p:grpSpPr>
            <p:sp>
              <p:nvSpPr>
                <p:cNvPr id="272" name="Rectangle 102"/>
                <p:cNvSpPr/>
                <p:nvPr/>
              </p:nvSpPr>
              <p:spPr>
                <a:xfrm>
                  <a:off x="4273920" y="4213800"/>
                  <a:ext cx="1081440" cy="37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700" spc="-1" strike="noStrike">
                      <a:solidFill>
                        <a:srgbClr val="990000"/>
                      </a:solidFill>
                      <a:latin typeface="Arial"/>
                      <a:ea typeface="Arial"/>
                    </a:rPr>
                    <a:t>8</a:t>
                  </a: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103"/>
                <p:cNvSpPr/>
                <p:nvPr/>
              </p:nvSpPr>
              <p:spPr>
                <a:xfrm>
                  <a:off x="4273920" y="4213800"/>
                  <a:ext cx="1081440" cy="37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4" name="Group 104"/>
              <p:cNvGrpSpPr/>
              <p:nvPr/>
            </p:nvGrpSpPr>
            <p:grpSpPr>
              <a:xfrm>
                <a:off x="5355720" y="4213800"/>
                <a:ext cx="1081800" cy="371880"/>
                <a:chOff x="5355720" y="4213800"/>
                <a:chExt cx="1081800" cy="371880"/>
              </a:xfrm>
            </p:grpSpPr>
            <p:sp>
              <p:nvSpPr>
                <p:cNvPr id="275" name="Rectangle 105"/>
                <p:cNvSpPr/>
                <p:nvPr/>
              </p:nvSpPr>
              <p:spPr>
                <a:xfrm>
                  <a:off x="5355720" y="4213800"/>
                  <a:ext cx="1081800" cy="37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700" spc="-1" strike="noStrike">
                      <a:solidFill>
                        <a:srgbClr val="990000"/>
                      </a:solidFill>
                      <a:latin typeface="Arial"/>
                      <a:ea typeface="Arial"/>
                    </a:rPr>
                    <a:t>44</a:t>
                  </a: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Rectangle 106"/>
                <p:cNvSpPr/>
                <p:nvPr/>
              </p:nvSpPr>
              <p:spPr>
                <a:xfrm>
                  <a:off x="5355720" y="4213800"/>
                  <a:ext cx="1081800" cy="37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7" name="Group 107"/>
              <p:cNvGrpSpPr/>
              <p:nvPr/>
            </p:nvGrpSpPr>
            <p:grpSpPr>
              <a:xfrm>
                <a:off x="6438240" y="4213800"/>
                <a:ext cx="1081440" cy="371880"/>
                <a:chOff x="6438240" y="4213800"/>
                <a:chExt cx="1081440" cy="371880"/>
              </a:xfrm>
            </p:grpSpPr>
            <p:sp>
              <p:nvSpPr>
                <p:cNvPr id="278" name="Rectangle 108"/>
                <p:cNvSpPr/>
                <p:nvPr/>
              </p:nvSpPr>
              <p:spPr>
                <a:xfrm>
                  <a:off x="6438240" y="4213800"/>
                  <a:ext cx="1081440" cy="37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700" spc="-1" strike="noStrike">
                      <a:solidFill>
                        <a:srgbClr val="990000"/>
                      </a:solidFill>
                      <a:latin typeface="Arial"/>
                      <a:ea typeface="Arial"/>
                    </a:rPr>
                    <a:t>42.0</a:t>
                  </a: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Rectangle 109"/>
                <p:cNvSpPr/>
                <p:nvPr/>
              </p:nvSpPr>
              <p:spPr>
                <a:xfrm>
                  <a:off x="6438240" y="4213800"/>
                  <a:ext cx="1081440" cy="37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0" name="Group 110"/>
              <p:cNvGrpSpPr/>
              <p:nvPr/>
            </p:nvGrpSpPr>
            <p:grpSpPr>
              <a:xfrm>
                <a:off x="7520040" y="4213800"/>
                <a:ext cx="1081800" cy="371880"/>
                <a:chOff x="7520040" y="4213800"/>
                <a:chExt cx="1081800" cy="371880"/>
              </a:xfrm>
            </p:grpSpPr>
            <p:sp>
              <p:nvSpPr>
                <p:cNvPr id="281" name="Rectangle 111"/>
                <p:cNvSpPr/>
                <p:nvPr/>
              </p:nvSpPr>
              <p:spPr>
                <a:xfrm>
                  <a:off x="7520040" y="4213800"/>
                  <a:ext cx="1081800" cy="37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700" spc="-1" strike="noStrike">
                      <a:solidFill>
                        <a:srgbClr val="990000"/>
                      </a:solidFill>
                      <a:latin typeface="Arial"/>
                      <a:ea typeface="Arial"/>
                    </a:rPr>
                    <a:t>41.8</a:t>
                  </a: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Rectangle 112"/>
                <p:cNvSpPr/>
                <p:nvPr/>
              </p:nvSpPr>
              <p:spPr>
                <a:xfrm>
                  <a:off x="7520040" y="4213800"/>
                  <a:ext cx="1081800" cy="37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3" name="Group 113"/>
              <p:cNvGrpSpPr/>
              <p:nvPr/>
            </p:nvGrpSpPr>
            <p:grpSpPr>
              <a:xfrm>
                <a:off x="4273920" y="4586040"/>
                <a:ext cx="1081440" cy="371880"/>
                <a:chOff x="4273920" y="4586040"/>
                <a:chExt cx="1081440" cy="371880"/>
              </a:xfrm>
            </p:grpSpPr>
            <p:sp>
              <p:nvSpPr>
                <p:cNvPr id="284" name="Rectangle 114"/>
                <p:cNvSpPr/>
                <p:nvPr/>
              </p:nvSpPr>
              <p:spPr>
                <a:xfrm>
                  <a:off x="4273920" y="4586040"/>
                  <a:ext cx="1081440" cy="37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700" spc="-1" strike="noStrike">
                      <a:solidFill>
                        <a:srgbClr val="990000"/>
                      </a:solidFill>
                      <a:latin typeface="Arial"/>
                      <a:ea typeface="Arial"/>
                    </a:rPr>
                    <a:t>9</a:t>
                  </a: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Rectangle 115"/>
                <p:cNvSpPr/>
                <p:nvPr/>
              </p:nvSpPr>
              <p:spPr>
                <a:xfrm>
                  <a:off x="4273920" y="4586040"/>
                  <a:ext cx="1081440" cy="37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6" name="Group 116"/>
              <p:cNvGrpSpPr/>
              <p:nvPr/>
            </p:nvGrpSpPr>
            <p:grpSpPr>
              <a:xfrm>
                <a:off x="5355720" y="4586040"/>
                <a:ext cx="1081800" cy="371880"/>
                <a:chOff x="5355720" y="4586040"/>
                <a:chExt cx="1081800" cy="371880"/>
              </a:xfrm>
            </p:grpSpPr>
            <p:sp>
              <p:nvSpPr>
                <p:cNvPr id="287" name="Rectangle 117"/>
                <p:cNvSpPr/>
                <p:nvPr/>
              </p:nvSpPr>
              <p:spPr>
                <a:xfrm>
                  <a:off x="5355720" y="4586040"/>
                  <a:ext cx="1081800" cy="37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700" spc="-1" strike="noStrike">
                      <a:solidFill>
                        <a:srgbClr val="990000"/>
                      </a:solidFill>
                      <a:latin typeface="Arial"/>
                      <a:ea typeface="Arial"/>
                    </a:rPr>
                    <a:t>45</a:t>
                  </a: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Rectangle 118"/>
                <p:cNvSpPr/>
                <p:nvPr/>
              </p:nvSpPr>
              <p:spPr>
                <a:xfrm>
                  <a:off x="5355720" y="4586040"/>
                  <a:ext cx="1081800" cy="37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9" name="Group 119"/>
              <p:cNvGrpSpPr/>
              <p:nvPr/>
            </p:nvGrpSpPr>
            <p:grpSpPr>
              <a:xfrm>
                <a:off x="6438240" y="4586040"/>
                <a:ext cx="1081440" cy="371880"/>
                <a:chOff x="6438240" y="4586040"/>
                <a:chExt cx="1081440" cy="371880"/>
              </a:xfrm>
            </p:grpSpPr>
            <p:sp>
              <p:nvSpPr>
                <p:cNvPr id="290" name="Rectangle 120"/>
                <p:cNvSpPr/>
                <p:nvPr/>
              </p:nvSpPr>
              <p:spPr>
                <a:xfrm>
                  <a:off x="6438240" y="4586040"/>
                  <a:ext cx="1081440" cy="37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700" spc="-1" strike="noStrike">
                      <a:solidFill>
                        <a:srgbClr val="990000"/>
                      </a:solidFill>
                      <a:latin typeface="Arial"/>
                      <a:ea typeface="Arial"/>
                    </a:rPr>
                    <a:t>43.0</a:t>
                  </a: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" name="Rectangle 121"/>
                <p:cNvSpPr/>
                <p:nvPr/>
              </p:nvSpPr>
              <p:spPr>
                <a:xfrm>
                  <a:off x="6438240" y="4586040"/>
                  <a:ext cx="1081440" cy="37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2" name="Group 122"/>
              <p:cNvGrpSpPr/>
              <p:nvPr/>
            </p:nvGrpSpPr>
            <p:grpSpPr>
              <a:xfrm>
                <a:off x="7520040" y="4586040"/>
                <a:ext cx="1081800" cy="371880"/>
                <a:chOff x="7520040" y="4586040"/>
                <a:chExt cx="1081800" cy="371880"/>
              </a:xfrm>
            </p:grpSpPr>
            <p:sp>
              <p:nvSpPr>
                <p:cNvPr id="293" name="Rectangle 123"/>
                <p:cNvSpPr/>
                <p:nvPr/>
              </p:nvSpPr>
              <p:spPr>
                <a:xfrm>
                  <a:off x="7520040" y="4586040"/>
                  <a:ext cx="1081800" cy="37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700" spc="-1" strike="noStrike">
                      <a:solidFill>
                        <a:srgbClr val="990000"/>
                      </a:solidFill>
                      <a:latin typeface="Arial"/>
                      <a:ea typeface="Arial"/>
                    </a:rPr>
                    <a:t>42</a:t>
                  </a: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124"/>
                <p:cNvSpPr/>
                <p:nvPr/>
              </p:nvSpPr>
              <p:spPr>
                <a:xfrm>
                  <a:off x="7520040" y="4586040"/>
                  <a:ext cx="1081800" cy="37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5" name="Group 125"/>
              <p:cNvGrpSpPr/>
              <p:nvPr/>
            </p:nvGrpSpPr>
            <p:grpSpPr>
              <a:xfrm>
                <a:off x="4273920" y="4957920"/>
                <a:ext cx="1081440" cy="371880"/>
                <a:chOff x="4273920" y="4957920"/>
                <a:chExt cx="1081440" cy="371880"/>
              </a:xfrm>
            </p:grpSpPr>
            <p:sp>
              <p:nvSpPr>
                <p:cNvPr id="296" name="Rectangle 126"/>
                <p:cNvSpPr/>
                <p:nvPr/>
              </p:nvSpPr>
              <p:spPr>
                <a:xfrm>
                  <a:off x="4273920" y="4957920"/>
                  <a:ext cx="1081440" cy="37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700" spc="-1" strike="noStrike">
                      <a:solidFill>
                        <a:srgbClr val="990000"/>
                      </a:solidFill>
                      <a:latin typeface="Arial"/>
                      <a:ea typeface="Arial"/>
                    </a:rPr>
                    <a:t>10</a:t>
                  </a: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127"/>
                <p:cNvSpPr/>
                <p:nvPr/>
              </p:nvSpPr>
              <p:spPr>
                <a:xfrm>
                  <a:off x="4273920" y="4957920"/>
                  <a:ext cx="1081440" cy="37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8" name="Group 128"/>
              <p:cNvGrpSpPr/>
              <p:nvPr/>
            </p:nvGrpSpPr>
            <p:grpSpPr>
              <a:xfrm>
                <a:off x="5355720" y="4957920"/>
                <a:ext cx="1081800" cy="371880"/>
                <a:chOff x="5355720" y="4957920"/>
                <a:chExt cx="1081800" cy="371880"/>
              </a:xfrm>
            </p:grpSpPr>
            <p:sp>
              <p:nvSpPr>
                <p:cNvPr id="299" name="Rectangle 129"/>
                <p:cNvSpPr/>
                <p:nvPr/>
              </p:nvSpPr>
              <p:spPr>
                <a:xfrm>
                  <a:off x="5355720" y="4957920"/>
                  <a:ext cx="1081800" cy="37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700" spc="-1" strike="noStrike">
                      <a:solidFill>
                        <a:srgbClr val="990000"/>
                      </a:solidFill>
                      <a:latin typeface="Arial"/>
                      <a:ea typeface="Arial"/>
                    </a:rPr>
                    <a:t>38</a:t>
                  </a: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Rectangle 130"/>
                <p:cNvSpPr/>
                <p:nvPr/>
              </p:nvSpPr>
              <p:spPr>
                <a:xfrm>
                  <a:off x="5355720" y="4957920"/>
                  <a:ext cx="1081800" cy="37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1" name="Group 131"/>
              <p:cNvGrpSpPr/>
              <p:nvPr/>
            </p:nvGrpSpPr>
            <p:grpSpPr>
              <a:xfrm>
                <a:off x="6438240" y="4957920"/>
                <a:ext cx="1081440" cy="371880"/>
                <a:chOff x="6438240" y="4957920"/>
                <a:chExt cx="1081440" cy="371880"/>
              </a:xfrm>
            </p:grpSpPr>
            <p:sp>
              <p:nvSpPr>
                <p:cNvPr id="302" name="Rectangle 132"/>
                <p:cNvSpPr/>
                <p:nvPr/>
              </p:nvSpPr>
              <p:spPr>
                <a:xfrm>
                  <a:off x="6438240" y="4957920"/>
                  <a:ext cx="1081440" cy="37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700" spc="-1" strike="noStrike">
                      <a:solidFill>
                        <a:srgbClr val="990000"/>
                      </a:solidFill>
                      <a:latin typeface="Arial"/>
                      <a:ea typeface="Arial"/>
                    </a:rPr>
                    <a:t>45.0</a:t>
                  </a: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133"/>
                <p:cNvSpPr/>
                <p:nvPr/>
              </p:nvSpPr>
              <p:spPr>
                <a:xfrm>
                  <a:off x="6438240" y="4957920"/>
                  <a:ext cx="1081440" cy="37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4" name="Group 134"/>
              <p:cNvGrpSpPr/>
              <p:nvPr/>
            </p:nvGrpSpPr>
            <p:grpSpPr>
              <a:xfrm>
                <a:off x="7520040" y="4957920"/>
                <a:ext cx="1081800" cy="371880"/>
                <a:chOff x="7520040" y="4957920"/>
                <a:chExt cx="1081800" cy="371880"/>
              </a:xfrm>
            </p:grpSpPr>
            <p:sp>
              <p:nvSpPr>
                <p:cNvPr id="305" name="Rectangle 135"/>
                <p:cNvSpPr/>
                <p:nvPr/>
              </p:nvSpPr>
              <p:spPr>
                <a:xfrm>
                  <a:off x="7520040" y="4957920"/>
                  <a:ext cx="1081800" cy="37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700" spc="-1" strike="noStrike">
                      <a:solidFill>
                        <a:srgbClr val="990000"/>
                      </a:solidFill>
                      <a:latin typeface="Arial"/>
                      <a:ea typeface="Arial"/>
                    </a:rPr>
                    <a:t>43</a:t>
                  </a: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Rectangle 136"/>
                <p:cNvSpPr/>
                <p:nvPr/>
              </p:nvSpPr>
              <p:spPr>
                <a:xfrm>
                  <a:off x="7520040" y="4957920"/>
                  <a:ext cx="1081800" cy="37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7" name="Group 137"/>
              <p:cNvGrpSpPr/>
              <p:nvPr/>
            </p:nvGrpSpPr>
            <p:grpSpPr>
              <a:xfrm>
                <a:off x="4273920" y="5330160"/>
                <a:ext cx="1081440" cy="371880"/>
                <a:chOff x="4273920" y="5330160"/>
                <a:chExt cx="1081440" cy="371880"/>
              </a:xfrm>
            </p:grpSpPr>
            <p:sp>
              <p:nvSpPr>
                <p:cNvPr id="308" name="Rectangle 138"/>
                <p:cNvSpPr/>
                <p:nvPr/>
              </p:nvSpPr>
              <p:spPr>
                <a:xfrm>
                  <a:off x="4273920" y="5330160"/>
                  <a:ext cx="1081440" cy="37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700" spc="-1" strike="noStrike">
                      <a:solidFill>
                        <a:srgbClr val="990000"/>
                      </a:solidFill>
                      <a:latin typeface="Arial"/>
                      <a:ea typeface="Arial"/>
                    </a:rPr>
                    <a:t>11</a:t>
                  </a: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139"/>
                <p:cNvSpPr/>
                <p:nvPr/>
              </p:nvSpPr>
              <p:spPr>
                <a:xfrm>
                  <a:off x="4273920" y="5330160"/>
                  <a:ext cx="1081440" cy="37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0" name="Group 140"/>
              <p:cNvGrpSpPr/>
              <p:nvPr/>
            </p:nvGrpSpPr>
            <p:grpSpPr>
              <a:xfrm>
                <a:off x="5355720" y="5330160"/>
                <a:ext cx="1081800" cy="371880"/>
                <a:chOff x="5355720" y="5330160"/>
                <a:chExt cx="1081800" cy="371880"/>
              </a:xfrm>
            </p:grpSpPr>
            <p:sp>
              <p:nvSpPr>
                <p:cNvPr id="311" name="Rectangle 141"/>
                <p:cNvSpPr/>
                <p:nvPr/>
              </p:nvSpPr>
              <p:spPr>
                <a:xfrm>
                  <a:off x="5355720" y="5330160"/>
                  <a:ext cx="1081800" cy="37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700" spc="-1" strike="noStrike">
                      <a:solidFill>
                        <a:srgbClr val="990000"/>
                      </a:solidFill>
                      <a:latin typeface="Arial"/>
                      <a:ea typeface="Arial"/>
                    </a:rPr>
                    <a:t>40</a:t>
                  </a: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" name="Rectangle 142"/>
                <p:cNvSpPr/>
                <p:nvPr/>
              </p:nvSpPr>
              <p:spPr>
                <a:xfrm>
                  <a:off x="5355720" y="5330160"/>
                  <a:ext cx="1081800" cy="37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3" name="Group 143"/>
              <p:cNvGrpSpPr/>
              <p:nvPr/>
            </p:nvGrpSpPr>
            <p:grpSpPr>
              <a:xfrm>
                <a:off x="6438240" y="5330160"/>
                <a:ext cx="1081440" cy="371880"/>
                <a:chOff x="6438240" y="5330160"/>
                <a:chExt cx="1081440" cy="371880"/>
              </a:xfrm>
            </p:grpSpPr>
            <p:sp>
              <p:nvSpPr>
                <p:cNvPr id="314" name="Rectangle 144"/>
                <p:cNvSpPr/>
                <p:nvPr/>
              </p:nvSpPr>
              <p:spPr>
                <a:xfrm>
                  <a:off x="6438240" y="5330160"/>
                  <a:ext cx="1081440" cy="37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700" spc="-1" strike="noStrike">
                      <a:solidFill>
                        <a:srgbClr val="990000"/>
                      </a:solidFill>
                      <a:latin typeface="Arial"/>
                      <a:ea typeface="Arial"/>
                    </a:rPr>
                    <a:t>42.3</a:t>
                  </a: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" name="Rectangle 145"/>
                <p:cNvSpPr/>
                <p:nvPr/>
              </p:nvSpPr>
              <p:spPr>
                <a:xfrm>
                  <a:off x="6438240" y="5330160"/>
                  <a:ext cx="1081440" cy="37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6" name="Group 146"/>
              <p:cNvGrpSpPr/>
              <p:nvPr/>
            </p:nvGrpSpPr>
            <p:grpSpPr>
              <a:xfrm>
                <a:off x="7520040" y="5330160"/>
                <a:ext cx="1081800" cy="371880"/>
                <a:chOff x="7520040" y="5330160"/>
                <a:chExt cx="1081800" cy="371880"/>
              </a:xfrm>
            </p:grpSpPr>
            <p:sp>
              <p:nvSpPr>
                <p:cNvPr id="317" name="Rectangle 147"/>
                <p:cNvSpPr/>
                <p:nvPr/>
              </p:nvSpPr>
              <p:spPr>
                <a:xfrm>
                  <a:off x="7520040" y="5330160"/>
                  <a:ext cx="1081800" cy="37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700" spc="-1" strike="noStrike">
                      <a:solidFill>
                        <a:srgbClr val="990000"/>
                      </a:solidFill>
                      <a:latin typeface="Arial"/>
                      <a:ea typeface="Arial"/>
                    </a:rPr>
                    <a:t>42.4</a:t>
                  </a: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" name="Rectangle 148"/>
                <p:cNvSpPr/>
                <p:nvPr/>
              </p:nvSpPr>
              <p:spPr>
                <a:xfrm>
                  <a:off x="7520040" y="5330160"/>
                  <a:ext cx="1081800" cy="37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9" name="Group 149"/>
              <p:cNvGrpSpPr/>
              <p:nvPr/>
            </p:nvGrpSpPr>
            <p:grpSpPr>
              <a:xfrm>
                <a:off x="4273920" y="5702040"/>
                <a:ext cx="1081440" cy="390240"/>
                <a:chOff x="4273920" y="5702040"/>
                <a:chExt cx="1081440" cy="390240"/>
              </a:xfrm>
            </p:grpSpPr>
            <p:sp>
              <p:nvSpPr>
                <p:cNvPr id="320" name="Rectangle 150"/>
                <p:cNvSpPr/>
                <p:nvPr/>
              </p:nvSpPr>
              <p:spPr>
                <a:xfrm>
                  <a:off x="4273920" y="5702040"/>
                  <a:ext cx="1081440" cy="39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700" spc="-1" strike="noStrike">
                      <a:solidFill>
                        <a:srgbClr val="990000"/>
                      </a:solidFill>
                      <a:latin typeface="Arial"/>
                      <a:ea typeface="Arial"/>
                    </a:rPr>
                    <a:t>12</a:t>
                  </a: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" name="Rectangle 151"/>
                <p:cNvSpPr/>
                <p:nvPr/>
              </p:nvSpPr>
              <p:spPr>
                <a:xfrm>
                  <a:off x="4273920" y="5702040"/>
                  <a:ext cx="1081440" cy="390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2" name="Group 152"/>
              <p:cNvGrpSpPr/>
              <p:nvPr/>
            </p:nvGrpSpPr>
            <p:grpSpPr>
              <a:xfrm>
                <a:off x="5355720" y="5702040"/>
                <a:ext cx="1081800" cy="390240"/>
                <a:chOff x="5355720" y="5702040"/>
                <a:chExt cx="1081800" cy="390240"/>
              </a:xfrm>
            </p:grpSpPr>
            <p:sp>
              <p:nvSpPr>
                <p:cNvPr id="323" name="Rectangle 153"/>
                <p:cNvSpPr/>
                <p:nvPr/>
              </p:nvSpPr>
              <p:spPr>
                <a:xfrm>
                  <a:off x="5355720" y="5702040"/>
                  <a:ext cx="1081800" cy="39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700" spc="-1" strike="noStrike">
                      <a:solidFill>
                        <a:srgbClr val="990000"/>
                      </a:solidFill>
                      <a:latin typeface="Arial"/>
                      <a:ea typeface="Times New Roman"/>
                    </a:rPr>
                    <a:t> </a:t>
                  </a: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" name="Rectangle 154"/>
                <p:cNvSpPr/>
                <p:nvPr/>
              </p:nvSpPr>
              <p:spPr>
                <a:xfrm>
                  <a:off x="5355720" y="5702040"/>
                  <a:ext cx="1081800" cy="390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5" name="Group 155"/>
              <p:cNvGrpSpPr/>
              <p:nvPr/>
            </p:nvGrpSpPr>
            <p:grpSpPr>
              <a:xfrm>
                <a:off x="6438240" y="5702040"/>
                <a:ext cx="1081440" cy="390240"/>
                <a:chOff x="6438240" y="5702040"/>
                <a:chExt cx="1081440" cy="390240"/>
              </a:xfrm>
            </p:grpSpPr>
            <p:sp>
              <p:nvSpPr>
                <p:cNvPr id="326" name="Rectangle 156"/>
                <p:cNvSpPr/>
                <p:nvPr/>
              </p:nvSpPr>
              <p:spPr>
                <a:xfrm>
                  <a:off x="6438240" y="5702040"/>
                  <a:ext cx="1081440" cy="39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700" spc="-1" strike="noStrike">
                      <a:solidFill>
                        <a:srgbClr val="990000"/>
                      </a:solidFill>
                      <a:latin typeface="Arial"/>
                      <a:ea typeface="Arial"/>
                    </a:rPr>
                    <a:t>41.0</a:t>
                  </a: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" name="Rectangle 157"/>
                <p:cNvSpPr/>
                <p:nvPr/>
              </p:nvSpPr>
              <p:spPr>
                <a:xfrm>
                  <a:off x="6438240" y="5702040"/>
                  <a:ext cx="1081440" cy="390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8" name="Group 158"/>
              <p:cNvGrpSpPr/>
              <p:nvPr/>
            </p:nvGrpSpPr>
            <p:grpSpPr>
              <a:xfrm>
                <a:off x="7520040" y="5702040"/>
                <a:ext cx="1081800" cy="390240"/>
                <a:chOff x="7520040" y="5702040"/>
                <a:chExt cx="1081800" cy="390240"/>
              </a:xfrm>
            </p:grpSpPr>
            <p:sp>
              <p:nvSpPr>
                <p:cNvPr id="329" name="Rectangle 159"/>
                <p:cNvSpPr/>
                <p:nvPr/>
              </p:nvSpPr>
              <p:spPr>
                <a:xfrm>
                  <a:off x="7520040" y="5702040"/>
                  <a:ext cx="1081800" cy="39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700" spc="-1" strike="noStrike">
                      <a:solidFill>
                        <a:srgbClr val="990000"/>
                      </a:solidFill>
                      <a:latin typeface="Arial"/>
                      <a:ea typeface="Arial"/>
                    </a:rPr>
                    <a:t>42.6</a:t>
                  </a: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" name="Rectangle 160"/>
                <p:cNvSpPr/>
                <p:nvPr/>
              </p:nvSpPr>
              <p:spPr>
                <a:xfrm>
                  <a:off x="7520040" y="5702040"/>
                  <a:ext cx="1081800" cy="390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31" name="Rectangle 161"/>
            <p:cNvSpPr/>
            <p:nvPr/>
          </p:nvSpPr>
          <p:spPr>
            <a:xfrm>
              <a:off x="4267080" y="1143000"/>
              <a:ext cx="4343040" cy="495288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33526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ider the following dat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ing from 4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eriod one can start forecasting by using MA3. Same is true for MA5 after the 6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erio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ual versus predicted(forecasted) graphs are as follow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Moving Average -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4" name="Object 3"/>
          <p:cNvGraphicFramePr/>
          <p:nvPr/>
        </p:nvGraphicFramePr>
        <p:xfrm>
          <a:off x="533520" y="2057400"/>
          <a:ext cx="7315200" cy="3429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3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057400"/>
                    <a:ext cx="731520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6" name="Text Box 4"/>
          <p:cNvSpPr/>
          <p:nvPr/>
        </p:nvSpPr>
        <p:spPr>
          <a:xfrm>
            <a:off x="5619600" y="1941480"/>
            <a:ext cx="584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5"/>
          <p:cNvSpPr/>
          <p:nvPr/>
        </p:nvSpPr>
        <p:spPr>
          <a:xfrm>
            <a:off x="8001000" y="4114800"/>
            <a:ext cx="838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6"/>
          <p:cNvSpPr/>
          <p:nvPr/>
        </p:nvSpPr>
        <p:spPr>
          <a:xfrm>
            <a:off x="7772400" y="2133720"/>
            <a:ext cx="838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7"/>
          <p:cNvSpPr/>
          <p:nvPr/>
        </p:nvSpPr>
        <p:spPr>
          <a:xfrm flipH="1">
            <a:off x="5105160" y="2209680"/>
            <a:ext cx="533160" cy="762120"/>
          </a:xfrm>
          <a:prstGeom prst="line">
            <a:avLst/>
          </a:prstGeom>
          <a:ln w="12600">
            <a:solidFill>
              <a:srgbClr val="701a5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8"/>
          <p:cNvSpPr/>
          <p:nvPr/>
        </p:nvSpPr>
        <p:spPr>
          <a:xfrm flipH="1" flipV="1">
            <a:off x="7238520" y="3581280"/>
            <a:ext cx="762120" cy="609840"/>
          </a:xfrm>
          <a:prstGeom prst="line">
            <a:avLst/>
          </a:prstGeom>
          <a:ln w="12600">
            <a:solidFill>
              <a:srgbClr val="701a5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9"/>
          <p:cNvSpPr/>
          <p:nvPr/>
        </p:nvSpPr>
        <p:spPr>
          <a:xfrm flipH="1">
            <a:off x="7086600" y="2438280"/>
            <a:ext cx="838080" cy="914400"/>
          </a:xfrm>
          <a:prstGeom prst="line">
            <a:avLst/>
          </a:prstGeom>
          <a:ln w="12600">
            <a:solidFill>
              <a:srgbClr val="701a5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Sample Excel analysis for Actual,   Moving Averages for 3 and 5 perio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1600200" y="1828800"/>
          <a:ext cx="6400800" cy="4389480"/>
        </p:xfrm>
        <a:graphic>
          <a:graphicData uri="http://schemas.openxmlformats.org/drawingml/2006/table">
            <a:tbl>
              <a:tblPr/>
              <a:tblGrid>
                <a:gridCol w="1600200"/>
                <a:gridCol w="1600200"/>
                <a:gridCol w="1600200"/>
                <a:gridCol w="1600200"/>
              </a:tblGrid>
              <a:tr h="366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1" lang="en-I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io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1" lang="en-I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u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en-I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en-I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N/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N/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N/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N/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.666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N/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N/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.3333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.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.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.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.3333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.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.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ample Excel analysis for Actual,   Centred Moving Averages for 2 and 4 peri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5" name=""/>
          <p:cNvGraphicFramePr/>
          <p:nvPr/>
        </p:nvGraphicFramePr>
        <p:xfrm>
          <a:off x="380880" y="990720"/>
          <a:ext cx="8458200" cy="5703840"/>
        </p:xfrm>
        <a:graphic>
          <a:graphicData uri="http://schemas.openxmlformats.org/drawingml/2006/table">
            <a:tbl>
              <a:tblPr/>
              <a:tblGrid>
                <a:gridCol w="1251000"/>
                <a:gridCol w="1252440"/>
                <a:gridCol w="1251000"/>
                <a:gridCol w="1668600"/>
                <a:gridCol w="1251000"/>
                <a:gridCol w="1784160"/>
              </a:tblGrid>
              <a:tr h="3744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io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u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1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           </a:t>
                      </a:r>
                      <a:r>
                        <a:rPr b="1" lang="en-IN" sz="1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Avg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1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   </a:t>
                      </a:r>
                      <a:r>
                        <a:rPr b="1" lang="en-IN" sz="1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Centered M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16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            </a:t>
                      </a:r>
                      <a:r>
                        <a:rPr b="1" lang="en-IN" sz="16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Avg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16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     </a:t>
                      </a:r>
                      <a:r>
                        <a:rPr b="1" lang="en-IN" sz="16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Centered MA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1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           </a:t>
                      </a:r>
                      <a:r>
                        <a:rPr b="1" lang="en-IN" sz="1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16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        </a:t>
                      </a:r>
                      <a:r>
                        <a:rPr b="1" lang="en-IN" sz="16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41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16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        </a:t>
                      </a:r>
                      <a:r>
                        <a:rPr b="1" lang="en-IN" sz="16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4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41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4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41.1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4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40.8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4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40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40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41.1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4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41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4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4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43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43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44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43.3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44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43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4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4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41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40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16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             </a:t>
                      </a:r>
                      <a:r>
                        <a:rPr b="1" lang="en-IN" sz="16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3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1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               </a:t>
                      </a:r>
                      <a:r>
                        <a:rPr b="1" lang="en-IN" sz="1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16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             </a:t>
                      </a:r>
                      <a:r>
                        <a:rPr b="1" lang="en-IN" sz="16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Sample SPSS analysis for Actual, Centered MA3 and Prior MA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1"/>
          <p:cNvSpPr/>
          <p:nvPr/>
        </p:nvSpPr>
        <p:spPr>
          <a:xfrm>
            <a:off x="2209680" y="1828800"/>
            <a:ext cx="4572000" cy="73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io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u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or_MA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1.7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1.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1.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1.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0.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1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9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2.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1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3.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0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5.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2.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3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8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1.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5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2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ample SPSS graph for Actual, Centered MA5 and Prior MA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14"/>
          <p:cNvSpPr/>
          <p:nvPr/>
        </p:nvSpPr>
        <p:spPr>
          <a:xfrm>
            <a:off x="2286000" y="3059280"/>
            <a:ext cx="4572000" cy="10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15"/>
          <p:cNvSpPr/>
          <p:nvPr/>
        </p:nvSpPr>
        <p:spPr>
          <a:xfrm>
            <a:off x="2286000" y="3059280"/>
            <a:ext cx="4572000" cy="10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1"/>
          <p:cNvSpPr/>
          <p:nvPr/>
        </p:nvSpPr>
        <p:spPr>
          <a:xfrm>
            <a:off x="2286000" y="3059280"/>
            <a:ext cx="4572000" cy="10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2"/>
          <p:cNvSpPr/>
          <p:nvPr/>
        </p:nvSpPr>
        <p:spPr>
          <a:xfrm>
            <a:off x="2286000" y="3059280"/>
            <a:ext cx="4572000" cy="10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Picture 6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76201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92920" cy="7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xample: Weekly Department Store S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182600" y="1600200"/>
            <a:ext cx="3810240" cy="453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weekly sales figures (in millions of dollars) presented in the following table are used by a major department store to determine the need for temporary sales personn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6" name="Object 5"/>
          <p:cNvGraphicFramePr/>
          <p:nvPr/>
        </p:nvGraphicFramePr>
        <p:xfrm>
          <a:off x="5257800" y="1600200"/>
          <a:ext cx="3200400" cy="4572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5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7800" y="1600200"/>
                    <a:ext cx="320040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xample: Weekly Department Store S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a three-week moving average (k=3) for the department store sales to forecast for the week 24 and 2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0" name="Object 4"/>
              <p:cNvSpPr txBox="1"/>
              <p:nvPr/>
            </p:nvSpPr>
            <p:spPr>
              <a:xfrm>
                <a:off x="2440080" y="3581280"/>
                <a:ext cx="39416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1" name="Rectangle 5"/>
          <p:cNvSpPr/>
          <p:nvPr/>
        </p:nvSpPr>
        <p:spPr>
          <a:xfrm>
            <a:off x="914400" y="4419720"/>
            <a:ext cx="510552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orecast for the week 26 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2" name="Object 3"/>
              <p:cNvSpPr txBox="1"/>
              <p:nvPr/>
            </p:nvSpPr>
            <p:spPr>
              <a:xfrm>
                <a:off x="2286000" y="5410080"/>
                <a:ext cx="37353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</m:sub>
                        </m:sSub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91b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91b09"/>
                </a:solidFill>
                <a:latin typeface="Arial"/>
              </a:rPr>
              <a:t>Foreca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13110f"/>
                </a:solidFill>
                <a:latin typeface="Arial"/>
              </a:rPr>
              <a:t>is a prediction of future events used for planning proces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91b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91b09"/>
                </a:solidFill>
                <a:latin typeface="Arial"/>
              </a:rPr>
              <a:t>Time Seri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13110f"/>
                </a:solidFill>
                <a:latin typeface="Arial"/>
              </a:rPr>
              <a:t>is the repeated observations of demand for a service or product in their order of occurr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1760" y="304920"/>
            <a:ext cx="77929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xample: Weekly Department Store S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4" name="Object 4"/>
          <p:cNvGraphicFramePr/>
          <p:nvPr/>
        </p:nvGraphicFramePr>
        <p:xfrm>
          <a:off x="5638680" y="1143000"/>
          <a:ext cx="3276720" cy="4913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6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143000"/>
                    <a:ext cx="3276720" cy="491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Object 6"/>
          <p:cNvGraphicFramePr/>
          <p:nvPr/>
        </p:nvGraphicFramePr>
        <p:xfrm>
          <a:off x="533520" y="1143000"/>
          <a:ext cx="4952880" cy="48769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6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1143000"/>
                    <a:ext cx="495288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oblem:  Robert’s Dru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ring the past ten weeks, sales of cases of Comfort brand headache medicine at Robert's Drugs have been as foll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ek    Sales           Week     S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        110                 6          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        115                 7          1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        125                 8          1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        120                 9          1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        125               10          1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Robert's uses a 3-period moving average to forecast sales, what is the forecast for Week 11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Exponential Smoothing Meth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method provides an exponentially weighted moving average of all previously observed valu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ropriate for data with no predictable upward or downward tr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im is to estimate the current level and use it as a forecast of future val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mple Exponential Smoothing Meth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ally, the exponential smoothing equation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ecast for the next perio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smoothing consta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observed value of series in perio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old forecast for perio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orecast 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+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based on weighting the most recent observation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a weigh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weighting the most recent forecast 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a weight of 1-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5" name="Object 4"/>
              <p:cNvSpPr txBox="1"/>
              <p:nvPr/>
            </p:nvSpPr>
            <p:spPr>
              <a:xfrm>
                <a:off x="2971800" y="2209680"/>
                <a:ext cx="26161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α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" name="Object 5"/>
              <p:cNvSpPr txBox="1"/>
              <p:nvPr/>
            </p:nvSpPr>
            <p:spPr>
              <a:xfrm>
                <a:off x="1752480" y="2590920"/>
                <a:ext cx="609840" cy="42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" name="Object 6"/>
              <p:cNvSpPr txBox="1"/>
              <p:nvPr/>
            </p:nvSpPr>
            <p:spPr>
              <a:xfrm>
                <a:off x="1600200" y="3733920"/>
                <a:ext cx="4413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mple Exponential Smoothing Meth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implication of exponential smoothing can be better seen if the previous equation is expanded by replacing 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with its components as follow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0" name="Object 4"/>
              <p:cNvSpPr txBox="1"/>
              <p:nvPr/>
            </p:nvSpPr>
            <p:spPr>
              <a:xfrm>
                <a:off x="2514600" y="4114800"/>
                <a:ext cx="4191120" cy="12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α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α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t xml:space="preserve">[</m:t>
                        </m:r>
                        <m:r>
                          <m:t xml:space="preserve">α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]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α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t xml:space="preserve">y</m:t>
                        </m:r>
                        <m:sSub>
                          <m:e>
                            <m:r>
                              <m:t xml:space="preserve"> 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mple Exponential Smoothing Meth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is substitution process is repeated by replacing 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y its components, 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t-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y its components, and so on the result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fore, 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t+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the weighted moving average of all past observ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3" name="Object 4"/>
              <p:cNvSpPr txBox="1"/>
              <p:nvPr/>
            </p:nvSpPr>
            <p:spPr>
              <a:xfrm>
                <a:off x="914400" y="3352680"/>
                <a:ext cx="731520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α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)</m:t>
                    </m:r>
                    <m:r>
                      <m:t xml:space="preserve">y</m:t>
                    </m:r>
                    <m:sSub>
                      <m:e>
                        <m:r>
                          <m:t xml:space="preserve"> 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α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y</m:t>
                    </m:r>
                    <m:sSub>
                      <m:e>
                        <m:r>
                          <m:t xml:space="preserve"> 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α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y</m:t>
                    </m:r>
                    <m:sSub>
                      <m:e>
                        <m:r>
                          <m:t xml:space="preserve"> 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⋯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α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mple Exponential Smoothing Meth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xponential smoothing equation rewritten in the following form elucidate the role of weighting facto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onential smoothing forecast is the old forecast plus an adjustment for the error that occurred in the last forec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6" name="Object 4"/>
              <p:cNvSpPr txBox="1"/>
              <p:nvPr/>
            </p:nvSpPr>
            <p:spPr>
              <a:xfrm>
                <a:off x="3200400" y="3276720"/>
                <a:ext cx="271476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mple Exponential Smoothing Meth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value of smoothing constan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ust be between 0 and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not b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qu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stable predictions with smoothed random variation is desired then a small value o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desi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a rapid response to a real change in the pattern of observations is desired, a large value o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ppropri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asures of Forecast Err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mulative Forecast Error (CF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n Squared Error (MS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 Deviation (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ean Absolute Deviation (MA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ean Absolute Percent Error (MAP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68360" y="477720"/>
            <a:ext cx="5751360" cy="121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Choosing a Method</a:t>
            </a:r>
            <a:br>
              <a:rPr sz="4400"/>
            </a:b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Forecast Err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Group 13"/>
          <p:cNvGrpSpPr/>
          <p:nvPr/>
        </p:nvGrpSpPr>
        <p:grpSpPr>
          <a:xfrm>
            <a:off x="2464200" y="2138400"/>
            <a:ext cx="4145400" cy="1086120"/>
            <a:chOff x="2464200" y="2138400"/>
            <a:chExt cx="4145400" cy="1086120"/>
          </a:xfrm>
        </p:grpSpPr>
        <p:sp>
          <p:nvSpPr>
            <p:cNvPr id="393" name="Rectangle 14"/>
            <p:cNvSpPr/>
            <p:nvPr/>
          </p:nvSpPr>
          <p:spPr>
            <a:xfrm>
              <a:off x="2464200" y="2138400"/>
              <a:ext cx="41454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easures of Forecast Err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Rectangle 15"/>
            <p:cNvSpPr/>
            <p:nvPr/>
          </p:nvSpPr>
          <p:spPr>
            <a:xfrm>
              <a:off x="3672000" y="2719440"/>
              <a:ext cx="160596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= y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–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Line 16"/>
            <p:cNvSpPr/>
            <p:nvPr/>
          </p:nvSpPr>
          <p:spPr>
            <a:xfrm>
              <a:off x="2522520" y="2543040"/>
              <a:ext cx="4032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Group 17"/>
          <p:cNvGrpSpPr/>
          <p:nvPr/>
        </p:nvGrpSpPr>
        <p:grpSpPr>
          <a:xfrm>
            <a:off x="685800" y="3490920"/>
            <a:ext cx="7520400" cy="2461320"/>
            <a:chOff x="685800" y="3490920"/>
            <a:chExt cx="7520400" cy="2461320"/>
          </a:xfrm>
        </p:grpSpPr>
        <p:grpSp>
          <p:nvGrpSpPr>
            <p:cNvPr id="397" name="Group 18"/>
            <p:cNvGrpSpPr/>
            <p:nvPr/>
          </p:nvGrpSpPr>
          <p:grpSpPr>
            <a:xfrm>
              <a:off x="685800" y="3490920"/>
              <a:ext cx="7520400" cy="2461320"/>
              <a:chOff x="685800" y="3490920"/>
              <a:chExt cx="7520400" cy="2461320"/>
            </a:xfrm>
          </p:grpSpPr>
          <p:grpSp>
            <p:nvGrpSpPr>
              <p:cNvPr id="398" name="Group 19"/>
              <p:cNvGrpSpPr/>
              <p:nvPr/>
            </p:nvGrpSpPr>
            <p:grpSpPr>
              <a:xfrm>
                <a:off x="1902960" y="4979880"/>
                <a:ext cx="903960" cy="972360"/>
                <a:chOff x="1902960" y="4979880"/>
                <a:chExt cx="903960" cy="972360"/>
              </a:xfrm>
            </p:grpSpPr>
            <p:sp>
              <p:nvSpPr>
                <p:cNvPr id="399" name="Rectangle 20"/>
                <p:cNvSpPr/>
                <p:nvPr/>
              </p:nvSpPr>
              <p:spPr>
                <a:xfrm>
                  <a:off x="1902960" y="4979880"/>
                  <a:ext cx="903960" cy="972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</a:t>
                  </a: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|</a:t>
                  </a:r>
                  <a:r>
                    <a:rPr b="1" i="1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E</a:t>
                  </a:r>
                  <a:r>
                    <a:rPr b="1" i="1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t </a:t>
                  </a: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|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n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0" name="Line 21"/>
                <p:cNvSpPr/>
                <p:nvPr/>
              </p:nvSpPr>
              <p:spPr>
                <a:xfrm>
                  <a:off x="1955880" y="5546880"/>
                  <a:ext cx="8204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1" name="Group 22"/>
              <p:cNvGrpSpPr/>
              <p:nvPr/>
            </p:nvGrpSpPr>
            <p:grpSpPr>
              <a:xfrm>
                <a:off x="1913400" y="4106880"/>
                <a:ext cx="783360" cy="972360"/>
                <a:chOff x="1913400" y="4106880"/>
                <a:chExt cx="783360" cy="972360"/>
              </a:xfrm>
            </p:grpSpPr>
            <p:sp>
              <p:nvSpPr>
                <p:cNvPr id="402" name="Rectangle 23"/>
                <p:cNvSpPr/>
                <p:nvPr/>
              </p:nvSpPr>
              <p:spPr>
                <a:xfrm>
                  <a:off x="1913400" y="4106880"/>
                  <a:ext cx="783360" cy="972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</a:t>
                  </a:r>
                  <a:r>
                    <a:rPr b="1" i="1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E</a:t>
                  </a:r>
                  <a:r>
                    <a:rPr b="1" i="1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r>
                    <a:rPr b="1" lang="en-US" sz="2400" spc="-1" strike="noStrike" baseline="30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n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3" name="Line 24"/>
                <p:cNvSpPr/>
                <p:nvPr/>
              </p:nvSpPr>
              <p:spPr>
                <a:xfrm>
                  <a:off x="1954440" y="4673520"/>
                  <a:ext cx="7239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4" name="Rectangle 25"/>
              <p:cNvSpPr/>
              <p:nvPr/>
            </p:nvSpPr>
            <p:spPr>
              <a:xfrm>
                <a:off x="685800" y="3490920"/>
                <a:ext cx="5070240" cy="229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320364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CFE = 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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320364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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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320364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MSE =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320364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34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endParaRPr b="0" lang="en-US" sz="3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320364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MAD =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MAPE =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05" name="Group 26"/>
              <p:cNvGrpSpPr/>
              <p:nvPr/>
            </p:nvGrpSpPr>
            <p:grpSpPr>
              <a:xfrm>
                <a:off x="5695200" y="4952880"/>
                <a:ext cx="2511000" cy="972360"/>
                <a:chOff x="5695200" y="4952880"/>
                <a:chExt cx="2511000" cy="972360"/>
              </a:xfrm>
            </p:grpSpPr>
            <p:sp>
              <p:nvSpPr>
                <p:cNvPr id="406" name="Rectangle 27"/>
                <p:cNvSpPr/>
                <p:nvPr/>
              </p:nvSpPr>
              <p:spPr>
                <a:xfrm>
                  <a:off x="5765760" y="4952880"/>
                  <a:ext cx="2313720" cy="972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</a:t>
                  </a:r>
                  <a:r>
                    <a:rPr b="0" lang="en-US" sz="3200" spc="-1" strike="noStrike">
                      <a:solidFill>
                        <a:srgbClr val="000000"/>
                      </a:solidFill>
                      <a:latin typeface="Arial"/>
                    </a:rPr>
                    <a:t>[</a:t>
                  </a:r>
                  <a:r>
                    <a:rPr b="0" lang="en-US" sz="5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|</a:t>
                  </a:r>
                  <a:r>
                    <a:rPr b="1" i="1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E</a:t>
                  </a:r>
                  <a:r>
                    <a:rPr b="1" i="1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t </a:t>
                  </a: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| (100)</a:t>
                  </a:r>
                  <a:r>
                    <a:rPr b="1" lang="en-US" sz="5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0" lang="en-US" sz="3200" spc="-1" strike="noStrike">
                      <a:solidFill>
                        <a:srgbClr val="000000"/>
                      </a:solidFill>
                      <a:latin typeface="Arial"/>
                    </a:rPr>
                    <a:t>]</a:t>
                  </a:r>
                  <a:r>
                    <a:rPr b="0" lang="en-US" sz="5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/</a:t>
                  </a:r>
                  <a:r>
                    <a:rPr b="1" lang="en-US" sz="5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i="1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y</a:t>
                  </a:r>
                  <a:r>
                    <a:rPr b="1" i="1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n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7" name="Line 28"/>
                <p:cNvSpPr/>
                <p:nvPr/>
              </p:nvSpPr>
              <p:spPr>
                <a:xfrm>
                  <a:off x="5695200" y="5519880"/>
                  <a:ext cx="25110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8" name="Group 29"/>
              <p:cNvGrpSpPr/>
              <p:nvPr/>
            </p:nvGrpSpPr>
            <p:grpSpPr>
              <a:xfrm>
                <a:off x="4995360" y="3714840"/>
                <a:ext cx="2024280" cy="999360"/>
                <a:chOff x="4995360" y="3714840"/>
                <a:chExt cx="2024280" cy="999360"/>
              </a:xfrm>
            </p:grpSpPr>
            <p:grpSp>
              <p:nvGrpSpPr>
                <p:cNvPr id="409" name="Group 30"/>
                <p:cNvGrpSpPr/>
                <p:nvPr/>
              </p:nvGrpSpPr>
              <p:grpSpPr>
                <a:xfrm>
                  <a:off x="5417280" y="3741840"/>
                  <a:ext cx="1580760" cy="972360"/>
                  <a:chOff x="5417280" y="3741840"/>
                  <a:chExt cx="1580760" cy="972360"/>
                </a:xfrm>
              </p:grpSpPr>
              <p:sp>
                <p:nvSpPr>
                  <p:cNvPr id="410" name="Rectangle 31"/>
                  <p:cNvSpPr/>
                  <p:nvPr/>
                </p:nvSpPr>
                <p:spPr>
                  <a:xfrm>
                    <a:off x="5417280" y="3741840"/>
                    <a:ext cx="1580760" cy="972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r>
                      <a:rPr b="1" lang="en-US" sz="32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</a:t>
                    </a: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Arial"/>
                      </a:rPr>
                      <a:t>(</a:t>
                    </a:r>
                    <a:r>
                      <a:rPr b="1" i="1" lang="en-US" sz="2400" spc="-1" strike="noStrike">
                        <a:solidFill>
                          <a:srgbClr val="000000"/>
                        </a:solidFill>
                        <a:latin typeface="Arial"/>
                      </a:rPr>
                      <a:t>E</a:t>
                    </a:r>
                    <a:r>
                      <a:rPr b="1" i="1" lang="en-US" sz="2400" spc="-1" strike="noStrike">
                        <a:solidFill>
                          <a:srgbClr val="000000"/>
                        </a:solidFill>
                        <a:latin typeface="Arial"/>
                      </a:rPr>
                      <a:t>t</a:t>
                    </a:r>
                    <a:r>
                      <a:rPr b="1" i="1" lang="en-US" sz="2400" spc="-1" strike="noStrike">
                        <a:solidFill>
                          <a:srgbClr val="000000"/>
                        </a:solidFill>
                        <a:latin typeface="Arial"/>
                      </a:rPr>
                      <a:t> – E</a:t>
                    </a:r>
                    <a:r>
                      <a:rPr b="1" i="1" lang="en-U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 </a:t>
                    </a: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Arial"/>
                      </a:rPr>
                      <a:t>)</a:t>
                    </a:r>
                    <a:r>
                      <a:rPr b="1" lang="en-US" sz="2400" spc="-1" strike="noStrike" baseline="30000">
                        <a:solidFill>
                          <a:srgbClr val="000000"/>
                        </a:solidFill>
                        <a:latin typeface="Arial"/>
                      </a:rPr>
                      <a:t>2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r>
                      <a:rPr b="1" i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n</a:t>
                    </a:r>
                    <a:r>
                      <a:rPr b="1" i="1" lang="en-US" sz="2400" spc="-1" strike="noStrike">
                        <a:solidFill>
                          <a:srgbClr val="000000"/>
                        </a:solidFill>
                        <a:latin typeface="Arial"/>
                      </a:rPr>
                      <a:t> </a:t>
                    </a: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Arial"/>
                      </a:rPr>
                      <a:t>– 1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" name="Line 32"/>
                  <p:cNvSpPr/>
                  <p:nvPr/>
                </p:nvSpPr>
                <p:spPr>
                  <a:xfrm>
                    <a:off x="5806440" y="4308480"/>
                    <a:ext cx="8200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12" name="Freeform 33"/>
                <p:cNvSpPr/>
                <p:nvPr/>
              </p:nvSpPr>
              <p:spPr>
                <a:xfrm>
                  <a:off x="4995360" y="3714840"/>
                  <a:ext cx="2024280" cy="884160"/>
                </a:xfrm>
                <a:custGeom>
                  <a:avLst/>
                  <a:gdLst>
                    <a:gd name="textAreaLeft" fmla="*/ 0 w 2024280"/>
                    <a:gd name="textAreaRight" fmla="*/ 2024640 w 2024280"/>
                    <a:gd name="textAreaTop" fmla="*/ 0 h 884160"/>
                    <a:gd name="textAreaBottom" fmla="*/ 884520 h 884160"/>
                  </a:gdLst>
                  <a:ahLst/>
                  <a:rect l="textAreaLeft" t="textAreaTop" r="textAreaRight" b="textAreaBottom"/>
                  <a:pathLst>
                    <a:path w="1160" h="557">
                      <a:moveTo>
                        <a:pt x="0" y="506"/>
                      </a:moveTo>
                      <a:lnTo>
                        <a:pt x="44" y="469"/>
                      </a:lnTo>
                      <a:lnTo>
                        <a:pt x="73" y="557"/>
                      </a:lnTo>
                      <a:lnTo>
                        <a:pt x="213" y="0"/>
                      </a:lnTo>
                      <a:lnTo>
                        <a:pt x="1160" y="0"/>
                      </a:ln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13" name="Line 34"/>
            <p:cNvSpPr/>
            <p:nvPr/>
          </p:nvSpPr>
          <p:spPr>
            <a:xfrm>
              <a:off x="6543720" y="3860640"/>
              <a:ext cx="177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pull dir="lu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0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6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8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0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80773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onents of a Time Se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84872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1311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110f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c91b09"/>
                </a:solidFill>
                <a:latin typeface="Arial"/>
              </a:rPr>
              <a:t>time serie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13110f"/>
                </a:solidFill>
                <a:latin typeface="Arial"/>
              </a:rPr>
              <a:t>can consist of five compon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13110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3110f"/>
                </a:solidFill>
                <a:latin typeface="Arial"/>
              </a:rPr>
              <a:t>Horizontal or Stationary – </a:t>
            </a:r>
            <a:r>
              <a:rPr b="0" lang="en-US" sz="2000" spc="-1" strike="noStrike">
                <a:solidFill>
                  <a:srgbClr val="13110f"/>
                </a:solidFill>
                <a:latin typeface="Arial"/>
              </a:rPr>
              <a:t>Fluctuations around a constant me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13110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3110f"/>
                </a:solidFill>
                <a:latin typeface="Arial"/>
              </a:rPr>
              <a:t>Long - term trend (T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13110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3110f"/>
                </a:solidFill>
                <a:latin typeface="Arial"/>
              </a:rPr>
              <a:t>Cyclical effect (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13110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3110f"/>
                </a:solidFill>
                <a:latin typeface="Arial"/>
              </a:rPr>
              <a:t>Seasonal effect (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13110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3110f"/>
                </a:solidFill>
                <a:latin typeface="Arial"/>
              </a:rPr>
              <a:t>Random variation (R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Freeform 4"/>
          <p:cNvSpPr/>
          <p:nvPr/>
        </p:nvSpPr>
        <p:spPr>
          <a:xfrm>
            <a:off x="5410080" y="4724280"/>
            <a:ext cx="2895840" cy="1752840"/>
          </a:xfrm>
          <a:custGeom>
            <a:avLst/>
            <a:gdLst>
              <a:gd name="textAreaLeft" fmla="*/ 0 w 2895840"/>
              <a:gd name="textAreaRight" fmla="*/ 2896200 w 2895840"/>
              <a:gd name="textAreaTop" fmla="*/ 0 h 1752840"/>
              <a:gd name="textAreaBottom" fmla="*/ 1753200 h 1752840"/>
            </a:gdLst>
            <a:ahLst/>
            <a:rect l="textAreaLeft" t="textAreaTop" r="textAreaRight" b="textAreaBottom"/>
            <a:pathLst>
              <a:path w="1824" h="1632">
                <a:moveTo>
                  <a:pt x="0" y="0"/>
                </a:moveTo>
                <a:lnTo>
                  <a:pt x="0" y="1632"/>
                </a:lnTo>
                <a:lnTo>
                  <a:pt x="1824" y="163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Freeform 5"/>
          <p:cNvSpPr/>
          <p:nvPr/>
        </p:nvSpPr>
        <p:spPr>
          <a:xfrm>
            <a:off x="5562720" y="4648320"/>
            <a:ext cx="2438280" cy="1523880"/>
          </a:xfrm>
          <a:custGeom>
            <a:avLst/>
            <a:gdLst>
              <a:gd name="textAreaLeft" fmla="*/ 0 w 2438280"/>
              <a:gd name="textAreaRight" fmla="*/ 2438640 w 2438280"/>
              <a:gd name="textAreaTop" fmla="*/ 0 h 1523880"/>
              <a:gd name="textAreaBottom" fmla="*/ 1524240 h 1523880"/>
            </a:gdLst>
            <a:ahLst/>
            <a:rect l="textAreaLeft" t="textAreaTop" r="textAreaRight" b="textAreaBottom"/>
            <a:pathLst>
              <a:path w="1536" h="960">
                <a:moveTo>
                  <a:pt x="0" y="960"/>
                </a:moveTo>
                <a:lnTo>
                  <a:pt x="288" y="912"/>
                </a:lnTo>
                <a:lnTo>
                  <a:pt x="480" y="720"/>
                </a:lnTo>
                <a:lnTo>
                  <a:pt x="720" y="624"/>
                </a:lnTo>
                <a:lnTo>
                  <a:pt x="912" y="624"/>
                </a:lnTo>
                <a:lnTo>
                  <a:pt x="1152" y="384"/>
                </a:lnTo>
                <a:lnTo>
                  <a:pt x="1248" y="96"/>
                </a:lnTo>
                <a:lnTo>
                  <a:pt x="1536" y="0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1144440" y="4964040"/>
            <a:ext cx="3826080" cy="1008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10f"/>
                </a:solidFill>
                <a:latin typeface="Arial Narrow"/>
              </a:rPr>
              <a:t>A trend </a:t>
            </a:r>
            <a:r>
              <a:rPr b="0" lang="en-US" sz="2000" spc="-1" strike="noStrike">
                <a:solidFill>
                  <a:srgbClr val="13110f"/>
                </a:solidFill>
                <a:latin typeface="Arial Narrow"/>
              </a:rPr>
              <a:t>is a long term relativel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10f"/>
                </a:solidFill>
                <a:latin typeface="Arial Narrow"/>
              </a:rPr>
              <a:t>smooth pattern or direction, t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10f"/>
                </a:solidFill>
                <a:latin typeface="Arial Narrow"/>
              </a:rPr>
              <a:t>persists usually for more than one ye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Group 7"/>
          <p:cNvGrpSpPr/>
          <p:nvPr/>
        </p:nvGrpSpPr>
        <p:grpSpPr>
          <a:xfrm>
            <a:off x="5106960" y="2286000"/>
            <a:ext cx="3731760" cy="2151360"/>
            <a:chOff x="5106960" y="2286000"/>
            <a:chExt cx="3731760" cy="2151360"/>
          </a:xfrm>
        </p:grpSpPr>
        <p:sp>
          <p:nvSpPr>
            <p:cNvPr id="59" name="Line 8"/>
            <p:cNvSpPr/>
            <p:nvPr/>
          </p:nvSpPr>
          <p:spPr>
            <a:xfrm flipV="1">
              <a:off x="5421600" y="3997080"/>
              <a:ext cx="60120" cy="77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9"/>
            <p:cNvSpPr/>
            <p:nvPr/>
          </p:nvSpPr>
          <p:spPr>
            <a:xfrm>
              <a:off x="5348520" y="2286000"/>
              <a:ext cx="102960" cy="175104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1751040"/>
                <a:gd name="textAreaBottom" fmla="*/ 1751400 h 1751040"/>
              </a:gdLst>
              <a:ahLst/>
              <a:rect l="textAreaLeft" t="textAreaTop" r="textAreaRight" b="textAreaBottom"/>
              <a:pathLst>
                <a:path w="121" h="2229">
                  <a:moveTo>
                    <a:pt x="0" y="0"/>
                  </a:moveTo>
                  <a:lnTo>
                    <a:pt x="0" y="2228"/>
                  </a:lnTo>
                  <a:lnTo>
                    <a:pt x="120" y="2228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10"/>
            <p:cNvSpPr/>
            <p:nvPr/>
          </p:nvSpPr>
          <p:spPr>
            <a:xfrm>
              <a:off x="5511960" y="2288160"/>
              <a:ext cx="3326760" cy="1748880"/>
            </a:xfrm>
            <a:custGeom>
              <a:avLst/>
              <a:gdLst>
                <a:gd name="textAreaLeft" fmla="*/ 0 w 3326760"/>
                <a:gd name="textAreaRight" fmla="*/ 3327120 w 3326760"/>
                <a:gd name="textAreaTop" fmla="*/ 0 h 1748880"/>
                <a:gd name="textAreaBottom" fmla="*/ 1749240 h 1748880"/>
              </a:gdLst>
              <a:ahLst/>
              <a:rect l="textAreaLeft" t="textAreaTop" r="textAreaRight" b="textAreaBottom"/>
              <a:pathLst>
                <a:path w="3907" h="2226">
                  <a:moveTo>
                    <a:pt x="0" y="2225"/>
                  </a:moveTo>
                  <a:lnTo>
                    <a:pt x="3906" y="2225"/>
                  </a:lnTo>
                  <a:lnTo>
                    <a:pt x="3906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Line 11"/>
            <p:cNvSpPr/>
            <p:nvPr/>
          </p:nvSpPr>
          <p:spPr>
            <a:xfrm flipV="1">
              <a:off x="5477040" y="3998520"/>
              <a:ext cx="60120" cy="77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2"/>
            <p:cNvSpPr/>
            <p:nvPr/>
          </p:nvSpPr>
          <p:spPr>
            <a:xfrm rot="16200000">
              <a:off x="4713480" y="2691720"/>
              <a:ext cx="11192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uantit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3"/>
            <p:cNvSpPr/>
            <p:nvPr/>
          </p:nvSpPr>
          <p:spPr>
            <a:xfrm>
              <a:off x="6860520" y="4043520"/>
              <a:ext cx="7743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Freeform 14"/>
          <p:cNvSpPr/>
          <p:nvPr/>
        </p:nvSpPr>
        <p:spPr>
          <a:xfrm>
            <a:off x="5638680" y="2666880"/>
            <a:ext cx="2819520" cy="766800"/>
          </a:xfrm>
          <a:custGeom>
            <a:avLst/>
            <a:gdLst>
              <a:gd name="textAreaLeft" fmla="*/ 0 w 2819520"/>
              <a:gd name="textAreaRight" fmla="*/ 2819520 w 2819520"/>
              <a:gd name="textAreaTop" fmla="*/ 0 h 766800"/>
              <a:gd name="textAreaBottom" fmla="*/ 767160 h 766800"/>
            </a:gdLst>
            <a:ahLst/>
            <a:rect l="textAreaLeft" t="textAreaTop" r="textAreaRight" b="textAreaBottom"/>
            <a:pathLst>
              <a:path w="3665" h="483">
                <a:moveTo>
                  <a:pt x="0" y="143"/>
                </a:moveTo>
                <a:lnTo>
                  <a:pt x="95" y="0"/>
                </a:lnTo>
                <a:lnTo>
                  <a:pt x="114" y="324"/>
                </a:lnTo>
                <a:lnTo>
                  <a:pt x="179" y="192"/>
                </a:lnTo>
                <a:lnTo>
                  <a:pt x="314" y="435"/>
                </a:lnTo>
                <a:lnTo>
                  <a:pt x="356" y="296"/>
                </a:lnTo>
                <a:lnTo>
                  <a:pt x="420" y="401"/>
                </a:lnTo>
                <a:lnTo>
                  <a:pt x="471" y="297"/>
                </a:lnTo>
                <a:lnTo>
                  <a:pt x="516" y="378"/>
                </a:lnTo>
                <a:lnTo>
                  <a:pt x="551" y="305"/>
                </a:lnTo>
                <a:lnTo>
                  <a:pt x="609" y="408"/>
                </a:lnTo>
                <a:lnTo>
                  <a:pt x="650" y="366"/>
                </a:lnTo>
                <a:lnTo>
                  <a:pt x="735" y="371"/>
                </a:lnTo>
                <a:lnTo>
                  <a:pt x="931" y="40"/>
                </a:lnTo>
                <a:lnTo>
                  <a:pt x="1115" y="447"/>
                </a:lnTo>
                <a:lnTo>
                  <a:pt x="1197" y="404"/>
                </a:lnTo>
                <a:lnTo>
                  <a:pt x="1279" y="320"/>
                </a:lnTo>
                <a:lnTo>
                  <a:pt x="1334" y="392"/>
                </a:lnTo>
                <a:lnTo>
                  <a:pt x="1439" y="353"/>
                </a:lnTo>
                <a:lnTo>
                  <a:pt x="1554" y="482"/>
                </a:lnTo>
                <a:lnTo>
                  <a:pt x="1711" y="252"/>
                </a:lnTo>
                <a:lnTo>
                  <a:pt x="1844" y="384"/>
                </a:lnTo>
                <a:lnTo>
                  <a:pt x="1966" y="234"/>
                </a:lnTo>
                <a:lnTo>
                  <a:pt x="2211" y="432"/>
                </a:lnTo>
                <a:lnTo>
                  <a:pt x="2342" y="161"/>
                </a:lnTo>
                <a:lnTo>
                  <a:pt x="2543" y="432"/>
                </a:lnTo>
                <a:lnTo>
                  <a:pt x="2719" y="303"/>
                </a:lnTo>
                <a:lnTo>
                  <a:pt x="2779" y="405"/>
                </a:lnTo>
                <a:lnTo>
                  <a:pt x="2873" y="305"/>
                </a:lnTo>
                <a:lnTo>
                  <a:pt x="2927" y="398"/>
                </a:lnTo>
                <a:lnTo>
                  <a:pt x="3061" y="252"/>
                </a:lnTo>
                <a:lnTo>
                  <a:pt x="3176" y="399"/>
                </a:lnTo>
                <a:lnTo>
                  <a:pt x="3230" y="314"/>
                </a:lnTo>
                <a:lnTo>
                  <a:pt x="3311" y="426"/>
                </a:lnTo>
                <a:lnTo>
                  <a:pt x="3472" y="300"/>
                </a:lnTo>
                <a:lnTo>
                  <a:pt x="3611" y="424"/>
                </a:lnTo>
                <a:lnTo>
                  <a:pt x="3664" y="348"/>
                </a:lnTo>
              </a:path>
            </a:pathLst>
          </a:custGeom>
          <a:noFill/>
          <a:ln cap="rnd" w="76320">
            <a:solidFill>
              <a:srgbClr val="d90f3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18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9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Text Box 4"/>
          <p:cNvSpPr/>
          <p:nvPr/>
        </p:nvSpPr>
        <p:spPr>
          <a:xfrm>
            <a:off x="457200" y="457200"/>
            <a:ext cx="8229600" cy="42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cc61e"/>
                </a:solidFill>
                <a:latin typeface="Arial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following table shows the actual sales of upholstered chairs for a furniture manufacturer and the forecasts made for each of the last eight months. Calculate CFE, MSE, </a:t>
            </a:r>
            <a:r>
              <a:rPr b="0" lang="el-GR" sz="3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, MAD and MAPE for this produc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5" name="Group 2"/>
          <p:cNvGrpSpPr/>
          <p:nvPr/>
        </p:nvGrpSpPr>
        <p:grpSpPr>
          <a:xfrm>
            <a:off x="762120" y="1893960"/>
            <a:ext cx="7675560" cy="4078080"/>
            <a:chOff x="762120" y="1893960"/>
            <a:chExt cx="7675560" cy="4078080"/>
          </a:xfrm>
        </p:grpSpPr>
        <p:sp>
          <p:nvSpPr>
            <p:cNvPr id="416" name="Rectangle 3"/>
            <p:cNvSpPr/>
            <p:nvPr/>
          </p:nvSpPr>
          <p:spPr>
            <a:xfrm>
              <a:off x="762120" y="1893960"/>
              <a:ext cx="7675560" cy="4078080"/>
            </a:xfrm>
            <a:prstGeom prst="rect">
              <a:avLst/>
            </a:prstGeom>
            <a:solidFill>
              <a:srgbClr val="e8ee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7" name="Group 4"/>
            <p:cNvGrpSpPr/>
            <p:nvPr/>
          </p:nvGrpSpPr>
          <p:grpSpPr>
            <a:xfrm>
              <a:off x="985680" y="2224080"/>
              <a:ext cx="7226280" cy="3438000"/>
              <a:chOff x="985680" y="2224080"/>
              <a:chExt cx="7226280" cy="3438000"/>
            </a:xfrm>
          </p:grpSpPr>
          <p:sp>
            <p:nvSpPr>
              <p:cNvPr id="418" name="Rectangle 5"/>
              <p:cNvSpPr/>
              <p:nvPr/>
            </p:nvSpPr>
            <p:spPr>
              <a:xfrm>
                <a:off x="985680" y="2224080"/>
                <a:ext cx="7226280" cy="343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tabLst>
                    <a:tab algn="l" pos="0"/>
                    <a:tab algn="ctr" pos="403200"/>
                    <a:tab algn="ctr" pos="1366920"/>
                    <a:tab algn="ctr" pos="2454120"/>
                    <a:tab algn="r" pos="3652920"/>
                    <a:tab algn="r" pos="4740120"/>
                    <a:tab algn="ctr" pos="5311800"/>
                    <a:tab algn="r" pos="702612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Absolute  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ctr" pos="403200"/>
                    <a:tab algn="ctr" pos="1366920"/>
                    <a:tab algn="ctr" pos="2454120"/>
                    <a:tab algn="r" pos="3652920"/>
                    <a:tab algn="r" pos="4740120"/>
                    <a:tab algn="ctr" pos="5311800"/>
                    <a:tab algn="r" pos="702612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Error   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Absolute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Percent   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ctr" pos="403200"/>
                    <a:tab algn="ctr" pos="1366920"/>
                    <a:tab algn="ctr" pos="2454120"/>
                    <a:tab algn="r" pos="3652920"/>
                    <a:tab algn="r" pos="4740120"/>
                    <a:tab algn="ctr" pos="5311800"/>
                    <a:tab algn="r" pos="702612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Month,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Demand,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Forecast,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Error,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Squared,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Error,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Error,    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ctr" pos="403200"/>
                    <a:tab algn="ctr" pos="1366920"/>
                    <a:tab algn="ctr" pos="2454120"/>
                    <a:tab algn="r" pos="3652920"/>
                    <a:tab algn="r" pos="4740120"/>
                    <a:tab algn="ctr" pos="5311800"/>
                    <a:tab algn="r" pos="702612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i="1" lang="en-US" sz="1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r>
                  <a:rPr b="1" i="1" lang="en-US" sz="1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i="1" lang="en-US" sz="16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r>
                  <a:rPr b="1" i="1" lang="en-US" sz="1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i="1" lang="en-US" sz="1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r>
                  <a:rPr b="1" i="1" lang="en-US" sz="1600" spc="-1" strike="noStrike">
                    <a:solidFill>
                      <a:srgbClr val="000000"/>
                    </a:solidFill>
                    <a:latin typeface="Arial"/>
                  </a:rPr>
                  <a:t>t    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i="1" lang="en-US" sz="1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r>
                  <a:rPr b="1" i="1" lang="en-US" sz="1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1" lang="en-US" sz="1600" spc="-1" strike="noStrike" baseline="30000">
                    <a:solidFill>
                      <a:srgbClr val="000000"/>
                    </a:solidFill>
                    <a:latin typeface="Arial"/>
                  </a:rPr>
                  <a:t>2      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|</a:t>
                </a:r>
                <a:r>
                  <a:rPr b="1" i="1" lang="en-US" sz="1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r>
                  <a:rPr b="1" i="1" lang="en-US" sz="1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|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(|</a:t>
                </a:r>
                <a:r>
                  <a:rPr b="1" i="1" lang="en-US" sz="1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r>
                  <a:rPr b="1" i="1" lang="en-US" sz="1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|/y</a:t>
                </a:r>
                <a:r>
                  <a:rPr b="1" i="1" lang="en-US" sz="1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)(100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ctr" pos="403200"/>
                    <a:tab algn="ctr" pos="1366920"/>
                    <a:tab algn="ctr" pos="2454120"/>
                    <a:tab algn="r" pos="3652920"/>
                    <a:tab algn="r" pos="4740120"/>
                    <a:tab algn="ctr" pos="5311800"/>
                    <a:tab algn="r" pos="702612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5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ctr" pos="403200"/>
                    <a:tab algn="ctr" pos="1366920"/>
                    <a:tab algn="ctr" pos="2454120"/>
                    <a:tab algn="r" pos="3652920"/>
                    <a:tab algn="r" pos="4740120"/>
                    <a:tab algn="ctr" pos="5311800"/>
                    <a:tab algn="r" pos="702612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200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225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-25  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625   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25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12.5%   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ctr" pos="403200"/>
                    <a:tab algn="ctr" pos="1366920"/>
                    <a:tab algn="ctr" pos="2454120"/>
                    <a:tab algn="r" pos="3652920"/>
                    <a:tab algn="r" pos="4740120"/>
                    <a:tab algn="ctr" pos="5311800"/>
                    <a:tab algn="r" pos="702612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240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220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20  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400   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20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8.3      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ctr" pos="403200"/>
                    <a:tab algn="ctr" pos="1366920"/>
                    <a:tab algn="ctr" pos="2454120"/>
                    <a:tab algn="r" pos="3652920"/>
                    <a:tab algn="r" pos="4740120"/>
                    <a:tab algn="ctr" pos="5311800"/>
                    <a:tab algn="r" pos="702612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300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285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15  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225   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15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5.0      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ctr" pos="403200"/>
                    <a:tab algn="ctr" pos="1366920"/>
                    <a:tab algn="ctr" pos="2454120"/>
                    <a:tab algn="r" pos="3652920"/>
                    <a:tab algn="r" pos="4740120"/>
                    <a:tab algn="ctr" pos="5311800"/>
                    <a:tab algn="r" pos="702612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270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290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–20  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400   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20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7.4      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ctr" pos="403200"/>
                    <a:tab algn="ctr" pos="1366920"/>
                    <a:tab algn="ctr" pos="2454120"/>
                    <a:tab algn="r" pos="3652920"/>
                    <a:tab algn="r" pos="4740120"/>
                    <a:tab algn="ctr" pos="5311800"/>
                    <a:tab algn="r" pos="702612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230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250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–20  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400   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20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8.7      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ctr" pos="403200"/>
                    <a:tab algn="ctr" pos="1366920"/>
                    <a:tab algn="ctr" pos="2454120"/>
                    <a:tab algn="r" pos="3652920"/>
                    <a:tab algn="r" pos="4740120"/>
                    <a:tab algn="ctr" pos="5311800"/>
                    <a:tab algn="r" pos="702612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260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240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20  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400   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20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7.7      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ctr" pos="403200"/>
                    <a:tab algn="ctr" pos="1366920"/>
                    <a:tab algn="ctr" pos="2454120"/>
                    <a:tab algn="r" pos="3652920"/>
                    <a:tab algn="r" pos="4740120"/>
                    <a:tab algn="ctr" pos="5311800"/>
                    <a:tab algn="r" pos="702612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210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250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–40  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1600   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40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19.0      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ctr" pos="403200"/>
                    <a:tab algn="ctr" pos="1366920"/>
                    <a:tab algn="ctr" pos="2454120"/>
                    <a:tab algn="r" pos="3652920"/>
                    <a:tab algn="r" pos="4740120"/>
                    <a:tab algn="ctr" pos="5311800"/>
                    <a:tab algn="r" pos="702612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275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240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35  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1225   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35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12.7      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ctr" pos="403200"/>
                    <a:tab algn="ctr" pos="1366920"/>
                    <a:tab algn="ctr" pos="2454120"/>
                    <a:tab algn="r" pos="3652920"/>
                    <a:tab algn="r" pos="4740120"/>
                    <a:tab algn="ctr" pos="5311800"/>
                    <a:tab algn="r" pos="702612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ctr" pos="403200"/>
                    <a:tab algn="ctr" pos="1366920"/>
                    <a:tab algn="ctr" pos="2454120"/>
                    <a:tab algn="r" pos="3652920"/>
                    <a:tab algn="r" pos="4740120"/>
                    <a:tab algn="ctr" pos="5311800"/>
                    <a:tab algn="r" pos="702612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    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Total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–15  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5275   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195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81.3%   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Line 6"/>
              <p:cNvSpPr/>
              <p:nvPr/>
            </p:nvSpPr>
            <p:spPr>
              <a:xfrm>
                <a:off x="1098720" y="3294000"/>
                <a:ext cx="7091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Line 7"/>
              <p:cNvSpPr/>
              <p:nvPr/>
            </p:nvSpPr>
            <p:spPr>
              <a:xfrm>
                <a:off x="1098720" y="5295960"/>
                <a:ext cx="7091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68360" y="477720"/>
            <a:ext cx="5751360" cy="121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Choosing a Method</a:t>
            </a:r>
            <a:br>
              <a:rPr sz="4400"/>
            </a:b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Forecast Err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68360" y="477720"/>
            <a:ext cx="5751360" cy="121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Choosing a Method</a:t>
            </a:r>
            <a:br>
              <a:rPr sz="4400"/>
            </a:b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Forecast Err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3" name="Group 13"/>
          <p:cNvGrpSpPr/>
          <p:nvPr/>
        </p:nvGrpSpPr>
        <p:grpSpPr>
          <a:xfrm>
            <a:off x="290520" y="1681200"/>
            <a:ext cx="8147160" cy="4898880"/>
            <a:chOff x="290520" y="1681200"/>
            <a:chExt cx="8147160" cy="4898880"/>
          </a:xfrm>
        </p:grpSpPr>
        <p:sp>
          <p:nvSpPr>
            <p:cNvPr id="424" name="Rectangle 14"/>
            <p:cNvSpPr/>
            <p:nvPr/>
          </p:nvSpPr>
          <p:spPr>
            <a:xfrm>
              <a:off x="762120" y="1893960"/>
              <a:ext cx="7675560" cy="4078080"/>
            </a:xfrm>
            <a:prstGeom prst="rect">
              <a:avLst/>
            </a:prstGeom>
            <a:solidFill>
              <a:srgbClr val="e8ee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Rectangle 15"/>
            <p:cNvSpPr/>
            <p:nvPr/>
          </p:nvSpPr>
          <p:spPr>
            <a:xfrm>
              <a:off x="985680" y="2224080"/>
              <a:ext cx="7226280" cy="343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ctr" pos="403200"/>
                  <a:tab algn="ctr" pos="1366920"/>
                  <a:tab algn="ctr" pos="2454120"/>
                  <a:tab algn="r" pos="3652920"/>
                  <a:tab algn="r" pos="4740120"/>
                  <a:tab algn="ctr" pos="5311800"/>
                  <a:tab algn="r" pos="702612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bsolute 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ctr" pos="403200"/>
                  <a:tab algn="ctr" pos="1366920"/>
                  <a:tab algn="ctr" pos="2454120"/>
                  <a:tab algn="r" pos="3652920"/>
                  <a:tab algn="r" pos="4740120"/>
                  <a:tab algn="ctr" pos="5311800"/>
                  <a:tab algn="r" pos="702612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rror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bsolute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ercent  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ctr" pos="403200"/>
                  <a:tab algn="ctr" pos="1366920"/>
                  <a:tab algn="ctr" pos="2454120"/>
                  <a:tab algn="r" pos="3652920"/>
                  <a:tab algn="r" pos="4740120"/>
                  <a:tab algn="ctr" pos="5311800"/>
                  <a:tab algn="r" pos="702612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onth,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emand,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orecast,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rror,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quared,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rror,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rror,   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ctr" pos="403200"/>
                  <a:tab algn="ctr" pos="1366920"/>
                  <a:tab algn="ctr" pos="2454120"/>
                  <a:tab algn="r" pos="3652920"/>
                  <a:tab algn="r" pos="4740120"/>
                  <a:tab algn="ctr" pos="5311800"/>
                  <a:tab algn="r" pos="702612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t 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1" lang="en-US" sz="1600" spc="-1" strike="noStrike" baseline="30000">
                  <a:solidFill>
                    <a:srgbClr val="000000"/>
                  </a:solidFill>
                  <a:latin typeface="Arial"/>
                </a:rPr>
                <a:t>2   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(|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|/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)(100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ctr" pos="403200"/>
                  <a:tab algn="ctr" pos="1366920"/>
                  <a:tab algn="ctr" pos="2454120"/>
                  <a:tab algn="r" pos="3652920"/>
                  <a:tab algn="r" pos="4740120"/>
                  <a:tab algn="ctr" pos="5311800"/>
                  <a:tab algn="r" pos="702612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ctr" pos="403200"/>
                  <a:tab algn="ctr" pos="1366920"/>
                  <a:tab algn="ctr" pos="2454120"/>
                  <a:tab algn="r" pos="3652920"/>
                  <a:tab algn="r" pos="4740120"/>
                  <a:tab algn="ctr" pos="5311800"/>
                  <a:tab algn="r" pos="702612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25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–25 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625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.5%  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ctr" pos="403200"/>
                  <a:tab algn="ctr" pos="1366920"/>
                  <a:tab algn="ctr" pos="2454120"/>
                  <a:tab algn="r" pos="3652920"/>
                  <a:tab algn="r" pos="4740120"/>
                  <a:tab algn="ctr" pos="5311800"/>
                  <a:tab algn="r" pos="702612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40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20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0 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400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8.3     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ctr" pos="403200"/>
                  <a:tab algn="ctr" pos="1366920"/>
                  <a:tab algn="ctr" pos="2454120"/>
                  <a:tab algn="r" pos="3652920"/>
                  <a:tab algn="r" pos="4740120"/>
                  <a:tab algn="ctr" pos="5311800"/>
                  <a:tab algn="r" pos="702612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00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85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5 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25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5.0     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ctr" pos="403200"/>
                  <a:tab algn="ctr" pos="1366920"/>
                  <a:tab algn="ctr" pos="2454120"/>
                  <a:tab algn="r" pos="3652920"/>
                  <a:tab algn="r" pos="4740120"/>
                  <a:tab algn="ctr" pos="5311800"/>
                  <a:tab algn="r" pos="702612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70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90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–20 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400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7.4     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ctr" pos="403200"/>
                  <a:tab algn="ctr" pos="1366920"/>
                  <a:tab algn="ctr" pos="2454120"/>
                  <a:tab algn="r" pos="3652920"/>
                  <a:tab algn="r" pos="4740120"/>
                  <a:tab algn="ctr" pos="5311800"/>
                  <a:tab algn="r" pos="702612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30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50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–20 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400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8.7     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ctr" pos="403200"/>
                  <a:tab algn="ctr" pos="1366920"/>
                  <a:tab algn="ctr" pos="2454120"/>
                  <a:tab algn="r" pos="3652920"/>
                  <a:tab algn="r" pos="4740120"/>
                  <a:tab algn="ctr" pos="5311800"/>
                  <a:tab algn="r" pos="702612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60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40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0 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400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7.7     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ctr" pos="403200"/>
                  <a:tab algn="ctr" pos="1366920"/>
                  <a:tab algn="ctr" pos="2454120"/>
                  <a:tab algn="r" pos="3652920"/>
                  <a:tab algn="r" pos="4740120"/>
                  <a:tab algn="ctr" pos="5311800"/>
                  <a:tab algn="r" pos="702612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10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50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–40 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600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9.0     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ctr" pos="403200"/>
                  <a:tab algn="ctr" pos="1366920"/>
                  <a:tab algn="ctr" pos="2454120"/>
                  <a:tab algn="r" pos="3652920"/>
                  <a:tab algn="r" pos="4740120"/>
                  <a:tab algn="ctr" pos="5311800"/>
                  <a:tab algn="r" pos="702612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75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40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5 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25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5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.7     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ctr" pos="403200"/>
                  <a:tab algn="ctr" pos="1366920"/>
                  <a:tab algn="ctr" pos="2454120"/>
                  <a:tab algn="r" pos="3652920"/>
                  <a:tab algn="r" pos="4740120"/>
                  <a:tab algn="ctr" pos="5311800"/>
                  <a:tab algn="r" pos="702612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ctr" pos="403200"/>
                  <a:tab algn="ctr" pos="1366920"/>
                  <a:tab algn="ctr" pos="2454120"/>
                  <a:tab algn="r" pos="3652920"/>
                  <a:tab algn="r" pos="4740120"/>
                  <a:tab algn="ctr" pos="5311800"/>
                  <a:tab algn="r" pos="702612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otal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–15 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5275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95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81.3%  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Line 16"/>
            <p:cNvSpPr/>
            <p:nvPr/>
          </p:nvSpPr>
          <p:spPr>
            <a:xfrm>
              <a:off x="1098720" y="3294000"/>
              <a:ext cx="7091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Line 17"/>
            <p:cNvSpPr/>
            <p:nvPr/>
          </p:nvSpPr>
          <p:spPr>
            <a:xfrm>
              <a:off x="1098720" y="5295960"/>
              <a:ext cx="7091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8" name="Group 18"/>
            <p:cNvGrpSpPr/>
            <p:nvPr/>
          </p:nvGrpSpPr>
          <p:grpSpPr>
            <a:xfrm>
              <a:off x="290520" y="1681200"/>
              <a:ext cx="3786120" cy="4898880"/>
              <a:chOff x="290520" y="1681200"/>
              <a:chExt cx="3786120" cy="4898880"/>
            </a:xfrm>
          </p:grpSpPr>
          <p:sp>
            <p:nvSpPr>
              <p:cNvPr id="429" name="Rectangle 19"/>
              <p:cNvSpPr/>
              <p:nvPr/>
            </p:nvSpPr>
            <p:spPr>
              <a:xfrm>
                <a:off x="290520" y="1681200"/>
                <a:ext cx="3786120" cy="4898880"/>
              </a:xfrm>
              <a:prstGeom prst="rect">
                <a:avLst/>
              </a:prstGeom>
              <a:solidFill>
                <a:srgbClr val="e3e8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0" name="Group 20"/>
              <p:cNvGrpSpPr/>
              <p:nvPr/>
            </p:nvGrpSpPr>
            <p:grpSpPr>
              <a:xfrm>
                <a:off x="754200" y="3522600"/>
                <a:ext cx="2859120" cy="820440"/>
                <a:chOff x="754200" y="3522600"/>
                <a:chExt cx="2859120" cy="820440"/>
              </a:xfrm>
            </p:grpSpPr>
            <p:sp>
              <p:nvSpPr>
                <p:cNvPr id="431" name="Rectangle 21"/>
                <p:cNvSpPr/>
                <p:nvPr/>
              </p:nvSpPr>
              <p:spPr>
                <a:xfrm>
                  <a:off x="754200" y="3770280"/>
                  <a:ext cx="2859120" cy="39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MSE =               = 659.4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32" name="Group 22"/>
                <p:cNvGrpSpPr/>
                <p:nvPr/>
              </p:nvGrpSpPr>
              <p:grpSpPr>
                <a:xfrm>
                  <a:off x="1725480" y="3522600"/>
                  <a:ext cx="816120" cy="820440"/>
                  <a:chOff x="1725480" y="3522600"/>
                  <a:chExt cx="816120" cy="820440"/>
                </a:xfrm>
              </p:grpSpPr>
              <p:sp>
                <p:nvSpPr>
                  <p:cNvPr id="433" name="Rectangle 23"/>
                  <p:cNvSpPr/>
                  <p:nvPr/>
                </p:nvSpPr>
                <p:spPr>
                  <a:xfrm>
                    <a:off x="1780200" y="3522600"/>
                    <a:ext cx="748440" cy="820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ctr">
                      <a:lnSpc>
                        <a:spcPct val="120000"/>
                      </a:lnSpc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5275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20000"/>
                      </a:lnSpc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8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4" name="Line 24"/>
                  <p:cNvSpPr/>
                  <p:nvPr/>
                </p:nvSpPr>
                <p:spPr>
                  <a:xfrm>
                    <a:off x="1725480" y="3954600"/>
                    <a:ext cx="81612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35" name="Rectangle 25"/>
              <p:cNvSpPr/>
              <p:nvPr/>
            </p:nvSpPr>
            <p:spPr>
              <a:xfrm>
                <a:off x="1474560" y="2335320"/>
                <a:ext cx="14752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FE = – 15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Rectangle 26"/>
              <p:cNvSpPr/>
              <p:nvPr/>
            </p:nvSpPr>
            <p:spPr>
              <a:xfrm>
                <a:off x="968400" y="1814400"/>
                <a:ext cx="24292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Measures of Error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7" name="Group 27"/>
              <p:cNvGrpSpPr/>
              <p:nvPr/>
            </p:nvGrpSpPr>
            <p:grpSpPr>
              <a:xfrm>
                <a:off x="948960" y="4834080"/>
                <a:ext cx="2467440" cy="820440"/>
                <a:chOff x="948960" y="4834080"/>
                <a:chExt cx="2467440" cy="820440"/>
              </a:xfrm>
            </p:grpSpPr>
            <p:sp>
              <p:nvSpPr>
                <p:cNvPr id="438" name="Rectangle 28"/>
                <p:cNvSpPr/>
                <p:nvPr/>
              </p:nvSpPr>
              <p:spPr>
                <a:xfrm>
                  <a:off x="948960" y="5059440"/>
                  <a:ext cx="2467440" cy="39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MAD =           = 24.4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39" name="Group 29"/>
                <p:cNvGrpSpPr/>
                <p:nvPr/>
              </p:nvGrpSpPr>
              <p:grpSpPr>
                <a:xfrm>
                  <a:off x="1917360" y="4834080"/>
                  <a:ext cx="622800" cy="820440"/>
                  <a:chOff x="1917360" y="4834080"/>
                  <a:chExt cx="622800" cy="820440"/>
                </a:xfrm>
              </p:grpSpPr>
              <p:sp>
                <p:nvSpPr>
                  <p:cNvPr id="440" name="Rectangle 30"/>
                  <p:cNvSpPr/>
                  <p:nvPr/>
                </p:nvSpPr>
                <p:spPr>
                  <a:xfrm>
                    <a:off x="1933560" y="4834080"/>
                    <a:ext cx="606600" cy="820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ctr">
                      <a:lnSpc>
                        <a:spcPct val="120000"/>
                      </a:lnSpc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195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20000"/>
                      </a:lnSpc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8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1" name="Line 31"/>
                  <p:cNvSpPr/>
                  <p:nvPr/>
                </p:nvSpPr>
                <p:spPr>
                  <a:xfrm>
                    <a:off x="1917360" y="5232600"/>
                    <a:ext cx="60120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42" name="Group 32"/>
              <p:cNvGrpSpPr/>
              <p:nvPr/>
            </p:nvGrpSpPr>
            <p:grpSpPr>
              <a:xfrm>
                <a:off x="619200" y="5702400"/>
                <a:ext cx="3127320" cy="820440"/>
                <a:chOff x="619200" y="5702400"/>
                <a:chExt cx="3127320" cy="820440"/>
              </a:xfrm>
            </p:grpSpPr>
            <p:sp>
              <p:nvSpPr>
                <p:cNvPr id="443" name="Rectangle 33"/>
                <p:cNvSpPr/>
                <p:nvPr/>
              </p:nvSpPr>
              <p:spPr>
                <a:xfrm>
                  <a:off x="619200" y="5937120"/>
                  <a:ext cx="3127320" cy="39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MAPE =               = 10.2%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44" name="Group 34"/>
                <p:cNvGrpSpPr/>
                <p:nvPr/>
              </p:nvGrpSpPr>
              <p:grpSpPr>
                <a:xfrm>
                  <a:off x="1737360" y="5702400"/>
                  <a:ext cx="902160" cy="820440"/>
                  <a:chOff x="1737360" y="5702400"/>
                  <a:chExt cx="902160" cy="820440"/>
                </a:xfrm>
              </p:grpSpPr>
              <p:sp>
                <p:nvSpPr>
                  <p:cNvPr id="445" name="Rectangle 35"/>
                  <p:cNvSpPr/>
                  <p:nvPr/>
                </p:nvSpPr>
                <p:spPr>
                  <a:xfrm>
                    <a:off x="1737360" y="5702400"/>
                    <a:ext cx="902160" cy="820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ctr">
                      <a:lnSpc>
                        <a:spcPct val="120000"/>
                      </a:lnSpc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81.3%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20000"/>
                      </a:lnSpc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8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6" name="Line 36"/>
                  <p:cNvSpPr/>
                  <p:nvPr/>
                </p:nvSpPr>
                <p:spPr>
                  <a:xfrm>
                    <a:off x="1757160" y="6121440"/>
                    <a:ext cx="8035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47" name="Group 37"/>
              <p:cNvGrpSpPr/>
              <p:nvPr/>
            </p:nvGrpSpPr>
            <p:grpSpPr>
              <a:xfrm>
                <a:off x="1043280" y="2776680"/>
                <a:ext cx="2339640" cy="698760"/>
                <a:chOff x="1043280" y="2776680"/>
                <a:chExt cx="2339640" cy="698760"/>
              </a:xfrm>
            </p:grpSpPr>
            <p:sp>
              <p:nvSpPr>
                <p:cNvPr id="448" name="Rectangle 38"/>
                <p:cNvSpPr/>
                <p:nvPr/>
              </p:nvSpPr>
              <p:spPr>
                <a:xfrm>
                  <a:off x="1043280" y="2926080"/>
                  <a:ext cx="2339640" cy="39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i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E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 =          = – 1.875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9" name="Rectangle 39"/>
                <p:cNvSpPr/>
                <p:nvPr/>
              </p:nvSpPr>
              <p:spPr>
                <a:xfrm>
                  <a:off x="1527840" y="2776680"/>
                  <a:ext cx="746640" cy="69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ctr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– 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15 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8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0" name="Line 40"/>
                <p:cNvSpPr/>
                <p:nvPr/>
              </p:nvSpPr>
              <p:spPr>
                <a:xfrm>
                  <a:off x="1609560" y="3124440"/>
                  <a:ext cx="5349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1" name="Line 41"/>
                <p:cNvSpPr/>
                <p:nvPr/>
              </p:nvSpPr>
              <p:spPr>
                <a:xfrm>
                  <a:off x="1200240" y="2973600"/>
                  <a:ext cx="1396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2" name="Text Box 42"/>
              <p:cNvSpPr/>
              <p:nvPr/>
            </p:nvSpPr>
            <p:spPr>
              <a:xfrm>
                <a:off x="1623240" y="4389480"/>
                <a:ext cx="1119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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= 27.4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med">
    <p:wipe dir="l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/>
          </p:nvPr>
        </p:nvSpPr>
        <p:spPr>
          <a:xfrm>
            <a:off x="457200" y="9907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ose MSE if it is important to avoid (even a few) large errors. Otherwise, use MAD / MAP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3"/>
          <p:cNvSpPr/>
          <p:nvPr/>
        </p:nvSpPr>
        <p:spPr>
          <a:xfrm>
            <a:off x="685800" y="2438280"/>
            <a:ext cx="77724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d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c0000"/>
                </a:solidFill>
                <a:latin typeface="Arial"/>
              </a:rPr>
              <a:t>A useful procedure for model sele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d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0000"/>
                </a:solidFill>
                <a:latin typeface="Arial"/>
              </a:rPr>
              <a:t>Use some of the observations to develop several competing forecasting mode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d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0000"/>
                </a:solidFill>
                <a:latin typeface="Arial"/>
              </a:rPr>
              <a:t>Run the models on the rest of the observ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d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0000"/>
                </a:solidFill>
                <a:latin typeface="Arial"/>
              </a:rPr>
              <a:t>Calculate the accuracy of each mod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d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0000"/>
                </a:solidFill>
                <a:latin typeface="Arial"/>
              </a:rPr>
              <a:t>Select the model with the best accuracy meas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asures of Forecast Accurac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0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90480" y="201600"/>
            <a:ext cx="7772400" cy="5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 Robert’s Dru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84360" y="1058400"/>
            <a:ext cx="7772400" cy="46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ring the past ten weeks, sales of cases of Comfort brand headache medicine at Robert's Drugs have been as foll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ek    Sales           Week     S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        110                 6          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        115                 7          1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        125                 8          1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        120                 9          1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        125               10          1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Robert's uses exponential smoothing to forecast sales, which value for the smoothing constan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.1 o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.8, gives better forecas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4"/>
          <p:cNvSpPr/>
          <p:nvPr/>
        </p:nvSpPr>
        <p:spPr>
          <a:xfrm>
            <a:off x="4381560" y="2320920"/>
            <a:ext cx="0" cy="2143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90480" y="201600"/>
            <a:ext cx="7772400" cy="5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 Robert’s Dru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onential Smooth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evaluate the two smoothing constants, determine how the forecasted values would compare with the actual historical values in each cas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: 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actual sales in week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forecasted sales in week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1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other weeks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.1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.9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 Robert’s Dru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onential Smoo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.1,  1 -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.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= 1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.1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.9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.1(110) + .9(110)       = 11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.1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.9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.1(115) + .9(110)       = 110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.1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.9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.1(125) + .9(110.5)    = 111.9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.1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.9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.1(120) + .9(111.95)  = 112.7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.1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.9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.1(125) + .9(112.76)  = 113.9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.1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.9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.1(120) + .9(113.98)  = 114.5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.1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.9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.1(130) + .9(114.58)  = 116.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.1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.9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.1(115) + .9(116.12)  = 116.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.1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.9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.1(110) + .9(116.01)  = 115.4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 Robert’s Dru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onential Smoo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.8,  1 -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= 1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.8(110) + .2(110)      = 1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.8(115) + .2(110)      = 1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.8(125) + .2(114)      = 122.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.8(120) + .2(122.80) = 120.5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.8(125) + .2(120.56) = 124.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.8(120) + .2(124.11) = 120.8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.8(130) + .2(120.82) = 128.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.8(115) + .2(128.16) = 117.6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.8(110) + .2(117.63) = 111.5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 Robert’s Dru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n Squared Err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order to determine which smoothing constant gives the better performance, calculate, for each, the mean squared error for the nine weeks of forecasts, weeks 2 through 10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. . . + 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]/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 Robert’s Dru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101080" cy="50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 .1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.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ek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t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       110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       115      110.00      25.00       110.00      25.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       125      110.50    210.25       114.00    121.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        120      111.95      64.80       122.80        7.8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        125      112.76    149.94       120.56      19.7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        120      113.98      36.25       124.11      16.9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        130      114.58    237.73       120.82      84.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        115      116.12        1.26       128.16    173.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        110      116.01      36.12       117.63      58.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        130      115.41    212.87       111.53    341.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m      974.22        Sum      847.5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SE     Sum/9                     Sum/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4"/>
          <p:cNvSpPr/>
          <p:nvPr/>
        </p:nvSpPr>
        <p:spPr>
          <a:xfrm>
            <a:off x="4114800" y="5486400"/>
            <a:ext cx="1054080" cy="44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08.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5"/>
          <p:cNvSpPr/>
          <p:nvPr/>
        </p:nvSpPr>
        <p:spPr>
          <a:xfrm>
            <a:off x="6477120" y="5486400"/>
            <a:ext cx="1054080" cy="44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94.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Line 6"/>
          <p:cNvSpPr/>
          <p:nvPr/>
        </p:nvSpPr>
        <p:spPr>
          <a:xfrm>
            <a:off x="3044880" y="1041480"/>
            <a:ext cx="0" cy="4871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Line 7"/>
          <p:cNvSpPr/>
          <p:nvPr/>
        </p:nvSpPr>
        <p:spPr>
          <a:xfrm>
            <a:off x="5560920" y="1003320"/>
            <a:ext cx="0" cy="4929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Freeform 4"/>
          <p:cNvSpPr/>
          <p:nvPr/>
        </p:nvSpPr>
        <p:spPr>
          <a:xfrm>
            <a:off x="5334120" y="838080"/>
            <a:ext cx="2895480" cy="205740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2057400"/>
              <a:gd name="textAreaBottom" fmla="*/ 2057760 h 2057400"/>
            </a:gdLst>
            <a:ahLst/>
            <a:rect l="textAreaLeft" t="textAreaTop" r="textAreaRight" b="textAreaBottom"/>
            <a:pathLst>
              <a:path w="1824" h="1632">
                <a:moveTo>
                  <a:pt x="0" y="0"/>
                </a:moveTo>
                <a:lnTo>
                  <a:pt x="0" y="1632"/>
                </a:lnTo>
                <a:lnTo>
                  <a:pt x="1824" y="163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609480" y="838080"/>
            <a:ext cx="4191120" cy="1008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10f"/>
                </a:solidFill>
                <a:latin typeface="Arial Narrow"/>
              </a:rPr>
              <a:t>A</a:t>
            </a:r>
            <a:r>
              <a:rPr b="1" lang="en-US" sz="2000" spc="-1" strike="noStrike">
                <a:solidFill>
                  <a:srgbClr val="13110f"/>
                </a:solidFill>
                <a:latin typeface="Arial Narrow"/>
              </a:rPr>
              <a:t> cycle </a:t>
            </a:r>
            <a:r>
              <a:rPr b="0" lang="en-US" sz="2000" spc="-1" strike="noStrike">
                <a:solidFill>
                  <a:srgbClr val="13110f"/>
                </a:solidFill>
                <a:latin typeface="Arial Narrow"/>
              </a:rPr>
              <a:t>is a wavelike pattern describ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10f"/>
                </a:solidFill>
                <a:latin typeface="Arial Narrow"/>
              </a:rPr>
              <a:t>a long term behavior (for more than o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10f"/>
                </a:solidFill>
                <a:latin typeface="Arial Narrow"/>
              </a:rPr>
              <a:t>year).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reeform 6"/>
          <p:cNvSpPr/>
          <p:nvPr/>
        </p:nvSpPr>
        <p:spPr>
          <a:xfrm>
            <a:off x="5638680" y="762120"/>
            <a:ext cx="3276720" cy="1676160"/>
          </a:xfrm>
          <a:custGeom>
            <a:avLst/>
            <a:gdLst>
              <a:gd name="textAreaLeft" fmla="*/ 0 w 3276720"/>
              <a:gd name="textAreaRight" fmla="*/ 3277080 w 3276720"/>
              <a:gd name="textAreaTop" fmla="*/ 0 h 1676160"/>
              <a:gd name="textAreaBottom" fmla="*/ 1676520 h 1676160"/>
            </a:gdLst>
            <a:ahLst/>
            <a:rect l="textAreaLeft" t="textAreaTop" r="textAreaRight" b="textAreaBottom"/>
            <a:pathLst>
              <a:path w="2064" h="1536">
                <a:moveTo>
                  <a:pt x="0" y="1536"/>
                </a:moveTo>
                <a:lnTo>
                  <a:pt x="96" y="960"/>
                </a:lnTo>
                <a:lnTo>
                  <a:pt x="192" y="1008"/>
                </a:lnTo>
                <a:lnTo>
                  <a:pt x="240" y="816"/>
                </a:lnTo>
                <a:lnTo>
                  <a:pt x="528" y="144"/>
                </a:lnTo>
                <a:lnTo>
                  <a:pt x="576" y="432"/>
                </a:lnTo>
                <a:lnTo>
                  <a:pt x="672" y="384"/>
                </a:lnTo>
                <a:lnTo>
                  <a:pt x="864" y="960"/>
                </a:lnTo>
                <a:lnTo>
                  <a:pt x="1008" y="1056"/>
                </a:lnTo>
                <a:lnTo>
                  <a:pt x="1200" y="528"/>
                </a:lnTo>
                <a:lnTo>
                  <a:pt x="1248" y="432"/>
                </a:lnTo>
                <a:lnTo>
                  <a:pt x="1440" y="288"/>
                </a:lnTo>
                <a:lnTo>
                  <a:pt x="1488" y="0"/>
                </a:lnTo>
                <a:lnTo>
                  <a:pt x="1584" y="96"/>
                </a:lnTo>
                <a:lnTo>
                  <a:pt x="1632" y="480"/>
                </a:lnTo>
                <a:lnTo>
                  <a:pt x="1824" y="816"/>
                </a:lnTo>
                <a:lnTo>
                  <a:pt x="2064" y="528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7"/>
          <p:cNvSpPr/>
          <p:nvPr/>
        </p:nvSpPr>
        <p:spPr>
          <a:xfrm flipV="1">
            <a:off x="5486400" y="1066680"/>
            <a:ext cx="3200400" cy="9907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8"/>
          <p:cNvSpPr/>
          <p:nvPr/>
        </p:nvSpPr>
        <p:spPr>
          <a:xfrm>
            <a:off x="1066680" y="2057400"/>
            <a:ext cx="3886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c61e"/>
                </a:solidFill>
                <a:latin typeface="Arial Narrow"/>
              </a:rPr>
              <a:t>Cycles are seldom regular,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c61e"/>
                </a:solidFill>
                <a:latin typeface="Arial Narrow"/>
              </a:rPr>
              <a:t>often appear in combination wit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c61e"/>
                </a:solidFill>
                <a:latin typeface="Arial Narrow"/>
              </a:rPr>
              <a:t>other compon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9"/>
          <p:cNvSpPr/>
          <p:nvPr/>
        </p:nvSpPr>
        <p:spPr>
          <a:xfrm>
            <a:off x="5699160" y="3048120"/>
            <a:ext cx="291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6/90   6/93   6/96   6/99   6/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Group 10"/>
          <p:cNvGrpSpPr/>
          <p:nvPr/>
        </p:nvGrpSpPr>
        <p:grpSpPr>
          <a:xfrm>
            <a:off x="5791320" y="762120"/>
            <a:ext cx="2409840" cy="2168280"/>
            <a:chOff x="5791320" y="762120"/>
            <a:chExt cx="2409840" cy="2168280"/>
          </a:xfrm>
        </p:grpSpPr>
        <p:sp>
          <p:nvSpPr>
            <p:cNvPr id="73" name="Line 11"/>
            <p:cNvSpPr/>
            <p:nvPr/>
          </p:nvSpPr>
          <p:spPr>
            <a:xfrm>
              <a:off x="5791320" y="1917720"/>
              <a:ext cx="0" cy="957240"/>
            </a:xfrm>
            <a:prstGeom prst="line">
              <a:avLst/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Line 12"/>
            <p:cNvSpPr/>
            <p:nvPr/>
          </p:nvSpPr>
          <p:spPr>
            <a:xfrm>
              <a:off x="6392880" y="762120"/>
              <a:ext cx="0" cy="2136600"/>
            </a:xfrm>
            <a:prstGeom prst="line">
              <a:avLst/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Line 13"/>
            <p:cNvSpPr/>
            <p:nvPr/>
          </p:nvSpPr>
          <p:spPr>
            <a:xfrm>
              <a:off x="7005600" y="1911240"/>
              <a:ext cx="0" cy="998640"/>
            </a:xfrm>
            <a:prstGeom prst="line">
              <a:avLst/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14"/>
            <p:cNvSpPr/>
            <p:nvPr/>
          </p:nvSpPr>
          <p:spPr>
            <a:xfrm>
              <a:off x="7613640" y="1025640"/>
              <a:ext cx="0" cy="1871640"/>
            </a:xfrm>
            <a:prstGeom prst="line">
              <a:avLst/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15"/>
            <p:cNvSpPr/>
            <p:nvPr/>
          </p:nvSpPr>
          <p:spPr>
            <a:xfrm>
              <a:off x="8201160" y="1177920"/>
              <a:ext cx="0" cy="1752480"/>
            </a:xfrm>
            <a:prstGeom prst="line">
              <a:avLst/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Freeform 18"/>
          <p:cNvSpPr/>
          <p:nvPr/>
        </p:nvSpPr>
        <p:spPr>
          <a:xfrm>
            <a:off x="5562720" y="3733920"/>
            <a:ext cx="2666880" cy="2133360"/>
          </a:xfrm>
          <a:custGeom>
            <a:avLst/>
            <a:gdLst>
              <a:gd name="textAreaLeft" fmla="*/ 0 w 2666880"/>
              <a:gd name="textAreaRight" fmla="*/ 2667240 w 26668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1824" h="1632">
                <a:moveTo>
                  <a:pt x="0" y="0"/>
                </a:moveTo>
                <a:lnTo>
                  <a:pt x="0" y="1632"/>
                </a:lnTo>
                <a:lnTo>
                  <a:pt x="1824" y="163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Group 19"/>
          <p:cNvGrpSpPr/>
          <p:nvPr/>
        </p:nvGrpSpPr>
        <p:grpSpPr>
          <a:xfrm>
            <a:off x="5638680" y="4124160"/>
            <a:ext cx="3200400" cy="962280"/>
            <a:chOff x="5638680" y="4124160"/>
            <a:chExt cx="3200400" cy="962280"/>
          </a:xfrm>
        </p:grpSpPr>
        <p:sp>
          <p:nvSpPr>
            <p:cNvPr id="80" name="Line 20"/>
            <p:cNvSpPr/>
            <p:nvPr/>
          </p:nvSpPr>
          <p:spPr>
            <a:xfrm>
              <a:off x="5638680" y="4572000"/>
              <a:ext cx="3200400" cy="30492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" name="Group 21"/>
            <p:cNvGrpSpPr/>
            <p:nvPr/>
          </p:nvGrpSpPr>
          <p:grpSpPr>
            <a:xfrm>
              <a:off x="5827680" y="4124160"/>
              <a:ext cx="2495520" cy="962280"/>
              <a:chOff x="5827680" y="4124160"/>
              <a:chExt cx="2495520" cy="962280"/>
            </a:xfrm>
          </p:grpSpPr>
          <p:sp>
            <p:nvSpPr>
              <p:cNvPr id="82" name="Freeform 22"/>
              <p:cNvSpPr/>
              <p:nvPr/>
            </p:nvSpPr>
            <p:spPr>
              <a:xfrm>
                <a:off x="5827680" y="4124160"/>
                <a:ext cx="1241280" cy="835200"/>
              </a:xfrm>
              <a:custGeom>
                <a:avLst/>
                <a:gdLst>
                  <a:gd name="textAreaLeft" fmla="*/ 0 w 1241280"/>
                  <a:gd name="textAreaRight" fmla="*/ 1241280 w 1241280"/>
                  <a:gd name="textAreaTop" fmla="*/ 0 h 835200"/>
                  <a:gd name="textAreaBottom" fmla="*/ 835560 h 835200"/>
                </a:gdLst>
                <a:ahLst/>
                <a:rect l="textAreaLeft" t="textAreaTop" r="textAreaRight" b="textAreaBottom"/>
                <a:pathLst>
                  <a:path w="786" h="526">
                    <a:moveTo>
                      <a:pt x="0" y="0"/>
                    </a:moveTo>
                    <a:lnTo>
                      <a:pt x="212" y="265"/>
                    </a:lnTo>
                    <a:lnTo>
                      <a:pt x="395" y="526"/>
                    </a:lnTo>
                    <a:lnTo>
                      <a:pt x="590" y="226"/>
                    </a:lnTo>
                    <a:lnTo>
                      <a:pt x="786" y="69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Freeform 23"/>
              <p:cNvSpPr/>
              <p:nvPr/>
            </p:nvSpPr>
            <p:spPr>
              <a:xfrm>
                <a:off x="7075440" y="4251240"/>
                <a:ext cx="1247760" cy="835200"/>
              </a:xfrm>
              <a:custGeom>
                <a:avLst/>
                <a:gdLst>
                  <a:gd name="textAreaLeft" fmla="*/ 0 w 1247760"/>
                  <a:gd name="textAreaRight" fmla="*/ 1248120 w 1247760"/>
                  <a:gd name="textAreaTop" fmla="*/ 0 h 835200"/>
                  <a:gd name="textAreaBottom" fmla="*/ 835560 h 835200"/>
                </a:gdLst>
                <a:ahLst/>
                <a:rect l="textAreaLeft" t="textAreaTop" r="textAreaRight" b="textAreaBottom"/>
                <a:pathLst>
                  <a:path w="786" h="526">
                    <a:moveTo>
                      <a:pt x="0" y="0"/>
                    </a:moveTo>
                    <a:lnTo>
                      <a:pt x="212" y="265"/>
                    </a:lnTo>
                    <a:lnTo>
                      <a:pt x="395" y="526"/>
                    </a:lnTo>
                    <a:lnTo>
                      <a:pt x="590" y="226"/>
                    </a:lnTo>
                    <a:lnTo>
                      <a:pt x="786" y="69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4" name="Group 24"/>
          <p:cNvGrpSpPr/>
          <p:nvPr/>
        </p:nvGrpSpPr>
        <p:grpSpPr>
          <a:xfrm>
            <a:off x="5731200" y="4114800"/>
            <a:ext cx="2823480" cy="1546200"/>
            <a:chOff x="5731200" y="4114800"/>
            <a:chExt cx="2823480" cy="1546200"/>
          </a:xfrm>
        </p:grpSpPr>
        <p:sp>
          <p:nvSpPr>
            <p:cNvPr id="85" name="Line 25"/>
            <p:cNvSpPr/>
            <p:nvPr/>
          </p:nvSpPr>
          <p:spPr>
            <a:xfrm>
              <a:off x="6437160" y="4952880"/>
              <a:ext cx="0" cy="425520"/>
            </a:xfrm>
            <a:prstGeom prst="line">
              <a:avLst/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" name="Group 26"/>
            <p:cNvGrpSpPr/>
            <p:nvPr/>
          </p:nvGrpSpPr>
          <p:grpSpPr>
            <a:xfrm>
              <a:off x="5731200" y="4114800"/>
              <a:ext cx="2823480" cy="1546200"/>
              <a:chOff x="5731200" y="4114800"/>
              <a:chExt cx="2823480" cy="1546200"/>
            </a:xfrm>
          </p:grpSpPr>
          <p:sp>
            <p:nvSpPr>
              <p:cNvPr id="87" name="Text Box 27"/>
              <p:cNvSpPr/>
              <p:nvPr/>
            </p:nvSpPr>
            <p:spPr>
              <a:xfrm>
                <a:off x="5731200" y="5292720"/>
                <a:ext cx="2823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 Narrow"/>
                  </a:rPr>
                  <a:t>6/97   12/97   6/98   12/98   6/99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Line 28"/>
              <p:cNvSpPr/>
              <p:nvPr/>
            </p:nvSpPr>
            <p:spPr>
              <a:xfrm>
                <a:off x="5835600" y="4114800"/>
                <a:ext cx="0" cy="12398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Line 29"/>
              <p:cNvSpPr/>
              <p:nvPr/>
            </p:nvSpPr>
            <p:spPr>
              <a:xfrm>
                <a:off x="7088040" y="4267080"/>
                <a:ext cx="0" cy="112248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Line 30"/>
              <p:cNvSpPr/>
              <p:nvPr/>
            </p:nvSpPr>
            <p:spPr>
              <a:xfrm>
                <a:off x="7719840" y="5064120"/>
                <a:ext cx="0" cy="3128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Line 31"/>
              <p:cNvSpPr/>
              <p:nvPr/>
            </p:nvSpPr>
            <p:spPr>
              <a:xfrm>
                <a:off x="6140520" y="4495680"/>
                <a:ext cx="0" cy="89388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Line 32"/>
              <p:cNvSpPr/>
              <p:nvPr/>
            </p:nvSpPr>
            <p:spPr>
              <a:xfrm>
                <a:off x="6742080" y="4572000"/>
                <a:ext cx="0" cy="84132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Line 33"/>
              <p:cNvSpPr/>
              <p:nvPr/>
            </p:nvSpPr>
            <p:spPr>
              <a:xfrm>
                <a:off x="7389720" y="4608360"/>
                <a:ext cx="0" cy="7686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Line 34"/>
              <p:cNvSpPr/>
              <p:nvPr/>
            </p:nvSpPr>
            <p:spPr>
              <a:xfrm>
                <a:off x="8048520" y="4610160"/>
                <a:ext cx="0" cy="7682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Line 35"/>
              <p:cNvSpPr/>
              <p:nvPr/>
            </p:nvSpPr>
            <p:spPr>
              <a:xfrm>
                <a:off x="8366040" y="4367160"/>
                <a:ext cx="0" cy="9968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6" name="Text Box 36"/>
          <p:cNvSpPr/>
          <p:nvPr/>
        </p:nvSpPr>
        <p:spPr>
          <a:xfrm>
            <a:off x="609480" y="4267080"/>
            <a:ext cx="4310280" cy="1313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10f"/>
                </a:solidFill>
                <a:latin typeface="Arial Narrow"/>
              </a:rPr>
              <a:t>The </a:t>
            </a:r>
            <a:r>
              <a:rPr b="1" lang="en-US" sz="2000" spc="-1" strike="noStrike">
                <a:solidFill>
                  <a:srgbClr val="13110f"/>
                </a:solidFill>
                <a:latin typeface="Arial Narrow"/>
              </a:rPr>
              <a:t>seasonal component</a:t>
            </a:r>
            <a:r>
              <a:rPr b="0" lang="en-US" sz="2000" spc="-1" strike="noStrike">
                <a:solidFill>
                  <a:srgbClr val="13110f"/>
                </a:solidFill>
                <a:latin typeface="Arial Narrow"/>
              </a:rPr>
              <a:t> of the time se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10f"/>
                </a:solidFill>
                <a:latin typeface="Arial Narrow"/>
              </a:rPr>
              <a:t>exhibits a short term (less than one year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10f"/>
                </a:solidFill>
                <a:latin typeface="Arial Narrow"/>
              </a:rPr>
              <a:t>calendar repetitive behavi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easonal Analysi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asonal variation may occur within a year or within a shorter period (month, wee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measure the seasonal effects we construct seasonal ind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asonal indexes express the degree to which the seasons differ from the average time series value across all seas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uting Seasonal Indi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the effects of the seasonal and random variations by regression analysi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 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+ 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7" name="Group 4"/>
          <p:cNvGrpSpPr/>
          <p:nvPr/>
        </p:nvGrpSpPr>
        <p:grpSpPr>
          <a:xfrm>
            <a:off x="685800" y="3124080"/>
            <a:ext cx="7772400" cy="1371600"/>
            <a:chOff x="685800" y="3124080"/>
            <a:chExt cx="7772400" cy="1371600"/>
          </a:xfrm>
        </p:grpSpPr>
        <p:sp>
          <p:nvSpPr>
            <p:cNvPr id="478" name="Rectangle 5"/>
            <p:cNvSpPr/>
            <p:nvPr/>
          </p:nvSpPr>
          <p:spPr>
            <a:xfrm>
              <a:off x="685800" y="3124080"/>
              <a:ext cx="777240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cc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c0000"/>
                  </a:solidFill>
                  <a:latin typeface="Arial Narrow"/>
                </a:rPr>
                <a:t>For each time period compute the ratio</a:t>
              </a:r>
              <a:br>
                <a:rPr sz="2800"/>
              </a:br>
              <a:r>
                <a:rPr b="0" lang="en-US" sz="2800" spc="-1" strike="noStrike">
                  <a:solidFill>
                    <a:srgbClr val="cc0000"/>
                  </a:solidFill>
                  <a:latin typeface="Arial Narrow"/>
                </a:rPr>
                <a:t>	</a:t>
              </a:r>
              <a:r>
                <a:rPr b="0" lang="en-US" sz="2800" spc="-1" strike="noStrike">
                  <a:solidFill>
                    <a:srgbClr val="cc0000"/>
                  </a:solidFill>
                  <a:latin typeface="Arial Narrow"/>
                </a:rPr>
                <a:t>	</a:t>
              </a:r>
              <a:r>
                <a:rPr b="0" lang="en-US" sz="2800" spc="-1" strike="noStrike">
                  <a:solidFill>
                    <a:srgbClr val="cc0000"/>
                  </a:solidFill>
                  <a:latin typeface="Arial Narrow"/>
                </a:rPr>
                <a:t>	</a:t>
              </a:r>
              <a:r>
                <a:rPr b="1" lang="en-US" sz="2800" spc="-1" strike="noStrike">
                  <a:solidFill>
                    <a:srgbClr val="cc0000"/>
                  </a:solidFill>
                  <a:latin typeface="Arial Narrow"/>
                </a:rPr>
                <a:t>y</a:t>
              </a:r>
              <a:r>
                <a:rPr b="1" lang="en-US" sz="2800" spc="-1" strike="noStrike">
                  <a:solidFill>
                    <a:srgbClr val="cc0000"/>
                  </a:solidFill>
                  <a:latin typeface="Arial Narrow"/>
                </a:rPr>
                <a:t>t</a:t>
              </a:r>
              <a:r>
                <a:rPr b="1" lang="en-US" sz="2800" spc="-1" strike="noStrike">
                  <a:solidFill>
                    <a:srgbClr val="cc0000"/>
                  </a:solidFill>
                  <a:latin typeface="Arial Narrow"/>
                </a:rPr>
                <a:t>/y</a:t>
              </a:r>
              <a:r>
                <a:rPr b="1" lang="en-US" sz="2800" spc="-1" strike="noStrike">
                  <a:solidFill>
                    <a:srgbClr val="cc0000"/>
                  </a:solidFill>
                  <a:latin typeface="Arial Narrow"/>
                </a:rPr>
                <a:t>t</a:t>
              </a:r>
              <a:br>
                <a:rPr sz="2800"/>
              </a:br>
              <a:r>
                <a:rPr b="0" lang="en-US" sz="2800" spc="-1" strike="noStrike">
                  <a:solidFill>
                    <a:srgbClr val="cc0000"/>
                  </a:solidFill>
                  <a:latin typeface="Arial Narrow"/>
                </a:rPr>
                <a:t>which removes most of the trend vari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Text Box 6"/>
            <p:cNvSpPr/>
            <p:nvPr/>
          </p:nvSpPr>
          <p:spPr>
            <a:xfrm rot="16200000">
              <a:off x="3753000" y="3447000"/>
              <a:ext cx="302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3300"/>
                  </a:solidFill>
                  <a:latin typeface="Arial Narrow"/>
                </a:rPr>
                <a:t>&gt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0" name="Group 7"/>
          <p:cNvGrpSpPr/>
          <p:nvPr/>
        </p:nvGrpSpPr>
        <p:grpSpPr>
          <a:xfrm>
            <a:off x="685800" y="4545360"/>
            <a:ext cx="7772400" cy="1875600"/>
            <a:chOff x="685800" y="4545360"/>
            <a:chExt cx="7772400" cy="1875600"/>
          </a:xfrm>
        </p:grpSpPr>
        <p:sp>
          <p:nvSpPr>
            <p:cNvPr id="481" name="Rectangle 8"/>
            <p:cNvSpPr/>
            <p:nvPr/>
          </p:nvSpPr>
          <p:spPr>
            <a:xfrm>
              <a:off x="685800" y="4578120"/>
              <a:ext cx="7772400" cy="184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cc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c0000"/>
                  </a:solidFill>
                  <a:latin typeface="Arial Narrow"/>
                </a:rPr>
                <a:t>For each season calculate the average of </a:t>
              </a:r>
              <a:r>
                <a:rPr b="1" lang="en-US" sz="2800" spc="-1" strike="noStrike">
                  <a:solidFill>
                    <a:srgbClr val="cc0000"/>
                  </a:solidFill>
                  <a:latin typeface="Arial Narrow"/>
                </a:rPr>
                <a:t>y</a:t>
              </a:r>
              <a:r>
                <a:rPr b="1" lang="en-US" sz="2800" spc="-1" strike="noStrike">
                  <a:solidFill>
                    <a:srgbClr val="cc0000"/>
                  </a:solidFill>
                  <a:latin typeface="Arial Narrow"/>
                </a:rPr>
                <a:t>t</a:t>
              </a:r>
              <a:r>
                <a:rPr b="1" lang="en-US" sz="2800" spc="-1" strike="noStrike">
                  <a:solidFill>
                    <a:srgbClr val="cc0000"/>
                  </a:solidFill>
                  <a:latin typeface="Arial Narrow"/>
                </a:rPr>
                <a:t>/y</a:t>
              </a:r>
              <a:r>
                <a:rPr b="1" lang="en-US" sz="2800" spc="-1" strike="noStrike">
                  <a:solidFill>
                    <a:srgbClr val="cc0000"/>
                  </a:solidFill>
                  <a:latin typeface="Arial Narrow"/>
                </a:rPr>
                <a:t>t</a:t>
              </a:r>
              <a:br>
                <a:rPr sz="2800"/>
              </a:br>
              <a:r>
                <a:rPr b="0" lang="en-US" sz="2800" spc="-1" strike="noStrike">
                  <a:solidFill>
                    <a:srgbClr val="cc0000"/>
                  </a:solidFill>
                  <a:latin typeface="Arial Narrow"/>
                </a:rPr>
                <a:t>which provides the measure of seasonality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cc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c0000"/>
                  </a:solidFill>
                  <a:latin typeface="Arial Narrow"/>
                </a:rPr>
                <a:t>Adjust the average above so that the sum of averages of all seasons is 1 (if necessary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Text Box 9"/>
            <p:cNvSpPr/>
            <p:nvPr/>
          </p:nvSpPr>
          <p:spPr>
            <a:xfrm rot="16200000">
              <a:off x="6796440" y="4497120"/>
              <a:ext cx="302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3300"/>
                  </a:solidFill>
                  <a:latin typeface="Arial Narrow"/>
                </a:rPr>
                <a:t>&gt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3" name="Group 10"/>
          <p:cNvGrpSpPr/>
          <p:nvPr/>
        </p:nvGrpSpPr>
        <p:grpSpPr>
          <a:xfrm>
            <a:off x="4343400" y="3657600"/>
            <a:ext cx="4191120" cy="457200"/>
            <a:chOff x="4343400" y="3657600"/>
            <a:chExt cx="4191120" cy="457200"/>
          </a:xfrm>
        </p:grpSpPr>
        <p:sp>
          <p:nvSpPr>
            <p:cNvPr id="484" name="AutoShape 11"/>
            <p:cNvSpPr/>
            <p:nvPr/>
          </p:nvSpPr>
          <p:spPr>
            <a:xfrm flipH="1">
              <a:off x="4343400" y="3657600"/>
              <a:ext cx="4191120" cy="457200"/>
            </a:xfrm>
            <a:custGeom>
              <a:avLst/>
              <a:gdLst>
                <a:gd name="textAreaLeft" fmla="*/ 360 w 4191120"/>
                <a:gd name="textAreaRight" fmla="*/ 4191840 w 419112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Text Box 12"/>
            <p:cNvSpPr/>
            <p:nvPr/>
          </p:nvSpPr>
          <p:spPr>
            <a:xfrm>
              <a:off x="4946400" y="3692520"/>
              <a:ext cx="358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Arial Narrow"/>
                </a:rPr>
                <a:t>This is based on the </a:t>
              </a:r>
              <a:r>
                <a:rPr b="0" lang="en-US" sz="1800" spc="-1" strike="noStrike" u="sng">
                  <a:solidFill>
                    <a:srgbClr val="009999"/>
                  </a:solidFill>
                  <a:uFillTx/>
                  <a:latin typeface="Arial Narrow"/>
                  <a:hlinkClick r:id="rId1"/>
                </a:rPr>
                <a:t>Multiplicative Model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6" name="Text Box 13"/>
          <p:cNvSpPr/>
          <p:nvPr/>
        </p:nvSpPr>
        <p:spPr>
          <a:xfrm>
            <a:off x="1165320" y="685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7" name="Object 14"/>
              <p:cNvSpPr txBox="1"/>
              <p:nvPr/>
            </p:nvSpPr>
            <p:spPr>
              <a:xfrm>
                <a:off x="3200400" y="2519280"/>
                <a:ext cx="39672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p:transition>
    <p:zoom dir="in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8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uting Seasonal Indi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culate the quarterly seasonal indices for hotel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ccupancy r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order to measure seasonal vari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0" name="Object 4"/>
          <p:cNvGraphicFramePr/>
          <p:nvPr/>
        </p:nvGraphicFramePr>
        <p:xfrm>
          <a:off x="828720" y="3962520"/>
          <a:ext cx="7993080" cy="2152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8720" y="3962520"/>
                    <a:ext cx="7993080" cy="2152440"/>
                  </a:xfrm>
                  <a:prstGeom prst="rect">
                    <a:avLst/>
                  </a:prstGeom>
                  <a:ln w="9360">
                    <a:solidFill>
                      <a:srgbClr val="0099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2" name="Object 2"/>
          <p:cNvGraphicFramePr/>
          <p:nvPr/>
        </p:nvGraphicFramePr>
        <p:xfrm>
          <a:off x="3429000" y="3886200"/>
          <a:ext cx="5334120" cy="2438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9000" y="3886200"/>
                    <a:ext cx="5334120" cy="24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685800" y="11430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 regression analysis for the mode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 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 +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here t represents the time, and y represents the occupancy rat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4"/>
          <p:cNvSpPr/>
          <p:nvPr/>
        </p:nvSpPr>
        <p:spPr>
          <a:xfrm>
            <a:off x="1143000" y="3429000"/>
            <a:ext cx="2022480" cy="3111480"/>
          </a:xfrm>
          <a:prstGeom prst="rect">
            <a:avLst/>
          </a:prstGeom>
          <a:noFill/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Time (t)  Ra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0.56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0.70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0.8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0.56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0.57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0.73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0.86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0.6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6" name="Object 5"/>
              <p:cNvSpPr txBox="1"/>
              <p:nvPr/>
            </p:nvSpPr>
            <p:spPr>
              <a:xfrm>
                <a:off x="3352680" y="3102120"/>
                <a:ext cx="3429000" cy="58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39368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5246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7" name="Text Box 15"/>
          <p:cNvSpPr/>
          <p:nvPr/>
        </p:nvSpPr>
        <p:spPr>
          <a:xfrm>
            <a:off x="4123080" y="5638680"/>
            <a:ext cx="4264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e regression line represents tr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Freeform 16"/>
          <p:cNvSpPr/>
          <p:nvPr/>
        </p:nvSpPr>
        <p:spPr>
          <a:xfrm>
            <a:off x="6553080" y="3429000"/>
            <a:ext cx="1914480" cy="2387520"/>
          </a:xfrm>
          <a:custGeom>
            <a:avLst/>
            <a:gdLst>
              <a:gd name="textAreaLeft" fmla="*/ 0 w 1914480"/>
              <a:gd name="textAreaRight" fmla="*/ 1914840 w 1914480"/>
              <a:gd name="textAreaTop" fmla="*/ 0 h 2387520"/>
              <a:gd name="textAreaBottom" fmla="*/ 2387880 h 2387520"/>
            </a:gdLst>
            <a:ahLst/>
            <a:rect l="textAreaLeft" t="textAreaTop" r="textAreaRight" b="textAreaBottom"/>
            <a:pathLst>
              <a:path w="1206" h="1504">
                <a:moveTo>
                  <a:pt x="0" y="0"/>
                </a:moveTo>
                <a:cubicBezTo>
                  <a:pt x="402" y="2"/>
                  <a:pt x="804" y="3"/>
                  <a:pt x="1206" y="5"/>
                </a:cubicBezTo>
                <a:cubicBezTo>
                  <a:pt x="1192" y="447"/>
                  <a:pt x="1200" y="130"/>
                  <a:pt x="1206" y="958"/>
                </a:cubicBezTo>
                <a:cubicBezTo>
                  <a:pt x="901" y="962"/>
                  <a:pt x="1106" y="956"/>
                  <a:pt x="593" y="997"/>
                </a:cubicBezTo>
                <a:cubicBezTo>
                  <a:pt x="523" y="1129"/>
                  <a:pt x="430" y="1250"/>
                  <a:pt x="384" y="1392"/>
                </a:cubicBezTo>
                <a:cubicBezTo>
                  <a:pt x="356" y="1478"/>
                  <a:pt x="494" y="1504"/>
                  <a:pt x="397" y="1479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uting Seasonal Indi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0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4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8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Text Box 2"/>
          <p:cNvSpPr/>
          <p:nvPr/>
        </p:nvSpPr>
        <p:spPr>
          <a:xfrm>
            <a:off x="961200" y="2170080"/>
            <a:ext cx="630720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3300"/>
                </a:solidFill>
                <a:uFillTx/>
                <a:latin typeface="Arial Narrow"/>
              </a:rPr>
              <a:t>t</a:t>
            </a:r>
            <a:r>
              <a:rPr b="0" lang="en-US" sz="2400" spc="-1" strike="noStrike" u="sng">
                <a:solidFill>
                  <a:srgbClr val="cc3300"/>
                </a:solidFill>
                <a:uFillTx/>
                <a:latin typeface="Arial Narrow"/>
              </a:rPr>
              <a:t>	</a:t>
            </a:r>
            <a:r>
              <a:rPr b="0" lang="en-US" sz="2400" spc="-1" strike="noStrike" u="sng">
                <a:solidFill>
                  <a:srgbClr val="cc3300"/>
                </a:solidFill>
                <a:uFillTx/>
                <a:latin typeface="Arial Narrow"/>
              </a:rPr>
              <a:t>  y</a:t>
            </a:r>
            <a:r>
              <a:rPr b="0" lang="en-US" sz="2400" spc="-1" strike="noStrike">
                <a:solidFill>
                  <a:srgbClr val="cc3300"/>
                </a:solidFill>
                <a:latin typeface="Arial Narrow"/>
              </a:rPr>
              <a:t>t</a:t>
            </a:r>
            <a:r>
              <a:rPr b="0" lang="en-US" sz="2400" spc="-1" strike="noStrike">
                <a:solidFill>
                  <a:srgbClr val="cc3300"/>
                </a:solidFill>
                <a:latin typeface="Arial Narrow"/>
              </a:rPr>
              <a:t>	</a:t>
            </a:r>
            <a:r>
              <a:rPr b="0" lang="en-US" sz="2400" spc="-1" strike="noStrike" u="sng">
                <a:solidFill>
                  <a:srgbClr val="cc3300"/>
                </a:solidFill>
                <a:uFillTx/>
                <a:latin typeface="Arial Narrow"/>
              </a:rPr>
              <a:t>	</a:t>
            </a:r>
            <a:r>
              <a:rPr b="0" lang="en-US" sz="2400" spc="-1" strike="noStrike" u="sng">
                <a:solidFill>
                  <a:srgbClr val="cc3300"/>
                </a:solidFill>
                <a:uFillTx/>
                <a:latin typeface="Arial Narrow"/>
              </a:rPr>
              <a:t>	</a:t>
            </a:r>
            <a:r>
              <a:rPr b="0" lang="en-US" sz="2400" spc="-1" strike="noStrike" u="sng">
                <a:solidFill>
                  <a:srgbClr val="cc3300"/>
                </a:solidFill>
                <a:uFillTx/>
                <a:latin typeface="Arial Narrow"/>
              </a:rPr>
              <a:t>	</a:t>
            </a:r>
            <a:r>
              <a:rPr b="0" lang="en-US" sz="2400" spc="-1" strike="noStrike" u="sng">
                <a:solidFill>
                  <a:srgbClr val="cc3300"/>
                </a:solidFill>
                <a:uFillTx/>
                <a:latin typeface="Arial Narrow"/>
              </a:rPr>
              <a:t>             </a:t>
            </a:r>
            <a:r>
              <a:rPr b="0" lang="en-US" sz="2400" spc="-1" strike="noStrike" u="sng">
                <a:solidFill>
                  <a:srgbClr val="cc3300"/>
                </a:solidFill>
                <a:uFillTx/>
                <a:latin typeface="Arial Narrow"/>
              </a:rPr>
              <a:t>Rat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cc3300"/>
              </a:buClr>
              <a:buFont typeface="Arial Narrow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 Narrow"/>
              </a:rPr>
              <a:t>.561</a:t>
            </a:r>
            <a:r>
              <a:rPr b="0" lang="en-US" sz="2400" spc="-1" strike="noStrike">
                <a:solidFill>
                  <a:srgbClr val="cc33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cc3300"/>
                </a:solidFill>
                <a:latin typeface="Arial Narrow"/>
              </a:rPr>
              <a:t>.645</a:t>
            </a:r>
            <a:r>
              <a:rPr b="0" lang="en-US" sz="2400" spc="-1" strike="noStrike">
                <a:solidFill>
                  <a:srgbClr val="cc33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cc33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cc3300"/>
                </a:solidFill>
                <a:latin typeface="Arial Narrow"/>
              </a:rPr>
              <a:t>.561/.645=.8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cc3300"/>
              </a:buClr>
              <a:buFont typeface="Arial Narrow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 Narrow"/>
              </a:rPr>
              <a:t>.702</a:t>
            </a:r>
            <a:r>
              <a:rPr b="0" lang="en-US" sz="2400" spc="-1" strike="noStrike">
                <a:solidFill>
                  <a:srgbClr val="cc33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cc3300"/>
                </a:solidFill>
                <a:latin typeface="Arial Narrow"/>
              </a:rPr>
              <a:t>.650</a:t>
            </a:r>
            <a:r>
              <a:rPr b="0" lang="en-US" sz="2400" spc="-1" strike="noStrike">
                <a:solidFill>
                  <a:srgbClr val="cc33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cc33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cc3300"/>
                </a:solidFill>
                <a:latin typeface="Arial Narrow"/>
              </a:rPr>
              <a:t>.702/.650=1.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cc3300"/>
              </a:buClr>
              <a:buFont typeface="Arial Narrow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 Narrow"/>
              </a:rPr>
              <a:t>…………………………………………………</a:t>
            </a:r>
            <a:r>
              <a:rPr b="0" lang="en-US" sz="2400" spc="-1" strike="noStrike">
                <a:solidFill>
                  <a:srgbClr val="cc3300"/>
                </a:solidFill>
                <a:latin typeface="Arial Narrow"/>
              </a:rPr>
              <a:t>.</a:t>
            </a:r>
            <a:r>
              <a:rPr b="0" lang="en-US" sz="2400" spc="-1" strike="noStrike">
                <a:solidFill>
                  <a:srgbClr val="cc3300"/>
                </a:solidFill>
                <a:latin typeface="Arial Narro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1" name="Object 3"/>
          <p:cNvGraphicFramePr/>
          <p:nvPr/>
        </p:nvGraphicFramePr>
        <p:xfrm>
          <a:off x="1600200" y="4191120"/>
          <a:ext cx="5334120" cy="2533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4191120"/>
                    <a:ext cx="5334120" cy="253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03" name="Group 4"/>
          <p:cNvGrpSpPr/>
          <p:nvPr/>
        </p:nvGrpSpPr>
        <p:grpSpPr>
          <a:xfrm>
            <a:off x="990720" y="3962520"/>
            <a:ext cx="7601760" cy="1371600"/>
            <a:chOff x="990720" y="3962520"/>
            <a:chExt cx="7601760" cy="1371600"/>
          </a:xfrm>
        </p:grpSpPr>
        <p:sp>
          <p:nvSpPr>
            <p:cNvPr id="504" name="Text Box 5"/>
            <p:cNvSpPr/>
            <p:nvPr/>
          </p:nvSpPr>
          <p:spPr>
            <a:xfrm>
              <a:off x="6032880" y="3962520"/>
              <a:ext cx="2559600" cy="916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No trend is observed, b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seasonality and randomn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still exist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6"/>
            <p:cNvSpPr/>
            <p:nvPr/>
          </p:nvSpPr>
          <p:spPr>
            <a:xfrm>
              <a:off x="990720" y="4114800"/>
              <a:ext cx="5029200" cy="1219320"/>
            </a:xfrm>
            <a:custGeom>
              <a:avLst/>
              <a:gdLst>
                <a:gd name="textAreaLeft" fmla="*/ 0 w 5029200"/>
                <a:gd name="textAreaRight" fmla="*/ 5029560 w 502920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3168" h="768">
                  <a:moveTo>
                    <a:pt x="3168" y="0"/>
                  </a:moveTo>
                  <a:lnTo>
                    <a:pt x="0" y="0"/>
                  </a:lnTo>
                  <a:lnTo>
                    <a:pt x="0" y="768"/>
                  </a:lnTo>
                  <a:lnTo>
                    <a:pt x="528" y="76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06" name="Object 7"/>
              <p:cNvSpPr txBox="1"/>
              <p:nvPr/>
            </p:nvSpPr>
            <p:spPr>
              <a:xfrm>
                <a:off x="3124080" y="4267080"/>
                <a:ext cx="301680" cy="68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7" name="Object 8"/>
              <p:cNvSpPr txBox="1"/>
              <p:nvPr/>
            </p:nvSpPr>
            <p:spPr>
              <a:xfrm>
                <a:off x="3355920" y="2243160"/>
                <a:ext cx="30816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08" name="Text Box 9"/>
          <p:cNvSpPr/>
          <p:nvPr/>
        </p:nvSpPr>
        <p:spPr>
          <a:xfrm>
            <a:off x="2583720" y="3616200"/>
            <a:ext cx="197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 Narrow"/>
              </a:rPr>
              <a:t>=.639368+.005245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Freeform 10"/>
          <p:cNvSpPr/>
          <p:nvPr/>
        </p:nvSpPr>
        <p:spPr>
          <a:xfrm>
            <a:off x="3809880" y="2895480"/>
            <a:ext cx="1143000" cy="9144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720" h="576">
                <a:moveTo>
                  <a:pt x="432" y="576"/>
                </a:moveTo>
                <a:lnTo>
                  <a:pt x="720" y="576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2cb02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Line 11"/>
          <p:cNvSpPr/>
          <p:nvPr/>
        </p:nvSpPr>
        <p:spPr>
          <a:xfrm>
            <a:off x="3255840" y="2590920"/>
            <a:ext cx="47808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Ratio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13"/>
          <p:cNvSpPr/>
          <p:nvPr/>
        </p:nvSpPr>
        <p:spPr>
          <a:xfrm>
            <a:off x="5114880" y="1066680"/>
            <a:ext cx="12859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 Narrow"/>
              </a:rPr>
              <a:t> </a:t>
            </a:r>
            <a:r>
              <a:rPr b="1" lang="en-US" sz="4000" spc="-1" strike="noStrike">
                <a:solidFill>
                  <a:srgbClr val="cc3300"/>
                </a:solidFill>
                <a:latin typeface="Arial Narrow"/>
              </a:rPr>
              <a:t>y</a:t>
            </a:r>
            <a:r>
              <a:rPr b="1" lang="en-US" sz="4000" spc="-1" strike="noStrike">
                <a:solidFill>
                  <a:srgbClr val="cc3300"/>
                </a:solidFill>
                <a:latin typeface="Arial Narrow"/>
              </a:rPr>
              <a:t>t </a:t>
            </a:r>
            <a:r>
              <a:rPr b="1" lang="en-US" sz="4000" spc="-1" strike="noStrike">
                <a:solidFill>
                  <a:srgbClr val="cc3300"/>
                </a:solidFill>
                <a:latin typeface="Symbol"/>
                <a:ea typeface="Symbol"/>
              </a:rPr>
              <a:t></a:t>
            </a:r>
            <a:r>
              <a:rPr b="1" lang="en-US" sz="4000" spc="-1" strike="noStrike">
                <a:solidFill>
                  <a:srgbClr val="cc3300"/>
                </a:solidFill>
                <a:latin typeface="Arial Narrow"/>
              </a:rPr>
              <a:t> y</a:t>
            </a:r>
            <a:r>
              <a:rPr b="1" lang="en-US" sz="4000" spc="-1" strike="noStrike">
                <a:solidFill>
                  <a:srgbClr val="cc3300"/>
                </a:solidFill>
                <a:latin typeface="Arial Narrow"/>
              </a:rPr>
              <a:t>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14"/>
          <p:cNvSpPr/>
          <p:nvPr/>
        </p:nvSpPr>
        <p:spPr>
          <a:xfrm rot="16200000">
            <a:off x="5815440" y="73764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 Narrow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2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 Narrow"/>
              </a:rPr>
              <a:t>The Average Ratios by Seas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5" name="Object 3"/>
          <p:cNvGraphicFramePr/>
          <p:nvPr/>
        </p:nvGraphicFramePr>
        <p:xfrm>
          <a:off x="2895480" y="2789280"/>
          <a:ext cx="5334120" cy="2971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1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2789280"/>
                    <a:ext cx="533412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17" name="Group 4"/>
          <p:cNvGrpSpPr/>
          <p:nvPr/>
        </p:nvGrpSpPr>
        <p:grpSpPr>
          <a:xfrm>
            <a:off x="3549600" y="4095720"/>
            <a:ext cx="3765600" cy="234720"/>
            <a:chOff x="3549600" y="4095720"/>
            <a:chExt cx="3765600" cy="234720"/>
          </a:xfrm>
        </p:grpSpPr>
        <p:sp>
          <p:nvSpPr>
            <p:cNvPr id="518" name="Rectangle 5"/>
            <p:cNvSpPr/>
            <p:nvPr/>
          </p:nvSpPr>
          <p:spPr>
            <a:xfrm>
              <a:off x="3549600" y="4152600"/>
              <a:ext cx="150840" cy="169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Rectangle 6"/>
            <p:cNvSpPr/>
            <p:nvPr/>
          </p:nvSpPr>
          <p:spPr>
            <a:xfrm>
              <a:off x="4467240" y="4160520"/>
              <a:ext cx="150840" cy="169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Rectangle 7"/>
            <p:cNvSpPr/>
            <p:nvPr/>
          </p:nvSpPr>
          <p:spPr>
            <a:xfrm>
              <a:off x="5324400" y="4160520"/>
              <a:ext cx="150840" cy="169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Rectangle 8"/>
            <p:cNvSpPr/>
            <p:nvPr/>
          </p:nvSpPr>
          <p:spPr>
            <a:xfrm>
              <a:off x="6242040" y="4154400"/>
              <a:ext cx="150840" cy="169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Rectangle 9"/>
            <p:cNvSpPr/>
            <p:nvPr/>
          </p:nvSpPr>
          <p:spPr>
            <a:xfrm>
              <a:off x="7164360" y="4095720"/>
              <a:ext cx="150840" cy="169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3" name="Group 10"/>
          <p:cNvGrpSpPr/>
          <p:nvPr/>
        </p:nvGrpSpPr>
        <p:grpSpPr>
          <a:xfrm>
            <a:off x="3736800" y="3897360"/>
            <a:ext cx="3807000" cy="339840"/>
            <a:chOff x="3736800" y="3897360"/>
            <a:chExt cx="3807000" cy="339840"/>
          </a:xfrm>
        </p:grpSpPr>
        <p:sp>
          <p:nvSpPr>
            <p:cNvPr id="524" name="Rectangle 11"/>
            <p:cNvSpPr/>
            <p:nvPr/>
          </p:nvSpPr>
          <p:spPr>
            <a:xfrm>
              <a:off x="3736800" y="3973680"/>
              <a:ext cx="150840" cy="16992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Rectangle 12"/>
            <p:cNvSpPr/>
            <p:nvPr/>
          </p:nvSpPr>
          <p:spPr>
            <a:xfrm>
              <a:off x="4649760" y="3915000"/>
              <a:ext cx="150840" cy="16956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Rectangle 13"/>
            <p:cNvSpPr/>
            <p:nvPr/>
          </p:nvSpPr>
          <p:spPr>
            <a:xfrm>
              <a:off x="5564160" y="3990960"/>
              <a:ext cx="150840" cy="16992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Rectangle 14"/>
            <p:cNvSpPr/>
            <p:nvPr/>
          </p:nvSpPr>
          <p:spPr>
            <a:xfrm>
              <a:off x="6478560" y="4067280"/>
              <a:ext cx="150840" cy="16992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Rectangle 15"/>
            <p:cNvSpPr/>
            <p:nvPr/>
          </p:nvSpPr>
          <p:spPr>
            <a:xfrm>
              <a:off x="7392960" y="3897360"/>
              <a:ext cx="150840" cy="16992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9" name="Group 16"/>
          <p:cNvGrpSpPr/>
          <p:nvPr/>
        </p:nvGrpSpPr>
        <p:grpSpPr>
          <a:xfrm>
            <a:off x="3965400" y="3762360"/>
            <a:ext cx="3805560" cy="398520"/>
            <a:chOff x="3965400" y="3762360"/>
            <a:chExt cx="3805560" cy="398520"/>
          </a:xfrm>
        </p:grpSpPr>
        <p:sp>
          <p:nvSpPr>
            <p:cNvPr id="530" name="Rectangle 17"/>
            <p:cNvSpPr/>
            <p:nvPr/>
          </p:nvSpPr>
          <p:spPr>
            <a:xfrm>
              <a:off x="3965400" y="3821040"/>
              <a:ext cx="150840" cy="1699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Rectangle 18"/>
            <p:cNvSpPr/>
            <p:nvPr/>
          </p:nvSpPr>
          <p:spPr>
            <a:xfrm>
              <a:off x="4898880" y="3762360"/>
              <a:ext cx="150840" cy="1699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Rectangle 19"/>
            <p:cNvSpPr/>
            <p:nvPr/>
          </p:nvSpPr>
          <p:spPr>
            <a:xfrm>
              <a:off x="5792760" y="3990960"/>
              <a:ext cx="150840" cy="1699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Rectangle 20"/>
            <p:cNvSpPr/>
            <p:nvPr/>
          </p:nvSpPr>
          <p:spPr>
            <a:xfrm>
              <a:off x="6707160" y="3914640"/>
              <a:ext cx="150840" cy="1699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Rectangle 21"/>
            <p:cNvSpPr/>
            <p:nvPr/>
          </p:nvSpPr>
          <p:spPr>
            <a:xfrm>
              <a:off x="7620120" y="3855960"/>
              <a:ext cx="150840" cy="1699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5" name="Group 22"/>
          <p:cNvGrpSpPr/>
          <p:nvPr/>
        </p:nvGrpSpPr>
        <p:grpSpPr>
          <a:xfrm>
            <a:off x="4191120" y="4143240"/>
            <a:ext cx="3809520" cy="187560"/>
            <a:chOff x="4191120" y="4143240"/>
            <a:chExt cx="3809520" cy="187560"/>
          </a:xfrm>
        </p:grpSpPr>
        <p:sp>
          <p:nvSpPr>
            <p:cNvPr id="536" name="Rectangle 23"/>
            <p:cNvSpPr/>
            <p:nvPr/>
          </p:nvSpPr>
          <p:spPr>
            <a:xfrm>
              <a:off x="4191120" y="4160880"/>
              <a:ext cx="150480" cy="169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Rectangle 24"/>
            <p:cNvSpPr/>
            <p:nvPr/>
          </p:nvSpPr>
          <p:spPr>
            <a:xfrm>
              <a:off x="5124240" y="4143240"/>
              <a:ext cx="150480" cy="169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Rectangle 25"/>
            <p:cNvSpPr/>
            <p:nvPr/>
          </p:nvSpPr>
          <p:spPr>
            <a:xfrm>
              <a:off x="6018120" y="4160880"/>
              <a:ext cx="150480" cy="169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Rectangle 26"/>
            <p:cNvSpPr/>
            <p:nvPr/>
          </p:nvSpPr>
          <p:spPr>
            <a:xfrm>
              <a:off x="6932520" y="4160880"/>
              <a:ext cx="150480" cy="169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Rectangle 27"/>
            <p:cNvSpPr/>
            <p:nvPr/>
          </p:nvSpPr>
          <p:spPr>
            <a:xfrm>
              <a:off x="7850160" y="4160880"/>
              <a:ext cx="150480" cy="169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541" name="Object 28"/>
          <p:cNvGraphicFramePr/>
          <p:nvPr/>
        </p:nvGraphicFramePr>
        <p:xfrm>
          <a:off x="380880" y="1219320"/>
          <a:ext cx="1828800" cy="54100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42" name="Object 2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1219320"/>
                    <a:ext cx="1828800" cy="5410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189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  <p:sp>
        <p:nvSpPr>
          <p:cNvPr id="543" name="Text Box 29"/>
          <p:cNvSpPr/>
          <p:nvPr/>
        </p:nvSpPr>
        <p:spPr>
          <a:xfrm>
            <a:off x="5013720" y="5292720"/>
            <a:ext cx="370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81ff"/>
                </a:solidFill>
                <a:latin typeface="Arial Narrow"/>
              </a:rPr>
              <a:t>(.870 + .864 + .865 + .879 + .913)/5 = .87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30"/>
          <p:cNvSpPr/>
          <p:nvPr/>
        </p:nvSpPr>
        <p:spPr>
          <a:xfrm>
            <a:off x="2444400" y="5292720"/>
            <a:ext cx="264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81ff"/>
                </a:solidFill>
                <a:latin typeface="Arial Narrow"/>
              </a:rPr>
              <a:t>Average ratio for quarter 1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31"/>
          <p:cNvSpPr/>
          <p:nvPr/>
        </p:nvSpPr>
        <p:spPr>
          <a:xfrm>
            <a:off x="2460240" y="5653080"/>
            <a:ext cx="637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 Narrow"/>
              </a:rPr>
              <a:t>Average ratio for quarter 2:  (1.080+1.100+1.067+.993+1.138)/5 = 1.076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32"/>
          <p:cNvSpPr/>
          <p:nvPr/>
        </p:nvSpPr>
        <p:spPr>
          <a:xfrm>
            <a:off x="2460600" y="6019920"/>
            <a:ext cx="642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 Narrow"/>
              </a:rPr>
              <a:t>Average ratio for quarter 3:  (1.221+1.284+1.046+1.122+1.181)/5 = 1.17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33"/>
          <p:cNvSpPr/>
          <p:nvPr/>
        </p:nvSpPr>
        <p:spPr>
          <a:xfrm>
            <a:off x="2459880" y="6415200"/>
            <a:ext cx="627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verage ratio for quarter 4:  (.860 +.888 + .854 + .874 + .900)/ 5 =  .8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Line 34"/>
          <p:cNvSpPr/>
          <p:nvPr/>
        </p:nvSpPr>
        <p:spPr>
          <a:xfrm>
            <a:off x="685800" y="2514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Line 35"/>
          <p:cNvSpPr/>
          <p:nvPr/>
        </p:nvSpPr>
        <p:spPr>
          <a:xfrm>
            <a:off x="630360" y="35053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Line 36"/>
          <p:cNvSpPr/>
          <p:nvPr/>
        </p:nvSpPr>
        <p:spPr>
          <a:xfrm>
            <a:off x="685800" y="55627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Line 37"/>
          <p:cNvSpPr/>
          <p:nvPr/>
        </p:nvSpPr>
        <p:spPr>
          <a:xfrm>
            <a:off x="673200" y="45100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2" name="Group 38"/>
          <p:cNvGrpSpPr/>
          <p:nvPr/>
        </p:nvGrpSpPr>
        <p:grpSpPr>
          <a:xfrm>
            <a:off x="847800" y="1455840"/>
            <a:ext cx="218880" cy="4311720"/>
            <a:chOff x="847800" y="1455840"/>
            <a:chExt cx="218880" cy="4311720"/>
          </a:xfrm>
        </p:grpSpPr>
        <p:sp>
          <p:nvSpPr>
            <p:cNvPr id="553" name="Freeform 39"/>
            <p:cNvSpPr/>
            <p:nvPr/>
          </p:nvSpPr>
          <p:spPr>
            <a:xfrm>
              <a:off x="847800" y="1455840"/>
              <a:ext cx="218880" cy="19692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196920"/>
                <a:gd name="textAreaBottom" fmla="*/ 197280 h 196920"/>
              </a:gdLst>
              <a:ahLst/>
              <a:rect l="textAreaLeft" t="textAreaTop" r="textAreaRight" b="textAreaBottom"/>
              <a:pathLst>
                <a:path w="1314" h="2085">
                  <a:moveTo>
                    <a:pt x="148" y="972"/>
                  </a:moveTo>
                  <a:lnTo>
                    <a:pt x="0" y="1537"/>
                  </a:lnTo>
                  <a:lnTo>
                    <a:pt x="507" y="2085"/>
                  </a:lnTo>
                  <a:lnTo>
                    <a:pt x="1314" y="243"/>
                  </a:lnTo>
                  <a:lnTo>
                    <a:pt x="1314" y="0"/>
                  </a:lnTo>
                  <a:lnTo>
                    <a:pt x="414" y="1553"/>
                  </a:lnTo>
                  <a:lnTo>
                    <a:pt x="148" y="972"/>
                  </a:lnTo>
                  <a:close/>
                </a:path>
              </a:pathLst>
            </a:custGeom>
            <a:solidFill>
              <a:srgbClr val="038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40"/>
            <p:cNvSpPr/>
            <p:nvPr/>
          </p:nvSpPr>
          <p:spPr>
            <a:xfrm>
              <a:off x="847800" y="2481120"/>
              <a:ext cx="218880" cy="19692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196920"/>
                <a:gd name="textAreaBottom" fmla="*/ 197280 h 196920"/>
              </a:gdLst>
              <a:ahLst/>
              <a:rect l="textAreaLeft" t="textAreaTop" r="textAreaRight" b="textAreaBottom"/>
              <a:pathLst>
                <a:path w="1314" h="2085">
                  <a:moveTo>
                    <a:pt x="148" y="972"/>
                  </a:moveTo>
                  <a:lnTo>
                    <a:pt x="0" y="1537"/>
                  </a:lnTo>
                  <a:lnTo>
                    <a:pt x="507" y="2085"/>
                  </a:lnTo>
                  <a:lnTo>
                    <a:pt x="1314" y="243"/>
                  </a:lnTo>
                  <a:lnTo>
                    <a:pt x="1314" y="0"/>
                  </a:lnTo>
                  <a:lnTo>
                    <a:pt x="414" y="1553"/>
                  </a:lnTo>
                  <a:lnTo>
                    <a:pt x="148" y="972"/>
                  </a:lnTo>
                  <a:close/>
                </a:path>
              </a:pathLst>
            </a:custGeom>
            <a:solidFill>
              <a:srgbClr val="038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41"/>
            <p:cNvSpPr/>
            <p:nvPr/>
          </p:nvSpPr>
          <p:spPr>
            <a:xfrm>
              <a:off x="847800" y="3513240"/>
              <a:ext cx="218880" cy="19692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196920"/>
                <a:gd name="textAreaBottom" fmla="*/ 197280 h 196920"/>
              </a:gdLst>
              <a:ahLst/>
              <a:rect l="textAreaLeft" t="textAreaTop" r="textAreaRight" b="textAreaBottom"/>
              <a:pathLst>
                <a:path w="1314" h="2085">
                  <a:moveTo>
                    <a:pt x="148" y="972"/>
                  </a:moveTo>
                  <a:lnTo>
                    <a:pt x="0" y="1537"/>
                  </a:lnTo>
                  <a:lnTo>
                    <a:pt x="507" y="2085"/>
                  </a:lnTo>
                  <a:lnTo>
                    <a:pt x="1314" y="243"/>
                  </a:lnTo>
                  <a:lnTo>
                    <a:pt x="1314" y="0"/>
                  </a:lnTo>
                  <a:lnTo>
                    <a:pt x="414" y="1553"/>
                  </a:lnTo>
                  <a:lnTo>
                    <a:pt x="148" y="972"/>
                  </a:lnTo>
                  <a:close/>
                </a:path>
              </a:pathLst>
            </a:custGeom>
            <a:solidFill>
              <a:srgbClr val="038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42"/>
            <p:cNvSpPr/>
            <p:nvPr/>
          </p:nvSpPr>
          <p:spPr>
            <a:xfrm>
              <a:off x="847800" y="4503600"/>
              <a:ext cx="218880" cy="19692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196920"/>
                <a:gd name="textAreaBottom" fmla="*/ 197280 h 196920"/>
              </a:gdLst>
              <a:ahLst/>
              <a:rect l="textAreaLeft" t="textAreaTop" r="textAreaRight" b="textAreaBottom"/>
              <a:pathLst>
                <a:path w="1314" h="2085">
                  <a:moveTo>
                    <a:pt x="148" y="972"/>
                  </a:moveTo>
                  <a:lnTo>
                    <a:pt x="0" y="1537"/>
                  </a:lnTo>
                  <a:lnTo>
                    <a:pt x="507" y="2085"/>
                  </a:lnTo>
                  <a:lnTo>
                    <a:pt x="1314" y="243"/>
                  </a:lnTo>
                  <a:lnTo>
                    <a:pt x="1314" y="0"/>
                  </a:lnTo>
                  <a:lnTo>
                    <a:pt x="414" y="1553"/>
                  </a:lnTo>
                  <a:lnTo>
                    <a:pt x="148" y="972"/>
                  </a:lnTo>
                  <a:close/>
                </a:path>
              </a:pathLst>
            </a:custGeom>
            <a:solidFill>
              <a:srgbClr val="038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43"/>
            <p:cNvSpPr/>
            <p:nvPr/>
          </p:nvSpPr>
          <p:spPr>
            <a:xfrm>
              <a:off x="847800" y="5570640"/>
              <a:ext cx="218880" cy="19692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196920"/>
                <a:gd name="textAreaBottom" fmla="*/ 197280 h 196920"/>
              </a:gdLst>
              <a:ahLst/>
              <a:rect l="textAreaLeft" t="textAreaTop" r="textAreaRight" b="textAreaBottom"/>
              <a:pathLst>
                <a:path w="1314" h="2085">
                  <a:moveTo>
                    <a:pt x="148" y="972"/>
                  </a:moveTo>
                  <a:lnTo>
                    <a:pt x="0" y="1537"/>
                  </a:lnTo>
                  <a:lnTo>
                    <a:pt x="507" y="2085"/>
                  </a:lnTo>
                  <a:lnTo>
                    <a:pt x="1314" y="243"/>
                  </a:lnTo>
                  <a:lnTo>
                    <a:pt x="1314" y="0"/>
                  </a:lnTo>
                  <a:lnTo>
                    <a:pt x="414" y="1553"/>
                  </a:lnTo>
                  <a:lnTo>
                    <a:pt x="148" y="972"/>
                  </a:lnTo>
                  <a:close/>
                </a:path>
              </a:pathLst>
            </a:custGeom>
            <a:solidFill>
              <a:srgbClr val="038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8" name="Group 44"/>
          <p:cNvGrpSpPr/>
          <p:nvPr/>
        </p:nvGrpSpPr>
        <p:grpSpPr>
          <a:xfrm>
            <a:off x="847800" y="1722600"/>
            <a:ext cx="218880" cy="4311000"/>
            <a:chOff x="847800" y="1722600"/>
            <a:chExt cx="218880" cy="4311000"/>
          </a:xfrm>
        </p:grpSpPr>
        <p:sp>
          <p:nvSpPr>
            <p:cNvPr id="559" name="Freeform 45"/>
            <p:cNvSpPr/>
            <p:nvPr/>
          </p:nvSpPr>
          <p:spPr>
            <a:xfrm>
              <a:off x="847800" y="1722600"/>
              <a:ext cx="218880" cy="19656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196560"/>
                <a:gd name="textAreaBottom" fmla="*/ 196920 h 196560"/>
              </a:gdLst>
              <a:ahLst/>
              <a:rect l="textAreaLeft" t="textAreaTop" r="textAreaRight" b="textAreaBottom"/>
              <a:pathLst>
                <a:path w="1314" h="2085">
                  <a:moveTo>
                    <a:pt x="148" y="972"/>
                  </a:moveTo>
                  <a:lnTo>
                    <a:pt x="0" y="1537"/>
                  </a:lnTo>
                  <a:lnTo>
                    <a:pt x="507" y="2085"/>
                  </a:lnTo>
                  <a:lnTo>
                    <a:pt x="1314" y="243"/>
                  </a:lnTo>
                  <a:lnTo>
                    <a:pt x="1314" y="0"/>
                  </a:lnTo>
                  <a:lnTo>
                    <a:pt x="414" y="1553"/>
                  </a:lnTo>
                  <a:lnTo>
                    <a:pt x="148" y="972"/>
                  </a:lnTo>
                  <a:close/>
                </a:path>
              </a:pathLst>
            </a:cu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46"/>
            <p:cNvSpPr/>
            <p:nvPr/>
          </p:nvSpPr>
          <p:spPr>
            <a:xfrm>
              <a:off x="847800" y="2747520"/>
              <a:ext cx="218880" cy="19656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196560"/>
                <a:gd name="textAreaBottom" fmla="*/ 196920 h 196560"/>
              </a:gdLst>
              <a:ahLst/>
              <a:rect l="textAreaLeft" t="textAreaTop" r="textAreaRight" b="textAreaBottom"/>
              <a:pathLst>
                <a:path w="1314" h="2085">
                  <a:moveTo>
                    <a:pt x="148" y="972"/>
                  </a:moveTo>
                  <a:lnTo>
                    <a:pt x="0" y="1537"/>
                  </a:lnTo>
                  <a:lnTo>
                    <a:pt x="507" y="2085"/>
                  </a:lnTo>
                  <a:lnTo>
                    <a:pt x="1314" y="243"/>
                  </a:lnTo>
                  <a:lnTo>
                    <a:pt x="1314" y="0"/>
                  </a:lnTo>
                  <a:lnTo>
                    <a:pt x="414" y="1553"/>
                  </a:lnTo>
                  <a:lnTo>
                    <a:pt x="148" y="972"/>
                  </a:lnTo>
                  <a:close/>
                </a:path>
              </a:pathLst>
            </a:cu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47"/>
            <p:cNvSpPr/>
            <p:nvPr/>
          </p:nvSpPr>
          <p:spPr>
            <a:xfrm>
              <a:off x="847800" y="3779640"/>
              <a:ext cx="218880" cy="19656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196560"/>
                <a:gd name="textAreaBottom" fmla="*/ 196920 h 196560"/>
              </a:gdLst>
              <a:ahLst/>
              <a:rect l="textAreaLeft" t="textAreaTop" r="textAreaRight" b="textAreaBottom"/>
              <a:pathLst>
                <a:path w="1314" h="2085">
                  <a:moveTo>
                    <a:pt x="148" y="972"/>
                  </a:moveTo>
                  <a:lnTo>
                    <a:pt x="0" y="1537"/>
                  </a:lnTo>
                  <a:lnTo>
                    <a:pt x="507" y="2085"/>
                  </a:lnTo>
                  <a:lnTo>
                    <a:pt x="1314" y="243"/>
                  </a:lnTo>
                  <a:lnTo>
                    <a:pt x="1314" y="0"/>
                  </a:lnTo>
                  <a:lnTo>
                    <a:pt x="414" y="1553"/>
                  </a:lnTo>
                  <a:lnTo>
                    <a:pt x="148" y="972"/>
                  </a:lnTo>
                  <a:close/>
                </a:path>
              </a:pathLst>
            </a:cu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48"/>
            <p:cNvSpPr/>
            <p:nvPr/>
          </p:nvSpPr>
          <p:spPr>
            <a:xfrm>
              <a:off x="847800" y="4770000"/>
              <a:ext cx="218880" cy="19656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196560"/>
                <a:gd name="textAreaBottom" fmla="*/ 196920 h 196560"/>
              </a:gdLst>
              <a:ahLst/>
              <a:rect l="textAreaLeft" t="textAreaTop" r="textAreaRight" b="textAreaBottom"/>
              <a:pathLst>
                <a:path w="1314" h="2085">
                  <a:moveTo>
                    <a:pt x="148" y="972"/>
                  </a:moveTo>
                  <a:lnTo>
                    <a:pt x="0" y="1537"/>
                  </a:lnTo>
                  <a:lnTo>
                    <a:pt x="507" y="2085"/>
                  </a:lnTo>
                  <a:lnTo>
                    <a:pt x="1314" y="243"/>
                  </a:lnTo>
                  <a:lnTo>
                    <a:pt x="1314" y="0"/>
                  </a:lnTo>
                  <a:lnTo>
                    <a:pt x="414" y="1553"/>
                  </a:lnTo>
                  <a:lnTo>
                    <a:pt x="148" y="972"/>
                  </a:lnTo>
                  <a:close/>
                </a:path>
              </a:pathLst>
            </a:cu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49"/>
            <p:cNvSpPr/>
            <p:nvPr/>
          </p:nvSpPr>
          <p:spPr>
            <a:xfrm>
              <a:off x="847800" y="5837040"/>
              <a:ext cx="218880" cy="19656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196560"/>
                <a:gd name="textAreaBottom" fmla="*/ 196920 h 196560"/>
              </a:gdLst>
              <a:ahLst/>
              <a:rect l="textAreaLeft" t="textAreaTop" r="textAreaRight" b="textAreaBottom"/>
              <a:pathLst>
                <a:path w="1314" h="2085">
                  <a:moveTo>
                    <a:pt x="148" y="972"/>
                  </a:moveTo>
                  <a:lnTo>
                    <a:pt x="0" y="1537"/>
                  </a:lnTo>
                  <a:lnTo>
                    <a:pt x="507" y="2085"/>
                  </a:lnTo>
                  <a:lnTo>
                    <a:pt x="1314" y="243"/>
                  </a:lnTo>
                  <a:lnTo>
                    <a:pt x="1314" y="0"/>
                  </a:lnTo>
                  <a:lnTo>
                    <a:pt x="414" y="1553"/>
                  </a:lnTo>
                  <a:lnTo>
                    <a:pt x="148" y="972"/>
                  </a:lnTo>
                  <a:close/>
                </a:path>
              </a:pathLst>
            </a:cu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" name="Group 50"/>
          <p:cNvGrpSpPr/>
          <p:nvPr/>
        </p:nvGrpSpPr>
        <p:grpSpPr>
          <a:xfrm>
            <a:off x="847800" y="2013120"/>
            <a:ext cx="218880" cy="4311000"/>
            <a:chOff x="847800" y="2013120"/>
            <a:chExt cx="218880" cy="4311000"/>
          </a:xfrm>
        </p:grpSpPr>
        <p:sp>
          <p:nvSpPr>
            <p:cNvPr id="565" name="Freeform 51"/>
            <p:cNvSpPr/>
            <p:nvPr/>
          </p:nvSpPr>
          <p:spPr>
            <a:xfrm>
              <a:off x="847800" y="2013120"/>
              <a:ext cx="218880" cy="19656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196560"/>
                <a:gd name="textAreaBottom" fmla="*/ 196920 h 196560"/>
              </a:gdLst>
              <a:ahLst/>
              <a:rect l="textAreaLeft" t="textAreaTop" r="textAreaRight" b="textAreaBottom"/>
              <a:pathLst>
                <a:path w="1314" h="2085">
                  <a:moveTo>
                    <a:pt x="148" y="972"/>
                  </a:moveTo>
                  <a:lnTo>
                    <a:pt x="0" y="1537"/>
                  </a:lnTo>
                  <a:lnTo>
                    <a:pt x="507" y="2085"/>
                  </a:lnTo>
                  <a:lnTo>
                    <a:pt x="1314" y="243"/>
                  </a:lnTo>
                  <a:lnTo>
                    <a:pt x="1314" y="0"/>
                  </a:lnTo>
                  <a:lnTo>
                    <a:pt x="414" y="1553"/>
                  </a:lnTo>
                  <a:lnTo>
                    <a:pt x="148" y="972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52"/>
            <p:cNvSpPr/>
            <p:nvPr/>
          </p:nvSpPr>
          <p:spPr>
            <a:xfrm>
              <a:off x="847800" y="3038040"/>
              <a:ext cx="218880" cy="19656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196560"/>
                <a:gd name="textAreaBottom" fmla="*/ 196920 h 196560"/>
              </a:gdLst>
              <a:ahLst/>
              <a:rect l="textAreaLeft" t="textAreaTop" r="textAreaRight" b="textAreaBottom"/>
              <a:pathLst>
                <a:path w="1314" h="2085">
                  <a:moveTo>
                    <a:pt x="148" y="972"/>
                  </a:moveTo>
                  <a:lnTo>
                    <a:pt x="0" y="1537"/>
                  </a:lnTo>
                  <a:lnTo>
                    <a:pt x="507" y="2085"/>
                  </a:lnTo>
                  <a:lnTo>
                    <a:pt x="1314" y="243"/>
                  </a:lnTo>
                  <a:lnTo>
                    <a:pt x="1314" y="0"/>
                  </a:lnTo>
                  <a:lnTo>
                    <a:pt x="414" y="1553"/>
                  </a:lnTo>
                  <a:lnTo>
                    <a:pt x="148" y="972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53"/>
            <p:cNvSpPr/>
            <p:nvPr/>
          </p:nvSpPr>
          <p:spPr>
            <a:xfrm>
              <a:off x="847800" y="4070160"/>
              <a:ext cx="218880" cy="19656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196560"/>
                <a:gd name="textAreaBottom" fmla="*/ 196920 h 196560"/>
              </a:gdLst>
              <a:ahLst/>
              <a:rect l="textAreaLeft" t="textAreaTop" r="textAreaRight" b="textAreaBottom"/>
              <a:pathLst>
                <a:path w="1314" h="2085">
                  <a:moveTo>
                    <a:pt x="148" y="972"/>
                  </a:moveTo>
                  <a:lnTo>
                    <a:pt x="0" y="1537"/>
                  </a:lnTo>
                  <a:lnTo>
                    <a:pt x="507" y="2085"/>
                  </a:lnTo>
                  <a:lnTo>
                    <a:pt x="1314" y="243"/>
                  </a:lnTo>
                  <a:lnTo>
                    <a:pt x="1314" y="0"/>
                  </a:lnTo>
                  <a:lnTo>
                    <a:pt x="414" y="1553"/>
                  </a:lnTo>
                  <a:lnTo>
                    <a:pt x="148" y="972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54"/>
            <p:cNvSpPr/>
            <p:nvPr/>
          </p:nvSpPr>
          <p:spPr>
            <a:xfrm>
              <a:off x="847800" y="5060520"/>
              <a:ext cx="218880" cy="19656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196560"/>
                <a:gd name="textAreaBottom" fmla="*/ 196920 h 196560"/>
              </a:gdLst>
              <a:ahLst/>
              <a:rect l="textAreaLeft" t="textAreaTop" r="textAreaRight" b="textAreaBottom"/>
              <a:pathLst>
                <a:path w="1314" h="2085">
                  <a:moveTo>
                    <a:pt x="148" y="972"/>
                  </a:moveTo>
                  <a:lnTo>
                    <a:pt x="0" y="1537"/>
                  </a:lnTo>
                  <a:lnTo>
                    <a:pt x="507" y="2085"/>
                  </a:lnTo>
                  <a:lnTo>
                    <a:pt x="1314" y="243"/>
                  </a:lnTo>
                  <a:lnTo>
                    <a:pt x="1314" y="0"/>
                  </a:lnTo>
                  <a:lnTo>
                    <a:pt x="414" y="1553"/>
                  </a:lnTo>
                  <a:lnTo>
                    <a:pt x="148" y="972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55"/>
            <p:cNvSpPr/>
            <p:nvPr/>
          </p:nvSpPr>
          <p:spPr>
            <a:xfrm>
              <a:off x="847800" y="6127560"/>
              <a:ext cx="218880" cy="19656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196560"/>
                <a:gd name="textAreaBottom" fmla="*/ 196920 h 196560"/>
              </a:gdLst>
              <a:ahLst/>
              <a:rect l="textAreaLeft" t="textAreaTop" r="textAreaRight" b="textAreaBottom"/>
              <a:pathLst>
                <a:path w="1314" h="2085">
                  <a:moveTo>
                    <a:pt x="148" y="972"/>
                  </a:moveTo>
                  <a:lnTo>
                    <a:pt x="0" y="1537"/>
                  </a:lnTo>
                  <a:lnTo>
                    <a:pt x="507" y="2085"/>
                  </a:lnTo>
                  <a:lnTo>
                    <a:pt x="1314" y="243"/>
                  </a:lnTo>
                  <a:lnTo>
                    <a:pt x="1314" y="0"/>
                  </a:lnTo>
                  <a:lnTo>
                    <a:pt x="414" y="1553"/>
                  </a:lnTo>
                  <a:lnTo>
                    <a:pt x="148" y="972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0" name="Group 56"/>
          <p:cNvGrpSpPr/>
          <p:nvPr/>
        </p:nvGrpSpPr>
        <p:grpSpPr>
          <a:xfrm>
            <a:off x="847800" y="2241720"/>
            <a:ext cx="218880" cy="4311000"/>
            <a:chOff x="847800" y="2241720"/>
            <a:chExt cx="218880" cy="4311000"/>
          </a:xfrm>
        </p:grpSpPr>
        <p:sp>
          <p:nvSpPr>
            <p:cNvPr id="571" name="Freeform 57"/>
            <p:cNvSpPr/>
            <p:nvPr/>
          </p:nvSpPr>
          <p:spPr>
            <a:xfrm>
              <a:off x="847800" y="2241720"/>
              <a:ext cx="218880" cy="19656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196560"/>
                <a:gd name="textAreaBottom" fmla="*/ 196920 h 196560"/>
              </a:gdLst>
              <a:ahLst/>
              <a:rect l="textAreaLeft" t="textAreaTop" r="textAreaRight" b="textAreaBottom"/>
              <a:pathLst>
                <a:path w="1314" h="2085">
                  <a:moveTo>
                    <a:pt x="148" y="972"/>
                  </a:moveTo>
                  <a:lnTo>
                    <a:pt x="0" y="1537"/>
                  </a:lnTo>
                  <a:lnTo>
                    <a:pt x="507" y="2085"/>
                  </a:lnTo>
                  <a:lnTo>
                    <a:pt x="1314" y="243"/>
                  </a:lnTo>
                  <a:lnTo>
                    <a:pt x="1314" y="0"/>
                  </a:lnTo>
                  <a:lnTo>
                    <a:pt x="414" y="1553"/>
                  </a:lnTo>
                  <a:lnTo>
                    <a:pt x="148" y="9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58"/>
            <p:cNvSpPr/>
            <p:nvPr/>
          </p:nvSpPr>
          <p:spPr>
            <a:xfrm>
              <a:off x="847800" y="3266640"/>
              <a:ext cx="218880" cy="19656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196560"/>
                <a:gd name="textAreaBottom" fmla="*/ 196920 h 196560"/>
              </a:gdLst>
              <a:ahLst/>
              <a:rect l="textAreaLeft" t="textAreaTop" r="textAreaRight" b="textAreaBottom"/>
              <a:pathLst>
                <a:path w="1314" h="2085">
                  <a:moveTo>
                    <a:pt x="148" y="972"/>
                  </a:moveTo>
                  <a:lnTo>
                    <a:pt x="0" y="1537"/>
                  </a:lnTo>
                  <a:lnTo>
                    <a:pt x="507" y="2085"/>
                  </a:lnTo>
                  <a:lnTo>
                    <a:pt x="1314" y="243"/>
                  </a:lnTo>
                  <a:lnTo>
                    <a:pt x="1314" y="0"/>
                  </a:lnTo>
                  <a:lnTo>
                    <a:pt x="414" y="1553"/>
                  </a:lnTo>
                  <a:lnTo>
                    <a:pt x="148" y="9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59"/>
            <p:cNvSpPr/>
            <p:nvPr/>
          </p:nvSpPr>
          <p:spPr>
            <a:xfrm>
              <a:off x="847800" y="4298760"/>
              <a:ext cx="218880" cy="19656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196560"/>
                <a:gd name="textAreaBottom" fmla="*/ 196920 h 196560"/>
              </a:gdLst>
              <a:ahLst/>
              <a:rect l="textAreaLeft" t="textAreaTop" r="textAreaRight" b="textAreaBottom"/>
              <a:pathLst>
                <a:path w="1314" h="2085">
                  <a:moveTo>
                    <a:pt x="148" y="972"/>
                  </a:moveTo>
                  <a:lnTo>
                    <a:pt x="0" y="1537"/>
                  </a:lnTo>
                  <a:lnTo>
                    <a:pt x="507" y="2085"/>
                  </a:lnTo>
                  <a:lnTo>
                    <a:pt x="1314" y="243"/>
                  </a:lnTo>
                  <a:lnTo>
                    <a:pt x="1314" y="0"/>
                  </a:lnTo>
                  <a:lnTo>
                    <a:pt x="414" y="1553"/>
                  </a:lnTo>
                  <a:lnTo>
                    <a:pt x="148" y="9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60"/>
            <p:cNvSpPr/>
            <p:nvPr/>
          </p:nvSpPr>
          <p:spPr>
            <a:xfrm>
              <a:off x="847800" y="5289120"/>
              <a:ext cx="218880" cy="19656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196560"/>
                <a:gd name="textAreaBottom" fmla="*/ 196920 h 196560"/>
              </a:gdLst>
              <a:ahLst/>
              <a:rect l="textAreaLeft" t="textAreaTop" r="textAreaRight" b="textAreaBottom"/>
              <a:pathLst>
                <a:path w="1314" h="2085">
                  <a:moveTo>
                    <a:pt x="148" y="972"/>
                  </a:moveTo>
                  <a:lnTo>
                    <a:pt x="0" y="1537"/>
                  </a:lnTo>
                  <a:lnTo>
                    <a:pt x="507" y="2085"/>
                  </a:lnTo>
                  <a:lnTo>
                    <a:pt x="1314" y="243"/>
                  </a:lnTo>
                  <a:lnTo>
                    <a:pt x="1314" y="0"/>
                  </a:lnTo>
                  <a:lnTo>
                    <a:pt x="414" y="1553"/>
                  </a:lnTo>
                  <a:lnTo>
                    <a:pt x="148" y="9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61"/>
            <p:cNvSpPr/>
            <p:nvPr/>
          </p:nvSpPr>
          <p:spPr>
            <a:xfrm>
              <a:off x="847800" y="6356160"/>
              <a:ext cx="218880" cy="19656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196560"/>
                <a:gd name="textAreaBottom" fmla="*/ 196920 h 196560"/>
              </a:gdLst>
              <a:ahLst/>
              <a:rect l="textAreaLeft" t="textAreaTop" r="textAreaRight" b="textAreaBottom"/>
              <a:pathLst>
                <a:path w="1314" h="2085">
                  <a:moveTo>
                    <a:pt x="148" y="972"/>
                  </a:moveTo>
                  <a:lnTo>
                    <a:pt x="0" y="1537"/>
                  </a:lnTo>
                  <a:lnTo>
                    <a:pt x="507" y="2085"/>
                  </a:lnTo>
                  <a:lnTo>
                    <a:pt x="1314" y="243"/>
                  </a:lnTo>
                  <a:lnTo>
                    <a:pt x="1314" y="0"/>
                  </a:lnTo>
                  <a:lnTo>
                    <a:pt x="414" y="1553"/>
                  </a:lnTo>
                  <a:lnTo>
                    <a:pt x="148" y="9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6" name="Text Box 62"/>
          <p:cNvSpPr/>
          <p:nvPr/>
        </p:nvSpPr>
        <p:spPr>
          <a:xfrm>
            <a:off x="2755080" y="1467000"/>
            <a:ext cx="4842000" cy="119124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a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a0000"/>
                </a:solidFill>
                <a:latin typeface="Arial Narrow"/>
              </a:rPr>
              <a:t>  </a:t>
            </a:r>
            <a:r>
              <a:rPr b="0" lang="en-US" sz="2400" spc="-1" strike="noStrike">
                <a:solidFill>
                  <a:srgbClr val="ca0000"/>
                </a:solidFill>
                <a:latin typeface="Arial Narrow"/>
              </a:rPr>
              <a:t>To remove most of the random var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a0000"/>
                </a:solidFill>
                <a:latin typeface="Arial Narrow"/>
              </a:rPr>
              <a:t>   </a:t>
            </a:r>
            <a:r>
              <a:rPr b="0" lang="en-US" sz="2400" spc="-1" strike="noStrike">
                <a:solidFill>
                  <a:srgbClr val="ca0000"/>
                </a:solidFill>
                <a:latin typeface="Arial Narrow"/>
              </a:rPr>
              <a:t>but leave the seasonal effects,avera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a0000"/>
                </a:solidFill>
                <a:latin typeface="Arial Narrow"/>
              </a:rPr>
              <a:t>   </a:t>
            </a:r>
            <a:r>
              <a:rPr b="0" lang="en-US" sz="2400" spc="-1" strike="noStrike">
                <a:solidFill>
                  <a:srgbClr val="ca0000"/>
                </a:solidFill>
                <a:latin typeface="Arial Narrow"/>
              </a:rPr>
              <a:t>the terms               for each seas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7" name="Object 63"/>
              <p:cNvSpPr txBox="1"/>
              <p:nvPr/>
            </p:nvSpPr>
            <p:spPr>
              <a:xfrm>
                <a:off x="4065480" y="2184480"/>
                <a:ext cx="101448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1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/>
          </p:nvPr>
        </p:nvSpPr>
        <p:spPr>
          <a:xfrm>
            <a:off x="685800" y="99072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is example the sum of all the averaged ratios must be 4, such that the average ratio per season is equal to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sum of all the ratios is not 4, we need to adjust them proportionate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9" name="Group 3"/>
          <p:cNvGrpSpPr/>
          <p:nvPr/>
        </p:nvGrpSpPr>
        <p:grpSpPr>
          <a:xfrm>
            <a:off x="457200" y="3809880"/>
            <a:ext cx="8507160" cy="825480"/>
            <a:chOff x="457200" y="3809880"/>
            <a:chExt cx="8507160" cy="825480"/>
          </a:xfrm>
        </p:grpSpPr>
        <p:grpSp>
          <p:nvGrpSpPr>
            <p:cNvPr id="580" name="Group 4"/>
            <p:cNvGrpSpPr/>
            <p:nvPr/>
          </p:nvGrpSpPr>
          <p:grpSpPr>
            <a:xfrm>
              <a:off x="457200" y="3809880"/>
              <a:ext cx="8507160" cy="825480"/>
              <a:chOff x="457200" y="3809880"/>
              <a:chExt cx="8507160" cy="825480"/>
            </a:xfrm>
          </p:grpSpPr>
          <p:sp>
            <p:nvSpPr>
              <p:cNvPr id="581" name="Text Box 5"/>
              <p:cNvSpPr/>
              <p:nvPr/>
            </p:nvSpPr>
            <p:spPr>
              <a:xfrm>
                <a:off x="457200" y="3809880"/>
                <a:ext cx="8507160" cy="825480"/>
              </a:xfrm>
              <a:prstGeom prst="rect">
                <a:avLst/>
              </a:prstGeom>
              <a:solidFill>
                <a:srgbClr val="eaeaea"/>
              </a:solidFill>
              <a:ln w="936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9900"/>
                    </a:solidFill>
                    <a:latin typeface="Arial Narrow"/>
                  </a:rPr>
                  <a:t>	</a:t>
                </a:r>
                <a:r>
                  <a:rPr b="1" lang="en-US" sz="2400" spc="-1" strike="noStrike">
                    <a:solidFill>
                      <a:srgbClr val="009900"/>
                    </a:solidFill>
                    <a:latin typeface="Arial Narrow"/>
                  </a:rPr>
                  <a:t>	</a:t>
                </a:r>
                <a:r>
                  <a:rPr b="1" lang="en-US" sz="2400" spc="-1" strike="noStrike">
                    <a:solidFill>
                      <a:srgbClr val="009900"/>
                    </a:solidFill>
                    <a:latin typeface="Arial Narrow"/>
                  </a:rPr>
                  <a:t>        </a:t>
                </a:r>
                <a:r>
                  <a:rPr b="1" lang="en-US" sz="2400" spc="-1" strike="noStrike">
                    <a:solidFill>
                      <a:srgbClr val="009900"/>
                    </a:solidFill>
                    <a:latin typeface="Arial Narrow"/>
                  </a:rPr>
                  <a:t>(Seasonal averaged ratio) (number of seasons)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9900"/>
                    </a:solidFill>
                    <a:latin typeface="Arial Narrow"/>
                  </a:rPr>
                  <a:t>                                                </a:t>
                </a:r>
                <a:r>
                  <a:rPr b="1" lang="en-US" sz="2400" spc="-1" strike="noStrike">
                    <a:solidFill>
                      <a:srgbClr val="009900"/>
                    </a:solidFill>
                    <a:latin typeface="Arial Narrow"/>
                  </a:rPr>
                  <a:t>Sum of averaged ratio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Line 6"/>
              <p:cNvSpPr/>
              <p:nvPr/>
            </p:nvSpPr>
            <p:spPr>
              <a:xfrm>
                <a:off x="2755440" y="4233600"/>
                <a:ext cx="5416920" cy="0"/>
              </a:xfrm>
              <a:prstGeom prst="line">
                <a:avLst/>
              </a:prstGeom>
              <a:ln w="936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3" name="Text Box 7"/>
            <p:cNvSpPr/>
            <p:nvPr/>
          </p:nvSpPr>
          <p:spPr>
            <a:xfrm>
              <a:off x="586800" y="4024080"/>
              <a:ext cx="2215440" cy="4597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00"/>
                  </a:solidFill>
                  <a:latin typeface="Arial Narrow"/>
                </a:rPr>
                <a:t>Seasonal index 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4" name="Text Box 8"/>
          <p:cNvSpPr/>
          <p:nvPr/>
        </p:nvSpPr>
        <p:spPr>
          <a:xfrm>
            <a:off x="1016280" y="4848120"/>
            <a:ext cx="7047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a0000"/>
                </a:solidFill>
                <a:latin typeface="Arial Narrow"/>
              </a:rPr>
              <a:t>In our problem the sum of all the averaged ratios is equal to 4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a0000"/>
                </a:solidFill>
                <a:latin typeface="Arial Narrow"/>
              </a:rPr>
              <a:t>.878 + 1.076 + 1.171 + .875 =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a0000"/>
                </a:solidFill>
                <a:latin typeface="Arial Narrow"/>
              </a:rPr>
              <a:t>No normalization is needed.  These ratios become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a0000"/>
                </a:solidFill>
                <a:latin typeface="Arial Narrow"/>
              </a:rPr>
              <a:t>seasonal indic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9"/>
          <p:cNvSpPr/>
          <p:nvPr/>
        </p:nvSpPr>
        <p:spPr>
          <a:xfrm>
            <a:off x="1447920" y="281952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uppose the sum of ratios is equal to 4.1.  Then e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atio will be multiplied by 4/4.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justing the Average Rati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0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2" dur="500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6" dur="500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5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7" name="Group 2"/>
          <p:cNvGrpSpPr/>
          <p:nvPr/>
        </p:nvGrpSpPr>
        <p:grpSpPr>
          <a:xfrm>
            <a:off x="6417360" y="4114800"/>
            <a:ext cx="970200" cy="1892160"/>
            <a:chOff x="6417360" y="4114800"/>
            <a:chExt cx="970200" cy="1892160"/>
          </a:xfrm>
        </p:grpSpPr>
        <p:sp>
          <p:nvSpPr>
            <p:cNvPr id="588" name="Rectangle 3"/>
            <p:cNvSpPr/>
            <p:nvPr/>
          </p:nvSpPr>
          <p:spPr>
            <a:xfrm>
              <a:off x="6477120" y="4114800"/>
              <a:ext cx="685800" cy="1523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Text Box 4"/>
            <p:cNvSpPr/>
            <p:nvPr/>
          </p:nvSpPr>
          <p:spPr>
            <a:xfrm>
              <a:off x="6417360" y="5638680"/>
              <a:ext cx="97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Arial Narrow"/>
                </a:rPr>
                <a:t>Quarter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0" name="Group 5"/>
          <p:cNvGrpSpPr/>
          <p:nvPr/>
        </p:nvGrpSpPr>
        <p:grpSpPr>
          <a:xfrm>
            <a:off x="7255440" y="3276720"/>
            <a:ext cx="970200" cy="2730240"/>
            <a:chOff x="7255440" y="3276720"/>
            <a:chExt cx="970200" cy="2730240"/>
          </a:xfrm>
        </p:grpSpPr>
        <p:sp>
          <p:nvSpPr>
            <p:cNvPr id="591" name="Rectangle 6"/>
            <p:cNvSpPr/>
            <p:nvPr/>
          </p:nvSpPr>
          <p:spPr>
            <a:xfrm>
              <a:off x="7315200" y="3276720"/>
              <a:ext cx="685800" cy="2361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Text Box 7"/>
            <p:cNvSpPr/>
            <p:nvPr/>
          </p:nvSpPr>
          <p:spPr>
            <a:xfrm>
              <a:off x="7255440" y="5638680"/>
              <a:ext cx="97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Arial Narrow"/>
                </a:rPr>
                <a:t>Quarter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3" name="Group 8"/>
          <p:cNvGrpSpPr/>
          <p:nvPr/>
        </p:nvGrpSpPr>
        <p:grpSpPr>
          <a:xfrm>
            <a:off x="3737520" y="3276720"/>
            <a:ext cx="970200" cy="2730240"/>
            <a:chOff x="3737520" y="3276720"/>
            <a:chExt cx="970200" cy="2730240"/>
          </a:xfrm>
        </p:grpSpPr>
        <p:sp>
          <p:nvSpPr>
            <p:cNvPr id="594" name="Rectangle 9"/>
            <p:cNvSpPr/>
            <p:nvPr/>
          </p:nvSpPr>
          <p:spPr>
            <a:xfrm>
              <a:off x="3886200" y="3276720"/>
              <a:ext cx="685800" cy="2361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Text Box 10"/>
            <p:cNvSpPr/>
            <p:nvPr/>
          </p:nvSpPr>
          <p:spPr>
            <a:xfrm>
              <a:off x="3737520" y="5638680"/>
              <a:ext cx="97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Arial Narrow"/>
                </a:rPr>
                <a:t>Quarter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6" name="Group 11"/>
          <p:cNvGrpSpPr/>
          <p:nvPr/>
        </p:nvGrpSpPr>
        <p:grpSpPr>
          <a:xfrm>
            <a:off x="2899440" y="4114800"/>
            <a:ext cx="970200" cy="1892160"/>
            <a:chOff x="2899440" y="4114800"/>
            <a:chExt cx="970200" cy="1892160"/>
          </a:xfrm>
        </p:grpSpPr>
        <p:sp>
          <p:nvSpPr>
            <p:cNvPr id="597" name="Rectangle 12"/>
            <p:cNvSpPr/>
            <p:nvPr/>
          </p:nvSpPr>
          <p:spPr>
            <a:xfrm>
              <a:off x="3048120" y="4114800"/>
              <a:ext cx="685800" cy="1523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Text Box 13"/>
            <p:cNvSpPr/>
            <p:nvPr/>
          </p:nvSpPr>
          <p:spPr>
            <a:xfrm>
              <a:off x="2899440" y="5638680"/>
              <a:ext cx="97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Arial Narrow"/>
                </a:rPr>
                <a:t>Quarter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9" name="PlaceHolder 1"/>
          <p:cNvSpPr>
            <a:spLocks noGrp="1"/>
          </p:cNvSpPr>
          <p:nvPr>
            <p:ph/>
          </p:nvPr>
        </p:nvSpPr>
        <p:spPr>
          <a:xfrm>
            <a:off x="685800" y="167616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easonal indexes tell us what is the ratio between the time series value at a certain season, and the overall seasonal aver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our proble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15"/>
          <p:cNvSpPr/>
          <p:nvPr/>
        </p:nvSpPr>
        <p:spPr>
          <a:xfrm>
            <a:off x="233280" y="4083120"/>
            <a:ext cx="173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 Narrow"/>
              </a:rPr>
              <a:t>Annual ave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 Narrow"/>
              </a:rPr>
              <a:t>occupancy (100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Rectangle 16"/>
          <p:cNvSpPr/>
          <p:nvPr/>
        </p:nvSpPr>
        <p:spPr>
          <a:xfrm>
            <a:off x="2209680" y="4419720"/>
            <a:ext cx="685800" cy="304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Rectangle 17"/>
          <p:cNvSpPr/>
          <p:nvPr/>
        </p:nvSpPr>
        <p:spPr>
          <a:xfrm>
            <a:off x="3886200" y="3276720"/>
            <a:ext cx="6858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18"/>
          <p:cNvSpPr/>
          <p:nvPr/>
        </p:nvSpPr>
        <p:spPr>
          <a:xfrm>
            <a:off x="3048120" y="4114800"/>
            <a:ext cx="685800" cy="30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19"/>
          <p:cNvSpPr/>
          <p:nvPr/>
        </p:nvSpPr>
        <p:spPr>
          <a:xfrm>
            <a:off x="4800600" y="4419720"/>
            <a:ext cx="685800" cy="38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Rectangle 20"/>
          <p:cNvSpPr/>
          <p:nvPr/>
        </p:nvSpPr>
        <p:spPr>
          <a:xfrm>
            <a:off x="5638680" y="4419720"/>
            <a:ext cx="685800" cy="304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Rectangle 21"/>
          <p:cNvSpPr/>
          <p:nvPr/>
        </p:nvSpPr>
        <p:spPr>
          <a:xfrm>
            <a:off x="7315200" y="3276720"/>
            <a:ext cx="6858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22"/>
          <p:cNvSpPr/>
          <p:nvPr/>
        </p:nvSpPr>
        <p:spPr>
          <a:xfrm>
            <a:off x="6477120" y="4114800"/>
            <a:ext cx="685800" cy="30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23"/>
          <p:cNvSpPr/>
          <p:nvPr/>
        </p:nvSpPr>
        <p:spPr>
          <a:xfrm>
            <a:off x="8229600" y="4419720"/>
            <a:ext cx="685800" cy="38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9" name="Group 24"/>
          <p:cNvGrpSpPr/>
          <p:nvPr/>
        </p:nvGrpSpPr>
        <p:grpSpPr>
          <a:xfrm>
            <a:off x="1985040" y="4724280"/>
            <a:ext cx="970200" cy="1282680"/>
            <a:chOff x="1985040" y="4724280"/>
            <a:chExt cx="970200" cy="1282680"/>
          </a:xfrm>
        </p:grpSpPr>
        <p:sp>
          <p:nvSpPr>
            <p:cNvPr id="610" name="Rectangle 25"/>
            <p:cNvSpPr/>
            <p:nvPr/>
          </p:nvSpPr>
          <p:spPr>
            <a:xfrm>
              <a:off x="2209680" y="4724280"/>
              <a:ext cx="685800" cy="9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Text Box 26"/>
            <p:cNvSpPr/>
            <p:nvPr/>
          </p:nvSpPr>
          <p:spPr>
            <a:xfrm>
              <a:off x="1985040" y="5638680"/>
              <a:ext cx="97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Arial Narrow"/>
                </a:rPr>
                <a:t>Quarter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2" name="Group 27"/>
          <p:cNvGrpSpPr/>
          <p:nvPr/>
        </p:nvGrpSpPr>
        <p:grpSpPr>
          <a:xfrm>
            <a:off x="4651920" y="4800600"/>
            <a:ext cx="970200" cy="1206360"/>
            <a:chOff x="4651920" y="4800600"/>
            <a:chExt cx="970200" cy="1206360"/>
          </a:xfrm>
        </p:grpSpPr>
        <p:sp>
          <p:nvSpPr>
            <p:cNvPr id="613" name="Rectangle 28"/>
            <p:cNvSpPr/>
            <p:nvPr/>
          </p:nvSpPr>
          <p:spPr>
            <a:xfrm>
              <a:off x="4800600" y="4800600"/>
              <a:ext cx="68580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Text Box 29"/>
            <p:cNvSpPr/>
            <p:nvPr/>
          </p:nvSpPr>
          <p:spPr>
            <a:xfrm>
              <a:off x="4651920" y="5638680"/>
              <a:ext cx="97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Arial Narrow"/>
                </a:rPr>
                <a:t>Quarter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5" name="Group 30"/>
          <p:cNvGrpSpPr/>
          <p:nvPr/>
        </p:nvGrpSpPr>
        <p:grpSpPr>
          <a:xfrm>
            <a:off x="5502960" y="4724280"/>
            <a:ext cx="970200" cy="1282680"/>
            <a:chOff x="5502960" y="4724280"/>
            <a:chExt cx="970200" cy="1282680"/>
          </a:xfrm>
        </p:grpSpPr>
        <p:sp>
          <p:nvSpPr>
            <p:cNvPr id="616" name="Rectangle 31"/>
            <p:cNvSpPr/>
            <p:nvPr/>
          </p:nvSpPr>
          <p:spPr>
            <a:xfrm>
              <a:off x="5638680" y="4724280"/>
              <a:ext cx="685800" cy="9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Text Box 32"/>
            <p:cNvSpPr/>
            <p:nvPr/>
          </p:nvSpPr>
          <p:spPr>
            <a:xfrm>
              <a:off x="5502960" y="5638680"/>
              <a:ext cx="97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Arial Narrow"/>
                </a:rPr>
                <a:t>Quarter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8" name="Group 33"/>
          <p:cNvGrpSpPr/>
          <p:nvPr/>
        </p:nvGrpSpPr>
        <p:grpSpPr>
          <a:xfrm>
            <a:off x="8169840" y="4800600"/>
            <a:ext cx="970200" cy="1206360"/>
            <a:chOff x="8169840" y="4800600"/>
            <a:chExt cx="970200" cy="1206360"/>
          </a:xfrm>
        </p:grpSpPr>
        <p:sp>
          <p:nvSpPr>
            <p:cNvPr id="619" name="Rectangle 34"/>
            <p:cNvSpPr/>
            <p:nvPr/>
          </p:nvSpPr>
          <p:spPr>
            <a:xfrm>
              <a:off x="8229600" y="4800600"/>
              <a:ext cx="68580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Text Box 35"/>
            <p:cNvSpPr/>
            <p:nvPr/>
          </p:nvSpPr>
          <p:spPr>
            <a:xfrm>
              <a:off x="8169840" y="5638680"/>
              <a:ext cx="97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Arial Narrow"/>
                </a:rPr>
                <a:t>Quarter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1" name="Group 36"/>
          <p:cNvGrpSpPr/>
          <p:nvPr/>
        </p:nvGrpSpPr>
        <p:grpSpPr>
          <a:xfrm>
            <a:off x="2272320" y="3352680"/>
            <a:ext cx="3241800" cy="1774800"/>
            <a:chOff x="2272320" y="3352680"/>
            <a:chExt cx="3241800" cy="1774800"/>
          </a:xfrm>
        </p:grpSpPr>
        <p:sp>
          <p:nvSpPr>
            <p:cNvPr id="622" name="Text Box 37"/>
            <p:cNvSpPr/>
            <p:nvPr/>
          </p:nvSpPr>
          <p:spPr>
            <a:xfrm>
              <a:off x="2272320" y="4683240"/>
              <a:ext cx="709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Arial Narrow"/>
                </a:rPr>
                <a:t>87.8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Text Box 38"/>
            <p:cNvSpPr/>
            <p:nvPr/>
          </p:nvSpPr>
          <p:spPr>
            <a:xfrm>
              <a:off x="2999880" y="4378320"/>
              <a:ext cx="81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Arial Narrow"/>
                </a:rPr>
                <a:t>107.6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Text Box 39"/>
            <p:cNvSpPr/>
            <p:nvPr/>
          </p:nvSpPr>
          <p:spPr>
            <a:xfrm>
              <a:off x="3814560" y="3352680"/>
              <a:ext cx="81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Arial Narrow"/>
                </a:rPr>
                <a:t>117.1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Text Box 40"/>
            <p:cNvSpPr/>
            <p:nvPr/>
          </p:nvSpPr>
          <p:spPr>
            <a:xfrm>
              <a:off x="4804560" y="4759200"/>
              <a:ext cx="709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Arial Narrow"/>
                </a:rPr>
                <a:t>87.5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6" name="Group 41"/>
          <p:cNvGrpSpPr/>
          <p:nvPr/>
        </p:nvGrpSpPr>
        <p:grpSpPr>
          <a:xfrm>
            <a:off x="601200" y="4647960"/>
            <a:ext cx="1608480" cy="830160"/>
            <a:chOff x="601200" y="4647960"/>
            <a:chExt cx="1608480" cy="830160"/>
          </a:xfrm>
        </p:grpSpPr>
        <p:sp>
          <p:nvSpPr>
            <p:cNvPr id="627" name="Text Box 42"/>
            <p:cNvSpPr/>
            <p:nvPr/>
          </p:nvSpPr>
          <p:spPr>
            <a:xfrm>
              <a:off x="601200" y="4835520"/>
              <a:ext cx="1559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12.2% below th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annual avera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Line 43"/>
            <p:cNvSpPr/>
            <p:nvPr/>
          </p:nvSpPr>
          <p:spPr>
            <a:xfrm flipV="1">
              <a:off x="1600200" y="4647960"/>
              <a:ext cx="6094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9" name="Group 44"/>
          <p:cNvGrpSpPr/>
          <p:nvPr/>
        </p:nvGrpSpPr>
        <p:grpSpPr>
          <a:xfrm>
            <a:off x="1972440" y="3505320"/>
            <a:ext cx="1477800" cy="761760"/>
            <a:chOff x="1972440" y="3505320"/>
            <a:chExt cx="1477800" cy="761760"/>
          </a:xfrm>
        </p:grpSpPr>
        <p:sp>
          <p:nvSpPr>
            <p:cNvPr id="630" name="Text Box 45"/>
            <p:cNvSpPr/>
            <p:nvPr/>
          </p:nvSpPr>
          <p:spPr>
            <a:xfrm>
              <a:off x="1972440" y="3505320"/>
              <a:ext cx="1477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7.6% above th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annual avera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Line 46"/>
            <p:cNvSpPr/>
            <p:nvPr/>
          </p:nvSpPr>
          <p:spPr>
            <a:xfrm>
              <a:off x="2590920" y="411480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2" name="Group 47"/>
          <p:cNvGrpSpPr/>
          <p:nvPr/>
        </p:nvGrpSpPr>
        <p:grpSpPr>
          <a:xfrm>
            <a:off x="4572000" y="2971800"/>
            <a:ext cx="1665360" cy="838080"/>
            <a:chOff x="4572000" y="2971800"/>
            <a:chExt cx="1665360" cy="838080"/>
          </a:xfrm>
        </p:grpSpPr>
        <p:sp>
          <p:nvSpPr>
            <p:cNvPr id="633" name="Text Box 48"/>
            <p:cNvSpPr/>
            <p:nvPr/>
          </p:nvSpPr>
          <p:spPr>
            <a:xfrm>
              <a:off x="4656240" y="2971800"/>
              <a:ext cx="1581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17.1% above th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annual avera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Line 49"/>
            <p:cNvSpPr/>
            <p:nvPr/>
          </p:nvSpPr>
          <p:spPr>
            <a:xfrm flipH="1">
              <a:off x="4572000" y="3581280"/>
              <a:ext cx="4572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5" name="Group 50"/>
          <p:cNvGrpSpPr/>
          <p:nvPr/>
        </p:nvGrpSpPr>
        <p:grpSpPr>
          <a:xfrm>
            <a:off x="5138280" y="3581280"/>
            <a:ext cx="1559880" cy="762120"/>
            <a:chOff x="5138280" y="3581280"/>
            <a:chExt cx="1559880" cy="762120"/>
          </a:xfrm>
        </p:grpSpPr>
        <p:sp>
          <p:nvSpPr>
            <p:cNvPr id="636" name="Text Box 51"/>
            <p:cNvSpPr/>
            <p:nvPr/>
          </p:nvSpPr>
          <p:spPr>
            <a:xfrm>
              <a:off x="5138280" y="3581280"/>
              <a:ext cx="1559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12.5% below th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annual avera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Line 52"/>
            <p:cNvSpPr/>
            <p:nvPr/>
          </p:nvSpPr>
          <p:spPr>
            <a:xfrm flipH="1">
              <a:off x="5181120" y="411480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8" name="Line 53"/>
          <p:cNvSpPr/>
          <p:nvPr/>
        </p:nvSpPr>
        <p:spPr>
          <a:xfrm>
            <a:off x="1600200" y="5638680"/>
            <a:ext cx="7315200" cy="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Line 54"/>
          <p:cNvSpPr/>
          <p:nvPr/>
        </p:nvSpPr>
        <p:spPr>
          <a:xfrm>
            <a:off x="1600200" y="4419720"/>
            <a:ext cx="7315200" cy="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erpreting the Seasonal Indi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0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7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4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1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8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15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22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29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/>
          </p:nvPr>
        </p:nvSpPr>
        <p:spPr>
          <a:xfrm>
            <a:off x="762120" y="11426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rend component and the seasonality component are recomposed using the multiplicative model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2" name="Object 3"/>
          <p:cNvGraphicFramePr/>
          <p:nvPr/>
        </p:nvGraphicFramePr>
        <p:xfrm>
          <a:off x="2057400" y="4229280"/>
          <a:ext cx="5410080" cy="2568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4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4229280"/>
                    <a:ext cx="5410080" cy="256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644" name="Object 4"/>
              <p:cNvSpPr txBox="1"/>
              <p:nvPr/>
            </p:nvSpPr>
            <p:spPr>
              <a:xfrm>
                <a:off x="3505320" y="2743200"/>
                <a:ext cx="373356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T</m:t>
                            </m:r>
                          </m:e>
                        </m:acc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×</m:t>
                    </m:r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39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52</m:t>
                    </m:r>
                    <m:r>
                      <m:t xml:space="preserve">t</m:t>
                    </m:r>
                    <m:r>
                      <m:t xml:space="preserve">)</m:t>
                    </m:r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45" name="Text Box 5"/>
          <p:cNvSpPr/>
          <p:nvPr/>
        </p:nvSpPr>
        <p:spPr>
          <a:xfrm>
            <a:off x="1442160" y="3519360"/>
            <a:ext cx="23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period #1 ( quarter 1)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6" name="Object 6"/>
              <p:cNvSpPr txBox="1"/>
              <p:nvPr/>
            </p:nvSpPr>
            <p:spPr>
              <a:xfrm>
                <a:off x="4044960" y="3352680"/>
                <a:ext cx="460044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T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×</m:t>
                    </m:r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39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52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78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6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7" name="Text Box 7"/>
          <p:cNvSpPr/>
          <p:nvPr/>
        </p:nvSpPr>
        <p:spPr>
          <a:xfrm>
            <a:off x="1458000" y="3900600"/>
            <a:ext cx="23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period #2 ( quarter 2)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8" name="Object 8"/>
              <p:cNvSpPr txBox="1"/>
              <p:nvPr/>
            </p:nvSpPr>
            <p:spPr>
              <a:xfrm>
                <a:off x="4032360" y="3718080"/>
                <a:ext cx="4883040" cy="54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T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×</m:t>
                    </m:r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39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52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76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99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49" name="Group 9"/>
          <p:cNvGrpSpPr/>
          <p:nvPr/>
        </p:nvGrpSpPr>
        <p:grpSpPr>
          <a:xfrm>
            <a:off x="2659320" y="4586400"/>
            <a:ext cx="1252080" cy="671400"/>
            <a:chOff x="2659320" y="4586400"/>
            <a:chExt cx="1252080" cy="671400"/>
          </a:xfrm>
        </p:grpSpPr>
        <p:sp>
          <p:nvSpPr>
            <p:cNvPr id="650" name="Text Box 10"/>
            <p:cNvSpPr/>
            <p:nvPr/>
          </p:nvSpPr>
          <p:spPr>
            <a:xfrm>
              <a:off x="2659320" y="4586400"/>
              <a:ext cx="1252080" cy="36828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 Narrow"/>
                </a:rPr>
                <a:t>Actual seri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Line 11"/>
            <p:cNvSpPr/>
            <p:nvPr/>
          </p:nvSpPr>
          <p:spPr>
            <a:xfrm>
              <a:off x="3429000" y="4876920"/>
              <a:ext cx="457200" cy="3808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2" name="Group 12"/>
          <p:cNvGrpSpPr/>
          <p:nvPr/>
        </p:nvGrpSpPr>
        <p:grpSpPr>
          <a:xfrm>
            <a:off x="4337640" y="4606920"/>
            <a:ext cx="1582920" cy="574560"/>
            <a:chOff x="4337640" y="4606920"/>
            <a:chExt cx="1582920" cy="574560"/>
          </a:xfrm>
        </p:grpSpPr>
        <p:sp>
          <p:nvSpPr>
            <p:cNvPr id="653" name="Text Box 13"/>
            <p:cNvSpPr/>
            <p:nvPr/>
          </p:nvSpPr>
          <p:spPr>
            <a:xfrm>
              <a:off x="4337640" y="4606920"/>
              <a:ext cx="1582920" cy="368280"/>
            </a:xfrm>
            <a:prstGeom prst="rect">
              <a:avLst/>
            </a:prstGeom>
            <a:noFill/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 Narrow"/>
                </a:rPr>
                <a:t>Smoothed seri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Line 14"/>
            <p:cNvSpPr/>
            <p:nvPr/>
          </p:nvSpPr>
          <p:spPr>
            <a:xfrm>
              <a:off x="5334120" y="4952880"/>
              <a:ext cx="380880" cy="228600"/>
            </a:xfrm>
            <a:prstGeom prst="line">
              <a:avLst/>
            </a:prstGeom>
            <a:ln w="93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5" name="Group 15"/>
          <p:cNvGrpSpPr/>
          <p:nvPr/>
        </p:nvGrpSpPr>
        <p:grpSpPr>
          <a:xfrm>
            <a:off x="4052520" y="5562720"/>
            <a:ext cx="2878200" cy="707760"/>
            <a:chOff x="4052520" y="5562720"/>
            <a:chExt cx="2878200" cy="707760"/>
          </a:xfrm>
        </p:grpSpPr>
        <p:sp>
          <p:nvSpPr>
            <p:cNvPr id="656" name="Text Box 16"/>
            <p:cNvSpPr/>
            <p:nvPr/>
          </p:nvSpPr>
          <p:spPr>
            <a:xfrm>
              <a:off x="4052520" y="5902200"/>
              <a:ext cx="2878200" cy="368280"/>
            </a:xfrm>
            <a:prstGeom prst="rect">
              <a:avLst/>
            </a:prstGeom>
            <a:noFill/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99"/>
                  </a:solidFill>
                  <a:latin typeface="Arial Narrow"/>
                </a:rPr>
                <a:t>The linear trend (regression) li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Line 17"/>
            <p:cNvSpPr/>
            <p:nvPr/>
          </p:nvSpPr>
          <p:spPr>
            <a:xfrm flipH="1" flipV="1">
              <a:off x="4800240" y="5562720"/>
              <a:ext cx="533160" cy="380880"/>
            </a:xfrm>
            <a:prstGeom prst="line">
              <a:avLst/>
            </a:prstGeom>
            <a:ln w="93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moothed Time Se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0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8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6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1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seasonalized Time Se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380880" y="3809880"/>
            <a:ext cx="784872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removing the seasonality, we can identify changes in the other components of the time series, that might have occurred over ti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1" name="Group 4"/>
          <p:cNvGrpSpPr/>
          <p:nvPr/>
        </p:nvGrpSpPr>
        <p:grpSpPr>
          <a:xfrm>
            <a:off x="1150200" y="2541600"/>
            <a:ext cx="6955920" cy="947160"/>
            <a:chOff x="1150200" y="2541600"/>
            <a:chExt cx="6955920" cy="947160"/>
          </a:xfrm>
        </p:grpSpPr>
        <p:sp>
          <p:nvSpPr>
            <p:cNvPr id="662" name="Text Box 5"/>
            <p:cNvSpPr/>
            <p:nvPr/>
          </p:nvSpPr>
          <p:spPr>
            <a:xfrm>
              <a:off x="1150200" y="2684520"/>
              <a:ext cx="452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c3300"/>
                  </a:solidFill>
                  <a:latin typeface="Arial Narrow"/>
                </a:rPr>
                <a:t>Seasonally adjusted time series 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Text Box 6"/>
            <p:cNvSpPr/>
            <p:nvPr/>
          </p:nvSpPr>
          <p:spPr>
            <a:xfrm>
              <a:off x="5630400" y="2541600"/>
              <a:ext cx="24757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c3300"/>
                  </a:solidFill>
                  <a:latin typeface="Arial Narrow"/>
                </a:rPr>
                <a:t>Actual time seri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c3300"/>
                  </a:solidFill>
                  <a:latin typeface="Arial Narrow"/>
                </a:rPr>
                <a:t>Seasonal inde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Line 7"/>
            <p:cNvSpPr/>
            <p:nvPr/>
          </p:nvSpPr>
          <p:spPr>
            <a:xfrm>
              <a:off x="5658840" y="3002040"/>
              <a:ext cx="2404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reeform 5"/>
          <p:cNvSpPr/>
          <p:nvPr/>
        </p:nvSpPr>
        <p:spPr>
          <a:xfrm>
            <a:off x="5334120" y="3048120"/>
            <a:ext cx="3504960" cy="2590560"/>
          </a:xfrm>
          <a:custGeom>
            <a:avLst/>
            <a:gdLst>
              <a:gd name="textAreaLeft" fmla="*/ 0 w 3504960"/>
              <a:gd name="textAreaRight" fmla="*/ 3505320 w 3504960"/>
              <a:gd name="textAreaTop" fmla="*/ 0 h 2590560"/>
              <a:gd name="textAreaBottom" fmla="*/ 2590920 h 2590560"/>
            </a:gdLst>
            <a:ahLst/>
            <a:rect l="textAreaLeft" t="textAreaTop" r="textAreaRight" b="textAreaBottom"/>
            <a:pathLst>
              <a:path w="1824" h="1632">
                <a:moveTo>
                  <a:pt x="0" y="0"/>
                </a:moveTo>
                <a:lnTo>
                  <a:pt x="0" y="1632"/>
                </a:lnTo>
                <a:lnTo>
                  <a:pt x="1824" y="163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457200" y="762120"/>
            <a:ext cx="4172040" cy="1618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10f"/>
                </a:solidFill>
                <a:latin typeface="Arial Narrow"/>
              </a:rPr>
              <a:t>Random variation</a:t>
            </a:r>
            <a:r>
              <a:rPr b="0" lang="en-US" sz="2000" spc="-1" strike="noStrike">
                <a:solidFill>
                  <a:srgbClr val="13110f"/>
                </a:solidFill>
                <a:latin typeface="Arial Narrow"/>
              </a:rPr>
              <a:t> comprises the irregul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10f"/>
                </a:solidFill>
                <a:latin typeface="Arial Narrow"/>
              </a:rPr>
              <a:t>unpredictable changes in the time ser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10f"/>
                </a:solidFill>
                <a:latin typeface="Arial Narrow"/>
              </a:rPr>
              <a:t>It tends to hide the other (more predicta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10f"/>
                </a:solidFill>
                <a:latin typeface="Arial Narrow"/>
              </a:rPr>
              <a:t>compon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7"/>
          <p:cNvSpPr/>
          <p:nvPr/>
        </p:nvSpPr>
        <p:spPr>
          <a:xfrm rot="21393000">
            <a:off x="5638320" y="3995280"/>
            <a:ext cx="2971800" cy="42228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22280"/>
              <a:gd name="textAreaBottom" fmla="*/ 422640 h 422280"/>
            </a:gdLst>
            <a:ahLst/>
            <a:rect l="textAreaLeft" t="textAreaTop" r="textAreaRight" b="textAreaBottom"/>
            <a:pathLst>
              <a:path w="1872" h="288">
                <a:moveTo>
                  <a:pt x="0" y="288"/>
                </a:moveTo>
                <a:cubicBezTo>
                  <a:pt x="420" y="288"/>
                  <a:pt x="840" y="288"/>
                  <a:pt x="1152" y="240"/>
                </a:cubicBezTo>
                <a:cubicBezTo>
                  <a:pt x="1464" y="192"/>
                  <a:pt x="1668" y="96"/>
                  <a:pt x="1872" y="0"/>
                </a:cubicBezTo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Group 8"/>
          <p:cNvGrpSpPr/>
          <p:nvPr/>
        </p:nvGrpSpPr>
        <p:grpSpPr>
          <a:xfrm>
            <a:off x="5562720" y="3657600"/>
            <a:ext cx="3124080" cy="1295280"/>
            <a:chOff x="5562720" y="3657600"/>
            <a:chExt cx="3124080" cy="1295280"/>
          </a:xfrm>
        </p:grpSpPr>
        <p:grpSp>
          <p:nvGrpSpPr>
            <p:cNvPr id="101" name="Group 9"/>
            <p:cNvGrpSpPr/>
            <p:nvPr/>
          </p:nvGrpSpPr>
          <p:grpSpPr>
            <a:xfrm>
              <a:off x="5638680" y="3657600"/>
              <a:ext cx="3048120" cy="1295280"/>
              <a:chOff x="5638680" y="3657600"/>
              <a:chExt cx="3048120" cy="1295280"/>
            </a:xfrm>
          </p:grpSpPr>
          <p:sp>
            <p:nvSpPr>
              <p:cNvPr id="102" name="Freeform 10"/>
              <p:cNvSpPr/>
              <p:nvPr/>
            </p:nvSpPr>
            <p:spPr>
              <a:xfrm>
                <a:off x="5638680" y="3733920"/>
                <a:ext cx="2971800" cy="1143000"/>
              </a:xfrm>
              <a:custGeom>
                <a:avLst/>
                <a:gdLst>
                  <a:gd name="textAreaLeft" fmla="*/ 0 w 2971800"/>
                  <a:gd name="textAreaRight" fmla="*/ 2972160 w 2971800"/>
                  <a:gd name="textAreaTop" fmla="*/ 0 h 1143000"/>
                  <a:gd name="textAreaBottom" fmla="*/ 1143360 h 1143000"/>
                </a:gdLst>
                <a:ahLst/>
                <a:rect l="textAreaLeft" t="textAreaTop" r="textAreaRight" b="textAreaBottom"/>
                <a:pathLst>
                  <a:path w="1872" h="720">
                    <a:moveTo>
                      <a:pt x="0" y="720"/>
                    </a:moveTo>
                    <a:lnTo>
                      <a:pt x="192" y="144"/>
                    </a:lnTo>
                    <a:lnTo>
                      <a:pt x="384" y="720"/>
                    </a:lnTo>
                    <a:lnTo>
                      <a:pt x="576" y="480"/>
                    </a:lnTo>
                    <a:lnTo>
                      <a:pt x="816" y="0"/>
                    </a:lnTo>
                    <a:lnTo>
                      <a:pt x="1056" y="624"/>
                    </a:lnTo>
                    <a:lnTo>
                      <a:pt x="1296" y="0"/>
                    </a:lnTo>
                    <a:lnTo>
                      <a:pt x="1488" y="432"/>
                    </a:lnTo>
                    <a:lnTo>
                      <a:pt x="1728" y="288"/>
                    </a:lnTo>
                    <a:lnTo>
                      <a:pt x="1872" y="48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Oval 11"/>
              <p:cNvSpPr/>
              <p:nvPr/>
            </p:nvSpPr>
            <p:spPr>
              <a:xfrm>
                <a:off x="7645320" y="3686040"/>
                <a:ext cx="152640" cy="1526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Oval 12"/>
              <p:cNvSpPr/>
              <p:nvPr/>
            </p:nvSpPr>
            <p:spPr>
              <a:xfrm>
                <a:off x="5867280" y="3886200"/>
                <a:ext cx="152640" cy="1522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Oval 13"/>
              <p:cNvSpPr/>
              <p:nvPr/>
            </p:nvSpPr>
            <p:spPr>
              <a:xfrm>
                <a:off x="6858000" y="3657600"/>
                <a:ext cx="152280" cy="1522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Oval 14"/>
              <p:cNvSpPr/>
              <p:nvPr/>
            </p:nvSpPr>
            <p:spPr>
              <a:xfrm>
                <a:off x="6172200" y="4800600"/>
                <a:ext cx="152280" cy="1522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Oval 15"/>
              <p:cNvSpPr/>
              <p:nvPr/>
            </p:nvSpPr>
            <p:spPr>
              <a:xfrm>
                <a:off x="6477120" y="4419720"/>
                <a:ext cx="152280" cy="1522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Oval 16"/>
              <p:cNvSpPr/>
              <p:nvPr/>
            </p:nvSpPr>
            <p:spPr>
              <a:xfrm>
                <a:off x="7238880" y="4648320"/>
                <a:ext cx="152640" cy="1522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Oval 17"/>
              <p:cNvSpPr/>
              <p:nvPr/>
            </p:nvSpPr>
            <p:spPr>
              <a:xfrm>
                <a:off x="7924680" y="4343400"/>
                <a:ext cx="152640" cy="1522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Oval 18"/>
              <p:cNvSpPr/>
              <p:nvPr/>
            </p:nvSpPr>
            <p:spPr>
              <a:xfrm>
                <a:off x="8534520" y="3733920"/>
                <a:ext cx="152280" cy="1522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Oval 19"/>
              <p:cNvSpPr/>
              <p:nvPr/>
            </p:nvSpPr>
            <p:spPr>
              <a:xfrm>
                <a:off x="8305920" y="4114800"/>
                <a:ext cx="152280" cy="1522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" name="Oval 20"/>
            <p:cNvSpPr/>
            <p:nvPr/>
          </p:nvSpPr>
          <p:spPr>
            <a:xfrm>
              <a:off x="5562720" y="4800600"/>
              <a:ext cx="15228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Oval 21"/>
          <p:cNvSpPr/>
          <p:nvPr/>
        </p:nvSpPr>
        <p:spPr>
          <a:xfrm>
            <a:off x="7645320" y="3686040"/>
            <a:ext cx="15264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22"/>
          <p:cNvSpPr/>
          <p:nvPr/>
        </p:nvSpPr>
        <p:spPr>
          <a:xfrm>
            <a:off x="5867280" y="388620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23"/>
          <p:cNvSpPr/>
          <p:nvPr/>
        </p:nvSpPr>
        <p:spPr>
          <a:xfrm>
            <a:off x="685800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24"/>
          <p:cNvSpPr/>
          <p:nvPr/>
        </p:nvSpPr>
        <p:spPr>
          <a:xfrm>
            <a:off x="6172200" y="4800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25"/>
          <p:cNvSpPr/>
          <p:nvPr/>
        </p:nvSpPr>
        <p:spPr>
          <a:xfrm>
            <a:off x="6477120" y="441972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26"/>
          <p:cNvSpPr/>
          <p:nvPr/>
        </p:nvSpPr>
        <p:spPr>
          <a:xfrm>
            <a:off x="7238880" y="464832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27"/>
          <p:cNvSpPr/>
          <p:nvPr/>
        </p:nvSpPr>
        <p:spPr>
          <a:xfrm>
            <a:off x="7924680" y="434340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28"/>
          <p:cNvSpPr/>
          <p:nvPr/>
        </p:nvSpPr>
        <p:spPr>
          <a:xfrm>
            <a:off x="8534520" y="373392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29"/>
          <p:cNvSpPr/>
          <p:nvPr/>
        </p:nvSpPr>
        <p:spPr>
          <a:xfrm>
            <a:off x="8305920" y="41148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30"/>
          <p:cNvSpPr/>
          <p:nvPr/>
        </p:nvSpPr>
        <p:spPr>
          <a:xfrm>
            <a:off x="6477120" y="441972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31"/>
          <p:cNvSpPr/>
          <p:nvPr/>
        </p:nvSpPr>
        <p:spPr>
          <a:xfrm>
            <a:off x="8534520" y="373392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Group 32"/>
          <p:cNvGrpSpPr/>
          <p:nvPr/>
        </p:nvGrpSpPr>
        <p:grpSpPr>
          <a:xfrm>
            <a:off x="5583240" y="3780000"/>
            <a:ext cx="2874960" cy="1020600"/>
            <a:chOff x="5583240" y="3780000"/>
            <a:chExt cx="2874960" cy="1020600"/>
          </a:xfrm>
        </p:grpSpPr>
        <p:sp>
          <p:nvSpPr>
            <p:cNvPr id="125" name="Oval 33"/>
            <p:cNvSpPr/>
            <p:nvPr/>
          </p:nvSpPr>
          <p:spPr>
            <a:xfrm>
              <a:off x="5583240" y="4694400"/>
              <a:ext cx="131760" cy="106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Oval 34"/>
            <p:cNvSpPr/>
            <p:nvPr/>
          </p:nvSpPr>
          <p:spPr>
            <a:xfrm>
              <a:off x="7669080" y="3780000"/>
              <a:ext cx="128880" cy="106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Oval 35"/>
            <p:cNvSpPr/>
            <p:nvPr/>
          </p:nvSpPr>
          <p:spPr>
            <a:xfrm>
              <a:off x="5891040" y="4008600"/>
              <a:ext cx="128880" cy="106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36"/>
            <p:cNvSpPr/>
            <p:nvPr/>
          </p:nvSpPr>
          <p:spPr>
            <a:xfrm>
              <a:off x="6881760" y="3780000"/>
              <a:ext cx="128520" cy="106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37"/>
            <p:cNvSpPr/>
            <p:nvPr/>
          </p:nvSpPr>
          <p:spPr>
            <a:xfrm>
              <a:off x="6195960" y="4694400"/>
              <a:ext cx="128520" cy="106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38"/>
            <p:cNvSpPr/>
            <p:nvPr/>
          </p:nvSpPr>
          <p:spPr>
            <a:xfrm>
              <a:off x="7262640" y="4541760"/>
              <a:ext cx="128880" cy="106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39"/>
            <p:cNvSpPr/>
            <p:nvPr/>
          </p:nvSpPr>
          <p:spPr>
            <a:xfrm>
              <a:off x="7948440" y="4237200"/>
              <a:ext cx="128880" cy="106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40"/>
            <p:cNvSpPr/>
            <p:nvPr/>
          </p:nvSpPr>
          <p:spPr>
            <a:xfrm>
              <a:off x="8329680" y="4008600"/>
              <a:ext cx="128520" cy="106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Group 41"/>
          <p:cNvGrpSpPr/>
          <p:nvPr/>
        </p:nvGrpSpPr>
        <p:grpSpPr>
          <a:xfrm>
            <a:off x="5583240" y="3932280"/>
            <a:ext cx="2214720" cy="745920"/>
            <a:chOff x="5583240" y="3932280"/>
            <a:chExt cx="2214720" cy="745920"/>
          </a:xfrm>
        </p:grpSpPr>
        <p:grpSp>
          <p:nvGrpSpPr>
            <p:cNvPr id="134" name="Group 42"/>
            <p:cNvGrpSpPr/>
            <p:nvPr/>
          </p:nvGrpSpPr>
          <p:grpSpPr>
            <a:xfrm>
              <a:off x="5583240" y="3932280"/>
              <a:ext cx="2214720" cy="745920"/>
              <a:chOff x="5583240" y="3932280"/>
              <a:chExt cx="2214720" cy="745920"/>
            </a:xfrm>
          </p:grpSpPr>
          <p:sp>
            <p:nvSpPr>
              <p:cNvPr id="135" name="Oval 43"/>
              <p:cNvSpPr/>
              <p:nvPr/>
            </p:nvSpPr>
            <p:spPr>
              <a:xfrm>
                <a:off x="5583240" y="4572000"/>
                <a:ext cx="131760" cy="1062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Oval 44"/>
              <p:cNvSpPr/>
              <p:nvPr/>
            </p:nvSpPr>
            <p:spPr>
              <a:xfrm>
                <a:off x="7669080" y="3932280"/>
                <a:ext cx="128880" cy="1062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Oval 45"/>
              <p:cNvSpPr/>
              <p:nvPr/>
            </p:nvSpPr>
            <p:spPr>
              <a:xfrm>
                <a:off x="5891040" y="4160880"/>
                <a:ext cx="128880" cy="1062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Oval 46"/>
              <p:cNvSpPr/>
              <p:nvPr/>
            </p:nvSpPr>
            <p:spPr>
              <a:xfrm>
                <a:off x="6881760" y="3932280"/>
                <a:ext cx="128520" cy="1062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Oval 47"/>
              <p:cNvSpPr/>
              <p:nvPr/>
            </p:nvSpPr>
            <p:spPr>
              <a:xfrm>
                <a:off x="6195960" y="4572000"/>
                <a:ext cx="128520" cy="1062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0" name="Oval 48"/>
            <p:cNvSpPr/>
            <p:nvPr/>
          </p:nvSpPr>
          <p:spPr>
            <a:xfrm>
              <a:off x="7262640" y="4419720"/>
              <a:ext cx="128880" cy="106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Group 49"/>
          <p:cNvGrpSpPr/>
          <p:nvPr/>
        </p:nvGrpSpPr>
        <p:grpSpPr>
          <a:xfrm>
            <a:off x="5891040" y="4084560"/>
            <a:ext cx="1906920" cy="335160"/>
            <a:chOff x="5891040" y="4084560"/>
            <a:chExt cx="1906920" cy="335160"/>
          </a:xfrm>
        </p:grpSpPr>
        <p:sp>
          <p:nvSpPr>
            <p:cNvPr id="142" name="Oval 50"/>
            <p:cNvSpPr/>
            <p:nvPr/>
          </p:nvSpPr>
          <p:spPr>
            <a:xfrm>
              <a:off x="7669080" y="4084560"/>
              <a:ext cx="128880" cy="106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51"/>
            <p:cNvSpPr/>
            <p:nvPr/>
          </p:nvSpPr>
          <p:spPr>
            <a:xfrm>
              <a:off x="5891040" y="4313160"/>
              <a:ext cx="128880" cy="106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52"/>
            <p:cNvSpPr/>
            <p:nvPr/>
          </p:nvSpPr>
          <p:spPr>
            <a:xfrm>
              <a:off x="6881760" y="4084560"/>
              <a:ext cx="128520" cy="106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Oval 53"/>
          <p:cNvSpPr/>
          <p:nvPr/>
        </p:nvSpPr>
        <p:spPr>
          <a:xfrm>
            <a:off x="6899400" y="4232160"/>
            <a:ext cx="128520" cy="106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oup 54"/>
          <p:cNvGrpSpPr/>
          <p:nvPr/>
        </p:nvGrpSpPr>
        <p:grpSpPr>
          <a:xfrm>
            <a:off x="5595840" y="3886200"/>
            <a:ext cx="2862360" cy="679320"/>
            <a:chOff x="5595840" y="3886200"/>
            <a:chExt cx="2862360" cy="679320"/>
          </a:xfrm>
        </p:grpSpPr>
        <p:sp>
          <p:nvSpPr>
            <p:cNvPr id="147" name="Oval 55"/>
            <p:cNvSpPr/>
            <p:nvPr/>
          </p:nvSpPr>
          <p:spPr>
            <a:xfrm>
              <a:off x="7948440" y="4114800"/>
              <a:ext cx="128880" cy="106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" name="Group 56"/>
            <p:cNvGrpSpPr/>
            <p:nvPr/>
          </p:nvGrpSpPr>
          <p:grpSpPr>
            <a:xfrm>
              <a:off x="5595840" y="3886200"/>
              <a:ext cx="2862360" cy="679320"/>
              <a:chOff x="5595840" y="3886200"/>
              <a:chExt cx="2862360" cy="679320"/>
            </a:xfrm>
          </p:grpSpPr>
          <p:sp>
            <p:nvSpPr>
              <p:cNvPr id="149" name="Oval 57"/>
              <p:cNvSpPr/>
              <p:nvPr/>
            </p:nvSpPr>
            <p:spPr>
              <a:xfrm>
                <a:off x="8329680" y="3886200"/>
                <a:ext cx="128520" cy="1062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0" name="Group 58"/>
              <p:cNvGrpSpPr/>
              <p:nvPr/>
            </p:nvGrpSpPr>
            <p:grpSpPr>
              <a:xfrm>
                <a:off x="5595840" y="4205160"/>
                <a:ext cx="2198880" cy="360360"/>
                <a:chOff x="5595840" y="4205160"/>
                <a:chExt cx="2198880" cy="360360"/>
              </a:xfrm>
            </p:grpSpPr>
            <p:grpSp>
              <p:nvGrpSpPr>
                <p:cNvPr id="151" name="Group 59"/>
                <p:cNvGrpSpPr/>
                <p:nvPr/>
              </p:nvGrpSpPr>
              <p:grpSpPr>
                <a:xfrm>
                  <a:off x="5595840" y="4287960"/>
                  <a:ext cx="1795680" cy="277560"/>
                  <a:chOff x="5595840" y="4287960"/>
                  <a:chExt cx="1795680" cy="277560"/>
                </a:xfrm>
              </p:grpSpPr>
              <p:sp>
                <p:nvSpPr>
                  <p:cNvPr id="152" name="Oval 60"/>
                  <p:cNvSpPr/>
                  <p:nvPr/>
                </p:nvSpPr>
                <p:spPr>
                  <a:xfrm>
                    <a:off x="5595840" y="4459320"/>
                    <a:ext cx="131760" cy="1062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440" bIns="28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Oval 61"/>
                  <p:cNvSpPr/>
                  <p:nvPr/>
                </p:nvSpPr>
                <p:spPr>
                  <a:xfrm>
                    <a:off x="6195960" y="4419720"/>
                    <a:ext cx="128520" cy="1062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440" bIns="28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" name="Oval 62"/>
                  <p:cNvSpPr/>
                  <p:nvPr/>
                </p:nvSpPr>
                <p:spPr>
                  <a:xfrm>
                    <a:off x="7262640" y="4287960"/>
                    <a:ext cx="128880" cy="1062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440" bIns="28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5" name="Oval 63"/>
                <p:cNvSpPr/>
                <p:nvPr/>
              </p:nvSpPr>
              <p:spPr>
                <a:xfrm>
                  <a:off x="7666200" y="4205160"/>
                  <a:ext cx="128520" cy="1065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Oval 64"/>
                <p:cNvSpPr/>
                <p:nvPr/>
              </p:nvSpPr>
              <p:spPr>
                <a:xfrm>
                  <a:off x="5888160" y="4433760"/>
                  <a:ext cx="128520" cy="1065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Oval 65"/>
                <p:cNvSpPr/>
                <p:nvPr/>
              </p:nvSpPr>
              <p:spPr>
                <a:xfrm>
                  <a:off x="6880320" y="4356000"/>
                  <a:ext cx="128520" cy="1065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8" name="Rectangle 66"/>
          <p:cNvSpPr/>
          <p:nvPr/>
        </p:nvSpPr>
        <p:spPr>
          <a:xfrm>
            <a:off x="457200" y="2666880"/>
            <a:ext cx="4572000" cy="34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andom or Irregular Variation –classified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n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pisodic – unpredictable but identifi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idual – also called chance fluctuation and unidentifi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75"/>
                            </p:stCondLst>
                            <p:childTnLst>
                              <p:par>
                                <p:cTn id="6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150"/>
                            </p:stCondLst>
                            <p:childTnLst>
                              <p:par>
                                <p:cTn id="7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225"/>
                            </p:stCondLst>
                            <p:childTnLst>
                              <p:par>
                                <p:cTn id="7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seasonalized Time Se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Text Box 3"/>
          <p:cNvSpPr/>
          <p:nvPr/>
        </p:nvSpPr>
        <p:spPr>
          <a:xfrm>
            <a:off x="994320" y="1781280"/>
            <a:ext cx="355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n period #1 ( quarter 1):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7" name="Object 4"/>
              <p:cNvSpPr txBox="1"/>
              <p:nvPr/>
            </p:nvSpPr>
            <p:spPr>
              <a:xfrm>
                <a:off x="4525920" y="1773360"/>
                <a:ext cx="347508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56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878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3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8" name="Text Box 5"/>
          <p:cNvSpPr/>
          <p:nvPr/>
        </p:nvSpPr>
        <p:spPr>
          <a:xfrm>
            <a:off x="994320" y="2293920"/>
            <a:ext cx="355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n period #4 ( quarter 2):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9" name="Object 6"/>
              <p:cNvSpPr txBox="1"/>
              <p:nvPr/>
            </p:nvSpPr>
            <p:spPr>
              <a:xfrm>
                <a:off x="4616280" y="2286000"/>
                <a:ext cx="355284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08</m:t>
                    </m:r>
                    <m:r>
                      <m:t xml:space="preserve">/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76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52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70" name="Group 7"/>
          <p:cNvGrpSpPr/>
          <p:nvPr/>
        </p:nvGrpSpPr>
        <p:grpSpPr>
          <a:xfrm>
            <a:off x="1530000" y="3303720"/>
            <a:ext cx="6375960" cy="3076560"/>
            <a:chOff x="1530000" y="3303720"/>
            <a:chExt cx="6375960" cy="3076560"/>
          </a:xfrm>
        </p:grpSpPr>
        <p:graphicFrame>
          <p:nvGraphicFramePr>
            <p:cNvPr id="671" name="Object 8"/>
            <p:cNvGraphicFramePr/>
            <p:nvPr/>
          </p:nvGraphicFramePr>
          <p:xfrm>
            <a:off x="2095560" y="3809880"/>
            <a:ext cx="5181480" cy="25704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72" name="Object 8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095560" y="3809880"/>
                      <a:ext cx="5181480" cy="2570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73" name="Text Box 9"/>
            <p:cNvSpPr/>
            <p:nvPr/>
          </p:nvSpPr>
          <p:spPr>
            <a:xfrm>
              <a:off x="1530000" y="3303720"/>
              <a:ext cx="6375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c3300"/>
                  </a:solidFill>
                  <a:latin typeface="Arial Narrow"/>
                </a:rPr>
                <a:t>There was a gradual increase in occupancy rat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4" name="Text Box 10"/>
          <p:cNvSpPr/>
          <p:nvPr/>
        </p:nvSpPr>
        <p:spPr>
          <a:xfrm>
            <a:off x="994320" y="2833560"/>
            <a:ext cx="355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n period #5 ( quarter 1):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5" name="Object 11"/>
              <p:cNvSpPr txBox="1"/>
              <p:nvPr/>
            </p:nvSpPr>
            <p:spPr>
              <a:xfrm>
                <a:off x="4572000" y="2811600"/>
                <a:ext cx="364176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75</m:t>
                    </m:r>
                    <m:r>
                      <m:t xml:space="preserve">/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78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61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0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oving Average and Exponential Smoothing Methods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ider models applicable to time series data with seasonal, trend, or both seasonal and trend component and stationary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ecasting methods discussed can be classified 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eraging metho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qually weighted observ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onential Smoothing metho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equal set of weights to past data, where the weights decay exponentially from the most recent to the most distant data poi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methods in this group require that certain parameters to be defin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se parameters (with values between 0 and 1) will determine the unequal weights to be applied to past d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ving Averag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-perio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ing avera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time period t is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rithmetic avera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the time series values for the n most recent time  perio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685800" y="3429000"/>
            <a:ext cx="77724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 Narrow"/>
              </a:rPr>
              <a:t>For example: A 3-period moving average at period (t+1) is calculated by (y</a:t>
            </a:r>
            <a:r>
              <a:rPr b="0" lang="en-US" sz="2800" spc="-1" strike="noStrike" baseline="-25000">
                <a:solidFill>
                  <a:srgbClr val="cc0000"/>
                </a:solidFill>
                <a:latin typeface="Arial Narrow"/>
              </a:rPr>
              <a:t>t-2</a:t>
            </a:r>
            <a:r>
              <a:rPr b="0" lang="en-US" sz="2800" spc="-1" strike="noStrike">
                <a:solidFill>
                  <a:srgbClr val="cc0000"/>
                </a:solidFill>
                <a:latin typeface="Arial Narrow"/>
              </a:rPr>
              <a:t> + y</a:t>
            </a:r>
            <a:r>
              <a:rPr b="0" lang="en-US" sz="2800" spc="-1" strike="noStrike" baseline="-25000">
                <a:solidFill>
                  <a:srgbClr val="cc0000"/>
                </a:solidFill>
                <a:latin typeface="Arial Narrow"/>
              </a:rPr>
              <a:t>t-1</a:t>
            </a:r>
            <a:r>
              <a:rPr b="0" lang="en-US" sz="2800" spc="-1" strike="noStrike">
                <a:solidFill>
                  <a:srgbClr val="cc0000"/>
                </a:solidFill>
                <a:latin typeface="Arial Narrow"/>
              </a:rPr>
              <a:t> + y</a:t>
            </a:r>
            <a:r>
              <a:rPr b="0" lang="en-US" sz="2800" spc="-1" strike="noStrike" baseline="-25000">
                <a:solidFill>
                  <a:srgbClr val="cc0000"/>
                </a:solidFill>
                <a:latin typeface="Arial Narrow"/>
              </a:rPr>
              <a:t>t</a:t>
            </a:r>
            <a:r>
              <a:rPr b="0" lang="en-US" sz="2800" spc="-1" strike="noStrike">
                <a:solidFill>
                  <a:srgbClr val="cc0000"/>
                </a:solidFill>
                <a:latin typeface="Arial Narrow"/>
              </a:rPr>
              <a:t>)/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ered Moving Average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entered moving average metho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ists of computing an average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eriods' data and associating it with the midpoint of the periods. For example, the average for periods 5, 6, and 7 is associated with period 6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ing Aver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large k is desirable when there are wide, infrequent fluctuations in the ser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mall k is most desirable when there are sudden shifts in the level of ser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quarterly data, a four-quarter moving average, MA(4), eliminates or averages out seasonal effec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hp</dc:creator>
  <dc:description/>
  <dc:language>en-US</dc:language>
  <cp:lastModifiedBy>Sasidhar</cp:lastModifiedBy>
  <dcterms:modified xsi:type="dcterms:W3CDTF">2015-02-06T14:20:48Z</dcterms:modified>
  <cp:revision>211</cp:revision>
  <dc:subject/>
  <dc:title>PowerPoint Presentation</dc:title>
</cp:coreProperties>
</file>