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E25-285A-4437-85B9-4F5094EA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993-F345-409C-A10A-F48B3CB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C2A-BF44-4990-A0CE-F013D19A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7AE-DBF8-4107-907D-D85CDED0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D2E-6FC8-43CA-A27C-669AA7B9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2EB-6BC9-4342-97DE-82C1F9D3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0EC-3778-400F-A8ED-6152C0A2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614-AB41-4DB7-857C-51B301C1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350-DB72-4D91-903C-5C085080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CB6-396E-417F-B74F-90A1D82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FC2-68E4-4AAA-9B9E-F2C36A7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107-3A37-4166-9AB5-8F8065C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51D-22A0-49F4-BA74-79D9325E98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4640" y="1916280"/>
          <a:ext cx="8431560" cy="3644640"/>
        </p:xfrm>
        <a:graphic>
          <a:graphicData uri="http://schemas.openxmlformats.org/drawingml/2006/table">
            <a:tbl>
              <a:tblPr/>
              <a:tblGrid>
                <a:gridCol w="1214640"/>
                <a:gridCol w="822240"/>
                <a:gridCol w="855720"/>
                <a:gridCol w="961920"/>
                <a:gridCol w="954360"/>
                <a:gridCol w="798480"/>
                <a:gridCol w="842760"/>
                <a:gridCol w="722520"/>
                <a:gridCol w="666720"/>
                <a:gridCol w="59220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4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4720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53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53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46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Pre lab 302 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Pre lab 462 B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0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53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-48960"/>
            <a:ext cx="4032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Areej Al-Zah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1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ndalus"/>
                <a:ea typeface="Andalus"/>
              </a:rPr>
              <a:t> 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ndalus"/>
                <a:ea typeface="Andalus"/>
              </a:rPr>
              <a:t>e-mail :  alzahraniareej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ndalus"/>
                <a:ea typeface="Andalus"/>
              </a:rPr>
              <a:t>Twitter  @AreejK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5364000" y="49608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4508640" y="3213000"/>
            <a:ext cx="48564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5364000" y="439092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3492360" y="32130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Areej Alzahrani</cp:lastModifiedBy>
  <dcterms:modified xsi:type="dcterms:W3CDTF">2014-09-09T07:53:15Z</dcterms:modified>
  <cp:revision>14</cp:revision>
  <dc:subject/>
  <dc:title>Slide 1</dc:title>
</cp:coreProperties>
</file>