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0D6-1AEB-4652-99FA-03471673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0DA-F3B8-4DCB-882C-29F23560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068-D1EB-4D07-BDCA-09B891F2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FBF-A385-4E8E-896F-8E525536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807-2E4B-4624-97B1-9482B5E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673-4AE3-4ADF-A3B9-37842678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307-7405-4574-8F2B-4F2493CB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50F-6620-43BF-901B-ECF2F938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5AB-64D2-4727-B816-9F113FD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72C-0686-4F88-A390-2D844A90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B1B-0F87-4A70-A28D-665D7E5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B3B-85B8-40B9-A429-1ABE257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A1C1-B0C8-4B50-8D7B-9E4107C1C3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4640" y="1916280"/>
          <a:ext cx="8431560" cy="3644640"/>
        </p:xfrm>
        <a:graphic>
          <a:graphicData uri="http://schemas.openxmlformats.org/drawingml/2006/table">
            <a:tbl>
              <a:tblPr/>
              <a:tblGrid>
                <a:gridCol w="1214640"/>
                <a:gridCol w="822240"/>
                <a:gridCol w="855720"/>
                <a:gridCol w="961920"/>
                <a:gridCol w="954360"/>
                <a:gridCol w="798480"/>
                <a:gridCol w="842760"/>
                <a:gridCol w="722520"/>
                <a:gridCol w="666720"/>
                <a:gridCol w="592200"/>
              </a:tblGrid>
              <a:tr h="6688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8-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2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2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4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54720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Su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53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53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Mon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46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u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Pre lab 302 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Pre lab 462 B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1532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Wedne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30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Thurs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gridSpan="3"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530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dalus"/>
                          <a:ea typeface="Andalus"/>
                        </a:rPr>
                        <a:t>B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47880" rIns="47880" tIns="0" bIns="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880" marR="4788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4" descr="BioLogo2small.png"/>
          <p:cNvPicPr/>
          <p:nvPr/>
        </p:nvPicPr>
        <p:blipFill>
          <a:blip r:embed="rId1"/>
          <a:stretch/>
        </p:blipFill>
        <p:spPr>
          <a:xfrm>
            <a:off x="395280" y="189000"/>
            <a:ext cx="1517760" cy="136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Rectangle 6"/>
          <p:cNvSpPr/>
          <p:nvPr/>
        </p:nvSpPr>
        <p:spPr>
          <a:xfrm>
            <a:off x="2843280" y="-48960"/>
            <a:ext cx="4032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Areej Al-Zah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us"/>
                <a:ea typeface="Andalus"/>
              </a:rPr>
              <a:t>biochemistry department</a:t>
            </a:r>
            <a:r>
              <a:rPr b="0" lang="en-US" sz="11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ndalus"/>
                <a:ea typeface="Andalus"/>
              </a:rPr>
              <a:t>building  5 –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ndalus"/>
                <a:ea typeface="Andalus"/>
              </a:rPr>
              <a:t> fl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dalus"/>
                <a:ea typeface="Andalus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ndalus"/>
                <a:ea typeface="Andalus"/>
              </a:rPr>
              <a:t> semester 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Andalus"/>
                <a:ea typeface="Andalus"/>
              </a:rPr>
              <a:t>e-mail :  alzahraniareej@yaho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ndalus"/>
                <a:ea typeface="Andalus"/>
              </a:rPr>
              <a:t>Twitter  @AreejK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468360" y="5922360"/>
            <a:ext cx="37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eputy Head of biochemistry 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ndalus"/>
                <a:ea typeface="Andalus"/>
              </a:rPr>
              <a:t>Dr. Sooad Al-Daihan</a:t>
            </a:r>
            <a:r>
              <a:rPr b="0" lang="en-US" sz="800" spc="-1" strike="noStrike">
                <a:solidFill>
                  <a:srgbClr val="000000"/>
                </a:solidFill>
                <a:latin typeface="Andalus"/>
                <a:ea typeface="Andalu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Program Files\Microsoft Office\MEDIA\CAGCAT10\j0292982.wmf"/>
          <p:cNvPicPr/>
          <p:nvPr/>
        </p:nvPicPr>
        <p:blipFill>
          <a:blip r:embed="rId2"/>
          <a:stretch/>
        </p:blipFill>
        <p:spPr>
          <a:xfrm>
            <a:off x="5364000" y="496080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Program Files\Microsoft Office\MEDIA\CAGCAT10\j0292982.wmf"/>
          <p:cNvPicPr/>
          <p:nvPr/>
        </p:nvPicPr>
        <p:blipFill>
          <a:blip r:embed="rId3"/>
          <a:stretch/>
        </p:blipFill>
        <p:spPr>
          <a:xfrm>
            <a:off x="4508640" y="3213000"/>
            <a:ext cx="48564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Program Files\Microsoft Office\MEDIA\CAGCAT10\j0292982.wmf"/>
          <p:cNvPicPr/>
          <p:nvPr/>
        </p:nvPicPr>
        <p:blipFill>
          <a:blip r:embed="rId4"/>
          <a:stretch/>
        </p:blipFill>
        <p:spPr>
          <a:xfrm>
            <a:off x="5364000" y="4390920"/>
            <a:ext cx="486000" cy="47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Program Files\Microsoft Office\MEDIA\CAGCAT10\j0292982.wmf"/>
          <p:cNvPicPr/>
          <p:nvPr/>
        </p:nvPicPr>
        <p:blipFill>
          <a:blip r:embed="rId5"/>
          <a:stretch/>
        </p:blipFill>
        <p:spPr>
          <a:xfrm>
            <a:off x="3492360" y="3213000"/>
            <a:ext cx="48600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13:02:05Z</dcterms:created>
  <dc:creator>Sooad</dc:creator>
  <dc:description/>
  <dc:language>en-US</dc:language>
  <cp:lastModifiedBy>Areej Alzahrani</cp:lastModifiedBy>
  <dcterms:modified xsi:type="dcterms:W3CDTF">2014-09-09T07:53:15Z</dcterms:modified>
  <cp:revision>14</cp:revision>
  <dc:subject/>
  <dc:title>Slide 1</dc:title>
</cp:coreProperties>
</file>