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2C4F-E0A1-41D9-823D-87EB5E8B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42D9-4CC1-47C1-A5F6-9F867D5C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2273-E838-41F0-BFF7-F691B74F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5B28-EF87-4C75-972C-5041E197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687C-9EC9-48EB-A402-45A8199B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1E50-CFCA-4563-93AB-AE3DABA7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2AE4-88BD-4D20-8D8E-966BFEAE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ED2A-FAD7-48A6-9BC6-E0543040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9E7A-5612-4130-9DF0-F15C9752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E96C-FD74-4BB7-BF14-5E08534F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0136-EF3A-4882-BA8D-D964D654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A212-AC91-4EB5-A003-256F0A0A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D17A-FCF8-45E6-8C47-D8E3526AFA7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57120" y="1643040"/>
          <a:ext cx="8400960" cy="4173480"/>
        </p:xfrm>
        <a:graphic>
          <a:graphicData uri="http://schemas.openxmlformats.org/drawingml/2006/table">
            <a:tbl>
              <a:tblPr/>
              <a:tblGrid>
                <a:gridCol w="1174680"/>
                <a:gridCol w="1038240"/>
                <a:gridCol w="930240"/>
                <a:gridCol w="978120"/>
                <a:gridCol w="766800"/>
                <a:gridCol w="1160280"/>
                <a:gridCol w="784440"/>
                <a:gridCol w="784080"/>
                <a:gridCol w="784080"/>
              </a:tblGrid>
              <a:tr h="66888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8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9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0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1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2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3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51192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Sun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Mon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Pre-la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Tue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Pre-lab 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32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B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Bld.5-floor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S-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076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Wedne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4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Pre-lab 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0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B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Bld.5-floor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S-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Thur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Pre-lab 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49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B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" name="Picture 4" descr="BioLogo2small.png"/>
          <p:cNvPicPr/>
          <p:nvPr/>
        </p:nvPicPr>
        <p:blipFill>
          <a:blip r:embed="rId1"/>
          <a:stretch/>
        </p:blipFill>
        <p:spPr>
          <a:xfrm>
            <a:off x="395280" y="189000"/>
            <a:ext cx="1517760" cy="13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Rectangle 6"/>
          <p:cNvSpPr/>
          <p:nvPr/>
        </p:nvSpPr>
        <p:spPr>
          <a:xfrm>
            <a:off x="2843280" y="331200"/>
            <a:ext cx="3457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ndalus"/>
                <a:ea typeface="Andalus"/>
              </a:rPr>
              <a:t>Eman Alsheh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biochemistry department</a:t>
            </a:r>
            <a:r>
              <a:rPr b="0" lang="en-US" sz="12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building  5 –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ndalus"/>
                <a:ea typeface="Andalus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floor- 2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ndalus"/>
                <a:ea typeface="Andalus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semester 1435-14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68360" y="5922360"/>
            <a:ext cx="37796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Deputy Head of biochemistry 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Dr. Sooad Al-Daihan</a:t>
            </a:r>
            <a:r>
              <a:rPr b="0" lang="en-US" sz="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Program Files\Microsoft Office\MEDIA\CAGCAT10\j0292982.wmf"/>
          <p:cNvPicPr/>
          <p:nvPr/>
        </p:nvPicPr>
        <p:blipFill>
          <a:blip r:embed="rId2"/>
          <a:stretch/>
        </p:blipFill>
        <p:spPr>
          <a:xfrm>
            <a:off x="7358040" y="5214960"/>
            <a:ext cx="485640" cy="477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Program Files\Microsoft Office\MEDIA\CAGCAT10\j0292982.wmf"/>
          <p:cNvPicPr/>
          <p:nvPr/>
        </p:nvPicPr>
        <p:blipFill>
          <a:blip r:embed="rId3"/>
          <a:stretch/>
        </p:blipFill>
        <p:spPr>
          <a:xfrm>
            <a:off x="1857240" y="3643200"/>
            <a:ext cx="486000" cy="478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Program Files\Microsoft Office\MEDIA\CAGCAT10\j0292982.wmf"/>
          <p:cNvPicPr/>
          <p:nvPr/>
        </p:nvPicPr>
        <p:blipFill>
          <a:blip r:embed="rId4"/>
          <a:stretch/>
        </p:blipFill>
        <p:spPr>
          <a:xfrm>
            <a:off x="1857240" y="4429080"/>
            <a:ext cx="486000" cy="477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Program Files\Microsoft Office\MEDIA\CAGCAT10\j0292982.wmf"/>
          <p:cNvPicPr/>
          <p:nvPr/>
        </p:nvPicPr>
        <p:blipFill>
          <a:blip r:embed="rId5"/>
          <a:stretch/>
        </p:blipFill>
        <p:spPr>
          <a:xfrm>
            <a:off x="5572080" y="3643200"/>
            <a:ext cx="48600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13:02:05Z</dcterms:created>
  <dc:creator>Sooad</dc:creator>
  <dc:description/>
  <dc:language>en-US</dc:language>
  <cp:lastModifiedBy>SONY</cp:lastModifiedBy>
  <dcterms:modified xsi:type="dcterms:W3CDTF">2014-09-05T09:36:14Z</dcterms:modified>
  <cp:revision>11</cp:revision>
  <dc:subject/>
  <dc:title>Slide 1</dc:title>
</cp:coreProperties>
</file>