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57B-2DE5-443F-97ED-4EE989B1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B6D-2381-40C4-AF78-D4ADA7D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61A-BACC-478E-BDED-49BEEC72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F20-5013-4283-8ED7-F6409559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716-6133-40BB-B7C3-1F47D089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C48-0834-471E-A3CA-69486BA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A9D-8BD1-4388-B301-226361D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3B6-3B9A-4164-8183-2C5A852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D97-7A5B-44A5-9EA2-D08C5FA0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620-AC5D-4002-AB1A-1146ED51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39F-1E33-42D1-AAD5-6005DD0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228-2A9D-487A-90B4-B316420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6F92-4D05-466E-99F6-04631EC232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7120" y="1643040"/>
          <a:ext cx="8400960" cy="4173480"/>
        </p:xfrm>
        <a:graphic>
          <a:graphicData uri="http://schemas.openxmlformats.org/drawingml/2006/table">
            <a:tbl>
              <a:tblPr/>
              <a:tblGrid>
                <a:gridCol w="1174680"/>
                <a:gridCol w="1038240"/>
                <a:gridCol w="930240"/>
                <a:gridCol w="978120"/>
                <a:gridCol w="766800"/>
                <a:gridCol w="1160280"/>
                <a:gridCol w="784440"/>
                <a:gridCol w="784080"/>
                <a:gridCol w="78408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11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3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S-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76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ld.5-floor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-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Pre-lab 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49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Calibri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331200"/>
            <a:ext cx="345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ndalus"/>
                <a:ea typeface="Andalus"/>
              </a:rPr>
              <a:t>Eman Alsheh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floor-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58040" y="5214960"/>
            <a:ext cx="485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1857240" y="36432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1857240" y="4429080"/>
            <a:ext cx="486000" cy="47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5572080" y="36432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SONY</cp:lastModifiedBy>
  <dcterms:modified xsi:type="dcterms:W3CDTF">2014-09-05T09:36:14Z</dcterms:modified>
  <cp:revision>11</cp:revision>
  <dc:subject/>
  <dc:title>Slide 1</dc:title>
</cp:coreProperties>
</file>