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960B-8DEB-48F6-94C1-B9F64369D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B4FF-97AA-41C9-AB9C-8954D44F6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C2A4-7B02-4AF9-BC8E-5347A0732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679F-5F65-4CC9-BA59-D6FEA10C2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4F19-3441-4625-B78F-A43CECF98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F7BD-9BB3-4CD8-8A29-763243EA4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9F85-8B1F-4738-B4E3-09B7C1770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C908-7709-46DA-BE1C-CC74513FA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BF6C-26AF-435B-8BCF-17B59BA0E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0F6C-A191-4915-B6CF-19DBC93E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8CF3-824D-42A8-B7CB-D56F2E73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4B52-10E4-4216-B39B-B4CAD627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6DD55-C5C9-46BB-A498-8688A0F922EA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57120" y="1643040"/>
          <a:ext cx="8400960" cy="4173480"/>
        </p:xfrm>
        <a:graphic>
          <a:graphicData uri="http://schemas.openxmlformats.org/drawingml/2006/table">
            <a:tbl>
              <a:tblPr/>
              <a:tblGrid>
                <a:gridCol w="1174680"/>
                <a:gridCol w="1038240"/>
                <a:gridCol w="930240"/>
                <a:gridCol w="978120"/>
                <a:gridCol w="766800"/>
                <a:gridCol w="1160280"/>
                <a:gridCol w="784440"/>
                <a:gridCol w="784080"/>
                <a:gridCol w="784080"/>
              </a:tblGrid>
              <a:tr h="668880"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8-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9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10-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11-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12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1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2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3-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511920"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Sund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92480"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Mond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gridSpan="3"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Calibri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Calibri"/>
                        </a:rPr>
                        <a:t>Pre-lab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950760"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Tuesd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gridSpan="3"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Calibri"/>
                        </a:rPr>
                        <a:t>Pre-lab 3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gridSpan="3"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Calibri"/>
                        </a:rPr>
                        <a:t>32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Calibri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Calibri"/>
                        </a:rPr>
                        <a:t>B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Calibri"/>
                        </a:rPr>
                        <a:t>Bld.5-floor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Calibri"/>
                        </a:rPr>
                        <a:t>S-1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50760"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Wednesd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gridSpan="4"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Calibri"/>
                        </a:rPr>
                        <a:t>Pre-lab 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10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B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Bld.5-floor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S-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598680"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Thursd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gridSpan="3"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Calibri"/>
                        </a:rPr>
                        <a:t>Pre-lab 3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Calibri"/>
                        </a:rPr>
                        <a:t>497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Calibri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Calibri"/>
                        </a:rPr>
                        <a:t>B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2" name="Picture 4" descr="BioLogo2small.png"/>
          <p:cNvPicPr/>
          <p:nvPr/>
        </p:nvPicPr>
        <p:blipFill>
          <a:blip r:embed="rId1"/>
          <a:stretch/>
        </p:blipFill>
        <p:spPr>
          <a:xfrm>
            <a:off x="395280" y="189000"/>
            <a:ext cx="1517760" cy="1368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3" name="Rectangle 6"/>
          <p:cNvSpPr/>
          <p:nvPr/>
        </p:nvSpPr>
        <p:spPr>
          <a:xfrm>
            <a:off x="2843280" y="331200"/>
            <a:ext cx="345744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2d050"/>
                </a:solidFill>
                <a:latin typeface="Andalus"/>
                <a:ea typeface="Andalus"/>
              </a:rPr>
              <a:t>Eman Alsheh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biochemistry department</a:t>
            </a:r>
            <a:r>
              <a:rPr b="0" lang="en-US" sz="12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building  5 – 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ndalus"/>
                <a:ea typeface="Andalus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 floor- 2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ndalus"/>
                <a:ea typeface="Andalus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semester 1435-14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468360" y="5922360"/>
            <a:ext cx="37796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ndalus"/>
                <a:ea typeface="Andalus"/>
              </a:rPr>
              <a:t>Deputy Head of biochemistry depar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ndalus"/>
                <a:ea typeface="Andalus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ndalus"/>
                <a:ea typeface="Andalus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ndalus"/>
                <a:ea typeface="Andalus"/>
              </a:rPr>
              <a:t>Dr. Sooad Al-Daihan</a:t>
            </a:r>
            <a:r>
              <a:rPr b="0" lang="en-US" sz="8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C:\Program Files\Microsoft Office\MEDIA\CAGCAT10\j0292982.wmf"/>
          <p:cNvPicPr/>
          <p:nvPr/>
        </p:nvPicPr>
        <p:blipFill>
          <a:blip r:embed="rId2"/>
          <a:stretch/>
        </p:blipFill>
        <p:spPr>
          <a:xfrm>
            <a:off x="7358040" y="5214960"/>
            <a:ext cx="485640" cy="477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C:\Program Files\Microsoft Office\MEDIA\CAGCAT10\j0292982.wmf"/>
          <p:cNvPicPr/>
          <p:nvPr/>
        </p:nvPicPr>
        <p:blipFill>
          <a:blip r:embed="rId3"/>
          <a:stretch/>
        </p:blipFill>
        <p:spPr>
          <a:xfrm>
            <a:off x="1857240" y="3643200"/>
            <a:ext cx="486000" cy="478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C:\Program Files\Microsoft Office\MEDIA\CAGCAT10\j0292982.wmf"/>
          <p:cNvPicPr/>
          <p:nvPr/>
        </p:nvPicPr>
        <p:blipFill>
          <a:blip r:embed="rId4"/>
          <a:stretch/>
        </p:blipFill>
        <p:spPr>
          <a:xfrm>
            <a:off x="1857240" y="4429080"/>
            <a:ext cx="486000" cy="477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C:\Program Files\Microsoft Office\MEDIA\CAGCAT10\j0292982.wmf"/>
          <p:cNvPicPr/>
          <p:nvPr/>
        </p:nvPicPr>
        <p:blipFill>
          <a:blip r:embed="rId5"/>
          <a:stretch/>
        </p:blipFill>
        <p:spPr>
          <a:xfrm>
            <a:off x="5572080" y="3643200"/>
            <a:ext cx="486000" cy="4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31T13:02:05Z</dcterms:created>
  <dc:creator>Sooad</dc:creator>
  <dc:description/>
  <dc:language>en-US</dc:language>
  <cp:lastModifiedBy>SONY</cp:lastModifiedBy>
  <dcterms:modified xsi:type="dcterms:W3CDTF">2014-09-05T09:36:14Z</dcterms:modified>
  <cp:revision>11</cp:revision>
  <dc:subject/>
  <dc:title>Slide 1</dc:title>
</cp:coreProperties>
</file>