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042-6C15-4E0C-A03C-B954A779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3DE-C5E8-4BBA-BEDC-BA366C39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5EA-4D96-4208-B109-F06EC958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382-1A5D-4974-9D50-2EF95EDD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88B-5152-4DE3-B68E-412AC502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C8A-A52A-417D-92EA-9AA5896D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B4F-A1DD-49A8-9FE2-383D224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491-18DC-45C9-B59F-3C71D430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01B-59CA-4CEB-A392-BE7A5094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BAC-7B4C-4513-AA68-B251D7A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048-E0EA-4750-895E-E74969FE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D6C-817F-4B4D-AF36-5803D5F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B8A7-088E-489A-AC05-B2813621AF1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57120" y="1643040"/>
          <a:ext cx="8400960" cy="4173480"/>
        </p:xfrm>
        <a:graphic>
          <a:graphicData uri="http://schemas.openxmlformats.org/drawingml/2006/table">
            <a:tbl>
              <a:tblPr/>
              <a:tblGrid>
                <a:gridCol w="1174680"/>
                <a:gridCol w="1038240"/>
                <a:gridCol w="930240"/>
                <a:gridCol w="978120"/>
                <a:gridCol w="766800"/>
                <a:gridCol w="1160280"/>
                <a:gridCol w="784440"/>
                <a:gridCol w="784080"/>
                <a:gridCol w="784080"/>
              </a:tblGrid>
              <a:tr h="6688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8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119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u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32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S-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-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49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BioLogo2small.png"/>
          <p:cNvPicPr/>
          <p:nvPr/>
        </p:nvPicPr>
        <p:blipFill>
          <a:blip r:embed="rId1"/>
          <a:stretch/>
        </p:blipFill>
        <p:spPr>
          <a:xfrm>
            <a:off x="395280" y="189000"/>
            <a:ext cx="15177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843280" y="331200"/>
            <a:ext cx="3457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ndalus"/>
                <a:ea typeface="Andalus"/>
              </a:rPr>
              <a:t>Eman Alsheh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iochemistry department</a:t>
            </a:r>
            <a:r>
              <a:rPr b="0" lang="en-US" sz="1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uilding  5 –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floor-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emester 1435-1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8360" y="5922360"/>
            <a:ext cx="3779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eputy Head of biochemistry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r. Sooad Al-Daihan</a:t>
            </a:r>
            <a:r>
              <a:rPr b="0" lang="en-US" sz="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7358040" y="5214960"/>
            <a:ext cx="485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Program Files\Microsoft Office\MEDIA\CAGCAT10\j0292982.wmf"/>
          <p:cNvPicPr/>
          <p:nvPr/>
        </p:nvPicPr>
        <p:blipFill>
          <a:blip r:embed="rId3"/>
          <a:stretch/>
        </p:blipFill>
        <p:spPr>
          <a:xfrm>
            <a:off x="1857240" y="3643200"/>
            <a:ext cx="48600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Program Files\Microsoft Office\MEDIA\CAGCAT10\j0292982.wmf"/>
          <p:cNvPicPr/>
          <p:nvPr/>
        </p:nvPicPr>
        <p:blipFill>
          <a:blip r:embed="rId4"/>
          <a:stretch/>
        </p:blipFill>
        <p:spPr>
          <a:xfrm>
            <a:off x="1857240" y="442908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Program Files\Microsoft Office\MEDIA\CAGCAT10\j0292982.wmf"/>
          <p:cNvPicPr/>
          <p:nvPr/>
        </p:nvPicPr>
        <p:blipFill>
          <a:blip r:embed="rId5"/>
          <a:stretch/>
        </p:blipFill>
        <p:spPr>
          <a:xfrm>
            <a:off x="5572080" y="3643200"/>
            <a:ext cx="48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3:02:05Z</dcterms:created>
  <dc:creator>Sooad</dc:creator>
  <dc:description/>
  <dc:language>en-US</dc:language>
  <cp:lastModifiedBy>SONY</cp:lastModifiedBy>
  <dcterms:modified xsi:type="dcterms:W3CDTF">2014-09-05T09:36:14Z</dcterms:modified>
  <cp:revision>11</cp:revision>
  <dc:subject/>
  <dc:title>Slide 1</dc:title>
</cp:coreProperties>
</file>