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391-71B0-467D-9EAD-0937CAAA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FE2-5094-4864-9C11-0C341B65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B8E-507E-4963-A4BE-C8486893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629-428C-4913-9548-AF2A9359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503-FE0B-45E1-BB3F-9FC86442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C2B-452B-4AA3-BE42-3DF36870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F47-EDEA-401F-9AD5-D7548C1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E7E-C68E-4AE0-B4E6-3D553D42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FE6-6537-411B-840C-B52D62CC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EE7-D64E-4A09-8F2C-0F8FBC1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B76-3DFD-48B0-8528-EFF044B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040-CA1F-4AF7-B13C-84AB78CC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FCF3-AE6A-413B-8B5F-07BC50F414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164304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21496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6432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4290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36432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5T09:36:14Z</dcterms:modified>
  <cp:revision>11</cp:revision>
  <dc:subject/>
  <dc:title>Slide 1</dc:title>
</cp:coreProperties>
</file>