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247-FD8B-4415-B708-D9841D19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D7E-C365-4FB8-A7EA-4EEF4050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5B9A-64F2-4DFC-8342-30C7C770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3468-66D5-4DB6-9753-A931AFBA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C29-8BF2-49A3-BE6C-07A780A0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7D4E-B396-4AA4-9CBE-F324F58E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E30-E32A-41EC-B4BF-B91FBBF7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659-E2FF-482E-8C9F-3166FD6E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DEF-A5C8-4A9E-BDFC-42244BBB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9011-3EFB-4F52-BA8E-7A3DA447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8B52-6865-4226-B7C3-194E5D87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59B2-C3CF-4922-ACBC-807744AB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EC39-0733-4D40-B844-D383D0E961E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57120" y="2000160"/>
          <a:ext cx="8400960" cy="4173480"/>
        </p:xfrm>
        <a:graphic>
          <a:graphicData uri="http://schemas.openxmlformats.org/drawingml/2006/table">
            <a:tbl>
              <a:tblPr/>
              <a:tblGrid>
                <a:gridCol w="1174680"/>
                <a:gridCol w="1038240"/>
                <a:gridCol w="930240"/>
                <a:gridCol w="978120"/>
                <a:gridCol w="766800"/>
                <a:gridCol w="1160280"/>
                <a:gridCol w="784440"/>
                <a:gridCol w="784080"/>
                <a:gridCol w="784080"/>
              </a:tblGrid>
              <a:tr h="6688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8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0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2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3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51156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Sun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Mon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Tue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 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32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Bld.5-floo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S-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076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Wedne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4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 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0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ld.5-floo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S-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Thur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 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49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Picture 4" descr="BioLogo2small.png"/>
          <p:cNvPicPr/>
          <p:nvPr/>
        </p:nvPicPr>
        <p:blipFill>
          <a:blip r:embed="rId1"/>
          <a:stretch/>
        </p:blipFill>
        <p:spPr>
          <a:xfrm>
            <a:off x="395280" y="189000"/>
            <a:ext cx="151776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Rectangle 6"/>
          <p:cNvSpPr/>
          <p:nvPr/>
        </p:nvSpPr>
        <p:spPr>
          <a:xfrm>
            <a:off x="2843280" y="331200"/>
            <a:ext cx="3457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ndalus"/>
                <a:ea typeface="Andalus"/>
              </a:rPr>
              <a:t>Eman Alsheh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biochemistry department</a:t>
            </a:r>
            <a:r>
              <a:rPr b="0" lang="en-US" sz="1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building  5 –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floor- 2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emester 1435-14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500040" y="6428880"/>
            <a:ext cx="378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Deputy Head of biochemistry depart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Dr. Sooad Al-Daihan</a:t>
            </a:r>
            <a:r>
              <a:rPr b="0" lang="en-US" sz="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Program Files\Microsoft Office\MEDIA\CAGCAT10\j0292982.wmf"/>
          <p:cNvPicPr/>
          <p:nvPr/>
        </p:nvPicPr>
        <p:blipFill>
          <a:blip r:embed="rId2"/>
          <a:stretch/>
        </p:blipFill>
        <p:spPr>
          <a:xfrm>
            <a:off x="7358040" y="5594400"/>
            <a:ext cx="485640" cy="477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Program Files\Microsoft Office\MEDIA\CAGCAT10\j0292982.wmf"/>
          <p:cNvPicPr/>
          <p:nvPr/>
        </p:nvPicPr>
        <p:blipFill>
          <a:blip r:embed="rId3"/>
          <a:stretch/>
        </p:blipFill>
        <p:spPr>
          <a:xfrm>
            <a:off x="1857240" y="3951360"/>
            <a:ext cx="486000" cy="477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Program Files\Microsoft Office\MEDIA\CAGCAT10\j0292982.wmf"/>
          <p:cNvPicPr/>
          <p:nvPr/>
        </p:nvPicPr>
        <p:blipFill>
          <a:blip r:embed="rId4"/>
          <a:stretch/>
        </p:blipFill>
        <p:spPr>
          <a:xfrm>
            <a:off x="1857240" y="4808520"/>
            <a:ext cx="486000" cy="477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Program Files\Microsoft Office\MEDIA\CAGCAT10\j0292982.wmf"/>
          <p:cNvPicPr/>
          <p:nvPr/>
        </p:nvPicPr>
        <p:blipFill>
          <a:blip r:embed="rId5"/>
          <a:stretch/>
        </p:blipFill>
        <p:spPr>
          <a:xfrm>
            <a:off x="5572080" y="4000680"/>
            <a:ext cx="486000" cy="477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1" descr="QRCode"/>
          <p:cNvPicPr/>
          <p:nvPr/>
        </p:nvPicPr>
        <p:blipFill>
          <a:blip r:embed="rId6"/>
          <a:stretch/>
        </p:blipFill>
        <p:spPr>
          <a:xfrm>
            <a:off x="6405480" y="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13:02:05Z</dcterms:created>
  <dc:creator>Sooad</dc:creator>
  <dc:description/>
  <dc:language>en-US</dc:language>
  <cp:lastModifiedBy>SONY</cp:lastModifiedBy>
  <dcterms:modified xsi:type="dcterms:W3CDTF">2014-09-06T11:06:46Z</dcterms:modified>
  <cp:revision>14</cp:revision>
  <dc:subject/>
  <dc:title>Slide 1</dc:title>
</cp:coreProperties>
</file>