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5B8-F65D-4B2B-9809-5A688EC3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549-F75E-489A-99A8-9D7B6B6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F37-C7C3-4DC6-9996-622718BD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CB3-CC6A-48CA-BD66-37A03C66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BD3-0347-472A-9A1F-C5D4CAA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23B-2264-4691-BD53-7CC5C72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4A4-9DE5-47E2-9B34-9C5F6E73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50A-C65C-4BDD-BB4F-AADF8803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5D7-A1CF-4CAF-9A39-06BC0A9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6CB-9CE9-4104-AF88-BA89007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2BB-C73E-4FA6-B264-386757A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433-D9BB-40B9-BCF1-FF21CBA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B78-E2F5-4576-8A3B-20837E6623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200016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00040" y="6428880"/>
            <a:ext cx="37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59440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95136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80852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40006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QRCode"/>
          <p:cNvPicPr/>
          <p:nvPr/>
        </p:nvPicPr>
        <p:blipFill>
          <a:blip r:embed="rId6"/>
          <a:stretch/>
        </p:blipFill>
        <p:spPr>
          <a:xfrm>
            <a:off x="6405480" y="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6T11:06:46Z</dcterms:modified>
  <cp:revision>14</cp:revision>
  <dc:subject/>
  <dc:title>Slide 1</dc:title>
</cp:coreProperties>
</file>