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7"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lt;date/time&gt;</a:t>
            </a:r>
            <a:endParaRPr b="0" lang="en-US" sz="1200" spc="-1" strike="noStrike">
              <a:solidFill>
                <a:srgbClr val="000000"/>
              </a:solidFill>
              <a:latin typeface="Constantia"/>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eece1"/>
                </a:solidFill>
                <a:latin typeface="Calibri"/>
              </a:rPr>
              <a:t>Click to move the slide</a:t>
            </a:r>
            <a:endParaRPr b="0" lang="en-US" sz="5000" spc="-1" strike="noStrike">
              <a:solidFill>
                <a:srgbClr val="eeece1"/>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01"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CB009-5150-4B2B-9F09-ABCCB7C2A446}" type="slidenum">
              <a:rPr b="0" lang="ar-SA" sz="1200" spc="-1" strike="noStrike">
                <a:solidFill>
                  <a:srgbClr val="000000"/>
                </a:solidFill>
                <a:latin typeface="Calibri"/>
                <a:ea typeface="Arial"/>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072E-713E-4DFB-BFAF-299FB7D55990}"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7AD31-EC32-4460-98E5-FB4EE34CF541}"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0209-75E3-402E-AD10-F4696FCD890A}"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047EA-8BF9-4FCB-9207-16A1E37E0933}"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1BBE5-0D5F-4743-B25F-8EA6A26C396E}"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A836A-F221-4C5A-AE44-3FF3A3E5BDC6}"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D7C0-FC2C-4CE6-858A-342658191742}"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289A3-0432-497B-9000-80DC5A075A1E}"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09C45-2BAD-469C-BA28-56FA4180EB06}"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28456-1C14-4C6D-AEA4-AEAB84F52995}"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CE2DB-0928-456A-AE68-51B70120DEE5}"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D7695-9369-4B2D-A4B7-C467DF6CE8D7}"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A953-6750-4EF7-AA2A-C48314FB1550}"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16EE6-2471-4E5C-9C59-8F2928949F2B}"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E2CA6-EF9E-4F77-B201-30849DBF982C}"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9A57A-E597-462A-9802-7F7E3F108032}"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42618-D77B-463A-A4AB-1D3FFCF39020}"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28B0F-5A5A-4B2A-AE14-2836A8C68A3F}"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35FD-346F-486B-B81B-BC7D31EAA42C}"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1AAFE-5F7C-4F8F-BB41-D137F87B3F99}"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CE62-332C-4166-98BA-1CA99F81C609}"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A54C0-7C9E-439F-AAAE-D5C82780F4CA}"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F14B4-BCE3-43E9-A0D8-0340EF94673F}"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1CB1D-171C-4514-B7F8-00D02B9C9603}"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45D1-A6F7-4BD0-B6FA-9216E77D0F2C}"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65EFD-1DA6-4576-A0FE-2092E919A429}" type="slidenum">
              <a:rPr b="0" lang="ar-SA" sz="1200" spc="-1" strike="noStrike">
                <a:solidFill>
                  <a:srgbClr val="ffffff"/>
                </a:solidFill>
                <a:latin typeface="Calibri"/>
                <a:ea typeface="Arial"/>
              </a:rPr>
              <a:t>&lt;number&gt;</a:t>
            </a:fld>
            <a:endParaRPr b="0" lang="en-US" sz="1200" spc="-1" strike="noStrike">
              <a:solidFill>
                <a:srgbClr val="ffffff"/>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0F38B-57FE-4907-B4DC-05ECB4180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BA869-D684-4418-918A-4A611D928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4F39A-5AB0-4F32-8F79-72A391EE1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C2C4C-C8E8-4AFA-9CE4-32EFDC8AD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2027C3-9D68-46FB-9B8E-B2AF2EE01F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6C965-9FF1-43A1-85C3-15E0C3D78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27748-327D-447D-A6F2-F529BF037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14DA4-1000-4812-BDBE-B5F32C495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7013D-6009-4231-9162-11578ADA7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19005-4319-4B87-A5AF-CCB7AE265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B11AC-308C-40B0-93DD-ED7A98F94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58051-F326-457D-80C5-92E3F7FB2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980A6-4AAD-4EAA-A2A6-C0F49ADAD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87087-CE3E-44AD-AFA6-EF781C219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16754-BF71-4A17-BD9D-63FF0511A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2F93BC-23E7-47B1-8045-3B189E3FF9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FC812D-834E-4384-8C96-B86001F296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CF80C-2560-4024-B156-38924D86F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A3CCD-7159-4A55-AFF4-DD76DE491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0A115-02EB-40C4-B3F9-0822591AB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7E2AC-557C-47C2-ADCE-E4E76D2E5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EB46A-7B1B-421D-84E6-565958437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73860-786C-4B28-9ECA-AB3613AFE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7C229-E44C-4418-AD77-EA1E56483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eece1"/>
                </a:solidFill>
                <a:latin typeface="Calibri"/>
              </a:rPr>
              <a:t>Click to edit the title text format</a:t>
            </a:r>
            <a:endParaRPr b="0" lang="en-US" sz="5000" spc="-1" strike="noStrike">
              <a:solidFill>
                <a:srgbClr val="eeece1"/>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3e1d7"/>
                </a:solidFill>
                <a:latin typeface="Constanti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3e1d7"/>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3e1d7"/>
                </a:solidFill>
                <a:latin typeface="Constanti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AFE40-0BAD-4C21-8B62-C8198426DB2E}" type="slidenum">
              <a:rPr b="0" lang="ar-SA" sz="1200" spc="-1" strike="noStrike">
                <a:solidFill>
                  <a:srgbClr val="e3e1d7"/>
                </a:solidFill>
                <a:latin typeface="Constantia"/>
              </a:rPr>
              <a:t>&lt;number&gt;</a:t>
            </a:fld>
            <a:endParaRPr b="0" lang="en-US" sz="1200" spc="-1" strike="noStrike">
              <a:solidFill>
                <a:srgbClr val="000000"/>
              </a:solidFill>
              <a:latin typeface="Constantia"/>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nvGrpSpPr>
            <p:cNvPr id="11" name="شكل حر 12"/>
            <p:cNvGrpSpPr/>
            <p:nvPr/>
          </p:nvGrpSpPr>
          <p:grpSpPr>
            <a:xfrm>
              <a:off x="-19080" y="248040"/>
              <a:ext cx="9181080" cy="565200"/>
              <a:chOff x="-19080" y="248040"/>
              <a:chExt cx="9181080" cy="565200"/>
            </a:xfrm>
          </p:grpSpPr>
          <p:pic>
            <p:nvPicPr>
              <p:cNvPr id="12" name="شكل حر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مستطيل ذو زاوية واحدة مخدوشة ودائرية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1" name="مثلث قائم الزاوية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2" name="شكل حر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3" name="شكل حر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eece1"/>
                </a:solidFill>
                <a:latin typeface="Calibri"/>
              </a:rPr>
              <a:t>Click to edit the title text format</a:t>
            </a:r>
            <a:endParaRPr b="0" lang="en-US" sz="5000" spc="-1" strike="noStrike">
              <a:solidFill>
                <a:srgbClr val="eeece1"/>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3e1d7"/>
                </a:solidFill>
                <a:latin typeface="Constanti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3e1d7"/>
                </a:solidFill>
                <a:latin typeface="Constantia"/>
              </a:rPr>
              <a:t>&lt;date/time&gt;</a:t>
            </a:r>
            <a:endParaRPr b="0" lang="en-US" sz="1200" spc="-1" strike="noStrike">
              <a:solidFill>
                <a:srgbClr val="000000"/>
              </a:solidFill>
              <a:latin typeface="Constantia"/>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3e1d7"/>
                </a:solidFill>
                <a:latin typeface="Constanti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F625-2201-4C7C-83D5-BD33B06909B1}" type="slidenum">
              <a:rPr b="0" lang="ar-SA" sz="1200" spc="-1" strike="noStrike">
                <a:solidFill>
                  <a:srgbClr val="e3e1d7"/>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عنوان 1" descr=""/>
          <p:cNvPicPr/>
          <p:nvPr/>
        </p:nvPicPr>
        <p:blipFill>
          <a:blip r:embed="rId1"/>
          <a:stretch/>
        </p:blipFill>
        <p:spPr>
          <a:xfrm>
            <a:off x="530280" y="1365120"/>
            <a:ext cx="8302680" cy="1901880"/>
          </a:xfrm>
          <a:prstGeom prst="rect">
            <a:avLst/>
          </a:prstGeom>
          <a:ln w="0">
            <a:noFill/>
          </a:ln>
        </p:spPr>
      </p:pic>
      <p:sp>
        <p:nvSpPr>
          <p:cNvPr id="1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                      المنهج النمائى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eeece1"/>
                </a:solidFill>
                <a:latin typeface="Calibri"/>
              </a:rPr>
              <a:t>ملامح اضافية للنمو الحركى </a:t>
            </a:r>
            <a:endParaRPr b="0" lang="en-US" sz="5000" spc="-1" strike="noStrike">
              <a:solidFill>
                <a:srgbClr val="eeece1"/>
              </a:solidFill>
              <a:latin typeface="Calibri"/>
            </a:endParaRPr>
          </a:p>
        </p:txBody>
      </p:sp>
      <p:sp>
        <p:nvSpPr>
          <p:cNvPr id="121"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gn="r" rtl="1">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معدة الاطفال من </a:t>
            </a:r>
            <a:r>
              <a:rPr b="0" lang="ar-SA" sz="2400" spc="-1" strike="noStrike">
                <a:solidFill>
                  <a:srgbClr val="ffffff"/>
                </a:solidFill>
                <a:latin typeface="Constantia"/>
              </a:rPr>
              <a:t>4</a:t>
            </a:r>
            <a:r>
              <a:rPr b="0" lang="ar-SA" sz="2400" spc="-1" strike="noStrike">
                <a:solidFill>
                  <a:srgbClr val="ffffff"/>
                </a:solidFill>
                <a:latin typeface="Constantia"/>
              </a:rPr>
              <a:t>-</a:t>
            </a:r>
            <a:r>
              <a:rPr b="0" lang="ar-SA" sz="2400" spc="-1" strike="noStrike">
                <a:solidFill>
                  <a:srgbClr val="ffffff"/>
                </a:solidFill>
                <a:latin typeface="Constantia"/>
              </a:rPr>
              <a:t>6</a:t>
            </a:r>
            <a:r>
              <a:rPr b="0" lang="ar-SA" sz="2400" spc="-1" strike="noStrike">
                <a:solidFill>
                  <a:srgbClr val="ffffff"/>
                </a:solidFill>
                <a:latin typeface="Constantia"/>
              </a:rPr>
              <a:t> سنوات نصف سعة معدة البالغ و لكن احتياجاتهم من السعرات الحرارية تزيد على نصف احتياجات شخص بالغ مما يعنى ان الاطفال بحاجة لتناول الطعام بعدد مرات اكثر من الشخص البالغ و لكن بكميات اقل فى الوجبة الواحدة </a:t>
            </a:r>
            <a:endParaRPr b="0" lang="en-US" sz="2400" spc="-1" strike="noStrike">
              <a:solidFill>
                <a:srgbClr val="ffffff"/>
              </a:solidFill>
              <a:latin typeface="Constantia"/>
            </a:endParaRPr>
          </a:p>
          <a:p>
            <a:pPr marL="253440" indent="-253440" algn="r" rtl="1">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يجب تشجيع الاطفال على تناول اطعمة متنوعة الا ان ذلك لا يعنى ارغامهم على تناول طعام معين فهذا يؤدى لسؤ العلاقة بين الطفل و البالغ كما قد تنجم عنه مشكلات فى التغذية </a:t>
            </a:r>
            <a:endParaRPr b="0" lang="en-US" sz="2400" spc="-1" strike="noStrike">
              <a:solidFill>
                <a:srgbClr val="ffffff"/>
              </a:solidFill>
              <a:latin typeface="Constantia"/>
            </a:endParaRPr>
          </a:p>
          <a:p>
            <a:pPr marL="253440" indent="-253440" algn="r" rtl="1">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معظم الاطفال يكونون قد اتموا التدريب على ضبط الاخراج عند التحاقهم بالروضة و بالتالى فانهم سوف يعلنون رغبتهم على تفريغ امعائهم عندما يشعرون بالرغبة فى ذلك , الا انه من المفيد ان يتضمن الجدول اليومى مواعيد ثابتة للذهاب للمرحاض بشكل روتينى فبعض الاطفال قد ينشغلون بالحماس فى اللعب عن الانتباه لاحتياجاتهم الفسيولوجية , مما ينجم عنه ان يبللوا ثيابهم , و حين يحدث ذلك يجب التعامل مع الامر بصورة عادية وو استبدال ثياب الطفل دون توبيخه , فهذا الامر قد يحدث من حين لآخر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eeece1"/>
                </a:solidFill>
                <a:latin typeface="Calibri"/>
              </a:rPr>
              <a:t>دور المعلمة فى الارتقاء بالنمو الحركى </a:t>
            </a:r>
            <a:endParaRPr b="0" lang="en-US" sz="5000" spc="-1" strike="noStrike">
              <a:solidFill>
                <a:srgbClr val="eeece1"/>
              </a:solidFill>
              <a:latin typeface="Calibri"/>
            </a:endParaRPr>
          </a:p>
        </p:txBody>
      </p:sp>
      <p:sp>
        <p:nvSpPr>
          <p:cNvPr id="123" name=""/>
          <p:cNvSpPr txBox="1"/>
          <p:nvPr/>
        </p:nvSpPr>
        <p:spPr>
          <a:xfrm>
            <a:off x="457200" y="1934640"/>
            <a:ext cx="8229600" cy="4389480"/>
          </a:xfrm>
          <a:prstGeom prst="rect">
            <a:avLst/>
          </a:prstGeom>
          <a:noFill/>
          <a:ln w="0">
            <a:noFill/>
          </a:ln>
        </p:spPr>
        <p:txBody>
          <a:bodyPr lIns="90000" rIns="90000" tIns="46800" bIns="46800" anchor="t">
            <a:normAutofit fontScale="81000"/>
          </a:bodyPr>
          <a:p>
            <a:pPr marL="220680" indent="-22068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تاحة فرص متنوعة للخبرات الحركية لكى تيسر من نمو المهارات الحركية الكبيرة و الصغيرة </a:t>
            </a:r>
            <a:endParaRPr b="0" lang="en-US" sz="2600" spc="-1" strike="noStrike">
              <a:solidFill>
                <a:srgbClr val="ffffff"/>
              </a:solidFill>
              <a:latin typeface="Constantia"/>
            </a:endParaRPr>
          </a:p>
          <a:p>
            <a:pPr marL="220680" indent="-22068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جب ان لاتكون برامج التربية الحركية  محددة البناء بشدة كما ان الالعاب التنافسية التى تعتمد على تكوين فريقين ليست محبذة نظرا لان الاطفال ليسوا ناضجين بشكل كاف للاشتراك فى الالعاب ذات القواعد </a:t>
            </a:r>
            <a:endParaRPr b="0" lang="en-US" sz="2600" spc="-1" strike="noStrike">
              <a:solidFill>
                <a:srgbClr val="ffffff"/>
              </a:solidFill>
              <a:latin typeface="Constantia"/>
            </a:endParaRPr>
          </a:p>
          <a:p>
            <a:pPr marL="220680" indent="-22068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توفير الخامات و الاجهزة الملائمة التى يمكنهم ان يستخدموها فى لعبهم التلقائىبحيث يقرروا انشطتهم بأنفسهم </a:t>
            </a:r>
            <a:endParaRPr b="0" lang="en-US" sz="2600" spc="-1" strike="noStrike">
              <a:solidFill>
                <a:srgbClr val="ffffff"/>
              </a:solidFill>
              <a:latin typeface="Constantia"/>
            </a:endParaRPr>
          </a:p>
          <a:p>
            <a:pPr marL="220680" indent="-22068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بالامكان ان تخطط المعلمة لبعض الانشطة التى تيسر المهارات الحركية كالحركة و الرقص و مشاريع الفن الابتكارى و انشطة العلوم و الطهى </a:t>
            </a:r>
            <a:endParaRPr b="0" lang="en-US" sz="2600" spc="-1" strike="noStrike">
              <a:solidFill>
                <a:srgbClr val="ffffff"/>
              </a:solidFill>
              <a:latin typeface="Constantia"/>
            </a:endParaRPr>
          </a:p>
          <a:p>
            <a:pPr marL="220680" indent="-22068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تراعى الاختلافات بين الاطفال فى معدلات النمو و التى تتجلى فى عدم اقبال بعض الاطفال على الانشطة التى تفوق قدراتهم فى هذه المرحلة  </a:t>
            </a:r>
            <a:endParaRPr b="0" lang="en-US" sz="2600" spc="-1" strike="noStrike">
              <a:solidFill>
                <a:srgbClr val="ffffff"/>
              </a:solidFill>
              <a:latin typeface="Constantia"/>
            </a:endParaRPr>
          </a:p>
          <a:p>
            <a:pPr marL="220680" indent="-22068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eeece1"/>
                </a:solidFill>
                <a:latin typeface="Calibri"/>
              </a:rPr>
              <a:t>ثانيا النمو الاجتماعى و الانفعالى </a:t>
            </a:r>
            <a:endParaRPr b="0" lang="en-US" sz="5000" spc="-1" strike="noStrike">
              <a:solidFill>
                <a:srgbClr val="eeece1"/>
              </a:solidFill>
              <a:latin typeface="Calibri"/>
            </a:endParaRPr>
          </a:p>
        </p:txBody>
      </p:sp>
      <p:sp>
        <p:nvSpPr>
          <p:cNvPr id="125" name=""/>
          <p:cNvSpPr txBox="1"/>
          <p:nvPr/>
        </p:nvSpPr>
        <p:spPr>
          <a:xfrm>
            <a:off x="457200" y="1934640"/>
            <a:ext cx="8229600" cy="4389480"/>
          </a:xfrm>
          <a:prstGeom prst="rect">
            <a:avLst/>
          </a:prstGeom>
          <a:noFill/>
          <a:ln w="0">
            <a:noFill/>
          </a:ln>
        </p:spPr>
        <p:txBody>
          <a:bodyPr lIns="90000" rIns="90000" tIns="46800" bIns="46800" anchor="t">
            <a:normAutofit fontScale="92000"/>
          </a:bodyPr>
          <a:p>
            <a:pPr marL="250920" indent="-25092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تؤثر الجوانب الانفعالية و العاطفية على كافة جوانب النمو الاخرى و لذلك من الهام فهم الكيفية التى تنمو و تتطور بها عواطف و انفعالات الاطفال </a:t>
            </a:r>
            <a:endParaRPr b="0" lang="en-US" sz="2600" spc="-1" strike="noStrike">
              <a:solidFill>
                <a:srgbClr val="ffffff"/>
              </a:solidFill>
              <a:latin typeface="Constantia"/>
            </a:endParaRPr>
          </a:p>
          <a:p>
            <a:pPr marL="250920" indent="-25092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لا ينفصل نمو انفعالات الاطفال عن نموهم الاجتماعى فعندما يصبحون اقل تمركزا حول ذواتهم يصبحون اكثر قدرة على فهم الآخرين و التعامل معهم و من ثم اتساع محيطهم الاجتماعى و تزداد الفروق الفردية بينهم فيما يتعلق بالشخصية اكثر وضوحا </a:t>
            </a:r>
            <a:endParaRPr b="0" lang="en-US" sz="2600" spc="-1" strike="noStrike">
              <a:solidFill>
                <a:srgbClr val="ffffff"/>
              </a:solidFill>
              <a:latin typeface="Constantia"/>
            </a:endParaRPr>
          </a:p>
          <a:p>
            <a:pPr marL="250920" indent="-25092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وصف اريك اريكسون مرحلة ما قبل المدرسة بانها مرحلة المبادرة(توليد افكار جديدة ) فى مقابل الشعور بالذنب </a:t>
            </a:r>
            <a:endParaRPr b="0" lang="en-US" sz="2600" spc="-1" strike="noStrike">
              <a:solidFill>
                <a:srgbClr val="ffffff"/>
              </a:solidFill>
              <a:latin typeface="Constantia"/>
            </a:endParaRPr>
          </a:p>
          <a:p>
            <a:pPr marL="250920" indent="-25092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مكننا ملاحظة  ادلة على تطور الضمير الخلقى للطفل , الا ان ذلك الضمير لا يستقر قبل سنوات من هذه المرحلة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27" name=""/>
          <p:cNvSpPr txBox="1"/>
          <p:nvPr/>
        </p:nvSpPr>
        <p:spPr>
          <a:xfrm>
            <a:off x="457200" y="1934640"/>
            <a:ext cx="8229600" cy="4389480"/>
          </a:xfrm>
          <a:prstGeom prst="rect">
            <a:avLst/>
          </a:prstGeom>
          <a:noFill/>
          <a:ln w="0">
            <a:noFill/>
          </a:ln>
        </p:spPr>
        <p:txBody>
          <a:bodyPr lIns="90000" rIns="90000" tIns="46800" bIns="46800" anchor="t">
            <a:normAutofit fontScale="86000"/>
          </a:bodyPr>
          <a:p>
            <a:pPr marL="234360" indent="-234360" algn="r" rtl="1">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كما انه داخل الروضة تتوفر فرص للتفاعل الاجتماعى لم تكن متوفرة داخل المحيط الاسرى و هذا مما يعاون الاطفال على الخروج من التمركز حول الذات فاتصال الاطفال مع اقرانهم الذين قد لا يفهمون افكارهم يجبر الاطفال على شرح افكارهم و تبرير آرائهم بطريقة مفهومة اجتماعيا </a:t>
            </a:r>
            <a:endParaRPr b="0" lang="en-US" sz="2400" spc="-1" strike="noStrike">
              <a:solidFill>
                <a:srgbClr val="ffffff"/>
              </a:solidFill>
              <a:latin typeface="Constantia"/>
            </a:endParaRPr>
          </a:p>
          <a:p>
            <a:pPr marL="234360" indent="-234360" algn="r" rtl="1">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كما ان الاطفال يجدون انفسهم احيانا مضطرين لتقديم تنازلات حتى يتسنى لمواقف اللعب من الاستمرار كما انهم يكون عليهم فى احيان اخرى ان يبرهنوا على احقيتهم فيما يريدون و من ذلك نرى كيف ان التحاق الطقل بالروضة ينمى قدراته الاجتماعية الضرورية مقارنة بمن لم يلتحقون بالروضة </a:t>
            </a:r>
            <a:endParaRPr b="0" lang="en-US" sz="2400" spc="-1" strike="noStrike">
              <a:solidFill>
                <a:srgbClr val="ffffff"/>
              </a:solidFill>
              <a:latin typeface="Constantia"/>
            </a:endParaRPr>
          </a:p>
          <a:p>
            <a:pPr marL="234360" indent="-234360" algn="r" rtl="1">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ما من حيث الاختلافات بين الجنسين ( الذكور و الاناث ) فان الاطفال بدء من ثلاث سنوات ينمون انماط السلوك المرتبط بالهوية الجنسية بعض الصفات التى يظهرها الاطفال تكون ولادية و البعض الآخر يكون متعلم ( كتشجيع الذكور على مستويات اعلى من النشاط الحركى ) و عادة ما تكون التحديدات على الاناث اقل من تلك التى على الذكور و لذلك فان الاناث يتلقين توجيهات اقل مما يشعرهم احيانا بقلة القيمة مقارنة بالذكور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2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حجر الزاوية بالنسبة للصحة النفسية هو ارساء هوية جنسية ايجابية بمعنى تقبل الفرد و شعوره بالارتياح من كونه ذكرا او انثى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و يعتقد ان التنميط الجنسى يحد من مدى الخبرات التى يمكن ان يتلقاها الاطفال فى مواقف اللعب كما يحد من المفاهيم و المهارات المرتبطة بها كما قد يحد من فرص الخيال بالنسبة لما يودون القيام به حين يكبرون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eeece1"/>
                </a:solidFill>
                <a:latin typeface="Calibri"/>
              </a:rPr>
              <a:t>دور المعلمة فى الارتقاء بالنمو العاطفى و الاجتماعى </a:t>
            </a:r>
            <a:endParaRPr b="0" lang="en-US" sz="4500" spc="-1" strike="noStrike">
              <a:solidFill>
                <a:srgbClr val="eeece1"/>
              </a:solidFill>
              <a:latin typeface="Calibri"/>
            </a:endParaRPr>
          </a:p>
        </p:txBody>
      </p:sp>
      <p:sp>
        <p:nvSpPr>
          <p:cNvPr id="131" name=""/>
          <p:cNvSpPr txBox="1"/>
          <p:nvPr/>
        </p:nvSpPr>
        <p:spPr>
          <a:xfrm>
            <a:off x="457200" y="1934640"/>
            <a:ext cx="8229600" cy="4389480"/>
          </a:xfrm>
          <a:prstGeom prst="rect">
            <a:avLst/>
          </a:prstGeom>
          <a:noFill/>
          <a:ln w="0">
            <a:noFill/>
          </a:ln>
        </p:spPr>
        <p:txBody>
          <a:bodyPr lIns="90000" rIns="90000" tIns="46800" bIns="46800" anchor="t">
            <a:normAutofit fontScale="83000"/>
          </a:bodyPr>
          <a:p>
            <a:pPr marL="226440" indent="-22644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توفير الفرص للاطفال للاشتراك فى انشطة ملائمة لمرحلة نموهم و تجنب الضغط عليهم فى الاشتراك فى انشطة لا يرغبون فيها فالانشطة الممتعة ترتبط بالصحة العاطفية كما ترتبط بالنمو الايجابى فى شتى المجالات </a:t>
            </a:r>
            <a:endParaRPr b="0" lang="en-US" sz="2600" spc="-1" strike="noStrike">
              <a:solidFill>
                <a:srgbClr val="ffffff"/>
              </a:solidFill>
              <a:latin typeface="Constantia"/>
            </a:endParaRPr>
          </a:p>
          <a:p>
            <a:pPr marL="226440" indent="-22644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سلوك العاطفى و الاجتماعى فى مجمله متعلما فى معظمه و ليس ولاديا و بالتالى فانه بالامكان تغييره و تعديله تبعا للخبرات التى يمر بها الاطفال و لذلك من الهام ان يكون لدى المعلمة توقعات جيدة حول الاطفال و ان تعكس لهم هذه التوقعات فهذا من شأنه ان يدعم مفاهيم الاطفال الايجابية حول انفسهم و ان يغيروا من المعتقدات السيئة حول انفسهم </a:t>
            </a:r>
            <a:endParaRPr b="0" lang="en-US" sz="2600" spc="-1" strike="noStrike">
              <a:solidFill>
                <a:srgbClr val="ffffff"/>
              </a:solidFill>
              <a:latin typeface="Constantia"/>
            </a:endParaRPr>
          </a:p>
          <a:p>
            <a:pPr marL="226440" indent="-22644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تشجع الاطفال على ان ينموا و يطبقوا و يوسعوا من مخزونهم الخاص بالتفاعلات الاجتماعية من خلال توفير الفرص للتفاعل الاجتماعى كما يجب ان تكون المعلمة نفسها نموذجا للسلوك الجيد و اللائق اجتماعيا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3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تعى ان الكفاءة المتزايدة فى الميدان الاجتماعى يسمح للاطفال بأن يخططوا و ينفذوا و يقيموا انجاذاتهم كما يتعلمون الكثير حول انفسهم و الآخرين و يختبروا قدراتهم فى مواقف اجتماعية تضم الكبار و الاقران </a:t>
            </a:r>
            <a:endParaRPr b="0" lang="en-US" sz="2600" spc="-1" strike="noStrike">
              <a:solidFill>
                <a:srgbClr val="ffffff"/>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 </a:t>
            </a:r>
            <a:endParaRPr b="0" lang="en-US" sz="2600" spc="-1" strike="noStrike">
              <a:solidFill>
                <a:srgbClr val="ffffff"/>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التقدير الفردى للاطفال و تقبل الفروق الفردية بينهم يسمح للتفاعلات الاجتماعية المعقدة من الظهور فيما بعد و التى ستشكل المشهد الاجتماعى فى المدرسة الابتدائية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eeece1"/>
                </a:solidFill>
                <a:latin typeface="Calibri"/>
              </a:rPr>
              <a:t>النمو المعرفى </a:t>
            </a:r>
            <a:endParaRPr b="0" lang="en-US" sz="5000" spc="-1" strike="noStrike">
              <a:solidFill>
                <a:srgbClr val="eeece1"/>
              </a:solidFill>
              <a:latin typeface="Calibri"/>
            </a:endParaRPr>
          </a:p>
        </p:txBody>
      </p:sp>
      <p:sp>
        <p:nvSpPr>
          <p:cNvPr id="135"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تزايد الاهتمام بالنمو المعرفى مع تراكم الملاحظات حول انخفاض مستوى الاكاديمى للاطفال الذين يأتون من بيئات فقيرة مقارنة بأولئك الذين يأتون من بيئات ميسورة حيث توفر الاخيرة خبرات تعلم أكثر ثراء </a:t>
            </a:r>
            <a:endParaRPr b="0" lang="en-US" sz="2600" spc="-1" strike="noStrike">
              <a:solidFill>
                <a:srgbClr val="ffffff"/>
              </a:solidFill>
              <a:latin typeface="Constantia"/>
            </a:endParaRPr>
          </a:p>
          <a:p>
            <a:pPr marL="253440" indent="-25344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كذلك توافرت الادلة على ان معامل الذكاء يعتبر محدد ضعيف على النجاح الاكاديمى اللاحق و كذلك على النجاح فى الحياة بصفة عامة و ان هذا المكون ليس ثابتا كما كان يعتقد فى الماضى مما نتج عنه نقلة نوعية فى برامج الطفولة  المبكرة </a:t>
            </a:r>
            <a:endParaRPr b="0" lang="en-US" sz="2600" spc="-1" strike="noStrike">
              <a:solidFill>
                <a:srgbClr val="ffffff"/>
              </a:solidFill>
              <a:latin typeface="Constantia"/>
            </a:endParaRPr>
          </a:p>
          <a:p>
            <a:pPr marL="253440" indent="-25344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فهم الخصائص المعرفية لطفل ماقبل المدرسة يدعونا لتبنى سياسات تربوية و تعليمية متفردة و خاصة بهذه المرحلة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eeece1"/>
                </a:solidFill>
                <a:latin typeface="Calibri"/>
              </a:rPr>
              <a:t>اساليب تفكير اطفال ما قبل المدرسة </a:t>
            </a:r>
            <a:endParaRPr b="0" lang="en-US" sz="5000" spc="-1" strike="noStrike">
              <a:solidFill>
                <a:srgbClr val="eeece1"/>
              </a:solidFill>
              <a:latin typeface="Calibri"/>
            </a:endParaRPr>
          </a:p>
        </p:txBody>
      </p:sp>
      <p:sp>
        <p:nvSpPr>
          <p:cNvPr id="137" name=""/>
          <p:cNvSpPr txBox="1"/>
          <p:nvPr/>
        </p:nvSpPr>
        <p:spPr>
          <a:xfrm>
            <a:off x="457200" y="1934640"/>
            <a:ext cx="8229600" cy="4389480"/>
          </a:xfrm>
          <a:prstGeom prst="rect">
            <a:avLst/>
          </a:prstGeom>
          <a:noFill/>
          <a:ln w="0">
            <a:noFill/>
          </a:ln>
        </p:spPr>
        <p:txBody>
          <a:bodyPr lIns="90000" rIns="90000" tIns="46800" bIns="46800" anchor="t">
            <a:normAutofit fontScale="86000"/>
          </a:bodyPr>
          <a:p>
            <a:pPr marL="234360" indent="-23436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يتميزون بالفضول و لكن لديهم قدر من التمركز حول الذات مما يحد من مكتسباتهم و بنهاية المرحلة يتخلصون من قدر كبي من هذه المركزية مما يسمح لهم باكتساب المفاهيم الاساسية </a:t>
            </a:r>
            <a:endParaRPr b="0" lang="en-US" sz="2400" spc="-1" strike="noStrike">
              <a:solidFill>
                <a:srgbClr val="ffffff"/>
              </a:solidFill>
              <a:latin typeface="Constantia"/>
            </a:endParaRPr>
          </a:p>
          <a:p>
            <a:pPr marL="234360" indent="-23436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يظهرون قدرات متزايدة على التفكير الرمزى و هو درجة اعلى من التفكير ( تفكير قبل عملياتى )اى انه لا زال متأثرا بالمظهر الخارجى للاشياء كما ان تفكيرهم يتسم بقلة المرونة و الديناميكية </a:t>
            </a:r>
            <a:endParaRPr b="0" lang="en-US" sz="2400" spc="-1" strike="noStrike">
              <a:solidFill>
                <a:srgbClr val="ffffff"/>
              </a:solidFill>
              <a:latin typeface="Constantia"/>
            </a:endParaRPr>
          </a:p>
          <a:p>
            <a:pPr marL="234360" indent="-23436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لنمو لا يتم بصورة منعزلة فالخبرات الاجتماعية تيتثير النمو المعرفى سواء أكانت مع الاطفال ام الكبار بما يقدمونه من سلوك المساندة </a:t>
            </a:r>
            <a:r>
              <a:rPr b="0" lang="en-US" sz="2400" spc="-1" strike="noStrike">
                <a:solidFill>
                  <a:srgbClr val="ffffff"/>
                </a:solidFill>
                <a:latin typeface="Constantia"/>
              </a:rPr>
              <a:t>scaffolding</a:t>
            </a:r>
            <a:r>
              <a:rPr b="0" lang="en-US" sz="2400" spc="-1" strike="noStrike">
                <a:solidFill>
                  <a:srgbClr val="ffffff"/>
                </a:solidFill>
                <a:latin typeface="Constantia"/>
              </a:rPr>
              <a:t> </a:t>
            </a:r>
            <a:r>
              <a:rPr b="0" lang="ar-SA" sz="2400" spc="-1" strike="noStrike">
                <a:solidFill>
                  <a:srgbClr val="ffffff"/>
                </a:solidFill>
                <a:latin typeface="Constantia"/>
              </a:rPr>
              <a:t> </a:t>
            </a:r>
            <a:endParaRPr b="0" lang="en-US" sz="2400" spc="-1" strike="noStrike">
              <a:solidFill>
                <a:srgbClr val="ffffff"/>
              </a:solidFill>
              <a:latin typeface="Constantia"/>
            </a:endParaRPr>
          </a:p>
          <a:p>
            <a:pPr marL="234360" indent="-23436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كل طفل يظهر استعدادات مختلفة و لذلك يجب توفير انشطة لعب تتضمن قدرا متوسطا من التحدى لكل طفل </a:t>
            </a:r>
            <a:r>
              <a:rPr b="0" lang="en-US" sz="2400" spc="-1" strike="noStrike">
                <a:solidFill>
                  <a:srgbClr val="ffffff"/>
                </a:solidFill>
                <a:latin typeface="Constantia"/>
              </a:rPr>
              <a:t>zone of proximal development</a:t>
            </a:r>
            <a:r>
              <a:rPr b="0" lang="en-US" sz="2400" spc="-1" strike="noStrike">
                <a:solidFill>
                  <a:srgbClr val="ffffff"/>
                </a:solidFill>
                <a:latin typeface="Constantia"/>
              </a:rPr>
              <a:t> </a:t>
            </a:r>
            <a:endParaRPr b="0" lang="en-US" sz="2400" spc="-1" strike="noStrike">
              <a:solidFill>
                <a:srgbClr val="ffffff"/>
              </a:solidFill>
              <a:latin typeface="Constantia"/>
            </a:endParaRPr>
          </a:p>
          <a:p>
            <a:pPr marL="234360" indent="-23436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للغة تعتبر من العناصر الهامة التى تسرع بالنمو المعرفى فهى التى تيسر التفاعلات الاجتماعية التى من خلالها يتعلم مهارات و معارف جديدة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39" name=""/>
          <p:cNvSpPr txBox="1"/>
          <p:nvPr/>
        </p:nvSpPr>
        <p:spPr>
          <a:xfrm>
            <a:off x="457200" y="1934640"/>
            <a:ext cx="8229600" cy="4389480"/>
          </a:xfrm>
          <a:prstGeom prst="rect">
            <a:avLst/>
          </a:prstGeom>
          <a:noFill/>
          <a:ln w="0">
            <a:noFill/>
          </a:ln>
        </p:spPr>
        <p:txBody>
          <a:bodyPr lIns="90000" rIns="90000" tIns="46800" bIns="46800" anchor="t">
            <a:normAutofit fontScale="83000"/>
          </a:bodyPr>
          <a:p>
            <a:pPr marL="226440" indent="-22644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بامكان الاطفال تعلم عدد من المفاهيم و الموضوعات و لكن باساليب تناسب طرق تفكيرهم </a:t>
            </a:r>
            <a:endParaRPr b="0" lang="en-US" sz="2600" spc="-1" strike="noStrike">
              <a:solidFill>
                <a:srgbClr val="ffffff"/>
              </a:solidFill>
              <a:latin typeface="Constantia"/>
            </a:endParaRPr>
          </a:p>
          <a:p>
            <a:pPr marL="226440" indent="-22644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لا يمكنهم ان يعدوا ارقاما كبيرة كما لا يمكنهم القيامم بعمليات جمع و طرح بصورة مجردة الا ان اشتراك الكبار معهم فى انشطة العد يلعب دور مهم فى نمو مهاراتهم العددية </a:t>
            </a:r>
            <a:endParaRPr b="0" lang="en-US" sz="2600" spc="-1" strike="noStrike">
              <a:solidFill>
                <a:srgbClr val="ffffff"/>
              </a:solidFill>
              <a:latin typeface="Constantia"/>
            </a:endParaRPr>
          </a:p>
          <a:p>
            <a:pPr marL="226440" indent="-22644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مهاراتهم فى التذكر محدودة و لكنهم يتذكرون السياق العام للاحداث بصورة مدهشة و هذا يتجلى فى سردهم للقصص و فى لعبهم الدرامى </a:t>
            </a:r>
            <a:endParaRPr b="0" lang="en-US" sz="2600" spc="-1" strike="noStrike">
              <a:solidFill>
                <a:srgbClr val="ffffff"/>
              </a:solidFill>
              <a:latin typeface="Constantia"/>
            </a:endParaRPr>
          </a:p>
          <a:p>
            <a:pPr marL="226440" indent="-22644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ظهر الاطفال نظريات مبدأية حول الكيفية التى تعمل بها عقولهم تعكس فهمهم للعالم المادى و طبيعة تفكير الآخرين و ما يلزم لخداعهم </a:t>
            </a:r>
            <a:endParaRPr b="0" lang="en-US" sz="2600" spc="-1" strike="noStrike">
              <a:solidFill>
                <a:srgbClr val="ffffff"/>
              </a:solidFill>
              <a:latin typeface="Constantia"/>
            </a:endParaRPr>
          </a:p>
          <a:p>
            <a:pPr marL="226440" indent="-22644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تتطور اللغة بقدر كبير من زيادة فى المفردات الى القدرة على تكوين جمل اكثر تعقيدا , و يقومون بعمليات استدلال حين يتعرضون لكلمات جديدة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57120"/>
            <a:ext cx="9144000" cy="157176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eeece1"/>
                </a:solidFill>
                <a:latin typeface="Calibri"/>
              </a:rPr>
              <a:t>يتفق العلماء وواضعوا المناهج على ضرورة توفر شروط معينة فى منهج الطفولة المبكرة  </a:t>
            </a:r>
            <a:endParaRPr b="0" lang="en-US" sz="5000" spc="-1" strike="noStrike">
              <a:solidFill>
                <a:srgbClr val="eeece1"/>
              </a:solidFill>
              <a:latin typeface="Calibri"/>
            </a:endParaRPr>
          </a:p>
        </p:txBody>
      </p:sp>
      <p:sp>
        <p:nvSpPr>
          <p:cNvPr id="1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يتلائم المنهج فرديا مع الاطفال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يكون اللعب هو عصب المنهج , و اتاحة فرص التجريب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تاحة فرص اختيار الانشطة للاطفال , و تدريبهم على اتخاذ القرار بهدف توفير الدافعية للتعلم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فرص تكرار الانشطة متوفر اذا ما رغب الاطفال بذلك (المنهج مرن)</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تنمية قدرة الاطفال على حل المشكلات (تباعدية و تقاربية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4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نمون الفهم للقواعد اللغوية الا انهم قد يطبقونها بصورة صارمة دون الاخذ فى الاعتبار بالاستثناءات اللغوية و واجب الكبار ان لا يصححوا هذه الاخطاء و انما ان يقدموا نماذج لغوية صحيحة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قدرات الاطفال على التعلم تعتبر كبيرة فى هذه المرحلة مما يستدعى العناية بها و تغذيتها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eeece1"/>
                </a:solidFill>
                <a:latin typeface="Calibri"/>
              </a:rPr>
              <a:t>العلاقة بين النمو اللغوى و المعرفى </a:t>
            </a:r>
            <a:endParaRPr b="0" lang="en-US" sz="5000" spc="-1" strike="noStrike">
              <a:solidFill>
                <a:srgbClr val="eeece1"/>
              </a:solidFill>
              <a:latin typeface="Calibri"/>
            </a:endParaRPr>
          </a:p>
        </p:txBody>
      </p:sp>
      <p:sp>
        <p:nvSpPr>
          <p:cNvPr id="143" name=""/>
          <p:cNvSpPr txBox="1"/>
          <p:nvPr/>
        </p:nvSpPr>
        <p:spPr>
          <a:xfrm>
            <a:off x="457200" y="1934640"/>
            <a:ext cx="8229600" cy="4389480"/>
          </a:xfrm>
          <a:prstGeom prst="rect">
            <a:avLst/>
          </a:prstGeom>
          <a:noFill/>
          <a:ln w="0">
            <a:noFill/>
          </a:ln>
        </p:spPr>
        <p:txBody>
          <a:bodyPr lIns="90000" rIns="90000" tIns="46800" bIns="46800" anchor="t">
            <a:normAutofit fontScale="86000"/>
          </a:bodyPr>
          <a:p>
            <a:pPr marL="234360" indent="-234360" algn="r" rtl="1">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يساهم النمواللغوى فى تشكيل التفكير و اى ملاحظ مدقق سيدرك مدى التضافر ما بين النمو اللغوى من ناحية و نمو التفكير و تعقده من ناحية اخرى </a:t>
            </a:r>
            <a:endParaRPr b="0" lang="en-US" sz="2400" spc="-1" strike="noStrike">
              <a:solidFill>
                <a:srgbClr val="ffffff"/>
              </a:solidFill>
              <a:latin typeface="Constantia"/>
            </a:endParaRPr>
          </a:p>
          <a:p>
            <a:pPr marL="234360" indent="-234360" algn="r" rtl="1">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تساهم اللغة فى تحويل التفكير من المرحلة الحسية الحركية الى التفكير الرمزى و يحدد استخدام الاطفال للبدائل فى اللعب الرمزى قدراتهم اللاحقة على اكتساب المترادفات فى اللغة و فى اكتساب عدد كبير من الكلمات </a:t>
            </a:r>
            <a:endParaRPr b="0" lang="en-US" sz="2400" spc="-1" strike="noStrike">
              <a:solidFill>
                <a:srgbClr val="ffffff"/>
              </a:solidFill>
              <a:latin typeface="Constantia"/>
            </a:endParaRPr>
          </a:p>
          <a:p>
            <a:pPr marL="234360" indent="-234360" algn="r" rtl="1">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لنمو اللغوى يتطلب توفير فرص تفاعل متعددة للاطفال مع اطفال آخرين و كذلك مع الباغين مما يرتقى بنموهم اللغوى </a:t>
            </a:r>
            <a:endParaRPr b="0" lang="en-US" sz="2400" spc="-1" strike="noStrike">
              <a:solidFill>
                <a:srgbClr val="ffffff"/>
              </a:solidFill>
              <a:latin typeface="Constantia"/>
            </a:endParaRPr>
          </a:p>
          <a:p>
            <a:pPr marL="234360" indent="-234360" algn="r" rtl="1">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تشير البحوث الى ان افتقار الاطفال للغة يؤثر فى اساليب التفكير و السلوك من حيث قدرتهم على تصور البدائل  مثل ”و“ , ”او“ و ” ليست ” ان وعيهم بهذه الكلمات يرتبط بقراراتهم السلوكية التى سيتخذونها و ادراكهم للعلاقات بين السبب و النتيجة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eeece1"/>
                </a:solidFill>
                <a:latin typeface="Calibri"/>
              </a:rPr>
              <a:t>دور المعلمة فى الارتقاء بالنمو المعرفى </a:t>
            </a:r>
            <a:endParaRPr b="0" lang="en-US" sz="5000" spc="-1" strike="noStrike">
              <a:solidFill>
                <a:srgbClr val="eeece1"/>
              </a:solidFill>
              <a:latin typeface="Calibri"/>
            </a:endParaRPr>
          </a:p>
        </p:txBody>
      </p:sp>
      <p:sp>
        <p:nvSpPr>
          <p:cNvPr id="145" name=""/>
          <p:cNvSpPr txBox="1"/>
          <p:nvPr/>
        </p:nvSpPr>
        <p:spPr>
          <a:xfrm>
            <a:off x="457200" y="1934640"/>
            <a:ext cx="8229600" cy="4389480"/>
          </a:xfrm>
          <a:prstGeom prst="rect">
            <a:avLst/>
          </a:prstGeom>
          <a:noFill/>
          <a:ln w="0">
            <a:noFill/>
          </a:ln>
        </p:spPr>
        <p:txBody>
          <a:bodyPr lIns="90000" rIns="90000" tIns="46800" bIns="46800" anchor="t">
            <a:normAutofit fontScale="86000"/>
          </a:bodyPr>
          <a:p>
            <a:pPr marL="234360" indent="-23436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معلمات ينظر اليهن اليوم باعتبارهن ميسرات للتعلم و لسن ناقلات للمعرفة بالمعنى التقليدى القديم (من خلال اعدادهن للبيئة )</a:t>
            </a:r>
            <a:endParaRPr b="0" lang="en-US" sz="2600" spc="-1" strike="noStrike">
              <a:solidFill>
                <a:srgbClr val="ffffff"/>
              </a:solidFill>
              <a:latin typeface="Constantia"/>
            </a:endParaRPr>
          </a:p>
          <a:p>
            <a:pPr marL="234360" indent="-23436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جب ان تعى بدورها فى توجيه التعلم </a:t>
            </a:r>
            <a:endParaRPr b="0" lang="en-US" sz="2600" spc="-1" strike="noStrike">
              <a:solidFill>
                <a:srgbClr val="ffffff"/>
              </a:solidFill>
              <a:latin typeface="Constantia"/>
            </a:endParaRPr>
          </a:p>
          <a:p>
            <a:pPr marL="234360" indent="-23436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جب ان تعكس وعيها بأهمية اللعب فى الارتقاء بتعلم الاطفالو ان الكثير مما كنا نعتبره لعبا فى الماضى اصبحنا ندرك الآن انه من انشطة الذكاء </a:t>
            </a:r>
            <a:endParaRPr b="0" lang="en-US" sz="2600" spc="-1" strike="noStrike">
              <a:solidFill>
                <a:srgbClr val="ffffff"/>
              </a:solidFill>
              <a:latin typeface="Constantia"/>
            </a:endParaRPr>
          </a:p>
          <a:p>
            <a:pPr marL="234360" indent="-23436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كما ان اللعب الاستكشافى يعتبر خطوة هامة فى طريق الاستكشاف العلمى اللاحق </a:t>
            </a:r>
            <a:endParaRPr b="0" lang="en-US" sz="2600" spc="-1" strike="noStrike">
              <a:solidFill>
                <a:srgbClr val="ffffff"/>
              </a:solidFill>
              <a:latin typeface="Constantia"/>
            </a:endParaRPr>
          </a:p>
          <a:p>
            <a:pPr marL="234360" indent="-23436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يضا يساهم اللعب فى نمو الابتكار من خلال بناء النماذج و اللعب بالمكعبات و اللعب الدرامى و التخيلى و لذلك يجب على المعلمة ان توفر خامات اللعب التى تستثير هذه المهارات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eeece1"/>
                </a:solidFill>
                <a:latin typeface="Calibri"/>
              </a:rPr>
              <a:t>طبيعة التعلم </a:t>
            </a:r>
            <a:endParaRPr b="0" lang="en-US" sz="5000" spc="-1" strike="noStrike">
              <a:solidFill>
                <a:srgbClr val="eeece1"/>
              </a:solidFill>
              <a:latin typeface="Calibri"/>
            </a:endParaRPr>
          </a:p>
        </p:txBody>
      </p:sp>
      <p:sp>
        <p:nvSpPr>
          <p:cNvPr id="14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تعلم هو اى تغير فى السلوك ناتج عن الخبرة و هو يتأثر بكل من النضج و الخبرة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معلم الكفء يجب ان يكون قادرا على فهم عمليات التعلم الانسانى و كيفية البناء عليها و الارتقاء بها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جب ان يعى المعلم كيف ان النمو العقلى فى هذه المرحلة يسير بخطى سريعة قلما تتوفر فى اى مرحلة اخرى و لذلك فان المهارات التى يتم تعلمها فى هذه المرحلة لا تنسى بسهولة ( التعلم فى الصغر كالنقش على الحجر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eeece1"/>
                </a:solidFill>
                <a:latin typeface="Calibri"/>
              </a:rPr>
              <a:t>اهم ما تم اكتشافه بالنسبة للنمو العقلى و المعرفىة فى السنوات الاخيرة </a:t>
            </a:r>
            <a:endParaRPr b="0" lang="en-US" sz="4500" spc="-1" strike="noStrike">
              <a:solidFill>
                <a:srgbClr val="eeece1"/>
              </a:solidFill>
              <a:latin typeface="Calibri"/>
            </a:endParaRPr>
          </a:p>
        </p:txBody>
      </p:sp>
      <p:sp>
        <p:nvSpPr>
          <p:cNvPr id="149"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نمو المخ الذى يتم فى السنة الاولى من العمر يعتبر اسرع و اكثر تكثيفا مما كنا نعتقده من قبل </a:t>
            </a:r>
            <a:endParaRPr b="0" lang="en-US" sz="2600" spc="-1" strike="noStrike">
              <a:solidFill>
                <a:srgbClr val="ffffff"/>
              </a:solidFill>
              <a:latin typeface="Constantia"/>
            </a:endParaRPr>
          </a:p>
          <a:p>
            <a:pPr marL="270000" indent="-27000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نمو المخ يعتبر اكثر حساسية لتأثيرات البيئة مما كنا نظنه من قبل </a:t>
            </a:r>
            <a:endParaRPr b="0" lang="en-US" sz="2600" spc="-1" strike="noStrike">
              <a:solidFill>
                <a:srgbClr val="ffffff"/>
              </a:solidFill>
              <a:latin typeface="Constantia"/>
            </a:endParaRPr>
          </a:p>
          <a:p>
            <a:pPr marL="270000" indent="-27000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تأثير البيئة المبكرة على نمو المخ هو تأثير دائم </a:t>
            </a:r>
            <a:endParaRPr b="0" lang="en-US" sz="2600" spc="-1" strike="noStrike">
              <a:solidFill>
                <a:srgbClr val="ffffff"/>
              </a:solidFill>
              <a:latin typeface="Constantia"/>
            </a:endParaRPr>
          </a:p>
          <a:p>
            <a:pPr marL="270000" indent="-27000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البيئة ثؤثر ليس فقط على عدد خلايا المخ و عدد الوصلات العصبية بين هذه الخلايا و لكن التأثير يمتد للاساليب التى ترتبط بها هذه الخلايا ببعضها </a:t>
            </a:r>
            <a:endParaRPr b="0" lang="en-US" sz="2600" spc="-1" strike="noStrike">
              <a:solidFill>
                <a:srgbClr val="ffffff"/>
              </a:solidFill>
              <a:latin typeface="Constantia"/>
            </a:endParaRPr>
          </a:p>
          <a:p>
            <a:pPr marL="270000" indent="-27000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توجد ادلة علمية تفيد بالتأثير السلبى للضغوط المبكرة على وظائف المخ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eeece1"/>
                </a:solidFill>
                <a:latin typeface="Calibri"/>
              </a:rPr>
              <a:t>اهم المسلمات فيما يتعلق بالتعلم </a:t>
            </a:r>
            <a:endParaRPr b="0" lang="en-US" sz="5000" spc="-1" strike="noStrike">
              <a:solidFill>
                <a:srgbClr val="eeece1"/>
              </a:solidFill>
              <a:latin typeface="Calibri"/>
            </a:endParaRPr>
          </a:p>
        </p:txBody>
      </p:sp>
      <p:sp>
        <p:nvSpPr>
          <p:cNvPr id="151"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تعلم دائما ما يظهر فى السياق الاجتماعى , و دور الكبار و الاطفال الآخرين هو التوسط و تدعيم و توسيع هذا التعلم و يعتبر هذا الدور حاسما فى عمليات التعلم </a:t>
            </a:r>
            <a:endParaRPr b="0" lang="en-US" sz="2600" spc="-1" strike="noStrike">
              <a:solidFill>
                <a:srgbClr val="ffffff"/>
              </a:solidFill>
              <a:latin typeface="Constantia"/>
            </a:endParaRPr>
          </a:p>
          <a:p>
            <a:pPr marL="267120" indent="-26712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الاطفال يمكن ان ينموا اما احساسا بالتمكن حول تعلمهم او ان ينموا احساسا بالعجز و هذه الاتجاهات سوف تؤثر بشدة على قدراتهم على التطور بفاعلية فى المستقبل </a:t>
            </a:r>
            <a:endParaRPr b="0" lang="en-US" sz="2600" spc="-1" strike="noStrike">
              <a:solidFill>
                <a:srgbClr val="ffffff"/>
              </a:solidFill>
              <a:latin typeface="Constantia"/>
            </a:endParaRPr>
          </a:p>
          <a:p>
            <a:pPr marL="267120" indent="-26712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استغراق يعتبر من المفاهيم الدالة فى قياس ما اذا كان الاطفال يتعلمون ام لا </a:t>
            </a:r>
            <a:endParaRPr b="0" lang="en-US" sz="2600" spc="-1" strike="noStrike">
              <a:solidFill>
                <a:srgbClr val="ffffff"/>
              </a:solidFill>
              <a:latin typeface="Constantia"/>
            </a:endParaRPr>
          </a:p>
          <a:p>
            <a:pPr marL="267120" indent="-26712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اطفال ذوو المستويات المرتفعة من الثقافة الانفعالية يكونون عادة متعلمين ناجحين اكثر من غيرهم </a:t>
            </a:r>
            <a:endParaRPr b="0" lang="en-US" sz="2600" spc="-1" strike="noStrike">
              <a:solidFill>
                <a:srgbClr val="ffffff"/>
              </a:solidFill>
              <a:latin typeface="Constantia"/>
            </a:endParaRPr>
          </a:p>
          <a:p>
            <a:pPr marL="267120" indent="-26712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5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هناك ذكاءات متعددة بحاجة الى تغذيتها و رعايتها و دعمها اذا ما كان للاطفال ان يصلوا الى تحقيق قدراتهم كاملة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eeece1"/>
                </a:solidFill>
                <a:latin typeface="Calibri"/>
              </a:rPr>
              <a:t>لكى تتوفر هذه الشروط فى المنهج فانه يجب ان يتسم بأنه:</a:t>
            </a:r>
            <a:endParaRPr b="0" lang="en-US" sz="4500" spc="-1" strike="noStrike">
              <a:solidFill>
                <a:srgbClr val="eeece1"/>
              </a:solidFill>
              <a:latin typeface="Calibri"/>
            </a:endParaRPr>
          </a:p>
        </p:txBody>
      </p:sp>
      <p:sp>
        <p:nvSpPr>
          <p:cNvPr id="10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وفر العديد من الانشطة فى نفس الوقت لكى يتمكن الاطفال من الاختيار بينها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تدخل الكبار يكون فى حدود ضيقة و عندما يستشعر ان تدخله لازم و ضرورى او حين يطلب منه الاطفال مشاركتهم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حترم قيمة اللعب و دوره فى التعلم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حترم اهتمامات الاطفال و يستجيب لها و يغذيها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هذا المفهوم عن المنهاج يجعل المعلمة تفسح مجالا للاطفال فى عملية التخطيط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eeece1"/>
                </a:solidFill>
                <a:latin typeface="Calibri"/>
              </a:rPr>
              <a:t>المنهج النمائى : ”هو المنهج الذى يتوائم مع الخصائص النمائية لطفل الروضة ”و هذا يتطلب لن : </a:t>
            </a:r>
            <a:endParaRPr b="0" lang="en-US" sz="4500" spc="-1" strike="noStrike">
              <a:solidFill>
                <a:srgbClr val="eeece1"/>
              </a:solidFill>
              <a:latin typeface="Calibri"/>
            </a:endParaRPr>
          </a:p>
        </p:txBody>
      </p:sp>
      <p:sp>
        <p:nvSpPr>
          <p:cNvPr id="109"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يبنى المنهج وفقا لخصائص الاطفال النمائية الجسمية و العقلية و الاجتماعية و الانفعالية </a:t>
            </a:r>
            <a:endParaRPr b="0" lang="en-US" sz="2400" spc="-1" strike="noStrike">
              <a:solidFill>
                <a:srgbClr val="ffffff"/>
              </a:solidFill>
              <a:latin typeface="Constantia"/>
            </a:endParaRPr>
          </a:p>
          <a:p>
            <a:pPr marL="267120" indent="-26712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لتعلم لا يعرف بشكل ضيق بانه اكتساب المهارات الاكاديمة فقط (فهى ليست غاية فى حد ذاتها , بل هى وسيلة لغاية ) </a:t>
            </a:r>
            <a:endParaRPr b="0" lang="en-US" sz="2400" spc="-1" strike="noStrike">
              <a:solidFill>
                <a:srgbClr val="ffffff"/>
              </a:solidFill>
              <a:latin typeface="Constantia"/>
            </a:endParaRPr>
          </a:p>
          <a:p>
            <a:pPr marL="267120" indent="-26712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ينطلق التخطيط للمنهج من الايمان بأن الرغبة فى التعلم فطرية و لسنا فى حاجة لخلق الدافعية للتعلم و انما تغذية هذه الرغبة </a:t>
            </a:r>
            <a:endParaRPr b="0" lang="en-US" sz="2400" spc="-1" strike="noStrike">
              <a:solidFill>
                <a:srgbClr val="ffffff"/>
              </a:solidFill>
              <a:latin typeface="Constantia"/>
            </a:endParaRPr>
          </a:p>
          <a:p>
            <a:pPr marL="267120" indent="-26712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لا يجب ان يعمل التعليم على عزل الطفل عن المجتمع و البيئة خارج المدرسة و انما يعمل على تنمية فهمه لها و التفاعل معها بكفاءة </a:t>
            </a:r>
            <a:endParaRPr b="0" lang="en-US" sz="2400" spc="-1" strike="noStrike">
              <a:solidFill>
                <a:srgbClr val="ffffff"/>
              </a:solidFill>
              <a:latin typeface="Constantia"/>
            </a:endParaRPr>
          </a:p>
          <a:p>
            <a:pPr marL="267120" indent="-26712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أخطاء الطفل ذات قيمة لانها خطوة فى طريق التعلم </a:t>
            </a:r>
            <a:endParaRPr b="0" lang="en-US" sz="2400" spc="-1" strike="noStrike">
              <a:solidFill>
                <a:srgbClr val="ffffff"/>
              </a:solidFill>
              <a:latin typeface="Constantia"/>
            </a:endParaRPr>
          </a:p>
          <a:p>
            <a:pPr marL="267120" indent="-26712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هناك اعتراف بوجود فروق فردية بين الاطفال منذ البداية و الهدف ليس القضاء عليها و انما تنمية القدرات الفردية المتميزة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11"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للعب هو جوهر المنهاج فى الطفولة المبكرة و من خلاله يتعلم الاطفال ( هو ليس مكافأة و انما هو النشاط الاساسى </a:t>
            </a:r>
            <a:endParaRPr b="0" lang="en-US" sz="2400" spc="-1" strike="noStrike">
              <a:solidFill>
                <a:srgbClr val="ffffff"/>
              </a:solidFill>
              <a:latin typeface="Constantia"/>
            </a:endParaRPr>
          </a:p>
          <a:p>
            <a:pPr marL="259200" indent="-25920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لالعاب المقترحة فى المنهج يجب ان تتضمن اهدافا تربوية و تعليمية تجعل الاطفال يقبلون عليها و يمارسونها مرارا و تكرارا و من ثم يدربون مهاراتهم و يصقلونها و ذلك فى جو آمن خال من التهديد </a:t>
            </a:r>
            <a:endParaRPr b="0" lang="en-US" sz="2400" spc="-1" strike="noStrike">
              <a:solidFill>
                <a:srgbClr val="ffffff"/>
              </a:solidFill>
              <a:latin typeface="Constantia"/>
            </a:endParaRPr>
          </a:p>
          <a:p>
            <a:pPr marL="259200" indent="-25920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عدم اللجوء للشرح او المحاضرة لانها لاتناسب اساليب تعلم اطفال هذه المرحلة و يجب اعطاء فرص الاستكشاف و التجريب فالاطفال يبنون معرفتهم و لا يتلقونها من الاخرين </a:t>
            </a:r>
            <a:endParaRPr b="0" lang="en-US" sz="2400" spc="-1" strike="noStrike">
              <a:solidFill>
                <a:srgbClr val="ffffff"/>
              </a:solidFill>
              <a:latin typeface="Constantia"/>
            </a:endParaRPr>
          </a:p>
          <a:p>
            <a:pPr marL="259200" indent="-25920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طفال الروضة ينمون جسميا و اجتماعيا و انفعاليا كما ينمون معرفيا و لذلك هم بحاجة لمواقف متنوعة تغذى مجالات النمو السابقة كلها و ليس بعضها فقط , مما يؤدى لنمو الاستقلال و المسئولية و مفهوم الذات الايجابى و احترام الذات و الآخرين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1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جب ان يعمل المنهاج على توفير المناخ المنظم بالاضافة لوجود بالغ كفؤيعتنى بالاطفال و يوجههم و يستثير تفكيرهم و لغتهم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تنمية اللغة هو الاساس فى برامج الروضة فاللغة هى مركز الانشطة كما تعاوننا على تنظيم افكارنا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eeece1"/>
                </a:solidFill>
                <a:latin typeface="Calibri"/>
              </a:rPr>
              <a:t>اذا كان المنهج النمائى يحترم قدرات الاطفال النمائية فمن المفيد القاء نظرة سريعة على اهم ملامح النمو لدى طفل الروضة و خصائص هذا النمو </a:t>
            </a:r>
            <a:endParaRPr b="0" lang="en-US" sz="4500" spc="-1" strike="noStrike">
              <a:solidFill>
                <a:srgbClr val="eeece1"/>
              </a:solidFill>
              <a:latin typeface="Calibri"/>
            </a:endParaRPr>
          </a:p>
        </p:txBody>
      </p:sp>
      <p:sp>
        <p:nvSpPr>
          <p:cNvPr id="115" name=""/>
          <p:cNvSpPr txBox="1"/>
          <p:nvPr/>
        </p:nvSpPr>
        <p:spPr>
          <a:xfrm>
            <a:off x="457200" y="1934640"/>
            <a:ext cx="8229600" cy="4389480"/>
          </a:xfrm>
          <a:prstGeom prst="rect">
            <a:avLst/>
          </a:prstGeom>
          <a:noFill/>
          <a:ln w="0">
            <a:noFill/>
          </a:ln>
        </p:spPr>
        <p:txBody>
          <a:bodyPr lIns="90000" rIns="90000" tIns="46800" bIns="46800" anchor="t">
            <a:normAutofit fontScale="89000"/>
          </a:bodyPr>
          <a:p>
            <a:pPr marL="242640" indent="-2426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ولا : النمو الجسمانى : تحدد خصائصهم النمائية الجسمانية ما يجب ان يراعيه المنهج لكى يتناغم مع قدرات الاطفال المحدودة و التى تتطور بسرعة فى نفس الوقت , و من المهم ملاحظة ان حالة الطفل الصحية تحدد الى درجة كبيرة حالته المزاجية </a:t>
            </a:r>
            <a:endParaRPr b="0" lang="en-US" sz="2600" spc="-1" strike="noStrike">
              <a:solidFill>
                <a:srgbClr val="ffffff"/>
              </a:solidFill>
              <a:latin typeface="Constantia"/>
            </a:endParaRPr>
          </a:p>
          <a:p>
            <a:pPr marL="242640" indent="-242640" algn="r" rtl="1">
              <a:lnSpc>
                <a:spcPct val="90000"/>
              </a:lnSpc>
              <a:spcBef>
                <a:spcPts val="649"/>
              </a:spcBef>
              <a:buClr>
                <a:srgbClr val="9bbb59"/>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من سن </a:t>
            </a:r>
            <a:r>
              <a:rPr b="0" lang="ar-SA" sz="2600" spc="-1" strike="noStrike">
                <a:solidFill>
                  <a:srgbClr val="ffffff"/>
                </a:solidFill>
                <a:latin typeface="Constantia"/>
              </a:rPr>
              <a:t>3</a:t>
            </a:r>
            <a:r>
              <a:rPr b="0" lang="ar-SA" sz="2600" spc="-1" strike="noStrike">
                <a:solidFill>
                  <a:srgbClr val="ffffff"/>
                </a:solidFill>
                <a:latin typeface="Constantia"/>
              </a:rPr>
              <a:t>-</a:t>
            </a:r>
            <a:r>
              <a:rPr b="0" lang="ar-SA" sz="2600" spc="-1" strike="noStrike">
                <a:solidFill>
                  <a:srgbClr val="ffffff"/>
                </a:solidFill>
                <a:latin typeface="Constantia"/>
              </a:rPr>
              <a:t>4</a:t>
            </a:r>
            <a:r>
              <a:rPr b="0" lang="ar-SA" sz="2600" spc="-1" strike="noStrike">
                <a:solidFill>
                  <a:srgbClr val="ffffff"/>
                </a:solidFill>
                <a:latin typeface="Constantia"/>
              </a:rPr>
              <a:t> سنوات : </a:t>
            </a:r>
            <a:endParaRPr b="0" lang="en-US" sz="2600" spc="-1" strike="noStrike">
              <a:solidFill>
                <a:srgbClr val="ffffff"/>
              </a:solidFill>
              <a:latin typeface="Constantia"/>
            </a:endParaRPr>
          </a:p>
          <a:p>
            <a:pPr marL="242640" indent="-24264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شعر اللاطفال بالتعب سريعا  و لذلك يجب مراعاة التبادل بين اللعب فى الفناء و النشاط الهدىء </a:t>
            </a:r>
            <a:endParaRPr b="0" lang="en-US" sz="2600" spc="-1" strike="noStrike">
              <a:solidFill>
                <a:srgbClr val="ffffff"/>
              </a:solidFill>
              <a:latin typeface="Constantia"/>
            </a:endParaRPr>
          </a:p>
          <a:p>
            <a:pPr marL="242640" indent="-24264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اطفال بطبيعتهم فضوليون و يتعلمون من خلال حواسهم و لذلك يجب توفير خاممات حسية قدر الامكان فى الخبرات الحركية </a:t>
            </a:r>
            <a:endParaRPr b="0" lang="en-US" sz="2600" spc="-1" strike="noStrike">
              <a:solidFill>
                <a:srgbClr val="ffffff"/>
              </a:solidFill>
              <a:latin typeface="Constantia"/>
            </a:endParaRPr>
          </a:p>
          <a:p>
            <a:pPr marL="242640" indent="-24264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تعبيرات الرمزية يجب تنميتها و لذلك من المحبذ تشجيعهم على الاشتراك فى تمثيل القصص و الموسيقى المقترنة بالحركة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17" name=""/>
          <p:cNvSpPr txBox="1"/>
          <p:nvPr/>
        </p:nvSpPr>
        <p:spPr>
          <a:xfrm>
            <a:off x="457200" y="1934640"/>
            <a:ext cx="8229600" cy="4389480"/>
          </a:xfrm>
          <a:prstGeom prst="rect">
            <a:avLst/>
          </a:prstGeom>
          <a:noFill/>
          <a:ln w="0">
            <a:noFill/>
          </a:ln>
        </p:spPr>
        <p:txBody>
          <a:bodyPr lIns="90000" rIns="90000" tIns="46800" bIns="46800" anchor="t">
            <a:normAutofit fontScale="90000"/>
          </a:bodyPr>
          <a:p>
            <a:pPr marL="245520" indent="-245520" algn="r" rtl="1">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لاطفال نشطون بطبيعتهم و لديهم طاقات كبيرة و يجب توفير المساحة الكافية لتحريك الجسم بحرية </a:t>
            </a:r>
            <a:endParaRPr b="0" lang="en-US" sz="2400" spc="-1" strike="noStrike">
              <a:solidFill>
                <a:srgbClr val="ffffff"/>
              </a:solidFill>
              <a:latin typeface="Constantia"/>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من سن </a:t>
            </a:r>
            <a:r>
              <a:rPr b="0" lang="ar-SA" sz="2400" spc="-1" strike="noStrike">
                <a:solidFill>
                  <a:srgbClr val="ffffff"/>
                </a:solidFill>
                <a:latin typeface="Constantia"/>
              </a:rPr>
              <a:t>5</a:t>
            </a:r>
            <a:r>
              <a:rPr b="0" lang="ar-SA" sz="2400" spc="-1" strike="noStrike">
                <a:solidFill>
                  <a:srgbClr val="ffffff"/>
                </a:solidFill>
                <a:latin typeface="Constantia"/>
              </a:rPr>
              <a:t>-</a:t>
            </a:r>
            <a:r>
              <a:rPr b="0" lang="ar-SA" sz="2400" spc="-1" strike="noStrike">
                <a:solidFill>
                  <a:srgbClr val="ffffff"/>
                </a:solidFill>
                <a:latin typeface="Constantia"/>
              </a:rPr>
              <a:t>6</a:t>
            </a:r>
            <a:r>
              <a:rPr b="0" lang="ar-SA" sz="2400" spc="-1" strike="noStrike">
                <a:solidFill>
                  <a:srgbClr val="ffffff"/>
                </a:solidFill>
                <a:latin typeface="Constantia"/>
              </a:rPr>
              <a:t> سنوات :</a:t>
            </a:r>
            <a:endParaRPr b="0" lang="en-US" sz="2400" spc="-1" strike="noStrike">
              <a:solidFill>
                <a:srgbClr val="ffffff"/>
              </a:solidFill>
              <a:latin typeface="Constantia"/>
            </a:endParaRPr>
          </a:p>
          <a:p>
            <a:pPr marL="245520" indent="-245520" algn="r" rtl="1">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يتعلمون التحكم فى اجسامهم و يجب معاونتهم على صقل قدراتهم و مهاراتهم العضلية مثل الجرى و الوقوف على قدم واحدة لفترة يستكشف الطفل طولها بنفسه </a:t>
            </a:r>
            <a:endParaRPr b="0" lang="en-US" sz="2400" spc="-1" strike="noStrike">
              <a:solidFill>
                <a:srgbClr val="ffffff"/>
              </a:solidFill>
              <a:latin typeface="Constantia"/>
            </a:endParaRPr>
          </a:p>
          <a:p>
            <a:pPr marL="245520" indent="-245520" algn="r" rtl="1">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ينمى الاطفال قدراتهم على التركيز لذلك لا يجب مقاطعة انشطتهم ما داموا مستغرقين فى النشاط </a:t>
            </a:r>
            <a:endParaRPr b="0" lang="en-US" sz="2400" spc="-1" strike="noStrike">
              <a:solidFill>
                <a:srgbClr val="ffffff"/>
              </a:solidFill>
              <a:latin typeface="Constantia"/>
            </a:endParaRPr>
          </a:p>
          <a:p>
            <a:pPr marL="245520" indent="-245520" algn="r" rtl="1">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يبدأون فى اظهار الاستعداد للعب التشاركى و يجب تشجيعهم على ذلك </a:t>
            </a:r>
            <a:endParaRPr b="0" lang="en-US" sz="2400" spc="-1" strike="noStrike">
              <a:solidFill>
                <a:srgbClr val="ffffff"/>
              </a:solidFill>
              <a:latin typeface="Constantia"/>
            </a:endParaRPr>
          </a:p>
          <a:p>
            <a:pPr marL="245520" indent="-245520" algn="r" rtl="1">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يبدأون فى تكوين صداقات حقيقية و لذلك يجب السماح لهم باختيار شركائهم فى اللعب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1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من سن </a:t>
            </a:r>
            <a:r>
              <a:rPr b="0" lang="ar-SA" sz="2600" spc="-1" strike="noStrike">
                <a:solidFill>
                  <a:srgbClr val="ffffff"/>
                </a:solidFill>
                <a:latin typeface="Constantia"/>
              </a:rPr>
              <a:t>7</a:t>
            </a:r>
            <a:r>
              <a:rPr b="0" lang="ar-SA" sz="2600" spc="-1" strike="noStrike">
                <a:solidFill>
                  <a:srgbClr val="ffffff"/>
                </a:solidFill>
                <a:latin typeface="Constantia"/>
              </a:rPr>
              <a:t>-</a:t>
            </a:r>
            <a:r>
              <a:rPr b="0" lang="ar-SA" sz="2600" spc="-1" strike="noStrike">
                <a:solidFill>
                  <a:srgbClr val="ffffff"/>
                </a:solidFill>
                <a:latin typeface="Constantia"/>
              </a:rPr>
              <a:t>8</a:t>
            </a:r>
            <a:r>
              <a:rPr b="0" lang="ar-SA" sz="2600" spc="-1" strike="noStrike">
                <a:solidFill>
                  <a:srgbClr val="ffffff"/>
                </a:solidFill>
                <a:latin typeface="Constantia"/>
              </a:rPr>
              <a:t> سنوات :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بدأ الاطفال فى تنمية السيطرة على عضلاتهم الصغيرة و الكبيرة و لذلك يجب توفير خبرات تسمح لهم باكتشاف قدراتهم التحكمية و لكن لا تتضمن المنافسة بين الاطفال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مكنهم العمل جماعيا بصورة مرضية و يجب تشجيعهم على العمل فى ازواج و فى مجموعات من ثلاثة و فيما بعد فى مجموعات اكبر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مكن للاطفال ان يفكروا جيدا فى احكامهم و قراراتهم و لذلك يجب اعطائهم فرصة للتأمل و مناقشة خبراتهم و حلهم للمشكلات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05:55:23Z</dcterms:created>
  <dc:creator>ASUS</dc:creator>
  <dc:description/>
  <dc:language>en-US</dc:language>
  <cp:lastModifiedBy>Asus</cp:lastModifiedBy>
  <dcterms:modified xsi:type="dcterms:W3CDTF">2011-01-05T18:00:54Z</dcterms:modified>
  <cp:revision>67</cp:revision>
  <dc:subject/>
  <dc:title>    اتجاه الممارسات الملائمة نمائيا    </dc:title>
</cp:coreProperties>
</file>