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631B-C798-4191-88FD-1DCB25E668CE}" type="slidenum">
              <a:rPr b="0" lang="ar-SA"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7A50-6F2C-42DA-A476-D0A37DD1438F}"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6F1B-893A-4567-98DC-AA56EFB957F5}"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A785-C1C7-48E7-9FB0-B3511022C018}"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B08C-5FD5-4C6C-A387-C58CBE5BA47F}"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5FA8-D981-457C-BC5D-79E5BBBC1AD6}"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952B-B481-45BC-B977-0AF8F1DC7B66}"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72CE-C83D-47F0-A1D9-7F8C1A864D28}"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6E84-F512-4B3E-B6A8-3A2960CB1893}"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BF3B-2DE4-4266-9FB7-641EB9770B64}"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3517-488B-4407-88A5-21276C2B32E2}"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C16E-72BB-4FDE-AB9D-3BC10E0002E9}"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88F5-14EC-4558-B88A-3008C9E1BED3}"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E4C8-E55D-4F53-8F92-2025B0A50498}"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CFF7-17A7-4E2A-A1F8-6015613F2786}"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D6CE-BF3A-4721-A4C4-0090218B86D4}"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78EA-2320-4BF1-A5E0-3DC8E0C543F7}"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E3C7-3D8F-4F31-B75B-C6D2A361663B}"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1336-8F17-4A29-A785-700515E6EC44}"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C4ED-F930-47AA-AFC6-D1EF9D10A555}"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6F7E3-2F74-4292-9127-4480E9946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E1EDC-C7FF-45BC-8700-7D0480CCC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63D791-8A81-4D06-B61C-F50FC5781D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B8C2A3-5DCE-4673-B0E6-45F3066C66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26EB79-087F-44E2-9ECA-091689C1FF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D09720-C293-450F-81E8-B8B4BA1A5D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12113-CDC0-433A-975B-91F3F7934D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ADE6E-8C2C-4FEC-932F-7443B6D95C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6926B-8C89-4AFF-B927-361C30AC0E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43DD77-57F1-476D-BB28-C66E5F9F39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6B8157-F043-4B32-B24D-6820CA9A40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285C2B-9054-4DC7-B068-120FE416C2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2758F-FAC3-479C-B77F-DEF544AAE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670466-185A-44D1-9347-987951D7DE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3BC6A4-368D-4E16-A073-E90BC5EFE9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C6B38A-221D-41A2-A415-1F47F4BDBB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89AB8F-8279-4C23-BCBA-DBFDCECA78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E3E36D-5031-4221-820F-F416469C4B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0CAC9C-A3BD-484F-AB3E-F128148FCE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54A8C2-243F-42B1-B145-02069C9B92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453A8C-F7CC-44A5-927C-AD46A2BEFB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49B865-CF83-41C5-9411-9253EF79F9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6C5C1E-E837-41B4-995A-2BC0AE92B0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951BB-F7EE-4160-85BA-AA81CDB10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A5F833-370D-44DB-A16F-9717EBC193F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5F3382-87D8-4A20-B02B-B10572DACA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C6A49E-F78B-46CA-86D7-E09E10775E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073536-CE3D-4A60-8134-A616E14C05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5ED7BF-2DEA-426C-A2FC-379B3C271A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1F8E1A-9D70-45C9-B81A-B632E6DBBA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69584B-ABDA-415D-82E1-4BC298DF2A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3FC495-489C-4F7F-AEF2-5A8EB3A47A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54458D-CC83-48C6-BF00-35019E6C39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86DBFA-2C92-40C2-AFB3-1E57784D30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0CC1C-A8F8-4677-A79A-ACF4257CF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2D7746-389C-4778-8CF0-ED2BA0A47C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46ED9A-07C8-4C35-B06C-14FC600EDE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6B058C-6117-4551-A774-4B33743672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FD2F2F9-14DE-4459-ADE8-46006D93C0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9EC1A7-48CB-4319-BF04-8C1667BBC5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4D503E-7BE2-4B99-9488-15F47F7870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18A16C-25D3-45E2-A95B-50156E43FF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F8845C-AA8A-42C0-9421-ABC3BAF5A3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0AC86C-E316-443C-81C5-E4453CC476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AAB3C9-20AE-4E1A-BED4-FA089E566D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17FA7-5A5D-4EB4-9924-823B282B7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60B0C6-4519-461E-881A-79B771E8E3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76FCA9-516C-462C-9DF5-EEC8153299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4F8073-5BCE-48EE-A43A-3582DDA679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EDB49F-83A8-4527-ADBB-B0D595F0FE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494748-8810-40EF-A06A-C961EE50789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2A6D4D7-3C79-4B3D-AE1F-5EDFAFA693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7E1E16-0047-413C-AE28-A147D7B07A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6654F5-5863-42E0-A536-243CBD5391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D0627E-369A-428B-8040-1B6D0F50F5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65D989-5E85-4140-85B3-59127BBAFD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21BB1-02CB-430E-AB22-53A82CB49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1B7192-F4B8-4C28-BAC9-8C27ED8576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033B13-9E92-48F2-9014-89B9A61374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B93088-5E93-4707-BD27-43B569986F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09465B-7FB6-406D-A117-1D1AE24200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FCA09B-C1C9-4F9A-A32D-C90A970659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32783A9-2A89-404F-899E-F58B65E179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D1DF91-891A-4669-8C3F-9431F42580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528C28-6338-4170-AA69-702A73FAFC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B53B0B-5C21-4997-A23F-9FE05FC9D3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857988-97B3-4234-A909-285E220005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0E2B3-CBBC-41C3-9CFC-87466B95B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8D4EFB-F0B2-453F-A04B-E41C7B352B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BB4A30D-9CAD-4299-9477-F90550372D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3D02F6-DBF0-4FEA-B809-1B360CF668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6D8FAB-A307-4ECA-93DE-11393C5294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58A9D3-E0FB-4E47-A303-A5FD7ED860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4A4D0D-6FA8-4F1E-B01A-40B0D5D3E9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192EF1-0035-41BD-8283-656233F6E1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4A89E97-304D-413A-8E0E-493664B85C2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2A02173-6ACA-4E4F-99AF-65B5C435829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E809039-34DA-44F6-9103-0CF5B896D02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F32D2-1F24-4587-B104-6EBD80A8E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6BA4A1E-49AE-4484-A607-49437BC95E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35BC435-9875-4B77-AEAC-9BDE3C7024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0103BA-834E-4A8E-930A-F8E6589C89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68DDD8-B017-454C-882D-FA057A1E42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721B3F-33CE-401F-83C6-70644AAEB9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C4CB20-A0AE-4A96-B314-A5DAA8B5A1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0E5B95-0666-4DB9-962F-D4E7A9890B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FD7626-A946-403B-A27F-3DBDFA4F8A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B8FB162-9563-42CE-A9C3-8AEB938832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6700564-E3F5-4137-AB19-4877CDC2719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69071-3EB8-4A45-90DE-19CBDF2D6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940DA58-8E3A-4C6D-AFC0-BCC46D584D0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FEE8864-05F8-4254-AD9E-51D2DEC3398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7CBA91-4DD5-4841-A6EE-9905853F0E5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9A40DC8-0BE6-45C0-9A3A-09D9B022BC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BD7088-CB6B-46DD-B53B-21C4A8FE8D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EB50B8A-57DB-4FDA-97DA-599920BD8C2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18F860-9260-4B07-8841-7B42CFDB5E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0B12EB-1FE6-4660-95CC-A49C59F252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699D3C-5560-42D7-A183-5304360653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68D5709-C989-4074-9836-64C2C3FE1B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C246-DE36-49A8-826A-D81401F07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44F9391-25A7-49A8-9D9A-2F55681173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257A50B-D6B8-481C-8076-0EB72F6DAF4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1142C10-EFE2-4323-A35C-DCEB12E2BA4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DAB6A3A-A0CF-40D6-8402-B44AF43D717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FB4C901-8AEE-4417-B779-A997EF5DEA7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B174E5-3D69-432D-80C2-7B76844929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84A03C3-940C-43D8-BF15-19731A2A536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A63F71E-00F9-4AD1-AB72-93D91DF80A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E65184E-F240-4587-B7FD-D692B0CF2D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6C67549-8A58-4D37-9F5D-2A3C9DF220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7FDA1-C57D-4FEA-A5B2-250939C12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7FE06-8C51-4F99-AFE6-7AE3A2903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0276B2-CA61-4C0B-BC69-5C424C3387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C38A6D3-E09A-4357-B99E-E7A41E47CA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91CC79C-FF62-4BB8-BAD7-277982D9EC4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8722176-C41E-455E-A79E-48DBD5A1AF5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B39E809-69CB-43F8-BF8D-6A7A4C25681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430A4-CC84-4F32-8AEE-B93417E81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4030E-2355-4093-A6F1-4896EAD64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E0E81-DE7A-463F-AF9C-64DE85F22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53694-C893-4BF6-804D-50AD1ACB1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7438E9-C58A-4F60-A64A-9B871FA18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726213-2E36-436C-8907-BB19950E6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3F82F-2A4F-402D-BE6F-53F49ABC2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2BC368-2E3E-4459-8CF4-A561D8116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0612D-DAC7-4F27-A30F-52BF75FDF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B7FD4-01B9-47AA-8C1A-6829833B9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3A971-29ED-493D-B63B-8B0380CA0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BE674-A844-4632-9AED-A0EF60978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4523C-2AB0-4A7B-8951-2ECBBC895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E3861-638A-4F2A-97DB-A1CDDD694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1266C-AA3A-4E35-94BC-63AF43AFF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92AFA3-DBD0-4D8C-ADA0-B9761F4B1C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3FD60-6F72-47AF-A465-DC379234AF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6D5B05-9161-4052-8C70-BA94A298E7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FEFB41-7380-4BCB-B5F3-384A66303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137032-871A-4A7A-9946-51E56AEC2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5F1D3-7903-4E6C-BB91-24BF6C20B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CD720-7F8D-4E85-94A5-3763DB1A1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3EC1B-C97D-4794-96AB-9DBE6BC33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9925F4-BAFA-4658-AAC1-E54D23C1C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C5A51-119C-47BA-A1B2-9454C19AB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E5653-8859-4DFC-A6D0-9EB168386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BE723-CCC5-48E4-B8E5-0A0DA1BC7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9D9E0-645E-4765-B0D7-F82887C7F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C021EA-222A-48E5-9A17-FFE81C7DB4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B6705E-07C5-498C-877E-3A3366652B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1DA59D-555E-4850-99D6-6D60909F9A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0430E-74B9-4440-B7E1-5F6622B86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BFA29-9D7D-4211-85F9-4B219F37C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00D2C-8ACD-4E73-91E1-9B5423B78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C3C69A-89A3-4F0E-9885-C26B6BB1C9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39217A-6E3F-4932-A3AB-E589B16F55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B4C386-EB4B-4DA0-B94F-ED17CFC44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DC767-5272-4799-A561-BCA5F1CF8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575E2-AFC6-456E-949F-F40C9F8A2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FF90E-9197-48BE-AD40-DB795D011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FE9AEC-133C-4FAC-B888-ED10B114CC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DF3B1A-773C-4691-9EFA-C9D4754188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51E30-760A-4589-AC23-9658919D2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2F056C-1B2F-4ED9-B8B2-5B40B610BE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851F3D-979A-42A2-85DE-552728EBD1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F617E1-7F54-46D7-8500-9E642C371B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006198-62EE-4C4F-B645-C39B9247AC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C13331-3919-4065-8FC5-978B06EB3D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E49B23-35CE-4C9B-B7CB-ADE4BDEBFD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A04DC1-CD5C-4FD2-8843-CE7DE7268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9B691-1849-4409-801A-8AABD2003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FCCE3F-1054-4BC7-B15B-841FB3BC1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F6841-C547-4773-B81C-2003CA3A1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0E747-1503-431B-8AD7-3E3C513D7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900078-BF18-463D-9123-95C2FEDA0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05B0DE-F39F-453C-825E-62457A0354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8BE6F1-F230-42D9-87AD-BA87543769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D51293-5456-48F9-98F0-3CE3071D4C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557FA2-87BA-4EC8-98EA-9BB61F3580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0118D3-F479-4647-B2AB-670B6C4B10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66604D-0012-4F0D-9A77-3DE49EC526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EDB08B-545B-48F6-BA24-119B2CCE54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33FA89-57C7-4A5E-A84F-092DD1E9AD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4EF1B-A2EF-4495-9C8B-8499CCB552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BDCF-E07F-45EA-A57F-EC21B471A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C85B0-BADC-4071-9DFB-683D34EDFF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AA976-12CA-4A4B-AEFB-CBA94B60F1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249867-9792-421D-8C83-1DDF1C29B1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06AC4F-B68E-4AE9-B3CF-25581CF0D0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5BB289-D682-404B-A190-D96AE64E3A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AB3155-4AEC-4875-BDC8-0022B9CF7A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BAC8B7-14D4-428C-93B3-109A4B86FC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56DCFC-F6F4-4C26-9AE3-08E6D27117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98A12A-6398-493E-82AC-A093783BD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C5025D-F3E3-4AA5-B38D-DBFD17D793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1DF27-842F-402E-BE68-DC481AC07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D6C1B-0B43-457A-8B9E-BDAA02C89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640EA8-DC7B-44ED-9C75-9EE4D4FD20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D196D2-EE87-4AAD-8F69-DB8A80720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E6BBA-D772-4150-9B2D-FED56E630E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507DB8-2208-46F2-B630-DAF01D0BD6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306BF7-3FDB-4400-9E76-E1345F97B4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882402-AB96-40E3-BFC3-E00CE45AB9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C2D0F3-74C5-4A2D-BDB2-8EA15B2D1F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49F565-D7B4-4CDB-8F9E-2CA9560130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83CE8-481E-40BB-9181-6ACF0095A0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7193-4EC9-4595-9E37-3A52C39C95EF}"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8967-1E6A-4C49-AB52-F6FEE02F3C4D}"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2739-001A-4C8E-A562-61FB8D9B1CB9}"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1C92-D6C6-44A6-9A21-B1B6DFCD744D}"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4355-613A-401A-94AD-5FA38A708AA3}"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058D-4710-4469-B76C-AC4855535A09}"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3716-E8D8-4990-9CD4-5CF49A4939E1}"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0204-6BDF-437E-88D6-401FA3A64E11}"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2FCA-AFAE-49CA-9DD7-93FA8DCD7388}"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38D8-5B85-4C79-9D8D-00CDD857CC6F}"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0BE4-967D-4D40-9ED1-247BCACB9A36}"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D299-D32A-4BE4-B35E-3BBA56C2F63A}"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8AA2-D4E0-47CE-8266-355F4785E7E3}"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AB8E-D3E6-4EB4-A981-5578D86C24E7}"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B91E-0079-46E0-B6CA-D32CEC7D11E1}"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037F-667C-474A-8DEA-4FD0E01D26A7}"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5353-D427-4744-8167-2324CAD26C9C}"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1942920" y="2514600"/>
            <a:ext cx="6599160" cy="2262240"/>
          </a:xfrm>
          <a:prstGeom prst="rect">
            <a:avLst/>
          </a:prstGeom>
          <a:noFill/>
          <a:ln w="0">
            <a:noFill/>
          </a:ln>
        </p:spPr>
        <p:txBody>
          <a:bodyPr anchor="b">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262626"/>
                </a:solidFill>
                <a:latin typeface="Century Gothic"/>
              </a:rPr>
              <a:t>    اتجاه الممارسات الملائمة نمائيا    </a:t>
            </a:r>
            <a:endParaRPr b="0" lang="en-US" sz="5400" spc="-1" strike="noStrike">
              <a:solidFill>
                <a:srgbClr val="262626"/>
              </a:solidFill>
              <a:latin typeface="Century Gothic"/>
            </a:endParaRPr>
          </a:p>
        </p:txBody>
      </p:sp>
      <p:sp>
        <p:nvSpPr>
          <p:cNvPr id="1184" name="PlaceHolder 2"/>
          <p:cNvSpPr>
            <a:spLocks noGrp="1"/>
          </p:cNvSpPr>
          <p:nvPr>
            <p:ph type="subTitle"/>
          </p:nvPr>
        </p:nvSpPr>
        <p:spPr>
          <a:xfrm>
            <a:off x="1942920" y="4776480"/>
            <a:ext cx="6599160" cy="1127160"/>
          </a:xfrm>
          <a:prstGeom prst="rect">
            <a:avLst/>
          </a:prstGeom>
          <a:noFill/>
          <a:ln w="0">
            <a:noFill/>
          </a:ln>
        </p:spPr>
        <p:txBody>
          <a:bodyPr anchor="t">
            <a:noAutofit/>
          </a:bodyPr>
          <a:p>
            <a:pPr indent="0"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                      المنهج النمائى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24000" y="1341360"/>
            <a:ext cx="8229600" cy="570384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ما انه داخل الروضة تتوفر فرص للتفاعل الاجتماعى لم تكن متوفرة داخل المحيط الاسرى و هذا مما يعاون الاطفال على الخروج من التمركز حول الذات</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ما ان الاطفال يجدون انفسهم احيانا مضطرين لتقديم تنازلات حتى يتسنى لمواقف اللعب من الاستمرار</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ما من حيث الاختلافات بين الجنسين ( الذكور و الإناث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8"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حجر الزاوية بالنسبة للصحة النفسية هو ارساء هوية جنسية ايجابية بمعنى تقبل الفرد و شعوره بالارتياح من كونه ذكرا او انثى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و يعتقد ان التنميط الجنسى يحد من مدى الخبرات التى يمكن ان يتلقاها الاطفال فى مواقف اللعب كما يحد من المفاهيم و المهارات المرتبطة بها كما قد يحد من فرص الخيال بالنسبة لما يودون القيام به حين يكبرون </a:t>
            </a:r>
            <a:endParaRPr b="0" lang="en-US" sz="1800" spc="-1" strike="noStrike">
              <a:solidFill>
                <a:srgbClr val="40404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539640" y="33300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00"/>
                </a:solidFill>
                <a:latin typeface="Century Gothic"/>
              </a:rPr>
              <a:t>دور المعلمة فى الارتقاء بالنمو العاطفي و الاجتماعي </a:t>
            </a:r>
            <a:endParaRPr b="0" lang="en-US" sz="3200" spc="-1" strike="noStrike">
              <a:solidFill>
                <a:srgbClr val="262626"/>
              </a:solidFill>
              <a:latin typeface="Century Gothic"/>
            </a:endParaRPr>
          </a:p>
        </p:txBody>
      </p:sp>
      <p:sp>
        <p:nvSpPr>
          <p:cNvPr id="1200" name=""/>
          <p:cNvSpPr txBox="1"/>
          <p:nvPr/>
        </p:nvSpPr>
        <p:spPr>
          <a:xfrm>
            <a:off x="457200" y="1628640"/>
            <a:ext cx="8229600" cy="469584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وفير الفرص للأطفال للاشتراك فى انشطة ملائمة لمرحلة نموهم و تجنب الضغط عليهم فى الاشتراك فى انشطة لا يرغبون فيها</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سلوك العاطفى و الاجتماعى فى مجمله متعلما فى معظمه و ليس موروثا و بالتالى فانه بالإمكان تغييره و تعديله تبعا للخبرات التي يمر بها الاطفال</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تشجع الاطفال على ان ينموا و يطبقوا و يوسعوا من مخزونهم الخاص بالتفاعلات الاجتماعية من خلال توفير الفرص للتفاعل الاجتماعى</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التقدير الفردى للأ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1"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تعى ان الكفاءة المتزايدة فى الميدان الاجتماعى يسمح للاطفال بأن يخططوا و ينفذوا و يقيموا انجازاتهم كما يتعلمون الكثير حول انفسهم و الآخرين و يختبروا قدراتهم فى مواقف اجتماعية تضم الكبار و الاقران </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التقدير الفردى للأ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1800" spc="-1" strike="noStrike">
              <a:solidFill>
                <a:srgbClr val="404040"/>
              </a:solidFill>
              <a:latin typeface="Century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النمو المعرفى </a:t>
            </a:r>
            <a:endParaRPr b="0" lang="en-US" sz="3600" spc="-1" strike="noStrike">
              <a:solidFill>
                <a:srgbClr val="262626"/>
              </a:solidFill>
              <a:latin typeface="Century Gothic"/>
            </a:endParaRPr>
          </a:p>
        </p:txBody>
      </p:sp>
      <p:sp>
        <p:nvSpPr>
          <p:cNvPr id="1203"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زايد الاهتمام بالنمو المعرفى مع تراكم الملاحظات حول انخفاض مستوى الاكاديمى للأطفال الذين يأتون من بيئات فقيرة مقارنة بأولئك الذين يأتون من بيئات ميسورة حيث توفر الاخيرة خبرات تعلم أكثر ثراء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ذلك توافرت الادلة على ان معامل الذكاء يعتبر محدد ضعيف على النجاح الاكاديمى اللاحق و كذلك على النجاح فى الحياة بصفة عامة و ان هذا المكون ليس ثابتا كما كان يعتقد فى الماضى مما نتج عنه نقلة نوعية فى برامج الطفولة  المبكرة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فهم الخصائص المعرفية لطفل ما قبل المدرسة يدعونا لتبنى سياسات تربوية و تعليمية متفردة و خاصة بهذه المرحل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395280" y="25992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cc0066"/>
                </a:solidFill>
                <a:latin typeface="Century Gothic"/>
              </a:rPr>
              <a:t>اساليب تفكير اطفال ما قبل المدرسة </a:t>
            </a:r>
            <a:endParaRPr b="0" lang="en-US" sz="3600" spc="-1" strike="noStrike">
              <a:solidFill>
                <a:srgbClr val="262626"/>
              </a:solidFill>
              <a:latin typeface="Century Gothic"/>
            </a:endParaRPr>
          </a:p>
        </p:txBody>
      </p:sp>
      <p:sp>
        <p:nvSpPr>
          <p:cNvPr id="1205" name=""/>
          <p:cNvSpPr txBox="1"/>
          <p:nvPr/>
        </p:nvSpPr>
        <p:spPr>
          <a:xfrm>
            <a:off x="457200" y="1483920"/>
            <a:ext cx="8229600" cy="484020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تميزون بالفضول و لكن لديهم قدر من التمركز حول الذات مما يحد من مكتسباتهم</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نمو لا يتم بصورة منعزلة فالخبرات الاجتماعية تستثير النمو المعرفى سواء أكانت مع الاطفال ام الكبار بما يقدمونه من سلوك المساندة </a:t>
            </a:r>
            <a:r>
              <a:rPr b="0" lang="en-US" sz="1800" spc="-1" strike="noStrike">
                <a:solidFill>
                  <a:srgbClr val="404040"/>
                </a:solidFill>
                <a:latin typeface="Century Gothic"/>
              </a:rPr>
              <a:t>scaffolding</a:t>
            </a:r>
            <a:r>
              <a:rPr b="0" lang="en-US" sz="1800" spc="-1" strike="noStrike">
                <a:solidFill>
                  <a:srgbClr val="404040"/>
                </a:solidFill>
                <a:latin typeface="Century Gothic"/>
              </a:rPr>
              <a:t> </a:t>
            </a:r>
            <a:r>
              <a:rPr b="0" lang="ar-SA" sz="1800" spc="-1" strike="noStrike">
                <a:solidFill>
                  <a:srgbClr val="404040"/>
                </a:solidFill>
                <a:latin typeface="Century Gothic"/>
              </a:rPr>
              <a:t>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ل طفل يظهر استعدادات مختلفة و لذلك يجب توفير أنشطة لعب تتضمن قدرا متوسطا من التحدى لكل طفل </a:t>
            </a:r>
            <a:r>
              <a:rPr b="0" lang="en-US" sz="1800" spc="-1" strike="noStrike">
                <a:solidFill>
                  <a:srgbClr val="404040"/>
                </a:solidFill>
                <a:latin typeface="Century Gothic"/>
              </a:rPr>
              <a:t>zone of proximal development</a:t>
            </a:r>
            <a:r>
              <a:rPr b="0" lang="en-US" sz="1800" spc="-1" strike="noStrike">
                <a:solidFill>
                  <a:srgbClr val="404040"/>
                </a:solidFill>
                <a:latin typeface="Century Gothic"/>
              </a:rPr>
              <a:t>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لغة تعتبر من العناصر الهامة التى تسرع بالنمو المعرفي فهي التي تيسر التفاعلات الاجتماعية التى من خلالها يتعلم مهارات و معارف جديد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57200" y="836640"/>
            <a:ext cx="8229600" cy="548784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بإمكان الاطفال تعلم عدد من المفاهيم و الموضوعات و لكن بأساليب تناسب طرق تفكيرهم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لا يمكنهم ان يعدوا ارقاما كبيرة كما لا يمكنهم القيام بعمليات جمع و طرح بصورة مجردة</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مهاراتهم فى التذكر محدودة و لكنهم يتذكرون السياق العام للأحداث</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تطور اللغة بقدر كبير من زيادة فى المفردات الى القدرة على تكوين جمل اكثر تعقيدا , و يقومون بعمليات استدلال حين يتعرضون لكلمات جديد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68360" y="54900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cc0066"/>
                </a:solidFill>
                <a:latin typeface="Century Gothic"/>
              </a:rPr>
              <a:t>دور المعلمة فى الارتقاء بالنمو المعرفى </a:t>
            </a:r>
            <a:endParaRPr b="0" lang="en-US" sz="3600" spc="-1" strike="noStrike">
              <a:solidFill>
                <a:srgbClr val="262626"/>
              </a:solidFill>
              <a:latin typeface="Century Gothic"/>
            </a:endParaRPr>
          </a:p>
        </p:txBody>
      </p:sp>
      <p:sp>
        <p:nvSpPr>
          <p:cNvPr id="1208" name=""/>
          <p:cNvSpPr txBox="1"/>
          <p:nvPr/>
        </p:nvSpPr>
        <p:spPr>
          <a:xfrm>
            <a:off x="1942920" y="2133360"/>
            <a:ext cx="6591240" cy="3778200"/>
          </a:xfrm>
          <a:prstGeom prst="rect">
            <a:avLst/>
          </a:prstGeom>
          <a:noFill/>
          <a:ln w="0">
            <a:noFill/>
          </a:ln>
        </p:spPr>
        <p:txBody>
          <a:bodyPr anchor="t">
            <a:normAutofit/>
          </a:bodyPr>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معلمات ينظر اليهن اليوم باعتبارهن ميسرات للتعلم و لسن ناقلات للمعرفة بالمعنى التقليدي القديم (من خلال إعدادهن للبيئة )</a:t>
            </a:r>
            <a:endParaRPr b="0" lang="en-US" sz="1800" spc="-1" strike="noStrike">
              <a:solidFill>
                <a:srgbClr val="404040"/>
              </a:solidFill>
              <a:latin typeface="Century Gothic"/>
            </a:endParaRPr>
          </a:p>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جب ان تعي بدورها فى توجيه التعلم </a:t>
            </a:r>
            <a:endParaRPr b="0" lang="en-US" sz="1800" spc="-1" strike="noStrike">
              <a:solidFill>
                <a:srgbClr val="404040"/>
              </a:solidFill>
              <a:latin typeface="Century Gothic"/>
            </a:endParaRPr>
          </a:p>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جب ان تعكس وعيها بأهمية اللعب فى الارتقاء بتعلم الاطفال و ان الكثير مما كنا نعتبره لعبا فى الماضي اصبحنا ندرك الآن انه من أنشطة الذكاء </a:t>
            </a:r>
            <a:endParaRPr b="0" lang="en-US" sz="1800" spc="-1" strike="noStrike">
              <a:solidFill>
                <a:srgbClr val="404040"/>
              </a:solidFill>
              <a:latin typeface="Century Gothic"/>
            </a:endParaRPr>
          </a:p>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ما ان اللعب الاستكشافي يعتبر خطوة هامة فى طريق الاستكشاف العلمي اللاحق </a:t>
            </a:r>
            <a:endParaRPr b="0" lang="en-US" sz="1800" spc="-1" strike="noStrike">
              <a:solidFill>
                <a:srgbClr val="404040"/>
              </a:solidFill>
              <a:latin typeface="Century Gothic"/>
            </a:endParaRPr>
          </a:p>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أيضا يساهم اللعب فى نمو الابتكار من خلال بناء النماذج و اللعب بالمكعبات و اللعب الدرامي و التخيلي و لذلك يجب على المعلمة ان توفر خامات اللعب التى تستثير هذه المهارات </a:t>
            </a:r>
            <a:endParaRPr b="0" lang="en-US" sz="1800" spc="-1" strike="noStrike">
              <a:solidFill>
                <a:srgbClr val="404040"/>
              </a:solidFill>
              <a:latin typeface="Century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cc0066"/>
                </a:solidFill>
                <a:latin typeface="Century Gothic"/>
              </a:rPr>
              <a:t>طبيعة التعلم </a:t>
            </a:r>
            <a:endParaRPr b="0" lang="en-US" sz="3600" spc="-1" strike="noStrike">
              <a:solidFill>
                <a:srgbClr val="262626"/>
              </a:solidFill>
              <a:latin typeface="Century Gothic"/>
            </a:endParaRPr>
          </a:p>
        </p:txBody>
      </p:sp>
      <p:sp>
        <p:nvSpPr>
          <p:cNvPr id="1210"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تعلم هو أي تغير فى السلوك ناتج عن الخبرة و هو يتأثر بكل من النضج و الخبرة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معلم الكفء يجب ان يكون قادرا على فهم عمليات التعلم الإنساني و كيفية البناء عليها و الارتقاء بها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جب ان يعي المعلم كيف ان النمو العقلي فى هذه المرحلة يسير بخطى سريعة قلما تتوفر فى أي مرحلة أخرى و لذلك فان المهارات التى يتم تعلمها فى هذه المرحلة لا تنسى بسهولة ( التعلم فى الصغر كالنقش على الحجر )</a:t>
            </a:r>
            <a:endParaRPr b="0" lang="en-US" sz="1800" spc="-1" strike="noStrike">
              <a:solidFill>
                <a:srgbClr val="404040"/>
              </a:solidFill>
              <a:latin typeface="Century Gothi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cc0066"/>
                </a:solidFill>
                <a:latin typeface="Century Gothic"/>
              </a:rPr>
              <a:t>اهم المسلمات فيما يتعلق بالتعلم </a:t>
            </a:r>
            <a:endParaRPr b="0" lang="en-US" sz="3600" spc="-1" strike="noStrike">
              <a:solidFill>
                <a:srgbClr val="262626"/>
              </a:solidFill>
              <a:latin typeface="Century Gothic"/>
            </a:endParaRPr>
          </a:p>
        </p:txBody>
      </p:sp>
      <p:sp>
        <p:nvSpPr>
          <p:cNvPr id="1212"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تعلم دائما ما يظهر فى السياق الاجتماعى , و دور الكبار و الاطفال الآخرين هو التوسط و تدعيم و توسيع هذا التعلم و يعتبر هذا الدور حاسما فى عمليات التعلم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الاطفال يمكن ان ينموا اما احساسا بالتمكن حول تعلمهم او ان ينموا احساسا بالعجز</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استغراق يعتبر من المفاهيم الدالة فى قياس ما اذا كان الاطفال يتعلمون ام لا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اطفال ذوو المستويات المرتفعة من الثقافة الانفعالية يكونون عادة متعلمين ناجحين اكثر من غيرهم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وسيلة شرح بيضاوية 3"/>
          <p:cNvSpPr/>
          <p:nvPr/>
        </p:nvSpPr>
        <p:spPr>
          <a:xfrm>
            <a:off x="1979640" y="1916280"/>
            <a:ext cx="5832360" cy="3025440"/>
          </a:xfrm>
          <a:prstGeom prst="wedgeEllipseCallout">
            <a:avLst>
              <a:gd name="adj1" fmla="val -20833"/>
              <a:gd name="adj2" fmla="val 62500"/>
            </a:avLst>
          </a:prstGeom>
          <a:solidFill>
            <a:srgbClr val="a53010"/>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entury Gothic"/>
                <a:cs typeface="Tahoma"/>
              </a:rPr>
              <a:t>ماذا يقصد بهذا المنهج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3600" spc="-1" strike="noStrike">
              <a:solidFill>
                <a:srgbClr val="262626"/>
              </a:solidFill>
              <a:latin typeface="Century Gothic"/>
            </a:endParaRPr>
          </a:p>
        </p:txBody>
      </p:sp>
      <p:sp>
        <p:nvSpPr>
          <p:cNvPr id="1214"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هناك ذكاءات متعددة بحاجة الى تغذيتها و رعايتها و دعمها اذا ما كان للاطفال ان يصلوا الى تحقيق قدراتهم كاملة </a:t>
            </a:r>
            <a:endParaRPr b="0" lang="en-US" sz="1800" spc="-1" strike="noStrike">
              <a:solidFill>
                <a:srgbClr val="40404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539640" y="40428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الملامح الأساسية التي تميز هذا المنهج : </a:t>
            </a:r>
            <a:endParaRPr b="0" lang="en-US" sz="3600" spc="-1" strike="noStrike">
              <a:solidFill>
                <a:srgbClr val="262626"/>
              </a:solidFill>
              <a:latin typeface="Century Gothic"/>
            </a:endParaRPr>
          </a:p>
        </p:txBody>
      </p:sp>
      <p:sp>
        <p:nvSpPr>
          <p:cNvPr id="1187" name=""/>
          <p:cNvSpPr txBox="1"/>
          <p:nvPr/>
        </p:nvSpPr>
        <p:spPr>
          <a:xfrm>
            <a:off x="468360" y="1773360"/>
            <a:ext cx="8229600" cy="453528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بنى المنهج وفقا لخصائص الاطفال النمائية</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تعلم لا يعرف بشكل ضيق بأنه اكتساب المهارات الاكاديمية فقط (فهى ليست غاية فى حد ذاتها , بل هى وسيلة لغاي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نطلق التخطيط للمنهج من الايمان بأن الرغبة فى التعلم فطرية و لسنا في حاجة لخلق الدافعية للتعلم و إنما تغذية هذه الرغب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لا يجب ان يعمل التعليم على عزل الطفل عن المجتمع</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أخطاء الطفل ذات قيمة لأنها خطوة فى طريق التعلم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هناك اعتراف بوجود فروق فردية بين الأطفال منذ البداية و الهدف ليس القضاء عليها و انما تنمية القدرات الفردية المتميز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57200" y="764640"/>
            <a:ext cx="8229600" cy="555948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لعب هو جوهر المنهاج فى الطفولة المبكرة و من خلاله يتعلم الأطفال ( هو ليس مكافأة و أنما هو النشاط الأساسى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ألعاب المقترحة فى المنهج يجب ان تتضمن اهدافا تربوية</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عدم اللجوء للشرح او المحاضرة</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539640" y="2852280"/>
            <a:ext cx="8229600" cy="114300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00"/>
                </a:solidFill>
                <a:latin typeface="Century Gothic"/>
              </a:rPr>
              <a:t>أهم ملامح النمو لدى طفل الروضة و خصائص هذا النمو</a:t>
            </a:r>
            <a:endParaRPr b="0" lang="en-US" sz="32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468360" y="1052280"/>
            <a:ext cx="8229600" cy="4389480"/>
          </a:xfrm>
          <a:prstGeom prst="rect">
            <a:avLst/>
          </a:prstGeom>
          <a:noFill/>
          <a:ln w="0">
            <a:noFill/>
          </a:ln>
        </p:spPr>
        <p:txBody>
          <a:bodyPr anchor="t">
            <a:normAutofit/>
          </a:bodyPr>
          <a:p>
            <a:pPr marL="272880" indent="-272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ff00"/>
                </a:solidFill>
                <a:latin typeface="Century Gothic"/>
              </a:rPr>
              <a:t>النمو الجسماني / </a:t>
            </a:r>
            <a:endParaRPr b="0" lang="en-US" sz="1800" spc="-1" strike="noStrike">
              <a:solidFill>
                <a:srgbClr val="404040"/>
              </a:solidFill>
              <a:latin typeface="Century Gothic"/>
            </a:endParaRPr>
          </a:p>
          <a:p>
            <a:pPr marL="272880" indent="-272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ff00"/>
                </a:solidFill>
                <a:latin typeface="Century Gothic"/>
              </a:rPr>
              <a:t>من سن </a:t>
            </a:r>
            <a:r>
              <a:rPr b="0" lang="ar-SA" sz="1800" spc="-1" strike="noStrike">
                <a:solidFill>
                  <a:srgbClr val="ffff00"/>
                </a:solidFill>
                <a:latin typeface="Century Gothic"/>
              </a:rPr>
              <a:t>5</a:t>
            </a:r>
            <a:r>
              <a:rPr b="0" lang="ar-SA" sz="1800" spc="-1" strike="noStrike">
                <a:solidFill>
                  <a:srgbClr val="ffff00"/>
                </a:solidFill>
                <a:latin typeface="Century Gothic"/>
              </a:rPr>
              <a:t>-</a:t>
            </a:r>
            <a:r>
              <a:rPr b="0" lang="ar-SA" sz="1800" spc="-1" strike="noStrike">
                <a:solidFill>
                  <a:srgbClr val="ffff00"/>
                </a:solidFill>
                <a:latin typeface="Century Gothic"/>
              </a:rPr>
              <a:t>6</a:t>
            </a:r>
            <a:r>
              <a:rPr b="0" lang="ar-SA" sz="1800" spc="-1" strike="noStrike">
                <a:solidFill>
                  <a:srgbClr val="ffff00"/>
                </a:solidFill>
                <a:latin typeface="Century Gothic"/>
              </a:rPr>
              <a:t> سنوات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تعلمون التحكم فى أجسامهم و يجب معاونتهم على صقل قدراتهم و مهاراتهم العضلية مثل الجرى و الوقوف على قدم واحدة لفترة يستكشف الطفل طولها بنفسه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نمى الاطفال قدراتهم على التركيز لذلك لا يجب مقاطعة أنشطتهم ما داموا مستغرقين فى النشاط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بدأون فى إظهار الاستعداد للعب التشاركى و يجب تشجيعهم على ذلك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بدأون فى تكوين صداقات حقيقية و لذلك يجب السماح لهم باختيار شركائهم فى اللعب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ملامح اضافية للنمو الحركى </a:t>
            </a:r>
            <a:endParaRPr b="0" lang="en-US" sz="3600" spc="-1" strike="noStrike">
              <a:solidFill>
                <a:srgbClr val="262626"/>
              </a:solidFill>
              <a:latin typeface="Century Gothic"/>
            </a:endParaRPr>
          </a:p>
        </p:txBody>
      </p:sp>
      <p:sp>
        <p:nvSpPr>
          <p:cNvPr id="1192" name=""/>
          <p:cNvSpPr txBox="1"/>
          <p:nvPr/>
        </p:nvSpPr>
        <p:spPr>
          <a:xfrm>
            <a:off x="1942920" y="2133360"/>
            <a:ext cx="6591240" cy="377820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معدة الاطفال من </a:t>
            </a:r>
            <a:r>
              <a:rPr b="0" lang="ar-SA" sz="1800" spc="-1" strike="noStrike">
                <a:solidFill>
                  <a:srgbClr val="404040"/>
                </a:solidFill>
                <a:latin typeface="Century Gothic"/>
              </a:rPr>
              <a:t>4</a:t>
            </a:r>
            <a:r>
              <a:rPr b="0" lang="ar-SA" sz="1800" spc="-1" strike="noStrike">
                <a:solidFill>
                  <a:srgbClr val="404040"/>
                </a:solidFill>
                <a:latin typeface="Century Gothic"/>
              </a:rPr>
              <a:t>-</a:t>
            </a:r>
            <a:r>
              <a:rPr b="0" lang="ar-SA" sz="1800" spc="-1" strike="noStrike">
                <a:solidFill>
                  <a:srgbClr val="404040"/>
                </a:solidFill>
                <a:latin typeface="Century Gothic"/>
              </a:rPr>
              <a:t>6</a:t>
            </a:r>
            <a:r>
              <a:rPr b="0" lang="ar-SA" sz="1800" spc="-1" strike="noStrike">
                <a:solidFill>
                  <a:srgbClr val="404040"/>
                </a:solidFill>
                <a:latin typeface="Century Gothic"/>
              </a:rPr>
              <a:t> سنوات نصف سعة معدة البالغ</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جب تشجيع الاطفال على تناول اطعمة متنوعة إلا ان ذلك لا يعنى ارغامهم على تناول طعام معين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معظم الاطفال يكونون قد اتموا التدريب على ضبط الاخراج عند التحاقهم بالروضة و بالتالى فإنهم سوف يعلنون رغبتهم على تفريغ امعائهم عندما يشعرون بالرغبة فى ذلك</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68360" y="47592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دور المعلمة فى الارتقاء بالنمو الحركى </a:t>
            </a:r>
            <a:endParaRPr b="0" lang="en-US" sz="3600" spc="-1" strike="noStrike">
              <a:solidFill>
                <a:srgbClr val="262626"/>
              </a:solidFill>
              <a:latin typeface="Century Gothic"/>
            </a:endParaRPr>
          </a:p>
        </p:txBody>
      </p:sp>
      <p:sp>
        <p:nvSpPr>
          <p:cNvPr id="1194" name=""/>
          <p:cNvSpPr txBox="1"/>
          <p:nvPr/>
        </p:nvSpPr>
        <p:spPr>
          <a:xfrm>
            <a:off x="1942920" y="2133360"/>
            <a:ext cx="6591240" cy="377820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إتاحة فرص متنوعة للخبرات الحركية لكي تيسر من نمو المهارات الحركية الكبيرة و الصغير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العاب التنافسية التى تعتمد على تكوين فريقين ليست محبذة</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وفير الخامات و الاجهزة الملائمة التى يمكنهم ان يستخدموها فى لعبهم التلقائى بحيث يقرروا انشطتهم بأنفسهم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بالإمكان أن تخطط المعلمة لبعض الانشطة التى تيسر المهارات الحركية كالحركة و الرقص و انشطة العلوم و الطهى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أن تراعى الاختلافات بين الأطفال فى معدلات النمو و التى تتجلى فى عدم اقبال بعض الاطفال على الانشطة التى تفوق قدراتهم فى هذه المرحل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ثانيا النمو الاجتماعى و الانفعالى </a:t>
            </a:r>
            <a:endParaRPr b="0" lang="en-US" sz="3600" spc="-1" strike="noStrike">
              <a:solidFill>
                <a:srgbClr val="262626"/>
              </a:solidFill>
              <a:latin typeface="Century Gothic"/>
            </a:endParaRPr>
          </a:p>
        </p:txBody>
      </p:sp>
      <p:sp>
        <p:nvSpPr>
          <p:cNvPr id="1196"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ؤثر الجوانب الانفعالية و العاطفية على كافة جوانب النمو الاخرى</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صبحون اقل تمركزا حول ذواتهم يصبحون اكثر قدرة على فهم الآخرين</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وصف اريك اريكسون مرحلة ما قبل المدرسة بانها مرحلة المبادرة(توليد افكار جديدة ) فى مقابل الشعور بالذنب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مكننا ملاحظة  ادلة على تطور الضمير الخلقى للطفل , الا ان ذلك الضمير لا يستقر قبل سنوات من هذه المرحل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5:55:23Z</dcterms:created>
  <dc:creator>ASUS</dc:creator>
  <dc:description/>
  <dc:language>en-US</dc:language>
  <cp:lastModifiedBy>gk omair</cp:lastModifiedBy>
  <dcterms:modified xsi:type="dcterms:W3CDTF">2016-05-01T17:01:22Z</dcterms:modified>
  <cp:revision>80</cp:revision>
  <dc:subject/>
  <dc:title>اتجاه الممارسات الملائمة نمائيا</dc:title>
</cp:coreProperties>
</file>