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D3F-5439-4DA6-84D9-77879137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910-A72F-4377-8CB9-9758495F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5C8EA-1784-479C-A564-3CFDF82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0D89B-19A4-4BC5-B117-6A62C5B4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B5D62-CD18-47E8-BD4B-CFE47801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9761B-38F1-4AD5-AA7E-AC66EFCA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10B5E-A5C7-4BC0-94B8-7543C532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70767-E416-454D-8188-B0F1D806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5025F-6C5D-4DC8-9675-A902CD36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66462-5AF4-4724-920D-DE5BC151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118D4-0F7E-4F3B-AB89-DFD1A41E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B77F0-4E18-40B6-9C22-37C7A809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A6F-D945-4A35-838D-555A4A89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EAA65-9619-437E-8244-81057138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6E613-25EC-485A-88C9-6862BC45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99B7B-79F2-41D0-91D6-4EBB515C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489D7-674B-4075-9718-DD071D23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3E13E-D1D6-41F5-8E5E-269016E7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5962C-64F8-42FC-9859-D5BA4F55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376A0-EB85-40A9-BBBD-431297D8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AAA42-8092-4C7D-B56D-DD32A693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1905A-BD48-4381-9F5F-7E129FB9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217B8-AF41-4B3E-B28C-0496BE7D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D2B-EFF6-457D-B8F0-54CBAC9C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71AFD-652B-495D-A935-D7932953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F9CA2-4A89-492B-B61F-9A15C7C4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06EE5-DE72-4348-B030-F1974584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1DA30-C4AD-4F56-A3D8-F674A1AC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1143F-1E43-454C-BDAE-DC2B9CE9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E2C07-5D76-48B2-82FE-070F61FE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B5231-0D77-4E57-8501-EFEA75DD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9FC76-0726-4435-878C-D1540F56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45787-78F5-4222-8399-3BE136C9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D87FA-F096-4A52-8C4D-7B6E4EC8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E842-BECC-4B98-AEA7-C17FDCD8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B1DF5-B051-43F1-8BF2-37352411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94CF6-DC90-48B7-ACE4-4370DAB2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FAD86-8FE7-4369-9B19-B3877B4F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74DF2-A83E-480E-AAFA-6407C055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462AB-2034-4F5A-AC33-E619793C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A2875-1A70-4408-BEAA-11A8E439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81A27-5739-4A52-BBCE-613E60E5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A7599-E760-4889-BA1A-E14FED83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C0C7E-4616-4AF1-A1F7-2386EB2E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1E3AA-BF6E-4AD1-ABE2-3E54C946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8E0D-DFAE-4A4F-B52C-2DBFD316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3FF12-AB7A-4101-863B-825117E3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B0720-FD0C-4297-AF07-060FAD60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B301C-BC54-465F-B3C4-997C4CE9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2AEA7-921B-4B67-87E6-D491555F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62EC0-031C-4BC4-98EA-9019DF60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F19B-B37E-4650-BF24-F588127B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6441-7966-431A-A8AB-9E2C5AE3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8E1F-85CD-41E5-9862-CC634E5D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B3E7-2258-4B8A-844D-28A650DB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037B-016A-4348-8E68-547F2A3C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470-2105-4E35-9ACF-C890F226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DE9F-85AC-42A8-AE96-F2AC35E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775C-9C08-4A15-9F28-A0F246C1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D91E-E570-431E-B8B0-FFF58058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491A-E7E1-4E8A-80B6-8E1B7060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1781-0295-41CC-82FA-A5D3FCBE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DAD4-69C7-4C96-B2AC-F74D2BD9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ABAC8-53FB-486A-B980-A7A40654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50BA-BA5E-4B25-8B5E-7F769FDE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AEBA0-9869-484C-8C15-1C5F70A8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715B-9C89-43E2-913C-384A78DB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963-2B22-4CF9-9A39-2E8E0B44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3A7D3-ACDB-49F7-AA34-CF3112AE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B00A-85E7-4BA3-8C87-28CF543B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D685-AB1F-4B69-9622-93D5E78D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8DBB1-EB19-4670-B5DB-8E8D88F2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17E1-5387-42D5-8FC6-73E9356E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8AD4-3DA3-413F-993A-7C3E75D1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43EBB-C40A-4A43-8175-4AD8A94C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3AEE-5F73-48AE-96AE-518DDC32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6A8EA-6BBA-4785-9CF0-89D8D8CC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6FB80-9CFD-4E60-9044-A5CE1F4E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AA0-1BF6-477F-90C8-930BCCA4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1B29-59A7-4BB3-9593-3007ABB5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3D9CF-8895-4606-A206-0B6EA003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2496-4DE4-4B66-99A9-270083B0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A37B7-14E5-4074-98F2-4E8EDCE6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F461F-0193-4B6A-9113-7D33B54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CD227-5124-4998-98C3-A2FC84BA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F7C9-79BE-4956-B728-A7EE4673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25E3-3957-4727-A136-FD8D632F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6EE9-38A4-42DA-A455-C56928C8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7B931-038B-4BD2-96B9-623E2D61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02E-8D32-46EC-B61A-9D49455D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1E5EE-AA34-4B74-8081-750E6F48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9DF81-90DE-43D9-AD23-EF4F9D8E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0D60-862D-4B96-AE93-1BB0AC02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97E8-C62E-496D-8F74-FF3102AE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1E8EA-F17A-40E8-8CCA-185E84BD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6EC94-7650-400F-B1E4-0A5F300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D4E6B-69A7-4EC2-A096-63C75B07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A4BE6-C44C-47D7-8499-38A1C0D4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58887-4721-4087-A556-DB513B3F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A77C2-10AB-4F83-A6F2-72BC2011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540-9396-4B95-B3B2-AE009194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8CDA2-3A8A-4C4C-BAD9-DF8107DE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2A3E4-DDFC-42E9-B02D-71793583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1992-AA3C-40EC-B318-D3101D2A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85A99-68F5-47FC-B85D-4B136305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BD299-E771-4EF8-9E1C-AED13995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FCE05-B447-4643-B315-2D1C0E6F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C557-90C0-4EBA-A9FC-3407FE53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AB37F-DABC-4259-8AC6-8624AC2D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05DFF-6D75-419D-8CC4-2E660CB3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96644-3D35-4A96-8185-D5A7D63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2B0-CC62-47C8-90BB-26AB0673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74CFF-0B40-4900-9FE4-C992C323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67733-67D6-4494-A86D-F040D10A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8B25F-3F3A-44A7-8A6D-6837398C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6CFF4-88EC-4031-A4F1-F5281546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A42E2-7D08-4392-8920-0921F379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CAF04-3A0B-4A77-8BBE-D7346C8A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E595F-E036-4E01-A4F6-A29E141D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0B39A-D627-4630-9F16-79A15794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25882-2E26-4F20-A374-60A07139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ADDD4-7D75-4861-92EB-C8C7F6B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492-DD9C-4F17-BBC6-A932F06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C4AEF-F4E8-4C28-ACEB-BECC7D1E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B72A7-0763-441D-B404-A10F0029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B24BE-3934-4D07-BD70-87DF2900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F6006-507A-4EBC-9B05-FC3A825D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C9521-323C-4A4F-9415-D3D3418B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DCF26-B128-4D00-A5EF-0ADDCD6D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074D5-71C2-41AB-937A-9CD90221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024C3-85E0-42F2-9E73-683E1ACB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67A0B-3EFC-40B2-8AA4-D3DFEF4A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66F4B-4BB2-4494-85F5-37F0DC69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B94-48A8-49DC-9F07-A19BEDA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4A23E-612F-4D1C-B18F-EF881630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B19CA-ACCD-44F9-9BE8-E1C662D1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EA2CC-52DB-44FA-9DC5-5A904FCF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398C4-B7CE-4E27-8F39-BAD9624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DA0BE-C5E2-4DD1-9606-6D4CCFAF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1EB7F-6EB9-49D9-BA48-B20DE595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AB082-7D1D-42C7-BC26-242CD213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3B731-CC74-46D0-9C02-2A964B96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99A2D-46E8-4122-893F-B7113AF8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C2626-54C2-4BE5-A699-0DB13C0F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3C7E-BB8F-4A5C-B325-1A71EC16A0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2255-DB9C-462C-A044-FB790FDD60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2275-1E56-4C1E-B1CC-3EBB253802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9B1D-77A8-47BF-9F8A-F9404488DF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EBD3-11A1-4A87-9611-382D092057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029D-0CD2-48C8-AE12-3F478D5BC1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86DA-318D-4A65-A775-646F6ABF86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0DD3-6447-4044-8FA2-C502B75779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1CF5-6DE7-48F7-928E-66971D175F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21AE-17FF-4FCD-85AF-2936F5C09D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F202-5994-44FD-8BE1-69473B7E25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8042-DE40-4932-816A-C69CDD8240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ؤسسات تجارة الجمل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8"/>
          <p:cNvSpPr/>
          <p:nvPr/>
        </p:nvSpPr>
        <p:spPr>
          <a:xfrm>
            <a:off x="857160" y="500040"/>
            <a:ext cx="7643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هي تلك الانشطة التي تقوم بها بعض المؤسسات والافراد بغرض البيع لتجارة التجزئة أو تجار جملة آخرين أو للمشتري الصناعي أو للمستهلك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684360" y="625320"/>
            <a:ext cx="7775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جه الاختلاف بين مؤسسات تجار الجملة ومؤسسا تجا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نوع الاسواق المتعامل ب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جم الطل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سلوب العمل والتنظيم الادار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1285920" y="189000"/>
            <a:ext cx="6572160" cy="75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انواع مؤسسات متاجر الجم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cs typeface="PT Bold Heading"/>
              </a:rPr>
              <a:t>تجار الجملة العادي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- تجار الجملة المتكامل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- تجار الجملة المتخصص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596960" y="295200"/>
            <a:ext cx="60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جملة لتجا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611280" y="1495440"/>
            <a:ext cx="7993080" cy="51483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ب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خز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نق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ائتمان التج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6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تقليل المخاط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7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تقدي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8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رقابة على جودة المنتج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وظائف مؤسسات الجملة للش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ounded Rectangle 2"/>
          <p:cNvSpPr/>
          <p:nvPr/>
        </p:nvSpPr>
        <p:spPr>
          <a:xfrm>
            <a:off x="934920" y="2349360"/>
            <a:ext cx="7272360" cy="30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خز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نق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ساعدات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تقدي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تحمل المخاط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فاعلية وتأثير مؤسسات الجملة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ربحية لمؤسسة الجملة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Lucida Sans Unicode"/>
              </a:rPr>
              <a:t>ادارة مؤسسات تجار الجملة</a:t>
            </a: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1-08T06:52:08Z</dcterms:modified>
  <cp:revision>909</cp:revision>
  <dc:subject/>
  <dc:title>الشريحة 1</dc:title>
</cp:coreProperties>
</file>