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9669-8DC0-432E-B384-D8EBD596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27AF-C8FD-4E6D-AF82-0E3C4526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D19A4-189B-4965-9690-041990C4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292421-A01A-4729-BB08-FCCCDF1C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251F4-404C-44C0-9B0A-7C4D8ABC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B61F1-C922-4AC1-9CEF-7ABB5CBC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80E6D-BD8C-4276-BF6D-0BEB19DE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AFD47-0A4F-4158-8FD6-3C96CBA1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E9913-6A27-426D-8C95-52673B19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0771C-018A-47B6-BBC1-CE353BD62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600C9-CB0C-4C8A-8817-8D2DC6B31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38BB31-BE65-41AE-8AC9-1DB413F23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8D50-FE09-47CF-AF3B-E88ACA018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B5561-5576-4D02-95D9-7D2E1456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171E9C-4714-4B8E-9C32-F282B29F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5391FD-DAFB-470C-A15B-82AA9600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D02C08-FAA3-47B0-AD46-7CFBDFB9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68A2A-79B8-47D8-9D3C-466992D5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F39DB-C971-4A15-B859-EAA748A3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C5A41-4F57-45CE-B8E4-D94C6F38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EA5FA-B5B0-4F3F-978A-CB0EF229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E06FCE-7B3E-4B14-85CD-16230CA1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674362-32BC-4256-9E46-94CB80E19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E4F3-0407-4DD2-996B-A9982A61A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5542C-8164-47B8-AB16-1F3A66DEC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84A2BB-6036-48EA-9280-E5B68341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886AC-A0A6-4C88-9681-099F1FB2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4FFFE-C7CE-4B6E-AA86-61A32B39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7D7CF-9961-4B4D-B14B-70D91BB6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4FE76-8487-41B1-A429-A027FB86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C55C8-23C5-4340-8C64-76F55855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413A5-173C-4BA5-AC70-2E010414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C421C-7DFE-4312-BA3E-917D3860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9B8C2-2727-4158-8CCB-7E742FDA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3CBF-030A-4D62-B984-D8CAEB1D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7A41C-6C87-4D39-94CA-8805C425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704A3-F3B1-4B53-BDA3-1BE5A1B1F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C635D-53E0-4057-A10E-D6232102D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04DB4C-81C6-400E-9524-38CF74DE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042EA7-15DF-4DA2-AC45-7CD82BBD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573A33-C4BF-4BC3-B499-0C7E0CA4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2DFC56-7450-49DA-9E24-D1C05A1E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17FDF7-EF75-43A4-9046-2C90C1F5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F3130E-5E12-486B-9EC9-6D280013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9305CC-FC41-4295-B30C-6BA401B2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C0A1-C329-4AD8-A096-3FE4FD30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1875DE-90FC-4D64-A31B-E1675BF4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4D5967-ECAC-4A1D-9694-BAAF0731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38D035-786A-4137-98E1-23A72602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8FDEC8-B457-4629-AFA5-2E39FC314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59997B-6784-4CEA-98BF-02852A19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7D1D-D3AD-46E2-ADEE-326690D2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C28A-0AAF-477D-9275-FB1BA464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D22E-26D8-4B62-B149-9B31833E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B506-1159-4201-AD6B-67F90A6A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6A0C-E319-41E7-A97B-C2B25619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551A-2C35-4F18-93A8-CC6D823E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5338-1042-4E59-A9C4-95C92E64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87A2-369A-410A-9631-C2E7255A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C39C-FA7B-48B7-92F9-02EFB2A9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1F9F-1BDD-40EC-A9AB-43AE57E80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FB99-5681-4A91-8430-67F634D94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8B757-38CB-4766-BAA4-0DCFA95F9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540A3-F63C-433C-B3B8-ACE21DB5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D2C84-72B9-4FDB-BDD0-D7287D3F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D799D-23A0-4C8D-BA6B-039D2AC3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C97F9-2B1E-4312-9856-3C10B0B8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5CDB-7E51-42BA-B4BE-C7A08A6D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6A683-C1F4-477A-A4B4-51BB4CF4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81920-0153-4878-A598-F159762C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7564D-63D5-40BB-8D6E-2456F2A4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0F164-CBE1-4DB4-BD22-573497A5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09BCC-FA82-4CFB-A1C7-EF05D634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E0D88-5098-411B-B395-D7624F76E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ADCC9-66B6-4A03-9E7B-754F41D3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FDD11-C484-4230-B7EF-0012ADFC3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C7C80-7A92-433D-9B8E-A0A7CA25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01810-4F49-4A76-9456-70F2EE27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93D4-DA6E-4DB7-A85D-43E51E0C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0DDB7-F37B-467C-B82A-80905DAF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89470-B799-4B97-9D03-06A9F07C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6524E-CC62-4D95-B24A-43DAB4C4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02BC3-619C-4AA6-85FF-D4FBFEC2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42627-EE3F-4221-8075-FEDABAB6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6558F-33BB-482E-A4D6-0536DBC7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6F5C5-187D-4646-A3E5-AEA93993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21EB6-DBE7-46E8-8CAB-12818929A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180E3-3714-4E45-9934-1D38EE53D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08D7F-4B2D-48F9-BC71-00375C91A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A28F-6D7A-4388-B1A8-C17FAFEC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6BB19-8866-4982-9844-ADCD239B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12B6E-F62F-4A85-9B54-F618A57D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4A2B3-A1FA-4953-B62B-D1C9E8DB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E3DF2-082A-440C-A314-D65FD639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FF36F-868F-4246-BECE-3065D394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E2F28-283B-45AC-BF5E-6888A663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89EC7-8955-4613-ADAC-7D4FD4B8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7197A-59E3-4071-970A-63BC6DB5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2EF24-BDC3-4318-A96B-0D1BF6DF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B00B7-C5E7-42E7-BEEB-2F4EB2E1F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1F54-3024-452A-93E2-A6754838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E1971-E47E-479C-920C-8DEBA431E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67D2E-2AEA-4357-A6EF-3BD2C7255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47969-B46B-48E5-96F3-E30FB8EC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1EE31-00DC-447D-BBC2-B9F61E90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E940A-FAB1-457D-A7A9-BB81E938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51256-BE7B-4143-BD25-8E693DA1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7C04D-3B99-49E9-8403-DC589D62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28974-F056-480D-AFAD-35CA8C13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ABE29-09F0-451A-A415-70A69775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9A337-7AA5-4789-B508-6D76380E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4540-40BE-48E0-BDFC-C24F4B7D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0DEB1-51C2-4B60-A166-CD1ADC03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C5BE7-2E45-487A-A2DC-34AF2699B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1160E-C15A-4D8A-A93C-A49A68AC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A8D68-F6B1-48B3-B637-7A3D83ECF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B78A1-8B70-4D9C-AD6B-68F59B15B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1F590-0794-43B4-8A0B-6AA7A060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5644C-33B3-455B-987F-123C72BB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00A5D-29C4-417F-8C84-36770C79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61470-42EC-478B-80E4-4DD414AE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3BD51-8843-48B7-A01C-8BBD42D0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F98F-EA4F-4012-AE22-959D8253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A29BF-016F-468C-B7FB-F85CB581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22DE4-0ADD-44BF-A7A7-FF720EDD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6CD7A-5895-4DF0-9724-CA146D7B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5DEBC-BB05-4A64-8B20-02968FB54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BC086-7830-493B-961A-ED129FD2A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DC356-638F-479D-B186-6F926B4FE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8E13C-9413-4D14-944A-AB414E25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0B120-CA4C-4D2A-91A5-20CE2C4F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28E63-C7BF-453B-850E-4C86C0F9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FB047-E8BB-453B-BAD4-EDCEB99D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6539-80E5-4D74-9440-F9CF4DC5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AC66A-04B0-4CBB-A9AA-CDADE8B8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CD319-2CC6-4C84-A9A3-57333F3F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BDC1E-D517-49A6-AF0E-E7CF8B99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5FAEB-3839-464F-927F-0CB1B3C2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7FE01-54AC-404E-AE7E-E9A33CDB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71434-0CD7-468E-8DE0-7F967618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E4ADB-D1D1-402B-ABF1-AA77BD003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FE31F-99CC-417B-8E56-BEB1FE53F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DC5A19-1C77-4AB4-A47C-38932B37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05AE6-D38C-420E-9DBD-9004DDBF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EDA4-082F-4A63-B689-411CC0D828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36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8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39" name="شكل حر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شكل حر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مثلث قائم الزاوية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42" name="مثلث قائم الزاوية 16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رابط مستقيم 18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45" name="شارة رتبة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شارة رتبة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26EB-7063-422F-BF01-0B1343B2F6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9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1EF3-5E29-4AD3-B9A2-C0A97536FB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3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5966-9737-44D1-B174-183CCF2634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مثلث قائم الزاوية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مجموعة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شكل حر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شكل حر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شكل حر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شكل حر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رابط مستقيم 20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20CC-BA0A-49B6-89C8-BC22CCDCC4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ACE3-0C6C-4D4C-94AF-634CD2761E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5" name="شارة رتبة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شارة رتبة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B45A-D6F3-4577-9C04-D77FFCFADD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0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2861-AE4A-4C04-866E-5B04C560E2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4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0CBF-7D1C-4B9D-8E52-77CC00C185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9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B6BF-33C2-4944-94D0-7571F1C3B1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1364-2073-468C-96AE-42D204F979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89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574E-E2DD-4034-86B0-2A101D2AAF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4"/>
          <p:cNvSpPr/>
          <p:nvPr/>
        </p:nvSpPr>
        <p:spPr>
          <a:xfrm>
            <a:off x="2771640" y="1174680"/>
            <a:ext cx="54435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  <a:cs typeface="PT Bold Heading"/>
              </a:rPr>
              <a:t>مؤسسات تجارة الجمل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8"/>
          <p:cNvSpPr/>
          <p:nvPr/>
        </p:nvSpPr>
        <p:spPr>
          <a:xfrm>
            <a:off x="857160" y="500040"/>
            <a:ext cx="76438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ea typeface="PT Bold Heading"/>
              </a:rPr>
              <a:t> هي تلك الانشطة التي تقوم بها بعض المؤسسات والافراد بغرض البيع لتجارة التجزئة أو تجار جملة آخرين أو للمشتري الصناعي أو للمستهلك النهائ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8"/>
          <p:cNvSpPr/>
          <p:nvPr/>
        </p:nvSpPr>
        <p:spPr>
          <a:xfrm>
            <a:off x="684360" y="625320"/>
            <a:ext cx="77752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وجه الاختلاف بين مؤسسات تجار الجملة ومؤسسا تجار التجزئ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نوع الاسواق المتعامل ب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حجم الطلب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اسلوب العمل والتنظيم الادار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8"/>
          <p:cNvSpPr/>
          <p:nvPr/>
        </p:nvSpPr>
        <p:spPr>
          <a:xfrm>
            <a:off x="1285920" y="189000"/>
            <a:ext cx="6572160" cy="75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da1f28"/>
                </a:solidFill>
                <a:latin typeface="Arial"/>
                <a:cs typeface="PT Bold Heading"/>
              </a:rPr>
              <a:t>انواع مؤسسات متاجر الجمل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1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- </a:t>
            </a:r>
            <a:r>
              <a:rPr b="1" lang="ar-SA" sz="4800" spc="-1" strike="noStrike">
                <a:solidFill>
                  <a:srgbClr val="002060"/>
                </a:solidFill>
                <a:latin typeface="Arial"/>
                <a:cs typeface="PT Bold Heading"/>
              </a:rPr>
              <a:t>تجار الجملة العاديو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2060"/>
                </a:solidFill>
                <a:latin typeface="Arial"/>
                <a:ea typeface="PT Bold Heading"/>
              </a:rPr>
              <a:t>2</a:t>
            </a:r>
            <a:r>
              <a:rPr b="1" lang="ar-SA" sz="4800" spc="-1" strike="noStrike">
                <a:solidFill>
                  <a:srgbClr val="002060"/>
                </a:solidFill>
                <a:latin typeface="Arial"/>
                <a:ea typeface="PT Bold Heading"/>
              </a:rPr>
              <a:t>- تجار الجملة المتكاملو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2060"/>
                </a:solidFill>
                <a:latin typeface="Arial"/>
                <a:ea typeface="PT Bold Heading"/>
              </a:rPr>
              <a:t>3</a:t>
            </a:r>
            <a:r>
              <a:rPr b="1" lang="ar-SA" sz="4800" spc="-1" strike="noStrike">
                <a:solidFill>
                  <a:srgbClr val="002060"/>
                </a:solidFill>
                <a:latin typeface="Arial"/>
                <a:ea typeface="PT Bold Heading"/>
              </a:rPr>
              <a:t>- تجار الجملة المتخصصو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AutoShape 8"/>
          <p:cNvSpPr/>
          <p:nvPr/>
        </p:nvSpPr>
        <p:spPr>
          <a:xfrm>
            <a:off x="1042920" y="1873080"/>
            <a:ext cx="7201080" cy="4770720"/>
          </a:xfrm>
          <a:prstGeom prst="flowChartDocumen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1596960" y="295200"/>
            <a:ext cx="609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وظائف مؤسسات الجملة لتجار التجزئ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6"/>
          <p:cNvSpPr/>
          <p:nvPr/>
        </p:nvSpPr>
        <p:spPr>
          <a:xfrm>
            <a:off x="900000" y="1357200"/>
            <a:ext cx="7458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ffffff"/>
                </a:solidFill>
                <a:latin typeface="Arial"/>
                <a:ea typeface="AL-Mohanad Bold"/>
              </a:rPr>
              <a:t>      </a:t>
            </a:r>
            <a:r>
              <a:rPr b="0" lang="ar-SA" sz="2800" spc="-1" strike="noStrike">
                <a:solidFill>
                  <a:srgbClr val="0d0d0d"/>
                </a:solidFill>
                <a:latin typeface="Arial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611280" y="1495440"/>
            <a:ext cx="7993080" cy="5148360"/>
          </a:xfrm>
          <a:prstGeom prst="rect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1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 الشرا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2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البي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3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 الخز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4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النق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5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 الائتمان التجار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6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 تقليل المخاط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7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 تقديم المعلوم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8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 الرقابة على جودة المنتج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8"/>
          <p:cNvSpPr/>
          <p:nvPr/>
        </p:nvSpPr>
        <p:spPr>
          <a:xfrm>
            <a:off x="118728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وظائف مؤسسات الجملة للشرك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ounded Rectangle 2"/>
          <p:cNvSpPr/>
          <p:nvPr/>
        </p:nvSpPr>
        <p:spPr>
          <a:xfrm>
            <a:off x="934920" y="2349360"/>
            <a:ext cx="7272360" cy="302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بي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خز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نق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مساعدات المال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تقديم المعلوم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تحمل المخاط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684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ar-SA" sz="5400" spc="-1" strike="noStrike">
                <a:solidFill>
                  <a:srgbClr val="000000"/>
                </a:solidFill>
                <a:latin typeface="Lucida Sans Unicode"/>
              </a:rPr>
              <a:t>- فاعلية وتأثير مؤسسات الجملة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ar-SA" sz="5400" spc="-1" strike="noStrike">
                <a:solidFill>
                  <a:srgbClr val="000000"/>
                </a:solidFill>
                <a:latin typeface="Lucida Sans Unicode"/>
              </a:rPr>
              <a:t>- الربحية لمؤسسة الجملة 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Lucida Sans Unicode"/>
              </a:rPr>
              <a:t>ادارة مؤسسات تجار الجملة</a:t>
            </a:r>
            <a:endParaRPr b="1" lang="en-US" sz="48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08:58:44Z</dcterms:created>
  <dc:creator>dokhails</dc:creator>
  <dc:description/>
  <dc:language>en-US</dc:language>
  <cp:lastModifiedBy>User</cp:lastModifiedBy>
  <dcterms:modified xsi:type="dcterms:W3CDTF">2017-11-08T06:52:08Z</dcterms:modified>
  <cp:revision>909</cp:revision>
  <dc:subject/>
  <dc:title>الشريحة 1</dc:title>
</cp:coreProperties>
</file>