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AD45-5565-423C-91E0-AE6283E5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E77A-E322-46DC-A2DC-68023550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0A981-F406-4C24-B16C-12DCE709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EDAA7-4E25-4E03-A1D6-A525EF65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6EFDD-1768-4E54-929C-BC992A71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70C7B-8FFF-43C3-852D-5A7E2830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7C103-773A-48CF-B59C-692DABED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2C478-4F91-4C6B-A2AB-9C522603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4E0D2-FD3C-42E7-B703-8F959612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86371-70F3-420A-8DD0-292A2A91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B9977-9996-48F6-99F2-4871404E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C74C3-1170-458B-8E5B-3AB9B5078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BEE-89A0-4E56-A76A-04857DBA4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0E2D2-D685-4A75-8DC9-5B709F7C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761DB-ED76-424B-B790-C1F722A0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975D0-817C-436F-B77D-45D77817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6E5DF-DD78-4EF5-ACE6-4935CDEA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32079-4A6B-4D63-A9D0-62B9F055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326E9-C0B1-42E6-9A3B-DBB495B5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59BCE-93BB-48D2-B673-04BF344D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08620-3673-4D39-B277-CAD0595B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6FD34-ACF9-4DD2-BA48-B6DBF110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9BC40-E8A3-41CF-9288-0339A687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7221-D79D-48E4-98FB-0953EA36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C0273F-2D22-4D47-B62F-9623C2D4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A8EF8-CF4B-49B2-994D-4FFC58A7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5CF1F-ED60-47CF-9D06-A33D371F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88A69-532A-494B-89EA-C3997E54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13862-BE59-4580-ACD1-4DAE2957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A2253-788B-45E4-8714-A6254030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536C9-34BC-4EC6-9897-2226D204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1D6F3-93DA-4A16-8806-F5001C76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24163-0ACF-455C-9423-FA83375D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BFFE5-7538-4387-8004-9E10A299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FC45-23E8-4BA4-9F22-D48D05A3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6F4C8-9C2D-4384-ABAE-7F546059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9695A-BCF0-4572-AAA8-20E446D4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8D428-FB1B-4D49-BF06-D99336F0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6C76B-56D3-4474-BF36-F68B284F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FFE51-EE01-4AAC-927F-48C2D568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B5B9B-8B84-4D90-9778-8D8236CF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C05F8-E85F-4175-921A-1CD5A2E1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9026B-1BF7-4866-91A5-3DF97633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03110-530E-40F7-9B91-F4747CA6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B8D1E-F784-4FDB-BB81-6B3F2828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5063-AA14-49ED-9BFA-853D4616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7A5C8-39E7-45E7-BE51-C0AD3F10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3800B-9381-473F-9218-B7056EBF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DE043-0951-4E68-914D-53F4C981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16A948-B27F-40BF-A9DA-A14E4887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B995C-F191-4D56-8F0A-D0E4F2E05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25B7-F1CE-43DF-B627-7D472B3F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831D-39B2-4C55-B9FA-530B5998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4003-86EC-4242-9C83-A68410C3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5B0A-71FC-4AD7-8A3E-CD4E2049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3E5D-A990-4B65-B39E-C2F69D6F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F0D2-CD60-4882-92F9-E000FF0C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B6F4-1C0C-4E86-96E7-00BD1C0C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54D0-E6C5-4F2E-880A-6EECDF39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91F1-1C8F-4E5A-BF31-5C600B8C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6E2A-FE9D-4341-A8C2-E1CAE2FE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6F23-9157-4A19-A46E-D307E142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98CBD-1D10-4668-BDB8-4B708E3E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1A041-5281-4EF8-A756-2B401016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55CE4-0C43-4747-9ACD-DE1A3E16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0BDAE-52BF-4259-9B0F-84DD289D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CCF2A-FA9B-46D7-BFC3-0463662D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06BC-8A5C-41FD-A297-2F62D73B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BABE5-A9E9-4365-80B1-FF047D9E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D43DD-D360-4A49-9C60-D86B87EA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62972-6A34-431B-A6A1-B6C35464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6CB6C-DD80-4933-AB5C-7FE8C982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1748-10A9-427B-9A94-4D48AC58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F83BF-9FD3-4380-A6F5-CE804E7B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6020F-8133-4112-A208-579EBD54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0FDAB-46AC-4258-AF51-1E571BDD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07699-0473-46B3-8706-B57E2D58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FD382-0BDC-48D1-B123-4DFCFE0A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124-DFB0-4D71-A5A3-D4391105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6BB74-8FA4-4869-8774-F85802BC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4D24F-7D1B-4DAF-B679-A10344FF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2F3CE-A81D-4DA3-AFA5-4609F7DA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408A3-9CAA-4778-8C80-8EFD07E2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ECAF0-F1E1-4EBD-8DFA-E3DC3DB0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B7505-E093-49A1-B2E7-AF97C62A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0935D-37DC-477F-9CED-607E42AD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AC56D-56FF-4ADB-8FB5-F0DEB918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2F0AE-DFD9-419E-AA76-00D4EF65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85741-E680-4189-983F-5AF22BA4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ACE-B2BA-4FB7-A088-7C4EF7E5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96476-02DF-4987-A2CD-6CC67E3B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BF2C5-9040-423C-9A11-ED3CDD99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09744-1836-4A2D-9235-A226A077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62F68-EF98-4E9F-BBA2-89A186F5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BDF71-2D3A-406D-8AEA-00AFB498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BACD7-3080-4B52-85F6-9186010F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F64BF-C83B-4663-AE6D-5FA89752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9C35D-AC01-44EA-B68A-64673772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88F4D-6610-430B-829F-A543709B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7D629-B93E-4252-A23B-63DC56B7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E8EE-3772-4B21-A287-DF1D880C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C0CEE-CFAE-4448-B67E-168E5789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1FEE9-23B6-442C-90C9-3FF2B815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9D5FA-57F9-40AF-91BB-7A206F99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F06DE-B589-463B-BDB0-9CAE5D8C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E15CC-B020-4A18-BB9E-C00CB085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A2000-43B4-4261-88E8-EEA52BB2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6B457-EB63-4529-8FA0-4E567C4D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47947-9B0A-4A4F-9C05-0D4097C6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264CB-7006-4040-B526-6A90BD4A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7ED7D-4664-4642-9DAA-608D2D6E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7420-9D1F-4EE6-87D6-B1300592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FEB7E-48BD-414F-AF88-2579B581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A3372-0136-4717-A0C2-D1C5E4E0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16E0A-50F5-4EBC-AD2D-1EA6C7EF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753D6-FBC5-444D-B3D8-7B41AEA9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560EE-D95E-414F-A6A9-FFB93E15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F786E-C382-4468-B534-EAF73290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F14B8-B463-4FE0-AC69-E0450157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EA588-F36D-4BF4-9681-C0B136C5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15B09-6BA7-43ED-B803-888155FB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D7F44-9357-4E7D-83C1-5F04BE33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CA78-F994-459D-AE62-B6029BAD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64D2D-9DEF-43DD-B630-EA14558E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67206-0E96-46FB-AC36-DEC0AB41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B6D4C-4C06-4563-A943-F8688CFA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FF17C-81C0-4A70-9DD2-2EB54827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4DC18-B9DB-42C3-9D23-5218176F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4FC98-6293-412F-8306-2D34D57C5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54C20-80D3-471A-82BD-82A5C85F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15B43-1127-42A4-A38F-788BD913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92170-FD6E-4662-8032-EF75C845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1634D-34A7-43B7-A9E1-1B3AA304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46F-9FA0-45C0-A997-229652B1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93C14-5784-4239-B6E7-F50153EB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3AB48-E7B1-4904-A4E1-61A8FFAF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6D8C0-ABC0-4E68-9716-5A14B961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BFAC5-D71A-4417-97C4-73592872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0D53A-9DE3-4C9A-B155-4DA2DA5F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16CED-EAC2-4EA2-919B-97C9FF26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5725A3-574A-4D1C-B996-0E8793F8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E5C41-96D9-405A-99EE-61F764FB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8438F-2625-4BFE-8BBE-A588164F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87808-970E-45F1-ABDD-72825EFB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0902-3B15-4938-9A47-D03BBC33AD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1A33-6CDE-4A77-A293-6552B800D5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CE28-467B-4A39-92A0-7570244206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8C83-E981-4476-BC78-AA8AA94C4BA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49B8-FC9B-4128-981D-7C27A9DCE6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A07F-1A11-40EF-93ED-527EBD227D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D410-C5AF-4BB0-A771-156E1F6760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9407-09FA-4753-A24B-47315F8EC5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0FF4-72B1-4E8E-B17D-D1077D21C0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71FF-280C-4688-A8DD-75C28CC88A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0F62-E341-494C-AE19-D52ADE6EF5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3F1D-6540-4ED0-B209-FC8B700E5C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1908000" y="1341360"/>
            <a:ext cx="54435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مؤسسات تجارة التجزئ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8"/>
          <p:cNvSpPr/>
          <p:nvPr/>
        </p:nvSpPr>
        <p:spPr>
          <a:xfrm>
            <a:off x="857160" y="500040"/>
            <a:ext cx="7643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2060"/>
                </a:solidFill>
                <a:latin typeface="Arial"/>
                <a:ea typeface="PT Bold Heading"/>
              </a:rPr>
              <a:t> هي كل العمليات والأنشطة التسويقية المرتبطة بشراء المنتجات لإشباع حاجات المستهلكين النهائيين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8"/>
          <p:cNvSpPr/>
          <p:nvPr/>
        </p:nvSpPr>
        <p:spPr>
          <a:xfrm>
            <a:off x="684360" y="625320"/>
            <a:ext cx="77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ظائف مؤسسات التجزئة نحو المنت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جميع والتصني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روي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خدمات مابعد الب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م المعلوم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ب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خز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مساعدة الموردين الصغ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8"/>
          <p:cNvSpPr/>
          <p:nvPr/>
        </p:nvSpPr>
        <p:spPr>
          <a:xfrm>
            <a:off x="684360" y="625320"/>
            <a:ext cx="777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ظائف مؤسسات التجزئة نحو الزبو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وفير احتياجات المستهلكين من السلع والخدمات في المكان المناس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وفير الاحتياجات من السلع والخدمات في الوقت المناس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وفير الاحتياجات من السلع والخدمات بالشراء بكميات صغير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م خدمات مابعد الب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مساعدة المستهلكين على الشراء بالتقسي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8"/>
          <p:cNvSpPr/>
          <p:nvPr/>
        </p:nvSpPr>
        <p:spPr>
          <a:xfrm>
            <a:off x="1285920" y="189000"/>
            <a:ext cx="657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a1f28"/>
                </a:solidFill>
                <a:latin typeface="Arial"/>
                <a:cs typeface="PT Bold Heading"/>
              </a:rPr>
              <a:t>مقومات مؤسسات متاجر التجزئة الناجح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ختيار الموقع المناس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2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ختيار السلع المناس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3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لتنظيم الداخلي للمتاج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4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ختيار رجال البيع الاكف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5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جذب الزبائ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6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- الاحتفاظ بنظام السجل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8"/>
          <p:cNvSpPr/>
          <p:nvPr/>
        </p:nvSpPr>
        <p:spPr>
          <a:xfrm>
            <a:off x="1042920" y="1873080"/>
            <a:ext cx="7201080" cy="4770720"/>
          </a:xfrm>
          <a:prstGeom prst="flowChartDocumen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596960" y="295200"/>
            <a:ext cx="6093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العوامل المؤثرة على نمو وتطور مؤسسات متاج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900000" y="1357200"/>
            <a:ext cx="745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ffff"/>
                </a:solidFill>
                <a:latin typeface="Arial"/>
                <a:ea typeface="AL-Mohanad Bold"/>
              </a:rPr>
              <a:t>      </a:t>
            </a:r>
            <a:r>
              <a:rPr b="0" lang="ar-SA" sz="2800" spc="-1" strike="noStrike">
                <a:solidFill>
                  <a:srgbClr val="0d0d0d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611280" y="1495440"/>
            <a:ext cx="7993080" cy="514836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عوامل البيئ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عوامل الاقتصادية والاجتماع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عوامل التكنولوجي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8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نواع مؤسسات متاج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ounded Rectangle 2"/>
          <p:cNvSpPr/>
          <p:nvPr/>
        </p:nvSpPr>
        <p:spPr>
          <a:xfrm>
            <a:off x="934920" y="1341360"/>
            <a:ext cx="7740720" cy="551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متاجر التجزئة الصغيرة المستق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متاجر التجزئة الكبيرة المتكام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ؤسسات الاستهلاكية والجمعيات التعاو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متاجر السوبر مارك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5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متاجر بيوت الخص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متاجر التجزئة المختلط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7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تاجر المتخصص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8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نواع مؤسسات متاجر التجزئ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ounded Rectangle 2"/>
          <p:cNvSpPr/>
          <p:nvPr/>
        </p:nvSpPr>
        <p:spPr>
          <a:xfrm>
            <a:off x="934920" y="1341360"/>
            <a:ext cx="7740720" cy="551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8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متاجرالبيع بالبريد الكتالو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9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طواف على المنازل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0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بيع بالهات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1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بيع الاوتوماتيك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2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نماذج المتطورة لمتاجر التجزئة السلاسل التطوع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539640" y="148428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الاختيار الموفق للاسواق المستهدفة وتطوير المزيج التسويقي المناسب .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الموقف التنافسي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17520" indent="-22212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5400" spc="-1" strike="noStrike">
                <a:solidFill>
                  <a:srgbClr val="000000"/>
                </a:solidFill>
                <a:latin typeface="Lucida Sans Unicode"/>
              </a:rPr>
              <a:t>- التحديات في نشاط التجزئة ( البيئة )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00"/>
                </a:solidFill>
                <a:latin typeface="Lucida Sans Unicode"/>
              </a:rPr>
              <a:t>ادارة مؤسسات متاجر التجزئة</a:t>
            </a:r>
            <a:endParaRPr b="1" lang="en-US" sz="4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User</cp:lastModifiedBy>
  <dcterms:modified xsi:type="dcterms:W3CDTF">2017-11-08T06:51:50Z</dcterms:modified>
  <cp:revision>910</cp:revision>
  <dc:subject/>
  <dc:title>الشريحة 1</dc:title>
</cp:coreProperties>
</file>