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161-5E86-44FA-9514-1FF88673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F93-9401-435A-8D2E-356CA74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D759C-A6FA-4D87-B868-44245C19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ED264-55C8-45D1-9BC8-1C49344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E40A3-E3F1-40CF-9F41-3A1B168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0DCFF-4BAE-452B-91D1-B4813921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8A03-03FD-49EE-8471-6DD494D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A3CD6-33E7-4938-9E59-6E2E1AA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28F4A-821B-433F-908F-07B1E128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220B4-A171-41FD-8323-763C0144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16FB-63BF-4E28-B80B-BE36B5E8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231A2-89BA-4D40-97E5-6D4DE224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BFE-C897-477F-9577-1E694D60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1CC57-BA68-4768-83B4-E8DBBBC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76859-3BB8-4135-B015-255AC66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A5777-0BBE-48BA-B932-B070610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D26DB-A673-4B26-B09E-DD50637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9EA67-07A1-44EE-8C85-A6752F4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C0003-D0D9-44F6-9F34-26DCC05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46F64-530B-41F7-A845-0151A76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071B-D67C-44B7-B1AE-EAC046D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EF01E-68E3-4EBC-A7FC-E59FD163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0516D-1EE5-47A8-A8DF-35F32EFB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3B6-66C6-4D8C-BC3C-2A9590C3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36D18-8D8E-44B4-BA44-0C54B114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3B7D2-7F87-4927-A52F-0A49FF1D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4E5C4-D985-466D-A58A-9AC15128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F64FE-6FEB-4E9C-9681-BA42D67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C7D30-0576-4C03-9DEF-D43170E7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D72B-910B-4BC7-869B-44AE1B44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0995-6D74-4CBF-9C09-8D1F593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6008E-B416-4626-87BB-D938BAE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A0716-CE94-4C92-BC12-2628AFF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BF36D-A104-49C4-B32E-AAEBBCB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92D-5FE3-4F5A-8042-5073F49D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E2F6D-3A2E-46FE-A3B2-1320CF7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6B10C-5735-446E-9531-E15D189D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F298-9BB4-43F3-875B-BE4B2CC9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D8425-757D-4A5B-9675-CF79082F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C8DAD-9629-4FEB-8718-1AEEB1AB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6E7FD-4A21-4D33-8434-4CC5EE9B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5CE2D-CE22-44A3-ADFD-9D02139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6072B-98A9-4F69-B839-4422B8F0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16077-1501-49CD-907B-6E7CFE42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E7098-5751-4047-A539-23F00FB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7087-599C-421A-B0B2-47873551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F8946-C51E-4823-92C9-2F38F3CF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A793A-CA44-4175-BCDF-6DE6E3AC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A5032-3167-4AC9-87CE-D1AC82B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9A682-8D70-458F-A3AB-C82B154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6DDAC-6EBB-4B49-B8AE-8CEEA49C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ED07-D7C7-429E-BADA-A8B4B5B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A80A-843A-450F-A415-50D39D1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3A9-CAAC-4AD3-86BF-3450430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5A8-3920-4F4D-A026-48538E7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6A78-4DB9-4716-A5A1-0E20C60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A15-68F1-4994-AE19-24E9C49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6CE8-3F54-4937-B9EE-F31180F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91A0-FE1B-474D-BD99-1C5D05F6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543-83B1-4707-91C0-7A8AE129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9001-B7C3-40D0-B121-42428D89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1458-EB47-4122-8A19-3360583A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7924-B965-4B5C-B9B1-CE6E8068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788E-6A8D-47B7-9B70-3C29F26E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4D16-28D7-4613-B70A-A97D14E0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5AEC-7A93-4FF0-8505-DE52EB7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5CA4-6ED4-4BDA-B8CD-281D9608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F89-05CD-42E7-99AE-FB82D0CF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A9B5-C559-47FB-B6B2-201A8BA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B21B-7D00-4E04-9453-BF39D1B2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832E-A65D-428B-9B72-858E02BA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9558-3B7D-4205-8A6B-C7DFE0A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D6A0-8167-45E5-8DA0-B71929FA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D231-C65D-4457-9BA5-5A6CE559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068A-87AF-4B7E-8187-9383F912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6AF9-0CF7-452C-9966-69C09D8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0D0C-6585-4153-BF22-DFB5A494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C3EE-AE00-4BC9-8363-DD873718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C89-9DC8-4B5C-AA96-D251DF1F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9638-50BF-4474-AB35-4F2BA4C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5A77-871F-4686-8EE7-BD20F93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129F-BF0A-44F2-9235-3A54D64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A1AF-3596-422F-91CA-5DFF288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D4FD-B79C-43EE-9FAC-CFDF488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F221-1EC7-45AF-B04C-7710265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653E-D80C-4010-B205-AD5C7A7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965A-C649-45E0-A62E-7FBB1AE6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A476-6BAA-4C54-9325-968E3262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6B93-98AA-4F0D-8A20-ABA72CEE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1B8-13A1-4E99-8F74-0B03B086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74F6-E697-41B3-9ABC-B5D180B1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4A49-7774-4557-A620-176321C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1E89-836D-4A2C-9091-EC23976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128C-19E2-4B2A-9A25-5C64F269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8ADB5-4ADB-4E7F-A2FC-3392F03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98A9-19CF-4026-8111-9227E4A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F8FCE-DC1A-4FED-A4B1-3BF9AF2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45D3-1CB3-4151-BC2B-24B276E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E798A-DFF5-4366-94F4-BBB19C29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E48B5-F6FC-4911-AE91-943904A8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9E8-C884-40C3-BC17-F1223F0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AE77-5FBD-4072-A51C-446E7996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A7DB0-0E88-4A5A-8C32-339D1A12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9E70-628E-44B3-AEA8-368EBD2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9ADE-14C6-4659-88C1-8F1FDAC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6FAC-F8E9-438F-9226-B3CDCF62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C813-B3F2-4A15-8A1A-C0ACE6C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9AB2C-DEF0-48BA-93CD-7D7E01B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C14C-9CE1-4E30-9FC4-C4955A2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52FA-8FB7-4C9E-9005-20B0BFA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C900-8F7D-4ECE-B10B-69F348D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02B-5A46-4BE9-9172-3F826D8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8380-0DF7-4DF3-A075-B87ACA49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5329F-CE5D-4D5C-AF4F-CA7CEC8E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98228-D344-442C-80E3-02286551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AE354-11CA-4A18-9FAC-392F2CEC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D33B-9805-4C67-AAE9-EB3B84F7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98A2C-4DDD-413E-AC97-5352791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689B0-FB69-47EF-AB64-EF5A67D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4DCA4-ACA4-4515-ACB0-BB0984E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0A4CB-5AE0-40A6-A6A7-5F0C867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7375-493E-4878-826A-FD89E6C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4AD-6EF1-41FE-A649-5B98713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03FA-4693-49BA-8D79-ABAB160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65A0-8208-498D-9036-E450A9ED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6056-282E-4825-8CA8-0924F799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BBD86-3DEF-4030-BF32-B3076BBC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A098-4027-44C5-8204-E05A8B02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2994-D4B1-4589-B57C-B18E05CE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DA98-C16B-4423-87E2-125D36B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9D81E-C727-469B-89B7-34D3D484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BFDB5-AC9A-4A32-8FF8-73866C4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21542-0173-4C92-8910-F9F9D25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387-32FB-42D3-9F5B-A558840B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972B7-A534-4719-B66B-5235ED07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4E6D0-1A1C-4579-AD3F-64F2D56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CC3E-CAC4-46E7-834B-A6261B3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2073-9865-4C32-BE94-217AF9FB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506B0-74CD-4D50-B74A-3DADF098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95338-CCEB-4ADC-8CEB-794F58E2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7C72-2AC6-403C-B5A7-F9A6A868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94A07-1F46-4B17-B228-32E7D569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86E4F-134F-40D1-AB18-E16246B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F5DF9-6B5C-4792-A1AA-FA54C3D7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8924-336F-4584-ADF6-7C40BA9667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9B8-C0D8-41DF-B119-55D315EA7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C946-EB76-43C1-9E4D-4BB6F02D45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B858-DB3A-42E6-AF67-AC20168394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A14F-46EB-4541-A99D-6571F9B09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BDFC-9024-43E6-8932-5CE30A557A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B31-B2E2-41A6-8163-2A32A2FECA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65F-F91E-43F7-93F3-EBADCE78E3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8C6D-D093-41EA-BB4B-C37BFB3DAC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162-5EED-4B22-8F37-EBBEA027F3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6708-BE71-4448-9F34-D1D7C2D49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6E86-AB96-44CB-B896-DF466E9CC3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1908000" y="134136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تجزئ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كل العمليات والأنشطة التسويقية المرتبطة بشراء المنتجات لإشباع حاجات المستهلكين النهائيي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منت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جميع والتصن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المعلو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ز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وردين الصغ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زب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حتياجات المستهلكين من السلع والخدمات في المكان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في الوقت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بالشراء بكميات صغي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ستهلكين على الشراء بالتقس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مقومات مؤسسات متاجر التجزئة الناجح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موقع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سلع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نظيم الداخلي للمتاج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رجال البيع الاك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5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جذب الزبائ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6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احتفاظ بنظام السج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596960" y="295200"/>
            <a:ext cx="60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وامل المؤثرة على نمو وتطور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بي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عوامل الاقتصادية والاجتماع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تكنولوج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التجزئة الصغيرة المستق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كبيرة المتكام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ؤسسات الاستهلاكية والجمعيات التعا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سوبر مارك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بيوت الخص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مختلط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تاجر المتخصص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البيع بالبريد الكتالو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طواف على المناز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بالهات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الاوتوماتيك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ماذج المتطورة لمتاجر التجزئة السلاسل التطوع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39640" y="1484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اختيار الموفق للاسواق المستهدفة وتطوير المزيج التسويقي المناسب 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موقف التنافسي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تحديات في نشاط التجزئة ( البيئة )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متاجر التجزئ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1:50Z</dcterms:modified>
  <cp:revision>910</cp:revision>
  <dc:subject/>
  <dc:title>الشريحة 1</dc:title>
</cp:coreProperties>
</file>