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C1CA0-47C5-4E53-A33F-3F8C2D48BAA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380880" y="685800"/>
            <a:ext cx="609624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اذا عن مجلس الادارة </a:t>
            </a:r>
            <a:endParaRPr b="0" lang="en-US" sz="1200" spc="-1" strike="noStrike">
              <a:solidFill>
                <a:srgbClr val="000000"/>
              </a:solidFill>
              <a:latin typeface="Calibri"/>
            </a:endParaRPr>
          </a:p>
        </p:txBody>
      </p:sp>
      <p:sp>
        <p:nvSpPr>
          <p:cNvPr id="3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5A96E-FDBE-4845-92D7-82F8102448E5}"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F7882-6201-4BBE-A533-3C1A21D93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C9A71-DFC8-42CE-AB32-C032088D4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B7868-5E63-42EC-819D-5E74A0611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B68AD-565F-4D55-BF81-5D30BE38F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79D5C-6D94-41F1-8CB1-BAC4547BA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CE13D-29C3-4DD4-8DF7-0297BD2C1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CDF2E-B572-4735-B304-C09C80FF7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6ACE6-F99B-485E-91A9-407D363AE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57CC1-C750-4371-B8AB-6BA5AC829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B66E2-45DE-4BC6-9AE7-895698F3A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6B825-8254-4BDF-BB7F-B54AE06F8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A1EE5-A847-4A7B-82FB-2E3533D77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79A3E-71E9-41FA-9198-9D75BB2EF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53D8E-BB01-40C1-84CE-4D1ADCD22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11862-5699-4D3D-B226-0621C7E27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FA627-F1A4-4F8D-9C72-01BC5397A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9FE8A-2A48-4AA0-80A8-52D88AEBF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BD58B4-F535-4C51-A079-27BD4B97D1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6EB6B-9E59-49C4-9C74-30CA4533E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0891F-FAF4-48B1-B239-4D32BB556E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11CAA-A236-45B5-9623-D9C2D575C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BD498-6685-4C98-B696-23229C252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FC4B1-FD4C-419A-B953-EEA04EEB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F8977-57C1-488C-9709-4F16D372B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9A92C-4A50-43C9-BAC6-30B7BEE26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66715-A868-41E9-915C-0FE9B2C7D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E5031-6CD6-49C4-8EAB-7FBBF0FF6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333B0-A7DA-4258-8768-3EA2431A3F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CCA2C6-0EE3-4985-9265-9F6A7846E4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3DA04F-490B-474E-8338-C40071F92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6B6C8A-EFA0-4192-86C5-922F2FEA08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3D82F-FD70-457A-87F9-7BEE133576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C5C52-37F6-4E9B-9056-E9F4D0583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D012E-0F6E-467E-95AD-5FD7211CA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D9CDA-6DAC-4B89-B0A2-473C85D59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8766A1-BFAA-4E38-8AEA-3B5586EBC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D6D09F-ECD0-436B-8C47-548AE07CEE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F66DA4-8862-43AA-8F12-14CD52CC4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46B9C-C355-40C3-A7DD-283EAC599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71D06-F8E4-490E-BF1A-17F3B517F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FC596-3ECA-43C1-96E8-50DCF55C7A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7E1B03-128F-4676-AABB-03CF773FBE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0B671D-4C2D-498A-BFB4-9E7507DDB0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D12068-1294-4CD5-95AC-87503A1FD2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603CB-E957-43BB-9B65-4D489EB6A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1353E-AD0A-45FB-BD03-E2047067F6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ACE680-CAF5-4615-8E62-6361898C28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3634E-77F0-41A1-BFCA-31D38797B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80B97E-14BA-452D-8463-781A4DD1F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5F959F-1615-406B-8149-9C2AA1BA1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5DE607-6AAB-4D67-B9D4-19558DB3F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7824C-B18E-4189-A497-69511C214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8C88C-C4A4-47D3-B27B-7A1BFA442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1CD1D-C82A-445F-B831-C31A91F439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0B9C9F-C233-4B81-B313-6CB45E2B1E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6D6A0-AD97-4C98-B465-671458D90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F5766F-7546-4AD4-A7D5-9524C9A24B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2CD4EC-A2A6-45B0-BD9E-5B19584FB1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F7B95E-FF28-49F3-A0B3-BD73594D1A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394F7-6E98-4002-8C6B-18C7B5DB3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727D2D-14A9-42E6-942B-A743B82414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333E0-F77C-4DEB-BFFC-A49B5C5C9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1F871D-C49F-4B9A-809F-72DF5F9F4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00BCB-59A3-4FFF-9C72-9DB5B1B939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DD3756-F223-4AFC-BC62-936A21F1D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84691-A7BC-4F6D-BA20-0369D352C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43C96-2CD3-485E-9EB9-3B3903520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4F1E5-F70A-47BB-8B70-4BE6DEEF28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96D34A-F924-4FED-8954-5C8A8FA780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6EC466-DEE3-446A-AD2C-73F5AC2B14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8DFEFB-14BE-4DFF-B702-5CFB2A19A8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3B0FED-D709-4EA1-B786-F8A51D9457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F9E6C1-D81E-4D0A-8235-1B1280A69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4D4E70-B338-469B-AC44-D418A02AB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FDB28D-7CB0-47B4-8386-94BD24DAB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7F40C8-56B0-4791-A5EA-74AB6C651F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7400F-2289-4E14-A90F-652E4D9220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829B2-51C8-462D-9585-61B186C08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FD1B5-DD4F-48D2-BFC7-0B85571FF4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0F1D5E-B2C3-4ABC-8951-1FA0C4158E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051B63-8836-45BB-A134-9E00A6B8EF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7513CA-FD1E-47AC-902B-19C9C5AF0D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B28AFB-B2F3-4E87-A088-5C31A44578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F510-6A61-441A-9A06-5AD513E71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B9510-AEDC-41F0-B554-8E4EF39D1914}"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40F41-B3F7-4B75-BDF6-9899E0962EB8}"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3F535-5A34-4CED-B482-4D1AF228CDA8}"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B1DD1-E9B0-4D72-9600-02528108306C}"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1CBE3-E93A-4AB3-A3BE-61E45FA8AD1F}"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CC149-35E4-4A3B-9CC3-073398C53BF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2D43B-7227-47B3-AD30-A76E8151A6D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719000" y="2604960"/>
            <a:ext cx="9875880" cy="1417680"/>
          </a:xfrm>
          <a:prstGeom prst="rect">
            <a:avLst/>
          </a:prstGeom>
          <a:noFill/>
          <a:ln w="0">
            <a:noFill/>
          </a:ln>
        </p:spPr>
        <p:txBody>
          <a:bodyPr lIns="90000" rIns="90000" tIns="46800" bIns="46800" anchor="b">
            <a:noAutofit/>
          </a:bodyPr>
          <a:p>
            <a:pPr indent="0" algn="ctr" rtl="1">
              <a:lnSpc>
                <a:spcPct val="100000"/>
              </a:lnSpc>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11617"/>
                </a:solidFill>
                <a:latin typeface="Times New Roman"/>
                <a:cs typeface="Arabic Transparent"/>
              </a:rPr>
              <a:t>تنفيذ المراجعة الداخلية</a:t>
            </a:r>
            <a:br>
              <a:rPr sz="4400"/>
            </a:br>
            <a:r>
              <a:rPr b="1" lang="ar-SA" sz="3200" spc="-1" strike="noStrike">
                <a:solidFill>
                  <a:srgbClr val="611617"/>
                </a:solidFill>
                <a:latin typeface="Times New Roman"/>
                <a:cs typeface="Arabic Transparent"/>
              </a:rPr>
              <a:t>الفصل الخامس – الجزء الثاني  </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9400" y="701640"/>
            <a:ext cx="993168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3" name=""/>
          <p:cNvSpPr txBox="1"/>
          <p:nvPr/>
        </p:nvSpPr>
        <p:spPr>
          <a:xfrm>
            <a:off x="1743120" y="2043000"/>
            <a:ext cx="10005840" cy="367848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عايـير: </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ي مجموعة القواعد والأنظمة التي على أساسها يقوم فريق المراجعة الداخلية بتقييم أداء الجهة المراجع عليها</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الاستفادة من معلومات الأخرى و يتم تضمينها مع المعايير وذلك للمساعدة في فهم الموضوع محل المراجعة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لعب المعرفة والخبرات الشخصية للمراجع الداخلي أيضا دوراً هاماً في معرفة ماذا يجب أن يكون عليه الوضع "الوضع النموذجي"</a:t>
            </a:r>
            <a:endParaRPr b="0" lang="en-US" sz="2000" spc="-1" strike="noStrike">
              <a:solidFill>
                <a:srgbClr val="000000"/>
              </a:solidFill>
              <a:latin typeface="Gill Sans MT"/>
            </a:endParaRPr>
          </a:p>
          <a:p>
            <a:pPr lvl="2" marL="825480" indent="-3049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على المراجع الداخلي أن يكون على علم بالمعايير اللازمة لعملية التقييم، ليستطيع الحكم على أداء الجهة المراجع عليها في ضوء هذه المعايير.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5" name=""/>
          <p:cNvSpPr txBox="1"/>
          <p:nvPr/>
        </p:nvSpPr>
        <p:spPr>
          <a:xfrm>
            <a:off x="1530360" y="1860480"/>
            <a:ext cx="10080720" cy="3998880"/>
          </a:xfrm>
          <a:prstGeom prst="rect">
            <a:avLst/>
          </a:prstGeom>
          <a:noFill/>
          <a:ln w="0">
            <a:noFill/>
          </a:ln>
        </p:spPr>
        <p:txBody>
          <a:bodyPr anchor="t">
            <a:normAutofit fontScale="93000"/>
          </a:bodyPr>
          <a:p>
            <a:pPr marL="425160" indent="-425160" algn="just" rtl="1">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حالـة: </a:t>
            </a:r>
            <a:endParaRPr b="0" lang="en-US" sz="2400" spc="-1" strike="noStrike">
              <a:solidFill>
                <a:srgbClr val="000000"/>
              </a:solidFill>
              <a:latin typeface="Gill Sans MT"/>
            </a:endParaRPr>
          </a:p>
          <a:p>
            <a:pPr lvl="1" marL="538920" indent="-283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حالة عبارة عن بيان يصف نتائج الفحص والمراجعة </a:t>
            </a:r>
            <a:endParaRPr b="0" lang="en-US" sz="2000" spc="-1" strike="noStrike">
              <a:solidFill>
                <a:srgbClr val="000000"/>
              </a:solidFill>
              <a:latin typeface="Gill Sans MT"/>
            </a:endParaRPr>
          </a:p>
          <a:p>
            <a:pPr lvl="2" marL="767520" indent="-2833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صف ما تم اكتشافه خلال المهمة</a:t>
            </a:r>
            <a:endParaRPr b="0" lang="en-US" sz="1600" spc="-1" strike="noStrike">
              <a:solidFill>
                <a:srgbClr val="000000"/>
              </a:solidFill>
              <a:latin typeface="Gill Sans MT"/>
            </a:endParaRPr>
          </a:p>
          <a:p>
            <a:pPr lvl="2" marL="767520" indent="-2833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صف ما الذي على المراجع فعله بالمقارنة مع القواعد والأنظمة التي تعتبر بمثابة المعايير. </a:t>
            </a:r>
            <a:endParaRPr b="0" lang="en-US" sz="1600" spc="-1" strike="noStrike">
              <a:solidFill>
                <a:srgbClr val="000000"/>
              </a:solidFill>
              <a:latin typeface="Gill Sans MT"/>
            </a:endParaRPr>
          </a:p>
          <a:p>
            <a:pPr lvl="1" marL="538920" indent="-283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وافق إدارة الجهة التي تمت مراجعتها على حقيقة الوضع الذي توصل إليه فريق المراجعة. </a:t>
            </a:r>
            <a:endParaRPr b="0" lang="en-US" sz="2000" spc="-1" strike="noStrike">
              <a:solidFill>
                <a:srgbClr val="000000"/>
              </a:solidFill>
              <a:latin typeface="Gill Sans MT"/>
            </a:endParaRPr>
          </a:p>
          <a:p>
            <a:pPr lvl="1" marL="538920" indent="-283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لجهة المراجع لها الحق في الموافقة أو الاعتراض على نتائج المراجعة أو التوصيات المقترحة. </a:t>
            </a:r>
            <a:endParaRPr b="0" lang="en-US" sz="2000" spc="-1" strike="noStrike">
              <a:solidFill>
                <a:srgbClr val="000000"/>
              </a:solidFill>
              <a:latin typeface="Gill Sans MT"/>
            </a:endParaRPr>
          </a:p>
          <a:p>
            <a:pPr lvl="1" marL="538920" indent="-283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عتبر الملاحظة معدة بطريقة غير ملائمة إذا استطاعت الجهه المراجع عليها الجزم بأن فريق المراجعة لم يحصل على الحقائق بطريقة صحيحة وبالتالي يمكن اعتبار الملاحظة عديمة الصلة بالموضوع. </a:t>
            </a:r>
            <a:endParaRPr b="0" lang="en-US" sz="2000" spc="-1" strike="noStrike">
              <a:solidFill>
                <a:srgbClr val="000000"/>
              </a:solidFill>
              <a:latin typeface="Gill Sans MT"/>
            </a:endParaRPr>
          </a:p>
          <a:p>
            <a:pPr lvl="2" marL="767520" indent="-2833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دائما تقدير الحالة بطريقة ملائمة ومناقشتها مبكراً مع الأشخاص الذين يخولهم موقعهم الوظيفي معرفة ماهية حقائق هذه الحالة</a:t>
            </a:r>
            <a:endParaRPr b="0" lang="en-US" sz="1600" spc="-1" strike="noStrike">
              <a:solidFill>
                <a:srgbClr val="000000"/>
              </a:solidFill>
              <a:latin typeface="Gill Sans MT"/>
            </a:endParaRPr>
          </a:p>
          <a:p>
            <a:pPr lvl="2" marL="767520" indent="-28332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في حال وجود أي اختلافات حول هذه الحقائق فإنه يجب العمل على حلها قبل رفع تقرير الملاحظات. </a:t>
            </a:r>
            <a:endParaRPr b="0" lang="en-US" sz="1600" spc="-1" strike="noStrike">
              <a:solidFill>
                <a:srgbClr val="000000"/>
              </a:solidFill>
              <a:latin typeface="Gill Sans MT"/>
            </a:endParaRPr>
          </a:p>
          <a:p>
            <a:pPr marL="425160" indent="-42516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521000" y="701640"/>
            <a:ext cx="1009008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7" name=""/>
          <p:cNvSpPr txBox="1"/>
          <p:nvPr/>
        </p:nvSpPr>
        <p:spPr>
          <a:xfrm>
            <a:off x="1626840" y="1915920"/>
            <a:ext cx="10132920" cy="436068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سبب: </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إعداد التوصيات , فريق المراجعة يحتاج إلى فهم واضح لسبب المشكلة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د يكون لكل حالة أكثر من سبب لكن السبب الأساسي عادة ما يكون قرارات ادارية اتخذتها إدارة الجهة المراجع عليها.</a:t>
            </a:r>
            <a:endParaRPr b="0" lang="en-US" sz="2000" spc="-1" strike="noStrike">
              <a:solidFill>
                <a:srgbClr val="000000"/>
              </a:solidFill>
              <a:latin typeface="Gill Sans MT"/>
            </a:endParaRPr>
          </a:p>
          <a:p>
            <a:pPr lvl="2" marL="825480" indent="-304920" algn="just" rtl="1">
              <a:spcBef>
                <a:spcPts val="400"/>
              </a:spcBef>
              <a:buClr>
                <a:srgbClr val="feb80a"/>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ذلك السبب الأساسي للحالة يجب أن يكون موجها نحو السياسات والإجراءات والممارسات التي تبنتها إدارة الجهة المراجع عليها. </a:t>
            </a:r>
            <a:endParaRPr b="0" lang="en-US" sz="1600" spc="-1" strike="noStrike">
              <a:solidFill>
                <a:srgbClr val="000000"/>
              </a:solidFill>
              <a:latin typeface="Gill Sans MT"/>
            </a:endParaRPr>
          </a:p>
          <a:p>
            <a:pPr lvl="2" marL="825480" indent="-304920" algn="just" rtl="1">
              <a:spcBef>
                <a:spcPts val="400"/>
              </a:spcBef>
              <a:buClr>
                <a:srgbClr val="feb80a"/>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يتم توضيح السبب إلى الدرجة التي يصبح فيها من الواضح أن تصحيح الحالة سيعالج أو سيمنع إعادة تكرار حدوث هذه الحالة مستقبلاً. </a:t>
            </a:r>
            <a:endParaRPr b="0" lang="en-US" sz="16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درك المراجع الداخلي أن الفهم الواضح لأسباب الحالة يحدد أسلوب واتجاه و فاعلية التوصيات </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9" name=""/>
          <p:cNvSpPr txBox="1"/>
          <p:nvPr/>
        </p:nvSpPr>
        <p:spPr>
          <a:xfrm>
            <a:off x="1530360" y="2017440"/>
            <a:ext cx="10336320" cy="367812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a:t>
            </a:r>
            <a:r>
              <a:rPr b="1" lang="ar-SA" sz="2400" spc="-1" strike="noStrike">
                <a:solidFill>
                  <a:srgbClr val="000000"/>
                </a:solidFill>
                <a:latin typeface="Gill Sans MT"/>
                <a:cs typeface="Majalla UI"/>
              </a:rPr>
              <a:t>لأثــر</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عد تحديد الفرق بين ما هو الوضع الحالي (الحالة) وما الذي يجب أن يكون عليه (المعايير)، يجب على فريق المراجعة تحديد التأثير الذي نجم أو سينجم عن هذا الاختلاف على الجهة التي يتم المراجعة عليها أو على النشاط أو الوظيفة محل المراجعة</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أثير الذي تحدثه الحالة قد يتمثل في قياس كمي لتأثير الحالة على الفعالية الاقتصادية والكفاءة معبرا عنه بمصطلحات كمية مثل الريالات السعودية، الوقت، وحدات الإنتاج، عدد الإجراءات والعمليات، أو التعاملات.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أثر هو العنصر الأساسي لإقناع إدارة الجهة المراجع عليها والإدارة العليا بأن الحالة القائمة غير مرغوب بها، وإذا استمرت فإنها ستتسبب بأذى وقد تكون تكلفة أضرارها أكثر من تكلفة إجراءات تصحيحها. </a:t>
            </a:r>
            <a:endParaRPr b="0" lang="en-US" sz="20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5960" y="701640"/>
            <a:ext cx="982512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1" name=""/>
          <p:cNvSpPr txBox="1"/>
          <p:nvPr/>
        </p:nvSpPr>
        <p:spPr>
          <a:xfrm>
            <a:off x="1521000" y="2052720"/>
            <a:ext cx="10090080" cy="380664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صنيف ملاحظات المراجع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نخفض</a:t>
            </a:r>
            <a:r>
              <a:rPr b="0"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a:t>
            </a:r>
            <a:r>
              <a:rPr b="0" lang="ar-SA" sz="2000" spc="-1" strike="noStrike">
                <a:solidFill>
                  <a:srgbClr val="000000"/>
                </a:solidFill>
                <a:latin typeface="Gill Sans MT"/>
                <a:ea typeface="Majalla UI"/>
              </a:rPr>
              <a:t> إن الملاحظة لا تشكل خطراً يذكر على نشاط الجهة المراجع عليها </a:t>
            </a:r>
            <a:r>
              <a:rPr b="1" lang="ar-SA" sz="2000" spc="-1" strike="noStrike" u="sng">
                <a:solidFill>
                  <a:srgbClr val="000000"/>
                </a:solidFill>
                <a:uFillTx/>
                <a:latin typeface="Gill Sans MT"/>
                <a:cs typeface="Majalla UI"/>
              </a:rPr>
              <a:t>و</a:t>
            </a:r>
            <a:r>
              <a:rPr b="0" lang="ar-SA" sz="2000" spc="-1" strike="noStrike">
                <a:solidFill>
                  <a:srgbClr val="000000"/>
                </a:solidFill>
                <a:latin typeface="Gill Sans MT"/>
                <a:cs typeface="Majalla UI"/>
              </a:rPr>
              <a:t>على الإدارة تصحيح الحالة المذكور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توسط = </a:t>
            </a:r>
            <a:r>
              <a:rPr b="0" lang="ar-SA" sz="2000" spc="-1" strike="noStrike">
                <a:solidFill>
                  <a:srgbClr val="000000"/>
                </a:solidFill>
                <a:latin typeface="Gill Sans MT"/>
                <a:cs typeface="Majalla UI"/>
              </a:rPr>
              <a:t>إن الملاحظة الموضحة ليس لها تأثيراً كبيراً على سير عمل أو إنتاجية الجهة المراجع عليها ولكن إن تم تجاهل تصحيح الخطأ فإن تأثير الخطر سيتضاعف ويكون أكبر على المدى الطويل.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عالي = </a:t>
            </a:r>
            <a:r>
              <a:rPr b="0" lang="ar-SA" sz="2000" spc="-1" strike="noStrike">
                <a:solidFill>
                  <a:srgbClr val="000000"/>
                </a:solidFill>
                <a:latin typeface="Gill Sans MT"/>
                <a:cs typeface="Majalla UI"/>
              </a:rPr>
              <a:t>هذه الملاحظات تتضمن الكثير من نقاط الضعف في جهاز الرقابة اي ان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ستوى المخاطر غير مقبول</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أساليب الرقابية داخل الجهة التشغيلية غير فعال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مخاطر يجب أن يعاد تقديرها ويتم العمل على تخفيضها بأسرع وقت ممكن.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679400" y="701640"/>
            <a:ext cx="993168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3" name=""/>
          <p:cNvSpPr txBox="1"/>
          <p:nvPr/>
        </p:nvSpPr>
        <p:spPr>
          <a:xfrm>
            <a:off x="1584360" y="2180880"/>
            <a:ext cx="1002672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سؤولية تجاه المذكرات الميدان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ن المسؤولية النهائية على صحة المذكرات الميدانية تعود إلى مدير المراجعة الداخلية</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كل المذكرات الميدانية تحتاج لموافقته قبل أن ترسل إلى إدارة الوحدة المراجع عليها</a:t>
            </a:r>
            <a:r>
              <a:rPr b="0" lang="ar-SA" sz="1600" spc="-1" strike="noStrike">
                <a:solidFill>
                  <a:srgbClr val="000000"/>
                </a:solidFill>
                <a:latin typeface="Gill Sans MT"/>
                <a:ea typeface="Majalla UI"/>
              </a:rPr>
              <a:t>.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سؤولية التأكد من أن كل المذكرات الميدانية قد تم توثيقها بطريقة ملائمة ومكتملة للمساعدة في تحقيق الأهداف المشروحة أعلاه فتقع على المراجع المسؤول (رئيس فريق المراجعة) ضمن فريق المراجعة.</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5" name=""/>
          <p:cNvSpPr txBox="1"/>
          <p:nvPr/>
        </p:nvSpPr>
        <p:spPr>
          <a:xfrm>
            <a:off x="1552680" y="2180880"/>
            <a:ext cx="1005840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راجعة وتنقيح الملاحظات:</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إدارة المراجعة الداخلية مراجعة وتنقيح الملاحظات قبل إرسالها إلى الجهة المراجع عليها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إحداث تغييرات على الملاحظات الميدان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عين مراجعة ومناقشة الملاحظات على مستوى فريق المراجعة ووحدة المراجعة الداخلية قبل إرسالها إلى الجهة المعن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أسفرت عمليات المراجعة والمناقشة عن استبعاد لبعض هذه الملاحظات فإنه يجب توثيق ذلك بعناية فائقة لما لذلك من مسئولية على إدارة المراجعة الداخلية. كما يجب أن يوافق مدير المراجعة الداخلية على استبعاد أى من الملاحظات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7" name=""/>
          <p:cNvSpPr txBox="1"/>
          <p:nvPr/>
        </p:nvSpPr>
        <p:spPr>
          <a:xfrm>
            <a:off x="1530360" y="2180880"/>
            <a:ext cx="1008072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إرسال الملاحظات إلى الجهة المراجع عليها:</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عد موافقة مدير المراجعة الداخلية على المذكرات الميدانية، يتم حفظ هذه المذكرات في ملف أوراق عمل المهمة للاعتماد عليه لاحقاً عند إعداد مسودة التقرير</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في نهاية العمل الميداني يتم إرسال قائمة بالملاحظات التي تضمنتها هذه المذكرات إلى مدير الجهة المراجع عليها قبل مدة كافية ( </a:t>
            </a:r>
            <a:r>
              <a:rPr b="0" lang="ar-SA" sz="2000" spc="-1" strike="noStrike">
                <a:solidFill>
                  <a:srgbClr val="000000"/>
                </a:solidFill>
                <a:latin typeface="Gill Sans MT"/>
                <a:ea typeface="Majalla UI"/>
              </a:rPr>
              <a:t>5</a:t>
            </a:r>
            <a:r>
              <a:rPr b="0" lang="ar-SA" sz="2000" spc="-1" strike="noStrike">
                <a:solidFill>
                  <a:srgbClr val="000000"/>
                </a:solidFill>
                <a:latin typeface="Gill Sans MT"/>
                <a:ea typeface="Majalla UI"/>
              </a:rPr>
              <a:t> أيام مثلا) من الاجتماع الختامي، وذلك لإخباره بكل الملاحظات التي تم تحديدها خلال مهمة المراجعة الداخلية</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59" name=""/>
          <p:cNvSpPr txBox="1"/>
          <p:nvPr/>
        </p:nvSpPr>
        <p:spPr>
          <a:xfrm>
            <a:off x="1467000" y="2180880"/>
            <a:ext cx="1014408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ملاحظات المكررة:</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توثيق ملاحظات المراجعة يجب بيان حالة الملاحظات فيما إذا كانت جديدة أو متكررة الحدوث.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وجود ملاحظات متكررة لم يتم حلها بعد أو اتخاذ الإجراءات التصحيحية حيالها يجب على فريق المراجعة أن يوثق عدم قيام الإدارة المسئولة على تنفيذ التوصية وأنها توافق على تحمل المخاطر المترتبة على استمرار الملاحظة أو أن الإدارة غير مدركة لحقيقة عدم التزامها بالمعايير والأنظمة التي تحكم الجهه</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لم يتم اتخاذ إجراء بعد تقرير المتابعة الثالث وتم كتابة التقرير للمرة الرابعة أو أكثر، </a:t>
            </a:r>
            <a:r>
              <a:rPr b="1" lang="ar-SA" sz="2000" spc="-1" strike="noStrike">
                <a:solidFill>
                  <a:srgbClr val="000000"/>
                </a:solidFill>
                <a:latin typeface="Gill Sans MT"/>
                <a:cs typeface="Majalla UI"/>
              </a:rPr>
              <a:t>فإنه يفترض أن تكون التوصيات لم تطبق نتيجة لموافقة الإدارة على تقبل المخاطر</a:t>
            </a:r>
            <a:r>
              <a:rPr b="0" lang="ar-SA" sz="2000" spc="-1" strike="noStrike">
                <a:solidFill>
                  <a:srgbClr val="000000"/>
                </a:solidFill>
                <a:latin typeface="Gill Sans MT"/>
                <a:ea typeface="Majalla UI"/>
              </a:rPr>
              <a:t> التي تم ذكرها داخل الملاحظ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الاجتماع الختامي</a:t>
            </a:r>
            <a:endParaRPr b="0" lang="en-US" sz="4000" spc="-1" strike="noStrike">
              <a:solidFill>
                <a:srgbClr val="572314"/>
              </a:solidFill>
              <a:latin typeface="Gill Sans MT"/>
            </a:endParaRPr>
          </a:p>
        </p:txBody>
      </p:sp>
      <p:sp>
        <p:nvSpPr>
          <p:cNvPr id="361" name=""/>
          <p:cNvSpPr txBox="1"/>
          <p:nvPr/>
        </p:nvSpPr>
        <p:spPr>
          <a:xfrm>
            <a:off x="1402920" y="2180880"/>
            <a:ext cx="1020780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الاجتماع الختامي</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ثل الاجتماع الختامي الفرصة الأخيرة لفريق المرجعة لتعريف الجهة المراجع عليها بطبيعة مهنتهم داخل المنشأة وبقواعد وحدة المراجعة الداخلية والمهنة بشكل عام</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يح الاجتماع الفرصة لبناء العلاقات الإيجابية مع إدارة الجهة المراجع عليها.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نصح عادة بأن لا يتخلل الاجتماع أية مفاجآت وبأن يتم حل كل القضايا قبل ذلك.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كون الاجتماع مختصراً على عرض ومناقشة عملية ونتائج المراجعة، أكثر من كونه اجتماع عمل، كما يجب الأخذ في الاعتبار أن الاجتماع الختامي قد يعقد بحضور أعضاء من الإدارة العليا والذين لم يشاركوا مباشرة في عملية المراجعة.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712880" y="156960"/>
            <a:ext cx="9996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أجندة </a:t>
            </a:r>
            <a:endParaRPr b="0" lang="en-US" sz="4300" spc="-1" strike="noStrike">
              <a:solidFill>
                <a:srgbClr val="572314"/>
              </a:solidFill>
              <a:latin typeface="Gill Sans MT"/>
            </a:endParaRPr>
          </a:p>
        </p:txBody>
      </p:sp>
      <p:sp>
        <p:nvSpPr>
          <p:cNvPr id="327" name=""/>
          <p:cNvSpPr txBox="1"/>
          <p:nvPr/>
        </p:nvSpPr>
        <p:spPr>
          <a:xfrm>
            <a:off x="1862280" y="1149120"/>
            <a:ext cx="9996480" cy="542124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نقاط التالية خاصة بتنفيذ عملية المراجعة : </a:t>
            </a:r>
            <a:endParaRPr b="0" lang="en-US" sz="28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خطاب الإعلان عن مهمة المراجعة </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كيفية الرقابة على تنفيذ مهام المراجع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إجراءات المراجعة التي يمكن استخدامها</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أدلة وقرائن المراجعة التي يمكن الاعتماد عليها</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Majalla UI"/>
              </a:rPr>
              <a:t>كيفية استخدام أساليب المعاين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عداد تقارير المراجعه </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ستلزمات تقارير مهام المراجع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صياغة ملاحظات المراجع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اجتماع الختامي</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رفع التقارير</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قارير المراجعة الداخلية لأطراف خارجية</a:t>
            </a: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730080" indent="-457200" algn="just"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الاجتماع الختامي</a:t>
            </a:r>
            <a:endParaRPr b="0" lang="en-US" sz="4000" spc="-1" strike="noStrike">
              <a:solidFill>
                <a:srgbClr val="572314"/>
              </a:solidFill>
              <a:latin typeface="Gill Sans MT"/>
            </a:endParaRPr>
          </a:p>
        </p:txBody>
      </p:sp>
      <p:sp>
        <p:nvSpPr>
          <p:cNvPr id="363" name=""/>
          <p:cNvSpPr txBox="1"/>
          <p:nvPr/>
        </p:nvSpPr>
        <p:spPr>
          <a:xfrm>
            <a:off x="1521000" y="1945800"/>
            <a:ext cx="10090080" cy="46609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ضع فريق المراجعة نصب عينيه ما يلي  خلال الاجتماع الختامي:</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توازن في كتابة التقارير</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لا يركز فريق المراجعة فقط على النتائج السلبية في المهمة بل يجب موازنة تقاريرهم عن طريق ذكر النتائج الإيجابية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حاضرون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يشتمل الحاضرون على مدير المراجعة , رئيس فريق المراجعة بالإضافة إلى مدير الإدارة ذات العلاقة أو مدير قسم الجهة التي تمت مراجعتها.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مكن لإدارة هذه الجهة دعوة أي شخص سيكون مسئولا عن تنفيذ الإجراءات التصحيحية المقترحة، أو أنه سيكون متأثراً بها.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تجنب عملية المواجهة </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يتجنب ممثلي وحدة المرجعة الداخلية عملية المواجهة أثناء الاجتماع الختامي ، ولتحقيق ذلك يجب عليهم استخدام العادات الحميدة للحوار مع الأطراف الأخرى وتجنب استخدام العبارات الشخصية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أن يسعى منسوبي وحدة المراجعة الداخلية إلى الحصول على وجهة نظر مشتركة مع الجهه المراجع عليهم لتأييد ملاحظاتهم وتوصياتهم. </a:t>
            </a:r>
            <a:endParaRPr b="0" lang="en-US" sz="16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55200" y="61596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65" name=""/>
          <p:cNvSpPr txBox="1"/>
          <p:nvPr/>
        </p:nvSpPr>
        <p:spPr>
          <a:xfrm>
            <a:off x="1584000" y="1936440"/>
            <a:ext cx="10239480" cy="452916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نواع التقارير</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رير المراجعة الداخلية يعتبر بمثابة النتيجة النهائية لعمل وحدة المرجعة الداخلية في أي مهمة لذلك يجب الانتباه عند إعداد تقرير المراجعة الداخلية ويجب التشديد على أهمية شكل ومحتوى وطريقة عرض التقرير.</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يجب أن تكون محتويات التقرير موثقة وكافية لتكون قادرة على التعجيل بتفعيل الإجراءت التي يتضمنها من قبل إدارة الجهة المراجع عليها. </a:t>
            </a:r>
            <a:endParaRPr b="0" lang="en-US" sz="16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تقرير المعروض بطريقة جيدة سيترك انطباعاً جيدا لدى إدارة الجهة المراجع عليها عن عمل المراجعين الداخليين</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إعداد تقارير المراجعة الداخلية على مرحلتين : </a:t>
            </a:r>
            <a:endParaRPr b="0" lang="en-US" sz="2000" spc="-1" strike="noStrike">
              <a:solidFill>
                <a:srgbClr val="000000"/>
              </a:solidFill>
              <a:latin typeface="Gill Sans MT"/>
            </a:endParaRPr>
          </a:p>
          <a:p>
            <a:pPr lvl="2" marL="863640" indent="-343080" algn="just" rtl="1">
              <a:spcBef>
                <a:spcPts val="400"/>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مسودة التقرير.</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تنقيح مسودة التقرير</a:t>
            </a:r>
            <a:endParaRPr b="0" lang="en-US" sz="1600" spc="-1" strike="noStrike">
              <a:solidFill>
                <a:srgbClr val="000000"/>
              </a:solidFill>
              <a:latin typeface="Gill Sans MT"/>
            </a:endParaRPr>
          </a:p>
          <a:p>
            <a:pPr lvl="2" marL="863640" indent="-343080" algn="just" rtl="1">
              <a:spcBef>
                <a:spcPts val="400"/>
              </a:spcBef>
              <a:buClr>
                <a:srgbClr val="feb80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التقرير النهائي.</a:t>
            </a:r>
            <a:endParaRPr b="0" lang="en-US" sz="16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67" name=""/>
          <p:cNvSpPr txBox="1"/>
          <p:nvPr/>
        </p:nvSpPr>
        <p:spPr>
          <a:xfrm>
            <a:off x="1563480" y="2000160"/>
            <a:ext cx="10047240" cy="367848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سودة التقرير: </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الانتهاء من العمل الميداني وحصر الملاحظات والحصول على ردود من الجهة المراجع عليها حول الأمور التي لا يوجد اتفاق عليها يقوم فريق المهمة بإعداد مسودة تقرير يلخص فيها كل الملاحظات والنتائج والتوصيات الخاصة بعملية المراجعة.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قد تؤدي المناقشات داخل وحدة المراجعة أو مع إدارة الجهة المراجع عليها إلى تغيير في مسودة التقرير.</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اقتراحات لتعديل التقرير في هذه المرحلة يجب أن تكون مقبولة وتطرح للنقاش وتأخذ بصدر رحب</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69" name=""/>
          <p:cNvSpPr txBox="1"/>
          <p:nvPr/>
        </p:nvSpPr>
        <p:spPr>
          <a:xfrm>
            <a:off x="1392120" y="2000160"/>
            <a:ext cx="10218960" cy="3678480"/>
          </a:xfrm>
          <a:prstGeom prst="rect">
            <a:avLst/>
          </a:prstGeom>
          <a:noFill/>
          <a:ln w="0">
            <a:noFill/>
          </a:ln>
        </p:spPr>
        <p:txBody>
          <a:bodyPr anchor="t">
            <a:normAutofit fontScale="99000"/>
          </a:bodyPr>
          <a:p>
            <a:pPr marL="452520" indent="-452520" algn="just" rtl="1">
              <a:spcBef>
                <a:spcPts val="601"/>
              </a:spcBef>
              <a:buClr>
                <a:srgbClr val="3891a7"/>
              </a:buClr>
              <a:buSzPct val="80000"/>
              <a:buFont typeface="Gill Sans M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نقيح مسودة التقرير ( مراحلة انتقالية ) </a:t>
            </a:r>
            <a:endParaRPr b="0" lang="en-US" sz="2400" spc="-1" strike="noStrike">
              <a:solidFill>
                <a:srgbClr val="000000"/>
              </a:solidFill>
              <a:latin typeface="Gill Sans MT"/>
            </a:endParaRPr>
          </a:p>
          <a:p>
            <a:pPr lvl="1" marL="573480" indent="-30168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كون فريق المهمة على استعداد لقبول التغييرات في صياغة التقرير وأي اقتراحات أخرى قد تكون مناسبة ما دامت لا تؤثر على: </a:t>
            </a:r>
            <a:endParaRPr b="0" lang="en-US" sz="2000" spc="-1" strike="noStrike">
              <a:solidFill>
                <a:srgbClr val="000000"/>
              </a:solidFill>
              <a:latin typeface="Gill Sans MT"/>
            </a:endParaRPr>
          </a:p>
          <a:p>
            <a:pPr lvl="2" marL="855000" indent="-3394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أفكار الرئيسة</a:t>
            </a:r>
            <a:endParaRPr b="0" lang="en-US" sz="1600" spc="-1" strike="noStrike">
              <a:solidFill>
                <a:srgbClr val="000000"/>
              </a:solidFill>
              <a:latin typeface="Gill Sans MT"/>
            </a:endParaRPr>
          </a:p>
          <a:p>
            <a:pPr lvl="2" marL="855000" indent="-3394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هتمامات وحدة المراجعة الداخلية</a:t>
            </a:r>
            <a:endParaRPr b="0" lang="en-US" sz="1600" spc="-1" strike="noStrike">
              <a:solidFill>
                <a:srgbClr val="000000"/>
              </a:solidFill>
              <a:latin typeface="Gill Sans MT"/>
            </a:endParaRPr>
          </a:p>
          <a:p>
            <a:pPr lvl="2" marL="855000" indent="-339480" algn="just" rtl="1">
              <a:spcBef>
                <a:spcPts val="400"/>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إجراءات التصحيحية</a:t>
            </a:r>
            <a:endParaRPr b="0" lang="en-US" sz="1600" spc="-1" strike="noStrike">
              <a:solidFill>
                <a:srgbClr val="000000"/>
              </a:solidFill>
              <a:latin typeface="Gill Sans MT"/>
            </a:endParaRPr>
          </a:p>
          <a:p>
            <a:pPr lvl="1" marL="573480" indent="-30168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د وجود حالة من عدم الاتفاق أو التناقض في تفسير الحقائق، فإن فريق المهمة يجب أن يشير في مسودة التقرير إلى وجهة نظر فريق المراجعة ويتم إرفاق وجهة نظر ورد الجهة المراجع عليها.</a:t>
            </a:r>
            <a:endParaRPr b="0" lang="en-US" sz="2000" spc="-1" strike="noStrike">
              <a:solidFill>
                <a:srgbClr val="000000"/>
              </a:solidFill>
              <a:latin typeface="Gill Sans MT"/>
            </a:endParaRPr>
          </a:p>
          <a:p>
            <a:pPr lvl="1" marL="573480" indent="-30168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راجع ويوافق مدير وحدة المراجعة على مسودة التقرير، وذلك قبل إرسالها إلى مدير إدارة الجهة المراجع عليها الذي سيقوم بإضافة ردود على هذه المسودة </a:t>
            </a:r>
            <a:endParaRPr b="0" lang="en-US" sz="2000" spc="-1" strike="noStrike">
              <a:solidFill>
                <a:srgbClr val="000000"/>
              </a:solidFill>
              <a:latin typeface="Gill Sans MT"/>
            </a:endParaRPr>
          </a:p>
          <a:p>
            <a:pPr lvl="1" marL="573480" indent="-30168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754280" y="701640"/>
            <a:ext cx="985680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1" name=""/>
          <p:cNvSpPr txBox="1"/>
          <p:nvPr/>
        </p:nvSpPr>
        <p:spPr>
          <a:xfrm>
            <a:off x="1679400" y="2000160"/>
            <a:ext cx="9931680" cy="3678480"/>
          </a:xfrm>
          <a:prstGeom prst="rect">
            <a:avLst/>
          </a:prstGeom>
          <a:noFill/>
          <a:ln w="0">
            <a:noFill/>
          </a:ln>
        </p:spPr>
        <p:txBody>
          <a:bodyPr anchor="t">
            <a:normAutofit/>
          </a:bodyPr>
          <a:p>
            <a:pPr marL="457200" indent="-457200" algn="just" rtl="1">
              <a:spcBef>
                <a:spcPts val="601"/>
              </a:spcBef>
              <a:buClr>
                <a:srgbClr val="3891a7"/>
              </a:buClr>
              <a:buSzPct val="80000"/>
              <a:buFont typeface="Gill Sans M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قرير النهائي</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ثل التقرير النهائي المنتج الأساسي لعملية المراجعة ويجب أن يحفظ في ملف أوراق العمل.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ن كل مهمة يقوم بتنفيذها المراجع الداخلي قد يكون لها هدف مختلف عن المهام الأخرى ولذلك لم تحدد المعايير المهنية شكل محدد لتقرير المراجع الداخلي.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3" name=""/>
          <p:cNvSpPr txBox="1"/>
          <p:nvPr/>
        </p:nvSpPr>
        <p:spPr>
          <a:xfrm>
            <a:off x="1595160" y="2000160"/>
            <a:ext cx="10015560" cy="3678480"/>
          </a:xfrm>
          <a:prstGeom prst="rect">
            <a:avLst/>
          </a:prstGeom>
          <a:noFill/>
          <a:ln w="0">
            <a:noFill/>
          </a:ln>
        </p:spPr>
        <p:txBody>
          <a:bodyPr anchor="t">
            <a:normAutofit/>
          </a:bodyPr>
          <a:p>
            <a:pPr marL="304920" indent="-3049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الإضافة إلى صفحة غلاف التقرير النهائي  والذي يعتبر جزء من التقرير النهائي الذي يتم إرساله إلى الجهة التي تمت مراجعتها، تعتبر الهيكلة التالية لتقرير المراجعة الداخلية النهائي هي الأكثر شيوعا:</a:t>
            </a:r>
            <a:endParaRPr b="0" lang="en-US" sz="24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عنوان التقرير والجهة المقدم إليها التقرير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قدمة</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لخص التنفيذي </a:t>
            </a:r>
            <a:r>
              <a:rPr b="0" lang="en-US" sz="2000" spc="-1" strike="noStrike">
                <a:solidFill>
                  <a:srgbClr val="000000"/>
                </a:solidFill>
                <a:latin typeface="Gill Sans MT"/>
                <a:ea typeface="Majalla UI"/>
              </a:rPr>
              <a:t>Executive Summery</a:t>
            </a:r>
            <a:r>
              <a:rPr b="0" lang="en-US"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خلفية عن مهمة المراجعة</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هدف والنطاق</a:t>
            </a:r>
            <a:endParaRPr b="0" lang="en-US" sz="2000" spc="-1" strike="noStrike">
              <a:solidFill>
                <a:srgbClr val="000000"/>
              </a:solidFill>
              <a:latin typeface="Gill Sans MT"/>
            </a:endParaRPr>
          </a:p>
          <a:p>
            <a:pPr lvl="1" marL="579600" indent="-3049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لاحظات والتوصيات وردود الادارة</a:t>
            </a:r>
            <a:endParaRPr b="0" lang="en-US" sz="2000" spc="-1" strike="noStrike">
              <a:solidFill>
                <a:srgbClr val="000000"/>
              </a:solidFill>
              <a:latin typeface="Gill Sans MT"/>
            </a:endParaRPr>
          </a:p>
          <a:p>
            <a:pPr marL="304920" indent="-3049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4920" indent="-3049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5" name=""/>
          <p:cNvSpPr txBox="1"/>
          <p:nvPr/>
        </p:nvSpPr>
        <p:spPr>
          <a:xfrm>
            <a:off x="1521000" y="2000160"/>
            <a:ext cx="10090080" cy="36784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غيرات التي تطرأ على التقرير:</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رير المراجعة النهائي هو من مسؤولية مدير وحدة المراجعة الداخل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لا يجب إجراء أي تغيير على التقرير إلا في ظروف استثنائية وبعد الحصول على موافقة خطية مسبقة من مدير وحدة المراجعة ويجب توثيق الموافقة الخطية وحفظها في ملف أوراق عمل المهمة.</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7" name=""/>
          <p:cNvSpPr txBox="1"/>
          <p:nvPr/>
        </p:nvSpPr>
        <p:spPr>
          <a:xfrm>
            <a:off x="1456920" y="2000160"/>
            <a:ext cx="10153800" cy="36784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سليم التقارير:</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إرسال نسخة من تقرير المراجعة النهائي إلى الجهة المراجع عليها لتبليغها بالنتائج والتوصيات.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ويطلب منها الرد خلال مدة معقولة من تاريخ التسليم (حددتها اللائحة بثلاثين يوما) وإن كنا نرى أن هذه الفترة طويلة نسبيا ويمكن للجهة تحديد فترة أقل من ذلك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79" name=""/>
          <p:cNvSpPr txBox="1"/>
          <p:nvPr/>
        </p:nvSpPr>
        <p:spPr>
          <a:xfrm>
            <a:off x="1785960" y="2000160"/>
            <a:ext cx="9825120" cy="36784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تابعة التقرير:</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ن أجل ضمان إضافة قيمة للجهة المراجع عليها فإنه لا بد من عملية المتابعة التي تحدد ما إذا كان قد تم تفعيل الإجراءات التصحيحية المناسبة بحسب ما ورد في تقرير ملاحظات المراجع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تم عملية المتابعة من خلال التأكد من استلام الرد على تقرير المراجعة خلال المدة المحدد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إذا لم يتم استلام الرد خلال المدة المحددة يتم رفع الأمر إلى المستوى الإداري الأعلى من الجهة المراجع عليها فإن تأخر الرد مرة أخرى عن ثلاثين يوما أو اعترض المستوى الإداري الأعلى فيجب رفع الأمر إلى المسئول الأول بالمنشا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عملية رفع التقارير</a:t>
            </a:r>
            <a:endParaRPr b="0" lang="en-US" sz="4000" spc="-1" strike="noStrike">
              <a:solidFill>
                <a:srgbClr val="572314"/>
              </a:solidFill>
              <a:latin typeface="Gill Sans MT"/>
            </a:endParaRPr>
          </a:p>
        </p:txBody>
      </p:sp>
      <p:sp>
        <p:nvSpPr>
          <p:cNvPr id="381" name=""/>
          <p:cNvSpPr txBox="1"/>
          <p:nvPr/>
        </p:nvSpPr>
        <p:spPr>
          <a:xfrm>
            <a:off x="580680" y="2000160"/>
            <a:ext cx="11030040" cy="36784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عايير اكتمال تقارير المراجعة الداخلية</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وضوعي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دق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وضوح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يجاز</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ناء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اكتمال</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صيغة المناسبة للفعل</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وقيت المناسب</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47720" y="509400"/>
            <a:ext cx="9963360" cy="120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إعداد تقارير المراجعة الداخلية</a:t>
            </a:r>
            <a:endParaRPr b="0" lang="en-US" sz="4000" spc="-1" strike="noStrike">
              <a:solidFill>
                <a:srgbClr val="572314"/>
              </a:solidFill>
              <a:latin typeface="Gill Sans MT"/>
            </a:endParaRPr>
          </a:p>
        </p:txBody>
      </p:sp>
      <p:sp>
        <p:nvSpPr>
          <p:cNvPr id="329" name=""/>
          <p:cNvSpPr txBox="1"/>
          <p:nvPr/>
        </p:nvSpPr>
        <p:spPr>
          <a:xfrm>
            <a:off x="1754280" y="1776240"/>
            <a:ext cx="9920160" cy="36784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نواع تقارير المراجعه الداخلية :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على وحدة المراجعة الداخلية تقديم الاتي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رير عقب الانتهاء من كل مهمة مراجعة</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رير ربع سنوي عن ما تم تنفيذه خلال الربع المنقضي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رير سنوي يعكس نتائج نشاط المراجعة خلال السنة المنتهية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قديم تقرير متى دعت الحاجة إلى ذلك</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رير مهمة المراجعة هو الأساس في إعداد باقي التقارير</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جميع هذه التقارير تعتمد على النتائج التي يتم التوصل إليها من تنفيذ مهام المراجع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580680" y="701640"/>
            <a:ext cx="11030040" cy="101448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تقارير المراجعة الداخلية لأطراف خارجية</a:t>
            </a:r>
            <a:endParaRPr b="0" lang="en-US" sz="4000" spc="-1" strike="noStrike">
              <a:solidFill>
                <a:srgbClr val="572314"/>
              </a:solidFill>
              <a:latin typeface="Gill Sans MT"/>
            </a:endParaRPr>
          </a:p>
        </p:txBody>
      </p:sp>
      <p:sp>
        <p:nvSpPr>
          <p:cNvPr id="383" name=""/>
          <p:cNvSpPr txBox="1"/>
          <p:nvPr/>
        </p:nvSpPr>
        <p:spPr>
          <a:xfrm>
            <a:off x="1595160" y="1999800"/>
            <a:ext cx="10015560" cy="446580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م تحدد لائحة المراجعة الداخلية تقارير معينة للاستخدام الخارجى لكن اللائحة ألزمت وحدة المراجعة الداخلية بالتعاون التام مع بعض الجهات الرقابية والإشرافية وذلك بوضع كافة البيانات والإيضاحات والنتائج التى توصل المراجعون الداخلون إليها وذلك للمساعدة فى أداء مهمة الإشراف والرقابة التى تقوم بها تلك الجهات.</a:t>
            </a: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جهات المعنية بالإشراف والرقابة على الجهات الحكومية مثلا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راقبين الماليين التابعين لوزارة المالي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قبي الحسابات التابعين لديوان المراقبة العام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مراقبي الحسابات من المراجعين الخارجيين.</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مراقبين والمسئولين التابعين لهيئة الرقابة والتحقيق.</a:t>
            </a:r>
            <a:endParaRPr b="0" lang="en-US" sz="2000" spc="-1" strike="noStrike">
              <a:solidFill>
                <a:srgbClr val="000000"/>
              </a:solidFill>
              <a:latin typeface="Gill Sans MT"/>
            </a:endParaRPr>
          </a:p>
          <a:p>
            <a:pPr lvl="1" marL="617400" indent="-3427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صادر </a:t>
            </a:r>
            <a:endParaRPr b="0" lang="en-US" sz="4300" spc="-1" strike="noStrike">
              <a:solidFill>
                <a:srgbClr val="572314"/>
              </a:solidFill>
              <a:latin typeface="Gill Sans MT"/>
            </a:endParaRPr>
          </a:p>
        </p:txBody>
      </p:sp>
      <p:sp>
        <p:nvSpPr>
          <p:cNvPr id="385"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ea typeface="Majalla UI"/>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98680" y="701640"/>
            <a:ext cx="1011240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إعداد تقارير المراجعة الداخلية</a:t>
            </a:r>
            <a:endParaRPr b="0" lang="en-US" sz="4000" spc="-1" strike="noStrike">
              <a:solidFill>
                <a:srgbClr val="572314"/>
              </a:solidFill>
              <a:latin typeface="Gill Sans MT"/>
            </a:endParaRPr>
          </a:p>
        </p:txBody>
      </p:sp>
      <p:sp>
        <p:nvSpPr>
          <p:cNvPr id="331" name=""/>
          <p:cNvSpPr txBox="1"/>
          <p:nvPr/>
        </p:nvSpPr>
        <p:spPr>
          <a:xfrm>
            <a:off x="1733040" y="2180880"/>
            <a:ext cx="9929880" cy="367812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الإنتهاء من تنفيذ عملية المراجعة وتنفيذ جميع الإجراءات المخططة وتجميع القدر الكافي من الأدلة تبدأ مرحلة أخرى هي مرحلة إعداد تقرير المراجعة.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مستلزمات تقارير مهام المراجعة</a:t>
            </a:r>
            <a:endParaRPr b="0" lang="en-US" sz="4000" spc="-1" strike="noStrike">
              <a:solidFill>
                <a:srgbClr val="572314"/>
              </a:solidFill>
              <a:latin typeface="Gill Sans MT"/>
            </a:endParaRPr>
          </a:p>
        </p:txBody>
      </p:sp>
      <p:sp>
        <p:nvSpPr>
          <p:cNvPr id="333" name=""/>
          <p:cNvSpPr txBox="1"/>
          <p:nvPr/>
        </p:nvSpPr>
        <p:spPr>
          <a:xfrm>
            <a:off x="1891800" y="1807920"/>
            <a:ext cx="9718920" cy="405108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إعداد تقرير المراجعة بشكل جيد يتطلب الأمر تجهيز </a:t>
            </a:r>
            <a:r>
              <a:rPr b="0" lang="ar-SA" sz="2400" spc="-1" strike="noStrike" u="sng">
                <a:solidFill>
                  <a:srgbClr val="000000"/>
                </a:solidFill>
                <a:uFillTx/>
                <a:latin typeface="Gill Sans MT"/>
                <a:cs typeface="Majalla UI"/>
              </a:rPr>
              <a:t>قوائم الملاحظات</a:t>
            </a:r>
            <a:r>
              <a:rPr b="0" lang="ar-SA" sz="2400" spc="-1" strike="noStrike">
                <a:solidFill>
                  <a:srgbClr val="000000"/>
                </a:solidFill>
                <a:latin typeface="Gill Sans MT"/>
                <a:ea typeface="Majalla UI"/>
              </a:rPr>
              <a:t> </a:t>
            </a:r>
            <a:r>
              <a:rPr b="0" lang="ar-SA" sz="2400" spc="-1" strike="noStrike" u="sng">
                <a:solidFill>
                  <a:srgbClr val="000000"/>
                </a:solidFill>
                <a:uFillTx/>
                <a:latin typeface="Gill Sans MT"/>
                <a:cs typeface="Majalla UI"/>
              </a:rPr>
              <a:t>والمذكرات الميدانية </a:t>
            </a:r>
            <a:r>
              <a:rPr b="0" lang="ar-SA" sz="2400" spc="-1" strike="noStrike">
                <a:solidFill>
                  <a:srgbClr val="000000"/>
                </a:solidFill>
                <a:latin typeface="Gill Sans MT"/>
                <a:cs typeface="Majalla UI"/>
              </a:rPr>
              <a:t>التي توثق ملاحظات المراجعة . </a:t>
            </a:r>
            <a:endParaRPr b="0" lang="en-US" sz="24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مستلزمات تقارير مهام المراجعة</a:t>
            </a:r>
            <a:endParaRPr b="0" lang="en-US" sz="4000" spc="-1" strike="noStrike">
              <a:solidFill>
                <a:srgbClr val="572314"/>
              </a:solidFill>
              <a:latin typeface="Gill Sans MT"/>
            </a:endParaRPr>
          </a:p>
        </p:txBody>
      </p:sp>
      <p:sp>
        <p:nvSpPr>
          <p:cNvPr id="335" name=""/>
          <p:cNvSpPr txBox="1"/>
          <p:nvPr/>
        </p:nvSpPr>
        <p:spPr>
          <a:xfrm>
            <a:off x="1891800" y="1807920"/>
            <a:ext cx="9718920" cy="405108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ولا : قوائم الملاحظات</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إعداد قائمة الملاحظات قبل إصدار مسودة التقرير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تخدم لتقديم وصف مختصر لكل ملاحظات المراجعة إضافة إلى أوراق العمل التي تفصل إجراءات الفحص التي تم تنفيذها لكل خطوة في برنامج المراجعة</a:t>
            </a:r>
            <a:endParaRPr b="0" lang="en-US" sz="2000" spc="-1" strike="noStrike">
              <a:solidFill>
                <a:srgbClr val="000000"/>
              </a:solidFill>
              <a:latin typeface="Gill Sans MT"/>
            </a:endParaRPr>
          </a:p>
          <a:p>
            <a:pPr lvl="2" marL="863640" indent="-34308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تستخدم قائمة الملاحظات لتلخيص كل الملاحظات التي تم ملاحظتها من قبل كل عضو في فريق المراجعة قبل الانتهاء من عمل المذكرات الميدانية. </a:t>
            </a:r>
            <a:endParaRPr b="0" lang="en-US" sz="16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يجب أن تتضمن قائمة الملاحظات مرجعاً لأوراق العمل و خطوات برنامج المراجعة ذات العلاقة</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تخدم قائمة الملاحظات ايضا كوسيلة للرقابة تضمن أن كل المذكرات الميدانية والملاحظات الأساسية قد تم الحصول عليها والإبلاغ عنها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مستلزمات تقارير مهام المراجعة</a:t>
            </a:r>
            <a:endParaRPr b="0" lang="en-US" sz="4000" spc="-1" strike="noStrike">
              <a:solidFill>
                <a:srgbClr val="572314"/>
              </a:solidFill>
              <a:latin typeface="Gill Sans MT"/>
            </a:endParaRPr>
          </a:p>
        </p:txBody>
      </p:sp>
      <p:sp>
        <p:nvSpPr>
          <p:cNvPr id="337" name=""/>
          <p:cNvSpPr txBox="1"/>
          <p:nvPr/>
        </p:nvSpPr>
        <p:spPr>
          <a:xfrm>
            <a:off x="1817640" y="2180880"/>
            <a:ext cx="9793440" cy="3678120"/>
          </a:xfrm>
          <a:prstGeom prst="rect">
            <a:avLst/>
          </a:prstGeom>
          <a:noFill/>
          <a:ln w="0">
            <a:noFill/>
          </a:ln>
        </p:spPr>
        <p:txBody>
          <a:bodyPr anchor="t">
            <a:normAutofit/>
          </a:bodyPr>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نيا : المذكرات الميدانية: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ستخدم المذكرات الميدانية لتوثيق الملاحظات التي تم اكتشافها خلال فترة تنفيذ مهمة المراجعة.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ينما تقوم أوراق العمل بتوثيق العمل الذي تم انجازه وتقدم الأدلة التي تدعم الملاحظات. </a:t>
            </a:r>
            <a:endParaRPr b="0" lang="en-US" sz="20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616040" y="701640"/>
            <a:ext cx="9995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72314"/>
                </a:solidFill>
                <a:latin typeface="Gill Sans MT"/>
                <a:cs typeface="Majalla UI"/>
              </a:rPr>
              <a:t>صياغة ملاحظات المراجعة</a:t>
            </a:r>
            <a:endParaRPr b="0" lang="en-US" sz="3600" spc="-1" strike="noStrike">
              <a:solidFill>
                <a:srgbClr val="572314"/>
              </a:solidFill>
              <a:latin typeface="Gill Sans MT"/>
            </a:endParaRPr>
          </a:p>
        </p:txBody>
      </p:sp>
      <p:sp>
        <p:nvSpPr>
          <p:cNvPr id="339" name=""/>
          <p:cNvSpPr txBox="1"/>
          <p:nvPr/>
        </p:nvSpPr>
        <p:spPr>
          <a:xfrm>
            <a:off x="1626840" y="1862280"/>
            <a:ext cx="10248840" cy="399240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عريف الملاحظات:</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لاحظات المراجعة هي وصف للظروف أو الأفعال التي وجدت على غير الطريقة التي يجب أن تكون عليها </a:t>
            </a:r>
            <a:endParaRPr b="0" lang="en-US" sz="20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تصنيف الملاحظات الى ثلاثة أنواع هي:</a:t>
            </a:r>
            <a:endParaRPr b="0" lang="en-US" sz="2000" spc="-1" strike="noStrike">
              <a:solidFill>
                <a:srgbClr val="000000"/>
              </a:solidFill>
              <a:latin typeface="Gill Sans MT"/>
            </a:endParaRPr>
          </a:p>
          <a:p>
            <a:pPr lvl="2" marL="825480" indent="-304920" algn="just" rtl="1">
              <a:spcBef>
                <a:spcPts val="40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لاحظات الأعمال الوهمية</a:t>
            </a:r>
            <a:endParaRPr b="0" lang="en-US" sz="1600" spc="-1" strike="noStrike">
              <a:solidFill>
                <a:srgbClr val="000000"/>
              </a:solidFill>
              <a:latin typeface="Gill Sans MT"/>
            </a:endParaRPr>
          </a:p>
          <a:p>
            <a:pPr lvl="2" marL="825480" indent="-304920" algn="just" rtl="1">
              <a:spcBef>
                <a:spcPts val="40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ملاحظات الإغفال والإسقاط والسهو</a:t>
            </a:r>
            <a:endParaRPr b="0" lang="en-US" sz="1600" spc="-1" strike="noStrike">
              <a:solidFill>
                <a:srgbClr val="000000"/>
              </a:solidFill>
              <a:latin typeface="Gill Sans MT"/>
            </a:endParaRPr>
          </a:p>
          <a:p>
            <a:pPr lvl="2" marL="825480" indent="-304920" algn="just" rtl="1">
              <a:spcBef>
                <a:spcPts val="40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لاحظات الانحرافات والتجاوزات والأخطاء</a:t>
            </a:r>
            <a:endParaRPr b="0" lang="en-US" sz="1600" spc="-1" strike="noStrike">
              <a:solidFill>
                <a:srgbClr val="000000"/>
              </a:solidFill>
              <a:latin typeface="Gill Sans MT"/>
            </a:endParaRPr>
          </a:p>
          <a:p>
            <a:pPr lvl="1" marL="617400" indent="-342720" algn="just" rtl="1">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1640"/>
            <a:ext cx="11030040" cy="1014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Gill Sans MT"/>
                <a:cs typeface="Majalla UI"/>
              </a:rPr>
              <a:t>صياغة ملاحظات المراجعة</a:t>
            </a:r>
            <a:endParaRPr b="0" lang="en-US" sz="4000" spc="-1" strike="noStrike">
              <a:solidFill>
                <a:srgbClr val="572314"/>
              </a:solidFill>
              <a:latin typeface="Gill Sans MT"/>
            </a:endParaRPr>
          </a:p>
        </p:txBody>
      </p:sp>
      <p:sp>
        <p:nvSpPr>
          <p:cNvPr id="341" name=""/>
          <p:cNvSpPr txBox="1"/>
          <p:nvPr/>
        </p:nvSpPr>
        <p:spPr>
          <a:xfrm>
            <a:off x="1701720" y="1873080"/>
            <a:ext cx="9941040" cy="4181760"/>
          </a:xfrm>
          <a:prstGeom prst="rect">
            <a:avLst/>
          </a:prstGeom>
          <a:noFill/>
          <a:ln w="0">
            <a:noFill/>
          </a:ln>
        </p:spPr>
        <p:txBody>
          <a:bodyPr anchor="t">
            <a:normAutofit/>
          </a:bodyPr>
          <a:p>
            <a:pPr marL="304920" indent="-3049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عناصر ملاحظات المراجعة</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lvl="1" marL="617400" indent="-3427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حتوي ملاحظات المراجعة الجيدة على العناصر الأساسية التالية والتي يتم توثيقها في المذكرات الميدانية: </a:t>
            </a:r>
            <a:endParaRPr b="0" lang="en-US" sz="20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معايير</a:t>
            </a:r>
            <a:r>
              <a:rPr b="0" lang="ar-SA" sz="1800" spc="-1" strike="noStrike">
                <a:solidFill>
                  <a:srgbClr val="000000"/>
                </a:solidFill>
                <a:latin typeface="Gill Sans MT"/>
                <a:ea typeface="Majalla UI"/>
              </a:rPr>
              <a:t>: ما الذي يجب أن يكون</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حالات</a:t>
            </a:r>
            <a:r>
              <a:rPr b="0" lang="ar-SA" sz="1800" spc="-1" strike="noStrike">
                <a:solidFill>
                  <a:srgbClr val="000000"/>
                </a:solidFill>
                <a:latin typeface="Gill Sans MT"/>
                <a:ea typeface="Majalla UI"/>
              </a:rPr>
              <a:t>: ما الموجود فعلاً</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أسباب</a:t>
            </a:r>
            <a:r>
              <a:rPr b="0" lang="ar-SA" sz="1800" spc="-1" strike="noStrike">
                <a:solidFill>
                  <a:srgbClr val="000000"/>
                </a:solidFill>
                <a:latin typeface="Gill Sans MT"/>
                <a:ea typeface="Majalla UI"/>
              </a:rPr>
              <a:t>:  لماذا حصلت مثل تلك الحالة</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تأثير</a:t>
            </a:r>
            <a:r>
              <a:rPr b="0" lang="ar-SA" sz="1800" spc="-1" strike="noStrike">
                <a:solidFill>
                  <a:srgbClr val="000000"/>
                </a:solidFill>
                <a:latin typeface="Gill Sans MT"/>
                <a:ea typeface="Majalla UI"/>
              </a:rPr>
              <a:t>:  الفرق والأهمية بين ما الموجود فعلاً وما الذي يجب أن يكون</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توصية</a:t>
            </a:r>
            <a:r>
              <a:rPr b="0" lang="ar-SA" sz="1800" spc="-1" strike="noStrike">
                <a:solidFill>
                  <a:srgbClr val="000000"/>
                </a:solidFill>
                <a:latin typeface="Gill Sans MT"/>
                <a:ea typeface="Majalla UI"/>
              </a:rPr>
              <a:t>:  ما هو الإجراء الذي يجب اتخاذه</a:t>
            </a:r>
            <a:endParaRPr b="0" lang="en-US" sz="1800" spc="-1" strike="noStrike">
              <a:solidFill>
                <a:srgbClr val="000000"/>
              </a:solidFill>
              <a:latin typeface="Gill Sans MT"/>
            </a:endParaRPr>
          </a:p>
          <a:p>
            <a:pPr lvl="2" marL="863640" indent="-343080" algn="just" rtl="1">
              <a:spcBef>
                <a:spcPts val="451"/>
              </a:spcBef>
              <a:buClr>
                <a:srgbClr val="feb80a"/>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0:02:21Z</dcterms:created>
  <dc:creator>hana</dc:creator>
  <dc:description/>
  <dc:language>en-US</dc:language>
  <cp:lastModifiedBy>kayan albalawi</cp:lastModifiedBy>
  <dcterms:modified xsi:type="dcterms:W3CDTF">2014-03-16T16:00:29Z</dcterms:modified>
  <cp:revision>178</cp:revision>
  <dc:subject/>
  <dc:title>PowerPoint Presentation</dc:title>
</cp:coreProperties>
</file>