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0CC77-1288-46FE-8175-37B3615E02A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380880" y="685800"/>
            <a:ext cx="609624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اذا عن مجلس الادارة </a:t>
            </a:r>
            <a:endParaRPr b="0" lang="en-US" sz="1200" spc="-1" strike="noStrike">
              <a:solidFill>
                <a:srgbClr val="000000"/>
              </a:solidFill>
              <a:latin typeface="Calibri"/>
            </a:endParaRPr>
          </a:p>
        </p:txBody>
      </p:sp>
      <p:sp>
        <p:nvSpPr>
          <p:cNvPr id="3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301EB-F53A-4028-BC91-1F47BBF999A0}"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D83AA-CB01-483B-B6C6-D8D5089C5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60215-35DE-4189-8FBB-BD3A96A9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E0A4B-2396-4BAB-9EAB-A375321BA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4E2A-8EAF-41D5-90B7-20493299D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27CBC-7B0B-44C9-BB81-B1C69BCAF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9B89F-7D90-4CA1-A731-CAA6F2874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20F9D-1B8C-4428-AF9D-A900D0B5D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16043-BB74-4E03-9A3B-B357A9220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2C3BC-E210-4295-AD7C-BB6E6CFB0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F3144-AE82-46B9-B69D-8E232BD6B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200A8-87FD-43A9-9EA1-7C51479B8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FCDA-3F67-4346-835F-F05E3319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EDEDF-C6AB-41A1-9701-4D1FE163E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4B3B9-6DFA-417C-A60A-CA40AFA8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B9723-BD79-4185-B6B3-29CE92BFF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6A351-5941-4EA1-BFA0-B1832ED5A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150DE-F95A-45D7-8F7B-6ED4D3F40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E7B7A-1ADA-49FA-A0B7-4FE135458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DE7FE-20AD-411C-ADC2-4AB00552C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CA928-6CA0-4AC0-B346-7964A3574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E123A-0D82-45AC-92DB-F62609DD1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02D3C-A0A8-46BF-99B0-E128241FD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F76D-83EA-4E73-AA9A-1F8E332C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97283-A9EB-474A-89C7-FF11719FDE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9463D-A478-4CAA-AB75-5BADFA25B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BB8F9-2188-4DCE-80A0-575108B07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0ECD6-85D1-4FE5-8C6D-47FCE7462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D5AAE-6046-4C6C-A190-8B0569B58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8D5D75-AD62-4304-88D1-1EBD1801E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0B182-CB10-401B-99C9-61DB324864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D13C6-449D-4AEE-AF5B-D234EC98DE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96465-86B2-4D6B-A125-AB77000CF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245EB-5921-46ED-8DB7-C83A64E86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E04F1-F6DA-4420-8D08-A58779D39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39EBB-3106-426F-9FFF-957C8DA3D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C19A2-2514-41D6-9297-8F1DD6219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B47EA-4C1E-40E9-AD50-242AA8A75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C654A-C831-4F32-B775-24A76A63E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9E9C2-3ECF-4150-9B3A-134743BE0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BC581-02A7-48E2-B2C4-B08AEDFFB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45A0A-E603-42C9-B165-ED21A74E0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05A7A-15B0-497B-AF54-2F4C66193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D04EB6-D88C-4D67-8752-03F34C406D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09B21-1A3A-466A-A087-EB21076F42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D765-6C13-46ED-B7A2-DD0E65B17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21B64-342B-478F-A709-86C018BD2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95EEC5-810A-4230-B2C5-F66BAB354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31269-AA09-4A94-A56C-4423D04FF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418BE-6E37-42D1-8355-6822BDDB6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02821-576A-4F18-A4E5-4AB87E38A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B2F9C-2884-4397-801B-1FBC0080B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DF9CB-A2A0-4052-BAC9-BCDEAFC28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F15E1-37FD-44FF-83FA-9D0F90B71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CAC827-9D8B-4E27-848C-4C773B6D6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09FDF-9A21-402A-934C-E3CC4024D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F93D-4672-4D98-B856-F45B25E48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68E6A-FFC6-48E4-BE0B-15150399F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5E3C3-EE9F-4981-A762-506F8655B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45F738-1B43-469B-801A-37A2416E7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485D6-0095-4771-8018-337859B69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237FA-FF1B-4BEC-A833-15E29B761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E3167-5532-437D-B77E-C8598E848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571C5F-3AD4-4695-B3A8-24D59527D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5D596-207E-4189-A378-1EA72CD4E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7F340-2CDB-4269-B3E1-76B72B081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BE723-D703-4BFD-8411-09B701E9A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CC62-2ACE-43FB-A4EB-80E05305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904C5-1315-430B-AE12-7FDC36511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6769C5-A3DB-4B3D-A08D-EED1C553B4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9AE14-167B-41BB-BA70-7AA560AE68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B5CA70-CA04-4DB6-B662-F6C895E92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22500-D7D2-46BB-B297-762B30C4A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3515E-DC2D-4F79-87B8-C0A775D9C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4660E0-5A32-47C0-A56D-100F69A9F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E3C0C-ECE5-4F72-8F8F-525947652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2AE8F-EEBF-411B-B986-0FEF89CCC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1C332-A4DC-4574-B17C-B7D124957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CBEA-D50A-42FE-B0D9-F5B355C5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60D9D-610A-476D-909D-3963B9634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5B0E8-5ABD-40F6-AEF1-682ADD82E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2458F-5714-46C8-AE79-3F35F10F6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ADCD6D-DA07-447B-BA20-FCB73A4AEA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D040FF-DC92-416E-8BC2-0E4AFE7209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4D36-D48F-4835-AF91-702CECEA1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E591A-3ADA-482E-9988-2AE21073AB67}"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B7DCD-A4FE-4A40-A58A-9EAC765CA354}"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AF184-E506-4A3B-9827-C1733F8FC64D}"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591C6-B6BA-4234-BEAA-BC5F895150E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94E0C-F111-4E43-AE6F-4FD0123E0E7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C7336-5E84-48FC-9C02-069729DD2F2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6529F-8520-44FC-9A48-CBA7225F6F2D}"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19000" y="2604960"/>
            <a:ext cx="9875880" cy="1417680"/>
          </a:xfrm>
          <a:prstGeom prst="rect">
            <a:avLst/>
          </a:prstGeom>
          <a:noFill/>
          <a:ln w="0">
            <a:noFill/>
          </a:ln>
        </p:spPr>
        <p:txBody>
          <a:bodyPr lIns="90000" rIns="90000" tIns="46800" bIns="46800" anchor="b">
            <a:noAutofit/>
          </a:bodyPr>
          <a:p>
            <a:pPr indent="0" algn="ctr" rtl="1">
              <a:lnSpc>
                <a:spcPct val="100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11617"/>
                </a:solidFill>
                <a:latin typeface="Times New Roman"/>
                <a:cs typeface="Arabic Transparent"/>
              </a:rPr>
              <a:t>تنفيذ المراجعة الداخلية</a:t>
            </a:r>
            <a:br>
              <a:rPr sz="4400"/>
            </a:br>
            <a:r>
              <a:rPr b="1" lang="ar-SA" sz="3200" spc="-1" strike="noStrike">
                <a:solidFill>
                  <a:srgbClr val="611617"/>
                </a:solidFill>
                <a:latin typeface="Times New Roman"/>
                <a:cs typeface="Arabic Transparent"/>
              </a:rPr>
              <a:t>الفصل الخامس – الجزء الثاني  </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9400" y="701640"/>
            <a:ext cx="99316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3" name=""/>
          <p:cNvSpPr txBox="1"/>
          <p:nvPr/>
        </p:nvSpPr>
        <p:spPr>
          <a:xfrm>
            <a:off x="1743120" y="2043000"/>
            <a:ext cx="1000584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عايـير: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جموعة القواعد والأنظمة التي على أساسها يقوم فريق المراجعة الداخلية بتقييم أداء الجهة المراجع عليها</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لاستفادة من معلومات الأخرى و يتم تضمينها مع المعايير وذلك للمساعدة في فهم الموضوع محل المراجع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لعب المعرفة والخبرات الشخصية للمراجع الداخلي أيضا دوراً هاماً في معرفة ماذا يجب أن يكون عليه الوضع "الوضع النموذجي"</a:t>
            </a:r>
            <a:endParaRPr b="0" lang="en-US" sz="2000" spc="-1" strike="noStrike">
              <a:solidFill>
                <a:srgbClr val="000000"/>
              </a:solidFill>
              <a:latin typeface="Gill Sans MT"/>
            </a:endParaRPr>
          </a:p>
          <a:p>
            <a:pPr lvl="2" marL="825480" indent="-3049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على المراجع الداخلي أن يكون على علم بالمعايير اللازمة لعملية التقييم، ليستطيع الحكم على أداء الجهة المراجع عليها في ضوء هذه المعايير.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5" name=""/>
          <p:cNvSpPr txBox="1"/>
          <p:nvPr/>
        </p:nvSpPr>
        <p:spPr>
          <a:xfrm>
            <a:off x="1530360" y="1860480"/>
            <a:ext cx="10080720" cy="3998880"/>
          </a:xfrm>
          <a:prstGeom prst="rect">
            <a:avLst/>
          </a:prstGeom>
          <a:noFill/>
          <a:ln w="0">
            <a:noFill/>
          </a:ln>
        </p:spPr>
        <p:txBody>
          <a:bodyPr anchor="t">
            <a:normAutofit fontScale="93000"/>
          </a:bodyPr>
          <a:p>
            <a:pPr marL="425160" indent="-42516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الـة: </a:t>
            </a:r>
            <a:endParaRPr b="0" lang="en-US" sz="24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الة عبارة عن بيان يصف نتائج الفحص والمراجعة </a:t>
            </a:r>
            <a:endParaRPr b="0" lang="en-US" sz="20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صف ما تم اكتشافه خلال المهمة</a:t>
            </a:r>
            <a:endParaRPr b="0" lang="en-US" sz="16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صف ما الذي على المراجع فعله بالمقارنة مع القواعد والأنظمة التي تعتبر بمثابة المعايير. </a:t>
            </a:r>
            <a:endParaRPr b="0" lang="en-US" sz="16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وافق إدارة الجهة التي تمت مراجعتها على حقيقة الوضع الذي توصل إليه فريق المراجعة. </a:t>
            </a:r>
            <a:endParaRPr b="0" lang="en-US" sz="20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لجهة المراجع لها الحق في الموافقة أو الاعتراض على نتائج المراجعة أو التوصيات المقترحة. </a:t>
            </a:r>
            <a:endParaRPr b="0" lang="en-US" sz="20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تبر الملاحظة معدة بطريقة غير ملائمة إذا استطاعت الجهه المراجع عليها الجزم بأن فريق المراجعة لم يحصل على الحقائق بطريقة صحيحة وبالتالي يمكن اعتبار الملاحظة عديمة الصلة بالموضوع. </a:t>
            </a:r>
            <a:endParaRPr b="0" lang="en-US" sz="20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دائما تقدير الحالة بطريقة ملائمة ومناقشتها مبكراً مع الأشخاص الذين يخولهم موقعهم الوظيفي معرفة ماهية حقائق هذه الحالة</a:t>
            </a:r>
            <a:endParaRPr b="0" lang="en-US" sz="16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ي حال وجود أي اختلافات حول هذه الحقائق فإنه يجب العمل على حلها قبل رفع تقرير الملاحظات. </a:t>
            </a:r>
            <a:endParaRPr b="0" lang="en-US" sz="1600" spc="-1" strike="noStrike">
              <a:solidFill>
                <a:srgbClr val="000000"/>
              </a:solidFill>
              <a:latin typeface="Gill Sans MT"/>
            </a:endParaRPr>
          </a:p>
          <a:p>
            <a:pPr marL="425160" indent="-42516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521000" y="701640"/>
            <a:ext cx="100900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7" name=""/>
          <p:cNvSpPr txBox="1"/>
          <p:nvPr/>
        </p:nvSpPr>
        <p:spPr>
          <a:xfrm>
            <a:off x="1626840" y="1915920"/>
            <a:ext cx="10132920" cy="43606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سبب: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إعداد التوصيات , فريق المراجعة يحتاج إلى فهم واضح لسبب المشكل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يكون لكل حالة أكثر من سبب لكن السبب الأساسي عادة ما يكون قرارات ادارية اتخذتها إدارة الجهة المراجع عليها.</a:t>
            </a:r>
            <a:endParaRPr b="0" lang="en-US" sz="2000" spc="-1" strike="noStrike">
              <a:solidFill>
                <a:srgbClr val="000000"/>
              </a:solidFill>
              <a:latin typeface="Gill Sans MT"/>
            </a:endParaRPr>
          </a:p>
          <a:p>
            <a:pPr lvl="2" marL="825480" indent="-304920" algn="just" rtl="1">
              <a:spcBef>
                <a:spcPts val="400"/>
              </a:spcBef>
              <a:buClr>
                <a:srgbClr val="feb80a"/>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ذلك السبب الأساسي للحالة يجب أن يكون موجها نحو السياسات والإجراءات والممارسات التي تبنتها إدارة الجهة المراجع عليها. </a:t>
            </a:r>
            <a:endParaRPr b="0" lang="en-US" sz="1600" spc="-1" strike="noStrike">
              <a:solidFill>
                <a:srgbClr val="000000"/>
              </a:solidFill>
              <a:latin typeface="Gill Sans MT"/>
            </a:endParaRPr>
          </a:p>
          <a:p>
            <a:pPr lvl="2" marL="825480" indent="-304920" algn="just" rtl="1">
              <a:spcBef>
                <a:spcPts val="400"/>
              </a:spcBef>
              <a:buClr>
                <a:srgbClr val="feb80a"/>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تم توضيح السبب إلى الدرجة التي يصبح فيها من الواضح أن تصحيح الحالة سيعالج أو سيمنع إعادة تكرار حدوث هذه الحالة مستقبلاً. </a:t>
            </a:r>
            <a:endParaRPr b="0" lang="en-US" sz="16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درك المراجع الداخلي أن الفهم الواضح لأسباب الحالة يحدد أسلوب واتجاه و فاعلية التوصيات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9" name=""/>
          <p:cNvSpPr txBox="1"/>
          <p:nvPr/>
        </p:nvSpPr>
        <p:spPr>
          <a:xfrm>
            <a:off x="1530360" y="2017440"/>
            <a:ext cx="10336320" cy="36781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a:t>
            </a:r>
            <a:r>
              <a:rPr b="1" lang="ar-SA" sz="2400" spc="-1" strike="noStrike">
                <a:solidFill>
                  <a:srgbClr val="000000"/>
                </a:solidFill>
                <a:latin typeface="Gill Sans MT"/>
                <a:cs typeface="Majalla UI"/>
              </a:rPr>
              <a:t>لأثــر</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تي يتم المراجعة عليها أو على النشاط أو الوظيفة محل المراجع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أثير الذي تحدثه الحالة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اءات تصحيحها.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701640"/>
            <a:ext cx="982512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1" name=""/>
          <p:cNvSpPr txBox="1"/>
          <p:nvPr/>
        </p:nvSpPr>
        <p:spPr>
          <a:xfrm>
            <a:off x="1521000" y="2052720"/>
            <a:ext cx="10090080" cy="38066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صنيف ملاحظات المراجع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نخفض</a:t>
            </a:r>
            <a:r>
              <a:rPr b="0"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r>
              <a:rPr b="0" lang="ar-SA" sz="2000" spc="-1" strike="noStrike">
                <a:solidFill>
                  <a:srgbClr val="000000"/>
                </a:solidFill>
                <a:latin typeface="Gill Sans MT"/>
                <a:ea typeface="Majalla UI"/>
              </a:rPr>
              <a:t> إن الملاحظة لا تشكل خطراً يذكر على نشاط الجهة المراجع عليها </a:t>
            </a:r>
            <a:r>
              <a:rPr b="1" lang="ar-SA" sz="2000" spc="-1" strike="noStrike" u="sng">
                <a:solidFill>
                  <a:srgbClr val="000000"/>
                </a:solidFill>
                <a:uFillTx/>
                <a:latin typeface="Gill Sans MT"/>
                <a:cs typeface="Majalla UI"/>
              </a:rPr>
              <a:t>و</a:t>
            </a:r>
            <a:r>
              <a:rPr b="0" lang="ar-SA" sz="2000" spc="-1" strike="noStrike">
                <a:solidFill>
                  <a:srgbClr val="000000"/>
                </a:solidFill>
                <a:latin typeface="Gill Sans MT"/>
                <a:cs typeface="Majalla UI"/>
              </a:rPr>
              <a:t>على الإدارة تصحيح الحالة المذكور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توسط = </a:t>
            </a:r>
            <a:r>
              <a:rPr b="0" lang="ar-SA" sz="2000" spc="-1" strike="noStrike">
                <a:solidFill>
                  <a:srgbClr val="000000"/>
                </a:solidFill>
                <a:latin typeface="Gill Sans MT"/>
                <a:cs typeface="Majalla UI"/>
              </a:rPr>
              <a:t>إن الملاحظة الموضحة ليس لها تأثيراً كبيراً على سير عمل أو إنتاجية الجهة المراجع عليها ولكن إن تم تجاهل تصحيح الخطأ فإن تأثير الخطر سيتضاعف ويكون أكبر على المدى الطويل.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عالي = </a:t>
            </a:r>
            <a:r>
              <a:rPr b="0" lang="ar-SA" sz="2000" spc="-1" strike="noStrike">
                <a:solidFill>
                  <a:srgbClr val="000000"/>
                </a:solidFill>
                <a:latin typeface="Gill Sans MT"/>
                <a:cs typeface="Majalla UI"/>
              </a:rPr>
              <a:t>هذه الملاحظات تتضمن الكثير من نقاط الضعف في جهاز الرقابة اي ان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ستوى المخاطر غير مقبول</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ساليب الرقابية داخل الجهة التشغيلية غير فعال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خاطر يجب أن يعاد تقديرها ويتم العمل على تخفيضها بأسرع وقت ممكن.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679400" y="701640"/>
            <a:ext cx="99316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3" name=""/>
          <p:cNvSpPr txBox="1"/>
          <p:nvPr/>
        </p:nvSpPr>
        <p:spPr>
          <a:xfrm>
            <a:off x="1584360" y="2180880"/>
            <a:ext cx="1002672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سؤولية تجاه المذكرات الميدان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ن المسؤولية النهائية على صحة المذكرات الميدانية تعود إلى مدير المراجعة الداخلية</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كل المذكرات الميدانية تحتاج لموافقته قبل أن ترسل إلى إدارة الوحدة المراجع عليها</a:t>
            </a:r>
            <a:r>
              <a:rPr b="0" lang="ar-SA" sz="1600" spc="-1" strike="noStrike">
                <a:solidFill>
                  <a:srgbClr val="000000"/>
                </a:solidFill>
                <a:latin typeface="Gill Sans MT"/>
                <a:ea typeface="Majalla UI"/>
              </a:rPr>
              <a:t>.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5" name=""/>
          <p:cNvSpPr txBox="1"/>
          <p:nvPr/>
        </p:nvSpPr>
        <p:spPr>
          <a:xfrm>
            <a:off x="1552680" y="2180880"/>
            <a:ext cx="1005840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راجعة وتنقيح الملاحظات:</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إدارة المراجعة الداخلية مراجعة وتنقيح الملاحظات قبل إرسالها إلى الجهة المراجع علي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إحداث تغييرات على الملاحظات الميدان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عين مراجعة ومناقشة الملاحظات على مستوى فريق المراجعة ووحدة المراجعة الداخلية قبل إرسالها إلى الجهة المعن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7" name=""/>
          <p:cNvSpPr txBox="1"/>
          <p:nvPr/>
        </p:nvSpPr>
        <p:spPr>
          <a:xfrm>
            <a:off x="1530360" y="2180880"/>
            <a:ext cx="1008072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إرسال الملاحظات إلى الجهة المراجع علي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موافقة مدير المراجعة الداخلية على المذكرات الميدانية، يتم حفظ هذه المذكرات في ملف أوراق عمل المهمة للاعتماد عليه لاحقاً عند إعداد مسودة التقرير</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نهاية العمل الميداني يتم إرسال قائمة بالملاحظات التي تضمنتها هذه المذكرات إلى مدير الجهة المراجع عليها قبل مدة كافية ( </a:t>
            </a:r>
            <a:r>
              <a:rPr b="0" lang="ar-SA" sz="2000" spc="-1" strike="noStrike">
                <a:solidFill>
                  <a:srgbClr val="000000"/>
                </a:solidFill>
                <a:latin typeface="Gill Sans MT"/>
                <a:ea typeface="Majalla UI"/>
              </a:rPr>
              <a:t>5</a:t>
            </a:r>
            <a:r>
              <a:rPr b="0" lang="ar-SA" sz="2000" spc="-1" strike="noStrike">
                <a:solidFill>
                  <a:srgbClr val="000000"/>
                </a:solidFill>
                <a:latin typeface="Gill Sans MT"/>
                <a:ea typeface="Majalla UI"/>
              </a:rPr>
              <a:t> أيام مثلا) من الاجتماع الختامي، وذلك لإخباره بكل الملاحظات التي تم تحديدها خلال مهمة المراجعة الداخلي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9" name=""/>
          <p:cNvSpPr txBox="1"/>
          <p:nvPr/>
        </p:nvSpPr>
        <p:spPr>
          <a:xfrm>
            <a:off x="1467000" y="2180880"/>
            <a:ext cx="1014408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لاحظات المكررة:</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توثيق ملاحظات المراجعة يجب بيان حالة الملاحظات فيما إذا كانت جديدة أو متكررة الحدوث.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وجود ملاحظات متكررة لم يتم حلها بعد أو اتخاذ الإجراءات التصحيحية حيالها يجب على فريق المراجعة أن يوثق عدم قيام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جهه</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 اتخاذ إجراء بعد تقرير المتابعة الثالث وتم كتابة التقرير للمرة الرابعة أو أكثر، </a:t>
            </a:r>
            <a:r>
              <a:rPr b="1" lang="ar-SA" sz="2000" spc="-1" strike="noStrike">
                <a:solidFill>
                  <a:srgbClr val="000000"/>
                </a:solidFill>
                <a:latin typeface="Gill Sans MT"/>
                <a:cs typeface="Majalla UI"/>
              </a:rPr>
              <a:t>فإنه يفترض أن تكون التوصيات لم تطبق نتيجة لموافقة الإدارة على تقبل المخاطر</a:t>
            </a:r>
            <a:r>
              <a:rPr b="0" lang="ar-SA" sz="2000" spc="-1" strike="noStrike">
                <a:solidFill>
                  <a:srgbClr val="000000"/>
                </a:solidFill>
                <a:latin typeface="Gill Sans MT"/>
                <a:ea typeface="Majalla UI"/>
              </a:rPr>
              <a:t> التي تم ذكرها داخل الملاحظ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الاجتماع الختامي</a:t>
            </a:r>
            <a:endParaRPr b="0" lang="en-US" sz="4000" spc="-1" strike="noStrike">
              <a:solidFill>
                <a:srgbClr val="572314"/>
              </a:solidFill>
              <a:latin typeface="Gill Sans MT"/>
            </a:endParaRPr>
          </a:p>
        </p:txBody>
      </p:sp>
      <p:sp>
        <p:nvSpPr>
          <p:cNvPr id="361" name=""/>
          <p:cNvSpPr txBox="1"/>
          <p:nvPr/>
        </p:nvSpPr>
        <p:spPr>
          <a:xfrm>
            <a:off x="1402920" y="2180880"/>
            <a:ext cx="1020780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اجتماع الختامي</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ثل الاجتماع الختامي الفرصة الأخيرة لفريق المرجعة لتعريف الجهة المراجع عليها بطبيعة مهنتهم داخل المنشأة وبقواعد وحدة المراجعة الداخلية والمهنة بشكل عام</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يح الاجتماع الفرصة لبناء العلاقات الإيجابية مع إدارة الجهة المراجع عليها.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نصح عادة بأن لا يتخلل الاجتماع أية مفاجآت وبأن يتم حل كل القضايا قبل ذلك.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712880" y="15696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أجندة </a:t>
            </a:r>
            <a:endParaRPr b="0" lang="en-US" sz="4300" spc="-1" strike="noStrike">
              <a:solidFill>
                <a:srgbClr val="572314"/>
              </a:solidFill>
              <a:latin typeface="Gill Sans MT"/>
            </a:endParaRPr>
          </a:p>
        </p:txBody>
      </p:sp>
      <p:sp>
        <p:nvSpPr>
          <p:cNvPr id="327" name=""/>
          <p:cNvSpPr txBox="1"/>
          <p:nvPr/>
        </p:nvSpPr>
        <p:spPr>
          <a:xfrm>
            <a:off x="1862280" y="1149120"/>
            <a:ext cx="9996480" cy="54212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نقاط التالية خاصة بتنفيذ عملية المراجعة : </a:t>
            </a:r>
            <a:endParaRPr b="0" lang="en-US" sz="28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خطاب الإعلان عن مهمة المراجعة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كيفية الرقابة على تنفيذ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إجراءات المراجعة التي يمكن استخدام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أدلة وقرائن المراجعة التي يمكن الاعتماد علي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كيفية استخدام أساليب المعاين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عداد تقارير المراجعه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تلزمات تقارير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ياغة ملاحظات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اجتماع الختامي</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فع التقارير</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ارير المراجعة الداخلية لأطراف خارجي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الاجتماع الختامي</a:t>
            </a:r>
            <a:endParaRPr b="0" lang="en-US" sz="4000" spc="-1" strike="noStrike">
              <a:solidFill>
                <a:srgbClr val="572314"/>
              </a:solidFill>
              <a:latin typeface="Gill Sans MT"/>
            </a:endParaRPr>
          </a:p>
        </p:txBody>
      </p:sp>
      <p:sp>
        <p:nvSpPr>
          <p:cNvPr id="363" name=""/>
          <p:cNvSpPr txBox="1"/>
          <p:nvPr/>
        </p:nvSpPr>
        <p:spPr>
          <a:xfrm>
            <a:off x="1521000" y="1945800"/>
            <a:ext cx="10090080" cy="46609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ضع فريق المراجعة نصب عينيه ما يلي  خلال الاجتماع الختامي:</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توازن في كتابة التقارير</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لا يركز فريق المراجعة فقط على النتائج السلبية في المهمة بل يجب موازنة تقاريرهم عن طريق ذكر النتائج الإيجابية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حاضرون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شتمل الحاضرون على مدير المراجعة , رئيس فريق المراجعة بالإضافة إلى مدير الإدارة ذات العلاقة أو مدير قسم الجهة التي تمت مراجعتها.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مكن لإدارة هذه الجهة دعوة أي شخص سيكون مسئولا عن تنفيذ الإجراءات التصحيحية المقترحة، أو أنه سيكون متأثراً بها.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تجنب عملية المواجهة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سعى منسوبي وحدة المراجعة الداخلية إلى الحصول على وجهة نظر مشتركة مع الجهه المراجع عليهم لتأييد ملاحظاتهم وتوصياتهم. </a:t>
            </a:r>
            <a:endParaRPr b="0" lang="en-US" sz="16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55200" y="61596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5" name=""/>
          <p:cNvSpPr txBox="1"/>
          <p:nvPr/>
        </p:nvSpPr>
        <p:spPr>
          <a:xfrm>
            <a:off x="1584000" y="1936440"/>
            <a:ext cx="10239480" cy="45291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نواع التقا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المراجعة الداخلية يعتبر بمثابة النتيجة النهائية لعمل وحدة المرجعة الداخلية في أي مهمة لذلك يجب الانتباه عند إعداد تقرير المراجعة الداخلية ويجب التشديد على أهمية شكل ومحتوى وطريقة عرض التقرير.</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يجب أن تكون محتويات التقرير موثقة وكافية لتكون قادرة على التعجيل بتفعيل الإجراءت التي يتضمنها من قبل إدارة الجهة المراجع عليها.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رير المعروض بطريقة جيدة سيترك انطباعاً جيدا لدى إدارة الجهة المراجع عليها عن عمل المراجعين الداخليين</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تقارير المراجعة الداخلية على مرحلتين : </a:t>
            </a:r>
            <a:endParaRPr b="0" lang="en-US" sz="20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مسودة التقرير.</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تنقيح مسودة التقرير</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التقرير النهائي.</a:t>
            </a:r>
            <a:endParaRPr b="0" lang="en-US" sz="16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7" name=""/>
          <p:cNvSpPr txBox="1"/>
          <p:nvPr/>
        </p:nvSpPr>
        <p:spPr>
          <a:xfrm>
            <a:off x="1563480" y="2000160"/>
            <a:ext cx="1004724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سودة التقرير: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يقوم فريق المهمة بإعداد مسودة تقرير يلخص فيها كل الملاحظات والنتائج والتوصيات الخاصة بعملية المراجع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تؤدي المناقشات داخل وحدة المراجعة أو مع إدارة الجهة المراجع عليها إلى تغيير في مسودة التقرير.</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اقتراحات لتعديل التقرير في هذه المرحلة يجب أن تكون مقبولة وتطرح للنقاش وتأخذ بصدر رح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9" name=""/>
          <p:cNvSpPr txBox="1"/>
          <p:nvPr/>
        </p:nvSpPr>
        <p:spPr>
          <a:xfrm>
            <a:off x="1392120" y="2000160"/>
            <a:ext cx="10218960" cy="3678480"/>
          </a:xfrm>
          <a:prstGeom prst="rect">
            <a:avLst/>
          </a:prstGeom>
          <a:noFill/>
          <a:ln w="0">
            <a:noFill/>
          </a:ln>
        </p:spPr>
        <p:txBody>
          <a:bodyPr anchor="t">
            <a:normAutofit fontScale="99000"/>
          </a:bodyPr>
          <a:p>
            <a:pPr marL="452520" indent="-452520" algn="just"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نقيح مسودة التقرير ( مراحلة انتقالية ) </a:t>
            </a:r>
            <a:endParaRPr b="0" lang="en-US" sz="24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endParaRPr b="0" lang="en-US" sz="20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فكار الرئيسة</a:t>
            </a:r>
            <a:endParaRPr b="0" lang="en-US" sz="16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هتمامات وحدة المراجعة الداخلية</a:t>
            </a:r>
            <a:endParaRPr b="0" lang="en-US" sz="16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إجراءات التصحيحية</a:t>
            </a:r>
            <a:endParaRPr b="0" lang="en-US" sz="16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0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0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754280" y="701640"/>
            <a:ext cx="985680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1" name=""/>
          <p:cNvSpPr txBox="1"/>
          <p:nvPr/>
        </p:nvSpPr>
        <p:spPr>
          <a:xfrm>
            <a:off x="1679400" y="2000160"/>
            <a:ext cx="993168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رير النهائي</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ثل التقرير النهائي المنتج الأساسي لعملية المراجعة ويجب أن يحفظ في ملف أوراق العمل.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3" name=""/>
          <p:cNvSpPr txBox="1"/>
          <p:nvPr/>
        </p:nvSpPr>
        <p:spPr>
          <a:xfrm>
            <a:off x="1595160" y="2000160"/>
            <a:ext cx="10015560" cy="3678480"/>
          </a:xfrm>
          <a:prstGeom prst="rect">
            <a:avLst/>
          </a:prstGeom>
          <a:noFill/>
          <a:ln w="0">
            <a:noFill/>
          </a:ln>
        </p:spPr>
        <p:txBody>
          <a:bodyPr anchor="t">
            <a:normAutofit/>
          </a:bodyPr>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الإضافة إلى صفحة غلاف التقرير النهائي  والذي ي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وان التقرير والجهة المقدم إليها التقرير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قدم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لخص التنفيذي </a:t>
            </a:r>
            <a:r>
              <a:rPr b="0" lang="en-US" sz="2000" spc="-1" strike="noStrike">
                <a:solidFill>
                  <a:srgbClr val="000000"/>
                </a:solidFill>
                <a:latin typeface="Gill Sans MT"/>
                <a:ea typeface="Majalla UI"/>
              </a:rPr>
              <a:t>Executive Summery</a:t>
            </a:r>
            <a:r>
              <a:rPr b="0" lang="en-US"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خلفية عن مهمة المراجع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هدف والنطاق</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لاحظات والتوصيات وردود الادارة</a:t>
            </a:r>
            <a:endParaRPr b="0" lang="en-US" sz="2000" spc="-1" strike="noStrike">
              <a:solidFill>
                <a:srgbClr val="000000"/>
              </a:solidFill>
              <a:latin typeface="Gill Sans MT"/>
            </a:endParaRPr>
          </a:p>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5" name=""/>
          <p:cNvSpPr txBox="1"/>
          <p:nvPr/>
        </p:nvSpPr>
        <p:spPr>
          <a:xfrm>
            <a:off x="1521000" y="2000160"/>
            <a:ext cx="1009008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غيرات التي تطرأ على التق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المراجعة النهائي هو من مسؤولية مدير وحدة المراجعة الداخل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7" name=""/>
          <p:cNvSpPr txBox="1"/>
          <p:nvPr/>
        </p:nvSpPr>
        <p:spPr>
          <a:xfrm>
            <a:off x="1456920" y="2000160"/>
            <a:ext cx="1015380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سليم التقا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رسال نسخة من تقرير المراجعة النهائي إلى الجهة المراجع عليها لتبليغها بالنتائج والتوصيات.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يطلب منها الرد خلال مدة معقولة من تاريخ التسليم (حددتها اللائحة بثلاثين يوما) وإن كنا نرى أن هذه الفترة طويلة نسبيا ويمكن للجهة تحديد فترة أقل من ذلك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9" name=""/>
          <p:cNvSpPr txBox="1"/>
          <p:nvPr/>
        </p:nvSpPr>
        <p:spPr>
          <a:xfrm>
            <a:off x="1785960" y="2000160"/>
            <a:ext cx="982512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تابعة التق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م عملية المتابعة من خلال التأكد من استلام الرد على تقرير المراجعة خلال المدة المحدد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منشا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81" name=""/>
          <p:cNvSpPr txBox="1"/>
          <p:nvPr/>
        </p:nvSpPr>
        <p:spPr>
          <a:xfrm>
            <a:off x="580680" y="2000160"/>
            <a:ext cx="1103004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عايير اكتمال تقارير المراجع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وضوع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دق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ضوح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يجاز</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ناء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كتمال</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صيغة المناسبة للفعل</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قيت المناس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47720" y="509400"/>
            <a:ext cx="9963360" cy="120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إعداد تقارير المراجعة الداخلية</a:t>
            </a:r>
            <a:endParaRPr b="0" lang="en-US" sz="4000" spc="-1" strike="noStrike">
              <a:solidFill>
                <a:srgbClr val="572314"/>
              </a:solidFill>
              <a:latin typeface="Gill Sans MT"/>
            </a:endParaRPr>
          </a:p>
        </p:txBody>
      </p:sp>
      <p:sp>
        <p:nvSpPr>
          <p:cNvPr id="329" name=""/>
          <p:cNvSpPr txBox="1"/>
          <p:nvPr/>
        </p:nvSpPr>
        <p:spPr>
          <a:xfrm>
            <a:off x="1754280" y="1776240"/>
            <a:ext cx="9920160" cy="36784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نواع تقارير المراجعه الداخل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وحدة المراجعة الداخلية تقديم الاتي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عقب الانتهاء من كل مهمة مراجع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ربع سنوي عن ما تم تنفيذه خلال الربع المنقضي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سنوي يعكس نتائج نشاط المراجعة خلال السنة المنتهي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ديم تقرير متى دعت الحاجة إلى ذلك</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مهمة المراجعة هو الأساس في إعداد باقي التقارير</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جميع هذه التقارير تعتمد على النتائج التي يتم التوصل إليها من تنفيذ مهام المراجع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80680" y="701640"/>
            <a:ext cx="11030040" cy="101448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تقارير المراجعة الداخلية لأطراف خارجية</a:t>
            </a:r>
            <a:endParaRPr b="0" lang="en-US" sz="4000" spc="-1" strike="noStrike">
              <a:solidFill>
                <a:srgbClr val="572314"/>
              </a:solidFill>
              <a:latin typeface="Gill Sans MT"/>
            </a:endParaRPr>
          </a:p>
        </p:txBody>
      </p:sp>
      <p:sp>
        <p:nvSpPr>
          <p:cNvPr id="383" name=""/>
          <p:cNvSpPr txBox="1"/>
          <p:nvPr/>
        </p:nvSpPr>
        <p:spPr>
          <a:xfrm>
            <a:off x="1595160" y="1999800"/>
            <a:ext cx="10015560" cy="44658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تحدد لائحة المراجعة الداخلية تقارير معينة للاستخدام الخارجى لك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جهات المعنية بالإشراف والرقابة على الجهات الحكومية مثلا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راقبين الماليين التابعين لوزارة المال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ي الحسابات التابعين لديوان المراقبة العام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ي الحسابات من المراجعين الخارجيين.</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راقبين والمسئولين التابعين لهيئة الرقابة والتحقيق.</a:t>
            </a:r>
            <a:endParaRPr b="0" lang="en-US" sz="2000" spc="-1" strike="noStrike">
              <a:solidFill>
                <a:srgbClr val="000000"/>
              </a:solidFill>
              <a:latin typeface="Gill Sans MT"/>
            </a:endParaRPr>
          </a:p>
          <a:p>
            <a:pPr lvl="1" marL="617400" indent="-3427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385"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98680" y="701640"/>
            <a:ext cx="1011240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إعداد تقارير المراجعة الداخلية</a:t>
            </a:r>
            <a:endParaRPr b="0" lang="en-US" sz="4000" spc="-1" strike="noStrike">
              <a:solidFill>
                <a:srgbClr val="572314"/>
              </a:solidFill>
              <a:latin typeface="Gill Sans MT"/>
            </a:endParaRPr>
          </a:p>
        </p:txBody>
      </p:sp>
      <p:sp>
        <p:nvSpPr>
          <p:cNvPr id="331" name=""/>
          <p:cNvSpPr txBox="1"/>
          <p:nvPr/>
        </p:nvSpPr>
        <p:spPr>
          <a:xfrm>
            <a:off x="1733040" y="2180880"/>
            <a:ext cx="9929880" cy="36781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3" name=""/>
          <p:cNvSpPr txBox="1"/>
          <p:nvPr/>
        </p:nvSpPr>
        <p:spPr>
          <a:xfrm>
            <a:off x="1891800" y="1807920"/>
            <a:ext cx="9718920" cy="405108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إعداد تقرير المراجعة بشكل جيد يتطلب الأمر تجهيز </a:t>
            </a:r>
            <a:r>
              <a:rPr b="0" lang="ar-SA" sz="2400" spc="-1" strike="noStrike" u="sng">
                <a:solidFill>
                  <a:srgbClr val="000000"/>
                </a:solidFill>
                <a:uFillTx/>
                <a:latin typeface="Gill Sans MT"/>
                <a:cs typeface="Majalla UI"/>
              </a:rPr>
              <a:t>قوائم الملاحظات</a:t>
            </a:r>
            <a:r>
              <a:rPr b="0" lang="ar-SA" sz="2400" spc="-1" strike="noStrike">
                <a:solidFill>
                  <a:srgbClr val="000000"/>
                </a:solidFill>
                <a:latin typeface="Gill Sans MT"/>
                <a:ea typeface="Majalla UI"/>
              </a:rPr>
              <a:t> </a:t>
            </a:r>
            <a:r>
              <a:rPr b="0" lang="ar-SA" sz="2400" spc="-1" strike="noStrike" u="sng">
                <a:solidFill>
                  <a:srgbClr val="000000"/>
                </a:solidFill>
                <a:uFillTx/>
                <a:latin typeface="Gill Sans MT"/>
                <a:cs typeface="Majalla UI"/>
              </a:rPr>
              <a:t>والمذكرات الميدانية </a:t>
            </a:r>
            <a:r>
              <a:rPr b="0" lang="ar-SA" sz="2400" spc="-1" strike="noStrike">
                <a:solidFill>
                  <a:srgbClr val="000000"/>
                </a:solidFill>
                <a:latin typeface="Gill Sans MT"/>
                <a:cs typeface="Majalla UI"/>
              </a:rPr>
              <a:t>التي توثق ملاحظات المراجعة . </a:t>
            </a: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5" name=""/>
          <p:cNvSpPr txBox="1"/>
          <p:nvPr/>
        </p:nvSpPr>
        <p:spPr>
          <a:xfrm>
            <a:off x="1891800" y="1807920"/>
            <a:ext cx="9718920" cy="40510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لا : قوائم الملاحظات</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قائمة الملاحظات قبل إصدار مسودة التقرير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لتقديم وصف مختصر لكل ملاحظات المراجعة إضافة إلى أوراق العمل التي تفصل إجراءات الفحص التي تم تنفيذها لكل خطوة في برنامج المراجعة</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أن تتضمن قائمة الملاحظات مرجعاً لأوراق العمل و خطوات برنامج المراجعة ذات العلاق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قائمة الملاحظات ايضا كوسيلة للرقابة تضمن أن كل المذكرات الميدانية والملاحظات الأساسية قد تم الحصول عليها والإبلاغ عن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7" name=""/>
          <p:cNvSpPr txBox="1"/>
          <p:nvPr/>
        </p:nvSpPr>
        <p:spPr>
          <a:xfrm>
            <a:off x="1817640" y="2180880"/>
            <a:ext cx="979344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المذكرات الميدان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المذكرات الميدانية لتوثيق الملاحظات التي تم اكتشافها خلال فترة تنفيذ مهمة المراجع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ينما تقوم أوراق العمل بتوثيق العمل الذي تم انجازه وتقدم الأدلة التي تدعم الملاحظات.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616040" y="701640"/>
            <a:ext cx="9995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2314"/>
                </a:solidFill>
                <a:latin typeface="Gill Sans MT"/>
                <a:cs typeface="Majalla UI"/>
              </a:rPr>
              <a:t>صياغة ملاحظات المراجعة</a:t>
            </a:r>
            <a:endParaRPr b="0" lang="en-US" sz="3600" spc="-1" strike="noStrike">
              <a:solidFill>
                <a:srgbClr val="572314"/>
              </a:solidFill>
              <a:latin typeface="Gill Sans MT"/>
            </a:endParaRPr>
          </a:p>
        </p:txBody>
      </p:sp>
      <p:sp>
        <p:nvSpPr>
          <p:cNvPr id="339" name=""/>
          <p:cNvSpPr txBox="1"/>
          <p:nvPr/>
        </p:nvSpPr>
        <p:spPr>
          <a:xfrm>
            <a:off x="1626840" y="1862280"/>
            <a:ext cx="10248840" cy="39924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عريف الملاحظات:</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لاحظات المراجعة هي وصف للظروف أو الأفعال التي وجدت على غير الطريقة التي يجب أن تكون عليها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صنيف الملاحظات الى ثلاثة أنواع هي:</a:t>
            </a:r>
            <a:endParaRPr b="0" lang="en-US" sz="20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لاحظات الأعمال الوهمية</a:t>
            </a:r>
            <a:endParaRPr b="0" lang="en-US" sz="16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ملاحظات الإغفال والإسقاط والسهو</a:t>
            </a:r>
            <a:endParaRPr b="0" lang="en-US" sz="16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لاحظات الانحرافات والتجاوزات والأخطاء</a:t>
            </a:r>
            <a:endParaRPr b="0" lang="en-US" sz="1600" spc="-1" strike="noStrike">
              <a:solidFill>
                <a:srgbClr val="000000"/>
              </a:solidFill>
              <a:latin typeface="Gill Sans MT"/>
            </a:endParaRPr>
          </a:p>
          <a:p>
            <a:pPr lvl="1" marL="617400" indent="-342720" algn="just" rtl="1">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1" name=""/>
          <p:cNvSpPr txBox="1"/>
          <p:nvPr/>
        </p:nvSpPr>
        <p:spPr>
          <a:xfrm>
            <a:off x="1701720" y="1873080"/>
            <a:ext cx="9941040" cy="4181760"/>
          </a:xfrm>
          <a:prstGeom prst="rect">
            <a:avLst/>
          </a:prstGeom>
          <a:noFill/>
          <a:ln w="0">
            <a:noFill/>
          </a:ln>
        </p:spPr>
        <p:txBody>
          <a:bodyPr anchor="t">
            <a:normAutofit/>
          </a:bodyPr>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عناصر ملاحظات المراجع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0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عايير</a:t>
            </a:r>
            <a:r>
              <a:rPr b="0" lang="ar-SA" sz="1800" spc="-1" strike="noStrike">
                <a:solidFill>
                  <a:srgbClr val="000000"/>
                </a:solidFill>
                <a:latin typeface="Gill Sans MT"/>
                <a:ea typeface="Majalla UI"/>
              </a:rPr>
              <a:t>: ما الذي يجب أن يكون</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حالات</a:t>
            </a:r>
            <a:r>
              <a:rPr b="0" lang="ar-SA" sz="1800" spc="-1" strike="noStrike">
                <a:solidFill>
                  <a:srgbClr val="000000"/>
                </a:solidFill>
                <a:latin typeface="Gill Sans MT"/>
                <a:ea typeface="Majalla UI"/>
              </a:rPr>
              <a:t>: ما الموجود فعلاً</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أسباب</a:t>
            </a:r>
            <a:r>
              <a:rPr b="0" lang="ar-SA" sz="1800" spc="-1" strike="noStrike">
                <a:solidFill>
                  <a:srgbClr val="000000"/>
                </a:solidFill>
                <a:latin typeface="Gill Sans MT"/>
                <a:ea typeface="Majalla UI"/>
              </a:rPr>
              <a:t>:  لماذا حصلت مثل تلك الحالة</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تأثير</a:t>
            </a:r>
            <a:r>
              <a:rPr b="0" lang="ar-SA" sz="1800" spc="-1" strike="noStrike">
                <a:solidFill>
                  <a:srgbClr val="000000"/>
                </a:solidFill>
                <a:latin typeface="Gill Sans MT"/>
                <a:ea typeface="Majalla UI"/>
              </a:rPr>
              <a:t>:  الفرق والأهمية بين ما الموجود فعلاً وما الذي يجب أن يكون</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توصية</a:t>
            </a:r>
            <a:r>
              <a:rPr b="0" lang="ar-SA" sz="1800" spc="-1" strike="noStrike">
                <a:solidFill>
                  <a:srgbClr val="000000"/>
                </a:solidFill>
                <a:latin typeface="Gill Sans MT"/>
                <a:ea typeface="Majalla UI"/>
              </a:rPr>
              <a:t>:  ما هو الإجراء الذي يجب اتخاذه</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kayan albalawi</cp:lastModifiedBy>
  <dcterms:modified xsi:type="dcterms:W3CDTF">2014-03-16T16:00:29Z</dcterms:modified>
  <cp:revision>178</cp:revision>
  <dc:subject/>
  <dc:title>PowerPoint Presentation</dc:title>
</cp:coreProperties>
</file>