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772DF-CDBB-4A68-BC1C-0ED2EA64D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12B0-70CE-4CE4-B198-969F0616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BA565-B396-47D8-81AA-00CC53344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932AB-E4FA-41D6-886C-59B6D1F7B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AB0C0-58C8-4925-AE68-43FB6C1E1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D950-8310-412A-80E2-2E03E9952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10EE8-62BB-4FEB-B7F9-827A78630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8060C-9202-46A6-AF70-9EA0F67CD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6E9D1-0D35-41BD-A818-B33AE618A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1E409-FEF4-4351-82D9-05AA41A59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1ACC4-EB09-404F-97B2-5A6D1A0A1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423E-2682-4EA9-9C3D-12649B88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A08A9-B7ED-4432-8CDE-49BDD0624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C5B44-53E5-4505-9CAE-8AD09CEC9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3F1DF-1B7E-4985-BE28-036567620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0B415-FE57-4538-A477-5EB82FFFA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6B750-C6F4-44FA-8410-A80CE4920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F0D27-E147-4693-ADDA-86BBF01983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C5E09-0B07-49C5-ADAA-D4686BFD0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A65AD-74C3-4D18-A85B-C0C3B7CCC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33A0D-D0F1-4FD4-A057-5E9CD46FF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6414F-B81D-4F8D-B2FA-27C8BF1E4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DFF59-82DC-4027-B904-F8A8CA89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6ED02-1A20-4459-A29C-65EA8F8AC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D53BD-B228-4066-8737-8BABAEF9A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ED2E8-1EDE-4375-BFE5-BB3EC23F2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F3058-4033-44E8-8155-D0E7D0D43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FEF17-CE44-4806-8542-290B678D2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C2680-CB6A-44A9-8A27-AF249DEBF0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5D85A-4D11-4DE9-9A50-78774FB93C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D6CCA-07BC-4477-88C7-2F73846EB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22149-7BBB-4DC7-802B-717E1DEA7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AD7ED-4A3F-45F9-8A61-9CE279B01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0389-332D-4144-A859-794C8301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3B40E-FE62-400B-A6A9-615C2B266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84FC5-2D87-488C-9D2E-C0EA61EDE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4C6EC-DB93-425F-8F33-51F3675B2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80343-3F1E-4AAC-9D59-1154614D4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EFA39-E6F5-4472-A89F-51516A4EB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F8107-15EA-45B9-925E-63D753C50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6CDB2-7F8A-4484-8662-E2E02B236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B5BA2-7FAD-4123-9F6C-BE5630B0A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A14F9-AB76-4147-9F36-5C386AA03C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894D0-BDE4-49B3-A678-BFDCBB109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258F3-AC49-47E6-9E3F-93339C8B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E363F-28BA-4942-9AC6-20E8D7F88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CED68C-FEBC-4EEF-90DF-058D7B5CC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769DD-4C0C-40D6-AEAF-DD8FF739E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9F2DD-4484-496A-84CD-4AC2FF6AA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66A73-2DC8-4CB6-A2C6-7C0F52F24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3148D-916F-41C7-BF7C-27985F9DD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1B08A-D5D8-49CD-9381-25698A2A6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DC80F-E794-403C-B0F6-092B15A8D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21861-152C-4AFF-9614-60A8095BA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FB335-F492-428E-8D42-834272197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D001-B307-428D-B654-125B3BF5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D26297-1BB5-4E76-8AB9-A18A56382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FD7CFF-1517-4BA1-9906-F5455A702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35F07-9A9D-44D3-BC2C-689825B7C4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408FD-C9F9-4BC4-A5CA-16477706A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548B7-0F7B-437A-A16D-1168DD4826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B2AA6-7482-4431-9CD2-DB7FC10E02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1DD82-AF06-4777-92AB-B19C39F04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67576-21E4-4483-9C3F-1EF4982CB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86EA4-6AFE-425B-BE01-27A18459E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9FA80-B9BC-44DC-A430-509356F81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DC29-C720-4DD1-93E5-A892C74C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3DA25-FFD9-4611-8256-CB505861A3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0E525-9FE2-4F55-967E-8DB9168B6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5CB10D-41AE-4207-81F4-8C8FFFA7E2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04F411-4EE6-4E30-9FB4-1953809DAC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EF430-3D16-4CFB-8D2A-9348E2C36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4667D-2E27-4422-9321-8FA7BF76E8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46A90-1BE2-40EC-956D-D82546892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2EF382-4E95-4EF3-BE94-A2E0E6EB2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A9BE6C-016E-4C3F-B844-20EDF75DEF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F5BEF-2F88-4181-8547-C32A6F9CD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08CB-7E2F-4F28-954F-408E854E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A2A83-40AC-4162-BE88-0078C94B5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19806-9475-4FF7-98EB-A65CFE0E1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5E3C9-FEB1-4330-AB49-12D04CBCE7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F773BC-36D4-4F7E-9B7A-0B89EEE397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E16D25-71FA-4B66-9317-280B465573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EB8C-37ED-4631-AF5C-37D470745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604A7-9A2B-4A1D-92F1-92D2E9014B6F}"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77EEB-0CA2-4FF7-9200-3B8DDE10FDA6}"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5EFC6-1D4C-44B0-87D1-AA6730C90C3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01280-5763-4563-8786-541FA80EE688}"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BD374-DFD6-4A65-8C9F-23DFA157DF5C}"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FD959-9324-4E12-AC22-AD12DB70648F}"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14FEF-73EF-4B69-8ECA-DA68495FF577}"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19000" y="2604960"/>
            <a:ext cx="9875880" cy="1417680"/>
          </a:xfrm>
          <a:prstGeom prst="rect">
            <a:avLst/>
          </a:prstGeom>
          <a:noFill/>
          <a:ln w="0">
            <a:noFill/>
          </a:ln>
        </p:spPr>
        <p:txBody>
          <a:bodyPr lIns="90000" rIns="90000" tIns="46800" bIns="46800" anchor="b">
            <a:noAutofit/>
          </a:bodyPr>
          <a:p>
            <a:pPr indent="0" algn="ctr" rtl="1">
              <a:lnSpc>
                <a:spcPct val="100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11617"/>
                </a:solidFill>
                <a:latin typeface="Times New Roman"/>
                <a:cs typeface="Arabic Transparent"/>
              </a:rPr>
              <a:t>تنفيذ المراجعة الداخلية</a:t>
            </a:r>
            <a:br>
              <a:rPr sz="4400"/>
            </a:br>
            <a:r>
              <a:rPr b="1" lang="ar-SA" sz="3200" spc="-1" strike="noStrike">
                <a:solidFill>
                  <a:srgbClr val="611617"/>
                </a:solidFill>
                <a:latin typeface="Times New Roman"/>
                <a:cs typeface="Arabic Transparent"/>
              </a:rPr>
              <a:t>الفصل الخامس – الجزء الأول </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
          <p:cNvGraphicFramePr/>
          <p:nvPr/>
        </p:nvGraphicFramePr>
        <p:xfrm>
          <a:off x="0" y="20520"/>
          <a:ext cx="12192120" cy="6811920"/>
        </p:xfrm>
        <a:graphic>
          <a:graphicData uri="http://schemas.openxmlformats.org/drawingml/2006/table">
            <a:tbl>
              <a:tblPr/>
              <a:tblGrid>
                <a:gridCol w="5113440"/>
                <a:gridCol w="3425760"/>
                <a:gridCol w="3652920"/>
              </a:tblGrid>
              <a:tr h="5572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عمليات والمستندات</a:t>
                      </a:r>
                      <a:endParaRPr b="0" lang="en-US" sz="18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3891a7"/>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أدلة أو القرائن المتحصل عليها</a:t>
                      </a:r>
                      <a:endParaRPr b="0" lang="en-US" sz="18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3891a7"/>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cs typeface="Majalla UI"/>
                        </a:rPr>
                        <a:t>الإجراءات</a:t>
                      </a:r>
                      <a:endParaRPr b="0" lang="en-US" sz="18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3891a7"/>
                    </a:solidFill>
                  </a:tcPr>
                </a:tc>
              </a:tr>
              <a:tr h="9748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جرد المستودع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جرد العهد النقدية والصناديق.</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عاينة الأصول والموجود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وجود الفعلي</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لاحظ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عاينة والجرد</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54900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صادقات الحسابات المدينة والدائن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عهد والأمانات</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قرارات من الغير</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لب المصادق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10972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تمارات اعتماد الصرف</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سير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ذون التسوي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واتير المشتريات</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ستندات</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راجعة المستندية</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68256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حة العمليات الحسابية للمسيرات</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صحة العمليات الحسابية على الفواتير</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قة الحسابي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راجعة الحسابية</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54756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شوف البنك</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كشوف حسابات الموردين والمقاولين</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قة الحسابية</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طابقات والتسوي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e8eef1"/>
                    </a:solidFill>
                  </a:tcPr>
                </a:tc>
              </a:tr>
              <a:tr h="102384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الأرصدة للسنة الحالية مع أرصدة السنة الماضية</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بنود الصرف الفعلية مع البنود المعتمدة</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دى المعقولية</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576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قارنات</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5760">
                      <a:solidFill>
                        <a:srgbClr val="3891a7"/>
                      </a:solidFill>
                    </a:lnB>
                    <a:solidFill>
                      <a:srgbClr val="ffffff"/>
                    </a:solidFill>
                  </a:tcPr>
                </a:tc>
              </a:tr>
              <a:tr h="85248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فسارات من الموظفين.</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فسار من المسئولين.</a:t>
                      </a:r>
                      <a:endParaRPr b="0" lang="en-US" sz="1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صى كفاءة الموظفين.</a:t>
                      </a:r>
                      <a:endParaRPr b="0" lang="en-US" sz="1600" spc="-1" strike="noStrike">
                        <a:solidFill>
                          <a:srgbClr val="000000"/>
                        </a:solidFill>
                        <a:latin typeface="Calibri"/>
                      </a:endParaRPr>
                    </a:p>
                  </a:txBody>
                  <a:tcPr anchor="ctr" marL="30600" marR="30600">
                    <a:lnL w="5760">
                      <a:solidFill>
                        <a:srgbClr val="3891a7"/>
                      </a:solidFill>
                    </a:lnL>
                    <a:lnR>
                      <a:noFill/>
                    </a:lnR>
                    <a:lnT w="5760">
                      <a:solidFill>
                        <a:srgbClr val="3891a7"/>
                      </a:solidFill>
                    </a:lnT>
                    <a:lnB w="25200">
                      <a:solidFill>
                        <a:srgbClr val="3891a7"/>
                      </a:solidFill>
                    </a:lnB>
                    <a:solidFill>
                      <a:srgbClr val="e8eef1"/>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ستنتاجات من الاستفسارات والتقصي</a:t>
                      </a:r>
                      <a:endParaRPr b="0" lang="en-US" sz="1600" spc="-1" strike="noStrike">
                        <a:solidFill>
                          <a:srgbClr val="000000"/>
                        </a:solidFill>
                        <a:latin typeface="Calibri"/>
                      </a:endParaRPr>
                    </a:p>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endParaRPr b="0" lang="en-US" sz="1600" spc="-1" strike="noStrike">
                        <a:solidFill>
                          <a:srgbClr val="000000"/>
                        </a:solidFill>
                        <a:latin typeface="Calibri"/>
                      </a:endParaRPr>
                    </a:p>
                  </a:txBody>
                  <a:tcPr anchor="ctr" marL="30600" marR="30600">
                    <a:lnL>
                      <a:noFill/>
                    </a:lnL>
                    <a:lnR>
                      <a:noFill/>
                    </a:lnR>
                    <a:lnT w="5760">
                      <a:solidFill>
                        <a:srgbClr val="3891a7"/>
                      </a:solidFill>
                    </a:lnT>
                    <a:lnB w="25200">
                      <a:solidFill>
                        <a:srgbClr val="3891a7"/>
                      </a:solidFill>
                    </a:lnB>
                    <a:solidFill>
                      <a:srgbClr val="e8eef1"/>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بحث والتقصي</a:t>
                      </a:r>
                      <a:endParaRPr b="0" lang="en-US" sz="1600" spc="-1" strike="noStrike">
                        <a:solidFill>
                          <a:srgbClr val="000000"/>
                        </a:solidFill>
                        <a:latin typeface="Calibri"/>
                      </a:endParaRPr>
                    </a:p>
                  </a:txBody>
                  <a:tcPr anchor="ctr" marL="30600" marR="30600">
                    <a:lnL>
                      <a:noFill/>
                    </a:lnL>
                    <a:lnR w="5760">
                      <a:solidFill>
                        <a:srgbClr val="3891a7"/>
                      </a:solidFill>
                    </a:lnR>
                    <a:lnT w="5760">
                      <a:solidFill>
                        <a:srgbClr val="3891a7"/>
                      </a:solidFill>
                    </a:lnT>
                    <a:lnB w="25200">
                      <a:solidFill>
                        <a:srgbClr val="3891a7"/>
                      </a:solidFill>
                    </a:lnB>
                    <a:solidFill>
                      <a:srgbClr val="e8eef1"/>
                    </a:solidFill>
                  </a:tcPr>
                </a:tc>
              </a:tr>
              <a:tr h="527040">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علاقة بين الأداء الفعلي والمتوقع</a:t>
                      </a:r>
                      <a:endParaRPr b="0" lang="en-US" sz="1600" spc="-1" strike="noStrike">
                        <a:solidFill>
                          <a:srgbClr val="000000"/>
                        </a:solidFill>
                        <a:latin typeface="Calibri"/>
                      </a:endParaRPr>
                    </a:p>
                  </a:txBody>
                  <a:tcPr anchor="ctr" marL="30600" marR="30600">
                    <a:lnL w="5760">
                      <a:solidFill>
                        <a:srgbClr val="3891a7"/>
                      </a:solidFill>
                    </a:lnL>
                    <a:lnR>
                      <a:noFill/>
                    </a:lnR>
                    <a:lnT w="25200">
                      <a:solidFill>
                        <a:srgbClr val="3891a7"/>
                      </a:solidFill>
                    </a:lnT>
                    <a:lnB w="5760">
                      <a:solidFill>
                        <a:srgbClr val="3891a7"/>
                      </a:solidFill>
                    </a:lnB>
                    <a:solidFill>
                      <a:srgbClr val="ffffff"/>
                    </a:solidFill>
                  </a:tcPr>
                </a:tc>
                <a:tc>
                  <a:txBody>
                    <a:bodyPr lIns="30600" rIns="30600" tIns="0" bIns="0" anchor="ctr">
                      <a:noAutofit/>
                    </a:bodyPr>
                    <a:p>
                      <a:pPr marL="2286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قرينة) مدى المعقولية</a:t>
                      </a:r>
                      <a:endParaRPr b="0" lang="en-US" sz="1600" spc="-1" strike="noStrike">
                        <a:solidFill>
                          <a:srgbClr val="000000"/>
                        </a:solidFill>
                        <a:latin typeface="Calibri"/>
                      </a:endParaRPr>
                    </a:p>
                  </a:txBody>
                  <a:tcPr anchor="ctr" marL="30600" marR="30600">
                    <a:lnL>
                      <a:noFill/>
                    </a:lnL>
                    <a:lnR>
                      <a:noFill/>
                    </a:lnR>
                    <a:lnT w="25200">
                      <a:solidFill>
                        <a:srgbClr val="3891a7"/>
                      </a:solidFill>
                    </a:lnT>
                    <a:lnB w="5760">
                      <a:solidFill>
                        <a:srgbClr val="3891a7"/>
                      </a:solidFill>
                    </a:lnB>
                    <a:solidFill>
                      <a:srgbClr val="ffffff"/>
                    </a:solidFill>
                  </a:tcPr>
                </a:tc>
                <a:tc>
                  <a:txBody>
                    <a:bodyPr lIns="30600" rIns="306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دراسة العلاقة بين البيانات وبعضها</a:t>
                      </a:r>
                      <a:endParaRPr b="0" lang="en-US" sz="1600" spc="-1" strike="noStrike">
                        <a:solidFill>
                          <a:srgbClr val="000000"/>
                        </a:solidFill>
                        <a:latin typeface="Calibri"/>
                      </a:endParaRPr>
                    </a:p>
                  </a:txBody>
                  <a:tcPr anchor="ctr" marL="30600" marR="30600">
                    <a:lnL>
                      <a:noFill/>
                    </a:lnL>
                    <a:lnR w="5760">
                      <a:solidFill>
                        <a:srgbClr val="3891a7"/>
                      </a:solidFill>
                    </a:lnR>
                    <a:lnT w="25200">
                      <a:solidFill>
                        <a:srgbClr val="3891a7"/>
                      </a:solidFill>
                    </a:lnT>
                    <a:lnB w="5760">
                      <a:solidFill>
                        <a:srgbClr val="3891a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457200"/>
            <a:ext cx="10058400" cy="1052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أدلة وقرائن الإثبات المراجعة</a:t>
            </a:r>
            <a:br>
              <a:rPr sz="3900"/>
            </a:br>
            <a:endParaRPr b="0" lang="en-US" sz="3900" spc="-1" strike="noStrike">
              <a:solidFill>
                <a:srgbClr val="572314"/>
              </a:solidFill>
              <a:latin typeface="Gill Sans MT"/>
            </a:endParaRPr>
          </a:p>
        </p:txBody>
      </p:sp>
      <p:sp>
        <p:nvSpPr>
          <p:cNvPr id="337" name=""/>
          <p:cNvSpPr txBox="1"/>
          <p:nvPr/>
        </p:nvSpPr>
        <p:spPr>
          <a:xfrm>
            <a:off x="1617840" y="1496520"/>
            <a:ext cx="10058400" cy="41324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خصائص التي يجب توافرها في الدليل</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أن يكون وثيق الصلة بالموضوع محل الفحص</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قوة الإقناعية للدلي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كفاي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تمد المراجع الداخلي أو الخارجي على نظام العينة ، حيث يقوم بفحص عينة من المجتمع محل المراجعة للوصول إلى استنتاجات عن المجتمع ككل</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عريف المعاينة في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جموعة البيانات التي يتم منها اختيار العينة = 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عناصر المكونة للمجتمع والمتاحة للاختيار = وحدات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طبيق هذه العملية إما استنادا إلى التقدير الشخصي للمراجع (معاينة حكمية أو تقديرية) أو بإستخدام الأساليب الرياضية والإحصائية (معاينة إحصائ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نطق من استخدام أسلوب العينات إحصائية أو التقديرية هو </a:t>
            </a:r>
            <a:r>
              <a:rPr b="0" lang="ar-SA" sz="2400" spc="-1" strike="noStrike">
                <a:solidFill>
                  <a:srgbClr val="000000"/>
                </a:solidFill>
                <a:latin typeface="Gill Sans MT"/>
                <a:cs typeface="Majalla UI"/>
              </a:rPr>
              <a:t>عدم الحاجة لمزيد من الفحص في حالة التأكد من فعالية الأدلة المؤيدة للحكم</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آلية الفحص المستخدمة هنا هي الحكم وبالتالي فإن القرار يجب أن يصدر عن المراجعين ذوي الخبرة مثل قائد ومدير الفريق.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لما كانت النتائج أكثر حساسية، كلما تطلب جعل الفحص أكثر عمقا وبالتالي يكون حجم العينة أكبرً</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نطق يرتكز على تحقيق </a:t>
            </a:r>
            <a:r>
              <a:rPr b="1" lang="ar-SA" sz="2400" spc="-1" strike="noStrike">
                <a:solidFill>
                  <a:srgbClr val="000000"/>
                </a:solidFill>
                <a:latin typeface="Gill Sans MT"/>
                <a:cs typeface="Majalla UI"/>
              </a:rPr>
              <a:t>مبدأ الكفاءة والفعالية</a:t>
            </a:r>
            <a:r>
              <a:rPr b="0" lang="ar-SA" sz="2400" spc="-1" strike="noStrike">
                <a:solidFill>
                  <a:srgbClr val="000000"/>
                </a:solidFill>
                <a:latin typeface="Gill Sans MT"/>
                <a:ea typeface="Majalla UI"/>
              </a:rPr>
              <a:t> في عملية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كفاءة هي تنفيذ عملية المراجعة بأقل تكلفة ممك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عالية توفير أكبر قدر من الثقة في النتائج التي يتوصل إليها المراجع أي تحقيق هدف المراجعة ، بمعنى أخر تحقيق الهدف بأقل تكلفة ممكن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3" name=""/>
          <p:cNvSpPr txBox="1"/>
          <p:nvPr/>
        </p:nvSpPr>
        <p:spPr>
          <a:xfrm>
            <a:off x="1606680" y="1595520"/>
            <a:ext cx="10058400" cy="4719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مكن تصنيف أساليب المعاينة بحسب الغرض من استخدامها إلى:</a:t>
            </a:r>
            <a:endParaRPr b="0" lang="en-US" sz="24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عاينة الصفات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عاينة المتغيرات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لأغراض اختبارات التحقق التفصيلية من الأرصدة والعمليات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ي هذا النوع من الاختبارات يهتم المراجع بالقيم النقدية التي تعرضها القوائم المالية </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عينات ذات الغرض المزدوج:</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47360" y="167760"/>
            <a:ext cx="9998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5" name=""/>
          <p:cNvSpPr txBox="1"/>
          <p:nvPr/>
        </p:nvSpPr>
        <p:spPr>
          <a:xfrm>
            <a:off x="1660680" y="1239480"/>
            <a:ext cx="10058400" cy="5256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لحديث عن استخدام العينات لأغراض المراجعة يصنف الخطر الذي يتعرض له المراجع إلى نوعين هما:</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خطر المعاينة:</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و احتمال أن تكون النتائج التي يتوصل إليها المراجع من فحصه للعينة ليست هي نفس النتائج التي يمكن أن يتوصل إليها إذا قام بفحص شامل للمجتمع كله.</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رجع ذلك بصفة أساسية إلى احتمال أن تكون العينة غير ممثلة للمجتمع محل الفحص.</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ر غير المرتبط باستخدام العينات: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ضمن جميع جوانب مخاطر المراجعة التي لا ترجع إلى استخدام أساليب المعاينة والتي تعرض لها المراجع حتى وأن قام بفحص المجتمع كله أو قام بفحص مفردة واحدة. </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أخطار مصدرها:</a:t>
            </a:r>
            <a:endParaRPr b="0" lang="en-US" sz="20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ستخدام إجراءات مراجعة لا تتناسب مع الهدف محل الفحص </a:t>
            </a:r>
            <a:endParaRPr b="0" lang="en-US" sz="16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ستخدام أساليب مراجعة صحيحة ولكن يتم تطبيقها بطريقة خاطئة  </a:t>
            </a:r>
            <a:endParaRPr b="0" lang="en-US" sz="1600" spc="-1" strike="noStrike">
              <a:solidFill>
                <a:srgbClr val="000000"/>
              </a:solidFill>
              <a:latin typeface="Gill Sans MT"/>
            </a:endParaRPr>
          </a:p>
          <a:p>
            <a:pPr lvl="3" marL="1096920" indent="-173160" algn="just"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تخدام أساليب مراجعة صحيحة وتطبيقها بطريقة لكن يتم تفسير النتائج بطريقة خاطئة.</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ستخدام العينات لأغراض المراجعة الداخلية</a:t>
            </a:r>
            <a:endParaRPr b="0" lang="en-US" sz="4000" spc="-1" strike="noStrike">
              <a:solidFill>
                <a:srgbClr val="572314"/>
              </a:solidFill>
              <a:latin typeface="Gill Sans MT"/>
            </a:endParaRPr>
          </a:p>
        </p:txBody>
      </p:sp>
      <p:sp>
        <p:nvSpPr>
          <p:cNvPr id="347" name=""/>
          <p:cNvSpPr txBox="1"/>
          <p:nvPr/>
        </p:nvSpPr>
        <p:spPr>
          <a:xfrm>
            <a:off x="1533600" y="143208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اختيار العينة :</a:t>
            </a:r>
            <a:endParaRPr b="0" lang="en-US" sz="24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طرق الاختيار الحكمي او الغير احصائي </a:t>
            </a:r>
            <a:endParaRPr b="0" lang="en-US" sz="20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اختيار المباشر للعينة</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ختيار العينة وفقاً لمجموعة متتابعة</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ختيار العينة مصادفة</a:t>
            </a:r>
            <a:endParaRPr b="0" lang="en-US" sz="1600" spc="-1" strike="noStrike">
              <a:solidFill>
                <a:srgbClr val="000000"/>
              </a:solidFill>
              <a:latin typeface="Gill Sans MT"/>
            </a:endParaRPr>
          </a:p>
          <a:p>
            <a:pPr lvl="1" marL="85896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طرق الاختيار الاحصائي </a:t>
            </a:r>
            <a:endParaRPr b="0" lang="en-US" sz="20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اختيار على أساس الأرقام العشوائية </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اختيار المنتظم مع بداية عشوائية </a:t>
            </a:r>
            <a:endParaRPr b="0" lang="en-US" sz="1600" spc="-1" strike="noStrike">
              <a:solidFill>
                <a:srgbClr val="000000"/>
              </a:solidFill>
              <a:latin typeface="Gill Sans MT"/>
            </a:endParaRPr>
          </a:p>
          <a:p>
            <a:pPr lvl="2" marL="976320" indent="-45720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معاينة الطبق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ستخدام عينات المراجعة لأغراض اختبارات الرقابة</a:t>
            </a:r>
            <a:br>
              <a:rPr sz="3900"/>
            </a:br>
            <a:r>
              <a:rPr b="0" lang="ar-SA" sz="3900" spc="-1" strike="noStrike">
                <a:solidFill>
                  <a:srgbClr val="611617"/>
                </a:solidFill>
                <a:latin typeface="Gill Sans MT"/>
                <a:cs typeface="Majalla UI"/>
              </a:rPr>
              <a:t>معاينة الصفات</a:t>
            </a:r>
            <a:endParaRPr b="0" lang="en-US" sz="3900" spc="-1" strike="noStrike">
              <a:solidFill>
                <a:srgbClr val="572314"/>
              </a:solidFill>
              <a:latin typeface="Gill Sans MT"/>
            </a:endParaRPr>
          </a:p>
        </p:txBody>
      </p:sp>
      <p:sp>
        <p:nvSpPr>
          <p:cNvPr id="349" name=""/>
          <p:cNvSpPr txBox="1"/>
          <p:nvPr/>
        </p:nvSpPr>
        <p:spPr>
          <a:xfrm>
            <a:off x="1585800" y="1547280"/>
            <a:ext cx="10058400" cy="46580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خطوات استخدام أساليب المعاينة (الحكمية أو الإحصائية)  لفحص نظام الرقابة الداخ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أولي:  تخطيط وتصميم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ثانية:  اختيار العينة وتنفيذ إجراءات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ثالثة: تقويم نتائج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طوة الرابعة: توثيق إجراءات المعا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1" name=""/>
          <p:cNvSpPr txBox="1"/>
          <p:nvPr/>
        </p:nvSpPr>
        <p:spPr>
          <a:xfrm>
            <a:off x="1712880" y="17366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خطوة الأولى:  تخطيط وتصميم الع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ضمن هذه الخطوة قيام المراجع بالإجراءات التالي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هدف من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مجتمع ووحدة المعاين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خطأ والانحراف عن نظام الرقابة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عدل الانحراف المسموح به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ستوى الثقة المرغوب فيه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عدل الانحراف المتوقع في 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حجم العينة (حكمي او احصائي)</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3" name=""/>
          <p:cNvSpPr txBox="1"/>
          <p:nvPr/>
        </p:nvSpPr>
        <p:spPr>
          <a:xfrm>
            <a:off x="1096920" y="18464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نية:  اختيار مفردات العينة وتنفيذ إجراءات المراجع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ختيار مفردات العي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نفيذ إجراءات المراجع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أجندة </a:t>
            </a:r>
            <a:endParaRPr b="0" lang="en-US" sz="4300" spc="-1" strike="noStrike">
              <a:solidFill>
                <a:srgbClr val="572314"/>
              </a:solidFill>
              <a:latin typeface="Gill Sans MT"/>
            </a:endParaRPr>
          </a:p>
        </p:txBody>
      </p:sp>
      <p:sp>
        <p:nvSpPr>
          <p:cNvPr id="320"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نقاط التالية خاصة بتنفيذ عملية المراجعة : </a:t>
            </a:r>
            <a:endParaRPr b="0" lang="en-US" sz="28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خطاب الإعلان عن مهمة المراجعة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يفية الرقابة على تنفيذ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جراءات المراجعة التي يمكن استخدام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دلة وقرائن المراجعة التي يمكن الاعتماد علي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يفية استخدام أساليب المعاين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5" name=""/>
          <p:cNvSpPr txBox="1"/>
          <p:nvPr/>
        </p:nvSpPr>
        <p:spPr>
          <a:xfrm>
            <a:off x="1690200" y="1719360"/>
            <a:ext cx="983628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لثة: تقويم نتائج الع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ولا:</a:t>
            </a: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قويم الحكمي لنتائج فحص العينة</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مقياس الوحيد الذي يمكن حسابه كميا هو معدل الأخطاء أو الانحرافات بالعينة ويحسب كما يلي:</a:t>
            </a:r>
            <a:endParaRPr b="0" lang="en-US" sz="1800" spc="-1" strike="noStrike">
              <a:solidFill>
                <a:srgbClr val="000000"/>
              </a:solidFill>
              <a:latin typeface="Gill Sans MT"/>
            </a:endParaRPr>
          </a:p>
          <a:p>
            <a:pPr lvl="3" marL="1096920" indent="-173160" algn="just" rtl="1">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معدل الانحرافات بالعينة = ( عدد الانحرافات / حجم العينة ) *</a:t>
            </a:r>
            <a:r>
              <a:rPr b="0" lang="ar-SA" sz="1400" spc="-1" strike="noStrike">
                <a:solidFill>
                  <a:srgbClr val="000000"/>
                </a:solidFill>
                <a:latin typeface="Gill Sans MT"/>
                <a:ea typeface="Majalla UI"/>
              </a:rPr>
              <a:t>100</a:t>
            </a:r>
            <a:endParaRPr b="0" lang="en-US" sz="1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ثانيا:</a:t>
            </a: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قويم الإحصائي لنتائج فحص العين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4b2203"/>
                </a:solidFill>
                <a:latin typeface="Gill Sans MT"/>
                <a:cs typeface="Majalla UI"/>
              </a:rPr>
              <a:t>استخدام عينات المراجعة لأغراض اختبارات الرقابة</a:t>
            </a:r>
            <a:br>
              <a:rPr sz="3900"/>
            </a:br>
            <a:r>
              <a:rPr b="0" lang="ar-SA" sz="3900" spc="-1" strike="noStrike">
                <a:solidFill>
                  <a:srgbClr val="4b2203"/>
                </a:solidFill>
                <a:latin typeface="Gill Sans MT"/>
                <a:cs typeface="Majalla UI"/>
              </a:rPr>
              <a:t>معاينة الصفات</a:t>
            </a:r>
            <a:endParaRPr b="0" lang="en-US" sz="3900" spc="-1" strike="noStrike">
              <a:solidFill>
                <a:srgbClr val="572314"/>
              </a:solidFill>
              <a:latin typeface="Gill Sans MT"/>
            </a:endParaRPr>
          </a:p>
        </p:txBody>
      </p:sp>
      <p:sp>
        <p:nvSpPr>
          <p:cNvPr id="357" name=""/>
          <p:cNvSpPr txBox="1"/>
          <p:nvPr/>
        </p:nvSpPr>
        <p:spPr>
          <a:xfrm>
            <a:off x="1606680" y="1538280"/>
            <a:ext cx="10058400" cy="4851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cs typeface="Majalla UI"/>
              </a:rPr>
              <a:t>الخطوة الرابعة: توثيق إجراءات المعاينة </a:t>
            </a:r>
            <a:endParaRPr b="0" lang="en-US" sz="2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وصف للإجراء الرقابي الذي تم اختباره والهدف من الاختبار، بما في ذلك علاقته باختبارات التحقق التفصيلية المخطط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للمجتمع ووحدة المعا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للظروف التي تعبر عن وجود انحراف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حديد الأساس الذي استند إليه المراجع في تحديد مستوى الثقة، ومعدل الانحراف المسموح به، والمعدل المتوقع للانحراف في المجتمع.</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طريقة المستخدمة في تحديد حجم العينة، والطريقة المستخدمة في اختيار مفردات الع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وصف لإجراءات المعاينة التي تم اتباعها، وقائمة بالانحرافات التي تم اكتشافها في العين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تقويم العينة وملخص بالاستنتاجات العامة التي توصل إليها المراجع.</a:t>
            </a:r>
            <a:endParaRPr b="0" lang="en-US" sz="22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59" name=""/>
          <p:cNvSpPr txBox="1"/>
          <p:nvPr/>
        </p:nvSpPr>
        <p:spPr>
          <a:xfrm>
            <a:off x="1830240" y="173988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لمراجع استخدام أي من أساليب المعاينة الإحصائية أو المعاينة غير الإحصائية</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طلب تطبيق معاينة المتغيرات ضرورة  قيام المراجع بخطوات محددة مثل تلك التي يقوم بها عند استخدام عينات المراجعة لأغراض اختبارات الرقاب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بدأ هذه الخطوات بتخطيط العينة وتنتهي بتوثيق الإجراءات مروراً باختيار مفردات العينة وتنفيذ إجراءات المراجعة عليها وتقويم نتائج العين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658520" y="231480"/>
            <a:ext cx="9998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1" name=""/>
          <p:cNvSpPr txBox="1"/>
          <p:nvPr/>
        </p:nvSpPr>
        <p:spPr>
          <a:xfrm>
            <a:off x="1511280" y="1733040"/>
            <a:ext cx="10166400" cy="4658040"/>
          </a:xfrm>
          <a:prstGeom prst="rect">
            <a:avLst/>
          </a:prstGeom>
          <a:noFill/>
          <a:ln w="0">
            <a:noFill/>
          </a:ln>
        </p:spPr>
        <p:txBody>
          <a:bodyPr anchor="t">
            <a:normAutofit fontScale="95000"/>
          </a:bodyPr>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استخدام أساليب المعاينة الإحصائية التقليدية</a:t>
            </a:r>
            <a:endParaRPr b="0" lang="en-US" sz="2400" spc="-1" strike="noStrike">
              <a:solidFill>
                <a:srgbClr val="000000"/>
              </a:solidFill>
              <a:latin typeface="Gill Sans MT"/>
            </a:endParaRPr>
          </a:p>
          <a:p>
            <a:pPr lvl="1" marL="607680" indent="-2246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للمراجع  استخدام أحد أساليب المعاينة الإحصائية التقليدية لأغراض اختبارات التحقق من الأرصدة والعمليات: </a:t>
            </a:r>
            <a:endParaRPr b="0" lang="en-US" sz="2000" spc="-1" strike="noStrike">
              <a:solidFill>
                <a:srgbClr val="000000"/>
              </a:solidFill>
              <a:latin typeface="Gill Sans MT"/>
            </a:endParaRPr>
          </a:p>
          <a:p>
            <a:pPr lvl="1" marL="607680" indent="-224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1</a:t>
            </a:r>
            <a:r>
              <a:rPr b="0" lang="ar-SA" sz="2000" spc="-1" strike="noStrike">
                <a:solidFill>
                  <a:srgbClr val="000000"/>
                </a:solidFill>
                <a:latin typeface="Gill Sans MT"/>
                <a:ea typeface="Majalla UI"/>
              </a:rPr>
              <a:t>.طريقة المتوسط               </a:t>
            </a:r>
            <a:r>
              <a:rPr b="0" lang="ar-SA" sz="2000" spc="-1" strike="noStrike">
                <a:solidFill>
                  <a:srgbClr val="000000"/>
                </a:solidFill>
                <a:latin typeface="Gill Sans MT"/>
                <a:ea typeface="Majalla UI"/>
              </a:rPr>
              <a:t>2</a:t>
            </a:r>
            <a:r>
              <a:rPr b="0" lang="ar-SA" sz="2000" spc="-1" strike="noStrike">
                <a:solidFill>
                  <a:srgbClr val="000000"/>
                </a:solidFill>
                <a:latin typeface="Gill Sans MT"/>
                <a:ea typeface="Majalla UI"/>
              </a:rPr>
              <a:t>. طريقة الفروق                    </a:t>
            </a:r>
            <a:r>
              <a:rPr b="0" lang="ar-SA" sz="2000" spc="-1" strike="noStrike">
                <a:solidFill>
                  <a:srgbClr val="000000"/>
                </a:solidFill>
                <a:latin typeface="Gill Sans MT"/>
                <a:ea typeface="Majalla UI"/>
              </a:rPr>
              <a:t>3</a:t>
            </a:r>
            <a:r>
              <a:rPr b="0" lang="ar-SA" sz="2000" spc="-1" strike="noStrike">
                <a:solidFill>
                  <a:srgbClr val="000000"/>
                </a:solidFill>
                <a:latin typeface="Gill Sans MT"/>
                <a:ea typeface="Majalla UI"/>
              </a:rPr>
              <a:t>. طريقة النسب</a:t>
            </a:r>
            <a:endParaRPr b="0" lang="en-US" sz="2000" spc="-1" strike="noStrike">
              <a:solidFill>
                <a:srgbClr val="000000"/>
              </a:solidFill>
              <a:latin typeface="Gill Sans MT"/>
            </a:endParaRPr>
          </a:p>
          <a:p>
            <a:pPr lvl="1" marL="607680" indent="-2246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تختلف الإجراءات المتبعة في أي من هذه الطرق عن غيرها إلا في الطريقة التي يتم بها تقدير قيمة المجتمع.</a:t>
            </a:r>
            <a:endParaRPr b="0" lang="en-US" sz="2000" spc="-1" strike="noStrike">
              <a:solidFill>
                <a:srgbClr val="000000"/>
              </a:solidFill>
              <a:latin typeface="Gill Sans MT"/>
            </a:endParaRPr>
          </a:p>
          <a:p>
            <a:pPr marL="346680" indent="-268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أولى: تخطيط العينة </a:t>
            </a:r>
            <a:endParaRPr b="0" lang="en-US" sz="24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هدف من الاختبار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جتمع ووحدة المعاينة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ستوى الثقة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انحراف المعياري المتوقع للمجتمع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خطأ المسموح به                                                          </a:t>
            </a:r>
            <a:endParaRPr b="0" lang="en-US" sz="2000" spc="-1" strike="noStrike">
              <a:solidFill>
                <a:srgbClr val="000000"/>
              </a:solidFill>
              <a:latin typeface="Gill Sans MT"/>
            </a:endParaRPr>
          </a:p>
          <a:p>
            <a:pPr lvl="1" marL="607680" indent="-22464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حجم العينة </a:t>
            </a:r>
            <a:endParaRPr b="0" lang="en-US" sz="2000" spc="-1" strike="noStrike">
              <a:solidFill>
                <a:srgbClr val="000000"/>
              </a:solidFill>
              <a:latin typeface="Gill Sans MT"/>
            </a:endParaRPr>
          </a:p>
          <a:p>
            <a:pPr marL="346680" indent="-268200" algn="just" rtl="1">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3" name=""/>
          <p:cNvSpPr txBox="1"/>
          <p:nvPr/>
        </p:nvSpPr>
        <p:spPr>
          <a:xfrm>
            <a:off x="1733040" y="1800360"/>
            <a:ext cx="972036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نية: اختيار مفردات الع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استخدام طريقة اختيار العينة التي يترتب عليها اختيار عينة ممثلة ل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فضل في اختبارات التحقق التفصيلية استخدام إحدى طرق الاختيار العشوائي التي سبق الإشارة إليه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ثالثة: تنفيذ إجراءات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نفيذ إجراءات المراجعة على جميع مفردات العي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كن المراجع من تنفيذ إجراءات المراجعة المخططة على بعض مفردات العينة فإن معالجة هذه المفردات تتوقف على أثرها في تقويمه لنتائج العين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5" name=""/>
          <p:cNvSpPr txBox="1"/>
          <p:nvPr/>
        </p:nvSpPr>
        <p:spPr>
          <a:xfrm>
            <a:off x="1574640" y="16844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وة الرابعة: تقويم نتائج الع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م يقوم المراجع بمقارنة الخطأ الإجمالي المقدر في المجتمع مع القيمة النقدية للخطأ المسموح به.</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خطوة الخامسة: توثيق إجراءات المعاين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المراجع توثيق جميع الإجراءات التي قام بها عند استخدام عينات المراجعة لأغراض اختبارات التحقق التفصيلية للأرصدة والعمليات.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7" name=""/>
          <p:cNvSpPr txBox="1"/>
          <p:nvPr/>
        </p:nvSpPr>
        <p:spPr>
          <a:xfrm>
            <a:off x="1490760" y="1704960"/>
            <a:ext cx="10058400" cy="46576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استخدام المعاينة الحكمية في التحقق من صحة الأرص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هم ما يميز المعاينة الحكمية هو أن تحديد حجم العينة وإختيار مفرداتها وكذلك تقويم نتائج المعاينة يتم وفقا للتقدير الشخصي للمراج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ea typeface="Majalla UI"/>
              </a:rPr>
              <a:t> </a:t>
            </a:r>
            <a:r>
              <a:rPr b="1" lang="ar-SA" sz="1800" spc="-1" strike="noStrike">
                <a:solidFill>
                  <a:srgbClr val="000000"/>
                </a:solidFill>
                <a:latin typeface="Gill Sans MT"/>
                <a:cs typeface="Majalla UI"/>
              </a:rPr>
              <a:t>اختلاف في تحديد حجم العينة: </a:t>
            </a:r>
            <a:r>
              <a:rPr b="0" lang="ar-SA" sz="1800" spc="-1" strike="noStrike">
                <a:solidFill>
                  <a:srgbClr val="000000"/>
                </a:solidFill>
                <a:latin typeface="Gill Sans MT"/>
                <a:cs typeface="Majalla UI"/>
              </a:rPr>
              <a:t>يتحدد حجم العينة حكميا </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ea typeface="Majalla UI"/>
              </a:rPr>
              <a:t> اختلاف في اختيار مفردات العينة</a:t>
            </a:r>
            <a:r>
              <a:rPr b="0" lang="ar-SA" sz="1800" spc="-1" strike="noStrike">
                <a:solidFill>
                  <a:srgbClr val="000000"/>
                </a:solidFill>
                <a:latin typeface="Gill Sans MT"/>
                <a:ea typeface="Majalla UI"/>
              </a:rPr>
              <a:t>: 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a:solidFill>
                  <a:srgbClr val="4b2203"/>
                </a:solidFill>
                <a:latin typeface="Gill Sans MT"/>
                <a:cs typeface="Majalla UI"/>
              </a:rPr>
              <a:t>استخدام عينات المراجعة في التحقق من صحة الأرصدة</a:t>
            </a:r>
            <a:br>
              <a:rPr sz="3900"/>
            </a:br>
            <a:r>
              <a:rPr b="0" lang="ar-SA" sz="3900" spc="-1" strike="noStrike">
                <a:solidFill>
                  <a:srgbClr val="4b2203"/>
                </a:solidFill>
                <a:latin typeface="Gill Sans MT"/>
                <a:cs typeface="Majalla UI"/>
              </a:rPr>
              <a:t>معاينة المتغيرات</a:t>
            </a:r>
            <a:endParaRPr b="0" lang="en-US" sz="3900" spc="-1" strike="noStrike">
              <a:solidFill>
                <a:srgbClr val="572314"/>
              </a:solidFill>
              <a:latin typeface="Gill Sans MT"/>
            </a:endParaRPr>
          </a:p>
        </p:txBody>
      </p:sp>
      <p:sp>
        <p:nvSpPr>
          <p:cNvPr id="369" name=""/>
          <p:cNvSpPr txBox="1"/>
          <p:nvPr/>
        </p:nvSpPr>
        <p:spPr>
          <a:xfrm>
            <a:off x="1096920" y="1736640"/>
            <a:ext cx="10058400" cy="46576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ختلاف في تقويم نتائج المعاين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تقويم نتائج المعاينة حكميا القيام بالخطوات التالية :</a:t>
            </a:r>
            <a:endParaRPr b="0" lang="en-US" sz="20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حصر الأخطاء بالعينة </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قدير الأخطاء المحتمل أن يتضمنها المجتمع المحاسبي </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قارنة مع مبلغ الخطأ المسموح به</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دراسة وتحليل الأخطاء</a:t>
            </a:r>
            <a:endParaRPr b="0" lang="en-US" sz="1800" spc="-1" strike="noStrike">
              <a:solidFill>
                <a:srgbClr val="000000"/>
              </a:solidFill>
              <a:latin typeface="Gill Sans MT"/>
            </a:endParaRPr>
          </a:p>
          <a:p>
            <a:pPr lvl="2" marL="1000080" indent="-342720" algn="just" rtl="1">
              <a:spcBef>
                <a:spcPts val="45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تخاذ القرار النهائي</a:t>
            </a:r>
            <a:endParaRPr b="0" lang="en-US" sz="1800" spc="-1" strike="noStrike">
              <a:solidFill>
                <a:srgbClr val="000000"/>
              </a:solidFill>
              <a:latin typeface="Gill Sans MT"/>
            </a:endParaRPr>
          </a:p>
          <a:p>
            <a:pPr lvl="1" marL="639720" indent="-23652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يتبع ..</a:t>
            </a:r>
            <a:endParaRPr b="0" lang="en-US" sz="4300" spc="-1" strike="noStrike">
              <a:solidFill>
                <a:srgbClr val="572314"/>
              </a:solidFill>
              <a:latin typeface="Gill Sans MT"/>
            </a:endParaRPr>
          </a:p>
        </p:txBody>
      </p:sp>
      <p:sp>
        <p:nvSpPr>
          <p:cNvPr id="37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ea typeface="Majalla UI"/>
              </a:rPr>
              <a:t> الجزء الثاني – تقارير المراجعه الداخلي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ea typeface="Majalla UI"/>
              </a:rPr>
              <a:t> خطاب الإعلان عن مهمة المراجعة</a:t>
            </a:r>
            <a:endParaRPr b="0" lang="en-US" sz="4300" spc="-1" strike="noStrike">
              <a:solidFill>
                <a:srgbClr val="572314"/>
              </a:solidFill>
              <a:latin typeface="Gill Sans MT"/>
            </a:endParaRPr>
          </a:p>
        </p:txBody>
      </p:sp>
      <p:sp>
        <p:nvSpPr>
          <p:cNvPr id="32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بدأ مرحلة تنفيذ مهام المراجعة الداخلية بإعلام الجهة المراد مراجعتها بمهمة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لإعلام عن طريق خطاب الإعلان الصادر عن المسئول الأول بإدارة المراجع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كون هذا الخطاب قبل فترة معقولة من تاريخ بدأ المهمة (أسبوع إلى ثلاثة أسابيع من تاريخ البدء في المه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ضمن محتويات هذا الخطاب أهداف ونطاق المراجعة، أسماء المراجعين المسئولين عن تنفيذ المهمة، والمعلومات الأخرى ذات العلاق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05080" y="252000"/>
            <a:ext cx="10058400" cy="83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a:t>
            </a:r>
            <a:br>
              <a:rPr sz="3900"/>
            </a:br>
            <a:r>
              <a:rPr b="0" lang="ar-SA" sz="4800" spc="-1" strike="noStrike">
                <a:solidFill>
                  <a:srgbClr val="611617"/>
                </a:solidFill>
                <a:latin typeface="Gill Sans MT"/>
                <a:cs typeface="Majalla UI"/>
              </a:rPr>
              <a:t>الرقابة على تنفيذ مهام المراجعة</a:t>
            </a:r>
            <a:br>
              <a:rPr sz="3900"/>
            </a:br>
            <a:endParaRPr b="0" lang="en-US" sz="4800" spc="-1" strike="noStrike">
              <a:solidFill>
                <a:srgbClr val="572314"/>
              </a:solidFill>
              <a:latin typeface="Gill Sans MT"/>
            </a:endParaRPr>
          </a:p>
        </p:txBody>
      </p:sp>
      <p:sp>
        <p:nvSpPr>
          <p:cNvPr id="324" name=""/>
          <p:cNvSpPr txBox="1"/>
          <p:nvPr/>
        </p:nvSpPr>
        <p:spPr>
          <a:xfrm>
            <a:off x="1914480" y="1871640"/>
            <a:ext cx="9996480" cy="43768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أهداف الرقابة على تنفيذ مهام المراجع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تابعة والإشراف الدقيق على سير عمل فريق ا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قبة الوقت الفعلي المستهلك في تنفيذ المهمة لضمان فعالية فريق العمل والالتزام بالخطط والجداول الزمنية للمه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مكن من اكتشاف أية تجاوزات في تنفيذ مهمة المراجعة والتعامل معها أولاً بأول</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923840" y="255600"/>
            <a:ext cx="9561240" cy="1179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ea typeface="Majalla UI"/>
              </a:rPr>
              <a:t> الرقابة على تنفيذ مهام المراجعة</a:t>
            </a:r>
            <a:br>
              <a:rPr sz="4000"/>
            </a:br>
            <a:endParaRPr b="0" lang="en-US" sz="4000" spc="-1" strike="noStrike">
              <a:solidFill>
                <a:srgbClr val="572314"/>
              </a:solidFill>
              <a:latin typeface="Gill Sans MT"/>
            </a:endParaRPr>
          </a:p>
        </p:txBody>
      </p:sp>
      <p:sp>
        <p:nvSpPr>
          <p:cNvPr id="326"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آليات الرقابة على تنفيذ مهام المراجعة</a:t>
            </a:r>
            <a:r>
              <a:rPr b="0"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جدول ضبط الوقت لكل مراجع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ملخص زمني للمه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قارير درجة التقدم في العمل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96920" y="286920"/>
            <a:ext cx="10058400" cy="871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a:t>
            </a:r>
            <a:br>
              <a:rPr sz="3900"/>
            </a:br>
            <a:r>
              <a:rPr b="0" lang="ar-SA" sz="3900" spc="-1" strike="noStrike">
                <a:solidFill>
                  <a:srgbClr val="611617"/>
                </a:solidFill>
                <a:latin typeface="Gill Sans MT"/>
                <a:cs typeface="Majalla UI"/>
              </a:rPr>
              <a:t>إجراءات المراجعة الداخلية</a:t>
            </a:r>
            <a:br>
              <a:rPr sz="3900"/>
            </a:br>
            <a:endParaRPr b="0" lang="en-US" sz="39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إجراء المراجعة هو الأسلوب أو الوسيلة التي يستخدمها المراجع للحصول على دليل أو قرينة بغرض تحقيق هدف المراجعة. </a:t>
            </a:r>
            <a:endParaRPr b="0" lang="en-US" sz="26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أمثلة على أهم إجراءات المراجعة المتعارف عليها والأكثر استخداما:</a:t>
            </a:r>
            <a:endParaRPr b="0" lang="en-US" sz="26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ea typeface="Majalla UI"/>
              </a:rPr>
              <a:t> إجراء المقابلات الشخصية                                                                  </a:t>
            </a:r>
            <a:endParaRPr b="0" lang="en-US" sz="2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تقصي والاستفسارات</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لاحظة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عاينة والجرد</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قارنات                                                                                           </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طابقات والتسويات</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طلب المصادقات والشهادات والإقرارات من الغير</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cs typeface="Majalla UI"/>
              </a:rPr>
              <a:t>المراجعة التحليلية والحسابية والمستندية والانتقادية</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6920" y="361440"/>
            <a:ext cx="10058400" cy="106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ea typeface="Majalla UI"/>
              </a:rPr>
              <a:t> أدلة وقرائن الإثبات المراجعة</a:t>
            </a:r>
            <a:br>
              <a:rPr sz="3900"/>
            </a:br>
            <a:endParaRPr b="0" lang="en-US" sz="39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فهوم الإثبات</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إثبات في المراجعة هو الحصول على القناعة بصحة أو عدم صحة قضية أو أمر معين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فهوم الإثبات لا يقتصر على الأدلة المادية الملموسة بل أن نقاش معين بين المراجع وأي مسئول في الوحدة الحكومية قد تنتهي بالحصول على القناعة المطلوبة (غير قطعية).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أدلة والقرائن:</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دلة  : تكون مباشرة على القضية وتتصل بإثباتها مباشرة والدليل يحوز قوة إقناعية لإثبات الحقيق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رينة : ترتبط بقضية معينة وتثبت قضية أخرى بصورة غير مباشرة أي أنها تتضمن إستنتاج إحتمالي بشئ معين.</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63840" y="22176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أدلة وقرائن الإثبات المراجعة</a:t>
            </a:r>
            <a:endParaRPr b="0" lang="en-US" sz="4000" spc="-1" strike="noStrike">
              <a:solidFill>
                <a:srgbClr val="572314"/>
              </a:solidFill>
              <a:latin typeface="Gill Sans MT"/>
            </a:endParaRPr>
          </a:p>
        </p:txBody>
      </p:sp>
      <p:sp>
        <p:nvSpPr>
          <p:cNvPr id="332" name=""/>
          <p:cNvSpPr txBox="1"/>
          <p:nvPr/>
        </p:nvSpPr>
        <p:spPr>
          <a:xfrm>
            <a:off x="1765440" y="1436400"/>
            <a:ext cx="9997920" cy="4800600"/>
          </a:xfrm>
          <a:prstGeom prst="rect">
            <a:avLst/>
          </a:prstGeom>
          <a:noFill/>
          <a:ln w="0">
            <a:noFill/>
          </a:ln>
        </p:spPr>
        <p:txBody>
          <a:bodyPr anchor="t">
            <a:normAutofit fontScale="93000"/>
          </a:bodyPr>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نواع الأدلة والقرائن:</a:t>
            </a:r>
            <a:endParaRPr b="0" lang="en-US" sz="24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وحدات </a:t>
            </a:r>
            <a:r>
              <a:rPr b="1" lang="ar-SA" sz="2000" spc="-1" strike="noStrike">
                <a:solidFill>
                  <a:srgbClr val="000000"/>
                </a:solidFill>
                <a:latin typeface="Gill Sans MT"/>
                <a:cs typeface="Majalla UI"/>
              </a:rPr>
              <a:t>التجارية</a:t>
            </a:r>
            <a:r>
              <a:rPr b="0" lang="ar-SA" sz="2000" spc="-1" strike="noStrike">
                <a:solidFill>
                  <a:srgbClr val="000000"/>
                </a:solidFill>
                <a:latin typeface="Gill Sans MT"/>
                <a:ea typeface="Majalla UI"/>
              </a:rPr>
              <a:t> يركز كثيرا على العمليات التجارية وما يرتبط بها من حسابات كالمخزون والمدينين والدائنين</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العمليات </a:t>
            </a:r>
            <a:r>
              <a:rPr b="1" lang="ar-SA" sz="2000" spc="-1" strike="noStrike">
                <a:solidFill>
                  <a:srgbClr val="000000"/>
                </a:solidFill>
                <a:latin typeface="Gill Sans MT"/>
                <a:cs typeface="Majalla UI"/>
              </a:rPr>
              <a:t>الحكومية</a:t>
            </a:r>
            <a:r>
              <a:rPr b="0" lang="ar-SA" sz="2000" spc="-1" strike="noStrike">
                <a:solidFill>
                  <a:srgbClr val="000000"/>
                </a:solidFill>
                <a:latin typeface="Gill Sans MT"/>
                <a:ea typeface="Majalla UI"/>
              </a:rPr>
              <a:t> ينصب على المصروفات وتحقيق أهداف الوحدة والمخاطر المرتبطة بها</a:t>
            </a:r>
            <a:endParaRPr b="0" lang="en-US" sz="20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دلة وقرائن المراجعة لا حصر لها حيث يحق للمراجع إثبات الحقيقة بكل الوسائل الممكنة منها:   </a:t>
            </a:r>
            <a:endParaRPr b="0" lang="en-US" sz="24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جود الفعلي.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إقرارات من الغير.</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ستندات الداخلية والخارجية.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دقة الحسابية.</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أكيدات الشفهية.                                                                        </a:t>
            </a:r>
            <a:endParaRPr b="0" lang="en-US" sz="2000" spc="-1" strike="noStrike">
              <a:solidFill>
                <a:srgbClr val="000000"/>
              </a:solidFill>
              <a:latin typeface="Gill Sans MT"/>
            </a:endParaRPr>
          </a:p>
          <a:p>
            <a:pPr lvl="1" marL="594720" indent="-21996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علاقة بين البيانات وبعضها.</a:t>
            </a:r>
            <a:endParaRPr b="0" lang="en-US" sz="2000" spc="-1" strike="noStrike">
              <a:solidFill>
                <a:srgbClr val="000000"/>
              </a:solidFill>
              <a:latin typeface="Gill Sans MT"/>
            </a:endParaRPr>
          </a:p>
          <a:p>
            <a:pPr lvl="1" marL="594720" indent="-2199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ستنتاجات (من الملاحظة والمقابلات والاستفسارات والتقصي).</a:t>
            </a:r>
            <a:endParaRPr b="0" lang="en-US" sz="2000" spc="-1" strike="noStrike">
              <a:solidFill>
                <a:srgbClr val="000000"/>
              </a:solidFill>
              <a:latin typeface="Gill Sans MT"/>
            </a:endParaRPr>
          </a:p>
          <a:p>
            <a:pPr marL="339480" indent="-262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96920" y="287280"/>
            <a:ext cx="10058400" cy="122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ea typeface="Majalla UI"/>
              </a:rPr>
              <a:t> أدلة وقرائن الإثبات المراجعة</a:t>
            </a:r>
            <a:endParaRPr b="0" lang="en-US" sz="4000" spc="-1" strike="noStrike">
              <a:solidFill>
                <a:srgbClr val="572314"/>
              </a:solidFill>
              <a:latin typeface="Gill Sans MT"/>
            </a:endParaRPr>
          </a:p>
        </p:txBody>
      </p:sp>
      <p:sp>
        <p:nvSpPr>
          <p:cNvPr id="334" name=""/>
          <p:cNvSpPr txBox="1"/>
          <p:nvPr/>
        </p:nvSpPr>
        <p:spPr>
          <a:xfrm>
            <a:off x="1404720" y="1566360"/>
            <a:ext cx="10620360" cy="41324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علاقة أدلة الإثبات بالأساليب الفنية للمراجع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جدول التالي يوضح العلاقة بين أدلة وقرائن المراجعة والإجراءات التي يطبقها المراجع.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kayan albalawi</cp:lastModifiedBy>
  <dcterms:modified xsi:type="dcterms:W3CDTF">2014-03-12T07:51:44Z</dcterms:modified>
  <cp:revision>119</cp:revision>
  <dc:subject/>
  <dc:title>PowerPoint Presentation</dc:title>
</cp:coreProperties>
</file>