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EB9C-CC5D-48B8-A8FF-61C45AE2F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AFCE7-F338-455B-926A-F3DF37E66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62069-E8EB-4766-A26B-40D5B84B7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77A4B-AEA6-4571-B157-4064A6AE9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8A003-694C-472B-8EE0-CBF7F4553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37224-02CA-41A3-A694-380B672E0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E2D5F-1AF9-44C3-BC2E-3F3972713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04DC-24A3-48F3-89B2-8AD48FB12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2BA85-0C17-4F25-A770-67CED3143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A48A7-4696-4189-9BE4-FA90CFA1F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8C3D-31F0-4CB3-803D-AE057BE0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11FA9-ED9C-4248-8899-CFBCDF74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20F78-6E6C-41AB-8D03-BC86C56C6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B43B5-11E5-4333-9826-631A1C4E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15756-8376-443B-8905-F11646A46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11656-F5A6-4D42-8752-F87535CA8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0CF34-2007-41EB-B668-5E2D62C5A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2DC8C-D69A-4F17-B52B-D49B1552F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2B44E-5554-49A6-899D-93950BC1A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71059-BFCC-4F11-AABA-B32235E09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18A99-FD6B-4C99-BC50-6235524D6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172CE-B6CA-46D0-B947-3866F8BFB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80454-CBAF-481A-8E1D-086DC0A33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FCA4D-74B3-4D5F-A294-370306E9E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254DA-4D16-4760-82C0-66D2683E5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6D072-8597-4ECB-BFEF-375E71D66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995A1-7D4C-4BB3-96DD-8052C621C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999F1-1EED-4165-91D3-CD035D3D5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BDF02-D7F1-463E-A711-2BBFE24F4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40356-AB74-4DDA-BA99-FA3AC80DDF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78360-3197-4C5F-B666-5BA969C7B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C3C1C-8E5D-4B19-8FF1-AC182A68D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00FA8-F811-45DD-ADC9-B85D9F278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26823-E106-44DD-A710-D61FE0859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64FB2-5CA7-4BD0-9C9A-3D5747717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E473A-2DFB-4E57-A2AF-0BE066C47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3FA40-17F3-4DF3-A36B-7A5997389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D8CAC-DEE3-483B-BFE7-A62C538A4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6905A-1686-4CA8-851F-9F78D7171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ED692-1F13-40E8-BB08-4CCDE28F5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DB645-D1A2-48F2-BD12-9D72AAD08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C9F31A-976F-4F59-AAF2-ED6ED2E74C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A5CFA-36F8-4EBC-AFEF-B97D4A12C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CAF7D8-01B4-4EA6-870A-2B9D13D855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3146A-94D6-4646-8A7B-C6F624FF8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5C92C3-E094-4CDE-B993-15123E327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ACC74-B0D8-4A43-B654-34E7932D8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E9F0B8-B43C-4D02-9070-73C1DEF57A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24B8A-7A8E-4E63-8308-4F2F5FB42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27AA9-97C3-4DB4-92AD-3329BB4DF7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7BA97-2EC3-423C-8D0E-E8D1D4CF8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E0AF6-ACC8-4799-863E-5DE8F1525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39FE0-ABE2-43F9-9127-FCD536D99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E1F257-E39A-49A6-B533-E2D3BE53D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AB4BE3-2EE2-4461-AFC5-2775FE5E10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44D5E-BDE9-4290-980C-2F6CB3901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0656B4-D79F-491E-BC8C-15559E2853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90FF74-D1F7-4C20-A10F-5B082D132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90E2E-F621-4F45-8EF3-F070E235F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00252-551D-4854-90D6-D196140AE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2C3ED1-8FBB-424F-8240-6409D2135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CD4A6-CDBB-462B-A8AF-5F481DAC8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7C3AA-FBD3-4865-82C7-0FF3D9199B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BF6272-3439-4F39-91FB-241818E17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E9894-44FB-484A-AB20-0C1676122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E7723-9742-46A6-AA58-F39F68A44F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9F0EC-4AD8-48CF-B570-D7C04979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A89F4-226D-418F-AF9B-FDE956BEC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98E9BB-AEF1-4CF6-98D7-C54A088D5D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EBF71C-24A0-470A-8314-458B2AF1DE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E422C5-B5AF-4A16-93F8-D174095DA3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47BAA-A6EC-4676-9DB5-67F1838B1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7CDFD6-03D9-4E09-A2CA-530608A7FA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69A4D-B135-42ED-8BE9-58CCD9C9E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3C386-9124-45F5-A9D7-ECB8CDD33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E287E5-0A34-4358-8CA7-5C9C780C5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C1E68-0847-4F81-9DE7-6E7C3C4A8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DDCE-0159-48C3-9DA4-160E257B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5760A4-16FD-4C27-8CBF-7BFB2E816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F6031-24F3-4C18-BB2D-E26BADE32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4181B9-FFFC-4FD6-96AE-04AD1DD080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FBF596-65CB-4E99-B91C-94CFD09676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68D3E7-39BE-44F5-A5FA-37939348F3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A7DD-7939-4B92-BCED-FEF779651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23AF2-C33B-4776-9A60-8A3AB16C1D67}"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BCDA3-2CA8-4D0A-A1CC-5208FA63F1CC}"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08F90-61F1-46A7-BBD6-A8DB4FD8B8F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36AA3-8C36-47AB-91B6-5AA53615F041}"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DFED1-45B4-4781-9D35-44B0D32CC4A1}"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7FBE3-345F-4E26-961E-CD2AF3A7910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46152-0DD6-4C69-915F-58981969D45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719000" y="2604960"/>
            <a:ext cx="9875880" cy="1417680"/>
          </a:xfrm>
          <a:prstGeom prst="rect">
            <a:avLst/>
          </a:prstGeom>
          <a:noFill/>
          <a:ln w="0">
            <a:noFill/>
          </a:ln>
        </p:spPr>
        <p:txBody>
          <a:bodyPr lIns="90000" rIns="90000" tIns="46800" bIns="46800" anchor="b">
            <a:noAutofit/>
          </a:bodyPr>
          <a:p>
            <a:pPr indent="0" algn="ctr" rtl="1">
              <a:lnSpc>
                <a:spcPct val="100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11617"/>
                </a:solidFill>
                <a:latin typeface="Times New Roman"/>
                <a:cs typeface="Arabic Transparent"/>
              </a:rPr>
              <a:t>تنفيذ المراجعة الداخلية</a:t>
            </a:r>
            <a:br>
              <a:rPr sz="4400"/>
            </a:br>
            <a:r>
              <a:rPr b="1" lang="ar-SA" sz="3200" spc="-1" strike="noStrike">
                <a:solidFill>
                  <a:srgbClr val="611617"/>
                </a:solidFill>
                <a:latin typeface="Times New Roman"/>
                <a:cs typeface="Arabic Transparent"/>
              </a:rPr>
              <a:t>الفصل الخامس – الجزء الأول </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
          <p:cNvGraphicFramePr/>
          <p:nvPr/>
        </p:nvGraphicFramePr>
        <p:xfrm>
          <a:off x="0" y="20520"/>
          <a:ext cx="12192120" cy="6811920"/>
        </p:xfrm>
        <a:graphic>
          <a:graphicData uri="http://schemas.openxmlformats.org/drawingml/2006/table">
            <a:tbl>
              <a:tblPr/>
              <a:tblGrid>
                <a:gridCol w="5113440"/>
                <a:gridCol w="3425760"/>
                <a:gridCol w="3652920"/>
              </a:tblGrid>
              <a:tr h="5572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cs typeface="Majalla UI"/>
                        </a:rPr>
                        <a:t>العمليات والمستندات</a:t>
                      </a:r>
                      <a:endParaRPr b="0" lang="en-US" sz="18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3891a7"/>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cs typeface="Majalla UI"/>
                        </a:rPr>
                        <a:t>الأدلة أو القرائن المتحصل عليها</a:t>
                      </a:r>
                      <a:endParaRPr b="0" lang="en-US" sz="18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3891a7"/>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cs typeface="Majalla UI"/>
                        </a:rPr>
                        <a:t>الإجراءات</a:t>
                      </a:r>
                      <a:endParaRPr b="0" lang="en-US" sz="18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3891a7"/>
                    </a:solidFill>
                  </a:tcPr>
                </a:tc>
              </a:tr>
              <a:tr h="9748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جرد المستودع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جرد العهد النقدية والصناديق.</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عاينة الأصول والموجود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وجود الفعلي</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لاحظة</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عاينة والجرد</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e8eef1"/>
                    </a:solidFill>
                  </a:tcPr>
                </a:tc>
              </a:tr>
              <a:tr h="54900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صادقات الحسابات المدينة والدائنة</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عهد والأمانات</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قرارات من الغير</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طلب المصادقات</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ffffff"/>
                    </a:solidFill>
                  </a:tcPr>
                </a:tc>
              </a:tr>
              <a:tr h="10972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تمارات اعتماد الصرف</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سير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ذون التسوية</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واتير المشتريات</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ستندات</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راجعة المستندية</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e8eef1"/>
                    </a:solidFill>
                  </a:tcPr>
                </a:tc>
              </a:tr>
              <a:tr h="68256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صحة العمليات الحسابية للمسير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صحة العمليات الحسابية على الفواتير</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دقة الحسابية</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راجعة الحسابية</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ffffff"/>
                    </a:solidFill>
                  </a:tcPr>
                </a:tc>
              </a:tr>
              <a:tr h="54756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كشوف البنك</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كشوف حسابات الموردين والمقاولين</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دقة الحسابية</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طابقات والتسويات</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e8eef1"/>
                    </a:solidFill>
                  </a:tcPr>
                </a:tc>
              </a:tr>
              <a:tr h="102384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الأرصدة للسنة الحالية مع أرصدة السنة الماضية</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بنود الصرف الفعلية مع البنود المعتمدة</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دى المعقولية</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قارنات</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ffffff"/>
                    </a:solidFill>
                  </a:tcPr>
                </a:tc>
              </a:tr>
              <a:tr h="8524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ستفسارات من الموظفين.</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ستفسار من المسئولين.</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صى كفاءة الموظفين.</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25200">
                      <a:solidFill>
                        <a:srgbClr val="3891a7"/>
                      </a:solidFill>
                    </a:lnB>
                    <a:solidFill>
                      <a:srgbClr val="e8eef1"/>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ستنتاجات من الاستفسارات والتقصي</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2520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بحث والتقصي</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25200">
                      <a:solidFill>
                        <a:srgbClr val="3891a7"/>
                      </a:solidFill>
                    </a:lnB>
                    <a:solidFill>
                      <a:srgbClr val="e8eef1"/>
                    </a:solidFill>
                  </a:tcPr>
                </a:tc>
              </a:tr>
              <a:tr h="52704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علاقة بين الأداء الفعلي والمتوقع</a:t>
                      </a:r>
                      <a:endParaRPr b="0" lang="en-US" sz="1600" spc="-1" strike="noStrike">
                        <a:solidFill>
                          <a:srgbClr val="000000"/>
                        </a:solidFill>
                        <a:latin typeface="Calibri"/>
                      </a:endParaRPr>
                    </a:p>
                  </a:txBody>
                  <a:tcPr anchor="ctr" marL="30600" marR="30600">
                    <a:lnL w="5760">
                      <a:solidFill>
                        <a:srgbClr val="3891a7"/>
                      </a:solidFill>
                    </a:lnL>
                    <a:lnR>
                      <a:noFill/>
                    </a:lnR>
                    <a:lnT w="2520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قرينة) مدى المعقولية</a:t>
                      </a:r>
                      <a:endParaRPr b="0" lang="en-US" sz="1600" spc="-1" strike="noStrike">
                        <a:solidFill>
                          <a:srgbClr val="000000"/>
                        </a:solidFill>
                        <a:latin typeface="Calibri"/>
                      </a:endParaRPr>
                    </a:p>
                  </a:txBody>
                  <a:tcPr anchor="ctr" marL="30600" marR="30600">
                    <a:lnL>
                      <a:noFill/>
                    </a:lnL>
                    <a:lnR>
                      <a:noFill/>
                    </a:lnR>
                    <a:lnT w="25200">
                      <a:solidFill>
                        <a:srgbClr val="3891a7"/>
                      </a:solidFill>
                    </a:lnT>
                    <a:lnB w="5760">
                      <a:solidFill>
                        <a:srgbClr val="3891a7"/>
                      </a:solidFill>
                    </a:lnB>
                    <a:solidFill>
                      <a:srgbClr val="ffffff"/>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دراسة العلاقة بين البيانات وبعضها</a:t>
                      </a:r>
                      <a:endParaRPr b="0" lang="en-US" sz="1600" spc="-1" strike="noStrike">
                        <a:solidFill>
                          <a:srgbClr val="000000"/>
                        </a:solidFill>
                        <a:latin typeface="Calibri"/>
                      </a:endParaRPr>
                    </a:p>
                  </a:txBody>
                  <a:tcPr anchor="ctr" marL="30600" marR="30600">
                    <a:lnL>
                      <a:noFill/>
                    </a:lnL>
                    <a:lnR w="5760">
                      <a:solidFill>
                        <a:srgbClr val="3891a7"/>
                      </a:solidFill>
                    </a:lnR>
                    <a:lnT w="25200">
                      <a:solidFill>
                        <a:srgbClr val="3891a7"/>
                      </a:solidFill>
                    </a:lnT>
                    <a:lnB w="5760">
                      <a:solidFill>
                        <a:srgbClr val="3891a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457200"/>
            <a:ext cx="10058400" cy="1052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أدلة وقرائن الإثبات المراجعة</a:t>
            </a:r>
            <a:br>
              <a:rPr sz="3900"/>
            </a:br>
            <a:endParaRPr b="0" lang="en-US" sz="3900" spc="-1" strike="noStrike">
              <a:solidFill>
                <a:srgbClr val="572314"/>
              </a:solidFill>
              <a:latin typeface="Gill Sans MT"/>
            </a:endParaRPr>
          </a:p>
        </p:txBody>
      </p:sp>
      <p:sp>
        <p:nvSpPr>
          <p:cNvPr id="337" name=""/>
          <p:cNvSpPr txBox="1"/>
          <p:nvPr/>
        </p:nvSpPr>
        <p:spPr>
          <a:xfrm>
            <a:off x="1617840" y="1496520"/>
            <a:ext cx="10058400" cy="41324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خصائص التي يجب توافرها في الدليل</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أن يكون وثيق الصلة بالموضوع محل الفحص</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قوة الإقناعية للدلي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كفاي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تمد المراجع الداخلي أو الخارجي على نظام العينة ، حيث يقوم بفحص عينة من المجتمع محل المراجعة للوصول إلى استنتاجات عن المجتمع ككل</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39"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عريف المعاينة في المراجع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عملية اختيار وفحص جزء من مجموعة كاملة ومتصلة للحصول على معلومات أو دراسة بعض الصفات عن تلك المجموعة ومن ثم تعميمها على المجموعة التي اختيرت منها كك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جموعة البيانات التي يتم منها اختيار العينة = ا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عناصر المكونة للمجتمع والمتاحة للاختيار = وحدات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تطبيق هذه العملية إما استنادا إلى التقدير الشخصي للمراجع (معاينة حكمية أو تقديرية) أو بإستخدام الأساليب الرياضية والإحصائية (معاينة إحصائ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1"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نطق من استخدام أسلوب العينات إحصائية أو التقديرية هو </a:t>
            </a:r>
            <a:r>
              <a:rPr b="0" lang="ar-SA" sz="2400" spc="-1" strike="noStrike">
                <a:solidFill>
                  <a:srgbClr val="000000"/>
                </a:solidFill>
                <a:latin typeface="Gill Sans MT"/>
                <a:cs typeface="Majalla UI"/>
              </a:rPr>
              <a:t>عدم الحاجة لمزيد من الفحص في حالة التأكد من فعالية الأدلة المؤيدة للحكم</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آلية الفحص المستخدمة هنا هي الحكم وبالتالي فإن القرار يجب أن يصدر عن المراجعين ذوي الخبرة مثل قائد ومدير الفريق.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لما كانت النتائج أكثر حساسية، كلما تطلب جعل الفحص أكثر عمقا وبالتالي يكون حجم العينة أكبرً</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نطق يرتكز على تحقيق </a:t>
            </a:r>
            <a:r>
              <a:rPr b="1" lang="ar-SA" sz="2400" spc="-1" strike="noStrike">
                <a:solidFill>
                  <a:srgbClr val="000000"/>
                </a:solidFill>
                <a:latin typeface="Gill Sans MT"/>
                <a:cs typeface="Majalla UI"/>
              </a:rPr>
              <a:t>مبدأ الكفاءة والفعالية</a:t>
            </a:r>
            <a:r>
              <a:rPr b="0" lang="ar-SA" sz="2400" spc="-1" strike="noStrike">
                <a:solidFill>
                  <a:srgbClr val="000000"/>
                </a:solidFill>
                <a:latin typeface="Gill Sans MT"/>
                <a:ea typeface="Majalla UI"/>
              </a:rPr>
              <a:t> في عملية ا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كفاءة هي تنفيذ عملية المراجعة بأقل تكلفة ممكن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عالية توفير أكبر قدر من الثقة في النتائج التي يتوصل إليها المراجع أي تحقيق هدف المراجعة ، بمعنى أخر تحقيق الهدف بأقل تكلفة ممكن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3" name=""/>
          <p:cNvSpPr txBox="1"/>
          <p:nvPr/>
        </p:nvSpPr>
        <p:spPr>
          <a:xfrm>
            <a:off x="1606680" y="1595520"/>
            <a:ext cx="10058400" cy="4719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مكن تصنيف أساليب المعاينة بحسب الغرض من استخدامها إلى:</a:t>
            </a:r>
            <a:endParaRPr b="0" lang="en-US" sz="24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عاينة الصفات :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ستخدم لأغراض اختبارات الالتزام بتنفيذ السياسات والإجراءات الرقابية الموضوعة والتي يتضمنها هيكل الرقابة الداخلية لدى عميل المراجعة (أي اختبارات الرقابة). </a:t>
            </a:r>
            <a:endParaRPr b="0" lang="en-US" sz="16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عاينة المتغيرات :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ستخدم لأغراض اختبارات التحقق التفصيلية من الأرصدة والعمليات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ي هذا النوع من الاختبارات يهتم المراجع بالقيم النقدية التي تعرضها القوائم المالية </a:t>
            </a:r>
            <a:endParaRPr b="0" lang="en-US" sz="16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عينات ذات الغرض المزدوج:</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قد يقرر المراجع استخدام عينات ذات غرض مزدوج، وذلك بأن يقوم بتصميم عينة لأغراض تقدير المخاطر الرقابية، ولأغراض اختبارات التحقق التفصيلية معاً. </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47360" y="167760"/>
            <a:ext cx="9998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5" name=""/>
          <p:cNvSpPr txBox="1"/>
          <p:nvPr/>
        </p:nvSpPr>
        <p:spPr>
          <a:xfrm>
            <a:off x="1660680" y="1239480"/>
            <a:ext cx="10058400" cy="52563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الحديث عن استخدام العينات لأغراض المراجعة يصنف الخطر الذي يتعرض له المراجع إلى نوعين هما:</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خطر المعاين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و احتمال أن تكون النتائج التي يتوصل إليها المراجع من فحصه للعينة ليست هي نفس النتائج التي يمكن أن يتوصل إليها إذا قام بفحص شامل للمجتمع كله.</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رجع ذلك بصفة أساسية إلى احتمال أن تكون العينة غير ممثلة للمجتمع محل الفحص.</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ر غير المرتبط باستخدام العينات: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ضمن جميع جوانب مخاطر المراجعة التي لا ترجع إلى استخدام أساليب المعاينة والتي تعرض لها المراجع حتى وأن قام بفحص المجتمع كله أو قام بفحص مفردة واحدة. </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 الأخطار مصدرها:</a:t>
            </a:r>
            <a:endParaRPr b="0" lang="en-US" sz="2000" spc="-1" strike="noStrike">
              <a:solidFill>
                <a:srgbClr val="000000"/>
              </a:solidFill>
              <a:latin typeface="Gill Sans MT"/>
            </a:endParaRPr>
          </a:p>
          <a:p>
            <a:pPr lvl="3" marL="1096920" indent="-173160" algn="just"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ستخدام إجراءات مراجعة لا تتناسب مع الهدف محل الفحص </a:t>
            </a:r>
            <a:endParaRPr b="0" lang="en-US" sz="1600" spc="-1" strike="noStrike">
              <a:solidFill>
                <a:srgbClr val="000000"/>
              </a:solidFill>
              <a:latin typeface="Gill Sans MT"/>
            </a:endParaRPr>
          </a:p>
          <a:p>
            <a:pPr lvl="3" marL="1096920" indent="-173160" algn="just"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ستخدام أساليب مراجعة صحيحة ولكن يتم تطبيقها بطريقة خاطئة  </a:t>
            </a:r>
            <a:endParaRPr b="0" lang="en-US" sz="1600" spc="-1" strike="noStrike">
              <a:solidFill>
                <a:srgbClr val="000000"/>
              </a:solidFill>
              <a:latin typeface="Gill Sans MT"/>
            </a:endParaRPr>
          </a:p>
          <a:p>
            <a:pPr lvl="3" marL="1096920" indent="-173160" algn="just"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تخدام أساليب مراجعة صحيحة وتطبيقها بطريقة لكن يتم تفسير النتائج بطريقة خاطئة.</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7" name=""/>
          <p:cNvSpPr txBox="1"/>
          <p:nvPr/>
        </p:nvSpPr>
        <p:spPr>
          <a:xfrm>
            <a:off x="1533600" y="143208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رق اختيار العينة :</a:t>
            </a:r>
            <a:endParaRPr b="0" lang="en-US" sz="24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طرق الاختيار الحكمي او الغير احصائي </a:t>
            </a:r>
            <a:endParaRPr b="0" lang="en-US" sz="20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ختيار المباشر للعينة</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ختيار العينة وفقاً لمجموعة متتابعة</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ختيار العينة مصادفة</a:t>
            </a:r>
            <a:endParaRPr b="0" lang="en-US" sz="16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طرق الاختيار الاحصائي </a:t>
            </a:r>
            <a:endParaRPr b="0" lang="en-US" sz="20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اختيار على أساس الأرقام العشوائية </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اختيار المنتظم مع بداية عشوائية </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معاينة الطبقية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ستخدام عينات المراجعة لأغراض اختبارات الرقابة</a:t>
            </a:r>
            <a:br>
              <a:rPr sz="3900"/>
            </a:br>
            <a:r>
              <a:rPr b="0" lang="ar-SA" sz="3900" spc="-1" strike="noStrike">
                <a:solidFill>
                  <a:srgbClr val="611617"/>
                </a:solidFill>
                <a:latin typeface="Gill Sans MT"/>
                <a:cs typeface="Majalla UI"/>
              </a:rPr>
              <a:t>معاينة الصفات</a:t>
            </a:r>
            <a:endParaRPr b="0" lang="en-US" sz="3900" spc="-1" strike="noStrike">
              <a:solidFill>
                <a:srgbClr val="572314"/>
              </a:solidFill>
              <a:latin typeface="Gill Sans MT"/>
            </a:endParaRPr>
          </a:p>
        </p:txBody>
      </p:sp>
      <p:sp>
        <p:nvSpPr>
          <p:cNvPr id="349" name=""/>
          <p:cNvSpPr txBox="1"/>
          <p:nvPr/>
        </p:nvSpPr>
        <p:spPr>
          <a:xfrm>
            <a:off x="1585800" y="1547280"/>
            <a:ext cx="10058400" cy="46580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خطوات استخدام أساليب المعاينة (الحكمية أو الإحصائية)  لفحص نظام الرقابة الداخ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أولي:  تخطيط وتصميم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ثانية:  اختيار العينة وتنفيذ إجراءات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ثالثة: تقويم نتائج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رابعة: توثيق إجراءات المعا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1" name=""/>
          <p:cNvSpPr txBox="1"/>
          <p:nvPr/>
        </p:nvSpPr>
        <p:spPr>
          <a:xfrm>
            <a:off x="1712880" y="17366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خطوة الأولى:  تخطيط وتصميم العين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ضمن هذه الخطوة قيام المراجع بالإجراءات التالية:</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هدف من الفحص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ريف المجتمع ووحدة المعاينة</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ريف الخطأ والانحراف عن نظام الرقابة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عدل الانحراف المسموح به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ستوى الثقة المرغوب فيه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عدل الانحراف المتوقع في ا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حجم العينة (حكمي او احصائي)</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3" name=""/>
          <p:cNvSpPr txBox="1"/>
          <p:nvPr/>
        </p:nvSpPr>
        <p:spPr>
          <a:xfrm>
            <a:off x="1096920" y="18464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نية:  اختيار مفردات العينة وتنفيذ إجراءات المراجع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ختيار مفردات العين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نفيذ إجراءات المراجع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أجندة </a:t>
            </a:r>
            <a:endParaRPr b="0" lang="en-US" sz="4300" spc="-1" strike="noStrike">
              <a:solidFill>
                <a:srgbClr val="572314"/>
              </a:solidFill>
              <a:latin typeface="Gill Sans MT"/>
            </a:endParaRPr>
          </a:p>
        </p:txBody>
      </p:sp>
      <p:sp>
        <p:nvSpPr>
          <p:cNvPr id="320"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نقاط التالية خاصة بتنفيذ عملية المراجعة : </a:t>
            </a:r>
            <a:endParaRPr b="0" lang="en-US" sz="28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خطاب الإعلان عن مهمة المراجعة </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يفية الرقابة على تنفيذ مهام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جراءات المراجعة التي يمكن استخدام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دلة وقرائن المراجعة التي يمكن الاعتماد علي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يفية استخدام أساليب المعاين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5" name=""/>
          <p:cNvSpPr txBox="1"/>
          <p:nvPr/>
        </p:nvSpPr>
        <p:spPr>
          <a:xfrm>
            <a:off x="1690200" y="1719360"/>
            <a:ext cx="983628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لثة: تقويم نتائج العين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ولا:</a:t>
            </a:r>
            <a:r>
              <a:rPr b="0" lang="ar-SA"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التقويم الحكمي لنتائج فحص العينة</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المقياس الوحيد الذي يمكن حسابه كميا هو معدل الأخطاء أو الانحرافات بالعينة ويحسب كما يلي:</a:t>
            </a:r>
            <a:endParaRPr b="0" lang="en-US" sz="1800" spc="-1" strike="noStrike">
              <a:solidFill>
                <a:srgbClr val="000000"/>
              </a:solidFill>
              <a:latin typeface="Gill Sans MT"/>
            </a:endParaRPr>
          </a:p>
          <a:p>
            <a:pPr lvl="3" marL="1096920" indent="-173160" algn="just" rtl="1">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معدل الانحرافات بالعينة = ( عدد الانحرافات / حجم العينة ) *</a:t>
            </a:r>
            <a:r>
              <a:rPr b="0" lang="ar-SA" sz="1400" spc="-1" strike="noStrike">
                <a:solidFill>
                  <a:srgbClr val="000000"/>
                </a:solidFill>
                <a:latin typeface="Gill Sans MT"/>
                <a:ea typeface="Majalla UI"/>
              </a:rPr>
              <a:t>100</a:t>
            </a:r>
            <a:endParaRPr b="0" lang="en-US" sz="14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لا يمكن القول هنا أن هذا المعدل يعتبر تقدير لمعدل الانحرافات بالمجتمع نظرا لأن اختيار مفردات العينة لم يتم بشكل إحصائي لذلك يعتمد المراجع على بعض المعايير الحكمية التي يضعها بنفسه للتواصل إلى قرار بشأن ما إذا كانت مخاطر الرقابة عند مستوى منخفض بشكل كاف لتقليل اختبارات تفاصيل العمليات والأرصدة</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ثانيا:</a:t>
            </a:r>
            <a:r>
              <a:rPr b="0" lang="ar-SA"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التقويم الإحصائي لنتائج فحص العين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7" name=""/>
          <p:cNvSpPr txBox="1"/>
          <p:nvPr/>
        </p:nvSpPr>
        <p:spPr>
          <a:xfrm>
            <a:off x="1606680" y="1538280"/>
            <a:ext cx="10058400" cy="48513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cs typeface="Majalla UI"/>
              </a:rPr>
              <a:t>الخطوة الرابعة: توثيق إجراءات المعاينة </a:t>
            </a:r>
            <a:endParaRPr b="0" lang="en-US" sz="2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وصف للإجراء الرقابي الذي تم اختباره والهدف من الاختبار، بما في ذلك علاقته باختبارات التحقق التفصيلية المخطط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حديد للمجتمع ووحدة المعاين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حديد للظروف التي تعبر عن وجود انحراف </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حديد الأساس الذي استند إليه المراجع في تحديد مستوى الثقة، ومعدل الانحراف المسموح به، والمعدل المتوقع للانحراف في المجتمع.</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طريقة المستخدمة في تحديد حجم العينة، والطريقة المستخدمة في اختيار مفردات العين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وصف لإجراءات المعاينة التي تم اتباعها، وقائمة بالانحرافات التي تم اكتشافها في العين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قويم العينة وملخص بالاستنتاجات العامة التي توصل إليها المراجع.</a:t>
            </a:r>
            <a:endParaRPr b="0" lang="en-US" sz="22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59" name=""/>
          <p:cNvSpPr txBox="1"/>
          <p:nvPr/>
        </p:nvSpPr>
        <p:spPr>
          <a:xfrm>
            <a:off x="1830240" y="173988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هتم المراجع عند استخدام عينات المراجعة لأغراض التحقق من صحة الأرصدة بما إذا كانت القيم النقدية لأرصدة الحسابات أو النوع من العمليات تشتمل على خطأ جوهري.</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لمراجع استخدام أي من أساليب المعاينة الإحصائية أو المعاينة غير الإحصائية</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طلب تطبيق معاينة المتغيرات ضرورة  قيام المراجع بخطوات محددة مثل تلك التي يقوم بها عند استخدام عينات المراجعة لأغراض اختبارات الرقاب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بدأ هذه الخطوات بتخطيط العينة وتنتهي بتوثيق الإجراءات مروراً باختيار مفردات العينة وتنفيذ إجراءات المراجعة عليها وتقويم نتائج العين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658520" y="231480"/>
            <a:ext cx="9998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1" name=""/>
          <p:cNvSpPr txBox="1"/>
          <p:nvPr/>
        </p:nvSpPr>
        <p:spPr>
          <a:xfrm>
            <a:off x="1511280" y="1733040"/>
            <a:ext cx="10166400" cy="4658040"/>
          </a:xfrm>
          <a:prstGeom prst="rect">
            <a:avLst/>
          </a:prstGeom>
          <a:noFill/>
          <a:ln w="0">
            <a:noFill/>
          </a:ln>
        </p:spPr>
        <p:txBody>
          <a:bodyPr anchor="t">
            <a:normAutofit fontScale="95000"/>
          </a:bodyPr>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ولا:استخدام أساليب المعاينة الإحصائية التقليدية</a:t>
            </a:r>
            <a:endParaRPr b="0" lang="en-US" sz="2400" spc="-1" strike="noStrike">
              <a:solidFill>
                <a:srgbClr val="000000"/>
              </a:solidFill>
              <a:latin typeface="Gill Sans MT"/>
            </a:endParaRPr>
          </a:p>
          <a:p>
            <a:pPr lvl="1" marL="607680" indent="-2246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للمراجع  استخدام أحد أساليب المعاينة الإحصائية التقليدية لأغراض اختبارات التحقق من الأرصدة والعمليات: </a:t>
            </a:r>
            <a:endParaRPr b="0" lang="en-US" sz="2000" spc="-1" strike="noStrike">
              <a:solidFill>
                <a:srgbClr val="000000"/>
              </a:solidFill>
              <a:latin typeface="Gill Sans MT"/>
            </a:endParaRPr>
          </a:p>
          <a:p>
            <a:pPr lvl="1" marL="607680" indent="-224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1</a:t>
            </a:r>
            <a:r>
              <a:rPr b="0" lang="ar-SA" sz="2000" spc="-1" strike="noStrike">
                <a:solidFill>
                  <a:srgbClr val="000000"/>
                </a:solidFill>
                <a:latin typeface="Gill Sans MT"/>
                <a:ea typeface="Majalla UI"/>
              </a:rPr>
              <a:t>.طريقة المتوسط               </a:t>
            </a:r>
            <a:r>
              <a:rPr b="0" lang="ar-SA" sz="2000" spc="-1" strike="noStrike">
                <a:solidFill>
                  <a:srgbClr val="000000"/>
                </a:solidFill>
                <a:latin typeface="Gill Sans MT"/>
                <a:ea typeface="Majalla UI"/>
              </a:rPr>
              <a:t>2</a:t>
            </a:r>
            <a:r>
              <a:rPr b="0" lang="ar-SA" sz="2000" spc="-1" strike="noStrike">
                <a:solidFill>
                  <a:srgbClr val="000000"/>
                </a:solidFill>
                <a:latin typeface="Gill Sans MT"/>
                <a:ea typeface="Majalla UI"/>
              </a:rPr>
              <a:t>. طريقة الفروق                    </a:t>
            </a:r>
            <a:r>
              <a:rPr b="0" lang="ar-SA" sz="2000" spc="-1" strike="noStrike">
                <a:solidFill>
                  <a:srgbClr val="000000"/>
                </a:solidFill>
                <a:latin typeface="Gill Sans MT"/>
                <a:ea typeface="Majalla UI"/>
              </a:rPr>
              <a:t>3</a:t>
            </a:r>
            <a:r>
              <a:rPr b="0" lang="ar-SA" sz="2000" spc="-1" strike="noStrike">
                <a:solidFill>
                  <a:srgbClr val="000000"/>
                </a:solidFill>
                <a:latin typeface="Gill Sans MT"/>
                <a:ea typeface="Majalla UI"/>
              </a:rPr>
              <a:t>. طريقة النسب</a:t>
            </a:r>
            <a:endParaRPr b="0" lang="en-US" sz="2000" spc="-1" strike="noStrike">
              <a:solidFill>
                <a:srgbClr val="000000"/>
              </a:solidFill>
              <a:latin typeface="Gill Sans MT"/>
            </a:endParaRPr>
          </a:p>
          <a:p>
            <a:pPr lvl="1" marL="607680" indent="-2246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تختلف الإجراءات المتبعة في أي من هذه الطرق عن غيرها إلا في الطريقة التي يتم بها تقدير قيمة المجتمع.</a:t>
            </a:r>
            <a:endParaRPr b="0" lang="en-US" sz="2000" spc="-1" strike="noStrike">
              <a:solidFill>
                <a:srgbClr val="000000"/>
              </a:solidFill>
              <a:latin typeface="Gill Sans MT"/>
            </a:endParaRPr>
          </a:p>
          <a:p>
            <a:pPr marL="346680" indent="-268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أولى: تخطيط العينة </a:t>
            </a:r>
            <a:endParaRPr b="0" lang="en-US" sz="24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هدف من الاختبار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مجتمع ووحدة المعاينة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ستوى الثقة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انحراف المعياري المتوقع للمجتمع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خطأ المسموح به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حجم العينة </a:t>
            </a:r>
            <a:endParaRPr b="0" lang="en-US" sz="2000" spc="-1" strike="noStrike">
              <a:solidFill>
                <a:srgbClr val="000000"/>
              </a:solidFill>
              <a:latin typeface="Gill Sans MT"/>
            </a:endParaRPr>
          </a:p>
          <a:p>
            <a:pPr marL="346680" indent="-268200" algn="just" rtl="1">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3" name=""/>
          <p:cNvSpPr txBox="1"/>
          <p:nvPr/>
        </p:nvSpPr>
        <p:spPr>
          <a:xfrm>
            <a:off x="1733040" y="1800360"/>
            <a:ext cx="972036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نية: اختيار مفردات العين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المراجع استخدام طريقة اختيار العينة التي يترتب عليها اختيار عينة ممثلة ل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فضل في اختبارات التحقق التفصيلية استخدام إحدى طرق الاختيار العشوائي التي سبق الإشارة إليه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لثة: تنفيذ إجراءات ا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تنفيذ إجراءات المراجعة على جميع مفردات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لم يتمكن المراجع من تنفيذ إجراءات المراجعة المخططة على بعض مفردات العينة فإن معالجة هذه المفردات تتوقف على أثرها في تقويمه لنتائج العين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إذا وجد المراجع أن تقويمه لنتائج العينة سوف يختلف إذا اعتبر هذه المفردات تحتوي على خطأ، فإنه يجب عليه استخدام إجراءات بديلة يمكن أن توفر دليلاً كافياً يمكنه من الوصول إلى استنتاج مناسب.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ما إذا كان اعتبار تلك المفردات التي لم يمكن فحصها تحتوي على خطأ لا يغير في تقويم المراجع لنتائج العينة، فلن تكون هناك ضرورة لفحص هذه المفردات.</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5" name=""/>
          <p:cNvSpPr txBox="1"/>
          <p:nvPr/>
        </p:nvSpPr>
        <p:spPr>
          <a:xfrm>
            <a:off x="1574640" y="16844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رابعة: تقويم نتائج العين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ثم يقوم المراجع بمقارنة الخطأ الإجمالي المقدر في المجتمع مع القيمة النقدية للخطأ المسموح به.</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خطوة الخامسة: توثيق إجراءات المعاين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المراجع توثيق جميع الإجراءات التي قام بها عند استخدام عينات المراجعة لأغراض اختبارات التحقق التفصيلية للأرصدة والعمليات.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7" name=""/>
          <p:cNvSpPr txBox="1"/>
          <p:nvPr/>
        </p:nvSpPr>
        <p:spPr>
          <a:xfrm>
            <a:off x="1490760" y="1704960"/>
            <a:ext cx="10058400" cy="46576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استخدام المعاينة الحكمية في التحقق من صحة الأرصد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هم ما يميز المعاينة الحكمية هو أن تحديد حجم العينة وإختيار مفرداتها وكذلك تقويم نتائج المعاينة يتم وفقا للتقدير الشخصي للمراج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طلب تطبيق أسلوب المعاينة الحكمية لفحص العمليات والأرصدة اتباع نفس الخطوات الخاصة بتطبيق المعاينة الإحصائية مع الأخذ في الاعتبار بعض الاختلافات التي نوضحها فيما يلي:</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ea typeface="Majalla UI"/>
              </a:rPr>
              <a:t> </a:t>
            </a:r>
            <a:r>
              <a:rPr b="1" lang="ar-SA" sz="1800" spc="-1" strike="noStrike">
                <a:solidFill>
                  <a:srgbClr val="000000"/>
                </a:solidFill>
                <a:latin typeface="Gill Sans MT"/>
                <a:cs typeface="Majalla UI"/>
              </a:rPr>
              <a:t>اختلاف في تحديد حجم العينة: </a:t>
            </a:r>
            <a:r>
              <a:rPr b="0" lang="ar-SA" sz="1800" spc="-1" strike="noStrike">
                <a:solidFill>
                  <a:srgbClr val="000000"/>
                </a:solidFill>
                <a:latin typeface="Gill Sans MT"/>
                <a:cs typeface="Majalla UI"/>
              </a:rPr>
              <a:t>يتحدد حجم العينة حكميا </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ea typeface="Majalla UI"/>
              </a:rPr>
              <a:t> اختلاف في اختيار مفردات العينة</a:t>
            </a:r>
            <a:r>
              <a:rPr b="0" lang="ar-SA" sz="1800" spc="-1" strike="noStrike">
                <a:solidFill>
                  <a:srgbClr val="000000"/>
                </a:solidFill>
                <a:latin typeface="Gill Sans MT"/>
                <a:ea typeface="Majalla UI"/>
              </a:rPr>
              <a:t>: ليس هناك ما يمنع من إختيار مفردات العينة بطريقة عشوائية عند استخدام المعاينة الحكمية ، ولكن عادة يختار المراجع مفردات العينة حكميا بحيث تكون ممثلة للمجتمع المحاسبي الذي سحبت منه.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9" name=""/>
          <p:cNvSpPr txBox="1"/>
          <p:nvPr/>
        </p:nvSpPr>
        <p:spPr>
          <a:xfrm>
            <a:off x="1096920" y="17366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ختلاف في تقويم نتائج المعاين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طلب تقويم نتائج المعاينة حكميا القيام بالخطوات التالية :</a:t>
            </a:r>
            <a:endParaRPr b="0" lang="en-US" sz="20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حصر الأخطاء بالعينة </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قدير الأخطاء المحتمل أن يتضمنها المجتمع المحاسبي </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قارنة مع مبلغ الخطأ المسموح به</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دراسة وتحليل الأخطاء</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تخاذ القرار النهائي</a:t>
            </a:r>
            <a:endParaRPr b="0" lang="en-US" sz="1800" spc="-1" strike="noStrike">
              <a:solidFill>
                <a:srgbClr val="000000"/>
              </a:solidFill>
              <a:latin typeface="Gill Sans MT"/>
            </a:endParaRPr>
          </a:p>
          <a:p>
            <a:pPr lvl="1" marL="639720" indent="-236520" algn="just" rtl="1">
              <a:spcBef>
                <a:spcPts val="550"/>
              </a:spcBef>
              <a:buClr>
                <a:srgbClr val="3891a7"/>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يتبع ..</a:t>
            </a:r>
            <a:endParaRPr b="0" lang="en-US" sz="4300" spc="-1" strike="noStrike">
              <a:solidFill>
                <a:srgbClr val="572314"/>
              </a:solidFill>
              <a:latin typeface="Gill Sans MT"/>
            </a:endParaRPr>
          </a:p>
        </p:txBody>
      </p:sp>
      <p:sp>
        <p:nvSpPr>
          <p:cNvPr id="371"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ea typeface="Majalla UI"/>
              </a:rPr>
              <a:t> الجزء الثاني – تقارير المراجعه الداخلي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ea typeface="Majalla UI"/>
              </a:rPr>
              <a:t> خطاب الإعلان عن مهمة المراجعة</a:t>
            </a:r>
            <a:endParaRPr b="0" lang="en-US" sz="4300" spc="-1" strike="noStrike">
              <a:solidFill>
                <a:srgbClr val="572314"/>
              </a:solidFill>
              <a:latin typeface="Gill Sans MT"/>
            </a:endParaRPr>
          </a:p>
        </p:txBody>
      </p:sp>
      <p:sp>
        <p:nvSpPr>
          <p:cNvPr id="32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بدأ مرحلة تنفيذ مهام المراجعة الداخلية بإعلام الجهة المراد مراجعتها بمهمة المراجع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الإعلام عن طريق خطاب الإعلان الصادر عن المسئول الأول بإدارة المراجع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كون هذا الخطاب قبل فترة معقولة من تاريخ بدأ المهمة (أسبوع إلى ثلاثة أسابيع من تاريخ البدء في المهم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تضمن محتويات هذا الخطاب أهداف ونطاق المراجعة، أسماء المراجعين المسئولين عن تنفيذ المهمة، والمعلومات الأخرى ذات العلاق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05080" y="252000"/>
            <a:ext cx="10058400" cy="83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a:t>
            </a:r>
            <a:br>
              <a:rPr sz="3900"/>
            </a:br>
            <a:r>
              <a:rPr b="0" lang="ar-SA" sz="4800" spc="-1" strike="noStrike">
                <a:solidFill>
                  <a:srgbClr val="611617"/>
                </a:solidFill>
                <a:latin typeface="Gill Sans MT"/>
                <a:cs typeface="Majalla UI"/>
              </a:rPr>
              <a:t>الرقابة على تنفيذ مهام المراجعة</a:t>
            </a:r>
            <a:br>
              <a:rPr sz="3900"/>
            </a:br>
            <a:endParaRPr b="0" lang="en-US" sz="4800" spc="-1" strike="noStrike">
              <a:solidFill>
                <a:srgbClr val="572314"/>
              </a:solidFill>
              <a:latin typeface="Gill Sans MT"/>
            </a:endParaRPr>
          </a:p>
        </p:txBody>
      </p:sp>
      <p:sp>
        <p:nvSpPr>
          <p:cNvPr id="324" name=""/>
          <p:cNvSpPr txBox="1"/>
          <p:nvPr/>
        </p:nvSpPr>
        <p:spPr>
          <a:xfrm>
            <a:off x="1914480" y="1871640"/>
            <a:ext cx="9996480" cy="43768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أهداف الرقابة على تنفيذ مهام المراجع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تابعة والإشراف الدقيق على سير عمل فريق ا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قبة الوقت الفعلي المستهلك في تنفيذ المهمة لضمان فعالية فريق العمل والالتزام بالخطط والجداول الزمنية للمهم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مكن من اكتشاف أية تجاوزات في تنفيذ مهمة المراجعة والتعامل معها أولاً بأول</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923840" y="255600"/>
            <a:ext cx="9561240" cy="1179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ea typeface="Majalla UI"/>
              </a:rPr>
              <a:t> الرقابة على تنفيذ مهام المراجعة</a:t>
            </a:r>
            <a:br>
              <a:rPr sz="4000"/>
            </a:br>
            <a:endParaRPr b="0" lang="en-US" sz="4000" spc="-1" strike="noStrike">
              <a:solidFill>
                <a:srgbClr val="572314"/>
              </a:solidFill>
              <a:latin typeface="Gill Sans MT"/>
            </a:endParaRPr>
          </a:p>
        </p:txBody>
      </p:sp>
      <p:sp>
        <p:nvSpPr>
          <p:cNvPr id="326"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آليات الرقابة على تنفيذ مهام المراجعة</a:t>
            </a:r>
            <a:r>
              <a:rPr b="0"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جدول ضبط الوقت لكل مراجع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ملخص زمني للمهم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قارير درجة التقدم في العمل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96920" y="286920"/>
            <a:ext cx="10058400" cy="871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a:t>
            </a:r>
            <a:br>
              <a:rPr sz="3900"/>
            </a:br>
            <a:r>
              <a:rPr b="0" lang="ar-SA" sz="3900" spc="-1" strike="noStrike">
                <a:solidFill>
                  <a:srgbClr val="611617"/>
                </a:solidFill>
                <a:latin typeface="Gill Sans MT"/>
                <a:cs typeface="Majalla UI"/>
              </a:rPr>
              <a:t>إجراءات المراجعة الداخلية</a:t>
            </a:r>
            <a:br>
              <a:rPr sz="3900"/>
            </a:br>
            <a:endParaRPr b="0" lang="en-US" sz="39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إجراء المراجعة هو الأسلوب أو الوسيلة التي يستخدمها المراجع للحصول على دليل أو قرينة بغرض تحقيق هدف المراجعة. </a:t>
            </a:r>
            <a:endParaRPr b="0" lang="en-US" sz="26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أمثلة على أهم إجراءات المراجعة المتعارف عليها والأكثر استخداما:</a:t>
            </a:r>
            <a:endParaRPr b="0" lang="en-US" sz="2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ea typeface="Majalla UI"/>
              </a:rPr>
              <a:t> إجراء المقابلات الشخصية                                                                  </a:t>
            </a:r>
            <a:endParaRPr b="0" lang="en-US" sz="2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تقصي والاستفسارات</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لاحظة                                                                                            </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عاينة والجرد</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قارنات                                                                                           </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طابقات والتسويات</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طلب المصادقات والشهادات والإقرارات من الغير</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راجعة التحليلية والحسابية والمستندية والانتقادي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96920" y="361440"/>
            <a:ext cx="10058400" cy="106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أدلة وقرائن الإثبات المراجعة</a:t>
            </a:r>
            <a:br>
              <a:rPr sz="3900"/>
            </a:br>
            <a:endParaRPr b="0" lang="en-US" sz="39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فهوم الإثبات</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إثبات في المراجعة هو الحصول على القناعة بصحة أو عدم صحة قضية أو أمر معين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فهوم الإثبات لا يقتصر على الأدلة المادية الملموسة بل أن نقاش معين بين المراجع وأي مسئول في الوحدة الحكومية قد تنتهي بالحصول على القناعة المطلوبة (غير قطعي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أدلة والقرائن:</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دلة  : تكون مباشرة على القضية وتتصل بإثباتها مباشرة والدليل يحوز قوة إقناعية لإثبات الحقيق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رينة : ترتبط بقضية معينة وتثبت قضية أخرى بصورة غير مباشرة أي أنها تتضمن إستنتاج إحتمالي بشئ معين.</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63840" y="22176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أدلة وقرائن الإثبات المراجعة</a:t>
            </a:r>
            <a:endParaRPr b="0" lang="en-US" sz="4000" spc="-1" strike="noStrike">
              <a:solidFill>
                <a:srgbClr val="572314"/>
              </a:solidFill>
              <a:latin typeface="Gill Sans MT"/>
            </a:endParaRPr>
          </a:p>
        </p:txBody>
      </p:sp>
      <p:sp>
        <p:nvSpPr>
          <p:cNvPr id="332" name=""/>
          <p:cNvSpPr txBox="1"/>
          <p:nvPr/>
        </p:nvSpPr>
        <p:spPr>
          <a:xfrm>
            <a:off x="1765440" y="1436400"/>
            <a:ext cx="9997920" cy="4800600"/>
          </a:xfrm>
          <a:prstGeom prst="rect">
            <a:avLst/>
          </a:prstGeom>
          <a:noFill/>
          <a:ln w="0">
            <a:noFill/>
          </a:ln>
        </p:spPr>
        <p:txBody>
          <a:bodyPr anchor="t">
            <a:normAutofit fontScale="93000"/>
          </a:bodyPr>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نواع الأدلة والقرائن:</a:t>
            </a:r>
            <a:endParaRPr b="0" lang="en-US" sz="24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الوحدات </a:t>
            </a:r>
            <a:r>
              <a:rPr b="1" lang="ar-SA" sz="2000" spc="-1" strike="noStrike">
                <a:solidFill>
                  <a:srgbClr val="000000"/>
                </a:solidFill>
                <a:latin typeface="Gill Sans MT"/>
                <a:cs typeface="Majalla UI"/>
              </a:rPr>
              <a:t>التجارية</a:t>
            </a:r>
            <a:r>
              <a:rPr b="0" lang="ar-SA" sz="2000" spc="-1" strike="noStrike">
                <a:solidFill>
                  <a:srgbClr val="000000"/>
                </a:solidFill>
                <a:latin typeface="Gill Sans MT"/>
                <a:ea typeface="Majalla UI"/>
              </a:rPr>
              <a:t> يركز كثيرا على العمليات التجارية وما يرتبط بها من حسابات كالمخزون والمدينين والدائنين</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العمليات </a:t>
            </a:r>
            <a:r>
              <a:rPr b="1" lang="ar-SA" sz="2000" spc="-1" strike="noStrike">
                <a:solidFill>
                  <a:srgbClr val="000000"/>
                </a:solidFill>
                <a:latin typeface="Gill Sans MT"/>
                <a:cs typeface="Majalla UI"/>
              </a:rPr>
              <a:t>الحكومية</a:t>
            </a:r>
            <a:r>
              <a:rPr b="0" lang="ar-SA" sz="2000" spc="-1" strike="noStrike">
                <a:solidFill>
                  <a:srgbClr val="000000"/>
                </a:solidFill>
                <a:latin typeface="Gill Sans MT"/>
                <a:ea typeface="Majalla UI"/>
              </a:rPr>
              <a:t> ينصب على المصروفات وتحقيق أهداف الوحدة والمخاطر المرتبطة بها</a:t>
            </a:r>
            <a:endParaRPr b="0" lang="en-US" sz="20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دلة وقرائن المراجعة لا حصر لها حيث يحق للمراجع إثبات الحقيقة بكل الوسائل الممكنة منها:   </a:t>
            </a:r>
            <a:endParaRPr b="0" lang="en-US" sz="24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جود الفعلي.                                                                           </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إقرارات من الغير.</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ستندات الداخلية والخارجية. </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دقة الحسابية.</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أكيدات الشفهية.                                                                        </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علاقة بين البيانات وبعضها.</a:t>
            </a:r>
            <a:endParaRPr b="0" lang="en-US" sz="2000" spc="-1" strike="noStrike">
              <a:solidFill>
                <a:srgbClr val="000000"/>
              </a:solidFill>
              <a:latin typeface="Gill Sans MT"/>
            </a:endParaRPr>
          </a:p>
          <a:p>
            <a:pPr lvl="1" marL="594720" indent="-2199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ستنتاجات (من الملاحظة والمقابلات والاستفسارات والتقصي).</a:t>
            </a:r>
            <a:endParaRPr b="0" lang="en-US" sz="2000" spc="-1" strike="noStrike">
              <a:solidFill>
                <a:srgbClr val="000000"/>
              </a:solidFill>
              <a:latin typeface="Gill Sans MT"/>
            </a:endParaRPr>
          </a:p>
          <a:p>
            <a:pPr marL="339480" indent="-262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96920" y="287280"/>
            <a:ext cx="10058400" cy="122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ea typeface="Majalla UI"/>
              </a:rPr>
              <a:t> أدلة وقرائن الإثبات المراجعة</a:t>
            </a:r>
            <a:endParaRPr b="0" lang="en-US" sz="4000" spc="-1" strike="noStrike">
              <a:solidFill>
                <a:srgbClr val="572314"/>
              </a:solidFill>
              <a:latin typeface="Gill Sans MT"/>
            </a:endParaRPr>
          </a:p>
        </p:txBody>
      </p:sp>
      <p:sp>
        <p:nvSpPr>
          <p:cNvPr id="334" name=""/>
          <p:cNvSpPr txBox="1"/>
          <p:nvPr/>
        </p:nvSpPr>
        <p:spPr>
          <a:xfrm>
            <a:off x="1404720" y="1566360"/>
            <a:ext cx="10620360" cy="41324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علاقة أدلة الإثبات بالأساليب الفنية ل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جدول التالي يوضح العلاقة بين أدلة وقرائن المراجعة والإجراءات التي يطبقها المراجع.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kayan albalawi</cp:lastModifiedBy>
  <dcterms:modified xsi:type="dcterms:W3CDTF">2014-03-12T07:51:44Z</dcterms:modified>
  <cp:revision>119</cp:revision>
  <dc:subject/>
  <dc:title>PowerPoint Presentation</dc:title>
</cp:coreProperties>
</file>