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38B-AD03-4FA5-9D35-8BB00693B2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81C-8172-48AC-BC50-E5A59DFC0D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889-3A12-4EE3-9909-7C610FA9CEF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A5BB-CDA9-4372-BEFC-E4BCE818393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B9F4-F5F3-464C-870E-E495FFE9B68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621-021F-425F-986C-071BDE07D8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2A96-84E1-4E37-9A93-E2C55CFE6D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CF1-6B76-4009-A01E-7CC02CFCA6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44B-685D-48ED-9D01-9B5C0B60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439-E4EC-4FCB-B5FB-37D260F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159-F7A0-4947-98FC-71834B7A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49E-9FBE-4379-81EF-C1497F1C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C8E-BC1E-477D-8929-C518E6F7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7431-8904-4F59-AD14-BB3F289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D852-B2FA-4DB8-BDEC-9512D02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0D0-3E32-4F68-BE7F-34CC7D81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6AD-7262-4570-B96F-AB697827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BF7-DCC4-4816-BDC6-E450F99F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7B9B-DFC8-4339-A0EF-9D76914E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E1F-EC5D-4792-AD00-B22AE44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3061-EE7E-45C0-AF20-6274C556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CF3-91CC-42F5-9D43-5895AB7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152C-774C-45DE-B47D-098A26A6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B801-A9AF-4B80-8933-0D05526C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5378-DA21-470F-B6BE-7C1D60C8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368-2F2E-4F0F-A1D5-54BD6C46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92E-897A-4339-A951-98C72BD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747-7269-40CD-BE4F-354C1A44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0E5-E401-4668-9408-0AD68F2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DF2-A19A-4896-A742-CE8D4AC5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E6C-9714-4F68-B97C-D27B2B2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4AA-3B18-4DE4-9E17-A39C595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ABB2-0F1A-441E-884B-5A269E8829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78B-3E04-49AB-92BD-141580DA24D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b7"/>
                </a:solidFill>
                <a:latin typeface="Arial Black"/>
              </a:rPr>
              <a:t>تنقية الفيروس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1071720"/>
            <a:ext cx="754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عنى عملية الحصول على جزيئات الفيروس بحالة منفردة وبتركيز عالي وعلى درجة عالية من القدرة على الإصاب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تنقية جزيئات فيروس ما يراد دراسة خواصه الطبيعية أو الكيمائية لابد من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4a"/>
                </a:solidFill>
                <a:latin typeface="Arial"/>
              </a:rPr>
              <a:t>أولا:- اختبار العائ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ذلك للحصول على العصير المحتوي على الفيروس التي ستجرى عليها عمليات التنق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36520" y="500040"/>
            <a:ext cx="7150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d00"/>
                </a:solidFill>
                <a:latin typeface="Arial"/>
              </a:rPr>
              <a:t>أهم الشروط الواجب توفرها في العائل ه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سهولة تكاثر النبات الع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سهولة إجراء العدوى ف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وفرة المحصول الورق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زيادة محتوياته من العص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سهولة انتقال الفيروس داخل انسجتة المختلفة خصوصا انسجتة الوعائ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خلوه من الصبغات القاتمة التي تنشر في العصير النبات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خلوه من المثبطات التي توثر في نشاط الفيروس خاصة بعد خروجها واستخلاصها من الخ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خلوه من البروتينات الغير النشطة ذات الجزيئات المتشابهة شكلا وحجما من الجزيئات الفيروسية المراد استخلاصها من الخلية مثل الريبوسوم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أن يحتوي على نوع واحد فقط من الفيروسات أي خالي من التلوث بفيروسات أخر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642600"/>
            <a:ext cx="78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ثانيا:- اختيار السلالة الفيروس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حالات الفيروسات التي يكون لها أكثر من سلالة فيروسية يلزم تحديد السلالة ويشترط في حالة اختيار السلالة الفيروسية توفر الشروط التالي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غزارة إنتاجها من الجزيئات الفيروس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وفر الصفات التي تساعد على إجراء عمليات التنقية مثل مقاومتها للانحلال وثبات خواصها الطبيع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ثباتها الوراثي (وهو قدرتها على الاحتفاظ بصفاتها الوراثية بدون تغير او حدوث طفرات اثناء فترة التنقية والدراس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عدم ارتباطها بالبروتينات النووية للعائل أو الربيوسو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قدرتها العالية على إصابة العوائل المختلفة وسرعة تكوينها لمظاهر الإصابة على العوائل التي تصيب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80074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ثالثا:اختيار طريقة التنقي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مد على كيمياء البروتين للحصول على تحضير متجان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اى تحتوى على مكون واحد كل على حده فيه مكونة من جزيئات موحدة التركيب الكيميائي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تباع الطرق هي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فصل المواد الغر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فصل جزيئات الفيروس من المخلو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فصل المخلوط إلى محتويات مختلفة والذي منها واحد أو أكثر يحتوي الفيرو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999720"/>
            <a:ext cx="8007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شمل عمليات التنقية للفيروسات المختلفة النقاط الآتية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ستخلاص العصير الخام المصا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رويق العصير المصاب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حصول على الفيروس (ترسيب وتجميع الفيرو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لاحظة: يجب المراعاة عند تنقية بروتين الفيروس معرفة درجة ثبات البروتين في درجات الحرارة المختلفة ودرجات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مختلفة. معرفة المذيبات التي يمكن أن ترسب البروتين دون حدوث تغير في خواصه الطبيعية والكيميائ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071360"/>
            <a:ext cx="76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أولا: استخلاص العصير النباتي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جهيز العصير النبات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يوضع في أنابيب الطرد المركزي ويراعي أن يكمل الحجم في أنبوبة الطرد إلى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ل من المحلول المنظ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ثانيا: ترويق العص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يم عمل الطرد ال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فة في الدقيقة لمدة دقائ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ينقل الرائق من الأنبوبة إلى أنبوبة طرد أخرى ثم يضاف له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/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ل من الكلورفورم ثم يتم الرج الشديد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ائق,ثم يعمل لها طرد ال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فة في الدقيقة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ائق مباشرة بعد الرج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56760" y="85716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4a"/>
                </a:solidFill>
                <a:latin typeface="Arial"/>
              </a:rPr>
              <a:t>ثالثا: ترسيب وتجميع الفيروس وذلك باستخدام احد الطرق الكيميائية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أهمها طريقة التمليح التي تعتمد على استخدام محلول كبريتات الامونيوم المش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بعد عملية الترويق يتم نقل الرائق إلى أنبوبة طرد أخرى وعلى حسب حجم الرائق من العصير يضاف إليه نصف حجمه من محلول كبريتات الامونيوم المشبعة ثم يترك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اعة في الثلاج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ثم يعمل طرد 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9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فة في الدقيقة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يتم التخلص من الرائق إما الراسب فيضاف له محلول منظم بكمية معلومة ويترك ساعة ثم يعمل لها طرد مركزي عن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0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فة في الدقيقة لمد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يتم حقن الميكانيكي للعائل المناسب ثم يوضع في الصو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6:32:24Z</dcterms:created>
  <dc:creator>Customer</dc:creator>
  <dc:description/>
  <dc:language>en-US</dc:language>
  <cp:lastModifiedBy>yaser</cp:lastModifiedBy>
  <dcterms:modified xsi:type="dcterms:W3CDTF">2014-11-26T17:35:30Z</dcterms:modified>
  <cp:revision>17</cp:revision>
  <dc:subject/>
  <dc:title>تنقية الفيروس</dc:title>
</cp:coreProperties>
</file>