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9690-8445-4252-938F-4AD9A598C7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A1C0-59EE-4AB9-B414-80EB6CDBE18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6D6-384A-490D-9DC8-F4459CADE91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4C07-A6D2-43C5-A9A1-0D04112462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C40-273F-4B06-9525-53D136E6A37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3890-E891-4654-AB18-E3E5089749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5688-762B-4CC7-8DC0-D9B61E3F0F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764-1E6E-4936-A2DE-54669F3BA2B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6F6-163E-46DC-BCF3-F1F4099F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5C8-8FB3-4125-8CBE-DB89646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ABD-7D65-4FCD-B838-5D7C53E2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84C-48D7-4658-B8BF-65978CD2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45DB-7045-4C21-891B-AE6AFD3F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E7C1-8F5E-49C6-9DB4-ACB7DF1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77F-6ADF-4B11-9C46-FE66CCEE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1F4A-A561-4F8E-B7A6-57E3B793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2BF6-8C07-4949-864B-5C28CBB3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9D8A-B52D-47EE-BF8C-5844A20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029F-7E4D-4EF9-B723-56BA643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561-70AE-4919-B4F7-E9B9D3F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55D5-7621-4797-974E-0BD0D67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74A8-3FF0-40E4-AC6B-4FC45ED2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41E1-310D-4294-B7D5-E6B0187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567-9663-4062-A397-16B54B2D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EEF8-CAC8-487E-9F8F-EE098DF7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E38-6E88-4382-BD70-B03DD03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0BC-F3C2-4D30-A276-F89D9175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903-0AEF-4597-BDE4-D1D1C023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E25-6CA7-4220-9FE6-A5ACB97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D85-FB6A-4881-8F33-B2521B4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650-53A8-4141-8BAC-BEF6DDE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33B-ED4B-4FE2-8A40-5ACCC120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AEE-8579-4A73-ACFD-23E194BCE48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CD3D-4A0D-49E2-A429-2C862CA520E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b7"/>
                </a:solidFill>
                <a:latin typeface="Arial Black"/>
              </a:rPr>
              <a:t>تنقية الفيروس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1071720"/>
            <a:ext cx="754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عنى عملية الحصول على جزيئات الفيروس بحالة منفردة وبتركيز عالي وعلى درجة عالية من القدرة على الإصاب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تنقية جزيئات فيروس ما يراد دراسة خواصه الطبيعية أو الكيمائية لابد من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4a"/>
                </a:solidFill>
                <a:latin typeface="Arial"/>
              </a:rPr>
              <a:t>أولا:- اختبار العائ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ذلك للحصول على العصير المحتوي على الفيروس التي ستجرى عليها عمليات التنق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36520" y="500040"/>
            <a:ext cx="7150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d00"/>
                </a:solidFill>
                <a:latin typeface="Arial"/>
              </a:rPr>
              <a:t>أهم الشروط الواجب توفرها في العائل ه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سهولة تكاثر النبات الع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سهولة إجراء العدوى ف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وفرة المحصول الورق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زيادة محتوياته من العص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سهولة انتقال الفيروس داخل انسجتة المختلفة خصوصا انسجتة الوعائ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خلوه من الصبغات القاتمة التي تنشر في العصير النبات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خلوه من المثبطات التي توثر في نشاط الفيروس خاصة بعد خروجها واستخلاصها من الخ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خلوه من البروتينات الغير النشطة ذات الجزيئات المتشابهة شكلا وحجما من الجزيئات الفيروسية المراد استخلاصها من الخلية مثل الريبوسوم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أن يحتوي على نوع واحد فقط من الفيروسات أي خالي من التلوث بفيروسات أخر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642600"/>
            <a:ext cx="78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ثانيا:- اختيار السلالة الفيروس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حالات الفيروسات التي يكون لها أكثر من سلالة فيروسية يلزم تحديد السلالة ويشترط في حالة اختيار السلالة الفيروسية توفر الشروط التالي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غزارة إنتاجها من الجزيئات الفيروس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وفر الصفات التي تساعد على إجراء عمليات التنقية مثل مقاومتها للانحلال وثبات خواصها الطبيع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ثباتها الوراثي (وهو قدرتها على الاحتفاظ بصفاتها الوراثية بدون تغير او حدوث طفرات اثناء فترة التنقية والدراس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عدم ارتباطها بالبروتينات النووية للعائل أو الربيوسو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قدرتها العالية على إصابة العوائل المختلفة وسرعة تكوينها لمظاهر الإصابة على العوائل التي تصيب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80074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ثالثا:اختيار طريقة التنقي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مد على كيمياء البروتين للحصول على تحضير متجان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اى تحتوى على مكون واحد كل على حده فيه مكونة من جزيئات موحدة التركيب الكيميائي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تباع الطرق هي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فصل المواد الغر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فصل جزيئات الفيروس من المخلو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فصل المخلوط إلى محتويات مختلفة والذي منها واحد أو أكثر يحتوي الفيرو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999720"/>
            <a:ext cx="8007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شمل عمليات التنقية للفيروسات المختلفة النقاط الآتية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ستخلاص العصير الخام المصا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رويق العصير المصاب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حصول على الفيروس (ترسيب وتجميع الفيرو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لاحظة: يجب المراعاة عند تنقية بروتين الفيروس معرفة درجة ثبات البروتين في درجات الحرارة المختلفة ودرجات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مختلفة. معرفة المذيبات التي يمكن أن ترسب البروتين دون حدوث تغير في خواصه الطبيعية والكيميائ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071360"/>
            <a:ext cx="76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أولا: استخلاص العصير النباتي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جهيز العصير النبات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يوضع في أنابيب الطرد المركزي ويراعي أن يكمل الحجم في أنبوبة الطرد إلى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ل من المحلول المنظ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ثانيا: ترويق العص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يم عمل الطرد ال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فة في الدقيقة لمدة دقائ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ينقل الرائق من الأنبوبة إلى أنبوبة طرد أخرى ثم يضاف له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/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ل من الكلورفورم ثم يتم الرج الشديد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ائق,ثم يعمل لها طرد ال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فة في الدقيقة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ائق مباشرة بعد الرج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56760" y="85716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ثالثا: ترسيب وتجميع الفيروس وذلك باستخدام احد الطرق الكيميائية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أهمها طريقة التمليح التي تعتمد على استخدام محلول كبريتات الامونيوم المش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بعد عملية الترويق يتم نقل الرائق إلى أنبوبة طرد أخرى وعلى حسب حجم الرائق من العصير يضاف إليه نصف حجمه من محلول كبريتات الامونيوم المشبعة ثم يترك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اعة في الثلاج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ثم يعمل طرد 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9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فة في الدقيقة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يتم التخلص من الرائق إما الراسب فيضاف له محلول منظم بكمية معلومة ويترك ساعة ثم يعمل لها طرد 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فة في الدقيقة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يتم حقن الميكانيكي للعائل المناسب ثم يوضع في الصو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6:32:24Z</dcterms:created>
  <dc:creator>Customer</dc:creator>
  <dc:description/>
  <dc:language>en-US</dc:language>
  <cp:lastModifiedBy>yaser</cp:lastModifiedBy>
  <dcterms:modified xsi:type="dcterms:W3CDTF">2014-11-26T17:35:30Z</dcterms:modified>
  <cp:revision>17</cp:revision>
  <dc:subject/>
  <dc:title>تنقية الفيروس</dc:title>
</cp:coreProperties>
</file>