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7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ical  Anesthetic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43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utacaine Sulfa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al for eyes, ears, nose, thro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for C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X as potent, 2X as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% dental oin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tracaine Hydrochlor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er, highly soluble in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5-8X Cocaine, great potential for systemic 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%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hort Duration-5-40mi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ithout vasoconstri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docaine 2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locaine 4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pivacaine 3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mediate Duration-45-90mi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ith vasoconstri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docaine 2%  with ep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pivacaine 2%  with epi or levonordef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locaine 4%  with ep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ong Duration-&gt;90mi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ith vasoconstri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ivacaine 0.5%  with ep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idocaine 1.5%  with ep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ximum Dosa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d by body weight (mg/kg or 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bitrary maximum usually approximately at average adult weight of 70 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 in very young, elderly, debilitated, or medically comprom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raindications - </a:t>
            </a:r>
            <a:r>
              <a:rPr b="0" lang="en-US" sz="4400" spc="-1" strike="noStrike" u="sng">
                <a:solidFill>
                  <a:srgbClr val="fafd00"/>
                </a:solidFill>
                <a:uFillTx/>
                <a:latin typeface="Times New Roman"/>
              </a:rPr>
              <a:t>Absolu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 problem      </a:t>
            </a:r>
            <a:r>
              <a:rPr b="1" lang="en-US" sz="3200" spc="-1" strike="noStrike" u="sng">
                <a:solidFill>
                  <a:srgbClr val="fc0128"/>
                </a:solidFill>
                <a:uFillTx/>
                <a:latin typeface="Times New Roman"/>
              </a:rPr>
              <a:t>Avoid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May use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esthetic         same class      different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ergy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ulfite         vasoconstrict.     non-constri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ergy             anesthetics          types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                Articaine        non-sulf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ergy                                         types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raindications - Relativ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 problem      Avoid          May use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ypical            esters              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olinesterase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emo-         Prilocaine,     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lobinemia        Articaine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ver disease     amides          esters, or 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evere)                                   judicious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raindications - Relative (cont.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 problems       Avoid         May use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dney disease    amides &amp;      ei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severe)                  esters            judiciousl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V disease          excess           plain 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severe)        vasoconstrictor      decrease am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thyroid       excess           plain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evere)        vasoconstrictor      decrease am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election of an Anestheti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ation required for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treatment discomfor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ility for self-inflicted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or 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’s medical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ical Anesthetic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not penetrate intac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effective if not water sol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concentrations than injec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cause 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or more anesthetics 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imum total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otal allowable dose for both local anesthetics should not exce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w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two maximum doses for the individual agen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ical Anesthetic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s are higher to facilitate diffusion; leads to a greater potential for 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injectables are not used as topical because their effective concentrations would be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ical Anesthetic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penetrate 2-3 mm, on mucous membranes or disrupted s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st effective quantities, since rapidly absorbed into systemic cir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caine Hydrochlor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soluble ester, 2-4% for topical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soconstric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potentiates adrenalin which may result in dysrythm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set - 1min; duration - up to 2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dule II drug, not recommended for use in dent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nz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er, poorly soluble in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s spray, gel, ointment - 14-2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 CV absorption, little risk of 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ains at site, increased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localized allergic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inhibit sulfon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docaine Hydrochlor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ide, 2%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sol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penetration, greater toxicity than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incidence of allergic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docaine Ba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 water solu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% liquid, ointment, g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 penetration, best on ulcerated, lacerated, or abraded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incidence of allergic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yclonine Hydrochlor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tone, no cross-sens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ght water solubility, low 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 onset -to 10 mins; long duration -to 1 h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5%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14:10:26Z</dcterms:created>
  <dc:creator>Ben Connaughton</dc:creator>
  <dc:description/>
  <dc:language>en-US</dc:language>
  <cp:lastModifiedBy>Microsoft Office User</cp:lastModifiedBy>
  <cp:lastPrinted>2009-04-22T19:24:48Z</cp:lastPrinted>
  <dcterms:modified xsi:type="dcterms:W3CDTF">1999-06-10T20:55:27Z</dcterms:modified>
  <cp:revision>26</cp:revision>
  <dc:subject/>
  <dc:title>Topical  Anesthetics</dc:title>
</cp:coreProperties>
</file>