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2.png" ContentType="image/png"/>
  <Override PartName="/ppt/media/image20.jpeg" ContentType="image/jpeg"/>
  <Override PartName="/ppt/media/image13.png" ContentType="image/png"/>
  <Override PartName="/ppt/media/image11.jpeg" ContentType="image/jpeg"/>
  <Override PartName="/ppt/media/image9.jpeg" ContentType="image/jpeg"/>
  <Override PartName="/ppt/media/image8.jpeg" ContentType="image/jpeg"/>
  <Override PartName="/ppt/media/image10.jpeg" ContentType="image/jpeg"/>
  <Override PartName="/ppt/media/image7.jpeg" ContentType="image/jpeg"/>
  <Override PartName="/ppt/media/image6.png" ContentType="image/png"/>
  <Override PartName="/ppt/media/image5.jpeg" ContentType="image/jpeg"/>
  <Override PartName="/ppt/media/image21.png" ContentType="image/png"/>
  <Override PartName="/ppt/media/image19.jpeg" ContentType="image/jpeg"/>
  <Override PartName="/ppt/media/image1.jpeg" ContentType="image/jpeg"/>
  <Override PartName="/ppt/media/image18.jpeg" ContentType="image/jpeg"/>
  <Override PartName="/ppt/media/image16.jpeg" ContentType="image/jpeg"/>
  <Override PartName="/ppt/media/image24.jpeg" ContentType="image/jpeg"/>
  <Override PartName="/ppt/media/image15.png" ContentType="image/png"/>
  <Override PartName="/ppt/media/image14.png" ContentType="image/png"/>
  <Override PartName="/ppt/media/image23.jpeg" ContentType="image/jpeg"/>
  <Override PartName="/ppt/media/image2.jpeg" ContentType="image/jpeg"/>
  <Override PartName="/ppt/media/image17.jpeg" ContentType="image/jpeg"/>
  <Override PartName="/ppt/media/image3.png" ContentType="image/png"/>
  <Override PartName="/ppt/media/image4.jpeg" ContentType="image/jpeg"/>
  <Override PartName="/ppt/media/image22.gif" ContentType="image/gif"/>
  <Override PartName="/ppt/media/image2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E94DDC-066E-4D86-8F6B-7E4384A8D3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5B6635-FD34-41C1-86B0-592AE6F1DE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5AECF6-FBF0-45A4-BC02-A8C1F7AE0F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CF2D3C-A157-4691-9EE8-E1ADCE09FE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marL="343080" indent="0" algn="ct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D500FB-6F92-4F75-99EB-DD3694A891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7D6EDE-300D-4818-9CE7-0236141585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EACCB2-DF89-4C0A-A8A7-1DEAE3A03F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10B4DC-7BFC-41DD-B1A4-01B1AAE74B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marL="343080" indent="-343080" algn="ctr" rtl="1">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65904A-F060-48D0-8429-190D7A15DD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31C16D-A042-4A36-A353-051F8BFC35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CFF973-0AEC-484D-8F29-FF92DBAB4E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2601BF-B419-4AF9-A966-701D43B336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lgn="r" rtl="1">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gn="r" rtl="1">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gn="r" rtl="1">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gn="r" rtl="1">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gn="r" rtl="1">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gn="r" rtl="1">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gn="r" rtl="1">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5280"/>
            <a:ext cx="2132280" cy="4744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ar-SA" sz="18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ar-SA"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123720" y="6245280"/>
            <a:ext cx="2894040" cy="4744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18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457200" y="6245280"/>
            <a:ext cx="2131920" cy="4744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ar-SA" sz="18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D91D016-6A0A-40A1-8FE8-DC10E606DDAB}" type="slidenum">
              <a:rPr b="0" lang="ar-SA"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hyperlink" Target="http://en.wikipedia.org/wiki/Eric_Drexler" TargetMode="External"/><Relationship Id="rId5" Type="http://schemas.openxmlformats.org/officeDocument/2006/relationships/hyperlink" Target="http://en.wikipedia.org/wiki/Scanning_tunneling_microscope" TargetMode="External"/><Relationship Id="rId6" Type="http://schemas.openxmlformats.org/officeDocument/2006/relationships/hyperlink" Target="http://en.wikipedia.org/wiki/Fullerenes" TargetMode="External"/><Relationship Id="rId7" Type="http://schemas.openxmlformats.org/officeDocument/2006/relationships/hyperlink" Target="http://en.wikipedia.org/wiki/Carbon_nanotubes" TargetMode="External"/><Relationship Id="rId8"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6.png"/><Relationship Id="rId5"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9.jpeg"/><Relationship Id="rId5"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10.jpeg"/><Relationship Id="rId5"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11.jpe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15.png"/><Relationship Id="rId5" Type="http://schemas.openxmlformats.org/officeDocument/2006/relationships/image" Target="../media/image16.jpeg"/><Relationship Id="rId6"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17.jpeg"/><Relationship Id="rId5"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18.jpeg"/><Relationship Id="rId5"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19.jpeg"/><Relationship Id="rId5"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20.jpeg"/><Relationship Id="rId5"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21.png"/><Relationship Id="rId5" Type="http://schemas.openxmlformats.org/officeDocument/2006/relationships/image" Target="../media/image22.gif"/><Relationship Id="rId6"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23.jpeg"/><Relationship Id="rId5"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24.jpeg"/><Relationship Id="rId5"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25.jpeg"/><Relationship Id="rId5"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hyperlink" Target="http://en.wikipedia.org/wiki/Atomic" TargetMode="External"/><Relationship Id="rId5" Type="http://schemas.openxmlformats.org/officeDocument/2006/relationships/hyperlink" Target="http://en.wikipedia.org/wiki/Molecular" TargetMode="External"/><Relationship Id="rId6"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hyperlink" Target="http://www.physiorg.com/" TargetMode="External"/><Relationship Id="rId5"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hyperlink" Target="http://www.ncbi.nlm.nih.gov/sites/entrez?Db=pubmed&amp;Cmd=Search&amp;Term=%22Chun%20YW%22%5BAuthor%5D&amp;itool=EntrezSystem2.PEntrez.Pubmed.Pubmed_ResultsPanel.Pubmed_DiscoveryPanel.Pubmed_RVAbstractPlus" TargetMode="External"/><Relationship Id="rId5" Type="http://schemas.openxmlformats.org/officeDocument/2006/relationships/hyperlink" Target="http://www.ncbi.nlm.nih.gov/sites/entrez?Db=pubmed&amp;Cmd=Search&amp;Term=%22Webster%20TJ%22%5BAuthor%5D&amp;itool=EntrezSystem2.PEntrez.Pubmed.Pubmed_ResultsPanel.Pubmed_DiscoveryPanel.Pubmed_RVAbstractPlus" TargetMode="External"/><Relationship Id="rId6" Type="http://schemas.openxmlformats.org/officeDocument/2006/relationships/slideLayout" Target="../slideLayouts/slideLayout2.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hyperlink" Target="http://www.about.com/" TargetMode="External"/><Relationship Id="rId5" Type="http://schemas.openxmlformats.org/officeDocument/2006/relationships/hyperlink" Target="http://gopaultech.com/blog/2008/08/gold-nanotechnology-past-and-future/" TargetMode="External"/><Relationship Id="rId6"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hyperlink" Target="http://en.wikipedia.org/wiki/Nanometer" TargetMode="External"/><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5.jpeg"/><Relationship Id="rId5"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hyperlink" Target="http://en.wikipedia.org/wiki/December_29" TargetMode="External"/><Relationship Id="rId5" Type="http://schemas.openxmlformats.org/officeDocument/2006/relationships/hyperlink" Target="http://en.wikipedia.org/wiki/1959" TargetMode="External"/><Relationship Id="rId6" Type="http://schemas.openxmlformats.org/officeDocument/2006/relationships/hyperlink" Target="http://en.wikipedia.org/wiki/There%27s_Plenty_of_Room_at_the_Bottom" TargetMode="External"/><Relationship Id="rId7" Type="http://schemas.openxmlformats.org/officeDocument/2006/relationships/hyperlink" Target="http://en.wikipedia.org/wiki/Tokyo_Science_University" TargetMode="External"/><Relationship Id="rId8" Type="http://schemas.openxmlformats.org/officeDocument/2006/relationships/hyperlink" Target="http://en.wikipedia.org/wiki/Norio_Taniguchi" TargetMode="External"/><Relationship Id="rId9"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8153280" y="74520"/>
            <a:ext cx="922320" cy="992160"/>
          </a:xfrm>
          <a:prstGeom prst="rect">
            <a:avLst/>
          </a:prstGeom>
          <a:ln w="0">
            <a:noFill/>
          </a:ln>
        </p:spPr>
      </p:pic>
      <p:grpSp>
        <p:nvGrpSpPr>
          <p:cNvPr id="42" name=""/>
          <p:cNvGrpSpPr/>
          <p:nvPr/>
        </p:nvGrpSpPr>
        <p:grpSpPr>
          <a:xfrm>
            <a:off x="2639880" y="1346040"/>
            <a:ext cx="4521240" cy="3986280"/>
            <a:chOff x="2639880" y="1346040"/>
            <a:chExt cx="4521240" cy="3986280"/>
          </a:xfrm>
        </p:grpSpPr>
        <p:sp>
          <p:nvSpPr>
            <p:cNvPr id="43" name=""/>
            <p:cNvSpPr/>
            <p:nvPr/>
          </p:nvSpPr>
          <p:spPr>
            <a:xfrm>
              <a:off x="2639880" y="2319480"/>
              <a:ext cx="1721160" cy="3012840"/>
            </a:xfrm>
            <a:custGeom>
              <a:avLst/>
              <a:gdLst/>
              <a:ahLst/>
              <a:rect l="l" t="t" r="r" b="b"/>
              <a:pathLst>
                <a:path w="1261" h="2255">
                  <a:moveTo>
                    <a:pt x="1257" y="2027"/>
                  </a:moveTo>
                  <a:lnTo>
                    <a:pt x="1257" y="2015"/>
                  </a:lnTo>
                  <a:lnTo>
                    <a:pt x="1252" y="2000"/>
                  </a:lnTo>
                  <a:lnTo>
                    <a:pt x="1244" y="1985"/>
                  </a:lnTo>
                  <a:lnTo>
                    <a:pt x="1232" y="1970"/>
                  </a:lnTo>
                  <a:lnTo>
                    <a:pt x="1222" y="1956"/>
                  </a:lnTo>
                  <a:lnTo>
                    <a:pt x="1212" y="1945"/>
                  </a:lnTo>
                  <a:lnTo>
                    <a:pt x="1204" y="1933"/>
                  </a:lnTo>
                  <a:lnTo>
                    <a:pt x="1199" y="1921"/>
                  </a:lnTo>
                  <a:lnTo>
                    <a:pt x="1197" y="1910"/>
                  </a:lnTo>
                  <a:lnTo>
                    <a:pt x="1192" y="1893"/>
                  </a:lnTo>
                  <a:lnTo>
                    <a:pt x="1186" y="1876"/>
                  </a:lnTo>
                  <a:lnTo>
                    <a:pt x="1171" y="1860"/>
                  </a:lnTo>
                  <a:lnTo>
                    <a:pt x="1161" y="1851"/>
                  </a:lnTo>
                  <a:lnTo>
                    <a:pt x="1147" y="1838"/>
                  </a:lnTo>
                  <a:lnTo>
                    <a:pt x="1132" y="1823"/>
                  </a:lnTo>
                  <a:lnTo>
                    <a:pt x="1117" y="1806"/>
                  </a:lnTo>
                  <a:lnTo>
                    <a:pt x="1102" y="1788"/>
                  </a:lnTo>
                  <a:lnTo>
                    <a:pt x="1087" y="1770"/>
                  </a:lnTo>
                  <a:lnTo>
                    <a:pt x="1076" y="1750"/>
                  </a:lnTo>
                  <a:lnTo>
                    <a:pt x="1067" y="1731"/>
                  </a:lnTo>
                  <a:lnTo>
                    <a:pt x="1052" y="1703"/>
                  </a:lnTo>
                  <a:lnTo>
                    <a:pt x="1037" y="1681"/>
                  </a:lnTo>
                  <a:lnTo>
                    <a:pt x="1026" y="1665"/>
                  </a:lnTo>
                  <a:lnTo>
                    <a:pt x="1019" y="1646"/>
                  </a:lnTo>
                  <a:lnTo>
                    <a:pt x="1016" y="1633"/>
                  </a:lnTo>
                  <a:lnTo>
                    <a:pt x="1009" y="1613"/>
                  </a:lnTo>
                  <a:lnTo>
                    <a:pt x="999" y="1591"/>
                  </a:lnTo>
                  <a:lnTo>
                    <a:pt x="989" y="1568"/>
                  </a:lnTo>
                  <a:lnTo>
                    <a:pt x="979" y="1545"/>
                  </a:lnTo>
                  <a:lnTo>
                    <a:pt x="969" y="1525"/>
                  </a:lnTo>
                  <a:lnTo>
                    <a:pt x="959" y="1508"/>
                  </a:lnTo>
                  <a:lnTo>
                    <a:pt x="952" y="1499"/>
                  </a:lnTo>
                  <a:lnTo>
                    <a:pt x="942" y="1486"/>
                  </a:lnTo>
                  <a:lnTo>
                    <a:pt x="934" y="1473"/>
                  </a:lnTo>
                  <a:lnTo>
                    <a:pt x="922" y="1458"/>
                  </a:lnTo>
                  <a:lnTo>
                    <a:pt x="911" y="1443"/>
                  </a:lnTo>
                  <a:lnTo>
                    <a:pt x="902" y="1434"/>
                  </a:lnTo>
                  <a:lnTo>
                    <a:pt x="891" y="1426"/>
                  </a:lnTo>
                  <a:lnTo>
                    <a:pt x="879" y="1419"/>
                  </a:lnTo>
                  <a:lnTo>
                    <a:pt x="867" y="1411"/>
                  </a:lnTo>
                  <a:lnTo>
                    <a:pt x="854" y="1404"/>
                  </a:lnTo>
                  <a:lnTo>
                    <a:pt x="842" y="1399"/>
                  </a:lnTo>
                  <a:lnTo>
                    <a:pt x="831" y="1396"/>
                  </a:lnTo>
                  <a:lnTo>
                    <a:pt x="820" y="1394"/>
                  </a:lnTo>
                  <a:lnTo>
                    <a:pt x="812" y="1393"/>
                  </a:lnTo>
                  <a:lnTo>
                    <a:pt x="805" y="1389"/>
                  </a:lnTo>
                  <a:lnTo>
                    <a:pt x="800" y="1384"/>
                  </a:lnTo>
                  <a:lnTo>
                    <a:pt x="794" y="1376"/>
                  </a:lnTo>
                  <a:lnTo>
                    <a:pt x="789" y="1368"/>
                  </a:lnTo>
                  <a:lnTo>
                    <a:pt x="782" y="1354"/>
                  </a:lnTo>
                  <a:lnTo>
                    <a:pt x="774" y="1341"/>
                  </a:lnTo>
                  <a:lnTo>
                    <a:pt x="762" y="1324"/>
                  </a:lnTo>
                  <a:lnTo>
                    <a:pt x="750" y="1306"/>
                  </a:lnTo>
                  <a:lnTo>
                    <a:pt x="740" y="1288"/>
                  </a:lnTo>
                  <a:lnTo>
                    <a:pt x="732" y="1269"/>
                  </a:lnTo>
                  <a:lnTo>
                    <a:pt x="724" y="1253"/>
                  </a:lnTo>
                  <a:lnTo>
                    <a:pt x="717" y="1234"/>
                  </a:lnTo>
                  <a:lnTo>
                    <a:pt x="712" y="1219"/>
                  </a:lnTo>
                  <a:lnTo>
                    <a:pt x="709" y="1204"/>
                  </a:lnTo>
                  <a:lnTo>
                    <a:pt x="705" y="1191"/>
                  </a:lnTo>
                  <a:lnTo>
                    <a:pt x="700" y="1166"/>
                  </a:lnTo>
                  <a:lnTo>
                    <a:pt x="692" y="1143"/>
                  </a:lnTo>
                  <a:lnTo>
                    <a:pt x="685" y="1126"/>
                  </a:lnTo>
                  <a:lnTo>
                    <a:pt x="682" y="1119"/>
                  </a:lnTo>
                  <a:lnTo>
                    <a:pt x="689" y="1108"/>
                  </a:lnTo>
                  <a:lnTo>
                    <a:pt x="700" y="1078"/>
                  </a:lnTo>
                  <a:lnTo>
                    <a:pt x="707" y="1038"/>
                  </a:lnTo>
                  <a:lnTo>
                    <a:pt x="697" y="996"/>
                  </a:lnTo>
                  <a:lnTo>
                    <a:pt x="680" y="961"/>
                  </a:lnTo>
                  <a:lnTo>
                    <a:pt x="670" y="932"/>
                  </a:lnTo>
                  <a:lnTo>
                    <a:pt x="662" y="904"/>
                  </a:lnTo>
                  <a:lnTo>
                    <a:pt x="649" y="872"/>
                  </a:lnTo>
                  <a:lnTo>
                    <a:pt x="640" y="856"/>
                  </a:lnTo>
                  <a:lnTo>
                    <a:pt x="635" y="839"/>
                  </a:lnTo>
                  <a:lnTo>
                    <a:pt x="630" y="826"/>
                  </a:lnTo>
                  <a:lnTo>
                    <a:pt x="625" y="814"/>
                  </a:lnTo>
                  <a:lnTo>
                    <a:pt x="620" y="802"/>
                  </a:lnTo>
                  <a:lnTo>
                    <a:pt x="614" y="792"/>
                  </a:lnTo>
                  <a:lnTo>
                    <a:pt x="607" y="784"/>
                  </a:lnTo>
                  <a:lnTo>
                    <a:pt x="597" y="777"/>
                  </a:lnTo>
                  <a:lnTo>
                    <a:pt x="587" y="771"/>
                  </a:lnTo>
                  <a:lnTo>
                    <a:pt x="575" y="762"/>
                  </a:lnTo>
                  <a:lnTo>
                    <a:pt x="565" y="754"/>
                  </a:lnTo>
                  <a:lnTo>
                    <a:pt x="554" y="744"/>
                  </a:lnTo>
                  <a:lnTo>
                    <a:pt x="542" y="736"/>
                  </a:lnTo>
                  <a:lnTo>
                    <a:pt x="529" y="729"/>
                  </a:lnTo>
                  <a:lnTo>
                    <a:pt x="515" y="721"/>
                  </a:lnTo>
                  <a:lnTo>
                    <a:pt x="502" y="716"/>
                  </a:lnTo>
                  <a:lnTo>
                    <a:pt x="480" y="702"/>
                  </a:lnTo>
                  <a:lnTo>
                    <a:pt x="470" y="686"/>
                  </a:lnTo>
                  <a:lnTo>
                    <a:pt x="464" y="667"/>
                  </a:lnTo>
                  <a:lnTo>
                    <a:pt x="454" y="649"/>
                  </a:lnTo>
                  <a:lnTo>
                    <a:pt x="444" y="634"/>
                  </a:lnTo>
                  <a:lnTo>
                    <a:pt x="437" y="621"/>
                  </a:lnTo>
                  <a:lnTo>
                    <a:pt x="435" y="611"/>
                  </a:lnTo>
                  <a:lnTo>
                    <a:pt x="435" y="607"/>
                  </a:lnTo>
                  <a:lnTo>
                    <a:pt x="437" y="607"/>
                  </a:lnTo>
                  <a:lnTo>
                    <a:pt x="442" y="606"/>
                  </a:lnTo>
                  <a:lnTo>
                    <a:pt x="449" y="602"/>
                  </a:lnTo>
                  <a:lnTo>
                    <a:pt x="455" y="596"/>
                  </a:lnTo>
                  <a:lnTo>
                    <a:pt x="459" y="589"/>
                  </a:lnTo>
                  <a:lnTo>
                    <a:pt x="459" y="577"/>
                  </a:lnTo>
                  <a:lnTo>
                    <a:pt x="454" y="564"/>
                  </a:lnTo>
                  <a:lnTo>
                    <a:pt x="440" y="546"/>
                  </a:lnTo>
                  <a:lnTo>
                    <a:pt x="434" y="539"/>
                  </a:lnTo>
                  <a:lnTo>
                    <a:pt x="429" y="532"/>
                  </a:lnTo>
                  <a:lnTo>
                    <a:pt x="424" y="529"/>
                  </a:lnTo>
                  <a:lnTo>
                    <a:pt x="420" y="526"/>
                  </a:lnTo>
                  <a:lnTo>
                    <a:pt x="419" y="527"/>
                  </a:lnTo>
                  <a:lnTo>
                    <a:pt x="415" y="526"/>
                  </a:lnTo>
                  <a:lnTo>
                    <a:pt x="415" y="522"/>
                  </a:lnTo>
                  <a:lnTo>
                    <a:pt x="420" y="526"/>
                  </a:lnTo>
                  <a:lnTo>
                    <a:pt x="420" y="524"/>
                  </a:lnTo>
                  <a:lnTo>
                    <a:pt x="419" y="521"/>
                  </a:lnTo>
                  <a:lnTo>
                    <a:pt x="419" y="517"/>
                  </a:lnTo>
                  <a:lnTo>
                    <a:pt x="417" y="512"/>
                  </a:lnTo>
                  <a:lnTo>
                    <a:pt x="409" y="490"/>
                  </a:lnTo>
                  <a:lnTo>
                    <a:pt x="405" y="477"/>
                  </a:lnTo>
                  <a:lnTo>
                    <a:pt x="399" y="467"/>
                  </a:lnTo>
                  <a:lnTo>
                    <a:pt x="384" y="455"/>
                  </a:lnTo>
                  <a:lnTo>
                    <a:pt x="372" y="440"/>
                  </a:lnTo>
                  <a:lnTo>
                    <a:pt x="374" y="425"/>
                  </a:lnTo>
                  <a:lnTo>
                    <a:pt x="375" y="412"/>
                  </a:lnTo>
                  <a:lnTo>
                    <a:pt x="364" y="399"/>
                  </a:lnTo>
                  <a:lnTo>
                    <a:pt x="345" y="387"/>
                  </a:lnTo>
                  <a:lnTo>
                    <a:pt x="332" y="372"/>
                  </a:lnTo>
                  <a:lnTo>
                    <a:pt x="325" y="355"/>
                  </a:lnTo>
                  <a:lnTo>
                    <a:pt x="322" y="337"/>
                  </a:lnTo>
                  <a:lnTo>
                    <a:pt x="319" y="317"/>
                  </a:lnTo>
                  <a:lnTo>
                    <a:pt x="309" y="290"/>
                  </a:lnTo>
                  <a:lnTo>
                    <a:pt x="294" y="264"/>
                  </a:lnTo>
                  <a:lnTo>
                    <a:pt x="273" y="237"/>
                  </a:lnTo>
                  <a:lnTo>
                    <a:pt x="260" y="215"/>
                  </a:lnTo>
                  <a:lnTo>
                    <a:pt x="257" y="197"/>
                  </a:lnTo>
                  <a:lnTo>
                    <a:pt x="255" y="184"/>
                  </a:lnTo>
                  <a:lnTo>
                    <a:pt x="245" y="175"/>
                  </a:lnTo>
                  <a:lnTo>
                    <a:pt x="233" y="167"/>
                  </a:lnTo>
                  <a:lnTo>
                    <a:pt x="228" y="154"/>
                  </a:lnTo>
                  <a:lnTo>
                    <a:pt x="222" y="140"/>
                  </a:lnTo>
                  <a:lnTo>
                    <a:pt x="207" y="124"/>
                  </a:lnTo>
                  <a:lnTo>
                    <a:pt x="188" y="100"/>
                  </a:lnTo>
                  <a:lnTo>
                    <a:pt x="175" y="74"/>
                  </a:lnTo>
                  <a:lnTo>
                    <a:pt x="168" y="52"/>
                  </a:lnTo>
                  <a:lnTo>
                    <a:pt x="165" y="42"/>
                  </a:lnTo>
                  <a:lnTo>
                    <a:pt x="160" y="42"/>
                  </a:lnTo>
                  <a:lnTo>
                    <a:pt x="148" y="42"/>
                  </a:lnTo>
                  <a:lnTo>
                    <a:pt x="133" y="42"/>
                  </a:lnTo>
                  <a:lnTo>
                    <a:pt x="122" y="42"/>
                  </a:lnTo>
                  <a:lnTo>
                    <a:pt x="110" y="42"/>
                  </a:lnTo>
                  <a:lnTo>
                    <a:pt x="100" y="44"/>
                  </a:lnTo>
                  <a:lnTo>
                    <a:pt x="92" y="47"/>
                  </a:lnTo>
                  <a:lnTo>
                    <a:pt x="88" y="47"/>
                  </a:lnTo>
                  <a:lnTo>
                    <a:pt x="90" y="44"/>
                  </a:lnTo>
                  <a:lnTo>
                    <a:pt x="93" y="34"/>
                  </a:lnTo>
                  <a:lnTo>
                    <a:pt x="98" y="20"/>
                  </a:lnTo>
                  <a:lnTo>
                    <a:pt x="103" y="8"/>
                  </a:lnTo>
                  <a:lnTo>
                    <a:pt x="103" y="8"/>
                  </a:lnTo>
                  <a:lnTo>
                    <a:pt x="103" y="8"/>
                  </a:lnTo>
                  <a:lnTo>
                    <a:pt x="103" y="8"/>
                  </a:lnTo>
                  <a:lnTo>
                    <a:pt x="103" y="8"/>
                  </a:lnTo>
                  <a:lnTo>
                    <a:pt x="67" y="0"/>
                  </a:lnTo>
                  <a:lnTo>
                    <a:pt x="67" y="5"/>
                  </a:lnTo>
                  <a:lnTo>
                    <a:pt x="65" y="19"/>
                  </a:lnTo>
                  <a:lnTo>
                    <a:pt x="62" y="34"/>
                  </a:lnTo>
                  <a:lnTo>
                    <a:pt x="57" y="47"/>
                  </a:lnTo>
                  <a:lnTo>
                    <a:pt x="50" y="57"/>
                  </a:lnTo>
                  <a:lnTo>
                    <a:pt x="45" y="65"/>
                  </a:lnTo>
                  <a:lnTo>
                    <a:pt x="40" y="79"/>
                  </a:lnTo>
                  <a:lnTo>
                    <a:pt x="38" y="95"/>
                  </a:lnTo>
                  <a:lnTo>
                    <a:pt x="35" y="119"/>
                  </a:lnTo>
                  <a:lnTo>
                    <a:pt x="28" y="145"/>
                  </a:lnTo>
                  <a:lnTo>
                    <a:pt x="20" y="169"/>
                  </a:lnTo>
                  <a:lnTo>
                    <a:pt x="15" y="185"/>
                  </a:lnTo>
                  <a:lnTo>
                    <a:pt x="10" y="197"/>
                  </a:lnTo>
                  <a:lnTo>
                    <a:pt x="5" y="209"/>
                  </a:lnTo>
                  <a:lnTo>
                    <a:pt x="2" y="220"/>
                  </a:lnTo>
                  <a:lnTo>
                    <a:pt x="0" y="224"/>
                  </a:lnTo>
                  <a:lnTo>
                    <a:pt x="3" y="224"/>
                  </a:lnTo>
                  <a:lnTo>
                    <a:pt x="12" y="220"/>
                  </a:lnTo>
                  <a:lnTo>
                    <a:pt x="23" y="219"/>
                  </a:lnTo>
                  <a:lnTo>
                    <a:pt x="33" y="219"/>
                  </a:lnTo>
                  <a:lnTo>
                    <a:pt x="47" y="219"/>
                  </a:lnTo>
                  <a:lnTo>
                    <a:pt x="60" y="219"/>
                  </a:lnTo>
                  <a:lnTo>
                    <a:pt x="72" y="219"/>
                  </a:lnTo>
                  <a:lnTo>
                    <a:pt x="77" y="219"/>
                  </a:lnTo>
                  <a:lnTo>
                    <a:pt x="80" y="229"/>
                  </a:lnTo>
                  <a:lnTo>
                    <a:pt x="87" y="250"/>
                  </a:lnTo>
                  <a:lnTo>
                    <a:pt x="100" y="277"/>
                  </a:lnTo>
                  <a:lnTo>
                    <a:pt x="118" y="299"/>
                  </a:lnTo>
                  <a:lnTo>
                    <a:pt x="133" y="315"/>
                  </a:lnTo>
                  <a:lnTo>
                    <a:pt x="140" y="330"/>
                  </a:lnTo>
                  <a:lnTo>
                    <a:pt x="145" y="342"/>
                  </a:lnTo>
                  <a:lnTo>
                    <a:pt x="157" y="352"/>
                  </a:lnTo>
                  <a:lnTo>
                    <a:pt x="167" y="360"/>
                  </a:lnTo>
                  <a:lnTo>
                    <a:pt x="168" y="374"/>
                  </a:lnTo>
                  <a:lnTo>
                    <a:pt x="172" y="390"/>
                  </a:lnTo>
                  <a:lnTo>
                    <a:pt x="185" y="414"/>
                  </a:lnTo>
                  <a:lnTo>
                    <a:pt x="205" y="440"/>
                  </a:lnTo>
                  <a:lnTo>
                    <a:pt x="220" y="467"/>
                  </a:lnTo>
                  <a:lnTo>
                    <a:pt x="230" y="492"/>
                  </a:lnTo>
                  <a:lnTo>
                    <a:pt x="233" y="512"/>
                  </a:lnTo>
                  <a:lnTo>
                    <a:pt x="237" y="531"/>
                  </a:lnTo>
                  <a:lnTo>
                    <a:pt x="243" y="547"/>
                  </a:lnTo>
                  <a:lnTo>
                    <a:pt x="257" y="562"/>
                  </a:lnTo>
                  <a:lnTo>
                    <a:pt x="275" y="574"/>
                  </a:lnTo>
                  <a:lnTo>
                    <a:pt x="287" y="587"/>
                  </a:lnTo>
                  <a:lnTo>
                    <a:pt x="285" y="601"/>
                  </a:lnTo>
                  <a:lnTo>
                    <a:pt x="284" y="617"/>
                  </a:lnTo>
                  <a:lnTo>
                    <a:pt x="295" y="632"/>
                  </a:lnTo>
                  <a:lnTo>
                    <a:pt x="310" y="642"/>
                  </a:lnTo>
                  <a:lnTo>
                    <a:pt x="317" y="652"/>
                  </a:lnTo>
                  <a:lnTo>
                    <a:pt x="320" y="666"/>
                  </a:lnTo>
                  <a:lnTo>
                    <a:pt x="329" y="687"/>
                  </a:lnTo>
                  <a:lnTo>
                    <a:pt x="330" y="692"/>
                  </a:lnTo>
                  <a:lnTo>
                    <a:pt x="330" y="696"/>
                  </a:lnTo>
                  <a:lnTo>
                    <a:pt x="332" y="697"/>
                  </a:lnTo>
                  <a:lnTo>
                    <a:pt x="332" y="699"/>
                  </a:lnTo>
                  <a:lnTo>
                    <a:pt x="335" y="702"/>
                  </a:lnTo>
                  <a:lnTo>
                    <a:pt x="340" y="707"/>
                  </a:lnTo>
                  <a:lnTo>
                    <a:pt x="345" y="712"/>
                  </a:lnTo>
                  <a:lnTo>
                    <a:pt x="352" y="721"/>
                  </a:lnTo>
                  <a:lnTo>
                    <a:pt x="365" y="737"/>
                  </a:lnTo>
                  <a:lnTo>
                    <a:pt x="370" y="752"/>
                  </a:lnTo>
                  <a:lnTo>
                    <a:pt x="370" y="762"/>
                  </a:lnTo>
                  <a:lnTo>
                    <a:pt x="367" y="771"/>
                  </a:lnTo>
                  <a:lnTo>
                    <a:pt x="360" y="776"/>
                  </a:lnTo>
                  <a:lnTo>
                    <a:pt x="354" y="781"/>
                  </a:lnTo>
                  <a:lnTo>
                    <a:pt x="349" y="782"/>
                  </a:lnTo>
                  <a:lnTo>
                    <a:pt x="347" y="782"/>
                  </a:lnTo>
                  <a:lnTo>
                    <a:pt x="347" y="786"/>
                  </a:lnTo>
                  <a:lnTo>
                    <a:pt x="350" y="794"/>
                  </a:lnTo>
                  <a:lnTo>
                    <a:pt x="355" y="807"/>
                  </a:lnTo>
                  <a:lnTo>
                    <a:pt x="367" y="824"/>
                  </a:lnTo>
                  <a:lnTo>
                    <a:pt x="377" y="842"/>
                  </a:lnTo>
                  <a:lnTo>
                    <a:pt x="384" y="862"/>
                  </a:lnTo>
                  <a:lnTo>
                    <a:pt x="392" y="877"/>
                  </a:lnTo>
                  <a:lnTo>
                    <a:pt x="414" y="891"/>
                  </a:lnTo>
                  <a:lnTo>
                    <a:pt x="427" y="897"/>
                  </a:lnTo>
                  <a:lnTo>
                    <a:pt x="440" y="904"/>
                  </a:lnTo>
                  <a:lnTo>
                    <a:pt x="454" y="912"/>
                  </a:lnTo>
                  <a:lnTo>
                    <a:pt x="465" y="921"/>
                  </a:lnTo>
                  <a:lnTo>
                    <a:pt x="477" y="929"/>
                  </a:lnTo>
                  <a:lnTo>
                    <a:pt x="487" y="937"/>
                  </a:lnTo>
                  <a:lnTo>
                    <a:pt x="499" y="946"/>
                  </a:lnTo>
                  <a:lnTo>
                    <a:pt x="509" y="952"/>
                  </a:lnTo>
                  <a:lnTo>
                    <a:pt x="519" y="961"/>
                  </a:lnTo>
                  <a:lnTo>
                    <a:pt x="525" y="969"/>
                  </a:lnTo>
                  <a:lnTo>
                    <a:pt x="532" y="979"/>
                  </a:lnTo>
                  <a:lnTo>
                    <a:pt x="537" y="989"/>
                  </a:lnTo>
                  <a:lnTo>
                    <a:pt x="542" y="1002"/>
                  </a:lnTo>
                  <a:lnTo>
                    <a:pt x="547" y="1016"/>
                  </a:lnTo>
                  <a:lnTo>
                    <a:pt x="552" y="1031"/>
                  </a:lnTo>
                  <a:lnTo>
                    <a:pt x="560" y="1048"/>
                  </a:lnTo>
                  <a:lnTo>
                    <a:pt x="574" y="1079"/>
                  </a:lnTo>
                  <a:lnTo>
                    <a:pt x="584" y="1108"/>
                  </a:lnTo>
                  <a:lnTo>
                    <a:pt x="592" y="1136"/>
                  </a:lnTo>
                  <a:lnTo>
                    <a:pt x="609" y="1171"/>
                  </a:lnTo>
                  <a:lnTo>
                    <a:pt x="619" y="1213"/>
                  </a:lnTo>
                  <a:lnTo>
                    <a:pt x="612" y="1253"/>
                  </a:lnTo>
                  <a:lnTo>
                    <a:pt x="600" y="1283"/>
                  </a:lnTo>
                  <a:lnTo>
                    <a:pt x="594" y="1294"/>
                  </a:lnTo>
                  <a:lnTo>
                    <a:pt x="597" y="1301"/>
                  </a:lnTo>
                  <a:lnTo>
                    <a:pt x="604" y="1318"/>
                  </a:lnTo>
                  <a:lnTo>
                    <a:pt x="612" y="1341"/>
                  </a:lnTo>
                  <a:lnTo>
                    <a:pt x="617" y="1366"/>
                  </a:lnTo>
                  <a:lnTo>
                    <a:pt x="620" y="1379"/>
                  </a:lnTo>
                  <a:lnTo>
                    <a:pt x="624" y="1394"/>
                  </a:lnTo>
                  <a:lnTo>
                    <a:pt x="629" y="1409"/>
                  </a:lnTo>
                  <a:lnTo>
                    <a:pt x="635" y="1428"/>
                  </a:lnTo>
                  <a:lnTo>
                    <a:pt x="644" y="1444"/>
                  </a:lnTo>
                  <a:lnTo>
                    <a:pt x="654" y="1463"/>
                  </a:lnTo>
                  <a:lnTo>
                    <a:pt x="664" y="1481"/>
                  </a:lnTo>
                  <a:lnTo>
                    <a:pt x="675" y="1499"/>
                  </a:lnTo>
                  <a:lnTo>
                    <a:pt x="687" y="1516"/>
                  </a:lnTo>
                  <a:lnTo>
                    <a:pt x="695" y="1531"/>
                  </a:lnTo>
                  <a:lnTo>
                    <a:pt x="702" y="1543"/>
                  </a:lnTo>
                  <a:lnTo>
                    <a:pt x="707" y="1553"/>
                  </a:lnTo>
                  <a:lnTo>
                    <a:pt x="712" y="1561"/>
                  </a:lnTo>
                  <a:lnTo>
                    <a:pt x="719" y="1566"/>
                  </a:lnTo>
                  <a:lnTo>
                    <a:pt x="724" y="1570"/>
                  </a:lnTo>
                  <a:lnTo>
                    <a:pt x="732" y="1571"/>
                  </a:lnTo>
                  <a:lnTo>
                    <a:pt x="742" y="1573"/>
                  </a:lnTo>
                  <a:lnTo>
                    <a:pt x="754" y="1576"/>
                  </a:lnTo>
                  <a:lnTo>
                    <a:pt x="765" y="1581"/>
                  </a:lnTo>
                  <a:lnTo>
                    <a:pt x="779" y="1588"/>
                  </a:lnTo>
                  <a:lnTo>
                    <a:pt x="792" y="1595"/>
                  </a:lnTo>
                  <a:lnTo>
                    <a:pt x="804" y="1603"/>
                  </a:lnTo>
                  <a:lnTo>
                    <a:pt x="814" y="1611"/>
                  </a:lnTo>
                  <a:lnTo>
                    <a:pt x="822" y="1618"/>
                  </a:lnTo>
                  <a:lnTo>
                    <a:pt x="834" y="1633"/>
                  </a:lnTo>
                  <a:lnTo>
                    <a:pt x="846" y="1648"/>
                  </a:lnTo>
                  <a:lnTo>
                    <a:pt x="856" y="1663"/>
                  </a:lnTo>
                  <a:lnTo>
                    <a:pt x="866" y="1675"/>
                  </a:lnTo>
                  <a:lnTo>
                    <a:pt x="872" y="1685"/>
                  </a:lnTo>
                  <a:lnTo>
                    <a:pt x="881" y="1700"/>
                  </a:lnTo>
                  <a:lnTo>
                    <a:pt x="891" y="1721"/>
                  </a:lnTo>
                  <a:lnTo>
                    <a:pt x="902" y="1743"/>
                  </a:lnTo>
                  <a:lnTo>
                    <a:pt x="912" y="1768"/>
                  </a:lnTo>
                  <a:lnTo>
                    <a:pt x="921" y="1790"/>
                  </a:lnTo>
                  <a:lnTo>
                    <a:pt x="927" y="1810"/>
                  </a:lnTo>
                  <a:lnTo>
                    <a:pt x="931" y="1823"/>
                  </a:lnTo>
                  <a:lnTo>
                    <a:pt x="937" y="1841"/>
                  </a:lnTo>
                  <a:lnTo>
                    <a:pt x="951" y="1858"/>
                  </a:lnTo>
                  <a:lnTo>
                    <a:pt x="964" y="1878"/>
                  </a:lnTo>
                  <a:lnTo>
                    <a:pt x="979" y="1908"/>
                  </a:lnTo>
                  <a:lnTo>
                    <a:pt x="987" y="1926"/>
                  </a:lnTo>
                  <a:lnTo>
                    <a:pt x="999" y="1945"/>
                  </a:lnTo>
                  <a:lnTo>
                    <a:pt x="1014" y="1965"/>
                  </a:lnTo>
                  <a:lnTo>
                    <a:pt x="1029" y="1981"/>
                  </a:lnTo>
                  <a:lnTo>
                    <a:pt x="1044" y="2000"/>
                  </a:lnTo>
                  <a:lnTo>
                    <a:pt x="1059" y="2015"/>
                  </a:lnTo>
                  <a:lnTo>
                    <a:pt x="1072" y="2027"/>
                  </a:lnTo>
                  <a:lnTo>
                    <a:pt x="1084" y="2037"/>
                  </a:lnTo>
                  <a:lnTo>
                    <a:pt x="1097" y="2052"/>
                  </a:lnTo>
                  <a:lnTo>
                    <a:pt x="1106" y="2068"/>
                  </a:lnTo>
                  <a:lnTo>
                    <a:pt x="1109" y="2085"/>
                  </a:lnTo>
                  <a:lnTo>
                    <a:pt x="1112" y="2098"/>
                  </a:lnTo>
                  <a:lnTo>
                    <a:pt x="1117" y="2108"/>
                  </a:lnTo>
                  <a:lnTo>
                    <a:pt x="1126" y="2120"/>
                  </a:lnTo>
                  <a:lnTo>
                    <a:pt x="1136" y="2132"/>
                  </a:lnTo>
                  <a:lnTo>
                    <a:pt x="1146" y="2145"/>
                  </a:lnTo>
                  <a:lnTo>
                    <a:pt x="1156" y="2160"/>
                  </a:lnTo>
                  <a:lnTo>
                    <a:pt x="1164" y="2175"/>
                  </a:lnTo>
                  <a:lnTo>
                    <a:pt x="1169" y="2190"/>
                  </a:lnTo>
                  <a:lnTo>
                    <a:pt x="1169" y="2202"/>
                  </a:lnTo>
                  <a:lnTo>
                    <a:pt x="1169" y="2217"/>
                  </a:lnTo>
                  <a:lnTo>
                    <a:pt x="1172" y="2233"/>
                  </a:lnTo>
                  <a:lnTo>
                    <a:pt x="1177" y="2248"/>
                  </a:lnTo>
                  <a:lnTo>
                    <a:pt x="1179" y="2255"/>
                  </a:lnTo>
                  <a:lnTo>
                    <a:pt x="1216" y="2227"/>
                  </a:lnTo>
                  <a:lnTo>
                    <a:pt x="1219" y="2222"/>
                  </a:lnTo>
                  <a:lnTo>
                    <a:pt x="1226" y="2208"/>
                  </a:lnTo>
                  <a:lnTo>
                    <a:pt x="1232" y="2192"/>
                  </a:lnTo>
                  <a:lnTo>
                    <a:pt x="1236" y="2178"/>
                  </a:lnTo>
                  <a:lnTo>
                    <a:pt x="1236" y="2165"/>
                  </a:lnTo>
                  <a:lnTo>
                    <a:pt x="1234" y="2145"/>
                  </a:lnTo>
                  <a:lnTo>
                    <a:pt x="1236" y="2123"/>
                  </a:lnTo>
                  <a:lnTo>
                    <a:pt x="1241" y="2103"/>
                  </a:lnTo>
                  <a:lnTo>
                    <a:pt x="1241" y="2087"/>
                  </a:lnTo>
                  <a:lnTo>
                    <a:pt x="1236" y="2077"/>
                  </a:lnTo>
                  <a:lnTo>
                    <a:pt x="1234" y="2067"/>
                  </a:lnTo>
                  <a:lnTo>
                    <a:pt x="1241" y="2060"/>
                  </a:lnTo>
                  <a:lnTo>
                    <a:pt x="1246" y="2057"/>
                  </a:lnTo>
                  <a:lnTo>
                    <a:pt x="1251" y="2057"/>
                  </a:lnTo>
                  <a:lnTo>
                    <a:pt x="1256" y="2058"/>
                  </a:lnTo>
                  <a:lnTo>
                    <a:pt x="1261" y="2062"/>
                  </a:lnTo>
                  <a:lnTo>
                    <a:pt x="1259" y="2052"/>
                  </a:lnTo>
                  <a:lnTo>
                    <a:pt x="1257" y="2043"/>
                  </a:lnTo>
                  <a:lnTo>
                    <a:pt x="1256" y="2033"/>
                  </a:lnTo>
                  <a:lnTo>
                    <a:pt x="1257" y="2027"/>
                  </a:lnTo>
                  <a:close/>
                </a:path>
              </a:pathLst>
            </a:custGeom>
            <a:solidFill>
              <a:srgbClr val="ffffff">
                <a:alpha val="10000"/>
              </a:srgbClr>
            </a:solidFill>
            <a:ln cap="sq" w="9360">
              <a:solidFill>
                <a:srgbClr val="ffffff"/>
              </a:solidFill>
              <a:round/>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4" name=""/>
            <p:cNvSpPr/>
            <p:nvPr/>
          </p:nvSpPr>
          <p:spPr>
            <a:xfrm>
              <a:off x="3086280" y="3249720"/>
              <a:ext cx="4680" cy="4680"/>
            </a:xfrm>
            <a:custGeom>
              <a:avLst/>
              <a:gdLst/>
              <a:ahLst/>
              <a:rect l="l" t="t" r="r" b="b"/>
              <a:pathLst>
                <a:path w="5" h="5">
                  <a:moveTo>
                    <a:pt x="5" y="3"/>
                  </a:moveTo>
                  <a:lnTo>
                    <a:pt x="0" y="0"/>
                  </a:lnTo>
                  <a:lnTo>
                    <a:pt x="2" y="3"/>
                  </a:lnTo>
                  <a:lnTo>
                    <a:pt x="3" y="5"/>
                  </a:lnTo>
                  <a:lnTo>
                    <a:pt x="5" y="3"/>
                  </a:lnTo>
                  <a:lnTo>
                    <a:pt x="5" y="3"/>
                  </a:lnTo>
                  <a:close/>
                </a:path>
              </a:pathLst>
            </a:custGeom>
            <a:solidFill>
              <a:srgbClr val="000000"/>
            </a:solidFill>
            <a:ln w="0">
              <a:noFill/>
            </a:ln>
          </p:spPr>
          <p:style>
            <a:lnRef idx="0"/>
            <a:fillRef idx="0"/>
            <a:effectRef idx="0"/>
            <a:fontRef idx="minor"/>
          </p:style>
          <p:txBody>
            <a:bodyPr wrap="none" lIns="90000" rIns="90000" tIns="-42120" bIns="-421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
            <p:cNvSpPr/>
            <p:nvPr/>
          </p:nvSpPr>
          <p:spPr>
            <a:xfrm>
              <a:off x="4379760" y="4205160"/>
              <a:ext cx="2567160" cy="993960"/>
            </a:xfrm>
            <a:custGeom>
              <a:avLst/>
              <a:gdLst/>
              <a:ahLst/>
              <a:rect l="l" t="t" r="r" b="b"/>
              <a:pathLst>
                <a:path w="1881" h="744">
                  <a:moveTo>
                    <a:pt x="1298" y="222"/>
                  </a:moveTo>
                  <a:lnTo>
                    <a:pt x="1283" y="225"/>
                  </a:lnTo>
                  <a:lnTo>
                    <a:pt x="1263" y="230"/>
                  </a:lnTo>
                  <a:lnTo>
                    <a:pt x="1239" y="235"/>
                  </a:lnTo>
                  <a:lnTo>
                    <a:pt x="1214" y="242"/>
                  </a:lnTo>
                  <a:lnTo>
                    <a:pt x="1186" y="249"/>
                  </a:lnTo>
                  <a:lnTo>
                    <a:pt x="1157" y="255"/>
                  </a:lnTo>
                  <a:lnTo>
                    <a:pt x="1127" y="262"/>
                  </a:lnTo>
                  <a:lnTo>
                    <a:pt x="1097" y="269"/>
                  </a:lnTo>
                  <a:lnTo>
                    <a:pt x="1067" y="275"/>
                  </a:lnTo>
                  <a:lnTo>
                    <a:pt x="1039" y="284"/>
                  </a:lnTo>
                  <a:lnTo>
                    <a:pt x="1012" y="290"/>
                  </a:lnTo>
                  <a:lnTo>
                    <a:pt x="989" y="297"/>
                  </a:lnTo>
                  <a:lnTo>
                    <a:pt x="967" y="302"/>
                  </a:lnTo>
                  <a:lnTo>
                    <a:pt x="949" y="309"/>
                  </a:lnTo>
                  <a:lnTo>
                    <a:pt x="936" y="314"/>
                  </a:lnTo>
                  <a:lnTo>
                    <a:pt x="927" y="317"/>
                  </a:lnTo>
                  <a:lnTo>
                    <a:pt x="914" y="324"/>
                  </a:lnTo>
                  <a:lnTo>
                    <a:pt x="901" y="329"/>
                  </a:lnTo>
                  <a:lnTo>
                    <a:pt x="887" y="337"/>
                  </a:lnTo>
                  <a:lnTo>
                    <a:pt x="872" y="344"/>
                  </a:lnTo>
                  <a:lnTo>
                    <a:pt x="857" y="355"/>
                  </a:lnTo>
                  <a:lnTo>
                    <a:pt x="842" y="369"/>
                  </a:lnTo>
                  <a:lnTo>
                    <a:pt x="826" y="389"/>
                  </a:lnTo>
                  <a:lnTo>
                    <a:pt x="807" y="412"/>
                  </a:lnTo>
                  <a:lnTo>
                    <a:pt x="791" y="437"/>
                  </a:lnTo>
                  <a:lnTo>
                    <a:pt x="776" y="460"/>
                  </a:lnTo>
                  <a:lnTo>
                    <a:pt x="761" y="482"/>
                  </a:lnTo>
                  <a:lnTo>
                    <a:pt x="747" y="502"/>
                  </a:lnTo>
                  <a:lnTo>
                    <a:pt x="737" y="519"/>
                  </a:lnTo>
                  <a:lnTo>
                    <a:pt x="727" y="532"/>
                  </a:lnTo>
                  <a:lnTo>
                    <a:pt x="719" y="542"/>
                  </a:lnTo>
                  <a:lnTo>
                    <a:pt x="712" y="549"/>
                  </a:lnTo>
                  <a:lnTo>
                    <a:pt x="706" y="554"/>
                  </a:lnTo>
                  <a:lnTo>
                    <a:pt x="699" y="559"/>
                  </a:lnTo>
                  <a:lnTo>
                    <a:pt x="689" y="564"/>
                  </a:lnTo>
                  <a:lnTo>
                    <a:pt x="679" y="565"/>
                  </a:lnTo>
                  <a:lnTo>
                    <a:pt x="667" y="567"/>
                  </a:lnTo>
                  <a:lnTo>
                    <a:pt x="657" y="567"/>
                  </a:lnTo>
                  <a:lnTo>
                    <a:pt x="647" y="564"/>
                  </a:lnTo>
                  <a:lnTo>
                    <a:pt x="637" y="559"/>
                  </a:lnTo>
                  <a:lnTo>
                    <a:pt x="629" y="552"/>
                  </a:lnTo>
                  <a:lnTo>
                    <a:pt x="622" y="544"/>
                  </a:lnTo>
                  <a:lnTo>
                    <a:pt x="615" y="535"/>
                  </a:lnTo>
                  <a:lnTo>
                    <a:pt x="609" y="529"/>
                  </a:lnTo>
                  <a:lnTo>
                    <a:pt x="602" y="524"/>
                  </a:lnTo>
                  <a:lnTo>
                    <a:pt x="595" y="520"/>
                  </a:lnTo>
                  <a:lnTo>
                    <a:pt x="589" y="519"/>
                  </a:lnTo>
                  <a:lnTo>
                    <a:pt x="580" y="520"/>
                  </a:lnTo>
                  <a:lnTo>
                    <a:pt x="569" y="524"/>
                  </a:lnTo>
                  <a:lnTo>
                    <a:pt x="554" y="525"/>
                  </a:lnTo>
                  <a:lnTo>
                    <a:pt x="537" y="525"/>
                  </a:lnTo>
                  <a:lnTo>
                    <a:pt x="519" y="525"/>
                  </a:lnTo>
                  <a:lnTo>
                    <a:pt x="499" y="525"/>
                  </a:lnTo>
                  <a:lnTo>
                    <a:pt x="480" y="524"/>
                  </a:lnTo>
                  <a:lnTo>
                    <a:pt x="462" y="522"/>
                  </a:lnTo>
                  <a:lnTo>
                    <a:pt x="447" y="520"/>
                  </a:lnTo>
                  <a:lnTo>
                    <a:pt x="432" y="519"/>
                  </a:lnTo>
                  <a:lnTo>
                    <a:pt x="417" y="515"/>
                  </a:lnTo>
                  <a:lnTo>
                    <a:pt x="404" y="510"/>
                  </a:lnTo>
                  <a:lnTo>
                    <a:pt x="389" y="507"/>
                  </a:lnTo>
                  <a:lnTo>
                    <a:pt x="375" y="504"/>
                  </a:lnTo>
                  <a:lnTo>
                    <a:pt x="364" y="500"/>
                  </a:lnTo>
                  <a:lnTo>
                    <a:pt x="352" y="497"/>
                  </a:lnTo>
                  <a:lnTo>
                    <a:pt x="342" y="497"/>
                  </a:lnTo>
                  <a:lnTo>
                    <a:pt x="329" y="497"/>
                  </a:lnTo>
                  <a:lnTo>
                    <a:pt x="307" y="497"/>
                  </a:lnTo>
                  <a:lnTo>
                    <a:pt x="280" y="499"/>
                  </a:lnTo>
                  <a:lnTo>
                    <a:pt x="250" y="499"/>
                  </a:lnTo>
                  <a:lnTo>
                    <a:pt x="224" y="500"/>
                  </a:lnTo>
                  <a:lnTo>
                    <a:pt x="200" y="502"/>
                  </a:lnTo>
                  <a:lnTo>
                    <a:pt x="184" y="502"/>
                  </a:lnTo>
                  <a:lnTo>
                    <a:pt x="177" y="502"/>
                  </a:lnTo>
                  <a:lnTo>
                    <a:pt x="175" y="504"/>
                  </a:lnTo>
                  <a:lnTo>
                    <a:pt x="170" y="505"/>
                  </a:lnTo>
                  <a:lnTo>
                    <a:pt x="164" y="509"/>
                  </a:lnTo>
                  <a:lnTo>
                    <a:pt x="155" y="510"/>
                  </a:lnTo>
                  <a:lnTo>
                    <a:pt x="144" y="512"/>
                  </a:lnTo>
                  <a:lnTo>
                    <a:pt x="132" y="512"/>
                  </a:lnTo>
                  <a:lnTo>
                    <a:pt x="120" y="509"/>
                  </a:lnTo>
                  <a:lnTo>
                    <a:pt x="107" y="502"/>
                  </a:lnTo>
                  <a:lnTo>
                    <a:pt x="95" y="494"/>
                  </a:lnTo>
                  <a:lnTo>
                    <a:pt x="87" y="485"/>
                  </a:lnTo>
                  <a:lnTo>
                    <a:pt x="80" y="479"/>
                  </a:lnTo>
                  <a:lnTo>
                    <a:pt x="75" y="475"/>
                  </a:lnTo>
                  <a:lnTo>
                    <a:pt x="70" y="472"/>
                  </a:lnTo>
                  <a:lnTo>
                    <a:pt x="65" y="470"/>
                  </a:lnTo>
                  <a:lnTo>
                    <a:pt x="60" y="470"/>
                  </a:lnTo>
                  <a:lnTo>
                    <a:pt x="53" y="474"/>
                  </a:lnTo>
                  <a:lnTo>
                    <a:pt x="47" y="480"/>
                  </a:lnTo>
                  <a:lnTo>
                    <a:pt x="50" y="489"/>
                  </a:lnTo>
                  <a:lnTo>
                    <a:pt x="55" y="500"/>
                  </a:lnTo>
                  <a:lnTo>
                    <a:pt x="53" y="515"/>
                  </a:lnTo>
                  <a:lnTo>
                    <a:pt x="50" y="535"/>
                  </a:lnTo>
                  <a:lnTo>
                    <a:pt x="48" y="557"/>
                  </a:lnTo>
                  <a:lnTo>
                    <a:pt x="50" y="577"/>
                  </a:lnTo>
                  <a:lnTo>
                    <a:pt x="50" y="592"/>
                  </a:lnTo>
                  <a:lnTo>
                    <a:pt x="47" y="606"/>
                  </a:lnTo>
                  <a:lnTo>
                    <a:pt x="40" y="621"/>
                  </a:lnTo>
                  <a:lnTo>
                    <a:pt x="33" y="634"/>
                  </a:lnTo>
                  <a:lnTo>
                    <a:pt x="30" y="639"/>
                  </a:lnTo>
                  <a:lnTo>
                    <a:pt x="0" y="662"/>
                  </a:lnTo>
                  <a:lnTo>
                    <a:pt x="3" y="666"/>
                  </a:lnTo>
                  <a:lnTo>
                    <a:pt x="8" y="669"/>
                  </a:lnTo>
                  <a:lnTo>
                    <a:pt x="13" y="674"/>
                  </a:lnTo>
                  <a:lnTo>
                    <a:pt x="18" y="677"/>
                  </a:lnTo>
                  <a:lnTo>
                    <a:pt x="32" y="684"/>
                  </a:lnTo>
                  <a:lnTo>
                    <a:pt x="43" y="687"/>
                  </a:lnTo>
                  <a:lnTo>
                    <a:pt x="55" y="687"/>
                  </a:lnTo>
                  <a:lnTo>
                    <a:pt x="67" y="686"/>
                  </a:lnTo>
                  <a:lnTo>
                    <a:pt x="77" y="684"/>
                  </a:lnTo>
                  <a:lnTo>
                    <a:pt x="83" y="681"/>
                  </a:lnTo>
                  <a:lnTo>
                    <a:pt x="88" y="679"/>
                  </a:lnTo>
                  <a:lnTo>
                    <a:pt x="90" y="677"/>
                  </a:lnTo>
                  <a:lnTo>
                    <a:pt x="97" y="677"/>
                  </a:lnTo>
                  <a:lnTo>
                    <a:pt x="114" y="677"/>
                  </a:lnTo>
                  <a:lnTo>
                    <a:pt x="137" y="676"/>
                  </a:lnTo>
                  <a:lnTo>
                    <a:pt x="164" y="674"/>
                  </a:lnTo>
                  <a:lnTo>
                    <a:pt x="194" y="674"/>
                  </a:lnTo>
                  <a:lnTo>
                    <a:pt x="220" y="672"/>
                  </a:lnTo>
                  <a:lnTo>
                    <a:pt x="242" y="672"/>
                  </a:lnTo>
                  <a:lnTo>
                    <a:pt x="255" y="672"/>
                  </a:lnTo>
                  <a:lnTo>
                    <a:pt x="265" y="674"/>
                  </a:lnTo>
                  <a:lnTo>
                    <a:pt x="275" y="676"/>
                  </a:lnTo>
                  <a:lnTo>
                    <a:pt x="289" y="679"/>
                  </a:lnTo>
                  <a:lnTo>
                    <a:pt x="302" y="682"/>
                  </a:lnTo>
                  <a:lnTo>
                    <a:pt x="315" y="687"/>
                  </a:lnTo>
                  <a:lnTo>
                    <a:pt x="330" y="691"/>
                  </a:lnTo>
                  <a:lnTo>
                    <a:pt x="344" y="694"/>
                  </a:lnTo>
                  <a:lnTo>
                    <a:pt x="359" y="697"/>
                  </a:lnTo>
                  <a:lnTo>
                    <a:pt x="374" y="699"/>
                  </a:lnTo>
                  <a:lnTo>
                    <a:pt x="392" y="701"/>
                  </a:lnTo>
                  <a:lnTo>
                    <a:pt x="412" y="701"/>
                  </a:lnTo>
                  <a:lnTo>
                    <a:pt x="430" y="702"/>
                  </a:lnTo>
                  <a:lnTo>
                    <a:pt x="450" y="702"/>
                  </a:lnTo>
                  <a:lnTo>
                    <a:pt x="467" y="701"/>
                  </a:lnTo>
                  <a:lnTo>
                    <a:pt x="480" y="701"/>
                  </a:lnTo>
                  <a:lnTo>
                    <a:pt x="492" y="697"/>
                  </a:lnTo>
                  <a:lnTo>
                    <a:pt x="500" y="696"/>
                  </a:lnTo>
                  <a:lnTo>
                    <a:pt x="507" y="696"/>
                  </a:lnTo>
                  <a:lnTo>
                    <a:pt x="514" y="699"/>
                  </a:lnTo>
                  <a:lnTo>
                    <a:pt x="520" y="706"/>
                  </a:lnTo>
                  <a:lnTo>
                    <a:pt x="527" y="712"/>
                  </a:lnTo>
                  <a:lnTo>
                    <a:pt x="534" y="719"/>
                  </a:lnTo>
                  <a:lnTo>
                    <a:pt x="540" y="727"/>
                  </a:lnTo>
                  <a:lnTo>
                    <a:pt x="549" y="734"/>
                  </a:lnTo>
                  <a:lnTo>
                    <a:pt x="559" y="741"/>
                  </a:lnTo>
                  <a:lnTo>
                    <a:pt x="569" y="742"/>
                  </a:lnTo>
                  <a:lnTo>
                    <a:pt x="579" y="744"/>
                  </a:lnTo>
                  <a:lnTo>
                    <a:pt x="590" y="742"/>
                  </a:lnTo>
                  <a:lnTo>
                    <a:pt x="600" y="739"/>
                  </a:lnTo>
                  <a:lnTo>
                    <a:pt x="610" y="736"/>
                  </a:lnTo>
                  <a:lnTo>
                    <a:pt x="619" y="731"/>
                  </a:lnTo>
                  <a:lnTo>
                    <a:pt x="625" y="726"/>
                  </a:lnTo>
                  <a:lnTo>
                    <a:pt x="632" y="719"/>
                  </a:lnTo>
                  <a:lnTo>
                    <a:pt x="639" y="707"/>
                  </a:lnTo>
                  <a:lnTo>
                    <a:pt x="649" y="694"/>
                  </a:lnTo>
                  <a:lnTo>
                    <a:pt x="661" y="677"/>
                  </a:lnTo>
                  <a:lnTo>
                    <a:pt x="672" y="659"/>
                  </a:lnTo>
                  <a:lnTo>
                    <a:pt x="687" y="637"/>
                  </a:lnTo>
                  <a:lnTo>
                    <a:pt x="704" y="614"/>
                  </a:lnTo>
                  <a:lnTo>
                    <a:pt x="721" y="587"/>
                  </a:lnTo>
                  <a:lnTo>
                    <a:pt x="737" y="564"/>
                  </a:lnTo>
                  <a:lnTo>
                    <a:pt x="754" y="544"/>
                  </a:lnTo>
                  <a:lnTo>
                    <a:pt x="769" y="530"/>
                  </a:lnTo>
                  <a:lnTo>
                    <a:pt x="786" y="519"/>
                  </a:lnTo>
                  <a:lnTo>
                    <a:pt x="799" y="512"/>
                  </a:lnTo>
                  <a:lnTo>
                    <a:pt x="812" y="504"/>
                  </a:lnTo>
                  <a:lnTo>
                    <a:pt x="826" y="499"/>
                  </a:lnTo>
                  <a:lnTo>
                    <a:pt x="839" y="492"/>
                  </a:lnTo>
                  <a:lnTo>
                    <a:pt x="847" y="489"/>
                  </a:lnTo>
                  <a:lnTo>
                    <a:pt x="862" y="484"/>
                  </a:lnTo>
                  <a:lnTo>
                    <a:pt x="879" y="479"/>
                  </a:lnTo>
                  <a:lnTo>
                    <a:pt x="901" y="472"/>
                  </a:lnTo>
                  <a:lnTo>
                    <a:pt x="926" y="465"/>
                  </a:lnTo>
                  <a:lnTo>
                    <a:pt x="952" y="459"/>
                  </a:lnTo>
                  <a:lnTo>
                    <a:pt x="981" y="452"/>
                  </a:lnTo>
                  <a:lnTo>
                    <a:pt x="1009" y="444"/>
                  </a:lnTo>
                  <a:lnTo>
                    <a:pt x="1039" y="437"/>
                  </a:lnTo>
                  <a:lnTo>
                    <a:pt x="1069" y="430"/>
                  </a:lnTo>
                  <a:lnTo>
                    <a:pt x="1097" y="424"/>
                  </a:lnTo>
                  <a:lnTo>
                    <a:pt x="1126" y="417"/>
                  </a:lnTo>
                  <a:lnTo>
                    <a:pt x="1151" y="410"/>
                  </a:lnTo>
                  <a:lnTo>
                    <a:pt x="1174" y="405"/>
                  </a:lnTo>
                  <a:lnTo>
                    <a:pt x="1194" y="400"/>
                  </a:lnTo>
                  <a:lnTo>
                    <a:pt x="1209" y="397"/>
                  </a:lnTo>
                  <a:lnTo>
                    <a:pt x="1236" y="390"/>
                  </a:lnTo>
                  <a:lnTo>
                    <a:pt x="1263" y="385"/>
                  </a:lnTo>
                  <a:lnTo>
                    <a:pt x="1289" y="382"/>
                  </a:lnTo>
                  <a:lnTo>
                    <a:pt x="1313" y="379"/>
                  </a:lnTo>
                  <a:lnTo>
                    <a:pt x="1336" y="375"/>
                  </a:lnTo>
                  <a:lnTo>
                    <a:pt x="1354" y="370"/>
                  </a:lnTo>
                  <a:lnTo>
                    <a:pt x="1371" y="365"/>
                  </a:lnTo>
                  <a:lnTo>
                    <a:pt x="1384" y="359"/>
                  </a:lnTo>
                  <a:lnTo>
                    <a:pt x="1394" y="354"/>
                  </a:lnTo>
                  <a:lnTo>
                    <a:pt x="1411" y="345"/>
                  </a:lnTo>
                  <a:lnTo>
                    <a:pt x="1434" y="334"/>
                  </a:lnTo>
                  <a:lnTo>
                    <a:pt x="1463" y="320"/>
                  </a:lnTo>
                  <a:lnTo>
                    <a:pt x="1496" y="307"/>
                  </a:lnTo>
                  <a:lnTo>
                    <a:pt x="1533" y="290"/>
                  </a:lnTo>
                  <a:lnTo>
                    <a:pt x="1571" y="274"/>
                  </a:lnTo>
                  <a:lnTo>
                    <a:pt x="1611" y="255"/>
                  </a:lnTo>
                  <a:lnTo>
                    <a:pt x="1649" y="239"/>
                  </a:lnTo>
                  <a:lnTo>
                    <a:pt x="1688" y="222"/>
                  </a:lnTo>
                  <a:lnTo>
                    <a:pt x="1723" y="207"/>
                  </a:lnTo>
                  <a:lnTo>
                    <a:pt x="1756" y="192"/>
                  </a:lnTo>
                  <a:lnTo>
                    <a:pt x="1783" y="180"/>
                  </a:lnTo>
                  <a:lnTo>
                    <a:pt x="1805" y="170"/>
                  </a:lnTo>
                  <a:lnTo>
                    <a:pt x="1820" y="164"/>
                  </a:lnTo>
                  <a:lnTo>
                    <a:pt x="1826" y="160"/>
                  </a:lnTo>
                  <a:lnTo>
                    <a:pt x="1836" y="152"/>
                  </a:lnTo>
                  <a:lnTo>
                    <a:pt x="1841" y="142"/>
                  </a:lnTo>
                  <a:lnTo>
                    <a:pt x="1845" y="130"/>
                  </a:lnTo>
                  <a:lnTo>
                    <a:pt x="1846" y="117"/>
                  </a:lnTo>
                  <a:lnTo>
                    <a:pt x="1848" y="100"/>
                  </a:lnTo>
                  <a:lnTo>
                    <a:pt x="1851" y="78"/>
                  </a:lnTo>
                  <a:lnTo>
                    <a:pt x="1858" y="57"/>
                  </a:lnTo>
                  <a:lnTo>
                    <a:pt x="1865" y="37"/>
                  </a:lnTo>
                  <a:lnTo>
                    <a:pt x="1868" y="27"/>
                  </a:lnTo>
                  <a:lnTo>
                    <a:pt x="1873" y="18"/>
                  </a:lnTo>
                  <a:lnTo>
                    <a:pt x="1876" y="8"/>
                  </a:lnTo>
                  <a:lnTo>
                    <a:pt x="1881" y="0"/>
                  </a:lnTo>
                  <a:lnTo>
                    <a:pt x="1861" y="10"/>
                  </a:lnTo>
                  <a:lnTo>
                    <a:pt x="1836" y="20"/>
                  </a:lnTo>
                  <a:lnTo>
                    <a:pt x="1808" y="32"/>
                  </a:lnTo>
                  <a:lnTo>
                    <a:pt x="1778" y="45"/>
                  </a:lnTo>
                  <a:lnTo>
                    <a:pt x="1746" y="58"/>
                  </a:lnTo>
                  <a:lnTo>
                    <a:pt x="1714" y="73"/>
                  </a:lnTo>
                  <a:lnTo>
                    <a:pt x="1681" y="88"/>
                  </a:lnTo>
                  <a:lnTo>
                    <a:pt x="1648" y="102"/>
                  </a:lnTo>
                  <a:lnTo>
                    <a:pt x="1616" y="117"/>
                  </a:lnTo>
                  <a:lnTo>
                    <a:pt x="1586" y="130"/>
                  </a:lnTo>
                  <a:lnTo>
                    <a:pt x="1558" y="142"/>
                  </a:lnTo>
                  <a:lnTo>
                    <a:pt x="1533" y="154"/>
                  </a:lnTo>
                  <a:lnTo>
                    <a:pt x="1511" y="164"/>
                  </a:lnTo>
                  <a:lnTo>
                    <a:pt x="1493" y="174"/>
                  </a:lnTo>
                  <a:lnTo>
                    <a:pt x="1479" y="179"/>
                  </a:lnTo>
                  <a:lnTo>
                    <a:pt x="1473" y="184"/>
                  </a:lnTo>
                  <a:lnTo>
                    <a:pt x="1459" y="190"/>
                  </a:lnTo>
                  <a:lnTo>
                    <a:pt x="1443" y="195"/>
                  </a:lnTo>
                  <a:lnTo>
                    <a:pt x="1423" y="199"/>
                  </a:lnTo>
                  <a:lnTo>
                    <a:pt x="1401" y="202"/>
                  </a:lnTo>
                  <a:lnTo>
                    <a:pt x="1376" y="205"/>
                  </a:lnTo>
                  <a:lnTo>
                    <a:pt x="1351" y="210"/>
                  </a:lnTo>
                  <a:lnTo>
                    <a:pt x="1324" y="215"/>
                  </a:lnTo>
                  <a:lnTo>
                    <a:pt x="1298" y="222"/>
                  </a:lnTo>
                  <a:close/>
                </a:path>
              </a:pathLst>
            </a:custGeom>
            <a:solidFill>
              <a:srgbClr val="ffffff">
                <a:alpha val="20000"/>
              </a:srgbClr>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2813040" y="1346040"/>
              <a:ext cx="4348080" cy="3579840"/>
            </a:xfrm>
            <a:custGeom>
              <a:avLst/>
              <a:gdLst/>
              <a:ahLst/>
              <a:rect l="l" t="t" r="r" b="b"/>
              <a:pathLst>
                <a:path w="3185" h="2678">
                  <a:moveTo>
                    <a:pt x="380" y="90"/>
                  </a:moveTo>
                  <a:lnTo>
                    <a:pt x="683" y="28"/>
                  </a:lnTo>
                  <a:lnTo>
                    <a:pt x="693" y="0"/>
                  </a:lnTo>
                  <a:lnTo>
                    <a:pt x="695" y="0"/>
                  </a:lnTo>
                  <a:lnTo>
                    <a:pt x="698" y="0"/>
                  </a:lnTo>
                  <a:lnTo>
                    <a:pt x="704" y="0"/>
                  </a:lnTo>
                  <a:lnTo>
                    <a:pt x="712" y="0"/>
                  </a:lnTo>
                  <a:lnTo>
                    <a:pt x="720" y="0"/>
                  </a:lnTo>
                  <a:lnTo>
                    <a:pt x="734" y="2"/>
                  </a:lnTo>
                  <a:lnTo>
                    <a:pt x="747" y="5"/>
                  </a:lnTo>
                  <a:lnTo>
                    <a:pt x="764" y="10"/>
                  </a:lnTo>
                  <a:lnTo>
                    <a:pt x="782" y="15"/>
                  </a:lnTo>
                  <a:lnTo>
                    <a:pt x="799" y="20"/>
                  </a:lnTo>
                  <a:lnTo>
                    <a:pt x="817" y="23"/>
                  </a:lnTo>
                  <a:lnTo>
                    <a:pt x="832" y="28"/>
                  </a:lnTo>
                  <a:lnTo>
                    <a:pt x="847" y="32"/>
                  </a:lnTo>
                  <a:lnTo>
                    <a:pt x="862" y="35"/>
                  </a:lnTo>
                  <a:lnTo>
                    <a:pt x="874" y="40"/>
                  </a:lnTo>
                  <a:lnTo>
                    <a:pt x="884" y="43"/>
                  </a:lnTo>
                  <a:lnTo>
                    <a:pt x="894" y="48"/>
                  </a:lnTo>
                  <a:lnTo>
                    <a:pt x="907" y="57"/>
                  </a:lnTo>
                  <a:lnTo>
                    <a:pt x="924" y="68"/>
                  </a:lnTo>
                  <a:lnTo>
                    <a:pt x="942" y="82"/>
                  </a:lnTo>
                  <a:lnTo>
                    <a:pt x="962" y="97"/>
                  </a:lnTo>
                  <a:lnTo>
                    <a:pt x="985" y="112"/>
                  </a:lnTo>
                  <a:lnTo>
                    <a:pt x="1009" y="127"/>
                  </a:lnTo>
                  <a:lnTo>
                    <a:pt x="1035" y="142"/>
                  </a:lnTo>
                  <a:lnTo>
                    <a:pt x="1060" y="155"/>
                  </a:lnTo>
                  <a:lnTo>
                    <a:pt x="1080" y="168"/>
                  </a:lnTo>
                  <a:lnTo>
                    <a:pt x="1099" y="180"/>
                  </a:lnTo>
                  <a:lnTo>
                    <a:pt x="1114" y="190"/>
                  </a:lnTo>
                  <a:lnTo>
                    <a:pt x="1124" y="197"/>
                  </a:lnTo>
                  <a:lnTo>
                    <a:pt x="1132" y="203"/>
                  </a:lnTo>
                  <a:lnTo>
                    <a:pt x="1137" y="207"/>
                  </a:lnTo>
                  <a:lnTo>
                    <a:pt x="1139" y="208"/>
                  </a:lnTo>
                  <a:lnTo>
                    <a:pt x="1142" y="210"/>
                  </a:lnTo>
                  <a:lnTo>
                    <a:pt x="1150" y="215"/>
                  </a:lnTo>
                  <a:lnTo>
                    <a:pt x="1162" y="223"/>
                  </a:lnTo>
                  <a:lnTo>
                    <a:pt x="1177" y="233"/>
                  </a:lnTo>
                  <a:lnTo>
                    <a:pt x="1192" y="243"/>
                  </a:lnTo>
                  <a:lnTo>
                    <a:pt x="1205" y="255"/>
                  </a:lnTo>
                  <a:lnTo>
                    <a:pt x="1217" y="265"/>
                  </a:lnTo>
                  <a:lnTo>
                    <a:pt x="1225" y="275"/>
                  </a:lnTo>
                  <a:lnTo>
                    <a:pt x="1234" y="285"/>
                  </a:lnTo>
                  <a:lnTo>
                    <a:pt x="1245" y="297"/>
                  </a:lnTo>
                  <a:lnTo>
                    <a:pt x="1259" y="310"/>
                  </a:lnTo>
                  <a:lnTo>
                    <a:pt x="1276" y="325"/>
                  </a:lnTo>
                  <a:lnTo>
                    <a:pt x="1292" y="340"/>
                  </a:lnTo>
                  <a:lnTo>
                    <a:pt x="1309" y="354"/>
                  </a:lnTo>
                  <a:lnTo>
                    <a:pt x="1324" y="365"/>
                  </a:lnTo>
                  <a:lnTo>
                    <a:pt x="1334" y="375"/>
                  </a:lnTo>
                  <a:lnTo>
                    <a:pt x="1346" y="385"/>
                  </a:lnTo>
                  <a:lnTo>
                    <a:pt x="1362" y="397"/>
                  </a:lnTo>
                  <a:lnTo>
                    <a:pt x="1381" y="410"/>
                  </a:lnTo>
                  <a:lnTo>
                    <a:pt x="1401" y="424"/>
                  </a:lnTo>
                  <a:lnTo>
                    <a:pt x="1421" y="437"/>
                  </a:lnTo>
                  <a:lnTo>
                    <a:pt x="1436" y="445"/>
                  </a:lnTo>
                  <a:lnTo>
                    <a:pt x="1447" y="454"/>
                  </a:lnTo>
                  <a:lnTo>
                    <a:pt x="1451" y="455"/>
                  </a:lnTo>
                  <a:lnTo>
                    <a:pt x="1489" y="509"/>
                  </a:lnTo>
                  <a:lnTo>
                    <a:pt x="1497" y="509"/>
                  </a:lnTo>
                  <a:lnTo>
                    <a:pt x="1517" y="509"/>
                  </a:lnTo>
                  <a:lnTo>
                    <a:pt x="1546" y="509"/>
                  </a:lnTo>
                  <a:lnTo>
                    <a:pt x="1581" y="509"/>
                  </a:lnTo>
                  <a:lnTo>
                    <a:pt x="1617" y="510"/>
                  </a:lnTo>
                  <a:lnTo>
                    <a:pt x="1651" y="514"/>
                  </a:lnTo>
                  <a:lnTo>
                    <a:pt x="1677" y="520"/>
                  </a:lnTo>
                  <a:lnTo>
                    <a:pt x="1694" y="527"/>
                  </a:lnTo>
                  <a:lnTo>
                    <a:pt x="1696" y="527"/>
                  </a:lnTo>
                  <a:lnTo>
                    <a:pt x="1702" y="525"/>
                  </a:lnTo>
                  <a:lnTo>
                    <a:pt x="1712" y="522"/>
                  </a:lnTo>
                  <a:lnTo>
                    <a:pt x="1722" y="520"/>
                  </a:lnTo>
                  <a:lnTo>
                    <a:pt x="1736" y="519"/>
                  </a:lnTo>
                  <a:lnTo>
                    <a:pt x="1747" y="515"/>
                  </a:lnTo>
                  <a:lnTo>
                    <a:pt x="1759" y="514"/>
                  </a:lnTo>
                  <a:lnTo>
                    <a:pt x="1769" y="514"/>
                  </a:lnTo>
                  <a:lnTo>
                    <a:pt x="1782" y="515"/>
                  </a:lnTo>
                  <a:lnTo>
                    <a:pt x="1801" y="519"/>
                  </a:lnTo>
                  <a:lnTo>
                    <a:pt x="1823" y="522"/>
                  </a:lnTo>
                  <a:lnTo>
                    <a:pt x="1848" y="527"/>
                  </a:lnTo>
                  <a:lnTo>
                    <a:pt x="1869" y="534"/>
                  </a:lnTo>
                  <a:lnTo>
                    <a:pt x="1889" y="537"/>
                  </a:lnTo>
                  <a:lnTo>
                    <a:pt x="1903" y="540"/>
                  </a:lnTo>
                  <a:lnTo>
                    <a:pt x="1908" y="542"/>
                  </a:lnTo>
                  <a:lnTo>
                    <a:pt x="1926" y="604"/>
                  </a:lnTo>
                  <a:lnTo>
                    <a:pt x="2044" y="604"/>
                  </a:lnTo>
                  <a:lnTo>
                    <a:pt x="2064" y="689"/>
                  </a:lnTo>
                  <a:lnTo>
                    <a:pt x="2071" y="692"/>
                  </a:lnTo>
                  <a:lnTo>
                    <a:pt x="2083" y="704"/>
                  </a:lnTo>
                  <a:lnTo>
                    <a:pt x="2093" y="722"/>
                  </a:lnTo>
                  <a:lnTo>
                    <a:pt x="2093" y="746"/>
                  </a:lnTo>
                  <a:lnTo>
                    <a:pt x="2116" y="784"/>
                  </a:lnTo>
                  <a:lnTo>
                    <a:pt x="2154" y="769"/>
                  </a:lnTo>
                  <a:lnTo>
                    <a:pt x="2158" y="774"/>
                  </a:lnTo>
                  <a:lnTo>
                    <a:pt x="2164" y="786"/>
                  </a:lnTo>
                  <a:lnTo>
                    <a:pt x="2169" y="801"/>
                  </a:lnTo>
                  <a:lnTo>
                    <a:pt x="2173" y="812"/>
                  </a:lnTo>
                  <a:lnTo>
                    <a:pt x="2176" y="824"/>
                  </a:lnTo>
                  <a:lnTo>
                    <a:pt x="2183" y="834"/>
                  </a:lnTo>
                  <a:lnTo>
                    <a:pt x="2189" y="842"/>
                  </a:lnTo>
                  <a:lnTo>
                    <a:pt x="2193" y="846"/>
                  </a:lnTo>
                  <a:lnTo>
                    <a:pt x="2201" y="822"/>
                  </a:lnTo>
                  <a:lnTo>
                    <a:pt x="2226" y="869"/>
                  </a:lnTo>
                  <a:lnTo>
                    <a:pt x="2228" y="869"/>
                  </a:lnTo>
                  <a:lnTo>
                    <a:pt x="2234" y="871"/>
                  </a:lnTo>
                  <a:lnTo>
                    <a:pt x="2244" y="874"/>
                  </a:lnTo>
                  <a:lnTo>
                    <a:pt x="2254" y="877"/>
                  </a:lnTo>
                  <a:lnTo>
                    <a:pt x="2266" y="882"/>
                  </a:lnTo>
                  <a:lnTo>
                    <a:pt x="2276" y="887"/>
                  </a:lnTo>
                  <a:lnTo>
                    <a:pt x="2284" y="894"/>
                  </a:lnTo>
                  <a:lnTo>
                    <a:pt x="2288" y="902"/>
                  </a:lnTo>
                  <a:lnTo>
                    <a:pt x="2289" y="921"/>
                  </a:lnTo>
                  <a:lnTo>
                    <a:pt x="2293" y="937"/>
                  </a:lnTo>
                  <a:lnTo>
                    <a:pt x="2296" y="952"/>
                  </a:lnTo>
                  <a:lnTo>
                    <a:pt x="2306" y="964"/>
                  </a:lnTo>
                  <a:lnTo>
                    <a:pt x="2316" y="979"/>
                  </a:lnTo>
                  <a:lnTo>
                    <a:pt x="2321" y="996"/>
                  </a:lnTo>
                  <a:lnTo>
                    <a:pt x="2318" y="1011"/>
                  </a:lnTo>
                  <a:lnTo>
                    <a:pt x="2311" y="1017"/>
                  </a:lnTo>
                  <a:lnTo>
                    <a:pt x="2303" y="1019"/>
                  </a:lnTo>
                  <a:lnTo>
                    <a:pt x="2299" y="1024"/>
                  </a:lnTo>
                  <a:lnTo>
                    <a:pt x="2301" y="1032"/>
                  </a:lnTo>
                  <a:lnTo>
                    <a:pt x="2306" y="1046"/>
                  </a:lnTo>
                  <a:lnTo>
                    <a:pt x="2313" y="1061"/>
                  </a:lnTo>
                  <a:lnTo>
                    <a:pt x="2319" y="1076"/>
                  </a:lnTo>
                  <a:lnTo>
                    <a:pt x="2324" y="1092"/>
                  </a:lnTo>
                  <a:lnTo>
                    <a:pt x="2329" y="1107"/>
                  </a:lnTo>
                  <a:lnTo>
                    <a:pt x="2336" y="1117"/>
                  </a:lnTo>
                  <a:lnTo>
                    <a:pt x="2344" y="1121"/>
                  </a:lnTo>
                  <a:lnTo>
                    <a:pt x="2351" y="1121"/>
                  </a:lnTo>
                  <a:lnTo>
                    <a:pt x="2354" y="1121"/>
                  </a:lnTo>
                  <a:lnTo>
                    <a:pt x="2356" y="1129"/>
                  </a:lnTo>
                  <a:lnTo>
                    <a:pt x="2365" y="1149"/>
                  </a:lnTo>
                  <a:lnTo>
                    <a:pt x="2375" y="1174"/>
                  </a:lnTo>
                  <a:lnTo>
                    <a:pt x="2388" y="1192"/>
                  </a:lnTo>
                  <a:lnTo>
                    <a:pt x="2395" y="1201"/>
                  </a:lnTo>
                  <a:lnTo>
                    <a:pt x="2400" y="1209"/>
                  </a:lnTo>
                  <a:lnTo>
                    <a:pt x="2405" y="1217"/>
                  </a:lnTo>
                  <a:lnTo>
                    <a:pt x="2411" y="1227"/>
                  </a:lnTo>
                  <a:lnTo>
                    <a:pt x="2416" y="1236"/>
                  </a:lnTo>
                  <a:lnTo>
                    <a:pt x="2425" y="1244"/>
                  </a:lnTo>
                  <a:lnTo>
                    <a:pt x="2433" y="1253"/>
                  </a:lnTo>
                  <a:lnTo>
                    <a:pt x="2445" y="1259"/>
                  </a:lnTo>
                  <a:lnTo>
                    <a:pt x="2456" y="1263"/>
                  </a:lnTo>
                  <a:lnTo>
                    <a:pt x="2468" y="1263"/>
                  </a:lnTo>
                  <a:lnTo>
                    <a:pt x="2478" y="1263"/>
                  </a:lnTo>
                  <a:lnTo>
                    <a:pt x="2486" y="1259"/>
                  </a:lnTo>
                  <a:lnTo>
                    <a:pt x="2493" y="1256"/>
                  </a:lnTo>
                  <a:lnTo>
                    <a:pt x="2498" y="1253"/>
                  </a:lnTo>
                  <a:lnTo>
                    <a:pt x="2500" y="1251"/>
                  </a:lnTo>
                  <a:lnTo>
                    <a:pt x="2501" y="1249"/>
                  </a:lnTo>
                  <a:lnTo>
                    <a:pt x="2520" y="1259"/>
                  </a:lnTo>
                  <a:lnTo>
                    <a:pt x="2501" y="1293"/>
                  </a:lnTo>
                  <a:lnTo>
                    <a:pt x="2501" y="1294"/>
                  </a:lnTo>
                  <a:lnTo>
                    <a:pt x="2501" y="1299"/>
                  </a:lnTo>
                  <a:lnTo>
                    <a:pt x="2503" y="1304"/>
                  </a:lnTo>
                  <a:lnTo>
                    <a:pt x="2511" y="1306"/>
                  </a:lnTo>
                  <a:lnTo>
                    <a:pt x="2521" y="1314"/>
                  </a:lnTo>
                  <a:lnTo>
                    <a:pt x="2531" y="1329"/>
                  </a:lnTo>
                  <a:lnTo>
                    <a:pt x="2536" y="1346"/>
                  </a:lnTo>
                  <a:lnTo>
                    <a:pt x="2540" y="1354"/>
                  </a:lnTo>
                  <a:lnTo>
                    <a:pt x="2541" y="1356"/>
                  </a:lnTo>
                  <a:lnTo>
                    <a:pt x="2546" y="1361"/>
                  </a:lnTo>
                  <a:lnTo>
                    <a:pt x="2553" y="1368"/>
                  </a:lnTo>
                  <a:lnTo>
                    <a:pt x="2561" y="1378"/>
                  </a:lnTo>
                  <a:lnTo>
                    <a:pt x="2571" y="1388"/>
                  </a:lnTo>
                  <a:lnTo>
                    <a:pt x="2583" y="1401"/>
                  </a:lnTo>
                  <a:lnTo>
                    <a:pt x="2595" y="1414"/>
                  </a:lnTo>
                  <a:lnTo>
                    <a:pt x="2606" y="1428"/>
                  </a:lnTo>
                  <a:lnTo>
                    <a:pt x="2618" y="1443"/>
                  </a:lnTo>
                  <a:lnTo>
                    <a:pt x="2631" y="1458"/>
                  </a:lnTo>
                  <a:lnTo>
                    <a:pt x="2645" y="1473"/>
                  </a:lnTo>
                  <a:lnTo>
                    <a:pt x="2658" y="1488"/>
                  </a:lnTo>
                  <a:lnTo>
                    <a:pt x="2670" y="1501"/>
                  </a:lnTo>
                  <a:lnTo>
                    <a:pt x="2680" y="1511"/>
                  </a:lnTo>
                  <a:lnTo>
                    <a:pt x="2688" y="1521"/>
                  </a:lnTo>
                  <a:lnTo>
                    <a:pt x="2691" y="1528"/>
                  </a:lnTo>
                  <a:lnTo>
                    <a:pt x="2701" y="1533"/>
                  </a:lnTo>
                  <a:lnTo>
                    <a:pt x="2723" y="1538"/>
                  </a:lnTo>
                  <a:lnTo>
                    <a:pt x="2753" y="1543"/>
                  </a:lnTo>
                  <a:lnTo>
                    <a:pt x="2790" y="1546"/>
                  </a:lnTo>
                  <a:lnTo>
                    <a:pt x="2828" y="1549"/>
                  </a:lnTo>
                  <a:lnTo>
                    <a:pt x="2863" y="1551"/>
                  </a:lnTo>
                  <a:lnTo>
                    <a:pt x="2891" y="1554"/>
                  </a:lnTo>
                  <a:lnTo>
                    <a:pt x="2910" y="1556"/>
                  </a:lnTo>
                  <a:lnTo>
                    <a:pt x="2925" y="1558"/>
                  </a:lnTo>
                  <a:lnTo>
                    <a:pt x="2945" y="1559"/>
                  </a:lnTo>
                  <a:lnTo>
                    <a:pt x="2968" y="1561"/>
                  </a:lnTo>
                  <a:lnTo>
                    <a:pt x="2992" y="1563"/>
                  </a:lnTo>
                  <a:lnTo>
                    <a:pt x="3013" y="1566"/>
                  </a:lnTo>
                  <a:lnTo>
                    <a:pt x="3033" y="1568"/>
                  </a:lnTo>
                  <a:lnTo>
                    <a:pt x="3048" y="1569"/>
                  </a:lnTo>
                  <a:lnTo>
                    <a:pt x="3057" y="1571"/>
                  </a:lnTo>
                  <a:lnTo>
                    <a:pt x="3070" y="1569"/>
                  </a:lnTo>
                  <a:lnTo>
                    <a:pt x="3083" y="1563"/>
                  </a:lnTo>
                  <a:lnTo>
                    <a:pt x="3095" y="1554"/>
                  </a:lnTo>
                  <a:lnTo>
                    <a:pt x="3100" y="1551"/>
                  </a:lnTo>
                  <a:lnTo>
                    <a:pt x="3102" y="1553"/>
                  </a:lnTo>
                  <a:lnTo>
                    <a:pt x="3105" y="1556"/>
                  </a:lnTo>
                  <a:lnTo>
                    <a:pt x="3112" y="1561"/>
                  </a:lnTo>
                  <a:lnTo>
                    <a:pt x="3120" y="1568"/>
                  </a:lnTo>
                  <a:lnTo>
                    <a:pt x="3130" y="1576"/>
                  </a:lnTo>
                  <a:lnTo>
                    <a:pt x="3140" y="1586"/>
                  </a:lnTo>
                  <a:lnTo>
                    <a:pt x="3152" y="1598"/>
                  </a:lnTo>
                  <a:lnTo>
                    <a:pt x="3162" y="1609"/>
                  </a:lnTo>
                  <a:lnTo>
                    <a:pt x="3172" y="1624"/>
                  </a:lnTo>
                  <a:lnTo>
                    <a:pt x="3180" y="1638"/>
                  </a:lnTo>
                  <a:lnTo>
                    <a:pt x="3183" y="1653"/>
                  </a:lnTo>
                  <a:lnTo>
                    <a:pt x="3185" y="1668"/>
                  </a:lnTo>
                  <a:lnTo>
                    <a:pt x="3185" y="1678"/>
                  </a:lnTo>
                  <a:lnTo>
                    <a:pt x="3183" y="1688"/>
                  </a:lnTo>
                  <a:lnTo>
                    <a:pt x="3180" y="1696"/>
                  </a:lnTo>
                  <a:lnTo>
                    <a:pt x="3175" y="1704"/>
                  </a:lnTo>
                  <a:lnTo>
                    <a:pt x="3168" y="1724"/>
                  </a:lnTo>
                  <a:lnTo>
                    <a:pt x="3168" y="1748"/>
                  </a:lnTo>
                  <a:lnTo>
                    <a:pt x="3168" y="1771"/>
                  </a:lnTo>
                  <a:lnTo>
                    <a:pt x="3167" y="1795"/>
                  </a:lnTo>
                  <a:lnTo>
                    <a:pt x="3162" y="1815"/>
                  </a:lnTo>
                  <a:lnTo>
                    <a:pt x="3153" y="1835"/>
                  </a:lnTo>
                  <a:lnTo>
                    <a:pt x="3145" y="1851"/>
                  </a:lnTo>
                  <a:lnTo>
                    <a:pt x="3138" y="1870"/>
                  </a:lnTo>
                  <a:lnTo>
                    <a:pt x="3132" y="1890"/>
                  </a:lnTo>
                  <a:lnTo>
                    <a:pt x="3125" y="1913"/>
                  </a:lnTo>
                  <a:lnTo>
                    <a:pt x="3120" y="1933"/>
                  </a:lnTo>
                  <a:lnTo>
                    <a:pt x="3118" y="1951"/>
                  </a:lnTo>
                  <a:lnTo>
                    <a:pt x="3117" y="1965"/>
                  </a:lnTo>
                  <a:lnTo>
                    <a:pt x="3115" y="1976"/>
                  </a:lnTo>
                  <a:lnTo>
                    <a:pt x="3108" y="1986"/>
                  </a:lnTo>
                  <a:lnTo>
                    <a:pt x="3100" y="1993"/>
                  </a:lnTo>
                  <a:lnTo>
                    <a:pt x="3093" y="1996"/>
                  </a:lnTo>
                  <a:lnTo>
                    <a:pt x="3078" y="2003"/>
                  </a:lnTo>
                  <a:lnTo>
                    <a:pt x="3057" y="2013"/>
                  </a:lnTo>
                  <a:lnTo>
                    <a:pt x="3028" y="2026"/>
                  </a:lnTo>
                  <a:lnTo>
                    <a:pt x="2997" y="2040"/>
                  </a:lnTo>
                  <a:lnTo>
                    <a:pt x="2962" y="2056"/>
                  </a:lnTo>
                  <a:lnTo>
                    <a:pt x="2923" y="2073"/>
                  </a:lnTo>
                  <a:lnTo>
                    <a:pt x="2885" y="2090"/>
                  </a:lnTo>
                  <a:lnTo>
                    <a:pt x="2845" y="2108"/>
                  </a:lnTo>
                  <a:lnTo>
                    <a:pt x="2806" y="2125"/>
                  </a:lnTo>
                  <a:lnTo>
                    <a:pt x="2770" y="2141"/>
                  </a:lnTo>
                  <a:lnTo>
                    <a:pt x="2736" y="2155"/>
                  </a:lnTo>
                  <a:lnTo>
                    <a:pt x="2708" y="2168"/>
                  </a:lnTo>
                  <a:lnTo>
                    <a:pt x="2685" y="2180"/>
                  </a:lnTo>
                  <a:lnTo>
                    <a:pt x="2668" y="2188"/>
                  </a:lnTo>
                  <a:lnTo>
                    <a:pt x="2658" y="2193"/>
                  </a:lnTo>
                  <a:lnTo>
                    <a:pt x="2645" y="2200"/>
                  </a:lnTo>
                  <a:lnTo>
                    <a:pt x="2628" y="2205"/>
                  </a:lnTo>
                  <a:lnTo>
                    <a:pt x="2608" y="2208"/>
                  </a:lnTo>
                  <a:lnTo>
                    <a:pt x="2586" y="2211"/>
                  </a:lnTo>
                  <a:lnTo>
                    <a:pt x="2561" y="2215"/>
                  </a:lnTo>
                  <a:lnTo>
                    <a:pt x="2535" y="2220"/>
                  </a:lnTo>
                  <a:lnTo>
                    <a:pt x="2508" y="2225"/>
                  </a:lnTo>
                  <a:lnTo>
                    <a:pt x="2481" y="2231"/>
                  </a:lnTo>
                  <a:lnTo>
                    <a:pt x="2466" y="2235"/>
                  </a:lnTo>
                  <a:lnTo>
                    <a:pt x="2446" y="2240"/>
                  </a:lnTo>
                  <a:lnTo>
                    <a:pt x="2425" y="2245"/>
                  </a:lnTo>
                  <a:lnTo>
                    <a:pt x="2398" y="2252"/>
                  </a:lnTo>
                  <a:lnTo>
                    <a:pt x="2371" y="2258"/>
                  </a:lnTo>
                  <a:lnTo>
                    <a:pt x="2343" y="2265"/>
                  </a:lnTo>
                  <a:lnTo>
                    <a:pt x="2313" y="2272"/>
                  </a:lnTo>
                  <a:lnTo>
                    <a:pt x="2283" y="2278"/>
                  </a:lnTo>
                  <a:lnTo>
                    <a:pt x="2253" y="2285"/>
                  </a:lnTo>
                  <a:lnTo>
                    <a:pt x="2224" y="2293"/>
                  </a:lnTo>
                  <a:lnTo>
                    <a:pt x="2198" y="2300"/>
                  </a:lnTo>
                  <a:lnTo>
                    <a:pt x="2173" y="2307"/>
                  </a:lnTo>
                  <a:lnTo>
                    <a:pt x="2151" y="2312"/>
                  </a:lnTo>
                  <a:lnTo>
                    <a:pt x="2134" y="2318"/>
                  </a:lnTo>
                  <a:lnTo>
                    <a:pt x="2119" y="2323"/>
                  </a:lnTo>
                  <a:lnTo>
                    <a:pt x="2111" y="2327"/>
                  </a:lnTo>
                  <a:lnTo>
                    <a:pt x="2098" y="2333"/>
                  </a:lnTo>
                  <a:lnTo>
                    <a:pt x="2086" y="2338"/>
                  </a:lnTo>
                  <a:lnTo>
                    <a:pt x="2071" y="2347"/>
                  </a:lnTo>
                  <a:lnTo>
                    <a:pt x="2058" y="2353"/>
                  </a:lnTo>
                  <a:lnTo>
                    <a:pt x="2043" y="2365"/>
                  </a:lnTo>
                  <a:lnTo>
                    <a:pt x="2028" y="2378"/>
                  </a:lnTo>
                  <a:lnTo>
                    <a:pt x="2011" y="2398"/>
                  </a:lnTo>
                  <a:lnTo>
                    <a:pt x="1993" y="2422"/>
                  </a:lnTo>
                  <a:lnTo>
                    <a:pt x="1976" y="2447"/>
                  </a:lnTo>
                  <a:lnTo>
                    <a:pt x="1961" y="2470"/>
                  </a:lnTo>
                  <a:lnTo>
                    <a:pt x="1946" y="2492"/>
                  </a:lnTo>
                  <a:lnTo>
                    <a:pt x="1933" y="2512"/>
                  </a:lnTo>
                  <a:lnTo>
                    <a:pt x="1923" y="2528"/>
                  </a:lnTo>
                  <a:lnTo>
                    <a:pt x="1913" y="2542"/>
                  </a:lnTo>
                  <a:lnTo>
                    <a:pt x="1904" y="2552"/>
                  </a:lnTo>
                  <a:lnTo>
                    <a:pt x="1898" y="2558"/>
                  </a:lnTo>
                  <a:lnTo>
                    <a:pt x="1891" y="2563"/>
                  </a:lnTo>
                  <a:lnTo>
                    <a:pt x="1884" y="2568"/>
                  </a:lnTo>
                  <a:lnTo>
                    <a:pt x="1874" y="2573"/>
                  </a:lnTo>
                  <a:lnTo>
                    <a:pt x="1864" y="2575"/>
                  </a:lnTo>
                  <a:lnTo>
                    <a:pt x="1853" y="2577"/>
                  </a:lnTo>
                  <a:lnTo>
                    <a:pt x="1843" y="2577"/>
                  </a:lnTo>
                  <a:lnTo>
                    <a:pt x="1833" y="2573"/>
                  </a:lnTo>
                  <a:lnTo>
                    <a:pt x="1823" y="2568"/>
                  </a:lnTo>
                  <a:lnTo>
                    <a:pt x="1814" y="2562"/>
                  </a:lnTo>
                  <a:lnTo>
                    <a:pt x="1806" y="2553"/>
                  </a:lnTo>
                  <a:lnTo>
                    <a:pt x="1799" y="2547"/>
                  </a:lnTo>
                  <a:lnTo>
                    <a:pt x="1794" y="2538"/>
                  </a:lnTo>
                  <a:lnTo>
                    <a:pt x="1787" y="2533"/>
                  </a:lnTo>
                  <a:lnTo>
                    <a:pt x="1781" y="2530"/>
                  </a:lnTo>
                  <a:lnTo>
                    <a:pt x="1772" y="2528"/>
                  </a:lnTo>
                  <a:lnTo>
                    <a:pt x="1764" y="2530"/>
                  </a:lnTo>
                  <a:lnTo>
                    <a:pt x="1752" y="2533"/>
                  </a:lnTo>
                  <a:lnTo>
                    <a:pt x="1739" y="2535"/>
                  </a:lnTo>
                  <a:lnTo>
                    <a:pt x="1722" y="2535"/>
                  </a:lnTo>
                  <a:lnTo>
                    <a:pt x="1704" y="2535"/>
                  </a:lnTo>
                  <a:lnTo>
                    <a:pt x="1684" y="2535"/>
                  </a:lnTo>
                  <a:lnTo>
                    <a:pt x="1666" y="2533"/>
                  </a:lnTo>
                  <a:lnTo>
                    <a:pt x="1647" y="2532"/>
                  </a:lnTo>
                  <a:lnTo>
                    <a:pt x="1632" y="2530"/>
                  </a:lnTo>
                  <a:lnTo>
                    <a:pt x="1617" y="2528"/>
                  </a:lnTo>
                  <a:lnTo>
                    <a:pt x="1602" y="2525"/>
                  </a:lnTo>
                  <a:lnTo>
                    <a:pt x="1589" y="2520"/>
                  </a:lnTo>
                  <a:lnTo>
                    <a:pt x="1574" y="2517"/>
                  </a:lnTo>
                  <a:lnTo>
                    <a:pt x="1561" y="2513"/>
                  </a:lnTo>
                  <a:lnTo>
                    <a:pt x="1549" y="2510"/>
                  </a:lnTo>
                  <a:lnTo>
                    <a:pt x="1537" y="2507"/>
                  </a:lnTo>
                  <a:lnTo>
                    <a:pt x="1527" y="2507"/>
                  </a:lnTo>
                  <a:lnTo>
                    <a:pt x="1514" y="2507"/>
                  </a:lnTo>
                  <a:lnTo>
                    <a:pt x="1492" y="2507"/>
                  </a:lnTo>
                  <a:lnTo>
                    <a:pt x="1466" y="2508"/>
                  </a:lnTo>
                  <a:lnTo>
                    <a:pt x="1436" y="2508"/>
                  </a:lnTo>
                  <a:lnTo>
                    <a:pt x="1409" y="2510"/>
                  </a:lnTo>
                  <a:lnTo>
                    <a:pt x="1386" y="2512"/>
                  </a:lnTo>
                  <a:lnTo>
                    <a:pt x="1369" y="2512"/>
                  </a:lnTo>
                  <a:lnTo>
                    <a:pt x="1362" y="2512"/>
                  </a:lnTo>
                  <a:lnTo>
                    <a:pt x="1361" y="2513"/>
                  </a:lnTo>
                  <a:lnTo>
                    <a:pt x="1356" y="2515"/>
                  </a:lnTo>
                  <a:lnTo>
                    <a:pt x="1349" y="2518"/>
                  </a:lnTo>
                  <a:lnTo>
                    <a:pt x="1339" y="2520"/>
                  </a:lnTo>
                  <a:lnTo>
                    <a:pt x="1329" y="2522"/>
                  </a:lnTo>
                  <a:lnTo>
                    <a:pt x="1317" y="2522"/>
                  </a:lnTo>
                  <a:lnTo>
                    <a:pt x="1304" y="2518"/>
                  </a:lnTo>
                  <a:lnTo>
                    <a:pt x="1292" y="2512"/>
                  </a:lnTo>
                  <a:lnTo>
                    <a:pt x="1281" y="2503"/>
                  </a:lnTo>
                  <a:lnTo>
                    <a:pt x="1272" y="2497"/>
                  </a:lnTo>
                  <a:lnTo>
                    <a:pt x="1266" y="2490"/>
                  </a:lnTo>
                  <a:lnTo>
                    <a:pt x="1261" y="2485"/>
                  </a:lnTo>
                  <a:lnTo>
                    <a:pt x="1256" y="2482"/>
                  </a:lnTo>
                  <a:lnTo>
                    <a:pt x="1250" y="2480"/>
                  </a:lnTo>
                  <a:lnTo>
                    <a:pt x="1245" y="2480"/>
                  </a:lnTo>
                  <a:lnTo>
                    <a:pt x="1239" y="2483"/>
                  </a:lnTo>
                  <a:lnTo>
                    <a:pt x="1232" y="2490"/>
                  </a:lnTo>
                  <a:lnTo>
                    <a:pt x="1235" y="2498"/>
                  </a:lnTo>
                  <a:lnTo>
                    <a:pt x="1240" y="2510"/>
                  </a:lnTo>
                  <a:lnTo>
                    <a:pt x="1239" y="2525"/>
                  </a:lnTo>
                  <a:lnTo>
                    <a:pt x="1234" y="2545"/>
                  </a:lnTo>
                  <a:lnTo>
                    <a:pt x="1232" y="2567"/>
                  </a:lnTo>
                  <a:lnTo>
                    <a:pt x="1234" y="2587"/>
                  </a:lnTo>
                  <a:lnTo>
                    <a:pt x="1234" y="2602"/>
                  </a:lnTo>
                  <a:lnTo>
                    <a:pt x="1230" y="2615"/>
                  </a:lnTo>
                  <a:lnTo>
                    <a:pt x="1225" y="2630"/>
                  </a:lnTo>
                  <a:lnTo>
                    <a:pt x="1219" y="2643"/>
                  </a:lnTo>
                  <a:lnTo>
                    <a:pt x="1215" y="2648"/>
                  </a:lnTo>
                  <a:lnTo>
                    <a:pt x="1177" y="2678"/>
                  </a:lnTo>
                  <a:lnTo>
                    <a:pt x="1175" y="2672"/>
                  </a:lnTo>
                  <a:lnTo>
                    <a:pt x="1170" y="2657"/>
                  </a:lnTo>
                  <a:lnTo>
                    <a:pt x="1167" y="2640"/>
                  </a:lnTo>
                  <a:lnTo>
                    <a:pt x="1167" y="2625"/>
                  </a:lnTo>
                  <a:lnTo>
                    <a:pt x="1167" y="2613"/>
                  </a:lnTo>
                  <a:lnTo>
                    <a:pt x="1164" y="2598"/>
                  </a:lnTo>
                  <a:lnTo>
                    <a:pt x="1154" y="2583"/>
                  </a:lnTo>
                  <a:lnTo>
                    <a:pt x="1144" y="2568"/>
                  </a:lnTo>
                  <a:lnTo>
                    <a:pt x="1134" y="2555"/>
                  </a:lnTo>
                  <a:lnTo>
                    <a:pt x="1124" y="2543"/>
                  </a:lnTo>
                  <a:lnTo>
                    <a:pt x="1115" y="2532"/>
                  </a:lnTo>
                  <a:lnTo>
                    <a:pt x="1110" y="2522"/>
                  </a:lnTo>
                  <a:lnTo>
                    <a:pt x="1107" y="2508"/>
                  </a:lnTo>
                  <a:lnTo>
                    <a:pt x="1104" y="2492"/>
                  </a:lnTo>
                  <a:lnTo>
                    <a:pt x="1095" y="2475"/>
                  </a:lnTo>
                  <a:lnTo>
                    <a:pt x="1082" y="2458"/>
                  </a:lnTo>
                  <a:lnTo>
                    <a:pt x="1072" y="2450"/>
                  </a:lnTo>
                  <a:lnTo>
                    <a:pt x="1059" y="2437"/>
                  </a:lnTo>
                  <a:lnTo>
                    <a:pt x="1044" y="2423"/>
                  </a:lnTo>
                  <a:lnTo>
                    <a:pt x="1029" y="2405"/>
                  </a:lnTo>
                  <a:lnTo>
                    <a:pt x="1014" y="2387"/>
                  </a:lnTo>
                  <a:lnTo>
                    <a:pt x="999" y="2368"/>
                  </a:lnTo>
                  <a:lnTo>
                    <a:pt x="987" y="2350"/>
                  </a:lnTo>
                  <a:lnTo>
                    <a:pt x="979" y="2332"/>
                  </a:lnTo>
                  <a:lnTo>
                    <a:pt x="964" y="2302"/>
                  </a:lnTo>
                  <a:lnTo>
                    <a:pt x="949" y="2280"/>
                  </a:lnTo>
                  <a:lnTo>
                    <a:pt x="937" y="2263"/>
                  </a:lnTo>
                  <a:lnTo>
                    <a:pt x="930" y="2245"/>
                  </a:lnTo>
                  <a:lnTo>
                    <a:pt x="927" y="2231"/>
                  </a:lnTo>
                  <a:lnTo>
                    <a:pt x="920" y="2211"/>
                  </a:lnTo>
                  <a:lnTo>
                    <a:pt x="910" y="2190"/>
                  </a:lnTo>
                  <a:lnTo>
                    <a:pt x="900" y="2166"/>
                  </a:lnTo>
                  <a:lnTo>
                    <a:pt x="890" y="2143"/>
                  </a:lnTo>
                  <a:lnTo>
                    <a:pt x="880" y="2123"/>
                  </a:lnTo>
                  <a:lnTo>
                    <a:pt x="870" y="2108"/>
                  </a:lnTo>
                  <a:lnTo>
                    <a:pt x="864" y="2098"/>
                  </a:lnTo>
                  <a:lnTo>
                    <a:pt x="854" y="2085"/>
                  </a:lnTo>
                  <a:lnTo>
                    <a:pt x="845" y="2071"/>
                  </a:lnTo>
                  <a:lnTo>
                    <a:pt x="834" y="2056"/>
                  </a:lnTo>
                  <a:lnTo>
                    <a:pt x="822" y="2041"/>
                  </a:lnTo>
                  <a:lnTo>
                    <a:pt x="814" y="2033"/>
                  </a:lnTo>
                  <a:lnTo>
                    <a:pt x="802" y="2025"/>
                  </a:lnTo>
                  <a:lnTo>
                    <a:pt x="790" y="2018"/>
                  </a:lnTo>
                  <a:lnTo>
                    <a:pt x="779" y="2010"/>
                  </a:lnTo>
                  <a:lnTo>
                    <a:pt x="765" y="2003"/>
                  </a:lnTo>
                  <a:lnTo>
                    <a:pt x="752" y="1998"/>
                  </a:lnTo>
                  <a:lnTo>
                    <a:pt x="740" y="1995"/>
                  </a:lnTo>
                  <a:lnTo>
                    <a:pt x="730" y="1993"/>
                  </a:lnTo>
                  <a:lnTo>
                    <a:pt x="722" y="1991"/>
                  </a:lnTo>
                  <a:lnTo>
                    <a:pt x="717" y="1988"/>
                  </a:lnTo>
                  <a:lnTo>
                    <a:pt x="710" y="1983"/>
                  </a:lnTo>
                  <a:lnTo>
                    <a:pt x="705" y="1975"/>
                  </a:lnTo>
                  <a:lnTo>
                    <a:pt x="700" y="1966"/>
                  </a:lnTo>
                  <a:lnTo>
                    <a:pt x="693" y="1953"/>
                  </a:lnTo>
                  <a:lnTo>
                    <a:pt x="685" y="1940"/>
                  </a:lnTo>
                  <a:lnTo>
                    <a:pt x="673" y="1923"/>
                  </a:lnTo>
                  <a:lnTo>
                    <a:pt x="662" y="1905"/>
                  </a:lnTo>
                  <a:lnTo>
                    <a:pt x="652" y="1886"/>
                  </a:lnTo>
                  <a:lnTo>
                    <a:pt x="642" y="1868"/>
                  </a:lnTo>
                  <a:lnTo>
                    <a:pt x="635" y="1851"/>
                  </a:lnTo>
                  <a:lnTo>
                    <a:pt x="628" y="1833"/>
                  </a:lnTo>
                  <a:lnTo>
                    <a:pt x="623" y="1818"/>
                  </a:lnTo>
                  <a:lnTo>
                    <a:pt x="620" y="1803"/>
                  </a:lnTo>
                  <a:lnTo>
                    <a:pt x="617" y="1790"/>
                  </a:lnTo>
                  <a:lnTo>
                    <a:pt x="612" y="1765"/>
                  </a:lnTo>
                  <a:lnTo>
                    <a:pt x="603" y="1741"/>
                  </a:lnTo>
                  <a:lnTo>
                    <a:pt x="597" y="1724"/>
                  </a:lnTo>
                  <a:lnTo>
                    <a:pt x="593" y="1718"/>
                  </a:lnTo>
                  <a:lnTo>
                    <a:pt x="600" y="1706"/>
                  </a:lnTo>
                  <a:lnTo>
                    <a:pt x="610" y="1676"/>
                  </a:lnTo>
                  <a:lnTo>
                    <a:pt x="617" y="1636"/>
                  </a:lnTo>
                  <a:lnTo>
                    <a:pt x="607" y="1594"/>
                  </a:lnTo>
                  <a:lnTo>
                    <a:pt x="590" y="1559"/>
                  </a:lnTo>
                  <a:lnTo>
                    <a:pt x="582" y="1531"/>
                  </a:lnTo>
                  <a:lnTo>
                    <a:pt x="573" y="1503"/>
                  </a:lnTo>
                  <a:lnTo>
                    <a:pt x="560" y="1471"/>
                  </a:lnTo>
                  <a:lnTo>
                    <a:pt x="552" y="1454"/>
                  </a:lnTo>
                  <a:lnTo>
                    <a:pt x="547" y="1439"/>
                  </a:lnTo>
                  <a:lnTo>
                    <a:pt x="542" y="1426"/>
                  </a:lnTo>
                  <a:lnTo>
                    <a:pt x="537" y="1413"/>
                  </a:lnTo>
                  <a:lnTo>
                    <a:pt x="532" y="1401"/>
                  </a:lnTo>
                  <a:lnTo>
                    <a:pt x="525" y="1393"/>
                  </a:lnTo>
                  <a:lnTo>
                    <a:pt x="518" y="1383"/>
                  </a:lnTo>
                  <a:lnTo>
                    <a:pt x="508" y="1376"/>
                  </a:lnTo>
                  <a:lnTo>
                    <a:pt x="497" y="1369"/>
                  </a:lnTo>
                  <a:lnTo>
                    <a:pt x="487" y="1361"/>
                  </a:lnTo>
                  <a:lnTo>
                    <a:pt x="475" y="1354"/>
                  </a:lnTo>
                  <a:lnTo>
                    <a:pt x="463" y="1346"/>
                  </a:lnTo>
                  <a:lnTo>
                    <a:pt x="452" y="1338"/>
                  </a:lnTo>
                  <a:lnTo>
                    <a:pt x="440" y="1329"/>
                  </a:lnTo>
                  <a:lnTo>
                    <a:pt x="427" y="1323"/>
                  </a:lnTo>
                  <a:lnTo>
                    <a:pt x="413" y="1316"/>
                  </a:lnTo>
                  <a:lnTo>
                    <a:pt x="392" y="1303"/>
                  </a:lnTo>
                  <a:lnTo>
                    <a:pt x="382" y="1286"/>
                  </a:lnTo>
                  <a:lnTo>
                    <a:pt x="375" y="1268"/>
                  </a:lnTo>
                  <a:lnTo>
                    <a:pt x="365" y="1249"/>
                  </a:lnTo>
                  <a:lnTo>
                    <a:pt x="355" y="1232"/>
                  </a:lnTo>
                  <a:lnTo>
                    <a:pt x="348" y="1219"/>
                  </a:lnTo>
                  <a:lnTo>
                    <a:pt x="347" y="1209"/>
                  </a:lnTo>
                  <a:lnTo>
                    <a:pt x="347" y="1206"/>
                  </a:lnTo>
                  <a:lnTo>
                    <a:pt x="348" y="1206"/>
                  </a:lnTo>
                  <a:lnTo>
                    <a:pt x="353" y="1204"/>
                  </a:lnTo>
                  <a:lnTo>
                    <a:pt x="360" y="1201"/>
                  </a:lnTo>
                  <a:lnTo>
                    <a:pt x="367" y="1194"/>
                  </a:lnTo>
                  <a:lnTo>
                    <a:pt x="370" y="1187"/>
                  </a:lnTo>
                  <a:lnTo>
                    <a:pt x="370" y="1176"/>
                  </a:lnTo>
                  <a:lnTo>
                    <a:pt x="365" y="1162"/>
                  </a:lnTo>
                  <a:lnTo>
                    <a:pt x="352" y="1144"/>
                  </a:lnTo>
                  <a:lnTo>
                    <a:pt x="330" y="1122"/>
                  </a:lnTo>
                  <a:lnTo>
                    <a:pt x="327" y="1122"/>
                  </a:lnTo>
                  <a:lnTo>
                    <a:pt x="330" y="1126"/>
                  </a:lnTo>
                  <a:lnTo>
                    <a:pt x="327" y="1112"/>
                  </a:lnTo>
                  <a:lnTo>
                    <a:pt x="320" y="1091"/>
                  </a:lnTo>
                  <a:lnTo>
                    <a:pt x="315" y="1076"/>
                  </a:lnTo>
                  <a:lnTo>
                    <a:pt x="308" y="1066"/>
                  </a:lnTo>
                  <a:lnTo>
                    <a:pt x="293" y="1054"/>
                  </a:lnTo>
                  <a:lnTo>
                    <a:pt x="283" y="1039"/>
                  </a:lnTo>
                  <a:lnTo>
                    <a:pt x="285" y="1024"/>
                  </a:lnTo>
                  <a:lnTo>
                    <a:pt x="287" y="1011"/>
                  </a:lnTo>
                  <a:lnTo>
                    <a:pt x="275" y="997"/>
                  </a:lnTo>
                  <a:lnTo>
                    <a:pt x="257" y="986"/>
                  </a:lnTo>
                  <a:lnTo>
                    <a:pt x="243" y="971"/>
                  </a:lnTo>
                  <a:lnTo>
                    <a:pt x="235" y="954"/>
                  </a:lnTo>
                  <a:lnTo>
                    <a:pt x="232" y="936"/>
                  </a:lnTo>
                  <a:lnTo>
                    <a:pt x="228" y="916"/>
                  </a:lnTo>
                  <a:lnTo>
                    <a:pt x="218" y="889"/>
                  </a:lnTo>
                  <a:lnTo>
                    <a:pt x="205" y="862"/>
                  </a:lnTo>
                  <a:lnTo>
                    <a:pt x="185" y="836"/>
                  </a:lnTo>
                  <a:lnTo>
                    <a:pt x="172" y="814"/>
                  </a:lnTo>
                  <a:lnTo>
                    <a:pt x="168" y="796"/>
                  </a:lnTo>
                  <a:lnTo>
                    <a:pt x="167" y="782"/>
                  </a:lnTo>
                  <a:lnTo>
                    <a:pt x="157" y="774"/>
                  </a:lnTo>
                  <a:lnTo>
                    <a:pt x="145" y="766"/>
                  </a:lnTo>
                  <a:lnTo>
                    <a:pt x="140" y="754"/>
                  </a:lnTo>
                  <a:lnTo>
                    <a:pt x="133" y="739"/>
                  </a:lnTo>
                  <a:lnTo>
                    <a:pt x="118" y="722"/>
                  </a:lnTo>
                  <a:lnTo>
                    <a:pt x="100" y="700"/>
                  </a:lnTo>
                  <a:lnTo>
                    <a:pt x="86" y="674"/>
                  </a:lnTo>
                  <a:lnTo>
                    <a:pt x="78" y="652"/>
                  </a:lnTo>
                  <a:lnTo>
                    <a:pt x="75" y="642"/>
                  </a:lnTo>
                  <a:lnTo>
                    <a:pt x="70" y="642"/>
                  </a:lnTo>
                  <a:lnTo>
                    <a:pt x="60" y="642"/>
                  </a:lnTo>
                  <a:lnTo>
                    <a:pt x="45" y="642"/>
                  </a:lnTo>
                  <a:lnTo>
                    <a:pt x="33" y="642"/>
                  </a:lnTo>
                  <a:lnTo>
                    <a:pt x="21" y="642"/>
                  </a:lnTo>
                  <a:lnTo>
                    <a:pt x="11" y="644"/>
                  </a:lnTo>
                  <a:lnTo>
                    <a:pt x="3" y="645"/>
                  </a:lnTo>
                  <a:lnTo>
                    <a:pt x="0" y="645"/>
                  </a:lnTo>
                  <a:lnTo>
                    <a:pt x="1" y="642"/>
                  </a:lnTo>
                  <a:lnTo>
                    <a:pt x="5" y="632"/>
                  </a:lnTo>
                  <a:lnTo>
                    <a:pt x="8" y="620"/>
                  </a:lnTo>
                  <a:lnTo>
                    <a:pt x="13" y="609"/>
                  </a:lnTo>
                  <a:lnTo>
                    <a:pt x="20" y="592"/>
                  </a:lnTo>
                  <a:lnTo>
                    <a:pt x="28" y="569"/>
                  </a:lnTo>
                  <a:lnTo>
                    <a:pt x="35" y="542"/>
                  </a:lnTo>
                  <a:lnTo>
                    <a:pt x="38" y="517"/>
                  </a:lnTo>
                  <a:lnTo>
                    <a:pt x="40" y="500"/>
                  </a:lnTo>
                  <a:lnTo>
                    <a:pt x="43" y="489"/>
                  </a:lnTo>
                  <a:lnTo>
                    <a:pt x="50" y="480"/>
                  </a:lnTo>
                  <a:lnTo>
                    <a:pt x="56" y="470"/>
                  </a:lnTo>
                  <a:lnTo>
                    <a:pt x="61" y="457"/>
                  </a:lnTo>
                  <a:lnTo>
                    <a:pt x="65" y="442"/>
                  </a:lnTo>
                  <a:lnTo>
                    <a:pt x="66" y="429"/>
                  </a:lnTo>
                  <a:lnTo>
                    <a:pt x="66" y="424"/>
                  </a:lnTo>
                  <a:lnTo>
                    <a:pt x="232" y="465"/>
                  </a:lnTo>
                  <a:lnTo>
                    <a:pt x="235" y="464"/>
                  </a:lnTo>
                  <a:lnTo>
                    <a:pt x="243" y="457"/>
                  </a:lnTo>
                  <a:lnTo>
                    <a:pt x="257" y="450"/>
                  </a:lnTo>
                  <a:lnTo>
                    <a:pt x="270" y="439"/>
                  </a:lnTo>
                  <a:lnTo>
                    <a:pt x="285" y="429"/>
                  </a:lnTo>
                  <a:lnTo>
                    <a:pt x="298" y="417"/>
                  </a:lnTo>
                  <a:lnTo>
                    <a:pt x="308" y="407"/>
                  </a:lnTo>
                  <a:lnTo>
                    <a:pt x="313" y="399"/>
                  </a:lnTo>
                  <a:lnTo>
                    <a:pt x="318" y="384"/>
                  </a:lnTo>
                  <a:lnTo>
                    <a:pt x="325" y="369"/>
                  </a:lnTo>
                  <a:lnTo>
                    <a:pt x="330" y="357"/>
                  </a:lnTo>
                  <a:lnTo>
                    <a:pt x="332" y="352"/>
                  </a:lnTo>
                  <a:lnTo>
                    <a:pt x="335" y="352"/>
                  </a:lnTo>
                  <a:lnTo>
                    <a:pt x="342" y="352"/>
                  </a:lnTo>
                  <a:lnTo>
                    <a:pt x="353" y="352"/>
                  </a:lnTo>
                  <a:lnTo>
                    <a:pt x="367" y="350"/>
                  </a:lnTo>
                  <a:lnTo>
                    <a:pt x="382" y="350"/>
                  </a:lnTo>
                  <a:lnTo>
                    <a:pt x="398" y="347"/>
                  </a:lnTo>
                  <a:lnTo>
                    <a:pt x="413" y="345"/>
                  </a:lnTo>
                  <a:lnTo>
                    <a:pt x="427" y="342"/>
                  </a:lnTo>
                  <a:lnTo>
                    <a:pt x="438" y="337"/>
                  </a:lnTo>
                  <a:lnTo>
                    <a:pt x="447" y="329"/>
                  </a:lnTo>
                  <a:lnTo>
                    <a:pt x="455" y="319"/>
                  </a:lnTo>
                  <a:lnTo>
                    <a:pt x="462" y="309"/>
                  </a:lnTo>
                  <a:lnTo>
                    <a:pt x="468" y="299"/>
                  </a:lnTo>
                  <a:lnTo>
                    <a:pt x="475" y="290"/>
                  </a:lnTo>
                  <a:lnTo>
                    <a:pt x="483" y="284"/>
                  </a:lnTo>
                  <a:lnTo>
                    <a:pt x="493" y="280"/>
                  </a:lnTo>
                  <a:lnTo>
                    <a:pt x="508" y="275"/>
                  </a:lnTo>
                  <a:lnTo>
                    <a:pt x="513" y="269"/>
                  </a:lnTo>
                  <a:lnTo>
                    <a:pt x="513" y="264"/>
                  </a:lnTo>
                  <a:lnTo>
                    <a:pt x="512" y="262"/>
                  </a:lnTo>
                  <a:lnTo>
                    <a:pt x="380" y="90"/>
                  </a:lnTo>
                  <a:close/>
                </a:path>
              </a:pathLst>
            </a:custGeom>
            <a:solidFill>
              <a:srgbClr val="b2b2b2">
                <a:alpha val="30000"/>
              </a:srgbClr>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pic>
        <p:nvPicPr>
          <p:cNvPr id="47" name="" descr=""/>
          <p:cNvPicPr/>
          <p:nvPr/>
        </p:nvPicPr>
        <p:blipFill>
          <a:blip r:embed="rId3"/>
          <a:stretch/>
        </p:blipFill>
        <p:spPr>
          <a:xfrm>
            <a:off x="0" y="0"/>
            <a:ext cx="600120" cy="6858000"/>
          </a:xfrm>
          <a:prstGeom prst="rect">
            <a:avLst/>
          </a:prstGeom>
          <a:ln w="0">
            <a:noFill/>
          </a:ln>
        </p:spPr>
      </p:pic>
      <p:sp>
        <p:nvSpPr>
          <p:cNvPr id="48" name=""/>
          <p:cNvSpPr/>
          <p:nvPr/>
        </p:nvSpPr>
        <p:spPr>
          <a:xfrm>
            <a:off x="609480" y="6629400"/>
            <a:ext cx="8534520" cy="228600"/>
          </a:xfrm>
          <a:prstGeom prst="rect">
            <a:avLst/>
          </a:prstGeom>
          <a:solidFill>
            <a:srgbClr val="bbe0e3"/>
          </a:solidFill>
          <a:ln cap="sq"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99"/>
                </a:solidFill>
                <a:latin typeface="Albertus Medium"/>
              </a:rPr>
              <a:t>www.skinandallergy.org</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0" lang="en-US" sz="1000" spc="-1" strike="noStrike">
                <a:solidFill>
                  <a:srgbClr val="333399"/>
                </a:solidFill>
                <a:latin typeface="Albertus Medium"/>
              </a:rPr>
              <a:t>www.panarabderm.org</a:t>
            </a:r>
            <a:endParaRPr b="0" lang="en-US" sz="1000" spc="-1" strike="noStrike">
              <a:solidFill>
                <a:srgbClr val="000000"/>
              </a:solidFill>
              <a:latin typeface="Arial"/>
            </a:endParaRPr>
          </a:p>
        </p:txBody>
      </p:sp>
      <p:sp>
        <p:nvSpPr>
          <p:cNvPr id="49" name=""/>
          <p:cNvSpPr/>
          <p:nvPr/>
        </p:nvSpPr>
        <p:spPr>
          <a:xfrm>
            <a:off x="609480" y="609480"/>
            <a:ext cx="7848720" cy="5943600"/>
          </a:xfrm>
          <a:prstGeom prst="rect">
            <a:avLst/>
          </a:prstGeom>
          <a:noFill/>
          <a:ln w="0">
            <a:noFill/>
          </a:ln>
        </p:spPr>
        <p:style>
          <a:lnRef idx="0"/>
          <a:fillRef idx="0"/>
          <a:effectRef idx="0"/>
          <a:fontRef idx="minor"/>
        </p:style>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ar-SA" sz="3600" spc="-1" strike="noStrike">
                <a:solidFill>
                  <a:srgbClr val="333399"/>
                </a:solidFill>
                <a:latin typeface="Albertus Medium"/>
              </a:rPr>
              <a:t>تقنية النانو واستعمالاتها في الجلدية</a:t>
            </a:r>
            <a:endParaRPr b="0" lang="en-US" sz="36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000" spc="-1" strike="noStrike">
              <a:solidFill>
                <a:srgbClr val="000000"/>
              </a:solidFill>
              <a:latin typeface="Arial"/>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a:solidFill>
                  <a:srgbClr val="333399"/>
                </a:solidFill>
                <a:latin typeface="Albertus Medium"/>
              </a:rPr>
              <a:t>The use of </a:t>
            </a:r>
            <a:br>
              <a:rPr sz="3600"/>
            </a:br>
            <a:r>
              <a:rPr b="0" lang="en-US" sz="3600" spc="-1" strike="noStrike">
                <a:solidFill>
                  <a:srgbClr val="333399"/>
                </a:solidFill>
                <a:latin typeface="Albertus Medium"/>
              </a:rPr>
              <a:t>Nanotechnology in Dermatology</a:t>
            </a:r>
            <a:endParaRPr b="0" lang="en-US" sz="36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0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ar-SA" sz="2400" spc="-1" strike="noStrike">
                <a:solidFill>
                  <a:srgbClr val="333399"/>
                </a:solidFill>
                <a:latin typeface="Albertus Medium"/>
              </a:rPr>
              <a:t>عمر بن عبدالعزيز آل الشيخ</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ar-SA" sz="2400" spc="-1" strike="noStrike">
                <a:solidFill>
                  <a:srgbClr val="333399"/>
                </a:solidFill>
                <a:latin typeface="Albertus Medium"/>
              </a:rPr>
              <a:t>أمين عام رابطة أطباء الجلد العرب</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ar-SA" sz="2400" spc="-1" strike="noStrike">
                <a:solidFill>
                  <a:srgbClr val="333399"/>
                </a:solidFill>
                <a:latin typeface="Albertus Medium"/>
              </a:rPr>
              <a:t>عضو هيئة التدريس – كلية الطب – جامعة الملك سعود</a:t>
            </a:r>
            <a:endParaRPr b="0" lang="en-US" sz="24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0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333399"/>
                </a:solidFill>
                <a:latin typeface="Albertus Medium"/>
              </a:rPr>
              <a:t>Omar Abdulaziz Al-Sheikh, MD.</a:t>
            </a:r>
            <a:endParaRPr b="0" lang="en-US" sz="24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333399"/>
                </a:solidFill>
                <a:latin typeface="Albertus Medium"/>
              </a:rPr>
              <a:t>Secretary General of Pan Arab League of Dermatologists</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333399"/>
                </a:solidFill>
                <a:latin typeface="Albertus Medium"/>
              </a:rPr>
              <a:t>Associate Professor, College of Medicine, King Saud University</a:t>
            </a:r>
            <a:endParaRPr b="0" lang="en-US" sz="16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1" name="" descr=""/>
          <p:cNvPicPr/>
          <p:nvPr/>
        </p:nvPicPr>
        <p:blipFill>
          <a:blip r:embed="rId2"/>
          <a:stretch/>
        </p:blipFill>
        <p:spPr>
          <a:xfrm>
            <a:off x="8153280" y="74520"/>
            <a:ext cx="922320" cy="992160"/>
          </a:xfrm>
          <a:prstGeom prst="rect">
            <a:avLst/>
          </a:prstGeom>
          <a:ln w="0">
            <a:noFill/>
          </a:ln>
        </p:spPr>
      </p:pic>
      <p:sp>
        <p:nvSpPr>
          <p:cNvPr id="132" name=""/>
          <p:cNvSpPr/>
          <p:nvPr/>
        </p:nvSpPr>
        <p:spPr>
          <a:xfrm>
            <a:off x="1295280" y="1066680"/>
            <a:ext cx="6193080" cy="1800"/>
          </a:xfrm>
          <a:prstGeom prst="line">
            <a:avLst/>
          </a:prstGeom>
          <a:ln cap="sq" w="12600">
            <a:solidFill>
              <a:srgbClr val="b2b2b2"/>
            </a:solidFill>
            <a:miter/>
          </a:ln>
        </p:spPr>
        <p:style>
          <a:lnRef idx="0"/>
          <a:fillRef idx="0"/>
          <a:effectRef idx="0"/>
          <a:fontRef idx="minor"/>
        </p:style>
        <p:txBody>
          <a:bodyPr lIns="90000" rIns="90000" tIns="-45000" bIns="-45000" anchor="t">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33" name="" descr=""/>
          <p:cNvPicPr/>
          <p:nvPr/>
        </p:nvPicPr>
        <p:blipFill>
          <a:blip r:embed="rId3"/>
          <a:stretch/>
        </p:blipFill>
        <p:spPr>
          <a:xfrm>
            <a:off x="0" y="0"/>
            <a:ext cx="600120" cy="6858000"/>
          </a:xfrm>
          <a:prstGeom prst="rect">
            <a:avLst/>
          </a:prstGeom>
          <a:ln w="0">
            <a:noFill/>
          </a:ln>
        </p:spPr>
      </p:pic>
      <p:grpSp>
        <p:nvGrpSpPr>
          <p:cNvPr id="134" name=""/>
          <p:cNvGrpSpPr/>
          <p:nvPr/>
        </p:nvGrpSpPr>
        <p:grpSpPr>
          <a:xfrm>
            <a:off x="2639880" y="1803240"/>
            <a:ext cx="4521240" cy="3986280"/>
            <a:chOff x="2639880" y="1803240"/>
            <a:chExt cx="4521240" cy="3986280"/>
          </a:xfrm>
        </p:grpSpPr>
        <p:sp>
          <p:nvSpPr>
            <p:cNvPr id="135" name=""/>
            <p:cNvSpPr/>
            <p:nvPr/>
          </p:nvSpPr>
          <p:spPr>
            <a:xfrm>
              <a:off x="2639880" y="2776680"/>
              <a:ext cx="1721160" cy="3012840"/>
            </a:xfrm>
            <a:custGeom>
              <a:avLst/>
              <a:gdLst/>
              <a:ahLst/>
              <a:rect l="l" t="t" r="r" b="b"/>
              <a:pathLst>
                <a:path w="1261" h="2255">
                  <a:moveTo>
                    <a:pt x="1257" y="2027"/>
                  </a:moveTo>
                  <a:lnTo>
                    <a:pt x="1257" y="2015"/>
                  </a:lnTo>
                  <a:lnTo>
                    <a:pt x="1252" y="2000"/>
                  </a:lnTo>
                  <a:lnTo>
                    <a:pt x="1244" y="1985"/>
                  </a:lnTo>
                  <a:lnTo>
                    <a:pt x="1232" y="1970"/>
                  </a:lnTo>
                  <a:lnTo>
                    <a:pt x="1222" y="1956"/>
                  </a:lnTo>
                  <a:lnTo>
                    <a:pt x="1212" y="1945"/>
                  </a:lnTo>
                  <a:lnTo>
                    <a:pt x="1204" y="1933"/>
                  </a:lnTo>
                  <a:lnTo>
                    <a:pt x="1199" y="1921"/>
                  </a:lnTo>
                  <a:lnTo>
                    <a:pt x="1197" y="1910"/>
                  </a:lnTo>
                  <a:lnTo>
                    <a:pt x="1192" y="1893"/>
                  </a:lnTo>
                  <a:lnTo>
                    <a:pt x="1186" y="1876"/>
                  </a:lnTo>
                  <a:lnTo>
                    <a:pt x="1171" y="1860"/>
                  </a:lnTo>
                  <a:lnTo>
                    <a:pt x="1161" y="1851"/>
                  </a:lnTo>
                  <a:lnTo>
                    <a:pt x="1147" y="1838"/>
                  </a:lnTo>
                  <a:lnTo>
                    <a:pt x="1132" y="1823"/>
                  </a:lnTo>
                  <a:lnTo>
                    <a:pt x="1117" y="1806"/>
                  </a:lnTo>
                  <a:lnTo>
                    <a:pt x="1102" y="1788"/>
                  </a:lnTo>
                  <a:lnTo>
                    <a:pt x="1087" y="1770"/>
                  </a:lnTo>
                  <a:lnTo>
                    <a:pt x="1076" y="1750"/>
                  </a:lnTo>
                  <a:lnTo>
                    <a:pt x="1067" y="1731"/>
                  </a:lnTo>
                  <a:lnTo>
                    <a:pt x="1052" y="1703"/>
                  </a:lnTo>
                  <a:lnTo>
                    <a:pt x="1037" y="1681"/>
                  </a:lnTo>
                  <a:lnTo>
                    <a:pt x="1026" y="1665"/>
                  </a:lnTo>
                  <a:lnTo>
                    <a:pt x="1019" y="1646"/>
                  </a:lnTo>
                  <a:lnTo>
                    <a:pt x="1016" y="1633"/>
                  </a:lnTo>
                  <a:lnTo>
                    <a:pt x="1009" y="1613"/>
                  </a:lnTo>
                  <a:lnTo>
                    <a:pt x="999" y="1591"/>
                  </a:lnTo>
                  <a:lnTo>
                    <a:pt x="989" y="1568"/>
                  </a:lnTo>
                  <a:lnTo>
                    <a:pt x="979" y="1545"/>
                  </a:lnTo>
                  <a:lnTo>
                    <a:pt x="969" y="1525"/>
                  </a:lnTo>
                  <a:lnTo>
                    <a:pt x="959" y="1508"/>
                  </a:lnTo>
                  <a:lnTo>
                    <a:pt x="952" y="1499"/>
                  </a:lnTo>
                  <a:lnTo>
                    <a:pt x="942" y="1486"/>
                  </a:lnTo>
                  <a:lnTo>
                    <a:pt x="934" y="1473"/>
                  </a:lnTo>
                  <a:lnTo>
                    <a:pt x="922" y="1458"/>
                  </a:lnTo>
                  <a:lnTo>
                    <a:pt x="911" y="1443"/>
                  </a:lnTo>
                  <a:lnTo>
                    <a:pt x="902" y="1434"/>
                  </a:lnTo>
                  <a:lnTo>
                    <a:pt x="891" y="1426"/>
                  </a:lnTo>
                  <a:lnTo>
                    <a:pt x="879" y="1419"/>
                  </a:lnTo>
                  <a:lnTo>
                    <a:pt x="867" y="1411"/>
                  </a:lnTo>
                  <a:lnTo>
                    <a:pt x="854" y="1404"/>
                  </a:lnTo>
                  <a:lnTo>
                    <a:pt x="842" y="1399"/>
                  </a:lnTo>
                  <a:lnTo>
                    <a:pt x="831" y="1396"/>
                  </a:lnTo>
                  <a:lnTo>
                    <a:pt x="820" y="1394"/>
                  </a:lnTo>
                  <a:lnTo>
                    <a:pt x="812" y="1393"/>
                  </a:lnTo>
                  <a:lnTo>
                    <a:pt x="805" y="1389"/>
                  </a:lnTo>
                  <a:lnTo>
                    <a:pt x="800" y="1384"/>
                  </a:lnTo>
                  <a:lnTo>
                    <a:pt x="794" y="1376"/>
                  </a:lnTo>
                  <a:lnTo>
                    <a:pt x="789" y="1368"/>
                  </a:lnTo>
                  <a:lnTo>
                    <a:pt x="782" y="1354"/>
                  </a:lnTo>
                  <a:lnTo>
                    <a:pt x="774" y="1341"/>
                  </a:lnTo>
                  <a:lnTo>
                    <a:pt x="762" y="1324"/>
                  </a:lnTo>
                  <a:lnTo>
                    <a:pt x="750" y="1306"/>
                  </a:lnTo>
                  <a:lnTo>
                    <a:pt x="740" y="1288"/>
                  </a:lnTo>
                  <a:lnTo>
                    <a:pt x="732" y="1269"/>
                  </a:lnTo>
                  <a:lnTo>
                    <a:pt x="724" y="1253"/>
                  </a:lnTo>
                  <a:lnTo>
                    <a:pt x="717" y="1234"/>
                  </a:lnTo>
                  <a:lnTo>
                    <a:pt x="712" y="1219"/>
                  </a:lnTo>
                  <a:lnTo>
                    <a:pt x="709" y="1204"/>
                  </a:lnTo>
                  <a:lnTo>
                    <a:pt x="705" y="1191"/>
                  </a:lnTo>
                  <a:lnTo>
                    <a:pt x="700" y="1166"/>
                  </a:lnTo>
                  <a:lnTo>
                    <a:pt x="692" y="1143"/>
                  </a:lnTo>
                  <a:lnTo>
                    <a:pt x="685" y="1126"/>
                  </a:lnTo>
                  <a:lnTo>
                    <a:pt x="682" y="1119"/>
                  </a:lnTo>
                  <a:lnTo>
                    <a:pt x="689" y="1108"/>
                  </a:lnTo>
                  <a:lnTo>
                    <a:pt x="700" y="1078"/>
                  </a:lnTo>
                  <a:lnTo>
                    <a:pt x="707" y="1038"/>
                  </a:lnTo>
                  <a:lnTo>
                    <a:pt x="697" y="996"/>
                  </a:lnTo>
                  <a:lnTo>
                    <a:pt x="680" y="961"/>
                  </a:lnTo>
                  <a:lnTo>
                    <a:pt x="670" y="932"/>
                  </a:lnTo>
                  <a:lnTo>
                    <a:pt x="662" y="904"/>
                  </a:lnTo>
                  <a:lnTo>
                    <a:pt x="649" y="872"/>
                  </a:lnTo>
                  <a:lnTo>
                    <a:pt x="640" y="856"/>
                  </a:lnTo>
                  <a:lnTo>
                    <a:pt x="635" y="839"/>
                  </a:lnTo>
                  <a:lnTo>
                    <a:pt x="630" y="826"/>
                  </a:lnTo>
                  <a:lnTo>
                    <a:pt x="625" y="814"/>
                  </a:lnTo>
                  <a:lnTo>
                    <a:pt x="620" y="802"/>
                  </a:lnTo>
                  <a:lnTo>
                    <a:pt x="614" y="792"/>
                  </a:lnTo>
                  <a:lnTo>
                    <a:pt x="607" y="784"/>
                  </a:lnTo>
                  <a:lnTo>
                    <a:pt x="597" y="777"/>
                  </a:lnTo>
                  <a:lnTo>
                    <a:pt x="587" y="771"/>
                  </a:lnTo>
                  <a:lnTo>
                    <a:pt x="575" y="762"/>
                  </a:lnTo>
                  <a:lnTo>
                    <a:pt x="565" y="754"/>
                  </a:lnTo>
                  <a:lnTo>
                    <a:pt x="554" y="744"/>
                  </a:lnTo>
                  <a:lnTo>
                    <a:pt x="542" y="736"/>
                  </a:lnTo>
                  <a:lnTo>
                    <a:pt x="529" y="729"/>
                  </a:lnTo>
                  <a:lnTo>
                    <a:pt x="515" y="721"/>
                  </a:lnTo>
                  <a:lnTo>
                    <a:pt x="502" y="716"/>
                  </a:lnTo>
                  <a:lnTo>
                    <a:pt x="480" y="702"/>
                  </a:lnTo>
                  <a:lnTo>
                    <a:pt x="470" y="686"/>
                  </a:lnTo>
                  <a:lnTo>
                    <a:pt x="464" y="667"/>
                  </a:lnTo>
                  <a:lnTo>
                    <a:pt x="454" y="649"/>
                  </a:lnTo>
                  <a:lnTo>
                    <a:pt x="444" y="634"/>
                  </a:lnTo>
                  <a:lnTo>
                    <a:pt x="437" y="621"/>
                  </a:lnTo>
                  <a:lnTo>
                    <a:pt x="435" y="611"/>
                  </a:lnTo>
                  <a:lnTo>
                    <a:pt x="435" y="607"/>
                  </a:lnTo>
                  <a:lnTo>
                    <a:pt x="437" y="607"/>
                  </a:lnTo>
                  <a:lnTo>
                    <a:pt x="442" y="606"/>
                  </a:lnTo>
                  <a:lnTo>
                    <a:pt x="449" y="602"/>
                  </a:lnTo>
                  <a:lnTo>
                    <a:pt x="455" y="596"/>
                  </a:lnTo>
                  <a:lnTo>
                    <a:pt x="459" y="589"/>
                  </a:lnTo>
                  <a:lnTo>
                    <a:pt x="459" y="577"/>
                  </a:lnTo>
                  <a:lnTo>
                    <a:pt x="454" y="564"/>
                  </a:lnTo>
                  <a:lnTo>
                    <a:pt x="440" y="546"/>
                  </a:lnTo>
                  <a:lnTo>
                    <a:pt x="434" y="539"/>
                  </a:lnTo>
                  <a:lnTo>
                    <a:pt x="429" y="532"/>
                  </a:lnTo>
                  <a:lnTo>
                    <a:pt x="424" y="529"/>
                  </a:lnTo>
                  <a:lnTo>
                    <a:pt x="420" y="526"/>
                  </a:lnTo>
                  <a:lnTo>
                    <a:pt x="419" y="527"/>
                  </a:lnTo>
                  <a:lnTo>
                    <a:pt x="415" y="526"/>
                  </a:lnTo>
                  <a:lnTo>
                    <a:pt x="415" y="522"/>
                  </a:lnTo>
                  <a:lnTo>
                    <a:pt x="420" y="526"/>
                  </a:lnTo>
                  <a:lnTo>
                    <a:pt x="420" y="524"/>
                  </a:lnTo>
                  <a:lnTo>
                    <a:pt x="419" y="521"/>
                  </a:lnTo>
                  <a:lnTo>
                    <a:pt x="419" y="517"/>
                  </a:lnTo>
                  <a:lnTo>
                    <a:pt x="417" y="512"/>
                  </a:lnTo>
                  <a:lnTo>
                    <a:pt x="409" y="490"/>
                  </a:lnTo>
                  <a:lnTo>
                    <a:pt x="405" y="477"/>
                  </a:lnTo>
                  <a:lnTo>
                    <a:pt x="399" y="467"/>
                  </a:lnTo>
                  <a:lnTo>
                    <a:pt x="384" y="455"/>
                  </a:lnTo>
                  <a:lnTo>
                    <a:pt x="372" y="440"/>
                  </a:lnTo>
                  <a:lnTo>
                    <a:pt x="374" y="425"/>
                  </a:lnTo>
                  <a:lnTo>
                    <a:pt x="375" y="412"/>
                  </a:lnTo>
                  <a:lnTo>
                    <a:pt x="364" y="399"/>
                  </a:lnTo>
                  <a:lnTo>
                    <a:pt x="345" y="387"/>
                  </a:lnTo>
                  <a:lnTo>
                    <a:pt x="332" y="372"/>
                  </a:lnTo>
                  <a:lnTo>
                    <a:pt x="325" y="355"/>
                  </a:lnTo>
                  <a:lnTo>
                    <a:pt x="322" y="337"/>
                  </a:lnTo>
                  <a:lnTo>
                    <a:pt x="319" y="317"/>
                  </a:lnTo>
                  <a:lnTo>
                    <a:pt x="309" y="290"/>
                  </a:lnTo>
                  <a:lnTo>
                    <a:pt x="294" y="264"/>
                  </a:lnTo>
                  <a:lnTo>
                    <a:pt x="273" y="237"/>
                  </a:lnTo>
                  <a:lnTo>
                    <a:pt x="260" y="215"/>
                  </a:lnTo>
                  <a:lnTo>
                    <a:pt x="257" y="197"/>
                  </a:lnTo>
                  <a:lnTo>
                    <a:pt x="255" y="184"/>
                  </a:lnTo>
                  <a:lnTo>
                    <a:pt x="245" y="175"/>
                  </a:lnTo>
                  <a:lnTo>
                    <a:pt x="233" y="167"/>
                  </a:lnTo>
                  <a:lnTo>
                    <a:pt x="228" y="154"/>
                  </a:lnTo>
                  <a:lnTo>
                    <a:pt x="222" y="140"/>
                  </a:lnTo>
                  <a:lnTo>
                    <a:pt x="207" y="124"/>
                  </a:lnTo>
                  <a:lnTo>
                    <a:pt x="188" y="100"/>
                  </a:lnTo>
                  <a:lnTo>
                    <a:pt x="175" y="74"/>
                  </a:lnTo>
                  <a:lnTo>
                    <a:pt x="168" y="52"/>
                  </a:lnTo>
                  <a:lnTo>
                    <a:pt x="165" y="42"/>
                  </a:lnTo>
                  <a:lnTo>
                    <a:pt x="160" y="42"/>
                  </a:lnTo>
                  <a:lnTo>
                    <a:pt x="148" y="42"/>
                  </a:lnTo>
                  <a:lnTo>
                    <a:pt x="133" y="42"/>
                  </a:lnTo>
                  <a:lnTo>
                    <a:pt x="122" y="42"/>
                  </a:lnTo>
                  <a:lnTo>
                    <a:pt x="110" y="42"/>
                  </a:lnTo>
                  <a:lnTo>
                    <a:pt x="100" y="44"/>
                  </a:lnTo>
                  <a:lnTo>
                    <a:pt x="92" y="47"/>
                  </a:lnTo>
                  <a:lnTo>
                    <a:pt x="88" y="47"/>
                  </a:lnTo>
                  <a:lnTo>
                    <a:pt x="90" y="44"/>
                  </a:lnTo>
                  <a:lnTo>
                    <a:pt x="93" y="34"/>
                  </a:lnTo>
                  <a:lnTo>
                    <a:pt x="98" y="20"/>
                  </a:lnTo>
                  <a:lnTo>
                    <a:pt x="103" y="8"/>
                  </a:lnTo>
                  <a:lnTo>
                    <a:pt x="103" y="8"/>
                  </a:lnTo>
                  <a:lnTo>
                    <a:pt x="103" y="8"/>
                  </a:lnTo>
                  <a:lnTo>
                    <a:pt x="103" y="8"/>
                  </a:lnTo>
                  <a:lnTo>
                    <a:pt x="103" y="8"/>
                  </a:lnTo>
                  <a:lnTo>
                    <a:pt x="67" y="0"/>
                  </a:lnTo>
                  <a:lnTo>
                    <a:pt x="67" y="5"/>
                  </a:lnTo>
                  <a:lnTo>
                    <a:pt x="65" y="19"/>
                  </a:lnTo>
                  <a:lnTo>
                    <a:pt x="62" y="34"/>
                  </a:lnTo>
                  <a:lnTo>
                    <a:pt x="57" y="47"/>
                  </a:lnTo>
                  <a:lnTo>
                    <a:pt x="50" y="57"/>
                  </a:lnTo>
                  <a:lnTo>
                    <a:pt x="45" y="65"/>
                  </a:lnTo>
                  <a:lnTo>
                    <a:pt x="40" y="79"/>
                  </a:lnTo>
                  <a:lnTo>
                    <a:pt x="38" y="95"/>
                  </a:lnTo>
                  <a:lnTo>
                    <a:pt x="35" y="119"/>
                  </a:lnTo>
                  <a:lnTo>
                    <a:pt x="28" y="145"/>
                  </a:lnTo>
                  <a:lnTo>
                    <a:pt x="20" y="169"/>
                  </a:lnTo>
                  <a:lnTo>
                    <a:pt x="15" y="185"/>
                  </a:lnTo>
                  <a:lnTo>
                    <a:pt x="10" y="197"/>
                  </a:lnTo>
                  <a:lnTo>
                    <a:pt x="5" y="209"/>
                  </a:lnTo>
                  <a:lnTo>
                    <a:pt x="2" y="220"/>
                  </a:lnTo>
                  <a:lnTo>
                    <a:pt x="0" y="224"/>
                  </a:lnTo>
                  <a:lnTo>
                    <a:pt x="3" y="224"/>
                  </a:lnTo>
                  <a:lnTo>
                    <a:pt x="12" y="220"/>
                  </a:lnTo>
                  <a:lnTo>
                    <a:pt x="23" y="219"/>
                  </a:lnTo>
                  <a:lnTo>
                    <a:pt x="33" y="219"/>
                  </a:lnTo>
                  <a:lnTo>
                    <a:pt x="47" y="219"/>
                  </a:lnTo>
                  <a:lnTo>
                    <a:pt x="60" y="219"/>
                  </a:lnTo>
                  <a:lnTo>
                    <a:pt x="72" y="219"/>
                  </a:lnTo>
                  <a:lnTo>
                    <a:pt x="77" y="219"/>
                  </a:lnTo>
                  <a:lnTo>
                    <a:pt x="80" y="229"/>
                  </a:lnTo>
                  <a:lnTo>
                    <a:pt x="87" y="250"/>
                  </a:lnTo>
                  <a:lnTo>
                    <a:pt x="100" y="277"/>
                  </a:lnTo>
                  <a:lnTo>
                    <a:pt x="118" y="299"/>
                  </a:lnTo>
                  <a:lnTo>
                    <a:pt x="133" y="315"/>
                  </a:lnTo>
                  <a:lnTo>
                    <a:pt x="140" y="330"/>
                  </a:lnTo>
                  <a:lnTo>
                    <a:pt x="145" y="342"/>
                  </a:lnTo>
                  <a:lnTo>
                    <a:pt x="157" y="352"/>
                  </a:lnTo>
                  <a:lnTo>
                    <a:pt x="167" y="360"/>
                  </a:lnTo>
                  <a:lnTo>
                    <a:pt x="168" y="374"/>
                  </a:lnTo>
                  <a:lnTo>
                    <a:pt x="172" y="390"/>
                  </a:lnTo>
                  <a:lnTo>
                    <a:pt x="185" y="414"/>
                  </a:lnTo>
                  <a:lnTo>
                    <a:pt x="205" y="440"/>
                  </a:lnTo>
                  <a:lnTo>
                    <a:pt x="220" y="467"/>
                  </a:lnTo>
                  <a:lnTo>
                    <a:pt x="230" y="492"/>
                  </a:lnTo>
                  <a:lnTo>
                    <a:pt x="233" y="512"/>
                  </a:lnTo>
                  <a:lnTo>
                    <a:pt x="237" y="531"/>
                  </a:lnTo>
                  <a:lnTo>
                    <a:pt x="243" y="547"/>
                  </a:lnTo>
                  <a:lnTo>
                    <a:pt x="257" y="562"/>
                  </a:lnTo>
                  <a:lnTo>
                    <a:pt x="275" y="574"/>
                  </a:lnTo>
                  <a:lnTo>
                    <a:pt x="287" y="587"/>
                  </a:lnTo>
                  <a:lnTo>
                    <a:pt x="285" y="601"/>
                  </a:lnTo>
                  <a:lnTo>
                    <a:pt x="284" y="617"/>
                  </a:lnTo>
                  <a:lnTo>
                    <a:pt x="295" y="632"/>
                  </a:lnTo>
                  <a:lnTo>
                    <a:pt x="310" y="642"/>
                  </a:lnTo>
                  <a:lnTo>
                    <a:pt x="317" y="652"/>
                  </a:lnTo>
                  <a:lnTo>
                    <a:pt x="320" y="666"/>
                  </a:lnTo>
                  <a:lnTo>
                    <a:pt x="329" y="687"/>
                  </a:lnTo>
                  <a:lnTo>
                    <a:pt x="330" y="692"/>
                  </a:lnTo>
                  <a:lnTo>
                    <a:pt x="330" y="696"/>
                  </a:lnTo>
                  <a:lnTo>
                    <a:pt x="332" y="697"/>
                  </a:lnTo>
                  <a:lnTo>
                    <a:pt x="332" y="699"/>
                  </a:lnTo>
                  <a:lnTo>
                    <a:pt x="335" y="702"/>
                  </a:lnTo>
                  <a:lnTo>
                    <a:pt x="340" y="707"/>
                  </a:lnTo>
                  <a:lnTo>
                    <a:pt x="345" y="712"/>
                  </a:lnTo>
                  <a:lnTo>
                    <a:pt x="352" y="721"/>
                  </a:lnTo>
                  <a:lnTo>
                    <a:pt x="365" y="737"/>
                  </a:lnTo>
                  <a:lnTo>
                    <a:pt x="370" y="752"/>
                  </a:lnTo>
                  <a:lnTo>
                    <a:pt x="370" y="762"/>
                  </a:lnTo>
                  <a:lnTo>
                    <a:pt x="367" y="771"/>
                  </a:lnTo>
                  <a:lnTo>
                    <a:pt x="360" y="776"/>
                  </a:lnTo>
                  <a:lnTo>
                    <a:pt x="354" y="781"/>
                  </a:lnTo>
                  <a:lnTo>
                    <a:pt x="349" y="782"/>
                  </a:lnTo>
                  <a:lnTo>
                    <a:pt x="347" y="782"/>
                  </a:lnTo>
                  <a:lnTo>
                    <a:pt x="347" y="786"/>
                  </a:lnTo>
                  <a:lnTo>
                    <a:pt x="350" y="794"/>
                  </a:lnTo>
                  <a:lnTo>
                    <a:pt x="355" y="807"/>
                  </a:lnTo>
                  <a:lnTo>
                    <a:pt x="367" y="824"/>
                  </a:lnTo>
                  <a:lnTo>
                    <a:pt x="377" y="842"/>
                  </a:lnTo>
                  <a:lnTo>
                    <a:pt x="384" y="862"/>
                  </a:lnTo>
                  <a:lnTo>
                    <a:pt x="392" y="877"/>
                  </a:lnTo>
                  <a:lnTo>
                    <a:pt x="414" y="891"/>
                  </a:lnTo>
                  <a:lnTo>
                    <a:pt x="427" y="897"/>
                  </a:lnTo>
                  <a:lnTo>
                    <a:pt x="440" y="904"/>
                  </a:lnTo>
                  <a:lnTo>
                    <a:pt x="454" y="912"/>
                  </a:lnTo>
                  <a:lnTo>
                    <a:pt x="465" y="921"/>
                  </a:lnTo>
                  <a:lnTo>
                    <a:pt x="477" y="929"/>
                  </a:lnTo>
                  <a:lnTo>
                    <a:pt x="487" y="937"/>
                  </a:lnTo>
                  <a:lnTo>
                    <a:pt x="499" y="946"/>
                  </a:lnTo>
                  <a:lnTo>
                    <a:pt x="509" y="952"/>
                  </a:lnTo>
                  <a:lnTo>
                    <a:pt x="519" y="961"/>
                  </a:lnTo>
                  <a:lnTo>
                    <a:pt x="525" y="969"/>
                  </a:lnTo>
                  <a:lnTo>
                    <a:pt x="532" y="979"/>
                  </a:lnTo>
                  <a:lnTo>
                    <a:pt x="537" y="989"/>
                  </a:lnTo>
                  <a:lnTo>
                    <a:pt x="542" y="1002"/>
                  </a:lnTo>
                  <a:lnTo>
                    <a:pt x="547" y="1016"/>
                  </a:lnTo>
                  <a:lnTo>
                    <a:pt x="552" y="1031"/>
                  </a:lnTo>
                  <a:lnTo>
                    <a:pt x="560" y="1048"/>
                  </a:lnTo>
                  <a:lnTo>
                    <a:pt x="574" y="1079"/>
                  </a:lnTo>
                  <a:lnTo>
                    <a:pt x="584" y="1108"/>
                  </a:lnTo>
                  <a:lnTo>
                    <a:pt x="592" y="1136"/>
                  </a:lnTo>
                  <a:lnTo>
                    <a:pt x="609" y="1171"/>
                  </a:lnTo>
                  <a:lnTo>
                    <a:pt x="619" y="1213"/>
                  </a:lnTo>
                  <a:lnTo>
                    <a:pt x="612" y="1253"/>
                  </a:lnTo>
                  <a:lnTo>
                    <a:pt x="600" y="1283"/>
                  </a:lnTo>
                  <a:lnTo>
                    <a:pt x="594" y="1294"/>
                  </a:lnTo>
                  <a:lnTo>
                    <a:pt x="597" y="1301"/>
                  </a:lnTo>
                  <a:lnTo>
                    <a:pt x="604" y="1318"/>
                  </a:lnTo>
                  <a:lnTo>
                    <a:pt x="612" y="1341"/>
                  </a:lnTo>
                  <a:lnTo>
                    <a:pt x="617" y="1366"/>
                  </a:lnTo>
                  <a:lnTo>
                    <a:pt x="620" y="1379"/>
                  </a:lnTo>
                  <a:lnTo>
                    <a:pt x="624" y="1394"/>
                  </a:lnTo>
                  <a:lnTo>
                    <a:pt x="629" y="1409"/>
                  </a:lnTo>
                  <a:lnTo>
                    <a:pt x="635" y="1428"/>
                  </a:lnTo>
                  <a:lnTo>
                    <a:pt x="644" y="1444"/>
                  </a:lnTo>
                  <a:lnTo>
                    <a:pt x="654" y="1463"/>
                  </a:lnTo>
                  <a:lnTo>
                    <a:pt x="664" y="1481"/>
                  </a:lnTo>
                  <a:lnTo>
                    <a:pt x="675" y="1499"/>
                  </a:lnTo>
                  <a:lnTo>
                    <a:pt x="687" y="1516"/>
                  </a:lnTo>
                  <a:lnTo>
                    <a:pt x="695" y="1531"/>
                  </a:lnTo>
                  <a:lnTo>
                    <a:pt x="702" y="1543"/>
                  </a:lnTo>
                  <a:lnTo>
                    <a:pt x="707" y="1553"/>
                  </a:lnTo>
                  <a:lnTo>
                    <a:pt x="712" y="1561"/>
                  </a:lnTo>
                  <a:lnTo>
                    <a:pt x="719" y="1566"/>
                  </a:lnTo>
                  <a:lnTo>
                    <a:pt x="724" y="1570"/>
                  </a:lnTo>
                  <a:lnTo>
                    <a:pt x="732" y="1571"/>
                  </a:lnTo>
                  <a:lnTo>
                    <a:pt x="742" y="1573"/>
                  </a:lnTo>
                  <a:lnTo>
                    <a:pt x="754" y="1576"/>
                  </a:lnTo>
                  <a:lnTo>
                    <a:pt x="765" y="1581"/>
                  </a:lnTo>
                  <a:lnTo>
                    <a:pt x="779" y="1588"/>
                  </a:lnTo>
                  <a:lnTo>
                    <a:pt x="792" y="1595"/>
                  </a:lnTo>
                  <a:lnTo>
                    <a:pt x="804" y="1603"/>
                  </a:lnTo>
                  <a:lnTo>
                    <a:pt x="814" y="1611"/>
                  </a:lnTo>
                  <a:lnTo>
                    <a:pt x="822" y="1618"/>
                  </a:lnTo>
                  <a:lnTo>
                    <a:pt x="834" y="1633"/>
                  </a:lnTo>
                  <a:lnTo>
                    <a:pt x="846" y="1648"/>
                  </a:lnTo>
                  <a:lnTo>
                    <a:pt x="856" y="1663"/>
                  </a:lnTo>
                  <a:lnTo>
                    <a:pt x="866" y="1675"/>
                  </a:lnTo>
                  <a:lnTo>
                    <a:pt x="872" y="1685"/>
                  </a:lnTo>
                  <a:lnTo>
                    <a:pt x="881" y="1700"/>
                  </a:lnTo>
                  <a:lnTo>
                    <a:pt x="891" y="1721"/>
                  </a:lnTo>
                  <a:lnTo>
                    <a:pt x="902" y="1743"/>
                  </a:lnTo>
                  <a:lnTo>
                    <a:pt x="912" y="1768"/>
                  </a:lnTo>
                  <a:lnTo>
                    <a:pt x="921" y="1790"/>
                  </a:lnTo>
                  <a:lnTo>
                    <a:pt x="927" y="1810"/>
                  </a:lnTo>
                  <a:lnTo>
                    <a:pt x="931" y="1823"/>
                  </a:lnTo>
                  <a:lnTo>
                    <a:pt x="937" y="1841"/>
                  </a:lnTo>
                  <a:lnTo>
                    <a:pt x="951" y="1858"/>
                  </a:lnTo>
                  <a:lnTo>
                    <a:pt x="964" y="1878"/>
                  </a:lnTo>
                  <a:lnTo>
                    <a:pt x="979" y="1908"/>
                  </a:lnTo>
                  <a:lnTo>
                    <a:pt x="987" y="1926"/>
                  </a:lnTo>
                  <a:lnTo>
                    <a:pt x="999" y="1945"/>
                  </a:lnTo>
                  <a:lnTo>
                    <a:pt x="1014" y="1965"/>
                  </a:lnTo>
                  <a:lnTo>
                    <a:pt x="1029" y="1981"/>
                  </a:lnTo>
                  <a:lnTo>
                    <a:pt x="1044" y="2000"/>
                  </a:lnTo>
                  <a:lnTo>
                    <a:pt x="1059" y="2015"/>
                  </a:lnTo>
                  <a:lnTo>
                    <a:pt x="1072" y="2027"/>
                  </a:lnTo>
                  <a:lnTo>
                    <a:pt x="1084" y="2037"/>
                  </a:lnTo>
                  <a:lnTo>
                    <a:pt x="1097" y="2052"/>
                  </a:lnTo>
                  <a:lnTo>
                    <a:pt x="1106" y="2068"/>
                  </a:lnTo>
                  <a:lnTo>
                    <a:pt x="1109" y="2085"/>
                  </a:lnTo>
                  <a:lnTo>
                    <a:pt x="1112" y="2098"/>
                  </a:lnTo>
                  <a:lnTo>
                    <a:pt x="1117" y="2108"/>
                  </a:lnTo>
                  <a:lnTo>
                    <a:pt x="1126" y="2120"/>
                  </a:lnTo>
                  <a:lnTo>
                    <a:pt x="1136" y="2132"/>
                  </a:lnTo>
                  <a:lnTo>
                    <a:pt x="1146" y="2145"/>
                  </a:lnTo>
                  <a:lnTo>
                    <a:pt x="1156" y="2160"/>
                  </a:lnTo>
                  <a:lnTo>
                    <a:pt x="1164" y="2175"/>
                  </a:lnTo>
                  <a:lnTo>
                    <a:pt x="1169" y="2190"/>
                  </a:lnTo>
                  <a:lnTo>
                    <a:pt x="1169" y="2202"/>
                  </a:lnTo>
                  <a:lnTo>
                    <a:pt x="1169" y="2217"/>
                  </a:lnTo>
                  <a:lnTo>
                    <a:pt x="1172" y="2233"/>
                  </a:lnTo>
                  <a:lnTo>
                    <a:pt x="1177" y="2248"/>
                  </a:lnTo>
                  <a:lnTo>
                    <a:pt x="1179" y="2255"/>
                  </a:lnTo>
                  <a:lnTo>
                    <a:pt x="1216" y="2227"/>
                  </a:lnTo>
                  <a:lnTo>
                    <a:pt x="1219" y="2222"/>
                  </a:lnTo>
                  <a:lnTo>
                    <a:pt x="1226" y="2208"/>
                  </a:lnTo>
                  <a:lnTo>
                    <a:pt x="1232" y="2192"/>
                  </a:lnTo>
                  <a:lnTo>
                    <a:pt x="1236" y="2178"/>
                  </a:lnTo>
                  <a:lnTo>
                    <a:pt x="1236" y="2165"/>
                  </a:lnTo>
                  <a:lnTo>
                    <a:pt x="1234" y="2145"/>
                  </a:lnTo>
                  <a:lnTo>
                    <a:pt x="1236" y="2123"/>
                  </a:lnTo>
                  <a:lnTo>
                    <a:pt x="1241" y="2103"/>
                  </a:lnTo>
                  <a:lnTo>
                    <a:pt x="1241" y="2087"/>
                  </a:lnTo>
                  <a:lnTo>
                    <a:pt x="1236" y="2077"/>
                  </a:lnTo>
                  <a:lnTo>
                    <a:pt x="1234" y="2067"/>
                  </a:lnTo>
                  <a:lnTo>
                    <a:pt x="1241" y="2060"/>
                  </a:lnTo>
                  <a:lnTo>
                    <a:pt x="1246" y="2057"/>
                  </a:lnTo>
                  <a:lnTo>
                    <a:pt x="1251" y="2057"/>
                  </a:lnTo>
                  <a:lnTo>
                    <a:pt x="1256" y="2058"/>
                  </a:lnTo>
                  <a:lnTo>
                    <a:pt x="1261" y="2062"/>
                  </a:lnTo>
                  <a:lnTo>
                    <a:pt x="1259" y="2052"/>
                  </a:lnTo>
                  <a:lnTo>
                    <a:pt x="1257" y="2043"/>
                  </a:lnTo>
                  <a:lnTo>
                    <a:pt x="1256" y="2033"/>
                  </a:lnTo>
                  <a:lnTo>
                    <a:pt x="1257" y="2027"/>
                  </a:lnTo>
                  <a:close/>
                </a:path>
              </a:pathLst>
            </a:custGeom>
            <a:solidFill>
              <a:srgbClr val="ffffff">
                <a:alpha val="10000"/>
              </a:srgbClr>
            </a:solidFill>
            <a:ln cap="sq" w="9360">
              <a:solidFill>
                <a:srgbClr val="ffffff"/>
              </a:solidFill>
              <a:round/>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
            <p:cNvSpPr/>
            <p:nvPr/>
          </p:nvSpPr>
          <p:spPr>
            <a:xfrm>
              <a:off x="3086280" y="3706920"/>
              <a:ext cx="4680" cy="4680"/>
            </a:xfrm>
            <a:custGeom>
              <a:avLst/>
              <a:gdLst/>
              <a:ahLst/>
              <a:rect l="l" t="t" r="r" b="b"/>
              <a:pathLst>
                <a:path w="5" h="5">
                  <a:moveTo>
                    <a:pt x="5" y="3"/>
                  </a:moveTo>
                  <a:lnTo>
                    <a:pt x="0" y="0"/>
                  </a:lnTo>
                  <a:lnTo>
                    <a:pt x="2" y="3"/>
                  </a:lnTo>
                  <a:lnTo>
                    <a:pt x="3" y="5"/>
                  </a:lnTo>
                  <a:lnTo>
                    <a:pt x="5" y="3"/>
                  </a:lnTo>
                  <a:lnTo>
                    <a:pt x="5" y="3"/>
                  </a:lnTo>
                  <a:close/>
                </a:path>
              </a:pathLst>
            </a:custGeom>
            <a:solidFill>
              <a:srgbClr val="000000"/>
            </a:solidFill>
            <a:ln w="0">
              <a:noFill/>
            </a:ln>
          </p:spPr>
          <p:style>
            <a:lnRef idx="0"/>
            <a:fillRef idx="0"/>
            <a:effectRef idx="0"/>
            <a:fontRef idx="minor"/>
          </p:style>
          <p:txBody>
            <a:bodyPr wrap="none" lIns="90000" rIns="90000" tIns="-42120" bIns="-421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7" name=""/>
            <p:cNvSpPr/>
            <p:nvPr/>
          </p:nvSpPr>
          <p:spPr>
            <a:xfrm>
              <a:off x="4379760" y="4662360"/>
              <a:ext cx="2567160" cy="993960"/>
            </a:xfrm>
            <a:custGeom>
              <a:avLst/>
              <a:gdLst/>
              <a:ahLst/>
              <a:rect l="l" t="t" r="r" b="b"/>
              <a:pathLst>
                <a:path w="1881" h="744">
                  <a:moveTo>
                    <a:pt x="1298" y="222"/>
                  </a:moveTo>
                  <a:lnTo>
                    <a:pt x="1283" y="225"/>
                  </a:lnTo>
                  <a:lnTo>
                    <a:pt x="1263" y="230"/>
                  </a:lnTo>
                  <a:lnTo>
                    <a:pt x="1239" y="235"/>
                  </a:lnTo>
                  <a:lnTo>
                    <a:pt x="1214" y="242"/>
                  </a:lnTo>
                  <a:lnTo>
                    <a:pt x="1186" y="249"/>
                  </a:lnTo>
                  <a:lnTo>
                    <a:pt x="1157" y="255"/>
                  </a:lnTo>
                  <a:lnTo>
                    <a:pt x="1127" y="262"/>
                  </a:lnTo>
                  <a:lnTo>
                    <a:pt x="1097" y="269"/>
                  </a:lnTo>
                  <a:lnTo>
                    <a:pt x="1067" y="275"/>
                  </a:lnTo>
                  <a:lnTo>
                    <a:pt x="1039" y="284"/>
                  </a:lnTo>
                  <a:lnTo>
                    <a:pt x="1012" y="290"/>
                  </a:lnTo>
                  <a:lnTo>
                    <a:pt x="989" y="297"/>
                  </a:lnTo>
                  <a:lnTo>
                    <a:pt x="967" y="302"/>
                  </a:lnTo>
                  <a:lnTo>
                    <a:pt x="949" y="309"/>
                  </a:lnTo>
                  <a:lnTo>
                    <a:pt x="936" y="314"/>
                  </a:lnTo>
                  <a:lnTo>
                    <a:pt x="927" y="317"/>
                  </a:lnTo>
                  <a:lnTo>
                    <a:pt x="914" y="324"/>
                  </a:lnTo>
                  <a:lnTo>
                    <a:pt x="901" y="329"/>
                  </a:lnTo>
                  <a:lnTo>
                    <a:pt x="887" y="337"/>
                  </a:lnTo>
                  <a:lnTo>
                    <a:pt x="872" y="344"/>
                  </a:lnTo>
                  <a:lnTo>
                    <a:pt x="857" y="355"/>
                  </a:lnTo>
                  <a:lnTo>
                    <a:pt x="842" y="369"/>
                  </a:lnTo>
                  <a:lnTo>
                    <a:pt x="826" y="389"/>
                  </a:lnTo>
                  <a:lnTo>
                    <a:pt x="807" y="412"/>
                  </a:lnTo>
                  <a:lnTo>
                    <a:pt x="791" y="437"/>
                  </a:lnTo>
                  <a:lnTo>
                    <a:pt x="776" y="460"/>
                  </a:lnTo>
                  <a:lnTo>
                    <a:pt x="761" y="482"/>
                  </a:lnTo>
                  <a:lnTo>
                    <a:pt x="747" y="502"/>
                  </a:lnTo>
                  <a:lnTo>
                    <a:pt x="737" y="519"/>
                  </a:lnTo>
                  <a:lnTo>
                    <a:pt x="727" y="532"/>
                  </a:lnTo>
                  <a:lnTo>
                    <a:pt x="719" y="542"/>
                  </a:lnTo>
                  <a:lnTo>
                    <a:pt x="712" y="549"/>
                  </a:lnTo>
                  <a:lnTo>
                    <a:pt x="706" y="554"/>
                  </a:lnTo>
                  <a:lnTo>
                    <a:pt x="699" y="559"/>
                  </a:lnTo>
                  <a:lnTo>
                    <a:pt x="689" y="564"/>
                  </a:lnTo>
                  <a:lnTo>
                    <a:pt x="679" y="565"/>
                  </a:lnTo>
                  <a:lnTo>
                    <a:pt x="667" y="567"/>
                  </a:lnTo>
                  <a:lnTo>
                    <a:pt x="657" y="567"/>
                  </a:lnTo>
                  <a:lnTo>
                    <a:pt x="647" y="564"/>
                  </a:lnTo>
                  <a:lnTo>
                    <a:pt x="637" y="559"/>
                  </a:lnTo>
                  <a:lnTo>
                    <a:pt x="629" y="552"/>
                  </a:lnTo>
                  <a:lnTo>
                    <a:pt x="622" y="544"/>
                  </a:lnTo>
                  <a:lnTo>
                    <a:pt x="615" y="535"/>
                  </a:lnTo>
                  <a:lnTo>
                    <a:pt x="609" y="529"/>
                  </a:lnTo>
                  <a:lnTo>
                    <a:pt x="602" y="524"/>
                  </a:lnTo>
                  <a:lnTo>
                    <a:pt x="595" y="520"/>
                  </a:lnTo>
                  <a:lnTo>
                    <a:pt x="589" y="519"/>
                  </a:lnTo>
                  <a:lnTo>
                    <a:pt x="580" y="520"/>
                  </a:lnTo>
                  <a:lnTo>
                    <a:pt x="569" y="524"/>
                  </a:lnTo>
                  <a:lnTo>
                    <a:pt x="554" y="525"/>
                  </a:lnTo>
                  <a:lnTo>
                    <a:pt x="537" y="525"/>
                  </a:lnTo>
                  <a:lnTo>
                    <a:pt x="519" y="525"/>
                  </a:lnTo>
                  <a:lnTo>
                    <a:pt x="499" y="525"/>
                  </a:lnTo>
                  <a:lnTo>
                    <a:pt x="480" y="524"/>
                  </a:lnTo>
                  <a:lnTo>
                    <a:pt x="462" y="522"/>
                  </a:lnTo>
                  <a:lnTo>
                    <a:pt x="447" y="520"/>
                  </a:lnTo>
                  <a:lnTo>
                    <a:pt x="432" y="519"/>
                  </a:lnTo>
                  <a:lnTo>
                    <a:pt x="417" y="515"/>
                  </a:lnTo>
                  <a:lnTo>
                    <a:pt x="404" y="510"/>
                  </a:lnTo>
                  <a:lnTo>
                    <a:pt x="389" y="507"/>
                  </a:lnTo>
                  <a:lnTo>
                    <a:pt x="375" y="504"/>
                  </a:lnTo>
                  <a:lnTo>
                    <a:pt x="364" y="500"/>
                  </a:lnTo>
                  <a:lnTo>
                    <a:pt x="352" y="497"/>
                  </a:lnTo>
                  <a:lnTo>
                    <a:pt x="342" y="497"/>
                  </a:lnTo>
                  <a:lnTo>
                    <a:pt x="329" y="497"/>
                  </a:lnTo>
                  <a:lnTo>
                    <a:pt x="307" y="497"/>
                  </a:lnTo>
                  <a:lnTo>
                    <a:pt x="280" y="499"/>
                  </a:lnTo>
                  <a:lnTo>
                    <a:pt x="250" y="499"/>
                  </a:lnTo>
                  <a:lnTo>
                    <a:pt x="224" y="500"/>
                  </a:lnTo>
                  <a:lnTo>
                    <a:pt x="200" y="502"/>
                  </a:lnTo>
                  <a:lnTo>
                    <a:pt x="184" y="502"/>
                  </a:lnTo>
                  <a:lnTo>
                    <a:pt x="177" y="502"/>
                  </a:lnTo>
                  <a:lnTo>
                    <a:pt x="175" y="504"/>
                  </a:lnTo>
                  <a:lnTo>
                    <a:pt x="170" y="505"/>
                  </a:lnTo>
                  <a:lnTo>
                    <a:pt x="164" y="509"/>
                  </a:lnTo>
                  <a:lnTo>
                    <a:pt x="155" y="510"/>
                  </a:lnTo>
                  <a:lnTo>
                    <a:pt x="144" y="512"/>
                  </a:lnTo>
                  <a:lnTo>
                    <a:pt x="132" y="512"/>
                  </a:lnTo>
                  <a:lnTo>
                    <a:pt x="120" y="509"/>
                  </a:lnTo>
                  <a:lnTo>
                    <a:pt x="107" y="502"/>
                  </a:lnTo>
                  <a:lnTo>
                    <a:pt x="95" y="494"/>
                  </a:lnTo>
                  <a:lnTo>
                    <a:pt x="87" y="485"/>
                  </a:lnTo>
                  <a:lnTo>
                    <a:pt x="80" y="479"/>
                  </a:lnTo>
                  <a:lnTo>
                    <a:pt x="75" y="475"/>
                  </a:lnTo>
                  <a:lnTo>
                    <a:pt x="70" y="472"/>
                  </a:lnTo>
                  <a:lnTo>
                    <a:pt x="65" y="470"/>
                  </a:lnTo>
                  <a:lnTo>
                    <a:pt x="60" y="470"/>
                  </a:lnTo>
                  <a:lnTo>
                    <a:pt x="53" y="474"/>
                  </a:lnTo>
                  <a:lnTo>
                    <a:pt x="47" y="480"/>
                  </a:lnTo>
                  <a:lnTo>
                    <a:pt x="50" y="489"/>
                  </a:lnTo>
                  <a:lnTo>
                    <a:pt x="55" y="500"/>
                  </a:lnTo>
                  <a:lnTo>
                    <a:pt x="53" y="515"/>
                  </a:lnTo>
                  <a:lnTo>
                    <a:pt x="50" y="535"/>
                  </a:lnTo>
                  <a:lnTo>
                    <a:pt x="48" y="557"/>
                  </a:lnTo>
                  <a:lnTo>
                    <a:pt x="50" y="577"/>
                  </a:lnTo>
                  <a:lnTo>
                    <a:pt x="50" y="592"/>
                  </a:lnTo>
                  <a:lnTo>
                    <a:pt x="47" y="606"/>
                  </a:lnTo>
                  <a:lnTo>
                    <a:pt x="40" y="621"/>
                  </a:lnTo>
                  <a:lnTo>
                    <a:pt x="33" y="634"/>
                  </a:lnTo>
                  <a:lnTo>
                    <a:pt x="30" y="639"/>
                  </a:lnTo>
                  <a:lnTo>
                    <a:pt x="0" y="662"/>
                  </a:lnTo>
                  <a:lnTo>
                    <a:pt x="3" y="666"/>
                  </a:lnTo>
                  <a:lnTo>
                    <a:pt x="8" y="669"/>
                  </a:lnTo>
                  <a:lnTo>
                    <a:pt x="13" y="674"/>
                  </a:lnTo>
                  <a:lnTo>
                    <a:pt x="18" y="677"/>
                  </a:lnTo>
                  <a:lnTo>
                    <a:pt x="32" y="684"/>
                  </a:lnTo>
                  <a:lnTo>
                    <a:pt x="43" y="687"/>
                  </a:lnTo>
                  <a:lnTo>
                    <a:pt x="55" y="687"/>
                  </a:lnTo>
                  <a:lnTo>
                    <a:pt x="67" y="686"/>
                  </a:lnTo>
                  <a:lnTo>
                    <a:pt x="77" y="684"/>
                  </a:lnTo>
                  <a:lnTo>
                    <a:pt x="83" y="681"/>
                  </a:lnTo>
                  <a:lnTo>
                    <a:pt x="88" y="679"/>
                  </a:lnTo>
                  <a:lnTo>
                    <a:pt x="90" y="677"/>
                  </a:lnTo>
                  <a:lnTo>
                    <a:pt x="97" y="677"/>
                  </a:lnTo>
                  <a:lnTo>
                    <a:pt x="114" y="677"/>
                  </a:lnTo>
                  <a:lnTo>
                    <a:pt x="137" y="676"/>
                  </a:lnTo>
                  <a:lnTo>
                    <a:pt x="164" y="674"/>
                  </a:lnTo>
                  <a:lnTo>
                    <a:pt x="194" y="674"/>
                  </a:lnTo>
                  <a:lnTo>
                    <a:pt x="220" y="672"/>
                  </a:lnTo>
                  <a:lnTo>
                    <a:pt x="242" y="672"/>
                  </a:lnTo>
                  <a:lnTo>
                    <a:pt x="255" y="672"/>
                  </a:lnTo>
                  <a:lnTo>
                    <a:pt x="265" y="674"/>
                  </a:lnTo>
                  <a:lnTo>
                    <a:pt x="275" y="676"/>
                  </a:lnTo>
                  <a:lnTo>
                    <a:pt x="289" y="679"/>
                  </a:lnTo>
                  <a:lnTo>
                    <a:pt x="302" y="682"/>
                  </a:lnTo>
                  <a:lnTo>
                    <a:pt x="315" y="687"/>
                  </a:lnTo>
                  <a:lnTo>
                    <a:pt x="330" y="691"/>
                  </a:lnTo>
                  <a:lnTo>
                    <a:pt x="344" y="694"/>
                  </a:lnTo>
                  <a:lnTo>
                    <a:pt x="359" y="697"/>
                  </a:lnTo>
                  <a:lnTo>
                    <a:pt x="374" y="699"/>
                  </a:lnTo>
                  <a:lnTo>
                    <a:pt x="392" y="701"/>
                  </a:lnTo>
                  <a:lnTo>
                    <a:pt x="412" y="701"/>
                  </a:lnTo>
                  <a:lnTo>
                    <a:pt x="430" y="702"/>
                  </a:lnTo>
                  <a:lnTo>
                    <a:pt x="450" y="702"/>
                  </a:lnTo>
                  <a:lnTo>
                    <a:pt x="467" y="701"/>
                  </a:lnTo>
                  <a:lnTo>
                    <a:pt x="480" y="701"/>
                  </a:lnTo>
                  <a:lnTo>
                    <a:pt x="492" y="697"/>
                  </a:lnTo>
                  <a:lnTo>
                    <a:pt x="500" y="696"/>
                  </a:lnTo>
                  <a:lnTo>
                    <a:pt x="507" y="696"/>
                  </a:lnTo>
                  <a:lnTo>
                    <a:pt x="514" y="699"/>
                  </a:lnTo>
                  <a:lnTo>
                    <a:pt x="520" y="706"/>
                  </a:lnTo>
                  <a:lnTo>
                    <a:pt x="527" y="712"/>
                  </a:lnTo>
                  <a:lnTo>
                    <a:pt x="534" y="719"/>
                  </a:lnTo>
                  <a:lnTo>
                    <a:pt x="540" y="727"/>
                  </a:lnTo>
                  <a:lnTo>
                    <a:pt x="549" y="734"/>
                  </a:lnTo>
                  <a:lnTo>
                    <a:pt x="559" y="741"/>
                  </a:lnTo>
                  <a:lnTo>
                    <a:pt x="569" y="742"/>
                  </a:lnTo>
                  <a:lnTo>
                    <a:pt x="579" y="744"/>
                  </a:lnTo>
                  <a:lnTo>
                    <a:pt x="590" y="742"/>
                  </a:lnTo>
                  <a:lnTo>
                    <a:pt x="600" y="739"/>
                  </a:lnTo>
                  <a:lnTo>
                    <a:pt x="610" y="736"/>
                  </a:lnTo>
                  <a:lnTo>
                    <a:pt x="619" y="731"/>
                  </a:lnTo>
                  <a:lnTo>
                    <a:pt x="625" y="726"/>
                  </a:lnTo>
                  <a:lnTo>
                    <a:pt x="632" y="719"/>
                  </a:lnTo>
                  <a:lnTo>
                    <a:pt x="639" y="707"/>
                  </a:lnTo>
                  <a:lnTo>
                    <a:pt x="649" y="694"/>
                  </a:lnTo>
                  <a:lnTo>
                    <a:pt x="661" y="677"/>
                  </a:lnTo>
                  <a:lnTo>
                    <a:pt x="672" y="659"/>
                  </a:lnTo>
                  <a:lnTo>
                    <a:pt x="687" y="637"/>
                  </a:lnTo>
                  <a:lnTo>
                    <a:pt x="704" y="614"/>
                  </a:lnTo>
                  <a:lnTo>
                    <a:pt x="721" y="587"/>
                  </a:lnTo>
                  <a:lnTo>
                    <a:pt x="737" y="564"/>
                  </a:lnTo>
                  <a:lnTo>
                    <a:pt x="754" y="544"/>
                  </a:lnTo>
                  <a:lnTo>
                    <a:pt x="769" y="530"/>
                  </a:lnTo>
                  <a:lnTo>
                    <a:pt x="786" y="519"/>
                  </a:lnTo>
                  <a:lnTo>
                    <a:pt x="799" y="512"/>
                  </a:lnTo>
                  <a:lnTo>
                    <a:pt x="812" y="504"/>
                  </a:lnTo>
                  <a:lnTo>
                    <a:pt x="826" y="499"/>
                  </a:lnTo>
                  <a:lnTo>
                    <a:pt x="839" y="492"/>
                  </a:lnTo>
                  <a:lnTo>
                    <a:pt x="847" y="489"/>
                  </a:lnTo>
                  <a:lnTo>
                    <a:pt x="862" y="484"/>
                  </a:lnTo>
                  <a:lnTo>
                    <a:pt x="879" y="479"/>
                  </a:lnTo>
                  <a:lnTo>
                    <a:pt x="901" y="472"/>
                  </a:lnTo>
                  <a:lnTo>
                    <a:pt x="926" y="465"/>
                  </a:lnTo>
                  <a:lnTo>
                    <a:pt x="952" y="459"/>
                  </a:lnTo>
                  <a:lnTo>
                    <a:pt x="981" y="452"/>
                  </a:lnTo>
                  <a:lnTo>
                    <a:pt x="1009" y="444"/>
                  </a:lnTo>
                  <a:lnTo>
                    <a:pt x="1039" y="437"/>
                  </a:lnTo>
                  <a:lnTo>
                    <a:pt x="1069" y="430"/>
                  </a:lnTo>
                  <a:lnTo>
                    <a:pt x="1097" y="424"/>
                  </a:lnTo>
                  <a:lnTo>
                    <a:pt x="1126" y="417"/>
                  </a:lnTo>
                  <a:lnTo>
                    <a:pt x="1151" y="410"/>
                  </a:lnTo>
                  <a:lnTo>
                    <a:pt x="1174" y="405"/>
                  </a:lnTo>
                  <a:lnTo>
                    <a:pt x="1194" y="400"/>
                  </a:lnTo>
                  <a:lnTo>
                    <a:pt x="1209" y="397"/>
                  </a:lnTo>
                  <a:lnTo>
                    <a:pt x="1236" y="390"/>
                  </a:lnTo>
                  <a:lnTo>
                    <a:pt x="1263" y="385"/>
                  </a:lnTo>
                  <a:lnTo>
                    <a:pt x="1289" y="382"/>
                  </a:lnTo>
                  <a:lnTo>
                    <a:pt x="1313" y="379"/>
                  </a:lnTo>
                  <a:lnTo>
                    <a:pt x="1336" y="375"/>
                  </a:lnTo>
                  <a:lnTo>
                    <a:pt x="1354" y="370"/>
                  </a:lnTo>
                  <a:lnTo>
                    <a:pt x="1371" y="365"/>
                  </a:lnTo>
                  <a:lnTo>
                    <a:pt x="1384" y="359"/>
                  </a:lnTo>
                  <a:lnTo>
                    <a:pt x="1394" y="354"/>
                  </a:lnTo>
                  <a:lnTo>
                    <a:pt x="1411" y="345"/>
                  </a:lnTo>
                  <a:lnTo>
                    <a:pt x="1434" y="334"/>
                  </a:lnTo>
                  <a:lnTo>
                    <a:pt x="1463" y="320"/>
                  </a:lnTo>
                  <a:lnTo>
                    <a:pt x="1496" y="307"/>
                  </a:lnTo>
                  <a:lnTo>
                    <a:pt x="1533" y="290"/>
                  </a:lnTo>
                  <a:lnTo>
                    <a:pt x="1571" y="274"/>
                  </a:lnTo>
                  <a:lnTo>
                    <a:pt x="1611" y="255"/>
                  </a:lnTo>
                  <a:lnTo>
                    <a:pt x="1649" y="239"/>
                  </a:lnTo>
                  <a:lnTo>
                    <a:pt x="1688" y="222"/>
                  </a:lnTo>
                  <a:lnTo>
                    <a:pt x="1723" y="207"/>
                  </a:lnTo>
                  <a:lnTo>
                    <a:pt x="1756" y="192"/>
                  </a:lnTo>
                  <a:lnTo>
                    <a:pt x="1783" y="180"/>
                  </a:lnTo>
                  <a:lnTo>
                    <a:pt x="1805" y="170"/>
                  </a:lnTo>
                  <a:lnTo>
                    <a:pt x="1820" y="164"/>
                  </a:lnTo>
                  <a:lnTo>
                    <a:pt x="1826" y="160"/>
                  </a:lnTo>
                  <a:lnTo>
                    <a:pt x="1836" y="152"/>
                  </a:lnTo>
                  <a:lnTo>
                    <a:pt x="1841" y="142"/>
                  </a:lnTo>
                  <a:lnTo>
                    <a:pt x="1845" y="130"/>
                  </a:lnTo>
                  <a:lnTo>
                    <a:pt x="1846" y="117"/>
                  </a:lnTo>
                  <a:lnTo>
                    <a:pt x="1848" y="100"/>
                  </a:lnTo>
                  <a:lnTo>
                    <a:pt x="1851" y="78"/>
                  </a:lnTo>
                  <a:lnTo>
                    <a:pt x="1858" y="57"/>
                  </a:lnTo>
                  <a:lnTo>
                    <a:pt x="1865" y="37"/>
                  </a:lnTo>
                  <a:lnTo>
                    <a:pt x="1868" y="27"/>
                  </a:lnTo>
                  <a:lnTo>
                    <a:pt x="1873" y="18"/>
                  </a:lnTo>
                  <a:lnTo>
                    <a:pt x="1876" y="8"/>
                  </a:lnTo>
                  <a:lnTo>
                    <a:pt x="1881" y="0"/>
                  </a:lnTo>
                  <a:lnTo>
                    <a:pt x="1861" y="10"/>
                  </a:lnTo>
                  <a:lnTo>
                    <a:pt x="1836" y="20"/>
                  </a:lnTo>
                  <a:lnTo>
                    <a:pt x="1808" y="32"/>
                  </a:lnTo>
                  <a:lnTo>
                    <a:pt x="1778" y="45"/>
                  </a:lnTo>
                  <a:lnTo>
                    <a:pt x="1746" y="58"/>
                  </a:lnTo>
                  <a:lnTo>
                    <a:pt x="1714" y="73"/>
                  </a:lnTo>
                  <a:lnTo>
                    <a:pt x="1681" y="88"/>
                  </a:lnTo>
                  <a:lnTo>
                    <a:pt x="1648" y="102"/>
                  </a:lnTo>
                  <a:lnTo>
                    <a:pt x="1616" y="117"/>
                  </a:lnTo>
                  <a:lnTo>
                    <a:pt x="1586" y="130"/>
                  </a:lnTo>
                  <a:lnTo>
                    <a:pt x="1558" y="142"/>
                  </a:lnTo>
                  <a:lnTo>
                    <a:pt x="1533" y="154"/>
                  </a:lnTo>
                  <a:lnTo>
                    <a:pt x="1511" y="164"/>
                  </a:lnTo>
                  <a:lnTo>
                    <a:pt x="1493" y="174"/>
                  </a:lnTo>
                  <a:lnTo>
                    <a:pt x="1479" y="179"/>
                  </a:lnTo>
                  <a:lnTo>
                    <a:pt x="1473" y="184"/>
                  </a:lnTo>
                  <a:lnTo>
                    <a:pt x="1459" y="190"/>
                  </a:lnTo>
                  <a:lnTo>
                    <a:pt x="1443" y="195"/>
                  </a:lnTo>
                  <a:lnTo>
                    <a:pt x="1423" y="199"/>
                  </a:lnTo>
                  <a:lnTo>
                    <a:pt x="1401" y="202"/>
                  </a:lnTo>
                  <a:lnTo>
                    <a:pt x="1376" y="205"/>
                  </a:lnTo>
                  <a:lnTo>
                    <a:pt x="1351" y="210"/>
                  </a:lnTo>
                  <a:lnTo>
                    <a:pt x="1324" y="215"/>
                  </a:lnTo>
                  <a:lnTo>
                    <a:pt x="1298" y="222"/>
                  </a:lnTo>
                  <a:close/>
                </a:path>
              </a:pathLst>
            </a:custGeom>
            <a:solidFill>
              <a:srgbClr val="ffffff">
                <a:alpha val="20000"/>
              </a:srgbClr>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8" name=""/>
            <p:cNvSpPr/>
            <p:nvPr/>
          </p:nvSpPr>
          <p:spPr>
            <a:xfrm>
              <a:off x="2813040" y="1803240"/>
              <a:ext cx="4348080" cy="3579840"/>
            </a:xfrm>
            <a:custGeom>
              <a:avLst/>
              <a:gdLst/>
              <a:ahLst/>
              <a:rect l="l" t="t" r="r" b="b"/>
              <a:pathLst>
                <a:path w="3185" h="2678">
                  <a:moveTo>
                    <a:pt x="380" y="90"/>
                  </a:moveTo>
                  <a:lnTo>
                    <a:pt x="683" y="28"/>
                  </a:lnTo>
                  <a:lnTo>
                    <a:pt x="693" y="0"/>
                  </a:lnTo>
                  <a:lnTo>
                    <a:pt x="695" y="0"/>
                  </a:lnTo>
                  <a:lnTo>
                    <a:pt x="698" y="0"/>
                  </a:lnTo>
                  <a:lnTo>
                    <a:pt x="704" y="0"/>
                  </a:lnTo>
                  <a:lnTo>
                    <a:pt x="712" y="0"/>
                  </a:lnTo>
                  <a:lnTo>
                    <a:pt x="720" y="0"/>
                  </a:lnTo>
                  <a:lnTo>
                    <a:pt x="734" y="2"/>
                  </a:lnTo>
                  <a:lnTo>
                    <a:pt x="747" y="5"/>
                  </a:lnTo>
                  <a:lnTo>
                    <a:pt x="764" y="10"/>
                  </a:lnTo>
                  <a:lnTo>
                    <a:pt x="782" y="15"/>
                  </a:lnTo>
                  <a:lnTo>
                    <a:pt x="799" y="20"/>
                  </a:lnTo>
                  <a:lnTo>
                    <a:pt x="817" y="23"/>
                  </a:lnTo>
                  <a:lnTo>
                    <a:pt x="832" y="28"/>
                  </a:lnTo>
                  <a:lnTo>
                    <a:pt x="847" y="32"/>
                  </a:lnTo>
                  <a:lnTo>
                    <a:pt x="862" y="35"/>
                  </a:lnTo>
                  <a:lnTo>
                    <a:pt x="874" y="40"/>
                  </a:lnTo>
                  <a:lnTo>
                    <a:pt x="884" y="43"/>
                  </a:lnTo>
                  <a:lnTo>
                    <a:pt x="894" y="48"/>
                  </a:lnTo>
                  <a:lnTo>
                    <a:pt x="907" y="57"/>
                  </a:lnTo>
                  <a:lnTo>
                    <a:pt x="924" y="68"/>
                  </a:lnTo>
                  <a:lnTo>
                    <a:pt x="942" y="82"/>
                  </a:lnTo>
                  <a:lnTo>
                    <a:pt x="962" y="97"/>
                  </a:lnTo>
                  <a:lnTo>
                    <a:pt x="985" y="112"/>
                  </a:lnTo>
                  <a:lnTo>
                    <a:pt x="1009" y="127"/>
                  </a:lnTo>
                  <a:lnTo>
                    <a:pt x="1035" y="142"/>
                  </a:lnTo>
                  <a:lnTo>
                    <a:pt x="1060" y="155"/>
                  </a:lnTo>
                  <a:lnTo>
                    <a:pt x="1080" y="168"/>
                  </a:lnTo>
                  <a:lnTo>
                    <a:pt x="1099" y="180"/>
                  </a:lnTo>
                  <a:lnTo>
                    <a:pt x="1114" y="190"/>
                  </a:lnTo>
                  <a:lnTo>
                    <a:pt x="1124" y="197"/>
                  </a:lnTo>
                  <a:lnTo>
                    <a:pt x="1132" y="203"/>
                  </a:lnTo>
                  <a:lnTo>
                    <a:pt x="1137" y="207"/>
                  </a:lnTo>
                  <a:lnTo>
                    <a:pt x="1139" y="208"/>
                  </a:lnTo>
                  <a:lnTo>
                    <a:pt x="1142" y="210"/>
                  </a:lnTo>
                  <a:lnTo>
                    <a:pt x="1150" y="215"/>
                  </a:lnTo>
                  <a:lnTo>
                    <a:pt x="1162" y="223"/>
                  </a:lnTo>
                  <a:lnTo>
                    <a:pt x="1177" y="233"/>
                  </a:lnTo>
                  <a:lnTo>
                    <a:pt x="1192" y="243"/>
                  </a:lnTo>
                  <a:lnTo>
                    <a:pt x="1205" y="255"/>
                  </a:lnTo>
                  <a:lnTo>
                    <a:pt x="1217" y="265"/>
                  </a:lnTo>
                  <a:lnTo>
                    <a:pt x="1225" y="275"/>
                  </a:lnTo>
                  <a:lnTo>
                    <a:pt x="1234" y="285"/>
                  </a:lnTo>
                  <a:lnTo>
                    <a:pt x="1245" y="297"/>
                  </a:lnTo>
                  <a:lnTo>
                    <a:pt x="1259" y="310"/>
                  </a:lnTo>
                  <a:lnTo>
                    <a:pt x="1276" y="325"/>
                  </a:lnTo>
                  <a:lnTo>
                    <a:pt x="1292" y="340"/>
                  </a:lnTo>
                  <a:lnTo>
                    <a:pt x="1309" y="354"/>
                  </a:lnTo>
                  <a:lnTo>
                    <a:pt x="1324" y="365"/>
                  </a:lnTo>
                  <a:lnTo>
                    <a:pt x="1334" y="375"/>
                  </a:lnTo>
                  <a:lnTo>
                    <a:pt x="1346" y="385"/>
                  </a:lnTo>
                  <a:lnTo>
                    <a:pt x="1362" y="397"/>
                  </a:lnTo>
                  <a:lnTo>
                    <a:pt x="1381" y="410"/>
                  </a:lnTo>
                  <a:lnTo>
                    <a:pt x="1401" y="424"/>
                  </a:lnTo>
                  <a:lnTo>
                    <a:pt x="1421" y="437"/>
                  </a:lnTo>
                  <a:lnTo>
                    <a:pt x="1436" y="445"/>
                  </a:lnTo>
                  <a:lnTo>
                    <a:pt x="1447" y="454"/>
                  </a:lnTo>
                  <a:lnTo>
                    <a:pt x="1451" y="455"/>
                  </a:lnTo>
                  <a:lnTo>
                    <a:pt x="1489" y="509"/>
                  </a:lnTo>
                  <a:lnTo>
                    <a:pt x="1497" y="509"/>
                  </a:lnTo>
                  <a:lnTo>
                    <a:pt x="1517" y="509"/>
                  </a:lnTo>
                  <a:lnTo>
                    <a:pt x="1546" y="509"/>
                  </a:lnTo>
                  <a:lnTo>
                    <a:pt x="1581" y="509"/>
                  </a:lnTo>
                  <a:lnTo>
                    <a:pt x="1617" y="510"/>
                  </a:lnTo>
                  <a:lnTo>
                    <a:pt x="1651" y="514"/>
                  </a:lnTo>
                  <a:lnTo>
                    <a:pt x="1677" y="520"/>
                  </a:lnTo>
                  <a:lnTo>
                    <a:pt x="1694" y="527"/>
                  </a:lnTo>
                  <a:lnTo>
                    <a:pt x="1696" y="527"/>
                  </a:lnTo>
                  <a:lnTo>
                    <a:pt x="1702" y="525"/>
                  </a:lnTo>
                  <a:lnTo>
                    <a:pt x="1712" y="522"/>
                  </a:lnTo>
                  <a:lnTo>
                    <a:pt x="1722" y="520"/>
                  </a:lnTo>
                  <a:lnTo>
                    <a:pt x="1736" y="519"/>
                  </a:lnTo>
                  <a:lnTo>
                    <a:pt x="1747" y="515"/>
                  </a:lnTo>
                  <a:lnTo>
                    <a:pt x="1759" y="514"/>
                  </a:lnTo>
                  <a:lnTo>
                    <a:pt x="1769" y="514"/>
                  </a:lnTo>
                  <a:lnTo>
                    <a:pt x="1782" y="515"/>
                  </a:lnTo>
                  <a:lnTo>
                    <a:pt x="1801" y="519"/>
                  </a:lnTo>
                  <a:lnTo>
                    <a:pt x="1823" y="522"/>
                  </a:lnTo>
                  <a:lnTo>
                    <a:pt x="1848" y="527"/>
                  </a:lnTo>
                  <a:lnTo>
                    <a:pt x="1869" y="534"/>
                  </a:lnTo>
                  <a:lnTo>
                    <a:pt x="1889" y="537"/>
                  </a:lnTo>
                  <a:lnTo>
                    <a:pt x="1903" y="540"/>
                  </a:lnTo>
                  <a:lnTo>
                    <a:pt x="1908" y="542"/>
                  </a:lnTo>
                  <a:lnTo>
                    <a:pt x="1926" y="604"/>
                  </a:lnTo>
                  <a:lnTo>
                    <a:pt x="2044" y="604"/>
                  </a:lnTo>
                  <a:lnTo>
                    <a:pt x="2064" y="689"/>
                  </a:lnTo>
                  <a:lnTo>
                    <a:pt x="2071" y="692"/>
                  </a:lnTo>
                  <a:lnTo>
                    <a:pt x="2083" y="704"/>
                  </a:lnTo>
                  <a:lnTo>
                    <a:pt x="2093" y="722"/>
                  </a:lnTo>
                  <a:lnTo>
                    <a:pt x="2093" y="746"/>
                  </a:lnTo>
                  <a:lnTo>
                    <a:pt x="2116" y="784"/>
                  </a:lnTo>
                  <a:lnTo>
                    <a:pt x="2154" y="769"/>
                  </a:lnTo>
                  <a:lnTo>
                    <a:pt x="2158" y="774"/>
                  </a:lnTo>
                  <a:lnTo>
                    <a:pt x="2164" y="786"/>
                  </a:lnTo>
                  <a:lnTo>
                    <a:pt x="2169" y="801"/>
                  </a:lnTo>
                  <a:lnTo>
                    <a:pt x="2173" y="812"/>
                  </a:lnTo>
                  <a:lnTo>
                    <a:pt x="2176" y="824"/>
                  </a:lnTo>
                  <a:lnTo>
                    <a:pt x="2183" y="834"/>
                  </a:lnTo>
                  <a:lnTo>
                    <a:pt x="2189" y="842"/>
                  </a:lnTo>
                  <a:lnTo>
                    <a:pt x="2193" y="846"/>
                  </a:lnTo>
                  <a:lnTo>
                    <a:pt x="2201" y="822"/>
                  </a:lnTo>
                  <a:lnTo>
                    <a:pt x="2226" y="869"/>
                  </a:lnTo>
                  <a:lnTo>
                    <a:pt x="2228" y="869"/>
                  </a:lnTo>
                  <a:lnTo>
                    <a:pt x="2234" y="871"/>
                  </a:lnTo>
                  <a:lnTo>
                    <a:pt x="2244" y="874"/>
                  </a:lnTo>
                  <a:lnTo>
                    <a:pt x="2254" y="877"/>
                  </a:lnTo>
                  <a:lnTo>
                    <a:pt x="2266" y="882"/>
                  </a:lnTo>
                  <a:lnTo>
                    <a:pt x="2276" y="887"/>
                  </a:lnTo>
                  <a:lnTo>
                    <a:pt x="2284" y="894"/>
                  </a:lnTo>
                  <a:lnTo>
                    <a:pt x="2288" y="902"/>
                  </a:lnTo>
                  <a:lnTo>
                    <a:pt x="2289" y="921"/>
                  </a:lnTo>
                  <a:lnTo>
                    <a:pt x="2293" y="937"/>
                  </a:lnTo>
                  <a:lnTo>
                    <a:pt x="2296" y="952"/>
                  </a:lnTo>
                  <a:lnTo>
                    <a:pt x="2306" y="964"/>
                  </a:lnTo>
                  <a:lnTo>
                    <a:pt x="2316" y="979"/>
                  </a:lnTo>
                  <a:lnTo>
                    <a:pt x="2321" y="996"/>
                  </a:lnTo>
                  <a:lnTo>
                    <a:pt x="2318" y="1011"/>
                  </a:lnTo>
                  <a:lnTo>
                    <a:pt x="2311" y="1017"/>
                  </a:lnTo>
                  <a:lnTo>
                    <a:pt x="2303" y="1019"/>
                  </a:lnTo>
                  <a:lnTo>
                    <a:pt x="2299" y="1024"/>
                  </a:lnTo>
                  <a:lnTo>
                    <a:pt x="2301" y="1032"/>
                  </a:lnTo>
                  <a:lnTo>
                    <a:pt x="2306" y="1046"/>
                  </a:lnTo>
                  <a:lnTo>
                    <a:pt x="2313" y="1061"/>
                  </a:lnTo>
                  <a:lnTo>
                    <a:pt x="2319" y="1076"/>
                  </a:lnTo>
                  <a:lnTo>
                    <a:pt x="2324" y="1092"/>
                  </a:lnTo>
                  <a:lnTo>
                    <a:pt x="2329" y="1107"/>
                  </a:lnTo>
                  <a:lnTo>
                    <a:pt x="2336" y="1117"/>
                  </a:lnTo>
                  <a:lnTo>
                    <a:pt x="2344" y="1121"/>
                  </a:lnTo>
                  <a:lnTo>
                    <a:pt x="2351" y="1121"/>
                  </a:lnTo>
                  <a:lnTo>
                    <a:pt x="2354" y="1121"/>
                  </a:lnTo>
                  <a:lnTo>
                    <a:pt x="2356" y="1129"/>
                  </a:lnTo>
                  <a:lnTo>
                    <a:pt x="2365" y="1149"/>
                  </a:lnTo>
                  <a:lnTo>
                    <a:pt x="2375" y="1174"/>
                  </a:lnTo>
                  <a:lnTo>
                    <a:pt x="2388" y="1192"/>
                  </a:lnTo>
                  <a:lnTo>
                    <a:pt x="2395" y="1201"/>
                  </a:lnTo>
                  <a:lnTo>
                    <a:pt x="2400" y="1209"/>
                  </a:lnTo>
                  <a:lnTo>
                    <a:pt x="2405" y="1217"/>
                  </a:lnTo>
                  <a:lnTo>
                    <a:pt x="2411" y="1227"/>
                  </a:lnTo>
                  <a:lnTo>
                    <a:pt x="2416" y="1236"/>
                  </a:lnTo>
                  <a:lnTo>
                    <a:pt x="2425" y="1244"/>
                  </a:lnTo>
                  <a:lnTo>
                    <a:pt x="2433" y="1253"/>
                  </a:lnTo>
                  <a:lnTo>
                    <a:pt x="2445" y="1259"/>
                  </a:lnTo>
                  <a:lnTo>
                    <a:pt x="2456" y="1263"/>
                  </a:lnTo>
                  <a:lnTo>
                    <a:pt x="2468" y="1263"/>
                  </a:lnTo>
                  <a:lnTo>
                    <a:pt x="2478" y="1263"/>
                  </a:lnTo>
                  <a:lnTo>
                    <a:pt x="2486" y="1259"/>
                  </a:lnTo>
                  <a:lnTo>
                    <a:pt x="2493" y="1256"/>
                  </a:lnTo>
                  <a:lnTo>
                    <a:pt x="2498" y="1253"/>
                  </a:lnTo>
                  <a:lnTo>
                    <a:pt x="2500" y="1251"/>
                  </a:lnTo>
                  <a:lnTo>
                    <a:pt x="2501" y="1249"/>
                  </a:lnTo>
                  <a:lnTo>
                    <a:pt x="2520" y="1259"/>
                  </a:lnTo>
                  <a:lnTo>
                    <a:pt x="2501" y="1293"/>
                  </a:lnTo>
                  <a:lnTo>
                    <a:pt x="2501" y="1294"/>
                  </a:lnTo>
                  <a:lnTo>
                    <a:pt x="2501" y="1299"/>
                  </a:lnTo>
                  <a:lnTo>
                    <a:pt x="2503" y="1304"/>
                  </a:lnTo>
                  <a:lnTo>
                    <a:pt x="2511" y="1306"/>
                  </a:lnTo>
                  <a:lnTo>
                    <a:pt x="2521" y="1314"/>
                  </a:lnTo>
                  <a:lnTo>
                    <a:pt x="2531" y="1329"/>
                  </a:lnTo>
                  <a:lnTo>
                    <a:pt x="2536" y="1346"/>
                  </a:lnTo>
                  <a:lnTo>
                    <a:pt x="2540" y="1354"/>
                  </a:lnTo>
                  <a:lnTo>
                    <a:pt x="2541" y="1356"/>
                  </a:lnTo>
                  <a:lnTo>
                    <a:pt x="2546" y="1361"/>
                  </a:lnTo>
                  <a:lnTo>
                    <a:pt x="2553" y="1368"/>
                  </a:lnTo>
                  <a:lnTo>
                    <a:pt x="2561" y="1378"/>
                  </a:lnTo>
                  <a:lnTo>
                    <a:pt x="2571" y="1388"/>
                  </a:lnTo>
                  <a:lnTo>
                    <a:pt x="2583" y="1401"/>
                  </a:lnTo>
                  <a:lnTo>
                    <a:pt x="2595" y="1414"/>
                  </a:lnTo>
                  <a:lnTo>
                    <a:pt x="2606" y="1428"/>
                  </a:lnTo>
                  <a:lnTo>
                    <a:pt x="2618" y="1443"/>
                  </a:lnTo>
                  <a:lnTo>
                    <a:pt x="2631" y="1458"/>
                  </a:lnTo>
                  <a:lnTo>
                    <a:pt x="2645" y="1473"/>
                  </a:lnTo>
                  <a:lnTo>
                    <a:pt x="2658" y="1488"/>
                  </a:lnTo>
                  <a:lnTo>
                    <a:pt x="2670" y="1501"/>
                  </a:lnTo>
                  <a:lnTo>
                    <a:pt x="2680" y="1511"/>
                  </a:lnTo>
                  <a:lnTo>
                    <a:pt x="2688" y="1521"/>
                  </a:lnTo>
                  <a:lnTo>
                    <a:pt x="2691" y="1528"/>
                  </a:lnTo>
                  <a:lnTo>
                    <a:pt x="2701" y="1533"/>
                  </a:lnTo>
                  <a:lnTo>
                    <a:pt x="2723" y="1538"/>
                  </a:lnTo>
                  <a:lnTo>
                    <a:pt x="2753" y="1543"/>
                  </a:lnTo>
                  <a:lnTo>
                    <a:pt x="2790" y="1546"/>
                  </a:lnTo>
                  <a:lnTo>
                    <a:pt x="2828" y="1549"/>
                  </a:lnTo>
                  <a:lnTo>
                    <a:pt x="2863" y="1551"/>
                  </a:lnTo>
                  <a:lnTo>
                    <a:pt x="2891" y="1554"/>
                  </a:lnTo>
                  <a:lnTo>
                    <a:pt x="2910" y="1556"/>
                  </a:lnTo>
                  <a:lnTo>
                    <a:pt x="2925" y="1558"/>
                  </a:lnTo>
                  <a:lnTo>
                    <a:pt x="2945" y="1559"/>
                  </a:lnTo>
                  <a:lnTo>
                    <a:pt x="2968" y="1561"/>
                  </a:lnTo>
                  <a:lnTo>
                    <a:pt x="2992" y="1563"/>
                  </a:lnTo>
                  <a:lnTo>
                    <a:pt x="3013" y="1566"/>
                  </a:lnTo>
                  <a:lnTo>
                    <a:pt x="3033" y="1568"/>
                  </a:lnTo>
                  <a:lnTo>
                    <a:pt x="3048" y="1569"/>
                  </a:lnTo>
                  <a:lnTo>
                    <a:pt x="3057" y="1571"/>
                  </a:lnTo>
                  <a:lnTo>
                    <a:pt x="3070" y="1569"/>
                  </a:lnTo>
                  <a:lnTo>
                    <a:pt x="3083" y="1563"/>
                  </a:lnTo>
                  <a:lnTo>
                    <a:pt x="3095" y="1554"/>
                  </a:lnTo>
                  <a:lnTo>
                    <a:pt x="3100" y="1551"/>
                  </a:lnTo>
                  <a:lnTo>
                    <a:pt x="3102" y="1553"/>
                  </a:lnTo>
                  <a:lnTo>
                    <a:pt x="3105" y="1556"/>
                  </a:lnTo>
                  <a:lnTo>
                    <a:pt x="3112" y="1561"/>
                  </a:lnTo>
                  <a:lnTo>
                    <a:pt x="3120" y="1568"/>
                  </a:lnTo>
                  <a:lnTo>
                    <a:pt x="3130" y="1576"/>
                  </a:lnTo>
                  <a:lnTo>
                    <a:pt x="3140" y="1586"/>
                  </a:lnTo>
                  <a:lnTo>
                    <a:pt x="3152" y="1598"/>
                  </a:lnTo>
                  <a:lnTo>
                    <a:pt x="3162" y="1609"/>
                  </a:lnTo>
                  <a:lnTo>
                    <a:pt x="3172" y="1624"/>
                  </a:lnTo>
                  <a:lnTo>
                    <a:pt x="3180" y="1638"/>
                  </a:lnTo>
                  <a:lnTo>
                    <a:pt x="3183" y="1653"/>
                  </a:lnTo>
                  <a:lnTo>
                    <a:pt x="3185" y="1668"/>
                  </a:lnTo>
                  <a:lnTo>
                    <a:pt x="3185" y="1678"/>
                  </a:lnTo>
                  <a:lnTo>
                    <a:pt x="3183" y="1688"/>
                  </a:lnTo>
                  <a:lnTo>
                    <a:pt x="3180" y="1696"/>
                  </a:lnTo>
                  <a:lnTo>
                    <a:pt x="3175" y="1704"/>
                  </a:lnTo>
                  <a:lnTo>
                    <a:pt x="3168" y="1724"/>
                  </a:lnTo>
                  <a:lnTo>
                    <a:pt x="3168" y="1748"/>
                  </a:lnTo>
                  <a:lnTo>
                    <a:pt x="3168" y="1771"/>
                  </a:lnTo>
                  <a:lnTo>
                    <a:pt x="3167" y="1795"/>
                  </a:lnTo>
                  <a:lnTo>
                    <a:pt x="3162" y="1815"/>
                  </a:lnTo>
                  <a:lnTo>
                    <a:pt x="3153" y="1835"/>
                  </a:lnTo>
                  <a:lnTo>
                    <a:pt x="3145" y="1851"/>
                  </a:lnTo>
                  <a:lnTo>
                    <a:pt x="3138" y="1870"/>
                  </a:lnTo>
                  <a:lnTo>
                    <a:pt x="3132" y="1890"/>
                  </a:lnTo>
                  <a:lnTo>
                    <a:pt x="3125" y="1913"/>
                  </a:lnTo>
                  <a:lnTo>
                    <a:pt x="3120" y="1933"/>
                  </a:lnTo>
                  <a:lnTo>
                    <a:pt x="3118" y="1951"/>
                  </a:lnTo>
                  <a:lnTo>
                    <a:pt x="3117" y="1965"/>
                  </a:lnTo>
                  <a:lnTo>
                    <a:pt x="3115" y="1976"/>
                  </a:lnTo>
                  <a:lnTo>
                    <a:pt x="3108" y="1986"/>
                  </a:lnTo>
                  <a:lnTo>
                    <a:pt x="3100" y="1993"/>
                  </a:lnTo>
                  <a:lnTo>
                    <a:pt x="3093" y="1996"/>
                  </a:lnTo>
                  <a:lnTo>
                    <a:pt x="3078" y="2003"/>
                  </a:lnTo>
                  <a:lnTo>
                    <a:pt x="3057" y="2013"/>
                  </a:lnTo>
                  <a:lnTo>
                    <a:pt x="3028" y="2026"/>
                  </a:lnTo>
                  <a:lnTo>
                    <a:pt x="2997" y="2040"/>
                  </a:lnTo>
                  <a:lnTo>
                    <a:pt x="2962" y="2056"/>
                  </a:lnTo>
                  <a:lnTo>
                    <a:pt x="2923" y="2073"/>
                  </a:lnTo>
                  <a:lnTo>
                    <a:pt x="2885" y="2090"/>
                  </a:lnTo>
                  <a:lnTo>
                    <a:pt x="2845" y="2108"/>
                  </a:lnTo>
                  <a:lnTo>
                    <a:pt x="2806" y="2125"/>
                  </a:lnTo>
                  <a:lnTo>
                    <a:pt x="2770" y="2141"/>
                  </a:lnTo>
                  <a:lnTo>
                    <a:pt x="2736" y="2155"/>
                  </a:lnTo>
                  <a:lnTo>
                    <a:pt x="2708" y="2168"/>
                  </a:lnTo>
                  <a:lnTo>
                    <a:pt x="2685" y="2180"/>
                  </a:lnTo>
                  <a:lnTo>
                    <a:pt x="2668" y="2188"/>
                  </a:lnTo>
                  <a:lnTo>
                    <a:pt x="2658" y="2193"/>
                  </a:lnTo>
                  <a:lnTo>
                    <a:pt x="2645" y="2200"/>
                  </a:lnTo>
                  <a:lnTo>
                    <a:pt x="2628" y="2205"/>
                  </a:lnTo>
                  <a:lnTo>
                    <a:pt x="2608" y="2208"/>
                  </a:lnTo>
                  <a:lnTo>
                    <a:pt x="2586" y="2211"/>
                  </a:lnTo>
                  <a:lnTo>
                    <a:pt x="2561" y="2215"/>
                  </a:lnTo>
                  <a:lnTo>
                    <a:pt x="2535" y="2220"/>
                  </a:lnTo>
                  <a:lnTo>
                    <a:pt x="2508" y="2225"/>
                  </a:lnTo>
                  <a:lnTo>
                    <a:pt x="2481" y="2231"/>
                  </a:lnTo>
                  <a:lnTo>
                    <a:pt x="2466" y="2235"/>
                  </a:lnTo>
                  <a:lnTo>
                    <a:pt x="2446" y="2240"/>
                  </a:lnTo>
                  <a:lnTo>
                    <a:pt x="2425" y="2245"/>
                  </a:lnTo>
                  <a:lnTo>
                    <a:pt x="2398" y="2252"/>
                  </a:lnTo>
                  <a:lnTo>
                    <a:pt x="2371" y="2258"/>
                  </a:lnTo>
                  <a:lnTo>
                    <a:pt x="2343" y="2265"/>
                  </a:lnTo>
                  <a:lnTo>
                    <a:pt x="2313" y="2272"/>
                  </a:lnTo>
                  <a:lnTo>
                    <a:pt x="2283" y="2278"/>
                  </a:lnTo>
                  <a:lnTo>
                    <a:pt x="2253" y="2285"/>
                  </a:lnTo>
                  <a:lnTo>
                    <a:pt x="2224" y="2293"/>
                  </a:lnTo>
                  <a:lnTo>
                    <a:pt x="2198" y="2300"/>
                  </a:lnTo>
                  <a:lnTo>
                    <a:pt x="2173" y="2307"/>
                  </a:lnTo>
                  <a:lnTo>
                    <a:pt x="2151" y="2312"/>
                  </a:lnTo>
                  <a:lnTo>
                    <a:pt x="2134" y="2318"/>
                  </a:lnTo>
                  <a:lnTo>
                    <a:pt x="2119" y="2323"/>
                  </a:lnTo>
                  <a:lnTo>
                    <a:pt x="2111" y="2327"/>
                  </a:lnTo>
                  <a:lnTo>
                    <a:pt x="2098" y="2333"/>
                  </a:lnTo>
                  <a:lnTo>
                    <a:pt x="2086" y="2338"/>
                  </a:lnTo>
                  <a:lnTo>
                    <a:pt x="2071" y="2347"/>
                  </a:lnTo>
                  <a:lnTo>
                    <a:pt x="2058" y="2353"/>
                  </a:lnTo>
                  <a:lnTo>
                    <a:pt x="2043" y="2365"/>
                  </a:lnTo>
                  <a:lnTo>
                    <a:pt x="2028" y="2378"/>
                  </a:lnTo>
                  <a:lnTo>
                    <a:pt x="2011" y="2398"/>
                  </a:lnTo>
                  <a:lnTo>
                    <a:pt x="1993" y="2422"/>
                  </a:lnTo>
                  <a:lnTo>
                    <a:pt x="1976" y="2447"/>
                  </a:lnTo>
                  <a:lnTo>
                    <a:pt x="1961" y="2470"/>
                  </a:lnTo>
                  <a:lnTo>
                    <a:pt x="1946" y="2492"/>
                  </a:lnTo>
                  <a:lnTo>
                    <a:pt x="1933" y="2512"/>
                  </a:lnTo>
                  <a:lnTo>
                    <a:pt x="1923" y="2528"/>
                  </a:lnTo>
                  <a:lnTo>
                    <a:pt x="1913" y="2542"/>
                  </a:lnTo>
                  <a:lnTo>
                    <a:pt x="1904" y="2552"/>
                  </a:lnTo>
                  <a:lnTo>
                    <a:pt x="1898" y="2558"/>
                  </a:lnTo>
                  <a:lnTo>
                    <a:pt x="1891" y="2563"/>
                  </a:lnTo>
                  <a:lnTo>
                    <a:pt x="1884" y="2568"/>
                  </a:lnTo>
                  <a:lnTo>
                    <a:pt x="1874" y="2573"/>
                  </a:lnTo>
                  <a:lnTo>
                    <a:pt x="1864" y="2575"/>
                  </a:lnTo>
                  <a:lnTo>
                    <a:pt x="1853" y="2577"/>
                  </a:lnTo>
                  <a:lnTo>
                    <a:pt x="1843" y="2577"/>
                  </a:lnTo>
                  <a:lnTo>
                    <a:pt x="1833" y="2573"/>
                  </a:lnTo>
                  <a:lnTo>
                    <a:pt x="1823" y="2568"/>
                  </a:lnTo>
                  <a:lnTo>
                    <a:pt x="1814" y="2562"/>
                  </a:lnTo>
                  <a:lnTo>
                    <a:pt x="1806" y="2553"/>
                  </a:lnTo>
                  <a:lnTo>
                    <a:pt x="1799" y="2547"/>
                  </a:lnTo>
                  <a:lnTo>
                    <a:pt x="1794" y="2538"/>
                  </a:lnTo>
                  <a:lnTo>
                    <a:pt x="1787" y="2533"/>
                  </a:lnTo>
                  <a:lnTo>
                    <a:pt x="1781" y="2530"/>
                  </a:lnTo>
                  <a:lnTo>
                    <a:pt x="1772" y="2528"/>
                  </a:lnTo>
                  <a:lnTo>
                    <a:pt x="1764" y="2530"/>
                  </a:lnTo>
                  <a:lnTo>
                    <a:pt x="1752" y="2533"/>
                  </a:lnTo>
                  <a:lnTo>
                    <a:pt x="1739" y="2535"/>
                  </a:lnTo>
                  <a:lnTo>
                    <a:pt x="1722" y="2535"/>
                  </a:lnTo>
                  <a:lnTo>
                    <a:pt x="1704" y="2535"/>
                  </a:lnTo>
                  <a:lnTo>
                    <a:pt x="1684" y="2535"/>
                  </a:lnTo>
                  <a:lnTo>
                    <a:pt x="1666" y="2533"/>
                  </a:lnTo>
                  <a:lnTo>
                    <a:pt x="1647" y="2532"/>
                  </a:lnTo>
                  <a:lnTo>
                    <a:pt x="1632" y="2530"/>
                  </a:lnTo>
                  <a:lnTo>
                    <a:pt x="1617" y="2528"/>
                  </a:lnTo>
                  <a:lnTo>
                    <a:pt x="1602" y="2525"/>
                  </a:lnTo>
                  <a:lnTo>
                    <a:pt x="1589" y="2520"/>
                  </a:lnTo>
                  <a:lnTo>
                    <a:pt x="1574" y="2517"/>
                  </a:lnTo>
                  <a:lnTo>
                    <a:pt x="1561" y="2513"/>
                  </a:lnTo>
                  <a:lnTo>
                    <a:pt x="1549" y="2510"/>
                  </a:lnTo>
                  <a:lnTo>
                    <a:pt x="1537" y="2507"/>
                  </a:lnTo>
                  <a:lnTo>
                    <a:pt x="1527" y="2507"/>
                  </a:lnTo>
                  <a:lnTo>
                    <a:pt x="1514" y="2507"/>
                  </a:lnTo>
                  <a:lnTo>
                    <a:pt x="1492" y="2507"/>
                  </a:lnTo>
                  <a:lnTo>
                    <a:pt x="1466" y="2508"/>
                  </a:lnTo>
                  <a:lnTo>
                    <a:pt x="1436" y="2508"/>
                  </a:lnTo>
                  <a:lnTo>
                    <a:pt x="1409" y="2510"/>
                  </a:lnTo>
                  <a:lnTo>
                    <a:pt x="1386" y="2512"/>
                  </a:lnTo>
                  <a:lnTo>
                    <a:pt x="1369" y="2512"/>
                  </a:lnTo>
                  <a:lnTo>
                    <a:pt x="1362" y="2512"/>
                  </a:lnTo>
                  <a:lnTo>
                    <a:pt x="1361" y="2513"/>
                  </a:lnTo>
                  <a:lnTo>
                    <a:pt x="1356" y="2515"/>
                  </a:lnTo>
                  <a:lnTo>
                    <a:pt x="1349" y="2518"/>
                  </a:lnTo>
                  <a:lnTo>
                    <a:pt x="1339" y="2520"/>
                  </a:lnTo>
                  <a:lnTo>
                    <a:pt x="1329" y="2522"/>
                  </a:lnTo>
                  <a:lnTo>
                    <a:pt x="1317" y="2522"/>
                  </a:lnTo>
                  <a:lnTo>
                    <a:pt x="1304" y="2518"/>
                  </a:lnTo>
                  <a:lnTo>
                    <a:pt x="1292" y="2512"/>
                  </a:lnTo>
                  <a:lnTo>
                    <a:pt x="1281" y="2503"/>
                  </a:lnTo>
                  <a:lnTo>
                    <a:pt x="1272" y="2497"/>
                  </a:lnTo>
                  <a:lnTo>
                    <a:pt x="1266" y="2490"/>
                  </a:lnTo>
                  <a:lnTo>
                    <a:pt x="1261" y="2485"/>
                  </a:lnTo>
                  <a:lnTo>
                    <a:pt x="1256" y="2482"/>
                  </a:lnTo>
                  <a:lnTo>
                    <a:pt x="1250" y="2480"/>
                  </a:lnTo>
                  <a:lnTo>
                    <a:pt x="1245" y="2480"/>
                  </a:lnTo>
                  <a:lnTo>
                    <a:pt x="1239" y="2483"/>
                  </a:lnTo>
                  <a:lnTo>
                    <a:pt x="1232" y="2490"/>
                  </a:lnTo>
                  <a:lnTo>
                    <a:pt x="1235" y="2498"/>
                  </a:lnTo>
                  <a:lnTo>
                    <a:pt x="1240" y="2510"/>
                  </a:lnTo>
                  <a:lnTo>
                    <a:pt x="1239" y="2525"/>
                  </a:lnTo>
                  <a:lnTo>
                    <a:pt x="1234" y="2545"/>
                  </a:lnTo>
                  <a:lnTo>
                    <a:pt x="1232" y="2567"/>
                  </a:lnTo>
                  <a:lnTo>
                    <a:pt x="1234" y="2587"/>
                  </a:lnTo>
                  <a:lnTo>
                    <a:pt x="1234" y="2602"/>
                  </a:lnTo>
                  <a:lnTo>
                    <a:pt x="1230" y="2615"/>
                  </a:lnTo>
                  <a:lnTo>
                    <a:pt x="1225" y="2630"/>
                  </a:lnTo>
                  <a:lnTo>
                    <a:pt x="1219" y="2643"/>
                  </a:lnTo>
                  <a:lnTo>
                    <a:pt x="1215" y="2648"/>
                  </a:lnTo>
                  <a:lnTo>
                    <a:pt x="1177" y="2678"/>
                  </a:lnTo>
                  <a:lnTo>
                    <a:pt x="1175" y="2672"/>
                  </a:lnTo>
                  <a:lnTo>
                    <a:pt x="1170" y="2657"/>
                  </a:lnTo>
                  <a:lnTo>
                    <a:pt x="1167" y="2640"/>
                  </a:lnTo>
                  <a:lnTo>
                    <a:pt x="1167" y="2625"/>
                  </a:lnTo>
                  <a:lnTo>
                    <a:pt x="1167" y="2613"/>
                  </a:lnTo>
                  <a:lnTo>
                    <a:pt x="1164" y="2598"/>
                  </a:lnTo>
                  <a:lnTo>
                    <a:pt x="1154" y="2583"/>
                  </a:lnTo>
                  <a:lnTo>
                    <a:pt x="1144" y="2568"/>
                  </a:lnTo>
                  <a:lnTo>
                    <a:pt x="1134" y="2555"/>
                  </a:lnTo>
                  <a:lnTo>
                    <a:pt x="1124" y="2543"/>
                  </a:lnTo>
                  <a:lnTo>
                    <a:pt x="1115" y="2532"/>
                  </a:lnTo>
                  <a:lnTo>
                    <a:pt x="1110" y="2522"/>
                  </a:lnTo>
                  <a:lnTo>
                    <a:pt x="1107" y="2508"/>
                  </a:lnTo>
                  <a:lnTo>
                    <a:pt x="1104" y="2492"/>
                  </a:lnTo>
                  <a:lnTo>
                    <a:pt x="1095" y="2475"/>
                  </a:lnTo>
                  <a:lnTo>
                    <a:pt x="1082" y="2458"/>
                  </a:lnTo>
                  <a:lnTo>
                    <a:pt x="1072" y="2450"/>
                  </a:lnTo>
                  <a:lnTo>
                    <a:pt x="1059" y="2437"/>
                  </a:lnTo>
                  <a:lnTo>
                    <a:pt x="1044" y="2423"/>
                  </a:lnTo>
                  <a:lnTo>
                    <a:pt x="1029" y="2405"/>
                  </a:lnTo>
                  <a:lnTo>
                    <a:pt x="1014" y="2387"/>
                  </a:lnTo>
                  <a:lnTo>
                    <a:pt x="999" y="2368"/>
                  </a:lnTo>
                  <a:lnTo>
                    <a:pt x="987" y="2350"/>
                  </a:lnTo>
                  <a:lnTo>
                    <a:pt x="979" y="2332"/>
                  </a:lnTo>
                  <a:lnTo>
                    <a:pt x="964" y="2302"/>
                  </a:lnTo>
                  <a:lnTo>
                    <a:pt x="949" y="2280"/>
                  </a:lnTo>
                  <a:lnTo>
                    <a:pt x="937" y="2263"/>
                  </a:lnTo>
                  <a:lnTo>
                    <a:pt x="930" y="2245"/>
                  </a:lnTo>
                  <a:lnTo>
                    <a:pt x="927" y="2231"/>
                  </a:lnTo>
                  <a:lnTo>
                    <a:pt x="920" y="2211"/>
                  </a:lnTo>
                  <a:lnTo>
                    <a:pt x="910" y="2190"/>
                  </a:lnTo>
                  <a:lnTo>
                    <a:pt x="900" y="2166"/>
                  </a:lnTo>
                  <a:lnTo>
                    <a:pt x="890" y="2143"/>
                  </a:lnTo>
                  <a:lnTo>
                    <a:pt x="880" y="2123"/>
                  </a:lnTo>
                  <a:lnTo>
                    <a:pt x="870" y="2108"/>
                  </a:lnTo>
                  <a:lnTo>
                    <a:pt x="864" y="2098"/>
                  </a:lnTo>
                  <a:lnTo>
                    <a:pt x="854" y="2085"/>
                  </a:lnTo>
                  <a:lnTo>
                    <a:pt x="845" y="2071"/>
                  </a:lnTo>
                  <a:lnTo>
                    <a:pt x="834" y="2056"/>
                  </a:lnTo>
                  <a:lnTo>
                    <a:pt x="822" y="2041"/>
                  </a:lnTo>
                  <a:lnTo>
                    <a:pt x="814" y="2033"/>
                  </a:lnTo>
                  <a:lnTo>
                    <a:pt x="802" y="2025"/>
                  </a:lnTo>
                  <a:lnTo>
                    <a:pt x="790" y="2018"/>
                  </a:lnTo>
                  <a:lnTo>
                    <a:pt x="779" y="2010"/>
                  </a:lnTo>
                  <a:lnTo>
                    <a:pt x="765" y="2003"/>
                  </a:lnTo>
                  <a:lnTo>
                    <a:pt x="752" y="1998"/>
                  </a:lnTo>
                  <a:lnTo>
                    <a:pt x="740" y="1995"/>
                  </a:lnTo>
                  <a:lnTo>
                    <a:pt x="730" y="1993"/>
                  </a:lnTo>
                  <a:lnTo>
                    <a:pt x="722" y="1991"/>
                  </a:lnTo>
                  <a:lnTo>
                    <a:pt x="717" y="1988"/>
                  </a:lnTo>
                  <a:lnTo>
                    <a:pt x="710" y="1983"/>
                  </a:lnTo>
                  <a:lnTo>
                    <a:pt x="705" y="1975"/>
                  </a:lnTo>
                  <a:lnTo>
                    <a:pt x="700" y="1966"/>
                  </a:lnTo>
                  <a:lnTo>
                    <a:pt x="693" y="1953"/>
                  </a:lnTo>
                  <a:lnTo>
                    <a:pt x="685" y="1940"/>
                  </a:lnTo>
                  <a:lnTo>
                    <a:pt x="673" y="1923"/>
                  </a:lnTo>
                  <a:lnTo>
                    <a:pt x="662" y="1905"/>
                  </a:lnTo>
                  <a:lnTo>
                    <a:pt x="652" y="1886"/>
                  </a:lnTo>
                  <a:lnTo>
                    <a:pt x="642" y="1868"/>
                  </a:lnTo>
                  <a:lnTo>
                    <a:pt x="635" y="1851"/>
                  </a:lnTo>
                  <a:lnTo>
                    <a:pt x="628" y="1833"/>
                  </a:lnTo>
                  <a:lnTo>
                    <a:pt x="623" y="1818"/>
                  </a:lnTo>
                  <a:lnTo>
                    <a:pt x="620" y="1803"/>
                  </a:lnTo>
                  <a:lnTo>
                    <a:pt x="617" y="1790"/>
                  </a:lnTo>
                  <a:lnTo>
                    <a:pt x="612" y="1765"/>
                  </a:lnTo>
                  <a:lnTo>
                    <a:pt x="603" y="1741"/>
                  </a:lnTo>
                  <a:lnTo>
                    <a:pt x="597" y="1724"/>
                  </a:lnTo>
                  <a:lnTo>
                    <a:pt x="593" y="1718"/>
                  </a:lnTo>
                  <a:lnTo>
                    <a:pt x="600" y="1706"/>
                  </a:lnTo>
                  <a:lnTo>
                    <a:pt x="610" y="1676"/>
                  </a:lnTo>
                  <a:lnTo>
                    <a:pt x="617" y="1636"/>
                  </a:lnTo>
                  <a:lnTo>
                    <a:pt x="607" y="1594"/>
                  </a:lnTo>
                  <a:lnTo>
                    <a:pt x="590" y="1559"/>
                  </a:lnTo>
                  <a:lnTo>
                    <a:pt x="582" y="1531"/>
                  </a:lnTo>
                  <a:lnTo>
                    <a:pt x="573" y="1503"/>
                  </a:lnTo>
                  <a:lnTo>
                    <a:pt x="560" y="1471"/>
                  </a:lnTo>
                  <a:lnTo>
                    <a:pt x="552" y="1454"/>
                  </a:lnTo>
                  <a:lnTo>
                    <a:pt x="547" y="1439"/>
                  </a:lnTo>
                  <a:lnTo>
                    <a:pt x="542" y="1426"/>
                  </a:lnTo>
                  <a:lnTo>
                    <a:pt x="537" y="1413"/>
                  </a:lnTo>
                  <a:lnTo>
                    <a:pt x="532" y="1401"/>
                  </a:lnTo>
                  <a:lnTo>
                    <a:pt x="525" y="1393"/>
                  </a:lnTo>
                  <a:lnTo>
                    <a:pt x="518" y="1383"/>
                  </a:lnTo>
                  <a:lnTo>
                    <a:pt x="508" y="1376"/>
                  </a:lnTo>
                  <a:lnTo>
                    <a:pt x="497" y="1369"/>
                  </a:lnTo>
                  <a:lnTo>
                    <a:pt x="487" y="1361"/>
                  </a:lnTo>
                  <a:lnTo>
                    <a:pt x="475" y="1354"/>
                  </a:lnTo>
                  <a:lnTo>
                    <a:pt x="463" y="1346"/>
                  </a:lnTo>
                  <a:lnTo>
                    <a:pt x="452" y="1338"/>
                  </a:lnTo>
                  <a:lnTo>
                    <a:pt x="440" y="1329"/>
                  </a:lnTo>
                  <a:lnTo>
                    <a:pt x="427" y="1323"/>
                  </a:lnTo>
                  <a:lnTo>
                    <a:pt x="413" y="1316"/>
                  </a:lnTo>
                  <a:lnTo>
                    <a:pt x="392" y="1303"/>
                  </a:lnTo>
                  <a:lnTo>
                    <a:pt x="382" y="1286"/>
                  </a:lnTo>
                  <a:lnTo>
                    <a:pt x="375" y="1268"/>
                  </a:lnTo>
                  <a:lnTo>
                    <a:pt x="365" y="1249"/>
                  </a:lnTo>
                  <a:lnTo>
                    <a:pt x="355" y="1232"/>
                  </a:lnTo>
                  <a:lnTo>
                    <a:pt x="348" y="1219"/>
                  </a:lnTo>
                  <a:lnTo>
                    <a:pt x="347" y="1209"/>
                  </a:lnTo>
                  <a:lnTo>
                    <a:pt x="347" y="1206"/>
                  </a:lnTo>
                  <a:lnTo>
                    <a:pt x="348" y="1206"/>
                  </a:lnTo>
                  <a:lnTo>
                    <a:pt x="353" y="1204"/>
                  </a:lnTo>
                  <a:lnTo>
                    <a:pt x="360" y="1201"/>
                  </a:lnTo>
                  <a:lnTo>
                    <a:pt x="367" y="1194"/>
                  </a:lnTo>
                  <a:lnTo>
                    <a:pt x="370" y="1187"/>
                  </a:lnTo>
                  <a:lnTo>
                    <a:pt x="370" y="1176"/>
                  </a:lnTo>
                  <a:lnTo>
                    <a:pt x="365" y="1162"/>
                  </a:lnTo>
                  <a:lnTo>
                    <a:pt x="352" y="1144"/>
                  </a:lnTo>
                  <a:lnTo>
                    <a:pt x="330" y="1122"/>
                  </a:lnTo>
                  <a:lnTo>
                    <a:pt x="327" y="1122"/>
                  </a:lnTo>
                  <a:lnTo>
                    <a:pt x="330" y="1126"/>
                  </a:lnTo>
                  <a:lnTo>
                    <a:pt x="327" y="1112"/>
                  </a:lnTo>
                  <a:lnTo>
                    <a:pt x="320" y="1091"/>
                  </a:lnTo>
                  <a:lnTo>
                    <a:pt x="315" y="1076"/>
                  </a:lnTo>
                  <a:lnTo>
                    <a:pt x="308" y="1066"/>
                  </a:lnTo>
                  <a:lnTo>
                    <a:pt x="293" y="1054"/>
                  </a:lnTo>
                  <a:lnTo>
                    <a:pt x="283" y="1039"/>
                  </a:lnTo>
                  <a:lnTo>
                    <a:pt x="285" y="1024"/>
                  </a:lnTo>
                  <a:lnTo>
                    <a:pt x="287" y="1011"/>
                  </a:lnTo>
                  <a:lnTo>
                    <a:pt x="275" y="997"/>
                  </a:lnTo>
                  <a:lnTo>
                    <a:pt x="257" y="986"/>
                  </a:lnTo>
                  <a:lnTo>
                    <a:pt x="243" y="971"/>
                  </a:lnTo>
                  <a:lnTo>
                    <a:pt x="235" y="954"/>
                  </a:lnTo>
                  <a:lnTo>
                    <a:pt x="232" y="936"/>
                  </a:lnTo>
                  <a:lnTo>
                    <a:pt x="228" y="916"/>
                  </a:lnTo>
                  <a:lnTo>
                    <a:pt x="218" y="889"/>
                  </a:lnTo>
                  <a:lnTo>
                    <a:pt x="205" y="862"/>
                  </a:lnTo>
                  <a:lnTo>
                    <a:pt x="185" y="836"/>
                  </a:lnTo>
                  <a:lnTo>
                    <a:pt x="172" y="814"/>
                  </a:lnTo>
                  <a:lnTo>
                    <a:pt x="168" y="796"/>
                  </a:lnTo>
                  <a:lnTo>
                    <a:pt x="167" y="782"/>
                  </a:lnTo>
                  <a:lnTo>
                    <a:pt x="157" y="774"/>
                  </a:lnTo>
                  <a:lnTo>
                    <a:pt x="145" y="766"/>
                  </a:lnTo>
                  <a:lnTo>
                    <a:pt x="140" y="754"/>
                  </a:lnTo>
                  <a:lnTo>
                    <a:pt x="133" y="739"/>
                  </a:lnTo>
                  <a:lnTo>
                    <a:pt x="118" y="722"/>
                  </a:lnTo>
                  <a:lnTo>
                    <a:pt x="100" y="700"/>
                  </a:lnTo>
                  <a:lnTo>
                    <a:pt x="86" y="674"/>
                  </a:lnTo>
                  <a:lnTo>
                    <a:pt x="78" y="652"/>
                  </a:lnTo>
                  <a:lnTo>
                    <a:pt x="75" y="642"/>
                  </a:lnTo>
                  <a:lnTo>
                    <a:pt x="70" y="642"/>
                  </a:lnTo>
                  <a:lnTo>
                    <a:pt x="60" y="642"/>
                  </a:lnTo>
                  <a:lnTo>
                    <a:pt x="45" y="642"/>
                  </a:lnTo>
                  <a:lnTo>
                    <a:pt x="33" y="642"/>
                  </a:lnTo>
                  <a:lnTo>
                    <a:pt x="21" y="642"/>
                  </a:lnTo>
                  <a:lnTo>
                    <a:pt x="11" y="644"/>
                  </a:lnTo>
                  <a:lnTo>
                    <a:pt x="3" y="645"/>
                  </a:lnTo>
                  <a:lnTo>
                    <a:pt x="0" y="645"/>
                  </a:lnTo>
                  <a:lnTo>
                    <a:pt x="1" y="642"/>
                  </a:lnTo>
                  <a:lnTo>
                    <a:pt x="5" y="632"/>
                  </a:lnTo>
                  <a:lnTo>
                    <a:pt x="8" y="620"/>
                  </a:lnTo>
                  <a:lnTo>
                    <a:pt x="13" y="609"/>
                  </a:lnTo>
                  <a:lnTo>
                    <a:pt x="20" y="592"/>
                  </a:lnTo>
                  <a:lnTo>
                    <a:pt x="28" y="569"/>
                  </a:lnTo>
                  <a:lnTo>
                    <a:pt x="35" y="542"/>
                  </a:lnTo>
                  <a:lnTo>
                    <a:pt x="38" y="517"/>
                  </a:lnTo>
                  <a:lnTo>
                    <a:pt x="40" y="500"/>
                  </a:lnTo>
                  <a:lnTo>
                    <a:pt x="43" y="489"/>
                  </a:lnTo>
                  <a:lnTo>
                    <a:pt x="50" y="480"/>
                  </a:lnTo>
                  <a:lnTo>
                    <a:pt x="56" y="470"/>
                  </a:lnTo>
                  <a:lnTo>
                    <a:pt x="61" y="457"/>
                  </a:lnTo>
                  <a:lnTo>
                    <a:pt x="65" y="442"/>
                  </a:lnTo>
                  <a:lnTo>
                    <a:pt x="66" y="429"/>
                  </a:lnTo>
                  <a:lnTo>
                    <a:pt x="66" y="424"/>
                  </a:lnTo>
                  <a:lnTo>
                    <a:pt x="232" y="465"/>
                  </a:lnTo>
                  <a:lnTo>
                    <a:pt x="235" y="464"/>
                  </a:lnTo>
                  <a:lnTo>
                    <a:pt x="243" y="457"/>
                  </a:lnTo>
                  <a:lnTo>
                    <a:pt x="257" y="450"/>
                  </a:lnTo>
                  <a:lnTo>
                    <a:pt x="270" y="439"/>
                  </a:lnTo>
                  <a:lnTo>
                    <a:pt x="285" y="429"/>
                  </a:lnTo>
                  <a:lnTo>
                    <a:pt x="298" y="417"/>
                  </a:lnTo>
                  <a:lnTo>
                    <a:pt x="308" y="407"/>
                  </a:lnTo>
                  <a:lnTo>
                    <a:pt x="313" y="399"/>
                  </a:lnTo>
                  <a:lnTo>
                    <a:pt x="318" y="384"/>
                  </a:lnTo>
                  <a:lnTo>
                    <a:pt x="325" y="369"/>
                  </a:lnTo>
                  <a:lnTo>
                    <a:pt x="330" y="357"/>
                  </a:lnTo>
                  <a:lnTo>
                    <a:pt x="332" y="352"/>
                  </a:lnTo>
                  <a:lnTo>
                    <a:pt x="335" y="352"/>
                  </a:lnTo>
                  <a:lnTo>
                    <a:pt x="342" y="352"/>
                  </a:lnTo>
                  <a:lnTo>
                    <a:pt x="353" y="352"/>
                  </a:lnTo>
                  <a:lnTo>
                    <a:pt x="367" y="350"/>
                  </a:lnTo>
                  <a:lnTo>
                    <a:pt x="382" y="350"/>
                  </a:lnTo>
                  <a:lnTo>
                    <a:pt x="398" y="347"/>
                  </a:lnTo>
                  <a:lnTo>
                    <a:pt x="413" y="345"/>
                  </a:lnTo>
                  <a:lnTo>
                    <a:pt x="427" y="342"/>
                  </a:lnTo>
                  <a:lnTo>
                    <a:pt x="438" y="337"/>
                  </a:lnTo>
                  <a:lnTo>
                    <a:pt x="447" y="329"/>
                  </a:lnTo>
                  <a:lnTo>
                    <a:pt x="455" y="319"/>
                  </a:lnTo>
                  <a:lnTo>
                    <a:pt x="462" y="309"/>
                  </a:lnTo>
                  <a:lnTo>
                    <a:pt x="468" y="299"/>
                  </a:lnTo>
                  <a:lnTo>
                    <a:pt x="475" y="290"/>
                  </a:lnTo>
                  <a:lnTo>
                    <a:pt x="483" y="284"/>
                  </a:lnTo>
                  <a:lnTo>
                    <a:pt x="493" y="280"/>
                  </a:lnTo>
                  <a:lnTo>
                    <a:pt x="508" y="275"/>
                  </a:lnTo>
                  <a:lnTo>
                    <a:pt x="513" y="269"/>
                  </a:lnTo>
                  <a:lnTo>
                    <a:pt x="513" y="264"/>
                  </a:lnTo>
                  <a:lnTo>
                    <a:pt x="512" y="262"/>
                  </a:lnTo>
                  <a:lnTo>
                    <a:pt x="380" y="90"/>
                  </a:lnTo>
                  <a:close/>
                </a:path>
              </a:pathLst>
            </a:custGeom>
            <a:solidFill>
              <a:srgbClr val="b2b2b2">
                <a:alpha val="30000"/>
              </a:srgbClr>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139" name=""/>
          <p:cNvSpPr/>
          <p:nvPr/>
        </p:nvSpPr>
        <p:spPr>
          <a:xfrm>
            <a:off x="0" y="457200"/>
            <a:ext cx="914400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333399"/>
                </a:solidFill>
                <a:latin typeface="Albertus Medium"/>
              </a:rPr>
              <a:t>History of Nanotechnology</a:t>
            </a:r>
            <a:endParaRPr b="0" lang="en-US" sz="3600" spc="-1" strike="noStrike">
              <a:solidFill>
                <a:srgbClr val="000000"/>
              </a:solidFill>
              <a:latin typeface="Arial"/>
            </a:endParaRPr>
          </a:p>
        </p:txBody>
      </p:sp>
      <p:sp>
        <p:nvSpPr>
          <p:cNvPr id="140" name="PlaceHolder 1"/>
          <p:cNvSpPr>
            <a:spLocks noGrp="1"/>
          </p:cNvSpPr>
          <p:nvPr>
            <p:ph/>
          </p:nvPr>
        </p:nvSpPr>
        <p:spPr>
          <a:xfrm>
            <a:off x="1143000" y="1295280"/>
            <a:ext cx="6781680" cy="4525920"/>
          </a:xfrm>
          <a:prstGeom prst="rect">
            <a:avLst/>
          </a:prstGeom>
          <a:noFill/>
          <a:ln w="0">
            <a:noFill/>
          </a:ln>
        </p:spPr>
        <p:txBody>
          <a:bodyPr lIns="90000" rIns="90000" tIns="46800" bIns="46800" anchor="t">
            <a:normAutofit/>
          </a:bodyPr>
          <a:p>
            <a:pPr marL="341280" indent="-341280">
              <a:lnSpc>
                <a:spcPct val="90000"/>
              </a:lnSpc>
              <a:spcBef>
                <a:spcPts val="601"/>
              </a:spcBef>
              <a:buClr>
                <a:srgbClr val="333399"/>
              </a:buClr>
              <a:buFont typeface="Albertus Medium"/>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333399"/>
                </a:solidFill>
                <a:latin typeface="Albertus Medium"/>
              </a:rPr>
              <a:t>Then in more depth In the 1980s by </a:t>
            </a:r>
            <a:r>
              <a:rPr b="0" lang="en-US" sz="2400" spc="-1" strike="noStrike" u="sng">
                <a:solidFill>
                  <a:srgbClr val="ccccff"/>
                </a:solidFill>
                <a:uFillTx/>
                <a:latin typeface="Albertus Medium"/>
                <a:hlinkClick r:id="rId4"/>
              </a:rPr>
              <a:t>Dr. K. Eric Drexler</a:t>
            </a:r>
            <a:r>
              <a:rPr b="0" lang="en-US" sz="2400" spc="-1" strike="noStrike">
                <a:solidFill>
                  <a:srgbClr val="333399"/>
                </a:solidFill>
                <a:latin typeface="Albertus Medium"/>
              </a:rPr>
              <a:t> </a:t>
            </a:r>
            <a:endParaRPr b="0" lang="en-US" sz="2400" spc="-1" strike="noStrike">
              <a:solidFill>
                <a:srgbClr val="000000"/>
              </a:solidFill>
              <a:latin typeface="Arial"/>
            </a:endParaRPr>
          </a:p>
          <a:p>
            <a:pPr marL="341280" indent="0">
              <a:lnSpc>
                <a:spcPct val="9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400" spc="-1" strike="noStrike">
              <a:solidFill>
                <a:srgbClr val="000000"/>
              </a:solidFill>
              <a:latin typeface="Arial"/>
            </a:endParaRPr>
          </a:p>
          <a:p>
            <a:pPr marL="341280" indent="-341280">
              <a:lnSpc>
                <a:spcPct val="90000"/>
              </a:lnSpc>
              <a:spcBef>
                <a:spcPts val="601"/>
              </a:spcBef>
              <a:buClr>
                <a:srgbClr val="333399"/>
              </a:buClr>
              <a:buFont typeface="Albertus Medium"/>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333399"/>
                </a:solidFill>
                <a:latin typeface="Albertus Medium"/>
              </a:rPr>
              <a:t>This lead both Heirrich Rohrer and Gerd Binning, for their invention the </a:t>
            </a:r>
            <a:r>
              <a:rPr b="0" lang="en-US" sz="2400" spc="-1" strike="noStrike" u="sng">
                <a:solidFill>
                  <a:srgbClr val="ccccff"/>
                </a:solidFill>
                <a:uFillTx/>
                <a:latin typeface="Albertus Medium"/>
                <a:hlinkClick r:id="rId5"/>
              </a:rPr>
              <a:t>scanning tunneling microscope</a:t>
            </a:r>
            <a:r>
              <a:rPr b="0" lang="en-US" sz="2400" spc="-1" strike="noStrike">
                <a:solidFill>
                  <a:srgbClr val="333399"/>
                </a:solidFill>
                <a:latin typeface="Albertus Medium"/>
              </a:rPr>
              <a:t> in 1981 and eventually winning of Nobel prize,</a:t>
            </a:r>
            <a:endParaRPr b="0" lang="en-US" sz="2400" spc="-1" strike="noStrike">
              <a:solidFill>
                <a:srgbClr val="000000"/>
              </a:solidFill>
              <a:latin typeface="Arial"/>
            </a:endParaRPr>
          </a:p>
          <a:p>
            <a:pPr marL="341280" indent="0">
              <a:lnSpc>
                <a:spcPct val="9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400" spc="-1" strike="noStrike">
              <a:solidFill>
                <a:srgbClr val="000000"/>
              </a:solidFill>
              <a:latin typeface="Arial"/>
            </a:endParaRPr>
          </a:p>
          <a:p>
            <a:pPr marL="341280" indent="-341280">
              <a:lnSpc>
                <a:spcPct val="90000"/>
              </a:lnSpc>
              <a:spcBef>
                <a:spcPts val="601"/>
              </a:spcBef>
              <a:buClr>
                <a:srgbClr val="333399"/>
              </a:buClr>
              <a:buFont typeface="Albertus Medium"/>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333399"/>
                </a:solidFill>
                <a:latin typeface="Albertus Medium"/>
              </a:rPr>
              <a:t>Then lead scientists to the discovery of </a:t>
            </a:r>
            <a:r>
              <a:rPr b="0" lang="en-US" sz="2400" spc="-1" strike="noStrike" u="sng">
                <a:solidFill>
                  <a:srgbClr val="ccccff"/>
                </a:solidFill>
                <a:uFillTx/>
                <a:latin typeface="Albertus Medium"/>
                <a:hlinkClick r:id="rId6"/>
              </a:rPr>
              <a:t>fullerenes</a:t>
            </a:r>
            <a:r>
              <a:rPr b="0" lang="en-US" sz="2400" spc="-1" strike="noStrike">
                <a:solidFill>
                  <a:srgbClr val="333399"/>
                </a:solidFill>
                <a:latin typeface="Albertus Medium"/>
              </a:rPr>
              <a:t> in 1985 and </a:t>
            </a:r>
            <a:r>
              <a:rPr b="0" lang="en-US" sz="2400" spc="-1" strike="noStrike" u="sng">
                <a:solidFill>
                  <a:srgbClr val="ccccff"/>
                </a:solidFill>
                <a:uFillTx/>
                <a:latin typeface="Albertus Medium"/>
                <a:hlinkClick r:id="rId7"/>
              </a:rPr>
              <a:t>carbon nanotubes</a:t>
            </a:r>
            <a:r>
              <a:rPr b="0" lang="en-US" sz="2400" spc="-1" strike="noStrike">
                <a:solidFill>
                  <a:srgbClr val="333399"/>
                </a:solidFill>
                <a:latin typeface="Albertus Medium"/>
              </a:rPr>
              <a:t> a few years later, and in year 2000 the </a:t>
            </a:r>
            <a:r>
              <a:rPr b="0" lang="en-US" sz="2400" spc="-1" strike="noStrike" u="sng">
                <a:solidFill>
                  <a:srgbClr val="333399"/>
                </a:solidFill>
                <a:uFillTx/>
                <a:latin typeface="Albertus Medium"/>
              </a:rPr>
              <a:t>Atomic force microscope</a:t>
            </a:r>
            <a:r>
              <a:rPr b="0" lang="en-US" sz="2400" spc="-1" strike="noStrike">
                <a:solidFill>
                  <a:srgbClr val="333399"/>
                </a:solidFill>
                <a:latin typeface="Albertus Medium"/>
              </a:rPr>
              <a:t> was invented. </a:t>
            </a:r>
            <a:endParaRPr b="0" lang="en-US" sz="2400" spc="-1" strike="noStrike">
              <a:solidFill>
                <a:srgbClr val="000000"/>
              </a:solidFill>
              <a:latin typeface="Arial"/>
            </a:endParaRPr>
          </a:p>
          <a:p>
            <a:pPr marL="343080" indent="0">
              <a:lnSpc>
                <a:spcPct val="9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000000"/>
              </a:solidFill>
              <a:latin typeface="Arial"/>
            </a:endParaRPr>
          </a:p>
          <a:p>
            <a:pPr marL="341280" indent="0">
              <a:lnSpc>
                <a:spcPct val="9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000000"/>
              </a:solidFill>
              <a:latin typeface="Arial"/>
            </a:endParaRPr>
          </a:p>
        </p:txBody>
      </p:sp>
      <p:sp>
        <p:nvSpPr>
          <p:cNvPr id="141" name=""/>
          <p:cNvSpPr/>
          <p:nvPr/>
        </p:nvSpPr>
        <p:spPr>
          <a:xfrm>
            <a:off x="609480" y="6629400"/>
            <a:ext cx="8534520" cy="228600"/>
          </a:xfrm>
          <a:prstGeom prst="rect">
            <a:avLst/>
          </a:prstGeom>
          <a:solidFill>
            <a:srgbClr val="bbe0e3"/>
          </a:solidFill>
          <a:ln cap="sq"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99"/>
                </a:solidFill>
                <a:latin typeface="Albertus Medium"/>
              </a:rPr>
              <a:t>www.skinandallergy.org</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0" lang="en-US" sz="1000" spc="-1" strike="noStrike">
                <a:solidFill>
                  <a:srgbClr val="333399"/>
                </a:solidFill>
                <a:latin typeface="Albertus Medium"/>
              </a:rPr>
              <a:t>www.panarabderm.org</a:t>
            </a:r>
            <a:endParaRPr b="0" lang="en-US" sz="1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2" name="" descr=""/>
          <p:cNvPicPr/>
          <p:nvPr/>
        </p:nvPicPr>
        <p:blipFill>
          <a:blip r:embed="rId2"/>
          <a:stretch/>
        </p:blipFill>
        <p:spPr>
          <a:xfrm>
            <a:off x="8153280" y="74520"/>
            <a:ext cx="922320" cy="992160"/>
          </a:xfrm>
          <a:prstGeom prst="rect">
            <a:avLst/>
          </a:prstGeom>
          <a:ln w="0">
            <a:noFill/>
          </a:ln>
        </p:spPr>
      </p:pic>
      <p:sp>
        <p:nvSpPr>
          <p:cNvPr id="143" name=""/>
          <p:cNvSpPr/>
          <p:nvPr/>
        </p:nvSpPr>
        <p:spPr>
          <a:xfrm>
            <a:off x="1295280" y="1066680"/>
            <a:ext cx="6193080" cy="1800"/>
          </a:xfrm>
          <a:prstGeom prst="line">
            <a:avLst/>
          </a:prstGeom>
          <a:ln cap="sq" w="12600">
            <a:solidFill>
              <a:srgbClr val="b2b2b2"/>
            </a:solidFill>
            <a:miter/>
          </a:ln>
        </p:spPr>
        <p:style>
          <a:lnRef idx="0"/>
          <a:fillRef idx="0"/>
          <a:effectRef idx="0"/>
          <a:fontRef idx="minor"/>
        </p:style>
        <p:txBody>
          <a:bodyPr lIns="90000" rIns="90000" tIns="-45000" bIns="-45000" anchor="t">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44" name="" descr=""/>
          <p:cNvPicPr/>
          <p:nvPr/>
        </p:nvPicPr>
        <p:blipFill>
          <a:blip r:embed="rId3"/>
          <a:stretch/>
        </p:blipFill>
        <p:spPr>
          <a:xfrm>
            <a:off x="0" y="0"/>
            <a:ext cx="600120" cy="6858000"/>
          </a:xfrm>
          <a:prstGeom prst="rect">
            <a:avLst/>
          </a:prstGeom>
          <a:ln w="0">
            <a:noFill/>
          </a:ln>
        </p:spPr>
      </p:pic>
      <p:sp>
        <p:nvSpPr>
          <p:cNvPr id="145" name=""/>
          <p:cNvSpPr/>
          <p:nvPr/>
        </p:nvSpPr>
        <p:spPr>
          <a:xfrm>
            <a:off x="961920" y="1066680"/>
            <a:ext cx="7801200" cy="15242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333399"/>
                </a:solidFill>
                <a:latin typeface="Albertus Medium"/>
              </a:rPr>
              <a:t>The Magic of Nanotechnology</a:t>
            </a:r>
            <a:br>
              <a:rPr sz="2000"/>
            </a:br>
            <a:br>
              <a:rPr sz="800"/>
            </a:br>
            <a:r>
              <a:rPr b="0" lang="en-US" sz="2000" spc="-1" strike="noStrike">
                <a:solidFill>
                  <a:srgbClr val="333399"/>
                </a:solidFill>
                <a:latin typeface="Albertus Medium"/>
              </a:rPr>
              <a:t>Any science sufficiently advanced, is indistinguishable from magic”</a:t>
            </a:r>
            <a:br>
              <a:rPr sz="2000"/>
            </a:br>
            <a:r>
              <a:rPr b="0" lang="en-US" sz="2000" spc="-1" strike="noStrike">
                <a:solidFill>
                  <a:srgbClr val="333399"/>
                </a:solidFill>
                <a:latin typeface="Albertus Medium"/>
              </a:rPr>
              <a:t>Clarke’s Law</a:t>
            </a:r>
            <a:br>
              <a:rPr sz="2000"/>
            </a:br>
            <a:br>
              <a:rPr sz="800"/>
            </a:br>
            <a:r>
              <a:rPr b="0" lang="en-US" sz="2000" spc="-1" strike="noStrike">
                <a:solidFill>
                  <a:srgbClr val="333399"/>
                </a:solidFill>
                <a:latin typeface="Albertus Medium"/>
              </a:rPr>
              <a:t>Nature : self cleaning surfaces the “lotus effect”</a:t>
            </a:r>
            <a:endParaRPr b="0" lang="en-US" sz="2000" spc="-1" strike="noStrike">
              <a:solidFill>
                <a:srgbClr val="000000"/>
              </a:solidFill>
              <a:latin typeface="Arial"/>
            </a:endParaRPr>
          </a:p>
        </p:txBody>
      </p:sp>
      <p:pic>
        <p:nvPicPr>
          <p:cNvPr id="146" name="" descr=""/>
          <p:cNvPicPr/>
          <p:nvPr/>
        </p:nvPicPr>
        <p:blipFill>
          <a:blip r:embed="rId4"/>
          <a:stretch/>
        </p:blipFill>
        <p:spPr>
          <a:xfrm>
            <a:off x="2274840" y="2681280"/>
            <a:ext cx="5040360" cy="2881440"/>
          </a:xfrm>
          <a:prstGeom prst="rect">
            <a:avLst/>
          </a:prstGeom>
          <a:ln w="0">
            <a:noFill/>
          </a:ln>
        </p:spPr>
      </p:pic>
      <p:sp>
        <p:nvSpPr>
          <p:cNvPr id="147" name=""/>
          <p:cNvSpPr/>
          <p:nvPr/>
        </p:nvSpPr>
        <p:spPr>
          <a:xfrm>
            <a:off x="1476360" y="5637240"/>
            <a:ext cx="66960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333399"/>
                </a:solidFill>
                <a:latin typeface="Albertus Medium"/>
              </a:rPr>
              <a:t>In 1982 botanist Wilhelm Barthlott of the University of Bonn in Germany discovered in the lotus leaf a naturally self-cleaning, water-repellent surface</a:t>
            </a:r>
            <a:endParaRPr b="0" lang="en-US" sz="2000" spc="-1" strike="noStrike">
              <a:solidFill>
                <a:srgbClr val="000000"/>
              </a:solidFill>
              <a:latin typeface="Arial"/>
            </a:endParaRPr>
          </a:p>
        </p:txBody>
      </p:sp>
      <p:sp>
        <p:nvSpPr>
          <p:cNvPr id="148" name=""/>
          <p:cNvSpPr/>
          <p:nvPr/>
        </p:nvSpPr>
        <p:spPr>
          <a:xfrm>
            <a:off x="0" y="457200"/>
            <a:ext cx="914400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333399"/>
                </a:solidFill>
                <a:latin typeface="Albertus Medium"/>
              </a:rPr>
              <a:t>History of Nanotechnology</a:t>
            </a:r>
            <a:endParaRPr b="0" lang="en-US" sz="3600" spc="-1" strike="noStrike">
              <a:solidFill>
                <a:srgbClr val="000000"/>
              </a:solidFill>
              <a:latin typeface="Arial"/>
            </a:endParaRPr>
          </a:p>
        </p:txBody>
      </p:sp>
      <p:sp>
        <p:nvSpPr>
          <p:cNvPr id="149" name=""/>
          <p:cNvSpPr/>
          <p:nvPr/>
        </p:nvSpPr>
        <p:spPr>
          <a:xfrm>
            <a:off x="609480" y="6629400"/>
            <a:ext cx="8534520" cy="228600"/>
          </a:xfrm>
          <a:prstGeom prst="rect">
            <a:avLst/>
          </a:prstGeom>
          <a:solidFill>
            <a:srgbClr val="bbe0e3"/>
          </a:solidFill>
          <a:ln cap="sq"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99"/>
                </a:solidFill>
                <a:latin typeface="Albertus Medium"/>
              </a:rPr>
              <a:t>www.skinandallergy.org</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0" lang="en-US" sz="1000" spc="-1" strike="noStrike">
                <a:solidFill>
                  <a:srgbClr val="333399"/>
                </a:solidFill>
                <a:latin typeface="Albertus Medium"/>
              </a:rPr>
              <a:t>www.panarabderm.org</a:t>
            </a:r>
            <a:endParaRPr b="0" lang="en-US" sz="1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0" name="" descr=""/>
          <p:cNvPicPr/>
          <p:nvPr/>
        </p:nvPicPr>
        <p:blipFill>
          <a:blip r:embed="rId2"/>
          <a:stretch/>
        </p:blipFill>
        <p:spPr>
          <a:xfrm>
            <a:off x="8153280" y="74520"/>
            <a:ext cx="922320" cy="992160"/>
          </a:xfrm>
          <a:prstGeom prst="rect">
            <a:avLst/>
          </a:prstGeom>
          <a:ln w="0">
            <a:noFill/>
          </a:ln>
        </p:spPr>
      </p:pic>
      <p:pic>
        <p:nvPicPr>
          <p:cNvPr id="151" name="" descr=""/>
          <p:cNvPicPr/>
          <p:nvPr/>
        </p:nvPicPr>
        <p:blipFill>
          <a:blip r:embed="rId3"/>
          <a:stretch/>
        </p:blipFill>
        <p:spPr>
          <a:xfrm>
            <a:off x="0" y="0"/>
            <a:ext cx="600120" cy="6858000"/>
          </a:xfrm>
          <a:prstGeom prst="rect">
            <a:avLst/>
          </a:prstGeom>
          <a:ln w="0">
            <a:noFill/>
          </a:ln>
        </p:spPr>
      </p:pic>
      <p:sp>
        <p:nvSpPr>
          <p:cNvPr id="152" name=""/>
          <p:cNvSpPr/>
          <p:nvPr/>
        </p:nvSpPr>
        <p:spPr>
          <a:xfrm>
            <a:off x="533520" y="0"/>
            <a:ext cx="7826400" cy="393840"/>
          </a:xfrm>
          <a:prstGeom prst="rect">
            <a:avLst/>
          </a:prstGeom>
          <a:no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333399"/>
                </a:solidFill>
                <a:latin typeface="Albertus Extra Bold"/>
              </a:rPr>
              <a:t>How dose it work?</a:t>
            </a:r>
            <a:endParaRPr b="0" lang="en-US" sz="2400" spc="-1" strike="noStrike">
              <a:solidFill>
                <a:srgbClr val="000000"/>
              </a:solidFill>
              <a:latin typeface="Arial"/>
            </a:endParaRPr>
          </a:p>
        </p:txBody>
      </p:sp>
      <p:pic>
        <p:nvPicPr>
          <p:cNvPr id="153" name="" descr=""/>
          <p:cNvPicPr/>
          <p:nvPr/>
        </p:nvPicPr>
        <p:blipFill>
          <a:blip r:embed="rId4"/>
          <a:stretch/>
        </p:blipFill>
        <p:spPr>
          <a:xfrm>
            <a:off x="1403280" y="836640"/>
            <a:ext cx="3960720" cy="3241800"/>
          </a:xfrm>
          <a:prstGeom prst="rect">
            <a:avLst/>
          </a:prstGeom>
          <a:ln w="0">
            <a:noFill/>
          </a:ln>
        </p:spPr>
      </p:pic>
      <p:sp>
        <p:nvSpPr>
          <p:cNvPr id="154" name=""/>
          <p:cNvSpPr/>
          <p:nvPr/>
        </p:nvSpPr>
        <p:spPr>
          <a:xfrm>
            <a:off x="971640" y="4739760"/>
            <a:ext cx="4321080" cy="2014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333399"/>
                </a:solidFill>
                <a:latin typeface="Albertus Medium"/>
              </a:rPr>
              <a:t>The secret lies in waxy microstructures and nanostructures that, by their contact angle with water, cause it to bead and roll away like mercury, gathering dirt as it goes. Barthlott patented his discovery, calling it the Lotus Effect </a:t>
            </a:r>
            <a:endParaRPr b="0" lang="en-US" sz="1800" spc="-1" strike="noStrike">
              <a:solidFill>
                <a:srgbClr val="000000"/>
              </a:solidFill>
              <a:latin typeface="Arial"/>
            </a:endParaRPr>
          </a:p>
        </p:txBody>
      </p:sp>
      <p:pic>
        <p:nvPicPr>
          <p:cNvPr id="155" name="" descr=""/>
          <p:cNvPicPr/>
          <p:nvPr/>
        </p:nvPicPr>
        <p:blipFill>
          <a:blip r:embed="rId5"/>
          <a:stretch/>
        </p:blipFill>
        <p:spPr>
          <a:xfrm>
            <a:off x="5435640" y="1052640"/>
            <a:ext cx="3381480" cy="5040360"/>
          </a:xfrm>
          <a:prstGeom prst="rect">
            <a:avLst/>
          </a:prstGeom>
          <a:ln w="0">
            <a:noFill/>
          </a:ln>
        </p:spPr>
      </p:pic>
      <p:cxnSp>
        <p:nvCxnSpPr>
          <p:cNvPr id="156" name=""/>
          <p:cNvCxnSpPr/>
          <p:nvPr/>
        </p:nvCxnSpPr>
        <p:spPr>
          <a:xfrm flipH="1" flipV="1">
            <a:off x="4355640" y="3428640"/>
            <a:ext cx="1907280" cy="1728000"/>
          </a:xfrm>
          <a:prstGeom prst="straightConnector1">
            <a:avLst/>
          </a:prstGeom>
          <a:ln cap="sq" w="38160">
            <a:solidFill>
              <a:srgbClr val="ffff00"/>
            </a:solidFill>
            <a:miter/>
            <a:tailEnd len="med" type="triangle" w="med"/>
          </a:ln>
        </p:spPr>
      </p:cxnSp>
      <p:sp>
        <p:nvSpPr>
          <p:cNvPr id="157" name=""/>
          <p:cNvSpPr/>
          <p:nvPr/>
        </p:nvSpPr>
        <p:spPr>
          <a:xfrm>
            <a:off x="609480" y="6629400"/>
            <a:ext cx="8534520" cy="228600"/>
          </a:xfrm>
          <a:prstGeom prst="rect">
            <a:avLst/>
          </a:prstGeom>
          <a:solidFill>
            <a:srgbClr val="bbe0e3"/>
          </a:solidFill>
          <a:ln cap="sq"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99"/>
                </a:solidFill>
                <a:latin typeface="Albertus Medium"/>
              </a:rPr>
              <a:t>www.skinandallergy.org</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0" lang="en-US" sz="1000" spc="-1" strike="noStrike">
                <a:solidFill>
                  <a:srgbClr val="333399"/>
                </a:solidFill>
                <a:latin typeface="Albertus Medium"/>
              </a:rPr>
              <a:t>www.panarabderm.org</a:t>
            </a:r>
            <a:endParaRPr b="0" lang="en-US" sz="1000" spc="-1" strike="noStrike">
              <a:solidFill>
                <a:srgbClr val="000000"/>
              </a:solidFill>
              <a:latin typeface="Arial"/>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5" presetSubtype="10">
                                  <p:stCondLst>
                                    <p:cond delay="0"/>
                                  </p:stCondLst>
                                  <p:childTnLst>
                                    <p:set>
                                      <p:cBhvr>
                                        <p:cTn id="6" dur="1" fill="hold">
                                          <p:stCondLst>
                                            <p:cond delay="0"/>
                                          </p:stCondLst>
                                        </p:cTn>
                                        <p:tgtEl>
                                          <p:spTgt spid="156"/>
                                        </p:tgtEl>
                                        <p:attrNameLst>
                                          <p:attrName>style.visibility</p:attrName>
                                        </p:attrNameLst>
                                      </p:cBhvr>
                                      <p:to>
                                        <p:strVal val="visible"/>
                                      </p:to>
                                    </p:set>
                                    <p:animEffect filter="checkerboard(across)" transition="in">
                                      <p:cBhvr additive="repl">
                                        <p:cTn id="7" dur="500"/>
                                        <p:tgtEl>
                                          <p:spTgt spid="156"/>
                                        </p:tgtEl>
                                      </p:cBhvr>
                                    </p:animEffect>
                                  </p:childTnLst>
                                </p:cTn>
                              </p:par>
                            </p:childTnLst>
                          </p:cTn>
                        </p:par>
                      </p:childTnLst>
                    </p:cTn>
                  </p:par>
                  <p:par>
                    <p:cTn id="8" dur="indefinite" fill="hold">
                      <p:stCondLst>
                        <p:cond delay="indefinite"/>
                      </p:stCondLst>
                      <p:childTnLst>
                        <p:par>
                          <p:cTn id="9" dur="indefinite" fill="hold">
                            <p:stCondLst>
                              <p:cond delay="0"/>
                            </p:stCondLst>
                            <p:childTnLst>
                              <p:par>
                                <p:cTn id="10" dur="indefinite" nodeType="clickEffect" fill="hold" presetClass="entr" presetID="4" presetSubtype="16">
                                  <p:stCondLst>
                                    <p:cond delay="0"/>
                                  </p:stCondLst>
                                  <p:childTnLst>
                                    <p:set>
                                      <p:cBhvr>
                                        <p:cTn id="11" dur="1" fill="hold">
                                          <p:stCondLst>
                                            <p:cond delay="0"/>
                                          </p:stCondLst>
                                        </p:cTn>
                                        <p:tgtEl>
                                          <p:spTgt spid="153"/>
                                        </p:tgtEl>
                                        <p:attrNameLst>
                                          <p:attrName>style.visibility</p:attrName>
                                        </p:attrNameLst>
                                      </p:cBhvr>
                                      <p:to>
                                        <p:strVal val="visible"/>
                                      </p:to>
                                    </p:set>
                                    <p:animEffect filter="box(in)" transition="in">
                                      <p:cBhvr additive="repl">
                                        <p:cTn id="12" dur="500"/>
                                        <p:tgtEl>
                                          <p:spTgt spid="153"/>
                                        </p:tgtEl>
                                      </p:cBhvr>
                                    </p:animEffect>
                                  </p:childTnLst>
                                </p:cTn>
                              </p:par>
                            </p:childTnLst>
                          </p:cTn>
                        </p:par>
                      </p:childTnLst>
                    </p:cTn>
                  </p:par>
                  <p:par>
                    <p:cTn id="13" dur="indefinite" fill="hold">
                      <p:stCondLst>
                        <p:cond delay="indefinite"/>
                      </p:stCondLst>
                      <p:childTnLst>
                        <p:par>
                          <p:cTn id="14" dur="indefinite" fill="hold">
                            <p:stCondLst>
                              <p:cond delay="0"/>
                            </p:stCondLst>
                            <p:childTnLst>
                              <p:par>
                                <p:cTn id="15" dur="indefinite" nodeType="clickEffect" fill="hold" presetClass="emph" presetID="6">
                                  <p:stCondLst>
                                    <p:cond delay="0"/>
                                  </p:stCondLst>
                                  <p:childTnLst>
                                    <p:animScale>
                                      <p:cBhvr>
                                        <p:cTn id="16" dur="2000" fill="hold"/>
                                        <p:tgtEl>
                                          <p:spTgt spid="153"/>
                                        </p:tgtEl>
                                      </p:cBhvr>
                                      <p:to x="150000" y="150000"/>
                                    </p:animScale>
                                  </p:childTnLst>
                                </p:cTn>
                              </p:par>
                            </p:childTnLst>
                          </p:cTn>
                        </p:par>
                      </p:childTnLst>
                    </p:cTn>
                  </p:par>
                  <p:par>
                    <p:cTn id="17" dur="indefinite" fill="hold">
                      <p:stCondLst>
                        <p:cond delay="indefinite"/>
                      </p:stCondLst>
                      <p:childTnLst>
                        <p:par>
                          <p:cTn id="18" dur="indefinite" fill="hold">
                            <p:stCondLst>
                              <p:cond delay="0"/>
                            </p:stCondLst>
                            <p:childTnLst>
                              <p:par>
                                <p:cTn id="19" dur="indefinite" nodeType="clickEffect" fill="hold" presetClass="entr" presetID="2" presetSubtype="4">
                                  <p:stCondLst>
                                    <p:cond delay="0"/>
                                  </p:stCondLst>
                                  <p:childTnLst>
                                    <p:set>
                                      <p:cBhvr>
                                        <p:cTn id="20" dur="1" fill="hold">
                                          <p:stCondLst>
                                            <p:cond delay="0"/>
                                          </p:stCondLst>
                                        </p:cTn>
                                        <p:tgtEl>
                                          <p:spTgt spid="154"/>
                                        </p:tgtEl>
                                        <p:attrNameLst>
                                          <p:attrName>style.visibility</p:attrName>
                                        </p:attrNameLst>
                                      </p:cBhvr>
                                      <p:to>
                                        <p:strVal val="visible"/>
                                      </p:to>
                                    </p:set>
                                    <p:anim calcmode="lin" valueType="num">
                                      <p:cBhvr additive="repl">
                                        <p:cTn id="21" dur="500" fill="hold"/>
                                        <p:tgtEl>
                                          <p:spTgt spid="154"/>
                                        </p:tgtEl>
                                        <p:attrNameLst>
                                          <p:attrName>ppt_x</p:attrName>
                                        </p:attrNameLst>
                                      </p:cBhvr>
                                      <p:tavLst>
                                        <p:tav tm="0">
                                          <p:val>
                                            <p:strVal val="#ppt_x"/>
                                          </p:val>
                                        </p:tav>
                                        <p:tav tm="100000">
                                          <p:val>
                                            <p:strVal val="#ppt_x"/>
                                          </p:val>
                                        </p:tav>
                                      </p:tavLst>
                                    </p:anim>
                                    <p:anim calcmode="lin" valueType="num">
                                      <p:cBhvr additive="repl">
                                        <p:cTn id="22" dur="500" fill="hold"/>
                                        <p:tgtEl>
                                          <p:spTgt spid="1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8" name="" descr=""/>
          <p:cNvPicPr/>
          <p:nvPr/>
        </p:nvPicPr>
        <p:blipFill>
          <a:blip r:embed="rId2"/>
          <a:stretch/>
        </p:blipFill>
        <p:spPr>
          <a:xfrm>
            <a:off x="8153280" y="74520"/>
            <a:ext cx="922320" cy="992160"/>
          </a:xfrm>
          <a:prstGeom prst="rect">
            <a:avLst/>
          </a:prstGeom>
          <a:ln w="0">
            <a:noFill/>
          </a:ln>
        </p:spPr>
      </p:pic>
      <p:sp>
        <p:nvSpPr>
          <p:cNvPr id="159" name=""/>
          <p:cNvSpPr/>
          <p:nvPr/>
        </p:nvSpPr>
        <p:spPr>
          <a:xfrm>
            <a:off x="1295280" y="1066680"/>
            <a:ext cx="6193080" cy="1800"/>
          </a:xfrm>
          <a:prstGeom prst="line">
            <a:avLst/>
          </a:prstGeom>
          <a:ln cap="sq" w="12600">
            <a:solidFill>
              <a:srgbClr val="b2b2b2"/>
            </a:solidFill>
            <a:miter/>
          </a:ln>
        </p:spPr>
        <p:style>
          <a:lnRef idx="0"/>
          <a:fillRef idx="0"/>
          <a:effectRef idx="0"/>
          <a:fontRef idx="minor"/>
        </p:style>
        <p:txBody>
          <a:bodyPr lIns="90000" rIns="90000" tIns="-45000" bIns="-45000" anchor="t">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60" name="" descr=""/>
          <p:cNvPicPr/>
          <p:nvPr/>
        </p:nvPicPr>
        <p:blipFill>
          <a:blip r:embed="rId3"/>
          <a:stretch/>
        </p:blipFill>
        <p:spPr>
          <a:xfrm>
            <a:off x="0" y="0"/>
            <a:ext cx="600120" cy="6858000"/>
          </a:xfrm>
          <a:prstGeom prst="rect">
            <a:avLst/>
          </a:prstGeom>
          <a:ln w="0">
            <a:noFill/>
          </a:ln>
        </p:spPr>
      </p:pic>
      <p:grpSp>
        <p:nvGrpSpPr>
          <p:cNvPr id="161" name=""/>
          <p:cNvGrpSpPr/>
          <p:nvPr/>
        </p:nvGrpSpPr>
        <p:grpSpPr>
          <a:xfrm>
            <a:off x="76320" y="11160"/>
            <a:ext cx="9978840" cy="6613560"/>
            <a:chOff x="76320" y="11160"/>
            <a:chExt cx="9978840" cy="6613560"/>
          </a:xfrm>
        </p:grpSpPr>
        <p:sp>
          <p:nvSpPr>
            <p:cNvPr id="162" name=""/>
            <p:cNvSpPr/>
            <p:nvPr/>
          </p:nvSpPr>
          <p:spPr>
            <a:xfrm>
              <a:off x="76320" y="1623960"/>
              <a:ext cx="3798720" cy="5000760"/>
            </a:xfrm>
            <a:custGeom>
              <a:avLst/>
              <a:gdLst/>
              <a:ahLst/>
              <a:rect l="l" t="t" r="r" b="b"/>
              <a:pathLst>
                <a:path w="1261" h="2255">
                  <a:moveTo>
                    <a:pt x="1257" y="2027"/>
                  </a:moveTo>
                  <a:lnTo>
                    <a:pt x="1257" y="2015"/>
                  </a:lnTo>
                  <a:lnTo>
                    <a:pt x="1252" y="2000"/>
                  </a:lnTo>
                  <a:lnTo>
                    <a:pt x="1244" y="1985"/>
                  </a:lnTo>
                  <a:lnTo>
                    <a:pt x="1232" y="1970"/>
                  </a:lnTo>
                  <a:lnTo>
                    <a:pt x="1222" y="1956"/>
                  </a:lnTo>
                  <a:lnTo>
                    <a:pt x="1212" y="1945"/>
                  </a:lnTo>
                  <a:lnTo>
                    <a:pt x="1204" y="1933"/>
                  </a:lnTo>
                  <a:lnTo>
                    <a:pt x="1199" y="1921"/>
                  </a:lnTo>
                  <a:lnTo>
                    <a:pt x="1197" y="1910"/>
                  </a:lnTo>
                  <a:lnTo>
                    <a:pt x="1192" y="1893"/>
                  </a:lnTo>
                  <a:lnTo>
                    <a:pt x="1186" y="1876"/>
                  </a:lnTo>
                  <a:lnTo>
                    <a:pt x="1171" y="1860"/>
                  </a:lnTo>
                  <a:lnTo>
                    <a:pt x="1161" y="1851"/>
                  </a:lnTo>
                  <a:lnTo>
                    <a:pt x="1147" y="1838"/>
                  </a:lnTo>
                  <a:lnTo>
                    <a:pt x="1132" y="1823"/>
                  </a:lnTo>
                  <a:lnTo>
                    <a:pt x="1117" y="1806"/>
                  </a:lnTo>
                  <a:lnTo>
                    <a:pt x="1102" y="1788"/>
                  </a:lnTo>
                  <a:lnTo>
                    <a:pt x="1087" y="1770"/>
                  </a:lnTo>
                  <a:lnTo>
                    <a:pt x="1076" y="1750"/>
                  </a:lnTo>
                  <a:lnTo>
                    <a:pt x="1067" y="1731"/>
                  </a:lnTo>
                  <a:lnTo>
                    <a:pt x="1052" y="1703"/>
                  </a:lnTo>
                  <a:lnTo>
                    <a:pt x="1037" y="1681"/>
                  </a:lnTo>
                  <a:lnTo>
                    <a:pt x="1026" y="1665"/>
                  </a:lnTo>
                  <a:lnTo>
                    <a:pt x="1019" y="1646"/>
                  </a:lnTo>
                  <a:lnTo>
                    <a:pt x="1016" y="1633"/>
                  </a:lnTo>
                  <a:lnTo>
                    <a:pt x="1009" y="1613"/>
                  </a:lnTo>
                  <a:lnTo>
                    <a:pt x="999" y="1591"/>
                  </a:lnTo>
                  <a:lnTo>
                    <a:pt x="989" y="1568"/>
                  </a:lnTo>
                  <a:lnTo>
                    <a:pt x="979" y="1545"/>
                  </a:lnTo>
                  <a:lnTo>
                    <a:pt x="969" y="1525"/>
                  </a:lnTo>
                  <a:lnTo>
                    <a:pt x="959" y="1508"/>
                  </a:lnTo>
                  <a:lnTo>
                    <a:pt x="952" y="1499"/>
                  </a:lnTo>
                  <a:lnTo>
                    <a:pt x="942" y="1486"/>
                  </a:lnTo>
                  <a:lnTo>
                    <a:pt x="934" y="1473"/>
                  </a:lnTo>
                  <a:lnTo>
                    <a:pt x="922" y="1458"/>
                  </a:lnTo>
                  <a:lnTo>
                    <a:pt x="911" y="1443"/>
                  </a:lnTo>
                  <a:lnTo>
                    <a:pt x="902" y="1434"/>
                  </a:lnTo>
                  <a:lnTo>
                    <a:pt x="891" y="1426"/>
                  </a:lnTo>
                  <a:lnTo>
                    <a:pt x="879" y="1419"/>
                  </a:lnTo>
                  <a:lnTo>
                    <a:pt x="867" y="1411"/>
                  </a:lnTo>
                  <a:lnTo>
                    <a:pt x="854" y="1404"/>
                  </a:lnTo>
                  <a:lnTo>
                    <a:pt x="842" y="1399"/>
                  </a:lnTo>
                  <a:lnTo>
                    <a:pt x="831" y="1396"/>
                  </a:lnTo>
                  <a:lnTo>
                    <a:pt x="820" y="1394"/>
                  </a:lnTo>
                  <a:lnTo>
                    <a:pt x="812" y="1393"/>
                  </a:lnTo>
                  <a:lnTo>
                    <a:pt x="805" y="1389"/>
                  </a:lnTo>
                  <a:lnTo>
                    <a:pt x="800" y="1384"/>
                  </a:lnTo>
                  <a:lnTo>
                    <a:pt x="794" y="1376"/>
                  </a:lnTo>
                  <a:lnTo>
                    <a:pt x="789" y="1368"/>
                  </a:lnTo>
                  <a:lnTo>
                    <a:pt x="782" y="1354"/>
                  </a:lnTo>
                  <a:lnTo>
                    <a:pt x="774" y="1341"/>
                  </a:lnTo>
                  <a:lnTo>
                    <a:pt x="762" y="1324"/>
                  </a:lnTo>
                  <a:lnTo>
                    <a:pt x="750" y="1306"/>
                  </a:lnTo>
                  <a:lnTo>
                    <a:pt x="740" y="1288"/>
                  </a:lnTo>
                  <a:lnTo>
                    <a:pt x="732" y="1269"/>
                  </a:lnTo>
                  <a:lnTo>
                    <a:pt x="724" y="1253"/>
                  </a:lnTo>
                  <a:lnTo>
                    <a:pt x="717" y="1234"/>
                  </a:lnTo>
                  <a:lnTo>
                    <a:pt x="712" y="1219"/>
                  </a:lnTo>
                  <a:lnTo>
                    <a:pt x="709" y="1204"/>
                  </a:lnTo>
                  <a:lnTo>
                    <a:pt x="705" y="1191"/>
                  </a:lnTo>
                  <a:lnTo>
                    <a:pt x="700" y="1166"/>
                  </a:lnTo>
                  <a:lnTo>
                    <a:pt x="692" y="1143"/>
                  </a:lnTo>
                  <a:lnTo>
                    <a:pt x="685" y="1126"/>
                  </a:lnTo>
                  <a:lnTo>
                    <a:pt x="682" y="1119"/>
                  </a:lnTo>
                  <a:lnTo>
                    <a:pt x="689" y="1108"/>
                  </a:lnTo>
                  <a:lnTo>
                    <a:pt x="700" y="1078"/>
                  </a:lnTo>
                  <a:lnTo>
                    <a:pt x="707" y="1038"/>
                  </a:lnTo>
                  <a:lnTo>
                    <a:pt x="697" y="996"/>
                  </a:lnTo>
                  <a:lnTo>
                    <a:pt x="680" y="961"/>
                  </a:lnTo>
                  <a:lnTo>
                    <a:pt x="670" y="932"/>
                  </a:lnTo>
                  <a:lnTo>
                    <a:pt x="662" y="904"/>
                  </a:lnTo>
                  <a:lnTo>
                    <a:pt x="649" y="872"/>
                  </a:lnTo>
                  <a:lnTo>
                    <a:pt x="640" y="856"/>
                  </a:lnTo>
                  <a:lnTo>
                    <a:pt x="635" y="839"/>
                  </a:lnTo>
                  <a:lnTo>
                    <a:pt x="630" y="826"/>
                  </a:lnTo>
                  <a:lnTo>
                    <a:pt x="625" y="814"/>
                  </a:lnTo>
                  <a:lnTo>
                    <a:pt x="620" y="802"/>
                  </a:lnTo>
                  <a:lnTo>
                    <a:pt x="614" y="792"/>
                  </a:lnTo>
                  <a:lnTo>
                    <a:pt x="607" y="784"/>
                  </a:lnTo>
                  <a:lnTo>
                    <a:pt x="597" y="777"/>
                  </a:lnTo>
                  <a:lnTo>
                    <a:pt x="587" y="771"/>
                  </a:lnTo>
                  <a:lnTo>
                    <a:pt x="575" y="762"/>
                  </a:lnTo>
                  <a:lnTo>
                    <a:pt x="565" y="754"/>
                  </a:lnTo>
                  <a:lnTo>
                    <a:pt x="554" y="744"/>
                  </a:lnTo>
                  <a:lnTo>
                    <a:pt x="542" y="736"/>
                  </a:lnTo>
                  <a:lnTo>
                    <a:pt x="529" y="729"/>
                  </a:lnTo>
                  <a:lnTo>
                    <a:pt x="515" y="721"/>
                  </a:lnTo>
                  <a:lnTo>
                    <a:pt x="502" y="716"/>
                  </a:lnTo>
                  <a:lnTo>
                    <a:pt x="480" y="702"/>
                  </a:lnTo>
                  <a:lnTo>
                    <a:pt x="470" y="686"/>
                  </a:lnTo>
                  <a:lnTo>
                    <a:pt x="464" y="667"/>
                  </a:lnTo>
                  <a:lnTo>
                    <a:pt x="454" y="649"/>
                  </a:lnTo>
                  <a:lnTo>
                    <a:pt x="444" y="634"/>
                  </a:lnTo>
                  <a:lnTo>
                    <a:pt x="437" y="621"/>
                  </a:lnTo>
                  <a:lnTo>
                    <a:pt x="435" y="611"/>
                  </a:lnTo>
                  <a:lnTo>
                    <a:pt x="435" y="607"/>
                  </a:lnTo>
                  <a:lnTo>
                    <a:pt x="437" y="607"/>
                  </a:lnTo>
                  <a:lnTo>
                    <a:pt x="442" y="606"/>
                  </a:lnTo>
                  <a:lnTo>
                    <a:pt x="449" y="602"/>
                  </a:lnTo>
                  <a:lnTo>
                    <a:pt x="455" y="596"/>
                  </a:lnTo>
                  <a:lnTo>
                    <a:pt x="459" y="589"/>
                  </a:lnTo>
                  <a:lnTo>
                    <a:pt x="459" y="577"/>
                  </a:lnTo>
                  <a:lnTo>
                    <a:pt x="454" y="564"/>
                  </a:lnTo>
                  <a:lnTo>
                    <a:pt x="440" y="546"/>
                  </a:lnTo>
                  <a:lnTo>
                    <a:pt x="434" y="539"/>
                  </a:lnTo>
                  <a:lnTo>
                    <a:pt x="429" y="532"/>
                  </a:lnTo>
                  <a:lnTo>
                    <a:pt x="424" y="529"/>
                  </a:lnTo>
                  <a:lnTo>
                    <a:pt x="420" y="526"/>
                  </a:lnTo>
                  <a:lnTo>
                    <a:pt x="419" y="527"/>
                  </a:lnTo>
                  <a:lnTo>
                    <a:pt x="415" y="526"/>
                  </a:lnTo>
                  <a:lnTo>
                    <a:pt x="415" y="522"/>
                  </a:lnTo>
                  <a:lnTo>
                    <a:pt x="420" y="526"/>
                  </a:lnTo>
                  <a:lnTo>
                    <a:pt x="420" y="524"/>
                  </a:lnTo>
                  <a:lnTo>
                    <a:pt x="419" y="521"/>
                  </a:lnTo>
                  <a:lnTo>
                    <a:pt x="419" y="517"/>
                  </a:lnTo>
                  <a:lnTo>
                    <a:pt x="417" y="512"/>
                  </a:lnTo>
                  <a:lnTo>
                    <a:pt x="409" y="490"/>
                  </a:lnTo>
                  <a:lnTo>
                    <a:pt x="405" y="477"/>
                  </a:lnTo>
                  <a:lnTo>
                    <a:pt x="399" y="467"/>
                  </a:lnTo>
                  <a:lnTo>
                    <a:pt x="384" y="455"/>
                  </a:lnTo>
                  <a:lnTo>
                    <a:pt x="372" y="440"/>
                  </a:lnTo>
                  <a:lnTo>
                    <a:pt x="374" y="425"/>
                  </a:lnTo>
                  <a:lnTo>
                    <a:pt x="375" y="412"/>
                  </a:lnTo>
                  <a:lnTo>
                    <a:pt x="364" y="399"/>
                  </a:lnTo>
                  <a:lnTo>
                    <a:pt x="345" y="387"/>
                  </a:lnTo>
                  <a:lnTo>
                    <a:pt x="332" y="372"/>
                  </a:lnTo>
                  <a:lnTo>
                    <a:pt x="325" y="355"/>
                  </a:lnTo>
                  <a:lnTo>
                    <a:pt x="322" y="337"/>
                  </a:lnTo>
                  <a:lnTo>
                    <a:pt x="319" y="317"/>
                  </a:lnTo>
                  <a:lnTo>
                    <a:pt x="309" y="290"/>
                  </a:lnTo>
                  <a:lnTo>
                    <a:pt x="294" y="264"/>
                  </a:lnTo>
                  <a:lnTo>
                    <a:pt x="273" y="237"/>
                  </a:lnTo>
                  <a:lnTo>
                    <a:pt x="260" y="215"/>
                  </a:lnTo>
                  <a:lnTo>
                    <a:pt x="257" y="197"/>
                  </a:lnTo>
                  <a:lnTo>
                    <a:pt x="255" y="184"/>
                  </a:lnTo>
                  <a:lnTo>
                    <a:pt x="245" y="175"/>
                  </a:lnTo>
                  <a:lnTo>
                    <a:pt x="233" y="167"/>
                  </a:lnTo>
                  <a:lnTo>
                    <a:pt x="228" y="154"/>
                  </a:lnTo>
                  <a:lnTo>
                    <a:pt x="222" y="140"/>
                  </a:lnTo>
                  <a:lnTo>
                    <a:pt x="207" y="124"/>
                  </a:lnTo>
                  <a:lnTo>
                    <a:pt x="188" y="100"/>
                  </a:lnTo>
                  <a:lnTo>
                    <a:pt x="175" y="74"/>
                  </a:lnTo>
                  <a:lnTo>
                    <a:pt x="168" y="52"/>
                  </a:lnTo>
                  <a:lnTo>
                    <a:pt x="165" y="42"/>
                  </a:lnTo>
                  <a:lnTo>
                    <a:pt x="160" y="42"/>
                  </a:lnTo>
                  <a:lnTo>
                    <a:pt x="148" y="42"/>
                  </a:lnTo>
                  <a:lnTo>
                    <a:pt x="133" y="42"/>
                  </a:lnTo>
                  <a:lnTo>
                    <a:pt x="122" y="42"/>
                  </a:lnTo>
                  <a:lnTo>
                    <a:pt x="110" y="42"/>
                  </a:lnTo>
                  <a:lnTo>
                    <a:pt x="100" y="44"/>
                  </a:lnTo>
                  <a:lnTo>
                    <a:pt x="92" y="47"/>
                  </a:lnTo>
                  <a:lnTo>
                    <a:pt x="88" y="47"/>
                  </a:lnTo>
                  <a:lnTo>
                    <a:pt x="90" y="44"/>
                  </a:lnTo>
                  <a:lnTo>
                    <a:pt x="93" y="34"/>
                  </a:lnTo>
                  <a:lnTo>
                    <a:pt x="98" y="20"/>
                  </a:lnTo>
                  <a:lnTo>
                    <a:pt x="103" y="8"/>
                  </a:lnTo>
                  <a:lnTo>
                    <a:pt x="103" y="8"/>
                  </a:lnTo>
                  <a:lnTo>
                    <a:pt x="103" y="8"/>
                  </a:lnTo>
                  <a:lnTo>
                    <a:pt x="103" y="8"/>
                  </a:lnTo>
                  <a:lnTo>
                    <a:pt x="103" y="8"/>
                  </a:lnTo>
                  <a:lnTo>
                    <a:pt x="67" y="0"/>
                  </a:lnTo>
                  <a:lnTo>
                    <a:pt x="67" y="5"/>
                  </a:lnTo>
                  <a:lnTo>
                    <a:pt x="65" y="19"/>
                  </a:lnTo>
                  <a:lnTo>
                    <a:pt x="62" y="34"/>
                  </a:lnTo>
                  <a:lnTo>
                    <a:pt x="57" y="47"/>
                  </a:lnTo>
                  <a:lnTo>
                    <a:pt x="50" y="57"/>
                  </a:lnTo>
                  <a:lnTo>
                    <a:pt x="45" y="65"/>
                  </a:lnTo>
                  <a:lnTo>
                    <a:pt x="40" y="79"/>
                  </a:lnTo>
                  <a:lnTo>
                    <a:pt x="38" y="95"/>
                  </a:lnTo>
                  <a:lnTo>
                    <a:pt x="35" y="119"/>
                  </a:lnTo>
                  <a:lnTo>
                    <a:pt x="28" y="145"/>
                  </a:lnTo>
                  <a:lnTo>
                    <a:pt x="20" y="169"/>
                  </a:lnTo>
                  <a:lnTo>
                    <a:pt x="15" y="185"/>
                  </a:lnTo>
                  <a:lnTo>
                    <a:pt x="10" y="197"/>
                  </a:lnTo>
                  <a:lnTo>
                    <a:pt x="5" y="209"/>
                  </a:lnTo>
                  <a:lnTo>
                    <a:pt x="2" y="220"/>
                  </a:lnTo>
                  <a:lnTo>
                    <a:pt x="0" y="224"/>
                  </a:lnTo>
                  <a:lnTo>
                    <a:pt x="3" y="224"/>
                  </a:lnTo>
                  <a:lnTo>
                    <a:pt x="12" y="220"/>
                  </a:lnTo>
                  <a:lnTo>
                    <a:pt x="23" y="219"/>
                  </a:lnTo>
                  <a:lnTo>
                    <a:pt x="33" y="219"/>
                  </a:lnTo>
                  <a:lnTo>
                    <a:pt x="47" y="219"/>
                  </a:lnTo>
                  <a:lnTo>
                    <a:pt x="60" y="219"/>
                  </a:lnTo>
                  <a:lnTo>
                    <a:pt x="72" y="219"/>
                  </a:lnTo>
                  <a:lnTo>
                    <a:pt x="77" y="219"/>
                  </a:lnTo>
                  <a:lnTo>
                    <a:pt x="80" y="229"/>
                  </a:lnTo>
                  <a:lnTo>
                    <a:pt x="87" y="250"/>
                  </a:lnTo>
                  <a:lnTo>
                    <a:pt x="100" y="277"/>
                  </a:lnTo>
                  <a:lnTo>
                    <a:pt x="118" y="299"/>
                  </a:lnTo>
                  <a:lnTo>
                    <a:pt x="133" y="315"/>
                  </a:lnTo>
                  <a:lnTo>
                    <a:pt x="140" y="330"/>
                  </a:lnTo>
                  <a:lnTo>
                    <a:pt x="145" y="342"/>
                  </a:lnTo>
                  <a:lnTo>
                    <a:pt x="157" y="352"/>
                  </a:lnTo>
                  <a:lnTo>
                    <a:pt x="167" y="360"/>
                  </a:lnTo>
                  <a:lnTo>
                    <a:pt x="168" y="374"/>
                  </a:lnTo>
                  <a:lnTo>
                    <a:pt x="172" y="390"/>
                  </a:lnTo>
                  <a:lnTo>
                    <a:pt x="185" y="414"/>
                  </a:lnTo>
                  <a:lnTo>
                    <a:pt x="205" y="440"/>
                  </a:lnTo>
                  <a:lnTo>
                    <a:pt x="220" y="467"/>
                  </a:lnTo>
                  <a:lnTo>
                    <a:pt x="230" y="492"/>
                  </a:lnTo>
                  <a:lnTo>
                    <a:pt x="233" y="512"/>
                  </a:lnTo>
                  <a:lnTo>
                    <a:pt x="237" y="531"/>
                  </a:lnTo>
                  <a:lnTo>
                    <a:pt x="243" y="547"/>
                  </a:lnTo>
                  <a:lnTo>
                    <a:pt x="257" y="562"/>
                  </a:lnTo>
                  <a:lnTo>
                    <a:pt x="275" y="574"/>
                  </a:lnTo>
                  <a:lnTo>
                    <a:pt x="287" y="587"/>
                  </a:lnTo>
                  <a:lnTo>
                    <a:pt x="285" y="601"/>
                  </a:lnTo>
                  <a:lnTo>
                    <a:pt x="284" y="617"/>
                  </a:lnTo>
                  <a:lnTo>
                    <a:pt x="295" y="632"/>
                  </a:lnTo>
                  <a:lnTo>
                    <a:pt x="310" y="642"/>
                  </a:lnTo>
                  <a:lnTo>
                    <a:pt x="317" y="652"/>
                  </a:lnTo>
                  <a:lnTo>
                    <a:pt x="320" y="666"/>
                  </a:lnTo>
                  <a:lnTo>
                    <a:pt x="329" y="687"/>
                  </a:lnTo>
                  <a:lnTo>
                    <a:pt x="330" y="692"/>
                  </a:lnTo>
                  <a:lnTo>
                    <a:pt x="330" y="696"/>
                  </a:lnTo>
                  <a:lnTo>
                    <a:pt x="332" y="697"/>
                  </a:lnTo>
                  <a:lnTo>
                    <a:pt x="332" y="699"/>
                  </a:lnTo>
                  <a:lnTo>
                    <a:pt x="335" y="702"/>
                  </a:lnTo>
                  <a:lnTo>
                    <a:pt x="340" y="707"/>
                  </a:lnTo>
                  <a:lnTo>
                    <a:pt x="345" y="712"/>
                  </a:lnTo>
                  <a:lnTo>
                    <a:pt x="352" y="721"/>
                  </a:lnTo>
                  <a:lnTo>
                    <a:pt x="365" y="737"/>
                  </a:lnTo>
                  <a:lnTo>
                    <a:pt x="370" y="752"/>
                  </a:lnTo>
                  <a:lnTo>
                    <a:pt x="370" y="762"/>
                  </a:lnTo>
                  <a:lnTo>
                    <a:pt x="367" y="771"/>
                  </a:lnTo>
                  <a:lnTo>
                    <a:pt x="360" y="776"/>
                  </a:lnTo>
                  <a:lnTo>
                    <a:pt x="354" y="781"/>
                  </a:lnTo>
                  <a:lnTo>
                    <a:pt x="349" y="782"/>
                  </a:lnTo>
                  <a:lnTo>
                    <a:pt x="347" y="782"/>
                  </a:lnTo>
                  <a:lnTo>
                    <a:pt x="347" y="786"/>
                  </a:lnTo>
                  <a:lnTo>
                    <a:pt x="350" y="794"/>
                  </a:lnTo>
                  <a:lnTo>
                    <a:pt x="355" y="807"/>
                  </a:lnTo>
                  <a:lnTo>
                    <a:pt x="367" y="824"/>
                  </a:lnTo>
                  <a:lnTo>
                    <a:pt x="377" y="842"/>
                  </a:lnTo>
                  <a:lnTo>
                    <a:pt x="384" y="862"/>
                  </a:lnTo>
                  <a:lnTo>
                    <a:pt x="392" y="877"/>
                  </a:lnTo>
                  <a:lnTo>
                    <a:pt x="414" y="891"/>
                  </a:lnTo>
                  <a:lnTo>
                    <a:pt x="427" y="897"/>
                  </a:lnTo>
                  <a:lnTo>
                    <a:pt x="440" y="904"/>
                  </a:lnTo>
                  <a:lnTo>
                    <a:pt x="454" y="912"/>
                  </a:lnTo>
                  <a:lnTo>
                    <a:pt x="465" y="921"/>
                  </a:lnTo>
                  <a:lnTo>
                    <a:pt x="477" y="929"/>
                  </a:lnTo>
                  <a:lnTo>
                    <a:pt x="487" y="937"/>
                  </a:lnTo>
                  <a:lnTo>
                    <a:pt x="499" y="946"/>
                  </a:lnTo>
                  <a:lnTo>
                    <a:pt x="509" y="952"/>
                  </a:lnTo>
                  <a:lnTo>
                    <a:pt x="519" y="961"/>
                  </a:lnTo>
                  <a:lnTo>
                    <a:pt x="525" y="969"/>
                  </a:lnTo>
                  <a:lnTo>
                    <a:pt x="532" y="979"/>
                  </a:lnTo>
                  <a:lnTo>
                    <a:pt x="537" y="989"/>
                  </a:lnTo>
                  <a:lnTo>
                    <a:pt x="542" y="1002"/>
                  </a:lnTo>
                  <a:lnTo>
                    <a:pt x="547" y="1016"/>
                  </a:lnTo>
                  <a:lnTo>
                    <a:pt x="552" y="1031"/>
                  </a:lnTo>
                  <a:lnTo>
                    <a:pt x="560" y="1048"/>
                  </a:lnTo>
                  <a:lnTo>
                    <a:pt x="574" y="1079"/>
                  </a:lnTo>
                  <a:lnTo>
                    <a:pt x="584" y="1108"/>
                  </a:lnTo>
                  <a:lnTo>
                    <a:pt x="592" y="1136"/>
                  </a:lnTo>
                  <a:lnTo>
                    <a:pt x="609" y="1171"/>
                  </a:lnTo>
                  <a:lnTo>
                    <a:pt x="619" y="1213"/>
                  </a:lnTo>
                  <a:lnTo>
                    <a:pt x="612" y="1253"/>
                  </a:lnTo>
                  <a:lnTo>
                    <a:pt x="600" y="1283"/>
                  </a:lnTo>
                  <a:lnTo>
                    <a:pt x="594" y="1294"/>
                  </a:lnTo>
                  <a:lnTo>
                    <a:pt x="597" y="1301"/>
                  </a:lnTo>
                  <a:lnTo>
                    <a:pt x="604" y="1318"/>
                  </a:lnTo>
                  <a:lnTo>
                    <a:pt x="612" y="1341"/>
                  </a:lnTo>
                  <a:lnTo>
                    <a:pt x="617" y="1366"/>
                  </a:lnTo>
                  <a:lnTo>
                    <a:pt x="620" y="1379"/>
                  </a:lnTo>
                  <a:lnTo>
                    <a:pt x="624" y="1394"/>
                  </a:lnTo>
                  <a:lnTo>
                    <a:pt x="629" y="1409"/>
                  </a:lnTo>
                  <a:lnTo>
                    <a:pt x="635" y="1428"/>
                  </a:lnTo>
                  <a:lnTo>
                    <a:pt x="644" y="1444"/>
                  </a:lnTo>
                  <a:lnTo>
                    <a:pt x="654" y="1463"/>
                  </a:lnTo>
                  <a:lnTo>
                    <a:pt x="664" y="1481"/>
                  </a:lnTo>
                  <a:lnTo>
                    <a:pt x="675" y="1499"/>
                  </a:lnTo>
                  <a:lnTo>
                    <a:pt x="687" y="1516"/>
                  </a:lnTo>
                  <a:lnTo>
                    <a:pt x="695" y="1531"/>
                  </a:lnTo>
                  <a:lnTo>
                    <a:pt x="702" y="1543"/>
                  </a:lnTo>
                  <a:lnTo>
                    <a:pt x="707" y="1553"/>
                  </a:lnTo>
                  <a:lnTo>
                    <a:pt x="712" y="1561"/>
                  </a:lnTo>
                  <a:lnTo>
                    <a:pt x="719" y="1566"/>
                  </a:lnTo>
                  <a:lnTo>
                    <a:pt x="724" y="1570"/>
                  </a:lnTo>
                  <a:lnTo>
                    <a:pt x="732" y="1571"/>
                  </a:lnTo>
                  <a:lnTo>
                    <a:pt x="742" y="1573"/>
                  </a:lnTo>
                  <a:lnTo>
                    <a:pt x="754" y="1576"/>
                  </a:lnTo>
                  <a:lnTo>
                    <a:pt x="765" y="1581"/>
                  </a:lnTo>
                  <a:lnTo>
                    <a:pt x="779" y="1588"/>
                  </a:lnTo>
                  <a:lnTo>
                    <a:pt x="792" y="1595"/>
                  </a:lnTo>
                  <a:lnTo>
                    <a:pt x="804" y="1603"/>
                  </a:lnTo>
                  <a:lnTo>
                    <a:pt x="814" y="1611"/>
                  </a:lnTo>
                  <a:lnTo>
                    <a:pt x="822" y="1618"/>
                  </a:lnTo>
                  <a:lnTo>
                    <a:pt x="834" y="1633"/>
                  </a:lnTo>
                  <a:lnTo>
                    <a:pt x="846" y="1648"/>
                  </a:lnTo>
                  <a:lnTo>
                    <a:pt x="856" y="1663"/>
                  </a:lnTo>
                  <a:lnTo>
                    <a:pt x="866" y="1675"/>
                  </a:lnTo>
                  <a:lnTo>
                    <a:pt x="872" y="1685"/>
                  </a:lnTo>
                  <a:lnTo>
                    <a:pt x="881" y="1700"/>
                  </a:lnTo>
                  <a:lnTo>
                    <a:pt x="891" y="1721"/>
                  </a:lnTo>
                  <a:lnTo>
                    <a:pt x="902" y="1743"/>
                  </a:lnTo>
                  <a:lnTo>
                    <a:pt x="912" y="1768"/>
                  </a:lnTo>
                  <a:lnTo>
                    <a:pt x="921" y="1790"/>
                  </a:lnTo>
                  <a:lnTo>
                    <a:pt x="927" y="1810"/>
                  </a:lnTo>
                  <a:lnTo>
                    <a:pt x="931" y="1823"/>
                  </a:lnTo>
                  <a:lnTo>
                    <a:pt x="937" y="1841"/>
                  </a:lnTo>
                  <a:lnTo>
                    <a:pt x="951" y="1858"/>
                  </a:lnTo>
                  <a:lnTo>
                    <a:pt x="964" y="1878"/>
                  </a:lnTo>
                  <a:lnTo>
                    <a:pt x="979" y="1908"/>
                  </a:lnTo>
                  <a:lnTo>
                    <a:pt x="987" y="1926"/>
                  </a:lnTo>
                  <a:lnTo>
                    <a:pt x="999" y="1945"/>
                  </a:lnTo>
                  <a:lnTo>
                    <a:pt x="1014" y="1965"/>
                  </a:lnTo>
                  <a:lnTo>
                    <a:pt x="1029" y="1981"/>
                  </a:lnTo>
                  <a:lnTo>
                    <a:pt x="1044" y="2000"/>
                  </a:lnTo>
                  <a:lnTo>
                    <a:pt x="1059" y="2015"/>
                  </a:lnTo>
                  <a:lnTo>
                    <a:pt x="1072" y="2027"/>
                  </a:lnTo>
                  <a:lnTo>
                    <a:pt x="1084" y="2037"/>
                  </a:lnTo>
                  <a:lnTo>
                    <a:pt x="1097" y="2052"/>
                  </a:lnTo>
                  <a:lnTo>
                    <a:pt x="1106" y="2068"/>
                  </a:lnTo>
                  <a:lnTo>
                    <a:pt x="1109" y="2085"/>
                  </a:lnTo>
                  <a:lnTo>
                    <a:pt x="1112" y="2098"/>
                  </a:lnTo>
                  <a:lnTo>
                    <a:pt x="1117" y="2108"/>
                  </a:lnTo>
                  <a:lnTo>
                    <a:pt x="1126" y="2120"/>
                  </a:lnTo>
                  <a:lnTo>
                    <a:pt x="1136" y="2132"/>
                  </a:lnTo>
                  <a:lnTo>
                    <a:pt x="1146" y="2145"/>
                  </a:lnTo>
                  <a:lnTo>
                    <a:pt x="1156" y="2160"/>
                  </a:lnTo>
                  <a:lnTo>
                    <a:pt x="1164" y="2175"/>
                  </a:lnTo>
                  <a:lnTo>
                    <a:pt x="1169" y="2190"/>
                  </a:lnTo>
                  <a:lnTo>
                    <a:pt x="1169" y="2202"/>
                  </a:lnTo>
                  <a:lnTo>
                    <a:pt x="1169" y="2217"/>
                  </a:lnTo>
                  <a:lnTo>
                    <a:pt x="1172" y="2233"/>
                  </a:lnTo>
                  <a:lnTo>
                    <a:pt x="1177" y="2248"/>
                  </a:lnTo>
                  <a:lnTo>
                    <a:pt x="1179" y="2255"/>
                  </a:lnTo>
                  <a:lnTo>
                    <a:pt x="1216" y="2227"/>
                  </a:lnTo>
                  <a:lnTo>
                    <a:pt x="1219" y="2222"/>
                  </a:lnTo>
                  <a:lnTo>
                    <a:pt x="1226" y="2208"/>
                  </a:lnTo>
                  <a:lnTo>
                    <a:pt x="1232" y="2192"/>
                  </a:lnTo>
                  <a:lnTo>
                    <a:pt x="1236" y="2178"/>
                  </a:lnTo>
                  <a:lnTo>
                    <a:pt x="1236" y="2165"/>
                  </a:lnTo>
                  <a:lnTo>
                    <a:pt x="1234" y="2145"/>
                  </a:lnTo>
                  <a:lnTo>
                    <a:pt x="1236" y="2123"/>
                  </a:lnTo>
                  <a:lnTo>
                    <a:pt x="1241" y="2103"/>
                  </a:lnTo>
                  <a:lnTo>
                    <a:pt x="1241" y="2087"/>
                  </a:lnTo>
                  <a:lnTo>
                    <a:pt x="1236" y="2077"/>
                  </a:lnTo>
                  <a:lnTo>
                    <a:pt x="1234" y="2067"/>
                  </a:lnTo>
                  <a:lnTo>
                    <a:pt x="1241" y="2060"/>
                  </a:lnTo>
                  <a:lnTo>
                    <a:pt x="1246" y="2057"/>
                  </a:lnTo>
                  <a:lnTo>
                    <a:pt x="1251" y="2057"/>
                  </a:lnTo>
                  <a:lnTo>
                    <a:pt x="1256" y="2058"/>
                  </a:lnTo>
                  <a:lnTo>
                    <a:pt x="1261" y="2062"/>
                  </a:lnTo>
                  <a:lnTo>
                    <a:pt x="1259" y="2052"/>
                  </a:lnTo>
                  <a:lnTo>
                    <a:pt x="1257" y="2043"/>
                  </a:lnTo>
                  <a:lnTo>
                    <a:pt x="1256" y="2033"/>
                  </a:lnTo>
                  <a:lnTo>
                    <a:pt x="1257" y="2027"/>
                  </a:lnTo>
                  <a:close/>
                </a:path>
              </a:pathLst>
            </a:custGeom>
            <a:solidFill>
              <a:srgbClr val="ffffff">
                <a:alpha val="10000"/>
              </a:srgbClr>
            </a:solidFill>
            <a:ln cap="sq" w="9360">
              <a:solidFill>
                <a:srgbClr val="ffffff"/>
              </a:solidFill>
              <a:round/>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3" name=""/>
            <p:cNvSpPr/>
            <p:nvPr/>
          </p:nvSpPr>
          <p:spPr>
            <a:xfrm>
              <a:off x="1062000" y="3166920"/>
              <a:ext cx="12600" cy="9720"/>
            </a:xfrm>
            <a:custGeom>
              <a:avLst/>
              <a:gdLst/>
              <a:ahLst/>
              <a:rect l="l" t="t" r="r" b="b"/>
              <a:pathLst>
                <a:path w="5" h="5">
                  <a:moveTo>
                    <a:pt x="5" y="3"/>
                  </a:moveTo>
                  <a:lnTo>
                    <a:pt x="0" y="0"/>
                  </a:lnTo>
                  <a:lnTo>
                    <a:pt x="2" y="3"/>
                  </a:lnTo>
                  <a:lnTo>
                    <a:pt x="3" y="5"/>
                  </a:lnTo>
                  <a:lnTo>
                    <a:pt x="5" y="3"/>
                  </a:lnTo>
                  <a:lnTo>
                    <a:pt x="5" y="3"/>
                  </a:lnTo>
                  <a:close/>
                </a:path>
              </a:pathLst>
            </a:custGeom>
            <a:solidFill>
              <a:srgbClr val="000000"/>
            </a:solidFill>
            <a:ln w="0">
              <a:noFill/>
            </a:ln>
          </p:spPr>
          <p:style>
            <a:lnRef idx="0"/>
            <a:fillRef idx="0"/>
            <a:effectRef idx="0"/>
            <a:fontRef idx="minor"/>
          </p:style>
          <p:txBody>
            <a:bodyPr wrap="none" lIns="90000" rIns="90000" tIns="-37080" bIns="-3708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4" name=""/>
            <p:cNvSpPr/>
            <p:nvPr/>
          </p:nvSpPr>
          <p:spPr>
            <a:xfrm>
              <a:off x="3916440" y="4753080"/>
              <a:ext cx="5667120" cy="1649160"/>
            </a:xfrm>
            <a:custGeom>
              <a:avLst/>
              <a:gdLst/>
              <a:ahLst/>
              <a:rect l="l" t="t" r="r" b="b"/>
              <a:pathLst>
                <a:path w="1881" h="744">
                  <a:moveTo>
                    <a:pt x="1298" y="222"/>
                  </a:moveTo>
                  <a:lnTo>
                    <a:pt x="1283" y="225"/>
                  </a:lnTo>
                  <a:lnTo>
                    <a:pt x="1263" y="230"/>
                  </a:lnTo>
                  <a:lnTo>
                    <a:pt x="1239" y="235"/>
                  </a:lnTo>
                  <a:lnTo>
                    <a:pt x="1214" y="242"/>
                  </a:lnTo>
                  <a:lnTo>
                    <a:pt x="1186" y="249"/>
                  </a:lnTo>
                  <a:lnTo>
                    <a:pt x="1157" y="255"/>
                  </a:lnTo>
                  <a:lnTo>
                    <a:pt x="1127" y="262"/>
                  </a:lnTo>
                  <a:lnTo>
                    <a:pt x="1097" y="269"/>
                  </a:lnTo>
                  <a:lnTo>
                    <a:pt x="1067" y="275"/>
                  </a:lnTo>
                  <a:lnTo>
                    <a:pt x="1039" y="284"/>
                  </a:lnTo>
                  <a:lnTo>
                    <a:pt x="1012" y="290"/>
                  </a:lnTo>
                  <a:lnTo>
                    <a:pt x="989" y="297"/>
                  </a:lnTo>
                  <a:lnTo>
                    <a:pt x="967" y="302"/>
                  </a:lnTo>
                  <a:lnTo>
                    <a:pt x="949" y="309"/>
                  </a:lnTo>
                  <a:lnTo>
                    <a:pt x="936" y="314"/>
                  </a:lnTo>
                  <a:lnTo>
                    <a:pt x="927" y="317"/>
                  </a:lnTo>
                  <a:lnTo>
                    <a:pt x="914" y="324"/>
                  </a:lnTo>
                  <a:lnTo>
                    <a:pt x="901" y="329"/>
                  </a:lnTo>
                  <a:lnTo>
                    <a:pt x="887" y="337"/>
                  </a:lnTo>
                  <a:lnTo>
                    <a:pt x="872" y="344"/>
                  </a:lnTo>
                  <a:lnTo>
                    <a:pt x="857" y="355"/>
                  </a:lnTo>
                  <a:lnTo>
                    <a:pt x="842" y="369"/>
                  </a:lnTo>
                  <a:lnTo>
                    <a:pt x="826" y="389"/>
                  </a:lnTo>
                  <a:lnTo>
                    <a:pt x="807" y="412"/>
                  </a:lnTo>
                  <a:lnTo>
                    <a:pt x="791" y="437"/>
                  </a:lnTo>
                  <a:lnTo>
                    <a:pt x="776" y="460"/>
                  </a:lnTo>
                  <a:lnTo>
                    <a:pt x="761" y="482"/>
                  </a:lnTo>
                  <a:lnTo>
                    <a:pt x="747" y="502"/>
                  </a:lnTo>
                  <a:lnTo>
                    <a:pt x="737" y="519"/>
                  </a:lnTo>
                  <a:lnTo>
                    <a:pt x="727" y="532"/>
                  </a:lnTo>
                  <a:lnTo>
                    <a:pt x="719" y="542"/>
                  </a:lnTo>
                  <a:lnTo>
                    <a:pt x="712" y="549"/>
                  </a:lnTo>
                  <a:lnTo>
                    <a:pt x="706" y="554"/>
                  </a:lnTo>
                  <a:lnTo>
                    <a:pt x="699" y="559"/>
                  </a:lnTo>
                  <a:lnTo>
                    <a:pt x="689" y="564"/>
                  </a:lnTo>
                  <a:lnTo>
                    <a:pt x="679" y="565"/>
                  </a:lnTo>
                  <a:lnTo>
                    <a:pt x="667" y="567"/>
                  </a:lnTo>
                  <a:lnTo>
                    <a:pt x="657" y="567"/>
                  </a:lnTo>
                  <a:lnTo>
                    <a:pt x="647" y="564"/>
                  </a:lnTo>
                  <a:lnTo>
                    <a:pt x="637" y="559"/>
                  </a:lnTo>
                  <a:lnTo>
                    <a:pt x="629" y="552"/>
                  </a:lnTo>
                  <a:lnTo>
                    <a:pt x="622" y="544"/>
                  </a:lnTo>
                  <a:lnTo>
                    <a:pt x="615" y="535"/>
                  </a:lnTo>
                  <a:lnTo>
                    <a:pt x="609" y="529"/>
                  </a:lnTo>
                  <a:lnTo>
                    <a:pt x="602" y="524"/>
                  </a:lnTo>
                  <a:lnTo>
                    <a:pt x="595" y="520"/>
                  </a:lnTo>
                  <a:lnTo>
                    <a:pt x="589" y="519"/>
                  </a:lnTo>
                  <a:lnTo>
                    <a:pt x="580" y="520"/>
                  </a:lnTo>
                  <a:lnTo>
                    <a:pt x="569" y="524"/>
                  </a:lnTo>
                  <a:lnTo>
                    <a:pt x="554" y="525"/>
                  </a:lnTo>
                  <a:lnTo>
                    <a:pt x="537" y="525"/>
                  </a:lnTo>
                  <a:lnTo>
                    <a:pt x="519" y="525"/>
                  </a:lnTo>
                  <a:lnTo>
                    <a:pt x="499" y="525"/>
                  </a:lnTo>
                  <a:lnTo>
                    <a:pt x="480" y="524"/>
                  </a:lnTo>
                  <a:lnTo>
                    <a:pt x="462" y="522"/>
                  </a:lnTo>
                  <a:lnTo>
                    <a:pt x="447" y="520"/>
                  </a:lnTo>
                  <a:lnTo>
                    <a:pt x="432" y="519"/>
                  </a:lnTo>
                  <a:lnTo>
                    <a:pt x="417" y="515"/>
                  </a:lnTo>
                  <a:lnTo>
                    <a:pt x="404" y="510"/>
                  </a:lnTo>
                  <a:lnTo>
                    <a:pt x="389" y="507"/>
                  </a:lnTo>
                  <a:lnTo>
                    <a:pt x="375" y="504"/>
                  </a:lnTo>
                  <a:lnTo>
                    <a:pt x="364" y="500"/>
                  </a:lnTo>
                  <a:lnTo>
                    <a:pt x="352" y="497"/>
                  </a:lnTo>
                  <a:lnTo>
                    <a:pt x="342" y="497"/>
                  </a:lnTo>
                  <a:lnTo>
                    <a:pt x="329" y="497"/>
                  </a:lnTo>
                  <a:lnTo>
                    <a:pt x="307" y="497"/>
                  </a:lnTo>
                  <a:lnTo>
                    <a:pt x="280" y="499"/>
                  </a:lnTo>
                  <a:lnTo>
                    <a:pt x="250" y="499"/>
                  </a:lnTo>
                  <a:lnTo>
                    <a:pt x="224" y="500"/>
                  </a:lnTo>
                  <a:lnTo>
                    <a:pt x="200" y="502"/>
                  </a:lnTo>
                  <a:lnTo>
                    <a:pt x="184" y="502"/>
                  </a:lnTo>
                  <a:lnTo>
                    <a:pt x="177" y="502"/>
                  </a:lnTo>
                  <a:lnTo>
                    <a:pt x="175" y="504"/>
                  </a:lnTo>
                  <a:lnTo>
                    <a:pt x="170" y="505"/>
                  </a:lnTo>
                  <a:lnTo>
                    <a:pt x="164" y="509"/>
                  </a:lnTo>
                  <a:lnTo>
                    <a:pt x="155" y="510"/>
                  </a:lnTo>
                  <a:lnTo>
                    <a:pt x="144" y="512"/>
                  </a:lnTo>
                  <a:lnTo>
                    <a:pt x="132" y="512"/>
                  </a:lnTo>
                  <a:lnTo>
                    <a:pt x="120" y="509"/>
                  </a:lnTo>
                  <a:lnTo>
                    <a:pt x="107" y="502"/>
                  </a:lnTo>
                  <a:lnTo>
                    <a:pt x="95" y="494"/>
                  </a:lnTo>
                  <a:lnTo>
                    <a:pt x="87" y="485"/>
                  </a:lnTo>
                  <a:lnTo>
                    <a:pt x="80" y="479"/>
                  </a:lnTo>
                  <a:lnTo>
                    <a:pt x="75" y="475"/>
                  </a:lnTo>
                  <a:lnTo>
                    <a:pt x="70" y="472"/>
                  </a:lnTo>
                  <a:lnTo>
                    <a:pt x="65" y="470"/>
                  </a:lnTo>
                  <a:lnTo>
                    <a:pt x="60" y="470"/>
                  </a:lnTo>
                  <a:lnTo>
                    <a:pt x="53" y="474"/>
                  </a:lnTo>
                  <a:lnTo>
                    <a:pt x="47" y="480"/>
                  </a:lnTo>
                  <a:lnTo>
                    <a:pt x="50" y="489"/>
                  </a:lnTo>
                  <a:lnTo>
                    <a:pt x="55" y="500"/>
                  </a:lnTo>
                  <a:lnTo>
                    <a:pt x="53" y="515"/>
                  </a:lnTo>
                  <a:lnTo>
                    <a:pt x="50" y="535"/>
                  </a:lnTo>
                  <a:lnTo>
                    <a:pt x="48" y="557"/>
                  </a:lnTo>
                  <a:lnTo>
                    <a:pt x="50" y="577"/>
                  </a:lnTo>
                  <a:lnTo>
                    <a:pt x="50" y="592"/>
                  </a:lnTo>
                  <a:lnTo>
                    <a:pt x="47" y="606"/>
                  </a:lnTo>
                  <a:lnTo>
                    <a:pt x="40" y="621"/>
                  </a:lnTo>
                  <a:lnTo>
                    <a:pt x="33" y="634"/>
                  </a:lnTo>
                  <a:lnTo>
                    <a:pt x="30" y="639"/>
                  </a:lnTo>
                  <a:lnTo>
                    <a:pt x="0" y="662"/>
                  </a:lnTo>
                  <a:lnTo>
                    <a:pt x="3" y="666"/>
                  </a:lnTo>
                  <a:lnTo>
                    <a:pt x="8" y="669"/>
                  </a:lnTo>
                  <a:lnTo>
                    <a:pt x="13" y="674"/>
                  </a:lnTo>
                  <a:lnTo>
                    <a:pt x="18" y="677"/>
                  </a:lnTo>
                  <a:lnTo>
                    <a:pt x="32" y="684"/>
                  </a:lnTo>
                  <a:lnTo>
                    <a:pt x="43" y="687"/>
                  </a:lnTo>
                  <a:lnTo>
                    <a:pt x="55" y="687"/>
                  </a:lnTo>
                  <a:lnTo>
                    <a:pt x="67" y="686"/>
                  </a:lnTo>
                  <a:lnTo>
                    <a:pt x="77" y="684"/>
                  </a:lnTo>
                  <a:lnTo>
                    <a:pt x="83" y="681"/>
                  </a:lnTo>
                  <a:lnTo>
                    <a:pt x="88" y="679"/>
                  </a:lnTo>
                  <a:lnTo>
                    <a:pt x="90" y="677"/>
                  </a:lnTo>
                  <a:lnTo>
                    <a:pt x="97" y="677"/>
                  </a:lnTo>
                  <a:lnTo>
                    <a:pt x="114" y="677"/>
                  </a:lnTo>
                  <a:lnTo>
                    <a:pt x="137" y="676"/>
                  </a:lnTo>
                  <a:lnTo>
                    <a:pt x="164" y="674"/>
                  </a:lnTo>
                  <a:lnTo>
                    <a:pt x="194" y="674"/>
                  </a:lnTo>
                  <a:lnTo>
                    <a:pt x="220" y="672"/>
                  </a:lnTo>
                  <a:lnTo>
                    <a:pt x="242" y="672"/>
                  </a:lnTo>
                  <a:lnTo>
                    <a:pt x="255" y="672"/>
                  </a:lnTo>
                  <a:lnTo>
                    <a:pt x="265" y="674"/>
                  </a:lnTo>
                  <a:lnTo>
                    <a:pt x="275" y="676"/>
                  </a:lnTo>
                  <a:lnTo>
                    <a:pt x="289" y="679"/>
                  </a:lnTo>
                  <a:lnTo>
                    <a:pt x="302" y="682"/>
                  </a:lnTo>
                  <a:lnTo>
                    <a:pt x="315" y="687"/>
                  </a:lnTo>
                  <a:lnTo>
                    <a:pt x="330" y="691"/>
                  </a:lnTo>
                  <a:lnTo>
                    <a:pt x="344" y="694"/>
                  </a:lnTo>
                  <a:lnTo>
                    <a:pt x="359" y="697"/>
                  </a:lnTo>
                  <a:lnTo>
                    <a:pt x="374" y="699"/>
                  </a:lnTo>
                  <a:lnTo>
                    <a:pt x="392" y="701"/>
                  </a:lnTo>
                  <a:lnTo>
                    <a:pt x="412" y="701"/>
                  </a:lnTo>
                  <a:lnTo>
                    <a:pt x="430" y="702"/>
                  </a:lnTo>
                  <a:lnTo>
                    <a:pt x="450" y="702"/>
                  </a:lnTo>
                  <a:lnTo>
                    <a:pt x="467" y="701"/>
                  </a:lnTo>
                  <a:lnTo>
                    <a:pt x="480" y="701"/>
                  </a:lnTo>
                  <a:lnTo>
                    <a:pt x="492" y="697"/>
                  </a:lnTo>
                  <a:lnTo>
                    <a:pt x="500" y="696"/>
                  </a:lnTo>
                  <a:lnTo>
                    <a:pt x="507" y="696"/>
                  </a:lnTo>
                  <a:lnTo>
                    <a:pt x="514" y="699"/>
                  </a:lnTo>
                  <a:lnTo>
                    <a:pt x="520" y="706"/>
                  </a:lnTo>
                  <a:lnTo>
                    <a:pt x="527" y="712"/>
                  </a:lnTo>
                  <a:lnTo>
                    <a:pt x="534" y="719"/>
                  </a:lnTo>
                  <a:lnTo>
                    <a:pt x="540" y="727"/>
                  </a:lnTo>
                  <a:lnTo>
                    <a:pt x="549" y="734"/>
                  </a:lnTo>
                  <a:lnTo>
                    <a:pt x="559" y="741"/>
                  </a:lnTo>
                  <a:lnTo>
                    <a:pt x="569" y="742"/>
                  </a:lnTo>
                  <a:lnTo>
                    <a:pt x="579" y="744"/>
                  </a:lnTo>
                  <a:lnTo>
                    <a:pt x="590" y="742"/>
                  </a:lnTo>
                  <a:lnTo>
                    <a:pt x="600" y="739"/>
                  </a:lnTo>
                  <a:lnTo>
                    <a:pt x="610" y="736"/>
                  </a:lnTo>
                  <a:lnTo>
                    <a:pt x="619" y="731"/>
                  </a:lnTo>
                  <a:lnTo>
                    <a:pt x="625" y="726"/>
                  </a:lnTo>
                  <a:lnTo>
                    <a:pt x="632" y="719"/>
                  </a:lnTo>
                  <a:lnTo>
                    <a:pt x="639" y="707"/>
                  </a:lnTo>
                  <a:lnTo>
                    <a:pt x="649" y="694"/>
                  </a:lnTo>
                  <a:lnTo>
                    <a:pt x="661" y="677"/>
                  </a:lnTo>
                  <a:lnTo>
                    <a:pt x="672" y="659"/>
                  </a:lnTo>
                  <a:lnTo>
                    <a:pt x="687" y="637"/>
                  </a:lnTo>
                  <a:lnTo>
                    <a:pt x="704" y="614"/>
                  </a:lnTo>
                  <a:lnTo>
                    <a:pt x="721" y="587"/>
                  </a:lnTo>
                  <a:lnTo>
                    <a:pt x="737" y="564"/>
                  </a:lnTo>
                  <a:lnTo>
                    <a:pt x="754" y="544"/>
                  </a:lnTo>
                  <a:lnTo>
                    <a:pt x="769" y="530"/>
                  </a:lnTo>
                  <a:lnTo>
                    <a:pt x="786" y="519"/>
                  </a:lnTo>
                  <a:lnTo>
                    <a:pt x="799" y="512"/>
                  </a:lnTo>
                  <a:lnTo>
                    <a:pt x="812" y="504"/>
                  </a:lnTo>
                  <a:lnTo>
                    <a:pt x="826" y="499"/>
                  </a:lnTo>
                  <a:lnTo>
                    <a:pt x="839" y="492"/>
                  </a:lnTo>
                  <a:lnTo>
                    <a:pt x="847" y="489"/>
                  </a:lnTo>
                  <a:lnTo>
                    <a:pt x="862" y="484"/>
                  </a:lnTo>
                  <a:lnTo>
                    <a:pt x="879" y="479"/>
                  </a:lnTo>
                  <a:lnTo>
                    <a:pt x="901" y="472"/>
                  </a:lnTo>
                  <a:lnTo>
                    <a:pt x="926" y="465"/>
                  </a:lnTo>
                  <a:lnTo>
                    <a:pt x="952" y="459"/>
                  </a:lnTo>
                  <a:lnTo>
                    <a:pt x="981" y="452"/>
                  </a:lnTo>
                  <a:lnTo>
                    <a:pt x="1009" y="444"/>
                  </a:lnTo>
                  <a:lnTo>
                    <a:pt x="1039" y="437"/>
                  </a:lnTo>
                  <a:lnTo>
                    <a:pt x="1069" y="430"/>
                  </a:lnTo>
                  <a:lnTo>
                    <a:pt x="1097" y="424"/>
                  </a:lnTo>
                  <a:lnTo>
                    <a:pt x="1126" y="417"/>
                  </a:lnTo>
                  <a:lnTo>
                    <a:pt x="1151" y="410"/>
                  </a:lnTo>
                  <a:lnTo>
                    <a:pt x="1174" y="405"/>
                  </a:lnTo>
                  <a:lnTo>
                    <a:pt x="1194" y="400"/>
                  </a:lnTo>
                  <a:lnTo>
                    <a:pt x="1209" y="397"/>
                  </a:lnTo>
                  <a:lnTo>
                    <a:pt x="1236" y="390"/>
                  </a:lnTo>
                  <a:lnTo>
                    <a:pt x="1263" y="385"/>
                  </a:lnTo>
                  <a:lnTo>
                    <a:pt x="1289" y="382"/>
                  </a:lnTo>
                  <a:lnTo>
                    <a:pt x="1313" y="379"/>
                  </a:lnTo>
                  <a:lnTo>
                    <a:pt x="1336" y="375"/>
                  </a:lnTo>
                  <a:lnTo>
                    <a:pt x="1354" y="370"/>
                  </a:lnTo>
                  <a:lnTo>
                    <a:pt x="1371" y="365"/>
                  </a:lnTo>
                  <a:lnTo>
                    <a:pt x="1384" y="359"/>
                  </a:lnTo>
                  <a:lnTo>
                    <a:pt x="1394" y="354"/>
                  </a:lnTo>
                  <a:lnTo>
                    <a:pt x="1411" y="345"/>
                  </a:lnTo>
                  <a:lnTo>
                    <a:pt x="1434" y="334"/>
                  </a:lnTo>
                  <a:lnTo>
                    <a:pt x="1463" y="320"/>
                  </a:lnTo>
                  <a:lnTo>
                    <a:pt x="1496" y="307"/>
                  </a:lnTo>
                  <a:lnTo>
                    <a:pt x="1533" y="290"/>
                  </a:lnTo>
                  <a:lnTo>
                    <a:pt x="1571" y="274"/>
                  </a:lnTo>
                  <a:lnTo>
                    <a:pt x="1611" y="255"/>
                  </a:lnTo>
                  <a:lnTo>
                    <a:pt x="1649" y="239"/>
                  </a:lnTo>
                  <a:lnTo>
                    <a:pt x="1688" y="222"/>
                  </a:lnTo>
                  <a:lnTo>
                    <a:pt x="1723" y="207"/>
                  </a:lnTo>
                  <a:lnTo>
                    <a:pt x="1756" y="192"/>
                  </a:lnTo>
                  <a:lnTo>
                    <a:pt x="1783" y="180"/>
                  </a:lnTo>
                  <a:lnTo>
                    <a:pt x="1805" y="170"/>
                  </a:lnTo>
                  <a:lnTo>
                    <a:pt x="1820" y="164"/>
                  </a:lnTo>
                  <a:lnTo>
                    <a:pt x="1826" y="160"/>
                  </a:lnTo>
                  <a:lnTo>
                    <a:pt x="1836" y="152"/>
                  </a:lnTo>
                  <a:lnTo>
                    <a:pt x="1841" y="142"/>
                  </a:lnTo>
                  <a:lnTo>
                    <a:pt x="1845" y="130"/>
                  </a:lnTo>
                  <a:lnTo>
                    <a:pt x="1846" y="117"/>
                  </a:lnTo>
                  <a:lnTo>
                    <a:pt x="1848" y="100"/>
                  </a:lnTo>
                  <a:lnTo>
                    <a:pt x="1851" y="78"/>
                  </a:lnTo>
                  <a:lnTo>
                    <a:pt x="1858" y="57"/>
                  </a:lnTo>
                  <a:lnTo>
                    <a:pt x="1865" y="37"/>
                  </a:lnTo>
                  <a:lnTo>
                    <a:pt x="1868" y="27"/>
                  </a:lnTo>
                  <a:lnTo>
                    <a:pt x="1873" y="18"/>
                  </a:lnTo>
                  <a:lnTo>
                    <a:pt x="1876" y="8"/>
                  </a:lnTo>
                  <a:lnTo>
                    <a:pt x="1881" y="0"/>
                  </a:lnTo>
                  <a:lnTo>
                    <a:pt x="1861" y="10"/>
                  </a:lnTo>
                  <a:lnTo>
                    <a:pt x="1836" y="20"/>
                  </a:lnTo>
                  <a:lnTo>
                    <a:pt x="1808" y="32"/>
                  </a:lnTo>
                  <a:lnTo>
                    <a:pt x="1778" y="45"/>
                  </a:lnTo>
                  <a:lnTo>
                    <a:pt x="1746" y="58"/>
                  </a:lnTo>
                  <a:lnTo>
                    <a:pt x="1714" y="73"/>
                  </a:lnTo>
                  <a:lnTo>
                    <a:pt x="1681" y="88"/>
                  </a:lnTo>
                  <a:lnTo>
                    <a:pt x="1648" y="102"/>
                  </a:lnTo>
                  <a:lnTo>
                    <a:pt x="1616" y="117"/>
                  </a:lnTo>
                  <a:lnTo>
                    <a:pt x="1586" y="130"/>
                  </a:lnTo>
                  <a:lnTo>
                    <a:pt x="1558" y="142"/>
                  </a:lnTo>
                  <a:lnTo>
                    <a:pt x="1533" y="154"/>
                  </a:lnTo>
                  <a:lnTo>
                    <a:pt x="1511" y="164"/>
                  </a:lnTo>
                  <a:lnTo>
                    <a:pt x="1493" y="174"/>
                  </a:lnTo>
                  <a:lnTo>
                    <a:pt x="1479" y="179"/>
                  </a:lnTo>
                  <a:lnTo>
                    <a:pt x="1473" y="184"/>
                  </a:lnTo>
                  <a:lnTo>
                    <a:pt x="1459" y="190"/>
                  </a:lnTo>
                  <a:lnTo>
                    <a:pt x="1443" y="195"/>
                  </a:lnTo>
                  <a:lnTo>
                    <a:pt x="1423" y="199"/>
                  </a:lnTo>
                  <a:lnTo>
                    <a:pt x="1401" y="202"/>
                  </a:lnTo>
                  <a:lnTo>
                    <a:pt x="1376" y="205"/>
                  </a:lnTo>
                  <a:lnTo>
                    <a:pt x="1351" y="210"/>
                  </a:lnTo>
                  <a:lnTo>
                    <a:pt x="1324" y="215"/>
                  </a:lnTo>
                  <a:lnTo>
                    <a:pt x="1298" y="222"/>
                  </a:lnTo>
                  <a:close/>
                </a:path>
              </a:pathLst>
            </a:custGeom>
            <a:solidFill>
              <a:srgbClr val="ffffff">
                <a:alpha val="20000"/>
              </a:srgbClr>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458640" y="11160"/>
              <a:ext cx="9596520" cy="5938920"/>
            </a:xfrm>
            <a:custGeom>
              <a:avLst/>
              <a:gdLst/>
              <a:ahLst/>
              <a:rect l="l" t="t" r="r" b="b"/>
              <a:pathLst>
                <a:path w="3185" h="2678">
                  <a:moveTo>
                    <a:pt x="380" y="90"/>
                  </a:moveTo>
                  <a:lnTo>
                    <a:pt x="683" y="28"/>
                  </a:lnTo>
                  <a:lnTo>
                    <a:pt x="693" y="0"/>
                  </a:lnTo>
                  <a:lnTo>
                    <a:pt x="695" y="0"/>
                  </a:lnTo>
                  <a:lnTo>
                    <a:pt x="698" y="0"/>
                  </a:lnTo>
                  <a:lnTo>
                    <a:pt x="704" y="0"/>
                  </a:lnTo>
                  <a:lnTo>
                    <a:pt x="712" y="0"/>
                  </a:lnTo>
                  <a:lnTo>
                    <a:pt x="720" y="0"/>
                  </a:lnTo>
                  <a:lnTo>
                    <a:pt x="734" y="2"/>
                  </a:lnTo>
                  <a:lnTo>
                    <a:pt x="747" y="5"/>
                  </a:lnTo>
                  <a:lnTo>
                    <a:pt x="764" y="10"/>
                  </a:lnTo>
                  <a:lnTo>
                    <a:pt x="782" y="15"/>
                  </a:lnTo>
                  <a:lnTo>
                    <a:pt x="799" y="20"/>
                  </a:lnTo>
                  <a:lnTo>
                    <a:pt x="817" y="23"/>
                  </a:lnTo>
                  <a:lnTo>
                    <a:pt x="832" y="28"/>
                  </a:lnTo>
                  <a:lnTo>
                    <a:pt x="847" y="32"/>
                  </a:lnTo>
                  <a:lnTo>
                    <a:pt x="862" y="35"/>
                  </a:lnTo>
                  <a:lnTo>
                    <a:pt x="874" y="40"/>
                  </a:lnTo>
                  <a:lnTo>
                    <a:pt x="884" y="43"/>
                  </a:lnTo>
                  <a:lnTo>
                    <a:pt x="894" y="48"/>
                  </a:lnTo>
                  <a:lnTo>
                    <a:pt x="907" y="57"/>
                  </a:lnTo>
                  <a:lnTo>
                    <a:pt x="924" y="68"/>
                  </a:lnTo>
                  <a:lnTo>
                    <a:pt x="942" y="82"/>
                  </a:lnTo>
                  <a:lnTo>
                    <a:pt x="962" y="97"/>
                  </a:lnTo>
                  <a:lnTo>
                    <a:pt x="985" y="112"/>
                  </a:lnTo>
                  <a:lnTo>
                    <a:pt x="1009" y="127"/>
                  </a:lnTo>
                  <a:lnTo>
                    <a:pt x="1035" y="142"/>
                  </a:lnTo>
                  <a:lnTo>
                    <a:pt x="1060" y="155"/>
                  </a:lnTo>
                  <a:lnTo>
                    <a:pt x="1080" y="168"/>
                  </a:lnTo>
                  <a:lnTo>
                    <a:pt x="1099" y="180"/>
                  </a:lnTo>
                  <a:lnTo>
                    <a:pt x="1114" y="190"/>
                  </a:lnTo>
                  <a:lnTo>
                    <a:pt x="1124" y="197"/>
                  </a:lnTo>
                  <a:lnTo>
                    <a:pt x="1132" y="203"/>
                  </a:lnTo>
                  <a:lnTo>
                    <a:pt x="1137" y="207"/>
                  </a:lnTo>
                  <a:lnTo>
                    <a:pt x="1139" y="208"/>
                  </a:lnTo>
                  <a:lnTo>
                    <a:pt x="1142" y="210"/>
                  </a:lnTo>
                  <a:lnTo>
                    <a:pt x="1150" y="215"/>
                  </a:lnTo>
                  <a:lnTo>
                    <a:pt x="1162" y="223"/>
                  </a:lnTo>
                  <a:lnTo>
                    <a:pt x="1177" y="233"/>
                  </a:lnTo>
                  <a:lnTo>
                    <a:pt x="1192" y="243"/>
                  </a:lnTo>
                  <a:lnTo>
                    <a:pt x="1205" y="255"/>
                  </a:lnTo>
                  <a:lnTo>
                    <a:pt x="1217" y="265"/>
                  </a:lnTo>
                  <a:lnTo>
                    <a:pt x="1225" y="275"/>
                  </a:lnTo>
                  <a:lnTo>
                    <a:pt x="1234" y="285"/>
                  </a:lnTo>
                  <a:lnTo>
                    <a:pt x="1245" y="297"/>
                  </a:lnTo>
                  <a:lnTo>
                    <a:pt x="1259" y="310"/>
                  </a:lnTo>
                  <a:lnTo>
                    <a:pt x="1276" y="325"/>
                  </a:lnTo>
                  <a:lnTo>
                    <a:pt x="1292" y="340"/>
                  </a:lnTo>
                  <a:lnTo>
                    <a:pt x="1309" y="354"/>
                  </a:lnTo>
                  <a:lnTo>
                    <a:pt x="1324" y="365"/>
                  </a:lnTo>
                  <a:lnTo>
                    <a:pt x="1334" y="375"/>
                  </a:lnTo>
                  <a:lnTo>
                    <a:pt x="1346" y="385"/>
                  </a:lnTo>
                  <a:lnTo>
                    <a:pt x="1362" y="397"/>
                  </a:lnTo>
                  <a:lnTo>
                    <a:pt x="1381" y="410"/>
                  </a:lnTo>
                  <a:lnTo>
                    <a:pt x="1401" y="424"/>
                  </a:lnTo>
                  <a:lnTo>
                    <a:pt x="1421" y="437"/>
                  </a:lnTo>
                  <a:lnTo>
                    <a:pt x="1436" y="445"/>
                  </a:lnTo>
                  <a:lnTo>
                    <a:pt x="1447" y="454"/>
                  </a:lnTo>
                  <a:lnTo>
                    <a:pt x="1451" y="455"/>
                  </a:lnTo>
                  <a:lnTo>
                    <a:pt x="1489" y="509"/>
                  </a:lnTo>
                  <a:lnTo>
                    <a:pt x="1497" y="509"/>
                  </a:lnTo>
                  <a:lnTo>
                    <a:pt x="1517" y="509"/>
                  </a:lnTo>
                  <a:lnTo>
                    <a:pt x="1546" y="509"/>
                  </a:lnTo>
                  <a:lnTo>
                    <a:pt x="1581" y="509"/>
                  </a:lnTo>
                  <a:lnTo>
                    <a:pt x="1617" y="510"/>
                  </a:lnTo>
                  <a:lnTo>
                    <a:pt x="1651" y="514"/>
                  </a:lnTo>
                  <a:lnTo>
                    <a:pt x="1677" y="520"/>
                  </a:lnTo>
                  <a:lnTo>
                    <a:pt x="1694" y="527"/>
                  </a:lnTo>
                  <a:lnTo>
                    <a:pt x="1696" y="527"/>
                  </a:lnTo>
                  <a:lnTo>
                    <a:pt x="1702" y="525"/>
                  </a:lnTo>
                  <a:lnTo>
                    <a:pt x="1712" y="522"/>
                  </a:lnTo>
                  <a:lnTo>
                    <a:pt x="1722" y="520"/>
                  </a:lnTo>
                  <a:lnTo>
                    <a:pt x="1736" y="519"/>
                  </a:lnTo>
                  <a:lnTo>
                    <a:pt x="1747" y="515"/>
                  </a:lnTo>
                  <a:lnTo>
                    <a:pt x="1759" y="514"/>
                  </a:lnTo>
                  <a:lnTo>
                    <a:pt x="1769" y="514"/>
                  </a:lnTo>
                  <a:lnTo>
                    <a:pt x="1782" y="515"/>
                  </a:lnTo>
                  <a:lnTo>
                    <a:pt x="1801" y="519"/>
                  </a:lnTo>
                  <a:lnTo>
                    <a:pt x="1823" y="522"/>
                  </a:lnTo>
                  <a:lnTo>
                    <a:pt x="1848" y="527"/>
                  </a:lnTo>
                  <a:lnTo>
                    <a:pt x="1869" y="534"/>
                  </a:lnTo>
                  <a:lnTo>
                    <a:pt x="1889" y="537"/>
                  </a:lnTo>
                  <a:lnTo>
                    <a:pt x="1903" y="540"/>
                  </a:lnTo>
                  <a:lnTo>
                    <a:pt x="1908" y="542"/>
                  </a:lnTo>
                  <a:lnTo>
                    <a:pt x="1926" y="604"/>
                  </a:lnTo>
                  <a:lnTo>
                    <a:pt x="2044" y="604"/>
                  </a:lnTo>
                  <a:lnTo>
                    <a:pt x="2064" y="689"/>
                  </a:lnTo>
                  <a:lnTo>
                    <a:pt x="2071" y="692"/>
                  </a:lnTo>
                  <a:lnTo>
                    <a:pt x="2083" y="704"/>
                  </a:lnTo>
                  <a:lnTo>
                    <a:pt x="2093" y="722"/>
                  </a:lnTo>
                  <a:lnTo>
                    <a:pt x="2093" y="746"/>
                  </a:lnTo>
                  <a:lnTo>
                    <a:pt x="2116" y="784"/>
                  </a:lnTo>
                  <a:lnTo>
                    <a:pt x="2154" y="769"/>
                  </a:lnTo>
                  <a:lnTo>
                    <a:pt x="2158" y="774"/>
                  </a:lnTo>
                  <a:lnTo>
                    <a:pt x="2164" y="786"/>
                  </a:lnTo>
                  <a:lnTo>
                    <a:pt x="2169" y="801"/>
                  </a:lnTo>
                  <a:lnTo>
                    <a:pt x="2173" y="812"/>
                  </a:lnTo>
                  <a:lnTo>
                    <a:pt x="2176" y="824"/>
                  </a:lnTo>
                  <a:lnTo>
                    <a:pt x="2183" y="834"/>
                  </a:lnTo>
                  <a:lnTo>
                    <a:pt x="2189" y="842"/>
                  </a:lnTo>
                  <a:lnTo>
                    <a:pt x="2193" y="846"/>
                  </a:lnTo>
                  <a:lnTo>
                    <a:pt x="2201" y="822"/>
                  </a:lnTo>
                  <a:lnTo>
                    <a:pt x="2226" y="869"/>
                  </a:lnTo>
                  <a:lnTo>
                    <a:pt x="2228" y="869"/>
                  </a:lnTo>
                  <a:lnTo>
                    <a:pt x="2234" y="871"/>
                  </a:lnTo>
                  <a:lnTo>
                    <a:pt x="2244" y="874"/>
                  </a:lnTo>
                  <a:lnTo>
                    <a:pt x="2254" y="877"/>
                  </a:lnTo>
                  <a:lnTo>
                    <a:pt x="2266" y="882"/>
                  </a:lnTo>
                  <a:lnTo>
                    <a:pt x="2276" y="887"/>
                  </a:lnTo>
                  <a:lnTo>
                    <a:pt x="2284" y="894"/>
                  </a:lnTo>
                  <a:lnTo>
                    <a:pt x="2288" y="902"/>
                  </a:lnTo>
                  <a:lnTo>
                    <a:pt x="2289" y="921"/>
                  </a:lnTo>
                  <a:lnTo>
                    <a:pt x="2293" y="937"/>
                  </a:lnTo>
                  <a:lnTo>
                    <a:pt x="2296" y="952"/>
                  </a:lnTo>
                  <a:lnTo>
                    <a:pt x="2306" y="964"/>
                  </a:lnTo>
                  <a:lnTo>
                    <a:pt x="2316" y="979"/>
                  </a:lnTo>
                  <a:lnTo>
                    <a:pt x="2321" y="996"/>
                  </a:lnTo>
                  <a:lnTo>
                    <a:pt x="2318" y="1011"/>
                  </a:lnTo>
                  <a:lnTo>
                    <a:pt x="2311" y="1017"/>
                  </a:lnTo>
                  <a:lnTo>
                    <a:pt x="2303" y="1019"/>
                  </a:lnTo>
                  <a:lnTo>
                    <a:pt x="2299" y="1024"/>
                  </a:lnTo>
                  <a:lnTo>
                    <a:pt x="2301" y="1032"/>
                  </a:lnTo>
                  <a:lnTo>
                    <a:pt x="2306" y="1046"/>
                  </a:lnTo>
                  <a:lnTo>
                    <a:pt x="2313" y="1061"/>
                  </a:lnTo>
                  <a:lnTo>
                    <a:pt x="2319" y="1076"/>
                  </a:lnTo>
                  <a:lnTo>
                    <a:pt x="2324" y="1092"/>
                  </a:lnTo>
                  <a:lnTo>
                    <a:pt x="2329" y="1107"/>
                  </a:lnTo>
                  <a:lnTo>
                    <a:pt x="2336" y="1117"/>
                  </a:lnTo>
                  <a:lnTo>
                    <a:pt x="2344" y="1121"/>
                  </a:lnTo>
                  <a:lnTo>
                    <a:pt x="2351" y="1121"/>
                  </a:lnTo>
                  <a:lnTo>
                    <a:pt x="2354" y="1121"/>
                  </a:lnTo>
                  <a:lnTo>
                    <a:pt x="2356" y="1129"/>
                  </a:lnTo>
                  <a:lnTo>
                    <a:pt x="2365" y="1149"/>
                  </a:lnTo>
                  <a:lnTo>
                    <a:pt x="2375" y="1174"/>
                  </a:lnTo>
                  <a:lnTo>
                    <a:pt x="2388" y="1192"/>
                  </a:lnTo>
                  <a:lnTo>
                    <a:pt x="2395" y="1201"/>
                  </a:lnTo>
                  <a:lnTo>
                    <a:pt x="2400" y="1209"/>
                  </a:lnTo>
                  <a:lnTo>
                    <a:pt x="2405" y="1217"/>
                  </a:lnTo>
                  <a:lnTo>
                    <a:pt x="2411" y="1227"/>
                  </a:lnTo>
                  <a:lnTo>
                    <a:pt x="2416" y="1236"/>
                  </a:lnTo>
                  <a:lnTo>
                    <a:pt x="2425" y="1244"/>
                  </a:lnTo>
                  <a:lnTo>
                    <a:pt x="2433" y="1253"/>
                  </a:lnTo>
                  <a:lnTo>
                    <a:pt x="2445" y="1259"/>
                  </a:lnTo>
                  <a:lnTo>
                    <a:pt x="2456" y="1263"/>
                  </a:lnTo>
                  <a:lnTo>
                    <a:pt x="2468" y="1263"/>
                  </a:lnTo>
                  <a:lnTo>
                    <a:pt x="2478" y="1263"/>
                  </a:lnTo>
                  <a:lnTo>
                    <a:pt x="2486" y="1259"/>
                  </a:lnTo>
                  <a:lnTo>
                    <a:pt x="2493" y="1256"/>
                  </a:lnTo>
                  <a:lnTo>
                    <a:pt x="2498" y="1253"/>
                  </a:lnTo>
                  <a:lnTo>
                    <a:pt x="2500" y="1251"/>
                  </a:lnTo>
                  <a:lnTo>
                    <a:pt x="2501" y="1249"/>
                  </a:lnTo>
                  <a:lnTo>
                    <a:pt x="2520" y="1259"/>
                  </a:lnTo>
                  <a:lnTo>
                    <a:pt x="2501" y="1293"/>
                  </a:lnTo>
                  <a:lnTo>
                    <a:pt x="2501" y="1294"/>
                  </a:lnTo>
                  <a:lnTo>
                    <a:pt x="2501" y="1299"/>
                  </a:lnTo>
                  <a:lnTo>
                    <a:pt x="2503" y="1304"/>
                  </a:lnTo>
                  <a:lnTo>
                    <a:pt x="2511" y="1306"/>
                  </a:lnTo>
                  <a:lnTo>
                    <a:pt x="2521" y="1314"/>
                  </a:lnTo>
                  <a:lnTo>
                    <a:pt x="2531" y="1329"/>
                  </a:lnTo>
                  <a:lnTo>
                    <a:pt x="2536" y="1346"/>
                  </a:lnTo>
                  <a:lnTo>
                    <a:pt x="2540" y="1354"/>
                  </a:lnTo>
                  <a:lnTo>
                    <a:pt x="2541" y="1356"/>
                  </a:lnTo>
                  <a:lnTo>
                    <a:pt x="2546" y="1361"/>
                  </a:lnTo>
                  <a:lnTo>
                    <a:pt x="2553" y="1368"/>
                  </a:lnTo>
                  <a:lnTo>
                    <a:pt x="2561" y="1378"/>
                  </a:lnTo>
                  <a:lnTo>
                    <a:pt x="2571" y="1388"/>
                  </a:lnTo>
                  <a:lnTo>
                    <a:pt x="2583" y="1401"/>
                  </a:lnTo>
                  <a:lnTo>
                    <a:pt x="2595" y="1414"/>
                  </a:lnTo>
                  <a:lnTo>
                    <a:pt x="2606" y="1428"/>
                  </a:lnTo>
                  <a:lnTo>
                    <a:pt x="2618" y="1443"/>
                  </a:lnTo>
                  <a:lnTo>
                    <a:pt x="2631" y="1458"/>
                  </a:lnTo>
                  <a:lnTo>
                    <a:pt x="2645" y="1473"/>
                  </a:lnTo>
                  <a:lnTo>
                    <a:pt x="2658" y="1488"/>
                  </a:lnTo>
                  <a:lnTo>
                    <a:pt x="2670" y="1501"/>
                  </a:lnTo>
                  <a:lnTo>
                    <a:pt x="2680" y="1511"/>
                  </a:lnTo>
                  <a:lnTo>
                    <a:pt x="2688" y="1521"/>
                  </a:lnTo>
                  <a:lnTo>
                    <a:pt x="2691" y="1528"/>
                  </a:lnTo>
                  <a:lnTo>
                    <a:pt x="2701" y="1533"/>
                  </a:lnTo>
                  <a:lnTo>
                    <a:pt x="2723" y="1538"/>
                  </a:lnTo>
                  <a:lnTo>
                    <a:pt x="2753" y="1543"/>
                  </a:lnTo>
                  <a:lnTo>
                    <a:pt x="2790" y="1546"/>
                  </a:lnTo>
                  <a:lnTo>
                    <a:pt x="2828" y="1549"/>
                  </a:lnTo>
                  <a:lnTo>
                    <a:pt x="2863" y="1551"/>
                  </a:lnTo>
                  <a:lnTo>
                    <a:pt x="2891" y="1554"/>
                  </a:lnTo>
                  <a:lnTo>
                    <a:pt x="2910" y="1556"/>
                  </a:lnTo>
                  <a:lnTo>
                    <a:pt x="2925" y="1558"/>
                  </a:lnTo>
                  <a:lnTo>
                    <a:pt x="2945" y="1559"/>
                  </a:lnTo>
                  <a:lnTo>
                    <a:pt x="2968" y="1561"/>
                  </a:lnTo>
                  <a:lnTo>
                    <a:pt x="2992" y="1563"/>
                  </a:lnTo>
                  <a:lnTo>
                    <a:pt x="3013" y="1566"/>
                  </a:lnTo>
                  <a:lnTo>
                    <a:pt x="3033" y="1568"/>
                  </a:lnTo>
                  <a:lnTo>
                    <a:pt x="3048" y="1569"/>
                  </a:lnTo>
                  <a:lnTo>
                    <a:pt x="3057" y="1571"/>
                  </a:lnTo>
                  <a:lnTo>
                    <a:pt x="3070" y="1569"/>
                  </a:lnTo>
                  <a:lnTo>
                    <a:pt x="3083" y="1563"/>
                  </a:lnTo>
                  <a:lnTo>
                    <a:pt x="3095" y="1554"/>
                  </a:lnTo>
                  <a:lnTo>
                    <a:pt x="3100" y="1551"/>
                  </a:lnTo>
                  <a:lnTo>
                    <a:pt x="3102" y="1553"/>
                  </a:lnTo>
                  <a:lnTo>
                    <a:pt x="3105" y="1556"/>
                  </a:lnTo>
                  <a:lnTo>
                    <a:pt x="3112" y="1561"/>
                  </a:lnTo>
                  <a:lnTo>
                    <a:pt x="3120" y="1568"/>
                  </a:lnTo>
                  <a:lnTo>
                    <a:pt x="3130" y="1576"/>
                  </a:lnTo>
                  <a:lnTo>
                    <a:pt x="3140" y="1586"/>
                  </a:lnTo>
                  <a:lnTo>
                    <a:pt x="3152" y="1598"/>
                  </a:lnTo>
                  <a:lnTo>
                    <a:pt x="3162" y="1609"/>
                  </a:lnTo>
                  <a:lnTo>
                    <a:pt x="3172" y="1624"/>
                  </a:lnTo>
                  <a:lnTo>
                    <a:pt x="3180" y="1638"/>
                  </a:lnTo>
                  <a:lnTo>
                    <a:pt x="3183" y="1653"/>
                  </a:lnTo>
                  <a:lnTo>
                    <a:pt x="3185" y="1668"/>
                  </a:lnTo>
                  <a:lnTo>
                    <a:pt x="3185" y="1678"/>
                  </a:lnTo>
                  <a:lnTo>
                    <a:pt x="3183" y="1688"/>
                  </a:lnTo>
                  <a:lnTo>
                    <a:pt x="3180" y="1696"/>
                  </a:lnTo>
                  <a:lnTo>
                    <a:pt x="3175" y="1704"/>
                  </a:lnTo>
                  <a:lnTo>
                    <a:pt x="3168" y="1724"/>
                  </a:lnTo>
                  <a:lnTo>
                    <a:pt x="3168" y="1748"/>
                  </a:lnTo>
                  <a:lnTo>
                    <a:pt x="3168" y="1771"/>
                  </a:lnTo>
                  <a:lnTo>
                    <a:pt x="3167" y="1795"/>
                  </a:lnTo>
                  <a:lnTo>
                    <a:pt x="3162" y="1815"/>
                  </a:lnTo>
                  <a:lnTo>
                    <a:pt x="3153" y="1835"/>
                  </a:lnTo>
                  <a:lnTo>
                    <a:pt x="3145" y="1851"/>
                  </a:lnTo>
                  <a:lnTo>
                    <a:pt x="3138" y="1870"/>
                  </a:lnTo>
                  <a:lnTo>
                    <a:pt x="3132" y="1890"/>
                  </a:lnTo>
                  <a:lnTo>
                    <a:pt x="3125" y="1913"/>
                  </a:lnTo>
                  <a:lnTo>
                    <a:pt x="3120" y="1933"/>
                  </a:lnTo>
                  <a:lnTo>
                    <a:pt x="3118" y="1951"/>
                  </a:lnTo>
                  <a:lnTo>
                    <a:pt x="3117" y="1965"/>
                  </a:lnTo>
                  <a:lnTo>
                    <a:pt x="3115" y="1976"/>
                  </a:lnTo>
                  <a:lnTo>
                    <a:pt x="3108" y="1986"/>
                  </a:lnTo>
                  <a:lnTo>
                    <a:pt x="3100" y="1993"/>
                  </a:lnTo>
                  <a:lnTo>
                    <a:pt x="3093" y="1996"/>
                  </a:lnTo>
                  <a:lnTo>
                    <a:pt x="3078" y="2003"/>
                  </a:lnTo>
                  <a:lnTo>
                    <a:pt x="3057" y="2013"/>
                  </a:lnTo>
                  <a:lnTo>
                    <a:pt x="3028" y="2026"/>
                  </a:lnTo>
                  <a:lnTo>
                    <a:pt x="2997" y="2040"/>
                  </a:lnTo>
                  <a:lnTo>
                    <a:pt x="2962" y="2056"/>
                  </a:lnTo>
                  <a:lnTo>
                    <a:pt x="2923" y="2073"/>
                  </a:lnTo>
                  <a:lnTo>
                    <a:pt x="2885" y="2090"/>
                  </a:lnTo>
                  <a:lnTo>
                    <a:pt x="2845" y="2108"/>
                  </a:lnTo>
                  <a:lnTo>
                    <a:pt x="2806" y="2125"/>
                  </a:lnTo>
                  <a:lnTo>
                    <a:pt x="2770" y="2141"/>
                  </a:lnTo>
                  <a:lnTo>
                    <a:pt x="2736" y="2155"/>
                  </a:lnTo>
                  <a:lnTo>
                    <a:pt x="2708" y="2168"/>
                  </a:lnTo>
                  <a:lnTo>
                    <a:pt x="2685" y="2180"/>
                  </a:lnTo>
                  <a:lnTo>
                    <a:pt x="2668" y="2188"/>
                  </a:lnTo>
                  <a:lnTo>
                    <a:pt x="2658" y="2193"/>
                  </a:lnTo>
                  <a:lnTo>
                    <a:pt x="2645" y="2200"/>
                  </a:lnTo>
                  <a:lnTo>
                    <a:pt x="2628" y="2205"/>
                  </a:lnTo>
                  <a:lnTo>
                    <a:pt x="2608" y="2208"/>
                  </a:lnTo>
                  <a:lnTo>
                    <a:pt x="2586" y="2211"/>
                  </a:lnTo>
                  <a:lnTo>
                    <a:pt x="2561" y="2215"/>
                  </a:lnTo>
                  <a:lnTo>
                    <a:pt x="2535" y="2220"/>
                  </a:lnTo>
                  <a:lnTo>
                    <a:pt x="2508" y="2225"/>
                  </a:lnTo>
                  <a:lnTo>
                    <a:pt x="2481" y="2231"/>
                  </a:lnTo>
                  <a:lnTo>
                    <a:pt x="2466" y="2235"/>
                  </a:lnTo>
                  <a:lnTo>
                    <a:pt x="2446" y="2240"/>
                  </a:lnTo>
                  <a:lnTo>
                    <a:pt x="2425" y="2245"/>
                  </a:lnTo>
                  <a:lnTo>
                    <a:pt x="2398" y="2252"/>
                  </a:lnTo>
                  <a:lnTo>
                    <a:pt x="2371" y="2258"/>
                  </a:lnTo>
                  <a:lnTo>
                    <a:pt x="2343" y="2265"/>
                  </a:lnTo>
                  <a:lnTo>
                    <a:pt x="2313" y="2272"/>
                  </a:lnTo>
                  <a:lnTo>
                    <a:pt x="2283" y="2278"/>
                  </a:lnTo>
                  <a:lnTo>
                    <a:pt x="2253" y="2285"/>
                  </a:lnTo>
                  <a:lnTo>
                    <a:pt x="2224" y="2293"/>
                  </a:lnTo>
                  <a:lnTo>
                    <a:pt x="2198" y="2300"/>
                  </a:lnTo>
                  <a:lnTo>
                    <a:pt x="2173" y="2307"/>
                  </a:lnTo>
                  <a:lnTo>
                    <a:pt x="2151" y="2312"/>
                  </a:lnTo>
                  <a:lnTo>
                    <a:pt x="2134" y="2318"/>
                  </a:lnTo>
                  <a:lnTo>
                    <a:pt x="2119" y="2323"/>
                  </a:lnTo>
                  <a:lnTo>
                    <a:pt x="2111" y="2327"/>
                  </a:lnTo>
                  <a:lnTo>
                    <a:pt x="2098" y="2333"/>
                  </a:lnTo>
                  <a:lnTo>
                    <a:pt x="2086" y="2338"/>
                  </a:lnTo>
                  <a:lnTo>
                    <a:pt x="2071" y="2347"/>
                  </a:lnTo>
                  <a:lnTo>
                    <a:pt x="2058" y="2353"/>
                  </a:lnTo>
                  <a:lnTo>
                    <a:pt x="2043" y="2365"/>
                  </a:lnTo>
                  <a:lnTo>
                    <a:pt x="2028" y="2378"/>
                  </a:lnTo>
                  <a:lnTo>
                    <a:pt x="2011" y="2398"/>
                  </a:lnTo>
                  <a:lnTo>
                    <a:pt x="1993" y="2422"/>
                  </a:lnTo>
                  <a:lnTo>
                    <a:pt x="1976" y="2447"/>
                  </a:lnTo>
                  <a:lnTo>
                    <a:pt x="1961" y="2470"/>
                  </a:lnTo>
                  <a:lnTo>
                    <a:pt x="1946" y="2492"/>
                  </a:lnTo>
                  <a:lnTo>
                    <a:pt x="1933" y="2512"/>
                  </a:lnTo>
                  <a:lnTo>
                    <a:pt x="1923" y="2528"/>
                  </a:lnTo>
                  <a:lnTo>
                    <a:pt x="1913" y="2542"/>
                  </a:lnTo>
                  <a:lnTo>
                    <a:pt x="1904" y="2552"/>
                  </a:lnTo>
                  <a:lnTo>
                    <a:pt x="1898" y="2558"/>
                  </a:lnTo>
                  <a:lnTo>
                    <a:pt x="1891" y="2563"/>
                  </a:lnTo>
                  <a:lnTo>
                    <a:pt x="1884" y="2568"/>
                  </a:lnTo>
                  <a:lnTo>
                    <a:pt x="1874" y="2573"/>
                  </a:lnTo>
                  <a:lnTo>
                    <a:pt x="1864" y="2575"/>
                  </a:lnTo>
                  <a:lnTo>
                    <a:pt x="1853" y="2577"/>
                  </a:lnTo>
                  <a:lnTo>
                    <a:pt x="1843" y="2577"/>
                  </a:lnTo>
                  <a:lnTo>
                    <a:pt x="1833" y="2573"/>
                  </a:lnTo>
                  <a:lnTo>
                    <a:pt x="1823" y="2568"/>
                  </a:lnTo>
                  <a:lnTo>
                    <a:pt x="1814" y="2562"/>
                  </a:lnTo>
                  <a:lnTo>
                    <a:pt x="1806" y="2553"/>
                  </a:lnTo>
                  <a:lnTo>
                    <a:pt x="1799" y="2547"/>
                  </a:lnTo>
                  <a:lnTo>
                    <a:pt x="1794" y="2538"/>
                  </a:lnTo>
                  <a:lnTo>
                    <a:pt x="1787" y="2533"/>
                  </a:lnTo>
                  <a:lnTo>
                    <a:pt x="1781" y="2530"/>
                  </a:lnTo>
                  <a:lnTo>
                    <a:pt x="1772" y="2528"/>
                  </a:lnTo>
                  <a:lnTo>
                    <a:pt x="1764" y="2530"/>
                  </a:lnTo>
                  <a:lnTo>
                    <a:pt x="1752" y="2533"/>
                  </a:lnTo>
                  <a:lnTo>
                    <a:pt x="1739" y="2535"/>
                  </a:lnTo>
                  <a:lnTo>
                    <a:pt x="1722" y="2535"/>
                  </a:lnTo>
                  <a:lnTo>
                    <a:pt x="1704" y="2535"/>
                  </a:lnTo>
                  <a:lnTo>
                    <a:pt x="1684" y="2535"/>
                  </a:lnTo>
                  <a:lnTo>
                    <a:pt x="1666" y="2533"/>
                  </a:lnTo>
                  <a:lnTo>
                    <a:pt x="1647" y="2532"/>
                  </a:lnTo>
                  <a:lnTo>
                    <a:pt x="1632" y="2530"/>
                  </a:lnTo>
                  <a:lnTo>
                    <a:pt x="1617" y="2528"/>
                  </a:lnTo>
                  <a:lnTo>
                    <a:pt x="1602" y="2525"/>
                  </a:lnTo>
                  <a:lnTo>
                    <a:pt x="1589" y="2520"/>
                  </a:lnTo>
                  <a:lnTo>
                    <a:pt x="1574" y="2517"/>
                  </a:lnTo>
                  <a:lnTo>
                    <a:pt x="1561" y="2513"/>
                  </a:lnTo>
                  <a:lnTo>
                    <a:pt x="1549" y="2510"/>
                  </a:lnTo>
                  <a:lnTo>
                    <a:pt x="1537" y="2507"/>
                  </a:lnTo>
                  <a:lnTo>
                    <a:pt x="1527" y="2507"/>
                  </a:lnTo>
                  <a:lnTo>
                    <a:pt x="1514" y="2507"/>
                  </a:lnTo>
                  <a:lnTo>
                    <a:pt x="1492" y="2507"/>
                  </a:lnTo>
                  <a:lnTo>
                    <a:pt x="1466" y="2508"/>
                  </a:lnTo>
                  <a:lnTo>
                    <a:pt x="1436" y="2508"/>
                  </a:lnTo>
                  <a:lnTo>
                    <a:pt x="1409" y="2510"/>
                  </a:lnTo>
                  <a:lnTo>
                    <a:pt x="1386" y="2512"/>
                  </a:lnTo>
                  <a:lnTo>
                    <a:pt x="1369" y="2512"/>
                  </a:lnTo>
                  <a:lnTo>
                    <a:pt x="1362" y="2512"/>
                  </a:lnTo>
                  <a:lnTo>
                    <a:pt x="1361" y="2513"/>
                  </a:lnTo>
                  <a:lnTo>
                    <a:pt x="1356" y="2515"/>
                  </a:lnTo>
                  <a:lnTo>
                    <a:pt x="1349" y="2518"/>
                  </a:lnTo>
                  <a:lnTo>
                    <a:pt x="1339" y="2520"/>
                  </a:lnTo>
                  <a:lnTo>
                    <a:pt x="1329" y="2522"/>
                  </a:lnTo>
                  <a:lnTo>
                    <a:pt x="1317" y="2522"/>
                  </a:lnTo>
                  <a:lnTo>
                    <a:pt x="1304" y="2518"/>
                  </a:lnTo>
                  <a:lnTo>
                    <a:pt x="1292" y="2512"/>
                  </a:lnTo>
                  <a:lnTo>
                    <a:pt x="1281" y="2503"/>
                  </a:lnTo>
                  <a:lnTo>
                    <a:pt x="1272" y="2497"/>
                  </a:lnTo>
                  <a:lnTo>
                    <a:pt x="1266" y="2490"/>
                  </a:lnTo>
                  <a:lnTo>
                    <a:pt x="1261" y="2485"/>
                  </a:lnTo>
                  <a:lnTo>
                    <a:pt x="1256" y="2482"/>
                  </a:lnTo>
                  <a:lnTo>
                    <a:pt x="1250" y="2480"/>
                  </a:lnTo>
                  <a:lnTo>
                    <a:pt x="1245" y="2480"/>
                  </a:lnTo>
                  <a:lnTo>
                    <a:pt x="1239" y="2483"/>
                  </a:lnTo>
                  <a:lnTo>
                    <a:pt x="1232" y="2490"/>
                  </a:lnTo>
                  <a:lnTo>
                    <a:pt x="1235" y="2498"/>
                  </a:lnTo>
                  <a:lnTo>
                    <a:pt x="1240" y="2510"/>
                  </a:lnTo>
                  <a:lnTo>
                    <a:pt x="1239" y="2525"/>
                  </a:lnTo>
                  <a:lnTo>
                    <a:pt x="1234" y="2545"/>
                  </a:lnTo>
                  <a:lnTo>
                    <a:pt x="1232" y="2567"/>
                  </a:lnTo>
                  <a:lnTo>
                    <a:pt x="1234" y="2587"/>
                  </a:lnTo>
                  <a:lnTo>
                    <a:pt x="1234" y="2602"/>
                  </a:lnTo>
                  <a:lnTo>
                    <a:pt x="1230" y="2615"/>
                  </a:lnTo>
                  <a:lnTo>
                    <a:pt x="1225" y="2630"/>
                  </a:lnTo>
                  <a:lnTo>
                    <a:pt x="1219" y="2643"/>
                  </a:lnTo>
                  <a:lnTo>
                    <a:pt x="1215" y="2648"/>
                  </a:lnTo>
                  <a:lnTo>
                    <a:pt x="1177" y="2678"/>
                  </a:lnTo>
                  <a:lnTo>
                    <a:pt x="1175" y="2672"/>
                  </a:lnTo>
                  <a:lnTo>
                    <a:pt x="1170" y="2657"/>
                  </a:lnTo>
                  <a:lnTo>
                    <a:pt x="1167" y="2640"/>
                  </a:lnTo>
                  <a:lnTo>
                    <a:pt x="1167" y="2625"/>
                  </a:lnTo>
                  <a:lnTo>
                    <a:pt x="1167" y="2613"/>
                  </a:lnTo>
                  <a:lnTo>
                    <a:pt x="1164" y="2598"/>
                  </a:lnTo>
                  <a:lnTo>
                    <a:pt x="1154" y="2583"/>
                  </a:lnTo>
                  <a:lnTo>
                    <a:pt x="1144" y="2568"/>
                  </a:lnTo>
                  <a:lnTo>
                    <a:pt x="1134" y="2555"/>
                  </a:lnTo>
                  <a:lnTo>
                    <a:pt x="1124" y="2543"/>
                  </a:lnTo>
                  <a:lnTo>
                    <a:pt x="1115" y="2532"/>
                  </a:lnTo>
                  <a:lnTo>
                    <a:pt x="1110" y="2522"/>
                  </a:lnTo>
                  <a:lnTo>
                    <a:pt x="1107" y="2508"/>
                  </a:lnTo>
                  <a:lnTo>
                    <a:pt x="1104" y="2492"/>
                  </a:lnTo>
                  <a:lnTo>
                    <a:pt x="1095" y="2475"/>
                  </a:lnTo>
                  <a:lnTo>
                    <a:pt x="1082" y="2458"/>
                  </a:lnTo>
                  <a:lnTo>
                    <a:pt x="1072" y="2450"/>
                  </a:lnTo>
                  <a:lnTo>
                    <a:pt x="1059" y="2437"/>
                  </a:lnTo>
                  <a:lnTo>
                    <a:pt x="1044" y="2423"/>
                  </a:lnTo>
                  <a:lnTo>
                    <a:pt x="1029" y="2405"/>
                  </a:lnTo>
                  <a:lnTo>
                    <a:pt x="1014" y="2387"/>
                  </a:lnTo>
                  <a:lnTo>
                    <a:pt x="999" y="2368"/>
                  </a:lnTo>
                  <a:lnTo>
                    <a:pt x="987" y="2350"/>
                  </a:lnTo>
                  <a:lnTo>
                    <a:pt x="979" y="2332"/>
                  </a:lnTo>
                  <a:lnTo>
                    <a:pt x="964" y="2302"/>
                  </a:lnTo>
                  <a:lnTo>
                    <a:pt x="949" y="2280"/>
                  </a:lnTo>
                  <a:lnTo>
                    <a:pt x="937" y="2263"/>
                  </a:lnTo>
                  <a:lnTo>
                    <a:pt x="930" y="2245"/>
                  </a:lnTo>
                  <a:lnTo>
                    <a:pt x="927" y="2231"/>
                  </a:lnTo>
                  <a:lnTo>
                    <a:pt x="920" y="2211"/>
                  </a:lnTo>
                  <a:lnTo>
                    <a:pt x="910" y="2190"/>
                  </a:lnTo>
                  <a:lnTo>
                    <a:pt x="900" y="2166"/>
                  </a:lnTo>
                  <a:lnTo>
                    <a:pt x="890" y="2143"/>
                  </a:lnTo>
                  <a:lnTo>
                    <a:pt x="880" y="2123"/>
                  </a:lnTo>
                  <a:lnTo>
                    <a:pt x="870" y="2108"/>
                  </a:lnTo>
                  <a:lnTo>
                    <a:pt x="864" y="2098"/>
                  </a:lnTo>
                  <a:lnTo>
                    <a:pt x="854" y="2085"/>
                  </a:lnTo>
                  <a:lnTo>
                    <a:pt x="845" y="2071"/>
                  </a:lnTo>
                  <a:lnTo>
                    <a:pt x="834" y="2056"/>
                  </a:lnTo>
                  <a:lnTo>
                    <a:pt x="822" y="2041"/>
                  </a:lnTo>
                  <a:lnTo>
                    <a:pt x="814" y="2033"/>
                  </a:lnTo>
                  <a:lnTo>
                    <a:pt x="802" y="2025"/>
                  </a:lnTo>
                  <a:lnTo>
                    <a:pt x="790" y="2018"/>
                  </a:lnTo>
                  <a:lnTo>
                    <a:pt x="779" y="2010"/>
                  </a:lnTo>
                  <a:lnTo>
                    <a:pt x="765" y="2003"/>
                  </a:lnTo>
                  <a:lnTo>
                    <a:pt x="752" y="1998"/>
                  </a:lnTo>
                  <a:lnTo>
                    <a:pt x="740" y="1995"/>
                  </a:lnTo>
                  <a:lnTo>
                    <a:pt x="730" y="1993"/>
                  </a:lnTo>
                  <a:lnTo>
                    <a:pt x="722" y="1991"/>
                  </a:lnTo>
                  <a:lnTo>
                    <a:pt x="717" y="1988"/>
                  </a:lnTo>
                  <a:lnTo>
                    <a:pt x="710" y="1983"/>
                  </a:lnTo>
                  <a:lnTo>
                    <a:pt x="705" y="1975"/>
                  </a:lnTo>
                  <a:lnTo>
                    <a:pt x="700" y="1966"/>
                  </a:lnTo>
                  <a:lnTo>
                    <a:pt x="693" y="1953"/>
                  </a:lnTo>
                  <a:lnTo>
                    <a:pt x="685" y="1940"/>
                  </a:lnTo>
                  <a:lnTo>
                    <a:pt x="673" y="1923"/>
                  </a:lnTo>
                  <a:lnTo>
                    <a:pt x="662" y="1905"/>
                  </a:lnTo>
                  <a:lnTo>
                    <a:pt x="652" y="1886"/>
                  </a:lnTo>
                  <a:lnTo>
                    <a:pt x="642" y="1868"/>
                  </a:lnTo>
                  <a:lnTo>
                    <a:pt x="635" y="1851"/>
                  </a:lnTo>
                  <a:lnTo>
                    <a:pt x="628" y="1833"/>
                  </a:lnTo>
                  <a:lnTo>
                    <a:pt x="623" y="1818"/>
                  </a:lnTo>
                  <a:lnTo>
                    <a:pt x="620" y="1803"/>
                  </a:lnTo>
                  <a:lnTo>
                    <a:pt x="617" y="1790"/>
                  </a:lnTo>
                  <a:lnTo>
                    <a:pt x="612" y="1765"/>
                  </a:lnTo>
                  <a:lnTo>
                    <a:pt x="603" y="1741"/>
                  </a:lnTo>
                  <a:lnTo>
                    <a:pt x="597" y="1724"/>
                  </a:lnTo>
                  <a:lnTo>
                    <a:pt x="593" y="1718"/>
                  </a:lnTo>
                  <a:lnTo>
                    <a:pt x="600" y="1706"/>
                  </a:lnTo>
                  <a:lnTo>
                    <a:pt x="610" y="1676"/>
                  </a:lnTo>
                  <a:lnTo>
                    <a:pt x="617" y="1636"/>
                  </a:lnTo>
                  <a:lnTo>
                    <a:pt x="607" y="1594"/>
                  </a:lnTo>
                  <a:lnTo>
                    <a:pt x="590" y="1559"/>
                  </a:lnTo>
                  <a:lnTo>
                    <a:pt x="582" y="1531"/>
                  </a:lnTo>
                  <a:lnTo>
                    <a:pt x="573" y="1503"/>
                  </a:lnTo>
                  <a:lnTo>
                    <a:pt x="560" y="1471"/>
                  </a:lnTo>
                  <a:lnTo>
                    <a:pt x="552" y="1454"/>
                  </a:lnTo>
                  <a:lnTo>
                    <a:pt x="547" y="1439"/>
                  </a:lnTo>
                  <a:lnTo>
                    <a:pt x="542" y="1426"/>
                  </a:lnTo>
                  <a:lnTo>
                    <a:pt x="537" y="1413"/>
                  </a:lnTo>
                  <a:lnTo>
                    <a:pt x="532" y="1401"/>
                  </a:lnTo>
                  <a:lnTo>
                    <a:pt x="525" y="1393"/>
                  </a:lnTo>
                  <a:lnTo>
                    <a:pt x="518" y="1383"/>
                  </a:lnTo>
                  <a:lnTo>
                    <a:pt x="508" y="1376"/>
                  </a:lnTo>
                  <a:lnTo>
                    <a:pt x="497" y="1369"/>
                  </a:lnTo>
                  <a:lnTo>
                    <a:pt x="487" y="1361"/>
                  </a:lnTo>
                  <a:lnTo>
                    <a:pt x="475" y="1354"/>
                  </a:lnTo>
                  <a:lnTo>
                    <a:pt x="463" y="1346"/>
                  </a:lnTo>
                  <a:lnTo>
                    <a:pt x="452" y="1338"/>
                  </a:lnTo>
                  <a:lnTo>
                    <a:pt x="440" y="1329"/>
                  </a:lnTo>
                  <a:lnTo>
                    <a:pt x="427" y="1323"/>
                  </a:lnTo>
                  <a:lnTo>
                    <a:pt x="413" y="1316"/>
                  </a:lnTo>
                  <a:lnTo>
                    <a:pt x="392" y="1303"/>
                  </a:lnTo>
                  <a:lnTo>
                    <a:pt x="382" y="1286"/>
                  </a:lnTo>
                  <a:lnTo>
                    <a:pt x="375" y="1268"/>
                  </a:lnTo>
                  <a:lnTo>
                    <a:pt x="365" y="1249"/>
                  </a:lnTo>
                  <a:lnTo>
                    <a:pt x="355" y="1232"/>
                  </a:lnTo>
                  <a:lnTo>
                    <a:pt x="348" y="1219"/>
                  </a:lnTo>
                  <a:lnTo>
                    <a:pt x="347" y="1209"/>
                  </a:lnTo>
                  <a:lnTo>
                    <a:pt x="347" y="1206"/>
                  </a:lnTo>
                  <a:lnTo>
                    <a:pt x="348" y="1206"/>
                  </a:lnTo>
                  <a:lnTo>
                    <a:pt x="353" y="1204"/>
                  </a:lnTo>
                  <a:lnTo>
                    <a:pt x="360" y="1201"/>
                  </a:lnTo>
                  <a:lnTo>
                    <a:pt x="367" y="1194"/>
                  </a:lnTo>
                  <a:lnTo>
                    <a:pt x="370" y="1187"/>
                  </a:lnTo>
                  <a:lnTo>
                    <a:pt x="370" y="1176"/>
                  </a:lnTo>
                  <a:lnTo>
                    <a:pt x="365" y="1162"/>
                  </a:lnTo>
                  <a:lnTo>
                    <a:pt x="352" y="1144"/>
                  </a:lnTo>
                  <a:lnTo>
                    <a:pt x="330" y="1122"/>
                  </a:lnTo>
                  <a:lnTo>
                    <a:pt x="327" y="1122"/>
                  </a:lnTo>
                  <a:lnTo>
                    <a:pt x="330" y="1126"/>
                  </a:lnTo>
                  <a:lnTo>
                    <a:pt x="327" y="1112"/>
                  </a:lnTo>
                  <a:lnTo>
                    <a:pt x="320" y="1091"/>
                  </a:lnTo>
                  <a:lnTo>
                    <a:pt x="315" y="1076"/>
                  </a:lnTo>
                  <a:lnTo>
                    <a:pt x="308" y="1066"/>
                  </a:lnTo>
                  <a:lnTo>
                    <a:pt x="293" y="1054"/>
                  </a:lnTo>
                  <a:lnTo>
                    <a:pt x="283" y="1039"/>
                  </a:lnTo>
                  <a:lnTo>
                    <a:pt x="285" y="1024"/>
                  </a:lnTo>
                  <a:lnTo>
                    <a:pt x="287" y="1011"/>
                  </a:lnTo>
                  <a:lnTo>
                    <a:pt x="275" y="997"/>
                  </a:lnTo>
                  <a:lnTo>
                    <a:pt x="257" y="986"/>
                  </a:lnTo>
                  <a:lnTo>
                    <a:pt x="243" y="971"/>
                  </a:lnTo>
                  <a:lnTo>
                    <a:pt x="235" y="954"/>
                  </a:lnTo>
                  <a:lnTo>
                    <a:pt x="232" y="936"/>
                  </a:lnTo>
                  <a:lnTo>
                    <a:pt x="228" y="916"/>
                  </a:lnTo>
                  <a:lnTo>
                    <a:pt x="218" y="889"/>
                  </a:lnTo>
                  <a:lnTo>
                    <a:pt x="205" y="862"/>
                  </a:lnTo>
                  <a:lnTo>
                    <a:pt x="185" y="836"/>
                  </a:lnTo>
                  <a:lnTo>
                    <a:pt x="172" y="814"/>
                  </a:lnTo>
                  <a:lnTo>
                    <a:pt x="168" y="796"/>
                  </a:lnTo>
                  <a:lnTo>
                    <a:pt x="167" y="782"/>
                  </a:lnTo>
                  <a:lnTo>
                    <a:pt x="157" y="774"/>
                  </a:lnTo>
                  <a:lnTo>
                    <a:pt x="145" y="766"/>
                  </a:lnTo>
                  <a:lnTo>
                    <a:pt x="140" y="754"/>
                  </a:lnTo>
                  <a:lnTo>
                    <a:pt x="133" y="739"/>
                  </a:lnTo>
                  <a:lnTo>
                    <a:pt x="118" y="722"/>
                  </a:lnTo>
                  <a:lnTo>
                    <a:pt x="100" y="700"/>
                  </a:lnTo>
                  <a:lnTo>
                    <a:pt x="86" y="674"/>
                  </a:lnTo>
                  <a:lnTo>
                    <a:pt x="78" y="652"/>
                  </a:lnTo>
                  <a:lnTo>
                    <a:pt x="75" y="642"/>
                  </a:lnTo>
                  <a:lnTo>
                    <a:pt x="70" y="642"/>
                  </a:lnTo>
                  <a:lnTo>
                    <a:pt x="60" y="642"/>
                  </a:lnTo>
                  <a:lnTo>
                    <a:pt x="45" y="642"/>
                  </a:lnTo>
                  <a:lnTo>
                    <a:pt x="33" y="642"/>
                  </a:lnTo>
                  <a:lnTo>
                    <a:pt x="21" y="642"/>
                  </a:lnTo>
                  <a:lnTo>
                    <a:pt x="11" y="644"/>
                  </a:lnTo>
                  <a:lnTo>
                    <a:pt x="3" y="645"/>
                  </a:lnTo>
                  <a:lnTo>
                    <a:pt x="0" y="645"/>
                  </a:lnTo>
                  <a:lnTo>
                    <a:pt x="1" y="642"/>
                  </a:lnTo>
                  <a:lnTo>
                    <a:pt x="5" y="632"/>
                  </a:lnTo>
                  <a:lnTo>
                    <a:pt x="8" y="620"/>
                  </a:lnTo>
                  <a:lnTo>
                    <a:pt x="13" y="609"/>
                  </a:lnTo>
                  <a:lnTo>
                    <a:pt x="20" y="592"/>
                  </a:lnTo>
                  <a:lnTo>
                    <a:pt x="28" y="569"/>
                  </a:lnTo>
                  <a:lnTo>
                    <a:pt x="35" y="542"/>
                  </a:lnTo>
                  <a:lnTo>
                    <a:pt x="38" y="517"/>
                  </a:lnTo>
                  <a:lnTo>
                    <a:pt x="40" y="500"/>
                  </a:lnTo>
                  <a:lnTo>
                    <a:pt x="43" y="489"/>
                  </a:lnTo>
                  <a:lnTo>
                    <a:pt x="50" y="480"/>
                  </a:lnTo>
                  <a:lnTo>
                    <a:pt x="56" y="470"/>
                  </a:lnTo>
                  <a:lnTo>
                    <a:pt x="61" y="457"/>
                  </a:lnTo>
                  <a:lnTo>
                    <a:pt x="65" y="442"/>
                  </a:lnTo>
                  <a:lnTo>
                    <a:pt x="66" y="429"/>
                  </a:lnTo>
                  <a:lnTo>
                    <a:pt x="66" y="424"/>
                  </a:lnTo>
                  <a:lnTo>
                    <a:pt x="232" y="465"/>
                  </a:lnTo>
                  <a:lnTo>
                    <a:pt x="235" y="464"/>
                  </a:lnTo>
                  <a:lnTo>
                    <a:pt x="243" y="457"/>
                  </a:lnTo>
                  <a:lnTo>
                    <a:pt x="257" y="450"/>
                  </a:lnTo>
                  <a:lnTo>
                    <a:pt x="270" y="439"/>
                  </a:lnTo>
                  <a:lnTo>
                    <a:pt x="285" y="429"/>
                  </a:lnTo>
                  <a:lnTo>
                    <a:pt x="298" y="417"/>
                  </a:lnTo>
                  <a:lnTo>
                    <a:pt x="308" y="407"/>
                  </a:lnTo>
                  <a:lnTo>
                    <a:pt x="313" y="399"/>
                  </a:lnTo>
                  <a:lnTo>
                    <a:pt x="318" y="384"/>
                  </a:lnTo>
                  <a:lnTo>
                    <a:pt x="325" y="369"/>
                  </a:lnTo>
                  <a:lnTo>
                    <a:pt x="330" y="357"/>
                  </a:lnTo>
                  <a:lnTo>
                    <a:pt x="332" y="352"/>
                  </a:lnTo>
                  <a:lnTo>
                    <a:pt x="335" y="352"/>
                  </a:lnTo>
                  <a:lnTo>
                    <a:pt x="342" y="352"/>
                  </a:lnTo>
                  <a:lnTo>
                    <a:pt x="353" y="352"/>
                  </a:lnTo>
                  <a:lnTo>
                    <a:pt x="367" y="350"/>
                  </a:lnTo>
                  <a:lnTo>
                    <a:pt x="382" y="350"/>
                  </a:lnTo>
                  <a:lnTo>
                    <a:pt x="398" y="347"/>
                  </a:lnTo>
                  <a:lnTo>
                    <a:pt x="413" y="345"/>
                  </a:lnTo>
                  <a:lnTo>
                    <a:pt x="427" y="342"/>
                  </a:lnTo>
                  <a:lnTo>
                    <a:pt x="438" y="337"/>
                  </a:lnTo>
                  <a:lnTo>
                    <a:pt x="447" y="329"/>
                  </a:lnTo>
                  <a:lnTo>
                    <a:pt x="455" y="319"/>
                  </a:lnTo>
                  <a:lnTo>
                    <a:pt x="462" y="309"/>
                  </a:lnTo>
                  <a:lnTo>
                    <a:pt x="468" y="299"/>
                  </a:lnTo>
                  <a:lnTo>
                    <a:pt x="475" y="290"/>
                  </a:lnTo>
                  <a:lnTo>
                    <a:pt x="483" y="284"/>
                  </a:lnTo>
                  <a:lnTo>
                    <a:pt x="493" y="280"/>
                  </a:lnTo>
                  <a:lnTo>
                    <a:pt x="508" y="275"/>
                  </a:lnTo>
                  <a:lnTo>
                    <a:pt x="513" y="269"/>
                  </a:lnTo>
                  <a:lnTo>
                    <a:pt x="513" y="264"/>
                  </a:lnTo>
                  <a:lnTo>
                    <a:pt x="512" y="262"/>
                  </a:lnTo>
                  <a:lnTo>
                    <a:pt x="380" y="90"/>
                  </a:lnTo>
                  <a:close/>
                </a:path>
              </a:pathLst>
            </a:custGeom>
            <a:solidFill>
              <a:srgbClr val="b2b2b2">
                <a:alpha val="30000"/>
              </a:srgbClr>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166" name=""/>
          <p:cNvSpPr/>
          <p:nvPr/>
        </p:nvSpPr>
        <p:spPr>
          <a:xfrm>
            <a:off x="0" y="457200"/>
            <a:ext cx="914400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333399"/>
                </a:solidFill>
                <a:latin typeface="Albertus Medium"/>
              </a:rPr>
              <a:t>History of Nanotechnology</a:t>
            </a:r>
            <a:endParaRPr b="0" lang="en-US" sz="3600" spc="-1" strike="noStrike">
              <a:solidFill>
                <a:srgbClr val="000000"/>
              </a:solidFill>
              <a:latin typeface="Arial"/>
            </a:endParaRPr>
          </a:p>
        </p:txBody>
      </p:sp>
      <p:sp>
        <p:nvSpPr>
          <p:cNvPr id="167" name=""/>
          <p:cNvSpPr/>
          <p:nvPr/>
        </p:nvSpPr>
        <p:spPr>
          <a:xfrm>
            <a:off x="1042920" y="1066680"/>
            <a:ext cx="7826400" cy="9939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200" spc="-1" strike="noStrike">
                <a:solidFill>
                  <a:srgbClr val="333399"/>
                </a:solidFill>
                <a:latin typeface="Albertus Medium"/>
              </a:rPr>
              <a:t>Cotton fibers, when coupled to certain nanoscale molecule moieties creates a barrier to liquid and stain</a:t>
            </a:r>
            <a:endParaRPr b="0" lang="en-US" sz="2200" spc="-1" strike="noStrike">
              <a:solidFill>
                <a:srgbClr val="000000"/>
              </a:solidFill>
              <a:latin typeface="Arial"/>
            </a:endParaRPr>
          </a:p>
        </p:txBody>
      </p:sp>
      <p:pic>
        <p:nvPicPr>
          <p:cNvPr id="168" name="" descr=""/>
          <p:cNvPicPr/>
          <p:nvPr/>
        </p:nvPicPr>
        <p:blipFill>
          <a:blip r:embed="rId4"/>
          <a:stretch/>
        </p:blipFill>
        <p:spPr>
          <a:xfrm>
            <a:off x="1908000" y="1979640"/>
            <a:ext cx="5977080" cy="3887640"/>
          </a:xfrm>
          <a:prstGeom prst="rect">
            <a:avLst/>
          </a:prstGeom>
          <a:ln w="0">
            <a:noFill/>
          </a:ln>
        </p:spPr>
      </p:pic>
      <p:sp>
        <p:nvSpPr>
          <p:cNvPr id="169" name=""/>
          <p:cNvSpPr/>
          <p:nvPr/>
        </p:nvSpPr>
        <p:spPr>
          <a:xfrm>
            <a:off x="1258920" y="5867280"/>
            <a:ext cx="727236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200" spc="-1" strike="noStrike">
                <a:solidFill>
                  <a:srgbClr val="333399"/>
                </a:solidFill>
                <a:latin typeface="Albertus Medium"/>
              </a:rPr>
              <a:t>Fabric made in the fasion similar to lotus cause hydrophilic and hydrophobic liquid to bead and roll off.</a:t>
            </a:r>
            <a:endParaRPr b="0" lang="en-US" sz="2200" spc="-1" strike="noStrike">
              <a:solidFill>
                <a:srgbClr val="000000"/>
              </a:solidFill>
              <a:latin typeface="Arial"/>
            </a:endParaRPr>
          </a:p>
        </p:txBody>
      </p:sp>
      <p:sp>
        <p:nvSpPr>
          <p:cNvPr id="170" name=""/>
          <p:cNvSpPr/>
          <p:nvPr/>
        </p:nvSpPr>
        <p:spPr>
          <a:xfrm>
            <a:off x="609480" y="6629400"/>
            <a:ext cx="8534520" cy="228600"/>
          </a:xfrm>
          <a:prstGeom prst="rect">
            <a:avLst/>
          </a:prstGeom>
          <a:solidFill>
            <a:srgbClr val="bbe0e3"/>
          </a:solidFill>
          <a:ln cap="sq"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000" spc="-1" strike="noStrike">
                <a:solidFill>
                  <a:srgbClr val="333399"/>
                </a:solidFill>
                <a:latin typeface="Albertus Medium"/>
              </a:rPr>
              <a:t>www.skinandallergy.org</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www.panarabderm.org</a:t>
            </a:r>
            <a:endParaRPr b="0" lang="en-US" sz="1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1" name="" descr=""/>
          <p:cNvPicPr/>
          <p:nvPr/>
        </p:nvPicPr>
        <p:blipFill>
          <a:blip r:embed="rId2"/>
          <a:stretch/>
        </p:blipFill>
        <p:spPr>
          <a:xfrm>
            <a:off x="8153280" y="74520"/>
            <a:ext cx="922320" cy="992160"/>
          </a:xfrm>
          <a:prstGeom prst="rect">
            <a:avLst/>
          </a:prstGeom>
          <a:ln w="0">
            <a:noFill/>
          </a:ln>
        </p:spPr>
      </p:pic>
      <p:sp>
        <p:nvSpPr>
          <p:cNvPr id="172" name=""/>
          <p:cNvSpPr/>
          <p:nvPr/>
        </p:nvSpPr>
        <p:spPr>
          <a:xfrm>
            <a:off x="1295280" y="1066680"/>
            <a:ext cx="6193080" cy="1800"/>
          </a:xfrm>
          <a:prstGeom prst="line">
            <a:avLst/>
          </a:prstGeom>
          <a:ln cap="sq" w="12600">
            <a:solidFill>
              <a:srgbClr val="b2b2b2"/>
            </a:solidFill>
            <a:miter/>
          </a:ln>
        </p:spPr>
        <p:style>
          <a:lnRef idx="0"/>
          <a:fillRef idx="0"/>
          <a:effectRef idx="0"/>
          <a:fontRef idx="minor"/>
        </p:style>
        <p:txBody>
          <a:bodyPr lIns="90000" rIns="90000" tIns="-45000" bIns="-45000" anchor="t">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73" name="" descr=""/>
          <p:cNvPicPr/>
          <p:nvPr/>
        </p:nvPicPr>
        <p:blipFill>
          <a:blip r:embed="rId3"/>
          <a:stretch/>
        </p:blipFill>
        <p:spPr>
          <a:xfrm>
            <a:off x="0" y="0"/>
            <a:ext cx="600120" cy="6858000"/>
          </a:xfrm>
          <a:prstGeom prst="rect">
            <a:avLst/>
          </a:prstGeom>
          <a:ln w="0">
            <a:noFill/>
          </a:ln>
        </p:spPr>
      </p:pic>
      <p:sp>
        <p:nvSpPr>
          <p:cNvPr id="174" name=""/>
          <p:cNvSpPr/>
          <p:nvPr/>
        </p:nvSpPr>
        <p:spPr>
          <a:xfrm>
            <a:off x="0" y="457200"/>
            <a:ext cx="914400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333399"/>
                </a:solidFill>
                <a:latin typeface="Albertus Medium"/>
              </a:rPr>
              <a:t>History of Nanotechnology</a:t>
            </a:r>
            <a:endParaRPr b="0" lang="en-US" sz="3600" spc="-1" strike="noStrike">
              <a:solidFill>
                <a:srgbClr val="000000"/>
              </a:solidFill>
              <a:latin typeface="Arial"/>
            </a:endParaRPr>
          </a:p>
        </p:txBody>
      </p:sp>
      <p:sp>
        <p:nvSpPr>
          <p:cNvPr id="175" name=""/>
          <p:cNvSpPr/>
          <p:nvPr/>
        </p:nvSpPr>
        <p:spPr>
          <a:xfrm>
            <a:off x="685800" y="1143000"/>
            <a:ext cx="7826400" cy="3808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333399"/>
                </a:solidFill>
                <a:latin typeface="Albertus Medium"/>
              </a:rPr>
              <a:t>The Gecko effect, can climb vertical surfaces</a:t>
            </a:r>
            <a:endParaRPr b="0" lang="en-US" sz="2400" spc="-1" strike="noStrike">
              <a:solidFill>
                <a:srgbClr val="000000"/>
              </a:solidFill>
              <a:latin typeface="Arial"/>
            </a:endParaRPr>
          </a:p>
        </p:txBody>
      </p:sp>
      <p:pic>
        <p:nvPicPr>
          <p:cNvPr id="176" name="" descr=""/>
          <p:cNvPicPr/>
          <p:nvPr/>
        </p:nvPicPr>
        <p:blipFill>
          <a:blip r:embed="rId4"/>
          <a:stretch/>
        </p:blipFill>
        <p:spPr>
          <a:xfrm>
            <a:off x="1981080" y="1600200"/>
            <a:ext cx="5400720" cy="3736800"/>
          </a:xfrm>
          <a:prstGeom prst="rect">
            <a:avLst/>
          </a:prstGeom>
          <a:ln w="0">
            <a:noFill/>
          </a:ln>
        </p:spPr>
      </p:pic>
      <p:sp>
        <p:nvSpPr>
          <p:cNvPr id="177" name=""/>
          <p:cNvSpPr/>
          <p:nvPr/>
        </p:nvSpPr>
        <p:spPr>
          <a:xfrm>
            <a:off x="1187280" y="5334120"/>
            <a:ext cx="720108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333399"/>
                </a:solidFill>
                <a:latin typeface="Albertus Medium"/>
              </a:rPr>
              <a:t>Due to the nano structures called setae and spatula that causes short lived dipoles which are the basis of Van der Waals force that causes contact adhesion</a:t>
            </a:r>
            <a:endParaRPr b="0" lang="en-US" sz="2400" spc="-1" strike="noStrike">
              <a:solidFill>
                <a:srgbClr val="000000"/>
              </a:solidFill>
              <a:latin typeface="Arial"/>
            </a:endParaRPr>
          </a:p>
        </p:txBody>
      </p:sp>
      <p:sp>
        <p:nvSpPr>
          <p:cNvPr id="178" name=""/>
          <p:cNvSpPr/>
          <p:nvPr/>
        </p:nvSpPr>
        <p:spPr>
          <a:xfrm>
            <a:off x="609480" y="6629400"/>
            <a:ext cx="8534520" cy="228600"/>
          </a:xfrm>
          <a:prstGeom prst="rect">
            <a:avLst/>
          </a:prstGeom>
          <a:solidFill>
            <a:srgbClr val="bbe0e3"/>
          </a:solidFill>
          <a:ln cap="sq"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99"/>
                </a:solidFill>
                <a:latin typeface="Albertus Medium"/>
              </a:rPr>
              <a:t>www.skinandallergy.org</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0" lang="en-US" sz="1000" spc="-1" strike="noStrike">
                <a:solidFill>
                  <a:srgbClr val="333399"/>
                </a:solidFill>
                <a:latin typeface="Albertus Medium"/>
              </a:rPr>
              <a:t>www.panarabderm.org</a:t>
            </a:r>
            <a:endParaRPr b="0" lang="en-US" sz="1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9" name="" descr=""/>
          <p:cNvPicPr/>
          <p:nvPr/>
        </p:nvPicPr>
        <p:blipFill>
          <a:blip r:embed="rId2"/>
          <a:stretch/>
        </p:blipFill>
        <p:spPr>
          <a:xfrm>
            <a:off x="8153280" y="74520"/>
            <a:ext cx="922320" cy="992160"/>
          </a:xfrm>
          <a:prstGeom prst="rect">
            <a:avLst/>
          </a:prstGeom>
          <a:ln w="0">
            <a:noFill/>
          </a:ln>
        </p:spPr>
      </p:pic>
      <p:pic>
        <p:nvPicPr>
          <p:cNvPr id="180" name="" descr=""/>
          <p:cNvPicPr/>
          <p:nvPr/>
        </p:nvPicPr>
        <p:blipFill>
          <a:blip r:embed="rId3"/>
          <a:stretch/>
        </p:blipFill>
        <p:spPr>
          <a:xfrm>
            <a:off x="0" y="0"/>
            <a:ext cx="600120" cy="6858000"/>
          </a:xfrm>
          <a:prstGeom prst="rect">
            <a:avLst/>
          </a:prstGeom>
          <a:ln w="0">
            <a:noFill/>
          </a:ln>
        </p:spPr>
      </p:pic>
      <p:pic>
        <p:nvPicPr>
          <p:cNvPr id="181" name="" descr=""/>
          <p:cNvPicPr/>
          <p:nvPr/>
        </p:nvPicPr>
        <p:blipFill>
          <a:blip r:embed="rId4"/>
          <a:stretch/>
        </p:blipFill>
        <p:spPr>
          <a:xfrm>
            <a:off x="838080" y="533520"/>
            <a:ext cx="3311640" cy="3109680"/>
          </a:xfrm>
          <a:prstGeom prst="rect">
            <a:avLst/>
          </a:prstGeom>
          <a:ln w="0">
            <a:noFill/>
          </a:ln>
        </p:spPr>
      </p:pic>
      <p:pic>
        <p:nvPicPr>
          <p:cNvPr id="182" name="" descr=""/>
          <p:cNvPicPr/>
          <p:nvPr/>
        </p:nvPicPr>
        <p:blipFill>
          <a:blip r:embed="rId5"/>
          <a:stretch/>
        </p:blipFill>
        <p:spPr>
          <a:xfrm>
            <a:off x="4583160" y="893880"/>
            <a:ext cx="2808360" cy="2808000"/>
          </a:xfrm>
          <a:prstGeom prst="rect">
            <a:avLst/>
          </a:prstGeom>
          <a:ln cap="sq" w="28440">
            <a:solidFill>
              <a:srgbClr val="66ff33"/>
            </a:solidFill>
            <a:miter/>
          </a:ln>
        </p:spPr>
      </p:pic>
      <p:pic>
        <p:nvPicPr>
          <p:cNvPr id="183" name="" descr=""/>
          <p:cNvPicPr/>
          <p:nvPr/>
        </p:nvPicPr>
        <p:blipFill>
          <a:blip r:embed="rId6"/>
          <a:stretch/>
        </p:blipFill>
        <p:spPr>
          <a:xfrm>
            <a:off x="1198440" y="3557520"/>
            <a:ext cx="2765520" cy="2881440"/>
          </a:xfrm>
          <a:prstGeom prst="rect">
            <a:avLst/>
          </a:prstGeom>
          <a:ln cap="sq" w="38160">
            <a:solidFill>
              <a:srgbClr val="3366cc"/>
            </a:solidFill>
            <a:miter/>
          </a:ln>
        </p:spPr>
      </p:pic>
      <p:pic>
        <p:nvPicPr>
          <p:cNvPr id="184" name="" descr=""/>
          <p:cNvPicPr/>
          <p:nvPr/>
        </p:nvPicPr>
        <p:blipFill>
          <a:blip r:embed="rId7"/>
          <a:stretch/>
        </p:blipFill>
        <p:spPr>
          <a:xfrm>
            <a:off x="4222800" y="3846600"/>
            <a:ext cx="2359080" cy="2690640"/>
          </a:xfrm>
          <a:prstGeom prst="rect">
            <a:avLst/>
          </a:prstGeom>
          <a:ln cap="sq" w="28440">
            <a:solidFill>
              <a:srgbClr val="ff0000"/>
            </a:solidFill>
            <a:miter/>
          </a:ln>
        </p:spPr>
      </p:pic>
      <p:sp>
        <p:nvSpPr>
          <p:cNvPr id="185" name=""/>
          <p:cNvSpPr/>
          <p:nvPr/>
        </p:nvSpPr>
        <p:spPr>
          <a:xfrm>
            <a:off x="609480" y="6629400"/>
            <a:ext cx="8534520" cy="228600"/>
          </a:xfrm>
          <a:prstGeom prst="rect">
            <a:avLst/>
          </a:prstGeom>
          <a:solidFill>
            <a:srgbClr val="bbe0e3"/>
          </a:solidFill>
          <a:ln cap="sq"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99"/>
                </a:solidFill>
                <a:latin typeface="Albertus Medium"/>
              </a:rPr>
              <a:t>www.skinandallergy.org</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0" lang="en-US" sz="1000" spc="-1" strike="noStrike">
                <a:solidFill>
                  <a:srgbClr val="333399"/>
                </a:solidFill>
                <a:latin typeface="Albertus Medium"/>
              </a:rPr>
              <a:t>www.panarabderm.org</a:t>
            </a:r>
            <a:endParaRPr b="0" lang="en-US" sz="1000" spc="-1" strike="noStrike">
              <a:solidFill>
                <a:srgbClr val="000000"/>
              </a:solidFill>
              <a:latin typeface="Arial"/>
            </a:endParaRPr>
          </a:p>
        </p:txBody>
      </p:sp>
    </p:spTree>
  </p:cSld>
  <p:timing>
    <p:tnLst>
      <p:par>
        <p:cTn id="23" dur="indefinite" restart="never" nodeType="tmRoot">
          <p:childTnLst>
            <p:seq>
              <p:cTn id="24" dur="indefinite" nodeType="mainSeq">
                <p:childTnLst>
                  <p:par>
                    <p:cTn id="25" dur="indefinite" fill="hold">
                      <p:stCondLst>
                        <p:cond delay="indefinite"/>
                      </p:stCondLst>
                      <p:childTnLst>
                        <p:par>
                          <p:cTn id="26" dur="indefinite" fill="hold">
                            <p:stCondLst>
                              <p:cond delay="0"/>
                            </p:stCondLst>
                            <p:childTnLst>
                              <p:par>
                                <p:cTn id="27" dur="indefinite" nodeType="clickEffect" fill="hold" presetClass="entr" presetID="4" presetSubtype="16">
                                  <p:stCondLst>
                                    <p:cond delay="0"/>
                                  </p:stCondLst>
                                  <p:childTnLst>
                                    <p:set>
                                      <p:cBhvr>
                                        <p:cTn id="28" dur="1" fill="hold">
                                          <p:stCondLst>
                                            <p:cond delay="0"/>
                                          </p:stCondLst>
                                        </p:cTn>
                                        <p:tgtEl>
                                          <p:spTgt spid="182"/>
                                        </p:tgtEl>
                                        <p:attrNameLst>
                                          <p:attrName>style.visibility</p:attrName>
                                        </p:attrNameLst>
                                      </p:cBhvr>
                                      <p:to>
                                        <p:strVal val="visible"/>
                                      </p:to>
                                    </p:set>
                                    <p:animEffect filter="box(in)" transition="in">
                                      <p:cBhvr additive="repl">
                                        <p:cTn id="29" dur="500"/>
                                        <p:tgtEl>
                                          <p:spTgt spid="182"/>
                                        </p:tgtEl>
                                      </p:cBhvr>
                                    </p:animEffect>
                                  </p:childTnLst>
                                </p:cTn>
                              </p:par>
                            </p:childTnLst>
                          </p:cTn>
                        </p:par>
                      </p:childTnLst>
                    </p:cTn>
                  </p:par>
                  <p:par>
                    <p:cTn id="30" dur="indefinite" fill="hold">
                      <p:stCondLst>
                        <p:cond delay="indefinite"/>
                      </p:stCondLst>
                      <p:childTnLst>
                        <p:par>
                          <p:cTn id="31" dur="indefinite" fill="hold">
                            <p:stCondLst>
                              <p:cond delay="0"/>
                            </p:stCondLst>
                            <p:childTnLst>
                              <p:par>
                                <p:cTn id="32" dur="indefinite" nodeType="clickEffect" fill="hold" presetClass="emph" presetID="6">
                                  <p:stCondLst>
                                    <p:cond delay="0"/>
                                  </p:stCondLst>
                                  <p:childTnLst>
                                    <p:animScale>
                                      <p:cBhvr>
                                        <p:cTn id="33" dur="2000" fill="hold"/>
                                        <p:tgtEl>
                                          <p:spTgt spid="182"/>
                                        </p:tgtEl>
                                      </p:cBhvr>
                                      <p:to x="150000" y="150000"/>
                                    </p:animScale>
                                  </p:childTnLst>
                                </p:cTn>
                              </p:par>
                            </p:childTnLst>
                          </p:cTn>
                        </p:par>
                      </p:childTnLst>
                    </p:cTn>
                  </p:par>
                  <p:par>
                    <p:cTn id="34" dur="indefinite" fill="hold">
                      <p:stCondLst>
                        <p:cond delay="indefinite"/>
                      </p:stCondLst>
                      <p:childTnLst>
                        <p:par>
                          <p:cTn id="35" dur="indefinite" fill="hold">
                            <p:stCondLst>
                              <p:cond delay="0"/>
                            </p:stCondLst>
                            <p:childTnLst>
                              <p:par>
                                <p:cTn id="36" dur="indefinite" nodeType="clickEffect" fill="hold" presetClass="entr" presetID="4" presetSubtype="16">
                                  <p:stCondLst>
                                    <p:cond delay="0"/>
                                  </p:stCondLst>
                                  <p:childTnLst>
                                    <p:set>
                                      <p:cBhvr>
                                        <p:cTn id="37" dur="1" fill="hold">
                                          <p:stCondLst>
                                            <p:cond delay="0"/>
                                          </p:stCondLst>
                                        </p:cTn>
                                        <p:tgtEl>
                                          <p:spTgt spid="183"/>
                                        </p:tgtEl>
                                        <p:attrNameLst>
                                          <p:attrName>style.visibility</p:attrName>
                                        </p:attrNameLst>
                                      </p:cBhvr>
                                      <p:to>
                                        <p:strVal val="visible"/>
                                      </p:to>
                                    </p:set>
                                    <p:animEffect filter="box(in)" transition="in">
                                      <p:cBhvr additive="repl">
                                        <p:cTn id="38" dur="500"/>
                                        <p:tgtEl>
                                          <p:spTgt spid="183"/>
                                        </p:tgtEl>
                                      </p:cBhvr>
                                    </p:animEffect>
                                  </p:childTnLst>
                                </p:cTn>
                              </p:par>
                            </p:childTnLst>
                          </p:cTn>
                        </p:par>
                      </p:childTnLst>
                    </p:cTn>
                  </p:par>
                  <p:par>
                    <p:cTn id="39" dur="indefinite" fill="hold">
                      <p:stCondLst>
                        <p:cond delay="indefinite"/>
                      </p:stCondLst>
                      <p:childTnLst>
                        <p:par>
                          <p:cTn id="40" dur="indefinite" fill="hold">
                            <p:stCondLst>
                              <p:cond delay="0"/>
                            </p:stCondLst>
                            <p:childTnLst>
                              <p:par>
                                <p:cTn id="41" dur="indefinite" nodeType="clickEffect" fill="hold" presetClass="emph" presetID="6">
                                  <p:stCondLst>
                                    <p:cond delay="0"/>
                                  </p:stCondLst>
                                  <p:childTnLst>
                                    <p:animScale>
                                      <p:cBhvr>
                                        <p:cTn id="42" dur="2000" fill="hold"/>
                                        <p:tgtEl>
                                          <p:spTgt spid="183"/>
                                        </p:tgtEl>
                                      </p:cBhvr>
                                      <p:to x="150000" y="150000"/>
                                    </p:animScale>
                                  </p:childTnLst>
                                </p:cTn>
                              </p:par>
                            </p:childTnLst>
                          </p:cTn>
                        </p:par>
                      </p:childTnLst>
                    </p:cTn>
                  </p:par>
                  <p:par>
                    <p:cTn id="43" dur="indefinite" fill="hold">
                      <p:stCondLst>
                        <p:cond delay="indefinite"/>
                      </p:stCondLst>
                      <p:childTnLst>
                        <p:par>
                          <p:cTn id="44" dur="indefinite" fill="hold">
                            <p:stCondLst>
                              <p:cond delay="0"/>
                            </p:stCondLst>
                            <p:childTnLst>
                              <p:par>
                                <p:cTn id="45" dur="indefinite" nodeType="clickEffect" fill="hold" presetClass="entr" presetID="4" presetSubtype="16">
                                  <p:stCondLst>
                                    <p:cond delay="0"/>
                                  </p:stCondLst>
                                  <p:childTnLst>
                                    <p:set>
                                      <p:cBhvr>
                                        <p:cTn id="46" dur="1" fill="hold">
                                          <p:stCondLst>
                                            <p:cond delay="0"/>
                                          </p:stCondLst>
                                        </p:cTn>
                                        <p:tgtEl>
                                          <p:spTgt spid="184"/>
                                        </p:tgtEl>
                                        <p:attrNameLst>
                                          <p:attrName>style.visibility</p:attrName>
                                        </p:attrNameLst>
                                      </p:cBhvr>
                                      <p:to>
                                        <p:strVal val="visible"/>
                                      </p:to>
                                    </p:set>
                                    <p:animEffect filter="box(in)" transition="in">
                                      <p:cBhvr additive="repl">
                                        <p:cTn id="47" dur="500"/>
                                        <p:tgtEl>
                                          <p:spTgt spid="184"/>
                                        </p:tgtEl>
                                      </p:cBhvr>
                                    </p:animEffect>
                                  </p:childTnLst>
                                </p:cTn>
                              </p:par>
                            </p:childTnLst>
                          </p:cTn>
                        </p:par>
                      </p:childTnLst>
                    </p:cTn>
                  </p:par>
                  <p:par>
                    <p:cTn id="48" dur="indefinite" fill="hold">
                      <p:stCondLst>
                        <p:cond delay="indefinite"/>
                      </p:stCondLst>
                      <p:childTnLst>
                        <p:par>
                          <p:cTn id="49" dur="indefinite" fill="hold">
                            <p:stCondLst>
                              <p:cond delay="0"/>
                            </p:stCondLst>
                            <p:childTnLst>
                              <p:par>
                                <p:cTn id="50" dur="indefinite" nodeType="clickEffect" fill="hold" presetClass="emph" presetID="6">
                                  <p:stCondLst>
                                    <p:cond delay="0"/>
                                  </p:stCondLst>
                                  <p:childTnLst>
                                    <p:animScale>
                                      <p:cBhvr>
                                        <p:cTn id="51" dur="2000" fill="hold"/>
                                        <p:tgtEl>
                                          <p:spTgt spid="184"/>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6" name="" descr=""/>
          <p:cNvPicPr/>
          <p:nvPr/>
        </p:nvPicPr>
        <p:blipFill>
          <a:blip r:embed="rId2"/>
          <a:stretch/>
        </p:blipFill>
        <p:spPr>
          <a:xfrm>
            <a:off x="8153280" y="74520"/>
            <a:ext cx="922320" cy="992160"/>
          </a:xfrm>
          <a:prstGeom prst="rect">
            <a:avLst/>
          </a:prstGeom>
          <a:ln w="0">
            <a:noFill/>
          </a:ln>
        </p:spPr>
      </p:pic>
      <p:sp>
        <p:nvSpPr>
          <p:cNvPr id="187" name=""/>
          <p:cNvSpPr/>
          <p:nvPr/>
        </p:nvSpPr>
        <p:spPr>
          <a:xfrm>
            <a:off x="1295280" y="1066680"/>
            <a:ext cx="6193080" cy="1800"/>
          </a:xfrm>
          <a:prstGeom prst="line">
            <a:avLst/>
          </a:prstGeom>
          <a:ln cap="sq" w="12600">
            <a:solidFill>
              <a:srgbClr val="b2b2b2"/>
            </a:solidFill>
            <a:miter/>
          </a:ln>
        </p:spPr>
        <p:style>
          <a:lnRef idx="0"/>
          <a:fillRef idx="0"/>
          <a:effectRef idx="0"/>
          <a:fontRef idx="minor"/>
        </p:style>
        <p:txBody>
          <a:bodyPr lIns="90000" rIns="90000" tIns="-45000" bIns="-45000" anchor="t">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88" name="" descr=""/>
          <p:cNvPicPr/>
          <p:nvPr/>
        </p:nvPicPr>
        <p:blipFill>
          <a:blip r:embed="rId3"/>
          <a:stretch/>
        </p:blipFill>
        <p:spPr>
          <a:xfrm>
            <a:off x="0" y="0"/>
            <a:ext cx="600120" cy="6858000"/>
          </a:xfrm>
          <a:prstGeom prst="rect">
            <a:avLst/>
          </a:prstGeom>
          <a:ln w="0">
            <a:noFill/>
          </a:ln>
        </p:spPr>
      </p:pic>
      <p:sp>
        <p:nvSpPr>
          <p:cNvPr id="189" name=""/>
          <p:cNvSpPr/>
          <p:nvPr/>
        </p:nvSpPr>
        <p:spPr>
          <a:xfrm>
            <a:off x="0" y="457200"/>
            <a:ext cx="914400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333399"/>
                </a:solidFill>
                <a:latin typeface="Albertus Medium"/>
              </a:rPr>
              <a:t>History of Nanotechnology</a:t>
            </a:r>
            <a:endParaRPr b="0" lang="en-US" sz="3600" spc="-1" strike="noStrike">
              <a:solidFill>
                <a:srgbClr val="000000"/>
              </a:solidFill>
              <a:latin typeface="Arial"/>
            </a:endParaRPr>
          </a:p>
        </p:txBody>
      </p:sp>
      <p:sp>
        <p:nvSpPr>
          <p:cNvPr id="190" name=""/>
          <p:cNvSpPr/>
          <p:nvPr/>
        </p:nvSpPr>
        <p:spPr>
          <a:xfrm>
            <a:off x="1447920" y="1442880"/>
            <a:ext cx="6805440" cy="1376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333399"/>
                </a:solidFill>
                <a:latin typeface="Albertus Medium"/>
              </a:rPr>
              <a:t>By Nanotechnology now a Gecko tapes have a practical application and may contribute to the reduction of skin irritation and allergy caused by old fashion tapes</a:t>
            </a:r>
            <a:endParaRPr b="0" lang="en-US" sz="2400" spc="-1" strike="noStrike">
              <a:solidFill>
                <a:srgbClr val="000000"/>
              </a:solidFill>
              <a:latin typeface="Arial"/>
            </a:endParaRPr>
          </a:p>
        </p:txBody>
      </p:sp>
      <p:pic>
        <p:nvPicPr>
          <p:cNvPr id="191" name="" descr=""/>
          <p:cNvPicPr/>
          <p:nvPr/>
        </p:nvPicPr>
        <p:blipFill>
          <a:blip r:embed="rId4"/>
          <a:stretch/>
        </p:blipFill>
        <p:spPr>
          <a:xfrm>
            <a:off x="1400040" y="3319560"/>
            <a:ext cx="3490920" cy="2663640"/>
          </a:xfrm>
          <a:prstGeom prst="rect">
            <a:avLst/>
          </a:prstGeom>
          <a:ln w="0">
            <a:noFill/>
          </a:ln>
        </p:spPr>
      </p:pic>
      <p:pic>
        <p:nvPicPr>
          <p:cNvPr id="192" name="" descr=""/>
          <p:cNvPicPr/>
          <p:nvPr/>
        </p:nvPicPr>
        <p:blipFill>
          <a:blip r:embed="rId5"/>
          <a:stretch/>
        </p:blipFill>
        <p:spPr>
          <a:xfrm>
            <a:off x="5105520" y="3276720"/>
            <a:ext cx="3429000" cy="2743200"/>
          </a:xfrm>
          <a:prstGeom prst="rect">
            <a:avLst/>
          </a:prstGeom>
          <a:ln w="0">
            <a:noFill/>
          </a:ln>
        </p:spPr>
      </p:pic>
      <p:sp>
        <p:nvSpPr>
          <p:cNvPr id="193" name=""/>
          <p:cNvSpPr/>
          <p:nvPr/>
        </p:nvSpPr>
        <p:spPr>
          <a:xfrm>
            <a:off x="609480" y="6629400"/>
            <a:ext cx="8534520" cy="228600"/>
          </a:xfrm>
          <a:prstGeom prst="rect">
            <a:avLst/>
          </a:prstGeom>
          <a:solidFill>
            <a:srgbClr val="bbe0e3"/>
          </a:solidFill>
          <a:ln cap="sq"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99"/>
                </a:solidFill>
                <a:latin typeface="Albertus Medium"/>
              </a:rPr>
              <a:t>www.skinandallergy.org</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0" lang="en-US" sz="1000" spc="-1" strike="noStrike">
                <a:solidFill>
                  <a:srgbClr val="333399"/>
                </a:solidFill>
                <a:latin typeface="Albertus Medium"/>
              </a:rPr>
              <a:t>www.panarabderm.org</a:t>
            </a:r>
            <a:endParaRPr b="0" lang="en-US" sz="10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4" name="" descr=""/>
          <p:cNvPicPr/>
          <p:nvPr/>
        </p:nvPicPr>
        <p:blipFill>
          <a:blip r:embed="rId2"/>
          <a:stretch/>
        </p:blipFill>
        <p:spPr>
          <a:xfrm>
            <a:off x="8153280" y="74520"/>
            <a:ext cx="922320" cy="992160"/>
          </a:xfrm>
          <a:prstGeom prst="rect">
            <a:avLst/>
          </a:prstGeom>
          <a:ln w="0">
            <a:noFill/>
          </a:ln>
        </p:spPr>
      </p:pic>
      <p:sp>
        <p:nvSpPr>
          <p:cNvPr id="195" name=""/>
          <p:cNvSpPr/>
          <p:nvPr/>
        </p:nvSpPr>
        <p:spPr>
          <a:xfrm>
            <a:off x="1295280" y="1066680"/>
            <a:ext cx="6193080" cy="1800"/>
          </a:xfrm>
          <a:prstGeom prst="line">
            <a:avLst/>
          </a:prstGeom>
          <a:ln cap="sq" w="12600">
            <a:solidFill>
              <a:srgbClr val="b2b2b2"/>
            </a:solidFill>
            <a:miter/>
          </a:ln>
        </p:spPr>
        <p:style>
          <a:lnRef idx="0"/>
          <a:fillRef idx="0"/>
          <a:effectRef idx="0"/>
          <a:fontRef idx="minor"/>
        </p:style>
        <p:txBody>
          <a:bodyPr lIns="90000" rIns="90000" tIns="-45000" bIns="-45000" anchor="t">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96" name="" descr=""/>
          <p:cNvPicPr/>
          <p:nvPr/>
        </p:nvPicPr>
        <p:blipFill>
          <a:blip r:embed="rId3"/>
          <a:stretch/>
        </p:blipFill>
        <p:spPr>
          <a:xfrm>
            <a:off x="0" y="0"/>
            <a:ext cx="600120" cy="6858000"/>
          </a:xfrm>
          <a:prstGeom prst="rect">
            <a:avLst/>
          </a:prstGeom>
          <a:ln w="0">
            <a:noFill/>
          </a:ln>
        </p:spPr>
      </p:pic>
      <p:sp>
        <p:nvSpPr>
          <p:cNvPr id="197" name=""/>
          <p:cNvSpPr/>
          <p:nvPr/>
        </p:nvSpPr>
        <p:spPr>
          <a:xfrm>
            <a:off x="0" y="457200"/>
            <a:ext cx="914400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333399"/>
                </a:solidFill>
                <a:latin typeface="Albertus Medium"/>
              </a:rPr>
              <a:t>History of Nanotechnology</a:t>
            </a:r>
            <a:endParaRPr b="0" lang="en-US" sz="3600" spc="-1" strike="noStrike">
              <a:solidFill>
                <a:srgbClr val="000000"/>
              </a:solidFill>
              <a:latin typeface="Arial"/>
            </a:endParaRPr>
          </a:p>
        </p:txBody>
      </p:sp>
      <p:sp>
        <p:nvSpPr>
          <p:cNvPr id="198" name=""/>
          <p:cNvSpPr/>
          <p:nvPr/>
        </p:nvSpPr>
        <p:spPr>
          <a:xfrm>
            <a:off x="838080" y="1143000"/>
            <a:ext cx="7826400" cy="4572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333399"/>
                </a:solidFill>
                <a:latin typeface="Albertus Medium"/>
              </a:rPr>
              <a:t>Another example from nature</a:t>
            </a:r>
            <a:endParaRPr b="0" lang="en-US" sz="2400" spc="-1" strike="noStrike">
              <a:solidFill>
                <a:srgbClr val="000000"/>
              </a:solidFill>
              <a:latin typeface="Arial"/>
            </a:endParaRPr>
          </a:p>
        </p:txBody>
      </p:sp>
      <p:pic>
        <p:nvPicPr>
          <p:cNvPr id="199" name="" descr=""/>
          <p:cNvPicPr/>
          <p:nvPr/>
        </p:nvPicPr>
        <p:blipFill>
          <a:blip r:embed="rId4"/>
          <a:stretch/>
        </p:blipFill>
        <p:spPr>
          <a:xfrm>
            <a:off x="1403280" y="1601640"/>
            <a:ext cx="6350040" cy="4037040"/>
          </a:xfrm>
          <a:prstGeom prst="rect">
            <a:avLst/>
          </a:prstGeom>
          <a:ln w="0">
            <a:noFill/>
          </a:ln>
        </p:spPr>
      </p:pic>
      <p:sp>
        <p:nvSpPr>
          <p:cNvPr id="200" name=""/>
          <p:cNvSpPr/>
          <p:nvPr/>
        </p:nvSpPr>
        <p:spPr>
          <a:xfrm>
            <a:off x="1447920" y="5715000"/>
            <a:ext cx="6248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333399"/>
                </a:solidFill>
                <a:latin typeface="Albertus Medium"/>
              </a:rPr>
              <a:t>The Australian Thorny Devil</a:t>
            </a:r>
            <a:endParaRPr b="0" lang="en-US" sz="2400" spc="-1" strike="noStrike">
              <a:solidFill>
                <a:srgbClr val="000000"/>
              </a:solidFill>
              <a:latin typeface="Arial"/>
            </a:endParaRPr>
          </a:p>
        </p:txBody>
      </p:sp>
      <p:sp>
        <p:nvSpPr>
          <p:cNvPr id="201" name=""/>
          <p:cNvSpPr/>
          <p:nvPr/>
        </p:nvSpPr>
        <p:spPr>
          <a:xfrm>
            <a:off x="609480" y="6629400"/>
            <a:ext cx="8534520" cy="228600"/>
          </a:xfrm>
          <a:prstGeom prst="rect">
            <a:avLst/>
          </a:prstGeom>
          <a:solidFill>
            <a:srgbClr val="bbe0e3"/>
          </a:solidFill>
          <a:ln cap="sq"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99"/>
                </a:solidFill>
                <a:latin typeface="Albertus Medium"/>
              </a:rPr>
              <a:t>www.skinandallergy.org</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0" lang="en-US" sz="1000" spc="-1" strike="noStrike">
                <a:solidFill>
                  <a:srgbClr val="333399"/>
                </a:solidFill>
                <a:latin typeface="Albertus Medium"/>
              </a:rPr>
              <a:t>www.panarabderm.org</a:t>
            </a:r>
            <a:endParaRPr b="0" lang="en-US" sz="10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2" name="" descr=""/>
          <p:cNvPicPr/>
          <p:nvPr/>
        </p:nvPicPr>
        <p:blipFill>
          <a:blip r:embed="rId2"/>
          <a:stretch/>
        </p:blipFill>
        <p:spPr>
          <a:xfrm>
            <a:off x="8153280" y="74520"/>
            <a:ext cx="922320" cy="992160"/>
          </a:xfrm>
          <a:prstGeom prst="rect">
            <a:avLst/>
          </a:prstGeom>
          <a:ln w="0">
            <a:noFill/>
          </a:ln>
        </p:spPr>
      </p:pic>
      <p:sp>
        <p:nvSpPr>
          <p:cNvPr id="203" name=""/>
          <p:cNvSpPr/>
          <p:nvPr/>
        </p:nvSpPr>
        <p:spPr>
          <a:xfrm>
            <a:off x="1295280" y="1066680"/>
            <a:ext cx="6193080" cy="1800"/>
          </a:xfrm>
          <a:prstGeom prst="line">
            <a:avLst/>
          </a:prstGeom>
          <a:ln cap="sq" w="12600">
            <a:solidFill>
              <a:srgbClr val="b2b2b2"/>
            </a:solidFill>
            <a:miter/>
          </a:ln>
        </p:spPr>
        <p:style>
          <a:lnRef idx="0"/>
          <a:fillRef idx="0"/>
          <a:effectRef idx="0"/>
          <a:fontRef idx="minor"/>
        </p:style>
        <p:txBody>
          <a:bodyPr lIns="90000" rIns="90000" tIns="-45000" bIns="-45000" anchor="t">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204" name="" descr=""/>
          <p:cNvPicPr/>
          <p:nvPr/>
        </p:nvPicPr>
        <p:blipFill>
          <a:blip r:embed="rId3"/>
          <a:stretch/>
        </p:blipFill>
        <p:spPr>
          <a:xfrm>
            <a:off x="0" y="0"/>
            <a:ext cx="600120" cy="6858000"/>
          </a:xfrm>
          <a:prstGeom prst="rect">
            <a:avLst/>
          </a:prstGeom>
          <a:ln w="0">
            <a:noFill/>
          </a:ln>
        </p:spPr>
      </p:pic>
      <p:sp>
        <p:nvSpPr>
          <p:cNvPr id="205" name=""/>
          <p:cNvSpPr/>
          <p:nvPr/>
        </p:nvSpPr>
        <p:spPr>
          <a:xfrm>
            <a:off x="0" y="457200"/>
            <a:ext cx="914400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333399"/>
                </a:solidFill>
                <a:latin typeface="Albertus Medium"/>
              </a:rPr>
              <a:t>History of Nanotechnology</a:t>
            </a:r>
            <a:endParaRPr b="0" lang="en-US" sz="3600" spc="-1" strike="noStrike">
              <a:solidFill>
                <a:srgbClr val="000000"/>
              </a:solidFill>
              <a:latin typeface="Arial"/>
            </a:endParaRPr>
          </a:p>
        </p:txBody>
      </p:sp>
      <p:sp>
        <p:nvSpPr>
          <p:cNvPr id="206" name=""/>
          <p:cNvSpPr/>
          <p:nvPr/>
        </p:nvSpPr>
        <p:spPr>
          <a:xfrm>
            <a:off x="1371600" y="1143000"/>
            <a:ext cx="6324480" cy="4572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333399"/>
                </a:solidFill>
                <a:latin typeface="Albertus Medium"/>
              </a:rPr>
              <a:t>How does it drink water??</a:t>
            </a:r>
            <a:endParaRPr b="0" lang="en-US" sz="2400" spc="-1" strike="noStrike">
              <a:solidFill>
                <a:srgbClr val="000000"/>
              </a:solidFill>
              <a:latin typeface="Arial"/>
            </a:endParaRPr>
          </a:p>
        </p:txBody>
      </p:sp>
      <p:sp>
        <p:nvSpPr>
          <p:cNvPr id="207" name=""/>
          <p:cNvSpPr/>
          <p:nvPr/>
        </p:nvSpPr>
        <p:spPr>
          <a:xfrm>
            <a:off x="1371600" y="5715000"/>
            <a:ext cx="63244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333399"/>
                </a:solidFill>
                <a:latin typeface="Albertus Medium"/>
              </a:rPr>
              <a:t>Sipping through a foot, the thorny devil lizard of the arid Australian desert demonstrates its ability to wick water to its mouth</a:t>
            </a:r>
            <a:endParaRPr b="0" lang="en-US" sz="1800" spc="-1" strike="noStrike">
              <a:solidFill>
                <a:srgbClr val="000000"/>
              </a:solidFill>
              <a:latin typeface="Arial"/>
            </a:endParaRPr>
          </a:p>
        </p:txBody>
      </p:sp>
      <p:pic>
        <p:nvPicPr>
          <p:cNvPr id="208" name="" descr=""/>
          <p:cNvPicPr/>
          <p:nvPr/>
        </p:nvPicPr>
        <p:blipFill>
          <a:blip r:embed="rId4"/>
          <a:stretch/>
        </p:blipFill>
        <p:spPr>
          <a:xfrm>
            <a:off x="1371600" y="1606680"/>
            <a:ext cx="6400800" cy="4032000"/>
          </a:xfrm>
          <a:prstGeom prst="rect">
            <a:avLst/>
          </a:prstGeom>
          <a:ln w="0">
            <a:noFill/>
          </a:ln>
        </p:spPr>
      </p:pic>
      <p:sp>
        <p:nvSpPr>
          <p:cNvPr id="209" name=""/>
          <p:cNvSpPr/>
          <p:nvPr/>
        </p:nvSpPr>
        <p:spPr>
          <a:xfrm>
            <a:off x="609480" y="6629400"/>
            <a:ext cx="8534520" cy="228600"/>
          </a:xfrm>
          <a:prstGeom prst="rect">
            <a:avLst/>
          </a:prstGeom>
          <a:solidFill>
            <a:srgbClr val="bbe0e3"/>
          </a:solidFill>
          <a:ln cap="sq"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99"/>
                </a:solidFill>
                <a:latin typeface="Albertus Medium"/>
              </a:rPr>
              <a:t>www.skinandallergy.org</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0" lang="en-US" sz="1000" spc="-1" strike="noStrike">
                <a:solidFill>
                  <a:srgbClr val="333399"/>
                </a:solidFill>
                <a:latin typeface="Albertus Medium"/>
              </a:rPr>
              <a:t>www.panarabderm.org</a:t>
            </a:r>
            <a:endParaRPr b="0" lang="en-US" sz="10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0" name="" descr=""/>
          <p:cNvPicPr/>
          <p:nvPr/>
        </p:nvPicPr>
        <p:blipFill>
          <a:blip r:embed="rId2"/>
          <a:stretch/>
        </p:blipFill>
        <p:spPr>
          <a:xfrm>
            <a:off x="8153280" y="74520"/>
            <a:ext cx="922320" cy="992160"/>
          </a:xfrm>
          <a:prstGeom prst="rect">
            <a:avLst/>
          </a:prstGeom>
          <a:ln w="0">
            <a:noFill/>
          </a:ln>
        </p:spPr>
      </p:pic>
      <p:sp>
        <p:nvSpPr>
          <p:cNvPr id="211" name=""/>
          <p:cNvSpPr/>
          <p:nvPr/>
        </p:nvSpPr>
        <p:spPr>
          <a:xfrm>
            <a:off x="1295280" y="1066680"/>
            <a:ext cx="6193080" cy="1800"/>
          </a:xfrm>
          <a:prstGeom prst="line">
            <a:avLst/>
          </a:prstGeom>
          <a:ln cap="sq" w="12600">
            <a:solidFill>
              <a:srgbClr val="b2b2b2"/>
            </a:solidFill>
            <a:miter/>
          </a:ln>
        </p:spPr>
        <p:style>
          <a:lnRef idx="0"/>
          <a:fillRef idx="0"/>
          <a:effectRef idx="0"/>
          <a:fontRef idx="minor"/>
        </p:style>
        <p:txBody>
          <a:bodyPr lIns="90000" rIns="90000" tIns="-45000" bIns="-45000" anchor="t">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212" name="" descr=""/>
          <p:cNvPicPr/>
          <p:nvPr/>
        </p:nvPicPr>
        <p:blipFill>
          <a:blip r:embed="rId3"/>
          <a:stretch/>
        </p:blipFill>
        <p:spPr>
          <a:xfrm>
            <a:off x="0" y="0"/>
            <a:ext cx="600120" cy="6858000"/>
          </a:xfrm>
          <a:prstGeom prst="rect">
            <a:avLst/>
          </a:prstGeom>
          <a:ln w="0">
            <a:noFill/>
          </a:ln>
        </p:spPr>
      </p:pic>
      <p:sp>
        <p:nvSpPr>
          <p:cNvPr id="213" name=""/>
          <p:cNvSpPr/>
          <p:nvPr/>
        </p:nvSpPr>
        <p:spPr>
          <a:xfrm>
            <a:off x="0" y="457200"/>
            <a:ext cx="914400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333399"/>
                </a:solidFill>
                <a:latin typeface="Albertus Medium"/>
              </a:rPr>
              <a:t>History of Nanotechnology</a:t>
            </a:r>
            <a:endParaRPr b="0" lang="en-US" sz="3600" spc="-1" strike="noStrike">
              <a:solidFill>
                <a:srgbClr val="000000"/>
              </a:solidFill>
              <a:latin typeface="Arial"/>
            </a:endParaRPr>
          </a:p>
        </p:txBody>
      </p:sp>
      <p:sp>
        <p:nvSpPr>
          <p:cNvPr id="214" name=""/>
          <p:cNvSpPr/>
          <p:nvPr/>
        </p:nvSpPr>
        <p:spPr>
          <a:xfrm>
            <a:off x="1447920" y="5257800"/>
            <a:ext cx="624816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333399"/>
                </a:solidFill>
                <a:latin typeface="Albertus Medium"/>
              </a:rPr>
              <a:t>via nanoscopic channels between its scales. Scientists hope to mimic the mechanism to develop water-capture technologies for dry regions. </a:t>
            </a:r>
            <a:endParaRPr b="0" lang="en-US" sz="2000" spc="-1" strike="noStrike">
              <a:solidFill>
                <a:srgbClr val="000000"/>
              </a:solidFill>
              <a:latin typeface="Arial"/>
            </a:endParaRPr>
          </a:p>
        </p:txBody>
      </p:sp>
      <p:pic>
        <p:nvPicPr>
          <p:cNvPr id="215" name="" descr=""/>
          <p:cNvPicPr/>
          <p:nvPr/>
        </p:nvPicPr>
        <p:blipFill>
          <a:blip r:embed="rId4"/>
          <a:stretch/>
        </p:blipFill>
        <p:spPr>
          <a:xfrm>
            <a:off x="1571760" y="1436760"/>
            <a:ext cx="6048360" cy="3744720"/>
          </a:xfrm>
          <a:prstGeom prst="rect">
            <a:avLst/>
          </a:prstGeom>
          <a:ln w="0">
            <a:noFill/>
          </a:ln>
        </p:spPr>
      </p:pic>
      <p:sp>
        <p:nvSpPr>
          <p:cNvPr id="216" name=""/>
          <p:cNvSpPr/>
          <p:nvPr/>
        </p:nvSpPr>
        <p:spPr>
          <a:xfrm>
            <a:off x="609480" y="6629400"/>
            <a:ext cx="8534520" cy="228600"/>
          </a:xfrm>
          <a:prstGeom prst="rect">
            <a:avLst/>
          </a:prstGeom>
          <a:solidFill>
            <a:srgbClr val="bbe0e3"/>
          </a:solidFill>
          <a:ln cap="sq"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000" spc="-1" strike="noStrike">
                <a:solidFill>
                  <a:srgbClr val="333399"/>
                </a:solidFill>
                <a:latin typeface="Albertus Medium"/>
              </a:rPr>
              <a:t>www.skinandallergy.org</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www.panarabderm.org</a:t>
            </a:r>
            <a:endParaRPr b="0" lang="en-US" sz="1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0" name="" descr=""/>
          <p:cNvPicPr/>
          <p:nvPr/>
        </p:nvPicPr>
        <p:blipFill>
          <a:blip r:embed="rId2"/>
          <a:stretch/>
        </p:blipFill>
        <p:spPr>
          <a:xfrm>
            <a:off x="8153280" y="74520"/>
            <a:ext cx="922320" cy="992160"/>
          </a:xfrm>
          <a:prstGeom prst="rect">
            <a:avLst/>
          </a:prstGeom>
          <a:ln w="0">
            <a:noFill/>
          </a:ln>
        </p:spPr>
      </p:pic>
      <p:sp>
        <p:nvSpPr>
          <p:cNvPr id="51" name=""/>
          <p:cNvSpPr/>
          <p:nvPr/>
        </p:nvSpPr>
        <p:spPr>
          <a:xfrm>
            <a:off x="1295280" y="1066680"/>
            <a:ext cx="6193080" cy="1800"/>
          </a:xfrm>
          <a:prstGeom prst="line">
            <a:avLst/>
          </a:prstGeom>
          <a:ln cap="sq" w="12600">
            <a:solidFill>
              <a:srgbClr val="b2b2b2"/>
            </a:solidFill>
            <a:miter/>
          </a:ln>
        </p:spPr>
        <p:style>
          <a:lnRef idx="0"/>
          <a:fillRef idx="0"/>
          <a:effectRef idx="0"/>
          <a:fontRef idx="minor"/>
        </p:style>
        <p:txBody>
          <a:bodyPr lIns="90000" rIns="90000" tIns="-45000" bIns="-45000" anchor="t">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52" name="" descr=""/>
          <p:cNvPicPr/>
          <p:nvPr/>
        </p:nvPicPr>
        <p:blipFill>
          <a:blip r:embed="rId3"/>
          <a:stretch/>
        </p:blipFill>
        <p:spPr>
          <a:xfrm>
            <a:off x="0" y="0"/>
            <a:ext cx="600120" cy="6858000"/>
          </a:xfrm>
          <a:prstGeom prst="rect">
            <a:avLst/>
          </a:prstGeom>
          <a:ln w="0">
            <a:noFill/>
          </a:ln>
        </p:spPr>
      </p:pic>
      <p:grpSp>
        <p:nvGrpSpPr>
          <p:cNvPr id="53" name=""/>
          <p:cNvGrpSpPr/>
          <p:nvPr/>
        </p:nvGrpSpPr>
        <p:grpSpPr>
          <a:xfrm>
            <a:off x="2639880" y="1803240"/>
            <a:ext cx="4521240" cy="3986280"/>
            <a:chOff x="2639880" y="1803240"/>
            <a:chExt cx="4521240" cy="3986280"/>
          </a:xfrm>
        </p:grpSpPr>
        <p:sp>
          <p:nvSpPr>
            <p:cNvPr id="54" name=""/>
            <p:cNvSpPr/>
            <p:nvPr/>
          </p:nvSpPr>
          <p:spPr>
            <a:xfrm>
              <a:off x="2639880" y="2776680"/>
              <a:ext cx="1721160" cy="3012840"/>
            </a:xfrm>
            <a:custGeom>
              <a:avLst/>
              <a:gdLst/>
              <a:ahLst/>
              <a:rect l="l" t="t" r="r" b="b"/>
              <a:pathLst>
                <a:path w="1261" h="2255">
                  <a:moveTo>
                    <a:pt x="1257" y="2027"/>
                  </a:moveTo>
                  <a:lnTo>
                    <a:pt x="1257" y="2015"/>
                  </a:lnTo>
                  <a:lnTo>
                    <a:pt x="1252" y="2000"/>
                  </a:lnTo>
                  <a:lnTo>
                    <a:pt x="1244" y="1985"/>
                  </a:lnTo>
                  <a:lnTo>
                    <a:pt x="1232" y="1970"/>
                  </a:lnTo>
                  <a:lnTo>
                    <a:pt x="1222" y="1956"/>
                  </a:lnTo>
                  <a:lnTo>
                    <a:pt x="1212" y="1945"/>
                  </a:lnTo>
                  <a:lnTo>
                    <a:pt x="1204" y="1933"/>
                  </a:lnTo>
                  <a:lnTo>
                    <a:pt x="1199" y="1921"/>
                  </a:lnTo>
                  <a:lnTo>
                    <a:pt x="1197" y="1910"/>
                  </a:lnTo>
                  <a:lnTo>
                    <a:pt x="1192" y="1893"/>
                  </a:lnTo>
                  <a:lnTo>
                    <a:pt x="1186" y="1876"/>
                  </a:lnTo>
                  <a:lnTo>
                    <a:pt x="1171" y="1860"/>
                  </a:lnTo>
                  <a:lnTo>
                    <a:pt x="1161" y="1851"/>
                  </a:lnTo>
                  <a:lnTo>
                    <a:pt x="1147" y="1838"/>
                  </a:lnTo>
                  <a:lnTo>
                    <a:pt x="1132" y="1823"/>
                  </a:lnTo>
                  <a:lnTo>
                    <a:pt x="1117" y="1806"/>
                  </a:lnTo>
                  <a:lnTo>
                    <a:pt x="1102" y="1788"/>
                  </a:lnTo>
                  <a:lnTo>
                    <a:pt x="1087" y="1770"/>
                  </a:lnTo>
                  <a:lnTo>
                    <a:pt x="1076" y="1750"/>
                  </a:lnTo>
                  <a:lnTo>
                    <a:pt x="1067" y="1731"/>
                  </a:lnTo>
                  <a:lnTo>
                    <a:pt x="1052" y="1703"/>
                  </a:lnTo>
                  <a:lnTo>
                    <a:pt x="1037" y="1681"/>
                  </a:lnTo>
                  <a:lnTo>
                    <a:pt x="1026" y="1665"/>
                  </a:lnTo>
                  <a:lnTo>
                    <a:pt x="1019" y="1646"/>
                  </a:lnTo>
                  <a:lnTo>
                    <a:pt x="1016" y="1633"/>
                  </a:lnTo>
                  <a:lnTo>
                    <a:pt x="1009" y="1613"/>
                  </a:lnTo>
                  <a:lnTo>
                    <a:pt x="999" y="1591"/>
                  </a:lnTo>
                  <a:lnTo>
                    <a:pt x="989" y="1568"/>
                  </a:lnTo>
                  <a:lnTo>
                    <a:pt x="979" y="1545"/>
                  </a:lnTo>
                  <a:lnTo>
                    <a:pt x="969" y="1525"/>
                  </a:lnTo>
                  <a:lnTo>
                    <a:pt x="959" y="1508"/>
                  </a:lnTo>
                  <a:lnTo>
                    <a:pt x="952" y="1499"/>
                  </a:lnTo>
                  <a:lnTo>
                    <a:pt x="942" y="1486"/>
                  </a:lnTo>
                  <a:lnTo>
                    <a:pt x="934" y="1473"/>
                  </a:lnTo>
                  <a:lnTo>
                    <a:pt x="922" y="1458"/>
                  </a:lnTo>
                  <a:lnTo>
                    <a:pt x="911" y="1443"/>
                  </a:lnTo>
                  <a:lnTo>
                    <a:pt x="902" y="1434"/>
                  </a:lnTo>
                  <a:lnTo>
                    <a:pt x="891" y="1426"/>
                  </a:lnTo>
                  <a:lnTo>
                    <a:pt x="879" y="1419"/>
                  </a:lnTo>
                  <a:lnTo>
                    <a:pt x="867" y="1411"/>
                  </a:lnTo>
                  <a:lnTo>
                    <a:pt x="854" y="1404"/>
                  </a:lnTo>
                  <a:lnTo>
                    <a:pt x="842" y="1399"/>
                  </a:lnTo>
                  <a:lnTo>
                    <a:pt x="831" y="1396"/>
                  </a:lnTo>
                  <a:lnTo>
                    <a:pt x="820" y="1394"/>
                  </a:lnTo>
                  <a:lnTo>
                    <a:pt x="812" y="1393"/>
                  </a:lnTo>
                  <a:lnTo>
                    <a:pt x="805" y="1389"/>
                  </a:lnTo>
                  <a:lnTo>
                    <a:pt x="800" y="1384"/>
                  </a:lnTo>
                  <a:lnTo>
                    <a:pt x="794" y="1376"/>
                  </a:lnTo>
                  <a:lnTo>
                    <a:pt x="789" y="1368"/>
                  </a:lnTo>
                  <a:lnTo>
                    <a:pt x="782" y="1354"/>
                  </a:lnTo>
                  <a:lnTo>
                    <a:pt x="774" y="1341"/>
                  </a:lnTo>
                  <a:lnTo>
                    <a:pt x="762" y="1324"/>
                  </a:lnTo>
                  <a:lnTo>
                    <a:pt x="750" y="1306"/>
                  </a:lnTo>
                  <a:lnTo>
                    <a:pt x="740" y="1288"/>
                  </a:lnTo>
                  <a:lnTo>
                    <a:pt x="732" y="1269"/>
                  </a:lnTo>
                  <a:lnTo>
                    <a:pt x="724" y="1253"/>
                  </a:lnTo>
                  <a:lnTo>
                    <a:pt x="717" y="1234"/>
                  </a:lnTo>
                  <a:lnTo>
                    <a:pt x="712" y="1219"/>
                  </a:lnTo>
                  <a:lnTo>
                    <a:pt x="709" y="1204"/>
                  </a:lnTo>
                  <a:lnTo>
                    <a:pt x="705" y="1191"/>
                  </a:lnTo>
                  <a:lnTo>
                    <a:pt x="700" y="1166"/>
                  </a:lnTo>
                  <a:lnTo>
                    <a:pt x="692" y="1143"/>
                  </a:lnTo>
                  <a:lnTo>
                    <a:pt x="685" y="1126"/>
                  </a:lnTo>
                  <a:lnTo>
                    <a:pt x="682" y="1119"/>
                  </a:lnTo>
                  <a:lnTo>
                    <a:pt x="689" y="1108"/>
                  </a:lnTo>
                  <a:lnTo>
                    <a:pt x="700" y="1078"/>
                  </a:lnTo>
                  <a:lnTo>
                    <a:pt x="707" y="1038"/>
                  </a:lnTo>
                  <a:lnTo>
                    <a:pt x="697" y="996"/>
                  </a:lnTo>
                  <a:lnTo>
                    <a:pt x="680" y="961"/>
                  </a:lnTo>
                  <a:lnTo>
                    <a:pt x="670" y="932"/>
                  </a:lnTo>
                  <a:lnTo>
                    <a:pt x="662" y="904"/>
                  </a:lnTo>
                  <a:lnTo>
                    <a:pt x="649" y="872"/>
                  </a:lnTo>
                  <a:lnTo>
                    <a:pt x="640" y="856"/>
                  </a:lnTo>
                  <a:lnTo>
                    <a:pt x="635" y="839"/>
                  </a:lnTo>
                  <a:lnTo>
                    <a:pt x="630" y="826"/>
                  </a:lnTo>
                  <a:lnTo>
                    <a:pt x="625" y="814"/>
                  </a:lnTo>
                  <a:lnTo>
                    <a:pt x="620" y="802"/>
                  </a:lnTo>
                  <a:lnTo>
                    <a:pt x="614" y="792"/>
                  </a:lnTo>
                  <a:lnTo>
                    <a:pt x="607" y="784"/>
                  </a:lnTo>
                  <a:lnTo>
                    <a:pt x="597" y="777"/>
                  </a:lnTo>
                  <a:lnTo>
                    <a:pt x="587" y="771"/>
                  </a:lnTo>
                  <a:lnTo>
                    <a:pt x="575" y="762"/>
                  </a:lnTo>
                  <a:lnTo>
                    <a:pt x="565" y="754"/>
                  </a:lnTo>
                  <a:lnTo>
                    <a:pt x="554" y="744"/>
                  </a:lnTo>
                  <a:lnTo>
                    <a:pt x="542" y="736"/>
                  </a:lnTo>
                  <a:lnTo>
                    <a:pt x="529" y="729"/>
                  </a:lnTo>
                  <a:lnTo>
                    <a:pt x="515" y="721"/>
                  </a:lnTo>
                  <a:lnTo>
                    <a:pt x="502" y="716"/>
                  </a:lnTo>
                  <a:lnTo>
                    <a:pt x="480" y="702"/>
                  </a:lnTo>
                  <a:lnTo>
                    <a:pt x="470" y="686"/>
                  </a:lnTo>
                  <a:lnTo>
                    <a:pt x="464" y="667"/>
                  </a:lnTo>
                  <a:lnTo>
                    <a:pt x="454" y="649"/>
                  </a:lnTo>
                  <a:lnTo>
                    <a:pt x="444" y="634"/>
                  </a:lnTo>
                  <a:lnTo>
                    <a:pt x="437" y="621"/>
                  </a:lnTo>
                  <a:lnTo>
                    <a:pt x="435" y="611"/>
                  </a:lnTo>
                  <a:lnTo>
                    <a:pt x="435" y="607"/>
                  </a:lnTo>
                  <a:lnTo>
                    <a:pt x="437" y="607"/>
                  </a:lnTo>
                  <a:lnTo>
                    <a:pt x="442" y="606"/>
                  </a:lnTo>
                  <a:lnTo>
                    <a:pt x="449" y="602"/>
                  </a:lnTo>
                  <a:lnTo>
                    <a:pt x="455" y="596"/>
                  </a:lnTo>
                  <a:lnTo>
                    <a:pt x="459" y="589"/>
                  </a:lnTo>
                  <a:lnTo>
                    <a:pt x="459" y="577"/>
                  </a:lnTo>
                  <a:lnTo>
                    <a:pt x="454" y="564"/>
                  </a:lnTo>
                  <a:lnTo>
                    <a:pt x="440" y="546"/>
                  </a:lnTo>
                  <a:lnTo>
                    <a:pt x="434" y="539"/>
                  </a:lnTo>
                  <a:lnTo>
                    <a:pt x="429" y="532"/>
                  </a:lnTo>
                  <a:lnTo>
                    <a:pt x="424" y="529"/>
                  </a:lnTo>
                  <a:lnTo>
                    <a:pt x="420" y="526"/>
                  </a:lnTo>
                  <a:lnTo>
                    <a:pt x="419" y="527"/>
                  </a:lnTo>
                  <a:lnTo>
                    <a:pt x="415" y="526"/>
                  </a:lnTo>
                  <a:lnTo>
                    <a:pt x="415" y="522"/>
                  </a:lnTo>
                  <a:lnTo>
                    <a:pt x="420" y="526"/>
                  </a:lnTo>
                  <a:lnTo>
                    <a:pt x="420" y="524"/>
                  </a:lnTo>
                  <a:lnTo>
                    <a:pt x="419" y="521"/>
                  </a:lnTo>
                  <a:lnTo>
                    <a:pt x="419" y="517"/>
                  </a:lnTo>
                  <a:lnTo>
                    <a:pt x="417" y="512"/>
                  </a:lnTo>
                  <a:lnTo>
                    <a:pt x="409" y="490"/>
                  </a:lnTo>
                  <a:lnTo>
                    <a:pt x="405" y="477"/>
                  </a:lnTo>
                  <a:lnTo>
                    <a:pt x="399" y="467"/>
                  </a:lnTo>
                  <a:lnTo>
                    <a:pt x="384" y="455"/>
                  </a:lnTo>
                  <a:lnTo>
                    <a:pt x="372" y="440"/>
                  </a:lnTo>
                  <a:lnTo>
                    <a:pt x="374" y="425"/>
                  </a:lnTo>
                  <a:lnTo>
                    <a:pt x="375" y="412"/>
                  </a:lnTo>
                  <a:lnTo>
                    <a:pt x="364" y="399"/>
                  </a:lnTo>
                  <a:lnTo>
                    <a:pt x="345" y="387"/>
                  </a:lnTo>
                  <a:lnTo>
                    <a:pt x="332" y="372"/>
                  </a:lnTo>
                  <a:lnTo>
                    <a:pt x="325" y="355"/>
                  </a:lnTo>
                  <a:lnTo>
                    <a:pt x="322" y="337"/>
                  </a:lnTo>
                  <a:lnTo>
                    <a:pt x="319" y="317"/>
                  </a:lnTo>
                  <a:lnTo>
                    <a:pt x="309" y="290"/>
                  </a:lnTo>
                  <a:lnTo>
                    <a:pt x="294" y="264"/>
                  </a:lnTo>
                  <a:lnTo>
                    <a:pt x="273" y="237"/>
                  </a:lnTo>
                  <a:lnTo>
                    <a:pt x="260" y="215"/>
                  </a:lnTo>
                  <a:lnTo>
                    <a:pt x="257" y="197"/>
                  </a:lnTo>
                  <a:lnTo>
                    <a:pt x="255" y="184"/>
                  </a:lnTo>
                  <a:lnTo>
                    <a:pt x="245" y="175"/>
                  </a:lnTo>
                  <a:lnTo>
                    <a:pt x="233" y="167"/>
                  </a:lnTo>
                  <a:lnTo>
                    <a:pt x="228" y="154"/>
                  </a:lnTo>
                  <a:lnTo>
                    <a:pt x="222" y="140"/>
                  </a:lnTo>
                  <a:lnTo>
                    <a:pt x="207" y="124"/>
                  </a:lnTo>
                  <a:lnTo>
                    <a:pt x="188" y="100"/>
                  </a:lnTo>
                  <a:lnTo>
                    <a:pt x="175" y="74"/>
                  </a:lnTo>
                  <a:lnTo>
                    <a:pt x="168" y="52"/>
                  </a:lnTo>
                  <a:lnTo>
                    <a:pt x="165" y="42"/>
                  </a:lnTo>
                  <a:lnTo>
                    <a:pt x="160" y="42"/>
                  </a:lnTo>
                  <a:lnTo>
                    <a:pt x="148" y="42"/>
                  </a:lnTo>
                  <a:lnTo>
                    <a:pt x="133" y="42"/>
                  </a:lnTo>
                  <a:lnTo>
                    <a:pt x="122" y="42"/>
                  </a:lnTo>
                  <a:lnTo>
                    <a:pt x="110" y="42"/>
                  </a:lnTo>
                  <a:lnTo>
                    <a:pt x="100" y="44"/>
                  </a:lnTo>
                  <a:lnTo>
                    <a:pt x="92" y="47"/>
                  </a:lnTo>
                  <a:lnTo>
                    <a:pt x="88" y="47"/>
                  </a:lnTo>
                  <a:lnTo>
                    <a:pt x="90" y="44"/>
                  </a:lnTo>
                  <a:lnTo>
                    <a:pt x="93" y="34"/>
                  </a:lnTo>
                  <a:lnTo>
                    <a:pt x="98" y="20"/>
                  </a:lnTo>
                  <a:lnTo>
                    <a:pt x="103" y="8"/>
                  </a:lnTo>
                  <a:lnTo>
                    <a:pt x="103" y="8"/>
                  </a:lnTo>
                  <a:lnTo>
                    <a:pt x="103" y="8"/>
                  </a:lnTo>
                  <a:lnTo>
                    <a:pt x="103" y="8"/>
                  </a:lnTo>
                  <a:lnTo>
                    <a:pt x="103" y="8"/>
                  </a:lnTo>
                  <a:lnTo>
                    <a:pt x="67" y="0"/>
                  </a:lnTo>
                  <a:lnTo>
                    <a:pt x="67" y="5"/>
                  </a:lnTo>
                  <a:lnTo>
                    <a:pt x="65" y="19"/>
                  </a:lnTo>
                  <a:lnTo>
                    <a:pt x="62" y="34"/>
                  </a:lnTo>
                  <a:lnTo>
                    <a:pt x="57" y="47"/>
                  </a:lnTo>
                  <a:lnTo>
                    <a:pt x="50" y="57"/>
                  </a:lnTo>
                  <a:lnTo>
                    <a:pt x="45" y="65"/>
                  </a:lnTo>
                  <a:lnTo>
                    <a:pt x="40" y="79"/>
                  </a:lnTo>
                  <a:lnTo>
                    <a:pt x="38" y="95"/>
                  </a:lnTo>
                  <a:lnTo>
                    <a:pt x="35" y="119"/>
                  </a:lnTo>
                  <a:lnTo>
                    <a:pt x="28" y="145"/>
                  </a:lnTo>
                  <a:lnTo>
                    <a:pt x="20" y="169"/>
                  </a:lnTo>
                  <a:lnTo>
                    <a:pt x="15" y="185"/>
                  </a:lnTo>
                  <a:lnTo>
                    <a:pt x="10" y="197"/>
                  </a:lnTo>
                  <a:lnTo>
                    <a:pt x="5" y="209"/>
                  </a:lnTo>
                  <a:lnTo>
                    <a:pt x="2" y="220"/>
                  </a:lnTo>
                  <a:lnTo>
                    <a:pt x="0" y="224"/>
                  </a:lnTo>
                  <a:lnTo>
                    <a:pt x="3" y="224"/>
                  </a:lnTo>
                  <a:lnTo>
                    <a:pt x="12" y="220"/>
                  </a:lnTo>
                  <a:lnTo>
                    <a:pt x="23" y="219"/>
                  </a:lnTo>
                  <a:lnTo>
                    <a:pt x="33" y="219"/>
                  </a:lnTo>
                  <a:lnTo>
                    <a:pt x="47" y="219"/>
                  </a:lnTo>
                  <a:lnTo>
                    <a:pt x="60" y="219"/>
                  </a:lnTo>
                  <a:lnTo>
                    <a:pt x="72" y="219"/>
                  </a:lnTo>
                  <a:lnTo>
                    <a:pt x="77" y="219"/>
                  </a:lnTo>
                  <a:lnTo>
                    <a:pt x="80" y="229"/>
                  </a:lnTo>
                  <a:lnTo>
                    <a:pt x="87" y="250"/>
                  </a:lnTo>
                  <a:lnTo>
                    <a:pt x="100" y="277"/>
                  </a:lnTo>
                  <a:lnTo>
                    <a:pt x="118" y="299"/>
                  </a:lnTo>
                  <a:lnTo>
                    <a:pt x="133" y="315"/>
                  </a:lnTo>
                  <a:lnTo>
                    <a:pt x="140" y="330"/>
                  </a:lnTo>
                  <a:lnTo>
                    <a:pt x="145" y="342"/>
                  </a:lnTo>
                  <a:lnTo>
                    <a:pt x="157" y="352"/>
                  </a:lnTo>
                  <a:lnTo>
                    <a:pt x="167" y="360"/>
                  </a:lnTo>
                  <a:lnTo>
                    <a:pt x="168" y="374"/>
                  </a:lnTo>
                  <a:lnTo>
                    <a:pt x="172" y="390"/>
                  </a:lnTo>
                  <a:lnTo>
                    <a:pt x="185" y="414"/>
                  </a:lnTo>
                  <a:lnTo>
                    <a:pt x="205" y="440"/>
                  </a:lnTo>
                  <a:lnTo>
                    <a:pt x="220" y="467"/>
                  </a:lnTo>
                  <a:lnTo>
                    <a:pt x="230" y="492"/>
                  </a:lnTo>
                  <a:lnTo>
                    <a:pt x="233" y="512"/>
                  </a:lnTo>
                  <a:lnTo>
                    <a:pt x="237" y="531"/>
                  </a:lnTo>
                  <a:lnTo>
                    <a:pt x="243" y="547"/>
                  </a:lnTo>
                  <a:lnTo>
                    <a:pt x="257" y="562"/>
                  </a:lnTo>
                  <a:lnTo>
                    <a:pt x="275" y="574"/>
                  </a:lnTo>
                  <a:lnTo>
                    <a:pt x="287" y="587"/>
                  </a:lnTo>
                  <a:lnTo>
                    <a:pt x="285" y="601"/>
                  </a:lnTo>
                  <a:lnTo>
                    <a:pt x="284" y="617"/>
                  </a:lnTo>
                  <a:lnTo>
                    <a:pt x="295" y="632"/>
                  </a:lnTo>
                  <a:lnTo>
                    <a:pt x="310" y="642"/>
                  </a:lnTo>
                  <a:lnTo>
                    <a:pt x="317" y="652"/>
                  </a:lnTo>
                  <a:lnTo>
                    <a:pt x="320" y="666"/>
                  </a:lnTo>
                  <a:lnTo>
                    <a:pt x="329" y="687"/>
                  </a:lnTo>
                  <a:lnTo>
                    <a:pt x="330" y="692"/>
                  </a:lnTo>
                  <a:lnTo>
                    <a:pt x="330" y="696"/>
                  </a:lnTo>
                  <a:lnTo>
                    <a:pt x="332" y="697"/>
                  </a:lnTo>
                  <a:lnTo>
                    <a:pt x="332" y="699"/>
                  </a:lnTo>
                  <a:lnTo>
                    <a:pt x="335" y="702"/>
                  </a:lnTo>
                  <a:lnTo>
                    <a:pt x="340" y="707"/>
                  </a:lnTo>
                  <a:lnTo>
                    <a:pt x="345" y="712"/>
                  </a:lnTo>
                  <a:lnTo>
                    <a:pt x="352" y="721"/>
                  </a:lnTo>
                  <a:lnTo>
                    <a:pt x="365" y="737"/>
                  </a:lnTo>
                  <a:lnTo>
                    <a:pt x="370" y="752"/>
                  </a:lnTo>
                  <a:lnTo>
                    <a:pt x="370" y="762"/>
                  </a:lnTo>
                  <a:lnTo>
                    <a:pt x="367" y="771"/>
                  </a:lnTo>
                  <a:lnTo>
                    <a:pt x="360" y="776"/>
                  </a:lnTo>
                  <a:lnTo>
                    <a:pt x="354" y="781"/>
                  </a:lnTo>
                  <a:lnTo>
                    <a:pt x="349" y="782"/>
                  </a:lnTo>
                  <a:lnTo>
                    <a:pt x="347" y="782"/>
                  </a:lnTo>
                  <a:lnTo>
                    <a:pt x="347" y="786"/>
                  </a:lnTo>
                  <a:lnTo>
                    <a:pt x="350" y="794"/>
                  </a:lnTo>
                  <a:lnTo>
                    <a:pt x="355" y="807"/>
                  </a:lnTo>
                  <a:lnTo>
                    <a:pt x="367" y="824"/>
                  </a:lnTo>
                  <a:lnTo>
                    <a:pt x="377" y="842"/>
                  </a:lnTo>
                  <a:lnTo>
                    <a:pt x="384" y="862"/>
                  </a:lnTo>
                  <a:lnTo>
                    <a:pt x="392" y="877"/>
                  </a:lnTo>
                  <a:lnTo>
                    <a:pt x="414" y="891"/>
                  </a:lnTo>
                  <a:lnTo>
                    <a:pt x="427" y="897"/>
                  </a:lnTo>
                  <a:lnTo>
                    <a:pt x="440" y="904"/>
                  </a:lnTo>
                  <a:lnTo>
                    <a:pt x="454" y="912"/>
                  </a:lnTo>
                  <a:lnTo>
                    <a:pt x="465" y="921"/>
                  </a:lnTo>
                  <a:lnTo>
                    <a:pt x="477" y="929"/>
                  </a:lnTo>
                  <a:lnTo>
                    <a:pt x="487" y="937"/>
                  </a:lnTo>
                  <a:lnTo>
                    <a:pt x="499" y="946"/>
                  </a:lnTo>
                  <a:lnTo>
                    <a:pt x="509" y="952"/>
                  </a:lnTo>
                  <a:lnTo>
                    <a:pt x="519" y="961"/>
                  </a:lnTo>
                  <a:lnTo>
                    <a:pt x="525" y="969"/>
                  </a:lnTo>
                  <a:lnTo>
                    <a:pt x="532" y="979"/>
                  </a:lnTo>
                  <a:lnTo>
                    <a:pt x="537" y="989"/>
                  </a:lnTo>
                  <a:lnTo>
                    <a:pt x="542" y="1002"/>
                  </a:lnTo>
                  <a:lnTo>
                    <a:pt x="547" y="1016"/>
                  </a:lnTo>
                  <a:lnTo>
                    <a:pt x="552" y="1031"/>
                  </a:lnTo>
                  <a:lnTo>
                    <a:pt x="560" y="1048"/>
                  </a:lnTo>
                  <a:lnTo>
                    <a:pt x="574" y="1079"/>
                  </a:lnTo>
                  <a:lnTo>
                    <a:pt x="584" y="1108"/>
                  </a:lnTo>
                  <a:lnTo>
                    <a:pt x="592" y="1136"/>
                  </a:lnTo>
                  <a:lnTo>
                    <a:pt x="609" y="1171"/>
                  </a:lnTo>
                  <a:lnTo>
                    <a:pt x="619" y="1213"/>
                  </a:lnTo>
                  <a:lnTo>
                    <a:pt x="612" y="1253"/>
                  </a:lnTo>
                  <a:lnTo>
                    <a:pt x="600" y="1283"/>
                  </a:lnTo>
                  <a:lnTo>
                    <a:pt x="594" y="1294"/>
                  </a:lnTo>
                  <a:lnTo>
                    <a:pt x="597" y="1301"/>
                  </a:lnTo>
                  <a:lnTo>
                    <a:pt x="604" y="1318"/>
                  </a:lnTo>
                  <a:lnTo>
                    <a:pt x="612" y="1341"/>
                  </a:lnTo>
                  <a:lnTo>
                    <a:pt x="617" y="1366"/>
                  </a:lnTo>
                  <a:lnTo>
                    <a:pt x="620" y="1379"/>
                  </a:lnTo>
                  <a:lnTo>
                    <a:pt x="624" y="1394"/>
                  </a:lnTo>
                  <a:lnTo>
                    <a:pt x="629" y="1409"/>
                  </a:lnTo>
                  <a:lnTo>
                    <a:pt x="635" y="1428"/>
                  </a:lnTo>
                  <a:lnTo>
                    <a:pt x="644" y="1444"/>
                  </a:lnTo>
                  <a:lnTo>
                    <a:pt x="654" y="1463"/>
                  </a:lnTo>
                  <a:lnTo>
                    <a:pt x="664" y="1481"/>
                  </a:lnTo>
                  <a:lnTo>
                    <a:pt x="675" y="1499"/>
                  </a:lnTo>
                  <a:lnTo>
                    <a:pt x="687" y="1516"/>
                  </a:lnTo>
                  <a:lnTo>
                    <a:pt x="695" y="1531"/>
                  </a:lnTo>
                  <a:lnTo>
                    <a:pt x="702" y="1543"/>
                  </a:lnTo>
                  <a:lnTo>
                    <a:pt x="707" y="1553"/>
                  </a:lnTo>
                  <a:lnTo>
                    <a:pt x="712" y="1561"/>
                  </a:lnTo>
                  <a:lnTo>
                    <a:pt x="719" y="1566"/>
                  </a:lnTo>
                  <a:lnTo>
                    <a:pt x="724" y="1570"/>
                  </a:lnTo>
                  <a:lnTo>
                    <a:pt x="732" y="1571"/>
                  </a:lnTo>
                  <a:lnTo>
                    <a:pt x="742" y="1573"/>
                  </a:lnTo>
                  <a:lnTo>
                    <a:pt x="754" y="1576"/>
                  </a:lnTo>
                  <a:lnTo>
                    <a:pt x="765" y="1581"/>
                  </a:lnTo>
                  <a:lnTo>
                    <a:pt x="779" y="1588"/>
                  </a:lnTo>
                  <a:lnTo>
                    <a:pt x="792" y="1595"/>
                  </a:lnTo>
                  <a:lnTo>
                    <a:pt x="804" y="1603"/>
                  </a:lnTo>
                  <a:lnTo>
                    <a:pt x="814" y="1611"/>
                  </a:lnTo>
                  <a:lnTo>
                    <a:pt x="822" y="1618"/>
                  </a:lnTo>
                  <a:lnTo>
                    <a:pt x="834" y="1633"/>
                  </a:lnTo>
                  <a:lnTo>
                    <a:pt x="846" y="1648"/>
                  </a:lnTo>
                  <a:lnTo>
                    <a:pt x="856" y="1663"/>
                  </a:lnTo>
                  <a:lnTo>
                    <a:pt x="866" y="1675"/>
                  </a:lnTo>
                  <a:lnTo>
                    <a:pt x="872" y="1685"/>
                  </a:lnTo>
                  <a:lnTo>
                    <a:pt x="881" y="1700"/>
                  </a:lnTo>
                  <a:lnTo>
                    <a:pt x="891" y="1721"/>
                  </a:lnTo>
                  <a:lnTo>
                    <a:pt x="902" y="1743"/>
                  </a:lnTo>
                  <a:lnTo>
                    <a:pt x="912" y="1768"/>
                  </a:lnTo>
                  <a:lnTo>
                    <a:pt x="921" y="1790"/>
                  </a:lnTo>
                  <a:lnTo>
                    <a:pt x="927" y="1810"/>
                  </a:lnTo>
                  <a:lnTo>
                    <a:pt x="931" y="1823"/>
                  </a:lnTo>
                  <a:lnTo>
                    <a:pt x="937" y="1841"/>
                  </a:lnTo>
                  <a:lnTo>
                    <a:pt x="951" y="1858"/>
                  </a:lnTo>
                  <a:lnTo>
                    <a:pt x="964" y="1878"/>
                  </a:lnTo>
                  <a:lnTo>
                    <a:pt x="979" y="1908"/>
                  </a:lnTo>
                  <a:lnTo>
                    <a:pt x="987" y="1926"/>
                  </a:lnTo>
                  <a:lnTo>
                    <a:pt x="999" y="1945"/>
                  </a:lnTo>
                  <a:lnTo>
                    <a:pt x="1014" y="1965"/>
                  </a:lnTo>
                  <a:lnTo>
                    <a:pt x="1029" y="1981"/>
                  </a:lnTo>
                  <a:lnTo>
                    <a:pt x="1044" y="2000"/>
                  </a:lnTo>
                  <a:lnTo>
                    <a:pt x="1059" y="2015"/>
                  </a:lnTo>
                  <a:lnTo>
                    <a:pt x="1072" y="2027"/>
                  </a:lnTo>
                  <a:lnTo>
                    <a:pt x="1084" y="2037"/>
                  </a:lnTo>
                  <a:lnTo>
                    <a:pt x="1097" y="2052"/>
                  </a:lnTo>
                  <a:lnTo>
                    <a:pt x="1106" y="2068"/>
                  </a:lnTo>
                  <a:lnTo>
                    <a:pt x="1109" y="2085"/>
                  </a:lnTo>
                  <a:lnTo>
                    <a:pt x="1112" y="2098"/>
                  </a:lnTo>
                  <a:lnTo>
                    <a:pt x="1117" y="2108"/>
                  </a:lnTo>
                  <a:lnTo>
                    <a:pt x="1126" y="2120"/>
                  </a:lnTo>
                  <a:lnTo>
                    <a:pt x="1136" y="2132"/>
                  </a:lnTo>
                  <a:lnTo>
                    <a:pt x="1146" y="2145"/>
                  </a:lnTo>
                  <a:lnTo>
                    <a:pt x="1156" y="2160"/>
                  </a:lnTo>
                  <a:lnTo>
                    <a:pt x="1164" y="2175"/>
                  </a:lnTo>
                  <a:lnTo>
                    <a:pt x="1169" y="2190"/>
                  </a:lnTo>
                  <a:lnTo>
                    <a:pt x="1169" y="2202"/>
                  </a:lnTo>
                  <a:lnTo>
                    <a:pt x="1169" y="2217"/>
                  </a:lnTo>
                  <a:lnTo>
                    <a:pt x="1172" y="2233"/>
                  </a:lnTo>
                  <a:lnTo>
                    <a:pt x="1177" y="2248"/>
                  </a:lnTo>
                  <a:lnTo>
                    <a:pt x="1179" y="2255"/>
                  </a:lnTo>
                  <a:lnTo>
                    <a:pt x="1216" y="2227"/>
                  </a:lnTo>
                  <a:lnTo>
                    <a:pt x="1219" y="2222"/>
                  </a:lnTo>
                  <a:lnTo>
                    <a:pt x="1226" y="2208"/>
                  </a:lnTo>
                  <a:lnTo>
                    <a:pt x="1232" y="2192"/>
                  </a:lnTo>
                  <a:lnTo>
                    <a:pt x="1236" y="2178"/>
                  </a:lnTo>
                  <a:lnTo>
                    <a:pt x="1236" y="2165"/>
                  </a:lnTo>
                  <a:lnTo>
                    <a:pt x="1234" y="2145"/>
                  </a:lnTo>
                  <a:lnTo>
                    <a:pt x="1236" y="2123"/>
                  </a:lnTo>
                  <a:lnTo>
                    <a:pt x="1241" y="2103"/>
                  </a:lnTo>
                  <a:lnTo>
                    <a:pt x="1241" y="2087"/>
                  </a:lnTo>
                  <a:lnTo>
                    <a:pt x="1236" y="2077"/>
                  </a:lnTo>
                  <a:lnTo>
                    <a:pt x="1234" y="2067"/>
                  </a:lnTo>
                  <a:lnTo>
                    <a:pt x="1241" y="2060"/>
                  </a:lnTo>
                  <a:lnTo>
                    <a:pt x="1246" y="2057"/>
                  </a:lnTo>
                  <a:lnTo>
                    <a:pt x="1251" y="2057"/>
                  </a:lnTo>
                  <a:lnTo>
                    <a:pt x="1256" y="2058"/>
                  </a:lnTo>
                  <a:lnTo>
                    <a:pt x="1261" y="2062"/>
                  </a:lnTo>
                  <a:lnTo>
                    <a:pt x="1259" y="2052"/>
                  </a:lnTo>
                  <a:lnTo>
                    <a:pt x="1257" y="2043"/>
                  </a:lnTo>
                  <a:lnTo>
                    <a:pt x="1256" y="2033"/>
                  </a:lnTo>
                  <a:lnTo>
                    <a:pt x="1257" y="2027"/>
                  </a:lnTo>
                  <a:close/>
                </a:path>
              </a:pathLst>
            </a:custGeom>
            <a:solidFill>
              <a:srgbClr val="ffffff">
                <a:alpha val="10000"/>
              </a:srgbClr>
            </a:solidFill>
            <a:ln cap="sq" w="9360">
              <a:solidFill>
                <a:srgbClr val="ffffff"/>
              </a:solidFill>
              <a:round/>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5" name=""/>
            <p:cNvSpPr/>
            <p:nvPr/>
          </p:nvSpPr>
          <p:spPr>
            <a:xfrm>
              <a:off x="3086280" y="3706920"/>
              <a:ext cx="4680" cy="4680"/>
            </a:xfrm>
            <a:custGeom>
              <a:avLst/>
              <a:gdLst/>
              <a:ahLst/>
              <a:rect l="l" t="t" r="r" b="b"/>
              <a:pathLst>
                <a:path w="5" h="5">
                  <a:moveTo>
                    <a:pt x="5" y="3"/>
                  </a:moveTo>
                  <a:lnTo>
                    <a:pt x="0" y="0"/>
                  </a:lnTo>
                  <a:lnTo>
                    <a:pt x="2" y="3"/>
                  </a:lnTo>
                  <a:lnTo>
                    <a:pt x="3" y="5"/>
                  </a:lnTo>
                  <a:lnTo>
                    <a:pt x="5" y="3"/>
                  </a:lnTo>
                  <a:lnTo>
                    <a:pt x="5" y="3"/>
                  </a:lnTo>
                  <a:close/>
                </a:path>
              </a:pathLst>
            </a:custGeom>
            <a:solidFill>
              <a:srgbClr val="000000"/>
            </a:solidFill>
            <a:ln w="0">
              <a:noFill/>
            </a:ln>
          </p:spPr>
          <p:style>
            <a:lnRef idx="0"/>
            <a:fillRef idx="0"/>
            <a:effectRef idx="0"/>
            <a:fontRef idx="minor"/>
          </p:style>
          <p:txBody>
            <a:bodyPr wrap="none" lIns="90000" rIns="90000" tIns="-42120" bIns="-421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6" name=""/>
            <p:cNvSpPr/>
            <p:nvPr/>
          </p:nvSpPr>
          <p:spPr>
            <a:xfrm>
              <a:off x="4379760" y="4662360"/>
              <a:ext cx="2567160" cy="993960"/>
            </a:xfrm>
            <a:custGeom>
              <a:avLst/>
              <a:gdLst/>
              <a:ahLst/>
              <a:rect l="l" t="t" r="r" b="b"/>
              <a:pathLst>
                <a:path w="1881" h="744">
                  <a:moveTo>
                    <a:pt x="1298" y="222"/>
                  </a:moveTo>
                  <a:lnTo>
                    <a:pt x="1283" y="225"/>
                  </a:lnTo>
                  <a:lnTo>
                    <a:pt x="1263" y="230"/>
                  </a:lnTo>
                  <a:lnTo>
                    <a:pt x="1239" y="235"/>
                  </a:lnTo>
                  <a:lnTo>
                    <a:pt x="1214" y="242"/>
                  </a:lnTo>
                  <a:lnTo>
                    <a:pt x="1186" y="249"/>
                  </a:lnTo>
                  <a:lnTo>
                    <a:pt x="1157" y="255"/>
                  </a:lnTo>
                  <a:lnTo>
                    <a:pt x="1127" y="262"/>
                  </a:lnTo>
                  <a:lnTo>
                    <a:pt x="1097" y="269"/>
                  </a:lnTo>
                  <a:lnTo>
                    <a:pt x="1067" y="275"/>
                  </a:lnTo>
                  <a:lnTo>
                    <a:pt x="1039" y="284"/>
                  </a:lnTo>
                  <a:lnTo>
                    <a:pt x="1012" y="290"/>
                  </a:lnTo>
                  <a:lnTo>
                    <a:pt x="989" y="297"/>
                  </a:lnTo>
                  <a:lnTo>
                    <a:pt x="967" y="302"/>
                  </a:lnTo>
                  <a:lnTo>
                    <a:pt x="949" y="309"/>
                  </a:lnTo>
                  <a:lnTo>
                    <a:pt x="936" y="314"/>
                  </a:lnTo>
                  <a:lnTo>
                    <a:pt x="927" y="317"/>
                  </a:lnTo>
                  <a:lnTo>
                    <a:pt x="914" y="324"/>
                  </a:lnTo>
                  <a:lnTo>
                    <a:pt x="901" y="329"/>
                  </a:lnTo>
                  <a:lnTo>
                    <a:pt x="887" y="337"/>
                  </a:lnTo>
                  <a:lnTo>
                    <a:pt x="872" y="344"/>
                  </a:lnTo>
                  <a:lnTo>
                    <a:pt x="857" y="355"/>
                  </a:lnTo>
                  <a:lnTo>
                    <a:pt x="842" y="369"/>
                  </a:lnTo>
                  <a:lnTo>
                    <a:pt x="826" y="389"/>
                  </a:lnTo>
                  <a:lnTo>
                    <a:pt x="807" y="412"/>
                  </a:lnTo>
                  <a:lnTo>
                    <a:pt x="791" y="437"/>
                  </a:lnTo>
                  <a:lnTo>
                    <a:pt x="776" y="460"/>
                  </a:lnTo>
                  <a:lnTo>
                    <a:pt x="761" y="482"/>
                  </a:lnTo>
                  <a:lnTo>
                    <a:pt x="747" y="502"/>
                  </a:lnTo>
                  <a:lnTo>
                    <a:pt x="737" y="519"/>
                  </a:lnTo>
                  <a:lnTo>
                    <a:pt x="727" y="532"/>
                  </a:lnTo>
                  <a:lnTo>
                    <a:pt x="719" y="542"/>
                  </a:lnTo>
                  <a:lnTo>
                    <a:pt x="712" y="549"/>
                  </a:lnTo>
                  <a:lnTo>
                    <a:pt x="706" y="554"/>
                  </a:lnTo>
                  <a:lnTo>
                    <a:pt x="699" y="559"/>
                  </a:lnTo>
                  <a:lnTo>
                    <a:pt x="689" y="564"/>
                  </a:lnTo>
                  <a:lnTo>
                    <a:pt x="679" y="565"/>
                  </a:lnTo>
                  <a:lnTo>
                    <a:pt x="667" y="567"/>
                  </a:lnTo>
                  <a:lnTo>
                    <a:pt x="657" y="567"/>
                  </a:lnTo>
                  <a:lnTo>
                    <a:pt x="647" y="564"/>
                  </a:lnTo>
                  <a:lnTo>
                    <a:pt x="637" y="559"/>
                  </a:lnTo>
                  <a:lnTo>
                    <a:pt x="629" y="552"/>
                  </a:lnTo>
                  <a:lnTo>
                    <a:pt x="622" y="544"/>
                  </a:lnTo>
                  <a:lnTo>
                    <a:pt x="615" y="535"/>
                  </a:lnTo>
                  <a:lnTo>
                    <a:pt x="609" y="529"/>
                  </a:lnTo>
                  <a:lnTo>
                    <a:pt x="602" y="524"/>
                  </a:lnTo>
                  <a:lnTo>
                    <a:pt x="595" y="520"/>
                  </a:lnTo>
                  <a:lnTo>
                    <a:pt x="589" y="519"/>
                  </a:lnTo>
                  <a:lnTo>
                    <a:pt x="580" y="520"/>
                  </a:lnTo>
                  <a:lnTo>
                    <a:pt x="569" y="524"/>
                  </a:lnTo>
                  <a:lnTo>
                    <a:pt x="554" y="525"/>
                  </a:lnTo>
                  <a:lnTo>
                    <a:pt x="537" y="525"/>
                  </a:lnTo>
                  <a:lnTo>
                    <a:pt x="519" y="525"/>
                  </a:lnTo>
                  <a:lnTo>
                    <a:pt x="499" y="525"/>
                  </a:lnTo>
                  <a:lnTo>
                    <a:pt x="480" y="524"/>
                  </a:lnTo>
                  <a:lnTo>
                    <a:pt x="462" y="522"/>
                  </a:lnTo>
                  <a:lnTo>
                    <a:pt x="447" y="520"/>
                  </a:lnTo>
                  <a:lnTo>
                    <a:pt x="432" y="519"/>
                  </a:lnTo>
                  <a:lnTo>
                    <a:pt x="417" y="515"/>
                  </a:lnTo>
                  <a:lnTo>
                    <a:pt x="404" y="510"/>
                  </a:lnTo>
                  <a:lnTo>
                    <a:pt x="389" y="507"/>
                  </a:lnTo>
                  <a:lnTo>
                    <a:pt x="375" y="504"/>
                  </a:lnTo>
                  <a:lnTo>
                    <a:pt x="364" y="500"/>
                  </a:lnTo>
                  <a:lnTo>
                    <a:pt x="352" y="497"/>
                  </a:lnTo>
                  <a:lnTo>
                    <a:pt x="342" y="497"/>
                  </a:lnTo>
                  <a:lnTo>
                    <a:pt x="329" y="497"/>
                  </a:lnTo>
                  <a:lnTo>
                    <a:pt x="307" y="497"/>
                  </a:lnTo>
                  <a:lnTo>
                    <a:pt x="280" y="499"/>
                  </a:lnTo>
                  <a:lnTo>
                    <a:pt x="250" y="499"/>
                  </a:lnTo>
                  <a:lnTo>
                    <a:pt x="224" y="500"/>
                  </a:lnTo>
                  <a:lnTo>
                    <a:pt x="200" y="502"/>
                  </a:lnTo>
                  <a:lnTo>
                    <a:pt x="184" y="502"/>
                  </a:lnTo>
                  <a:lnTo>
                    <a:pt x="177" y="502"/>
                  </a:lnTo>
                  <a:lnTo>
                    <a:pt x="175" y="504"/>
                  </a:lnTo>
                  <a:lnTo>
                    <a:pt x="170" y="505"/>
                  </a:lnTo>
                  <a:lnTo>
                    <a:pt x="164" y="509"/>
                  </a:lnTo>
                  <a:lnTo>
                    <a:pt x="155" y="510"/>
                  </a:lnTo>
                  <a:lnTo>
                    <a:pt x="144" y="512"/>
                  </a:lnTo>
                  <a:lnTo>
                    <a:pt x="132" y="512"/>
                  </a:lnTo>
                  <a:lnTo>
                    <a:pt x="120" y="509"/>
                  </a:lnTo>
                  <a:lnTo>
                    <a:pt x="107" y="502"/>
                  </a:lnTo>
                  <a:lnTo>
                    <a:pt x="95" y="494"/>
                  </a:lnTo>
                  <a:lnTo>
                    <a:pt x="87" y="485"/>
                  </a:lnTo>
                  <a:lnTo>
                    <a:pt x="80" y="479"/>
                  </a:lnTo>
                  <a:lnTo>
                    <a:pt x="75" y="475"/>
                  </a:lnTo>
                  <a:lnTo>
                    <a:pt x="70" y="472"/>
                  </a:lnTo>
                  <a:lnTo>
                    <a:pt x="65" y="470"/>
                  </a:lnTo>
                  <a:lnTo>
                    <a:pt x="60" y="470"/>
                  </a:lnTo>
                  <a:lnTo>
                    <a:pt x="53" y="474"/>
                  </a:lnTo>
                  <a:lnTo>
                    <a:pt x="47" y="480"/>
                  </a:lnTo>
                  <a:lnTo>
                    <a:pt x="50" y="489"/>
                  </a:lnTo>
                  <a:lnTo>
                    <a:pt x="55" y="500"/>
                  </a:lnTo>
                  <a:lnTo>
                    <a:pt x="53" y="515"/>
                  </a:lnTo>
                  <a:lnTo>
                    <a:pt x="50" y="535"/>
                  </a:lnTo>
                  <a:lnTo>
                    <a:pt x="48" y="557"/>
                  </a:lnTo>
                  <a:lnTo>
                    <a:pt x="50" y="577"/>
                  </a:lnTo>
                  <a:lnTo>
                    <a:pt x="50" y="592"/>
                  </a:lnTo>
                  <a:lnTo>
                    <a:pt x="47" y="606"/>
                  </a:lnTo>
                  <a:lnTo>
                    <a:pt x="40" y="621"/>
                  </a:lnTo>
                  <a:lnTo>
                    <a:pt x="33" y="634"/>
                  </a:lnTo>
                  <a:lnTo>
                    <a:pt x="30" y="639"/>
                  </a:lnTo>
                  <a:lnTo>
                    <a:pt x="0" y="662"/>
                  </a:lnTo>
                  <a:lnTo>
                    <a:pt x="3" y="666"/>
                  </a:lnTo>
                  <a:lnTo>
                    <a:pt x="8" y="669"/>
                  </a:lnTo>
                  <a:lnTo>
                    <a:pt x="13" y="674"/>
                  </a:lnTo>
                  <a:lnTo>
                    <a:pt x="18" y="677"/>
                  </a:lnTo>
                  <a:lnTo>
                    <a:pt x="32" y="684"/>
                  </a:lnTo>
                  <a:lnTo>
                    <a:pt x="43" y="687"/>
                  </a:lnTo>
                  <a:lnTo>
                    <a:pt x="55" y="687"/>
                  </a:lnTo>
                  <a:lnTo>
                    <a:pt x="67" y="686"/>
                  </a:lnTo>
                  <a:lnTo>
                    <a:pt x="77" y="684"/>
                  </a:lnTo>
                  <a:lnTo>
                    <a:pt x="83" y="681"/>
                  </a:lnTo>
                  <a:lnTo>
                    <a:pt x="88" y="679"/>
                  </a:lnTo>
                  <a:lnTo>
                    <a:pt x="90" y="677"/>
                  </a:lnTo>
                  <a:lnTo>
                    <a:pt x="97" y="677"/>
                  </a:lnTo>
                  <a:lnTo>
                    <a:pt x="114" y="677"/>
                  </a:lnTo>
                  <a:lnTo>
                    <a:pt x="137" y="676"/>
                  </a:lnTo>
                  <a:lnTo>
                    <a:pt x="164" y="674"/>
                  </a:lnTo>
                  <a:lnTo>
                    <a:pt x="194" y="674"/>
                  </a:lnTo>
                  <a:lnTo>
                    <a:pt x="220" y="672"/>
                  </a:lnTo>
                  <a:lnTo>
                    <a:pt x="242" y="672"/>
                  </a:lnTo>
                  <a:lnTo>
                    <a:pt x="255" y="672"/>
                  </a:lnTo>
                  <a:lnTo>
                    <a:pt x="265" y="674"/>
                  </a:lnTo>
                  <a:lnTo>
                    <a:pt x="275" y="676"/>
                  </a:lnTo>
                  <a:lnTo>
                    <a:pt x="289" y="679"/>
                  </a:lnTo>
                  <a:lnTo>
                    <a:pt x="302" y="682"/>
                  </a:lnTo>
                  <a:lnTo>
                    <a:pt x="315" y="687"/>
                  </a:lnTo>
                  <a:lnTo>
                    <a:pt x="330" y="691"/>
                  </a:lnTo>
                  <a:lnTo>
                    <a:pt x="344" y="694"/>
                  </a:lnTo>
                  <a:lnTo>
                    <a:pt x="359" y="697"/>
                  </a:lnTo>
                  <a:lnTo>
                    <a:pt x="374" y="699"/>
                  </a:lnTo>
                  <a:lnTo>
                    <a:pt x="392" y="701"/>
                  </a:lnTo>
                  <a:lnTo>
                    <a:pt x="412" y="701"/>
                  </a:lnTo>
                  <a:lnTo>
                    <a:pt x="430" y="702"/>
                  </a:lnTo>
                  <a:lnTo>
                    <a:pt x="450" y="702"/>
                  </a:lnTo>
                  <a:lnTo>
                    <a:pt x="467" y="701"/>
                  </a:lnTo>
                  <a:lnTo>
                    <a:pt x="480" y="701"/>
                  </a:lnTo>
                  <a:lnTo>
                    <a:pt x="492" y="697"/>
                  </a:lnTo>
                  <a:lnTo>
                    <a:pt x="500" y="696"/>
                  </a:lnTo>
                  <a:lnTo>
                    <a:pt x="507" y="696"/>
                  </a:lnTo>
                  <a:lnTo>
                    <a:pt x="514" y="699"/>
                  </a:lnTo>
                  <a:lnTo>
                    <a:pt x="520" y="706"/>
                  </a:lnTo>
                  <a:lnTo>
                    <a:pt x="527" y="712"/>
                  </a:lnTo>
                  <a:lnTo>
                    <a:pt x="534" y="719"/>
                  </a:lnTo>
                  <a:lnTo>
                    <a:pt x="540" y="727"/>
                  </a:lnTo>
                  <a:lnTo>
                    <a:pt x="549" y="734"/>
                  </a:lnTo>
                  <a:lnTo>
                    <a:pt x="559" y="741"/>
                  </a:lnTo>
                  <a:lnTo>
                    <a:pt x="569" y="742"/>
                  </a:lnTo>
                  <a:lnTo>
                    <a:pt x="579" y="744"/>
                  </a:lnTo>
                  <a:lnTo>
                    <a:pt x="590" y="742"/>
                  </a:lnTo>
                  <a:lnTo>
                    <a:pt x="600" y="739"/>
                  </a:lnTo>
                  <a:lnTo>
                    <a:pt x="610" y="736"/>
                  </a:lnTo>
                  <a:lnTo>
                    <a:pt x="619" y="731"/>
                  </a:lnTo>
                  <a:lnTo>
                    <a:pt x="625" y="726"/>
                  </a:lnTo>
                  <a:lnTo>
                    <a:pt x="632" y="719"/>
                  </a:lnTo>
                  <a:lnTo>
                    <a:pt x="639" y="707"/>
                  </a:lnTo>
                  <a:lnTo>
                    <a:pt x="649" y="694"/>
                  </a:lnTo>
                  <a:lnTo>
                    <a:pt x="661" y="677"/>
                  </a:lnTo>
                  <a:lnTo>
                    <a:pt x="672" y="659"/>
                  </a:lnTo>
                  <a:lnTo>
                    <a:pt x="687" y="637"/>
                  </a:lnTo>
                  <a:lnTo>
                    <a:pt x="704" y="614"/>
                  </a:lnTo>
                  <a:lnTo>
                    <a:pt x="721" y="587"/>
                  </a:lnTo>
                  <a:lnTo>
                    <a:pt x="737" y="564"/>
                  </a:lnTo>
                  <a:lnTo>
                    <a:pt x="754" y="544"/>
                  </a:lnTo>
                  <a:lnTo>
                    <a:pt x="769" y="530"/>
                  </a:lnTo>
                  <a:lnTo>
                    <a:pt x="786" y="519"/>
                  </a:lnTo>
                  <a:lnTo>
                    <a:pt x="799" y="512"/>
                  </a:lnTo>
                  <a:lnTo>
                    <a:pt x="812" y="504"/>
                  </a:lnTo>
                  <a:lnTo>
                    <a:pt x="826" y="499"/>
                  </a:lnTo>
                  <a:lnTo>
                    <a:pt x="839" y="492"/>
                  </a:lnTo>
                  <a:lnTo>
                    <a:pt x="847" y="489"/>
                  </a:lnTo>
                  <a:lnTo>
                    <a:pt x="862" y="484"/>
                  </a:lnTo>
                  <a:lnTo>
                    <a:pt x="879" y="479"/>
                  </a:lnTo>
                  <a:lnTo>
                    <a:pt x="901" y="472"/>
                  </a:lnTo>
                  <a:lnTo>
                    <a:pt x="926" y="465"/>
                  </a:lnTo>
                  <a:lnTo>
                    <a:pt x="952" y="459"/>
                  </a:lnTo>
                  <a:lnTo>
                    <a:pt x="981" y="452"/>
                  </a:lnTo>
                  <a:lnTo>
                    <a:pt x="1009" y="444"/>
                  </a:lnTo>
                  <a:lnTo>
                    <a:pt x="1039" y="437"/>
                  </a:lnTo>
                  <a:lnTo>
                    <a:pt x="1069" y="430"/>
                  </a:lnTo>
                  <a:lnTo>
                    <a:pt x="1097" y="424"/>
                  </a:lnTo>
                  <a:lnTo>
                    <a:pt x="1126" y="417"/>
                  </a:lnTo>
                  <a:lnTo>
                    <a:pt x="1151" y="410"/>
                  </a:lnTo>
                  <a:lnTo>
                    <a:pt x="1174" y="405"/>
                  </a:lnTo>
                  <a:lnTo>
                    <a:pt x="1194" y="400"/>
                  </a:lnTo>
                  <a:lnTo>
                    <a:pt x="1209" y="397"/>
                  </a:lnTo>
                  <a:lnTo>
                    <a:pt x="1236" y="390"/>
                  </a:lnTo>
                  <a:lnTo>
                    <a:pt x="1263" y="385"/>
                  </a:lnTo>
                  <a:lnTo>
                    <a:pt x="1289" y="382"/>
                  </a:lnTo>
                  <a:lnTo>
                    <a:pt x="1313" y="379"/>
                  </a:lnTo>
                  <a:lnTo>
                    <a:pt x="1336" y="375"/>
                  </a:lnTo>
                  <a:lnTo>
                    <a:pt x="1354" y="370"/>
                  </a:lnTo>
                  <a:lnTo>
                    <a:pt x="1371" y="365"/>
                  </a:lnTo>
                  <a:lnTo>
                    <a:pt x="1384" y="359"/>
                  </a:lnTo>
                  <a:lnTo>
                    <a:pt x="1394" y="354"/>
                  </a:lnTo>
                  <a:lnTo>
                    <a:pt x="1411" y="345"/>
                  </a:lnTo>
                  <a:lnTo>
                    <a:pt x="1434" y="334"/>
                  </a:lnTo>
                  <a:lnTo>
                    <a:pt x="1463" y="320"/>
                  </a:lnTo>
                  <a:lnTo>
                    <a:pt x="1496" y="307"/>
                  </a:lnTo>
                  <a:lnTo>
                    <a:pt x="1533" y="290"/>
                  </a:lnTo>
                  <a:lnTo>
                    <a:pt x="1571" y="274"/>
                  </a:lnTo>
                  <a:lnTo>
                    <a:pt x="1611" y="255"/>
                  </a:lnTo>
                  <a:lnTo>
                    <a:pt x="1649" y="239"/>
                  </a:lnTo>
                  <a:lnTo>
                    <a:pt x="1688" y="222"/>
                  </a:lnTo>
                  <a:lnTo>
                    <a:pt x="1723" y="207"/>
                  </a:lnTo>
                  <a:lnTo>
                    <a:pt x="1756" y="192"/>
                  </a:lnTo>
                  <a:lnTo>
                    <a:pt x="1783" y="180"/>
                  </a:lnTo>
                  <a:lnTo>
                    <a:pt x="1805" y="170"/>
                  </a:lnTo>
                  <a:lnTo>
                    <a:pt x="1820" y="164"/>
                  </a:lnTo>
                  <a:lnTo>
                    <a:pt x="1826" y="160"/>
                  </a:lnTo>
                  <a:lnTo>
                    <a:pt x="1836" y="152"/>
                  </a:lnTo>
                  <a:lnTo>
                    <a:pt x="1841" y="142"/>
                  </a:lnTo>
                  <a:lnTo>
                    <a:pt x="1845" y="130"/>
                  </a:lnTo>
                  <a:lnTo>
                    <a:pt x="1846" y="117"/>
                  </a:lnTo>
                  <a:lnTo>
                    <a:pt x="1848" y="100"/>
                  </a:lnTo>
                  <a:lnTo>
                    <a:pt x="1851" y="78"/>
                  </a:lnTo>
                  <a:lnTo>
                    <a:pt x="1858" y="57"/>
                  </a:lnTo>
                  <a:lnTo>
                    <a:pt x="1865" y="37"/>
                  </a:lnTo>
                  <a:lnTo>
                    <a:pt x="1868" y="27"/>
                  </a:lnTo>
                  <a:lnTo>
                    <a:pt x="1873" y="18"/>
                  </a:lnTo>
                  <a:lnTo>
                    <a:pt x="1876" y="8"/>
                  </a:lnTo>
                  <a:lnTo>
                    <a:pt x="1881" y="0"/>
                  </a:lnTo>
                  <a:lnTo>
                    <a:pt x="1861" y="10"/>
                  </a:lnTo>
                  <a:lnTo>
                    <a:pt x="1836" y="20"/>
                  </a:lnTo>
                  <a:lnTo>
                    <a:pt x="1808" y="32"/>
                  </a:lnTo>
                  <a:lnTo>
                    <a:pt x="1778" y="45"/>
                  </a:lnTo>
                  <a:lnTo>
                    <a:pt x="1746" y="58"/>
                  </a:lnTo>
                  <a:lnTo>
                    <a:pt x="1714" y="73"/>
                  </a:lnTo>
                  <a:lnTo>
                    <a:pt x="1681" y="88"/>
                  </a:lnTo>
                  <a:lnTo>
                    <a:pt x="1648" y="102"/>
                  </a:lnTo>
                  <a:lnTo>
                    <a:pt x="1616" y="117"/>
                  </a:lnTo>
                  <a:lnTo>
                    <a:pt x="1586" y="130"/>
                  </a:lnTo>
                  <a:lnTo>
                    <a:pt x="1558" y="142"/>
                  </a:lnTo>
                  <a:lnTo>
                    <a:pt x="1533" y="154"/>
                  </a:lnTo>
                  <a:lnTo>
                    <a:pt x="1511" y="164"/>
                  </a:lnTo>
                  <a:lnTo>
                    <a:pt x="1493" y="174"/>
                  </a:lnTo>
                  <a:lnTo>
                    <a:pt x="1479" y="179"/>
                  </a:lnTo>
                  <a:lnTo>
                    <a:pt x="1473" y="184"/>
                  </a:lnTo>
                  <a:lnTo>
                    <a:pt x="1459" y="190"/>
                  </a:lnTo>
                  <a:lnTo>
                    <a:pt x="1443" y="195"/>
                  </a:lnTo>
                  <a:lnTo>
                    <a:pt x="1423" y="199"/>
                  </a:lnTo>
                  <a:lnTo>
                    <a:pt x="1401" y="202"/>
                  </a:lnTo>
                  <a:lnTo>
                    <a:pt x="1376" y="205"/>
                  </a:lnTo>
                  <a:lnTo>
                    <a:pt x="1351" y="210"/>
                  </a:lnTo>
                  <a:lnTo>
                    <a:pt x="1324" y="215"/>
                  </a:lnTo>
                  <a:lnTo>
                    <a:pt x="1298" y="222"/>
                  </a:lnTo>
                  <a:close/>
                </a:path>
              </a:pathLst>
            </a:custGeom>
            <a:solidFill>
              <a:srgbClr val="ffffff">
                <a:alpha val="20000"/>
              </a:srgbClr>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7" name=""/>
            <p:cNvSpPr/>
            <p:nvPr/>
          </p:nvSpPr>
          <p:spPr>
            <a:xfrm>
              <a:off x="2813040" y="1803240"/>
              <a:ext cx="4348080" cy="3579840"/>
            </a:xfrm>
            <a:custGeom>
              <a:avLst/>
              <a:gdLst/>
              <a:ahLst/>
              <a:rect l="l" t="t" r="r" b="b"/>
              <a:pathLst>
                <a:path w="3185" h="2678">
                  <a:moveTo>
                    <a:pt x="380" y="90"/>
                  </a:moveTo>
                  <a:lnTo>
                    <a:pt x="683" y="28"/>
                  </a:lnTo>
                  <a:lnTo>
                    <a:pt x="693" y="0"/>
                  </a:lnTo>
                  <a:lnTo>
                    <a:pt x="695" y="0"/>
                  </a:lnTo>
                  <a:lnTo>
                    <a:pt x="698" y="0"/>
                  </a:lnTo>
                  <a:lnTo>
                    <a:pt x="704" y="0"/>
                  </a:lnTo>
                  <a:lnTo>
                    <a:pt x="712" y="0"/>
                  </a:lnTo>
                  <a:lnTo>
                    <a:pt x="720" y="0"/>
                  </a:lnTo>
                  <a:lnTo>
                    <a:pt x="734" y="2"/>
                  </a:lnTo>
                  <a:lnTo>
                    <a:pt x="747" y="5"/>
                  </a:lnTo>
                  <a:lnTo>
                    <a:pt x="764" y="10"/>
                  </a:lnTo>
                  <a:lnTo>
                    <a:pt x="782" y="15"/>
                  </a:lnTo>
                  <a:lnTo>
                    <a:pt x="799" y="20"/>
                  </a:lnTo>
                  <a:lnTo>
                    <a:pt x="817" y="23"/>
                  </a:lnTo>
                  <a:lnTo>
                    <a:pt x="832" y="28"/>
                  </a:lnTo>
                  <a:lnTo>
                    <a:pt x="847" y="32"/>
                  </a:lnTo>
                  <a:lnTo>
                    <a:pt x="862" y="35"/>
                  </a:lnTo>
                  <a:lnTo>
                    <a:pt x="874" y="40"/>
                  </a:lnTo>
                  <a:lnTo>
                    <a:pt x="884" y="43"/>
                  </a:lnTo>
                  <a:lnTo>
                    <a:pt x="894" y="48"/>
                  </a:lnTo>
                  <a:lnTo>
                    <a:pt x="907" y="57"/>
                  </a:lnTo>
                  <a:lnTo>
                    <a:pt x="924" y="68"/>
                  </a:lnTo>
                  <a:lnTo>
                    <a:pt x="942" y="82"/>
                  </a:lnTo>
                  <a:lnTo>
                    <a:pt x="962" y="97"/>
                  </a:lnTo>
                  <a:lnTo>
                    <a:pt x="985" y="112"/>
                  </a:lnTo>
                  <a:lnTo>
                    <a:pt x="1009" y="127"/>
                  </a:lnTo>
                  <a:lnTo>
                    <a:pt x="1035" y="142"/>
                  </a:lnTo>
                  <a:lnTo>
                    <a:pt x="1060" y="155"/>
                  </a:lnTo>
                  <a:lnTo>
                    <a:pt x="1080" y="168"/>
                  </a:lnTo>
                  <a:lnTo>
                    <a:pt x="1099" y="180"/>
                  </a:lnTo>
                  <a:lnTo>
                    <a:pt x="1114" y="190"/>
                  </a:lnTo>
                  <a:lnTo>
                    <a:pt x="1124" y="197"/>
                  </a:lnTo>
                  <a:lnTo>
                    <a:pt x="1132" y="203"/>
                  </a:lnTo>
                  <a:lnTo>
                    <a:pt x="1137" y="207"/>
                  </a:lnTo>
                  <a:lnTo>
                    <a:pt x="1139" y="208"/>
                  </a:lnTo>
                  <a:lnTo>
                    <a:pt x="1142" y="210"/>
                  </a:lnTo>
                  <a:lnTo>
                    <a:pt x="1150" y="215"/>
                  </a:lnTo>
                  <a:lnTo>
                    <a:pt x="1162" y="223"/>
                  </a:lnTo>
                  <a:lnTo>
                    <a:pt x="1177" y="233"/>
                  </a:lnTo>
                  <a:lnTo>
                    <a:pt x="1192" y="243"/>
                  </a:lnTo>
                  <a:lnTo>
                    <a:pt x="1205" y="255"/>
                  </a:lnTo>
                  <a:lnTo>
                    <a:pt x="1217" y="265"/>
                  </a:lnTo>
                  <a:lnTo>
                    <a:pt x="1225" y="275"/>
                  </a:lnTo>
                  <a:lnTo>
                    <a:pt x="1234" y="285"/>
                  </a:lnTo>
                  <a:lnTo>
                    <a:pt x="1245" y="297"/>
                  </a:lnTo>
                  <a:lnTo>
                    <a:pt x="1259" y="310"/>
                  </a:lnTo>
                  <a:lnTo>
                    <a:pt x="1276" y="325"/>
                  </a:lnTo>
                  <a:lnTo>
                    <a:pt x="1292" y="340"/>
                  </a:lnTo>
                  <a:lnTo>
                    <a:pt x="1309" y="354"/>
                  </a:lnTo>
                  <a:lnTo>
                    <a:pt x="1324" y="365"/>
                  </a:lnTo>
                  <a:lnTo>
                    <a:pt x="1334" y="375"/>
                  </a:lnTo>
                  <a:lnTo>
                    <a:pt x="1346" y="385"/>
                  </a:lnTo>
                  <a:lnTo>
                    <a:pt x="1362" y="397"/>
                  </a:lnTo>
                  <a:lnTo>
                    <a:pt x="1381" y="410"/>
                  </a:lnTo>
                  <a:lnTo>
                    <a:pt x="1401" y="424"/>
                  </a:lnTo>
                  <a:lnTo>
                    <a:pt x="1421" y="437"/>
                  </a:lnTo>
                  <a:lnTo>
                    <a:pt x="1436" y="445"/>
                  </a:lnTo>
                  <a:lnTo>
                    <a:pt x="1447" y="454"/>
                  </a:lnTo>
                  <a:lnTo>
                    <a:pt x="1451" y="455"/>
                  </a:lnTo>
                  <a:lnTo>
                    <a:pt x="1489" y="509"/>
                  </a:lnTo>
                  <a:lnTo>
                    <a:pt x="1497" y="509"/>
                  </a:lnTo>
                  <a:lnTo>
                    <a:pt x="1517" y="509"/>
                  </a:lnTo>
                  <a:lnTo>
                    <a:pt x="1546" y="509"/>
                  </a:lnTo>
                  <a:lnTo>
                    <a:pt x="1581" y="509"/>
                  </a:lnTo>
                  <a:lnTo>
                    <a:pt x="1617" y="510"/>
                  </a:lnTo>
                  <a:lnTo>
                    <a:pt x="1651" y="514"/>
                  </a:lnTo>
                  <a:lnTo>
                    <a:pt x="1677" y="520"/>
                  </a:lnTo>
                  <a:lnTo>
                    <a:pt x="1694" y="527"/>
                  </a:lnTo>
                  <a:lnTo>
                    <a:pt x="1696" y="527"/>
                  </a:lnTo>
                  <a:lnTo>
                    <a:pt x="1702" y="525"/>
                  </a:lnTo>
                  <a:lnTo>
                    <a:pt x="1712" y="522"/>
                  </a:lnTo>
                  <a:lnTo>
                    <a:pt x="1722" y="520"/>
                  </a:lnTo>
                  <a:lnTo>
                    <a:pt x="1736" y="519"/>
                  </a:lnTo>
                  <a:lnTo>
                    <a:pt x="1747" y="515"/>
                  </a:lnTo>
                  <a:lnTo>
                    <a:pt x="1759" y="514"/>
                  </a:lnTo>
                  <a:lnTo>
                    <a:pt x="1769" y="514"/>
                  </a:lnTo>
                  <a:lnTo>
                    <a:pt x="1782" y="515"/>
                  </a:lnTo>
                  <a:lnTo>
                    <a:pt x="1801" y="519"/>
                  </a:lnTo>
                  <a:lnTo>
                    <a:pt x="1823" y="522"/>
                  </a:lnTo>
                  <a:lnTo>
                    <a:pt x="1848" y="527"/>
                  </a:lnTo>
                  <a:lnTo>
                    <a:pt x="1869" y="534"/>
                  </a:lnTo>
                  <a:lnTo>
                    <a:pt x="1889" y="537"/>
                  </a:lnTo>
                  <a:lnTo>
                    <a:pt x="1903" y="540"/>
                  </a:lnTo>
                  <a:lnTo>
                    <a:pt x="1908" y="542"/>
                  </a:lnTo>
                  <a:lnTo>
                    <a:pt x="1926" y="604"/>
                  </a:lnTo>
                  <a:lnTo>
                    <a:pt x="2044" y="604"/>
                  </a:lnTo>
                  <a:lnTo>
                    <a:pt x="2064" y="689"/>
                  </a:lnTo>
                  <a:lnTo>
                    <a:pt x="2071" y="692"/>
                  </a:lnTo>
                  <a:lnTo>
                    <a:pt x="2083" y="704"/>
                  </a:lnTo>
                  <a:lnTo>
                    <a:pt x="2093" y="722"/>
                  </a:lnTo>
                  <a:lnTo>
                    <a:pt x="2093" y="746"/>
                  </a:lnTo>
                  <a:lnTo>
                    <a:pt x="2116" y="784"/>
                  </a:lnTo>
                  <a:lnTo>
                    <a:pt x="2154" y="769"/>
                  </a:lnTo>
                  <a:lnTo>
                    <a:pt x="2158" y="774"/>
                  </a:lnTo>
                  <a:lnTo>
                    <a:pt x="2164" y="786"/>
                  </a:lnTo>
                  <a:lnTo>
                    <a:pt x="2169" y="801"/>
                  </a:lnTo>
                  <a:lnTo>
                    <a:pt x="2173" y="812"/>
                  </a:lnTo>
                  <a:lnTo>
                    <a:pt x="2176" y="824"/>
                  </a:lnTo>
                  <a:lnTo>
                    <a:pt x="2183" y="834"/>
                  </a:lnTo>
                  <a:lnTo>
                    <a:pt x="2189" y="842"/>
                  </a:lnTo>
                  <a:lnTo>
                    <a:pt x="2193" y="846"/>
                  </a:lnTo>
                  <a:lnTo>
                    <a:pt x="2201" y="822"/>
                  </a:lnTo>
                  <a:lnTo>
                    <a:pt x="2226" y="869"/>
                  </a:lnTo>
                  <a:lnTo>
                    <a:pt x="2228" y="869"/>
                  </a:lnTo>
                  <a:lnTo>
                    <a:pt x="2234" y="871"/>
                  </a:lnTo>
                  <a:lnTo>
                    <a:pt x="2244" y="874"/>
                  </a:lnTo>
                  <a:lnTo>
                    <a:pt x="2254" y="877"/>
                  </a:lnTo>
                  <a:lnTo>
                    <a:pt x="2266" y="882"/>
                  </a:lnTo>
                  <a:lnTo>
                    <a:pt x="2276" y="887"/>
                  </a:lnTo>
                  <a:lnTo>
                    <a:pt x="2284" y="894"/>
                  </a:lnTo>
                  <a:lnTo>
                    <a:pt x="2288" y="902"/>
                  </a:lnTo>
                  <a:lnTo>
                    <a:pt x="2289" y="921"/>
                  </a:lnTo>
                  <a:lnTo>
                    <a:pt x="2293" y="937"/>
                  </a:lnTo>
                  <a:lnTo>
                    <a:pt x="2296" y="952"/>
                  </a:lnTo>
                  <a:lnTo>
                    <a:pt x="2306" y="964"/>
                  </a:lnTo>
                  <a:lnTo>
                    <a:pt x="2316" y="979"/>
                  </a:lnTo>
                  <a:lnTo>
                    <a:pt x="2321" y="996"/>
                  </a:lnTo>
                  <a:lnTo>
                    <a:pt x="2318" y="1011"/>
                  </a:lnTo>
                  <a:lnTo>
                    <a:pt x="2311" y="1017"/>
                  </a:lnTo>
                  <a:lnTo>
                    <a:pt x="2303" y="1019"/>
                  </a:lnTo>
                  <a:lnTo>
                    <a:pt x="2299" y="1024"/>
                  </a:lnTo>
                  <a:lnTo>
                    <a:pt x="2301" y="1032"/>
                  </a:lnTo>
                  <a:lnTo>
                    <a:pt x="2306" y="1046"/>
                  </a:lnTo>
                  <a:lnTo>
                    <a:pt x="2313" y="1061"/>
                  </a:lnTo>
                  <a:lnTo>
                    <a:pt x="2319" y="1076"/>
                  </a:lnTo>
                  <a:lnTo>
                    <a:pt x="2324" y="1092"/>
                  </a:lnTo>
                  <a:lnTo>
                    <a:pt x="2329" y="1107"/>
                  </a:lnTo>
                  <a:lnTo>
                    <a:pt x="2336" y="1117"/>
                  </a:lnTo>
                  <a:lnTo>
                    <a:pt x="2344" y="1121"/>
                  </a:lnTo>
                  <a:lnTo>
                    <a:pt x="2351" y="1121"/>
                  </a:lnTo>
                  <a:lnTo>
                    <a:pt x="2354" y="1121"/>
                  </a:lnTo>
                  <a:lnTo>
                    <a:pt x="2356" y="1129"/>
                  </a:lnTo>
                  <a:lnTo>
                    <a:pt x="2365" y="1149"/>
                  </a:lnTo>
                  <a:lnTo>
                    <a:pt x="2375" y="1174"/>
                  </a:lnTo>
                  <a:lnTo>
                    <a:pt x="2388" y="1192"/>
                  </a:lnTo>
                  <a:lnTo>
                    <a:pt x="2395" y="1201"/>
                  </a:lnTo>
                  <a:lnTo>
                    <a:pt x="2400" y="1209"/>
                  </a:lnTo>
                  <a:lnTo>
                    <a:pt x="2405" y="1217"/>
                  </a:lnTo>
                  <a:lnTo>
                    <a:pt x="2411" y="1227"/>
                  </a:lnTo>
                  <a:lnTo>
                    <a:pt x="2416" y="1236"/>
                  </a:lnTo>
                  <a:lnTo>
                    <a:pt x="2425" y="1244"/>
                  </a:lnTo>
                  <a:lnTo>
                    <a:pt x="2433" y="1253"/>
                  </a:lnTo>
                  <a:lnTo>
                    <a:pt x="2445" y="1259"/>
                  </a:lnTo>
                  <a:lnTo>
                    <a:pt x="2456" y="1263"/>
                  </a:lnTo>
                  <a:lnTo>
                    <a:pt x="2468" y="1263"/>
                  </a:lnTo>
                  <a:lnTo>
                    <a:pt x="2478" y="1263"/>
                  </a:lnTo>
                  <a:lnTo>
                    <a:pt x="2486" y="1259"/>
                  </a:lnTo>
                  <a:lnTo>
                    <a:pt x="2493" y="1256"/>
                  </a:lnTo>
                  <a:lnTo>
                    <a:pt x="2498" y="1253"/>
                  </a:lnTo>
                  <a:lnTo>
                    <a:pt x="2500" y="1251"/>
                  </a:lnTo>
                  <a:lnTo>
                    <a:pt x="2501" y="1249"/>
                  </a:lnTo>
                  <a:lnTo>
                    <a:pt x="2520" y="1259"/>
                  </a:lnTo>
                  <a:lnTo>
                    <a:pt x="2501" y="1293"/>
                  </a:lnTo>
                  <a:lnTo>
                    <a:pt x="2501" y="1294"/>
                  </a:lnTo>
                  <a:lnTo>
                    <a:pt x="2501" y="1299"/>
                  </a:lnTo>
                  <a:lnTo>
                    <a:pt x="2503" y="1304"/>
                  </a:lnTo>
                  <a:lnTo>
                    <a:pt x="2511" y="1306"/>
                  </a:lnTo>
                  <a:lnTo>
                    <a:pt x="2521" y="1314"/>
                  </a:lnTo>
                  <a:lnTo>
                    <a:pt x="2531" y="1329"/>
                  </a:lnTo>
                  <a:lnTo>
                    <a:pt x="2536" y="1346"/>
                  </a:lnTo>
                  <a:lnTo>
                    <a:pt x="2540" y="1354"/>
                  </a:lnTo>
                  <a:lnTo>
                    <a:pt x="2541" y="1356"/>
                  </a:lnTo>
                  <a:lnTo>
                    <a:pt x="2546" y="1361"/>
                  </a:lnTo>
                  <a:lnTo>
                    <a:pt x="2553" y="1368"/>
                  </a:lnTo>
                  <a:lnTo>
                    <a:pt x="2561" y="1378"/>
                  </a:lnTo>
                  <a:lnTo>
                    <a:pt x="2571" y="1388"/>
                  </a:lnTo>
                  <a:lnTo>
                    <a:pt x="2583" y="1401"/>
                  </a:lnTo>
                  <a:lnTo>
                    <a:pt x="2595" y="1414"/>
                  </a:lnTo>
                  <a:lnTo>
                    <a:pt x="2606" y="1428"/>
                  </a:lnTo>
                  <a:lnTo>
                    <a:pt x="2618" y="1443"/>
                  </a:lnTo>
                  <a:lnTo>
                    <a:pt x="2631" y="1458"/>
                  </a:lnTo>
                  <a:lnTo>
                    <a:pt x="2645" y="1473"/>
                  </a:lnTo>
                  <a:lnTo>
                    <a:pt x="2658" y="1488"/>
                  </a:lnTo>
                  <a:lnTo>
                    <a:pt x="2670" y="1501"/>
                  </a:lnTo>
                  <a:lnTo>
                    <a:pt x="2680" y="1511"/>
                  </a:lnTo>
                  <a:lnTo>
                    <a:pt x="2688" y="1521"/>
                  </a:lnTo>
                  <a:lnTo>
                    <a:pt x="2691" y="1528"/>
                  </a:lnTo>
                  <a:lnTo>
                    <a:pt x="2701" y="1533"/>
                  </a:lnTo>
                  <a:lnTo>
                    <a:pt x="2723" y="1538"/>
                  </a:lnTo>
                  <a:lnTo>
                    <a:pt x="2753" y="1543"/>
                  </a:lnTo>
                  <a:lnTo>
                    <a:pt x="2790" y="1546"/>
                  </a:lnTo>
                  <a:lnTo>
                    <a:pt x="2828" y="1549"/>
                  </a:lnTo>
                  <a:lnTo>
                    <a:pt x="2863" y="1551"/>
                  </a:lnTo>
                  <a:lnTo>
                    <a:pt x="2891" y="1554"/>
                  </a:lnTo>
                  <a:lnTo>
                    <a:pt x="2910" y="1556"/>
                  </a:lnTo>
                  <a:lnTo>
                    <a:pt x="2925" y="1558"/>
                  </a:lnTo>
                  <a:lnTo>
                    <a:pt x="2945" y="1559"/>
                  </a:lnTo>
                  <a:lnTo>
                    <a:pt x="2968" y="1561"/>
                  </a:lnTo>
                  <a:lnTo>
                    <a:pt x="2992" y="1563"/>
                  </a:lnTo>
                  <a:lnTo>
                    <a:pt x="3013" y="1566"/>
                  </a:lnTo>
                  <a:lnTo>
                    <a:pt x="3033" y="1568"/>
                  </a:lnTo>
                  <a:lnTo>
                    <a:pt x="3048" y="1569"/>
                  </a:lnTo>
                  <a:lnTo>
                    <a:pt x="3057" y="1571"/>
                  </a:lnTo>
                  <a:lnTo>
                    <a:pt x="3070" y="1569"/>
                  </a:lnTo>
                  <a:lnTo>
                    <a:pt x="3083" y="1563"/>
                  </a:lnTo>
                  <a:lnTo>
                    <a:pt x="3095" y="1554"/>
                  </a:lnTo>
                  <a:lnTo>
                    <a:pt x="3100" y="1551"/>
                  </a:lnTo>
                  <a:lnTo>
                    <a:pt x="3102" y="1553"/>
                  </a:lnTo>
                  <a:lnTo>
                    <a:pt x="3105" y="1556"/>
                  </a:lnTo>
                  <a:lnTo>
                    <a:pt x="3112" y="1561"/>
                  </a:lnTo>
                  <a:lnTo>
                    <a:pt x="3120" y="1568"/>
                  </a:lnTo>
                  <a:lnTo>
                    <a:pt x="3130" y="1576"/>
                  </a:lnTo>
                  <a:lnTo>
                    <a:pt x="3140" y="1586"/>
                  </a:lnTo>
                  <a:lnTo>
                    <a:pt x="3152" y="1598"/>
                  </a:lnTo>
                  <a:lnTo>
                    <a:pt x="3162" y="1609"/>
                  </a:lnTo>
                  <a:lnTo>
                    <a:pt x="3172" y="1624"/>
                  </a:lnTo>
                  <a:lnTo>
                    <a:pt x="3180" y="1638"/>
                  </a:lnTo>
                  <a:lnTo>
                    <a:pt x="3183" y="1653"/>
                  </a:lnTo>
                  <a:lnTo>
                    <a:pt x="3185" y="1668"/>
                  </a:lnTo>
                  <a:lnTo>
                    <a:pt x="3185" y="1678"/>
                  </a:lnTo>
                  <a:lnTo>
                    <a:pt x="3183" y="1688"/>
                  </a:lnTo>
                  <a:lnTo>
                    <a:pt x="3180" y="1696"/>
                  </a:lnTo>
                  <a:lnTo>
                    <a:pt x="3175" y="1704"/>
                  </a:lnTo>
                  <a:lnTo>
                    <a:pt x="3168" y="1724"/>
                  </a:lnTo>
                  <a:lnTo>
                    <a:pt x="3168" y="1748"/>
                  </a:lnTo>
                  <a:lnTo>
                    <a:pt x="3168" y="1771"/>
                  </a:lnTo>
                  <a:lnTo>
                    <a:pt x="3167" y="1795"/>
                  </a:lnTo>
                  <a:lnTo>
                    <a:pt x="3162" y="1815"/>
                  </a:lnTo>
                  <a:lnTo>
                    <a:pt x="3153" y="1835"/>
                  </a:lnTo>
                  <a:lnTo>
                    <a:pt x="3145" y="1851"/>
                  </a:lnTo>
                  <a:lnTo>
                    <a:pt x="3138" y="1870"/>
                  </a:lnTo>
                  <a:lnTo>
                    <a:pt x="3132" y="1890"/>
                  </a:lnTo>
                  <a:lnTo>
                    <a:pt x="3125" y="1913"/>
                  </a:lnTo>
                  <a:lnTo>
                    <a:pt x="3120" y="1933"/>
                  </a:lnTo>
                  <a:lnTo>
                    <a:pt x="3118" y="1951"/>
                  </a:lnTo>
                  <a:lnTo>
                    <a:pt x="3117" y="1965"/>
                  </a:lnTo>
                  <a:lnTo>
                    <a:pt x="3115" y="1976"/>
                  </a:lnTo>
                  <a:lnTo>
                    <a:pt x="3108" y="1986"/>
                  </a:lnTo>
                  <a:lnTo>
                    <a:pt x="3100" y="1993"/>
                  </a:lnTo>
                  <a:lnTo>
                    <a:pt x="3093" y="1996"/>
                  </a:lnTo>
                  <a:lnTo>
                    <a:pt x="3078" y="2003"/>
                  </a:lnTo>
                  <a:lnTo>
                    <a:pt x="3057" y="2013"/>
                  </a:lnTo>
                  <a:lnTo>
                    <a:pt x="3028" y="2026"/>
                  </a:lnTo>
                  <a:lnTo>
                    <a:pt x="2997" y="2040"/>
                  </a:lnTo>
                  <a:lnTo>
                    <a:pt x="2962" y="2056"/>
                  </a:lnTo>
                  <a:lnTo>
                    <a:pt x="2923" y="2073"/>
                  </a:lnTo>
                  <a:lnTo>
                    <a:pt x="2885" y="2090"/>
                  </a:lnTo>
                  <a:lnTo>
                    <a:pt x="2845" y="2108"/>
                  </a:lnTo>
                  <a:lnTo>
                    <a:pt x="2806" y="2125"/>
                  </a:lnTo>
                  <a:lnTo>
                    <a:pt x="2770" y="2141"/>
                  </a:lnTo>
                  <a:lnTo>
                    <a:pt x="2736" y="2155"/>
                  </a:lnTo>
                  <a:lnTo>
                    <a:pt x="2708" y="2168"/>
                  </a:lnTo>
                  <a:lnTo>
                    <a:pt x="2685" y="2180"/>
                  </a:lnTo>
                  <a:lnTo>
                    <a:pt x="2668" y="2188"/>
                  </a:lnTo>
                  <a:lnTo>
                    <a:pt x="2658" y="2193"/>
                  </a:lnTo>
                  <a:lnTo>
                    <a:pt x="2645" y="2200"/>
                  </a:lnTo>
                  <a:lnTo>
                    <a:pt x="2628" y="2205"/>
                  </a:lnTo>
                  <a:lnTo>
                    <a:pt x="2608" y="2208"/>
                  </a:lnTo>
                  <a:lnTo>
                    <a:pt x="2586" y="2211"/>
                  </a:lnTo>
                  <a:lnTo>
                    <a:pt x="2561" y="2215"/>
                  </a:lnTo>
                  <a:lnTo>
                    <a:pt x="2535" y="2220"/>
                  </a:lnTo>
                  <a:lnTo>
                    <a:pt x="2508" y="2225"/>
                  </a:lnTo>
                  <a:lnTo>
                    <a:pt x="2481" y="2231"/>
                  </a:lnTo>
                  <a:lnTo>
                    <a:pt x="2466" y="2235"/>
                  </a:lnTo>
                  <a:lnTo>
                    <a:pt x="2446" y="2240"/>
                  </a:lnTo>
                  <a:lnTo>
                    <a:pt x="2425" y="2245"/>
                  </a:lnTo>
                  <a:lnTo>
                    <a:pt x="2398" y="2252"/>
                  </a:lnTo>
                  <a:lnTo>
                    <a:pt x="2371" y="2258"/>
                  </a:lnTo>
                  <a:lnTo>
                    <a:pt x="2343" y="2265"/>
                  </a:lnTo>
                  <a:lnTo>
                    <a:pt x="2313" y="2272"/>
                  </a:lnTo>
                  <a:lnTo>
                    <a:pt x="2283" y="2278"/>
                  </a:lnTo>
                  <a:lnTo>
                    <a:pt x="2253" y="2285"/>
                  </a:lnTo>
                  <a:lnTo>
                    <a:pt x="2224" y="2293"/>
                  </a:lnTo>
                  <a:lnTo>
                    <a:pt x="2198" y="2300"/>
                  </a:lnTo>
                  <a:lnTo>
                    <a:pt x="2173" y="2307"/>
                  </a:lnTo>
                  <a:lnTo>
                    <a:pt x="2151" y="2312"/>
                  </a:lnTo>
                  <a:lnTo>
                    <a:pt x="2134" y="2318"/>
                  </a:lnTo>
                  <a:lnTo>
                    <a:pt x="2119" y="2323"/>
                  </a:lnTo>
                  <a:lnTo>
                    <a:pt x="2111" y="2327"/>
                  </a:lnTo>
                  <a:lnTo>
                    <a:pt x="2098" y="2333"/>
                  </a:lnTo>
                  <a:lnTo>
                    <a:pt x="2086" y="2338"/>
                  </a:lnTo>
                  <a:lnTo>
                    <a:pt x="2071" y="2347"/>
                  </a:lnTo>
                  <a:lnTo>
                    <a:pt x="2058" y="2353"/>
                  </a:lnTo>
                  <a:lnTo>
                    <a:pt x="2043" y="2365"/>
                  </a:lnTo>
                  <a:lnTo>
                    <a:pt x="2028" y="2378"/>
                  </a:lnTo>
                  <a:lnTo>
                    <a:pt x="2011" y="2398"/>
                  </a:lnTo>
                  <a:lnTo>
                    <a:pt x="1993" y="2422"/>
                  </a:lnTo>
                  <a:lnTo>
                    <a:pt x="1976" y="2447"/>
                  </a:lnTo>
                  <a:lnTo>
                    <a:pt x="1961" y="2470"/>
                  </a:lnTo>
                  <a:lnTo>
                    <a:pt x="1946" y="2492"/>
                  </a:lnTo>
                  <a:lnTo>
                    <a:pt x="1933" y="2512"/>
                  </a:lnTo>
                  <a:lnTo>
                    <a:pt x="1923" y="2528"/>
                  </a:lnTo>
                  <a:lnTo>
                    <a:pt x="1913" y="2542"/>
                  </a:lnTo>
                  <a:lnTo>
                    <a:pt x="1904" y="2552"/>
                  </a:lnTo>
                  <a:lnTo>
                    <a:pt x="1898" y="2558"/>
                  </a:lnTo>
                  <a:lnTo>
                    <a:pt x="1891" y="2563"/>
                  </a:lnTo>
                  <a:lnTo>
                    <a:pt x="1884" y="2568"/>
                  </a:lnTo>
                  <a:lnTo>
                    <a:pt x="1874" y="2573"/>
                  </a:lnTo>
                  <a:lnTo>
                    <a:pt x="1864" y="2575"/>
                  </a:lnTo>
                  <a:lnTo>
                    <a:pt x="1853" y="2577"/>
                  </a:lnTo>
                  <a:lnTo>
                    <a:pt x="1843" y="2577"/>
                  </a:lnTo>
                  <a:lnTo>
                    <a:pt x="1833" y="2573"/>
                  </a:lnTo>
                  <a:lnTo>
                    <a:pt x="1823" y="2568"/>
                  </a:lnTo>
                  <a:lnTo>
                    <a:pt x="1814" y="2562"/>
                  </a:lnTo>
                  <a:lnTo>
                    <a:pt x="1806" y="2553"/>
                  </a:lnTo>
                  <a:lnTo>
                    <a:pt x="1799" y="2547"/>
                  </a:lnTo>
                  <a:lnTo>
                    <a:pt x="1794" y="2538"/>
                  </a:lnTo>
                  <a:lnTo>
                    <a:pt x="1787" y="2533"/>
                  </a:lnTo>
                  <a:lnTo>
                    <a:pt x="1781" y="2530"/>
                  </a:lnTo>
                  <a:lnTo>
                    <a:pt x="1772" y="2528"/>
                  </a:lnTo>
                  <a:lnTo>
                    <a:pt x="1764" y="2530"/>
                  </a:lnTo>
                  <a:lnTo>
                    <a:pt x="1752" y="2533"/>
                  </a:lnTo>
                  <a:lnTo>
                    <a:pt x="1739" y="2535"/>
                  </a:lnTo>
                  <a:lnTo>
                    <a:pt x="1722" y="2535"/>
                  </a:lnTo>
                  <a:lnTo>
                    <a:pt x="1704" y="2535"/>
                  </a:lnTo>
                  <a:lnTo>
                    <a:pt x="1684" y="2535"/>
                  </a:lnTo>
                  <a:lnTo>
                    <a:pt x="1666" y="2533"/>
                  </a:lnTo>
                  <a:lnTo>
                    <a:pt x="1647" y="2532"/>
                  </a:lnTo>
                  <a:lnTo>
                    <a:pt x="1632" y="2530"/>
                  </a:lnTo>
                  <a:lnTo>
                    <a:pt x="1617" y="2528"/>
                  </a:lnTo>
                  <a:lnTo>
                    <a:pt x="1602" y="2525"/>
                  </a:lnTo>
                  <a:lnTo>
                    <a:pt x="1589" y="2520"/>
                  </a:lnTo>
                  <a:lnTo>
                    <a:pt x="1574" y="2517"/>
                  </a:lnTo>
                  <a:lnTo>
                    <a:pt x="1561" y="2513"/>
                  </a:lnTo>
                  <a:lnTo>
                    <a:pt x="1549" y="2510"/>
                  </a:lnTo>
                  <a:lnTo>
                    <a:pt x="1537" y="2507"/>
                  </a:lnTo>
                  <a:lnTo>
                    <a:pt x="1527" y="2507"/>
                  </a:lnTo>
                  <a:lnTo>
                    <a:pt x="1514" y="2507"/>
                  </a:lnTo>
                  <a:lnTo>
                    <a:pt x="1492" y="2507"/>
                  </a:lnTo>
                  <a:lnTo>
                    <a:pt x="1466" y="2508"/>
                  </a:lnTo>
                  <a:lnTo>
                    <a:pt x="1436" y="2508"/>
                  </a:lnTo>
                  <a:lnTo>
                    <a:pt x="1409" y="2510"/>
                  </a:lnTo>
                  <a:lnTo>
                    <a:pt x="1386" y="2512"/>
                  </a:lnTo>
                  <a:lnTo>
                    <a:pt x="1369" y="2512"/>
                  </a:lnTo>
                  <a:lnTo>
                    <a:pt x="1362" y="2512"/>
                  </a:lnTo>
                  <a:lnTo>
                    <a:pt x="1361" y="2513"/>
                  </a:lnTo>
                  <a:lnTo>
                    <a:pt x="1356" y="2515"/>
                  </a:lnTo>
                  <a:lnTo>
                    <a:pt x="1349" y="2518"/>
                  </a:lnTo>
                  <a:lnTo>
                    <a:pt x="1339" y="2520"/>
                  </a:lnTo>
                  <a:lnTo>
                    <a:pt x="1329" y="2522"/>
                  </a:lnTo>
                  <a:lnTo>
                    <a:pt x="1317" y="2522"/>
                  </a:lnTo>
                  <a:lnTo>
                    <a:pt x="1304" y="2518"/>
                  </a:lnTo>
                  <a:lnTo>
                    <a:pt x="1292" y="2512"/>
                  </a:lnTo>
                  <a:lnTo>
                    <a:pt x="1281" y="2503"/>
                  </a:lnTo>
                  <a:lnTo>
                    <a:pt x="1272" y="2497"/>
                  </a:lnTo>
                  <a:lnTo>
                    <a:pt x="1266" y="2490"/>
                  </a:lnTo>
                  <a:lnTo>
                    <a:pt x="1261" y="2485"/>
                  </a:lnTo>
                  <a:lnTo>
                    <a:pt x="1256" y="2482"/>
                  </a:lnTo>
                  <a:lnTo>
                    <a:pt x="1250" y="2480"/>
                  </a:lnTo>
                  <a:lnTo>
                    <a:pt x="1245" y="2480"/>
                  </a:lnTo>
                  <a:lnTo>
                    <a:pt x="1239" y="2483"/>
                  </a:lnTo>
                  <a:lnTo>
                    <a:pt x="1232" y="2490"/>
                  </a:lnTo>
                  <a:lnTo>
                    <a:pt x="1235" y="2498"/>
                  </a:lnTo>
                  <a:lnTo>
                    <a:pt x="1240" y="2510"/>
                  </a:lnTo>
                  <a:lnTo>
                    <a:pt x="1239" y="2525"/>
                  </a:lnTo>
                  <a:lnTo>
                    <a:pt x="1234" y="2545"/>
                  </a:lnTo>
                  <a:lnTo>
                    <a:pt x="1232" y="2567"/>
                  </a:lnTo>
                  <a:lnTo>
                    <a:pt x="1234" y="2587"/>
                  </a:lnTo>
                  <a:lnTo>
                    <a:pt x="1234" y="2602"/>
                  </a:lnTo>
                  <a:lnTo>
                    <a:pt x="1230" y="2615"/>
                  </a:lnTo>
                  <a:lnTo>
                    <a:pt x="1225" y="2630"/>
                  </a:lnTo>
                  <a:lnTo>
                    <a:pt x="1219" y="2643"/>
                  </a:lnTo>
                  <a:lnTo>
                    <a:pt x="1215" y="2648"/>
                  </a:lnTo>
                  <a:lnTo>
                    <a:pt x="1177" y="2678"/>
                  </a:lnTo>
                  <a:lnTo>
                    <a:pt x="1175" y="2672"/>
                  </a:lnTo>
                  <a:lnTo>
                    <a:pt x="1170" y="2657"/>
                  </a:lnTo>
                  <a:lnTo>
                    <a:pt x="1167" y="2640"/>
                  </a:lnTo>
                  <a:lnTo>
                    <a:pt x="1167" y="2625"/>
                  </a:lnTo>
                  <a:lnTo>
                    <a:pt x="1167" y="2613"/>
                  </a:lnTo>
                  <a:lnTo>
                    <a:pt x="1164" y="2598"/>
                  </a:lnTo>
                  <a:lnTo>
                    <a:pt x="1154" y="2583"/>
                  </a:lnTo>
                  <a:lnTo>
                    <a:pt x="1144" y="2568"/>
                  </a:lnTo>
                  <a:lnTo>
                    <a:pt x="1134" y="2555"/>
                  </a:lnTo>
                  <a:lnTo>
                    <a:pt x="1124" y="2543"/>
                  </a:lnTo>
                  <a:lnTo>
                    <a:pt x="1115" y="2532"/>
                  </a:lnTo>
                  <a:lnTo>
                    <a:pt x="1110" y="2522"/>
                  </a:lnTo>
                  <a:lnTo>
                    <a:pt x="1107" y="2508"/>
                  </a:lnTo>
                  <a:lnTo>
                    <a:pt x="1104" y="2492"/>
                  </a:lnTo>
                  <a:lnTo>
                    <a:pt x="1095" y="2475"/>
                  </a:lnTo>
                  <a:lnTo>
                    <a:pt x="1082" y="2458"/>
                  </a:lnTo>
                  <a:lnTo>
                    <a:pt x="1072" y="2450"/>
                  </a:lnTo>
                  <a:lnTo>
                    <a:pt x="1059" y="2437"/>
                  </a:lnTo>
                  <a:lnTo>
                    <a:pt x="1044" y="2423"/>
                  </a:lnTo>
                  <a:lnTo>
                    <a:pt x="1029" y="2405"/>
                  </a:lnTo>
                  <a:lnTo>
                    <a:pt x="1014" y="2387"/>
                  </a:lnTo>
                  <a:lnTo>
                    <a:pt x="999" y="2368"/>
                  </a:lnTo>
                  <a:lnTo>
                    <a:pt x="987" y="2350"/>
                  </a:lnTo>
                  <a:lnTo>
                    <a:pt x="979" y="2332"/>
                  </a:lnTo>
                  <a:lnTo>
                    <a:pt x="964" y="2302"/>
                  </a:lnTo>
                  <a:lnTo>
                    <a:pt x="949" y="2280"/>
                  </a:lnTo>
                  <a:lnTo>
                    <a:pt x="937" y="2263"/>
                  </a:lnTo>
                  <a:lnTo>
                    <a:pt x="930" y="2245"/>
                  </a:lnTo>
                  <a:lnTo>
                    <a:pt x="927" y="2231"/>
                  </a:lnTo>
                  <a:lnTo>
                    <a:pt x="920" y="2211"/>
                  </a:lnTo>
                  <a:lnTo>
                    <a:pt x="910" y="2190"/>
                  </a:lnTo>
                  <a:lnTo>
                    <a:pt x="900" y="2166"/>
                  </a:lnTo>
                  <a:lnTo>
                    <a:pt x="890" y="2143"/>
                  </a:lnTo>
                  <a:lnTo>
                    <a:pt x="880" y="2123"/>
                  </a:lnTo>
                  <a:lnTo>
                    <a:pt x="870" y="2108"/>
                  </a:lnTo>
                  <a:lnTo>
                    <a:pt x="864" y="2098"/>
                  </a:lnTo>
                  <a:lnTo>
                    <a:pt x="854" y="2085"/>
                  </a:lnTo>
                  <a:lnTo>
                    <a:pt x="845" y="2071"/>
                  </a:lnTo>
                  <a:lnTo>
                    <a:pt x="834" y="2056"/>
                  </a:lnTo>
                  <a:lnTo>
                    <a:pt x="822" y="2041"/>
                  </a:lnTo>
                  <a:lnTo>
                    <a:pt x="814" y="2033"/>
                  </a:lnTo>
                  <a:lnTo>
                    <a:pt x="802" y="2025"/>
                  </a:lnTo>
                  <a:lnTo>
                    <a:pt x="790" y="2018"/>
                  </a:lnTo>
                  <a:lnTo>
                    <a:pt x="779" y="2010"/>
                  </a:lnTo>
                  <a:lnTo>
                    <a:pt x="765" y="2003"/>
                  </a:lnTo>
                  <a:lnTo>
                    <a:pt x="752" y="1998"/>
                  </a:lnTo>
                  <a:lnTo>
                    <a:pt x="740" y="1995"/>
                  </a:lnTo>
                  <a:lnTo>
                    <a:pt x="730" y="1993"/>
                  </a:lnTo>
                  <a:lnTo>
                    <a:pt x="722" y="1991"/>
                  </a:lnTo>
                  <a:lnTo>
                    <a:pt x="717" y="1988"/>
                  </a:lnTo>
                  <a:lnTo>
                    <a:pt x="710" y="1983"/>
                  </a:lnTo>
                  <a:lnTo>
                    <a:pt x="705" y="1975"/>
                  </a:lnTo>
                  <a:lnTo>
                    <a:pt x="700" y="1966"/>
                  </a:lnTo>
                  <a:lnTo>
                    <a:pt x="693" y="1953"/>
                  </a:lnTo>
                  <a:lnTo>
                    <a:pt x="685" y="1940"/>
                  </a:lnTo>
                  <a:lnTo>
                    <a:pt x="673" y="1923"/>
                  </a:lnTo>
                  <a:lnTo>
                    <a:pt x="662" y="1905"/>
                  </a:lnTo>
                  <a:lnTo>
                    <a:pt x="652" y="1886"/>
                  </a:lnTo>
                  <a:lnTo>
                    <a:pt x="642" y="1868"/>
                  </a:lnTo>
                  <a:lnTo>
                    <a:pt x="635" y="1851"/>
                  </a:lnTo>
                  <a:lnTo>
                    <a:pt x="628" y="1833"/>
                  </a:lnTo>
                  <a:lnTo>
                    <a:pt x="623" y="1818"/>
                  </a:lnTo>
                  <a:lnTo>
                    <a:pt x="620" y="1803"/>
                  </a:lnTo>
                  <a:lnTo>
                    <a:pt x="617" y="1790"/>
                  </a:lnTo>
                  <a:lnTo>
                    <a:pt x="612" y="1765"/>
                  </a:lnTo>
                  <a:lnTo>
                    <a:pt x="603" y="1741"/>
                  </a:lnTo>
                  <a:lnTo>
                    <a:pt x="597" y="1724"/>
                  </a:lnTo>
                  <a:lnTo>
                    <a:pt x="593" y="1718"/>
                  </a:lnTo>
                  <a:lnTo>
                    <a:pt x="600" y="1706"/>
                  </a:lnTo>
                  <a:lnTo>
                    <a:pt x="610" y="1676"/>
                  </a:lnTo>
                  <a:lnTo>
                    <a:pt x="617" y="1636"/>
                  </a:lnTo>
                  <a:lnTo>
                    <a:pt x="607" y="1594"/>
                  </a:lnTo>
                  <a:lnTo>
                    <a:pt x="590" y="1559"/>
                  </a:lnTo>
                  <a:lnTo>
                    <a:pt x="582" y="1531"/>
                  </a:lnTo>
                  <a:lnTo>
                    <a:pt x="573" y="1503"/>
                  </a:lnTo>
                  <a:lnTo>
                    <a:pt x="560" y="1471"/>
                  </a:lnTo>
                  <a:lnTo>
                    <a:pt x="552" y="1454"/>
                  </a:lnTo>
                  <a:lnTo>
                    <a:pt x="547" y="1439"/>
                  </a:lnTo>
                  <a:lnTo>
                    <a:pt x="542" y="1426"/>
                  </a:lnTo>
                  <a:lnTo>
                    <a:pt x="537" y="1413"/>
                  </a:lnTo>
                  <a:lnTo>
                    <a:pt x="532" y="1401"/>
                  </a:lnTo>
                  <a:lnTo>
                    <a:pt x="525" y="1393"/>
                  </a:lnTo>
                  <a:lnTo>
                    <a:pt x="518" y="1383"/>
                  </a:lnTo>
                  <a:lnTo>
                    <a:pt x="508" y="1376"/>
                  </a:lnTo>
                  <a:lnTo>
                    <a:pt x="497" y="1369"/>
                  </a:lnTo>
                  <a:lnTo>
                    <a:pt x="487" y="1361"/>
                  </a:lnTo>
                  <a:lnTo>
                    <a:pt x="475" y="1354"/>
                  </a:lnTo>
                  <a:lnTo>
                    <a:pt x="463" y="1346"/>
                  </a:lnTo>
                  <a:lnTo>
                    <a:pt x="452" y="1338"/>
                  </a:lnTo>
                  <a:lnTo>
                    <a:pt x="440" y="1329"/>
                  </a:lnTo>
                  <a:lnTo>
                    <a:pt x="427" y="1323"/>
                  </a:lnTo>
                  <a:lnTo>
                    <a:pt x="413" y="1316"/>
                  </a:lnTo>
                  <a:lnTo>
                    <a:pt x="392" y="1303"/>
                  </a:lnTo>
                  <a:lnTo>
                    <a:pt x="382" y="1286"/>
                  </a:lnTo>
                  <a:lnTo>
                    <a:pt x="375" y="1268"/>
                  </a:lnTo>
                  <a:lnTo>
                    <a:pt x="365" y="1249"/>
                  </a:lnTo>
                  <a:lnTo>
                    <a:pt x="355" y="1232"/>
                  </a:lnTo>
                  <a:lnTo>
                    <a:pt x="348" y="1219"/>
                  </a:lnTo>
                  <a:lnTo>
                    <a:pt x="347" y="1209"/>
                  </a:lnTo>
                  <a:lnTo>
                    <a:pt x="347" y="1206"/>
                  </a:lnTo>
                  <a:lnTo>
                    <a:pt x="348" y="1206"/>
                  </a:lnTo>
                  <a:lnTo>
                    <a:pt x="353" y="1204"/>
                  </a:lnTo>
                  <a:lnTo>
                    <a:pt x="360" y="1201"/>
                  </a:lnTo>
                  <a:lnTo>
                    <a:pt x="367" y="1194"/>
                  </a:lnTo>
                  <a:lnTo>
                    <a:pt x="370" y="1187"/>
                  </a:lnTo>
                  <a:lnTo>
                    <a:pt x="370" y="1176"/>
                  </a:lnTo>
                  <a:lnTo>
                    <a:pt x="365" y="1162"/>
                  </a:lnTo>
                  <a:lnTo>
                    <a:pt x="352" y="1144"/>
                  </a:lnTo>
                  <a:lnTo>
                    <a:pt x="330" y="1122"/>
                  </a:lnTo>
                  <a:lnTo>
                    <a:pt x="327" y="1122"/>
                  </a:lnTo>
                  <a:lnTo>
                    <a:pt x="330" y="1126"/>
                  </a:lnTo>
                  <a:lnTo>
                    <a:pt x="327" y="1112"/>
                  </a:lnTo>
                  <a:lnTo>
                    <a:pt x="320" y="1091"/>
                  </a:lnTo>
                  <a:lnTo>
                    <a:pt x="315" y="1076"/>
                  </a:lnTo>
                  <a:lnTo>
                    <a:pt x="308" y="1066"/>
                  </a:lnTo>
                  <a:lnTo>
                    <a:pt x="293" y="1054"/>
                  </a:lnTo>
                  <a:lnTo>
                    <a:pt x="283" y="1039"/>
                  </a:lnTo>
                  <a:lnTo>
                    <a:pt x="285" y="1024"/>
                  </a:lnTo>
                  <a:lnTo>
                    <a:pt x="287" y="1011"/>
                  </a:lnTo>
                  <a:lnTo>
                    <a:pt x="275" y="997"/>
                  </a:lnTo>
                  <a:lnTo>
                    <a:pt x="257" y="986"/>
                  </a:lnTo>
                  <a:lnTo>
                    <a:pt x="243" y="971"/>
                  </a:lnTo>
                  <a:lnTo>
                    <a:pt x="235" y="954"/>
                  </a:lnTo>
                  <a:lnTo>
                    <a:pt x="232" y="936"/>
                  </a:lnTo>
                  <a:lnTo>
                    <a:pt x="228" y="916"/>
                  </a:lnTo>
                  <a:lnTo>
                    <a:pt x="218" y="889"/>
                  </a:lnTo>
                  <a:lnTo>
                    <a:pt x="205" y="862"/>
                  </a:lnTo>
                  <a:lnTo>
                    <a:pt x="185" y="836"/>
                  </a:lnTo>
                  <a:lnTo>
                    <a:pt x="172" y="814"/>
                  </a:lnTo>
                  <a:lnTo>
                    <a:pt x="168" y="796"/>
                  </a:lnTo>
                  <a:lnTo>
                    <a:pt x="167" y="782"/>
                  </a:lnTo>
                  <a:lnTo>
                    <a:pt x="157" y="774"/>
                  </a:lnTo>
                  <a:lnTo>
                    <a:pt x="145" y="766"/>
                  </a:lnTo>
                  <a:lnTo>
                    <a:pt x="140" y="754"/>
                  </a:lnTo>
                  <a:lnTo>
                    <a:pt x="133" y="739"/>
                  </a:lnTo>
                  <a:lnTo>
                    <a:pt x="118" y="722"/>
                  </a:lnTo>
                  <a:lnTo>
                    <a:pt x="100" y="700"/>
                  </a:lnTo>
                  <a:lnTo>
                    <a:pt x="86" y="674"/>
                  </a:lnTo>
                  <a:lnTo>
                    <a:pt x="78" y="652"/>
                  </a:lnTo>
                  <a:lnTo>
                    <a:pt x="75" y="642"/>
                  </a:lnTo>
                  <a:lnTo>
                    <a:pt x="70" y="642"/>
                  </a:lnTo>
                  <a:lnTo>
                    <a:pt x="60" y="642"/>
                  </a:lnTo>
                  <a:lnTo>
                    <a:pt x="45" y="642"/>
                  </a:lnTo>
                  <a:lnTo>
                    <a:pt x="33" y="642"/>
                  </a:lnTo>
                  <a:lnTo>
                    <a:pt x="21" y="642"/>
                  </a:lnTo>
                  <a:lnTo>
                    <a:pt x="11" y="644"/>
                  </a:lnTo>
                  <a:lnTo>
                    <a:pt x="3" y="645"/>
                  </a:lnTo>
                  <a:lnTo>
                    <a:pt x="0" y="645"/>
                  </a:lnTo>
                  <a:lnTo>
                    <a:pt x="1" y="642"/>
                  </a:lnTo>
                  <a:lnTo>
                    <a:pt x="5" y="632"/>
                  </a:lnTo>
                  <a:lnTo>
                    <a:pt x="8" y="620"/>
                  </a:lnTo>
                  <a:lnTo>
                    <a:pt x="13" y="609"/>
                  </a:lnTo>
                  <a:lnTo>
                    <a:pt x="20" y="592"/>
                  </a:lnTo>
                  <a:lnTo>
                    <a:pt x="28" y="569"/>
                  </a:lnTo>
                  <a:lnTo>
                    <a:pt x="35" y="542"/>
                  </a:lnTo>
                  <a:lnTo>
                    <a:pt x="38" y="517"/>
                  </a:lnTo>
                  <a:lnTo>
                    <a:pt x="40" y="500"/>
                  </a:lnTo>
                  <a:lnTo>
                    <a:pt x="43" y="489"/>
                  </a:lnTo>
                  <a:lnTo>
                    <a:pt x="50" y="480"/>
                  </a:lnTo>
                  <a:lnTo>
                    <a:pt x="56" y="470"/>
                  </a:lnTo>
                  <a:lnTo>
                    <a:pt x="61" y="457"/>
                  </a:lnTo>
                  <a:lnTo>
                    <a:pt x="65" y="442"/>
                  </a:lnTo>
                  <a:lnTo>
                    <a:pt x="66" y="429"/>
                  </a:lnTo>
                  <a:lnTo>
                    <a:pt x="66" y="424"/>
                  </a:lnTo>
                  <a:lnTo>
                    <a:pt x="232" y="465"/>
                  </a:lnTo>
                  <a:lnTo>
                    <a:pt x="235" y="464"/>
                  </a:lnTo>
                  <a:lnTo>
                    <a:pt x="243" y="457"/>
                  </a:lnTo>
                  <a:lnTo>
                    <a:pt x="257" y="450"/>
                  </a:lnTo>
                  <a:lnTo>
                    <a:pt x="270" y="439"/>
                  </a:lnTo>
                  <a:lnTo>
                    <a:pt x="285" y="429"/>
                  </a:lnTo>
                  <a:lnTo>
                    <a:pt x="298" y="417"/>
                  </a:lnTo>
                  <a:lnTo>
                    <a:pt x="308" y="407"/>
                  </a:lnTo>
                  <a:lnTo>
                    <a:pt x="313" y="399"/>
                  </a:lnTo>
                  <a:lnTo>
                    <a:pt x="318" y="384"/>
                  </a:lnTo>
                  <a:lnTo>
                    <a:pt x="325" y="369"/>
                  </a:lnTo>
                  <a:lnTo>
                    <a:pt x="330" y="357"/>
                  </a:lnTo>
                  <a:lnTo>
                    <a:pt x="332" y="352"/>
                  </a:lnTo>
                  <a:lnTo>
                    <a:pt x="335" y="352"/>
                  </a:lnTo>
                  <a:lnTo>
                    <a:pt x="342" y="352"/>
                  </a:lnTo>
                  <a:lnTo>
                    <a:pt x="353" y="352"/>
                  </a:lnTo>
                  <a:lnTo>
                    <a:pt x="367" y="350"/>
                  </a:lnTo>
                  <a:lnTo>
                    <a:pt x="382" y="350"/>
                  </a:lnTo>
                  <a:lnTo>
                    <a:pt x="398" y="347"/>
                  </a:lnTo>
                  <a:lnTo>
                    <a:pt x="413" y="345"/>
                  </a:lnTo>
                  <a:lnTo>
                    <a:pt x="427" y="342"/>
                  </a:lnTo>
                  <a:lnTo>
                    <a:pt x="438" y="337"/>
                  </a:lnTo>
                  <a:lnTo>
                    <a:pt x="447" y="329"/>
                  </a:lnTo>
                  <a:lnTo>
                    <a:pt x="455" y="319"/>
                  </a:lnTo>
                  <a:lnTo>
                    <a:pt x="462" y="309"/>
                  </a:lnTo>
                  <a:lnTo>
                    <a:pt x="468" y="299"/>
                  </a:lnTo>
                  <a:lnTo>
                    <a:pt x="475" y="290"/>
                  </a:lnTo>
                  <a:lnTo>
                    <a:pt x="483" y="284"/>
                  </a:lnTo>
                  <a:lnTo>
                    <a:pt x="493" y="280"/>
                  </a:lnTo>
                  <a:lnTo>
                    <a:pt x="508" y="275"/>
                  </a:lnTo>
                  <a:lnTo>
                    <a:pt x="513" y="269"/>
                  </a:lnTo>
                  <a:lnTo>
                    <a:pt x="513" y="264"/>
                  </a:lnTo>
                  <a:lnTo>
                    <a:pt x="512" y="262"/>
                  </a:lnTo>
                  <a:lnTo>
                    <a:pt x="380" y="90"/>
                  </a:lnTo>
                  <a:close/>
                </a:path>
              </a:pathLst>
            </a:custGeom>
            <a:solidFill>
              <a:srgbClr val="b2b2b2">
                <a:alpha val="30000"/>
              </a:srgbClr>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58" name=""/>
          <p:cNvSpPr/>
          <p:nvPr/>
        </p:nvSpPr>
        <p:spPr>
          <a:xfrm>
            <a:off x="685800" y="380880"/>
            <a:ext cx="7620120" cy="533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ar-SA" sz="3600" spc="-1" strike="noStrike">
                <a:solidFill>
                  <a:srgbClr val="000099"/>
                </a:solidFill>
                <a:latin typeface="Arial"/>
              </a:rPr>
              <a:t> </a:t>
            </a:r>
            <a:r>
              <a:rPr b="1" lang="ar-SA" sz="3600" spc="-1" strike="noStrike">
                <a:solidFill>
                  <a:srgbClr val="333399"/>
                </a:solidFill>
                <a:latin typeface="Albertus Medium"/>
              </a:rPr>
              <a:t>تقنية النانو واستعمالاتها في الجلدية</a:t>
            </a:r>
            <a:endParaRPr b="0" lang="en-US" sz="3600" spc="-1" strike="noStrike">
              <a:solidFill>
                <a:srgbClr val="000000"/>
              </a:solidFill>
              <a:latin typeface="Arial"/>
            </a:endParaRPr>
          </a:p>
        </p:txBody>
      </p:sp>
      <p:sp>
        <p:nvSpPr>
          <p:cNvPr id="59" name=""/>
          <p:cNvSpPr/>
          <p:nvPr/>
        </p:nvSpPr>
        <p:spPr>
          <a:xfrm>
            <a:off x="609480" y="6629400"/>
            <a:ext cx="8534520" cy="228600"/>
          </a:xfrm>
          <a:prstGeom prst="rect">
            <a:avLst/>
          </a:prstGeom>
          <a:solidFill>
            <a:srgbClr val="bbe0e3"/>
          </a:solidFill>
          <a:ln cap="sq"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99"/>
                </a:solidFill>
                <a:latin typeface="Albertus Medium"/>
              </a:rPr>
              <a:t>www.skinandallergy.org</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0" lang="en-US" sz="1000" spc="-1" strike="noStrike">
                <a:solidFill>
                  <a:srgbClr val="333399"/>
                </a:solidFill>
                <a:latin typeface="Albertus Medium"/>
              </a:rPr>
              <a:t>www.panarabderm.org</a:t>
            </a:r>
            <a:endParaRPr b="0" lang="en-US" sz="1000" spc="-1" strike="noStrike">
              <a:solidFill>
                <a:srgbClr val="000000"/>
              </a:solidFill>
              <a:latin typeface="Arial"/>
            </a:endParaRPr>
          </a:p>
        </p:txBody>
      </p:sp>
      <p:sp>
        <p:nvSpPr>
          <p:cNvPr id="60" name=""/>
          <p:cNvSpPr/>
          <p:nvPr/>
        </p:nvSpPr>
        <p:spPr>
          <a:xfrm>
            <a:off x="1066680" y="1447920"/>
            <a:ext cx="6705720" cy="5580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ar-SA" sz="2400" spc="-1" strike="noStrike">
                <a:solidFill>
                  <a:srgbClr val="000099"/>
                </a:solidFill>
                <a:latin typeface="Albertus Medium"/>
              </a:rPr>
              <a:t>   ماذا تعني كلمة نانو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ar-SA" sz="2400" spc="-1" strike="noStrike">
                <a:solidFill>
                  <a:srgbClr val="000099"/>
                </a:solidFill>
                <a:latin typeface="Albertus Medium"/>
              </a:rPr>
              <a:t> تعني كلمة نانو باللغة اليونانية ”قزم“</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ar-SA" sz="2400" spc="-1" strike="noStrike">
                <a:solidFill>
                  <a:srgbClr val="000099"/>
                </a:solidFill>
                <a:latin typeface="Albertus Medium"/>
              </a:rPr>
              <a:t> (</a:t>
            </a:r>
            <a:r>
              <a:rPr b="0" lang="en-GB" sz="2400" spc="-1" strike="noStrike">
                <a:solidFill>
                  <a:srgbClr val="000099"/>
                </a:solidFill>
                <a:latin typeface="Albertus Medium"/>
              </a:rPr>
              <a:t>Nano stands for one billionth</a:t>
            </a:r>
            <a:r>
              <a:rPr b="0" lang="ar-SA" sz="2400" spc="-1" strike="noStrike">
                <a:solidFill>
                  <a:srgbClr val="000099"/>
                </a:solidFill>
                <a:latin typeface="Albertus Medium"/>
              </a:rPr>
              <a:t>) وهي مشتقه من نانومتر          (</a:t>
            </a:r>
            <a:r>
              <a:rPr b="0" lang="en-US" sz="2400" spc="-1" strike="noStrike">
                <a:solidFill>
                  <a:srgbClr val="000099"/>
                </a:solidFill>
                <a:latin typeface="Albertus Medium"/>
              </a:rPr>
              <a:t>Nanometer</a:t>
            </a:r>
            <a:r>
              <a:rPr b="0" lang="ar-SY" sz="2400" spc="-1" strike="noStrike">
                <a:solidFill>
                  <a:srgbClr val="000099"/>
                </a:solidFill>
                <a:latin typeface="Albertus Medium"/>
              </a:rPr>
              <a:t>)</a:t>
            </a:r>
            <a:r>
              <a:rPr b="0" lang="ar-SA" sz="2400" spc="-1" strike="noStrike">
                <a:solidFill>
                  <a:srgbClr val="000099"/>
                </a:solidFill>
                <a:latin typeface="Albertus Medium"/>
              </a:rPr>
              <a:t> </a:t>
            </a:r>
            <a:r>
              <a:rPr b="0" lang="ar-SY" sz="2400" spc="-1" strike="noStrike">
                <a:solidFill>
                  <a:srgbClr val="000099"/>
                </a:solidFill>
                <a:latin typeface="Albertus Medium"/>
              </a:rPr>
              <a:t>وهي وحدة قياس</a:t>
            </a:r>
            <a:r>
              <a:rPr b="0" lang="ar-SA" sz="2400" spc="-1" strike="noStrike">
                <a:solidFill>
                  <a:srgbClr val="000099"/>
                </a:solidFill>
                <a:latin typeface="Albertus Medium"/>
              </a:rPr>
              <a:t>.</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ar-SA" sz="2400" spc="-1" strike="noStrike">
                <a:solidFill>
                  <a:srgbClr val="000099"/>
                </a:solidFill>
                <a:latin typeface="Albertus Medium"/>
              </a:rPr>
              <a:t> </a:t>
            </a:r>
            <a:r>
              <a:rPr b="0" lang="ar-SY" sz="2400" spc="-1" strike="noStrike">
                <a:solidFill>
                  <a:srgbClr val="000099"/>
                </a:solidFill>
                <a:latin typeface="Albertus Medium"/>
              </a:rPr>
              <a:t>كيف </a:t>
            </a:r>
            <a:r>
              <a:rPr b="0" lang="ar-SA" sz="2400" spc="-1" strike="noStrike">
                <a:solidFill>
                  <a:srgbClr val="000099"/>
                </a:solidFill>
                <a:latin typeface="Albertus Medium"/>
              </a:rPr>
              <a:t>يمكننا أن نتصور</a:t>
            </a:r>
            <a:r>
              <a:rPr b="0" lang="ar-SY" sz="2400" spc="-1" strike="noStrike">
                <a:solidFill>
                  <a:srgbClr val="000099"/>
                </a:solidFill>
                <a:latin typeface="Albertus Medium"/>
              </a:rPr>
              <a:t> حجم النانو( المادة المتناهية الصغر)</a:t>
            </a:r>
            <a:r>
              <a:rPr b="0" lang="ar-SA" sz="2400" spc="-1" strike="noStrike">
                <a:solidFill>
                  <a:srgbClr val="000099"/>
                </a:solidFill>
                <a:latin typeface="Albertus Medium"/>
              </a:rPr>
              <a:t>؟</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ar-SY" sz="2400" spc="-1" strike="noStrike">
                <a:solidFill>
                  <a:srgbClr val="000099"/>
                </a:solidFill>
                <a:latin typeface="Albertus Medium"/>
              </a:rPr>
              <a:t>هي واحد على البليون من المتر (</a:t>
            </a:r>
            <a:r>
              <a:rPr b="0" lang="en-US" sz="2400" spc="-1" strike="noStrike">
                <a:solidFill>
                  <a:srgbClr val="000099"/>
                </a:solidFill>
                <a:latin typeface="Albertus Medium"/>
              </a:rPr>
              <a:t>one billionth of meter</a:t>
            </a:r>
            <a:r>
              <a:rPr b="0" lang="ar-SY" sz="2400" spc="-1" strike="noStrike">
                <a:solidFill>
                  <a:srgbClr val="000099"/>
                </a:solidFill>
                <a:latin typeface="Albertus Medium"/>
              </a:rPr>
              <a:t>)</a:t>
            </a:r>
            <a:r>
              <a:rPr b="0" lang="ar-SA" sz="2400" spc="-1" strike="noStrike">
                <a:solidFill>
                  <a:srgbClr val="000099"/>
                </a:solidFill>
                <a:latin typeface="Albertus Medium"/>
              </a:rPr>
              <a:t> </a:t>
            </a:r>
            <a:r>
              <a:rPr b="0" lang="ar-SY" sz="2400" spc="-1" strike="noStrike">
                <a:solidFill>
                  <a:srgbClr val="000099"/>
                </a:solidFill>
                <a:latin typeface="Albertus Medium"/>
              </a:rPr>
              <a:t>أو واحد على المليون من المليمتر(</a:t>
            </a:r>
            <a:r>
              <a:rPr b="0" lang="en-US" sz="2400" spc="-1" strike="noStrike">
                <a:solidFill>
                  <a:srgbClr val="000099"/>
                </a:solidFill>
                <a:latin typeface="Albertus Medium"/>
              </a:rPr>
              <a:t>one millionth of millimeter</a:t>
            </a:r>
            <a:r>
              <a:rPr b="0" lang="ar-SY" sz="2400" spc="-1" strike="noStrike">
                <a:solidFill>
                  <a:srgbClr val="000099"/>
                </a:solidFill>
                <a:latin typeface="Albertus Medium"/>
              </a:rPr>
              <a:t>)</a:t>
            </a:r>
            <a:r>
              <a:rPr b="0" lang="ar-SA" sz="2400" spc="-1" strike="noStrike">
                <a:solidFill>
                  <a:srgbClr val="000099"/>
                </a:solidFill>
                <a:latin typeface="Albertus Medium"/>
              </a:rPr>
              <a:t>.</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7" name="" descr=""/>
          <p:cNvPicPr/>
          <p:nvPr/>
        </p:nvPicPr>
        <p:blipFill>
          <a:blip r:embed="rId2"/>
          <a:stretch/>
        </p:blipFill>
        <p:spPr>
          <a:xfrm>
            <a:off x="8153280" y="74520"/>
            <a:ext cx="922320" cy="992160"/>
          </a:xfrm>
          <a:prstGeom prst="rect">
            <a:avLst/>
          </a:prstGeom>
          <a:ln w="0">
            <a:noFill/>
          </a:ln>
        </p:spPr>
      </p:pic>
      <p:sp>
        <p:nvSpPr>
          <p:cNvPr id="218" name=""/>
          <p:cNvSpPr/>
          <p:nvPr/>
        </p:nvSpPr>
        <p:spPr>
          <a:xfrm>
            <a:off x="1295280" y="1066680"/>
            <a:ext cx="6193080" cy="1800"/>
          </a:xfrm>
          <a:prstGeom prst="line">
            <a:avLst/>
          </a:prstGeom>
          <a:ln cap="sq" w="12600">
            <a:solidFill>
              <a:srgbClr val="b2b2b2"/>
            </a:solidFill>
            <a:miter/>
          </a:ln>
        </p:spPr>
        <p:style>
          <a:lnRef idx="0"/>
          <a:fillRef idx="0"/>
          <a:effectRef idx="0"/>
          <a:fontRef idx="minor"/>
        </p:style>
        <p:txBody>
          <a:bodyPr lIns="90000" rIns="90000" tIns="-45000" bIns="-45000" anchor="t">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219" name="" descr=""/>
          <p:cNvPicPr/>
          <p:nvPr/>
        </p:nvPicPr>
        <p:blipFill>
          <a:blip r:embed="rId3"/>
          <a:stretch/>
        </p:blipFill>
        <p:spPr>
          <a:xfrm>
            <a:off x="0" y="0"/>
            <a:ext cx="600120" cy="6858000"/>
          </a:xfrm>
          <a:prstGeom prst="rect">
            <a:avLst/>
          </a:prstGeom>
          <a:ln w="0">
            <a:noFill/>
          </a:ln>
        </p:spPr>
      </p:pic>
      <p:sp>
        <p:nvSpPr>
          <p:cNvPr id="220" name=""/>
          <p:cNvSpPr/>
          <p:nvPr/>
        </p:nvSpPr>
        <p:spPr>
          <a:xfrm>
            <a:off x="0" y="457200"/>
            <a:ext cx="914400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333399"/>
                </a:solidFill>
                <a:latin typeface="Albertus Medium"/>
              </a:rPr>
              <a:t>Types of Nanotechnology</a:t>
            </a:r>
            <a:endParaRPr b="0" lang="en-US" sz="3600" spc="-1" strike="noStrike">
              <a:solidFill>
                <a:srgbClr val="000000"/>
              </a:solidFill>
              <a:latin typeface="Arial"/>
            </a:endParaRPr>
          </a:p>
        </p:txBody>
      </p:sp>
      <p:sp>
        <p:nvSpPr>
          <p:cNvPr id="221" name=""/>
          <p:cNvSpPr/>
          <p:nvPr/>
        </p:nvSpPr>
        <p:spPr>
          <a:xfrm>
            <a:off x="990720" y="1371600"/>
            <a:ext cx="8153280" cy="4149720"/>
          </a:xfrm>
          <a:prstGeom prst="rect">
            <a:avLst/>
          </a:prstGeom>
          <a:noFill/>
          <a:ln w="0">
            <a:noFill/>
          </a:ln>
        </p:spPr>
        <p:style>
          <a:lnRef idx="0"/>
          <a:fillRef idx="0"/>
          <a:effectRef idx="0"/>
          <a:fontRef idx="minor"/>
        </p:style>
        <p:txBody>
          <a:bodyPr anchor="t">
            <a:noAutofit/>
          </a:bodyPr>
          <a:p>
            <a:pPr marL="476280" indent="-474840">
              <a:lnSpc>
                <a:spcPct val="100000"/>
              </a:lnSpc>
              <a:spcBef>
                <a:spcPts val="601"/>
              </a:spcBef>
              <a:tabLst>
                <a:tab algn="l" pos="0"/>
                <a:tab algn="l" pos="476280"/>
                <a:tab algn="l" pos="1390680"/>
                <a:tab algn="l" pos="2305080"/>
                <a:tab algn="l" pos="3219480"/>
                <a:tab algn="l" pos="4133880"/>
                <a:tab algn="l" pos="5048280"/>
                <a:tab algn="l" pos="5962680"/>
                <a:tab algn="l" pos="6877080"/>
                <a:tab algn="l" pos="7791480"/>
                <a:tab algn="l" pos="8705880"/>
                <a:tab algn="l" pos="9620280"/>
                <a:tab algn="l" pos="10534680"/>
              </a:tabLst>
            </a:pPr>
            <a:r>
              <a:rPr b="0" lang="en-GB" sz="2400" spc="-1" strike="noStrike">
                <a:solidFill>
                  <a:srgbClr val="333399"/>
                </a:solidFill>
                <a:latin typeface="Albertus Medium"/>
              </a:rPr>
              <a:t>1.  Nanomaterials (Important in the field of dermatology)</a:t>
            </a:r>
            <a:endParaRPr b="0" lang="en-US" sz="2400" spc="-1" strike="noStrike">
              <a:solidFill>
                <a:srgbClr val="000000"/>
              </a:solidFill>
              <a:latin typeface="Arial"/>
            </a:endParaRPr>
          </a:p>
          <a:p>
            <a:pPr marL="476280" indent="-474840">
              <a:lnSpc>
                <a:spcPct val="100000"/>
              </a:lnSpc>
              <a:spcBef>
                <a:spcPts val="601"/>
              </a:spcBef>
              <a:tabLst>
                <a:tab algn="l" pos="0"/>
                <a:tab algn="l" pos="476280"/>
                <a:tab algn="l" pos="1390680"/>
                <a:tab algn="l" pos="2305080"/>
                <a:tab algn="l" pos="3219480"/>
                <a:tab algn="l" pos="4133880"/>
                <a:tab algn="l" pos="5048280"/>
                <a:tab algn="l" pos="5962680"/>
                <a:tab algn="l" pos="6877080"/>
                <a:tab algn="l" pos="7791480"/>
                <a:tab algn="l" pos="8705880"/>
                <a:tab algn="l" pos="9620280"/>
                <a:tab algn="l" pos="10534680"/>
              </a:tabLst>
            </a:pPr>
            <a:r>
              <a:rPr b="0" lang="en-GB" sz="2400" spc="-1" strike="noStrike">
                <a:solidFill>
                  <a:srgbClr val="333399"/>
                </a:solidFill>
                <a:latin typeface="Albertus Medium"/>
              </a:rPr>
              <a:t>	</a:t>
            </a:r>
            <a:r>
              <a:rPr b="0" lang="en-GB" sz="2400" spc="-1" strike="noStrike">
                <a:solidFill>
                  <a:srgbClr val="333399"/>
                </a:solidFill>
                <a:latin typeface="Albertus Medium"/>
              </a:rPr>
              <a:t>- Nanostructured fluid</a:t>
            </a:r>
            <a:endParaRPr b="0" lang="en-US" sz="2400" spc="-1" strike="noStrike">
              <a:solidFill>
                <a:srgbClr val="000000"/>
              </a:solidFill>
              <a:latin typeface="Arial"/>
            </a:endParaRPr>
          </a:p>
          <a:p>
            <a:pPr marL="476280" indent="-474840">
              <a:lnSpc>
                <a:spcPct val="100000"/>
              </a:lnSpc>
              <a:spcBef>
                <a:spcPts val="601"/>
              </a:spcBef>
              <a:tabLst>
                <a:tab algn="l" pos="0"/>
                <a:tab algn="l" pos="476280"/>
                <a:tab algn="l" pos="1390680"/>
                <a:tab algn="l" pos="2305080"/>
                <a:tab algn="l" pos="3219480"/>
                <a:tab algn="l" pos="4133880"/>
                <a:tab algn="l" pos="5048280"/>
                <a:tab algn="l" pos="5962680"/>
                <a:tab algn="l" pos="6877080"/>
                <a:tab algn="l" pos="7791480"/>
                <a:tab algn="l" pos="8705880"/>
                <a:tab algn="l" pos="9620280"/>
                <a:tab algn="l" pos="10534680"/>
              </a:tabLst>
            </a:pPr>
            <a:r>
              <a:rPr b="0" lang="en-GB" sz="2400" spc="-1" strike="noStrike">
                <a:solidFill>
                  <a:srgbClr val="333399"/>
                </a:solidFill>
                <a:latin typeface="Albertus Medium"/>
              </a:rPr>
              <a:t>	</a:t>
            </a:r>
            <a:r>
              <a:rPr b="0" lang="en-GB" sz="2400" spc="-1" strike="noStrike">
                <a:solidFill>
                  <a:srgbClr val="333399"/>
                </a:solidFill>
                <a:latin typeface="Albertus Medium"/>
              </a:rPr>
              <a:t>- Nanocomposites</a:t>
            </a:r>
            <a:endParaRPr b="0" lang="en-US" sz="2400" spc="-1" strike="noStrike">
              <a:solidFill>
                <a:srgbClr val="000000"/>
              </a:solidFill>
              <a:latin typeface="Arial"/>
            </a:endParaRPr>
          </a:p>
          <a:p>
            <a:pPr marL="476280" indent="-474840">
              <a:lnSpc>
                <a:spcPct val="100000"/>
              </a:lnSpc>
              <a:spcBef>
                <a:spcPts val="601"/>
              </a:spcBef>
              <a:tabLst>
                <a:tab algn="l" pos="0"/>
                <a:tab algn="l" pos="476280"/>
                <a:tab algn="l" pos="1390680"/>
                <a:tab algn="l" pos="2305080"/>
                <a:tab algn="l" pos="3219480"/>
                <a:tab algn="l" pos="4133880"/>
                <a:tab algn="l" pos="5048280"/>
                <a:tab algn="l" pos="5962680"/>
                <a:tab algn="l" pos="6877080"/>
                <a:tab algn="l" pos="7791480"/>
                <a:tab algn="l" pos="8705880"/>
                <a:tab algn="l" pos="9620280"/>
                <a:tab algn="l" pos="10534680"/>
              </a:tabLst>
            </a:pPr>
            <a:r>
              <a:rPr b="0" lang="en-GB" sz="2400" spc="-1" strike="noStrike">
                <a:solidFill>
                  <a:srgbClr val="333399"/>
                </a:solidFill>
                <a:latin typeface="Albertus Medium"/>
              </a:rPr>
              <a:t>	</a:t>
            </a:r>
            <a:r>
              <a:rPr b="0" lang="en-GB" sz="2400" spc="-1" strike="noStrike">
                <a:solidFill>
                  <a:srgbClr val="333399"/>
                </a:solidFill>
                <a:latin typeface="Albertus Medium"/>
              </a:rPr>
              <a:t>- Nanostructured solids</a:t>
            </a:r>
            <a:endParaRPr b="0" lang="en-US" sz="2400" spc="-1" strike="noStrike">
              <a:solidFill>
                <a:srgbClr val="000000"/>
              </a:solidFill>
              <a:latin typeface="Arial"/>
            </a:endParaRPr>
          </a:p>
          <a:p>
            <a:pPr marL="476280" indent="-474840">
              <a:lnSpc>
                <a:spcPct val="100000"/>
              </a:lnSpc>
              <a:spcBef>
                <a:spcPts val="601"/>
              </a:spcBef>
              <a:tabLst>
                <a:tab algn="l" pos="0"/>
                <a:tab algn="l" pos="476280"/>
                <a:tab algn="l" pos="1390680"/>
                <a:tab algn="l" pos="2305080"/>
                <a:tab algn="l" pos="3219480"/>
                <a:tab algn="l" pos="4133880"/>
                <a:tab algn="l" pos="5048280"/>
                <a:tab algn="l" pos="5962680"/>
                <a:tab algn="l" pos="6877080"/>
                <a:tab algn="l" pos="7791480"/>
                <a:tab algn="l" pos="8705880"/>
                <a:tab algn="l" pos="9620280"/>
                <a:tab algn="l" pos="10534680"/>
              </a:tabLst>
            </a:pPr>
            <a:endParaRPr b="0" lang="en-US" sz="2400" spc="-1" strike="noStrike">
              <a:solidFill>
                <a:srgbClr val="000000"/>
              </a:solidFill>
              <a:latin typeface="Arial"/>
            </a:endParaRPr>
          </a:p>
          <a:p>
            <a:pPr marL="476280" indent="-474840">
              <a:lnSpc>
                <a:spcPct val="100000"/>
              </a:lnSpc>
              <a:spcBef>
                <a:spcPts val="601"/>
              </a:spcBef>
              <a:tabLst>
                <a:tab algn="l" pos="0"/>
                <a:tab algn="l" pos="476280"/>
                <a:tab algn="l" pos="1390680"/>
                <a:tab algn="l" pos="2305080"/>
                <a:tab algn="l" pos="3219480"/>
                <a:tab algn="l" pos="4133880"/>
                <a:tab algn="l" pos="5048280"/>
                <a:tab algn="l" pos="5962680"/>
                <a:tab algn="l" pos="6877080"/>
                <a:tab algn="l" pos="7791480"/>
                <a:tab algn="l" pos="8705880"/>
                <a:tab algn="l" pos="9620280"/>
                <a:tab algn="l" pos="10534680"/>
              </a:tabLst>
            </a:pPr>
            <a:r>
              <a:rPr b="0" lang="en-GB" sz="2400" spc="-1" strike="noStrike">
                <a:solidFill>
                  <a:srgbClr val="333399"/>
                </a:solidFill>
                <a:latin typeface="Albertus Medium"/>
              </a:rPr>
              <a:t>2. Nanocomputers</a:t>
            </a:r>
            <a:endParaRPr b="0" lang="en-US" sz="2400" spc="-1" strike="noStrike">
              <a:solidFill>
                <a:srgbClr val="000000"/>
              </a:solidFill>
              <a:latin typeface="Arial"/>
            </a:endParaRPr>
          </a:p>
          <a:p>
            <a:pPr marL="476280" indent="-474840">
              <a:lnSpc>
                <a:spcPct val="100000"/>
              </a:lnSpc>
              <a:spcBef>
                <a:spcPts val="601"/>
              </a:spcBef>
              <a:tabLst>
                <a:tab algn="l" pos="0"/>
                <a:tab algn="l" pos="476280"/>
                <a:tab algn="l" pos="1390680"/>
                <a:tab algn="l" pos="2305080"/>
                <a:tab algn="l" pos="3219480"/>
                <a:tab algn="l" pos="4133880"/>
                <a:tab algn="l" pos="5048280"/>
                <a:tab algn="l" pos="5962680"/>
                <a:tab algn="l" pos="6877080"/>
                <a:tab algn="l" pos="7791480"/>
                <a:tab algn="l" pos="8705880"/>
                <a:tab algn="l" pos="9620280"/>
                <a:tab algn="l" pos="10534680"/>
              </a:tabLst>
            </a:pPr>
            <a:r>
              <a:rPr b="0" lang="en-GB" sz="2400" spc="-1" strike="noStrike">
                <a:solidFill>
                  <a:srgbClr val="333399"/>
                </a:solidFill>
                <a:latin typeface="Albertus Medium"/>
              </a:rPr>
              <a:t>3. Nanomachines.</a:t>
            </a:r>
            <a:endParaRPr b="0" lang="en-US" sz="2400" spc="-1" strike="noStrike">
              <a:solidFill>
                <a:srgbClr val="000000"/>
              </a:solidFill>
              <a:latin typeface="Arial"/>
            </a:endParaRPr>
          </a:p>
          <a:p>
            <a:pPr marL="476280" indent="-474840" algn="ctr" rtl="1">
              <a:lnSpc>
                <a:spcPct val="100000"/>
              </a:lnSpc>
              <a:spcBef>
                <a:spcPts val="601"/>
              </a:spcBef>
              <a:tabLst>
                <a:tab algn="l" pos="0"/>
                <a:tab algn="l" pos="476280"/>
                <a:tab algn="l" pos="1390680"/>
                <a:tab algn="l" pos="2305080"/>
                <a:tab algn="l" pos="3219480"/>
                <a:tab algn="l" pos="4133880"/>
                <a:tab algn="l" pos="5048280"/>
                <a:tab algn="l" pos="5962680"/>
                <a:tab algn="l" pos="6877080"/>
                <a:tab algn="l" pos="7791480"/>
                <a:tab algn="l" pos="8705880"/>
                <a:tab algn="l" pos="9620280"/>
                <a:tab algn="l" pos="10534680"/>
              </a:tabLst>
            </a:pPr>
            <a:endParaRPr b="0" lang="en-US" sz="2400" spc="-1" strike="noStrike">
              <a:solidFill>
                <a:srgbClr val="000000"/>
              </a:solidFill>
              <a:latin typeface="Arial"/>
            </a:endParaRPr>
          </a:p>
        </p:txBody>
      </p:sp>
      <p:sp>
        <p:nvSpPr>
          <p:cNvPr id="222" name=""/>
          <p:cNvSpPr/>
          <p:nvPr/>
        </p:nvSpPr>
        <p:spPr>
          <a:xfrm>
            <a:off x="4067280" y="3886200"/>
            <a:ext cx="1152360" cy="433440"/>
          </a:xfrm>
          <a:custGeom>
            <a:avLst/>
            <a:gdLst>
              <a:gd name="textAreaLeft" fmla="*/ 0 w 1152360"/>
              <a:gd name="textAreaRight" fmla="*/ 416160 w 1152360"/>
              <a:gd name="textAreaTop" fmla="*/ 11160 h 433440"/>
              <a:gd name="textAreaBottom" fmla="*/ 422280 h 433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9360">
            <a:solidFill>
              <a:srgbClr val="000080"/>
            </a:solidFill>
            <a:miter/>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3" name=""/>
          <p:cNvSpPr/>
          <p:nvPr/>
        </p:nvSpPr>
        <p:spPr>
          <a:xfrm>
            <a:off x="5364000" y="3657600"/>
            <a:ext cx="3138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333399"/>
                </a:solidFill>
                <a:latin typeface="Albertus Medium"/>
              </a:rPr>
              <a:t>This is beyond the scope of this talk</a:t>
            </a:r>
            <a:endParaRPr b="0" lang="en-US" sz="2400" spc="-1" strike="noStrike">
              <a:solidFill>
                <a:srgbClr val="000000"/>
              </a:solidFill>
              <a:latin typeface="Arial"/>
            </a:endParaRPr>
          </a:p>
        </p:txBody>
      </p:sp>
      <p:grpSp>
        <p:nvGrpSpPr>
          <p:cNvPr id="224" name=""/>
          <p:cNvGrpSpPr/>
          <p:nvPr/>
        </p:nvGrpSpPr>
        <p:grpSpPr>
          <a:xfrm>
            <a:off x="2639880" y="1346040"/>
            <a:ext cx="4521240" cy="3986280"/>
            <a:chOff x="2639880" y="1346040"/>
            <a:chExt cx="4521240" cy="3986280"/>
          </a:xfrm>
        </p:grpSpPr>
        <p:sp>
          <p:nvSpPr>
            <p:cNvPr id="225" name=""/>
            <p:cNvSpPr/>
            <p:nvPr/>
          </p:nvSpPr>
          <p:spPr>
            <a:xfrm>
              <a:off x="2639880" y="2319480"/>
              <a:ext cx="1721160" cy="3012840"/>
            </a:xfrm>
            <a:custGeom>
              <a:avLst/>
              <a:gdLst/>
              <a:ahLst/>
              <a:rect l="l" t="t" r="r" b="b"/>
              <a:pathLst>
                <a:path w="1261" h="2255">
                  <a:moveTo>
                    <a:pt x="1257" y="2027"/>
                  </a:moveTo>
                  <a:lnTo>
                    <a:pt x="1257" y="2015"/>
                  </a:lnTo>
                  <a:lnTo>
                    <a:pt x="1252" y="2000"/>
                  </a:lnTo>
                  <a:lnTo>
                    <a:pt x="1244" y="1985"/>
                  </a:lnTo>
                  <a:lnTo>
                    <a:pt x="1232" y="1970"/>
                  </a:lnTo>
                  <a:lnTo>
                    <a:pt x="1222" y="1956"/>
                  </a:lnTo>
                  <a:lnTo>
                    <a:pt x="1212" y="1945"/>
                  </a:lnTo>
                  <a:lnTo>
                    <a:pt x="1204" y="1933"/>
                  </a:lnTo>
                  <a:lnTo>
                    <a:pt x="1199" y="1921"/>
                  </a:lnTo>
                  <a:lnTo>
                    <a:pt x="1197" y="1910"/>
                  </a:lnTo>
                  <a:lnTo>
                    <a:pt x="1192" y="1893"/>
                  </a:lnTo>
                  <a:lnTo>
                    <a:pt x="1186" y="1876"/>
                  </a:lnTo>
                  <a:lnTo>
                    <a:pt x="1171" y="1860"/>
                  </a:lnTo>
                  <a:lnTo>
                    <a:pt x="1161" y="1851"/>
                  </a:lnTo>
                  <a:lnTo>
                    <a:pt x="1147" y="1838"/>
                  </a:lnTo>
                  <a:lnTo>
                    <a:pt x="1132" y="1823"/>
                  </a:lnTo>
                  <a:lnTo>
                    <a:pt x="1117" y="1806"/>
                  </a:lnTo>
                  <a:lnTo>
                    <a:pt x="1102" y="1788"/>
                  </a:lnTo>
                  <a:lnTo>
                    <a:pt x="1087" y="1770"/>
                  </a:lnTo>
                  <a:lnTo>
                    <a:pt x="1076" y="1750"/>
                  </a:lnTo>
                  <a:lnTo>
                    <a:pt x="1067" y="1731"/>
                  </a:lnTo>
                  <a:lnTo>
                    <a:pt x="1052" y="1703"/>
                  </a:lnTo>
                  <a:lnTo>
                    <a:pt x="1037" y="1681"/>
                  </a:lnTo>
                  <a:lnTo>
                    <a:pt x="1026" y="1665"/>
                  </a:lnTo>
                  <a:lnTo>
                    <a:pt x="1019" y="1646"/>
                  </a:lnTo>
                  <a:lnTo>
                    <a:pt x="1016" y="1633"/>
                  </a:lnTo>
                  <a:lnTo>
                    <a:pt x="1009" y="1613"/>
                  </a:lnTo>
                  <a:lnTo>
                    <a:pt x="999" y="1591"/>
                  </a:lnTo>
                  <a:lnTo>
                    <a:pt x="989" y="1568"/>
                  </a:lnTo>
                  <a:lnTo>
                    <a:pt x="979" y="1545"/>
                  </a:lnTo>
                  <a:lnTo>
                    <a:pt x="969" y="1525"/>
                  </a:lnTo>
                  <a:lnTo>
                    <a:pt x="959" y="1508"/>
                  </a:lnTo>
                  <a:lnTo>
                    <a:pt x="952" y="1499"/>
                  </a:lnTo>
                  <a:lnTo>
                    <a:pt x="942" y="1486"/>
                  </a:lnTo>
                  <a:lnTo>
                    <a:pt x="934" y="1473"/>
                  </a:lnTo>
                  <a:lnTo>
                    <a:pt x="922" y="1458"/>
                  </a:lnTo>
                  <a:lnTo>
                    <a:pt x="911" y="1443"/>
                  </a:lnTo>
                  <a:lnTo>
                    <a:pt x="902" y="1434"/>
                  </a:lnTo>
                  <a:lnTo>
                    <a:pt x="891" y="1426"/>
                  </a:lnTo>
                  <a:lnTo>
                    <a:pt x="879" y="1419"/>
                  </a:lnTo>
                  <a:lnTo>
                    <a:pt x="867" y="1411"/>
                  </a:lnTo>
                  <a:lnTo>
                    <a:pt x="854" y="1404"/>
                  </a:lnTo>
                  <a:lnTo>
                    <a:pt x="842" y="1399"/>
                  </a:lnTo>
                  <a:lnTo>
                    <a:pt x="831" y="1396"/>
                  </a:lnTo>
                  <a:lnTo>
                    <a:pt x="820" y="1394"/>
                  </a:lnTo>
                  <a:lnTo>
                    <a:pt x="812" y="1393"/>
                  </a:lnTo>
                  <a:lnTo>
                    <a:pt x="805" y="1389"/>
                  </a:lnTo>
                  <a:lnTo>
                    <a:pt x="800" y="1384"/>
                  </a:lnTo>
                  <a:lnTo>
                    <a:pt x="794" y="1376"/>
                  </a:lnTo>
                  <a:lnTo>
                    <a:pt x="789" y="1368"/>
                  </a:lnTo>
                  <a:lnTo>
                    <a:pt x="782" y="1354"/>
                  </a:lnTo>
                  <a:lnTo>
                    <a:pt x="774" y="1341"/>
                  </a:lnTo>
                  <a:lnTo>
                    <a:pt x="762" y="1324"/>
                  </a:lnTo>
                  <a:lnTo>
                    <a:pt x="750" y="1306"/>
                  </a:lnTo>
                  <a:lnTo>
                    <a:pt x="740" y="1288"/>
                  </a:lnTo>
                  <a:lnTo>
                    <a:pt x="732" y="1269"/>
                  </a:lnTo>
                  <a:lnTo>
                    <a:pt x="724" y="1253"/>
                  </a:lnTo>
                  <a:lnTo>
                    <a:pt x="717" y="1234"/>
                  </a:lnTo>
                  <a:lnTo>
                    <a:pt x="712" y="1219"/>
                  </a:lnTo>
                  <a:lnTo>
                    <a:pt x="709" y="1204"/>
                  </a:lnTo>
                  <a:lnTo>
                    <a:pt x="705" y="1191"/>
                  </a:lnTo>
                  <a:lnTo>
                    <a:pt x="700" y="1166"/>
                  </a:lnTo>
                  <a:lnTo>
                    <a:pt x="692" y="1143"/>
                  </a:lnTo>
                  <a:lnTo>
                    <a:pt x="685" y="1126"/>
                  </a:lnTo>
                  <a:lnTo>
                    <a:pt x="682" y="1119"/>
                  </a:lnTo>
                  <a:lnTo>
                    <a:pt x="689" y="1108"/>
                  </a:lnTo>
                  <a:lnTo>
                    <a:pt x="700" y="1078"/>
                  </a:lnTo>
                  <a:lnTo>
                    <a:pt x="707" y="1038"/>
                  </a:lnTo>
                  <a:lnTo>
                    <a:pt x="697" y="996"/>
                  </a:lnTo>
                  <a:lnTo>
                    <a:pt x="680" y="961"/>
                  </a:lnTo>
                  <a:lnTo>
                    <a:pt x="670" y="932"/>
                  </a:lnTo>
                  <a:lnTo>
                    <a:pt x="662" y="904"/>
                  </a:lnTo>
                  <a:lnTo>
                    <a:pt x="649" y="872"/>
                  </a:lnTo>
                  <a:lnTo>
                    <a:pt x="640" y="856"/>
                  </a:lnTo>
                  <a:lnTo>
                    <a:pt x="635" y="839"/>
                  </a:lnTo>
                  <a:lnTo>
                    <a:pt x="630" y="826"/>
                  </a:lnTo>
                  <a:lnTo>
                    <a:pt x="625" y="814"/>
                  </a:lnTo>
                  <a:lnTo>
                    <a:pt x="620" y="802"/>
                  </a:lnTo>
                  <a:lnTo>
                    <a:pt x="614" y="792"/>
                  </a:lnTo>
                  <a:lnTo>
                    <a:pt x="607" y="784"/>
                  </a:lnTo>
                  <a:lnTo>
                    <a:pt x="597" y="777"/>
                  </a:lnTo>
                  <a:lnTo>
                    <a:pt x="587" y="771"/>
                  </a:lnTo>
                  <a:lnTo>
                    <a:pt x="575" y="762"/>
                  </a:lnTo>
                  <a:lnTo>
                    <a:pt x="565" y="754"/>
                  </a:lnTo>
                  <a:lnTo>
                    <a:pt x="554" y="744"/>
                  </a:lnTo>
                  <a:lnTo>
                    <a:pt x="542" y="736"/>
                  </a:lnTo>
                  <a:lnTo>
                    <a:pt x="529" y="729"/>
                  </a:lnTo>
                  <a:lnTo>
                    <a:pt x="515" y="721"/>
                  </a:lnTo>
                  <a:lnTo>
                    <a:pt x="502" y="716"/>
                  </a:lnTo>
                  <a:lnTo>
                    <a:pt x="480" y="702"/>
                  </a:lnTo>
                  <a:lnTo>
                    <a:pt x="470" y="686"/>
                  </a:lnTo>
                  <a:lnTo>
                    <a:pt x="464" y="667"/>
                  </a:lnTo>
                  <a:lnTo>
                    <a:pt x="454" y="649"/>
                  </a:lnTo>
                  <a:lnTo>
                    <a:pt x="444" y="634"/>
                  </a:lnTo>
                  <a:lnTo>
                    <a:pt x="437" y="621"/>
                  </a:lnTo>
                  <a:lnTo>
                    <a:pt x="435" y="611"/>
                  </a:lnTo>
                  <a:lnTo>
                    <a:pt x="435" y="607"/>
                  </a:lnTo>
                  <a:lnTo>
                    <a:pt x="437" y="607"/>
                  </a:lnTo>
                  <a:lnTo>
                    <a:pt x="442" y="606"/>
                  </a:lnTo>
                  <a:lnTo>
                    <a:pt x="449" y="602"/>
                  </a:lnTo>
                  <a:lnTo>
                    <a:pt x="455" y="596"/>
                  </a:lnTo>
                  <a:lnTo>
                    <a:pt x="459" y="589"/>
                  </a:lnTo>
                  <a:lnTo>
                    <a:pt x="459" y="577"/>
                  </a:lnTo>
                  <a:lnTo>
                    <a:pt x="454" y="564"/>
                  </a:lnTo>
                  <a:lnTo>
                    <a:pt x="440" y="546"/>
                  </a:lnTo>
                  <a:lnTo>
                    <a:pt x="434" y="539"/>
                  </a:lnTo>
                  <a:lnTo>
                    <a:pt x="429" y="532"/>
                  </a:lnTo>
                  <a:lnTo>
                    <a:pt x="424" y="529"/>
                  </a:lnTo>
                  <a:lnTo>
                    <a:pt x="420" y="526"/>
                  </a:lnTo>
                  <a:lnTo>
                    <a:pt x="419" y="527"/>
                  </a:lnTo>
                  <a:lnTo>
                    <a:pt x="415" y="526"/>
                  </a:lnTo>
                  <a:lnTo>
                    <a:pt x="415" y="522"/>
                  </a:lnTo>
                  <a:lnTo>
                    <a:pt x="420" y="526"/>
                  </a:lnTo>
                  <a:lnTo>
                    <a:pt x="420" y="524"/>
                  </a:lnTo>
                  <a:lnTo>
                    <a:pt x="419" y="521"/>
                  </a:lnTo>
                  <a:lnTo>
                    <a:pt x="419" y="517"/>
                  </a:lnTo>
                  <a:lnTo>
                    <a:pt x="417" y="512"/>
                  </a:lnTo>
                  <a:lnTo>
                    <a:pt x="409" y="490"/>
                  </a:lnTo>
                  <a:lnTo>
                    <a:pt x="405" y="477"/>
                  </a:lnTo>
                  <a:lnTo>
                    <a:pt x="399" y="467"/>
                  </a:lnTo>
                  <a:lnTo>
                    <a:pt x="384" y="455"/>
                  </a:lnTo>
                  <a:lnTo>
                    <a:pt x="372" y="440"/>
                  </a:lnTo>
                  <a:lnTo>
                    <a:pt x="374" y="425"/>
                  </a:lnTo>
                  <a:lnTo>
                    <a:pt x="375" y="412"/>
                  </a:lnTo>
                  <a:lnTo>
                    <a:pt x="364" y="399"/>
                  </a:lnTo>
                  <a:lnTo>
                    <a:pt x="345" y="387"/>
                  </a:lnTo>
                  <a:lnTo>
                    <a:pt x="332" y="372"/>
                  </a:lnTo>
                  <a:lnTo>
                    <a:pt x="325" y="355"/>
                  </a:lnTo>
                  <a:lnTo>
                    <a:pt x="322" y="337"/>
                  </a:lnTo>
                  <a:lnTo>
                    <a:pt x="319" y="317"/>
                  </a:lnTo>
                  <a:lnTo>
                    <a:pt x="309" y="290"/>
                  </a:lnTo>
                  <a:lnTo>
                    <a:pt x="294" y="264"/>
                  </a:lnTo>
                  <a:lnTo>
                    <a:pt x="273" y="237"/>
                  </a:lnTo>
                  <a:lnTo>
                    <a:pt x="260" y="215"/>
                  </a:lnTo>
                  <a:lnTo>
                    <a:pt x="257" y="197"/>
                  </a:lnTo>
                  <a:lnTo>
                    <a:pt x="255" y="184"/>
                  </a:lnTo>
                  <a:lnTo>
                    <a:pt x="245" y="175"/>
                  </a:lnTo>
                  <a:lnTo>
                    <a:pt x="233" y="167"/>
                  </a:lnTo>
                  <a:lnTo>
                    <a:pt x="228" y="154"/>
                  </a:lnTo>
                  <a:lnTo>
                    <a:pt x="222" y="140"/>
                  </a:lnTo>
                  <a:lnTo>
                    <a:pt x="207" y="124"/>
                  </a:lnTo>
                  <a:lnTo>
                    <a:pt x="188" y="100"/>
                  </a:lnTo>
                  <a:lnTo>
                    <a:pt x="175" y="74"/>
                  </a:lnTo>
                  <a:lnTo>
                    <a:pt x="168" y="52"/>
                  </a:lnTo>
                  <a:lnTo>
                    <a:pt x="165" y="42"/>
                  </a:lnTo>
                  <a:lnTo>
                    <a:pt x="160" y="42"/>
                  </a:lnTo>
                  <a:lnTo>
                    <a:pt x="148" y="42"/>
                  </a:lnTo>
                  <a:lnTo>
                    <a:pt x="133" y="42"/>
                  </a:lnTo>
                  <a:lnTo>
                    <a:pt x="122" y="42"/>
                  </a:lnTo>
                  <a:lnTo>
                    <a:pt x="110" y="42"/>
                  </a:lnTo>
                  <a:lnTo>
                    <a:pt x="100" y="44"/>
                  </a:lnTo>
                  <a:lnTo>
                    <a:pt x="92" y="47"/>
                  </a:lnTo>
                  <a:lnTo>
                    <a:pt x="88" y="47"/>
                  </a:lnTo>
                  <a:lnTo>
                    <a:pt x="90" y="44"/>
                  </a:lnTo>
                  <a:lnTo>
                    <a:pt x="93" y="34"/>
                  </a:lnTo>
                  <a:lnTo>
                    <a:pt x="98" y="20"/>
                  </a:lnTo>
                  <a:lnTo>
                    <a:pt x="103" y="8"/>
                  </a:lnTo>
                  <a:lnTo>
                    <a:pt x="103" y="8"/>
                  </a:lnTo>
                  <a:lnTo>
                    <a:pt x="103" y="8"/>
                  </a:lnTo>
                  <a:lnTo>
                    <a:pt x="103" y="8"/>
                  </a:lnTo>
                  <a:lnTo>
                    <a:pt x="103" y="8"/>
                  </a:lnTo>
                  <a:lnTo>
                    <a:pt x="67" y="0"/>
                  </a:lnTo>
                  <a:lnTo>
                    <a:pt x="67" y="5"/>
                  </a:lnTo>
                  <a:lnTo>
                    <a:pt x="65" y="19"/>
                  </a:lnTo>
                  <a:lnTo>
                    <a:pt x="62" y="34"/>
                  </a:lnTo>
                  <a:lnTo>
                    <a:pt x="57" y="47"/>
                  </a:lnTo>
                  <a:lnTo>
                    <a:pt x="50" y="57"/>
                  </a:lnTo>
                  <a:lnTo>
                    <a:pt x="45" y="65"/>
                  </a:lnTo>
                  <a:lnTo>
                    <a:pt x="40" y="79"/>
                  </a:lnTo>
                  <a:lnTo>
                    <a:pt x="38" y="95"/>
                  </a:lnTo>
                  <a:lnTo>
                    <a:pt x="35" y="119"/>
                  </a:lnTo>
                  <a:lnTo>
                    <a:pt x="28" y="145"/>
                  </a:lnTo>
                  <a:lnTo>
                    <a:pt x="20" y="169"/>
                  </a:lnTo>
                  <a:lnTo>
                    <a:pt x="15" y="185"/>
                  </a:lnTo>
                  <a:lnTo>
                    <a:pt x="10" y="197"/>
                  </a:lnTo>
                  <a:lnTo>
                    <a:pt x="5" y="209"/>
                  </a:lnTo>
                  <a:lnTo>
                    <a:pt x="2" y="220"/>
                  </a:lnTo>
                  <a:lnTo>
                    <a:pt x="0" y="224"/>
                  </a:lnTo>
                  <a:lnTo>
                    <a:pt x="3" y="224"/>
                  </a:lnTo>
                  <a:lnTo>
                    <a:pt x="12" y="220"/>
                  </a:lnTo>
                  <a:lnTo>
                    <a:pt x="23" y="219"/>
                  </a:lnTo>
                  <a:lnTo>
                    <a:pt x="33" y="219"/>
                  </a:lnTo>
                  <a:lnTo>
                    <a:pt x="47" y="219"/>
                  </a:lnTo>
                  <a:lnTo>
                    <a:pt x="60" y="219"/>
                  </a:lnTo>
                  <a:lnTo>
                    <a:pt x="72" y="219"/>
                  </a:lnTo>
                  <a:lnTo>
                    <a:pt x="77" y="219"/>
                  </a:lnTo>
                  <a:lnTo>
                    <a:pt x="80" y="229"/>
                  </a:lnTo>
                  <a:lnTo>
                    <a:pt x="87" y="250"/>
                  </a:lnTo>
                  <a:lnTo>
                    <a:pt x="100" y="277"/>
                  </a:lnTo>
                  <a:lnTo>
                    <a:pt x="118" y="299"/>
                  </a:lnTo>
                  <a:lnTo>
                    <a:pt x="133" y="315"/>
                  </a:lnTo>
                  <a:lnTo>
                    <a:pt x="140" y="330"/>
                  </a:lnTo>
                  <a:lnTo>
                    <a:pt x="145" y="342"/>
                  </a:lnTo>
                  <a:lnTo>
                    <a:pt x="157" y="352"/>
                  </a:lnTo>
                  <a:lnTo>
                    <a:pt x="167" y="360"/>
                  </a:lnTo>
                  <a:lnTo>
                    <a:pt x="168" y="374"/>
                  </a:lnTo>
                  <a:lnTo>
                    <a:pt x="172" y="390"/>
                  </a:lnTo>
                  <a:lnTo>
                    <a:pt x="185" y="414"/>
                  </a:lnTo>
                  <a:lnTo>
                    <a:pt x="205" y="440"/>
                  </a:lnTo>
                  <a:lnTo>
                    <a:pt x="220" y="467"/>
                  </a:lnTo>
                  <a:lnTo>
                    <a:pt x="230" y="492"/>
                  </a:lnTo>
                  <a:lnTo>
                    <a:pt x="233" y="512"/>
                  </a:lnTo>
                  <a:lnTo>
                    <a:pt x="237" y="531"/>
                  </a:lnTo>
                  <a:lnTo>
                    <a:pt x="243" y="547"/>
                  </a:lnTo>
                  <a:lnTo>
                    <a:pt x="257" y="562"/>
                  </a:lnTo>
                  <a:lnTo>
                    <a:pt x="275" y="574"/>
                  </a:lnTo>
                  <a:lnTo>
                    <a:pt x="287" y="587"/>
                  </a:lnTo>
                  <a:lnTo>
                    <a:pt x="285" y="601"/>
                  </a:lnTo>
                  <a:lnTo>
                    <a:pt x="284" y="617"/>
                  </a:lnTo>
                  <a:lnTo>
                    <a:pt x="295" y="632"/>
                  </a:lnTo>
                  <a:lnTo>
                    <a:pt x="310" y="642"/>
                  </a:lnTo>
                  <a:lnTo>
                    <a:pt x="317" y="652"/>
                  </a:lnTo>
                  <a:lnTo>
                    <a:pt x="320" y="666"/>
                  </a:lnTo>
                  <a:lnTo>
                    <a:pt x="329" y="687"/>
                  </a:lnTo>
                  <a:lnTo>
                    <a:pt x="330" y="692"/>
                  </a:lnTo>
                  <a:lnTo>
                    <a:pt x="330" y="696"/>
                  </a:lnTo>
                  <a:lnTo>
                    <a:pt x="332" y="697"/>
                  </a:lnTo>
                  <a:lnTo>
                    <a:pt x="332" y="699"/>
                  </a:lnTo>
                  <a:lnTo>
                    <a:pt x="335" y="702"/>
                  </a:lnTo>
                  <a:lnTo>
                    <a:pt x="340" y="707"/>
                  </a:lnTo>
                  <a:lnTo>
                    <a:pt x="345" y="712"/>
                  </a:lnTo>
                  <a:lnTo>
                    <a:pt x="352" y="721"/>
                  </a:lnTo>
                  <a:lnTo>
                    <a:pt x="365" y="737"/>
                  </a:lnTo>
                  <a:lnTo>
                    <a:pt x="370" y="752"/>
                  </a:lnTo>
                  <a:lnTo>
                    <a:pt x="370" y="762"/>
                  </a:lnTo>
                  <a:lnTo>
                    <a:pt x="367" y="771"/>
                  </a:lnTo>
                  <a:lnTo>
                    <a:pt x="360" y="776"/>
                  </a:lnTo>
                  <a:lnTo>
                    <a:pt x="354" y="781"/>
                  </a:lnTo>
                  <a:lnTo>
                    <a:pt x="349" y="782"/>
                  </a:lnTo>
                  <a:lnTo>
                    <a:pt x="347" y="782"/>
                  </a:lnTo>
                  <a:lnTo>
                    <a:pt x="347" y="786"/>
                  </a:lnTo>
                  <a:lnTo>
                    <a:pt x="350" y="794"/>
                  </a:lnTo>
                  <a:lnTo>
                    <a:pt x="355" y="807"/>
                  </a:lnTo>
                  <a:lnTo>
                    <a:pt x="367" y="824"/>
                  </a:lnTo>
                  <a:lnTo>
                    <a:pt x="377" y="842"/>
                  </a:lnTo>
                  <a:lnTo>
                    <a:pt x="384" y="862"/>
                  </a:lnTo>
                  <a:lnTo>
                    <a:pt x="392" y="877"/>
                  </a:lnTo>
                  <a:lnTo>
                    <a:pt x="414" y="891"/>
                  </a:lnTo>
                  <a:lnTo>
                    <a:pt x="427" y="897"/>
                  </a:lnTo>
                  <a:lnTo>
                    <a:pt x="440" y="904"/>
                  </a:lnTo>
                  <a:lnTo>
                    <a:pt x="454" y="912"/>
                  </a:lnTo>
                  <a:lnTo>
                    <a:pt x="465" y="921"/>
                  </a:lnTo>
                  <a:lnTo>
                    <a:pt x="477" y="929"/>
                  </a:lnTo>
                  <a:lnTo>
                    <a:pt x="487" y="937"/>
                  </a:lnTo>
                  <a:lnTo>
                    <a:pt x="499" y="946"/>
                  </a:lnTo>
                  <a:lnTo>
                    <a:pt x="509" y="952"/>
                  </a:lnTo>
                  <a:lnTo>
                    <a:pt x="519" y="961"/>
                  </a:lnTo>
                  <a:lnTo>
                    <a:pt x="525" y="969"/>
                  </a:lnTo>
                  <a:lnTo>
                    <a:pt x="532" y="979"/>
                  </a:lnTo>
                  <a:lnTo>
                    <a:pt x="537" y="989"/>
                  </a:lnTo>
                  <a:lnTo>
                    <a:pt x="542" y="1002"/>
                  </a:lnTo>
                  <a:lnTo>
                    <a:pt x="547" y="1016"/>
                  </a:lnTo>
                  <a:lnTo>
                    <a:pt x="552" y="1031"/>
                  </a:lnTo>
                  <a:lnTo>
                    <a:pt x="560" y="1048"/>
                  </a:lnTo>
                  <a:lnTo>
                    <a:pt x="574" y="1079"/>
                  </a:lnTo>
                  <a:lnTo>
                    <a:pt x="584" y="1108"/>
                  </a:lnTo>
                  <a:lnTo>
                    <a:pt x="592" y="1136"/>
                  </a:lnTo>
                  <a:lnTo>
                    <a:pt x="609" y="1171"/>
                  </a:lnTo>
                  <a:lnTo>
                    <a:pt x="619" y="1213"/>
                  </a:lnTo>
                  <a:lnTo>
                    <a:pt x="612" y="1253"/>
                  </a:lnTo>
                  <a:lnTo>
                    <a:pt x="600" y="1283"/>
                  </a:lnTo>
                  <a:lnTo>
                    <a:pt x="594" y="1294"/>
                  </a:lnTo>
                  <a:lnTo>
                    <a:pt x="597" y="1301"/>
                  </a:lnTo>
                  <a:lnTo>
                    <a:pt x="604" y="1318"/>
                  </a:lnTo>
                  <a:lnTo>
                    <a:pt x="612" y="1341"/>
                  </a:lnTo>
                  <a:lnTo>
                    <a:pt x="617" y="1366"/>
                  </a:lnTo>
                  <a:lnTo>
                    <a:pt x="620" y="1379"/>
                  </a:lnTo>
                  <a:lnTo>
                    <a:pt x="624" y="1394"/>
                  </a:lnTo>
                  <a:lnTo>
                    <a:pt x="629" y="1409"/>
                  </a:lnTo>
                  <a:lnTo>
                    <a:pt x="635" y="1428"/>
                  </a:lnTo>
                  <a:lnTo>
                    <a:pt x="644" y="1444"/>
                  </a:lnTo>
                  <a:lnTo>
                    <a:pt x="654" y="1463"/>
                  </a:lnTo>
                  <a:lnTo>
                    <a:pt x="664" y="1481"/>
                  </a:lnTo>
                  <a:lnTo>
                    <a:pt x="675" y="1499"/>
                  </a:lnTo>
                  <a:lnTo>
                    <a:pt x="687" y="1516"/>
                  </a:lnTo>
                  <a:lnTo>
                    <a:pt x="695" y="1531"/>
                  </a:lnTo>
                  <a:lnTo>
                    <a:pt x="702" y="1543"/>
                  </a:lnTo>
                  <a:lnTo>
                    <a:pt x="707" y="1553"/>
                  </a:lnTo>
                  <a:lnTo>
                    <a:pt x="712" y="1561"/>
                  </a:lnTo>
                  <a:lnTo>
                    <a:pt x="719" y="1566"/>
                  </a:lnTo>
                  <a:lnTo>
                    <a:pt x="724" y="1570"/>
                  </a:lnTo>
                  <a:lnTo>
                    <a:pt x="732" y="1571"/>
                  </a:lnTo>
                  <a:lnTo>
                    <a:pt x="742" y="1573"/>
                  </a:lnTo>
                  <a:lnTo>
                    <a:pt x="754" y="1576"/>
                  </a:lnTo>
                  <a:lnTo>
                    <a:pt x="765" y="1581"/>
                  </a:lnTo>
                  <a:lnTo>
                    <a:pt x="779" y="1588"/>
                  </a:lnTo>
                  <a:lnTo>
                    <a:pt x="792" y="1595"/>
                  </a:lnTo>
                  <a:lnTo>
                    <a:pt x="804" y="1603"/>
                  </a:lnTo>
                  <a:lnTo>
                    <a:pt x="814" y="1611"/>
                  </a:lnTo>
                  <a:lnTo>
                    <a:pt x="822" y="1618"/>
                  </a:lnTo>
                  <a:lnTo>
                    <a:pt x="834" y="1633"/>
                  </a:lnTo>
                  <a:lnTo>
                    <a:pt x="846" y="1648"/>
                  </a:lnTo>
                  <a:lnTo>
                    <a:pt x="856" y="1663"/>
                  </a:lnTo>
                  <a:lnTo>
                    <a:pt x="866" y="1675"/>
                  </a:lnTo>
                  <a:lnTo>
                    <a:pt x="872" y="1685"/>
                  </a:lnTo>
                  <a:lnTo>
                    <a:pt x="881" y="1700"/>
                  </a:lnTo>
                  <a:lnTo>
                    <a:pt x="891" y="1721"/>
                  </a:lnTo>
                  <a:lnTo>
                    <a:pt x="902" y="1743"/>
                  </a:lnTo>
                  <a:lnTo>
                    <a:pt x="912" y="1768"/>
                  </a:lnTo>
                  <a:lnTo>
                    <a:pt x="921" y="1790"/>
                  </a:lnTo>
                  <a:lnTo>
                    <a:pt x="927" y="1810"/>
                  </a:lnTo>
                  <a:lnTo>
                    <a:pt x="931" y="1823"/>
                  </a:lnTo>
                  <a:lnTo>
                    <a:pt x="937" y="1841"/>
                  </a:lnTo>
                  <a:lnTo>
                    <a:pt x="951" y="1858"/>
                  </a:lnTo>
                  <a:lnTo>
                    <a:pt x="964" y="1878"/>
                  </a:lnTo>
                  <a:lnTo>
                    <a:pt x="979" y="1908"/>
                  </a:lnTo>
                  <a:lnTo>
                    <a:pt x="987" y="1926"/>
                  </a:lnTo>
                  <a:lnTo>
                    <a:pt x="999" y="1945"/>
                  </a:lnTo>
                  <a:lnTo>
                    <a:pt x="1014" y="1965"/>
                  </a:lnTo>
                  <a:lnTo>
                    <a:pt x="1029" y="1981"/>
                  </a:lnTo>
                  <a:lnTo>
                    <a:pt x="1044" y="2000"/>
                  </a:lnTo>
                  <a:lnTo>
                    <a:pt x="1059" y="2015"/>
                  </a:lnTo>
                  <a:lnTo>
                    <a:pt x="1072" y="2027"/>
                  </a:lnTo>
                  <a:lnTo>
                    <a:pt x="1084" y="2037"/>
                  </a:lnTo>
                  <a:lnTo>
                    <a:pt x="1097" y="2052"/>
                  </a:lnTo>
                  <a:lnTo>
                    <a:pt x="1106" y="2068"/>
                  </a:lnTo>
                  <a:lnTo>
                    <a:pt x="1109" y="2085"/>
                  </a:lnTo>
                  <a:lnTo>
                    <a:pt x="1112" y="2098"/>
                  </a:lnTo>
                  <a:lnTo>
                    <a:pt x="1117" y="2108"/>
                  </a:lnTo>
                  <a:lnTo>
                    <a:pt x="1126" y="2120"/>
                  </a:lnTo>
                  <a:lnTo>
                    <a:pt x="1136" y="2132"/>
                  </a:lnTo>
                  <a:lnTo>
                    <a:pt x="1146" y="2145"/>
                  </a:lnTo>
                  <a:lnTo>
                    <a:pt x="1156" y="2160"/>
                  </a:lnTo>
                  <a:lnTo>
                    <a:pt x="1164" y="2175"/>
                  </a:lnTo>
                  <a:lnTo>
                    <a:pt x="1169" y="2190"/>
                  </a:lnTo>
                  <a:lnTo>
                    <a:pt x="1169" y="2202"/>
                  </a:lnTo>
                  <a:lnTo>
                    <a:pt x="1169" y="2217"/>
                  </a:lnTo>
                  <a:lnTo>
                    <a:pt x="1172" y="2233"/>
                  </a:lnTo>
                  <a:lnTo>
                    <a:pt x="1177" y="2248"/>
                  </a:lnTo>
                  <a:lnTo>
                    <a:pt x="1179" y="2255"/>
                  </a:lnTo>
                  <a:lnTo>
                    <a:pt x="1216" y="2227"/>
                  </a:lnTo>
                  <a:lnTo>
                    <a:pt x="1219" y="2222"/>
                  </a:lnTo>
                  <a:lnTo>
                    <a:pt x="1226" y="2208"/>
                  </a:lnTo>
                  <a:lnTo>
                    <a:pt x="1232" y="2192"/>
                  </a:lnTo>
                  <a:lnTo>
                    <a:pt x="1236" y="2178"/>
                  </a:lnTo>
                  <a:lnTo>
                    <a:pt x="1236" y="2165"/>
                  </a:lnTo>
                  <a:lnTo>
                    <a:pt x="1234" y="2145"/>
                  </a:lnTo>
                  <a:lnTo>
                    <a:pt x="1236" y="2123"/>
                  </a:lnTo>
                  <a:lnTo>
                    <a:pt x="1241" y="2103"/>
                  </a:lnTo>
                  <a:lnTo>
                    <a:pt x="1241" y="2087"/>
                  </a:lnTo>
                  <a:lnTo>
                    <a:pt x="1236" y="2077"/>
                  </a:lnTo>
                  <a:lnTo>
                    <a:pt x="1234" y="2067"/>
                  </a:lnTo>
                  <a:lnTo>
                    <a:pt x="1241" y="2060"/>
                  </a:lnTo>
                  <a:lnTo>
                    <a:pt x="1246" y="2057"/>
                  </a:lnTo>
                  <a:lnTo>
                    <a:pt x="1251" y="2057"/>
                  </a:lnTo>
                  <a:lnTo>
                    <a:pt x="1256" y="2058"/>
                  </a:lnTo>
                  <a:lnTo>
                    <a:pt x="1261" y="2062"/>
                  </a:lnTo>
                  <a:lnTo>
                    <a:pt x="1259" y="2052"/>
                  </a:lnTo>
                  <a:lnTo>
                    <a:pt x="1257" y="2043"/>
                  </a:lnTo>
                  <a:lnTo>
                    <a:pt x="1256" y="2033"/>
                  </a:lnTo>
                  <a:lnTo>
                    <a:pt x="1257" y="2027"/>
                  </a:lnTo>
                  <a:close/>
                </a:path>
              </a:pathLst>
            </a:custGeom>
            <a:solidFill>
              <a:srgbClr val="ffffff">
                <a:alpha val="10000"/>
              </a:srgbClr>
            </a:solidFill>
            <a:ln cap="sq" w="9360">
              <a:solidFill>
                <a:srgbClr val="ffffff"/>
              </a:solidFill>
              <a:round/>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6" name=""/>
            <p:cNvSpPr/>
            <p:nvPr/>
          </p:nvSpPr>
          <p:spPr>
            <a:xfrm>
              <a:off x="3086280" y="3249720"/>
              <a:ext cx="4680" cy="4680"/>
            </a:xfrm>
            <a:custGeom>
              <a:avLst/>
              <a:gdLst/>
              <a:ahLst/>
              <a:rect l="l" t="t" r="r" b="b"/>
              <a:pathLst>
                <a:path w="5" h="5">
                  <a:moveTo>
                    <a:pt x="5" y="3"/>
                  </a:moveTo>
                  <a:lnTo>
                    <a:pt x="0" y="0"/>
                  </a:lnTo>
                  <a:lnTo>
                    <a:pt x="2" y="3"/>
                  </a:lnTo>
                  <a:lnTo>
                    <a:pt x="3" y="5"/>
                  </a:lnTo>
                  <a:lnTo>
                    <a:pt x="5" y="3"/>
                  </a:lnTo>
                  <a:lnTo>
                    <a:pt x="5" y="3"/>
                  </a:lnTo>
                  <a:close/>
                </a:path>
              </a:pathLst>
            </a:custGeom>
            <a:solidFill>
              <a:srgbClr val="000000"/>
            </a:solidFill>
            <a:ln w="0">
              <a:noFill/>
            </a:ln>
          </p:spPr>
          <p:style>
            <a:lnRef idx="0"/>
            <a:fillRef idx="0"/>
            <a:effectRef idx="0"/>
            <a:fontRef idx="minor"/>
          </p:style>
          <p:txBody>
            <a:bodyPr wrap="none" lIns="90000" rIns="90000" tIns="-42120" bIns="-421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7" name=""/>
            <p:cNvSpPr/>
            <p:nvPr/>
          </p:nvSpPr>
          <p:spPr>
            <a:xfrm>
              <a:off x="4379760" y="4205160"/>
              <a:ext cx="2567160" cy="993960"/>
            </a:xfrm>
            <a:custGeom>
              <a:avLst/>
              <a:gdLst/>
              <a:ahLst/>
              <a:rect l="l" t="t" r="r" b="b"/>
              <a:pathLst>
                <a:path w="1881" h="744">
                  <a:moveTo>
                    <a:pt x="1298" y="222"/>
                  </a:moveTo>
                  <a:lnTo>
                    <a:pt x="1283" y="225"/>
                  </a:lnTo>
                  <a:lnTo>
                    <a:pt x="1263" y="230"/>
                  </a:lnTo>
                  <a:lnTo>
                    <a:pt x="1239" y="235"/>
                  </a:lnTo>
                  <a:lnTo>
                    <a:pt x="1214" y="242"/>
                  </a:lnTo>
                  <a:lnTo>
                    <a:pt x="1186" y="249"/>
                  </a:lnTo>
                  <a:lnTo>
                    <a:pt x="1157" y="255"/>
                  </a:lnTo>
                  <a:lnTo>
                    <a:pt x="1127" y="262"/>
                  </a:lnTo>
                  <a:lnTo>
                    <a:pt x="1097" y="269"/>
                  </a:lnTo>
                  <a:lnTo>
                    <a:pt x="1067" y="275"/>
                  </a:lnTo>
                  <a:lnTo>
                    <a:pt x="1039" y="284"/>
                  </a:lnTo>
                  <a:lnTo>
                    <a:pt x="1012" y="290"/>
                  </a:lnTo>
                  <a:lnTo>
                    <a:pt x="989" y="297"/>
                  </a:lnTo>
                  <a:lnTo>
                    <a:pt x="967" y="302"/>
                  </a:lnTo>
                  <a:lnTo>
                    <a:pt x="949" y="309"/>
                  </a:lnTo>
                  <a:lnTo>
                    <a:pt x="936" y="314"/>
                  </a:lnTo>
                  <a:lnTo>
                    <a:pt x="927" y="317"/>
                  </a:lnTo>
                  <a:lnTo>
                    <a:pt x="914" y="324"/>
                  </a:lnTo>
                  <a:lnTo>
                    <a:pt x="901" y="329"/>
                  </a:lnTo>
                  <a:lnTo>
                    <a:pt x="887" y="337"/>
                  </a:lnTo>
                  <a:lnTo>
                    <a:pt x="872" y="344"/>
                  </a:lnTo>
                  <a:lnTo>
                    <a:pt x="857" y="355"/>
                  </a:lnTo>
                  <a:lnTo>
                    <a:pt x="842" y="369"/>
                  </a:lnTo>
                  <a:lnTo>
                    <a:pt x="826" y="389"/>
                  </a:lnTo>
                  <a:lnTo>
                    <a:pt x="807" y="412"/>
                  </a:lnTo>
                  <a:lnTo>
                    <a:pt x="791" y="437"/>
                  </a:lnTo>
                  <a:lnTo>
                    <a:pt x="776" y="460"/>
                  </a:lnTo>
                  <a:lnTo>
                    <a:pt x="761" y="482"/>
                  </a:lnTo>
                  <a:lnTo>
                    <a:pt x="747" y="502"/>
                  </a:lnTo>
                  <a:lnTo>
                    <a:pt x="737" y="519"/>
                  </a:lnTo>
                  <a:lnTo>
                    <a:pt x="727" y="532"/>
                  </a:lnTo>
                  <a:lnTo>
                    <a:pt x="719" y="542"/>
                  </a:lnTo>
                  <a:lnTo>
                    <a:pt x="712" y="549"/>
                  </a:lnTo>
                  <a:lnTo>
                    <a:pt x="706" y="554"/>
                  </a:lnTo>
                  <a:lnTo>
                    <a:pt x="699" y="559"/>
                  </a:lnTo>
                  <a:lnTo>
                    <a:pt x="689" y="564"/>
                  </a:lnTo>
                  <a:lnTo>
                    <a:pt x="679" y="565"/>
                  </a:lnTo>
                  <a:lnTo>
                    <a:pt x="667" y="567"/>
                  </a:lnTo>
                  <a:lnTo>
                    <a:pt x="657" y="567"/>
                  </a:lnTo>
                  <a:lnTo>
                    <a:pt x="647" y="564"/>
                  </a:lnTo>
                  <a:lnTo>
                    <a:pt x="637" y="559"/>
                  </a:lnTo>
                  <a:lnTo>
                    <a:pt x="629" y="552"/>
                  </a:lnTo>
                  <a:lnTo>
                    <a:pt x="622" y="544"/>
                  </a:lnTo>
                  <a:lnTo>
                    <a:pt x="615" y="535"/>
                  </a:lnTo>
                  <a:lnTo>
                    <a:pt x="609" y="529"/>
                  </a:lnTo>
                  <a:lnTo>
                    <a:pt x="602" y="524"/>
                  </a:lnTo>
                  <a:lnTo>
                    <a:pt x="595" y="520"/>
                  </a:lnTo>
                  <a:lnTo>
                    <a:pt x="589" y="519"/>
                  </a:lnTo>
                  <a:lnTo>
                    <a:pt x="580" y="520"/>
                  </a:lnTo>
                  <a:lnTo>
                    <a:pt x="569" y="524"/>
                  </a:lnTo>
                  <a:lnTo>
                    <a:pt x="554" y="525"/>
                  </a:lnTo>
                  <a:lnTo>
                    <a:pt x="537" y="525"/>
                  </a:lnTo>
                  <a:lnTo>
                    <a:pt x="519" y="525"/>
                  </a:lnTo>
                  <a:lnTo>
                    <a:pt x="499" y="525"/>
                  </a:lnTo>
                  <a:lnTo>
                    <a:pt x="480" y="524"/>
                  </a:lnTo>
                  <a:lnTo>
                    <a:pt x="462" y="522"/>
                  </a:lnTo>
                  <a:lnTo>
                    <a:pt x="447" y="520"/>
                  </a:lnTo>
                  <a:lnTo>
                    <a:pt x="432" y="519"/>
                  </a:lnTo>
                  <a:lnTo>
                    <a:pt x="417" y="515"/>
                  </a:lnTo>
                  <a:lnTo>
                    <a:pt x="404" y="510"/>
                  </a:lnTo>
                  <a:lnTo>
                    <a:pt x="389" y="507"/>
                  </a:lnTo>
                  <a:lnTo>
                    <a:pt x="375" y="504"/>
                  </a:lnTo>
                  <a:lnTo>
                    <a:pt x="364" y="500"/>
                  </a:lnTo>
                  <a:lnTo>
                    <a:pt x="352" y="497"/>
                  </a:lnTo>
                  <a:lnTo>
                    <a:pt x="342" y="497"/>
                  </a:lnTo>
                  <a:lnTo>
                    <a:pt x="329" y="497"/>
                  </a:lnTo>
                  <a:lnTo>
                    <a:pt x="307" y="497"/>
                  </a:lnTo>
                  <a:lnTo>
                    <a:pt x="280" y="499"/>
                  </a:lnTo>
                  <a:lnTo>
                    <a:pt x="250" y="499"/>
                  </a:lnTo>
                  <a:lnTo>
                    <a:pt x="224" y="500"/>
                  </a:lnTo>
                  <a:lnTo>
                    <a:pt x="200" y="502"/>
                  </a:lnTo>
                  <a:lnTo>
                    <a:pt x="184" y="502"/>
                  </a:lnTo>
                  <a:lnTo>
                    <a:pt x="177" y="502"/>
                  </a:lnTo>
                  <a:lnTo>
                    <a:pt x="175" y="504"/>
                  </a:lnTo>
                  <a:lnTo>
                    <a:pt x="170" y="505"/>
                  </a:lnTo>
                  <a:lnTo>
                    <a:pt x="164" y="509"/>
                  </a:lnTo>
                  <a:lnTo>
                    <a:pt x="155" y="510"/>
                  </a:lnTo>
                  <a:lnTo>
                    <a:pt x="144" y="512"/>
                  </a:lnTo>
                  <a:lnTo>
                    <a:pt x="132" y="512"/>
                  </a:lnTo>
                  <a:lnTo>
                    <a:pt x="120" y="509"/>
                  </a:lnTo>
                  <a:lnTo>
                    <a:pt x="107" y="502"/>
                  </a:lnTo>
                  <a:lnTo>
                    <a:pt x="95" y="494"/>
                  </a:lnTo>
                  <a:lnTo>
                    <a:pt x="87" y="485"/>
                  </a:lnTo>
                  <a:lnTo>
                    <a:pt x="80" y="479"/>
                  </a:lnTo>
                  <a:lnTo>
                    <a:pt x="75" y="475"/>
                  </a:lnTo>
                  <a:lnTo>
                    <a:pt x="70" y="472"/>
                  </a:lnTo>
                  <a:lnTo>
                    <a:pt x="65" y="470"/>
                  </a:lnTo>
                  <a:lnTo>
                    <a:pt x="60" y="470"/>
                  </a:lnTo>
                  <a:lnTo>
                    <a:pt x="53" y="474"/>
                  </a:lnTo>
                  <a:lnTo>
                    <a:pt x="47" y="480"/>
                  </a:lnTo>
                  <a:lnTo>
                    <a:pt x="50" y="489"/>
                  </a:lnTo>
                  <a:lnTo>
                    <a:pt x="55" y="500"/>
                  </a:lnTo>
                  <a:lnTo>
                    <a:pt x="53" y="515"/>
                  </a:lnTo>
                  <a:lnTo>
                    <a:pt x="50" y="535"/>
                  </a:lnTo>
                  <a:lnTo>
                    <a:pt x="48" y="557"/>
                  </a:lnTo>
                  <a:lnTo>
                    <a:pt x="50" y="577"/>
                  </a:lnTo>
                  <a:lnTo>
                    <a:pt x="50" y="592"/>
                  </a:lnTo>
                  <a:lnTo>
                    <a:pt x="47" y="606"/>
                  </a:lnTo>
                  <a:lnTo>
                    <a:pt x="40" y="621"/>
                  </a:lnTo>
                  <a:lnTo>
                    <a:pt x="33" y="634"/>
                  </a:lnTo>
                  <a:lnTo>
                    <a:pt x="30" y="639"/>
                  </a:lnTo>
                  <a:lnTo>
                    <a:pt x="0" y="662"/>
                  </a:lnTo>
                  <a:lnTo>
                    <a:pt x="3" y="666"/>
                  </a:lnTo>
                  <a:lnTo>
                    <a:pt x="8" y="669"/>
                  </a:lnTo>
                  <a:lnTo>
                    <a:pt x="13" y="674"/>
                  </a:lnTo>
                  <a:lnTo>
                    <a:pt x="18" y="677"/>
                  </a:lnTo>
                  <a:lnTo>
                    <a:pt x="32" y="684"/>
                  </a:lnTo>
                  <a:lnTo>
                    <a:pt x="43" y="687"/>
                  </a:lnTo>
                  <a:lnTo>
                    <a:pt x="55" y="687"/>
                  </a:lnTo>
                  <a:lnTo>
                    <a:pt x="67" y="686"/>
                  </a:lnTo>
                  <a:lnTo>
                    <a:pt x="77" y="684"/>
                  </a:lnTo>
                  <a:lnTo>
                    <a:pt x="83" y="681"/>
                  </a:lnTo>
                  <a:lnTo>
                    <a:pt x="88" y="679"/>
                  </a:lnTo>
                  <a:lnTo>
                    <a:pt x="90" y="677"/>
                  </a:lnTo>
                  <a:lnTo>
                    <a:pt x="97" y="677"/>
                  </a:lnTo>
                  <a:lnTo>
                    <a:pt x="114" y="677"/>
                  </a:lnTo>
                  <a:lnTo>
                    <a:pt x="137" y="676"/>
                  </a:lnTo>
                  <a:lnTo>
                    <a:pt x="164" y="674"/>
                  </a:lnTo>
                  <a:lnTo>
                    <a:pt x="194" y="674"/>
                  </a:lnTo>
                  <a:lnTo>
                    <a:pt x="220" y="672"/>
                  </a:lnTo>
                  <a:lnTo>
                    <a:pt x="242" y="672"/>
                  </a:lnTo>
                  <a:lnTo>
                    <a:pt x="255" y="672"/>
                  </a:lnTo>
                  <a:lnTo>
                    <a:pt x="265" y="674"/>
                  </a:lnTo>
                  <a:lnTo>
                    <a:pt x="275" y="676"/>
                  </a:lnTo>
                  <a:lnTo>
                    <a:pt x="289" y="679"/>
                  </a:lnTo>
                  <a:lnTo>
                    <a:pt x="302" y="682"/>
                  </a:lnTo>
                  <a:lnTo>
                    <a:pt x="315" y="687"/>
                  </a:lnTo>
                  <a:lnTo>
                    <a:pt x="330" y="691"/>
                  </a:lnTo>
                  <a:lnTo>
                    <a:pt x="344" y="694"/>
                  </a:lnTo>
                  <a:lnTo>
                    <a:pt x="359" y="697"/>
                  </a:lnTo>
                  <a:lnTo>
                    <a:pt x="374" y="699"/>
                  </a:lnTo>
                  <a:lnTo>
                    <a:pt x="392" y="701"/>
                  </a:lnTo>
                  <a:lnTo>
                    <a:pt x="412" y="701"/>
                  </a:lnTo>
                  <a:lnTo>
                    <a:pt x="430" y="702"/>
                  </a:lnTo>
                  <a:lnTo>
                    <a:pt x="450" y="702"/>
                  </a:lnTo>
                  <a:lnTo>
                    <a:pt x="467" y="701"/>
                  </a:lnTo>
                  <a:lnTo>
                    <a:pt x="480" y="701"/>
                  </a:lnTo>
                  <a:lnTo>
                    <a:pt x="492" y="697"/>
                  </a:lnTo>
                  <a:lnTo>
                    <a:pt x="500" y="696"/>
                  </a:lnTo>
                  <a:lnTo>
                    <a:pt x="507" y="696"/>
                  </a:lnTo>
                  <a:lnTo>
                    <a:pt x="514" y="699"/>
                  </a:lnTo>
                  <a:lnTo>
                    <a:pt x="520" y="706"/>
                  </a:lnTo>
                  <a:lnTo>
                    <a:pt x="527" y="712"/>
                  </a:lnTo>
                  <a:lnTo>
                    <a:pt x="534" y="719"/>
                  </a:lnTo>
                  <a:lnTo>
                    <a:pt x="540" y="727"/>
                  </a:lnTo>
                  <a:lnTo>
                    <a:pt x="549" y="734"/>
                  </a:lnTo>
                  <a:lnTo>
                    <a:pt x="559" y="741"/>
                  </a:lnTo>
                  <a:lnTo>
                    <a:pt x="569" y="742"/>
                  </a:lnTo>
                  <a:lnTo>
                    <a:pt x="579" y="744"/>
                  </a:lnTo>
                  <a:lnTo>
                    <a:pt x="590" y="742"/>
                  </a:lnTo>
                  <a:lnTo>
                    <a:pt x="600" y="739"/>
                  </a:lnTo>
                  <a:lnTo>
                    <a:pt x="610" y="736"/>
                  </a:lnTo>
                  <a:lnTo>
                    <a:pt x="619" y="731"/>
                  </a:lnTo>
                  <a:lnTo>
                    <a:pt x="625" y="726"/>
                  </a:lnTo>
                  <a:lnTo>
                    <a:pt x="632" y="719"/>
                  </a:lnTo>
                  <a:lnTo>
                    <a:pt x="639" y="707"/>
                  </a:lnTo>
                  <a:lnTo>
                    <a:pt x="649" y="694"/>
                  </a:lnTo>
                  <a:lnTo>
                    <a:pt x="661" y="677"/>
                  </a:lnTo>
                  <a:lnTo>
                    <a:pt x="672" y="659"/>
                  </a:lnTo>
                  <a:lnTo>
                    <a:pt x="687" y="637"/>
                  </a:lnTo>
                  <a:lnTo>
                    <a:pt x="704" y="614"/>
                  </a:lnTo>
                  <a:lnTo>
                    <a:pt x="721" y="587"/>
                  </a:lnTo>
                  <a:lnTo>
                    <a:pt x="737" y="564"/>
                  </a:lnTo>
                  <a:lnTo>
                    <a:pt x="754" y="544"/>
                  </a:lnTo>
                  <a:lnTo>
                    <a:pt x="769" y="530"/>
                  </a:lnTo>
                  <a:lnTo>
                    <a:pt x="786" y="519"/>
                  </a:lnTo>
                  <a:lnTo>
                    <a:pt x="799" y="512"/>
                  </a:lnTo>
                  <a:lnTo>
                    <a:pt x="812" y="504"/>
                  </a:lnTo>
                  <a:lnTo>
                    <a:pt x="826" y="499"/>
                  </a:lnTo>
                  <a:lnTo>
                    <a:pt x="839" y="492"/>
                  </a:lnTo>
                  <a:lnTo>
                    <a:pt x="847" y="489"/>
                  </a:lnTo>
                  <a:lnTo>
                    <a:pt x="862" y="484"/>
                  </a:lnTo>
                  <a:lnTo>
                    <a:pt x="879" y="479"/>
                  </a:lnTo>
                  <a:lnTo>
                    <a:pt x="901" y="472"/>
                  </a:lnTo>
                  <a:lnTo>
                    <a:pt x="926" y="465"/>
                  </a:lnTo>
                  <a:lnTo>
                    <a:pt x="952" y="459"/>
                  </a:lnTo>
                  <a:lnTo>
                    <a:pt x="981" y="452"/>
                  </a:lnTo>
                  <a:lnTo>
                    <a:pt x="1009" y="444"/>
                  </a:lnTo>
                  <a:lnTo>
                    <a:pt x="1039" y="437"/>
                  </a:lnTo>
                  <a:lnTo>
                    <a:pt x="1069" y="430"/>
                  </a:lnTo>
                  <a:lnTo>
                    <a:pt x="1097" y="424"/>
                  </a:lnTo>
                  <a:lnTo>
                    <a:pt x="1126" y="417"/>
                  </a:lnTo>
                  <a:lnTo>
                    <a:pt x="1151" y="410"/>
                  </a:lnTo>
                  <a:lnTo>
                    <a:pt x="1174" y="405"/>
                  </a:lnTo>
                  <a:lnTo>
                    <a:pt x="1194" y="400"/>
                  </a:lnTo>
                  <a:lnTo>
                    <a:pt x="1209" y="397"/>
                  </a:lnTo>
                  <a:lnTo>
                    <a:pt x="1236" y="390"/>
                  </a:lnTo>
                  <a:lnTo>
                    <a:pt x="1263" y="385"/>
                  </a:lnTo>
                  <a:lnTo>
                    <a:pt x="1289" y="382"/>
                  </a:lnTo>
                  <a:lnTo>
                    <a:pt x="1313" y="379"/>
                  </a:lnTo>
                  <a:lnTo>
                    <a:pt x="1336" y="375"/>
                  </a:lnTo>
                  <a:lnTo>
                    <a:pt x="1354" y="370"/>
                  </a:lnTo>
                  <a:lnTo>
                    <a:pt x="1371" y="365"/>
                  </a:lnTo>
                  <a:lnTo>
                    <a:pt x="1384" y="359"/>
                  </a:lnTo>
                  <a:lnTo>
                    <a:pt x="1394" y="354"/>
                  </a:lnTo>
                  <a:lnTo>
                    <a:pt x="1411" y="345"/>
                  </a:lnTo>
                  <a:lnTo>
                    <a:pt x="1434" y="334"/>
                  </a:lnTo>
                  <a:lnTo>
                    <a:pt x="1463" y="320"/>
                  </a:lnTo>
                  <a:lnTo>
                    <a:pt x="1496" y="307"/>
                  </a:lnTo>
                  <a:lnTo>
                    <a:pt x="1533" y="290"/>
                  </a:lnTo>
                  <a:lnTo>
                    <a:pt x="1571" y="274"/>
                  </a:lnTo>
                  <a:lnTo>
                    <a:pt x="1611" y="255"/>
                  </a:lnTo>
                  <a:lnTo>
                    <a:pt x="1649" y="239"/>
                  </a:lnTo>
                  <a:lnTo>
                    <a:pt x="1688" y="222"/>
                  </a:lnTo>
                  <a:lnTo>
                    <a:pt x="1723" y="207"/>
                  </a:lnTo>
                  <a:lnTo>
                    <a:pt x="1756" y="192"/>
                  </a:lnTo>
                  <a:lnTo>
                    <a:pt x="1783" y="180"/>
                  </a:lnTo>
                  <a:lnTo>
                    <a:pt x="1805" y="170"/>
                  </a:lnTo>
                  <a:lnTo>
                    <a:pt x="1820" y="164"/>
                  </a:lnTo>
                  <a:lnTo>
                    <a:pt x="1826" y="160"/>
                  </a:lnTo>
                  <a:lnTo>
                    <a:pt x="1836" y="152"/>
                  </a:lnTo>
                  <a:lnTo>
                    <a:pt x="1841" y="142"/>
                  </a:lnTo>
                  <a:lnTo>
                    <a:pt x="1845" y="130"/>
                  </a:lnTo>
                  <a:lnTo>
                    <a:pt x="1846" y="117"/>
                  </a:lnTo>
                  <a:lnTo>
                    <a:pt x="1848" y="100"/>
                  </a:lnTo>
                  <a:lnTo>
                    <a:pt x="1851" y="78"/>
                  </a:lnTo>
                  <a:lnTo>
                    <a:pt x="1858" y="57"/>
                  </a:lnTo>
                  <a:lnTo>
                    <a:pt x="1865" y="37"/>
                  </a:lnTo>
                  <a:lnTo>
                    <a:pt x="1868" y="27"/>
                  </a:lnTo>
                  <a:lnTo>
                    <a:pt x="1873" y="18"/>
                  </a:lnTo>
                  <a:lnTo>
                    <a:pt x="1876" y="8"/>
                  </a:lnTo>
                  <a:lnTo>
                    <a:pt x="1881" y="0"/>
                  </a:lnTo>
                  <a:lnTo>
                    <a:pt x="1861" y="10"/>
                  </a:lnTo>
                  <a:lnTo>
                    <a:pt x="1836" y="20"/>
                  </a:lnTo>
                  <a:lnTo>
                    <a:pt x="1808" y="32"/>
                  </a:lnTo>
                  <a:lnTo>
                    <a:pt x="1778" y="45"/>
                  </a:lnTo>
                  <a:lnTo>
                    <a:pt x="1746" y="58"/>
                  </a:lnTo>
                  <a:lnTo>
                    <a:pt x="1714" y="73"/>
                  </a:lnTo>
                  <a:lnTo>
                    <a:pt x="1681" y="88"/>
                  </a:lnTo>
                  <a:lnTo>
                    <a:pt x="1648" y="102"/>
                  </a:lnTo>
                  <a:lnTo>
                    <a:pt x="1616" y="117"/>
                  </a:lnTo>
                  <a:lnTo>
                    <a:pt x="1586" y="130"/>
                  </a:lnTo>
                  <a:lnTo>
                    <a:pt x="1558" y="142"/>
                  </a:lnTo>
                  <a:lnTo>
                    <a:pt x="1533" y="154"/>
                  </a:lnTo>
                  <a:lnTo>
                    <a:pt x="1511" y="164"/>
                  </a:lnTo>
                  <a:lnTo>
                    <a:pt x="1493" y="174"/>
                  </a:lnTo>
                  <a:lnTo>
                    <a:pt x="1479" y="179"/>
                  </a:lnTo>
                  <a:lnTo>
                    <a:pt x="1473" y="184"/>
                  </a:lnTo>
                  <a:lnTo>
                    <a:pt x="1459" y="190"/>
                  </a:lnTo>
                  <a:lnTo>
                    <a:pt x="1443" y="195"/>
                  </a:lnTo>
                  <a:lnTo>
                    <a:pt x="1423" y="199"/>
                  </a:lnTo>
                  <a:lnTo>
                    <a:pt x="1401" y="202"/>
                  </a:lnTo>
                  <a:lnTo>
                    <a:pt x="1376" y="205"/>
                  </a:lnTo>
                  <a:lnTo>
                    <a:pt x="1351" y="210"/>
                  </a:lnTo>
                  <a:lnTo>
                    <a:pt x="1324" y="215"/>
                  </a:lnTo>
                  <a:lnTo>
                    <a:pt x="1298" y="222"/>
                  </a:lnTo>
                  <a:close/>
                </a:path>
              </a:pathLst>
            </a:custGeom>
            <a:solidFill>
              <a:srgbClr val="ffffff">
                <a:alpha val="20000"/>
              </a:srgbClr>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8" name=""/>
            <p:cNvSpPr/>
            <p:nvPr/>
          </p:nvSpPr>
          <p:spPr>
            <a:xfrm>
              <a:off x="2813040" y="1346040"/>
              <a:ext cx="4348080" cy="3579840"/>
            </a:xfrm>
            <a:custGeom>
              <a:avLst/>
              <a:gdLst/>
              <a:ahLst/>
              <a:rect l="l" t="t" r="r" b="b"/>
              <a:pathLst>
                <a:path w="3185" h="2678">
                  <a:moveTo>
                    <a:pt x="380" y="90"/>
                  </a:moveTo>
                  <a:lnTo>
                    <a:pt x="683" y="28"/>
                  </a:lnTo>
                  <a:lnTo>
                    <a:pt x="693" y="0"/>
                  </a:lnTo>
                  <a:lnTo>
                    <a:pt x="695" y="0"/>
                  </a:lnTo>
                  <a:lnTo>
                    <a:pt x="698" y="0"/>
                  </a:lnTo>
                  <a:lnTo>
                    <a:pt x="704" y="0"/>
                  </a:lnTo>
                  <a:lnTo>
                    <a:pt x="712" y="0"/>
                  </a:lnTo>
                  <a:lnTo>
                    <a:pt x="720" y="0"/>
                  </a:lnTo>
                  <a:lnTo>
                    <a:pt x="734" y="2"/>
                  </a:lnTo>
                  <a:lnTo>
                    <a:pt x="747" y="5"/>
                  </a:lnTo>
                  <a:lnTo>
                    <a:pt x="764" y="10"/>
                  </a:lnTo>
                  <a:lnTo>
                    <a:pt x="782" y="15"/>
                  </a:lnTo>
                  <a:lnTo>
                    <a:pt x="799" y="20"/>
                  </a:lnTo>
                  <a:lnTo>
                    <a:pt x="817" y="23"/>
                  </a:lnTo>
                  <a:lnTo>
                    <a:pt x="832" y="28"/>
                  </a:lnTo>
                  <a:lnTo>
                    <a:pt x="847" y="32"/>
                  </a:lnTo>
                  <a:lnTo>
                    <a:pt x="862" y="35"/>
                  </a:lnTo>
                  <a:lnTo>
                    <a:pt x="874" y="40"/>
                  </a:lnTo>
                  <a:lnTo>
                    <a:pt x="884" y="43"/>
                  </a:lnTo>
                  <a:lnTo>
                    <a:pt x="894" y="48"/>
                  </a:lnTo>
                  <a:lnTo>
                    <a:pt x="907" y="57"/>
                  </a:lnTo>
                  <a:lnTo>
                    <a:pt x="924" y="68"/>
                  </a:lnTo>
                  <a:lnTo>
                    <a:pt x="942" y="82"/>
                  </a:lnTo>
                  <a:lnTo>
                    <a:pt x="962" y="97"/>
                  </a:lnTo>
                  <a:lnTo>
                    <a:pt x="985" y="112"/>
                  </a:lnTo>
                  <a:lnTo>
                    <a:pt x="1009" y="127"/>
                  </a:lnTo>
                  <a:lnTo>
                    <a:pt x="1035" y="142"/>
                  </a:lnTo>
                  <a:lnTo>
                    <a:pt x="1060" y="155"/>
                  </a:lnTo>
                  <a:lnTo>
                    <a:pt x="1080" y="168"/>
                  </a:lnTo>
                  <a:lnTo>
                    <a:pt x="1099" y="180"/>
                  </a:lnTo>
                  <a:lnTo>
                    <a:pt x="1114" y="190"/>
                  </a:lnTo>
                  <a:lnTo>
                    <a:pt x="1124" y="197"/>
                  </a:lnTo>
                  <a:lnTo>
                    <a:pt x="1132" y="203"/>
                  </a:lnTo>
                  <a:lnTo>
                    <a:pt x="1137" y="207"/>
                  </a:lnTo>
                  <a:lnTo>
                    <a:pt x="1139" y="208"/>
                  </a:lnTo>
                  <a:lnTo>
                    <a:pt x="1142" y="210"/>
                  </a:lnTo>
                  <a:lnTo>
                    <a:pt x="1150" y="215"/>
                  </a:lnTo>
                  <a:lnTo>
                    <a:pt x="1162" y="223"/>
                  </a:lnTo>
                  <a:lnTo>
                    <a:pt x="1177" y="233"/>
                  </a:lnTo>
                  <a:lnTo>
                    <a:pt x="1192" y="243"/>
                  </a:lnTo>
                  <a:lnTo>
                    <a:pt x="1205" y="255"/>
                  </a:lnTo>
                  <a:lnTo>
                    <a:pt x="1217" y="265"/>
                  </a:lnTo>
                  <a:lnTo>
                    <a:pt x="1225" y="275"/>
                  </a:lnTo>
                  <a:lnTo>
                    <a:pt x="1234" y="285"/>
                  </a:lnTo>
                  <a:lnTo>
                    <a:pt x="1245" y="297"/>
                  </a:lnTo>
                  <a:lnTo>
                    <a:pt x="1259" y="310"/>
                  </a:lnTo>
                  <a:lnTo>
                    <a:pt x="1276" y="325"/>
                  </a:lnTo>
                  <a:lnTo>
                    <a:pt x="1292" y="340"/>
                  </a:lnTo>
                  <a:lnTo>
                    <a:pt x="1309" y="354"/>
                  </a:lnTo>
                  <a:lnTo>
                    <a:pt x="1324" y="365"/>
                  </a:lnTo>
                  <a:lnTo>
                    <a:pt x="1334" y="375"/>
                  </a:lnTo>
                  <a:lnTo>
                    <a:pt x="1346" y="385"/>
                  </a:lnTo>
                  <a:lnTo>
                    <a:pt x="1362" y="397"/>
                  </a:lnTo>
                  <a:lnTo>
                    <a:pt x="1381" y="410"/>
                  </a:lnTo>
                  <a:lnTo>
                    <a:pt x="1401" y="424"/>
                  </a:lnTo>
                  <a:lnTo>
                    <a:pt x="1421" y="437"/>
                  </a:lnTo>
                  <a:lnTo>
                    <a:pt x="1436" y="445"/>
                  </a:lnTo>
                  <a:lnTo>
                    <a:pt x="1447" y="454"/>
                  </a:lnTo>
                  <a:lnTo>
                    <a:pt x="1451" y="455"/>
                  </a:lnTo>
                  <a:lnTo>
                    <a:pt x="1489" y="509"/>
                  </a:lnTo>
                  <a:lnTo>
                    <a:pt x="1497" y="509"/>
                  </a:lnTo>
                  <a:lnTo>
                    <a:pt x="1517" y="509"/>
                  </a:lnTo>
                  <a:lnTo>
                    <a:pt x="1546" y="509"/>
                  </a:lnTo>
                  <a:lnTo>
                    <a:pt x="1581" y="509"/>
                  </a:lnTo>
                  <a:lnTo>
                    <a:pt x="1617" y="510"/>
                  </a:lnTo>
                  <a:lnTo>
                    <a:pt x="1651" y="514"/>
                  </a:lnTo>
                  <a:lnTo>
                    <a:pt x="1677" y="520"/>
                  </a:lnTo>
                  <a:lnTo>
                    <a:pt x="1694" y="527"/>
                  </a:lnTo>
                  <a:lnTo>
                    <a:pt x="1696" y="527"/>
                  </a:lnTo>
                  <a:lnTo>
                    <a:pt x="1702" y="525"/>
                  </a:lnTo>
                  <a:lnTo>
                    <a:pt x="1712" y="522"/>
                  </a:lnTo>
                  <a:lnTo>
                    <a:pt x="1722" y="520"/>
                  </a:lnTo>
                  <a:lnTo>
                    <a:pt x="1736" y="519"/>
                  </a:lnTo>
                  <a:lnTo>
                    <a:pt x="1747" y="515"/>
                  </a:lnTo>
                  <a:lnTo>
                    <a:pt x="1759" y="514"/>
                  </a:lnTo>
                  <a:lnTo>
                    <a:pt x="1769" y="514"/>
                  </a:lnTo>
                  <a:lnTo>
                    <a:pt x="1782" y="515"/>
                  </a:lnTo>
                  <a:lnTo>
                    <a:pt x="1801" y="519"/>
                  </a:lnTo>
                  <a:lnTo>
                    <a:pt x="1823" y="522"/>
                  </a:lnTo>
                  <a:lnTo>
                    <a:pt x="1848" y="527"/>
                  </a:lnTo>
                  <a:lnTo>
                    <a:pt x="1869" y="534"/>
                  </a:lnTo>
                  <a:lnTo>
                    <a:pt x="1889" y="537"/>
                  </a:lnTo>
                  <a:lnTo>
                    <a:pt x="1903" y="540"/>
                  </a:lnTo>
                  <a:lnTo>
                    <a:pt x="1908" y="542"/>
                  </a:lnTo>
                  <a:lnTo>
                    <a:pt x="1926" y="604"/>
                  </a:lnTo>
                  <a:lnTo>
                    <a:pt x="2044" y="604"/>
                  </a:lnTo>
                  <a:lnTo>
                    <a:pt x="2064" y="689"/>
                  </a:lnTo>
                  <a:lnTo>
                    <a:pt x="2071" y="692"/>
                  </a:lnTo>
                  <a:lnTo>
                    <a:pt x="2083" y="704"/>
                  </a:lnTo>
                  <a:lnTo>
                    <a:pt x="2093" y="722"/>
                  </a:lnTo>
                  <a:lnTo>
                    <a:pt x="2093" y="746"/>
                  </a:lnTo>
                  <a:lnTo>
                    <a:pt x="2116" y="784"/>
                  </a:lnTo>
                  <a:lnTo>
                    <a:pt x="2154" y="769"/>
                  </a:lnTo>
                  <a:lnTo>
                    <a:pt x="2158" y="774"/>
                  </a:lnTo>
                  <a:lnTo>
                    <a:pt x="2164" y="786"/>
                  </a:lnTo>
                  <a:lnTo>
                    <a:pt x="2169" y="801"/>
                  </a:lnTo>
                  <a:lnTo>
                    <a:pt x="2173" y="812"/>
                  </a:lnTo>
                  <a:lnTo>
                    <a:pt x="2176" y="824"/>
                  </a:lnTo>
                  <a:lnTo>
                    <a:pt x="2183" y="834"/>
                  </a:lnTo>
                  <a:lnTo>
                    <a:pt x="2189" y="842"/>
                  </a:lnTo>
                  <a:lnTo>
                    <a:pt x="2193" y="846"/>
                  </a:lnTo>
                  <a:lnTo>
                    <a:pt x="2201" y="822"/>
                  </a:lnTo>
                  <a:lnTo>
                    <a:pt x="2226" y="869"/>
                  </a:lnTo>
                  <a:lnTo>
                    <a:pt x="2228" y="869"/>
                  </a:lnTo>
                  <a:lnTo>
                    <a:pt x="2234" y="871"/>
                  </a:lnTo>
                  <a:lnTo>
                    <a:pt x="2244" y="874"/>
                  </a:lnTo>
                  <a:lnTo>
                    <a:pt x="2254" y="877"/>
                  </a:lnTo>
                  <a:lnTo>
                    <a:pt x="2266" y="882"/>
                  </a:lnTo>
                  <a:lnTo>
                    <a:pt x="2276" y="887"/>
                  </a:lnTo>
                  <a:lnTo>
                    <a:pt x="2284" y="894"/>
                  </a:lnTo>
                  <a:lnTo>
                    <a:pt x="2288" y="902"/>
                  </a:lnTo>
                  <a:lnTo>
                    <a:pt x="2289" y="921"/>
                  </a:lnTo>
                  <a:lnTo>
                    <a:pt x="2293" y="937"/>
                  </a:lnTo>
                  <a:lnTo>
                    <a:pt x="2296" y="952"/>
                  </a:lnTo>
                  <a:lnTo>
                    <a:pt x="2306" y="964"/>
                  </a:lnTo>
                  <a:lnTo>
                    <a:pt x="2316" y="979"/>
                  </a:lnTo>
                  <a:lnTo>
                    <a:pt x="2321" y="996"/>
                  </a:lnTo>
                  <a:lnTo>
                    <a:pt x="2318" y="1011"/>
                  </a:lnTo>
                  <a:lnTo>
                    <a:pt x="2311" y="1017"/>
                  </a:lnTo>
                  <a:lnTo>
                    <a:pt x="2303" y="1019"/>
                  </a:lnTo>
                  <a:lnTo>
                    <a:pt x="2299" y="1024"/>
                  </a:lnTo>
                  <a:lnTo>
                    <a:pt x="2301" y="1032"/>
                  </a:lnTo>
                  <a:lnTo>
                    <a:pt x="2306" y="1046"/>
                  </a:lnTo>
                  <a:lnTo>
                    <a:pt x="2313" y="1061"/>
                  </a:lnTo>
                  <a:lnTo>
                    <a:pt x="2319" y="1076"/>
                  </a:lnTo>
                  <a:lnTo>
                    <a:pt x="2324" y="1092"/>
                  </a:lnTo>
                  <a:lnTo>
                    <a:pt x="2329" y="1107"/>
                  </a:lnTo>
                  <a:lnTo>
                    <a:pt x="2336" y="1117"/>
                  </a:lnTo>
                  <a:lnTo>
                    <a:pt x="2344" y="1121"/>
                  </a:lnTo>
                  <a:lnTo>
                    <a:pt x="2351" y="1121"/>
                  </a:lnTo>
                  <a:lnTo>
                    <a:pt x="2354" y="1121"/>
                  </a:lnTo>
                  <a:lnTo>
                    <a:pt x="2356" y="1129"/>
                  </a:lnTo>
                  <a:lnTo>
                    <a:pt x="2365" y="1149"/>
                  </a:lnTo>
                  <a:lnTo>
                    <a:pt x="2375" y="1174"/>
                  </a:lnTo>
                  <a:lnTo>
                    <a:pt x="2388" y="1192"/>
                  </a:lnTo>
                  <a:lnTo>
                    <a:pt x="2395" y="1201"/>
                  </a:lnTo>
                  <a:lnTo>
                    <a:pt x="2400" y="1209"/>
                  </a:lnTo>
                  <a:lnTo>
                    <a:pt x="2405" y="1217"/>
                  </a:lnTo>
                  <a:lnTo>
                    <a:pt x="2411" y="1227"/>
                  </a:lnTo>
                  <a:lnTo>
                    <a:pt x="2416" y="1236"/>
                  </a:lnTo>
                  <a:lnTo>
                    <a:pt x="2425" y="1244"/>
                  </a:lnTo>
                  <a:lnTo>
                    <a:pt x="2433" y="1253"/>
                  </a:lnTo>
                  <a:lnTo>
                    <a:pt x="2445" y="1259"/>
                  </a:lnTo>
                  <a:lnTo>
                    <a:pt x="2456" y="1263"/>
                  </a:lnTo>
                  <a:lnTo>
                    <a:pt x="2468" y="1263"/>
                  </a:lnTo>
                  <a:lnTo>
                    <a:pt x="2478" y="1263"/>
                  </a:lnTo>
                  <a:lnTo>
                    <a:pt x="2486" y="1259"/>
                  </a:lnTo>
                  <a:lnTo>
                    <a:pt x="2493" y="1256"/>
                  </a:lnTo>
                  <a:lnTo>
                    <a:pt x="2498" y="1253"/>
                  </a:lnTo>
                  <a:lnTo>
                    <a:pt x="2500" y="1251"/>
                  </a:lnTo>
                  <a:lnTo>
                    <a:pt x="2501" y="1249"/>
                  </a:lnTo>
                  <a:lnTo>
                    <a:pt x="2520" y="1259"/>
                  </a:lnTo>
                  <a:lnTo>
                    <a:pt x="2501" y="1293"/>
                  </a:lnTo>
                  <a:lnTo>
                    <a:pt x="2501" y="1294"/>
                  </a:lnTo>
                  <a:lnTo>
                    <a:pt x="2501" y="1299"/>
                  </a:lnTo>
                  <a:lnTo>
                    <a:pt x="2503" y="1304"/>
                  </a:lnTo>
                  <a:lnTo>
                    <a:pt x="2511" y="1306"/>
                  </a:lnTo>
                  <a:lnTo>
                    <a:pt x="2521" y="1314"/>
                  </a:lnTo>
                  <a:lnTo>
                    <a:pt x="2531" y="1329"/>
                  </a:lnTo>
                  <a:lnTo>
                    <a:pt x="2536" y="1346"/>
                  </a:lnTo>
                  <a:lnTo>
                    <a:pt x="2540" y="1354"/>
                  </a:lnTo>
                  <a:lnTo>
                    <a:pt x="2541" y="1356"/>
                  </a:lnTo>
                  <a:lnTo>
                    <a:pt x="2546" y="1361"/>
                  </a:lnTo>
                  <a:lnTo>
                    <a:pt x="2553" y="1368"/>
                  </a:lnTo>
                  <a:lnTo>
                    <a:pt x="2561" y="1378"/>
                  </a:lnTo>
                  <a:lnTo>
                    <a:pt x="2571" y="1388"/>
                  </a:lnTo>
                  <a:lnTo>
                    <a:pt x="2583" y="1401"/>
                  </a:lnTo>
                  <a:lnTo>
                    <a:pt x="2595" y="1414"/>
                  </a:lnTo>
                  <a:lnTo>
                    <a:pt x="2606" y="1428"/>
                  </a:lnTo>
                  <a:lnTo>
                    <a:pt x="2618" y="1443"/>
                  </a:lnTo>
                  <a:lnTo>
                    <a:pt x="2631" y="1458"/>
                  </a:lnTo>
                  <a:lnTo>
                    <a:pt x="2645" y="1473"/>
                  </a:lnTo>
                  <a:lnTo>
                    <a:pt x="2658" y="1488"/>
                  </a:lnTo>
                  <a:lnTo>
                    <a:pt x="2670" y="1501"/>
                  </a:lnTo>
                  <a:lnTo>
                    <a:pt x="2680" y="1511"/>
                  </a:lnTo>
                  <a:lnTo>
                    <a:pt x="2688" y="1521"/>
                  </a:lnTo>
                  <a:lnTo>
                    <a:pt x="2691" y="1528"/>
                  </a:lnTo>
                  <a:lnTo>
                    <a:pt x="2701" y="1533"/>
                  </a:lnTo>
                  <a:lnTo>
                    <a:pt x="2723" y="1538"/>
                  </a:lnTo>
                  <a:lnTo>
                    <a:pt x="2753" y="1543"/>
                  </a:lnTo>
                  <a:lnTo>
                    <a:pt x="2790" y="1546"/>
                  </a:lnTo>
                  <a:lnTo>
                    <a:pt x="2828" y="1549"/>
                  </a:lnTo>
                  <a:lnTo>
                    <a:pt x="2863" y="1551"/>
                  </a:lnTo>
                  <a:lnTo>
                    <a:pt x="2891" y="1554"/>
                  </a:lnTo>
                  <a:lnTo>
                    <a:pt x="2910" y="1556"/>
                  </a:lnTo>
                  <a:lnTo>
                    <a:pt x="2925" y="1558"/>
                  </a:lnTo>
                  <a:lnTo>
                    <a:pt x="2945" y="1559"/>
                  </a:lnTo>
                  <a:lnTo>
                    <a:pt x="2968" y="1561"/>
                  </a:lnTo>
                  <a:lnTo>
                    <a:pt x="2992" y="1563"/>
                  </a:lnTo>
                  <a:lnTo>
                    <a:pt x="3013" y="1566"/>
                  </a:lnTo>
                  <a:lnTo>
                    <a:pt x="3033" y="1568"/>
                  </a:lnTo>
                  <a:lnTo>
                    <a:pt x="3048" y="1569"/>
                  </a:lnTo>
                  <a:lnTo>
                    <a:pt x="3057" y="1571"/>
                  </a:lnTo>
                  <a:lnTo>
                    <a:pt x="3070" y="1569"/>
                  </a:lnTo>
                  <a:lnTo>
                    <a:pt x="3083" y="1563"/>
                  </a:lnTo>
                  <a:lnTo>
                    <a:pt x="3095" y="1554"/>
                  </a:lnTo>
                  <a:lnTo>
                    <a:pt x="3100" y="1551"/>
                  </a:lnTo>
                  <a:lnTo>
                    <a:pt x="3102" y="1553"/>
                  </a:lnTo>
                  <a:lnTo>
                    <a:pt x="3105" y="1556"/>
                  </a:lnTo>
                  <a:lnTo>
                    <a:pt x="3112" y="1561"/>
                  </a:lnTo>
                  <a:lnTo>
                    <a:pt x="3120" y="1568"/>
                  </a:lnTo>
                  <a:lnTo>
                    <a:pt x="3130" y="1576"/>
                  </a:lnTo>
                  <a:lnTo>
                    <a:pt x="3140" y="1586"/>
                  </a:lnTo>
                  <a:lnTo>
                    <a:pt x="3152" y="1598"/>
                  </a:lnTo>
                  <a:lnTo>
                    <a:pt x="3162" y="1609"/>
                  </a:lnTo>
                  <a:lnTo>
                    <a:pt x="3172" y="1624"/>
                  </a:lnTo>
                  <a:lnTo>
                    <a:pt x="3180" y="1638"/>
                  </a:lnTo>
                  <a:lnTo>
                    <a:pt x="3183" y="1653"/>
                  </a:lnTo>
                  <a:lnTo>
                    <a:pt x="3185" y="1668"/>
                  </a:lnTo>
                  <a:lnTo>
                    <a:pt x="3185" y="1678"/>
                  </a:lnTo>
                  <a:lnTo>
                    <a:pt x="3183" y="1688"/>
                  </a:lnTo>
                  <a:lnTo>
                    <a:pt x="3180" y="1696"/>
                  </a:lnTo>
                  <a:lnTo>
                    <a:pt x="3175" y="1704"/>
                  </a:lnTo>
                  <a:lnTo>
                    <a:pt x="3168" y="1724"/>
                  </a:lnTo>
                  <a:lnTo>
                    <a:pt x="3168" y="1748"/>
                  </a:lnTo>
                  <a:lnTo>
                    <a:pt x="3168" y="1771"/>
                  </a:lnTo>
                  <a:lnTo>
                    <a:pt x="3167" y="1795"/>
                  </a:lnTo>
                  <a:lnTo>
                    <a:pt x="3162" y="1815"/>
                  </a:lnTo>
                  <a:lnTo>
                    <a:pt x="3153" y="1835"/>
                  </a:lnTo>
                  <a:lnTo>
                    <a:pt x="3145" y="1851"/>
                  </a:lnTo>
                  <a:lnTo>
                    <a:pt x="3138" y="1870"/>
                  </a:lnTo>
                  <a:lnTo>
                    <a:pt x="3132" y="1890"/>
                  </a:lnTo>
                  <a:lnTo>
                    <a:pt x="3125" y="1913"/>
                  </a:lnTo>
                  <a:lnTo>
                    <a:pt x="3120" y="1933"/>
                  </a:lnTo>
                  <a:lnTo>
                    <a:pt x="3118" y="1951"/>
                  </a:lnTo>
                  <a:lnTo>
                    <a:pt x="3117" y="1965"/>
                  </a:lnTo>
                  <a:lnTo>
                    <a:pt x="3115" y="1976"/>
                  </a:lnTo>
                  <a:lnTo>
                    <a:pt x="3108" y="1986"/>
                  </a:lnTo>
                  <a:lnTo>
                    <a:pt x="3100" y="1993"/>
                  </a:lnTo>
                  <a:lnTo>
                    <a:pt x="3093" y="1996"/>
                  </a:lnTo>
                  <a:lnTo>
                    <a:pt x="3078" y="2003"/>
                  </a:lnTo>
                  <a:lnTo>
                    <a:pt x="3057" y="2013"/>
                  </a:lnTo>
                  <a:lnTo>
                    <a:pt x="3028" y="2026"/>
                  </a:lnTo>
                  <a:lnTo>
                    <a:pt x="2997" y="2040"/>
                  </a:lnTo>
                  <a:lnTo>
                    <a:pt x="2962" y="2056"/>
                  </a:lnTo>
                  <a:lnTo>
                    <a:pt x="2923" y="2073"/>
                  </a:lnTo>
                  <a:lnTo>
                    <a:pt x="2885" y="2090"/>
                  </a:lnTo>
                  <a:lnTo>
                    <a:pt x="2845" y="2108"/>
                  </a:lnTo>
                  <a:lnTo>
                    <a:pt x="2806" y="2125"/>
                  </a:lnTo>
                  <a:lnTo>
                    <a:pt x="2770" y="2141"/>
                  </a:lnTo>
                  <a:lnTo>
                    <a:pt x="2736" y="2155"/>
                  </a:lnTo>
                  <a:lnTo>
                    <a:pt x="2708" y="2168"/>
                  </a:lnTo>
                  <a:lnTo>
                    <a:pt x="2685" y="2180"/>
                  </a:lnTo>
                  <a:lnTo>
                    <a:pt x="2668" y="2188"/>
                  </a:lnTo>
                  <a:lnTo>
                    <a:pt x="2658" y="2193"/>
                  </a:lnTo>
                  <a:lnTo>
                    <a:pt x="2645" y="2200"/>
                  </a:lnTo>
                  <a:lnTo>
                    <a:pt x="2628" y="2205"/>
                  </a:lnTo>
                  <a:lnTo>
                    <a:pt x="2608" y="2208"/>
                  </a:lnTo>
                  <a:lnTo>
                    <a:pt x="2586" y="2211"/>
                  </a:lnTo>
                  <a:lnTo>
                    <a:pt x="2561" y="2215"/>
                  </a:lnTo>
                  <a:lnTo>
                    <a:pt x="2535" y="2220"/>
                  </a:lnTo>
                  <a:lnTo>
                    <a:pt x="2508" y="2225"/>
                  </a:lnTo>
                  <a:lnTo>
                    <a:pt x="2481" y="2231"/>
                  </a:lnTo>
                  <a:lnTo>
                    <a:pt x="2466" y="2235"/>
                  </a:lnTo>
                  <a:lnTo>
                    <a:pt x="2446" y="2240"/>
                  </a:lnTo>
                  <a:lnTo>
                    <a:pt x="2425" y="2245"/>
                  </a:lnTo>
                  <a:lnTo>
                    <a:pt x="2398" y="2252"/>
                  </a:lnTo>
                  <a:lnTo>
                    <a:pt x="2371" y="2258"/>
                  </a:lnTo>
                  <a:lnTo>
                    <a:pt x="2343" y="2265"/>
                  </a:lnTo>
                  <a:lnTo>
                    <a:pt x="2313" y="2272"/>
                  </a:lnTo>
                  <a:lnTo>
                    <a:pt x="2283" y="2278"/>
                  </a:lnTo>
                  <a:lnTo>
                    <a:pt x="2253" y="2285"/>
                  </a:lnTo>
                  <a:lnTo>
                    <a:pt x="2224" y="2293"/>
                  </a:lnTo>
                  <a:lnTo>
                    <a:pt x="2198" y="2300"/>
                  </a:lnTo>
                  <a:lnTo>
                    <a:pt x="2173" y="2307"/>
                  </a:lnTo>
                  <a:lnTo>
                    <a:pt x="2151" y="2312"/>
                  </a:lnTo>
                  <a:lnTo>
                    <a:pt x="2134" y="2318"/>
                  </a:lnTo>
                  <a:lnTo>
                    <a:pt x="2119" y="2323"/>
                  </a:lnTo>
                  <a:lnTo>
                    <a:pt x="2111" y="2327"/>
                  </a:lnTo>
                  <a:lnTo>
                    <a:pt x="2098" y="2333"/>
                  </a:lnTo>
                  <a:lnTo>
                    <a:pt x="2086" y="2338"/>
                  </a:lnTo>
                  <a:lnTo>
                    <a:pt x="2071" y="2347"/>
                  </a:lnTo>
                  <a:lnTo>
                    <a:pt x="2058" y="2353"/>
                  </a:lnTo>
                  <a:lnTo>
                    <a:pt x="2043" y="2365"/>
                  </a:lnTo>
                  <a:lnTo>
                    <a:pt x="2028" y="2378"/>
                  </a:lnTo>
                  <a:lnTo>
                    <a:pt x="2011" y="2398"/>
                  </a:lnTo>
                  <a:lnTo>
                    <a:pt x="1993" y="2422"/>
                  </a:lnTo>
                  <a:lnTo>
                    <a:pt x="1976" y="2447"/>
                  </a:lnTo>
                  <a:lnTo>
                    <a:pt x="1961" y="2470"/>
                  </a:lnTo>
                  <a:lnTo>
                    <a:pt x="1946" y="2492"/>
                  </a:lnTo>
                  <a:lnTo>
                    <a:pt x="1933" y="2512"/>
                  </a:lnTo>
                  <a:lnTo>
                    <a:pt x="1923" y="2528"/>
                  </a:lnTo>
                  <a:lnTo>
                    <a:pt x="1913" y="2542"/>
                  </a:lnTo>
                  <a:lnTo>
                    <a:pt x="1904" y="2552"/>
                  </a:lnTo>
                  <a:lnTo>
                    <a:pt x="1898" y="2558"/>
                  </a:lnTo>
                  <a:lnTo>
                    <a:pt x="1891" y="2563"/>
                  </a:lnTo>
                  <a:lnTo>
                    <a:pt x="1884" y="2568"/>
                  </a:lnTo>
                  <a:lnTo>
                    <a:pt x="1874" y="2573"/>
                  </a:lnTo>
                  <a:lnTo>
                    <a:pt x="1864" y="2575"/>
                  </a:lnTo>
                  <a:lnTo>
                    <a:pt x="1853" y="2577"/>
                  </a:lnTo>
                  <a:lnTo>
                    <a:pt x="1843" y="2577"/>
                  </a:lnTo>
                  <a:lnTo>
                    <a:pt x="1833" y="2573"/>
                  </a:lnTo>
                  <a:lnTo>
                    <a:pt x="1823" y="2568"/>
                  </a:lnTo>
                  <a:lnTo>
                    <a:pt x="1814" y="2562"/>
                  </a:lnTo>
                  <a:lnTo>
                    <a:pt x="1806" y="2553"/>
                  </a:lnTo>
                  <a:lnTo>
                    <a:pt x="1799" y="2547"/>
                  </a:lnTo>
                  <a:lnTo>
                    <a:pt x="1794" y="2538"/>
                  </a:lnTo>
                  <a:lnTo>
                    <a:pt x="1787" y="2533"/>
                  </a:lnTo>
                  <a:lnTo>
                    <a:pt x="1781" y="2530"/>
                  </a:lnTo>
                  <a:lnTo>
                    <a:pt x="1772" y="2528"/>
                  </a:lnTo>
                  <a:lnTo>
                    <a:pt x="1764" y="2530"/>
                  </a:lnTo>
                  <a:lnTo>
                    <a:pt x="1752" y="2533"/>
                  </a:lnTo>
                  <a:lnTo>
                    <a:pt x="1739" y="2535"/>
                  </a:lnTo>
                  <a:lnTo>
                    <a:pt x="1722" y="2535"/>
                  </a:lnTo>
                  <a:lnTo>
                    <a:pt x="1704" y="2535"/>
                  </a:lnTo>
                  <a:lnTo>
                    <a:pt x="1684" y="2535"/>
                  </a:lnTo>
                  <a:lnTo>
                    <a:pt x="1666" y="2533"/>
                  </a:lnTo>
                  <a:lnTo>
                    <a:pt x="1647" y="2532"/>
                  </a:lnTo>
                  <a:lnTo>
                    <a:pt x="1632" y="2530"/>
                  </a:lnTo>
                  <a:lnTo>
                    <a:pt x="1617" y="2528"/>
                  </a:lnTo>
                  <a:lnTo>
                    <a:pt x="1602" y="2525"/>
                  </a:lnTo>
                  <a:lnTo>
                    <a:pt x="1589" y="2520"/>
                  </a:lnTo>
                  <a:lnTo>
                    <a:pt x="1574" y="2517"/>
                  </a:lnTo>
                  <a:lnTo>
                    <a:pt x="1561" y="2513"/>
                  </a:lnTo>
                  <a:lnTo>
                    <a:pt x="1549" y="2510"/>
                  </a:lnTo>
                  <a:lnTo>
                    <a:pt x="1537" y="2507"/>
                  </a:lnTo>
                  <a:lnTo>
                    <a:pt x="1527" y="2507"/>
                  </a:lnTo>
                  <a:lnTo>
                    <a:pt x="1514" y="2507"/>
                  </a:lnTo>
                  <a:lnTo>
                    <a:pt x="1492" y="2507"/>
                  </a:lnTo>
                  <a:lnTo>
                    <a:pt x="1466" y="2508"/>
                  </a:lnTo>
                  <a:lnTo>
                    <a:pt x="1436" y="2508"/>
                  </a:lnTo>
                  <a:lnTo>
                    <a:pt x="1409" y="2510"/>
                  </a:lnTo>
                  <a:lnTo>
                    <a:pt x="1386" y="2512"/>
                  </a:lnTo>
                  <a:lnTo>
                    <a:pt x="1369" y="2512"/>
                  </a:lnTo>
                  <a:lnTo>
                    <a:pt x="1362" y="2512"/>
                  </a:lnTo>
                  <a:lnTo>
                    <a:pt x="1361" y="2513"/>
                  </a:lnTo>
                  <a:lnTo>
                    <a:pt x="1356" y="2515"/>
                  </a:lnTo>
                  <a:lnTo>
                    <a:pt x="1349" y="2518"/>
                  </a:lnTo>
                  <a:lnTo>
                    <a:pt x="1339" y="2520"/>
                  </a:lnTo>
                  <a:lnTo>
                    <a:pt x="1329" y="2522"/>
                  </a:lnTo>
                  <a:lnTo>
                    <a:pt x="1317" y="2522"/>
                  </a:lnTo>
                  <a:lnTo>
                    <a:pt x="1304" y="2518"/>
                  </a:lnTo>
                  <a:lnTo>
                    <a:pt x="1292" y="2512"/>
                  </a:lnTo>
                  <a:lnTo>
                    <a:pt x="1281" y="2503"/>
                  </a:lnTo>
                  <a:lnTo>
                    <a:pt x="1272" y="2497"/>
                  </a:lnTo>
                  <a:lnTo>
                    <a:pt x="1266" y="2490"/>
                  </a:lnTo>
                  <a:lnTo>
                    <a:pt x="1261" y="2485"/>
                  </a:lnTo>
                  <a:lnTo>
                    <a:pt x="1256" y="2482"/>
                  </a:lnTo>
                  <a:lnTo>
                    <a:pt x="1250" y="2480"/>
                  </a:lnTo>
                  <a:lnTo>
                    <a:pt x="1245" y="2480"/>
                  </a:lnTo>
                  <a:lnTo>
                    <a:pt x="1239" y="2483"/>
                  </a:lnTo>
                  <a:lnTo>
                    <a:pt x="1232" y="2490"/>
                  </a:lnTo>
                  <a:lnTo>
                    <a:pt x="1235" y="2498"/>
                  </a:lnTo>
                  <a:lnTo>
                    <a:pt x="1240" y="2510"/>
                  </a:lnTo>
                  <a:lnTo>
                    <a:pt x="1239" y="2525"/>
                  </a:lnTo>
                  <a:lnTo>
                    <a:pt x="1234" y="2545"/>
                  </a:lnTo>
                  <a:lnTo>
                    <a:pt x="1232" y="2567"/>
                  </a:lnTo>
                  <a:lnTo>
                    <a:pt x="1234" y="2587"/>
                  </a:lnTo>
                  <a:lnTo>
                    <a:pt x="1234" y="2602"/>
                  </a:lnTo>
                  <a:lnTo>
                    <a:pt x="1230" y="2615"/>
                  </a:lnTo>
                  <a:lnTo>
                    <a:pt x="1225" y="2630"/>
                  </a:lnTo>
                  <a:lnTo>
                    <a:pt x="1219" y="2643"/>
                  </a:lnTo>
                  <a:lnTo>
                    <a:pt x="1215" y="2648"/>
                  </a:lnTo>
                  <a:lnTo>
                    <a:pt x="1177" y="2678"/>
                  </a:lnTo>
                  <a:lnTo>
                    <a:pt x="1175" y="2672"/>
                  </a:lnTo>
                  <a:lnTo>
                    <a:pt x="1170" y="2657"/>
                  </a:lnTo>
                  <a:lnTo>
                    <a:pt x="1167" y="2640"/>
                  </a:lnTo>
                  <a:lnTo>
                    <a:pt x="1167" y="2625"/>
                  </a:lnTo>
                  <a:lnTo>
                    <a:pt x="1167" y="2613"/>
                  </a:lnTo>
                  <a:lnTo>
                    <a:pt x="1164" y="2598"/>
                  </a:lnTo>
                  <a:lnTo>
                    <a:pt x="1154" y="2583"/>
                  </a:lnTo>
                  <a:lnTo>
                    <a:pt x="1144" y="2568"/>
                  </a:lnTo>
                  <a:lnTo>
                    <a:pt x="1134" y="2555"/>
                  </a:lnTo>
                  <a:lnTo>
                    <a:pt x="1124" y="2543"/>
                  </a:lnTo>
                  <a:lnTo>
                    <a:pt x="1115" y="2532"/>
                  </a:lnTo>
                  <a:lnTo>
                    <a:pt x="1110" y="2522"/>
                  </a:lnTo>
                  <a:lnTo>
                    <a:pt x="1107" y="2508"/>
                  </a:lnTo>
                  <a:lnTo>
                    <a:pt x="1104" y="2492"/>
                  </a:lnTo>
                  <a:lnTo>
                    <a:pt x="1095" y="2475"/>
                  </a:lnTo>
                  <a:lnTo>
                    <a:pt x="1082" y="2458"/>
                  </a:lnTo>
                  <a:lnTo>
                    <a:pt x="1072" y="2450"/>
                  </a:lnTo>
                  <a:lnTo>
                    <a:pt x="1059" y="2437"/>
                  </a:lnTo>
                  <a:lnTo>
                    <a:pt x="1044" y="2423"/>
                  </a:lnTo>
                  <a:lnTo>
                    <a:pt x="1029" y="2405"/>
                  </a:lnTo>
                  <a:lnTo>
                    <a:pt x="1014" y="2387"/>
                  </a:lnTo>
                  <a:lnTo>
                    <a:pt x="999" y="2368"/>
                  </a:lnTo>
                  <a:lnTo>
                    <a:pt x="987" y="2350"/>
                  </a:lnTo>
                  <a:lnTo>
                    <a:pt x="979" y="2332"/>
                  </a:lnTo>
                  <a:lnTo>
                    <a:pt x="964" y="2302"/>
                  </a:lnTo>
                  <a:lnTo>
                    <a:pt x="949" y="2280"/>
                  </a:lnTo>
                  <a:lnTo>
                    <a:pt x="937" y="2263"/>
                  </a:lnTo>
                  <a:lnTo>
                    <a:pt x="930" y="2245"/>
                  </a:lnTo>
                  <a:lnTo>
                    <a:pt x="927" y="2231"/>
                  </a:lnTo>
                  <a:lnTo>
                    <a:pt x="920" y="2211"/>
                  </a:lnTo>
                  <a:lnTo>
                    <a:pt x="910" y="2190"/>
                  </a:lnTo>
                  <a:lnTo>
                    <a:pt x="900" y="2166"/>
                  </a:lnTo>
                  <a:lnTo>
                    <a:pt x="890" y="2143"/>
                  </a:lnTo>
                  <a:lnTo>
                    <a:pt x="880" y="2123"/>
                  </a:lnTo>
                  <a:lnTo>
                    <a:pt x="870" y="2108"/>
                  </a:lnTo>
                  <a:lnTo>
                    <a:pt x="864" y="2098"/>
                  </a:lnTo>
                  <a:lnTo>
                    <a:pt x="854" y="2085"/>
                  </a:lnTo>
                  <a:lnTo>
                    <a:pt x="845" y="2071"/>
                  </a:lnTo>
                  <a:lnTo>
                    <a:pt x="834" y="2056"/>
                  </a:lnTo>
                  <a:lnTo>
                    <a:pt x="822" y="2041"/>
                  </a:lnTo>
                  <a:lnTo>
                    <a:pt x="814" y="2033"/>
                  </a:lnTo>
                  <a:lnTo>
                    <a:pt x="802" y="2025"/>
                  </a:lnTo>
                  <a:lnTo>
                    <a:pt x="790" y="2018"/>
                  </a:lnTo>
                  <a:lnTo>
                    <a:pt x="779" y="2010"/>
                  </a:lnTo>
                  <a:lnTo>
                    <a:pt x="765" y="2003"/>
                  </a:lnTo>
                  <a:lnTo>
                    <a:pt x="752" y="1998"/>
                  </a:lnTo>
                  <a:lnTo>
                    <a:pt x="740" y="1995"/>
                  </a:lnTo>
                  <a:lnTo>
                    <a:pt x="730" y="1993"/>
                  </a:lnTo>
                  <a:lnTo>
                    <a:pt x="722" y="1991"/>
                  </a:lnTo>
                  <a:lnTo>
                    <a:pt x="717" y="1988"/>
                  </a:lnTo>
                  <a:lnTo>
                    <a:pt x="710" y="1983"/>
                  </a:lnTo>
                  <a:lnTo>
                    <a:pt x="705" y="1975"/>
                  </a:lnTo>
                  <a:lnTo>
                    <a:pt x="700" y="1966"/>
                  </a:lnTo>
                  <a:lnTo>
                    <a:pt x="693" y="1953"/>
                  </a:lnTo>
                  <a:lnTo>
                    <a:pt x="685" y="1940"/>
                  </a:lnTo>
                  <a:lnTo>
                    <a:pt x="673" y="1923"/>
                  </a:lnTo>
                  <a:lnTo>
                    <a:pt x="662" y="1905"/>
                  </a:lnTo>
                  <a:lnTo>
                    <a:pt x="652" y="1886"/>
                  </a:lnTo>
                  <a:lnTo>
                    <a:pt x="642" y="1868"/>
                  </a:lnTo>
                  <a:lnTo>
                    <a:pt x="635" y="1851"/>
                  </a:lnTo>
                  <a:lnTo>
                    <a:pt x="628" y="1833"/>
                  </a:lnTo>
                  <a:lnTo>
                    <a:pt x="623" y="1818"/>
                  </a:lnTo>
                  <a:lnTo>
                    <a:pt x="620" y="1803"/>
                  </a:lnTo>
                  <a:lnTo>
                    <a:pt x="617" y="1790"/>
                  </a:lnTo>
                  <a:lnTo>
                    <a:pt x="612" y="1765"/>
                  </a:lnTo>
                  <a:lnTo>
                    <a:pt x="603" y="1741"/>
                  </a:lnTo>
                  <a:lnTo>
                    <a:pt x="597" y="1724"/>
                  </a:lnTo>
                  <a:lnTo>
                    <a:pt x="593" y="1718"/>
                  </a:lnTo>
                  <a:lnTo>
                    <a:pt x="600" y="1706"/>
                  </a:lnTo>
                  <a:lnTo>
                    <a:pt x="610" y="1676"/>
                  </a:lnTo>
                  <a:lnTo>
                    <a:pt x="617" y="1636"/>
                  </a:lnTo>
                  <a:lnTo>
                    <a:pt x="607" y="1594"/>
                  </a:lnTo>
                  <a:lnTo>
                    <a:pt x="590" y="1559"/>
                  </a:lnTo>
                  <a:lnTo>
                    <a:pt x="582" y="1531"/>
                  </a:lnTo>
                  <a:lnTo>
                    <a:pt x="573" y="1503"/>
                  </a:lnTo>
                  <a:lnTo>
                    <a:pt x="560" y="1471"/>
                  </a:lnTo>
                  <a:lnTo>
                    <a:pt x="552" y="1454"/>
                  </a:lnTo>
                  <a:lnTo>
                    <a:pt x="547" y="1439"/>
                  </a:lnTo>
                  <a:lnTo>
                    <a:pt x="542" y="1426"/>
                  </a:lnTo>
                  <a:lnTo>
                    <a:pt x="537" y="1413"/>
                  </a:lnTo>
                  <a:lnTo>
                    <a:pt x="532" y="1401"/>
                  </a:lnTo>
                  <a:lnTo>
                    <a:pt x="525" y="1393"/>
                  </a:lnTo>
                  <a:lnTo>
                    <a:pt x="518" y="1383"/>
                  </a:lnTo>
                  <a:lnTo>
                    <a:pt x="508" y="1376"/>
                  </a:lnTo>
                  <a:lnTo>
                    <a:pt x="497" y="1369"/>
                  </a:lnTo>
                  <a:lnTo>
                    <a:pt x="487" y="1361"/>
                  </a:lnTo>
                  <a:lnTo>
                    <a:pt x="475" y="1354"/>
                  </a:lnTo>
                  <a:lnTo>
                    <a:pt x="463" y="1346"/>
                  </a:lnTo>
                  <a:lnTo>
                    <a:pt x="452" y="1338"/>
                  </a:lnTo>
                  <a:lnTo>
                    <a:pt x="440" y="1329"/>
                  </a:lnTo>
                  <a:lnTo>
                    <a:pt x="427" y="1323"/>
                  </a:lnTo>
                  <a:lnTo>
                    <a:pt x="413" y="1316"/>
                  </a:lnTo>
                  <a:lnTo>
                    <a:pt x="392" y="1303"/>
                  </a:lnTo>
                  <a:lnTo>
                    <a:pt x="382" y="1286"/>
                  </a:lnTo>
                  <a:lnTo>
                    <a:pt x="375" y="1268"/>
                  </a:lnTo>
                  <a:lnTo>
                    <a:pt x="365" y="1249"/>
                  </a:lnTo>
                  <a:lnTo>
                    <a:pt x="355" y="1232"/>
                  </a:lnTo>
                  <a:lnTo>
                    <a:pt x="348" y="1219"/>
                  </a:lnTo>
                  <a:lnTo>
                    <a:pt x="347" y="1209"/>
                  </a:lnTo>
                  <a:lnTo>
                    <a:pt x="347" y="1206"/>
                  </a:lnTo>
                  <a:lnTo>
                    <a:pt x="348" y="1206"/>
                  </a:lnTo>
                  <a:lnTo>
                    <a:pt x="353" y="1204"/>
                  </a:lnTo>
                  <a:lnTo>
                    <a:pt x="360" y="1201"/>
                  </a:lnTo>
                  <a:lnTo>
                    <a:pt x="367" y="1194"/>
                  </a:lnTo>
                  <a:lnTo>
                    <a:pt x="370" y="1187"/>
                  </a:lnTo>
                  <a:lnTo>
                    <a:pt x="370" y="1176"/>
                  </a:lnTo>
                  <a:lnTo>
                    <a:pt x="365" y="1162"/>
                  </a:lnTo>
                  <a:lnTo>
                    <a:pt x="352" y="1144"/>
                  </a:lnTo>
                  <a:lnTo>
                    <a:pt x="330" y="1122"/>
                  </a:lnTo>
                  <a:lnTo>
                    <a:pt x="327" y="1122"/>
                  </a:lnTo>
                  <a:lnTo>
                    <a:pt x="330" y="1126"/>
                  </a:lnTo>
                  <a:lnTo>
                    <a:pt x="327" y="1112"/>
                  </a:lnTo>
                  <a:lnTo>
                    <a:pt x="320" y="1091"/>
                  </a:lnTo>
                  <a:lnTo>
                    <a:pt x="315" y="1076"/>
                  </a:lnTo>
                  <a:lnTo>
                    <a:pt x="308" y="1066"/>
                  </a:lnTo>
                  <a:lnTo>
                    <a:pt x="293" y="1054"/>
                  </a:lnTo>
                  <a:lnTo>
                    <a:pt x="283" y="1039"/>
                  </a:lnTo>
                  <a:lnTo>
                    <a:pt x="285" y="1024"/>
                  </a:lnTo>
                  <a:lnTo>
                    <a:pt x="287" y="1011"/>
                  </a:lnTo>
                  <a:lnTo>
                    <a:pt x="275" y="997"/>
                  </a:lnTo>
                  <a:lnTo>
                    <a:pt x="257" y="986"/>
                  </a:lnTo>
                  <a:lnTo>
                    <a:pt x="243" y="971"/>
                  </a:lnTo>
                  <a:lnTo>
                    <a:pt x="235" y="954"/>
                  </a:lnTo>
                  <a:lnTo>
                    <a:pt x="232" y="936"/>
                  </a:lnTo>
                  <a:lnTo>
                    <a:pt x="228" y="916"/>
                  </a:lnTo>
                  <a:lnTo>
                    <a:pt x="218" y="889"/>
                  </a:lnTo>
                  <a:lnTo>
                    <a:pt x="205" y="862"/>
                  </a:lnTo>
                  <a:lnTo>
                    <a:pt x="185" y="836"/>
                  </a:lnTo>
                  <a:lnTo>
                    <a:pt x="172" y="814"/>
                  </a:lnTo>
                  <a:lnTo>
                    <a:pt x="168" y="796"/>
                  </a:lnTo>
                  <a:lnTo>
                    <a:pt x="167" y="782"/>
                  </a:lnTo>
                  <a:lnTo>
                    <a:pt x="157" y="774"/>
                  </a:lnTo>
                  <a:lnTo>
                    <a:pt x="145" y="766"/>
                  </a:lnTo>
                  <a:lnTo>
                    <a:pt x="140" y="754"/>
                  </a:lnTo>
                  <a:lnTo>
                    <a:pt x="133" y="739"/>
                  </a:lnTo>
                  <a:lnTo>
                    <a:pt x="118" y="722"/>
                  </a:lnTo>
                  <a:lnTo>
                    <a:pt x="100" y="700"/>
                  </a:lnTo>
                  <a:lnTo>
                    <a:pt x="86" y="674"/>
                  </a:lnTo>
                  <a:lnTo>
                    <a:pt x="78" y="652"/>
                  </a:lnTo>
                  <a:lnTo>
                    <a:pt x="75" y="642"/>
                  </a:lnTo>
                  <a:lnTo>
                    <a:pt x="70" y="642"/>
                  </a:lnTo>
                  <a:lnTo>
                    <a:pt x="60" y="642"/>
                  </a:lnTo>
                  <a:lnTo>
                    <a:pt x="45" y="642"/>
                  </a:lnTo>
                  <a:lnTo>
                    <a:pt x="33" y="642"/>
                  </a:lnTo>
                  <a:lnTo>
                    <a:pt x="21" y="642"/>
                  </a:lnTo>
                  <a:lnTo>
                    <a:pt x="11" y="644"/>
                  </a:lnTo>
                  <a:lnTo>
                    <a:pt x="3" y="645"/>
                  </a:lnTo>
                  <a:lnTo>
                    <a:pt x="0" y="645"/>
                  </a:lnTo>
                  <a:lnTo>
                    <a:pt x="1" y="642"/>
                  </a:lnTo>
                  <a:lnTo>
                    <a:pt x="5" y="632"/>
                  </a:lnTo>
                  <a:lnTo>
                    <a:pt x="8" y="620"/>
                  </a:lnTo>
                  <a:lnTo>
                    <a:pt x="13" y="609"/>
                  </a:lnTo>
                  <a:lnTo>
                    <a:pt x="20" y="592"/>
                  </a:lnTo>
                  <a:lnTo>
                    <a:pt x="28" y="569"/>
                  </a:lnTo>
                  <a:lnTo>
                    <a:pt x="35" y="542"/>
                  </a:lnTo>
                  <a:lnTo>
                    <a:pt x="38" y="517"/>
                  </a:lnTo>
                  <a:lnTo>
                    <a:pt x="40" y="500"/>
                  </a:lnTo>
                  <a:lnTo>
                    <a:pt x="43" y="489"/>
                  </a:lnTo>
                  <a:lnTo>
                    <a:pt x="50" y="480"/>
                  </a:lnTo>
                  <a:lnTo>
                    <a:pt x="56" y="470"/>
                  </a:lnTo>
                  <a:lnTo>
                    <a:pt x="61" y="457"/>
                  </a:lnTo>
                  <a:lnTo>
                    <a:pt x="65" y="442"/>
                  </a:lnTo>
                  <a:lnTo>
                    <a:pt x="66" y="429"/>
                  </a:lnTo>
                  <a:lnTo>
                    <a:pt x="66" y="424"/>
                  </a:lnTo>
                  <a:lnTo>
                    <a:pt x="232" y="465"/>
                  </a:lnTo>
                  <a:lnTo>
                    <a:pt x="235" y="464"/>
                  </a:lnTo>
                  <a:lnTo>
                    <a:pt x="243" y="457"/>
                  </a:lnTo>
                  <a:lnTo>
                    <a:pt x="257" y="450"/>
                  </a:lnTo>
                  <a:lnTo>
                    <a:pt x="270" y="439"/>
                  </a:lnTo>
                  <a:lnTo>
                    <a:pt x="285" y="429"/>
                  </a:lnTo>
                  <a:lnTo>
                    <a:pt x="298" y="417"/>
                  </a:lnTo>
                  <a:lnTo>
                    <a:pt x="308" y="407"/>
                  </a:lnTo>
                  <a:lnTo>
                    <a:pt x="313" y="399"/>
                  </a:lnTo>
                  <a:lnTo>
                    <a:pt x="318" y="384"/>
                  </a:lnTo>
                  <a:lnTo>
                    <a:pt x="325" y="369"/>
                  </a:lnTo>
                  <a:lnTo>
                    <a:pt x="330" y="357"/>
                  </a:lnTo>
                  <a:lnTo>
                    <a:pt x="332" y="352"/>
                  </a:lnTo>
                  <a:lnTo>
                    <a:pt x="335" y="352"/>
                  </a:lnTo>
                  <a:lnTo>
                    <a:pt x="342" y="352"/>
                  </a:lnTo>
                  <a:lnTo>
                    <a:pt x="353" y="352"/>
                  </a:lnTo>
                  <a:lnTo>
                    <a:pt x="367" y="350"/>
                  </a:lnTo>
                  <a:lnTo>
                    <a:pt x="382" y="350"/>
                  </a:lnTo>
                  <a:lnTo>
                    <a:pt x="398" y="347"/>
                  </a:lnTo>
                  <a:lnTo>
                    <a:pt x="413" y="345"/>
                  </a:lnTo>
                  <a:lnTo>
                    <a:pt x="427" y="342"/>
                  </a:lnTo>
                  <a:lnTo>
                    <a:pt x="438" y="337"/>
                  </a:lnTo>
                  <a:lnTo>
                    <a:pt x="447" y="329"/>
                  </a:lnTo>
                  <a:lnTo>
                    <a:pt x="455" y="319"/>
                  </a:lnTo>
                  <a:lnTo>
                    <a:pt x="462" y="309"/>
                  </a:lnTo>
                  <a:lnTo>
                    <a:pt x="468" y="299"/>
                  </a:lnTo>
                  <a:lnTo>
                    <a:pt x="475" y="290"/>
                  </a:lnTo>
                  <a:lnTo>
                    <a:pt x="483" y="284"/>
                  </a:lnTo>
                  <a:lnTo>
                    <a:pt x="493" y="280"/>
                  </a:lnTo>
                  <a:lnTo>
                    <a:pt x="508" y="275"/>
                  </a:lnTo>
                  <a:lnTo>
                    <a:pt x="513" y="269"/>
                  </a:lnTo>
                  <a:lnTo>
                    <a:pt x="513" y="264"/>
                  </a:lnTo>
                  <a:lnTo>
                    <a:pt x="512" y="262"/>
                  </a:lnTo>
                  <a:lnTo>
                    <a:pt x="380" y="90"/>
                  </a:lnTo>
                  <a:close/>
                </a:path>
              </a:pathLst>
            </a:custGeom>
            <a:solidFill>
              <a:srgbClr val="b2b2b2">
                <a:alpha val="30000"/>
              </a:srgbClr>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229" name=""/>
          <p:cNvSpPr/>
          <p:nvPr/>
        </p:nvSpPr>
        <p:spPr>
          <a:xfrm>
            <a:off x="609480" y="6629400"/>
            <a:ext cx="8534520" cy="228600"/>
          </a:xfrm>
          <a:prstGeom prst="rect">
            <a:avLst/>
          </a:prstGeom>
          <a:solidFill>
            <a:srgbClr val="bbe0e3"/>
          </a:solidFill>
          <a:ln cap="sq"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000" spc="-1" strike="noStrike">
                <a:solidFill>
                  <a:srgbClr val="333399"/>
                </a:solidFill>
                <a:latin typeface="Albertus Medium"/>
              </a:rPr>
              <a:t>www.skinandallergy.org</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www.panarabderm.org</a:t>
            </a:r>
            <a:endParaRPr b="0" lang="en-US" sz="10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0" name="" descr=""/>
          <p:cNvPicPr/>
          <p:nvPr/>
        </p:nvPicPr>
        <p:blipFill>
          <a:blip r:embed="rId2"/>
          <a:stretch/>
        </p:blipFill>
        <p:spPr>
          <a:xfrm>
            <a:off x="8153280" y="74520"/>
            <a:ext cx="922320" cy="992160"/>
          </a:xfrm>
          <a:prstGeom prst="rect">
            <a:avLst/>
          </a:prstGeom>
          <a:ln w="0">
            <a:noFill/>
          </a:ln>
        </p:spPr>
      </p:pic>
      <p:sp>
        <p:nvSpPr>
          <p:cNvPr id="231" name=""/>
          <p:cNvSpPr/>
          <p:nvPr/>
        </p:nvSpPr>
        <p:spPr>
          <a:xfrm>
            <a:off x="1295280" y="1066680"/>
            <a:ext cx="6193080" cy="1800"/>
          </a:xfrm>
          <a:prstGeom prst="line">
            <a:avLst/>
          </a:prstGeom>
          <a:ln cap="sq" w="12600">
            <a:solidFill>
              <a:srgbClr val="b2b2b2"/>
            </a:solidFill>
            <a:miter/>
          </a:ln>
        </p:spPr>
        <p:style>
          <a:lnRef idx="0"/>
          <a:fillRef idx="0"/>
          <a:effectRef idx="0"/>
          <a:fontRef idx="minor"/>
        </p:style>
        <p:txBody>
          <a:bodyPr lIns="90000" rIns="90000" tIns="-45000" bIns="-45000" anchor="t">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232" name="" descr=""/>
          <p:cNvPicPr/>
          <p:nvPr/>
        </p:nvPicPr>
        <p:blipFill>
          <a:blip r:embed="rId3"/>
          <a:stretch/>
        </p:blipFill>
        <p:spPr>
          <a:xfrm>
            <a:off x="0" y="0"/>
            <a:ext cx="600120" cy="6858000"/>
          </a:xfrm>
          <a:prstGeom prst="rect">
            <a:avLst/>
          </a:prstGeom>
          <a:ln w="0">
            <a:noFill/>
          </a:ln>
        </p:spPr>
      </p:pic>
      <p:sp>
        <p:nvSpPr>
          <p:cNvPr id="233" name=""/>
          <p:cNvSpPr/>
          <p:nvPr/>
        </p:nvSpPr>
        <p:spPr>
          <a:xfrm>
            <a:off x="0" y="457200"/>
            <a:ext cx="914400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500" spc="-1" strike="noStrike">
                <a:solidFill>
                  <a:srgbClr val="333399"/>
                </a:solidFill>
                <a:latin typeface="Albertus Medium"/>
              </a:rPr>
              <a:t>Nanomaterials &amp; Nanoscale Particles</a:t>
            </a:r>
            <a:endParaRPr b="0" lang="en-US" sz="3500" spc="-1" strike="noStrike">
              <a:solidFill>
                <a:srgbClr val="000000"/>
              </a:solidFill>
              <a:latin typeface="Arial"/>
            </a:endParaRPr>
          </a:p>
        </p:txBody>
      </p:sp>
      <p:grpSp>
        <p:nvGrpSpPr>
          <p:cNvPr id="234" name=""/>
          <p:cNvGrpSpPr/>
          <p:nvPr/>
        </p:nvGrpSpPr>
        <p:grpSpPr>
          <a:xfrm>
            <a:off x="2639880" y="1346040"/>
            <a:ext cx="4521240" cy="3986280"/>
            <a:chOff x="2639880" y="1346040"/>
            <a:chExt cx="4521240" cy="3986280"/>
          </a:xfrm>
        </p:grpSpPr>
        <p:sp>
          <p:nvSpPr>
            <p:cNvPr id="235" name=""/>
            <p:cNvSpPr/>
            <p:nvPr/>
          </p:nvSpPr>
          <p:spPr>
            <a:xfrm>
              <a:off x="2639880" y="2319480"/>
              <a:ext cx="1721160" cy="3012840"/>
            </a:xfrm>
            <a:custGeom>
              <a:avLst/>
              <a:gdLst/>
              <a:ahLst/>
              <a:rect l="l" t="t" r="r" b="b"/>
              <a:pathLst>
                <a:path w="1261" h="2255">
                  <a:moveTo>
                    <a:pt x="1257" y="2027"/>
                  </a:moveTo>
                  <a:lnTo>
                    <a:pt x="1257" y="2015"/>
                  </a:lnTo>
                  <a:lnTo>
                    <a:pt x="1252" y="2000"/>
                  </a:lnTo>
                  <a:lnTo>
                    <a:pt x="1244" y="1985"/>
                  </a:lnTo>
                  <a:lnTo>
                    <a:pt x="1232" y="1970"/>
                  </a:lnTo>
                  <a:lnTo>
                    <a:pt x="1222" y="1956"/>
                  </a:lnTo>
                  <a:lnTo>
                    <a:pt x="1212" y="1945"/>
                  </a:lnTo>
                  <a:lnTo>
                    <a:pt x="1204" y="1933"/>
                  </a:lnTo>
                  <a:lnTo>
                    <a:pt x="1199" y="1921"/>
                  </a:lnTo>
                  <a:lnTo>
                    <a:pt x="1197" y="1910"/>
                  </a:lnTo>
                  <a:lnTo>
                    <a:pt x="1192" y="1893"/>
                  </a:lnTo>
                  <a:lnTo>
                    <a:pt x="1186" y="1876"/>
                  </a:lnTo>
                  <a:lnTo>
                    <a:pt x="1171" y="1860"/>
                  </a:lnTo>
                  <a:lnTo>
                    <a:pt x="1161" y="1851"/>
                  </a:lnTo>
                  <a:lnTo>
                    <a:pt x="1147" y="1838"/>
                  </a:lnTo>
                  <a:lnTo>
                    <a:pt x="1132" y="1823"/>
                  </a:lnTo>
                  <a:lnTo>
                    <a:pt x="1117" y="1806"/>
                  </a:lnTo>
                  <a:lnTo>
                    <a:pt x="1102" y="1788"/>
                  </a:lnTo>
                  <a:lnTo>
                    <a:pt x="1087" y="1770"/>
                  </a:lnTo>
                  <a:lnTo>
                    <a:pt x="1076" y="1750"/>
                  </a:lnTo>
                  <a:lnTo>
                    <a:pt x="1067" y="1731"/>
                  </a:lnTo>
                  <a:lnTo>
                    <a:pt x="1052" y="1703"/>
                  </a:lnTo>
                  <a:lnTo>
                    <a:pt x="1037" y="1681"/>
                  </a:lnTo>
                  <a:lnTo>
                    <a:pt x="1026" y="1665"/>
                  </a:lnTo>
                  <a:lnTo>
                    <a:pt x="1019" y="1646"/>
                  </a:lnTo>
                  <a:lnTo>
                    <a:pt x="1016" y="1633"/>
                  </a:lnTo>
                  <a:lnTo>
                    <a:pt x="1009" y="1613"/>
                  </a:lnTo>
                  <a:lnTo>
                    <a:pt x="999" y="1591"/>
                  </a:lnTo>
                  <a:lnTo>
                    <a:pt x="989" y="1568"/>
                  </a:lnTo>
                  <a:lnTo>
                    <a:pt x="979" y="1545"/>
                  </a:lnTo>
                  <a:lnTo>
                    <a:pt x="969" y="1525"/>
                  </a:lnTo>
                  <a:lnTo>
                    <a:pt x="959" y="1508"/>
                  </a:lnTo>
                  <a:lnTo>
                    <a:pt x="952" y="1499"/>
                  </a:lnTo>
                  <a:lnTo>
                    <a:pt x="942" y="1486"/>
                  </a:lnTo>
                  <a:lnTo>
                    <a:pt x="934" y="1473"/>
                  </a:lnTo>
                  <a:lnTo>
                    <a:pt x="922" y="1458"/>
                  </a:lnTo>
                  <a:lnTo>
                    <a:pt x="911" y="1443"/>
                  </a:lnTo>
                  <a:lnTo>
                    <a:pt x="902" y="1434"/>
                  </a:lnTo>
                  <a:lnTo>
                    <a:pt x="891" y="1426"/>
                  </a:lnTo>
                  <a:lnTo>
                    <a:pt x="879" y="1419"/>
                  </a:lnTo>
                  <a:lnTo>
                    <a:pt x="867" y="1411"/>
                  </a:lnTo>
                  <a:lnTo>
                    <a:pt x="854" y="1404"/>
                  </a:lnTo>
                  <a:lnTo>
                    <a:pt x="842" y="1399"/>
                  </a:lnTo>
                  <a:lnTo>
                    <a:pt x="831" y="1396"/>
                  </a:lnTo>
                  <a:lnTo>
                    <a:pt x="820" y="1394"/>
                  </a:lnTo>
                  <a:lnTo>
                    <a:pt x="812" y="1393"/>
                  </a:lnTo>
                  <a:lnTo>
                    <a:pt x="805" y="1389"/>
                  </a:lnTo>
                  <a:lnTo>
                    <a:pt x="800" y="1384"/>
                  </a:lnTo>
                  <a:lnTo>
                    <a:pt x="794" y="1376"/>
                  </a:lnTo>
                  <a:lnTo>
                    <a:pt x="789" y="1368"/>
                  </a:lnTo>
                  <a:lnTo>
                    <a:pt x="782" y="1354"/>
                  </a:lnTo>
                  <a:lnTo>
                    <a:pt x="774" y="1341"/>
                  </a:lnTo>
                  <a:lnTo>
                    <a:pt x="762" y="1324"/>
                  </a:lnTo>
                  <a:lnTo>
                    <a:pt x="750" y="1306"/>
                  </a:lnTo>
                  <a:lnTo>
                    <a:pt x="740" y="1288"/>
                  </a:lnTo>
                  <a:lnTo>
                    <a:pt x="732" y="1269"/>
                  </a:lnTo>
                  <a:lnTo>
                    <a:pt x="724" y="1253"/>
                  </a:lnTo>
                  <a:lnTo>
                    <a:pt x="717" y="1234"/>
                  </a:lnTo>
                  <a:lnTo>
                    <a:pt x="712" y="1219"/>
                  </a:lnTo>
                  <a:lnTo>
                    <a:pt x="709" y="1204"/>
                  </a:lnTo>
                  <a:lnTo>
                    <a:pt x="705" y="1191"/>
                  </a:lnTo>
                  <a:lnTo>
                    <a:pt x="700" y="1166"/>
                  </a:lnTo>
                  <a:lnTo>
                    <a:pt x="692" y="1143"/>
                  </a:lnTo>
                  <a:lnTo>
                    <a:pt x="685" y="1126"/>
                  </a:lnTo>
                  <a:lnTo>
                    <a:pt x="682" y="1119"/>
                  </a:lnTo>
                  <a:lnTo>
                    <a:pt x="689" y="1108"/>
                  </a:lnTo>
                  <a:lnTo>
                    <a:pt x="700" y="1078"/>
                  </a:lnTo>
                  <a:lnTo>
                    <a:pt x="707" y="1038"/>
                  </a:lnTo>
                  <a:lnTo>
                    <a:pt x="697" y="996"/>
                  </a:lnTo>
                  <a:lnTo>
                    <a:pt x="680" y="961"/>
                  </a:lnTo>
                  <a:lnTo>
                    <a:pt x="670" y="932"/>
                  </a:lnTo>
                  <a:lnTo>
                    <a:pt x="662" y="904"/>
                  </a:lnTo>
                  <a:lnTo>
                    <a:pt x="649" y="872"/>
                  </a:lnTo>
                  <a:lnTo>
                    <a:pt x="640" y="856"/>
                  </a:lnTo>
                  <a:lnTo>
                    <a:pt x="635" y="839"/>
                  </a:lnTo>
                  <a:lnTo>
                    <a:pt x="630" y="826"/>
                  </a:lnTo>
                  <a:lnTo>
                    <a:pt x="625" y="814"/>
                  </a:lnTo>
                  <a:lnTo>
                    <a:pt x="620" y="802"/>
                  </a:lnTo>
                  <a:lnTo>
                    <a:pt x="614" y="792"/>
                  </a:lnTo>
                  <a:lnTo>
                    <a:pt x="607" y="784"/>
                  </a:lnTo>
                  <a:lnTo>
                    <a:pt x="597" y="777"/>
                  </a:lnTo>
                  <a:lnTo>
                    <a:pt x="587" y="771"/>
                  </a:lnTo>
                  <a:lnTo>
                    <a:pt x="575" y="762"/>
                  </a:lnTo>
                  <a:lnTo>
                    <a:pt x="565" y="754"/>
                  </a:lnTo>
                  <a:lnTo>
                    <a:pt x="554" y="744"/>
                  </a:lnTo>
                  <a:lnTo>
                    <a:pt x="542" y="736"/>
                  </a:lnTo>
                  <a:lnTo>
                    <a:pt x="529" y="729"/>
                  </a:lnTo>
                  <a:lnTo>
                    <a:pt x="515" y="721"/>
                  </a:lnTo>
                  <a:lnTo>
                    <a:pt x="502" y="716"/>
                  </a:lnTo>
                  <a:lnTo>
                    <a:pt x="480" y="702"/>
                  </a:lnTo>
                  <a:lnTo>
                    <a:pt x="470" y="686"/>
                  </a:lnTo>
                  <a:lnTo>
                    <a:pt x="464" y="667"/>
                  </a:lnTo>
                  <a:lnTo>
                    <a:pt x="454" y="649"/>
                  </a:lnTo>
                  <a:lnTo>
                    <a:pt x="444" y="634"/>
                  </a:lnTo>
                  <a:lnTo>
                    <a:pt x="437" y="621"/>
                  </a:lnTo>
                  <a:lnTo>
                    <a:pt x="435" y="611"/>
                  </a:lnTo>
                  <a:lnTo>
                    <a:pt x="435" y="607"/>
                  </a:lnTo>
                  <a:lnTo>
                    <a:pt x="437" y="607"/>
                  </a:lnTo>
                  <a:lnTo>
                    <a:pt x="442" y="606"/>
                  </a:lnTo>
                  <a:lnTo>
                    <a:pt x="449" y="602"/>
                  </a:lnTo>
                  <a:lnTo>
                    <a:pt x="455" y="596"/>
                  </a:lnTo>
                  <a:lnTo>
                    <a:pt x="459" y="589"/>
                  </a:lnTo>
                  <a:lnTo>
                    <a:pt x="459" y="577"/>
                  </a:lnTo>
                  <a:lnTo>
                    <a:pt x="454" y="564"/>
                  </a:lnTo>
                  <a:lnTo>
                    <a:pt x="440" y="546"/>
                  </a:lnTo>
                  <a:lnTo>
                    <a:pt x="434" y="539"/>
                  </a:lnTo>
                  <a:lnTo>
                    <a:pt x="429" y="532"/>
                  </a:lnTo>
                  <a:lnTo>
                    <a:pt x="424" y="529"/>
                  </a:lnTo>
                  <a:lnTo>
                    <a:pt x="420" y="526"/>
                  </a:lnTo>
                  <a:lnTo>
                    <a:pt x="419" y="527"/>
                  </a:lnTo>
                  <a:lnTo>
                    <a:pt x="415" y="526"/>
                  </a:lnTo>
                  <a:lnTo>
                    <a:pt x="415" y="522"/>
                  </a:lnTo>
                  <a:lnTo>
                    <a:pt x="420" y="526"/>
                  </a:lnTo>
                  <a:lnTo>
                    <a:pt x="420" y="524"/>
                  </a:lnTo>
                  <a:lnTo>
                    <a:pt x="419" y="521"/>
                  </a:lnTo>
                  <a:lnTo>
                    <a:pt x="419" y="517"/>
                  </a:lnTo>
                  <a:lnTo>
                    <a:pt x="417" y="512"/>
                  </a:lnTo>
                  <a:lnTo>
                    <a:pt x="409" y="490"/>
                  </a:lnTo>
                  <a:lnTo>
                    <a:pt x="405" y="477"/>
                  </a:lnTo>
                  <a:lnTo>
                    <a:pt x="399" y="467"/>
                  </a:lnTo>
                  <a:lnTo>
                    <a:pt x="384" y="455"/>
                  </a:lnTo>
                  <a:lnTo>
                    <a:pt x="372" y="440"/>
                  </a:lnTo>
                  <a:lnTo>
                    <a:pt x="374" y="425"/>
                  </a:lnTo>
                  <a:lnTo>
                    <a:pt x="375" y="412"/>
                  </a:lnTo>
                  <a:lnTo>
                    <a:pt x="364" y="399"/>
                  </a:lnTo>
                  <a:lnTo>
                    <a:pt x="345" y="387"/>
                  </a:lnTo>
                  <a:lnTo>
                    <a:pt x="332" y="372"/>
                  </a:lnTo>
                  <a:lnTo>
                    <a:pt x="325" y="355"/>
                  </a:lnTo>
                  <a:lnTo>
                    <a:pt x="322" y="337"/>
                  </a:lnTo>
                  <a:lnTo>
                    <a:pt x="319" y="317"/>
                  </a:lnTo>
                  <a:lnTo>
                    <a:pt x="309" y="290"/>
                  </a:lnTo>
                  <a:lnTo>
                    <a:pt x="294" y="264"/>
                  </a:lnTo>
                  <a:lnTo>
                    <a:pt x="273" y="237"/>
                  </a:lnTo>
                  <a:lnTo>
                    <a:pt x="260" y="215"/>
                  </a:lnTo>
                  <a:lnTo>
                    <a:pt x="257" y="197"/>
                  </a:lnTo>
                  <a:lnTo>
                    <a:pt x="255" y="184"/>
                  </a:lnTo>
                  <a:lnTo>
                    <a:pt x="245" y="175"/>
                  </a:lnTo>
                  <a:lnTo>
                    <a:pt x="233" y="167"/>
                  </a:lnTo>
                  <a:lnTo>
                    <a:pt x="228" y="154"/>
                  </a:lnTo>
                  <a:lnTo>
                    <a:pt x="222" y="140"/>
                  </a:lnTo>
                  <a:lnTo>
                    <a:pt x="207" y="124"/>
                  </a:lnTo>
                  <a:lnTo>
                    <a:pt x="188" y="100"/>
                  </a:lnTo>
                  <a:lnTo>
                    <a:pt x="175" y="74"/>
                  </a:lnTo>
                  <a:lnTo>
                    <a:pt x="168" y="52"/>
                  </a:lnTo>
                  <a:lnTo>
                    <a:pt x="165" y="42"/>
                  </a:lnTo>
                  <a:lnTo>
                    <a:pt x="160" y="42"/>
                  </a:lnTo>
                  <a:lnTo>
                    <a:pt x="148" y="42"/>
                  </a:lnTo>
                  <a:lnTo>
                    <a:pt x="133" y="42"/>
                  </a:lnTo>
                  <a:lnTo>
                    <a:pt x="122" y="42"/>
                  </a:lnTo>
                  <a:lnTo>
                    <a:pt x="110" y="42"/>
                  </a:lnTo>
                  <a:lnTo>
                    <a:pt x="100" y="44"/>
                  </a:lnTo>
                  <a:lnTo>
                    <a:pt x="92" y="47"/>
                  </a:lnTo>
                  <a:lnTo>
                    <a:pt x="88" y="47"/>
                  </a:lnTo>
                  <a:lnTo>
                    <a:pt x="90" y="44"/>
                  </a:lnTo>
                  <a:lnTo>
                    <a:pt x="93" y="34"/>
                  </a:lnTo>
                  <a:lnTo>
                    <a:pt x="98" y="20"/>
                  </a:lnTo>
                  <a:lnTo>
                    <a:pt x="103" y="8"/>
                  </a:lnTo>
                  <a:lnTo>
                    <a:pt x="103" y="8"/>
                  </a:lnTo>
                  <a:lnTo>
                    <a:pt x="103" y="8"/>
                  </a:lnTo>
                  <a:lnTo>
                    <a:pt x="103" y="8"/>
                  </a:lnTo>
                  <a:lnTo>
                    <a:pt x="103" y="8"/>
                  </a:lnTo>
                  <a:lnTo>
                    <a:pt x="67" y="0"/>
                  </a:lnTo>
                  <a:lnTo>
                    <a:pt x="67" y="5"/>
                  </a:lnTo>
                  <a:lnTo>
                    <a:pt x="65" y="19"/>
                  </a:lnTo>
                  <a:lnTo>
                    <a:pt x="62" y="34"/>
                  </a:lnTo>
                  <a:lnTo>
                    <a:pt x="57" y="47"/>
                  </a:lnTo>
                  <a:lnTo>
                    <a:pt x="50" y="57"/>
                  </a:lnTo>
                  <a:lnTo>
                    <a:pt x="45" y="65"/>
                  </a:lnTo>
                  <a:lnTo>
                    <a:pt x="40" y="79"/>
                  </a:lnTo>
                  <a:lnTo>
                    <a:pt x="38" y="95"/>
                  </a:lnTo>
                  <a:lnTo>
                    <a:pt x="35" y="119"/>
                  </a:lnTo>
                  <a:lnTo>
                    <a:pt x="28" y="145"/>
                  </a:lnTo>
                  <a:lnTo>
                    <a:pt x="20" y="169"/>
                  </a:lnTo>
                  <a:lnTo>
                    <a:pt x="15" y="185"/>
                  </a:lnTo>
                  <a:lnTo>
                    <a:pt x="10" y="197"/>
                  </a:lnTo>
                  <a:lnTo>
                    <a:pt x="5" y="209"/>
                  </a:lnTo>
                  <a:lnTo>
                    <a:pt x="2" y="220"/>
                  </a:lnTo>
                  <a:lnTo>
                    <a:pt x="0" y="224"/>
                  </a:lnTo>
                  <a:lnTo>
                    <a:pt x="3" y="224"/>
                  </a:lnTo>
                  <a:lnTo>
                    <a:pt x="12" y="220"/>
                  </a:lnTo>
                  <a:lnTo>
                    <a:pt x="23" y="219"/>
                  </a:lnTo>
                  <a:lnTo>
                    <a:pt x="33" y="219"/>
                  </a:lnTo>
                  <a:lnTo>
                    <a:pt x="47" y="219"/>
                  </a:lnTo>
                  <a:lnTo>
                    <a:pt x="60" y="219"/>
                  </a:lnTo>
                  <a:lnTo>
                    <a:pt x="72" y="219"/>
                  </a:lnTo>
                  <a:lnTo>
                    <a:pt x="77" y="219"/>
                  </a:lnTo>
                  <a:lnTo>
                    <a:pt x="80" y="229"/>
                  </a:lnTo>
                  <a:lnTo>
                    <a:pt x="87" y="250"/>
                  </a:lnTo>
                  <a:lnTo>
                    <a:pt x="100" y="277"/>
                  </a:lnTo>
                  <a:lnTo>
                    <a:pt x="118" y="299"/>
                  </a:lnTo>
                  <a:lnTo>
                    <a:pt x="133" y="315"/>
                  </a:lnTo>
                  <a:lnTo>
                    <a:pt x="140" y="330"/>
                  </a:lnTo>
                  <a:lnTo>
                    <a:pt x="145" y="342"/>
                  </a:lnTo>
                  <a:lnTo>
                    <a:pt x="157" y="352"/>
                  </a:lnTo>
                  <a:lnTo>
                    <a:pt x="167" y="360"/>
                  </a:lnTo>
                  <a:lnTo>
                    <a:pt x="168" y="374"/>
                  </a:lnTo>
                  <a:lnTo>
                    <a:pt x="172" y="390"/>
                  </a:lnTo>
                  <a:lnTo>
                    <a:pt x="185" y="414"/>
                  </a:lnTo>
                  <a:lnTo>
                    <a:pt x="205" y="440"/>
                  </a:lnTo>
                  <a:lnTo>
                    <a:pt x="220" y="467"/>
                  </a:lnTo>
                  <a:lnTo>
                    <a:pt x="230" y="492"/>
                  </a:lnTo>
                  <a:lnTo>
                    <a:pt x="233" y="512"/>
                  </a:lnTo>
                  <a:lnTo>
                    <a:pt x="237" y="531"/>
                  </a:lnTo>
                  <a:lnTo>
                    <a:pt x="243" y="547"/>
                  </a:lnTo>
                  <a:lnTo>
                    <a:pt x="257" y="562"/>
                  </a:lnTo>
                  <a:lnTo>
                    <a:pt x="275" y="574"/>
                  </a:lnTo>
                  <a:lnTo>
                    <a:pt x="287" y="587"/>
                  </a:lnTo>
                  <a:lnTo>
                    <a:pt x="285" y="601"/>
                  </a:lnTo>
                  <a:lnTo>
                    <a:pt x="284" y="617"/>
                  </a:lnTo>
                  <a:lnTo>
                    <a:pt x="295" y="632"/>
                  </a:lnTo>
                  <a:lnTo>
                    <a:pt x="310" y="642"/>
                  </a:lnTo>
                  <a:lnTo>
                    <a:pt x="317" y="652"/>
                  </a:lnTo>
                  <a:lnTo>
                    <a:pt x="320" y="666"/>
                  </a:lnTo>
                  <a:lnTo>
                    <a:pt x="329" y="687"/>
                  </a:lnTo>
                  <a:lnTo>
                    <a:pt x="330" y="692"/>
                  </a:lnTo>
                  <a:lnTo>
                    <a:pt x="330" y="696"/>
                  </a:lnTo>
                  <a:lnTo>
                    <a:pt x="332" y="697"/>
                  </a:lnTo>
                  <a:lnTo>
                    <a:pt x="332" y="699"/>
                  </a:lnTo>
                  <a:lnTo>
                    <a:pt x="335" y="702"/>
                  </a:lnTo>
                  <a:lnTo>
                    <a:pt x="340" y="707"/>
                  </a:lnTo>
                  <a:lnTo>
                    <a:pt x="345" y="712"/>
                  </a:lnTo>
                  <a:lnTo>
                    <a:pt x="352" y="721"/>
                  </a:lnTo>
                  <a:lnTo>
                    <a:pt x="365" y="737"/>
                  </a:lnTo>
                  <a:lnTo>
                    <a:pt x="370" y="752"/>
                  </a:lnTo>
                  <a:lnTo>
                    <a:pt x="370" y="762"/>
                  </a:lnTo>
                  <a:lnTo>
                    <a:pt x="367" y="771"/>
                  </a:lnTo>
                  <a:lnTo>
                    <a:pt x="360" y="776"/>
                  </a:lnTo>
                  <a:lnTo>
                    <a:pt x="354" y="781"/>
                  </a:lnTo>
                  <a:lnTo>
                    <a:pt x="349" y="782"/>
                  </a:lnTo>
                  <a:lnTo>
                    <a:pt x="347" y="782"/>
                  </a:lnTo>
                  <a:lnTo>
                    <a:pt x="347" y="786"/>
                  </a:lnTo>
                  <a:lnTo>
                    <a:pt x="350" y="794"/>
                  </a:lnTo>
                  <a:lnTo>
                    <a:pt x="355" y="807"/>
                  </a:lnTo>
                  <a:lnTo>
                    <a:pt x="367" y="824"/>
                  </a:lnTo>
                  <a:lnTo>
                    <a:pt x="377" y="842"/>
                  </a:lnTo>
                  <a:lnTo>
                    <a:pt x="384" y="862"/>
                  </a:lnTo>
                  <a:lnTo>
                    <a:pt x="392" y="877"/>
                  </a:lnTo>
                  <a:lnTo>
                    <a:pt x="414" y="891"/>
                  </a:lnTo>
                  <a:lnTo>
                    <a:pt x="427" y="897"/>
                  </a:lnTo>
                  <a:lnTo>
                    <a:pt x="440" y="904"/>
                  </a:lnTo>
                  <a:lnTo>
                    <a:pt x="454" y="912"/>
                  </a:lnTo>
                  <a:lnTo>
                    <a:pt x="465" y="921"/>
                  </a:lnTo>
                  <a:lnTo>
                    <a:pt x="477" y="929"/>
                  </a:lnTo>
                  <a:lnTo>
                    <a:pt x="487" y="937"/>
                  </a:lnTo>
                  <a:lnTo>
                    <a:pt x="499" y="946"/>
                  </a:lnTo>
                  <a:lnTo>
                    <a:pt x="509" y="952"/>
                  </a:lnTo>
                  <a:lnTo>
                    <a:pt x="519" y="961"/>
                  </a:lnTo>
                  <a:lnTo>
                    <a:pt x="525" y="969"/>
                  </a:lnTo>
                  <a:lnTo>
                    <a:pt x="532" y="979"/>
                  </a:lnTo>
                  <a:lnTo>
                    <a:pt x="537" y="989"/>
                  </a:lnTo>
                  <a:lnTo>
                    <a:pt x="542" y="1002"/>
                  </a:lnTo>
                  <a:lnTo>
                    <a:pt x="547" y="1016"/>
                  </a:lnTo>
                  <a:lnTo>
                    <a:pt x="552" y="1031"/>
                  </a:lnTo>
                  <a:lnTo>
                    <a:pt x="560" y="1048"/>
                  </a:lnTo>
                  <a:lnTo>
                    <a:pt x="574" y="1079"/>
                  </a:lnTo>
                  <a:lnTo>
                    <a:pt x="584" y="1108"/>
                  </a:lnTo>
                  <a:lnTo>
                    <a:pt x="592" y="1136"/>
                  </a:lnTo>
                  <a:lnTo>
                    <a:pt x="609" y="1171"/>
                  </a:lnTo>
                  <a:lnTo>
                    <a:pt x="619" y="1213"/>
                  </a:lnTo>
                  <a:lnTo>
                    <a:pt x="612" y="1253"/>
                  </a:lnTo>
                  <a:lnTo>
                    <a:pt x="600" y="1283"/>
                  </a:lnTo>
                  <a:lnTo>
                    <a:pt x="594" y="1294"/>
                  </a:lnTo>
                  <a:lnTo>
                    <a:pt x="597" y="1301"/>
                  </a:lnTo>
                  <a:lnTo>
                    <a:pt x="604" y="1318"/>
                  </a:lnTo>
                  <a:lnTo>
                    <a:pt x="612" y="1341"/>
                  </a:lnTo>
                  <a:lnTo>
                    <a:pt x="617" y="1366"/>
                  </a:lnTo>
                  <a:lnTo>
                    <a:pt x="620" y="1379"/>
                  </a:lnTo>
                  <a:lnTo>
                    <a:pt x="624" y="1394"/>
                  </a:lnTo>
                  <a:lnTo>
                    <a:pt x="629" y="1409"/>
                  </a:lnTo>
                  <a:lnTo>
                    <a:pt x="635" y="1428"/>
                  </a:lnTo>
                  <a:lnTo>
                    <a:pt x="644" y="1444"/>
                  </a:lnTo>
                  <a:lnTo>
                    <a:pt x="654" y="1463"/>
                  </a:lnTo>
                  <a:lnTo>
                    <a:pt x="664" y="1481"/>
                  </a:lnTo>
                  <a:lnTo>
                    <a:pt x="675" y="1499"/>
                  </a:lnTo>
                  <a:lnTo>
                    <a:pt x="687" y="1516"/>
                  </a:lnTo>
                  <a:lnTo>
                    <a:pt x="695" y="1531"/>
                  </a:lnTo>
                  <a:lnTo>
                    <a:pt x="702" y="1543"/>
                  </a:lnTo>
                  <a:lnTo>
                    <a:pt x="707" y="1553"/>
                  </a:lnTo>
                  <a:lnTo>
                    <a:pt x="712" y="1561"/>
                  </a:lnTo>
                  <a:lnTo>
                    <a:pt x="719" y="1566"/>
                  </a:lnTo>
                  <a:lnTo>
                    <a:pt x="724" y="1570"/>
                  </a:lnTo>
                  <a:lnTo>
                    <a:pt x="732" y="1571"/>
                  </a:lnTo>
                  <a:lnTo>
                    <a:pt x="742" y="1573"/>
                  </a:lnTo>
                  <a:lnTo>
                    <a:pt x="754" y="1576"/>
                  </a:lnTo>
                  <a:lnTo>
                    <a:pt x="765" y="1581"/>
                  </a:lnTo>
                  <a:lnTo>
                    <a:pt x="779" y="1588"/>
                  </a:lnTo>
                  <a:lnTo>
                    <a:pt x="792" y="1595"/>
                  </a:lnTo>
                  <a:lnTo>
                    <a:pt x="804" y="1603"/>
                  </a:lnTo>
                  <a:lnTo>
                    <a:pt x="814" y="1611"/>
                  </a:lnTo>
                  <a:lnTo>
                    <a:pt x="822" y="1618"/>
                  </a:lnTo>
                  <a:lnTo>
                    <a:pt x="834" y="1633"/>
                  </a:lnTo>
                  <a:lnTo>
                    <a:pt x="846" y="1648"/>
                  </a:lnTo>
                  <a:lnTo>
                    <a:pt x="856" y="1663"/>
                  </a:lnTo>
                  <a:lnTo>
                    <a:pt x="866" y="1675"/>
                  </a:lnTo>
                  <a:lnTo>
                    <a:pt x="872" y="1685"/>
                  </a:lnTo>
                  <a:lnTo>
                    <a:pt x="881" y="1700"/>
                  </a:lnTo>
                  <a:lnTo>
                    <a:pt x="891" y="1721"/>
                  </a:lnTo>
                  <a:lnTo>
                    <a:pt x="902" y="1743"/>
                  </a:lnTo>
                  <a:lnTo>
                    <a:pt x="912" y="1768"/>
                  </a:lnTo>
                  <a:lnTo>
                    <a:pt x="921" y="1790"/>
                  </a:lnTo>
                  <a:lnTo>
                    <a:pt x="927" y="1810"/>
                  </a:lnTo>
                  <a:lnTo>
                    <a:pt x="931" y="1823"/>
                  </a:lnTo>
                  <a:lnTo>
                    <a:pt x="937" y="1841"/>
                  </a:lnTo>
                  <a:lnTo>
                    <a:pt x="951" y="1858"/>
                  </a:lnTo>
                  <a:lnTo>
                    <a:pt x="964" y="1878"/>
                  </a:lnTo>
                  <a:lnTo>
                    <a:pt x="979" y="1908"/>
                  </a:lnTo>
                  <a:lnTo>
                    <a:pt x="987" y="1926"/>
                  </a:lnTo>
                  <a:lnTo>
                    <a:pt x="999" y="1945"/>
                  </a:lnTo>
                  <a:lnTo>
                    <a:pt x="1014" y="1965"/>
                  </a:lnTo>
                  <a:lnTo>
                    <a:pt x="1029" y="1981"/>
                  </a:lnTo>
                  <a:lnTo>
                    <a:pt x="1044" y="2000"/>
                  </a:lnTo>
                  <a:lnTo>
                    <a:pt x="1059" y="2015"/>
                  </a:lnTo>
                  <a:lnTo>
                    <a:pt x="1072" y="2027"/>
                  </a:lnTo>
                  <a:lnTo>
                    <a:pt x="1084" y="2037"/>
                  </a:lnTo>
                  <a:lnTo>
                    <a:pt x="1097" y="2052"/>
                  </a:lnTo>
                  <a:lnTo>
                    <a:pt x="1106" y="2068"/>
                  </a:lnTo>
                  <a:lnTo>
                    <a:pt x="1109" y="2085"/>
                  </a:lnTo>
                  <a:lnTo>
                    <a:pt x="1112" y="2098"/>
                  </a:lnTo>
                  <a:lnTo>
                    <a:pt x="1117" y="2108"/>
                  </a:lnTo>
                  <a:lnTo>
                    <a:pt x="1126" y="2120"/>
                  </a:lnTo>
                  <a:lnTo>
                    <a:pt x="1136" y="2132"/>
                  </a:lnTo>
                  <a:lnTo>
                    <a:pt x="1146" y="2145"/>
                  </a:lnTo>
                  <a:lnTo>
                    <a:pt x="1156" y="2160"/>
                  </a:lnTo>
                  <a:lnTo>
                    <a:pt x="1164" y="2175"/>
                  </a:lnTo>
                  <a:lnTo>
                    <a:pt x="1169" y="2190"/>
                  </a:lnTo>
                  <a:lnTo>
                    <a:pt x="1169" y="2202"/>
                  </a:lnTo>
                  <a:lnTo>
                    <a:pt x="1169" y="2217"/>
                  </a:lnTo>
                  <a:lnTo>
                    <a:pt x="1172" y="2233"/>
                  </a:lnTo>
                  <a:lnTo>
                    <a:pt x="1177" y="2248"/>
                  </a:lnTo>
                  <a:lnTo>
                    <a:pt x="1179" y="2255"/>
                  </a:lnTo>
                  <a:lnTo>
                    <a:pt x="1216" y="2227"/>
                  </a:lnTo>
                  <a:lnTo>
                    <a:pt x="1219" y="2222"/>
                  </a:lnTo>
                  <a:lnTo>
                    <a:pt x="1226" y="2208"/>
                  </a:lnTo>
                  <a:lnTo>
                    <a:pt x="1232" y="2192"/>
                  </a:lnTo>
                  <a:lnTo>
                    <a:pt x="1236" y="2178"/>
                  </a:lnTo>
                  <a:lnTo>
                    <a:pt x="1236" y="2165"/>
                  </a:lnTo>
                  <a:lnTo>
                    <a:pt x="1234" y="2145"/>
                  </a:lnTo>
                  <a:lnTo>
                    <a:pt x="1236" y="2123"/>
                  </a:lnTo>
                  <a:lnTo>
                    <a:pt x="1241" y="2103"/>
                  </a:lnTo>
                  <a:lnTo>
                    <a:pt x="1241" y="2087"/>
                  </a:lnTo>
                  <a:lnTo>
                    <a:pt x="1236" y="2077"/>
                  </a:lnTo>
                  <a:lnTo>
                    <a:pt x="1234" y="2067"/>
                  </a:lnTo>
                  <a:lnTo>
                    <a:pt x="1241" y="2060"/>
                  </a:lnTo>
                  <a:lnTo>
                    <a:pt x="1246" y="2057"/>
                  </a:lnTo>
                  <a:lnTo>
                    <a:pt x="1251" y="2057"/>
                  </a:lnTo>
                  <a:lnTo>
                    <a:pt x="1256" y="2058"/>
                  </a:lnTo>
                  <a:lnTo>
                    <a:pt x="1261" y="2062"/>
                  </a:lnTo>
                  <a:lnTo>
                    <a:pt x="1259" y="2052"/>
                  </a:lnTo>
                  <a:lnTo>
                    <a:pt x="1257" y="2043"/>
                  </a:lnTo>
                  <a:lnTo>
                    <a:pt x="1256" y="2033"/>
                  </a:lnTo>
                  <a:lnTo>
                    <a:pt x="1257" y="2027"/>
                  </a:lnTo>
                  <a:close/>
                </a:path>
              </a:pathLst>
            </a:custGeom>
            <a:solidFill>
              <a:srgbClr val="ffffff">
                <a:alpha val="10000"/>
              </a:srgbClr>
            </a:solidFill>
            <a:ln cap="sq" w="9360">
              <a:solidFill>
                <a:srgbClr val="ffffff"/>
              </a:solidFill>
              <a:round/>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6" name=""/>
            <p:cNvSpPr/>
            <p:nvPr/>
          </p:nvSpPr>
          <p:spPr>
            <a:xfrm>
              <a:off x="3086280" y="3249720"/>
              <a:ext cx="4680" cy="4680"/>
            </a:xfrm>
            <a:custGeom>
              <a:avLst/>
              <a:gdLst/>
              <a:ahLst/>
              <a:rect l="l" t="t" r="r" b="b"/>
              <a:pathLst>
                <a:path w="5" h="5">
                  <a:moveTo>
                    <a:pt x="5" y="3"/>
                  </a:moveTo>
                  <a:lnTo>
                    <a:pt x="0" y="0"/>
                  </a:lnTo>
                  <a:lnTo>
                    <a:pt x="2" y="3"/>
                  </a:lnTo>
                  <a:lnTo>
                    <a:pt x="3" y="5"/>
                  </a:lnTo>
                  <a:lnTo>
                    <a:pt x="5" y="3"/>
                  </a:lnTo>
                  <a:lnTo>
                    <a:pt x="5" y="3"/>
                  </a:lnTo>
                  <a:close/>
                </a:path>
              </a:pathLst>
            </a:custGeom>
            <a:solidFill>
              <a:srgbClr val="000000"/>
            </a:solidFill>
            <a:ln w="0">
              <a:noFill/>
            </a:ln>
          </p:spPr>
          <p:style>
            <a:lnRef idx="0"/>
            <a:fillRef idx="0"/>
            <a:effectRef idx="0"/>
            <a:fontRef idx="minor"/>
          </p:style>
          <p:txBody>
            <a:bodyPr wrap="none" lIns="90000" rIns="90000" tIns="-42120" bIns="-421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7" name=""/>
            <p:cNvSpPr/>
            <p:nvPr/>
          </p:nvSpPr>
          <p:spPr>
            <a:xfrm>
              <a:off x="4379760" y="4205160"/>
              <a:ext cx="2567160" cy="993960"/>
            </a:xfrm>
            <a:custGeom>
              <a:avLst/>
              <a:gdLst/>
              <a:ahLst/>
              <a:rect l="l" t="t" r="r" b="b"/>
              <a:pathLst>
                <a:path w="1881" h="744">
                  <a:moveTo>
                    <a:pt x="1298" y="222"/>
                  </a:moveTo>
                  <a:lnTo>
                    <a:pt x="1283" y="225"/>
                  </a:lnTo>
                  <a:lnTo>
                    <a:pt x="1263" y="230"/>
                  </a:lnTo>
                  <a:lnTo>
                    <a:pt x="1239" y="235"/>
                  </a:lnTo>
                  <a:lnTo>
                    <a:pt x="1214" y="242"/>
                  </a:lnTo>
                  <a:lnTo>
                    <a:pt x="1186" y="249"/>
                  </a:lnTo>
                  <a:lnTo>
                    <a:pt x="1157" y="255"/>
                  </a:lnTo>
                  <a:lnTo>
                    <a:pt x="1127" y="262"/>
                  </a:lnTo>
                  <a:lnTo>
                    <a:pt x="1097" y="269"/>
                  </a:lnTo>
                  <a:lnTo>
                    <a:pt x="1067" y="275"/>
                  </a:lnTo>
                  <a:lnTo>
                    <a:pt x="1039" y="284"/>
                  </a:lnTo>
                  <a:lnTo>
                    <a:pt x="1012" y="290"/>
                  </a:lnTo>
                  <a:lnTo>
                    <a:pt x="989" y="297"/>
                  </a:lnTo>
                  <a:lnTo>
                    <a:pt x="967" y="302"/>
                  </a:lnTo>
                  <a:lnTo>
                    <a:pt x="949" y="309"/>
                  </a:lnTo>
                  <a:lnTo>
                    <a:pt x="936" y="314"/>
                  </a:lnTo>
                  <a:lnTo>
                    <a:pt x="927" y="317"/>
                  </a:lnTo>
                  <a:lnTo>
                    <a:pt x="914" y="324"/>
                  </a:lnTo>
                  <a:lnTo>
                    <a:pt x="901" y="329"/>
                  </a:lnTo>
                  <a:lnTo>
                    <a:pt x="887" y="337"/>
                  </a:lnTo>
                  <a:lnTo>
                    <a:pt x="872" y="344"/>
                  </a:lnTo>
                  <a:lnTo>
                    <a:pt x="857" y="355"/>
                  </a:lnTo>
                  <a:lnTo>
                    <a:pt x="842" y="369"/>
                  </a:lnTo>
                  <a:lnTo>
                    <a:pt x="826" y="389"/>
                  </a:lnTo>
                  <a:lnTo>
                    <a:pt x="807" y="412"/>
                  </a:lnTo>
                  <a:lnTo>
                    <a:pt x="791" y="437"/>
                  </a:lnTo>
                  <a:lnTo>
                    <a:pt x="776" y="460"/>
                  </a:lnTo>
                  <a:lnTo>
                    <a:pt x="761" y="482"/>
                  </a:lnTo>
                  <a:lnTo>
                    <a:pt x="747" y="502"/>
                  </a:lnTo>
                  <a:lnTo>
                    <a:pt x="737" y="519"/>
                  </a:lnTo>
                  <a:lnTo>
                    <a:pt x="727" y="532"/>
                  </a:lnTo>
                  <a:lnTo>
                    <a:pt x="719" y="542"/>
                  </a:lnTo>
                  <a:lnTo>
                    <a:pt x="712" y="549"/>
                  </a:lnTo>
                  <a:lnTo>
                    <a:pt x="706" y="554"/>
                  </a:lnTo>
                  <a:lnTo>
                    <a:pt x="699" y="559"/>
                  </a:lnTo>
                  <a:lnTo>
                    <a:pt x="689" y="564"/>
                  </a:lnTo>
                  <a:lnTo>
                    <a:pt x="679" y="565"/>
                  </a:lnTo>
                  <a:lnTo>
                    <a:pt x="667" y="567"/>
                  </a:lnTo>
                  <a:lnTo>
                    <a:pt x="657" y="567"/>
                  </a:lnTo>
                  <a:lnTo>
                    <a:pt x="647" y="564"/>
                  </a:lnTo>
                  <a:lnTo>
                    <a:pt x="637" y="559"/>
                  </a:lnTo>
                  <a:lnTo>
                    <a:pt x="629" y="552"/>
                  </a:lnTo>
                  <a:lnTo>
                    <a:pt x="622" y="544"/>
                  </a:lnTo>
                  <a:lnTo>
                    <a:pt x="615" y="535"/>
                  </a:lnTo>
                  <a:lnTo>
                    <a:pt x="609" y="529"/>
                  </a:lnTo>
                  <a:lnTo>
                    <a:pt x="602" y="524"/>
                  </a:lnTo>
                  <a:lnTo>
                    <a:pt x="595" y="520"/>
                  </a:lnTo>
                  <a:lnTo>
                    <a:pt x="589" y="519"/>
                  </a:lnTo>
                  <a:lnTo>
                    <a:pt x="580" y="520"/>
                  </a:lnTo>
                  <a:lnTo>
                    <a:pt x="569" y="524"/>
                  </a:lnTo>
                  <a:lnTo>
                    <a:pt x="554" y="525"/>
                  </a:lnTo>
                  <a:lnTo>
                    <a:pt x="537" y="525"/>
                  </a:lnTo>
                  <a:lnTo>
                    <a:pt x="519" y="525"/>
                  </a:lnTo>
                  <a:lnTo>
                    <a:pt x="499" y="525"/>
                  </a:lnTo>
                  <a:lnTo>
                    <a:pt x="480" y="524"/>
                  </a:lnTo>
                  <a:lnTo>
                    <a:pt x="462" y="522"/>
                  </a:lnTo>
                  <a:lnTo>
                    <a:pt x="447" y="520"/>
                  </a:lnTo>
                  <a:lnTo>
                    <a:pt x="432" y="519"/>
                  </a:lnTo>
                  <a:lnTo>
                    <a:pt x="417" y="515"/>
                  </a:lnTo>
                  <a:lnTo>
                    <a:pt x="404" y="510"/>
                  </a:lnTo>
                  <a:lnTo>
                    <a:pt x="389" y="507"/>
                  </a:lnTo>
                  <a:lnTo>
                    <a:pt x="375" y="504"/>
                  </a:lnTo>
                  <a:lnTo>
                    <a:pt x="364" y="500"/>
                  </a:lnTo>
                  <a:lnTo>
                    <a:pt x="352" y="497"/>
                  </a:lnTo>
                  <a:lnTo>
                    <a:pt x="342" y="497"/>
                  </a:lnTo>
                  <a:lnTo>
                    <a:pt x="329" y="497"/>
                  </a:lnTo>
                  <a:lnTo>
                    <a:pt x="307" y="497"/>
                  </a:lnTo>
                  <a:lnTo>
                    <a:pt x="280" y="499"/>
                  </a:lnTo>
                  <a:lnTo>
                    <a:pt x="250" y="499"/>
                  </a:lnTo>
                  <a:lnTo>
                    <a:pt x="224" y="500"/>
                  </a:lnTo>
                  <a:lnTo>
                    <a:pt x="200" y="502"/>
                  </a:lnTo>
                  <a:lnTo>
                    <a:pt x="184" y="502"/>
                  </a:lnTo>
                  <a:lnTo>
                    <a:pt x="177" y="502"/>
                  </a:lnTo>
                  <a:lnTo>
                    <a:pt x="175" y="504"/>
                  </a:lnTo>
                  <a:lnTo>
                    <a:pt x="170" y="505"/>
                  </a:lnTo>
                  <a:lnTo>
                    <a:pt x="164" y="509"/>
                  </a:lnTo>
                  <a:lnTo>
                    <a:pt x="155" y="510"/>
                  </a:lnTo>
                  <a:lnTo>
                    <a:pt x="144" y="512"/>
                  </a:lnTo>
                  <a:lnTo>
                    <a:pt x="132" y="512"/>
                  </a:lnTo>
                  <a:lnTo>
                    <a:pt x="120" y="509"/>
                  </a:lnTo>
                  <a:lnTo>
                    <a:pt x="107" y="502"/>
                  </a:lnTo>
                  <a:lnTo>
                    <a:pt x="95" y="494"/>
                  </a:lnTo>
                  <a:lnTo>
                    <a:pt x="87" y="485"/>
                  </a:lnTo>
                  <a:lnTo>
                    <a:pt x="80" y="479"/>
                  </a:lnTo>
                  <a:lnTo>
                    <a:pt x="75" y="475"/>
                  </a:lnTo>
                  <a:lnTo>
                    <a:pt x="70" y="472"/>
                  </a:lnTo>
                  <a:lnTo>
                    <a:pt x="65" y="470"/>
                  </a:lnTo>
                  <a:lnTo>
                    <a:pt x="60" y="470"/>
                  </a:lnTo>
                  <a:lnTo>
                    <a:pt x="53" y="474"/>
                  </a:lnTo>
                  <a:lnTo>
                    <a:pt x="47" y="480"/>
                  </a:lnTo>
                  <a:lnTo>
                    <a:pt x="50" y="489"/>
                  </a:lnTo>
                  <a:lnTo>
                    <a:pt x="55" y="500"/>
                  </a:lnTo>
                  <a:lnTo>
                    <a:pt x="53" y="515"/>
                  </a:lnTo>
                  <a:lnTo>
                    <a:pt x="50" y="535"/>
                  </a:lnTo>
                  <a:lnTo>
                    <a:pt x="48" y="557"/>
                  </a:lnTo>
                  <a:lnTo>
                    <a:pt x="50" y="577"/>
                  </a:lnTo>
                  <a:lnTo>
                    <a:pt x="50" y="592"/>
                  </a:lnTo>
                  <a:lnTo>
                    <a:pt x="47" y="606"/>
                  </a:lnTo>
                  <a:lnTo>
                    <a:pt x="40" y="621"/>
                  </a:lnTo>
                  <a:lnTo>
                    <a:pt x="33" y="634"/>
                  </a:lnTo>
                  <a:lnTo>
                    <a:pt x="30" y="639"/>
                  </a:lnTo>
                  <a:lnTo>
                    <a:pt x="0" y="662"/>
                  </a:lnTo>
                  <a:lnTo>
                    <a:pt x="3" y="666"/>
                  </a:lnTo>
                  <a:lnTo>
                    <a:pt x="8" y="669"/>
                  </a:lnTo>
                  <a:lnTo>
                    <a:pt x="13" y="674"/>
                  </a:lnTo>
                  <a:lnTo>
                    <a:pt x="18" y="677"/>
                  </a:lnTo>
                  <a:lnTo>
                    <a:pt x="32" y="684"/>
                  </a:lnTo>
                  <a:lnTo>
                    <a:pt x="43" y="687"/>
                  </a:lnTo>
                  <a:lnTo>
                    <a:pt x="55" y="687"/>
                  </a:lnTo>
                  <a:lnTo>
                    <a:pt x="67" y="686"/>
                  </a:lnTo>
                  <a:lnTo>
                    <a:pt x="77" y="684"/>
                  </a:lnTo>
                  <a:lnTo>
                    <a:pt x="83" y="681"/>
                  </a:lnTo>
                  <a:lnTo>
                    <a:pt x="88" y="679"/>
                  </a:lnTo>
                  <a:lnTo>
                    <a:pt x="90" y="677"/>
                  </a:lnTo>
                  <a:lnTo>
                    <a:pt x="97" y="677"/>
                  </a:lnTo>
                  <a:lnTo>
                    <a:pt x="114" y="677"/>
                  </a:lnTo>
                  <a:lnTo>
                    <a:pt x="137" y="676"/>
                  </a:lnTo>
                  <a:lnTo>
                    <a:pt x="164" y="674"/>
                  </a:lnTo>
                  <a:lnTo>
                    <a:pt x="194" y="674"/>
                  </a:lnTo>
                  <a:lnTo>
                    <a:pt x="220" y="672"/>
                  </a:lnTo>
                  <a:lnTo>
                    <a:pt x="242" y="672"/>
                  </a:lnTo>
                  <a:lnTo>
                    <a:pt x="255" y="672"/>
                  </a:lnTo>
                  <a:lnTo>
                    <a:pt x="265" y="674"/>
                  </a:lnTo>
                  <a:lnTo>
                    <a:pt x="275" y="676"/>
                  </a:lnTo>
                  <a:lnTo>
                    <a:pt x="289" y="679"/>
                  </a:lnTo>
                  <a:lnTo>
                    <a:pt x="302" y="682"/>
                  </a:lnTo>
                  <a:lnTo>
                    <a:pt x="315" y="687"/>
                  </a:lnTo>
                  <a:lnTo>
                    <a:pt x="330" y="691"/>
                  </a:lnTo>
                  <a:lnTo>
                    <a:pt x="344" y="694"/>
                  </a:lnTo>
                  <a:lnTo>
                    <a:pt x="359" y="697"/>
                  </a:lnTo>
                  <a:lnTo>
                    <a:pt x="374" y="699"/>
                  </a:lnTo>
                  <a:lnTo>
                    <a:pt x="392" y="701"/>
                  </a:lnTo>
                  <a:lnTo>
                    <a:pt x="412" y="701"/>
                  </a:lnTo>
                  <a:lnTo>
                    <a:pt x="430" y="702"/>
                  </a:lnTo>
                  <a:lnTo>
                    <a:pt x="450" y="702"/>
                  </a:lnTo>
                  <a:lnTo>
                    <a:pt x="467" y="701"/>
                  </a:lnTo>
                  <a:lnTo>
                    <a:pt x="480" y="701"/>
                  </a:lnTo>
                  <a:lnTo>
                    <a:pt x="492" y="697"/>
                  </a:lnTo>
                  <a:lnTo>
                    <a:pt x="500" y="696"/>
                  </a:lnTo>
                  <a:lnTo>
                    <a:pt x="507" y="696"/>
                  </a:lnTo>
                  <a:lnTo>
                    <a:pt x="514" y="699"/>
                  </a:lnTo>
                  <a:lnTo>
                    <a:pt x="520" y="706"/>
                  </a:lnTo>
                  <a:lnTo>
                    <a:pt x="527" y="712"/>
                  </a:lnTo>
                  <a:lnTo>
                    <a:pt x="534" y="719"/>
                  </a:lnTo>
                  <a:lnTo>
                    <a:pt x="540" y="727"/>
                  </a:lnTo>
                  <a:lnTo>
                    <a:pt x="549" y="734"/>
                  </a:lnTo>
                  <a:lnTo>
                    <a:pt x="559" y="741"/>
                  </a:lnTo>
                  <a:lnTo>
                    <a:pt x="569" y="742"/>
                  </a:lnTo>
                  <a:lnTo>
                    <a:pt x="579" y="744"/>
                  </a:lnTo>
                  <a:lnTo>
                    <a:pt x="590" y="742"/>
                  </a:lnTo>
                  <a:lnTo>
                    <a:pt x="600" y="739"/>
                  </a:lnTo>
                  <a:lnTo>
                    <a:pt x="610" y="736"/>
                  </a:lnTo>
                  <a:lnTo>
                    <a:pt x="619" y="731"/>
                  </a:lnTo>
                  <a:lnTo>
                    <a:pt x="625" y="726"/>
                  </a:lnTo>
                  <a:lnTo>
                    <a:pt x="632" y="719"/>
                  </a:lnTo>
                  <a:lnTo>
                    <a:pt x="639" y="707"/>
                  </a:lnTo>
                  <a:lnTo>
                    <a:pt x="649" y="694"/>
                  </a:lnTo>
                  <a:lnTo>
                    <a:pt x="661" y="677"/>
                  </a:lnTo>
                  <a:lnTo>
                    <a:pt x="672" y="659"/>
                  </a:lnTo>
                  <a:lnTo>
                    <a:pt x="687" y="637"/>
                  </a:lnTo>
                  <a:lnTo>
                    <a:pt x="704" y="614"/>
                  </a:lnTo>
                  <a:lnTo>
                    <a:pt x="721" y="587"/>
                  </a:lnTo>
                  <a:lnTo>
                    <a:pt x="737" y="564"/>
                  </a:lnTo>
                  <a:lnTo>
                    <a:pt x="754" y="544"/>
                  </a:lnTo>
                  <a:lnTo>
                    <a:pt x="769" y="530"/>
                  </a:lnTo>
                  <a:lnTo>
                    <a:pt x="786" y="519"/>
                  </a:lnTo>
                  <a:lnTo>
                    <a:pt x="799" y="512"/>
                  </a:lnTo>
                  <a:lnTo>
                    <a:pt x="812" y="504"/>
                  </a:lnTo>
                  <a:lnTo>
                    <a:pt x="826" y="499"/>
                  </a:lnTo>
                  <a:lnTo>
                    <a:pt x="839" y="492"/>
                  </a:lnTo>
                  <a:lnTo>
                    <a:pt x="847" y="489"/>
                  </a:lnTo>
                  <a:lnTo>
                    <a:pt x="862" y="484"/>
                  </a:lnTo>
                  <a:lnTo>
                    <a:pt x="879" y="479"/>
                  </a:lnTo>
                  <a:lnTo>
                    <a:pt x="901" y="472"/>
                  </a:lnTo>
                  <a:lnTo>
                    <a:pt x="926" y="465"/>
                  </a:lnTo>
                  <a:lnTo>
                    <a:pt x="952" y="459"/>
                  </a:lnTo>
                  <a:lnTo>
                    <a:pt x="981" y="452"/>
                  </a:lnTo>
                  <a:lnTo>
                    <a:pt x="1009" y="444"/>
                  </a:lnTo>
                  <a:lnTo>
                    <a:pt x="1039" y="437"/>
                  </a:lnTo>
                  <a:lnTo>
                    <a:pt x="1069" y="430"/>
                  </a:lnTo>
                  <a:lnTo>
                    <a:pt x="1097" y="424"/>
                  </a:lnTo>
                  <a:lnTo>
                    <a:pt x="1126" y="417"/>
                  </a:lnTo>
                  <a:lnTo>
                    <a:pt x="1151" y="410"/>
                  </a:lnTo>
                  <a:lnTo>
                    <a:pt x="1174" y="405"/>
                  </a:lnTo>
                  <a:lnTo>
                    <a:pt x="1194" y="400"/>
                  </a:lnTo>
                  <a:lnTo>
                    <a:pt x="1209" y="397"/>
                  </a:lnTo>
                  <a:lnTo>
                    <a:pt x="1236" y="390"/>
                  </a:lnTo>
                  <a:lnTo>
                    <a:pt x="1263" y="385"/>
                  </a:lnTo>
                  <a:lnTo>
                    <a:pt x="1289" y="382"/>
                  </a:lnTo>
                  <a:lnTo>
                    <a:pt x="1313" y="379"/>
                  </a:lnTo>
                  <a:lnTo>
                    <a:pt x="1336" y="375"/>
                  </a:lnTo>
                  <a:lnTo>
                    <a:pt x="1354" y="370"/>
                  </a:lnTo>
                  <a:lnTo>
                    <a:pt x="1371" y="365"/>
                  </a:lnTo>
                  <a:lnTo>
                    <a:pt x="1384" y="359"/>
                  </a:lnTo>
                  <a:lnTo>
                    <a:pt x="1394" y="354"/>
                  </a:lnTo>
                  <a:lnTo>
                    <a:pt x="1411" y="345"/>
                  </a:lnTo>
                  <a:lnTo>
                    <a:pt x="1434" y="334"/>
                  </a:lnTo>
                  <a:lnTo>
                    <a:pt x="1463" y="320"/>
                  </a:lnTo>
                  <a:lnTo>
                    <a:pt x="1496" y="307"/>
                  </a:lnTo>
                  <a:lnTo>
                    <a:pt x="1533" y="290"/>
                  </a:lnTo>
                  <a:lnTo>
                    <a:pt x="1571" y="274"/>
                  </a:lnTo>
                  <a:lnTo>
                    <a:pt x="1611" y="255"/>
                  </a:lnTo>
                  <a:lnTo>
                    <a:pt x="1649" y="239"/>
                  </a:lnTo>
                  <a:lnTo>
                    <a:pt x="1688" y="222"/>
                  </a:lnTo>
                  <a:lnTo>
                    <a:pt x="1723" y="207"/>
                  </a:lnTo>
                  <a:lnTo>
                    <a:pt x="1756" y="192"/>
                  </a:lnTo>
                  <a:lnTo>
                    <a:pt x="1783" y="180"/>
                  </a:lnTo>
                  <a:lnTo>
                    <a:pt x="1805" y="170"/>
                  </a:lnTo>
                  <a:lnTo>
                    <a:pt x="1820" y="164"/>
                  </a:lnTo>
                  <a:lnTo>
                    <a:pt x="1826" y="160"/>
                  </a:lnTo>
                  <a:lnTo>
                    <a:pt x="1836" y="152"/>
                  </a:lnTo>
                  <a:lnTo>
                    <a:pt x="1841" y="142"/>
                  </a:lnTo>
                  <a:lnTo>
                    <a:pt x="1845" y="130"/>
                  </a:lnTo>
                  <a:lnTo>
                    <a:pt x="1846" y="117"/>
                  </a:lnTo>
                  <a:lnTo>
                    <a:pt x="1848" y="100"/>
                  </a:lnTo>
                  <a:lnTo>
                    <a:pt x="1851" y="78"/>
                  </a:lnTo>
                  <a:lnTo>
                    <a:pt x="1858" y="57"/>
                  </a:lnTo>
                  <a:lnTo>
                    <a:pt x="1865" y="37"/>
                  </a:lnTo>
                  <a:lnTo>
                    <a:pt x="1868" y="27"/>
                  </a:lnTo>
                  <a:lnTo>
                    <a:pt x="1873" y="18"/>
                  </a:lnTo>
                  <a:lnTo>
                    <a:pt x="1876" y="8"/>
                  </a:lnTo>
                  <a:lnTo>
                    <a:pt x="1881" y="0"/>
                  </a:lnTo>
                  <a:lnTo>
                    <a:pt x="1861" y="10"/>
                  </a:lnTo>
                  <a:lnTo>
                    <a:pt x="1836" y="20"/>
                  </a:lnTo>
                  <a:lnTo>
                    <a:pt x="1808" y="32"/>
                  </a:lnTo>
                  <a:lnTo>
                    <a:pt x="1778" y="45"/>
                  </a:lnTo>
                  <a:lnTo>
                    <a:pt x="1746" y="58"/>
                  </a:lnTo>
                  <a:lnTo>
                    <a:pt x="1714" y="73"/>
                  </a:lnTo>
                  <a:lnTo>
                    <a:pt x="1681" y="88"/>
                  </a:lnTo>
                  <a:lnTo>
                    <a:pt x="1648" y="102"/>
                  </a:lnTo>
                  <a:lnTo>
                    <a:pt x="1616" y="117"/>
                  </a:lnTo>
                  <a:lnTo>
                    <a:pt x="1586" y="130"/>
                  </a:lnTo>
                  <a:lnTo>
                    <a:pt x="1558" y="142"/>
                  </a:lnTo>
                  <a:lnTo>
                    <a:pt x="1533" y="154"/>
                  </a:lnTo>
                  <a:lnTo>
                    <a:pt x="1511" y="164"/>
                  </a:lnTo>
                  <a:lnTo>
                    <a:pt x="1493" y="174"/>
                  </a:lnTo>
                  <a:lnTo>
                    <a:pt x="1479" y="179"/>
                  </a:lnTo>
                  <a:lnTo>
                    <a:pt x="1473" y="184"/>
                  </a:lnTo>
                  <a:lnTo>
                    <a:pt x="1459" y="190"/>
                  </a:lnTo>
                  <a:lnTo>
                    <a:pt x="1443" y="195"/>
                  </a:lnTo>
                  <a:lnTo>
                    <a:pt x="1423" y="199"/>
                  </a:lnTo>
                  <a:lnTo>
                    <a:pt x="1401" y="202"/>
                  </a:lnTo>
                  <a:lnTo>
                    <a:pt x="1376" y="205"/>
                  </a:lnTo>
                  <a:lnTo>
                    <a:pt x="1351" y="210"/>
                  </a:lnTo>
                  <a:lnTo>
                    <a:pt x="1324" y="215"/>
                  </a:lnTo>
                  <a:lnTo>
                    <a:pt x="1298" y="222"/>
                  </a:lnTo>
                  <a:close/>
                </a:path>
              </a:pathLst>
            </a:custGeom>
            <a:solidFill>
              <a:srgbClr val="ffffff">
                <a:alpha val="20000"/>
              </a:srgbClr>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8" name=""/>
            <p:cNvSpPr/>
            <p:nvPr/>
          </p:nvSpPr>
          <p:spPr>
            <a:xfrm>
              <a:off x="2813040" y="1346040"/>
              <a:ext cx="4348080" cy="3579840"/>
            </a:xfrm>
            <a:custGeom>
              <a:avLst/>
              <a:gdLst/>
              <a:ahLst/>
              <a:rect l="l" t="t" r="r" b="b"/>
              <a:pathLst>
                <a:path w="3185" h="2678">
                  <a:moveTo>
                    <a:pt x="380" y="90"/>
                  </a:moveTo>
                  <a:lnTo>
                    <a:pt x="683" y="28"/>
                  </a:lnTo>
                  <a:lnTo>
                    <a:pt x="693" y="0"/>
                  </a:lnTo>
                  <a:lnTo>
                    <a:pt x="695" y="0"/>
                  </a:lnTo>
                  <a:lnTo>
                    <a:pt x="698" y="0"/>
                  </a:lnTo>
                  <a:lnTo>
                    <a:pt x="704" y="0"/>
                  </a:lnTo>
                  <a:lnTo>
                    <a:pt x="712" y="0"/>
                  </a:lnTo>
                  <a:lnTo>
                    <a:pt x="720" y="0"/>
                  </a:lnTo>
                  <a:lnTo>
                    <a:pt x="734" y="2"/>
                  </a:lnTo>
                  <a:lnTo>
                    <a:pt x="747" y="5"/>
                  </a:lnTo>
                  <a:lnTo>
                    <a:pt x="764" y="10"/>
                  </a:lnTo>
                  <a:lnTo>
                    <a:pt x="782" y="15"/>
                  </a:lnTo>
                  <a:lnTo>
                    <a:pt x="799" y="20"/>
                  </a:lnTo>
                  <a:lnTo>
                    <a:pt x="817" y="23"/>
                  </a:lnTo>
                  <a:lnTo>
                    <a:pt x="832" y="28"/>
                  </a:lnTo>
                  <a:lnTo>
                    <a:pt x="847" y="32"/>
                  </a:lnTo>
                  <a:lnTo>
                    <a:pt x="862" y="35"/>
                  </a:lnTo>
                  <a:lnTo>
                    <a:pt x="874" y="40"/>
                  </a:lnTo>
                  <a:lnTo>
                    <a:pt x="884" y="43"/>
                  </a:lnTo>
                  <a:lnTo>
                    <a:pt x="894" y="48"/>
                  </a:lnTo>
                  <a:lnTo>
                    <a:pt x="907" y="57"/>
                  </a:lnTo>
                  <a:lnTo>
                    <a:pt x="924" y="68"/>
                  </a:lnTo>
                  <a:lnTo>
                    <a:pt x="942" y="82"/>
                  </a:lnTo>
                  <a:lnTo>
                    <a:pt x="962" y="97"/>
                  </a:lnTo>
                  <a:lnTo>
                    <a:pt x="985" y="112"/>
                  </a:lnTo>
                  <a:lnTo>
                    <a:pt x="1009" y="127"/>
                  </a:lnTo>
                  <a:lnTo>
                    <a:pt x="1035" y="142"/>
                  </a:lnTo>
                  <a:lnTo>
                    <a:pt x="1060" y="155"/>
                  </a:lnTo>
                  <a:lnTo>
                    <a:pt x="1080" y="168"/>
                  </a:lnTo>
                  <a:lnTo>
                    <a:pt x="1099" y="180"/>
                  </a:lnTo>
                  <a:lnTo>
                    <a:pt x="1114" y="190"/>
                  </a:lnTo>
                  <a:lnTo>
                    <a:pt x="1124" y="197"/>
                  </a:lnTo>
                  <a:lnTo>
                    <a:pt x="1132" y="203"/>
                  </a:lnTo>
                  <a:lnTo>
                    <a:pt x="1137" y="207"/>
                  </a:lnTo>
                  <a:lnTo>
                    <a:pt x="1139" y="208"/>
                  </a:lnTo>
                  <a:lnTo>
                    <a:pt x="1142" y="210"/>
                  </a:lnTo>
                  <a:lnTo>
                    <a:pt x="1150" y="215"/>
                  </a:lnTo>
                  <a:lnTo>
                    <a:pt x="1162" y="223"/>
                  </a:lnTo>
                  <a:lnTo>
                    <a:pt x="1177" y="233"/>
                  </a:lnTo>
                  <a:lnTo>
                    <a:pt x="1192" y="243"/>
                  </a:lnTo>
                  <a:lnTo>
                    <a:pt x="1205" y="255"/>
                  </a:lnTo>
                  <a:lnTo>
                    <a:pt x="1217" y="265"/>
                  </a:lnTo>
                  <a:lnTo>
                    <a:pt x="1225" y="275"/>
                  </a:lnTo>
                  <a:lnTo>
                    <a:pt x="1234" y="285"/>
                  </a:lnTo>
                  <a:lnTo>
                    <a:pt x="1245" y="297"/>
                  </a:lnTo>
                  <a:lnTo>
                    <a:pt x="1259" y="310"/>
                  </a:lnTo>
                  <a:lnTo>
                    <a:pt x="1276" y="325"/>
                  </a:lnTo>
                  <a:lnTo>
                    <a:pt x="1292" y="340"/>
                  </a:lnTo>
                  <a:lnTo>
                    <a:pt x="1309" y="354"/>
                  </a:lnTo>
                  <a:lnTo>
                    <a:pt x="1324" y="365"/>
                  </a:lnTo>
                  <a:lnTo>
                    <a:pt x="1334" y="375"/>
                  </a:lnTo>
                  <a:lnTo>
                    <a:pt x="1346" y="385"/>
                  </a:lnTo>
                  <a:lnTo>
                    <a:pt x="1362" y="397"/>
                  </a:lnTo>
                  <a:lnTo>
                    <a:pt x="1381" y="410"/>
                  </a:lnTo>
                  <a:lnTo>
                    <a:pt x="1401" y="424"/>
                  </a:lnTo>
                  <a:lnTo>
                    <a:pt x="1421" y="437"/>
                  </a:lnTo>
                  <a:lnTo>
                    <a:pt x="1436" y="445"/>
                  </a:lnTo>
                  <a:lnTo>
                    <a:pt x="1447" y="454"/>
                  </a:lnTo>
                  <a:lnTo>
                    <a:pt x="1451" y="455"/>
                  </a:lnTo>
                  <a:lnTo>
                    <a:pt x="1489" y="509"/>
                  </a:lnTo>
                  <a:lnTo>
                    <a:pt x="1497" y="509"/>
                  </a:lnTo>
                  <a:lnTo>
                    <a:pt x="1517" y="509"/>
                  </a:lnTo>
                  <a:lnTo>
                    <a:pt x="1546" y="509"/>
                  </a:lnTo>
                  <a:lnTo>
                    <a:pt x="1581" y="509"/>
                  </a:lnTo>
                  <a:lnTo>
                    <a:pt x="1617" y="510"/>
                  </a:lnTo>
                  <a:lnTo>
                    <a:pt x="1651" y="514"/>
                  </a:lnTo>
                  <a:lnTo>
                    <a:pt x="1677" y="520"/>
                  </a:lnTo>
                  <a:lnTo>
                    <a:pt x="1694" y="527"/>
                  </a:lnTo>
                  <a:lnTo>
                    <a:pt x="1696" y="527"/>
                  </a:lnTo>
                  <a:lnTo>
                    <a:pt x="1702" y="525"/>
                  </a:lnTo>
                  <a:lnTo>
                    <a:pt x="1712" y="522"/>
                  </a:lnTo>
                  <a:lnTo>
                    <a:pt x="1722" y="520"/>
                  </a:lnTo>
                  <a:lnTo>
                    <a:pt x="1736" y="519"/>
                  </a:lnTo>
                  <a:lnTo>
                    <a:pt x="1747" y="515"/>
                  </a:lnTo>
                  <a:lnTo>
                    <a:pt x="1759" y="514"/>
                  </a:lnTo>
                  <a:lnTo>
                    <a:pt x="1769" y="514"/>
                  </a:lnTo>
                  <a:lnTo>
                    <a:pt x="1782" y="515"/>
                  </a:lnTo>
                  <a:lnTo>
                    <a:pt x="1801" y="519"/>
                  </a:lnTo>
                  <a:lnTo>
                    <a:pt x="1823" y="522"/>
                  </a:lnTo>
                  <a:lnTo>
                    <a:pt x="1848" y="527"/>
                  </a:lnTo>
                  <a:lnTo>
                    <a:pt x="1869" y="534"/>
                  </a:lnTo>
                  <a:lnTo>
                    <a:pt x="1889" y="537"/>
                  </a:lnTo>
                  <a:lnTo>
                    <a:pt x="1903" y="540"/>
                  </a:lnTo>
                  <a:lnTo>
                    <a:pt x="1908" y="542"/>
                  </a:lnTo>
                  <a:lnTo>
                    <a:pt x="1926" y="604"/>
                  </a:lnTo>
                  <a:lnTo>
                    <a:pt x="2044" y="604"/>
                  </a:lnTo>
                  <a:lnTo>
                    <a:pt x="2064" y="689"/>
                  </a:lnTo>
                  <a:lnTo>
                    <a:pt x="2071" y="692"/>
                  </a:lnTo>
                  <a:lnTo>
                    <a:pt x="2083" y="704"/>
                  </a:lnTo>
                  <a:lnTo>
                    <a:pt x="2093" y="722"/>
                  </a:lnTo>
                  <a:lnTo>
                    <a:pt x="2093" y="746"/>
                  </a:lnTo>
                  <a:lnTo>
                    <a:pt x="2116" y="784"/>
                  </a:lnTo>
                  <a:lnTo>
                    <a:pt x="2154" y="769"/>
                  </a:lnTo>
                  <a:lnTo>
                    <a:pt x="2158" y="774"/>
                  </a:lnTo>
                  <a:lnTo>
                    <a:pt x="2164" y="786"/>
                  </a:lnTo>
                  <a:lnTo>
                    <a:pt x="2169" y="801"/>
                  </a:lnTo>
                  <a:lnTo>
                    <a:pt x="2173" y="812"/>
                  </a:lnTo>
                  <a:lnTo>
                    <a:pt x="2176" y="824"/>
                  </a:lnTo>
                  <a:lnTo>
                    <a:pt x="2183" y="834"/>
                  </a:lnTo>
                  <a:lnTo>
                    <a:pt x="2189" y="842"/>
                  </a:lnTo>
                  <a:lnTo>
                    <a:pt x="2193" y="846"/>
                  </a:lnTo>
                  <a:lnTo>
                    <a:pt x="2201" y="822"/>
                  </a:lnTo>
                  <a:lnTo>
                    <a:pt x="2226" y="869"/>
                  </a:lnTo>
                  <a:lnTo>
                    <a:pt x="2228" y="869"/>
                  </a:lnTo>
                  <a:lnTo>
                    <a:pt x="2234" y="871"/>
                  </a:lnTo>
                  <a:lnTo>
                    <a:pt x="2244" y="874"/>
                  </a:lnTo>
                  <a:lnTo>
                    <a:pt x="2254" y="877"/>
                  </a:lnTo>
                  <a:lnTo>
                    <a:pt x="2266" y="882"/>
                  </a:lnTo>
                  <a:lnTo>
                    <a:pt x="2276" y="887"/>
                  </a:lnTo>
                  <a:lnTo>
                    <a:pt x="2284" y="894"/>
                  </a:lnTo>
                  <a:lnTo>
                    <a:pt x="2288" y="902"/>
                  </a:lnTo>
                  <a:lnTo>
                    <a:pt x="2289" y="921"/>
                  </a:lnTo>
                  <a:lnTo>
                    <a:pt x="2293" y="937"/>
                  </a:lnTo>
                  <a:lnTo>
                    <a:pt x="2296" y="952"/>
                  </a:lnTo>
                  <a:lnTo>
                    <a:pt x="2306" y="964"/>
                  </a:lnTo>
                  <a:lnTo>
                    <a:pt x="2316" y="979"/>
                  </a:lnTo>
                  <a:lnTo>
                    <a:pt x="2321" y="996"/>
                  </a:lnTo>
                  <a:lnTo>
                    <a:pt x="2318" y="1011"/>
                  </a:lnTo>
                  <a:lnTo>
                    <a:pt x="2311" y="1017"/>
                  </a:lnTo>
                  <a:lnTo>
                    <a:pt x="2303" y="1019"/>
                  </a:lnTo>
                  <a:lnTo>
                    <a:pt x="2299" y="1024"/>
                  </a:lnTo>
                  <a:lnTo>
                    <a:pt x="2301" y="1032"/>
                  </a:lnTo>
                  <a:lnTo>
                    <a:pt x="2306" y="1046"/>
                  </a:lnTo>
                  <a:lnTo>
                    <a:pt x="2313" y="1061"/>
                  </a:lnTo>
                  <a:lnTo>
                    <a:pt x="2319" y="1076"/>
                  </a:lnTo>
                  <a:lnTo>
                    <a:pt x="2324" y="1092"/>
                  </a:lnTo>
                  <a:lnTo>
                    <a:pt x="2329" y="1107"/>
                  </a:lnTo>
                  <a:lnTo>
                    <a:pt x="2336" y="1117"/>
                  </a:lnTo>
                  <a:lnTo>
                    <a:pt x="2344" y="1121"/>
                  </a:lnTo>
                  <a:lnTo>
                    <a:pt x="2351" y="1121"/>
                  </a:lnTo>
                  <a:lnTo>
                    <a:pt x="2354" y="1121"/>
                  </a:lnTo>
                  <a:lnTo>
                    <a:pt x="2356" y="1129"/>
                  </a:lnTo>
                  <a:lnTo>
                    <a:pt x="2365" y="1149"/>
                  </a:lnTo>
                  <a:lnTo>
                    <a:pt x="2375" y="1174"/>
                  </a:lnTo>
                  <a:lnTo>
                    <a:pt x="2388" y="1192"/>
                  </a:lnTo>
                  <a:lnTo>
                    <a:pt x="2395" y="1201"/>
                  </a:lnTo>
                  <a:lnTo>
                    <a:pt x="2400" y="1209"/>
                  </a:lnTo>
                  <a:lnTo>
                    <a:pt x="2405" y="1217"/>
                  </a:lnTo>
                  <a:lnTo>
                    <a:pt x="2411" y="1227"/>
                  </a:lnTo>
                  <a:lnTo>
                    <a:pt x="2416" y="1236"/>
                  </a:lnTo>
                  <a:lnTo>
                    <a:pt x="2425" y="1244"/>
                  </a:lnTo>
                  <a:lnTo>
                    <a:pt x="2433" y="1253"/>
                  </a:lnTo>
                  <a:lnTo>
                    <a:pt x="2445" y="1259"/>
                  </a:lnTo>
                  <a:lnTo>
                    <a:pt x="2456" y="1263"/>
                  </a:lnTo>
                  <a:lnTo>
                    <a:pt x="2468" y="1263"/>
                  </a:lnTo>
                  <a:lnTo>
                    <a:pt x="2478" y="1263"/>
                  </a:lnTo>
                  <a:lnTo>
                    <a:pt x="2486" y="1259"/>
                  </a:lnTo>
                  <a:lnTo>
                    <a:pt x="2493" y="1256"/>
                  </a:lnTo>
                  <a:lnTo>
                    <a:pt x="2498" y="1253"/>
                  </a:lnTo>
                  <a:lnTo>
                    <a:pt x="2500" y="1251"/>
                  </a:lnTo>
                  <a:lnTo>
                    <a:pt x="2501" y="1249"/>
                  </a:lnTo>
                  <a:lnTo>
                    <a:pt x="2520" y="1259"/>
                  </a:lnTo>
                  <a:lnTo>
                    <a:pt x="2501" y="1293"/>
                  </a:lnTo>
                  <a:lnTo>
                    <a:pt x="2501" y="1294"/>
                  </a:lnTo>
                  <a:lnTo>
                    <a:pt x="2501" y="1299"/>
                  </a:lnTo>
                  <a:lnTo>
                    <a:pt x="2503" y="1304"/>
                  </a:lnTo>
                  <a:lnTo>
                    <a:pt x="2511" y="1306"/>
                  </a:lnTo>
                  <a:lnTo>
                    <a:pt x="2521" y="1314"/>
                  </a:lnTo>
                  <a:lnTo>
                    <a:pt x="2531" y="1329"/>
                  </a:lnTo>
                  <a:lnTo>
                    <a:pt x="2536" y="1346"/>
                  </a:lnTo>
                  <a:lnTo>
                    <a:pt x="2540" y="1354"/>
                  </a:lnTo>
                  <a:lnTo>
                    <a:pt x="2541" y="1356"/>
                  </a:lnTo>
                  <a:lnTo>
                    <a:pt x="2546" y="1361"/>
                  </a:lnTo>
                  <a:lnTo>
                    <a:pt x="2553" y="1368"/>
                  </a:lnTo>
                  <a:lnTo>
                    <a:pt x="2561" y="1378"/>
                  </a:lnTo>
                  <a:lnTo>
                    <a:pt x="2571" y="1388"/>
                  </a:lnTo>
                  <a:lnTo>
                    <a:pt x="2583" y="1401"/>
                  </a:lnTo>
                  <a:lnTo>
                    <a:pt x="2595" y="1414"/>
                  </a:lnTo>
                  <a:lnTo>
                    <a:pt x="2606" y="1428"/>
                  </a:lnTo>
                  <a:lnTo>
                    <a:pt x="2618" y="1443"/>
                  </a:lnTo>
                  <a:lnTo>
                    <a:pt x="2631" y="1458"/>
                  </a:lnTo>
                  <a:lnTo>
                    <a:pt x="2645" y="1473"/>
                  </a:lnTo>
                  <a:lnTo>
                    <a:pt x="2658" y="1488"/>
                  </a:lnTo>
                  <a:lnTo>
                    <a:pt x="2670" y="1501"/>
                  </a:lnTo>
                  <a:lnTo>
                    <a:pt x="2680" y="1511"/>
                  </a:lnTo>
                  <a:lnTo>
                    <a:pt x="2688" y="1521"/>
                  </a:lnTo>
                  <a:lnTo>
                    <a:pt x="2691" y="1528"/>
                  </a:lnTo>
                  <a:lnTo>
                    <a:pt x="2701" y="1533"/>
                  </a:lnTo>
                  <a:lnTo>
                    <a:pt x="2723" y="1538"/>
                  </a:lnTo>
                  <a:lnTo>
                    <a:pt x="2753" y="1543"/>
                  </a:lnTo>
                  <a:lnTo>
                    <a:pt x="2790" y="1546"/>
                  </a:lnTo>
                  <a:lnTo>
                    <a:pt x="2828" y="1549"/>
                  </a:lnTo>
                  <a:lnTo>
                    <a:pt x="2863" y="1551"/>
                  </a:lnTo>
                  <a:lnTo>
                    <a:pt x="2891" y="1554"/>
                  </a:lnTo>
                  <a:lnTo>
                    <a:pt x="2910" y="1556"/>
                  </a:lnTo>
                  <a:lnTo>
                    <a:pt x="2925" y="1558"/>
                  </a:lnTo>
                  <a:lnTo>
                    <a:pt x="2945" y="1559"/>
                  </a:lnTo>
                  <a:lnTo>
                    <a:pt x="2968" y="1561"/>
                  </a:lnTo>
                  <a:lnTo>
                    <a:pt x="2992" y="1563"/>
                  </a:lnTo>
                  <a:lnTo>
                    <a:pt x="3013" y="1566"/>
                  </a:lnTo>
                  <a:lnTo>
                    <a:pt x="3033" y="1568"/>
                  </a:lnTo>
                  <a:lnTo>
                    <a:pt x="3048" y="1569"/>
                  </a:lnTo>
                  <a:lnTo>
                    <a:pt x="3057" y="1571"/>
                  </a:lnTo>
                  <a:lnTo>
                    <a:pt x="3070" y="1569"/>
                  </a:lnTo>
                  <a:lnTo>
                    <a:pt x="3083" y="1563"/>
                  </a:lnTo>
                  <a:lnTo>
                    <a:pt x="3095" y="1554"/>
                  </a:lnTo>
                  <a:lnTo>
                    <a:pt x="3100" y="1551"/>
                  </a:lnTo>
                  <a:lnTo>
                    <a:pt x="3102" y="1553"/>
                  </a:lnTo>
                  <a:lnTo>
                    <a:pt x="3105" y="1556"/>
                  </a:lnTo>
                  <a:lnTo>
                    <a:pt x="3112" y="1561"/>
                  </a:lnTo>
                  <a:lnTo>
                    <a:pt x="3120" y="1568"/>
                  </a:lnTo>
                  <a:lnTo>
                    <a:pt x="3130" y="1576"/>
                  </a:lnTo>
                  <a:lnTo>
                    <a:pt x="3140" y="1586"/>
                  </a:lnTo>
                  <a:lnTo>
                    <a:pt x="3152" y="1598"/>
                  </a:lnTo>
                  <a:lnTo>
                    <a:pt x="3162" y="1609"/>
                  </a:lnTo>
                  <a:lnTo>
                    <a:pt x="3172" y="1624"/>
                  </a:lnTo>
                  <a:lnTo>
                    <a:pt x="3180" y="1638"/>
                  </a:lnTo>
                  <a:lnTo>
                    <a:pt x="3183" y="1653"/>
                  </a:lnTo>
                  <a:lnTo>
                    <a:pt x="3185" y="1668"/>
                  </a:lnTo>
                  <a:lnTo>
                    <a:pt x="3185" y="1678"/>
                  </a:lnTo>
                  <a:lnTo>
                    <a:pt x="3183" y="1688"/>
                  </a:lnTo>
                  <a:lnTo>
                    <a:pt x="3180" y="1696"/>
                  </a:lnTo>
                  <a:lnTo>
                    <a:pt x="3175" y="1704"/>
                  </a:lnTo>
                  <a:lnTo>
                    <a:pt x="3168" y="1724"/>
                  </a:lnTo>
                  <a:lnTo>
                    <a:pt x="3168" y="1748"/>
                  </a:lnTo>
                  <a:lnTo>
                    <a:pt x="3168" y="1771"/>
                  </a:lnTo>
                  <a:lnTo>
                    <a:pt x="3167" y="1795"/>
                  </a:lnTo>
                  <a:lnTo>
                    <a:pt x="3162" y="1815"/>
                  </a:lnTo>
                  <a:lnTo>
                    <a:pt x="3153" y="1835"/>
                  </a:lnTo>
                  <a:lnTo>
                    <a:pt x="3145" y="1851"/>
                  </a:lnTo>
                  <a:lnTo>
                    <a:pt x="3138" y="1870"/>
                  </a:lnTo>
                  <a:lnTo>
                    <a:pt x="3132" y="1890"/>
                  </a:lnTo>
                  <a:lnTo>
                    <a:pt x="3125" y="1913"/>
                  </a:lnTo>
                  <a:lnTo>
                    <a:pt x="3120" y="1933"/>
                  </a:lnTo>
                  <a:lnTo>
                    <a:pt x="3118" y="1951"/>
                  </a:lnTo>
                  <a:lnTo>
                    <a:pt x="3117" y="1965"/>
                  </a:lnTo>
                  <a:lnTo>
                    <a:pt x="3115" y="1976"/>
                  </a:lnTo>
                  <a:lnTo>
                    <a:pt x="3108" y="1986"/>
                  </a:lnTo>
                  <a:lnTo>
                    <a:pt x="3100" y="1993"/>
                  </a:lnTo>
                  <a:lnTo>
                    <a:pt x="3093" y="1996"/>
                  </a:lnTo>
                  <a:lnTo>
                    <a:pt x="3078" y="2003"/>
                  </a:lnTo>
                  <a:lnTo>
                    <a:pt x="3057" y="2013"/>
                  </a:lnTo>
                  <a:lnTo>
                    <a:pt x="3028" y="2026"/>
                  </a:lnTo>
                  <a:lnTo>
                    <a:pt x="2997" y="2040"/>
                  </a:lnTo>
                  <a:lnTo>
                    <a:pt x="2962" y="2056"/>
                  </a:lnTo>
                  <a:lnTo>
                    <a:pt x="2923" y="2073"/>
                  </a:lnTo>
                  <a:lnTo>
                    <a:pt x="2885" y="2090"/>
                  </a:lnTo>
                  <a:lnTo>
                    <a:pt x="2845" y="2108"/>
                  </a:lnTo>
                  <a:lnTo>
                    <a:pt x="2806" y="2125"/>
                  </a:lnTo>
                  <a:lnTo>
                    <a:pt x="2770" y="2141"/>
                  </a:lnTo>
                  <a:lnTo>
                    <a:pt x="2736" y="2155"/>
                  </a:lnTo>
                  <a:lnTo>
                    <a:pt x="2708" y="2168"/>
                  </a:lnTo>
                  <a:lnTo>
                    <a:pt x="2685" y="2180"/>
                  </a:lnTo>
                  <a:lnTo>
                    <a:pt x="2668" y="2188"/>
                  </a:lnTo>
                  <a:lnTo>
                    <a:pt x="2658" y="2193"/>
                  </a:lnTo>
                  <a:lnTo>
                    <a:pt x="2645" y="2200"/>
                  </a:lnTo>
                  <a:lnTo>
                    <a:pt x="2628" y="2205"/>
                  </a:lnTo>
                  <a:lnTo>
                    <a:pt x="2608" y="2208"/>
                  </a:lnTo>
                  <a:lnTo>
                    <a:pt x="2586" y="2211"/>
                  </a:lnTo>
                  <a:lnTo>
                    <a:pt x="2561" y="2215"/>
                  </a:lnTo>
                  <a:lnTo>
                    <a:pt x="2535" y="2220"/>
                  </a:lnTo>
                  <a:lnTo>
                    <a:pt x="2508" y="2225"/>
                  </a:lnTo>
                  <a:lnTo>
                    <a:pt x="2481" y="2231"/>
                  </a:lnTo>
                  <a:lnTo>
                    <a:pt x="2466" y="2235"/>
                  </a:lnTo>
                  <a:lnTo>
                    <a:pt x="2446" y="2240"/>
                  </a:lnTo>
                  <a:lnTo>
                    <a:pt x="2425" y="2245"/>
                  </a:lnTo>
                  <a:lnTo>
                    <a:pt x="2398" y="2252"/>
                  </a:lnTo>
                  <a:lnTo>
                    <a:pt x="2371" y="2258"/>
                  </a:lnTo>
                  <a:lnTo>
                    <a:pt x="2343" y="2265"/>
                  </a:lnTo>
                  <a:lnTo>
                    <a:pt x="2313" y="2272"/>
                  </a:lnTo>
                  <a:lnTo>
                    <a:pt x="2283" y="2278"/>
                  </a:lnTo>
                  <a:lnTo>
                    <a:pt x="2253" y="2285"/>
                  </a:lnTo>
                  <a:lnTo>
                    <a:pt x="2224" y="2293"/>
                  </a:lnTo>
                  <a:lnTo>
                    <a:pt x="2198" y="2300"/>
                  </a:lnTo>
                  <a:lnTo>
                    <a:pt x="2173" y="2307"/>
                  </a:lnTo>
                  <a:lnTo>
                    <a:pt x="2151" y="2312"/>
                  </a:lnTo>
                  <a:lnTo>
                    <a:pt x="2134" y="2318"/>
                  </a:lnTo>
                  <a:lnTo>
                    <a:pt x="2119" y="2323"/>
                  </a:lnTo>
                  <a:lnTo>
                    <a:pt x="2111" y="2327"/>
                  </a:lnTo>
                  <a:lnTo>
                    <a:pt x="2098" y="2333"/>
                  </a:lnTo>
                  <a:lnTo>
                    <a:pt x="2086" y="2338"/>
                  </a:lnTo>
                  <a:lnTo>
                    <a:pt x="2071" y="2347"/>
                  </a:lnTo>
                  <a:lnTo>
                    <a:pt x="2058" y="2353"/>
                  </a:lnTo>
                  <a:lnTo>
                    <a:pt x="2043" y="2365"/>
                  </a:lnTo>
                  <a:lnTo>
                    <a:pt x="2028" y="2378"/>
                  </a:lnTo>
                  <a:lnTo>
                    <a:pt x="2011" y="2398"/>
                  </a:lnTo>
                  <a:lnTo>
                    <a:pt x="1993" y="2422"/>
                  </a:lnTo>
                  <a:lnTo>
                    <a:pt x="1976" y="2447"/>
                  </a:lnTo>
                  <a:lnTo>
                    <a:pt x="1961" y="2470"/>
                  </a:lnTo>
                  <a:lnTo>
                    <a:pt x="1946" y="2492"/>
                  </a:lnTo>
                  <a:lnTo>
                    <a:pt x="1933" y="2512"/>
                  </a:lnTo>
                  <a:lnTo>
                    <a:pt x="1923" y="2528"/>
                  </a:lnTo>
                  <a:lnTo>
                    <a:pt x="1913" y="2542"/>
                  </a:lnTo>
                  <a:lnTo>
                    <a:pt x="1904" y="2552"/>
                  </a:lnTo>
                  <a:lnTo>
                    <a:pt x="1898" y="2558"/>
                  </a:lnTo>
                  <a:lnTo>
                    <a:pt x="1891" y="2563"/>
                  </a:lnTo>
                  <a:lnTo>
                    <a:pt x="1884" y="2568"/>
                  </a:lnTo>
                  <a:lnTo>
                    <a:pt x="1874" y="2573"/>
                  </a:lnTo>
                  <a:lnTo>
                    <a:pt x="1864" y="2575"/>
                  </a:lnTo>
                  <a:lnTo>
                    <a:pt x="1853" y="2577"/>
                  </a:lnTo>
                  <a:lnTo>
                    <a:pt x="1843" y="2577"/>
                  </a:lnTo>
                  <a:lnTo>
                    <a:pt x="1833" y="2573"/>
                  </a:lnTo>
                  <a:lnTo>
                    <a:pt x="1823" y="2568"/>
                  </a:lnTo>
                  <a:lnTo>
                    <a:pt x="1814" y="2562"/>
                  </a:lnTo>
                  <a:lnTo>
                    <a:pt x="1806" y="2553"/>
                  </a:lnTo>
                  <a:lnTo>
                    <a:pt x="1799" y="2547"/>
                  </a:lnTo>
                  <a:lnTo>
                    <a:pt x="1794" y="2538"/>
                  </a:lnTo>
                  <a:lnTo>
                    <a:pt x="1787" y="2533"/>
                  </a:lnTo>
                  <a:lnTo>
                    <a:pt x="1781" y="2530"/>
                  </a:lnTo>
                  <a:lnTo>
                    <a:pt x="1772" y="2528"/>
                  </a:lnTo>
                  <a:lnTo>
                    <a:pt x="1764" y="2530"/>
                  </a:lnTo>
                  <a:lnTo>
                    <a:pt x="1752" y="2533"/>
                  </a:lnTo>
                  <a:lnTo>
                    <a:pt x="1739" y="2535"/>
                  </a:lnTo>
                  <a:lnTo>
                    <a:pt x="1722" y="2535"/>
                  </a:lnTo>
                  <a:lnTo>
                    <a:pt x="1704" y="2535"/>
                  </a:lnTo>
                  <a:lnTo>
                    <a:pt x="1684" y="2535"/>
                  </a:lnTo>
                  <a:lnTo>
                    <a:pt x="1666" y="2533"/>
                  </a:lnTo>
                  <a:lnTo>
                    <a:pt x="1647" y="2532"/>
                  </a:lnTo>
                  <a:lnTo>
                    <a:pt x="1632" y="2530"/>
                  </a:lnTo>
                  <a:lnTo>
                    <a:pt x="1617" y="2528"/>
                  </a:lnTo>
                  <a:lnTo>
                    <a:pt x="1602" y="2525"/>
                  </a:lnTo>
                  <a:lnTo>
                    <a:pt x="1589" y="2520"/>
                  </a:lnTo>
                  <a:lnTo>
                    <a:pt x="1574" y="2517"/>
                  </a:lnTo>
                  <a:lnTo>
                    <a:pt x="1561" y="2513"/>
                  </a:lnTo>
                  <a:lnTo>
                    <a:pt x="1549" y="2510"/>
                  </a:lnTo>
                  <a:lnTo>
                    <a:pt x="1537" y="2507"/>
                  </a:lnTo>
                  <a:lnTo>
                    <a:pt x="1527" y="2507"/>
                  </a:lnTo>
                  <a:lnTo>
                    <a:pt x="1514" y="2507"/>
                  </a:lnTo>
                  <a:lnTo>
                    <a:pt x="1492" y="2507"/>
                  </a:lnTo>
                  <a:lnTo>
                    <a:pt x="1466" y="2508"/>
                  </a:lnTo>
                  <a:lnTo>
                    <a:pt x="1436" y="2508"/>
                  </a:lnTo>
                  <a:lnTo>
                    <a:pt x="1409" y="2510"/>
                  </a:lnTo>
                  <a:lnTo>
                    <a:pt x="1386" y="2512"/>
                  </a:lnTo>
                  <a:lnTo>
                    <a:pt x="1369" y="2512"/>
                  </a:lnTo>
                  <a:lnTo>
                    <a:pt x="1362" y="2512"/>
                  </a:lnTo>
                  <a:lnTo>
                    <a:pt x="1361" y="2513"/>
                  </a:lnTo>
                  <a:lnTo>
                    <a:pt x="1356" y="2515"/>
                  </a:lnTo>
                  <a:lnTo>
                    <a:pt x="1349" y="2518"/>
                  </a:lnTo>
                  <a:lnTo>
                    <a:pt x="1339" y="2520"/>
                  </a:lnTo>
                  <a:lnTo>
                    <a:pt x="1329" y="2522"/>
                  </a:lnTo>
                  <a:lnTo>
                    <a:pt x="1317" y="2522"/>
                  </a:lnTo>
                  <a:lnTo>
                    <a:pt x="1304" y="2518"/>
                  </a:lnTo>
                  <a:lnTo>
                    <a:pt x="1292" y="2512"/>
                  </a:lnTo>
                  <a:lnTo>
                    <a:pt x="1281" y="2503"/>
                  </a:lnTo>
                  <a:lnTo>
                    <a:pt x="1272" y="2497"/>
                  </a:lnTo>
                  <a:lnTo>
                    <a:pt x="1266" y="2490"/>
                  </a:lnTo>
                  <a:lnTo>
                    <a:pt x="1261" y="2485"/>
                  </a:lnTo>
                  <a:lnTo>
                    <a:pt x="1256" y="2482"/>
                  </a:lnTo>
                  <a:lnTo>
                    <a:pt x="1250" y="2480"/>
                  </a:lnTo>
                  <a:lnTo>
                    <a:pt x="1245" y="2480"/>
                  </a:lnTo>
                  <a:lnTo>
                    <a:pt x="1239" y="2483"/>
                  </a:lnTo>
                  <a:lnTo>
                    <a:pt x="1232" y="2490"/>
                  </a:lnTo>
                  <a:lnTo>
                    <a:pt x="1235" y="2498"/>
                  </a:lnTo>
                  <a:lnTo>
                    <a:pt x="1240" y="2510"/>
                  </a:lnTo>
                  <a:lnTo>
                    <a:pt x="1239" y="2525"/>
                  </a:lnTo>
                  <a:lnTo>
                    <a:pt x="1234" y="2545"/>
                  </a:lnTo>
                  <a:lnTo>
                    <a:pt x="1232" y="2567"/>
                  </a:lnTo>
                  <a:lnTo>
                    <a:pt x="1234" y="2587"/>
                  </a:lnTo>
                  <a:lnTo>
                    <a:pt x="1234" y="2602"/>
                  </a:lnTo>
                  <a:lnTo>
                    <a:pt x="1230" y="2615"/>
                  </a:lnTo>
                  <a:lnTo>
                    <a:pt x="1225" y="2630"/>
                  </a:lnTo>
                  <a:lnTo>
                    <a:pt x="1219" y="2643"/>
                  </a:lnTo>
                  <a:lnTo>
                    <a:pt x="1215" y="2648"/>
                  </a:lnTo>
                  <a:lnTo>
                    <a:pt x="1177" y="2678"/>
                  </a:lnTo>
                  <a:lnTo>
                    <a:pt x="1175" y="2672"/>
                  </a:lnTo>
                  <a:lnTo>
                    <a:pt x="1170" y="2657"/>
                  </a:lnTo>
                  <a:lnTo>
                    <a:pt x="1167" y="2640"/>
                  </a:lnTo>
                  <a:lnTo>
                    <a:pt x="1167" y="2625"/>
                  </a:lnTo>
                  <a:lnTo>
                    <a:pt x="1167" y="2613"/>
                  </a:lnTo>
                  <a:lnTo>
                    <a:pt x="1164" y="2598"/>
                  </a:lnTo>
                  <a:lnTo>
                    <a:pt x="1154" y="2583"/>
                  </a:lnTo>
                  <a:lnTo>
                    <a:pt x="1144" y="2568"/>
                  </a:lnTo>
                  <a:lnTo>
                    <a:pt x="1134" y="2555"/>
                  </a:lnTo>
                  <a:lnTo>
                    <a:pt x="1124" y="2543"/>
                  </a:lnTo>
                  <a:lnTo>
                    <a:pt x="1115" y="2532"/>
                  </a:lnTo>
                  <a:lnTo>
                    <a:pt x="1110" y="2522"/>
                  </a:lnTo>
                  <a:lnTo>
                    <a:pt x="1107" y="2508"/>
                  </a:lnTo>
                  <a:lnTo>
                    <a:pt x="1104" y="2492"/>
                  </a:lnTo>
                  <a:lnTo>
                    <a:pt x="1095" y="2475"/>
                  </a:lnTo>
                  <a:lnTo>
                    <a:pt x="1082" y="2458"/>
                  </a:lnTo>
                  <a:lnTo>
                    <a:pt x="1072" y="2450"/>
                  </a:lnTo>
                  <a:lnTo>
                    <a:pt x="1059" y="2437"/>
                  </a:lnTo>
                  <a:lnTo>
                    <a:pt x="1044" y="2423"/>
                  </a:lnTo>
                  <a:lnTo>
                    <a:pt x="1029" y="2405"/>
                  </a:lnTo>
                  <a:lnTo>
                    <a:pt x="1014" y="2387"/>
                  </a:lnTo>
                  <a:lnTo>
                    <a:pt x="999" y="2368"/>
                  </a:lnTo>
                  <a:lnTo>
                    <a:pt x="987" y="2350"/>
                  </a:lnTo>
                  <a:lnTo>
                    <a:pt x="979" y="2332"/>
                  </a:lnTo>
                  <a:lnTo>
                    <a:pt x="964" y="2302"/>
                  </a:lnTo>
                  <a:lnTo>
                    <a:pt x="949" y="2280"/>
                  </a:lnTo>
                  <a:lnTo>
                    <a:pt x="937" y="2263"/>
                  </a:lnTo>
                  <a:lnTo>
                    <a:pt x="930" y="2245"/>
                  </a:lnTo>
                  <a:lnTo>
                    <a:pt x="927" y="2231"/>
                  </a:lnTo>
                  <a:lnTo>
                    <a:pt x="920" y="2211"/>
                  </a:lnTo>
                  <a:lnTo>
                    <a:pt x="910" y="2190"/>
                  </a:lnTo>
                  <a:lnTo>
                    <a:pt x="900" y="2166"/>
                  </a:lnTo>
                  <a:lnTo>
                    <a:pt x="890" y="2143"/>
                  </a:lnTo>
                  <a:lnTo>
                    <a:pt x="880" y="2123"/>
                  </a:lnTo>
                  <a:lnTo>
                    <a:pt x="870" y="2108"/>
                  </a:lnTo>
                  <a:lnTo>
                    <a:pt x="864" y="2098"/>
                  </a:lnTo>
                  <a:lnTo>
                    <a:pt x="854" y="2085"/>
                  </a:lnTo>
                  <a:lnTo>
                    <a:pt x="845" y="2071"/>
                  </a:lnTo>
                  <a:lnTo>
                    <a:pt x="834" y="2056"/>
                  </a:lnTo>
                  <a:lnTo>
                    <a:pt x="822" y="2041"/>
                  </a:lnTo>
                  <a:lnTo>
                    <a:pt x="814" y="2033"/>
                  </a:lnTo>
                  <a:lnTo>
                    <a:pt x="802" y="2025"/>
                  </a:lnTo>
                  <a:lnTo>
                    <a:pt x="790" y="2018"/>
                  </a:lnTo>
                  <a:lnTo>
                    <a:pt x="779" y="2010"/>
                  </a:lnTo>
                  <a:lnTo>
                    <a:pt x="765" y="2003"/>
                  </a:lnTo>
                  <a:lnTo>
                    <a:pt x="752" y="1998"/>
                  </a:lnTo>
                  <a:lnTo>
                    <a:pt x="740" y="1995"/>
                  </a:lnTo>
                  <a:lnTo>
                    <a:pt x="730" y="1993"/>
                  </a:lnTo>
                  <a:lnTo>
                    <a:pt x="722" y="1991"/>
                  </a:lnTo>
                  <a:lnTo>
                    <a:pt x="717" y="1988"/>
                  </a:lnTo>
                  <a:lnTo>
                    <a:pt x="710" y="1983"/>
                  </a:lnTo>
                  <a:lnTo>
                    <a:pt x="705" y="1975"/>
                  </a:lnTo>
                  <a:lnTo>
                    <a:pt x="700" y="1966"/>
                  </a:lnTo>
                  <a:lnTo>
                    <a:pt x="693" y="1953"/>
                  </a:lnTo>
                  <a:lnTo>
                    <a:pt x="685" y="1940"/>
                  </a:lnTo>
                  <a:lnTo>
                    <a:pt x="673" y="1923"/>
                  </a:lnTo>
                  <a:lnTo>
                    <a:pt x="662" y="1905"/>
                  </a:lnTo>
                  <a:lnTo>
                    <a:pt x="652" y="1886"/>
                  </a:lnTo>
                  <a:lnTo>
                    <a:pt x="642" y="1868"/>
                  </a:lnTo>
                  <a:lnTo>
                    <a:pt x="635" y="1851"/>
                  </a:lnTo>
                  <a:lnTo>
                    <a:pt x="628" y="1833"/>
                  </a:lnTo>
                  <a:lnTo>
                    <a:pt x="623" y="1818"/>
                  </a:lnTo>
                  <a:lnTo>
                    <a:pt x="620" y="1803"/>
                  </a:lnTo>
                  <a:lnTo>
                    <a:pt x="617" y="1790"/>
                  </a:lnTo>
                  <a:lnTo>
                    <a:pt x="612" y="1765"/>
                  </a:lnTo>
                  <a:lnTo>
                    <a:pt x="603" y="1741"/>
                  </a:lnTo>
                  <a:lnTo>
                    <a:pt x="597" y="1724"/>
                  </a:lnTo>
                  <a:lnTo>
                    <a:pt x="593" y="1718"/>
                  </a:lnTo>
                  <a:lnTo>
                    <a:pt x="600" y="1706"/>
                  </a:lnTo>
                  <a:lnTo>
                    <a:pt x="610" y="1676"/>
                  </a:lnTo>
                  <a:lnTo>
                    <a:pt x="617" y="1636"/>
                  </a:lnTo>
                  <a:lnTo>
                    <a:pt x="607" y="1594"/>
                  </a:lnTo>
                  <a:lnTo>
                    <a:pt x="590" y="1559"/>
                  </a:lnTo>
                  <a:lnTo>
                    <a:pt x="582" y="1531"/>
                  </a:lnTo>
                  <a:lnTo>
                    <a:pt x="573" y="1503"/>
                  </a:lnTo>
                  <a:lnTo>
                    <a:pt x="560" y="1471"/>
                  </a:lnTo>
                  <a:lnTo>
                    <a:pt x="552" y="1454"/>
                  </a:lnTo>
                  <a:lnTo>
                    <a:pt x="547" y="1439"/>
                  </a:lnTo>
                  <a:lnTo>
                    <a:pt x="542" y="1426"/>
                  </a:lnTo>
                  <a:lnTo>
                    <a:pt x="537" y="1413"/>
                  </a:lnTo>
                  <a:lnTo>
                    <a:pt x="532" y="1401"/>
                  </a:lnTo>
                  <a:lnTo>
                    <a:pt x="525" y="1393"/>
                  </a:lnTo>
                  <a:lnTo>
                    <a:pt x="518" y="1383"/>
                  </a:lnTo>
                  <a:lnTo>
                    <a:pt x="508" y="1376"/>
                  </a:lnTo>
                  <a:lnTo>
                    <a:pt x="497" y="1369"/>
                  </a:lnTo>
                  <a:lnTo>
                    <a:pt x="487" y="1361"/>
                  </a:lnTo>
                  <a:lnTo>
                    <a:pt x="475" y="1354"/>
                  </a:lnTo>
                  <a:lnTo>
                    <a:pt x="463" y="1346"/>
                  </a:lnTo>
                  <a:lnTo>
                    <a:pt x="452" y="1338"/>
                  </a:lnTo>
                  <a:lnTo>
                    <a:pt x="440" y="1329"/>
                  </a:lnTo>
                  <a:lnTo>
                    <a:pt x="427" y="1323"/>
                  </a:lnTo>
                  <a:lnTo>
                    <a:pt x="413" y="1316"/>
                  </a:lnTo>
                  <a:lnTo>
                    <a:pt x="392" y="1303"/>
                  </a:lnTo>
                  <a:lnTo>
                    <a:pt x="382" y="1286"/>
                  </a:lnTo>
                  <a:lnTo>
                    <a:pt x="375" y="1268"/>
                  </a:lnTo>
                  <a:lnTo>
                    <a:pt x="365" y="1249"/>
                  </a:lnTo>
                  <a:lnTo>
                    <a:pt x="355" y="1232"/>
                  </a:lnTo>
                  <a:lnTo>
                    <a:pt x="348" y="1219"/>
                  </a:lnTo>
                  <a:lnTo>
                    <a:pt x="347" y="1209"/>
                  </a:lnTo>
                  <a:lnTo>
                    <a:pt x="347" y="1206"/>
                  </a:lnTo>
                  <a:lnTo>
                    <a:pt x="348" y="1206"/>
                  </a:lnTo>
                  <a:lnTo>
                    <a:pt x="353" y="1204"/>
                  </a:lnTo>
                  <a:lnTo>
                    <a:pt x="360" y="1201"/>
                  </a:lnTo>
                  <a:lnTo>
                    <a:pt x="367" y="1194"/>
                  </a:lnTo>
                  <a:lnTo>
                    <a:pt x="370" y="1187"/>
                  </a:lnTo>
                  <a:lnTo>
                    <a:pt x="370" y="1176"/>
                  </a:lnTo>
                  <a:lnTo>
                    <a:pt x="365" y="1162"/>
                  </a:lnTo>
                  <a:lnTo>
                    <a:pt x="352" y="1144"/>
                  </a:lnTo>
                  <a:lnTo>
                    <a:pt x="330" y="1122"/>
                  </a:lnTo>
                  <a:lnTo>
                    <a:pt x="327" y="1122"/>
                  </a:lnTo>
                  <a:lnTo>
                    <a:pt x="330" y="1126"/>
                  </a:lnTo>
                  <a:lnTo>
                    <a:pt x="327" y="1112"/>
                  </a:lnTo>
                  <a:lnTo>
                    <a:pt x="320" y="1091"/>
                  </a:lnTo>
                  <a:lnTo>
                    <a:pt x="315" y="1076"/>
                  </a:lnTo>
                  <a:lnTo>
                    <a:pt x="308" y="1066"/>
                  </a:lnTo>
                  <a:lnTo>
                    <a:pt x="293" y="1054"/>
                  </a:lnTo>
                  <a:lnTo>
                    <a:pt x="283" y="1039"/>
                  </a:lnTo>
                  <a:lnTo>
                    <a:pt x="285" y="1024"/>
                  </a:lnTo>
                  <a:lnTo>
                    <a:pt x="287" y="1011"/>
                  </a:lnTo>
                  <a:lnTo>
                    <a:pt x="275" y="997"/>
                  </a:lnTo>
                  <a:lnTo>
                    <a:pt x="257" y="986"/>
                  </a:lnTo>
                  <a:lnTo>
                    <a:pt x="243" y="971"/>
                  </a:lnTo>
                  <a:lnTo>
                    <a:pt x="235" y="954"/>
                  </a:lnTo>
                  <a:lnTo>
                    <a:pt x="232" y="936"/>
                  </a:lnTo>
                  <a:lnTo>
                    <a:pt x="228" y="916"/>
                  </a:lnTo>
                  <a:lnTo>
                    <a:pt x="218" y="889"/>
                  </a:lnTo>
                  <a:lnTo>
                    <a:pt x="205" y="862"/>
                  </a:lnTo>
                  <a:lnTo>
                    <a:pt x="185" y="836"/>
                  </a:lnTo>
                  <a:lnTo>
                    <a:pt x="172" y="814"/>
                  </a:lnTo>
                  <a:lnTo>
                    <a:pt x="168" y="796"/>
                  </a:lnTo>
                  <a:lnTo>
                    <a:pt x="167" y="782"/>
                  </a:lnTo>
                  <a:lnTo>
                    <a:pt x="157" y="774"/>
                  </a:lnTo>
                  <a:lnTo>
                    <a:pt x="145" y="766"/>
                  </a:lnTo>
                  <a:lnTo>
                    <a:pt x="140" y="754"/>
                  </a:lnTo>
                  <a:lnTo>
                    <a:pt x="133" y="739"/>
                  </a:lnTo>
                  <a:lnTo>
                    <a:pt x="118" y="722"/>
                  </a:lnTo>
                  <a:lnTo>
                    <a:pt x="100" y="700"/>
                  </a:lnTo>
                  <a:lnTo>
                    <a:pt x="86" y="674"/>
                  </a:lnTo>
                  <a:lnTo>
                    <a:pt x="78" y="652"/>
                  </a:lnTo>
                  <a:lnTo>
                    <a:pt x="75" y="642"/>
                  </a:lnTo>
                  <a:lnTo>
                    <a:pt x="70" y="642"/>
                  </a:lnTo>
                  <a:lnTo>
                    <a:pt x="60" y="642"/>
                  </a:lnTo>
                  <a:lnTo>
                    <a:pt x="45" y="642"/>
                  </a:lnTo>
                  <a:lnTo>
                    <a:pt x="33" y="642"/>
                  </a:lnTo>
                  <a:lnTo>
                    <a:pt x="21" y="642"/>
                  </a:lnTo>
                  <a:lnTo>
                    <a:pt x="11" y="644"/>
                  </a:lnTo>
                  <a:lnTo>
                    <a:pt x="3" y="645"/>
                  </a:lnTo>
                  <a:lnTo>
                    <a:pt x="0" y="645"/>
                  </a:lnTo>
                  <a:lnTo>
                    <a:pt x="1" y="642"/>
                  </a:lnTo>
                  <a:lnTo>
                    <a:pt x="5" y="632"/>
                  </a:lnTo>
                  <a:lnTo>
                    <a:pt x="8" y="620"/>
                  </a:lnTo>
                  <a:lnTo>
                    <a:pt x="13" y="609"/>
                  </a:lnTo>
                  <a:lnTo>
                    <a:pt x="20" y="592"/>
                  </a:lnTo>
                  <a:lnTo>
                    <a:pt x="28" y="569"/>
                  </a:lnTo>
                  <a:lnTo>
                    <a:pt x="35" y="542"/>
                  </a:lnTo>
                  <a:lnTo>
                    <a:pt x="38" y="517"/>
                  </a:lnTo>
                  <a:lnTo>
                    <a:pt x="40" y="500"/>
                  </a:lnTo>
                  <a:lnTo>
                    <a:pt x="43" y="489"/>
                  </a:lnTo>
                  <a:lnTo>
                    <a:pt x="50" y="480"/>
                  </a:lnTo>
                  <a:lnTo>
                    <a:pt x="56" y="470"/>
                  </a:lnTo>
                  <a:lnTo>
                    <a:pt x="61" y="457"/>
                  </a:lnTo>
                  <a:lnTo>
                    <a:pt x="65" y="442"/>
                  </a:lnTo>
                  <a:lnTo>
                    <a:pt x="66" y="429"/>
                  </a:lnTo>
                  <a:lnTo>
                    <a:pt x="66" y="424"/>
                  </a:lnTo>
                  <a:lnTo>
                    <a:pt x="232" y="465"/>
                  </a:lnTo>
                  <a:lnTo>
                    <a:pt x="235" y="464"/>
                  </a:lnTo>
                  <a:lnTo>
                    <a:pt x="243" y="457"/>
                  </a:lnTo>
                  <a:lnTo>
                    <a:pt x="257" y="450"/>
                  </a:lnTo>
                  <a:lnTo>
                    <a:pt x="270" y="439"/>
                  </a:lnTo>
                  <a:lnTo>
                    <a:pt x="285" y="429"/>
                  </a:lnTo>
                  <a:lnTo>
                    <a:pt x="298" y="417"/>
                  </a:lnTo>
                  <a:lnTo>
                    <a:pt x="308" y="407"/>
                  </a:lnTo>
                  <a:lnTo>
                    <a:pt x="313" y="399"/>
                  </a:lnTo>
                  <a:lnTo>
                    <a:pt x="318" y="384"/>
                  </a:lnTo>
                  <a:lnTo>
                    <a:pt x="325" y="369"/>
                  </a:lnTo>
                  <a:lnTo>
                    <a:pt x="330" y="357"/>
                  </a:lnTo>
                  <a:lnTo>
                    <a:pt x="332" y="352"/>
                  </a:lnTo>
                  <a:lnTo>
                    <a:pt x="335" y="352"/>
                  </a:lnTo>
                  <a:lnTo>
                    <a:pt x="342" y="352"/>
                  </a:lnTo>
                  <a:lnTo>
                    <a:pt x="353" y="352"/>
                  </a:lnTo>
                  <a:lnTo>
                    <a:pt x="367" y="350"/>
                  </a:lnTo>
                  <a:lnTo>
                    <a:pt x="382" y="350"/>
                  </a:lnTo>
                  <a:lnTo>
                    <a:pt x="398" y="347"/>
                  </a:lnTo>
                  <a:lnTo>
                    <a:pt x="413" y="345"/>
                  </a:lnTo>
                  <a:lnTo>
                    <a:pt x="427" y="342"/>
                  </a:lnTo>
                  <a:lnTo>
                    <a:pt x="438" y="337"/>
                  </a:lnTo>
                  <a:lnTo>
                    <a:pt x="447" y="329"/>
                  </a:lnTo>
                  <a:lnTo>
                    <a:pt x="455" y="319"/>
                  </a:lnTo>
                  <a:lnTo>
                    <a:pt x="462" y="309"/>
                  </a:lnTo>
                  <a:lnTo>
                    <a:pt x="468" y="299"/>
                  </a:lnTo>
                  <a:lnTo>
                    <a:pt x="475" y="290"/>
                  </a:lnTo>
                  <a:lnTo>
                    <a:pt x="483" y="284"/>
                  </a:lnTo>
                  <a:lnTo>
                    <a:pt x="493" y="280"/>
                  </a:lnTo>
                  <a:lnTo>
                    <a:pt x="508" y="275"/>
                  </a:lnTo>
                  <a:lnTo>
                    <a:pt x="513" y="269"/>
                  </a:lnTo>
                  <a:lnTo>
                    <a:pt x="513" y="264"/>
                  </a:lnTo>
                  <a:lnTo>
                    <a:pt x="512" y="262"/>
                  </a:lnTo>
                  <a:lnTo>
                    <a:pt x="380" y="90"/>
                  </a:lnTo>
                  <a:close/>
                </a:path>
              </a:pathLst>
            </a:custGeom>
            <a:solidFill>
              <a:srgbClr val="b2b2b2">
                <a:alpha val="30000"/>
              </a:srgbClr>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239" name="PlaceHolder 1"/>
          <p:cNvSpPr>
            <a:spLocks noGrp="1"/>
          </p:cNvSpPr>
          <p:nvPr>
            <p:ph/>
          </p:nvPr>
        </p:nvSpPr>
        <p:spPr>
          <a:xfrm>
            <a:off x="1218960" y="1600200"/>
            <a:ext cx="7010280" cy="266688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endParaRPr b="0" lang="en-US" sz="1400" spc="-1" strike="noStrike">
              <a:solidFill>
                <a:srgbClr val="000000"/>
              </a:solidFill>
              <a:latin typeface="Arial"/>
            </a:endParaRPr>
          </a:p>
          <a:p>
            <a:pPr marL="341280" indent="-341280">
              <a:lnSpc>
                <a:spcPct val="80000"/>
              </a:lnSpc>
              <a:spcBef>
                <a:spcPts val="601"/>
              </a:spcBef>
              <a:buClr>
                <a:srgbClr val="333399"/>
              </a:buClr>
              <a:buFont typeface="Albertus Medium"/>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GB" sz="2400" spc="-1" strike="noStrike">
                <a:solidFill>
                  <a:srgbClr val="333399"/>
                </a:solidFill>
                <a:latin typeface="Albertus Medium"/>
              </a:rPr>
              <a:t>Variety of nanomaterials have been incorporated into consumer products, like antibacterial cleansers, makeup, fabric or surfaces as self cleaning in food e.g. ice creams, in automotives, in military, in electronics and in skin care and dermatological products</a:t>
            </a:r>
            <a:endParaRPr b="0" lang="en-US" sz="2400" spc="-1" strike="noStrike">
              <a:solidFill>
                <a:srgbClr val="000000"/>
              </a:solidFill>
              <a:latin typeface="Arial"/>
            </a:endParaRPr>
          </a:p>
        </p:txBody>
      </p:sp>
      <p:sp>
        <p:nvSpPr>
          <p:cNvPr id="240" name=""/>
          <p:cNvSpPr/>
          <p:nvPr/>
        </p:nvSpPr>
        <p:spPr>
          <a:xfrm>
            <a:off x="609480" y="6629400"/>
            <a:ext cx="8534520" cy="228600"/>
          </a:xfrm>
          <a:prstGeom prst="rect">
            <a:avLst/>
          </a:prstGeom>
          <a:solidFill>
            <a:srgbClr val="bbe0e3"/>
          </a:solidFill>
          <a:ln cap="sq"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000" spc="-1" strike="noStrike">
                <a:solidFill>
                  <a:srgbClr val="333399"/>
                </a:solidFill>
                <a:latin typeface="Albertus Medium"/>
              </a:rPr>
              <a:t>www.skinandallergy.org</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www.panarabderm.org</a:t>
            </a:r>
            <a:endParaRPr b="0" lang="en-US" sz="10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41" name="" descr=""/>
          <p:cNvPicPr/>
          <p:nvPr/>
        </p:nvPicPr>
        <p:blipFill>
          <a:blip r:embed="rId2"/>
          <a:stretch/>
        </p:blipFill>
        <p:spPr>
          <a:xfrm>
            <a:off x="8153280" y="74520"/>
            <a:ext cx="922320" cy="992160"/>
          </a:xfrm>
          <a:prstGeom prst="rect">
            <a:avLst/>
          </a:prstGeom>
          <a:ln w="0">
            <a:noFill/>
          </a:ln>
        </p:spPr>
      </p:pic>
      <p:sp>
        <p:nvSpPr>
          <p:cNvPr id="242" name=""/>
          <p:cNvSpPr/>
          <p:nvPr/>
        </p:nvSpPr>
        <p:spPr>
          <a:xfrm>
            <a:off x="1295280" y="1066680"/>
            <a:ext cx="6193080" cy="1800"/>
          </a:xfrm>
          <a:prstGeom prst="line">
            <a:avLst/>
          </a:prstGeom>
          <a:ln cap="sq" w="12600">
            <a:solidFill>
              <a:srgbClr val="b2b2b2"/>
            </a:solidFill>
            <a:miter/>
          </a:ln>
        </p:spPr>
        <p:style>
          <a:lnRef idx="0"/>
          <a:fillRef idx="0"/>
          <a:effectRef idx="0"/>
          <a:fontRef idx="minor"/>
        </p:style>
        <p:txBody>
          <a:bodyPr lIns="90000" rIns="90000" tIns="-45000" bIns="-45000" anchor="t">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243" name="" descr=""/>
          <p:cNvPicPr/>
          <p:nvPr/>
        </p:nvPicPr>
        <p:blipFill>
          <a:blip r:embed="rId3"/>
          <a:stretch/>
        </p:blipFill>
        <p:spPr>
          <a:xfrm>
            <a:off x="0" y="0"/>
            <a:ext cx="600120" cy="6858000"/>
          </a:xfrm>
          <a:prstGeom prst="rect">
            <a:avLst/>
          </a:prstGeom>
          <a:ln w="0">
            <a:noFill/>
          </a:ln>
        </p:spPr>
      </p:pic>
      <p:grpSp>
        <p:nvGrpSpPr>
          <p:cNvPr id="244" name=""/>
          <p:cNvGrpSpPr/>
          <p:nvPr/>
        </p:nvGrpSpPr>
        <p:grpSpPr>
          <a:xfrm>
            <a:off x="2639880" y="1803240"/>
            <a:ext cx="4521240" cy="3986280"/>
            <a:chOff x="2639880" y="1803240"/>
            <a:chExt cx="4521240" cy="3986280"/>
          </a:xfrm>
        </p:grpSpPr>
        <p:sp>
          <p:nvSpPr>
            <p:cNvPr id="245" name=""/>
            <p:cNvSpPr/>
            <p:nvPr/>
          </p:nvSpPr>
          <p:spPr>
            <a:xfrm>
              <a:off x="2639880" y="2776680"/>
              <a:ext cx="1721160" cy="3012840"/>
            </a:xfrm>
            <a:custGeom>
              <a:avLst/>
              <a:gdLst/>
              <a:ahLst/>
              <a:rect l="l" t="t" r="r" b="b"/>
              <a:pathLst>
                <a:path w="1261" h="2255">
                  <a:moveTo>
                    <a:pt x="1257" y="2027"/>
                  </a:moveTo>
                  <a:lnTo>
                    <a:pt x="1257" y="2015"/>
                  </a:lnTo>
                  <a:lnTo>
                    <a:pt x="1252" y="2000"/>
                  </a:lnTo>
                  <a:lnTo>
                    <a:pt x="1244" y="1985"/>
                  </a:lnTo>
                  <a:lnTo>
                    <a:pt x="1232" y="1970"/>
                  </a:lnTo>
                  <a:lnTo>
                    <a:pt x="1222" y="1956"/>
                  </a:lnTo>
                  <a:lnTo>
                    <a:pt x="1212" y="1945"/>
                  </a:lnTo>
                  <a:lnTo>
                    <a:pt x="1204" y="1933"/>
                  </a:lnTo>
                  <a:lnTo>
                    <a:pt x="1199" y="1921"/>
                  </a:lnTo>
                  <a:lnTo>
                    <a:pt x="1197" y="1910"/>
                  </a:lnTo>
                  <a:lnTo>
                    <a:pt x="1192" y="1893"/>
                  </a:lnTo>
                  <a:lnTo>
                    <a:pt x="1186" y="1876"/>
                  </a:lnTo>
                  <a:lnTo>
                    <a:pt x="1171" y="1860"/>
                  </a:lnTo>
                  <a:lnTo>
                    <a:pt x="1161" y="1851"/>
                  </a:lnTo>
                  <a:lnTo>
                    <a:pt x="1147" y="1838"/>
                  </a:lnTo>
                  <a:lnTo>
                    <a:pt x="1132" y="1823"/>
                  </a:lnTo>
                  <a:lnTo>
                    <a:pt x="1117" y="1806"/>
                  </a:lnTo>
                  <a:lnTo>
                    <a:pt x="1102" y="1788"/>
                  </a:lnTo>
                  <a:lnTo>
                    <a:pt x="1087" y="1770"/>
                  </a:lnTo>
                  <a:lnTo>
                    <a:pt x="1076" y="1750"/>
                  </a:lnTo>
                  <a:lnTo>
                    <a:pt x="1067" y="1731"/>
                  </a:lnTo>
                  <a:lnTo>
                    <a:pt x="1052" y="1703"/>
                  </a:lnTo>
                  <a:lnTo>
                    <a:pt x="1037" y="1681"/>
                  </a:lnTo>
                  <a:lnTo>
                    <a:pt x="1026" y="1665"/>
                  </a:lnTo>
                  <a:lnTo>
                    <a:pt x="1019" y="1646"/>
                  </a:lnTo>
                  <a:lnTo>
                    <a:pt x="1016" y="1633"/>
                  </a:lnTo>
                  <a:lnTo>
                    <a:pt x="1009" y="1613"/>
                  </a:lnTo>
                  <a:lnTo>
                    <a:pt x="999" y="1591"/>
                  </a:lnTo>
                  <a:lnTo>
                    <a:pt x="989" y="1568"/>
                  </a:lnTo>
                  <a:lnTo>
                    <a:pt x="979" y="1545"/>
                  </a:lnTo>
                  <a:lnTo>
                    <a:pt x="969" y="1525"/>
                  </a:lnTo>
                  <a:lnTo>
                    <a:pt x="959" y="1508"/>
                  </a:lnTo>
                  <a:lnTo>
                    <a:pt x="952" y="1499"/>
                  </a:lnTo>
                  <a:lnTo>
                    <a:pt x="942" y="1486"/>
                  </a:lnTo>
                  <a:lnTo>
                    <a:pt x="934" y="1473"/>
                  </a:lnTo>
                  <a:lnTo>
                    <a:pt x="922" y="1458"/>
                  </a:lnTo>
                  <a:lnTo>
                    <a:pt x="911" y="1443"/>
                  </a:lnTo>
                  <a:lnTo>
                    <a:pt x="902" y="1434"/>
                  </a:lnTo>
                  <a:lnTo>
                    <a:pt x="891" y="1426"/>
                  </a:lnTo>
                  <a:lnTo>
                    <a:pt x="879" y="1419"/>
                  </a:lnTo>
                  <a:lnTo>
                    <a:pt x="867" y="1411"/>
                  </a:lnTo>
                  <a:lnTo>
                    <a:pt x="854" y="1404"/>
                  </a:lnTo>
                  <a:lnTo>
                    <a:pt x="842" y="1399"/>
                  </a:lnTo>
                  <a:lnTo>
                    <a:pt x="831" y="1396"/>
                  </a:lnTo>
                  <a:lnTo>
                    <a:pt x="820" y="1394"/>
                  </a:lnTo>
                  <a:lnTo>
                    <a:pt x="812" y="1393"/>
                  </a:lnTo>
                  <a:lnTo>
                    <a:pt x="805" y="1389"/>
                  </a:lnTo>
                  <a:lnTo>
                    <a:pt x="800" y="1384"/>
                  </a:lnTo>
                  <a:lnTo>
                    <a:pt x="794" y="1376"/>
                  </a:lnTo>
                  <a:lnTo>
                    <a:pt x="789" y="1368"/>
                  </a:lnTo>
                  <a:lnTo>
                    <a:pt x="782" y="1354"/>
                  </a:lnTo>
                  <a:lnTo>
                    <a:pt x="774" y="1341"/>
                  </a:lnTo>
                  <a:lnTo>
                    <a:pt x="762" y="1324"/>
                  </a:lnTo>
                  <a:lnTo>
                    <a:pt x="750" y="1306"/>
                  </a:lnTo>
                  <a:lnTo>
                    <a:pt x="740" y="1288"/>
                  </a:lnTo>
                  <a:lnTo>
                    <a:pt x="732" y="1269"/>
                  </a:lnTo>
                  <a:lnTo>
                    <a:pt x="724" y="1253"/>
                  </a:lnTo>
                  <a:lnTo>
                    <a:pt x="717" y="1234"/>
                  </a:lnTo>
                  <a:lnTo>
                    <a:pt x="712" y="1219"/>
                  </a:lnTo>
                  <a:lnTo>
                    <a:pt x="709" y="1204"/>
                  </a:lnTo>
                  <a:lnTo>
                    <a:pt x="705" y="1191"/>
                  </a:lnTo>
                  <a:lnTo>
                    <a:pt x="700" y="1166"/>
                  </a:lnTo>
                  <a:lnTo>
                    <a:pt x="692" y="1143"/>
                  </a:lnTo>
                  <a:lnTo>
                    <a:pt x="685" y="1126"/>
                  </a:lnTo>
                  <a:lnTo>
                    <a:pt x="682" y="1119"/>
                  </a:lnTo>
                  <a:lnTo>
                    <a:pt x="689" y="1108"/>
                  </a:lnTo>
                  <a:lnTo>
                    <a:pt x="700" y="1078"/>
                  </a:lnTo>
                  <a:lnTo>
                    <a:pt x="707" y="1038"/>
                  </a:lnTo>
                  <a:lnTo>
                    <a:pt x="697" y="996"/>
                  </a:lnTo>
                  <a:lnTo>
                    <a:pt x="680" y="961"/>
                  </a:lnTo>
                  <a:lnTo>
                    <a:pt x="670" y="932"/>
                  </a:lnTo>
                  <a:lnTo>
                    <a:pt x="662" y="904"/>
                  </a:lnTo>
                  <a:lnTo>
                    <a:pt x="649" y="872"/>
                  </a:lnTo>
                  <a:lnTo>
                    <a:pt x="640" y="856"/>
                  </a:lnTo>
                  <a:lnTo>
                    <a:pt x="635" y="839"/>
                  </a:lnTo>
                  <a:lnTo>
                    <a:pt x="630" y="826"/>
                  </a:lnTo>
                  <a:lnTo>
                    <a:pt x="625" y="814"/>
                  </a:lnTo>
                  <a:lnTo>
                    <a:pt x="620" y="802"/>
                  </a:lnTo>
                  <a:lnTo>
                    <a:pt x="614" y="792"/>
                  </a:lnTo>
                  <a:lnTo>
                    <a:pt x="607" y="784"/>
                  </a:lnTo>
                  <a:lnTo>
                    <a:pt x="597" y="777"/>
                  </a:lnTo>
                  <a:lnTo>
                    <a:pt x="587" y="771"/>
                  </a:lnTo>
                  <a:lnTo>
                    <a:pt x="575" y="762"/>
                  </a:lnTo>
                  <a:lnTo>
                    <a:pt x="565" y="754"/>
                  </a:lnTo>
                  <a:lnTo>
                    <a:pt x="554" y="744"/>
                  </a:lnTo>
                  <a:lnTo>
                    <a:pt x="542" y="736"/>
                  </a:lnTo>
                  <a:lnTo>
                    <a:pt x="529" y="729"/>
                  </a:lnTo>
                  <a:lnTo>
                    <a:pt x="515" y="721"/>
                  </a:lnTo>
                  <a:lnTo>
                    <a:pt x="502" y="716"/>
                  </a:lnTo>
                  <a:lnTo>
                    <a:pt x="480" y="702"/>
                  </a:lnTo>
                  <a:lnTo>
                    <a:pt x="470" y="686"/>
                  </a:lnTo>
                  <a:lnTo>
                    <a:pt x="464" y="667"/>
                  </a:lnTo>
                  <a:lnTo>
                    <a:pt x="454" y="649"/>
                  </a:lnTo>
                  <a:lnTo>
                    <a:pt x="444" y="634"/>
                  </a:lnTo>
                  <a:lnTo>
                    <a:pt x="437" y="621"/>
                  </a:lnTo>
                  <a:lnTo>
                    <a:pt x="435" y="611"/>
                  </a:lnTo>
                  <a:lnTo>
                    <a:pt x="435" y="607"/>
                  </a:lnTo>
                  <a:lnTo>
                    <a:pt x="437" y="607"/>
                  </a:lnTo>
                  <a:lnTo>
                    <a:pt x="442" y="606"/>
                  </a:lnTo>
                  <a:lnTo>
                    <a:pt x="449" y="602"/>
                  </a:lnTo>
                  <a:lnTo>
                    <a:pt x="455" y="596"/>
                  </a:lnTo>
                  <a:lnTo>
                    <a:pt x="459" y="589"/>
                  </a:lnTo>
                  <a:lnTo>
                    <a:pt x="459" y="577"/>
                  </a:lnTo>
                  <a:lnTo>
                    <a:pt x="454" y="564"/>
                  </a:lnTo>
                  <a:lnTo>
                    <a:pt x="440" y="546"/>
                  </a:lnTo>
                  <a:lnTo>
                    <a:pt x="434" y="539"/>
                  </a:lnTo>
                  <a:lnTo>
                    <a:pt x="429" y="532"/>
                  </a:lnTo>
                  <a:lnTo>
                    <a:pt x="424" y="529"/>
                  </a:lnTo>
                  <a:lnTo>
                    <a:pt x="420" y="526"/>
                  </a:lnTo>
                  <a:lnTo>
                    <a:pt x="419" y="527"/>
                  </a:lnTo>
                  <a:lnTo>
                    <a:pt x="415" y="526"/>
                  </a:lnTo>
                  <a:lnTo>
                    <a:pt x="415" y="522"/>
                  </a:lnTo>
                  <a:lnTo>
                    <a:pt x="420" y="526"/>
                  </a:lnTo>
                  <a:lnTo>
                    <a:pt x="420" y="524"/>
                  </a:lnTo>
                  <a:lnTo>
                    <a:pt x="419" y="521"/>
                  </a:lnTo>
                  <a:lnTo>
                    <a:pt x="419" y="517"/>
                  </a:lnTo>
                  <a:lnTo>
                    <a:pt x="417" y="512"/>
                  </a:lnTo>
                  <a:lnTo>
                    <a:pt x="409" y="490"/>
                  </a:lnTo>
                  <a:lnTo>
                    <a:pt x="405" y="477"/>
                  </a:lnTo>
                  <a:lnTo>
                    <a:pt x="399" y="467"/>
                  </a:lnTo>
                  <a:lnTo>
                    <a:pt x="384" y="455"/>
                  </a:lnTo>
                  <a:lnTo>
                    <a:pt x="372" y="440"/>
                  </a:lnTo>
                  <a:lnTo>
                    <a:pt x="374" y="425"/>
                  </a:lnTo>
                  <a:lnTo>
                    <a:pt x="375" y="412"/>
                  </a:lnTo>
                  <a:lnTo>
                    <a:pt x="364" y="399"/>
                  </a:lnTo>
                  <a:lnTo>
                    <a:pt x="345" y="387"/>
                  </a:lnTo>
                  <a:lnTo>
                    <a:pt x="332" y="372"/>
                  </a:lnTo>
                  <a:lnTo>
                    <a:pt x="325" y="355"/>
                  </a:lnTo>
                  <a:lnTo>
                    <a:pt x="322" y="337"/>
                  </a:lnTo>
                  <a:lnTo>
                    <a:pt x="319" y="317"/>
                  </a:lnTo>
                  <a:lnTo>
                    <a:pt x="309" y="290"/>
                  </a:lnTo>
                  <a:lnTo>
                    <a:pt x="294" y="264"/>
                  </a:lnTo>
                  <a:lnTo>
                    <a:pt x="273" y="237"/>
                  </a:lnTo>
                  <a:lnTo>
                    <a:pt x="260" y="215"/>
                  </a:lnTo>
                  <a:lnTo>
                    <a:pt x="257" y="197"/>
                  </a:lnTo>
                  <a:lnTo>
                    <a:pt x="255" y="184"/>
                  </a:lnTo>
                  <a:lnTo>
                    <a:pt x="245" y="175"/>
                  </a:lnTo>
                  <a:lnTo>
                    <a:pt x="233" y="167"/>
                  </a:lnTo>
                  <a:lnTo>
                    <a:pt x="228" y="154"/>
                  </a:lnTo>
                  <a:lnTo>
                    <a:pt x="222" y="140"/>
                  </a:lnTo>
                  <a:lnTo>
                    <a:pt x="207" y="124"/>
                  </a:lnTo>
                  <a:lnTo>
                    <a:pt x="188" y="100"/>
                  </a:lnTo>
                  <a:lnTo>
                    <a:pt x="175" y="74"/>
                  </a:lnTo>
                  <a:lnTo>
                    <a:pt x="168" y="52"/>
                  </a:lnTo>
                  <a:lnTo>
                    <a:pt x="165" y="42"/>
                  </a:lnTo>
                  <a:lnTo>
                    <a:pt x="160" y="42"/>
                  </a:lnTo>
                  <a:lnTo>
                    <a:pt x="148" y="42"/>
                  </a:lnTo>
                  <a:lnTo>
                    <a:pt x="133" y="42"/>
                  </a:lnTo>
                  <a:lnTo>
                    <a:pt x="122" y="42"/>
                  </a:lnTo>
                  <a:lnTo>
                    <a:pt x="110" y="42"/>
                  </a:lnTo>
                  <a:lnTo>
                    <a:pt x="100" y="44"/>
                  </a:lnTo>
                  <a:lnTo>
                    <a:pt x="92" y="47"/>
                  </a:lnTo>
                  <a:lnTo>
                    <a:pt x="88" y="47"/>
                  </a:lnTo>
                  <a:lnTo>
                    <a:pt x="90" y="44"/>
                  </a:lnTo>
                  <a:lnTo>
                    <a:pt x="93" y="34"/>
                  </a:lnTo>
                  <a:lnTo>
                    <a:pt x="98" y="20"/>
                  </a:lnTo>
                  <a:lnTo>
                    <a:pt x="103" y="8"/>
                  </a:lnTo>
                  <a:lnTo>
                    <a:pt x="103" y="8"/>
                  </a:lnTo>
                  <a:lnTo>
                    <a:pt x="103" y="8"/>
                  </a:lnTo>
                  <a:lnTo>
                    <a:pt x="103" y="8"/>
                  </a:lnTo>
                  <a:lnTo>
                    <a:pt x="103" y="8"/>
                  </a:lnTo>
                  <a:lnTo>
                    <a:pt x="67" y="0"/>
                  </a:lnTo>
                  <a:lnTo>
                    <a:pt x="67" y="5"/>
                  </a:lnTo>
                  <a:lnTo>
                    <a:pt x="65" y="19"/>
                  </a:lnTo>
                  <a:lnTo>
                    <a:pt x="62" y="34"/>
                  </a:lnTo>
                  <a:lnTo>
                    <a:pt x="57" y="47"/>
                  </a:lnTo>
                  <a:lnTo>
                    <a:pt x="50" y="57"/>
                  </a:lnTo>
                  <a:lnTo>
                    <a:pt x="45" y="65"/>
                  </a:lnTo>
                  <a:lnTo>
                    <a:pt x="40" y="79"/>
                  </a:lnTo>
                  <a:lnTo>
                    <a:pt x="38" y="95"/>
                  </a:lnTo>
                  <a:lnTo>
                    <a:pt x="35" y="119"/>
                  </a:lnTo>
                  <a:lnTo>
                    <a:pt x="28" y="145"/>
                  </a:lnTo>
                  <a:lnTo>
                    <a:pt x="20" y="169"/>
                  </a:lnTo>
                  <a:lnTo>
                    <a:pt x="15" y="185"/>
                  </a:lnTo>
                  <a:lnTo>
                    <a:pt x="10" y="197"/>
                  </a:lnTo>
                  <a:lnTo>
                    <a:pt x="5" y="209"/>
                  </a:lnTo>
                  <a:lnTo>
                    <a:pt x="2" y="220"/>
                  </a:lnTo>
                  <a:lnTo>
                    <a:pt x="0" y="224"/>
                  </a:lnTo>
                  <a:lnTo>
                    <a:pt x="3" y="224"/>
                  </a:lnTo>
                  <a:lnTo>
                    <a:pt x="12" y="220"/>
                  </a:lnTo>
                  <a:lnTo>
                    <a:pt x="23" y="219"/>
                  </a:lnTo>
                  <a:lnTo>
                    <a:pt x="33" y="219"/>
                  </a:lnTo>
                  <a:lnTo>
                    <a:pt x="47" y="219"/>
                  </a:lnTo>
                  <a:lnTo>
                    <a:pt x="60" y="219"/>
                  </a:lnTo>
                  <a:lnTo>
                    <a:pt x="72" y="219"/>
                  </a:lnTo>
                  <a:lnTo>
                    <a:pt x="77" y="219"/>
                  </a:lnTo>
                  <a:lnTo>
                    <a:pt x="80" y="229"/>
                  </a:lnTo>
                  <a:lnTo>
                    <a:pt x="87" y="250"/>
                  </a:lnTo>
                  <a:lnTo>
                    <a:pt x="100" y="277"/>
                  </a:lnTo>
                  <a:lnTo>
                    <a:pt x="118" y="299"/>
                  </a:lnTo>
                  <a:lnTo>
                    <a:pt x="133" y="315"/>
                  </a:lnTo>
                  <a:lnTo>
                    <a:pt x="140" y="330"/>
                  </a:lnTo>
                  <a:lnTo>
                    <a:pt x="145" y="342"/>
                  </a:lnTo>
                  <a:lnTo>
                    <a:pt x="157" y="352"/>
                  </a:lnTo>
                  <a:lnTo>
                    <a:pt x="167" y="360"/>
                  </a:lnTo>
                  <a:lnTo>
                    <a:pt x="168" y="374"/>
                  </a:lnTo>
                  <a:lnTo>
                    <a:pt x="172" y="390"/>
                  </a:lnTo>
                  <a:lnTo>
                    <a:pt x="185" y="414"/>
                  </a:lnTo>
                  <a:lnTo>
                    <a:pt x="205" y="440"/>
                  </a:lnTo>
                  <a:lnTo>
                    <a:pt x="220" y="467"/>
                  </a:lnTo>
                  <a:lnTo>
                    <a:pt x="230" y="492"/>
                  </a:lnTo>
                  <a:lnTo>
                    <a:pt x="233" y="512"/>
                  </a:lnTo>
                  <a:lnTo>
                    <a:pt x="237" y="531"/>
                  </a:lnTo>
                  <a:lnTo>
                    <a:pt x="243" y="547"/>
                  </a:lnTo>
                  <a:lnTo>
                    <a:pt x="257" y="562"/>
                  </a:lnTo>
                  <a:lnTo>
                    <a:pt x="275" y="574"/>
                  </a:lnTo>
                  <a:lnTo>
                    <a:pt x="287" y="587"/>
                  </a:lnTo>
                  <a:lnTo>
                    <a:pt x="285" y="601"/>
                  </a:lnTo>
                  <a:lnTo>
                    <a:pt x="284" y="617"/>
                  </a:lnTo>
                  <a:lnTo>
                    <a:pt x="295" y="632"/>
                  </a:lnTo>
                  <a:lnTo>
                    <a:pt x="310" y="642"/>
                  </a:lnTo>
                  <a:lnTo>
                    <a:pt x="317" y="652"/>
                  </a:lnTo>
                  <a:lnTo>
                    <a:pt x="320" y="666"/>
                  </a:lnTo>
                  <a:lnTo>
                    <a:pt x="329" y="687"/>
                  </a:lnTo>
                  <a:lnTo>
                    <a:pt x="330" y="692"/>
                  </a:lnTo>
                  <a:lnTo>
                    <a:pt x="330" y="696"/>
                  </a:lnTo>
                  <a:lnTo>
                    <a:pt x="332" y="697"/>
                  </a:lnTo>
                  <a:lnTo>
                    <a:pt x="332" y="699"/>
                  </a:lnTo>
                  <a:lnTo>
                    <a:pt x="335" y="702"/>
                  </a:lnTo>
                  <a:lnTo>
                    <a:pt x="340" y="707"/>
                  </a:lnTo>
                  <a:lnTo>
                    <a:pt x="345" y="712"/>
                  </a:lnTo>
                  <a:lnTo>
                    <a:pt x="352" y="721"/>
                  </a:lnTo>
                  <a:lnTo>
                    <a:pt x="365" y="737"/>
                  </a:lnTo>
                  <a:lnTo>
                    <a:pt x="370" y="752"/>
                  </a:lnTo>
                  <a:lnTo>
                    <a:pt x="370" y="762"/>
                  </a:lnTo>
                  <a:lnTo>
                    <a:pt x="367" y="771"/>
                  </a:lnTo>
                  <a:lnTo>
                    <a:pt x="360" y="776"/>
                  </a:lnTo>
                  <a:lnTo>
                    <a:pt x="354" y="781"/>
                  </a:lnTo>
                  <a:lnTo>
                    <a:pt x="349" y="782"/>
                  </a:lnTo>
                  <a:lnTo>
                    <a:pt x="347" y="782"/>
                  </a:lnTo>
                  <a:lnTo>
                    <a:pt x="347" y="786"/>
                  </a:lnTo>
                  <a:lnTo>
                    <a:pt x="350" y="794"/>
                  </a:lnTo>
                  <a:lnTo>
                    <a:pt x="355" y="807"/>
                  </a:lnTo>
                  <a:lnTo>
                    <a:pt x="367" y="824"/>
                  </a:lnTo>
                  <a:lnTo>
                    <a:pt x="377" y="842"/>
                  </a:lnTo>
                  <a:lnTo>
                    <a:pt x="384" y="862"/>
                  </a:lnTo>
                  <a:lnTo>
                    <a:pt x="392" y="877"/>
                  </a:lnTo>
                  <a:lnTo>
                    <a:pt x="414" y="891"/>
                  </a:lnTo>
                  <a:lnTo>
                    <a:pt x="427" y="897"/>
                  </a:lnTo>
                  <a:lnTo>
                    <a:pt x="440" y="904"/>
                  </a:lnTo>
                  <a:lnTo>
                    <a:pt x="454" y="912"/>
                  </a:lnTo>
                  <a:lnTo>
                    <a:pt x="465" y="921"/>
                  </a:lnTo>
                  <a:lnTo>
                    <a:pt x="477" y="929"/>
                  </a:lnTo>
                  <a:lnTo>
                    <a:pt x="487" y="937"/>
                  </a:lnTo>
                  <a:lnTo>
                    <a:pt x="499" y="946"/>
                  </a:lnTo>
                  <a:lnTo>
                    <a:pt x="509" y="952"/>
                  </a:lnTo>
                  <a:lnTo>
                    <a:pt x="519" y="961"/>
                  </a:lnTo>
                  <a:lnTo>
                    <a:pt x="525" y="969"/>
                  </a:lnTo>
                  <a:lnTo>
                    <a:pt x="532" y="979"/>
                  </a:lnTo>
                  <a:lnTo>
                    <a:pt x="537" y="989"/>
                  </a:lnTo>
                  <a:lnTo>
                    <a:pt x="542" y="1002"/>
                  </a:lnTo>
                  <a:lnTo>
                    <a:pt x="547" y="1016"/>
                  </a:lnTo>
                  <a:lnTo>
                    <a:pt x="552" y="1031"/>
                  </a:lnTo>
                  <a:lnTo>
                    <a:pt x="560" y="1048"/>
                  </a:lnTo>
                  <a:lnTo>
                    <a:pt x="574" y="1079"/>
                  </a:lnTo>
                  <a:lnTo>
                    <a:pt x="584" y="1108"/>
                  </a:lnTo>
                  <a:lnTo>
                    <a:pt x="592" y="1136"/>
                  </a:lnTo>
                  <a:lnTo>
                    <a:pt x="609" y="1171"/>
                  </a:lnTo>
                  <a:lnTo>
                    <a:pt x="619" y="1213"/>
                  </a:lnTo>
                  <a:lnTo>
                    <a:pt x="612" y="1253"/>
                  </a:lnTo>
                  <a:lnTo>
                    <a:pt x="600" y="1283"/>
                  </a:lnTo>
                  <a:lnTo>
                    <a:pt x="594" y="1294"/>
                  </a:lnTo>
                  <a:lnTo>
                    <a:pt x="597" y="1301"/>
                  </a:lnTo>
                  <a:lnTo>
                    <a:pt x="604" y="1318"/>
                  </a:lnTo>
                  <a:lnTo>
                    <a:pt x="612" y="1341"/>
                  </a:lnTo>
                  <a:lnTo>
                    <a:pt x="617" y="1366"/>
                  </a:lnTo>
                  <a:lnTo>
                    <a:pt x="620" y="1379"/>
                  </a:lnTo>
                  <a:lnTo>
                    <a:pt x="624" y="1394"/>
                  </a:lnTo>
                  <a:lnTo>
                    <a:pt x="629" y="1409"/>
                  </a:lnTo>
                  <a:lnTo>
                    <a:pt x="635" y="1428"/>
                  </a:lnTo>
                  <a:lnTo>
                    <a:pt x="644" y="1444"/>
                  </a:lnTo>
                  <a:lnTo>
                    <a:pt x="654" y="1463"/>
                  </a:lnTo>
                  <a:lnTo>
                    <a:pt x="664" y="1481"/>
                  </a:lnTo>
                  <a:lnTo>
                    <a:pt x="675" y="1499"/>
                  </a:lnTo>
                  <a:lnTo>
                    <a:pt x="687" y="1516"/>
                  </a:lnTo>
                  <a:lnTo>
                    <a:pt x="695" y="1531"/>
                  </a:lnTo>
                  <a:lnTo>
                    <a:pt x="702" y="1543"/>
                  </a:lnTo>
                  <a:lnTo>
                    <a:pt x="707" y="1553"/>
                  </a:lnTo>
                  <a:lnTo>
                    <a:pt x="712" y="1561"/>
                  </a:lnTo>
                  <a:lnTo>
                    <a:pt x="719" y="1566"/>
                  </a:lnTo>
                  <a:lnTo>
                    <a:pt x="724" y="1570"/>
                  </a:lnTo>
                  <a:lnTo>
                    <a:pt x="732" y="1571"/>
                  </a:lnTo>
                  <a:lnTo>
                    <a:pt x="742" y="1573"/>
                  </a:lnTo>
                  <a:lnTo>
                    <a:pt x="754" y="1576"/>
                  </a:lnTo>
                  <a:lnTo>
                    <a:pt x="765" y="1581"/>
                  </a:lnTo>
                  <a:lnTo>
                    <a:pt x="779" y="1588"/>
                  </a:lnTo>
                  <a:lnTo>
                    <a:pt x="792" y="1595"/>
                  </a:lnTo>
                  <a:lnTo>
                    <a:pt x="804" y="1603"/>
                  </a:lnTo>
                  <a:lnTo>
                    <a:pt x="814" y="1611"/>
                  </a:lnTo>
                  <a:lnTo>
                    <a:pt x="822" y="1618"/>
                  </a:lnTo>
                  <a:lnTo>
                    <a:pt x="834" y="1633"/>
                  </a:lnTo>
                  <a:lnTo>
                    <a:pt x="846" y="1648"/>
                  </a:lnTo>
                  <a:lnTo>
                    <a:pt x="856" y="1663"/>
                  </a:lnTo>
                  <a:lnTo>
                    <a:pt x="866" y="1675"/>
                  </a:lnTo>
                  <a:lnTo>
                    <a:pt x="872" y="1685"/>
                  </a:lnTo>
                  <a:lnTo>
                    <a:pt x="881" y="1700"/>
                  </a:lnTo>
                  <a:lnTo>
                    <a:pt x="891" y="1721"/>
                  </a:lnTo>
                  <a:lnTo>
                    <a:pt x="902" y="1743"/>
                  </a:lnTo>
                  <a:lnTo>
                    <a:pt x="912" y="1768"/>
                  </a:lnTo>
                  <a:lnTo>
                    <a:pt x="921" y="1790"/>
                  </a:lnTo>
                  <a:lnTo>
                    <a:pt x="927" y="1810"/>
                  </a:lnTo>
                  <a:lnTo>
                    <a:pt x="931" y="1823"/>
                  </a:lnTo>
                  <a:lnTo>
                    <a:pt x="937" y="1841"/>
                  </a:lnTo>
                  <a:lnTo>
                    <a:pt x="951" y="1858"/>
                  </a:lnTo>
                  <a:lnTo>
                    <a:pt x="964" y="1878"/>
                  </a:lnTo>
                  <a:lnTo>
                    <a:pt x="979" y="1908"/>
                  </a:lnTo>
                  <a:lnTo>
                    <a:pt x="987" y="1926"/>
                  </a:lnTo>
                  <a:lnTo>
                    <a:pt x="999" y="1945"/>
                  </a:lnTo>
                  <a:lnTo>
                    <a:pt x="1014" y="1965"/>
                  </a:lnTo>
                  <a:lnTo>
                    <a:pt x="1029" y="1981"/>
                  </a:lnTo>
                  <a:lnTo>
                    <a:pt x="1044" y="2000"/>
                  </a:lnTo>
                  <a:lnTo>
                    <a:pt x="1059" y="2015"/>
                  </a:lnTo>
                  <a:lnTo>
                    <a:pt x="1072" y="2027"/>
                  </a:lnTo>
                  <a:lnTo>
                    <a:pt x="1084" y="2037"/>
                  </a:lnTo>
                  <a:lnTo>
                    <a:pt x="1097" y="2052"/>
                  </a:lnTo>
                  <a:lnTo>
                    <a:pt x="1106" y="2068"/>
                  </a:lnTo>
                  <a:lnTo>
                    <a:pt x="1109" y="2085"/>
                  </a:lnTo>
                  <a:lnTo>
                    <a:pt x="1112" y="2098"/>
                  </a:lnTo>
                  <a:lnTo>
                    <a:pt x="1117" y="2108"/>
                  </a:lnTo>
                  <a:lnTo>
                    <a:pt x="1126" y="2120"/>
                  </a:lnTo>
                  <a:lnTo>
                    <a:pt x="1136" y="2132"/>
                  </a:lnTo>
                  <a:lnTo>
                    <a:pt x="1146" y="2145"/>
                  </a:lnTo>
                  <a:lnTo>
                    <a:pt x="1156" y="2160"/>
                  </a:lnTo>
                  <a:lnTo>
                    <a:pt x="1164" y="2175"/>
                  </a:lnTo>
                  <a:lnTo>
                    <a:pt x="1169" y="2190"/>
                  </a:lnTo>
                  <a:lnTo>
                    <a:pt x="1169" y="2202"/>
                  </a:lnTo>
                  <a:lnTo>
                    <a:pt x="1169" y="2217"/>
                  </a:lnTo>
                  <a:lnTo>
                    <a:pt x="1172" y="2233"/>
                  </a:lnTo>
                  <a:lnTo>
                    <a:pt x="1177" y="2248"/>
                  </a:lnTo>
                  <a:lnTo>
                    <a:pt x="1179" y="2255"/>
                  </a:lnTo>
                  <a:lnTo>
                    <a:pt x="1216" y="2227"/>
                  </a:lnTo>
                  <a:lnTo>
                    <a:pt x="1219" y="2222"/>
                  </a:lnTo>
                  <a:lnTo>
                    <a:pt x="1226" y="2208"/>
                  </a:lnTo>
                  <a:lnTo>
                    <a:pt x="1232" y="2192"/>
                  </a:lnTo>
                  <a:lnTo>
                    <a:pt x="1236" y="2178"/>
                  </a:lnTo>
                  <a:lnTo>
                    <a:pt x="1236" y="2165"/>
                  </a:lnTo>
                  <a:lnTo>
                    <a:pt x="1234" y="2145"/>
                  </a:lnTo>
                  <a:lnTo>
                    <a:pt x="1236" y="2123"/>
                  </a:lnTo>
                  <a:lnTo>
                    <a:pt x="1241" y="2103"/>
                  </a:lnTo>
                  <a:lnTo>
                    <a:pt x="1241" y="2087"/>
                  </a:lnTo>
                  <a:lnTo>
                    <a:pt x="1236" y="2077"/>
                  </a:lnTo>
                  <a:lnTo>
                    <a:pt x="1234" y="2067"/>
                  </a:lnTo>
                  <a:lnTo>
                    <a:pt x="1241" y="2060"/>
                  </a:lnTo>
                  <a:lnTo>
                    <a:pt x="1246" y="2057"/>
                  </a:lnTo>
                  <a:lnTo>
                    <a:pt x="1251" y="2057"/>
                  </a:lnTo>
                  <a:lnTo>
                    <a:pt x="1256" y="2058"/>
                  </a:lnTo>
                  <a:lnTo>
                    <a:pt x="1261" y="2062"/>
                  </a:lnTo>
                  <a:lnTo>
                    <a:pt x="1259" y="2052"/>
                  </a:lnTo>
                  <a:lnTo>
                    <a:pt x="1257" y="2043"/>
                  </a:lnTo>
                  <a:lnTo>
                    <a:pt x="1256" y="2033"/>
                  </a:lnTo>
                  <a:lnTo>
                    <a:pt x="1257" y="2027"/>
                  </a:lnTo>
                  <a:close/>
                </a:path>
              </a:pathLst>
            </a:custGeom>
            <a:solidFill>
              <a:srgbClr val="ffffff">
                <a:alpha val="10000"/>
              </a:srgbClr>
            </a:solidFill>
            <a:ln cap="sq" w="9360">
              <a:solidFill>
                <a:srgbClr val="ffffff"/>
              </a:solidFill>
              <a:round/>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6" name=""/>
            <p:cNvSpPr/>
            <p:nvPr/>
          </p:nvSpPr>
          <p:spPr>
            <a:xfrm>
              <a:off x="3086280" y="3706920"/>
              <a:ext cx="4680" cy="4680"/>
            </a:xfrm>
            <a:custGeom>
              <a:avLst/>
              <a:gdLst/>
              <a:ahLst/>
              <a:rect l="l" t="t" r="r" b="b"/>
              <a:pathLst>
                <a:path w="5" h="5">
                  <a:moveTo>
                    <a:pt x="5" y="3"/>
                  </a:moveTo>
                  <a:lnTo>
                    <a:pt x="0" y="0"/>
                  </a:lnTo>
                  <a:lnTo>
                    <a:pt x="2" y="3"/>
                  </a:lnTo>
                  <a:lnTo>
                    <a:pt x="3" y="5"/>
                  </a:lnTo>
                  <a:lnTo>
                    <a:pt x="5" y="3"/>
                  </a:lnTo>
                  <a:lnTo>
                    <a:pt x="5" y="3"/>
                  </a:lnTo>
                  <a:close/>
                </a:path>
              </a:pathLst>
            </a:custGeom>
            <a:solidFill>
              <a:srgbClr val="000000"/>
            </a:solidFill>
            <a:ln w="0">
              <a:noFill/>
            </a:ln>
          </p:spPr>
          <p:style>
            <a:lnRef idx="0"/>
            <a:fillRef idx="0"/>
            <a:effectRef idx="0"/>
            <a:fontRef idx="minor"/>
          </p:style>
          <p:txBody>
            <a:bodyPr wrap="none" lIns="90000" rIns="90000" tIns="-42120" bIns="-421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7" name=""/>
            <p:cNvSpPr/>
            <p:nvPr/>
          </p:nvSpPr>
          <p:spPr>
            <a:xfrm>
              <a:off x="4379760" y="4662360"/>
              <a:ext cx="2567160" cy="993960"/>
            </a:xfrm>
            <a:custGeom>
              <a:avLst/>
              <a:gdLst/>
              <a:ahLst/>
              <a:rect l="l" t="t" r="r" b="b"/>
              <a:pathLst>
                <a:path w="1881" h="744">
                  <a:moveTo>
                    <a:pt x="1298" y="222"/>
                  </a:moveTo>
                  <a:lnTo>
                    <a:pt x="1283" y="225"/>
                  </a:lnTo>
                  <a:lnTo>
                    <a:pt x="1263" y="230"/>
                  </a:lnTo>
                  <a:lnTo>
                    <a:pt x="1239" y="235"/>
                  </a:lnTo>
                  <a:lnTo>
                    <a:pt x="1214" y="242"/>
                  </a:lnTo>
                  <a:lnTo>
                    <a:pt x="1186" y="249"/>
                  </a:lnTo>
                  <a:lnTo>
                    <a:pt x="1157" y="255"/>
                  </a:lnTo>
                  <a:lnTo>
                    <a:pt x="1127" y="262"/>
                  </a:lnTo>
                  <a:lnTo>
                    <a:pt x="1097" y="269"/>
                  </a:lnTo>
                  <a:lnTo>
                    <a:pt x="1067" y="275"/>
                  </a:lnTo>
                  <a:lnTo>
                    <a:pt x="1039" y="284"/>
                  </a:lnTo>
                  <a:lnTo>
                    <a:pt x="1012" y="290"/>
                  </a:lnTo>
                  <a:lnTo>
                    <a:pt x="989" y="297"/>
                  </a:lnTo>
                  <a:lnTo>
                    <a:pt x="967" y="302"/>
                  </a:lnTo>
                  <a:lnTo>
                    <a:pt x="949" y="309"/>
                  </a:lnTo>
                  <a:lnTo>
                    <a:pt x="936" y="314"/>
                  </a:lnTo>
                  <a:lnTo>
                    <a:pt x="927" y="317"/>
                  </a:lnTo>
                  <a:lnTo>
                    <a:pt x="914" y="324"/>
                  </a:lnTo>
                  <a:lnTo>
                    <a:pt x="901" y="329"/>
                  </a:lnTo>
                  <a:lnTo>
                    <a:pt x="887" y="337"/>
                  </a:lnTo>
                  <a:lnTo>
                    <a:pt x="872" y="344"/>
                  </a:lnTo>
                  <a:lnTo>
                    <a:pt x="857" y="355"/>
                  </a:lnTo>
                  <a:lnTo>
                    <a:pt x="842" y="369"/>
                  </a:lnTo>
                  <a:lnTo>
                    <a:pt x="826" y="389"/>
                  </a:lnTo>
                  <a:lnTo>
                    <a:pt x="807" y="412"/>
                  </a:lnTo>
                  <a:lnTo>
                    <a:pt x="791" y="437"/>
                  </a:lnTo>
                  <a:lnTo>
                    <a:pt x="776" y="460"/>
                  </a:lnTo>
                  <a:lnTo>
                    <a:pt x="761" y="482"/>
                  </a:lnTo>
                  <a:lnTo>
                    <a:pt x="747" y="502"/>
                  </a:lnTo>
                  <a:lnTo>
                    <a:pt x="737" y="519"/>
                  </a:lnTo>
                  <a:lnTo>
                    <a:pt x="727" y="532"/>
                  </a:lnTo>
                  <a:lnTo>
                    <a:pt x="719" y="542"/>
                  </a:lnTo>
                  <a:lnTo>
                    <a:pt x="712" y="549"/>
                  </a:lnTo>
                  <a:lnTo>
                    <a:pt x="706" y="554"/>
                  </a:lnTo>
                  <a:lnTo>
                    <a:pt x="699" y="559"/>
                  </a:lnTo>
                  <a:lnTo>
                    <a:pt x="689" y="564"/>
                  </a:lnTo>
                  <a:lnTo>
                    <a:pt x="679" y="565"/>
                  </a:lnTo>
                  <a:lnTo>
                    <a:pt x="667" y="567"/>
                  </a:lnTo>
                  <a:lnTo>
                    <a:pt x="657" y="567"/>
                  </a:lnTo>
                  <a:lnTo>
                    <a:pt x="647" y="564"/>
                  </a:lnTo>
                  <a:lnTo>
                    <a:pt x="637" y="559"/>
                  </a:lnTo>
                  <a:lnTo>
                    <a:pt x="629" y="552"/>
                  </a:lnTo>
                  <a:lnTo>
                    <a:pt x="622" y="544"/>
                  </a:lnTo>
                  <a:lnTo>
                    <a:pt x="615" y="535"/>
                  </a:lnTo>
                  <a:lnTo>
                    <a:pt x="609" y="529"/>
                  </a:lnTo>
                  <a:lnTo>
                    <a:pt x="602" y="524"/>
                  </a:lnTo>
                  <a:lnTo>
                    <a:pt x="595" y="520"/>
                  </a:lnTo>
                  <a:lnTo>
                    <a:pt x="589" y="519"/>
                  </a:lnTo>
                  <a:lnTo>
                    <a:pt x="580" y="520"/>
                  </a:lnTo>
                  <a:lnTo>
                    <a:pt x="569" y="524"/>
                  </a:lnTo>
                  <a:lnTo>
                    <a:pt x="554" y="525"/>
                  </a:lnTo>
                  <a:lnTo>
                    <a:pt x="537" y="525"/>
                  </a:lnTo>
                  <a:lnTo>
                    <a:pt x="519" y="525"/>
                  </a:lnTo>
                  <a:lnTo>
                    <a:pt x="499" y="525"/>
                  </a:lnTo>
                  <a:lnTo>
                    <a:pt x="480" y="524"/>
                  </a:lnTo>
                  <a:lnTo>
                    <a:pt x="462" y="522"/>
                  </a:lnTo>
                  <a:lnTo>
                    <a:pt x="447" y="520"/>
                  </a:lnTo>
                  <a:lnTo>
                    <a:pt x="432" y="519"/>
                  </a:lnTo>
                  <a:lnTo>
                    <a:pt x="417" y="515"/>
                  </a:lnTo>
                  <a:lnTo>
                    <a:pt x="404" y="510"/>
                  </a:lnTo>
                  <a:lnTo>
                    <a:pt x="389" y="507"/>
                  </a:lnTo>
                  <a:lnTo>
                    <a:pt x="375" y="504"/>
                  </a:lnTo>
                  <a:lnTo>
                    <a:pt x="364" y="500"/>
                  </a:lnTo>
                  <a:lnTo>
                    <a:pt x="352" y="497"/>
                  </a:lnTo>
                  <a:lnTo>
                    <a:pt x="342" y="497"/>
                  </a:lnTo>
                  <a:lnTo>
                    <a:pt x="329" y="497"/>
                  </a:lnTo>
                  <a:lnTo>
                    <a:pt x="307" y="497"/>
                  </a:lnTo>
                  <a:lnTo>
                    <a:pt x="280" y="499"/>
                  </a:lnTo>
                  <a:lnTo>
                    <a:pt x="250" y="499"/>
                  </a:lnTo>
                  <a:lnTo>
                    <a:pt x="224" y="500"/>
                  </a:lnTo>
                  <a:lnTo>
                    <a:pt x="200" y="502"/>
                  </a:lnTo>
                  <a:lnTo>
                    <a:pt x="184" y="502"/>
                  </a:lnTo>
                  <a:lnTo>
                    <a:pt x="177" y="502"/>
                  </a:lnTo>
                  <a:lnTo>
                    <a:pt x="175" y="504"/>
                  </a:lnTo>
                  <a:lnTo>
                    <a:pt x="170" y="505"/>
                  </a:lnTo>
                  <a:lnTo>
                    <a:pt x="164" y="509"/>
                  </a:lnTo>
                  <a:lnTo>
                    <a:pt x="155" y="510"/>
                  </a:lnTo>
                  <a:lnTo>
                    <a:pt x="144" y="512"/>
                  </a:lnTo>
                  <a:lnTo>
                    <a:pt x="132" y="512"/>
                  </a:lnTo>
                  <a:lnTo>
                    <a:pt x="120" y="509"/>
                  </a:lnTo>
                  <a:lnTo>
                    <a:pt x="107" y="502"/>
                  </a:lnTo>
                  <a:lnTo>
                    <a:pt x="95" y="494"/>
                  </a:lnTo>
                  <a:lnTo>
                    <a:pt x="87" y="485"/>
                  </a:lnTo>
                  <a:lnTo>
                    <a:pt x="80" y="479"/>
                  </a:lnTo>
                  <a:lnTo>
                    <a:pt x="75" y="475"/>
                  </a:lnTo>
                  <a:lnTo>
                    <a:pt x="70" y="472"/>
                  </a:lnTo>
                  <a:lnTo>
                    <a:pt x="65" y="470"/>
                  </a:lnTo>
                  <a:lnTo>
                    <a:pt x="60" y="470"/>
                  </a:lnTo>
                  <a:lnTo>
                    <a:pt x="53" y="474"/>
                  </a:lnTo>
                  <a:lnTo>
                    <a:pt x="47" y="480"/>
                  </a:lnTo>
                  <a:lnTo>
                    <a:pt x="50" y="489"/>
                  </a:lnTo>
                  <a:lnTo>
                    <a:pt x="55" y="500"/>
                  </a:lnTo>
                  <a:lnTo>
                    <a:pt x="53" y="515"/>
                  </a:lnTo>
                  <a:lnTo>
                    <a:pt x="50" y="535"/>
                  </a:lnTo>
                  <a:lnTo>
                    <a:pt x="48" y="557"/>
                  </a:lnTo>
                  <a:lnTo>
                    <a:pt x="50" y="577"/>
                  </a:lnTo>
                  <a:lnTo>
                    <a:pt x="50" y="592"/>
                  </a:lnTo>
                  <a:lnTo>
                    <a:pt x="47" y="606"/>
                  </a:lnTo>
                  <a:lnTo>
                    <a:pt x="40" y="621"/>
                  </a:lnTo>
                  <a:lnTo>
                    <a:pt x="33" y="634"/>
                  </a:lnTo>
                  <a:lnTo>
                    <a:pt x="30" y="639"/>
                  </a:lnTo>
                  <a:lnTo>
                    <a:pt x="0" y="662"/>
                  </a:lnTo>
                  <a:lnTo>
                    <a:pt x="3" y="666"/>
                  </a:lnTo>
                  <a:lnTo>
                    <a:pt x="8" y="669"/>
                  </a:lnTo>
                  <a:lnTo>
                    <a:pt x="13" y="674"/>
                  </a:lnTo>
                  <a:lnTo>
                    <a:pt x="18" y="677"/>
                  </a:lnTo>
                  <a:lnTo>
                    <a:pt x="32" y="684"/>
                  </a:lnTo>
                  <a:lnTo>
                    <a:pt x="43" y="687"/>
                  </a:lnTo>
                  <a:lnTo>
                    <a:pt x="55" y="687"/>
                  </a:lnTo>
                  <a:lnTo>
                    <a:pt x="67" y="686"/>
                  </a:lnTo>
                  <a:lnTo>
                    <a:pt x="77" y="684"/>
                  </a:lnTo>
                  <a:lnTo>
                    <a:pt x="83" y="681"/>
                  </a:lnTo>
                  <a:lnTo>
                    <a:pt x="88" y="679"/>
                  </a:lnTo>
                  <a:lnTo>
                    <a:pt x="90" y="677"/>
                  </a:lnTo>
                  <a:lnTo>
                    <a:pt x="97" y="677"/>
                  </a:lnTo>
                  <a:lnTo>
                    <a:pt x="114" y="677"/>
                  </a:lnTo>
                  <a:lnTo>
                    <a:pt x="137" y="676"/>
                  </a:lnTo>
                  <a:lnTo>
                    <a:pt x="164" y="674"/>
                  </a:lnTo>
                  <a:lnTo>
                    <a:pt x="194" y="674"/>
                  </a:lnTo>
                  <a:lnTo>
                    <a:pt x="220" y="672"/>
                  </a:lnTo>
                  <a:lnTo>
                    <a:pt x="242" y="672"/>
                  </a:lnTo>
                  <a:lnTo>
                    <a:pt x="255" y="672"/>
                  </a:lnTo>
                  <a:lnTo>
                    <a:pt x="265" y="674"/>
                  </a:lnTo>
                  <a:lnTo>
                    <a:pt x="275" y="676"/>
                  </a:lnTo>
                  <a:lnTo>
                    <a:pt x="289" y="679"/>
                  </a:lnTo>
                  <a:lnTo>
                    <a:pt x="302" y="682"/>
                  </a:lnTo>
                  <a:lnTo>
                    <a:pt x="315" y="687"/>
                  </a:lnTo>
                  <a:lnTo>
                    <a:pt x="330" y="691"/>
                  </a:lnTo>
                  <a:lnTo>
                    <a:pt x="344" y="694"/>
                  </a:lnTo>
                  <a:lnTo>
                    <a:pt x="359" y="697"/>
                  </a:lnTo>
                  <a:lnTo>
                    <a:pt x="374" y="699"/>
                  </a:lnTo>
                  <a:lnTo>
                    <a:pt x="392" y="701"/>
                  </a:lnTo>
                  <a:lnTo>
                    <a:pt x="412" y="701"/>
                  </a:lnTo>
                  <a:lnTo>
                    <a:pt x="430" y="702"/>
                  </a:lnTo>
                  <a:lnTo>
                    <a:pt x="450" y="702"/>
                  </a:lnTo>
                  <a:lnTo>
                    <a:pt x="467" y="701"/>
                  </a:lnTo>
                  <a:lnTo>
                    <a:pt x="480" y="701"/>
                  </a:lnTo>
                  <a:lnTo>
                    <a:pt x="492" y="697"/>
                  </a:lnTo>
                  <a:lnTo>
                    <a:pt x="500" y="696"/>
                  </a:lnTo>
                  <a:lnTo>
                    <a:pt x="507" y="696"/>
                  </a:lnTo>
                  <a:lnTo>
                    <a:pt x="514" y="699"/>
                  </a:lnTo>
                  <a:lnTo>
                    <a:pt x="520" y="706"/>
                  </a:lnTo>
                  <a:lnTo>
                    <a:pt x="527" y="712"/>
                  </a:lnTo>
                  <a:lnTo>
                    <a:pt x="534" y="719"/>
                  </a:lnTo>
                  <a:lnTo>
                    <a:pt x="540" y="727"/>
                  </a:lnTo>
                  <a:lnTo>
                    <a:pt x="549" y="734"/>
                  </a:lnTo>
                  <a:lnTo>
                    <a:pt x="559" y="741"/>
                  </a:lnTo>
                  <a:lnTo>
                    <a:pt x="569" y="742"/>
                  </a:lnTo>
                  <a:lnTo>
                    <a:pt x="579" y="744"/>
                  </a:lnTo>
                  <a:lnTo>
                    <a:pt x="590" y="742"/>
                  </a:lnTo>
                  <a:lnTo>
                    <a:pt x="600" y="739"/>
                  </a:lnTo>
                  <a:lnTo>
                    <a:pt x="610" y="736"/>
                  </a:lnTo>
                  <a:lnTo>
                    <a:pt x="619" y="731"/>
                  </a:lnTo>
                  <a:lnTo>
                    <a:pt x="625" y="726"/>
                  </a:lnTo>
                  <a:lnTo>
                    <a:pt x="632" y="719"/>
                  </a:lnTo>
                  <a:lnTo>
                    <a:pt x="639" y="707"/>
                  </a:lnTo>
                  <a:lnTo>
                    <a:pt x="649" y="694"/>
                  </a:lnTo>
                  <a:lnTo>
                    <a:pt x="661" y="677"/>
                  </a:lnTo>
                  <a:lnTo>
                    <a:pt x="672" y="659"/>
                  </a:lnTo>
                  <a:lnTo>
                    <a:pt x="687" y="637"/>
                  </a:lnTo>
                  <a:lnTo>
                    <a:pt x="704" y="614"/>
                  </a:lnTo>
                  <a:lnTo>
                    <a:pt x="721" y="587"/>
                  </a:lnTo>
                  <a:lnTo>
                    <a:pt x="737" y="564"/>
                  </a:lnTo>
                  <a:lnTo>
                    <a:pt x="754" y="544"/>
                  </a:lnTo>
                  <a:lnTo>
                    <a:pt x="769" y="530"/>
                  </a:lnTo>
                  <a:lnTo>
                    <a:pt x="786" y="519"/>
                  </a:lnTo>
                  <a:lnTo>
                    <a:pt x="799" y="512"/>
                  </a:lnTo>
                  <a:lnTo>
                    <a:pt x="812" y="504"/>
                  </a:lnTo>
                  <a:lnTo>
                    <a:pt x="826" y="499"/>
                  </a:lnTo>
                  <a:lnTo>
                    <a:pt x="839" y="492"/>
                  </a:lnTo>
                  <a:lnTo>
                    <a:pt x="847" y="489"/>
                  </a:lnTo>
                  <a:lnTo>
                    <a:pt x="862" y="484"/>
                  </a:lnTo>
                  <a:lnTo>
                    <a:pt x="879" y="479"/>
                  </a:lnTo>
                  <a:lnTo>
                    <a:pt x="901" y="472"/>
                  </a:lnTo>
                  <a:lnTo>
                    <a:pt x="926" y="465"/>
                  </a:lnTo>
                  <a:lnTo>
                    <a:pt x="952" y="459"/>
                  </a:lnTo>
                  <a:lnTo>
                    <a:pt x="981" y="452"/>
                  </a:lnTo>
                  <a:lnTo>
                    <a:pt x="1009" y="444"/>
                  </a:lnTo>
                  <a:lnTo>
                    <a:pt x="1039" y="437"/>
                  </a:lnTo>
                  <a:lnTo>
                    <a:pt x="1069" y="430"/>
                  </a:lnTo>
                  <a:lnTo>
                    <a:pt x="1097" y="424"/>
                  </a:lnTo>
                  <a:lnTo>
                    <a:pt x="1126" y="417"/>
                  </a:lnTo>
                  <a:lnTo>
                    <a:pt x="1151" y="410"/>
                  </a:lnTo>
                  <a:lnTo>
                    <a:pt x="1174" y="405"/>
                  </a:lnTo>
                  <a:lnTo>
                    <a:pt x="1194" y="400"/>
                  </a:lnTo>
                  <a:lnTo>
                    <a:pt x="1209" y="397"/>
                  </a:lnTo>
                  <a:lnTo>
                    <a:pt x="1236" y="390"/>
                  </a:lnTo>
                  <a:lnTo>
                    <a:pt x="1263" y="385"/>
                  </a:lnTo>
                  <a:lnTo>
                    <a:pt x="1289" y="382"/>
                  </a:lnTo>
                  <a:lnTo>
                    <a:pt x="1313" y="379"/>
                  </a:lnTo>
                  <a:lnTo>
                    <a:pt x="1336" y="375"/>
                  </a:lnTo>
                  <a:lnTo>
                    <a:pt x="1354" y="370"/>
                  </a:lnTo>
                  <a:lnTo>
                    <a:pt x="1371" y="365"/>
                  </a:lnTo>
                  <a:lnTo>
                    <a:pt x="1384" y="359"/>
                  </a:lnTo>
                  <a:lnTo>
                    <a:pt x="1394" y="354"/>
                  </a:lnTo>
                  <a:lnTo>
                    <a:pt x="1411" y="345"/>
                  </a:lnTo>
                  <a:lnTo>
                    <a:pt x="1434" y="334"/>
                  </a:lnTo>
                  <a:lnTo>
                    <a:pt x="1463" y="320"/>
                  </a:lnTo>
                  <a:lnTo>
                    <a:pt x="1496" y="307"/>
                  </a:lnTo>
                  <a:lnTo>
                    <a:pt x="1533" y="290"/>
                  </a:lnTo>
                  <a:lnTo>
                    <a:pt x="1571" y="274"/>
                  </a:lnTo>
                  <a:lnTo>
                    <a:pt x="1611" y="255"/>
                  </a:lnTo>
                  <a:lnTo>
                    <a:pt x="1649" y="239"/>
                  </a:lnTo>
                  <a:lnTo>
                    <a:pt x="1688" y="222"/>
                  </a:lnTo>
                  <a:lnTo>
                    <a:pt x="1723" y="207"/>
                  </a:lnTo>
                  <a:lnTo>
                    <a:pt x="1756" y="192"/>
                  </a:lnTo>
                  <a:lnTo>
                    <a:pt x="1783" y="180"/>
                  </a:lnTo>
                  <a:lnTo>
                    <a:pt x="1805" y="170"/>
                  </a:lnTo>
                  <a:lnTo>
                    <a:pt x="1820" y="164"/>
                  </a:lnTo>
                  <a:lnTo>
                    <a:pt x="1826" y="160"/>
                  </a:lnTo>
                  <a:lnTo>
                    <a:pt x="1836" y="152"/>
                  </a:lnTo>
                  <a:lnTo>
                    <a:pt x="1841" y="142"/>
                  </a:lnTo>
                  <a:lnTo>
                    <a:pt x="1845" y="130"/>
                  </a:lnTo>
                  <a:lnTo>
                    <a:pt x="1846" y="117"/>
                  </a:lnTo>
                  <a:lnTo>
                    <a:pt x="1848" y="100"/>
                  </a:lnTo>
                  <a:lnTo>
                    <a:pt x="1851" y="78"/>
                  </a:lnTo>
                  <a:lnTo>
                    <a:pt x="1858" y="57"/>
                  </a:lnTo>
                  <a:lnTo>
                    <a:pt x="1865" y="37"/>
                  </a:lnTo>
                  <a:lnTo>
                    <a:pt x="1868" y="27"/>
                  </a:lnTo>
                  <a:lnTo>
                    <a:pt x="1873" y="18"/>
                  </a:lnTo>
                  <a:lnTo>
                    <a:pt x="1876" y="8"/>
                  </a:lnTo>
                  <a:lnTo>
                    <a:pt x="1881" y="0"/>
                  </a:lnTo>
                  <a:lnTo>
                    <a:pt x="1861" y="10"/>
                  </a:lnTo>
                  <a:lnTo>
                    <a:pt x="1836" y="20"/>
                  </a:lnTo>
                  <a:lnTo>
                    <a:pt x="1808" y="32"/>
                  </a:lnTo>
                  <a:lnTo>
                    <a:pt x="1778" y="45"/>
                  </a:lnTo>
                  <a:lnTo>
                    <a:pt x="1746" y="58"/>
                  </a:lnTo>
                  <a:lnTo>
                    <a:pt x="1714" y="73"/>
                  </a:lnTo>
                  <a:lnTo>
                    <a:pt x="1681" y="88"/>
                  </a:lnTo>
                  <a:lnTo>
                    <a:pt x="1648" y="102"/>
                  </a:lnTo>
                  <a:lnTo>
                    <a:pt x="1616" y="117"/>
                  </a:lnTo>
                  <a:lnTo>
                    <a:pt x="1586" y="130"/>
                  </a:lnTo>
                  <a:lnTo>
                    <a:pt x="1558" y="142"/>
                  </a:lnTo>
                  <a:lnTo>
                    <a:pt x="1533" y="154"/>
                  </a:lnTo>
                  <a:lnTo>
                    <a:pt x="1511" y="164"/>
                  </a:lnTo>
                  <a:lnTo>
                    <a:pt x="1493" y="174"/>
                  </a:lnTo>
                  <a:lnTo>
                    <a:pt x="1479" y="179"/>
                  </a:lnTo>
                  <a:lnTo>
                    <a:pt x="1473" y="184"/>
                  </a:lnTo>
                  <a:lnTo>
                    <a:pt x="1459" y="190"/>
                  </a:lnTo>
                  <a:lnTo>
                    <a:pt x="1443" y="195"/>
                  </a:lnTo>
                  <a:lnTo>
                    <a:pt x="1423" y="199"/>
                  </a:lnTo>
                  <a:lnTo>
                    <a:pt x="1401" y="202"/>
                  </a:lnTo>
                  <a:lnTo>
                    <a:pt x="1376" y="205"/>
                  </a:lnTo>
                  <a:lnTo>
                    <a:pt x="1351" y="210"/>
                  </a:lnTo>
                  <a:lnTo>
                    <a:pt x="1324" y="215"/>
                  </a:lnTo>
                  <a:lnTo>
                    <a:pt x="1298" y="222"/>
                  </a:lnTo>
                  <a:close/>
                </a:path>
              </a:pathLst>
            </a:custGeom>
            <a:solidFill>
              <a:srgbClr val="ffffff">
                <a:alpha val="20000"/>
              </a:srgbClr>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8" name=""/>
            <p:cNvSpPr/>
            <p:nvPr/>
          </p:nvSpPr>
          <p:spPr>
            <a:xfrm>
              <a:off x="2813040" y="1803240"/>
              <a:ext cx="4348080" cy="3579840"/>
            </a:xfrm>
            <a:custGeom>
              <a:avLst/>
              <a:gdLst/>
              <a:ahLst/>
              <a:rect l="l" t="t" r="r" b="b"/>
              <a:pathLst>
                <a:path w="3185" h="2678">
                  <a:moveTo>
                    <a:pt x="380" y="90"/>
                  </a:moveTo>
                  <a:lnTo>
                    <a:pt x="683" y="28"/>
                  </a:lnTo>
                  <a:lnTo>
                    <a:pt x="693" y="0"/>
                  </a:lnTo>
                  <a:lnTo>
                    <a:pt x="695" y="0"/>
                  </a:lnTo>
                  <a:lnTo>
                    <a:pt x="698" y="0"/>
                  </a:lnTo>
                  <a:lnTo>
                    <a:pt x="704" y="0"/>
                  </a:lnTo>
                  <a:lnTo>
                    <a:pt x="712" y="0"/>
                  </a:lnTo>
                  <a:lnTo>
                    <a:pt x="720" y="0"/>
                  </a:lnTo>
                  <a:lnTo>
                    <a:pt x="734" y="2"/>
                  </a:lnTo>
                  <a:lnTo>
                    <a:pt x="747" y="5"/>
                  </a:lnTo>
                  <a:lnTo>
                    <a:pt x="764" y="10"/>
                  </a:lnTo>
                  <a:lnTo>
                    <a:pt x="782" y="15"/>
                  </a:lnTo>
                  <a:lnTo>
                    <a:pt x="799" y="20"/>
                  </a:lnTo>
                  <a:lnTo>
                    <a:pt x="817" y="23"/>
                  </a:lnTo>
                  <a:lnTo>
                    <a:pt x="832" y="28"/>
                  </a:lnTo>
                  <a:lnTo>
                    <a:pt x="847" y="32"/>
                  </a:lnTo>
                  <a:lnTo>
                    <a:pt x="862" y="35"/>
                  </a:lnTo>
                  <a:lnTo>
                    <a:pt x="874" y="40"/>
                  </a:lnTo>
                  <a:lnTo>
                    <a:pt x="884" y="43"/>
                  </a:lnTo>
                  <a:lnTo>
                    <a:pt x="894" y="48"/>
                  </a:lnTo>
                  <a:lnTo>
                    <a:pt x="907" y="57"/>
                  </a:lnTo>
                  <a:lnTo>
                    <a:pt x="924" y="68"/>
                  </a:lnTo>
                  <a:lnTo>
                    <a:pt x="942" y="82"/>
                  </a:lnTo>
                  <a:lnTo>
                    <a:pt x="962" y="97"/>
                  </a:lnTo>
                  <a:lnTo>
                    <a:pt x="985" y="112"/>
                  </a:lnTo>
                  <a:lnTo>
                    <a:pt x="1009" y="127"/>
                  </a:lnTo>
                  <a:lnTo>
                    <a:pt x="1035" y="142"/>
                  </a:lnTo>
                  <a:lnTo>
                    <a:pt x="1060" y="155"/>
                  </a:lnTo>
                  <a:lnTo>
                    <a:pt x="1080" y="168"/>
                  </a:lnTo>
                  <a:lnTo>
                    <a:pt x="1099" y="180"/>
                  </a:lnTo>
                  <a:lnTo>
                    <a:pt x="1114" y="190"/>
                  </a:lnTo>
                  <a:lnTo>
                    <a:pt x="1124" y="197"/>
                  </a:lnTo>
                  <a:lnTo>
                    <a:pt x="1132" y="203"/>
                  </a:lnTo>
                  <a:lnTo>
                    <a:pt x="1137" y="207"/>
                  </a:lnTo>
                  <a:lnTo>
                    <a:pt x="1139" y="208"/>
                  </a:lnTo>
                  <a:lnTo>
                    <a:pt x="1142" y="210"/>
                  </a:lnTo>
                  <a:lnTo>
                    <a:pt x="1150" y="215"/>
                  </a:lnTo>
                  <a:lnTo>
                    <a:pt x="1162" y="223"/>
                  </a:lnTo>
                  <a:lnTo>
                    <a:pt x="1177" y="233"/>
                  </a:lnTo>
                  <a:lnTo>
                    <a:pt x="1192" y="243"/>
                  </a:lnTo>
                  <a:lnTo>
                    <a:pt x="1205" y="255"/>
                  </a:lnTo>
                  <a:lnTo>
                    <a:pt x="1217" y="265"/>
                  </a:lnTo>
                  <a:lnTo>
                    <a:pt x="1225" y="275"/>
                  </a:lnTo>
                  <a:lnTo>
                    <a:pt x="1234" y="285"/>
                  </a:lnTo>
                  <a:lnTo>
                    <a:pt x="1245" y="297"/>
                  </a:lnTo>
                  <a:lnTo>
                    <a:pt x="1259" y="310"/>
                  </a:lnTo>
                  <a:lnTo>
                    <a:pt x="1276" y="325"/>
                  </a:lnTo>
                  <a:lnTo>
                    <a:pt x="1292" y="340"/>
                  </a:lnTo>
                  <a:lnTo>
                    <a:pt x="1309" y="354"/>
                  </a:lnTo>
                  <a:lnTo>
                    <a:pt x="1324" y="365"/>
                  </a:lnTo>
                  <a:lnTo>
                    <a:pt x="1334" y="375"/>
                  </a:lnTo>
                  <a:lnTo>
                    <a:pt x="1346" y="385"/>
                  </a:lnTo>
                  <a:lnTo>
                    <a:pt x="1362" y="397"/>
                  </a:lnTo>
                  <a:lnTo>
                    <a:pt x="1381" y="410"/>
                  </a:lnTo>
                  <a:lnTo>
                    <a:pt x="1401" y="424"/>
                  </a:lnTo>
                  <a:lnTo>
                    <a:pt x="1421" y="437"/>
                  </a:lnTo>
                  <a:lnTo>
                    <a:pt x="1436" y="445"/>
                  </a:lnTo>
                  <a:lnTo>
                    <a:pt x="1447" y="454"/>
                  </a:lnTo>
                  <a:lnTo>
                    <a:pt x="1451" y="455"/>
                  </a:lnTo>
                  <a:lnTo>
                    <a:pt x="1489" y="509"/>
                  </a:lnTo>
                  <a:lnTo>
                    <a:pt x="1497" y="509"/>
                  </a:lnTo>
                  <a:lnTo>
                    <a:pt x="1517" y="509"/>
                  </a:lnTo>
                  <a:lnTo>
                    <a:pt x="1546" y="509"/>
                  </a:lnTo>
                  <a:lnTo>
                    <a:pt x="1581" y="509"/>
                  </a:lnTo>
                  <a:lnTo>
                    <a:pt x="1617" y="510"/>
                  </a:lnTo>
                  <a:lnTo>
                    <a:pt x="1651" y="514"/>
                  </a:lnTo>
                  <a:lnTo>
                    <a:pt x="1677" y="520"/>
                  </a:lnTo>
                  <a:lnTo>
                    <a:pt x="1694" y="527"/>
                  </a:lnTo>
                  <a:lnTo>
                    <a:pt x="1696" y="527"/>
                  </a:lnTo>
                  <a:lnTo>
                    <a:pt x="1702" y="525"/>
                  </a:lnTo>
                  <a:lnTo>
                    <a:pt x="1712" y="522"/>
                  </a:lnTo>
                  <a:lnTo>
                    <a:pt x="1722" y="520"/>
                  </a:lnTo>
                  <a:lnTo>
                    <a:pt x="1736" y="519"/>
                  </a:lnTo>
                  <a:lnTo>
                    <a:pt x="1747" y="515"/>
                  </a:lnTo>
                  <a:lnTo>
                    <a:pt x="1759" y="514"/>
                  </a:lnTo>
                  <a:lnTo>
                    <a:pt x="1769" y="514"/>
                  </a:lnTo>
                  <a:lnTo>
                    <a:pt x="1782" y="515"/>
                  </a:lnTo>
                  <a:lnTo>
                    <a:pt x="1801" y="519"/>
                  </a:lnTo>
                  <a:lnTo>
                    <a:pt x="1823" y="522"/>
                  </a:lnTo>
                  <a:lnTo>
                    <a:pt x="1848" y="527"/>
                  </a:lnTo>
                  <a:lnTo>
                    <a:pt x="1869" y="534"/>
                  </a:lnTo>
                  <a:lnTo>
                    <a:pt x="1889" y="537"/>
                  </a:lnTo>
                  <a:lnTo>
                    <a:pt x="1903" y="540"/>
                  </a:lnTo>
                  <a:lnTo>
                    <a:pt x="1908" y="542"/>
                  </a:lnTo>
                  <a:lnTo>
                    <a:pt x="1926" y="604"/>
                  </a:lnTo>
                  <a:lnTo>
                    <a:pt x="2044" y="604"/>
                  </a:lnTo>
                  <a:lnTo>
                    <a:pt x="2064" y="689"/>
                  </a:lnTo>
                  <a:lnTo>
                    <a:pt x="2071" y="692"/>
                  </a:lnTo>
                  <a:lnTo>
                    <a:pt x="2083" y="704"/>
                  </a:lnTo>
                  <a:lnTo>
                    <a:pt x="2093" y="722"/>
                  </a:lnTo>
                  <a:lnTo>
                    <a:pt x="2093" y="746"/>
                  </a:lnTo>
                  <a:lnTo>
                    <a:pt x="2116" y="784"/>
                  </a:lnTo>
                  <a:lnTo>
                    <a:pt x="2154" y="769"/>
                  </a:lnTo>
                  <a:lnTo>
                    <a:pt x="2158" y="774"/>
                  </a:lnTo>
                  <a:lnTo>
                    <a:pt x="2164" y="786"/>
                  </a:lnTo>
                  <a:lnTo>
                    <a:pt x="2169" y="801"/>
                  </a:lnTo>
                  <a:lnTo>
                    <a:pt x="2173" y="812"/>
                  </a:lnTo>
                  <a:lnTo>
                    <a:pt x="2176" y="824"/>
                  </a:lnTo>
                  <a:lnTo>
                    <a:pt x="2183" y="834"/>
                  </a:lnTo>
                  <a:lnTo>
                    <a:pt x="2189" y="842"/>
                  </a:lnTo>
                  <a:lnTo>
                    <a:pt x="2193" y="846"/>
                  </a:lnTo>
                  <a:lnTo>
                    <a:pt x="2201" y="822"/>
                  </a:lnTo>
                  <a:lnTo>
                    <a:pt x="2226" y="869"/>
                  </a:lnTo>
                  <a:lnTo>
                    <a:pt x="2228" y="869"/>
                  </a:lnTo>
                  <a:lnTo>
                    <a:pt x="2234" y="871"/>
                  </a:lnTo>
                  <a:lnTo>
                    <a:pt x="2244" y="874"/>
                  </a:lnTo>
                  <a:lnTo>
                    <a:pt x="2254" y="877"/>
                  </a:lnTo>
                  <a:lnTo>
                    <a:pt x="2266" y="882"/>
                  </a:lnTo>
                  <a:lnTo>
                    <a:pt x="2276" y="887"/>
                  </a:lnTo>
                  <a:lnTo>
                    <a:pt x="2284" y="894"/>
                  </a:lnTo>
                  <a:lnTo>
                    <a:pt x="2288" y="902"/>
                  </a:lnTo>
                  <a:lnTo>
                    <a:pt x="2289" y="921"/>
                  </a:lnTo>
                  <a:lnTo>
                    <a:pt x="2293" y="937"/>
                  </a:lnTo>
                  <a:lnTo>
                    <a:pt x="2296" y="952"/>
                  </a:lnTo>
                  <a:lnTo>
                    <a:pt x="2306" y="964"/>
                  </a:lnTo>
                  <a:lnTo>
                    <a:pt x="2316" y="979"/>
                  </a:lnTo>
                  <a:lnTo>
                    <a:pt x="2321" y="996"/>
                  </a:lnTo>
                  <a:lnTo>
                    <a:pt x="2318" y="1011"/>
                  </a:lnTo>
                  <a:lnTo>
                    <a:pt x="2311" y="1017"/>
                  </a:lnTo>
                  <a:lnTo>
                    <a:pt x="2303" y="1019"/>
                  </a:lnTo>
                  <a:lnTo>
                    <a:pt x="2299" y="1024"/>
                  </a:lnTo>
                  <a:lnTo>
                    <a:pt x="2301" y="1032"/>
                  </a:lnTo>
                  <a:lnTo>
                    <a:pt x="2306" y="1046"/>
                  </a:lnTo>
                  <a:lnTo>
                    <a:pt x="2313" y="1061"/>
                  </a:lnTo>
                  <a:lnTo>
                    <a:pt x="2319" y="1076"/>
                  </a:lnTo>
                  <a:lnTo>
                    <a:pt x="2324" y="1092"/>
                  </a:lnTo>
                  <a:lnTo>
                    <a:pt x="2329" y="1107"/>
                  </a:lnTo>
                  <a:lnTo>
                    <a:pt x="2336" y="1117"/>
                  </a:lnTo>
                  <a:lnTo>
                    <a:pt x="2344" y="1121"/>
                  </a:lnTo>
                  <a:lnTo>
                    <a:pt x="2351" y="1121"/>
                  </a:lnTo>
                  <a:lnTo>
                    <a:pt x="2354" y="1121"/>
                  </a:lnTo>
                  <a:lnTo>
                    <a:pt x="2356" y="1129"/>
                  </a:lnTo>
                  <a:lnTo>
                    <a:pt x="2365" y="1149"/>
                  </a:lnTo>
                  <a:lnTo>
                    <a:pt x="2375" y="1174"/>
                  </a:lnTo>
                  <a:lnTo>
                    <a:pt x="2388" y="1192"/>
                  </a:lnTo>
                  <a:lnTo>
                    <a:pt x="2395" y="1201"/>
                  </a:lnTo>
                  <a:lnTo>
                    <a:pt x="2400" y="1209"/>
                  </a:lnTo>
                  <a:lnTo>
                    <a:pt x="2405" y="1217"/>
                  </a:lnTo>
                  <a:lnTo>
                    <a:pt x="2411" y="1227"/>
                  </a:lnTo>
                  <a:lnTo>
                    <a:pt x="2416" y="1236"/>
                  </a:lnTo>
                  <a:lnTo>
                    <a:pt x="2425" y="1244"/>
                  </a:lnTo>
                  <a:lnTo>
                    <a:pt x="2433" y="1253"/>
                  </a:lnTo>
                  <a:lnTo>
                    <a:pt x="2445" y="1259"/>
                  </a:lnTo>
                  <a:lnTo>
                    <a:pt x="2456" y="1263"/>
                  </a:lnTo>
                  <a:lnTo>
                    <a:pt x="2468" y="1263"/>
                  </a:lnTo>
                  <a:lnTo>
                    <a:pt x="2478" y="1263"/>
                  </a:lnTo>
                  <a:lnTo>
                    <a:pt x="2486" y="1259"/>
                  </a:lnTo>
                  <a:lnTo>
                    <a:pt x="2493" y="1256"/>
                  </a:lnTo>
                  <a:lnTo>
                    <a:pt x="2498" y="1253"/>
                  </a:lnTo>
                  <a:lnTo>
                    <a:pt x="2500" y="1251"/>
                  </a:lnTo>
                  <a:lnTo>
                    <a:pt x="2501" y="1249"/>
                  </a:lnTo>
                  <a:lnTo>
                    <a:pt x="2520" y="1259"/>
                  </a:lnTo>
                  <a:lnTo>
                    <a:pt x="2501" y="1293"/>
                  </a:lnTo>
                  <a:lnTo>
                    <a:pt x="2501" y="1294"/>
                  </a:lnTo>
                  <a:lnTo>
                    <a:pt x="2501" y="1299"/>
                  </a:lnTo>
                  <a:lnTo>
                    <a:pt x="2503" y="1304"/>
                  </a:lnTo>
                  <a:lnTo>
                    <a:pt x="2511" y="1306"/>
                  </a:lnTo>
                  <a:lnTo>
                    <a:pt x="2521" y="1314"/>
                  </a:lnTo>
                  <a:lnTo>
                    <a:pt x="2531" y="1329"/>
                  </a:lnTo>
                  <a:lnTo>
                    <a:pt x="2536" y="1346"/>
                  </a:lnTo>
                  <a:lnTo>
                    <a:pt x="2540" y="1354"/>
                  </a:lnTo>
                  <a:lnTo>
                    <a:pt x="2541" y="1356"/>
                  </a:lnTo>
                  <a:lnTo>
                    <a:pt x="2546" y="1361"/>
                  </a:lnTo>
                  <a:lnTo>
                    <a:pt x="2553" y="1368"/>
                  </a:lnTo>
                  <a:lnTo>
                    <a:pt x="2561" y="1378"/>
                  </a:lnTo>
                  <a:lnTo>
                    <a:pt x="2571" y="1388"/>
                  </a:lnTo>
                  <a:lnTo>
                    <a:pt x="2583" y="1401"/>
                  </a:lnTo>
                  <a:lnTo>
                    <a:pt x="2595" y="1414"/>
                  </a:lnTo>
                  <a:lnTo>
                    <a:pt x="2606" y="1428"/>
                  </a:lnTo>
                  <a:lnTo>
                    <a:pt x="2618" y="1443"/>
                  </a:lnTo>
                  <a:lnTo>
                    <a:pt x="2631" y="1458"/>
                  </a:lnTo>
                  <a:lnTo>
                    <a:pt x="2645" y="1473"/>
                  </a:lnTo>
                  <a:lnTo>
                    <a:pt x="2658" y="1488"/>
                  </a:lnTo>
                  <a:lnTo>
                    <a:pt x="2670" y="1501"/>
                  </a:lnTo>
                  <a:lnTo>
                    <a:pt x="2680" y="1511"/>
                  </a:lnTo>
                  <a:lnTo>
                    <a:pt x="2688" y="1521"/>
                  </a:lnTo>
                  <a:lnTo>
                    <a:pt x="2691" y="1528"/>
                  </a:lnTo>
                  <a:lnTo>
                    <a:pt x="2701" y="1533"/>
                  </a:lnTo>
                  <a:lnTo>
                    <a:pt x="2723" y="1538"/>
                  </a:lnTo>
                  <a:lnTo>
                    <a:pt x="2753" y="1543"/>
                  </a:lnTo>
                  <a:lnTo>
                    <a:pt x="2790" y="1546"/>
                  </a:lnTo>
                  <a:lnTo>
                    <a:pt x="2828" y="1549"/>
                  </a:lnTo>
                  <a:lnTo>
                    <a:pt x="2863" y="1551"/>
                  </a:lnTo>
                  <a:lnTo>
                    <a:pt x="2891" y="1554"/>
                  </a:lnTo>
                  <a:lnTo>
                    <a:pt x="2910" y="1556"/>
                  </a:lnTo>
                  <a:lnTo>
                    <a:pt x="2925" y="1558"/>
                  </a:lnTo>
                  <a:lnTo>
                    <a:pt x="2945" y="1559"/>
                  </a:lnTo>
                  <a:lnTo>
                    <a:pt x="2968" y="1561"/>
                  </a:lnTo>
                  <a:lnTo>
                    <a:pt x="2992" y="1563"/>
                  </a:lnTo>
                  <a:lnTo>
                    <a:pt x="3013" y="1566"/>
                  </a:lnTo>
                  <a:lnTo>
                    <a:pt x="3033" y="1568"/>
                  </a:lnTo>
                  <a:lnTo>
                    <a:pt x="3048" y="1569"/>
                  </a:lnTo>
                  <a:lnTo>
                    <a:pt x="3057" y="1571"/>
                  </a:lnTo>
                  <a:lnTo>
                    <a:pt x="3070" y="1569"/>
                  </a:lnTo>
                  <a:lnTo>
                    <a:pt x="3083" y="1563"/>
                  </a:lnTo>
                  <a:lnTo>
                    <a:pt x="3095" y="1554"/>
                  </a:lnTo>
                  <a:lnTo>
                    <a:pt x="3100" y="1551"/>
                  </a:lnTo>
                  <a:lnTo>
                    <a:pt x="3102" y="1553"/>
                  </a:lnTo>
                  <a:lnTo>
                    <a:pt x="3105" y="1556"/>
                  </a:lnTo>
                  <a:lnTo>
                    <a:pt x="3112" y="1561"/>
                  </a:lnTo>
                  <a:lnTo>
                    <a:pt x="3120" y="1568"/>
                  </a:lnTo>
                  <a:lnTo>
                    <a:pt x="3130" y="1576"/>
                  </a:lnTo>
                  <a:lnTo>
                    <a:pt x="3140" y="1586"/>
                  </a:lnTo>
                  <a:lnTo>
                    <a:pt x="3152" y="1598"/>
                  </a:lnTo>
                  <a:lnTo>
                    <a:pt x="3162" y="1609"/>
                  </a:lnTo>
                  <a:lnTo>
                    <a:pt x="3172" y="1624"/>
                  </a:lnTo>
                  <a:lnTo>
                    <a:pt x="3180" y="1638"/>
                  </a:lnTo>
                  <a:lnTo>
                    <a:pt x="3183" y="1653"/>
                  </a:lnTo>
                  <a:lnTo>
                    <a:pt x="3185" y="1668"/>
                  </a:lnTo>
                  <a:lnTo>
                    <a:pt x="3185" y="1678"/>
                  </a:lnTo>
                  <a:lnTo>
                    <a:pt x="3183" y="1688"/>
                  </a:lnTo>
                  <a:lnTo>
                    <a:pt x="3180" y="1696"/>
                  </a:lnTo>
                  <a:lnTo>
                    <a:pt x="3175" y="1704"/>
                  </a:lnTo>
                  <a:lnTo>
                    <a:pt x="3168" y="1724"/>
                  </a:lnTo>
                  <a:lnTo>
                    <a:pt x="3168" y="1748"/>
                  </a:lnTo>
                  <a:lnTo>
                    <a:pt x="3168" y="1771"/>
                  </a:lnTo>
                  <a:lnTo>
                    <a:pt x="3167" y="1795"/>
                  </a:lnTo>
                  <a:lnTo>
                    <a:pt x="3162" y="1815"/>
                  </a:lnTo>
                  <a:lnTo>
                    <a:pt x="3153" y="1835"/>
                  </a:lnTo>
                  <a:lnTo>
                    <a:pt x="3145" y="1851"/>
                  </a:lnTo>
                  <a:lnTo>
                    <a:pt x="3138" y="1870"/>
                  </a:lnTo>
                  <a:lnTo>
                    <a:pt x="3132" y="1890"/>
                  </a:lnTo>
                  <a:lnTo>
                    <a:pt x="3125" y="1913"/>
                  </a:lnTo>
                  <a:lnTo>
                    <a:pt x="3120" y="1933"/>
                  </a:lnTo>
                  <a:lnTo>
                    <a:pt x="3118" y="1951"/>
                  </a:lnTo>
                  <a:lnTo>
                    <a:pt x="3117" y="1965"/>
                  </a:lnTo>
                  <a:lnTo>
                    <a:pt x="3115" y="1976"/>
                  </a:lnTo>
                  <a:lnTo>
                    <a:pt x="3108" y="1986"/>
                  </a:lnTo>
                  <a:lnTo>
                    <a:pt x="3100" y="1993"/>
                  </a:lnTo>
                  <a:lnTo>
                    <a:pt x="3093" y="1996"/>
                  </a:lnTo>
                  <a:lnTo>
                    <a:pt x="3078" y="2003"/>
                  </a:lnTo>
                  <a:lnTo>
                    <a:pt x="3057" y="2013"/>
                  </a:lnTo>
                  <a:lnTo>
                    <a:pt x="3028" y="2026"/>
                  </a:lnTo>
                  <a:lnTo>
                    <a:pt x="2997" y="2040"/>
                  </a:lnTo>
                  <a:lnTo>
                    <a:pt x="2962" y="2056"/>
                  </a:lnTo>
                  <a:lnTo>
                    <a:pt x="2923" y="2073"/>
                  </a:lnTo>
                  <a:lnTo>
                    <a:pt x="2885" y="2090"/>
                  </a:lnTo>
                  <a:lnTo>
                    <a:pt x="2845" y="2108"/>
                  </a:lnTo>
                  <a:lnTo>
                    <a:pt x="2806" y="2125"/>
                  </a:lnTo>
                  <a:lnTo>
                    <a:pt x="2770" y="2141"/>
                  </a:lnTo>
                  <a:lnTo>
                    <a:pt x="2736" y="2155"/>
                  </a:lnTo>
                  <a:lnTo>
                    <a:pt x="2708" y="2168"/>
                  </a:lnTo>
                  <a:lnTo>
                    <a:pt x="2685" y="2180"/>
                  </a:lnTo>
                  <a:lnTo>
                    <a:pt x="2668" y="2188"/>
                  </a:lnTo>
                  <a:lnTo>
                    <a:pt x="2658" y="2193"/>
                  </a:lnTo>
                  <a:lnTo>
                    <a:pt x="2645" y="2200"/>
                  </a:lnTo>
                  <a:lnTo>
                    <a:pt x="2628" y="2205"/>
                  </a:lnTo>
                  <a:lnTo>
                    <a:pt x="2608" y="2208"/>
                  </a:lnTo>
                  <a:lnTo>
                    <a:pt x="2586" y="2211"/>
                  </a:lnTo>
                  <a:lnTo>
                    <a:pt x="2561" y="2215"/>
                  </a:lnTo>
                  <a:lnTo>
                    <a:pt x="2535" y="2220"/>
                  </a:lnTo>
                  <a:lnTo>
                    <a:pt x="2508" y="2225"/>
                  </a:lnTo>
                  <a:lnTo>
                    <a:pt x="2481" y="2231"/>
                  </a:lnTo>
                  <a:lnTo>
                    <a:pt x="2466" y="2235"/>
                  </a:lnTo>
                  <a:lnTo>
                    <a:pt x="2446" y="2240"/>
                  </a:lnTo>
                  <a:lnTo>
                    <a:pt x="2425" y="2245"/>
                  </a:lnTo>
                  <a:lnTo>
                    <a:pt x="2398" y="2252"/>
                  </a:lnTo>
                  <a:lnTo>
                    <a:pt x="2371" y="2258"/>
                  </a:lnTo>
                  <a:lnTo>
                    <a:pt x="2343" y="2265"/>
                  </a:lnTo>
                  <a:lnTo>
                    <a:pt x="2313" y="2272"/>
                  </a:lnTo>
                  <a:lnTo>
                    <a:pt x="2283" y="2278"/>
                  </a:lnTo>
                  <a:lnTo>
                    <a:pt x="2253" y="2285"/>
                  </a:lnTo>
                  <a:lnTo>
                    <a:pt x="2224" y="2293"/>
                  </a:lnTo>
                  <a:lnTo>
                    <a:pt x="2198" y="2300"/>
                  </a:lnTo>
                  <a:lnTo>
                    <a:pt x="2173" y="2307"/>
                  </a:lnTo>
                  <a:lnTo>
                    <a:pt x="2151" y="2312"/>
                  </a:lnTo>
                  <a:lnTo>
                    <a:pt x="2134" y="2318"/>
                  </a:lnTo>
                  <a:lnTo>
                    <a:pt x="2119" y="2323"/>
                  </a:lnTo>
                  <a:lnTo>
                    <a:pt x="2111" y="2327"/>
                  </a:lnTo>
                  <a:lnTo>
                    <a:pt x="2098" y="2333"/>
                  </a:lnTo>
                  <a:lnTo>
                    <a:pt x="2086" y="2338"/>
                  </a:lnTo>
                  <a:lnTo>
                    <a:pt x="2071" y="2347"/>
                  </a:lnTo>
                  <a:lnTo>
                    <a:pt x="2058" y="2353"/>
                  </a:lnTo>
                  <a:lnTo>
                    <a:pt x="2043" y="2365"/>
                  </a:lnTo>
                  <a:lnTo>
                    <a:pt x="2028" y="2378"/>
                  </a:lnTo>
                  <a:lnTo>
                    <a:pt x="2011" y="2398"/>
                  </a:lnTo>
                  <a:lnTo>
                    <a:pt x="1993" y="2422"/>
                  </a:lnTo>
                  <a:lnTo>
                    <a:pt x="1976" y="2447"/>
                  </a:lnTo>
                  <a:lnTo>
                    <a:pt x="1961" y="2470"/>
                  </a:lnTo>
                  <a:lnTo>
                    <a:pt x="1946" y="2492"/>
                  </a:lnTo>
                  <a:lnTo>
                    <a:pt x="1933" y="2512"/>
                  </a:lnTo>
                  <a:lnTo>
                    <a:pt x="1923" y="2528"/>
                  </a:lnTo>
                  <a:lnTo>
                    <a:pt x="1913" y="2542"/>
                  </a:lnTo>
                  <a:lnTo>
                    <a:pt x="1904" y="2552"/>
                  </a:lnTo>
                  <a:lnTo>
                    <a:pt x="1898" y="2558"/>
                  </a:lnTo>
                  <a:lnTo>
                    <a:pt x="1891" y="2563"/>
                  </a:lnTo>
                  <a:lnTo>
                    <a:pt x="1884" y="2568"/>
                  </a:lnTo>
                  <a:lnTo>
                    <a:pt x="1874" y="2573"/>
                  </a:lnTo>
                  <a:lnTo>
                    <a:pt x="1864" y="2575"/>
                  </a:lnTo>
                  <a:lnTo>
                    <a:pt x="1853" y="2577"/>
                  </a:lnTo>
                  <a:lnTo>
                    <a:pt x="1843" y="2577"/>
                  </a:lnTo>
                  <a:lnTo>
                    <a:pt x="1833" y="2573"/>
                  </a:lnTo>
                  <a:lnTo>
                    <a:pt x="1823" y="2568"/>
                  </a:lnTo>
                  <a:lnTo>
                    <a:pt x="1814" y="2562"/>
                  </a:lnTo>
                  <a:lnTo>
                    <a:pt x="1806" y="2553"/>
                  </a:lnTo>
                  <a:lnTo>
                    <a:pt x="1799" y="2547"/>
                  </a:lnTo>
                  <a:lnTo>
                    <a:pt x="1794" y="2538"/>
                  </a:lnTo>
                  <a:lnTo>
                    <a:pt x="1787" y="2533"/>
                  </a:lnTo>
                  <a:lnTo>
                    <a:pt x="1781" y="2530"/>
                  </a:lnTo>
                  <a:lnTo>
                    <a:pt x="1772" y="2528"/>
                  </a:lnTo>
                  <a:lnTo>
                    <a:pt x="1764" y="2530"/>
                  </a:lnTo>
                  <a:lnTo>
                    <a:pt x="1752" y="2533"/>
                  </a:lnTo>
                  <a:lnTo>
                    <a:pt x="1739" y="2535"/>
                  </a:lnTo>
                  <a:lnTo>
                    <a:pt x="1722" y="2535"/>
                  </a:lnTo>
                  <a:lnTo>
                    <a:pt x="1704" y="2535"/>
                  </a:lnTo>
                  <a:lnTo>
                    <a:pt x="1684" y="2535"/>
                  </a:lnTo>
                  <a:lnTo>
                    <a:pt x="1666" y="2533"/>
                  </a:lnTo>
                  <a:lnTo>
                    <a:pt x="1647" y="2532"/>
                  </a:lnTo>
                  <a:lnTo>
                    <a:pt x="1632" y="2530"/>
                  </a:lnTo>
                  <a:lnTo>
                    <a:pt x="1617" y="2528"/>
                  </a:lnTo>
                  <a:lnTo>
                    <a:pt x="1602" y="2525"/>
                  </a:lnTo>
                  <a:lnTo>
                    <a:pt x="1589" y="2520"/>
                  </a:lnTo>
                  <a:lnTo>
                    <a:pt x="1574" y="2517"/>
                  </a:lnTo>
                  <a:lnTo>
                    <a:pt x="1561" y="2513"/>
                  </a:lnTo>
                  <a:lnTo>
                    <a:pt x="1549" y="2510"/>
                  </a:lnTo>
                  <a:lnTo>
                    <a:pt x="1537" y="2507"/>
                  </a:lnTo>
                  <a:lnTo>
                    <a:pt x="1527" y="2507"/>
                  </a:lnTo>
                  <a:lnTo>
                    <a:pt x="1514" y="2507"/>
                  </a:lnTo>
                  <a:lnTo>
                    <a:pt x="1492" y="2507"/>
                  </a:lnTo>
                  <a:lnTo>
                    <a:pt x="1466" y="2508"/>
                  </a:lnTo>
                  <a:lnTo>
                    <a:pt x="1436" y="2508"/>
                  </a:lnTo>
                  <a:lnTo>
                    <a:pt x="1409" y="2510"/>
                  </a:lnTo>
                  <a:lnTo>
                    <a:pt x="1386" y="2512"/>
                  </a:lnTo>
                  <a:lnTo>
                    <a:pt x="1369" y="2512"/>
                  </a:lnTo>
                  <a:lnTo>
                    <a:pt x="1362" y="2512"/>
                  </a:lnTo>
                  <a:lnTo>
                    <a:pt x="1361" y="2513"/>
                  </a:lnTo>
                  <a:lnTo>
                    <a:pt x="1356" y="2515"/>
                  </a:lnTo>
                  <a:lnTo>
                    <a:pt x="1349" y="2518"/>
                  </a:lnTo>
                  <a:lnTo>
                    <a:pt x="1339" y="2520"/>
                  </a:lnTo>
                  <a:lnTo>
                    <a:pt x="1329" y="2522"/>
                  </a:lnTo>
                  <a:lnTo>
                    <a:pt x="1317" y="2522"/>
                  </a:lnTo>
                  <a:lnTo>
                    <a:pt x="1304" y="2518"/>
                  </a:lnTo>
                  <a:lnTo>
                    <a:pt x="1292" y="2512"/>
                  </a:lnTo>
                  <a:lnTo>
                    <a:pt x="1281" y="2503"/>
                  </a:lnTo>
                  <a:lnTo>
                    <a:pt x="1272" y="2497"/>
                  </a:lnTo>
                  <a:lnTo>
                    <a:pt x="1266" y="2490"/>
                  </a:lnTo>
                  <a:lnTo>
                    <a:pt x="1261" y="2485"/>
                  </a:lnTo>
                  <a:lnTo>
                    <a:pt x="1256" y="2482"/>
                  </a:lnTo>
                  <a:lnTo>
                    <a:pt x="1250" y="2480"/>
                  </a:lnTo>
                  <a:lnTo>
                    <a:pt x="1245" y="2480"/>
                  </a:lnTo>
                  <a:lnTo>
                    <a:pt x="1239" y="2483"/>
                  </a:lnTo>
                  <a:lnTo>
                    <a:pt x="1232" y="2490"/>
                  </a:lnTo>
                  <a:lnTo>
                    <a:pt x="1235" y="2498"/>
                  </a:lnTo>
                  <a:lnTo>
                    <a:pt x="1240" y="2510"/>
                  </a:lnTo>
                  <a:lnTo>
                    <a:pt x="1239" y="2525"/>
                  </a:lnTo>
                  <a:lnTo>
                    <a:pt x="1234" y="2545"/>
                  </a:lnTo>
                  <a:lnTo>
                    <a:pt x="1232" y="2567"/>
                  </a:lnTo>
                  <a:lnTo>
                    <a:pt x="1234" y="2587"/>
                  </a:lnTo>
                  <a:lnTo>
                    <a:pt x="1234" y="2602"/>
                  </a:lnTo>
                  <a:lnTo>
                    <a:pt x="1230" y="2615"/>
                  </a:lnTo>
                  <a:lnTo>
                    <a:pt x="1225" y="2630"/>
                  </a:lnTo>
                  <a:lnTo>
                    <a:pt x="1219" y="2643"/>
                  </a:lnTo>
                  <a:lnTo>
                    <a:pt x="1215" y="2648"/>
                  </a:lnTo>
                  <a:lnTo>
                    <a:pt x="1177" y="2678"/>
                  </a:lnTo>
                  <a:lnTo>
                    <a:pt x="1175" y="2672"/>
                  </a:lnTo>
                  <a:lnTo>
                    <a:pt x="1170" y="2657"/>
                  </a:lnTo>
                  <a:lnTo>
                    <a:pt x="1167" y="2640"/>
                  </a:lnTo>
                  <a:lnTo>
                    <a:pt x="1167" y="2625"/>
                  </a:lnTo>
                  <a:lnTo>
                    <a:pt x="1167" y="2613"/>
                  </a:lnTo>
                  <a:lnTo>
                    <a:pt x="1164" y="2598"/>
                  </a:lnTo>
                  <a:lnTo>
                    <a:pt x="1154" y="2583"/>
                  </a:lnTo>
                  <a:lnTo>
                    <a:pt x="1144" y="2568"/>
                  </a:lnTo>
                  <a:lnTo>
                    <a:pt x="1134" y="2555"/>
                  </a:lnTo>
                  <a:lnTo>
                    <a:pt x="1124" y="2543"/>
                  </a:lnTo>
                  <a:lnTo>
                    <a:pt x="1115" y="2532"/>
                  </a:lnTo>
                  <a:lnTo>
                    <a:pt x="1110" y="2522"/>
                  </a:lnTo>
                  <a:lnTo>
                    <a:pt x="1107" y="2508"/>
                  </a:lnTo>
                  <a:lnTo>
                    <a:pt x="1104" y="2492"/>
                  </a:lnTo>
                  <a:lnTo>
                    <a:pt x="1095" y="2475"/>
                  </a:lnTo>
                  <a:lnTo>
                    <a:pt x="1082" y="2458"/>
                  </a:lnTo>
                  <a:lnTo>
                    <a:pt x="1072" y="2450"/>
                  </a:lnTo>
                  <a:lnTo>
                    <a:pt x="1059" y="2437"/>
                  </a:lnTo>
                  <a:lnTo>
                    <a:pt x="1044" y="2423"/>
                  </a:lnTo>
                  <a:lnTo>
                    <a:pt x="1029" y="2405"/>
                  </a:lnTo>
                  <a:lnTo>
                    <a:pt x="1014" y="2387"/>
                  </a:lnTo>
                  <a:lnTo>
                    <a:pt x="999" y="2368"/>
                  </a:lnTo>
                  <a:lnTo>
                    <a:pt x="987" y="2350"/>
                  </a:lnTo>
                  <a:lnTo>
                    <a:pt x="979" y="2332"/>
                  </a:lnTo>
                  <a:lnTo>
                    <a:pt x="964" y="2302"/>
                  </a:lnTo>
                  <a:lnTo>
                    <a:pt x="949" y="2280"/>
                  </a:lnTo>
                  <a:lnTo>
                    <a:pt x="937" y="2263"/>
                  </a:lnTo>
                  <a:lnTo>
                    <a:pt x="930" y="2245"/>
                  </a:lnTo>
                  <a:lnTo>
                    <a:pt x="927" y="2231"/>
                  </a:lnTo>
                  <a:lnTo>
                    <a:pt x="920" y="2211"/>
                  </a:lnTo>
                  <a:lnTo>
                    <a:pt x="910" y="2190"/>
                  </a:lnTo>
                  <a:lnTo>
                    <a:pt x="900" y="2166"/>
                  </a:lnTo>
                  <a:lnTo>
                    <a:pt x="890" y="2143"/>
                  </a:lnTo>
                  <a:lnTo>
                    <a:pt x="880" y="2123"/>
                  </a:lnTo>
                  <a:lnTo>
                    <a:pt x="870" y="2108"/>
                  </a:lnTo>
                  <a:lnTo>
                    <a:pt x="864" y="2098"/>
                  </a:lnTo>
                  <a:lnTo>
                    <a:pt x="854" y="2085"/>
                  </a:lnTo>
                  <a:lnTo>
                    <a:pt x="845" y="2071"/>
                  </a:lnTo>
                  <a:lnTo>
                    <a:pt x="834" y="2056"/>
                  </a:lnTo>
                  <a:lnTo>
                    <a:pt x="822" y="2041"/>
                  </a:lnTo>
                  <a:lnTo>
                    <a:pt x="814" y="2033"/>
                  </a:lnTo>
                  <a:lnTo>
                    <a:pt x="802" y="2025"/>
                  </a:lnTo>
                  <a:lnTo>
                    <a:pt x="790" y="2018"/>
                  </a:lnTo>
                  <a:lnTo>
                    <a:pt x="779" y="2010"/>
                  </a:lnTo>
                  <a:lnTo>
                    <a:pt x="765" y="2003"/>
                  </a:lnTo>
                  <a:lnTo>
                    <a:pt x="752" y="1998"/>
                  </a:lnTo>
                  <a:lnTo>
                    <a:pt x="740" y="1995"/>
                  </a:lnTo>
                  <a:lnTo>
                    <a:pt x="730" y="1993"/>
                  </a:lnTo>
                  <a:lnTo>
                    <a:pt x="722" y="1991"/>
                  </a:lnTo>
                  <a:lnTo>
                    <a:pt x="717" y="1988"/>
                  </a:lnTo>
                  <a:lnTo>
                    <a:pt x="710" y="1983"/>
                  </a:lnTo>
                  <a:lnTo>
                    <a:pt x="705" y="1975"/>
                  </a:lnTo>
                  <a:lnTo>
                    <a:pt x="700" y="1966"/>
                  </a:lnTo>
                  <a:lnTo>
                    <a:pt x="693" y="1953"/>
                  </a:lnTo>
                  <a:lnTo>
                    <a:pt x="685" y="1940"/>
                  </a:lnTo>
                  <a:lnTo>
                    <a:pt x="673" y="1923"/>
                  </a:lnTo>
                  <a:lnTo>
                    <a:pt x="662" y="1905"/>
                  </a:lnTo>
                  <a:lnTo>
                    <a:pt x="652" y="1886"/>
                  </a:lnTo>
                  <a:lnTo>
                    <a:pt x="642" y="1868"/>
                  </a:lnTo>
                  <a:lnTo>
                    <a:pt x="635" y="1851"/>
                  </a:lnTo>
                  <a:lnTo>
                    <a:pt x="628" y="1833"/>
                  </a:lnTo>
                  <a:lnTo>
                    <a:pt x="623" y="1818"/>
                  </a:lnTo>
                  <a:lnTo>
                    <a:pt x="620" y="1803"/>
                  </a:lnTo>
                  <a:lnTo>
                    <a:pt x="617" y="1790"/>
                  </a:lnTo>
                  <a:lnTo>
                    <a:pt x="612" y="1765"/>
                  </a:lnTo>
                  <a:lnTo>
                    <a:pt x="603" y="1741"/>
                  </a:lnTo>
                  <a:lnTo>
                    <a:pt x="597" y="1724"/>
                  </a:lnTo>
                  <a:lnTo>
                    <a:pt x="593" y="1718"/>
                  </a:lnTo>
                  <a:lnTo>
                    <a:pt x="600" y="1706"/>
                  </a:lnTo>
                  <a:lnTo>
                    <a:pt x="610" y="1676"/>
                  </a:lnTo>
                  <a:lnTo>
                    <a:pt x="617" y="1636"/>
                  </a:lnTo>
                  <a:lnTo>
                    <a:pt x="607" y="1594"/>
                  </a:lnTo>
                  <a:lnTo>
                    <a:pt x="590" y="1559"/>
                  </a:lnTo>
                  <a:lnTo>
                    <a:pt x="582" y="1531"/>
                  </a:lnTo>
                  <a:lnTo>
                    <a:pt x="573" y="1503"/>
                  </a:lnTo>
                  <a:lnTo>
                    <a:pt x="560" y="1471"/>
                  </a:lnTo>
                  <a:lnTo>
                    <a:pt x="552" y="1454"/>
                  </a:lnTo>
                  <a:lnTo>
                    <a:pt x="547" y="1439"/>
                  </a:lnTo>
                  <a:lnTo>
                    <a:pt x="542" y="1426"/>
                  </a:lnTo>
                  <a:lnTo>
                    <a:pt x="537" y="1413"/>
                  </a:lnTo>
                  <a:lnTo>
                    <a:pt x="532" y="1401"/>
                  </a:lnTo>
                  <a:lnTo>
                    <a:pt x="525" y="1393"/>
                  </a:lnTo>
                  <a:lnTo>
                    <a:pt x="518" y="1383"/>
                  </a:lnTo>
                  <a:lnTo>
                    <a:pt x="508" y="1376"/>
                  </a:lnTo>
                  <a:lnTo>
                    <a:pt x="497" y="1369"/>
                  </a:lnTo>
                  <a:lnTo>
                    <a:pt x="487" y="1361"/>
                  </a:lnTo>
                  <a:lnTo>
                    <a:pt x="475" y="1354"/>
                  </a:lnTo>
                  <a:lnTo>
                    <a:pt x="463" y="1346"/>
                  </a:lnTo>
                  <a:lnTo>
                    <a:pt x="452" y="1338"/>
                  </a:lnTo>
                  <a:lnTo>
                    <a:pt x="440" y="1329"/>
                  </a:lnTo>
                  <a:lnTo>
                    <a:pt x="427" y="1323"/>
                  </a:lnTo>
                  <a:lnTo>
                    <a:pt x="413" y="1316"/>
                  </a:lnTo>
                  <a:lnTo>
                    <a:pt x="392" y="1303"/>
                  </a:lnTo>
                  <a:lnTo>
                    <a:pt x="382" y="1286"/>
                  </a:lnTo>
                  <a:lnTo>
                    <a:pt x="375" y="1268"/>
                  </a:lnTo>
                  <a:lnTo>
                    <a:pt x="365" y="1249"/>
                  </a:lnTo>
                  <a:lnTo>
                    <a:pt x="355" y="1232"/>
                  </a:lnTo>
                  <a:lnTo>
                    <a:pt x="348" y="1219"/>
                  </a:lnTo>
                  <a:lnTo>
                    <a:pt x="347" y="1209"/>
                  </a:lnTo>
                  <a:lnTo>
                    <a:pt x="347" y="1206"/>
                  </a:lnTo>
                  <a:lnTo>
                    <a:pt x="348" y="1206"/>
                  </a:lnTo>
                  <a:lnTo>
                    <a:pt x="353" y="1204"/>
                  </a:lnTo>
                  <a:lnTo>
                    <a:pt x="360" y="1201"/>
                  </a:lnTo>
                  <a:lnTo>
                    <a:pt x="367" y="1194"/>
                  </a:lnTo>
                  <a:lnTo>
                    <a:pt x="370" y="1187"/>
                  </a:lnTo>
                  <a:lnTo>
                    <a:pt x="370" y="1176"/>
                  </a:lnTo>
                  <a:lnTo>
                    <a:pt x="365" y="1162"/>
                  </a:lnTo>
                  <a:lnTo>
                    <a:pt x="352" y="1144"/>
                  </a:lnTo>
                  <a:lnTo>
                    <a:pt x="330" y="1122"/>
                  </a:lnTo>
                  <a:lnTo>
                    <a:pt x="327" y="1122"/>
                  </a:lnTo>
                  <a:lnTo>
                    <a:pt x="330" y="1126"/>
                  </a:lnTo>
                  <a:lnTo>
                    <a:pt x="327" y="1112"/>
                  </a:lnTo>
                  <a:lnTo>
                    <a:pt x="320" y="1091"/>
                  </a:lnTo>
                  <a:lnTo>
                    <a:pt x="315" y="1076"/>
                  </a:lnTo>
                  <a:lnTo>
                    <a:pt x="308" y="1066"/>
                  </a:lnTo>
                  <a:lnTo>
                    <a:pt x="293" y="1054"/>
                  </a:lnTo>
                  <a:lnTo>
                    <a:pt x="283" y="1039"/>
                  </a:lnTo>
                  <a:lnTo>
                    <a:pt x="285" y="1024"/>
                  </a:lnTo>
                  <a:lnTo>
                    <a:pt x="287" y="1011"/>
                  </a:lnTo>
                  <a:lnTo>
                    <a:pt x="275" y="997"/>
                  </a:lnTo>
                  <a:lnTo>
                    <a:pt x="257" y="986"/>
                  </a:lnTo>
                  <a:lnTo>
                    <a:pt x="243" y="971"/>
                  </a:lnTo>
                  <a:lnTo>
                    <a:pt x="235" y="954"/>
                  </a:lnTo>
                  <a:lnTo>
                    <a:pt x="232" y="936"/>
                  </a:lnTo>
                  <a:lnTo>
                    <a:pt x="228" y="916"/>
                  </a:lnTo>
                  <a:lnTo>
                    <a:pt x="218" y="889"/>
                  </a:lnTo>
                  <a:lnTo>
                    <a:pt x="205" y="862"/>
                  </a:lnTo>
                  <a:lnTo>
                    <a:pt x="185" y="836"/>
                  </a:lnTo>
                  <a:lnTo>
                    <a:pt x="172" y="814"/>
                  </a:lnTo>
                  <a:lnTo>
                    <a:pt x="168" y="796"/>
                  </a:lnTo>
                  <a:lnTo>
                    <a:pt x="167" y="782"/>
                  </a:lnTo>
                  <a:lnTo>
                    <a:pt x="157" y="774"/>
                  </a:lnTo>
                  <a:lnTo>
                    <a:pt x="145" y="766"/>
                  </a:lnTo>
                  <a:lnTo>
                    <a:pt x="140" y="754"/>
                  </a:lnTo>
                  <a:lnTo>
                    <a:pt x="133" y="739"/>
                  </a:lnTo>
                  <a:lnTo>
                    <a:pt x="118" y="722"/>
                  </a:lnTo>
                  <a:lnTo>
                    <a:pt x="100" y="700"/>
                  </a:lnTo>
                  <a:lnTo>
                    <a:pt x="86" y="674"/>
                  </a:lnTo>
                  <a:lnTo>
                    <a:pt x="78" y="652"/>
                  </a:lnTo>
                  <a:lnTo>
                    <a:pt x="75" y="642"/>
                  </a:lnTo>
                  <a:lnTo>
                    <a:pt x="70" y="642"/>
                  </a:lnTo>
                  <a:lnTo>
                    <a:pt x="60" y="642"/>
                  </a:lnTo>
                  <a:lnTo>
                    <a:pt x="45" y="642"/>
                  </a:lnTo>
                  <a:lnTo>
                    <a:pt x="33" y="642"/>
                  </a:lnTo>
                  <a:lnTo>
                    <a:pt x="21" y="642"/>
                  </a:lnTo>
                  <a:lnTo>
                    <a:pt x="11" y="644"/>
                  </a:lnTo>
                  <a:lnTo>
                    <a:pt x="3" y="645"/>
                  </a:lnTo>
                  <a:lnTo>
                    <a:pt x="0" y="645"/>
                  </a:lnTo>
                  <a:lnTo>
                    <a:pt x="1" y="642"/>
                  </a:lnTo>
                  <a:lnTo>
                    <a:pt x="5" y="632"/>
                  </a:lnTo>
                  <a:lnTo>
                    <a:pt x="8" y="620"/>
                  </a:lnTo>
                  <a:lnTo>
                    <a:pt x="13" y="609"/>
                  </a:lnTo>
                  <a:lnTo>
                    <a:pt x="20" y="592"/>
                  </a:lnTo>
                  <a:lnTo>
                    <a:pt x="28" y="569"/>
                  </a:lnTo>
                  <a:lnTo>
                    <a:pt x="35" y="542"/>
                  </a:lnTo>
                  <a:lnTo>
                    <a:pt x="38" y="517"/>
                  </a:lnTo>
                  <a:lnTo>
                    <a:pt x="40" y="500"/>
                  </a:lnTo>
                  <a:lnTo>
                    <a:pt x="43" y="489"/>
                  </a:lnTo>
                  <a:lnTo>
                    <a:pt x="50" y="480"/>
                  </a:lnTo>
                  <a:lnTo>
                    <a:pt x="56" y="470"/>
                  </a:lnTo>
                  <a:lnTo>
                    <a:pt x="61" y="457"/>
                  </a:lnTo>
                  <a:lnTo>
                    <a:pt x="65" y="442"/>
                  </a:lnTo>
                  <a:lnTo>
                    <a:pt x="66" y="429"/>
                  </a:lnTo>
                  <a:lnTo>
                    <a:pt x="66" y="424"/>
                  </a:lnTo>
                  <a:lnTo>
                    <a:pt x="232" y="465"/>
                  </a:lnTo>
                  <a:lnTo>
                    <a:pt x="235" y="464"/>
                  </a:lnTo>
                  <a:lnTo>
                    <a:pt x="243" y="457"/>
                  </a:lnTo>
                  <a:lnTo>
                    <a:pt x="257" y="450"/>
                  </a:lnTo>
                  <a:lnTo>
                    <a:pt x="270" y="439"/>
                  </a:lnTo>
                  <a:lnTo>
                    <a:pt x="285" y="429"/>
                  </a:lnTo>
                  <a:lnTo>
                    <a:pt x="298" y="417"/>
                  </a:lnTo>
                  <a:lnTo>
                    <a:pt x="308" y="407"/>
                  </a:lnTo>
                  <a:lnTo>
                    <a:pt x="313" y="399"/>
                  </a:lnTo>
                  <a:lnTo>
                    <a:pt x="318" y="384"/>
                  </a:lnTo>
                  <a:lnTo>
                    <a:pt x="325" y="369"/>
                  </a:lnTo>
                  <a:lnTo>
                    <a:pt x="330" y="357"/>
                  </a:lnTo>
                  <a:lnTo>
                    <a:pt x="332" y="352"/>
                  </a:lnTo>
                  <a:lnTo>
                    <a:pt x="335" y="352"/>
                  </a:lnTo>
                  <a:lnTo>
                    <a:pt x="342" y="352"/>
                  </a:lnTo>
                  <a:lnTo>
                    <a:pt x="353" y="352"/>
                  </a:lnTo>
                  <a:lnTo>
                    <a:pt x="367" y="350"/>
                  </a:lnTo>
                  <a:lnTo>
                    <a:pt x="382" y="350"/>
                  </a:lnTo>
                  <a:lnTo>
                    <a:pt x="398" y="347"/>
                  </a:lnTo>
                  <a:lnTo>
                    <a:pt x="413" y="345"/>
                  </a:lnTo>
                  <a:lnTo>
                    <a:pt x="427" y="342"/>
                  </a:lnTo>
                  <a:lnTo>
                    <a:pt x="438" y="337"/>
                  </a:lnTo>
                  <a:lnTo>
                    <a:pt x="447" y="329"/>
                  </a:lnTo>
                  <a:lnTo>
                    <a:pt x="455" y="319"/>
                  </a:lnTo>
                  <a:lnTo>
                    <a:pt x="462" y="309"/>
                  </a:lnTo>
                  <a:lnTo>
                    <a:pt x="468" y="299"/>
                  </a:lnTo>
                  <a:lnTo>
                    <a:pt x="475" y="290"/>
                  </a:lnTo>
                  <a:lnTo>
                    <a:pt x="483" y="284"/>
                  </a:lnTo>
                  <a:lnTo>
                    <a:pt x="493" y="280"/>
                  </a:lnTo>
                  <a:lnTo>
                    <a:pt x="508" y="275"/>
                  </a:lnTo>
                  <a:lnTo>
                    <a:pt x="513" y="269"/>
                  </a:lnTo>
                  <a:lnTo>
                    <a:pt x="513" y="264"/>
                  </a:lnTo>
                  <a:lnTo>
                    <a:pt x="512" y="262"/>
                  </a:lnTo>
                  <a:lnTo>
                    <a:pt x="380" y="90"/>
                  </a:lnTo>
                  <a:close/>
                </a:path>
              </a:pathLst>
            </a:custGeom>
            <a:solidFill>
              <a:srgbClr val="b2b2b2">
                <a:alpha val="30000"/>
              </a:srgbClr>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249" name=""/>
          <p:cNvSpPr/>
          <p:nvPr/>
        </p:nvSpPr>
        <p:spPr>
          <a:xfrm>
            <a:off x="609480" y="6629400"/>
            <a:ext cx="8534520" cy="228600"/>
          </a:xfrm>
          <a:prstGeom prst="rect">
            <a:avLst/>
          </a:prstGeom>
          <a:solidFill>
            <a:srgbClr val="bbe0e3"/>
          </a:solidFill>
          <a:ln cap="sq"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99"/>
                </a:solidFill>
                <a:latin typeface="Albertus Medium"/>
              </a:rPr>
              <a:t>www.skinandallergy.org</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0" lang="en-US" sz="1000" spc="-1" strike="noStrike">
                <a:solidFill>
                  <a:srgbClr val="333399"/>
                </a:solidFill>
                <a:latin typeface="Albertus Medium"/>
              </a:rPr>
              <a:t>www.panarabderm.org</a:t>
            </a:r>
            <a:endParaRPr b="0" lang="en-US" sz="1000" spc="-1" strike="noStrike">
              <a:solidFill>
                <a:srgbClr val="000000"/>
              </a:solidFill>
              <a:latin typeface="Arial"/>
            </a:endParaRPr>
          </a:p>
        </p:txBody>
      </p:sp>
      <p:sp>
        <p:nvSpPr>
          <p:cNvPr id="250" name=""/>
          <p:cNvSpPr/>
          <p:nvPr/>
        </p:nvSpPr>
        <p:spPr>
          <a:xfrm>
            <a:off x="914400" y="1447920"/>
            <a:ext cx="7129440" cy="764280"/>
          </a:xfrm>
          <a:prstGeom prst="rect">
            <a:avLst/>
          </a:prstGeom>
          <a:noFill/>
          <a:ln w="0">
            <a:noFill/>
          </a:ln>
        </p:spPr>
        <p:style>
          <a:lnRef idx="0"/>
          <a:fillRef idx="0"/>
          <a:effectRef idx="0"/>
          <a:fontRef idx="minor"/>
        </p:style>
        <p:txBody>
          <a:bodyPr lIns="90000" rIns="90000" tIns="46800" bIns="46800" anchor="t">
            <a:spAutoFit/>
          </a:bodyPr>
          <a:p>
            <a:pPr marL="343080" indent="-341640" algn="r" rtl="1">
              <a:lnSpc>
                <a:spcPct val="10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0" lang="ar-SA" sz="2200" spc="-1" strike="noStrike">
                <a:solidFill>
                  <a:srgbClr val="000099"/>
                </a:solidFill>
                <a:latin typeface="Albertus Medium"/>
                <a:cs typeface="Simplified Arabic"/>
              </a:rPr>
              <a:t>الجدول أدناه يوضح  أمثلة لتطبيقات النانو في المجال الطبي ومجالات أخرى:</a:t>
            </a:r>
            <a:endParaRPr b="0" lang="en-US" sz="2200" spc="-1" strike="noStrike">
              <a:solidFill>
                <a:srgbClr val="000000"/>
              </a:solidFill>
              <a:latin typeface="Arial"/>
            </a:endParaRPr>
          </a:p>
        </p:txBody>
      </p:sp>
      <p:graphicFrame>
        <p:nvGraphicFramePr>
          <p:cNvPr id="251" name=""/>
          <p:cNvGraphicFramePr/>
          <p:nvPr/>
        </p:nvGraphicFramePr>
        <p:xfrm>
          <a:off x="1600200" y="2019240"/>
          <a:ext cx="6265440" cy="3974760"/>
        </p:xfrm>
        <a:graphic>
          <a:graphicData uri="http://schemas.openxmlformats.org/drawingml/2006/table">
            <a:tbl>
              <a:tblPr/>
              <a:tblGrid>
                <a:gridCol w="1776600"/>
                <a:gridCol w="4488840"/>
              </a:tblGrid>
              <a:tr h="394920">
                <a:tc gridSpan="2">
                  <a:txBody>
                    <a:bodyPr lIns="90000" rIns="90000" tIns="64440" bIns="46800" anchor="t">
                      <a:noAutofit/>
                    </a:bodyPr>
                    <a:p>
                      <a:pPr algn="ct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ffffff"/>
                          </a:solidFill>
                          <a:latin typeface="Albertus Medium"/>
                        </a:rPr>
                        <a:t>Current Nanotechnology Product</a:t>
                      </a:r>
                      <a:endParaRPr b="0" lang="en-US" sz="2000" spc="-1" strike="noStrike">
                        <a:solidFill>
                          <a:srgbClr val="000000"/>
                        </a:solidFill>
                        <a:latin typeface="Arial"/>
                      </a:endParaRPr>
                    </a:p>
                  </a:txBody>
                  <a:tcPr anchor="t" marL="90000" marR="90000">
                    <a:lnL w="6480">
                      <a:solidFill>
                        <a:srgbClr val="000000"/>
                      </a:solidFill>
                    </a:lnL>
                    <a:lnR w="6480">
                      <a:solidFill>
                        <a:srgbClr val="000000"/>
                      </a:solidFill>
                    </a:lnR>
                    <a:lnT w="6480">
                      <a:solidFill>
                        <a:srgbClr val="000000"/>
                      </a:solidFill>
                    </a:lnT>
                    <a:lnB w="2880">
                      <a:solidFill>
                        <a:srgbClr val="000000"/>
                      </a:solidFill>
                    </a:lnB>
                    <a:solidFill>
                      <a:srgbClr val="0033cc"/>
                    </a:solidFill>
                  </a:tcPr>
                </a:tc>
                <a:tc hMerge="1">
                  <a:txBody>
                    <a:bodyPr lIns="90000" rIns="90000" tIns="45000" bIns="45000" anchor="t">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464840">
                <a:tc>
                  <a:txBody>
                    <a:bodyPr lIns="90000" rIns="90000" tIns="61200" bIns="46800" anchor="t">
                      <a:noAutofit/>
                    </a:bodyPr>
                    <a:p>
                      <a:pPr>
                        <a:lnSpc>
                          <a:spcPct val="93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000099"/>
                          </a:solidFill>
                          <a:latin typeface="Albertus Medium"/>
                        </a:rPr>
                        <a:t>Skin care</a:t>
                      </a:r>
                      <a:endParaRPr b="0" lang="en-US" sz="16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61200" bIns="46800" anchor="t">
                      <a:noAutofit/>
                    </a:bodyPr>
                    <a:p>
                      <a:pPr>
                        <a:lnSpc>
                          <a:spcPct val="93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000099"/>
                          </a:solidFill>
                          <a:latin typeface="Albertus Medium"/>
                        </a:rPr>
                        <a:t>Sunscreens, anti-wrinkle cream, camouflague, antibacterial cleansers, makeup, toothpaste, shampoo, lipsticks, face powder, blush,, eye shadow, perfume, aftershave lotion, appliances, self-cleaning surfaces.</a:t>
                      </a:r>
                      <a:endParaRPr b="0" lang="en-US" sz="16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noFill/>
                  </a:tcPr>
                </a:tc>
              </a:tr>
              <a:tr h="334440">
                <a:tc>
                  <a:txBody>
                    <a:bodyPr lIns="90000" rIns="90000" tIns="61200" bIns="46800" anchor="t">
                      <a:noAutofit/>
                    </a:bodyPr>
                    <a:p>
                      <a:pPr>
                        <a:lnSpc>
                          <a:spcPct val="93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000099"/>
                          </a:solidFill>
                          <a:latin typeface="Albertus Medium"/>
                        </a:rPr>
                        <a:t>Food</a:t>
                      </a:r>
                      <a:endParaRPr b="0" lang="en-US" sz="16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61200" bIns="46800" anchor="t">
                      <a:noAutofit/>
                    </a:bodyPr>
                    <a:p>
                      <a:pPr>
                        <a:lnSpc>
                          <a:spcPct val="93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000099"/>
                          </a:solidFill>
                          <a:latin typeface="Albertus Medium"/>
                        </a:rPr>
                        <a:t>Ice cream, nano-nutraceuticals</a:t>
                      </a:r>
                      <a:endParaRPr b="0" lang="en-US" sz="16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noFill/>
                  </a:tcPr>
                </a:tc>
              </a:tr>
              <a:tr h="334440">
                <a:tc>
                  <a:txBody>
                    <a:bodyPr lIns="90000" rIns="90000" tIns="61200" bIns="46800" anchor="t">
                      <a:noAutofit/>
                    </a:bodyPr>
                    <a:p>
                      <a:pPr>
                        <a:lnSpc>
                          <a:spcPct val="93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000099"/>
                          </a:solidFill>
                          <a:latin typeface="Albertus Medium"/>
                        </a:rPr>
                        <a:t>Household</a:t>
                      </a:r>
                      <a:endParaRPr b="0" lang="en-US" sz="16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61200" bIns="46800" anchor="t">
                      <a:noAutofit/>
                    </a:bodyPr>
                    <a:p>
                      <a:pPr>
                        <a:lnSpc>
                          <a:spcPct val="93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000099"/>
                          </a:solidFill>
                          <a:latin typeface="Albertus Medium"/>
                        </a:rPr>
                        <a:t>Paints, antibacterial cleansers</a:t>
                      </a:r>
                      <a:endParaRPr b="0" lang="en-US" sz="16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noFill/>
                  </a:tcPr>
                </a:tc>
              </a:tr>
              <a:tr h="334440">
                <a:tc>
                  <a:txBody>
                    <a:bodyPr lIns="90000" rIns="90000" tIns="61200" bIns="46800" anchor="t">
                      <a:noAutofit/>
                    </a:bodyPr>
                    <a:p>
                      <a:pPr>
                        <a:lnSpc>
                          <a:spcPct val="93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000099"/>
                          </a:solidFill>
                          <a:latin typeface="Albertus Medium"/>
                        </a:rPr>
                        <a:t>Clothing</a:t>
                      </a:r>
                      <a:endParaRPr b="0" lang="en-US" sz="16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61200" bIns="46800" anchor="t">
                      <a:noAutofit/>
                    </a:bodyPr>
                    <a:p>
                      <a:pPr>
                        <a:lnSpc>
                          <a:spcPct val="93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000099"/>
                          </a:solidFill>
                          <a:latin typeface="Albertus Medium"/>
                        </a:rPr>
                        <a:t>Sporting goods, shoe inserts</a:t>
                      </a:r>
                      <a:endParaRPr b="0" lang="en-US" sz="16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noFill/>
                  </a:tcPr>
                </a:tc>
              </a:tr>
              <a:tr h="334440">
                <a:tc>
                  <a:txBody>
                    <a:bodyPr lIns="90000" rIns="90000" tIns="61200" bIns="46800" anchor="t">
                      <a:noAutofit/>
                    </a:bodyPr>
                    <a:p>
                      <a:pPr>
                        <a:lnSpc>
                          <a:spcPct val="93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000099"/>
                          </a:solidFill>
                          <a:latin typeface="Albertus Medium"/>
                        </a:rPr>
                        <a:t>Automotive</a:t>
                      </a:r>
                      <a:endParaRPr b="0" lang="en-US" sz="16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61200" bIns="46800" anchor="t">
                      <a:noAutofit/>
                    </a:bodyPr>
                    <a:p>
                      <a:pPr>
                        <a:lnSpc>
                          <a:spcPct val="93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000099"/>
                          </a:solidFill>
                          <a:latin typeface="Albertus Medium"/>
                        </a:rPr>
                        <a:t>Tires, engines</a:t>
                      </a:r>
                      <a:endParaRPr b="0" lang="en-US" sz="16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noFill/>
                  </a:tcPr>
                </a:tc>
              </a:tr>
              <a:tr h="334440">
                <a:tc>
                  <a:txBody>
                    <a:bodyPr lIns="90000" rIns="90000" tIns="61200" bIns="46800" anchor="t">
                      <a:noAutofit/>
                    </a:bodyPr>
                    <a:p>
                      <a:pPr>
                        <a:lnSpc>
                          <a:spcPct val="93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000099"/>
                          </a:solidFill>
                          <a:latin typeface="Albertus Medium"/>
                        </a:rPr>
                        <a:t>Military</a:t>
                      </a:r>
                      <a:endParaRPr b="0" lang="en-US" sz="16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61200" bIns="46800" anchor="t">
                      <a:noAutofit/>
                    </a:bodyPr>
                    <a:p>
                      <a:pPr>
                        <a:lnSpc>
                          <a:spcPct val="93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000099"/>
                          </a:solidFill>
                          <a:latin typeface="Albertus Medium"/>
                        </a:rPr>
                        <a:t>Armor, camouflague, radioprotection</a:t>
                      </a:r>
                      <a:endParaRPr b="0" lang="en-US" sz="16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noFill/>
                  </a:tcPr>
                </a:tc>
              </a:tr>
              <a:tr h="560520">
                <a:tc>
                  <a:txBody>
                    <a:bodyPr lIns="90000" rIns="90000" tIns="61200" bIns="46800" anchor="t">
                      <a:noAutofit/>
                    </a:bodyPr>
                    <a:p>
                      <a:pPr>
                        <a:lnSpc>
                          <a:spcPct val="93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000099"/>
                          </a:solidFill>
                          <a:latin typeface="Albertus Medium"/>
                        </a:rPr>
                        <a:t>Electronics</a:t>
                      </a:r>
                      <a:endParaRPr b="0" lang="en-US" sz="16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noFill/>
                  </a:tcPr>
                </a:tc>
                <a:tc>
                  <a:txBody>
                    <a:bodyPr lIns="90000" rIns="90000" tIns="61200" bIns="46800" anchor="t">
                      <a:noAutofit/>
                    </a:bodyPr>
                    <a:p>
                      <a:pPr>
                        <a:lnSpc>
                          <a:spcPct val="93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000099"/>
                          </a:solidFill>
                          <a:latin typeface="Albertus Medium"/>
                        </a:rPr>
                        <a:t>OLED (organic light emitting diode) screens on digital cameras</a:t>
                      </a:r>
                      <a:endParaRPr b="0" lang="en-US" sz="16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noFill/>
                  </a:tcPr>
                </a:tc>
              </a:tr>
            </a:tbl>
          </a:graphicData>
        </a:graphic>
      </p:graphicFrame>
      <p:sp>
        <p:nvSpPr>
          <p:cNvPr id="252" name=""/>
          <p:cNvSpPr/>
          <p:nvPr/>
        </p:nvSpPr>
        <p:spPr>
          <a:xfrm>
            <a:off x="685800" y="380880"/>
            <a:ext cx="7620120" cy="533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ar-SA" sz="3600" spc="-1" strike="noStrike">
                <a:solidFill>
                  <a:srgbClr val="000099"/>
                </a:solidFill>
                <a:latin typeface="Arial"/>
              </a:rPr>
              <a:t> </a:t>
            </a:r>
            <a:r>
              <a:rPr b="1" lang="ar-SA" sz="3600" spc="-1" strike="noStrike">
                <a:solidFill>
                  <a:srgbClr val="333399"/>
                </a:solidFill>
                <a:latin typeface="Albertus Medium"/>
              </a:rPr>
              <a:t>تقنية النانو واستعمالاتها في الجلدية</a:t>
            </a:r>
            <a:endParaRPr b="0" lang="en-US" sz="36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53" name="" descr=""/>
          <p:cNvPicPr/>
          <p:nvPr/>
        </p:nvPicPr>
        <p:blipFill>
          <a:blip r:embed="rId2"/>
          <a:stretch/>
        </p:blipFill>
        <p:spPr>
          <a:xfrm>
            <a:off x="8153280" y="74520"/>
            <a:ext cx="922320" cy="992160"/>
          </a:xfrm>
          <a:prstGeom prst="rect">
            <a:avLst/>
          </a:prstGeom>
          <a:ln w="0">
            <a:noFill/>
          </a:ln>
        </p:spPr>
      </p:pic>
      <p:sp>
        <p:nvSpPr>
          <p:cNvPr id="254" name=""/>
          <p:cNvSpPr/>
          <p:nvPr/>
        </p:nvSpPr>
        <p:spPr>
          <a:xfrm>
            <a:off x="1295280" y="1066680"/>
            <a:ext cx="6193080" cy="1800"/>
          </a:xfrm>
          <a:prstGeom prst="line">
            <a:avLst/>
          </a:prstGeom>
          <a:ln cap="sq" w="12600">
            <a:solidFill>
              <a:srgbClr val="b2b2b2"/>
            </a:solidFill>
            <a:miter/>
          </a:ln>
        </p:spPr>
        <p:style>
          <a:lnRef idx="0"/>
          <a:fillRef idx="0"/>
          <a:effectRef idx="0"/>
          <a:fontRef idx="minor"/>
        </p:style>
        <p:txBody>
          <a:bodyPr lIns="90000" rIns="90000" tIns="-45000" bIns="-45000" anchor="t">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255" name="" descr=""/>
          <p:cNvPicPr/>
          <p:nvPr/>
        </p:nvPicPr>
        <p:blipFill>
          <a:blip r:embed="rId3"/>
          <a:stretch/>
        </p:blipFill>
        <p:spPr>
          <a:xfrm>
            <a:off x="0" y="0"/>
            <a:ext cx="600120" cy="6858000"/>
          </a:xfrm>
          <a:prstGeom prst="rect">
            <a:avLst/>
          </a:prstGeom>
          <a:ln w="0">
            <a:noFill/>
          </a:ln>
        </p:spPr>
      </p:pic>
      <p:sp>
        <p:nvSpPr>
          <p:cNvPr id="256" name=""/>
          <p:cNvSpPr/>
          <p:nvPr/>
        </p:nvSpPr>
        <p:spPr>
          <a:xfrm>
            <a:off x="0" y="457200"/>
            <a:ext cx="914400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600" spc="-1" strike="noStrike">
                <a:solidFill>
                  <a:srgbClr val="333399"/>
                </a:solidFill>
                <a:latin typeface="Albertus Medium"/>
              </a:rPr>
              <a:t>Nanostructures</a:t>
            </a:r>
            <a:endParaRPr b="0" lang="en-US" sz="3600" spc="-1" strike="noStrike">
              <a:solidFill>
                <a:srgbClr val="000000"/>
              </a:solidFill>
              <a:latin typeface="Arial"/>
            </a:endParaRPr>
          </a:p>
        </p:txBody>
      </p:sp>
      <p:grpSp>
        <p:nvGrpSpPr>
          <p:cNvPr id="257" name=""/>
          <p:cNvGrpSpPr/>
          <p:nvPr/>
        </p:nvGrpSpPr>
        <p:grpSpPr>
          <a:xfrm>
            <a:off x="2639880" y="1346040"/>
            <a:ext cx="4521240" cy="3986280"/>
            <a:chOff x="2639880" y="1346040"/>
            <a:chExt cx="4521240" cy="3986280"/>
          </a:xfrm>
        </p:grpSpPr>
        <p:sp>
          <p:nvSpPr>
            <p:cNvPr id="258" name=""/>
            <p:cNvSpPr/>
            <p:nvPr/>
          </p:nvSpPr>
          <p:spPr>
            <a:xfrm>
              <a:off x="2639880" y="2319480"/>
              <a:ext cx="1721160" cy="3012840"/>
            </a:xfrm>
            <a:custGeom>
              <a:avLst/>
              <a:gdLst/>
              <a:ahLst/>
              <a:rect l="l" t="t" r="r" b="b"/>
              <a:pathLst>
                <a:path w="1261" h="2255">
                  <a:moveTo>
                    <a:pt x="1257" y="2027"/>
                  </a:moveTo>
                  <a:lnTo>
                    <a:pt x="1257" y="2015"/>
                  </a:lnTo>
                  <a:lnTo>
                    <a:pt x="1252" y="2000"/>
                  </a:lnTo>
                  <a:lnTo>
                    <a:pt x="1244" y="1985"/>
                  </a:lnTo>
                  <a:lnTo>
                    <a:pt x="1232" y="1970"/>
                  </a:lnTo>
                  <a:lnTo>
                    <a:pt x="1222" y="1956"/>
                  </a:lnTo>
                  <a:lnTo>
                    <a:pt x="1212" y="1945"/>
                  </a:lnTo>
                  <a:lnTo>
                    <a:pt x="1204" y="1933"/>
                  </a:lnTo>
                  <a:lnTo>
                    <a:pt x="1199" y="1921"/>
                  </a:lnTo>
                  <a:lnTo>
                    <a:pt x="1197" y="1910"/>
                  </a:lnTo>
                  <a:lnTo>
                    <a:pt x="1192" y="1893"/>
                  </a:lnTo>
                  <a:lnTo>
                    <a:pt x="1186" y="1876"/>
                  </a:lnTo>
                  <a:lnTo>
                    <a:pt x="1171" y="1860"/>
                  </a:lnTo>
                  <a:lnTo>
                    <a:pt x="1161" y="1851"/>
                  </a:lnTo>
                  <a:lnTo>
                    <a:pt x="1147" y="1838"/>
                  </a:lnTo>
                  <a:lnTo>
                    <a:pt x="1132" y="1823"/>
                  </a:lnTo>
                  <a:lnTo>
                    <a:pt x="1117" y="1806"/>
                  </a:lnTo>
                  <a:lnTo>
                    <a:pt x="1102" y="1788"/>
                  </a:lnTo>
                  <a:lnTo>
                    <a:pt x="1087" y="1770"/>
                  </a:lnTo>
                  <a:lnTo>
                    <a:pt x="1076" y="1750"/>
                  </a:lnTo>
                  <a:lnTo>
                    <a:pt x="1067" y="1731"/>
                  </a:lnTo>
                  <a:lnTo>
                    <a:pt x="1052" y="1703"/>
                  </a:lnTo>
                  <a:lnTo>
                    <a:pt x="1037" y="1681"/>
                  </a:lnTo>
                  <a:lnTo>
                    <a:pt x="1026" y="1665"/>
                  </a:lnTo>
                  <a:lnTo>
                    <a:pt x="1019" y="1646"/>
                  </a:lnTo>
                  <a:lnTo>
                    <a:pt x="1016" y="1633"/>
                  </a:lnTo>
                  <a:lnTo>
                    <a:pt x="1009" y="1613"/>
                  </a:lnTo>
                  <a:lnTo>
                    <a:pt x="999" y="1591"/>
                  </a:lnTo>
                  <a:lnTo>
                    <a:pt x="989" y="1568"/>
                  </a:lnTo>
                  <a:lnTo>
                    <a:pt x="979" y="1545"/>
                  </a:lnTo>
                  <a:lnTo>
                    <a:pt x="969" y="1525"/>
                  </a:lnTo>
                  <a:lnTo>
                    <a:pt x="959" y="1508"/>
                  </a:lnTo>
                  <a:lnTo>
                    <a:pt x="952" y="1499"/>
                  </a:lnTo>
                  <a:lnTo>
                    <a:pt x="942" y="1486"/>
                  </a:lnTo>
                  <a:lnTo>
                    <a:pt x="934" y="1473"/>
                  </a:lnTo>
                  <a:lnTo>
                    <a:pt x="922" y="1458"/>
                  </a:lnTo>
                  <a:lnTo>
                    <a:pt x="911" y="1443"/>
                  </a:lnTo>
                  <a:lnTo>
                    <a:pt x="902" y="1434"/>
                  </a:lnTo>
                  <a:lnTo>
                    <a:pt x="891" y="1426"/>
                  </a:lnTo>
                  <a:lnTo>
                    <a:pt x="879" y="1419"/>
                  </a:lnTo>
                  <a:lnTo>
                    <a:pt x="867" y="1411"/>
                  </a:lnTo>
                  <a:lnTo>
                    <a:pt x="854" y="1404"/>
                  </a:lnTo>
                  <a:lnTo>
                    <a:pt x="842" y="1399"/>
                  </a:lnTo>
                  <a:lnTo>
                    <a:pt x="831" y="1396"/>
                  </a:lnTo>
                  <a:lnTo>
                    <a:pt x="820" y="1394"/>
                  </a:lnTo>
                  <a:lnTo>
                    <a:pt x="812" y="1393"/>
                  </a:lnTo>
                  <a:lnTo>
                    <a:pt x="805" y="1389"/>
                  </a:lnTo>
                  <a:lnTo>
                    <a:pt x="800" y="1384"/>
                  </a:lnTo>
                  <a:lnTo>
                    <a:pt x="794" y="1376"/>
                  </a:lnTo>
                  <a:lnTo>
                    <a:pt x="789" y="1368"/>
                  </a:lnTo>
                  <a:lnTo>
                    <a:pt x="782" y="1354"/>
                  </a:lnTo>
                  <a:lnTo>
                    <a:pt x="774" y="1341"/>
                  </a:lnTo>
                  <a:lnTo>
                    <a:pt x="762" y="1324"/>
                  </a:lnTo>
                  <a:lnTo>
                    <a:pt x="750" y="1306"/>
                  </a:lnTo>
                  <a:lnTo>
                    <a:pt x="740" y="1288"/>
                  </a:lnTo>
                  <a:lnTo>
                    <a:pt x="732" y="1269"/>
                  </a:lnTo>
                  <a:lnTo>
                    <a:pt x="724" y="1253"/>
                  </a:lnTo>
                  <a:lnTo>
                    <a:pt x="717" y="1234"/>
                  </a:lnTo>
                  <a:lnTo>
                    <a:pt x="712" y="1219"/>
                  </a:lnTo>
                  <a:lnTo>
                    <a:pt x="709" y="1204"/>
                  </a:lnTo>
                  <a:lnTo>
                    <a:pt x="705" y="1191"/>
                  </a:lnTo>
                  <a:lnTo>
                    <a:pt x="700" y="1166"/>
                  </a:lnTo>
                  <a:lnTo>
                    <a:pt x="692" y="1143"/>
                  </a:lnTo>
                  <a:lnTo>
                    <a:pt x="685" y="1126"/>
                  </a:lnTo>
                  <a:lnTo>
                    <a:pt x="682" y="1119"/>
                  </a:lnTo>
                  <a:lnTo>
                    <a:pt x="689" y="1108"/>
                  </a:lnTo>
                  <a:lnTo>
                    <a:pt x="700" y="1078"/>
                  </a:lnTo>
                  <a:lnTo>
                    <a:pt x="707" y="1038"/>
                  </a:lnTo>
                  <a:lnTo>
                    <a:pt x="697" y="996"/>
                  </a:lnTo>
                  <a:lnTo>
                    <a:pt x="680" y="961"/>
                  </a:lnTo>
                  <a:lnTo>
                    <a:pt x="670" y="932"/>
                  </a:lnTo>
                  <a:lnTo>
                    <a:pt x="662" y="904"/>
                  </a:lnTo>
                  <a:lnTo>
                    <a:pt x="649" y="872"/>
                  </a:lnTo>
                  <a:lnTo>
                    <a:pt x="640" y="856"/>
                  </a:lnTo>
                  <a:lnTo>
                    <a:pt x="635" y="839"/>
                  </a:lnTo>
                  <a:lnTo>
                    <a:pt x="630" y="826"/>
                  </a:lnTo>
                  <a:lnTo>
                    <a:pt x="625" y="814"/>
                  </a:lnTo>
                  <a:lnTo>
                    <a:pt x="620" y="802"/>
                  </a:lnTo>
                  <a:lnTo>
                    <a:pt x="614" y="792"/>
                  </a:lnTo>
                  <a:lnTo>
                    <a:pt x="607" y="784"/>
                  </a:lnTo>
                  <a:lnTo>
                    <a:pt x="597" y="777"/>
                  </a:lnTo>
                  <a:lnTo>
                    <a:pt x="587" y="771"/>
                  </a:lnTo>
                  <a:lnTo>
                    <a:pt x="575" y="762"/>
                  </a:lnTo>
                  <a:lnTo>
                    <a:pt x="565" y="754"/>
                  </a:lnTo>
                  <a:lnTo>
                    <a:pt x="554" y="744"/>
                  </a:lnTo>
                  <a:lnTo>
                    <a:pt x="542" y="736"/>
                  </a:lnTo>
                  <a:lnTo>
                    <a:pt x="529" y="729"/>
                  </a:lnTo>
                  <a:lnTo>
                    <a:pt x="515" y="721"/>
                  </a:lnTo>
                  <a:lnTo>
                    <a:pt x="502" y="716"/>
                  </a:lnTo>
                  <a:lnTo>
                    <a:pt x="480" y="702"/>
                  </a:lnTo>
                  <a:lnTo>
                    <a:pt x="470" y="686"/>
                  </a:lnTo>
                  <a:lnTo>
                    <a:pt x="464" y="667"/>
                  </a:lnTo>
                  <a:lnTo>
                    <a:pt x="454" y="649"/>
                  </a:lnTo>
                  <a:lnTo>
                    <a:pt x="444" y="634"/>
                  </a:lnTo>
                  <a:lnTo>
                    <a:pt x="437" y="621"/>
                  </a:lnTo>
                  <a:lnTo>
                    <a:pt x="435" y="611"/>
                  </a:lnTo>
                  <a:lnTo>
                    <a:pt x="435" y="607"/>
                  </a:lnTo>
                  <a:lnTo>
                    <a:pt x="437" y="607"/>
                  </a:lnTo>
                  <a:lnTo>
                    <a:pt x="442" y="606"/>
                  </a:lnTo>
                  <a:lnTo>
                    <a:pt x="449" y="602"/>
                  </a:lnTo>
                  <a:lnTo>
                    <a:pt x="455" y="596"/>
                  </a:lnTo>
                  <a:lnTo>
                    <a:pt x="459" y="589"/>
                  </a:lnTo>
                  <a:lnTo>
                    <a:pt x="459" y="577"/>
                  </a:lnTo>
                  <a:lnTo>
                    <a:pt x="454" y="564"/>
                  </a:lnTo>
                  <a:lnTo>
                    <a:pt x="440" y="546"/>
                  </a:lnTo>
                  <a:lnTo>
                    <a:pt x="434" y="539"/>
                  </a:lnTo>
                  <a:lnTo>
                    <a:pt x="429" y="532"/>
                  </a:lnTo>
                  <a:lnTo>
                    <a:pt x="424" y="529"/>
                  </a:lnTo>
                  <a:lnTo>
                    <a:pt x="420" y="526"/>
                  </a:lnTo>
                  <a:lnTo>
                    <a:pt x="419" y="527"/>
                  </a:lnTo>
                  <a:lnTo>
                    <a:pt x="415" y="526"/>
                  </a:lnTo>
                  <a:lnTo>
                    <a:pt x="415" y="522"/>
                  </a:lnTo>
                  <a:lnTo>
                    <a:pt x="420" y="526"/>
                  </a:lnTo>
                  <a:lnTo>
                    <a:pt x="420" y="524"/>
                  </a:lnTo>
                  <a:lnTo>
                    <a:pt x="419" y="521"/>
                  </a:lnTo>
                  <a:lnTo>
                    <a:pt x="419" y="517"/>
                  </a:lnTo>
                  <a:lnTo>
                    <a:pt x="417" y="512"/>
                  </a:lnTo>
                  <a:lnTo>
                    <a:pt x="409" y="490"/>
                  </a:lnTo>
                  <a:lnTo>
                    <a:pt x="405" y="477"/>
                  </a:lnTo>
                  <a:lnTo>
                    <a:pt x="399" y="467"/>
                  </a:lnTo>
                  <a:lnTo>
                    <a:pt x="384" y="455"/>
                  </a:lnTo>
                  <a:lnTo>
                    <a:pt x="372" y="440"/>
                  </a:lnTo>
                  <a:lnTo>
                    <a:pt x="374" y="425"/>
                  </a:lnTo>
                  <a:lnTo>
                    <a:pt x="375" y="412"/>
                  </a:lnTo>
                  <a:lnTo>
                    <a:pt x="364" y="399"/>
                  </a:lnTo>
                  <a:lnTo>
                    <a:pt x="345" y="387"/>
                  </a:lnTo>
                  <a:lnTo>
                    <a:pt x="332" y="372"/>
                  </a:lnTo>
                  <a:lnTo>
                    <a:pt x="325" y="355"/>
                  </a:lnTo>
                  <a:lnTo>
                    <a:pt x="322" y="337"/>
                  </a:lnTo>
                  <a:lnTo>
                    <a:pt x="319" y="317"/>
                  </a:lnTo>
                  <a:lnTo>
                    <a:pt x="309" y="290"/>
                  </a:lnTo>
                  <a:lnTo>
                    <a:pt x="294" y="264"/>
                  </a:lnTo>
                  <a:lnTo>
                    <a:pt x="273" y="237"/>
                  </a:lnTo>
                  <a:lnTo>
                    <a:pt x="260" y="215"/>
                  </a:lnTo>
                  <a:lnTo>
                    <a:pt x="257" y="197"/>
                  </a:lnTo>
                  <a:lnTo>
                    <a:pt x="255" y="184"/>
                  </a:lnTo>
                  <a:lnTo>
                    <a:pt x="245" y="175"/>
                  </a:lnTo>
                  <a:lnTo>
                    <a:pt x="233" y="167"/>
                  </a:lnTo>
                  <a:lnTo>
                    <a:pt x="228" y="154"/>
                  </a:lnTo>
                  <a:lnTo>
                    <a:pt x="222" y="140"/>
                  </a:lnTo>
                  <a:lnTo>
                    <a:pt x="207" y="124"/>
                  </a:lnTo>
                  <a:lnTo>
                    <a:pt x="188" y="100"/>
                  </a:lnTo>
                  <a:lnTo>
                    <a:pt x="175" y="74"/>
                  </a:lnTo>
                  <a:lnTo>
                    <a:pt x="168" y="52"/>
                  </a:lnTo>
                  <a:lnTo>
                    <a:pt x="165" y="42"/>
                  </a:lnTo>
                  <a:lnTo>
                    <a:pt x="160" y="42"/>
                  </a:lnTo>
                  <a:lnTo>
                    <a:pt x="148" y="42"/>
                  </a:lnTo>
                  <a:lnTo>
                    <a:pt x="133" y="42"/>
                  </a:lnTo>
                  <a:lnTo>
                    <a:pt x="122" y="42"/>
                  </a:lnTo>
                  <a:lnTo>
                    <a:pt x="110" y="42"/>
                  </a:lnTo>
                  <a:lnTo>
                    <a:pt x="100" y="44"/>
                  </a:lnTo>
                  <a:lnTo>
                    <a:pt x="92" y="47"/>
                  </a:lnTo>
                  <a:lnTo>
                    <a:pt x="88" y="47"/>
                  </a:lnTo>
                  <a:lnTo>
                    <a:pt x="90" y="44"/>
                  </a:lnTo>
                  <a:lnTo>
                    <a:pt x="93" y="34"/>
                  </a:lnTo>
                  <a:lnTo>
                    <a:pt x="98" y="20"/>
                  </a:lnTo>
                  <a:lnTo>
                    <a:pt x="103" y="8"/>
                  </a:lnTo>
                  <a:lnTo>
                    <a:pt x="103" y="8"/>
                  </a:lnTo>
                  <a:lnTo>
                    <a:pt x="103" y="8"/>
                  </a:lnTo>
                  <a:lnTo>
                    <a:pt x="103" y="8"/>
                  </a:lnTo>
                  <a:lnTo>
                    <a:pt x="103" y="8"/>
                  </a:lnTo>
                  <a:lnTo>
                    <a:pt x="67" y="0"/>
                  </a:lnTo>
                  <a:lnTo>
                    <a:pt x="67" y="5"/>
                  </a:lnTo>
                  <a:lnTo>
                    <a:pt x="65" y="19"/>
                  </a:lnTo>
                  <a:lnTo>
                    <a:pt x="62" y="34"/>
                  </a:lnTo>
                  <a:lnTo>
                    <a:pt x="57" y="47"/>
                  </a:lnTo>
                  <a:lnTo>
                    <a:pt x="50" y="57"/>
                  </a:lnTo>
                  <a:lnTo>
                    <a:pt x="45" y="65"/>
                  </a:lnTo>
                  <a:lnTo>
                    <a:pt x="40" y="79"/>
                  </a:lnTo>
                  <a:lnTo>
                    <a:pt x="38" y="95"/>
                  </a:lnTo>
                  <a:lnTo>
                    <a:pt x="35" y="119"/>
                  </a:lnTo>
                  <a:lnTo>
                    <a:pt x="28" y="145"/>
                  </a:lnTo>
                  <a:lnTo>
                    <a:pt x="20" y="169"/>
                  </a:lnTo>
                  <a:lnTo>
                    <a:pt x="15" y="185"/>
                  </a:lnTo>
                  <a:lnTo>
                    <a:pt x="10" y="197"/>
                  </a:lnTo>
                  <a:lnTo>
                    <a:pt x="5" y="209"/>
                  </a:lnTo>
                  <a:lnTo>
                    <a:pt x="2" y="220"/>
                  </a:lnTo>
                  <a:lnTo>
                    <a:pt x="0" y="224"/>
                  </a:lnTo>
                  <a:lnTo>
                    <a:pt x="3" y="224"/>
                  </a:lnTo>
                  <a:lnTo>
                    <a:pt x="12" y="220"/>
                  </a:lnTo>
                  <a:lnTo>
                    <a:pt x="23" y="219"/>
                  </a:lnTo>
                  <a:lnTo>
                    <a:pt x="33" y="219"/>
                  </a:lnTo>
                  <a:lnTo>
                    <a:pt x="47" y="219"/>
                  </a:lnTo>
                  <a:lnTo>
                    <a:pt x="60" y="219"/>
                  </a:lnTo>
                  <a:lnTo>
                    <a:pt x="72" y="219"/>
                  </a:lnTo>
                  <a:lnTo>
                    <a:pt x="77" y="219"/>
                  </a:lnTo>
                  <a:lnTo>
                    <a:pt x="80" y="229"/>
                  </a:lnTo>
                  <a:lnTo>
                    <a:pt x="87" y="250"/>
                  </a:lnTo>
                  <a:lnTo>
                    <a:pt x="100" y="277"/>
                  </a:lnTo>
                  <a:lnTo>
                    <a:pt x="118" y="299"/>
                  </a:lnTo>
                  <a:lnTo>
                    <a:pt x="133" y="315"/>
                  </a:lnTo>
                  <a:lnTo>
                    <a:pt x="140" y="330"/>
                  </a:lnTo>
                  <a:lnTo>
                    <a:pt x="145" y="342"/>
                  </a:lnTo>
                  <a:lnTo>
                    <a:pt x="157" y="352"/>
                  </a:lnTo>
                  <a:lnTo>
                    <a:pt x="167" y="360"/>
                  </a:lnTo>
                  <a:lnTo>
                    <a:pt x="168" y="374"/>
                  </a:lnTo>
                  <a:lnTo>
                    <a:pt x="172" y="390"/>
                  </a:lnTo>
                  <a:lnTo>
                    <a:pt x="185" y="414"/>
                  </a:lnTo>
                  <a:lnTo>
                    <a:pt x="205" y="440"/>
                  </a:lnTo>
                  <a:lnTo>
                    <a:pt x="220" y="467"/>
                  </a:lnTo>
                  <a:lnTo>
                    <a:pt x="230" y="492"/>
                  </a:lnTo>
                  <a:lnTo>
                    <a:pt x="233" y="512"/>
                  </a:lnTo>
                  <a:lnTo>
                    <a:pt x="237" y="531"/>
                  </a:lnTo>
                  <a:lnTo>
                    <a:pt x="243" y="547"/>
                  </a:lnTo>
                  <a:lnTo>
                    <a:pt x="257" y="562"/>
                  </a:lnTo>
                  <a:lnTo>
                    <a:pt x="275" y="574"/>
                  </a:lnTo>
                  <a:lnTo>
                    <a:pt x="287" y="587"/>
                  </a:lnTo>
                  <a:lnTo>
                    <a:pt x="285" y="601"/>
                  </a:lnTo>
                  <a:lnTo>
                    <a:pt x="284" y="617"/>
                  </a:lnTo>
                  <a:lnTo>
                    <a:pt x="295" y="632"/>
                  </a:lnTo>
                  <a:lnTo>
                    <a:pt x="310" y="642"/>
                  </a:lnTo>
                  <a:lnTo>
                    <a:pt x="317" y="652"/>
                  </a:lnTo>
                  <a:lnTo>
                    <a:pt x="320" y="666"/>
                  </a:lnTo>
                  <a:lnTo>
                    <a:pt x="329" y="687"/>
                  </a:lnTo>
                  <a:lnTo>
                    <a:pt x="330" y="692"/>
                  </a:lnTo>
                  <a:lnTo>
                    <a:pt x="330" y="696"/>
                  </a:lnTo>
                  <a:lnTo>
                    <a:pt x="332" y="697"/>
                  </a:lnTo>
                  <a:lnTo>
                    <a:pt x="332" y="699"/>
                  </a:lnTo>
                  <a:lnTo>
                    <a:pt x="335" y="702"/>
                  </a:lnTo>
                  <a:lnTo>
                    <a:pt x="340" y="707"/>
                  </a:lnTo>
                  <a:lnTo>
                    <a:pt x="345" y="712"/>
                  </a:lnTo>
                  <a:lnTo>
                    <a:pt x="352" y="721"/>
                  </a:lnTo>
                  <a:lnTo>
                    <a:pt x="365" y="737"/>
                  </a:lnTo>
                  <a:lnTo>
                    <a:pt x="370" y="752"/>
                  </a:lnTo>
                  <a:lnTo>
                    <a:pt x="370" y="762"/>
                  </a:lnTo>
                  <a:lnTo>
                    <a:pt x="367" y="771"/>
                  </a:lnTo>
                  <a:lnTo>
                    <a:pt x="360" y="776"/>
                  </a:lnTo>
                  <a:lnTo>
                    <a:pt x="354" y="781"/>
                  </a:lnTo>
                  <a:lnTo>
                    <a:pt x="349" y="782"/>
                  </a:lnTo>
                  <a:lnTo>
                    <a:pt x="347" y="782"/>
                  </a:lnTo>
                  <a:lnTo>
                    <a:pt x="347" y="786"/>
                  </a:lnTo>
                  <a:lnTo>
                    <a:pt x="350" y="794"/>
                  </a:lnTo>
                  <a:lnTo>
                    <a:pt x="355" y="807"/>
                  </a:lnTo>
                  <a:lnTo>
                    <a:pt x="367" y="824"/>
                  </a:lnTo>
                  <a:lnTo>
                    <a:pt x="377" y="842"/>
                  </a:lnTo>
                  <a:lnTo>
                    <a:pt x="384" y="862"/>
                  </a:lnTo>
                  <a:lnTo>
                    <a:pt x="392" y="877"/>
                  </a:lnTo>
                  <a:lnTo>
                    <a:pt x="414" y="891"/>
                  </a:lnTo>
                  <a:lnTo>
                    <a:pt x="427" y="897"/>
                  </a:lnTo>
                  <a:lnTo>
                    <a:pt x="440" y="904"/>
                  </a:lnTo>
                  <a:lnTo>
                    <a:pt x="454" y="912"/>
                  </a:lnTo>
                  <a:lnTo>
                    <a:pt x="465" y="921"/>
                  </a:lnTo>
                  <a:lnTo>
                    <a:pt x="477" y="929"/>
                  </a:lnTo>
                  <a:lnTo>
                    <a:pt x="487" y="937"/>
                  </a:lnTo>
                  <a:lnTo>
                    <a:pt x="499" y="946"/>
                  </a:lnTo>
                  <a:lnTo>
                    <a:pt x="509" y="952"/>
                  </a:lnTo>
                  <a:lnTo>
                    <a:pt x="519" y="961"/>
                  </a:lnTo>
                  <a:lnTo>
                    <a:pt x="525" y="969"/>
                  </a:lnTo>
                  <a:lnTo>
                    <a:pt x="532" y="979"/>
                  </a:lnTo>
                  <a:lnTo>
                    <a:pt x="537" y="989"/>
                  </a:lnTo>
                  <a:lnTo>
                    <a:pt x="542" y="1002"/>
                  </a:lnTo>
                  <a:lnTo>
                    <a:pt x="547" y="1016"/>
                  </a:lnTo>
                  <a:lnTo>
                    <a:pt x="552" y="1031"/>
                  </a:lnTo>
                  <a:lnTo>
                    <a:pt x="560" y="1048"/>
                  </a:lnTo>
                  <a:lnTo>
                    <a:pt x="574" y="1079"/>
                  </a:lnTo>
                  <a:lnTo>
                    <a:pt x="584" y="1108"/>
                  </a:lnTo>
                  <a:lnTo>
                    <a:pt x="592" y="1136"/>
                  </a:lnTo>
                  <a:lnTo>
                    <a:pt x="609" y="1171"/>
                  </a:lnTo>
                  <a:lnTo>
                    <a:pt x="619" y="1213"/>
                  </a:lnTo>
                  <a:lnTo>
                    <a:pt x="612" y="1253"/>
                  </a:lnTo>
                  <a:lnTo>
                    <a:pt x="600" y="1283"/>
                  </a:lnTo>
                  <a:lnTo>
                    <a:pt x="594" y="1294"/>
                  </a:lnTo>
                  <a:lnTo>
                    <a:pt x="597" y="1301"/>
                  </a:lnTo>
                  <a:lnTo>
                    <a:pt x="604" y="1318"/>
                  </a:lnTo>
                  <a:lnTo>
                    <a:pt x="612" y="1341"/>
                  </a:lnTo>
                  <a:lnTo>
                    <a:pt x="617" y="1366"/>
                  </a:lnTo>
                  <a:lnTo>
                    <a:pt x="620" y="1379"/>
                  </a:lnTo>
                  <a:lnTo>
                    <a:pt x="624" y="1394"/>
                  </a:lnTo>
                  <a:lnTo>
                    <a:pt x="629" y="1409"/>
                  </a:lnTo>
                  <a:lnTo>
                    <a:pt x="635" y="1428"/>
                  </a:lnTo>
                  <a:lnTo>
                    <a:pt x="644" y="1444"/>
                  </a:lnTo>
                  <a:lnTo>
                    <a:pt x="654" y="1463"/>
                  </a:lnTo>
                  <a:lnTo>
                    <a:pt x="664" y="1481"/>
                  </a:lnTo>
                  <a:lnTo>
                    <a:pt x="675" y="1499"/>
                  </a:lnTo>
                  <a:lnTo>
                    <a:pt x="687" y="1516"/>
                  </a:lnTo>
                  <a:lnTo>
                    <a:pt x="695" y="1531"/>
                  </a:lnTo>
                  <a:lnTo>
                    <a:pt x="702" y="1543"/>
                  </a:lnTo>
                  <a:lnTo>
                    <a:pt x="707" y="1553"/>
                  </a:lnTo>
                  <a:lnTo>
                    <a:pt x="712" y="1561"/>
                  </a:lnTo>
                  <a:lnTo>
                    <a:pt x="719" y="1566"/>
                  </a:lnTo>
                  <a:lnTo>
                    <a:pt x="724" y="1570"/>
                  </a:lnTo>
                  <a:lnTo>
                    <a:pt x="732" y="1571"/>
                  </a:lnTo>
                  <a:lnTo>
                    <a:pt x="742" y="1573"/>
                  </a:lnTo>
                  <a:lnTo>
                    <a:pt x="754" y="1576"/>
                  </a:lnTo>
                  <a:lnTo>
                    <a:pt x="765" y="1581"/>
                  </a:lnTo>
                  <a:lnTo>
                    <a:pt x="779" y="1588"/>
                  </a:lnTo>
                  <a:lnTo>
                    <a:pt x="792" y="1595"/>
                  </a:lnTo>
                  <a:lnTo>
                    <a:pt x="804" y="1603"/>
                  </a:lnTo>
                  <a:lnTo>
                    <a:pt x="814" y="1611"/>
                  </a:lnTo>
                  <a:lnTo>
                    <a:pt x="822" y="1618"/>
                  </a:lnTo>
                  <a:lnTo>
                    <a:pt x="834" y="1633"/>
                  </a:lnTo>
                  <a:lnTo>
                    <a:pt x="846" y="1648"/>
                  </a:lnTo>
                  <a:lnTo>
                    <a:pt x="856" y="1663"/>
                  </a:lnTo>
                  <a:lnTo>
                    <a:pt x="866" y="1675"/>
                  </a:lnTo>
                  <a:lnTo>
                    <a:pt x="872" y="1685"/>
                  </a:lnTo>
                  <a:lnTo>
                    <a:pt x="881" y="1700"/>
                  </a:lnTo>
                  <a:lnTo>
                    <a:pt x="891" y="1721"/>
                  </a:lnTo>
                  <a:lnTo>
                    <a:pt x="902" y="1743"/>
                  </a:lnTo>
                  <a:lnTo>
                    <a:pt x="912" y="1768"/>
                  </a:lnTo>
                  <a:lnTo>
                    <a:pt x="921" y="1790"/>
                  </a:lnTo>
                  <a:lnTo>
                    <a:pt x="927" y="1810"/>
                  </a:lnTo>
                  <a:lnTo>
                    <a:pt x="931" y="1823"/>
                  </a:lnTo>
                  <a:lnTo>
                    <a:pt x="937" y="1841"/>
                  </a:lnTo>
                  <a:lnTo>
                    <a:pt x="951" y="1858"/>
                  </a:lnTo>
                  <a:lnTo>
                    <a:pt x="964" y="1878"/>
                  </a:lnTo>
                  <a:lnTo>
                    <a:pt x="979" y="1908"/>
                  </a:lnTo>
                  <a:lnTo>
                    <a:pt x="987" y="1926"/>
                  </a:lnTo>
                  <a:lnTo>
                    <a:pt x="999" y="1945"/>
                  </a:lnTo>
                  <a:lnTo>
                    <a:pt x="1014" y="1965"/>
                  </a:lnTo>
                  <a:lnTo>
                    <a:pt x="1029" y="1981"/>
                  </a:lnTo>
                  <a:lnTo>
                    <a:pt x="1044" y="2000"/>
                  </a:lnTo>
                  <a:lnTo>
                    <a:pt x="1059" y="2015"/>
                  </a:lnTo>
                  <a:lnTo>
                    <a:pt x="1072" y="2027"/>
                  </a:lnTo>
                  <a:lnTo>
                    <a:pt x="1084" y="2037"/>
                  </a:lnTo>
                  <a:lnTo>
                    <a:pt x="1097" y="2052"/>
                  </a:lnTo>
                  <a:lnTo>
                    <a:pt x="1106" y="2068"/>
                  </a:lnTo>
                  <a:lnTo>
                    <a:pt x="1109" y="2085"/>
                  </a:lnTo>
                  <a:lnTo>
                    <a:pt x="1112" y="2098"/>
                  </a:lnTo>
                  <a:lnTo>
                    <a:pt x="1117" y="2108"/>
                  </a:lnTo>
                  <a:lnTo>
                    <a:pt x="1126" y="2120"/>
                  </a:lnTo>
                  <a:lnTo>
                    <a:pt x="1136" y="2132"/>
                  </a:lnTo>
                  <a:lnTo>
                    <a:pt x="1146" y="2145"/>
                  </a:lnTo>
                  <a:lnTo>
                    <a:pt x="1156" y="2160"/>
                  </a:lnTo>
                  <a:lnTo>
                    <a:pt x="1164" y="2175"/>
                  </a:lnTo>
                  <a:lnTo>
                    <a:pt x="1169" y="2190"/>
                  </a:lnTo>
                  <a:lnTo>
                    <a:pt x="1169" y="2202"/>
                  </a:lnTo>
                  <a:lnTo>
                    <a:pt x="1169" y="2217"/>
                  </a:lnTo>
                  <a:lnTo>
                    <a:pt x="1172" y="2233"/>
                  </a:lnTo>
                  <a:lnTo>
                    <a:pt x="1177" y="2248"/>
                  </a:lnTo>
                  <a:lnTo>
                    <a:pt x="1179" y="2255"/>
                  </a:lnTo>
                  <a:lnTo>
                    <a:pt x="1216" y="2227"/>
                  </a:lnTo>
                  <a:lnTo>
                    <a:pt x="1219" y="2222"/>
                  </a:lnTo>
                  <a:lnTo>
                    <a:pt x="1226" y="2208"/>
                  </a:lnTo>
                  <a:lnTo>
                    <a:pt x="1232" y="2192"/>
                  </a:lnTo>
                  <a:lnTo>
                    <a:pt x="1236" y="2178"/>
                  </a:lnTo>
                  <a:lnTo>
                    <a:pt x="1236" y="2165"/>
                  </a:lnTo>
                  <a:lnTo>
                    <a:pt x="1234" y="2145"/>
                  </a:lnTo>
                  <a:lnTo>
                    <a:pt x="1236" y="2123"/>
                  </a:lnTo>
                  <a:lnTo>
                    <a:pt x="1241" y="2103"/>
                  </a:lnTo>
                  <a:lnTo>
                    <a:pt x="1241" y="2087"/>
                  </a:lnTo>
                  <a:lnTo>
                    <a:pt x="1236" y="2077"/>
                  </a:lnTo>
                  <a:lnTo>
                    <a:pt x="1234" y="2067"/>
                  </a:lnTo>
                  <a:lnTo>
                    <a:pt x="1241" y="2060"/>
                  </a:lnTo>
                  <a:lnTo>
                    <a:pt x="1246" y="2057"/>
                  </a:lnTo>
                  <a:lnTo>
                    <a:pt x="1251" y="2057"/>
                  </a:lnTo>
                  <a:lnTo>
                    <a:pt x="1256" y="2058"/>
                  </a:lnTo>
                  <a:lnTo>
                    <a:pt x="1261" y="2062"/>
                  </a:lnTo>
                  <a:lnTo>
                    <a:pt x="1259" y="2052"/>
                  </a:lnTo>
                  <a:lnTo>
                    <a:pt x="1257" y="2043"/>
                  </a:lnTo>
                  <a:lnTo>
                    <a:pt x="1256" y="2033"/>
                  </a:lnTo>
                  <a:lnTo>
                    <a:pt x="1257" y="2027"/>
                  </a:lnTo>
                  <a:close/>
                </a:path>
              </a:pathLst>
            </a:custGeom>
            <a:solidFill>
              <a:srgbClr val="ffffff">
                <a:alpha val="10000"/>
              </a:srgbClr>
            </a:solidFill>
            <a:ln cap="sq" w="9360">
              <a:solidFill>
                <a:srgbClr val="ffffff"/>
              </a:solidFill>
              <a:round/>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9" name=""/>
            <p:cNvSpPr/>
            <p:nvPr/>
          </p:nvSpPr>
          <p:spPr>
            <a:xfrm>
              <a:off x="3086280" y="3249720"/>
              <a:ext cx="4680" cy="4680"/>
            </a:xfrm>
            <a:custGeom>
              <a:avLst/>
              <a:gdLst/>
              <a:ahLst/>
              <a:rect l="l" t="t" r="r" b="b"/>
              <a:pathLst>
                <a:path w="5" h="5">
                  <a:moveTo>
                    <a:pt x="5" y="3"/>
                  </a:moveTo>
                  <a:lnTo>
                    <a:pt x="0" y="0"/>
                  </a:lnTo>
                  <a:lnTo>
                    <a:pt x="2" y="3"/>
                  </a:lnTo>
                  <a:lnTo>
                    <a:pt x="3" y="5"/>
                  </a:lnTo>
                  <a:lnTo>
                    <a:pt x="5" y="3"/>
                  </a:lnTo>
                  <a:lnTo>
                    <a:pt x="5" y="3"/>
                  </a:lnTo>
                  <a:close/>
                </a:path>
              </a:pathLst>
            </a:custGeom>
            <a:solidFill>
              <a:srgbClr val="000000"/>
            </a:solidFill>
            <a:ln w="0">
              <a:noFill/>
            </a:ln>
          </p:spPr>
          <p:style>
            <a:lnRef idx="0"/>
            <a:fillRef idx="0"/>
            <a:effectRef idx="0"/>
            <a:fontRef idx="minor"/>
          </p:style>
          <p:txBody>
            <a:bodyPr wrap="none" lIns="90000" rIns="90000" tIns="-42120" bIns="-421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0" name=""/>
            <p:cNvSpPr/>
            <p:nvPr/>
          </p:nvSpPr>
          <p:spPr>
            <a:xfrm>
              <a:off x="4379760" y="4205160"/>
              <a:ext cx="2567160" cy="993960"/>
            </a:xfrm>
            <a:custGeom>
              <a:avLst/>
              <a:gdLst/>
              <a:ahLst/>
              <a:rect l="l" t="t" r="r" b="b"/>
              <a:pathLst>
                <a:path w="1881" h="744">
                  <a:moveTo>
                    <a:pt x="1298" y="222"/>
                  </a:moveTo>
                  <a:lnTo>
                    <a:pt x="1283" y="225"/>
                  </a:lnTo>
                  <a:lnTo>
                    <a:pt x="1263" y="230"/>
                  </a:lnTo>
                  <a:lnTo>
                    <a:pt x="1239" y="235"/>
                  </a:lnTo>
                  <a:lnTo>
                    <a:pt x="1214" y="242"/>
                  </a:lnTo>
                  <a:lnTo>
                    <a:pt x="1186" y="249"/>
                  </a:lnTo>
                  <a:lnTo>
                    <a:pt x="1157" y="255"/>
                  </a:lnTo>
                  <a:lnTo>
                    <a:pt x="1127" y="262"/>
                  </a:lnTo>
                  <a:lnTo>
                    <a:pt x="1097" y="269"/>
                  </a:lnTo>
                  <a:lnTo>
                    <a:pt x="1067" y="275"/>
                  </a:lnTo>
                  <a:lnTo>
                    <a:pt x="1039" y="284"/>
                  </a:lnTo>
                  <a:lnTo>
                    <a:pt x="1012" y="290"/>
                  </a:lnTo>
                  <a:lnTo>
                    <a:pt x="989" y="297"/>
                  </a:lnTo>
                  <a:lnTo>
                    <a:pt x="967" y="302"/>
                  </a:lnTo>
                  <a:lnTo>
                    <a:pt x="949" y="309"/>
                  </a:lnTo>
                  <a:lnTo>
                    <a:pt x="936" y="314"/>
                  </a:lnTo>
                  <a:lnTo>
                    <a:pt x="927" y="317"/>
                  </a:lnTo>
                  <a:lnTo>
                    <a:pt x="914" y="324"/>
                  </a:lnTo>
                  <a:lnTo>
                    <a:pt x="901" y="329"/>
                  </a:lnTo>
                  <a:lnTo>
                    <a:pt x="887" y="337"/>
                  </a:lnTo>
                  <a:lnTo>
                    <a:pt x="872" y="344"/>
                  </a:lnTo>
                  <a:lnTo>
                    <a:pt x="857" y="355"/>
                  </a:lnTo>
                  <a:lnTo>
                    <a:pt x="842" y="369"/>
                  </a:lnTo>
                  <a:lnTo>
                    <a:pt x="826" y="389"/>
                  </a:lnTo>
                  <a:lnTo>
                    <a:pt x="807" y="412"/>
                  </a:lnTo>
                  <a:lnTo>
                    <a:pt x="791" y="437"/>
                  </a:lnTo>
                  <a:lnTo>
                    <a:pt x="776" y="460"/>
                  </a:lnTo>
                  <a:lnTo>
                    <a:pt x="761" y="482"/>
                  </a:lnTo>
                  <a:lnTo>
                    <a:pt x="747" y="502"/>
                  </a:lnTo>
                  <a:lnTo>
                    <a:pt x="737" y="519"/>
                  </a:lnTo>
                  <a:lnTo>
                    <a:pt x="727" y="532"/>
                  </a:lnTo>
                  <a:lnTo>
                    <a:pt x="719" y="542"/>
                  </a:lnTo>
                  <a:lnTo>
                    <a:pt x="712" y="549"/>
                  </a:lnTo>
                  <a:lnTo>
                    <a:pt x="706" y="554"/>
                  </a:lnTo>
                  <a:lnTo>
                    <a:pt x="699" y="559"/>
                  </a:lnTo>
                  <a:lnTo>
                    <a:pt x="689" y="564"/>
                  </a:lnTo>
                  <a:lnTo>
                    <a:pt x="679" y="565"/>
                  </a:lnTo>
                  <a:lnTo>
                    <a:pt x="667" y="567"/>
                  </a:lnTo>
                  <a:lnTo>
                    <a:pt x="657" y="567"/>
                  </a:lnTo>
                  <a:lnTo>
                    <a:pt x="647" y="564"/>
                  </a:lnTo>
                  <a:lnTo>
                    <a:pt x="637" y="559"/>
                  </a:lnTo>
                  <a:lnTo>
                    <a:pt x="629" y="552"/>
                  </a:lnTo>
                  <a:lnTo>
                    <a:pt x="622" y="544"/>
                  </a:lnTo>
                  <a:lnTo>
                    <a:pt x="615" y="535"/>
                  </a:lnTo>
                  <a:lnTo>
                    <a:pt x="609" y="529"/>
                  </a:lnTo>
                  <a:lnTo>
                    <a:pt x="602" y="524"/>
                  </a:lnTo>
                  <a:lnTo>
                    <a:pt x="595" y="520"/>
                  </a:lnTo>
                  <a:lnTo>
                    <a:pt x="589" y="519"/>
                  </a:lnTo>
                  <a:lnTo>
                    <a:pt x="580" y="520"/>
                  </a:lnTo>
                  <a:lnTo>
                    <a:pt x="569" y="524"/>
                  </a:lnTo>
                  <a:lnTo>
                    <a:pt x="554" y="525"/>
                  </a:lnTo>
                  <a:lnTo>
                    <a:pt x="537" y="525"/>
                  </a:lnTo>
                  <a:lnTo>
                    <a:pt x="519" y="525"/>
                  </a:lnTo>
                  <a:lnTo>
                    <a:pt x="499" y="525"/>
                  </a:lnTo>
                  <a:lnTo>
                    <a:pt x="480" y="524"/>
                  </a:lnTo>
                  <a:lnTo>
                    <a:pt x="462" y="522"/>
                  </a:lnTo>
                  <a:lnTo>
                    <a:pt x="447" y="520"/>
                  </a:lnTo>
                  <a:lnTo>
                    <a:pt x="432" y="519"/>
                  </a:lnTo>
                  <a:lnTo>
                    <a:pt x="417" y="515"/>
                  </a:lnTo>
                  <a:lnTo>
                    <a:pt x="404" y="510"/>
                  </a:lnTo>
                  <a:lnTo>
                    <a:pt x="389" y="507"/>
                  </a:lnTo>
                  <a:lnTo>
                    <a:pt x="375" y="504"/>
                  </a:lnTo>
                  <a:lnTo>
                    <a:pt x="364" y="500"/>
                  </a:lnTo>
                  <a:lnTo>
                    <a:pt x="352" y="497"/>
                  </a:lnTo>
                  <a:lnTo>
                    <a:pt x="342" y="497"/>
                  </a:lnTo>
                  <a:lnTo>
                    <a:pt x="329" y="497"/>
                  </a:lnTo>
                  <a:lnTo>
                    <a:pt x="307" y="497"/>
                  </a:lnTo>
                  <a:lnTo>
                    <a:pt x="280" y="499"/>
                  </a:lnTo>
                  <a:lnTo>
                    <a:pt x="250" y="499"/>
                  </a:lnTo>
                  <a:lnTo>
                    <a:pt x="224" y="500"/>
                  </a:lnTo>
                  <a:lnTo>
                    <a:pt x="200" y="502"/>
                  </a:lnTo>
                  <a:lnTo>
                    <a:pt x="184" y="502"/>
                  </a:lnTo>
                  <a:lnTo>
                    <a:pt x="177" y="502"/>
                  </a:lnTo>
                  <a:lnTo>
                    <a:pt x="175" y="504"/>
                  </a:lnTo>
                  <a:lnTo>
                    <a:pt x="170" y="505"/>
                  </a:lnTo>
                  <a:lnTo>
                    <a:pt x="164" y="509"/>
                  </a:lnTo>
                  <a:lnTo>
                    <a:pt x="155" y="510"/>
                  </a:lnTo>
                  <a:lnTo>
                    <a:pt x="144" y="512"/>
                  </a:lnTo>
                  <a:lnTo>
                    <a:pt x="132" y="512"/>
                  </a:lnTo>
                  <a:lnTo>
                    <a:pt x="120" y="509"/>
                  </a:lnTo>
                  <a:lnTo>
                    <a:pt x="107" y="502"/>
                  </a:lnTo>
                  <a:lnTo>
                    <a:pt x="95" y="494"/>
                  </a:lnTo>
                  <a:lnTo>
                    <a:pt x="87" y="485"/>
                  </a:lnTo>
                  <a:lnTo>
                    <a:pt x="80" y="479"/>
                  </a:lnTo>
                  <a:lnTo>
                    <a:pt x="75" y="475"/>
                  </a:lnTo>
                  <a:lnTo>
                    <a:pt x="70" y="472"/>
                  </a:lnTo>
                  <a:lnTo>
                    <a:pt x="65" y="470"/>
                  </a:lnTo>
                  <a:lnTo>
                    <a:pt x="60" y="470"/>
                  </a:lnTo>
                  <a:lnTo>
                    <a:pt x="53" y="474"/>
                  </a:lnTo>
                  <a:lnTo>
                    <a:pt x="47" y="480"/>
                  </a:lnTo>
                  <a:lnTo>
                    <a:pt x="50" y="489"/>
                  </a:lnTo>
                  <a:lnTo>
                    <a:pt x="55" y="500"/>
                  </a:lnTo>
                  <a:lnTo>
                    <a:pt x="53" y="515"/>
                  </a:lnTo>
                  <a:lnTo>
                    <a:pt x="50" y="535"/>
                  </a:lnTo>
                  <a:lnTo>
                    <a:pt x="48" y="557"/>
                  </a:lnTo>
                  <a:lnTo>
                    <a:pt x="50" y="577"/>
                  </a:lnTo>
                  <a:lnTo>
                    <a:pt x="50" y="592"/>
                  </a:lnTo>
                  <a:lnTo>
                    <a:pt x="47" y="606"/>
                  </a:lnTo>
                  <a:lnTo>
                    <a:pt x="40" y="621"/>
                  </a:lnTo>
                  <a:lnTo>
                    <a:pt x="33" y="634"/>
                  </a:lnTo>
                  <a:lnTo>
                    <a:pt x="30" y="639"/>
                  </a:lnTo>
                  <a:lnTo>
                    <a:pt x="0" y="662"/>
                  </a:lnTo>
                  <a:lnTo>
                    <a:pt x="3" y="666"/>
                  </a:lnTo>
                  <a:lnTo>
                    <a:pt x="8" y="669"/>
                  </a:lnTo>
                  <a:lnTo>
                    <a:pt x="13" y="674"/>
                  </a:lnTo>
                  <a:lnTo>
                    <a:pt x="18" y="677"/>
                  </a:lnTo>
                  <a:lnTo>
                    <a:pt x="32" y="684"/>
                  </a:lnTo>
                  <a:lnTo>
                    <a:pt x="43" y="687"/>
                  </a:lnTo>
                  <a:lnTo>
                    <a:pt x="55" y="687"/>
                  </a:lnTo>
                  <a:lnTo>
                    <a:pt x="67" y="686"/>
                  </a:lnTo>
                  <a:lnTo>
                    <a:pt x="77" y="684"/>
                  </a:lnTo>
                  <a:lnTo>
                    <a:pt x="83" y="681"/>
                  </a:lnTo>
                  <a:lnTo>
                    <a:pt x="88" y="679"/>
                  </a:lnTo>
                  <a:lnTo>
                    <a:pt x="90" y="677"/>
                  </a:lnTo>
                  <a:lnTo>
                    <a:pt x="97" y="677"/>
                  </a:lnTo>
                  <a:lnTo>
                    <a:pt x="114" y="677"/>
                  </a:lnTo>
                  <a:lnTo>
                    <a:pt x="137" y="676"/>
                  </a:lnTo>
                  <a:lnTo>
                    <a:pt x="164" y="674"/>
                  </a:lnTo>
                  <a:lnTo>
                    <a:pt x="194" y="674"/>
                  </a:lnTo>
                  <a:lnTo>
                    <a:pt x="220" y="672"/>
                  </a:lnTo>
                  <a:lnTo>
                    <a:pt x="242" y="672"/>
                  </a:lnTo>
                  <a:lnTo>
                    <a:pt x="255" y="672"/>
                  </a:lnTo>
                  <a:lnTo>
                    <a:pt x="265" y="674"/>
                  </a:lnTo>
                  <a:lnTo>
                    <a:pt x="275" y="676"/>
                  </a:lnTo>
                  <a:lnTo>
                    <a:pt x="289" y="679"/>
                  </a:lnTo>
                  <a:lnTo>
                    <a:pt x="302" y="682"/>
                  </a:lnTo>
                  <a:lnTo>
                    <a:pt x="315" y="687"/>
                  </a:lnTo>
                  <a:lnTo>
                    <a:pt x="330" y="691"/>
                  </a:lnTo>
                  <a:lnTo>
                    <a:pt x="344" y="694"/>
                  </a:lnTo>
                  <a:lnTo>
                    <a:pt x="359" y="697"/>
                  </a:lnTo>
                  <a:lnTo>
                    <a:pt x="374" y="699"/>
                  </a:lnTo>
                  <a:lnTo>
                    <a:pt x="392" y="701"/>
                  </a:lnTo>
                  <a:lnTo>
                    <a:pt x="412" y="701"/>
                  </a:lnTo>
                  <a:lnTo>
                    <a:pt x="430" y="702"/>
                  </a:lnTo>
                  <a:lnTo>
                    <a:pt x="450" y="702"/>
                  </a:lnTo>
                  <a:lnTo>
                    <a:pt x="467" y="701"/>
                  </a:lnTo>
                  <a:lnTo>
                    <a:pt x="480" y="701"/>
                  </a:lnTo>
                  <a:lnTo>
                    <a:pt x="492" y="697"/>
                  </a:lnTo>
                  <a:lnTo>
                    <a:pt x="500" y="696"/>
                  </a:lnTo>
                  <a:lnTo>
                    <a:pt x="507" y="696"/>
                  </a:lnTo>
                  <a:lnTo>
                    <a:pt x="514" y="699"/>
                  </a:lnTo>
                  <a:lnTo>
                    <a:pt x="520" y="706"/>
                  </a:lnTo>
                  <a:lnTo>
                    <a:pt x="527" y="712"/>
                  </a:lnTo>
                  <a:lnTo>
                    <a:pt x="534" y="719"/>
                  </a:lnTo>
                  <a:lnTo>
                    <a:pt x="540" y="727"/>
                  </a:lnTo>
                  <a:lnTo>
                    <a:pt x="549" y="734"/>
                  </a:lnTo>
                  <a:lnTo>
                    <a:pt x="559" y="741"/>
                  </a:lnTo>
                  <a:lnTo>
                    <a:pt x="569" y="742"/>
                  </a:lnTo>
                  <a:lnTo>
                    <a:pt x="579" y="744"/>
                  </a:lnTo>
                  <a:lnTo>
                    <a:pt x="590" y="742"/>
                  </a:lnTo>
                  <a:lnTo>
                    <a:pt x="600" y="739"/>
                  </a:lnTo>
                  <a:lnTo>
                    <a:pt x="610" y="736"/>
                  </a:lnTo>
                  <a:lnTo>
                    <a:pt x="619" y="731"/>
                  </a:lnTo>
                  <a:lnTo>
                    <a:pt x="625" y="726"/>
                  </a:lnTo>
                  <a:lnTo>
                    <a:pt x="632" y="719"/>
                  </a:lnTo>
                  <a:lnTo>
                    <a:pt x="639" y="707"/>
                  </a:lnTo>
                  <a:lnTo>
                    <a:pt x="649" y="694"/>
                  </a:lnTo>
                  <a:lnTo>
                    <a:pt x="661" y="677"/>
                  </a:lnTo>
                  <a:lnTo>
                    <a:pt x="672" y="659"/>
                  </a:lnTo>
                  <a:lnTo>
                    <a:pt x="687" y="637"/>
                  </a:lnTo>
                  <a:lnTo>
                    <a:pt x="704" y="614"/>
                  </a:lnTo>
                  <a:lnTo>
                    <a:pt x="721" y="587"/>
                  </a:lnTo>
                  <a:lnTo>
                    <a:pt x="737" y="564"/>
                  </a:lnTo>
                  <a:lnTo>
                    <a:pt x="754" y="544"/>
                  </a:lnTo>
                  <a:lnTo>
                    <a:pt x="769" y="530"/>
                  </a:lnTo>
                  <a:lnTo>
                    <a:pt x="786" y="519"/>
                  </a:lnTo>
                  <a:lnTo>
                    <a:pt x="799" y="512"/>
                  </a:lnTo>
                  <a:lnTo>
                    <a:pt x="812" y="504"/>
                  </a:lnTo>
                  <a:lnTo>
                    <a:pt x="826" y="499"/>
                  </a:lnTo>
                  <a:lnTo>
                    <a:pt x="839" y="492"/>
                  </a:lnTo>
                  <a:lnTo>
                    <a:pt x="847" y="489"/>
                  </a:lnTo>
                  <a:lnTo>
                    <a:pt x="862" y="484"/>
                  </a:lnTo>
                  <a:lnTo>
                    <a:pt x="879" y="479"/>
                  </a:lnTo>
                  <a:lnTo>
                    <a:pt x="901" y="472"/>
                  </a:lnTo>
                  <a:lnTo>
                    <a:pt x="926" y="465"/>
                  </a:lnTo>
                  <a:lnTo>
                    <a:pt x="952" y="459"/>
                  </a:lnTo>
                  <a:lnTo>
                    <a:pt x="981" y="452"/>
                  </a:lnTo>
                  <a:lnTo>
                    <a:pt x="1009" y="444"/>
                  </a:lnTo>
                  <a:lnTo>
                    <a:pt x="1039" y="437"/>
                  </a:lnTo>
                  <a:lnTo>
                    <a:pt x="1069" y="430"/>
                  </a:lnTo>
                  <a:lnTo>
                    <a:pt x="1097" y="424"/>
                  </a:lnTo>
                  <a:lnTo>
                    <a:pt x="1126" y="417"/>
                  </a:lnTo>
                  <a:lnTo>
                    <a:pt x="1151" y="410"/>
                  </a:lnTo>
                  <a:lnTo>
                    <a:pt x="1174" y="405"/>
                  </a:lnTo>
                  <a:lnTo>
                    <a:pt x="1194" y="400"/>
                  </a:lnTo>
                  <a:lnTo>
                    <a:pt x="1209" y="397"/>
                  </a:lnTo>
                  <a:lnTo>
                    <a:pt x="1236" y="390"/>
                  </a:lnTo>
                  <a:lnTo>
                    <a:pt x="1263" y="385"/>
                  </a:lnTo>
                  <a:lnTo>
                    <a:pt x="1289" y="382"/>
                  </a:lnTo>
                  <a:lnTo>
                    <a:pt x="1313" y="379"/>
                  </a:lnTo>
                  <a:lnTo>
                    <a:pt x="1336" y="375"/>
                  </a:lnTo>
                  <a:lnTo>
                    <a:pt x="1354" y="370"/>
                  </a:lnTo>
                  <a:lnTo>
                    <a:pt x="1371" y="365"/>
                  </a:lnTo>
                  <a:lnTo>
                    <a:pt x="1384" y="359"/>
                  </a:lnTo>
                  <a:lnTo>
                    <a:pt x="1394" y="354"/>
                  </a:lnTo>
                  <a:lnTo>
                    <a:pt x="1411" y="345"/>
                  </a:lnTo>
                  <a:lnTo>
                    <a:pt x="1434" y="334"/>
                  </a:lnTo>
                  <a:lnTo>
                    <a:pt x="1463" y="320"/>
                  </a:lnTo>
                  <a:lnTo>
                    <a:pt x="1496" y="307"/>
                  </a:lnTo>
                  <a:lnTo>
                    <a:pt x="1533" y="290"/>
                  </a:lnTo>
                  <a:lnTo>
                    <a:pt x="1571" y="274"/>
                  </a:lnTo>
                  <a:lnTo>
                    <a:pt x="1611" y="255"/>
                  </a:lnTo>
                  <a:lnTo>
                    <a:pt x="1649" y="239"/>
                  </a:lnTo>
                  <a:lnTo>
                    <a:pt x="1688" y="222"/>
                  </a:lnTo>
                  <a:lnTo>
                    <a:pt x="1723" y="207"/>
                  </a:lnTo>
                  <a:lnTo>
                    <a:pt x="1756" y="192"/>
                  </a:lnTo>
                  <a:lnTo>
                    <a:pt x="1783" y="180"/>
                  </a:lnTo>
                  <a:lnTo>
                    <a:pt x="1805" y="170"/>
                  </a:lnTo>
                  <a:lnTo>
                    <a:pt x="1820" y="164"/>
                  </a:lnTo>
                  <a:lnTo>
                    <a:pt x="1826" y="160"/>
                  </a:lnTo>
                  <a:lnTo>
                    <a:pt x="1836" y="152"/>
                  </a:lnTo>
                  <a:lnTo>
                    <a:pt x="1841" y="142"/>
                  </a:lnTo>
                  <a:lnTo>
                    <a:pt x="1845" y="130"/>
                  </a:lnTo>
                  <a:lnTo>
                    <a:pt x="1846" y="117"/>
                  </a:lnTo>
                  <a:lnTo>
                    <a:pt x="1848" y="100"/>
                  </a:lnTo>
                  <a:lnTo>
                    <a:pt x="1851" y="78"/>
                  </a:lnTo>
                  <a:lnTo>
                    <a:pt x="1858" y="57"/>
                  </a:lnTo>
                  <a:lnTo>
                    <a:pt x="1865" y="37"/>
                  </a:lnTo>
                  <a:lnTo>
                    <a:pt x="1868" y="27"/>
                  </a:lnTo>
                  <a:lnTo>
                    <a:pt x="1873" y="18"/>
                  </a:lnTo>
                  <a:lnTo>
                    <a:pt x="1876" y="8"/>
                  </a:lnTo>
                  <a:lnTo>
                    <a:pt x="1881" y="0"/>
                  </a:lnTo>
                  <a:lnTo>
                    <a:pt x="1861" y="10"/>
                  </a:lnTo>
                  <a:lnTo>
                    <a:pt x="1836" y="20"/>
                  </a:lnTo>
                  <a:lnTo>
                    <a:pt x="1808" y="32"/>
                  </a:lnTo>
                  <a:lnTo>
                    <a:pt x="1778" y="45"/>
                  </a:lnTo>
                  <a:lnTo>
                    <a:pt x="1746" y="58"/>
                  </a:lnTo>
                  <a:lnTo>
                    <a:pt x="1714" y="73"/>
                  </a:lnTo>
                  <a:lnTo>
                    <a:pt x="1681" y="88"/>
                  </a:lnTo>
                  <a:lnTo>
                    <a:pt x="1648" y="102"/>
                  </a:lnTo>
                  <a:lnTo>
                    <a:pt x="1616" y="117"/>
                  </a:lnTo>
                  <a:lnTo>
                    <a:pt x="1586" y="130"/>
                  </a:lnTo>
                  <a:lnTo>
                    <a:pt x="1558" y="142"/>
                  </a:lnTo>
                  <a:lnTo>
                    <a:pt x="1533" y="154"/>
                  </a:lnTo>
                  <a:lnTo>
                    <a:pt x="1511" y="164"/>
                  </a:lnTo>
                  <a:lnTo>
                    <a:pt x="1493" y="174"/>
                  </a:lnTo>
                  <a:lnTo>
                    <a:pt x="1479" y="179"/>
                  </a:lnTo>
                  <a:lnTo>
                    <a:pt x="1473" y="184"/>
                  </a:lnTo>
                  <a:lnTo>
                    <a:pt x="1459" y="190"/>
                  </a:lnTo>
                  <a:lnTo>
                    <a:pt x="1443" y="195"/>
                  </a:lnTo>
                  <a:lnTo>
                    <a:pt x="1423" y="199"/>
                  </a:lnTo>
                  <a:lnTo>
                    <a:pt x="1401" y="202"/>
                  </a:lnTo>
                  <a:lnTo>
                    <a:pt x="1376" y="205"/>
                  </a:lnTo>
                  <a:lnTo>
                    <a:pt x="1351" y="210"/>
                  </a:lnTo>
                  <a:lnTo>
                    <a:pt x="1324" y="215"/>
                  </a:lnTo>
                  <a:lnTo>
                    <a:pt x="1298" y="222"/>
                  </a:lnTo>
                  <a:close/>
                </a:path>
              </a:pathLst>
            </a:custGeom>
            <a:solidFill>
              <a:srgbClr val="ffffff">
                <a:alpha val="20000"/>
              </a:srgbClr>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1" name=""/>
            <p:cNvSpPr/>
            <p:nvPr/>
          </p:nvSpPr>
          <p:spPr>
            <a:xfrm>
              <a:off x="2813040" y="1346040"/>
              <a:ext cx="4348080" cy="3579840"/>
            </a:xfrm>
            <a:custGeom>
              <a:avLst/>
              <a:gdLst/>
              <a:ahLst/>
              <a:rect l="l" t="t" r="r" b="b"/>
              <a:pathLst>
                <a:path w="3185" h="2678">
                  <a:moveTo>
                    <a:pt x="380" y="90"/>
                  </a:moveTo>
                  <a:lnTo>
                    <a:pt x="683" y="28"/>
                  </a:lnTo>
                  <a:lnTo>
                    <a:pt x="693" y="0"/>
                  </a:lnTo>
                  <a:lnTo>
                    <a:pt x="695" y="0"/>
                  </a:lnTo>
                  <a:lnTo>
                    <a:pt x="698" y="0"/>
                  </a:lnTo>
                  <a:lnTo>
                    <a:pt x="704" y="0"/>
                  </a:lnTo>
                  <a:lnTo>
                    <a:pt x="712" y="0"/>
                  </a:lnTo>
                  <a:lnTo>
                    <a:pt x="720" y="0"/>
                  </a:lnTo>
                  <a:lnTo>
                    <a:pt x="734" y="2"/>
                  </a:lnTo>
                  <a:lnTo>
                    <a:pt x="747" y="5"/>
                  </a:lnTo>
                  <a:lnTo>
                    <a:pt x="764" y="10"/>
                  </a:lnTo>
                  <a:lnTo>
                    <a:pt x="782" y="15"/>
                  </a:lnTo>
                  <a:lnTo>
                    <a:pt x="799" y="20"/>
                  </a:lnTo>
                  <a:lnTo>
                    <a:pt x="817" y="23"/>
                  </a:lnTo>
                  <a:lnTo>
                    <a:pt x="832" y="28"/>
                  </a:lnTo>
                  <a:lnTo>
                    <a:pt x="847" y="32"/>
                  </a:lnTo>
                  <a:lnTo>
                    <a:pt x="862" y="35"/>
                  </a:lnTo>
                  <a:lnTo>
                    <a:pt x="874" y="40"/>
                  </a:lnTo>
                  <a:lnTo>
                    <a:pt x="884" y="43"/>
                  </a:lnTo>
                  <a:lnTo>
                    <a:pt x="894" y="48"/>
                  </a:lnTo>
                  <a:lnTo>
                    <a:pt x="907" y="57"/>
                  </a:lnTo>
                  <a:lnTo>
                    <a:pt x="924" y="68"/>
                  </a:lnTo>
                  <a:lnTo>
                    <a:pt x="942" y="82"/>
                  </a:lnTo>
                  <a:lnTo>
                    <a:pt x="962" y="97"/>
                  </a:lnTo>
                  <a:lnTo>
                    <a:pt x="985" y="112"/>
                  </a:lnTo>
                  <a:lnTo>
                    <a:pt x="1009" y="127"/>
                  </a:lnTo>
                  <a:lnTo>
                    <a:pt x="1035" y="142"/>
                  </a:lnTo>
                  <a:lnTo>
                    <a:pt x="1060" y="155"/>
                  </a:lnTo>
                  <a:lnTo>
                    <a:pt x="1080" y="168"/>
                  </a:lnTo>
                  <a:lnTo>
                    <a:pt x="1099" y="180"/>
                  </a:lnTo>
                  <a:lnTo>
                    <a:pt x="1114" y="190"/>
                  </a:lnTo>
                  <a:lnTo>
                    <a:pt x="1124" y="197"/>
                  </a:lnTo>
                  <a:lnTo>
                    <a:pt x="1132" y="203"/>
                  </a:lnTo>
                  <a:lnTo>
                    <a:pt x="1137" y="207"/>
                  </a:lnTo>
                  <a:lnTo>
                    <a:pt x="1139" y="208"/>
                  </a:lnTo>
                  <a:lnTo>
                    <a:pt x="1142" y="210"/>
                  </a:lnTo>
                  <a:lnTo>
                    <a:pt x="1150" y="215"/>
                  </a:lnTo>
                  <a:lnTo>
                    <a:pt x="1162" y="223"/>
                  </a:lnTo>
                  <a:lnTo>
                    <a:pt x="1177" y="233"/>
                  </a:lnTo>
                  <a:lnTo>
                    <a:pt x="1192" y="243"/>
                  </a:lnTo>
                  <a:lnTo>
                    <a:pt x="1205" y="255"/>
                  </a:lnTo>
                  <a:lnTo>
                    <a:pt x="1217" y="265"/>
                  </a:lnTo>
                  <a:lnTo>
                    <a:pt x="1225" y="275"/>
                  </a:lnTo>
                  <a:lnTo>
                    <a:pt x="1234" y="285"/>
                  </a:lnTo>
                  <a:lnTo>
                    <a:pt x="1245" y="297"/>
                  </a:lnTo>
                  <a:lnTo>
                    <a:pt x="1259" y="310"/>
                  </a:lnTo>
                  <a:lnTo>
                    <a:pt x="1276" y="325"/>
                  </a:lnTo>
                  <a:lnTo>
                    <a:pt x="1292" y="340"/>
                  </a:lnTo>
                  <a:lnTo>
                    <a:pt x="1309" y="354"/>
                  </a:lnTo>
                  <a:lnTo>
                    <a:pt x="1324" y="365"/>
                  </a:lnTo>
                  <a:lnTo>
                    <a:pt x="1334" y="375"/>
                  </a:lnTo>
                  <a:lnTo>
                    <a:pt x="1346" y="385"/>
                  </a:lnTo>
                  <a:lnTo>
                    <a:pt x="1362" y="397"/>
                  </a:lnTo>
                  <a:lnTo>
                    <a:pt x="1381" y="410"/>
                  </a:lnTo>
                  <a:lnTo>
                    <a:pt x="1401" y="424"/>
                  </a:lnTo>
                  <a:lnTo>
                    <a:pt x="1421" y="437"/>
                  </a:lnTo>
                  <a:lnTo>
                    <a:pt x="1436" y="445"/>
                  </a:lnTo>
                  <a:lnTo>
                    <a:pt x="1447" y="454"/>
                  </a:lnTo>
                  <a:lnTo>
                    <a:pt x="1451" y="455"/>
                  </a:lnTo>
                  <a:lnTo>
                    <a:pt x="1489" y="509"/>
                  </a:lnTo>
                  <a:lnTo>
                    <a:pt x="1497" y="509"/>
                  </a:lnTo>
                  <a:lnTo>
                    <a:pt x="1517" y="509"/>
                  </a:lnTo>
                  <a:lnTo>
                    <a:pt x="1546" y="509"/>
                  </a:lnTo>
                  <a:lnTo>
                    <a:pt x="1581" y="509"/>
                  </a:lnTo>
                  <a:lnTo>
                    <a:pt x="1617" y="510"/>
                  </a:lnTo>
                  <a:lnTo>
                    <a:pt x="1651" y="514"/>
                  </a:lnTo>
                  <a:lnTo>
                    <a:pt x="1677" y="520"/>
                  </a:lnTo>
                  <a:lnTo>
                    <a:pt x="1694" y="527"/>
                  </a:lnTo>
                  <a:lnTo>
                    <a:pt x="1696" y="527"/>
                  </a:lnTo>
                  <a:lnTo>
                    <a:pt x="1702" y="525"/>
                  </a:lnTo>
                  <a:lnTo>
                    <a:pt x="1712" y="522"/>
                  </a:lnTo>
                  <a:lnTo>
                    <a:pt x="1722" y="520"/>
                  </a:lnTo>
                  <a:lnTo>
                    <a:pt x="1736" y="519"/>
                  </a:lnTo>
                  <a:lnTo>
                    <a:pt x="1747" y="515"/>
                  </a:lnTo>
                  <a:lnTo>
                    <a:pt x="1759" y="514"/>
                  </a:lnTo>
                  <a:lnTo>
                    <a:pt x="1769" y="514"/>
                  </a:lnTo>
                  <a:lnTo>
                    <a:pt x="1782" y="515"/>
                  </a:lnTo>
                  <a:lnTo>
                    <a:pt x="1801" y="519"/>
                  </a:lnTo>
                  <a:lnTo>
                    <a:pt x="1823" y="522"/>
                  </a:lnTo>
                  <a:lnTo>
                    <a:pt x="1848" y="527"/>
                  </a:lnTo>
                  <a:lnTo>
                    <a:pt x="1869" y="534"/>
                  </a:lnTo>
                  <a:lnTo>
                    <a:pt x="1889" y="537"/>
                  </a:lnTo>
                  <a:lnTo>
                    <a:pt x="1903" y="540"/>
                  </a:lnTo>
                  <a:lnTo>
                    <a:pt x="1908" y="542"/>
                  </a:lnTo>
                  <a:lnTo>
                    <a:pt x="1926" y="604"/>
                  </a:lnTo>
                  <a:lnTo>
                    <a:pt x="2044" y="604"/>
                  </a:lnTo>
                  <a:lnTo>
                    <a:pt x="2064" y="689"/>
                  </a:lnTo>
                  <a:lnTo>
                    <a:pt x="2071" y="692"/>
                  </a:lnTo>
                  <a:lnTo>
                    <a:pt x="2083" y="704"/>
                  </a:lnTo>
                  <a:lnTo>
                    <a:pt x="2093" y="722"/>
                  </a:lnTo>
                  <a:lnTo>
                    <a:pt x="2093" y="746"/>
                  </a:lnTo>
                  <a:lnTo>
                    <a:pt x="2116" y="784"/>
                  </a:lnTo>
                  <a:lnTo>
                    <a:pt x="2154" y="769"/>
                  </a:lnTo>
                  <a:lnTo>
                    <a:pt x="2158" y="774"/>
                  </a:lnTo>
                  <a:lnTo>
                    <a:pt x="2164" y="786"/>
                  </a:lnTo>
                  <a:lnTo>
                    <a:pt x="2169" y="801"/>
                  </a:lnTo>
                  <a:lnTo>
                    <a:pt x="2173" y="812"/>
                  </a:lnTo>
                  <a:lnTo>
                    <a:pt x="2176" y="824"/>
                  </a:lnTo>
                  <a:lnTo>
                    <a:pt x="2183" y="834"/>
                  </a:lnTo>
                  <a:lnTo>
                    <a:pt x="2189" y="842"/>
                  </a:lnTo>
                  <a:lnTo>
                    <a:pt x="2193" y="846"/>
                  </a:lnTo>
                  <a:lnTo>
                    <a:pt x="2201" y="822"/>
                  </a:lnTo>
                  <a:lnTo>
                    <a:pt x="2226" y="869"/>
                  </a:lnTo>
                  <a:lnTo>
                    <a:pt x="2228" y="869"/>
                  </a:lnTo>
                  <a:lnTo>
                    <a:pt x="2234" y="871"/>
                  </a:lnTo>
                  <a:lnTo>
                    <a:pt x="2244" y="874"/>
                  </a:lnTo>
                  <a:lnTo>
                    <a:pt x="2254" y="877"/>
                  </a:lnTo>
                  <a:lnTo>
                    <a:pt x="2266" y="882"/>
                  </a:lnTo>
                  <a:lnTo>
                    <a:pt x="2276" y="887"/>
                  </a:lnTo>
                  <a:lnTo>
                    <a:pt x="2284" y="894"/>
                  </a:lnTo>
                  <a:lnTo>
                    <a:pt x="2288" y="902"/>
                  </a:lnTo>
                  <a:lnTo>
                    <a:pt x="2289" y="921"/>
                  </a:lnTo>
                  <a:lnTo>
                    <a:pt x="2293" y="937"/>
                  </a:lnTo>
                  <a:lnTo>
                    <a:pt x="2296" y="952"/>
                  </a:lnTo>
                  <a:lnTo>
                    <a:pt x="2306" y="964"/>
                  </a:lnTo>
                  <a:lnTo>
                    <a:pt x="2316" y="979"/>
                  </a:lnTo>
                  <a:lnTo>
                    <a:pt x="2321" y="996"/>
                  </a:lnTo>
                  <a:lnTo>
                    <a:pt x="2318" y="1011"/>
                  </a:lnTo>
                  <a:lnTo>
                    <a:pt x="2311" y="1017"/>
                  </a:lnTo>
                  <a:lnTo>
                    <a:pt x="2303" y="1019"/>
                  </a:lnTo>
                  <a:lnTo>
                    <a:pt x="2299" y="1024"/>
                  </a:lnTo>
                  <a:lnTo>
                    <a:pt x="2301" y="1032"/>
                  </a:lnTo>
                  <a:lnTo>
                    <a:pt x="2306" y="1046"/>
                  </a:lnTo>
                  <a:lnTo>
                    <a:pt x="2313" y="1061"/>
                  </a:lnTo>
                  <a:lnTo>
                    <a:pt x="2319" y="1076"/>
                  </a:lnTo>
                  <a:lnTo>
                    <a:pt x="2324" y="1092"/>
                  </a:lnTo>
                  <a:lnTo>
                    <a:pt x="2329" y="1107"/>
                  </a:lnTo>
                  <a:lnTo>
                    <a:pt x="2336" y="1117"/>
                  </a:lnTo>
                  <a:lnTo>
                    <a:pt x="2344" y="1121"/>
                  </a:lnTo>
                  <a:lnTo>
                    <a:pt x="2351" y="1121"/>
                  </a:lnTo>
                  <a:lnTo>
                    <a:pt x="2354" y="1121"/>
                  </a:lnTo>
                  <a:lnTo>
                    <a:pt x="2356" y="1129"/>
                  </a:lnTo>
                  <a:lnTo>
                    <a:pt x="2365" y="1149"/>
                  </a:lnTo>
                  <a:lnTo>
                    <a:pt x="2375" y="1174"/>
                  </a:lnTo>
                  <a:lnTo>
                    <a:pt x="2388" y="1192"/>
                  </a:lnTo>
                  <a:lnTo>
                    <a:pt x="2395" y="1201"/>
                  </a:lnTo>
                  <a:lnTo>
                    <a:pt x="2400" y="1209"/>
                  </a:lnTo>
                  <a:lnTo>
                    <a:pt x="2405" y="1217"/>
                  </a:lnTo>
                  <a:lnTo>
                    <a:pt x="2411" y="1227"/>
                  </a:lnTo>
                  <a:lnTo>
                    <a:pt x="2416" y="1236"/>
                  </a:lnTo>
                  <a:lnTo>
                    <a:pt x="2425" y="1244"/>
                  </a:lnTo>
                  <a:lnTo>
                    <a:pt x="2433" y="1253"/>
                  </a:lnTo>
                  <a:lnTo>
                    <a:pt x="2445" y="1259"/>
                  </a:lnTo>
                  <a:lnTo>
                    <a:pt x="2456" y="1263"/>
                  </a:lnTo>
                  <a:lnTo>
                    <a:pt x="2468" y="1263"/>
                  </a:lnTo>
                  <a:lnTo>
                    <a:pt x="2478" y="1263"/>
                  </a:lnTo>
                  <a:lnTo>
                    <a:pt x="2486" y="1259"/>
                  </a:lnTo>
                  <a:lnTo>
                    <a:pt x="2493" y="1256"/>
                  </a:lnTo>
                  <a:lnTo>
                    <a:pt x="2498" y="1253"/>
                  </a:lnTo>
                  <a:lnTo>
                    <a:pt x="2500" y="1251"/>
                  </a:lnTo>
                  <a:lnTo>
                    <a:pt x="2501" y="1249"/>
                  </a:lnTo>
                  <a:lnTo>
                    <a:pt x="2520" y="1259"/>
                  </a:lnTo>
                  <a:lnTo>
                    <a:pt x="2501" y="1293"/>
                  </a:lnTo>
                  <a:lnTo>
                    <a:pt x="2501" y="1294"/>
                  </a:lnTo>
                  <a:lnTo>
                    <a:pt x="2501" y="1299"/>
                  </a:lnTo>
                  <a:lnTo>
                    <a:pt x="2503" y="1304"/>
                  </a:lnTo>
                  <a:lnTo>
                    <a:pt x="2511" y="1306"/>
                  </a:lnTo>
                  <a:lnTo>
                    <a:pt x="2521" y="1314"/>
                  </a:lnTo>
                  <a:lnTo>
                    <a:pt x="2531" y="1329"/>
                  </a:lnTo>
                  <a:lnTo>
                    <a:pt x="2536" y="1346"/>
                  </a:lnTo>
                  <a:lnTo>
                    <a:pt x="2540" y="1354"/>
                  </a:lnTo>
                  <a:lnTo>
                    <a:pt x="2541" y="1356"/>
                  </a:lnTo>
                  <a:lnTo>
                    <a:pt x="2546" y="1361"/>
                  </a:lnTo>
                  <a:lnTo>
                    <a:pt x="2553" y="1368"/>
                  </a:lnTo>
                  <a:lnTo>
                    <a:pt x="2561" y="1378"/>
                  </a:lnTo>
                  <a:lnTo>
                    <a:pt x="2571" y="1388"/>
                  </a:lnTo>
                  <a:lnTo>
                    <a:pt x="2583" y="1401"/>
                  </a:lnTo>
                  <a:lnTo>
                    <a:pt x="2595" y="1414"/>
                  </a:lnTo>
                  <a:lnTo>
                    <a:pt x="2606" y="1428"/>
                  </a:lnTo>
                  <a:lnTo>
                    <a:pt x="2618" y="1443"/>
                  </a:lnTo>
                  <a:lnTo>
                    <a:pt x="2631" y="1458"/>
                  </a:lnTo>
                  <a:lnTo>
                    <a:pt x="2645" y="1473"/>
                  </a:lnTo>
                  <a:lnTo>
                    <a:pt x="2658" y="1488"/>
                  </a:lnTo>
                  <a:lnTo>
                    <a:pt x="2670" y="1501"/>
                  </a:lnTo>
                  <a:lnTo>
                    <a:pt x="2680" y="1511"/>
                  </a:lnTo>
                  <a:lnTo>
                    <a:pt x="2688" y="1521"/>
                  </a:lnTo>
                  <a:lnTo>
                    <a:pt x="2691" y="1528"/>
                  </a:lnTo>
                  <a:lnTo>
                    <a:pt x="2701" y="1533"/>
                  </a:lnTo>
                  <a:lnTo>
                    <a:pt x="2723" y="1538"/>
                  </a:lnTo>
                  <a:lnTo>
                    <a:pt x="2753" y="1543"/>
                  </a:lnTo>
                  <a:lnTo>
                    <a:pt x="2790" y="1546"/>
                  </a:lnTo>
                  <a:lnTo>
                    <a:pt x="2828" y="1549"/>
                  </a:lnTo>
                  <a:lnTo>
                    <a:pt x="2863" y="1551"/>
                  </a:lnTo>
                  <a:lnTo>
                    <a:pt x="2891" y="1554"/>
                  </a:lnTo>
                  <a:lnTo>
                    <a:pt x="2910" y="1556"/>
                  </a:lnTo>
                  <a:lnTo>
                    <a:pt x="2925" y="1558"/>
                  </a:lnTo>
                  <a:lnTo>
                    <a:pt x="2945" y="1559"/>
                  </a:lnTo>
                  <a:lnTo>
                    <a:pt x="2968" y="1561"/>
                  </a:lnTo>
                  <a:lnTo>
                    <a:pt x="2992" y="1563"/>
                  </a:lnTo>
                  <a:lnTo>
                    <a:pt x="3013" y="1566"/>
                  </a:lnTo>
                  <a:lnTo>
                    <a:pt x="3033" y="1568"/>
                  </a:lnTo>
                  <a:lnTo>
                    <a:pt x="3048" y="1569"/>
                  </a:lnTo>
                  <a:lnTo>
                    <a:pt x="3057" y="1571"/>
                  </a:lnTo>
                  <a:lnTo>
                    <a:pt x="3070" y="1569"/>
                  </a:lnTo>
                  <a:lnTo>
                    <a:pt x="3083" y="1563"/>
                  </a:lnTo>
                  <a:lnTo>
                    <a:pt x="3095" y="1554"/>
                  </a:lnTo>
                  <a:lnTo>
                    <a:pt x="3100" y="1551"/>
                  </a:lnTo>
                  <a:lnTo>
                    <a:pt x="3102" y="1553"/>
                  </a:lnTo>
                  <a:lnTo>
                    <a:pt x="3105" y="1556"/>
                  </a:lnTo>
                  <a:lnTo>
                    <a:pt x="3112" y="1561"/>
                  </a:lnTo>
                  <a:lnTo>
                    <a:pt x="3120" y="1568"/>
                  </a:lnTo>
                  <a:lnTo>
                    <a:pt x="3130" y="1576"/>
                  </a:lnTo>
                  <a:lnTo>
                    <a:pt x="3140" y="1586"/>
                  </a:lnTo>
                  <a:lnTo>
                    <a:pt x="3152" y="1598"/>
                  </a:lnTo>
                  <a:lnTo>
                    <a:pt x="3162" y="1609"/>
                  </a:lnTo>
                  <a:lnTo>
                    <a:pt x="3172" y="1624"/>
                  </a:lnTo>
                  <a:lnTo>
                    <a:pt x="3180" y="1638"/>
                  </a:lnTo>
                  <a:lnTo>
                    <a:pt x="3183" y="1653"/>
                  </a:lnTo>
                  <a:lnTo>
                    <a:pt x="3185" y="1668"/>
                  </a:lnTo>
                  <a:lnTo>
                    <a:pt x="3185" y="1678"/>
                  </a:lnTo>
                  <a:lnTo>
                    <a:pt x="3183" y="1688"/>
                  </a:lnTo>
                  <a:lnTo>
                    <a:pt x="3180" y="1696"/>
                  </a:lnTo>
                  <a:lnTo>
                    <a:pt x="3175" y="1704"/>
                  </a:lnTo>
                  <a:lnTo>
                    <a:pt x="3168" y="1724"/>
                  </a:lnTo>
                  <a:lnTo>
                    <a:pt x="3168" y="1748"/>
                  </a:lnTo>
                  <a:lnTo>
                    <a:pt x="3168" y="1771"/>
                  </a:lnTo>
                  <a:lnTo>
                    <a:pt x="3167" y="1795"/>
                  </a:lnTo>
                  <a:lnTo>
                    <a:pt x="3162" y="1815"/>
                  </a:lnTo>
                  <a:lnTo>
                    <a:pt x="3153" y="1835"/>
                  </a:lnTo>
                  <a:lnTo>
                    <a:pt x="3145" y="1851"/>
                  </a:lnTo>
                  <a:lnTo>
                    <a:pt x="3138" y="1870"/>
                  </a:lnTo>
                  <a:lnTo>
                    <a:pt x="3132" y="1890"/>
                  </a:lnTo>
                  <a:lnTo>
                    <a:pt x="3125" y="1913"/>
                  </a:lnTo>
                  <a:lnTo>
                    <a:pt x="3120" y="1933"/>
                  </a:lnTo>
                  <a:lnTo>
                    <a:pt x="3118" y="1951"/>
                  </a:lnTo>
                  <a:lnTo>
                    <a:pt x="3117" y="1965"/>
                  </a:lnTo>
                  <a:lnTo>
                    <a:pt x="3115" y="1976"/>
                  </a:lnTo>
                  <a:lnTo>
                    <a:pt x="3108" y="1986"/>
                  </a:lnTo>
                  <a:lnTo>
                    <a:pt x="3100" y="1993"/>
                  </a:lnTo>
                  <a:lnTo>
                    <a:pt x="3093" y="1996"/>
                  </a:lnTo>
                  <a:lnTo>
                    <a:pt x="3078" y="2003"/>
                  </a:lnTo>
                  <a:lnTo>
                    <a:pt x="3057" y="2013"/>
                  </a:lnTo>
                  <a:lnTo>
                    <a:pt x="3028" y="2026"/>
                  </a:lnTo>
                  <a:lnTo>
                    <a:pt x="2997" y="2040"/>
                  </a:lnTo>
                  <a:lnTo>
                    <a:pt x="2962" y="2056"/>
                  </a:lnTo>
                  <a:lnTo>
                    <a:pt x="2923" y="2073"/>
                  </a:lnTo>
                  <a:lnTo>
                    <a:pt x="2885" y="2090"/>
                  </a:lnTo>
                  <a:lnTo>
                    <a:pt x="2845" y="2108"/>
                  </a:lnTo>
                  <a:lnTo>
                    <a:pt x="2806" y="2125"/>
                  </a:lnTo>
                  <a:lnTo>
                    <a:pt x="2770" y="2141"/>
                  </a:lnTo>
                  <a:lnTo>
                    <a:pt x="2736" y="2155"/>
                  </a:lnTo>
                  <a:lnTo>
                    <a:pt x="2708" y="2168"/>
                  </a:lnTo>
                  <a:lnTo>
                    <a:pt x="2685" y="2180"/>
                  </a:lnTo>
                  <a:lnTo>
                    <a:pt x="2668" y="2188"/>
                  </a:lnTo>
                  <a:lnTo>
                    <a:pt x="2658" y="2193"/>
                  </a:lnTo>
                  <a:lnTo>
                    <a:pt x="2645" y="2200"/>
                  </a:lnTo>
                  <a:lnTo>
                    <a:pt x="2628" y="2205"/>
                  </a:lnTo>
                  <a:lnTo>
                    <a:pt x="2608" y="2208"/>
                  </a:lnTo>
                  <a:lnTo>
                    <a:pt x="2586" y="2211"/>
                  </a:lnTo>
                  <a:lnTo>
                    <a:pt x="2561" y="2215"/>
                  </a:lnTo>
                  <a:lnTo>
                    <a:pt x="2535" y="2220"/>
                  </a:lnTo>
                  <a:lnTo>
                    <a:pt x="2508" y="2225"/>
                  </a:lnTo>
                  <a:lnTo>
                    <a:pt x="2481" y="2231"/>
                  </a:lnTo>
                  <a:lnTo>
                    <a:pt x="2466" y="2235"/>
                  </a:lnTo>
                  <a:lnTo>
                    <a:pt x="2446" y="2240"/>
                  </a:lnTo>
                  <a:lnTo>
                    <a:pt x="2425" y="2245"/>
                  </a:lnTo>
                  <a:lnTo>
                    <a:pt x="2398" y="2252"/>
                  </a:lnTo>
                  <a:lnTo>
                    <a:pt x="2371" y="2258"/>
                  </a:lnTo>
                  <a:lnTo>
                    <a:pt x="2343" y="2265"/>
                  </a:lnTo>
                  <a:lnTo>
                    <a:pt x="2313" y="2272"/>
                  </a:lnTo>
                  <a:lnTo>
                    <a:pt x="2283" y="2278"/>
                  </a:lnTo>
                  <a:lnTo>
                    <a:pt x="2253" y="2285"/>
                  </a:lnTo>
                  <a:lnTo>
                    <a:pt x="2224" y="2293"/>
                  </a:lnTo>
                  <a:lnTo>
                    <a:pt x="2198" y="2300"/>
                  </a:lnTo>
                  <a:lnTo>
                    <a:pt x="2173" y="2307"/>
                  </a:lnTo>
                  <a:lnTo>
                    <a:pt x="2151" y="2312"/>
                  </a:lnTo>
                  <a:lnTo>
                    <a:pt x="2134" y="2318"/>
                  </a:lnTo>
                  <a:lnTo>
                    <a:pt x="2119" y="2323"/>
                  </a:lnTo>
                  <a:lnTo>
                    <a:pt x="2111" y="2327"/>
                  </a:lnTo>
                  <a:lnTo>
                    <a:pt x="2098" y="2333"/>
                  </a:lnTo>
                  <a:lnTo>
                    <a:pt x="2086" y="2338"/>
                  </a:lnTo>
                  <a:lnTo>
                    <a:pt x="2071" y="2347"/>
                  </a:lnTo>
                  <a:lnTo>
                    <a:pt x="2058" y="2353"/>
                  </a:lnTo>
                  <a:lnTo>
                    <a:pt x="2043" y="2365"/>
                  </a:lnTo>
                  <a:lnTo>
                    <a:pt x="2028" y="2378"/>
                  </a:lnTo>
                  <a:lnTo>
                    <a:pt x="2011" y="2398"/>
                  </a:lnTo>
                  <a:lnTo>
                    <a:pt x="1993" y="2422"/>
                  </a:lnTo>
                  <a:lnTo>
                    <a:pt x="1976" y="2447"/>
                  </a:lnTo>
                  <a:lnTo>
                    <a:pt x="1961" y="2470"/>
                  </a:lnTo>
                  <a:lnTo>
                    <a:pt x="1946" y="2492"/>
                  </a:lnTo>
                  <a:lnTo>
                    <a:pt x="1933" y="2512"/>
                  </a:lnTo>
                  <a:lnTo>
                    <a:pt x="1923" y="2528"/>
                  </a:lnTo>
                  <a:lnTo>
                    <a:pt x="1913" y="2542"/>
                  </a:lnTo>
                  <a:lnTo>
                    <a:pt x="1904" y="2552"/>
                  </a:lnTo>
                  <a:lnTo>
                    <a:pt x="1898" y="2558"/>
                  </a:lnTo>
                  <a:lnTo>
                    <a:pt x="1891" y="2563"/>
                  </a:lnTo>
                  <a:lnTo>
                    <a:pt x="1884" y="2568"/>
                  </a:lnTo>
                  <a:lnTo>
                    <a:pt x="1874" y="2573"/>
                  </a:lnTo>
                  <a:lnTo>
                    <a:pt x="1864" y="2575"/>
                  </a:lnTo>
                  <a:lnTo>
                    <a:pt x="1853" y="2577"/>
                  </a:lnTo>
                  <a:lnTo>
                    <a:pt x="1843" y="2577"/>
                  </a:lnTo>
                  <a:lnTo>
                    <a:pt x="1833" y="2573"/>
                  </a:lnTo>
                  <a:lnTo>
                    <a:pt x="1823" y="2568"/>
                  </a:lnTo>
                  <a:lnTo>
                    <a:pt x="1814" y="2562"/>
                  </a:lnTo>
                  <a:lnTo>
                    <a:pt x="1806" y="2553"/>
                  </a:lnTo>
                  <a:lnTo>
                    <a:pt x="1799" y="2547"/>
                  </a:lnTo>
                  <a:lnTo>
                    <a:pt x="1794" y="2538"/>
                  </a:lnTo>
                  <a:lnTo>
                    <a:pt x="1787" y="2533"/>
                  </a:lnTo>
                  <a:lnTo>
                    <a:pt x="1781" y="2530"/>
                  </a:lnTo>
                  <a:lnTo>
                    <a:pt x="1772" y="2528"/>
                  </a:lnTo>
                  <a:lnTo>
                    <a:pt x="1764" y="2530"/>
                  </a:lnTo>
                  <a:lnTo>
                    <a:pt x="1752" y="2533"/>
                  </a:lnTo>
                  <a:lnTo>
                    <a:pt x="1739" y="2535"/>
                  </a:lnTo>
                  <a:lnTo>
                    <a:pt x="1722" y="2535"/>
                  </a:lnTo>
                  <a:lnTo>
                    <a:pt x="1704" y="2535"/>
                  </a:lnTo>
                  <a:lnTo>
                    <a:pt x="1684" y="2535"/>
                  </a:lnTo>
                  <a:lnTo>
                    <a:pt x="1666" y="2533"/>
                  </a:lnTo>
                  <a:lnTo>
                    <a:pt x="1647" y="2532"/>
                  </a:lnTo>
                  <a:lnTo>
                    <a:pt x="1632" y="2530"/>
                  </a:lnTo>
                  <a:lnTo>
                    <a:pt x="1617" y="2528"/>
                  </a:lnTo>
                  <a:lnTo>
                    <a:pt x="1602" y="2525"/>
                  </a:lnTo>
                  <a:lnTo>
                    <a:pt x="1589" y="2520"/>
                  </a:lnTo>
                  <a:lnTo>
                    <a:pt x="1574" y="2517"/>
                  </a:lnTo>
                  <a:lnTo>
                    <a:pt x="1561" y="2513"/>
                  </a:lnTo>
                  <a:lnTo>
                    <a:pt x="1549" y="2510"/>
                  </a:lnTo>
                  <a:lnTo>
                    <a:pt x="1537" y="2507"/>
                  </a:lnTo>
                  <a:lnTo>
                    <a:pt x="1527" y="2507"/>
                  </a:lnTo>
                  <a:lnTo>
                    <a:pt x="1514" y="2507"/>
                  </a:lnTo>
                  <a:lnTo>
                    <a:pt x="1492" y="2507"/>
                  </a:lnTo>
                  <a:lnTo>
                    <a:pt x="1466" y="2508"/>
                  </a:lnTo>
                  <a:lnTo>
                    <a:pt x="1436" y="2508"/>
                  </a:lnTo>
                  <a:lnTo>
                    <a:pt x="1409" y="2510"/>
                  </a:lnTo>
                  <a:lnTo>
                    <a:pt x="1386" y="2512"/>
                  </a:lnTo>
                  <a:lnTo>
                    <a:pt x="1369" y="2512"/>
                  </a:lnTo>
                  <a:lnTo>
                    <a:pt x="1362" y="2512"/>
                  </a:lnTo>
                  <a:lnTo>
                    <a:pt x="1361" y="2513"/>
                  </a:lnTo>
                  <a:lnTo>
                    <a:pt x="1356" y="2515"/>
                  </a:lnTo>
                  <a:lnTo>
                    <a:pt x="1349" y="2518"/>
                  </a:lnTo>
                  <a:lnTo>
                    <a:pt x="1339" y="2520"/>
                  </a:lnTo>
                  <a:lnTo>
                    <a:pt x="1329" y="2522"/>
                  </a:lnTo>
                  <a:lnTo>
                    <a:pt x="1317" y="2522"/>
                  </a:lnTo>
                  <a:lnTo>
                    <a:pt x="1304" y="2518"/>
                  </a:lnTo>
                  <a:lnTo>
                    <a:pt x="1292" y="2512"/>
                  </a:lnTo>
                  <a:lnTo>
                    <a:pt x="1281" y="2503"/>
                  </a:lnTo>
                  <a:lnTo>
                    <a:pt x="1272" y="2497"/>
                  </a:lnTo>
                  <a:lnTo>
                    <a:pt x="1266" y="2490"/>
                  </a:lnTo>
                  <a:lnTo>
                    <a:pt x="1261" y="2485"/>
                  </a:lnTo>
                  <a:lnTo>
                    <a:pt x="1256" y="2482"/>
                  </a:lnTo>
                  <a:lnTo>
                    <a:pt x="1250" y="2480"/>
                  </a:lnTo>
                  <a:lnTo>
                    <a:pt x="1245" y="2480"/>
                  </a:lnTo>
                  <a:lnTo>
                    <a:pt x="1239" y="2483"/>
                  </a:lnTo>
                  <a:lnTo>
                    <a:pt x="1232" y="2490"/>
                  </a:lnTo>
                  <a:lnTo>
                    <a:pt x="1235" y="2498"/>
                  </a:lnTo>
                  <a:lnTo>
                    <a:pt x="1240" y="2510"/>
                  </a:lnTo>
                  <a:lnTo>
                    <a:pt x="1239" y="2525"/>
                  </a:lnTo>
                  <a:lnTo>
                    <a:pt x="1234" y="2545"/>
                  </a:lnTo>
                  <a:lnTo>
                    <a:pt x="1232" y="2567"/>
                  </a:lnTo>
                  <a:lnTo>
                    <a:pt x="1234" y="2587"/>
                  </a:lnTo>
                  <a:lnTo>
                    <a:pt x="1234" y="2602"/>
                  </a:lnTo>
                  <a:lnTo>
                    <a:pt x="1230" y="2615"/>
                  </a:lnTo>
                  <a:lnTo>
                    <a:pt x="1225" y="2630"/>
                  </a:lnTo>
                  <a:lnTo>
                    <a:pt x="1219" y="2643"/>
                  </a:lnTo>
                  <a:lnTo>
                    <a:pt x="1215" y="2648"/>
                  </a:lnTo>
                  <a:lnTo>
                    <a:pt x="1177" y="2678"/>
                  </a:lnTo>
                  <a:lnTo>
                    <a:pt x="1175" y="2672"/>
                  </a:lnTo>
                  <a:lnTo>
                    <a:pt x="1170" y="2657"/>
                  </a:lnTo>
                  <a:lnTo>
                    <a:pt x="1167" y="2640"/>
                  </a:lnTo>
                  <a:lnTo>
                    <a:pt x="1167" y="2625"/>
                  </a:lnTo>
                  <a:lnTo>
                    <a:pt x="1167" y="2613"/>
                  </a:lnTo>
                  <a:lnTo>
                    <a:pt x="1164" y="2598"/>
                  </a:lnTo>
                  <a:lnTo>
                    <a:pt x="1154" y="2583"/>
                  </a:lnTo>
                  <a:lnTo>
                    <a:pt x="1144" y="2568"/>
                  </a:lnTo>
                  <a:lnTo>
                    <a:pt x="1134" y="2555"/>
                  </a:lnTo>
                  <a:lnTo>
                    <a:pt x="1124" y="2543"/>
                  </a:lnTo>
                  <a:lnTo>
                    <a:pt x="1115" y="2532"/>
                  </a:lnTo>
                  <a:lnTo>
                    <a:pt x="1110" y="2522"/>
                  </a:lnTo>
                  <a:lnTo>
                    <a:pt x="1107" y="2508"/>
                  </a:lnTo>
                  <a:lnTo>
                    <a:pt x="1104" y="2492"/>
                  </a:lnTo>
                  <a:lnTo>
                    <a:pt x="1095" y="2475"/>
                  </a:lnTo>
                  <a:lnTo>
                    <a:pt x="1082" y="2458"/>
                  </a:lnTo>
                  <a:lnTo>
                    <a:pt x="1072" y="2450"/>
                  </a:lnTo>
                  <a:lnTo>
                    <a:pt x="1059" y="2437"/>
                  </a:lnTo>
                  <a:lnTo>
                    <a:pt x="1044" y="2423"/>
                  </a:lnTo>
                  <a:lnTo>
                    <a:pt x="1029" y="2405"/>
                  </a:lnTo>
                  <a:lnTo>
                    <a:pt x="1014" y="2387"/>
                  </a:lnTo>
                  <a:lnTo>
                    <a:pt x="999" y="2368"/>
                  </a:lnTo>
                  <a:lnTo>
                    <a:pt x="987" y="2350"/>
                  </a:lnTo>
                  <a:lnTo>
                    <a:pt x="979" y="2332"/>
                  </a:lnTo>
                  <a:lnTo>
                    <a:pt x="964" y="2302"/>
                  </a:lnTo>
                  <a:lnTo>
                    <a:pt x="949" y="2280"/>
                  </a:lnTo>
                  <a:lnTo>
                    <a:pt x="937" y="2263"/>
                  </a:lnTo>
                  <a:lnTo>
                    <a:pt x="930" y="2245"/>
                  </a:lnTo>
                  <a:lnTo>
                    <a:pt x="927" y="2231"/>
                  </a:lnTo>
                  <a:lnTo>
                    <a:pt x="920" y="2211"/>
                  </a:lnTo>
                  <a:lnTo>
                    <a:pt x="910" y="2190"/>
                  </a:lnTo>
                  <a:lnTo>
                    <a:pt x="900" y="2166"/>
                  </a:lnTo>
                  <a:lnTo>
                    <a:pt x="890" y="2143"/>
                  </a:lnTo>
                  <a:lnTo>
                    <a:pt x="880" y="2123"/>
                  </a:lnTo>
                  <a:lnTo>
                    <a:pt x="870" y="2108"/>
                  </a:lnTo>
                  <a:lnTo>
                    <a:pt x="864" y="2098"/>
                  </a:lnTo>
                  <a:lnTo>
                    <a:pt x="854" y="2085"/>
                  </a:lnTo>
                  <a:lnTo>
                    <a:pt x="845" y="2071"/>
                  </a:lnTo>
                  <a:lnTo>
                    <a:pt x="834" y="2056"/>
                  </a:lnTo>
                  <a:lnTo>
                    <a:pt x="822" y="2041"/>
                  </a:lnTo>
                  <a:lnTo>
                    <a:pt x="814" y="2033"/>
                  </a:lnTo>
                  <a:lnTo>
                    <a:pt x="802" y="2025"/>
                  </a:lnTo>
                  <a:lnTo>
                    <a:pt x="790" y="2018"/>
                  </a:lnTo>
                  <a:lnTo>
                    <a:pt x="779" y="2010"/>
                  </a:lnTo>
                  <a:lnTo>
                    <a:pt x="765" y="2003"/>
                  </a:lnTo>
                  <a:lnTo>
                    <a:pt x="752" y="1998"/>
                  </a:lnTo>
                  <a:lnTo>
                    <a:pt x="740" y="1995"/>
                  </a:lnTo>
                  <a:lnTo>
                    <a:pt x="730" y="1993"/>
                  </a:lnTo>
                  <a:lnTo>
                    <a:pt x="722" y="1991"/>
                  </a:lnTo>
                  <a:lnTo>
                    <a:pt x="717" y="1988"/>
                  </a:lnTo>
                  <a:lnTo>
                    <a:pt x="710" y="1983"/>
                  </a:lnTo>
                  <a:lnTo>
                    <a:pt x="705" y="1975"/>
                  </a:lnTo>
                  <a:lnTo>
                    <a:pt x="700" y="1966"/>
                  </a:lnTo>
                  <a:lnTo>
                    <a:pt x="693" y="1953"/>
                  </a:lnTo>
                  <a:lnTo>
                    <a:pt x="685" y="1940"/>
                  </a:lnTo>
                  <a:lnTo>
                    <a:pt x="673" y="1923"/>
                  </a:lnTo>
                  <a:lnTo>
                    <a:pt x="662" y="1905"/>
                  </a:lnTo>
                  <a:lnTo>
                    <a:pt x="652" y="1886"/>
                  </a:lnTo>
                  <a:lnTo>
                    <a:pt x="642" y="1868"/>
                  </a:lnTo>
                  <a:lnTo>
                    <a:pt x="635" y="1851"/>
                  </a:lnTo>
                  <a:lnTo>
                    <a:pt x="628" y="1833"/>
                  </a:lnTo>
                  <a:lnTo>
                    <a:pt x="623" y="1818"/>
                  </a:lnTo>
                  <a:lnTo>
                    <a:pt x="620" y="1803"/>
                  </a:lnTo>
                  <a:lnTo>
                    <a:pt x="617" y="1790"/>
                  </a:lnTo>
                  <a:lnTo>
                    <a:pt x="612" y="1765"/>
                  </a:lnTo>
                  <a:lnTo>
                    <a:pt x="603" y="1741"/>
                  </a:lnTo>
                  <a:lnTo>
                    <a:pt x="597" y="1724"/>
                  </a:lnTo>
                  <a:lnTo>
                    <a:pt x="593" y="1718"/>
                  </a:lnTo>
                  <a:lnTo>
                    <a:pt x="600" y="1706"/>
                  </a:lnTo>
                  <a:lnTo>
                    <a:pt x="610" y="1676"/>
                  </a:lnTo>
                  <a:lnTo>
                    <a:pt x="617" y="1636"/>
                  </a:lnTo>
                  <a:lnTo>
                    <a:pt x="607" y="1594"/>
                  </a:lnTo>
                  <a:lnTo>
                    <a:pt x="590" y="1559"/>
                  </a:lnTo>
                  <a:lnTo>
                    <a:pt x="582" y="1531"/>
                  </a:lnTo>
                  <a:lnTo>
                    <a:pt x="573" y="1503"/>
                  </a:lnTo>
                  <a:lnTo>
                    <a:pt x="560" y="1471"/>
                  </a:lnTo>
                  <a:lnTo>
                    <a:pt x="552" y="1454"/>
                  </a:lnTo>
                  <a:lnTo>
                    <a:pt x="547" y="1439"/>
                  </a:lnTo>
                  <a:lnTo>
                    <a:pt x="542" y="1426"/>
                  </a:lnTo>
                  <a:lnTo>
                    <a:pt x="537" y="1413"/>
                  </a:lnTo>
                  <a:lnTo>
                    <a:pt x="532" y="1401"/>
                  </a:lnTo>
                  <a:lnTo>
                    <a:pt x="525" y="1393"/>
                  </a:lnTo>
                  <a:lnTo>
                    <a:pt x="518" y="1383"/>
                  </a:lnTo>
                  <a:lnTo>
                    <a:pt x="508" y="1376"/>
                  </a:lnTo>
                  <a:lnTo>
                    <a:pt x="497" y="1369"/>
                  </a:lnTo>
                  <a:lnTo>
                    <a:pt x="487" y="1361"/>
                  </a:lnTo>
                  <a:lnTo>
                    <a:pt x="475" y="1354"/>
                  </a:lnTo>
                  <a:lnTo>
                    <a:pt x="463" y="1346"/>
                  </a:lnTo>
                  <a:lnTo>
                    <a:pt x="452" y="1338"/>
                  </a:lnTo>
                  <a:lnTo>
                    <a:pt x="440" y="1329"/>
                  </a:lnTo>
                  <a:lnTo>
                    <a:pt x="427" y="1323"/>
                  </a:lnTo>
                  <a:lnTo>
                    <a:pt x="413" y="1316"/>
                  </a:lnTo>
                  <a:lnTo>
                    <a:pt x="392" y="1303"/>
                  </a:lnTo>
                  <a:lnTo>
                    <a:pt x="382" y="1286"/>
                  </a:lnTo>
                  <a:lnTo>
                    <a:pt x="375" y="1268"/>
                  </a:lnTo>
                  <a:lnTo>
                    <a:pt x="365" y="1249"/>
                  </a:lnTo>
                  <a:lnTo>
                    <a:pt x="355" y="1232"/>
                  </a:lnTo>
                  <a:lnTo>
                    <a:pt x="348" y="1219"/>
                  </a:lnTo>
                  <a:lnTo>
                    <a:pt x="347" y="1209"/>
                  </a:lnTo>
                  <a:lnTo>
                    <a:pt x="347" y="1206"/>
                  </a:lnTo>
                  <a:lnTo>
                    <a:pt x="348" y="1206"/>
                  </a:lnTo>
                  <a:lnTo>
                    <a:pt x="353" y="1204"/>
                  </a:lnTo>
                  <a:lnTo>
                    <a:pt x="360" y="1201"/>
                  </a:lnTo>
                  <a:lnTo>
                    <a:pt x="367" y="1194"/>
                  </a:lnTo>
                  <a:lnTo>
                    <a:pt x="370" y="1187"/>
                  </a:lnTo>
                  <a:lnTo>
                    <a:pt x="370" y="1176"/>
                  </a:lnTo>
                  <a:lnTo>
                    <a:pt x="365" y="1162"/>
                  </a:lnTo>
                  <a:lnTo>
                    <a:pt x="352" y="1144"/>
                  </a:lnTo>
                  <a:lnTo>
                    <a:pt x="330" y="1122"/>
                  </a:lnTo>
                  <a:lnTo>
                    <a:pt x="327" y="1122"/>
                  </a:lnTo>
                  <a:lnTo>
                    <a:pt x="330" y="1126"/>
                  </a:lnTo>
                  <a:lnTo>
                    <a:pt x="327" y="1112"/>
                  </a:lnTo>
                  <a:lnTo>
                    <a:pt x="320" y="1091"/>
                  </a:lnTo>
                  <a:lnTo>
                    <a:pt x="315" y="1076"/>
                  </a:lnTo>
                  <a:lnTo>
                    <a:pt x="308" y="1066"/>
                  </a:lnTo>
                  <a:lnTo>
                    <a:pt x="293" y="1054"/>
                  </a:lnTo>
                  <a:lnTo>
                    <a:pt x="283" y="1039"/>
                  </a:lnTo>
                  <a:lnTo>
                    <a:pt x="285" y="1024"/>
                  </a:lnTo>
                  <a:lnTo>
                    <a:pt x="287" y="1011"/>
                  </a:lnTo>
                  <a:lnTo>
                    <a:pt x="275" y="997"/>
                  </a:lnTo>
                  <a:lnTo>
                    <a:pt x="257" y="986"/>
                  </a:lnTo>
                  <a:lnTo>
                    <a:pt x="243" y="971"/>
                  </a:lnTo>
                  <a:lnTo>
                    <a:pt x="235" y="954"/>
                  </a:lnTo>
                  <a:lnTo>
                    <a:pt x="232" y="936"/>
                  </a:lnTo>
                  <a:lnTo>
                    <a:pt x="228" y="916"/>
                  </a:lnTo>
                  <a:lnTo>
                    <a:pt x="218" y="889"/>
                  </a:lnTo>
                  <a:lnTo>
                    <a:pt x="205" y="862"/>
                  </a:lnTo>
                  <a:lnTo>
                    <a:pt x="185" y="836"/>
                  </a:lnTo>
                  <a:lnTo>
                    <a:pt x="172" y="814"/>
                  </a:lnTo>
                  <a:lnTo>
                    <a:pt x="168" y="796"/>
                  </a:lnTo>
                  <a:lnTo>
                    <a:pt x="167" y="782"/>
                  </a:lnTo>
                  <a:lnTo>
                    <a:pt x="157" y="774"/>
                  </a:lnTo>
                  <a:lnTo>
                    <a:pt x="145" y="766"/>
                  </a:lnTo>
                  <a:lnTo>
                    <a:pt x="140" y="754"/>
                  </a:lnTo>
                  <a:lnTo>
                    <a:pt x="133" y="739"/>
                  </a:lnTo>
                  <a:lnTo>
                    <a:pt x="118" y="722"/>
                  </a:lnTo>
                  <a:lnTo>
                    <a:pt x="100" y="700"/>
                  </a:lnTo>
                  <a:lnTo>
                    <a:pt x="86" y="674"/>
                  </a:lnTo>
                  <a:lnTo>
                    <a:pt x="78" y="652"/>
                  </a:lnTo>
                  <a:lnTo>
                    <a:pt x="75" y="642"/>
                  </a:lnTo>
                  <a:lnTo>
                    <a:pt x="70" y="642"/>
                  </a:lnTo>
                  <a:lnTo>
                    <a:pt x="60" y="642"/>
                  </a:lnTo>
                  <a:lnTo>
                    <a:pt x="45" y="642"/>
                  </a:lnTo>
                  <a:lnTo>
                    <a:pt x="33" y="642"/>
                  </a:lnTo>
                  <a:lnTo>
                    <a:pt x="21" y="642"/>
                  </a:lnTo>
                  <a:lnTo>
                    <a:pt x="11" y="644"/>
                  </a:lnTo>
                  <a:lnTo>
                    <a:pt x="3" y="645"/>
                  </a:lnTo>
                  <a:lnTo>
                    <a:pt x="0" y="645"/>
                  </a:lnTo>
                  <a:lnTo>
                    <a:pt x="1" y="642"/>
                  </a:lnTo>
                  <a:lnTo>
                    <a:pt x="5" y="632"/>
                  </a:lnTo>
                  <a:lnTo>
                    <a:pt x="8" y="620"/>
                  </a:lnTo>
                  <a:lnTo>
                    <a:pt x="13" y="609"/>
                  </a:lnTo>
                  <a:lnTo>
                    <a:pt x="20" y="592"/>
                  </a:lnTo>
                  <a:lnTo>
                    <a:pt x="28" y="569"/>
                  </a:lnTo>
                  <a:lnTo>
                    <a:pt x="35" y="542"/>
                  </a:lnTo>
                  <a:lnTo>
                    <a:pt x="38" y="517"/>
                  </a:lnTo>
                  <a:lnTo>
                    <a:pt x="40" y="500"/>
                  </a:lnTo>
                  <a:lnTo>
                    <a:pt x="43" y="489"/>
                  </a:lnTo>
                  <a:lnTo>
                    <a:pt x="50" y="480"/>
                  </a:lnTo>
                  <a:lnTo>
                    <a:pt x="56" y="470"/>
                  </a:lnTo>
                  <a:lnTo>
                    <a:pt x="61" y="457"/>
                  </a:lnTo>
                  <a:lnTo>
                    <a:pt x="65" y="442"/>
                  </a:lnTo>
                  <a:lnTo>
                    <a:pt x="66" y="429"/>
                  </a:lnTo>
                  <a:lnTo>
                    <a:pt x="66" y="424"/>
                  </a:lnTo>
                  <a:lnTo>
                    <a:pt x="232" y="465"/>
                  </a:lnTo>
                  <a:lnTo>
                    <a:pt x="235" y="464"/>
                  </a:lnTo>
                  <a:lnTo>
                    <a:pt x="243" y="457"/>
                  </a:lnTo>
                  <a:lnTo>
                    <a:pt x="257" y="450"/>
                  </a:lnTo>
                  <a:lnTo>
                    <a:pt x="270" y="439"/>
                  </a:lnTo>
                  <a:lnTo>
                    <a:pt x="285" y="429"/>
                  </a:lnTo>
                  <a:lnTo>
                    <a:pt x="298" y="417"/>
                  </a:lnTo>
                  <a:lnTo>
                    <a:pt x="308" y="407"/>
                  </a:lnTo>
                  <a:lnTo>
                    <a:pt x="313" y="399"/>
                  </a:lnTo>
                  <a:lnTo>
                    <a:pt x="318" y="384"/>
                  </a:lnTo>
                  <a:lnTo>
                    <a:pt x="325" y="369"/>
                  </a:lnTo>
                  <a:lnTo>
                    <a:pt x="330" y="357"/>
                  </a:lnTo>
                  <a:lnTo>
                    <a:pt x="332" y="352"/>
                  </a:lnTo>
                  <a:lnTo>
                    <a:pt x="335" y="352"/>
                  </a:lnTo>
                  <a:lnTo>
                    <a:pt x="342" y="352"/>
                  </a:lnTo>
                  <a:lnTo>
                    <a:pt x="353" y="352"/>
                  </a:lnTo>
                  <a:lnTo>
                    <a:pt x="367" y="350"/>
                  </a:lnTo>
                  <a:lnTo>
                    <a:pt x="382" y="350"/>
                  </a:lnTo>
                  <a:lnTo>
                    <a:pt x="398" y="347"/>
                  </a:lnTo>
                  <a:lnTo>
                    <a:pt x="413" y="345"/>
                  </a:lnTo>
                  <a:lnTo>
                    <a:pt x="427" y="342"/>
                  </a:lnTo>
                  <a:lnTo>
                    <a:pt x="438" y="337"/>
                  </a:lnTo>
                  <a:lnTo>
                    <a:pt x="447" y="329"/>
                  </a:lnTo>
                  <a:lnTo>
                    <a:pt x="455" y="319"/>
                  </a:lnTo>
                  <a:lnTo>
                    <a:pt x="462" y="309"/>
                  </a:lnTo>
                  <a:lnTo>
                    <a:pt x="468" y="299"/>
                  </a:lnTo>
                  <a:lnTo>
                    <a:pt x="475" y="290"/>
                  </a:lnTo>
                  <a:lnTo>
                    <a:pt x="483" y="284"/>
                  </a:lnTo>
                  <a:lnTo>
                    <a:pt x="493" y="280"/>
                  </a:lnTo>
                  <a:lnTo>
                    <a:pt x="508" y="275"/>
                  </a:lnTo>
                  <a:lnTo>
                    <a:pt x="513" y="269"/>
                  </a:lnTo>
                  <a:lnTo>
                    <a:pt x="513" y="264"/>
                  </a:lnTo>
                  <a:lnTo>
                    <a:pt x="512" y="262"/>
                  </a:lnTo>
                  <a:lnTo>
                    <a:pt x="380" y="90"/>
                  </a:lnTo>
                  <a:close/>
                </a:path>
              </a:pathLst>
            </a:custGeom>
            <a:solidFill>
              <a:srgbClr val="b2b2b2">
                <a:alpha val="30000"/>
              </a:srgbClr>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262" name="PlaceHolder 1"/>
          <p:cNvSpPr>
            <a:spLocks noGrp="1"/>
          </p:cNvSpPr>
          <p:nvPr>
            <p:ph/>
          </p:nvPr>
        </p:nvSpPr>
        <p:spPr>
          <a:xfrm>
            <a:off x="1218960" y="1218960"/>
            <a:ext cx="6933960" cy="5181480"/>
          </a:xfrm>
          <a:prstGeom prst="rect">
            <a:avLst/>
          </a:prstGeom>
          <a:noFill/>
          <a:ln w="0">
            <a:noFill/>
          </a:ln>
        </p:spPr>
        <p:txBody>
          <a:bodyPr lIns="90000" rIns="90000" tIns="46800" bIns="46800" anchor="t">
            <a:normAutofit/>
          </a:bodyPr>
          <a:p>
            <a:pPr marL="457200" indent="-457200">
              <a:lnSpc>
                <a:spcPct val="100000"/>
              </a:lnSpc>
              <a:spcBef>
                <a:spcPts val="601"/>
              </a:spcBef>
              <a:buClr>
                <a:srgbClr val="333399"/>
              </a:buClr>
              <a:buFont typeface="Albertus Medium"/>
              <a:buChar char="•"/>
              <a:tabLst>
                <a:tab algn="l" pos="1027080"/>
                <a:tab algn="l" pos="1941480"/>
                <a:tab algn="l" pos="2855880"/>
                <a:tab algn="l" pos="3770280"/>
                <a:tab algn="l" pos="4684680"/>
                <a:tab algn="l" pos="5599080"/>
                <a:tab algn="l" pos="6513480"/>
                <a:tab algn="l" pos="7427880"/>
                <a:tab algn="l" pos="8342280"/>
                <a:tab algn="l" pos="9256680"/>
                <a:tab algn="l" pos="10171080"/>
                <a:tab algn="l" pos="10515600"/>
              </a:tabLst>
            </a:pPr>
            <a:r>
              <a:rPr b="0" lang="en-GB" sz="2400" spc="-1" strike="noStrike">
                <a:solidFill>
                  <a:srgbClr val="333399"/>
                </a:solidFill>
                <a:latin typeface="Albertus Medium"/>
              </a:rPr>
              <a:t>There are 2 types of nanostructures A-Nanocomposite (where nanoscale particles incorporated into substance) B- free nanoparticles.</a:t>
            </a:r>
            <a:endParaRPr b="0" lang="en-US" sz="2400" spc="-1" strike="noStrike">
              <a:solidFill>
                <a:srgbClr val="000000"/>
              </a:solidFill>
              <a:latin typeface="Arial"/>
            </a:endParaRPr>
          </a:p>
          <a:p>
            <a:pPr marL="457200" indent="0">
              <a:lnSpc>
                <a:spcPct val="100000"/>
              </a:lnSpc>
              <a:spcBef>
                <a:spcPts val="349"/>
              </a:spcBef>
              <a:buNone/>
              <a:tabLst>
                <a:tab algn="l" pos="0"/>
                <a:tab algn="l" pos="1027080"/>
                <a:tab algn="l" pos="1941480"/>
                <a:tab algn="l" pos="2855880"/>
                <a:tab algn="l" pos="3770280"/>
                <a:tab algn="l" pos="4684680"/>
                <a:tab algn="l" pos="5599080"/>
                <a:tab algn="l" pos="6513480"/>
                <a:tab algn="l" pos="7427880"/>
                <a:tab algn="l" pos="8342280"/>
                <a:tab algn="l" pos="9256680"/>
                <a:tab algn="l" pos="10171080"/>
                <a:tab algn="l" pos="10515600"/>
              </a:tabLst>
            </a:pPr>
            <a:endParaRPr b="0" lang="en-US" sz="1400" spc="-1" strike="noStrike">
              <a:solidFill>
                <a:srgbClr val="000000"/>
              </a:solidFill>
              <a:latin typeface="Arial"/>
            </a:endParaRPr>
          </a:p>
          <a:p>
            <a:pPr marL="457200" indent="-457200">
              <a:lnSpc>
                <a:spcPct val="100000"/>
              </a:lnSpc>
              <a:spcBef>
                <a:spcPts val="601"/>
              </a:spcBef>
              <a:buClr>
                <a:srgbClr val="333399"/>
              </a:buClr>
              <a:buFont typeface="Albertus Medium"/>
              <a:buChar char="•"/>
              <a:tabLst>
                <a:tab algn="l" pos="1027080"/>
                <a:tab algn="l" pos="1941480"/>
                <a:tab algn="l" pos="2855880"/>
                <a:tab algn="l" pos="3770280"/>
                <a:tab algn="l" pos="4684680"/>
                <a:tab algn="l" pos="5599080"/>
                <a:tab algn="l" pos="6513480"/>
                <a:tab algn="l" pos="7427880"/>
                <a:tab algn="l" pos="8342280"/>
                <a:tab algn="l" pos="9256680"/>
                <a:tab algn="l" pos="10171080"/>
                <a:tab algn="l" pos="10515600"/>
              </a:tabLst>
            </a:pPr>
            <a:r>
              <a:rPr b="0" lang="en-GB" sz="2400" spc="-1" strike="noStrike">
                <a:solidFill>
                  <a:srgbClr val="333399"/>
                </a:solidFill>
                <a:latin typeface="Albertus Medium"/>
              </a:rPr>
              <a:t>Nanostructures developed through four projected phases:</a:t>
            </a:r>
            <a:endParaRPr b="0" lang="en-US" sz="2400" spc="-1" strike="noStrike">
              <a:solidFill>
                <a:srgbClr val="000000"/>
              </a:solidFill>
              <a:latin typeface="Arial"/>
            </a:endParaRPr>
          </a:p>
          <a:p>
            <a:pPr marL="457200" indent="0">
              <a:lnSpc>
                <a:spcPct val="100000"/>
              </a:lnSpc>
              <a:spcBef>
                <a:spcPts val="349"/>
              </a:spcBef>
              <a:buNone/>
              <a:tabLst>
                <a:tab algn="l" pos="0"/>
                <a:tab algn="l" pos="1027080"/>
                <a:tab algn="l" pos="1941480"/>
                <a:tab algn="l" pos="2855880"/>
                <a:tab algn="l" pos="3770280"/>
                <a:tab algn="l" pos="4684680"/>
                <a:tab algn="l" pos="5599080"/>
                <a:tab algn="l" pos="6513480"/>
                <a:tab algn="l" pos="7427880"/>
                <a:tab algn="l" pos="8342280"/>
                <a:tab algn="l" pos="9256680"/>
                <a:tab algn="l" pos="10171080"/>
                <a:tab algn="l" pos="10515600"/>
              </a:tabLst>
            </a:pPr>
            <a:endParaRPr b="0" lang="en-US" sz="1400" spc="-1" strike="noStrike">
              <a:solidFill>
                <a:srgbClr val="000000"/>
              </a:solidFill>
              <a:latin typeface="Arial"/>
            </a:endParaRPr>
          </a:p>
          <a:p>
            <a:pPr lvl="1" marL="836640" indent="-379440">
              <a:lnSpc>
                <a:spcPct val="100000"/>
              </a:lnSpc>
              <a:spcBef>
                <a:spcPts val="601"/>
              </a:spcBef>
              <a:buClr>
                <a:srgbClr val="333399"/>
              </a:buClr>
              <a:buFont typeface="Albertus Medium"/>
              <a:buAutoNum type="arabicPeriod"/>
              <a:tabLst>
                <a:tab algn="l" pos="1027080"/>
                <a:tab algn="l" pos="1941480"/>
                <a:tab algn="l" pos="2855880"/>
                <a:tab algn="l" pos="3770280"/>
                <a:tab algn="l" pos="4684680"/>
                <a:tab algn="l" pos="5599080"/>
                <a:tab algn="l" pos="6513480"/>
                <a:tab algn="l" pos="7427880"/>
                <a:tab algn="l" pos="8342280"/>
                <a:tab algn="l" pos="9256680"/>
                <a:tab algn="l" pos="10171080"/>
                <a:tab algn="l" pos="10515600"/>
              </a:tabLst>
            </a:pPr>
            <a:r>
              <a:rPr b="0" lang="en-GB" sz="2400" spc="-1" strike="noStrike">
                <a:solidFill>
                  <a:srgbClr val="333399"/>
                </a:solidFill>
                <a:latin typeface="Albertus Medium"/>
              </a:rPr>
              <a:t>Passive nanostructure : a nanomaterials  that perform one task for example sunscreen, coating polymers, ceramics</a:t>
            </a:r>
            <a:endParaRPr b="0" lang="en-US" sz="2400" spc="-1" strike="noStrike">
              <a:solidFill>
                <a:srgbClr val="000000"/>
              </a:solidFill>
              <a:latin typeface="Arial"/>
            </a:endParaRPr>
          </a:p>
          <a:p>
            <a:pPr lvl="1" marL="836640" indent="0">
              <a:lnSpc>
                <a:spcPct val="100000"/>
              </a:lnSpc>
              <a:spcBef>
                <a:spcPts val="349"/>
              </a:spcBef>
              <a:buNone/>
              <a:tabLst>
                <a:tab algn="l" pos="0"/>
                <a:tab algn="l" pos="1027080"/>
                <a:tab algn="l" pos="1941480"/>
                <a:tab algn="l" pos="2855880"/>
                <a:tab algn="l" pos="3770280"/>
                <a:tab algn="l" pos="4684680"/>
                <a:tab algn="l" pos="5599080"/>
                <a:tab algn="l" pos="6513480"/>
                <a:tab algn="l" pos="7427880"/>
                <a:tab algn="l" pos="8342280"/>
                <a:tab algn="l" pos="9256680"/>
                <a:tab algn="l" pos="10171080"/>
                <a:tab algn="l" pos="10515600"/>
              </a:tabLst>
            </a:pPr>
            <a:endParaRPr b="0" lang="en-US" sz="1400" spc="-1" strike="noStrike">
              <a:solidFill>
                <a:srgbClr val="000000"/>
              </a:solidFill>
              <a:latin typeface="Arial"/>
            </a:endParaRPr>
          </a:p>
          <a:p>
            <a:pPr lvl="1" marL="836640" indent="-379440">
              <a:lnSpc>
                <a:spcPct val="100000"/>
              </a:lnSpc>
              <a:spcBef>
                <a:spcPts val="601"/>
              </a:spcBef>
              <a:buClr>
                <a:srgbClr val="333399"/>
              </a:buClr>
              <a:buFont typeface="Albertus Medium"/>
              <a:buAutoNum type="arabicPeriod"/>
              <a:tabLst>
                <a:tab algn="l" pos="1027080"/>
                <a:tab algn="l" pos="1941480"/>
                <a:tab algn="l" pos="2855880"/>
                <a:tab algn="l" pos="3770280"/>
                <a:tab algn="l" pos="4684680"/>
                <a:tab algn="l" pos="5599080"/>
                <a:tab algn="l" pos="6513480"/>
                <a:tab algn="l" pos="7427880"/>
                <a:tab algn="l" pos="8342280"/>
                <a:tab algn="l" pos="9256680"/>
                <a:tab algn="l" pos="10171080"/>
                <a:tab algn="l" pos="10515600"/>
              </a:tabLst>
            </a:pPr>
            <a:r>
              <a:rPr b="0" lang="en-GB" sz="2400" spc="-1" strike="noStrike">
                <a:solidFill>
                  <a:srgbClr val="333399"/>
                </a:solidFill>
                <a:latin typeface="Albertus Medium"/>
              </a:rPr>
              <a:t>Active nanostructure: a multitasking Devices, eg; drug delivery device</a:t>
            </a:r>
            <a:endParaRPr b="0" lang="en-US" sz="2400" spc="-1" strike="noStrike">
              <a:solidFill>
                <a:srgbClr val="000000"/>
              </a:solidFill>
              <a:latin typeface="Arial"/>
            </a:endParaRPr>
          </a:p>
          <a:p>
            <a:pPr marL="457200" indent="0">
              <a:lnSpc>
                <a:spcPct val="100000"/>
              </a:lnSpc>
              <a:spcBef>
                <a:spcPts val="601"/>
              </a:spcBef>
              <a:buNone/>
              <a:tabLst>
                <a:tab algn="l" pos="0"/>
                <a:tab algn="l" pos="1027080"/>
                <a:tab algn="l" pos="1941480"/>
                <a:tab algn="l" pos="2855880"/>
                <a:tab algn="l" pos="3770280"/>
                <a:tab algn="l" pos="4684680"/>
                <a:tab algn="l" pos="5599080"/>
                <a:tab algn="l" pos="6513480"/>
                <a:tab algn="l" pos="7427880"/>
                <a:tab algn="l" pos="8342280"/>
                <a:tab algn="l" pos="9256680"/>
                <a:tab algn="l" pos="10171080"/>
                <a:tab algn="l" pos="10515600"/>
              </a:tabLst>
            </a:pPr>
            <a:endParaRPr b="0" lang="en-US" sz="2400" spc="-1" strike="noStrike">
              <a:solidFill>
                <a:srgbClr val="000000"/>
              </a:solidFill>
              <a:latin typeface="Arial"/>
            </a:endParaRPr>
          </a:p>
        </p:txBody>
      </p:sp>
      <p:sp>
        <p:nvSpPr>
          <p:cNvPr id="263" name=""/>
          <p:cNvSpPr/>
          <p:nvPr/>
        </p:nvSpPr>
        <p:spPr>
          <a:xfrm>
            <a:off x="609480" y="6629400"/>
            <a:ext cx="8534520" cy="228600"/>
          </a:xfrm>
          <a:prstGeom prst="rect">
            <a:avLst/>
          </a:prstGeom>
          <a:solidFill>
            <a:srgbClr val="bbe0e3"/>
          </a:solidFill>
          <a:ln cap="sq"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000" spc="-1" strike="noStrike">
                <a:solidFill>
                  <a:srgbClr val="333399"/>
                </a:solidFill>
                <a:latin typeface="Albertus Medium"/>
              </a:rPr>
              <a:t>www.skinandallergy.org</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www.panarabderm.org</a:t>
            </a:r>
            <a:endParaRPr b="0" lang="en-US" sz="10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64" name="" descr=""/>
          <p:cNvPicPr/>
          <p:nvPr/>
        </p:nvPicPr>
        <p:blipFill>
          <a:blip r:embed="rId2"/>
          <a:stretch/>
        </p:blipFill>
        <p:spPr>
          <a:xfrm>
            <a:off x="8153280" y="74520"/>
            <a:ext cx="922320" cy="992160"/>
          </a:xfrm>
          <a:prstGeom prst="rect">
            <a:avLst/>
          </a:prstGeom>
          <a:ln w="0">
            <a:noFill/>
          </a:ln>
        </p:spPr>
      </p:pic>
      <p:sp>
        <p:nvSpPr>
          <p:cNvPr id="265" name=""/>
          <p:cNvSpPr/>
          <p:nvPr/>
        </p:nvSpPr>
        <p:spPr>
          <a:xfrm>
            <a:off x="1295280" y="1066680"/>
            <a:ext cx="6193080" cy="1800"/>
          </a:xfrm>
          <a:prstGeom prst="line">
            <a:avLst/>
          </a:prstGeom>
          <a:ln cap="sq" w="12600">
            <a:solidFill>
              <a:srgbClr val="b2b2b2"/>
            </a:solidFill>
            <a:miter/>
          </a:ln>
        </p:spPr>
        <p:style>
          <a:lnRef idx="0"/>
          <a:fillRef idx="0"/>
          <a:effectRef idx="0"/>
          <a:fontRef idx="minor"/>
        </p:style>
        <p:txBody>
          <a:bodyPr lIns="90000" rIns="90000" tIns="-45000" bIns="-45000" anchor="t">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266" name="" descr=""/>
          <p:cNvPicPr/>
          <p:nvPr/>
        </p:nvPicPr>
        <p:blipFill>
          <a:blip r:embed="rId3"/>
          <a:stretch/>
        </p:blipFill>
        <p:spPr>
          <a:xfrm>
            <a:off x="0" y="0"/>
            <a:ext cx="600120" cy="6858000"/>
          </a:xfrm>
          <a:prstGeom prst="rect">
            <a:avLst/>
          </a:prstGeom>
          <a:ln w="0">
            <a:noFill/>
          </a:ln>
        </p:spPr>
      </p:pic>
      <p:sp>
        <p:nvSpPr>
          <p:cNvPr id="267" name=""/>
          <p:cNvSpPr/>
          <p:nvPr/>
        </p:nvSpPr>
        <p:spPr>
          <a:xfrm>
            <a:off x="0" y="457200"/>
            <a:ext cx="914400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600" spc="-1" strike="noStrike">
                <a:solidFill>
                  <a:srgbClr val="333399"/>
                </a:solidFill>
                <a:latin typeface="Albertus Medium"/>
              </a:rPr>
              <a:t>Nanostructures</a:t>
            </a:r>
            <a:endParaRPr b="0" lang="en-US" sz="3600" spc="-1" strike="noStrike">
              <a:solidFill>
                <a:srgbClr val="000000"/>
              </a:solidFill>
              <a:latin typeface="Arial"/>
            </a:endParaRPr>
          </a:p>
        </p:txBody>
      </p:sp>
      <p:pic>
        <p:nvPicPr>
          <p:cNvPr id="268" name="" descr=""/>
          <p:cNvPicPr/>
          <p:nvPr/>
        </p:nvPicPr>
        <p:blipFill>
          <a:blip r:embed="rId4"/>
          <a:stretch/>
        </p:blipFill>
        <p:spPr>
          <a:xfrm>
            <a:off x="1828800" y="2590920"/>
            <a:ext cx="5711760" cy="2735280"/>
          </a:xfrm>
          <a:prstGeom prst="rect">
            <a:avLst/>
          </a:prstGeom>
          <a:ln w="0">
            <a:noFill/>
          </a:ln>
        </p:spPr>
      </p:pic>
      <p:sp>
        <p:nvSpPr>
          <p:cNvPr id="269" name="PlaceHolder 1"/>
          <p:cNvSpPr>
            <a:spLocks noGrp="1"/>
          </p:cNvSpPr>
          <p:nvPr>
            <p:ph/>
          </p:nvPr>
        </p:nvSpPr>
        <p:spPr>
          <a:xfrm>
            <a:off x="1294920" y="1143000"/>
            <a:ext cx="7086600" cy="1295280"/>
          </a:xfrm>
          <a:prstGeom prst="rect">
            <a:avLst/>
          </a:prstGeom>
          <a:noFill/>
          <a:ln w="0">
            <a:noFill/>
          </a:ln>
        </p:spPr>
        <p:txBody>
          <a:bodyPr lIns="90000" rIns="90000" tIns="46800" bIns="46800" anchor="t">
            <a:normAutofit fontScale="99000"/>
          </a:bodyPr>
          <a:p>
            <a:pPr marL="3394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GB" sz="2200" spc="-1" strike="noStrike">
                <a:solidFill>
                  <a:srgbClr val="333399"/>
                </a:solidFill>
                <a:latin typeface="Albertus Medium"/>
              </a:rPr>
              <a:t>3. </a:t>
            </a:r>
            <a:r>
              <a:rPr b="0" lang="en-GB" sz="2000" spc="-1" strike="noStrike">
                <a:solidFill>
                  <a:srgbClr val="333399"/>
                </a:solidFill>
                <a:latin typeface="Albertus Medium"/>
              </a:rPr>
              <a:t>Nanosystems: Robotic or large number of interacting components e.g nanocomputers</a:t>
            </a:r>
            <a:endParaRPr b="0" lang="en-US" sz="2000" spc="-1" strike="noStrike">
              <a:solidFill>
                <a:srgbClr val="000000"/>
              </a:solidFill>
              <a:latin typeface="Arial"/>
            </a:endParaRPr>
          </a:p>
          <a:p>
            <a:pPr marL="339480" indent="0">
              <a:lnSpc>
                <a:spcPct val="80000"/>
              </a:lnSpc>
              <a:spcBef>
                <a:spcPts val="2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endParaRPr b="0" lang="en-US" sz="800" spc="-1" strike="noStrike">
              <a:solidFill>
                <a:srgbClr val="000000"/>
              </a:solidFill>
              <a:latin typeface="Arial"/>
            </a:endParaRPr>
          </a:p>
          <a:p>
            <a:pPr marL="3394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GB" sz="2200" spc="-1" strike="noStrike">
                <a:solidFill>
                  <a:srgbClr val="333399"/>
                </a:solidFill>
                <a:latin typeface="Albertus Medium"/>
              </a:rPr>
              <a:t>4. </a:t>
            </a:r>
            <a:r>
              <a:rPr b="0" lang="en-GB" sz="2000" spc="-1" strike="noStrike">
                <a:solidFill>
                  <a:srgbClr val="333399"/>
                </a:solidFill>
                <a:latin typeface="Albertus Medium"/>
              </a:rPr>
              <a:t>Molecular nanosystem or integrated nanosystems i.e. system within systems independent Nanomachines</a:t>
            </a:r>
            <a:endParaRPr b="0" lang="en-US" sz="2000" spc="-1" strike="noStrike">
              <a:solidFill>
                <a:srgbClr val="000000"/>
              </a:solidFill>
              <a:latin typeface="Arial"/>
            </a:endParaRPr>
          </a:p>
        </p:txBody>
      </p:sp>
      <p:sp>
        <p:nvSpPr>
          <p:cNvPr id="270" name=""/>
          <p:cNvSpPr/>
          <p:nvPr/>
        </p:nvSpPr>
        <p:spPr>
          <a:xfrm>
            <a:off x="1219320" y="5334120"/>
            <a:ext cx="6933960" cy="1066680"/>
          </a:xfrm>
          <a:prstGeom prst="rect">
            <a:avLst/>
          </a:prstGeom>
          <a:noFill/>
          <a:ln w="0">
            <a:noFill/>
          </a:ln>
        </p:spPr>
        <p:style>
          <a:lnRef idx="0"/>
          <a:fillRef idx="0"/>
          <a:effectRef idx="0"/>
          <a:fontRef idx="minor"/>
        </p:style>
        <p:txBody>
          <a:bodyPr lIns="90000" rIns="90000" tIns="46800" bIns="46800" anchor="t">
            <a:noAutofit/>
          </a:bodyPr>
          <a:p>
            <a:pPr marL="343080" indent="-341640" algn="ctr">
              <a:lnSpc>
                <a:spcPct val="100000"/>
              </a:lnSpc>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400" spc="-1" strike="noStrike">
                <a:solidFill>
                  <a:srgbClr val="333399"/>
                </a:solidFill>
                <a:latin typeface="Albertus Medium"/>
              </a:rPr>
              <a:t>	</a:t>
            </a:r>
            <a:r>
              <a:rPr b="0" lang="en-US" sz="2200" spc="-1" strike="noStrike">
                <a:solidFill>
                  <a:srgbClr val="333399"/>
                </a:solidFill>
                <a:latin typeface="Albertus Medium"/>
              </a:rPr>
              <a:t>A Rice University laboratory in Houston, where chemist James Tour and his colleagues have built one trillion nanoscopic cars </a:t>
            </a:r>
            <a:endParaRPr b="0" lang="en-US" sz="2200" spc="-1" strike="noStrike">
              <a:solidFill>
                <a:srgbClr val="000000"/>
              </a:solidFill>
              <a:latin typeface="Arial"/>
            </a:endParaRPr>
          </a:p>
        </p:txBody>
      </p:sp>
      <p:sp>
        <p:nvSpPr>
          <p:cNvPr id="271" name=""/>
          <p:cNvSpPr/>
          <p:nvPr/>
        </p:nvSpPr>
        <p:spPr>
          <a:xfrm>
            <a:off x="609480" y="6629400"/>
            <a:ext cx="8534520" cy="228600"/>
          </a:xfrm>
          <a:prstGeom prst="rect">
            <a:avLst/>
          </a:prstGeom>
          <a:solidFill>
            <a:srgbClr val="bbe0e3"/>
          </a:solidFill>
          <a:ln cap="sq"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000" spc="-1" strike="noStrike">
                <a:solidFill>
                  <a:srgbClr val="333399"/>
                </a:solidFill>
                <a:latin typeface="Albertus Medium"/>
              </a:rPr>
              <a:t>www.skinandallergy.org</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www.panarabderm.org</a:t>
            </a:r>
            <a:endParaRPr b="0" lang="en-US" sz="10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72" name="" descr=""/>
          <p:cNvPicPr/>
          <p:nvPr/>
        </p:nvPicPr>
        <p:blipFill>
          <a:blip r:embed="rId2"/>
          <a:stretch/>
        </p:blipFill>
        <p:spPr>
          <a:xfrm>
            <a:off x="8153280" y="74520"/>
            <a:ext cx="922320" cy="992160"/>
          </a:xfrm>
          <a:prstGeom prst="rect">
            <a:avLst/>
          </a:prstGeom>
          <a:ln w="0">
            <a:noFill/>
          </a:ln>
        </p:spPr>
      </p:pic>
      <p:sp>
        <p:nvSpPr>
          <p:cNvPr id="273" name=""/>
          <p:cNvSpPr/>
          <p:nvPr/>
        </p:nvSpPr>
        <p:spPr>
          <a:xfrm>
            <a:off x="1295280" y="1066680"/>
            <a:ext cx="6193080" cy="1800"/>
          </a:xfrm>
          <a:prstGeom prst="line">
            <a:avLst/>
          </a:prstGeom>
          <a:ln cap="sq" w="12600">
            <a:solidFill>
              <a:srgbClr val="b2b2b2"/>
            </a:solidFill>
            <a:miter/>
          </a:ln>
        </p:spPr>
        <p:style>
          <a:lnRef idx="0"/>
          <a:fillRef idx="0"/>
          <a:effectRef idx="0"/>
          <a:fontRef idx="minor"/>
        </p:style>
        <p:txBody>
          <a:bodyPr lIns="90000" rIns="90000" tIns="-45000" bIns="-45000" anchor="t">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274" name="" descr=""/>
          <p:cNvPicPr/>
          <p:nvPr/>
        </p:nvPicPr>
        <p:blipFill>
          <a:blip r:embed="rId3"/>
          <a:stretch/>
        </p:blipFill>
        <p:spPr>
          <a:xfrm>
            <a:off x="0" y="0"/>
            <a:ext cx="600120" cy="6858000"/>
          </a:xfrm>
          <a:prstGeom prst="rect">
            <a:avLst/>
          </a:prstGeom>
          <a:ln w="0">
            <a:noFill/>
          </a:ln>
        </p:spPr>
      </p:pic>
      <p:sp>
        <p:nvSpPr>
          <p:cNvPr id="275" name=""/>
          <p:cNvSpPr/>
          <p:nvPr/>
        </p:nvSpPr>
        <p:spPr>
          <a:xfrm>
            <a:off x="0" y="457200"/>
            <a:ext cx="914400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333399"/>
                </a:solidFill>
                <a:latin typeface="Albertus Medium"/>
              </a:rPr>
              <a:t>Nanotechnology in Medicine</a:t>
            </a:r>
            <a:endParaRPr b="0" lang="en-US" sz="3600" spc="-1" strike="noStrike">
              <a:solidFill>
                <a:srgbClr val="000000"/>
              </a:solidFill>
              <a:latin typeface="Arial"/>
            </a:endParaRPr>
          </a:p>
        </p:txBody>
      </p:sp>
      <p:grpSp>
        <p:nvGrpSpPr>
          <p:cNvPr id="276" name=""/>
          <p:cNvGrpSpPr/>
          <p:nvPr/>
        </p:nvGrpSpPr>
        <p:grpSpPr>
          <a:xfrm>
            <a:off x="2639880" y="1346040"/>
            <a:ext cx="4521240" cy="3986280"/>
            <a:chOff x="2639880" y="1346040"/>
            <a:chExt cx="4521240" cy="3986280"/>
          </a:xfrm>
        </p:grpSpPr>
        <p:sp>
          <p:nvSpPr>
            <p:cNvPr id="277" name=""/>
            <p:cNvSpPr/>
            <p:nvPr/>
          </p:nvSpPr>
          <p:spPr>
            <a:xfrm>
              <a:off x="2639880" y="2319480"/>
              <a:ext cx="1721160" cy="3012840"/>
            </a:xfrm>
            <a:custGeom>
              <a:avLst/>
              <a:gdLst/>
              <a:ahLst/>
              <a:rect l="l" t="t" r="r" b="b"/>
              <a:pathLst>
                <a:path w="1261" h="2255">
                  <a:moveTo>
                    <a:pt x="1257" y="2027"/>
                  </a:moveTo>
                  <a:lnTo>
                    <a:pt x="1257" y="2015"/>
                  </a:lnTo>
                  <a:lnTo>
                    <a:pt x="1252" y="2000"/>
                  </a:lnTo>
                  <a:lnTo>
                    <a:pt x="1244" y="1985"/>
                  </a:lnTo>
                  <a:lnTo>
                    <a:pt x="1232" y="1970"/>
                  </a:lnTo>
                  <a:lnTo>
                    <a:pt x="1222" y="1956"/>
                  </a:lnTo>
                  <a:lnTo>
                    <a:pt x="1212" y="1945"/>
                  </a:lnTo>
                  <a:lnTo>
                    <a:pt x="1204" y="1933"/>
                  </a:lnTo>
                  <a:lnTo>
                    <a:pt x="1199" y="1921"/>
                  </a:lnTo>
                  <a:lnTo>
                    <a:pt x="1197" y="1910"/>
                  </a:lnTo>
                  <a:lnTo>
                    <a:pt x="1192" y="1893"/>
                  </a:lnTo>
                  <a:lnTo>
                    <a:pt x="1186" y="1876"/>
                  </a:lnTo>
                  <a:lnTo>
                    <a:pt x="1171" y="1860"/>
                  </a:lnTo>
                  <a:lnTo>
                    <a:pt x="1161" y="1851"/>
                  </a:lnTo>
                  <a:lnTo>
                    <a:pt x="1147" y="1838"/>
                  </a:lnTo>
                  <a:lnTo>
                    <a:pt x="1132" y="1823"/>
                  </a:lnTo>
                  <a:lnTo>
                    <a:pt x="1117" y="1806"/>
                  </a:lnTo>
                  <a:lnTo>
                    <a:pt x="1102" y="1788"/>
                  </a:lnTo>
                  <a:lnTo>
                    <a:pt x="1087" y="1770"/>
                  </a:lnTo>
                  <a:lnTo>
                    <a:pt x="1076" y="1750"/>
                  </a:lnTo>
                  <a:lnTo>
                    <a:pt x="1067" y="1731"/>
                  </a:lnTo>
                  <a:lnTo>
                    <a:pt x="1052" y="1703"/>
                  </a:lnTo>
                  <a:lnTo>
                    <a:pt x="1037" y="1681"/>
                  </a:lnTo>
                  <a:lnTo>
                    <a:pt x="1026" y="1665"/>
                  </a:lnTo>
                  <a:lnTo>
                    <a:pt x="1019" y="1646"/>
                  </a:lnTo>
                  <a:lnTo>
                    <a:pt x="1016" y="1633"/>
                  </a:lnTo>
                  <a:lnTo>
                    <a:pt x="1009" y="1613"/>
                  </a:lnTo>
                  <a:lnTo>
                    <a:pt x="999" y="1591"/>
                  </a:lnTo>
                  <a:lnTo>
                    <a:pt x="989" y="1568"/>
                  </a:lnTo>
                  <a:lnTo>
                    <a:pt x="979" y="1545"/>
                  </a:lnTo>
                  <a:lnTo>
                    <a:pt x="969" y="1525"/>
                  </a:lnTo>
                  <a:lnTo>
                    <a:pt x="959" y="1508"/>
                  </a:lnTo>
                  <a:lnTo>
                    <a:pt x="952" y="1499"/>
                  </a:lnTo>
                  <a:lnTo>
                    <a:pt x="942" y="1486"/>
                  </a:lnTo>
                  <a:lnTo>
                    <a:pt x="934" y="1473"/>
                  </a:lnTo>
                  <a:lnTo>
                    <a:pt x="922" y="1458"/>
                  </a:lnTo>
                  <a:lnTo>
                    <a:pt x="911" y="1443"/>
                  </a:lnTo>
                  <a:lnTo>
                    <a:pt x="902" y="1434"/>
                  </a:lnTo>
                  <a:lnTo>
                    <a:pt x="891" y="1426"/>
                  </a:lnTo>
                  <a:lnTo>
                    <a:pt x="879" y="1419"/>
                  </a:lnTo>
                  <a:lnTo>
                    <a:pt x="867" y="1411"/>
                  </a:lnTo>
                  <a:lnTo>
                    <a:pt x="854" y="1404"/>
                  </a:lnTo>
                  <a:lnTo>
                    <a:pt x="842" y="1399"/>
                  </a:lnTo>
                  <a:lnTo>
                    <a:pt x="831" y="1396"/>
                  </a:lnTo>
                  <a:lnTo>
                    <a:pt x="820" y="1394"/>
                  </a:lnTo>
                  <a:lnTo>
                    <a:pt x="812" y="1393"/>
                  </a:lnTo>
                  <a:lnTo>
                    <a:pt x="805" y="1389"/>
                  </a:lnTo>
                  <a:lnTo>
                    <a:pt x="800" y="1384"/>
                  </a:lnTo>
                  <a:lnTo>
                    <a:pt x="794" y="1376"/>
                  </a:lnTo>
                  <a:lnTo>
                    <a:pt x="789" y="1368"/>
                  </a:lnTo>
                  <a:lnTo>
                    <a:pt x="782" y="1354"/>
                  </a:lnTo>
                  <a:lnTo>
                    <a:pt x="774" y="1341"/>
                  </a:lnTo>
                  <a:lnTo>
                    <a:pt x="762" y="1324"/>
                  </a:lnTo>
                  <a:lnTo>
                    <a:pt x="750" y="1306"/>
                  </a:lnTo>
                  <a:lnTo>
                    <a:pt x="740" y="1288"/>
                  </a:lnTo>
                  <a:lnTo>
                    <a:pt x="732" y="1269"/>
                  </a:lnTo>
                  <a:lnTo>
                    <a:pt x="724" y="1253"/>
                  </a:lnTo>
                  <a:lnTo>
                    <a:pt x="717" y="1234"/>
                  </a:lnTo>
                  <a:lnTo>
                    <a:pt x="712" y="1219"/>
                  </a:lnTo>
                  <a:lnTo>
                    <a:pt x="709" y="1204"/>
                  </a:lnTo>
                  <a:lnTo>
                    <a:pt x="705" y="1191"/>
                  </a:lnTo>
                  <a:lnTo>
                    <a:pt x="700" y="1166"/>
                  </a:lnTo>
                  <a:lnTo>
                    <a:pt x="692" y="1143"/>
                  </a:lnTo>
                  <a:lnTo>
                    <a:pt x="685" y="1126"/>
                  </a:lnTo>
                  <a:lnTo>
                    <a:pt x="682" y="1119"/>
                  </a:lnTo>
                  <a:lnTo>
                    <a:pt x="689" y="1108"/>
                  </a:lnTo>
                  <a:lnTo>
                    <a:pt x="700" y="1078"/>
                  </a:lnTo>
                  <a:lnTo>
                    <a:pt x="707" y="1038"/>
                  </a:lnTo>
                  <a:lnTo>
                    <a:pt x="697" y="996"/>
                  </a:lnTo>
                  <a:lnTo>
                    <a:pt x="680" y="961"/>
                  </a:lnTo>
                  <a:lnTo>
                    <a:pt x="670" y="932"/>
                  </a:lnTo>
                  <a:lnTo>
                    <a:pt x="662" y="904"/>
                  </a:lnTo>
                  <a:lnTo>
                    <a:pt x="649" y="872"/>
                  </a:lnTo>
                  <a:lnTo>
                    <a:pt x="640" y="856"/>
                  </a:lnTo>
                  <a:lnTo>
                    <a:pt x="635" y="839"/>
                  </a:lnTo>
                  <a:lnTo>
                    <a:pt x="630" y="826"/>
                  </a:lnTo>
                  <a:lnTo>
                    <a:pt x="625" y="814"/>
                  </a:lnTo>
                  <a:lnTo>
                    <a:pt x="620" y="802"/>
                  </a:lnTo>
                  <a:lnTo>
                    <a:pt x="614" y="792"/>
                  </a:lnTo>
                  <a:lnTo>
                    <a:pt x="607" y="784"/>
                  </a:lnTo>
                  <a:lnTo>
                    <a:pt x="597" y="777"/>
                  </a:lnTo>
                  <a:lnTo>
                    <a:pt x="587" y="771"/>
                  </a:lnTo>
                  <a:lnTo>
                    <a:pt x="575" y="762"/>
                  </a:lnTo>
                  <a:lnTo>
                    <a:pt x="565" y="754"/>
                  </a:lnTo>
                  <a:lnTo>
                    <a:pt x="554" y="744"/>
                  </a:lnTo>
                  <a:lnTo>
                    <a:pt x="542" y="736"/>
                  </a:lnTo>
                  <a:lnTo>
                    <a:pt x="529" y="729"/>
                  </a:lnTo>
                  <a:lnTo>
                    <a:pt x="515" y="721"/>
                  </a:lnTo>
                  <a:lnTo>
                    <a:pt x="502" y="716"/>
                  </a:lnTo>
                  <a:lnTo>
                    <a:pt x="480" y="702"/>
                  </a:lnTo>
                  <a:lnTo>
                    <a:pt x="470" y="686"/>
                  </a:lnTo>
                  <a:lnTo>
                    <a:pt x="464" y="667"/>
                  </a:lnTo>
                  <a:lnTo>
                    <a:pt x="454" y="649"/>
                  </a:lnTo>
                  <a:lnTo>
                    <a:pt x="444" y="634"/>
                  </a:lnTo>
                  <a:lnTo>
                    <a:pt x="437" y="621"/>
                  </a:lnTo>
                  <a:lnTo>
                    <a:pt x="435" y="611"/>
                  </a:lnTo>
                  <a:lnTo>
                    <a:pt x="435" y="607"/>
                  </a:lnTo>
                  <a:lnTo>
                    <a:pt x="437" y="607"/>
                  </a:lnTo>
                  <a:lnTo>
                    <a:pt x="442" y="606"/>
                  </a:lnTo>
                  <a:lnTo>
                    <a:pt x="449" y="602"/>
                  </a:lnTo>
                  <a:lnTo>
                    <a:pt x="455" y="596"/>
                  </a:lnTo>
                  <a:lnTo>
                    <a:pt x="459" y="589"/>
                  </a:lnTo>
                  <a:lnTo>
                    <a:pt x="459" y="577"/>
                  </a:lnTo>
                  <a:lnTo>
                    <a:pt x="454" y="564"/>
                  </a:lnTo>
                  <a:lnTo>
                    <a:pt x="440" y="546"/>
                  </a:lnTo>
                  <a:lnTo>
                    <a:pt x="434" y="539"/>
                  </a:lnTo>
                  <a:lnTo>
                    <a:pt x="429" y="532"/>
                  </a:lnTo>
                  <a:lnTo>
                    <a:pt x="424" y="529"/>
                  </a:lnTo>
                  <a:lnTo>
                    <a:pt x="420" y="526"/>
                  </a:lnTo>
                  <a:lnTo>
                    <a:pt x="419" y="527"/>
                  </a:lnTo>
                  <a:lnTo>
                    <a:pt x="415" y="526"/>
                  </a:lnTo>
                  <a:lnTo>
                    <a:pt x="415" y="522"/>
                  </a:lnTo>
                  <a:lnTo>
                    <a:pt x="420" y="526"/>
                  </a:lnTo>
                  <a:lnTo>
                    <a:pt x="420" y="524"/>
                  </a:lnTo>
                  <a:lnTo>
                    <a:pt x="419" y="521"/>
                  </a:lnTo>
                  <a:lnTo>
                    <a:pt x="419" y="517"/>
                  </a:lnTo>
                  <a:lnTo>
                    <a:pt x="417" y="512"/>
                  </a:lnTo>
                  <a:lnTo>
                    <a:pt x="409" y="490"/>
                  </a:lnTo>
                  <a:lnTo>
                    <a:pt x="405" y="477"/>
                  </a:lnTo>
                  <a:lnTo>
                    <a:pt x="399" y="467"/>
                  </a:lnTo>
                  <a:lnTo>
                    <a:pt x="384" y="455"/>
                  </a:lnTo>
                  <a:lnTo>
                    <a:pt x="372" y="440"/>
                  </a:lnTo>
                  <a:lnTo>
                    <a:pt x="374" y="425"/>
                  </a:lnTo>
                  <a:lnTo>
                    <a:pt x="375" y="412"/>
                  </a:lnTo>
                  <a:lnTo>
                    <a:pt x="364" y="399"/>
                  </a:lnTo>
                  <a:lnTo>
                    <a:pt x="345" y="387"/>
                  </a:lnTo>
                  <a:lnTo>
                    <a:pt x="332" y="372"/>
                  </a:lnTo>
                  <a:lnTo>
                    <a:pt x="325" y="355"/>
                  </a:lnTo>
                  <a:lnTo>
                    <a:pt x="322" y="337"/>
                  </a:lnTo>
                  <a:lnTo>
                    <a:pt x="319" y="317"/>
                  </a:lnTo>
                  <a:lnTo>
                    <a:pt x="309" y="290"/>
                  </a:lnTo>
                  <a:lnTo>
                    <a:pt x="294" y="264"/>
                  </a:lnTo>
                  <a:lnTo>
                    <a:pt x="273" y="237"/>
                  </a:lnTo>
                  <a:lnTo>
                    <a:pt x="260" y="215"/>
                  </a:lnTo>
                  <a:lnTo>
                    <a:pt x="257" y="197"/>
                  </a:lnTo>
                  <a:lnTo>
                    <a:pt x="255" y="184"/>
                  </a:lnTo>
                  <a:lnTo>
                    <a:pt x="245" y="175"/>
                  </a:lnTo>
                  <a:lnTo>
                    <a:pt x="233" y="167"/>
                  </a:lnTo>
                  <a:lnTo>
                    <a:pt x="228" y="154"/>
                  </a:lnTo>
                  <a:lnTo>
                    <a:pt x="222" y="140"/>
                  </a:lnTo>
                  <a:lnTo>
                    <a:pt x="207" y="124"/>
                  </a:lnTo>
                  <a:lnTo>
                    <a:pt x="188" y="100"/>
                  </a:lnTo>
                  <a:lnTo>
                    <a:pt x="175" y="74"/>
                  </a:lnTo>
                  <a:lnTo>
                    <a:pt x="168" y="52"/>
                  </a:lnTo>
                  <a:lnTo>
                    <a:pt x="165" y="42"/>
                  </a:lnTo>
                  <a:lnTo>
                    <a:pt x="160" y="42"/>
                  </a:lnTo>
                  <a:lnTo>
                    <a:pt x="148" y="42"/>
                  </a:lnTo>
                  <a:lnTo>
                    <a:pt x="133" y="42"/>
                  </a:lnTo>
                  <a:lnTo>
                    <a:pt x="122" y="42"/>
                  </a:lnTo>
                  <a:lnTo>
                    <a:pt x="110" y="42"/>
                  </a:lnTo>
                  <a:lnTo>
                    <a:pt x="100" y="44"/>
                  </a:lnTo>
                  <a:lnTo>
                    <a:pt x="92" y="47"/>
                  </a:lnTo>
                  <a:lnTo>
                    <a:pt x="88" y="47"/>
                  </a:lnTo>
                  <a:lnTo>
                    <a:pt x="90" y="44"/>
                  </a:lnTo>
                  <a:lnTo>
                    <a:pt x="93" y="34"/>
                  </a:lnTo>
                  <a:lnTo>
                    <a:pt x="98" y="20"/>
                  </a:lnTo>
                  <a:lnTo>
                    <a:pt x="103" y="8"/>
                  </a:lnTo>
                  <a:lnTo>
                    <a:pt x="103" y="8"/>
                  </a:lnTo>
                  <a:lnTo>
                    <a:pt x="103" y="8"/>
                  </a:lnTo>
                  <a:lnTo>
                    <a:pt x="103" y="8"/>
                  </a:lnTo>
                  <a:lnTo>
                    <a:pt x="103" y="8"/>
                  </a:lnTo>
                  <a:lnTo>
                    <a:pt x="67" y="0"/>
                  </a:lnTo>
                  <a:lnTo>
                    <a:pt x="67" y="5"/>
                  </a:lnTo>
                  <a:lnTo>
                    <a:pt x="65" y="19"/>
                  </a:lnTo>
                  <a:lnTo>
                    <a:pt x="62" y="34"/>
                  </a:lnTo>
                  <a:lnTo>
                    <a:pt x="57" y="47"/>
                  </a:lnTo>
                  <a:lnTo>
                    <a:pt x="50" y="57"/>
                  </a:lnTo>
                  <a:lnTo>
                    <a:pt x="45" y="65"/>
                  </a:lnTo>
                  <a:lnTo>
                    <a:pt x="40" y="79"/>
                  </a:lnTo>
                  <a:lnTo>
                    <a:pt x="38" y="95"/>
                  </a:lnTo>
                  <a:lnTo>
                    <a:pt x="35" y="119"/>
                  </a:lnTo>
                  <a:lnTo>
                    <a:pt x="28" y="145"/>
                  </a:lnTo>
                  <a:lnTo>
                    <a:pt x="20" y="169"/>
                  </a:lnTo>
                  <a:lnTo>
                    <a:pt x="15" y="185"/>
                  </a:lnTo>
                  <a:lnTo>
                    <a:pt x="10" y="197"/>
                  </a:lnTo>
                  <a:lnTo>
                    <a:pt x="5" y="209"/>
                  </a:lnTo>
                  <a:lnTo>
                    <a:pt x="2" y="220"/>
                  </a:lnTo>
                  <a:lnTo>
                    <a:pt x="0" y="224"/>
                  </a:lnTo>
                  <a:lnTo>
                    <a:pt x="3" y="224"/>
                  </a:lnTo>
                  <a:lnTo>
                    <a:pt x="12" y="220"/>
                  </a:lnTo>
                  <a:lnTo>
                    <a:pt x="23" y="219"/>
                  </a:lnTo>
                  <a:lnTo>
                    <a:pt x="33" y="219"/>
                  </a:lnTo>
                  <a:lnTo>
                    <a:pt x="47" y="219"/>
                  </a:lnTo>
                  <a:lnTo>
                    <a:pt x="60" y="219"/>
                  </a:lnTo>
                  <a:lnTo>
                    <a:pt x="72" y="219"/>
                  </a:lnTo>
                  <a:lnTo>
                    <a:pt x="77" y="219"/>
                  </a:lnTo>
                  <a:lnTo>
                    <a:pt x="80" y="229"/>
                  </a:lnTo>
                  <a:lnTo>
                    <a:pt x="87" y="250"/>
                  </a:lnTo>
                  <a:lnTo>
                    <a:pt x="100" y="277"/>
                  </a:lnTo>
                  <a:lnTo>
                    <a:pt x="118" y="299"/>
                  </a:lnTo>
                  <a:lnTo>
                    <a:pt x="133" y="315"/>
                  </a:lnTo>
                  <a:lnTo>
                    <a:pt x="140" y="330"/>
                  </a:lnTo>
                  <a:lnTo>
                    <a:pt x="145" y="342"/>
                  </a:lnTo>
                  <a:lnTo>
                    <a:pt x="157" y="352"/>
                  </a:lnTo>
                  <a:lnTo>
                    <a:pt x="167" y="360"/>
                  </a:lnTo>
                  <a:lnTo>
                    <a:pt x="168" y="374"/>
                  </a:lnTo>
                  <a:lnTo>
                    <a:pt x="172" y="390"/>
                  </a:lnTo>
                  <a:lnTo>
                    <a:pt x="185" y="414"/>
                  </a:lnTo>
                  <a:lnTo>
                    <a:pt x="205" y="440"/>
                  </a:lnTo>
                  <a:lnTo>
                    <a:pt x="220" y="467"/>
                  </a:lnTo>
                  <a:lnTo>
                    <a:pt x="230" y="492"/>
                  </a:lnTo>
                  <a:lnTo>
                    <a:pt x="233" y="512"/>
                  </a:lnTo>
                  <a:lnTo>
                    <a:pt x="237" y="531"/>
                  </a:lnTo>
                  <a:lnTo>
                    <a:pt x="243" y="547"/>
                  </a:lnTo>
                  <a:lnTo>
                    <a:pt x="257" y="562"/>
                  </a:lnTo>
                  <a:lnTo>
                    <a:pt x="275" y="574"/>
                  </a:lnTo>
                  <a:lnTo>
                    <a:pt x="287" y="587"/>
                  </a:lnTo>
                  <a:lnTo>
                    <a:pt x="285" y="601"/>
                  </a:lnTo>
                  <a:lnTo>
                    <a:pt x="284" y="617"/>
                  </a:lnTo>
                  <a:lnTo>
                    <a:pt x="295" y="632"/>
                  </a:lnTo>
                  <a:lnTo>
                    <a:pt x="310" y="642"/>
                  </a:lnTo>
                  <a:lnTo>
                    <a:pt x="317" y="652"/>
                  </a:lnTo>
                  <a:lnTo>
                    <a:pt x="320" y="666"/>
                  </a:lnTo>
                  <a:lnTo>
                    <a:pt x="329" y="687"/>
                  </a:lnTo>
                  <a:lnTo>
                    <a:pt x="330" y="692"/>
                  </a:lnTo>
                  <a:lnTo>
                    <a:pt x="330" y="696"/>
                  </a:lnTo>
                  <a:lnTo>
                    <a:pt x="332" y="697"/>
                  </a:lnTo>
                  <a:lnTo>
                    <a:pt x="332" y="699"/>
                  </a:lnTo>
                  <a:lnTo>
                    <a:pt x="335" y="702"/>
                  </a:lnTo>
                  <a:lnTo>
                    <a:pt x="340" y="707"/>
                  </a:lnTo>
                  <a:lnTo>
                    <a:pt x="345" y="712"/>
                  </a:lnTo>
                  <a:lnTo>
                    <a:pt x="352" y="721"/>
                  </a:lnTo>
                  <a:lnTo>
                    <a:pt x="365" y="737"/>
                  </a:lnTo>
                  <a:lnTo>
                    <a:pt x="370" y="752"/>
                  </a:lnTo>
                  <a:lnTo>
                    <a:pt x="370" y="762"/>
                  </a:lnTo>
                  <a:lnTo>
                    <a:pt x="367" y="771"/>
                  </a:lnTo>
                  <a:lnTo>
                    <a:pt x="360" y="776"/>
                  </a:lnTo>
                  <a:lnTo>
                    <a:pt x="354" y="781"/>
                  </a:lnTo>
                  <a:lnTo>
                    <a:pt x="349" y="782"/>
                  </a:lnTo>
                  <a:lnTo>
                    <a:pt x="347" y="782"/>
                  </a:lnTo>
                  <a:lnTo>
                    <a:pt x="347" y="786"/>
                  </a:lnTo>
                  <a:lnTo>
                    <a:pt x="350" y="794"/>
                  </a:lnTo>
                  <a:lnTo>
                    <a:pt x="355" y="807"/>
                  </a:lnTo>
                  <a:lnTo>
                    <a:pt x="367" y="824"/>
                  </a:lnTo>
                  <a:lnTo>
                    <a:pt x="377" y="842"/>
                  </a:lnTo>
                  <a:lnTo>
                    <a:pt x="384" y="862"/>
                  </a:lnTo>
                  <a:lnTo>
                    <a:pt x="392" y="877"/>
                  </a:lnTo>
                  <a:lnTo>
                    <a:pt x="414" y="891"/>
                  </a:lnTo>
                  <a:lnTo>
                    <a:pt x="427" y="897"/>
                  </a:lnTo>
                  <a:lnTo>
                    <a:pt x="440" y="904"/>
                  </a:lnTo>
                  <a:lnTo>
                    <a:pt x="454" y="912"/>
                  </a:lnTo>
                  <a:lnTo>
                    <a:pt x="465" y="921"/>
                  </a:lnTo>
                  <a:lnTo>
                    <a:pt x="477" y="929"/>
                  </a:lnTo>
                  <a:lnTo>
                    <a:pt x="487" y="937"/>
                  </a:lnTo>
                  <a:lnTo>
                    <a:pt x="499" y="946"/>
                  </a:lnTo>
                  <a:lnTo>
                    <a:pt x="509" y="952"/>
                  </a:lnTo>
                  <a:lnTo>
                    <a:pt x="519" y="961"/>
                  </a:lnTo>
                  <a:lnTo>
                    <a:pt x="525" y="969"/>
                  </a:lnTo>
                  <a:lnTo>
                    <a:pt x="532" y="979"/>
                  </a:lnTo>
                  <a:lnTo>
                    <a:pt x="537" y="989"/>
                  </a:lnTo>
                  <a:lnTo>
                    <a:pt x="542" y="1002"/>
                  </a:lnTo>
                  <a:lnTo>
                    <a:pt x="547" y="1016"/>
                  </a:lnTo>
                  <a:lnTo>
                    <a:pt x="552" y="1031"/>
                  </a:lnTo>
                  <a:lnTo>
                    <a:pt x="560" y="1048"/>
                  </a:lnTo>
                  <a:lnTo>
                    <a:pt x="574" y="1079"/>
                  </a:lnTo>
                  <a:lnTo>
                    <a:pt x="584" y="1108"/>
                  </a:lnTo>
                  <a:lnTo>
                    <a:pt x="592" y="1136"/>
                  </a:lnTo>
                  <a:lnTo>
                    <a:pt x="609" y="1171"/>
                  </a:lnTo>
                  <a:lnTo>
                    <a:pt x="619" y="1213"/>
                  </a:lnTo>
                  <a:lnTo>
                    <a:pt x="612" y="1253"/>
                  </a:lnTo>
                  <a:lnTo>
                    <a:pt x="600" y="1283"/>
                  </a:lnTo>
                  <a:lnTo>
                    <a:pt x="594" y="1294"/>
                  </a:lnTo>
                  <a:lnTo>
                    <a:pt x="597" y="1301"/>
                  </a:lnTo>
                  <a:lnTo>
                    <a:pt x="604" y="1318"/>
                  </a:lnTo>
                  <a:lnTo>
                    <a:pt x="612" y="1341"/>
                  </a:lnTo>
                  <a:lnTo>
                    <a:pt x="617" y="1366"/>
                  </a:lnTo>
                  <a:lnTo>
                    <a:pt x="620" y="1379"/>
                  </a:lnTo>
                  <a:lnTo>
                    <a:pt x="624" y="1394"/>
                  </a:lnTo>
                  <a:lnTo>
                    <a:pt x="629" y="1409"/>
                  </a:lnTo>
                  <a:lnTo>
                    <a:pt x="635" y="1428"/>
                  </a:lnTo>
                  <a:lnTo>
                    <a:pt x="644" y="1444"/>
                  </a:lnTo>
                  <a:lnTo>
                    <a:pt x="654" y="1463"/>
                  </a:lnTo>
                  <a:lnTo>
                    <a:pt x="664" y="1481"/>
                  </a:lnTo>
                  <a:lnTo>
                    <a:pt x="675" y="1499"/>
                  </a:lnTo>
                  <a:lnTo>
                    <a:pt x="687" y="1516"/>
                  </a:lnTo>
                  <a:lnTo>
                    <a:pt x="695" y="1531"/>
                  </a:lnTo>
                  <a:lnTo>
                    <a:pt x="702" y="1543"/>
                  </a:lnTo>
                  <a:lnTo>
                    <a:pt x="707" y="1553"/>
                  </a:lnTo>
                  <a:lnTo>
                    <a:pt x="712" y="1561"/>
                  </a:lnTo>
                  <a:lnTo>
                    <a:pt x="719" y="1566"/>
                  </a:lnTo>
                  <a:lnTo>
                    <a:pt x="724" y="1570"/>
                  </a:lnTo>
                  <a:lnTo>
                    <a:pt x="732" y="1571"/>
                  </a:lnTo>
                  <a:lnTo>
                    <a:pt x="742" y="1573"/>
                  </a:lnTo>
                  <a:lnTo>
                    <a:pt x="754" y="1576"/>
                  </a:lnTo>
                  <a:lnTo>
                    <a:pt x="765" y="1581"/>
                  </a:lnTo>
                  <a:lnTo>
                    <a:pt x="779" y="1588"/>
                  </a:lnTo>
                  <a:lnTo>
                    <a:pt x="792" y="1595"/>
                  </a:lnTo>
                  <a:lnTo>
                    <a:pt x="804" y="1603"/>
                  </a:lnTo>
                  <a:lnTo>
                    <a:pt x="814" y="1611"/>
                  </a:lnTo>
                  <a:lnTo>
                    <a:pt x="822" y="1618"/>
                  </a:lnTo>
                  <a:lnTo>
                    <a:pt x="834" y="1633"/>
                  </a:lnTo>
                  <a:lnTo>
                    <a:pt x="846" y="1648"/>
                  </a:lnTo>
                  <a:lnTo>
                    <a:pt x="856" y="1663"/>
                  </a:lnTo>
                  <a:lnTo>
                    <a:pt x="866" y="1675"/>
                  </a:lnTo>
                  <a:lnTo>
                    <a:pt x="872" y="1685"/>
                  </a:lnTo>
                  <a:lnTo>
                    <a:pt x="881" y="1700"/>
                  </a:lnTo>
                  <a:lnTo>
                    <a:pt x="891" y="1721"/>
                  </a:lnTo>
                  <a:lnTo>
                    <a:pt x="902" y="1743"/>
                  </a:lnTo>
                  <a:lnTo>
                    <a:pt x="912" y="1768"/>
                  </a:lnTo>
                  <a:lnTo>
                    <a:pt x="921" y="1790"/>
                  </a:lnTo>
                  <a:lnTo>
                    <a:pt x="927" y="1810"/>
                  </a:lnTo>
                  <a:lnTo>
                    <a:pt x="931" y="1823"/>
                  </a:lnTo>
                  <a:lnTo>
                    <a:pt x="937" y="1841"/>
                  </a:lnTo>
                  <a:lnTo>
                    <a:pt x="951" y="1858"/>
                  </a:lnTo>
                  <a:lnTo>
                    <a:pt x="964" y="1878"/>
                  </a:lnTo>
                  <a:lnTo>
                    <a:pt x="979" y="1908"/>
                  </a:lnTo>
                  <a:lnTo>
                    <a:pt x="987" y="1926"/>
                  </a:lnTo>
                  <a:lnTo>
                    <a:pt x="999" y="1945"/>
                  </a:lnTo>
                  <a:lnTo>
                    <a:pt x="1014" y="1965"/>
                  </a:lnTo>
                  <a:lnTo>
                    <a:pt x="1029" y="1981"/>
                  </a:lnTo>
                  <a:lnTo>
                    <a:pt x="1044" y="2000"/>
                  </a:lnTo>
                  <a:lnTo>
                    <a:pt x="1059" y="2015"/>
                  </a:lnTo>
                  <a:lnTo>
                    <a:pt x="1072" y="2027"/>
                  </a:lnTo>
                  <a:lnTo>
                    <a:pt x="1084" y="2037"/>
                  </a:lnTo>
                  <a:lnTo>
                    <a:pt x="1097" y="2052"/>
                  </a:lnTo>
                  <a:lnTo>
                    <a:pt x="1106" y="2068"/>
                  </a:lnTo>
                  <a:lnTo>
                    <a:pt x="1109" y="2085"/>
                  </a:lnTo>
                  <a:lnTo>
                    <a:pt x="1112" y="2098"/>
                  </a:lnTo>
                  <a:lnTo>
                    <a:pt x="1117" y="2108"/>
                  </a:lnTo>
                  <a:lnTo>
                    <a:pt x="1126" y="2120"/>
                  </a:lnTo>
                  <a:lnTo>
                    <a:pt x="1136" y="2132"/>
                  </a:lnTo>
                  <a:lnTo>
                    <a:pt x="1146" y="2145"/>
                  </a:lnTo>
                  <a:lnTo>
                    <a:pt x="1156" y="2160"/>
                  </a:lnTo>
                  <a:lnTo>
                    <a:pt x="1164" y="2175"/>
                  </a:lnTo>
                  <a:lnTo>
                    <a:pt x="1169" y="2190"/>
                  </a:lnTo>
                  <a:lnTo>
                    <a:pt x="1169" y="2202"/>
                  </a:lnTo>
                  <a:lnTo>
                    <a:pt x="1169" y="2217"/>
                  </a:lnTo>
                  <a:lnTo>
                    <a:pt x="1172" y="2233"/>
                  </a:lnTo>
                  <a:lnTo>
                    <a:pt x="1177" y="2248"/>
                  </a:lnTo>
                  <a:lnTo>
                    <a:pt x="1179" y="2255"/>
                  </a:lnTo>
                  <a:lnTo>
                    <a:pt x="1216" y="2227"/>
                  </a:lnTo>
                  <a:lnTo>
                    <a:pt x="1219" y="2222"/>
                  </a:lnTo>
                  <a:lnTo>
                    <a:pt x="1226" y="2208"/>
                  </a:lnTo>
                  <a:lnTo>
                    <a:pt x="1232" y="2192"/>
                  </a:lnTo>
                  <a:lnTo>
                    <a:pt x="1236" y="2178"/>
                  </a:lnTo>
                  <a:lnTo>
                    <a:pt x="1236" y="2165"/>
                  </a:lnTo>
                  <a:lnTo>
                    <a:pt x="1234" y="2145"/>
                  </a:lnTo>
                  <a:lnTo>
                    <a:pt x="1236" y="2123"/>
                  </a:lnTo>
                  <a:lnTo>
                    <a:pt x="1241" y="2103"/>
                  </a:lnTo>
                  <a:lnTo>
                    <a:pt x="1241" y="2087"/>
                  </a:lnTo>
                  <a:lnTo>
                    <a:pt x="1236" y="2077"/>
                  </a:lnTo>
                  <a:lnTo>
                    <a:pt x="1234" y="2067"/>
                  </a:lnTo>
                  <a:lnTo>
                    <a:pt x="1241" y="2060"/>
                  </a:lnTo>
                  <a:lnTo>
                    <a:pt x="1246" y="2057"/>
                  </a:lnTo>
                  <a:lnTo>
                    <a:pt x="1251" y="2057"/>
                  </a:lnTo>
                  <a:lnTo>
                    <a:pt x="1256" y="2058"/>
                  </a:lnTo>
                  <a:lnTo>
                    <a:pt x="1261" y="2062"/>
                  </a:lnTo>
                  <a:lnTo>
                    <a:pt x="1259" y="2052"/>
                  </a:lnTo>
                  <a:lnTo>
                    <a:pt x="1257" y="2043"/>
                  </a:lnTo>
                  <a:lnTo>
                    <a:pt x="1256" y="2033"/>
                  </a:lnTo>
                  <a:lnTo>
                    <a:pt x="1257" y="2027"/>
                  </a:lnTo>
                  <a:close/>
                </a:path>
              </a:pathLst>
            </a:custGeom>
            <a:solidFill>
              <a:srgbClr val="ffffff">
                <a:alpha val="10000"/>
              </a:srgbClr>
            </a:solidFill>
            <a:ln cap="sq" w="9360">
              <a:solidFill>
                <a:srgbClr val="ffffff"/>
              </a:solidFill>
              <a:round/>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8" name=""/>
            <p:cNvSpPr/>
            <p:nvPr/>
          </p:nvSpPr>
          <p:spPr>
            <a:xfrm>
              <a:off x="3086280" y="3249720"/>
              <a:ext cx="4680" cy="4680"/>
            </a:xfrm>
            <a:custGeom>
              <a:avLst/>
              <a:gdLst/>
              <a:ahLst/>
              <a:rect l="l" t="t" r="r" b="b"/>
              <a:pathLst>
                <a:path w="5" h="5">
                  <a:moveTo>
                    <a:pt x="5" y="3"/>
                  </a:moveTo>
                  <a:lnTo>
                    <a:pt x="0" y="0"/>
                  </a:lnTo>
                  <a:lnTo>
                    <a:pt x="2" y="3"/>
                  </a:lnTo>
                  <a:lnTo>
                    <a:pt x="3" y="5"/>
                  </a:lnTo>
                  <a:lnTo>
                    <a:pt x="5" y="3"/>
                  </a:lnTo>
                  <a:lnTo>
                    <a:pt x="5" y="3"/>
                  </a:lnTo>
                  <a:close/>
                </a:path>
              </a:pathLst>
            </a:custGeom>
            <a:solidFill>
              <a:srgbClr val="000000"/>
            </a:solidFill>
            <a:ln w="0">
              <a:noFill/>
            </a:ln>
          </p:spPr>
          <p:style>
            <a:lnRef idx="0"/>
            <a:fillRef idx="0"/>
            <a:effectRef idx="0"/>
            <a:fontRef idx="minor"/>
          </p:style>
          <p:txBody>
            <a:bodyPr wrap="none" lIns="90000" rIns="90000" tIns="-42120" bIns="-421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9" name=""/>
            <p:cNvSpPr/>
            <p:nvPr/>
          </p:nvSpPr>
          <p:spPr>
            <a:xfrm>
              <a:off x="4379760" y="4205160"/>
              <a:ext cx="2567160" cy="993960"/>
            </a:xfrm>
            <a:custGeom>
              <a:avLst/>
              <a:gdLst/>
              <a:ahLst/>
              <a:rect l="l" t="t" r="r" b="b"/>
              <a:pathLst>
                <a:path w="1881" h="744">
                  <a:moveTo>
                    <a:pt x="1298" y="222"/>
                  </a:moveTo>
                  <a:lnTo>
                    <a:pt x="1283" y="225"/>
                  </a:lnTo>
                  <a:lnTo>
                    <a:pt x="1263" y="230"/>
                  </a:lnTo>
                  <a:lnTo>
                    <a:pt x="1239" y="235"/>
                  </a:lnTo>
                  <a:lnTo>
                    <a:pt x="1214" y="242"/>
                  </a:lnTo>
                  <a:lnTo>
                    <a:pt x="1186" y="249"/>
                  </a:lnTo>
                  <a:lnTo>
                    <a:pt x="1157" y="255"/>
                  </a:lnTo>
                  <a:lnTo>
                    <a:pt x="1127" y="262"/>
                  </a:lnTo>
                  <a:lnTo>
                    <a:pt x="1097" y="269"/>
                  </a:lnTo>
                  <a:lnTo>
                    <a:pt x="1067" y="275"/>
                  </a:lnTo>
                  <a:lnTo>
                    <a:pt x="1039" y="284"/>
                  </a:lnTo>
                  <a:lnTo>
                    <a:pt x="1012" y="290"/>
                  </a:lnTo>
                  <a:lnTo>
                    <a:pt x="989" y="297"/>
                  </a:lnTo>
                  <a:lnTo>
                    <a:pt x="967" y="302"/>
                  </a:lnTo>
                  <a:lnTo>
                    <a:pt x="949" y="309"/>
                  </a:lnTo>
                  <a:lnTo>
                    <a:pt x="936" y="314"/>
                  </a:lnTo>
                  <a:lnTo>
                    <a:pt x="927" y="317"/>
                  </a:lnTo>
                  <a:lnTo>
                    <a:pt x="914" y="324"/>
                  </a:lnTo>
                  <a:lnTo>
                    <a:pt x="901" y="329"/>
                  </a:lnTo>
                  <a:lnTo>
                    <a:pt x="887" y="337"/>
                  </a:lnTo>
                  <a:lnTo>
                    <a:pt x="872" y="344"/>
                  </a:lnTo>
                  <a:lnTo>
                    <a:pt x="857" y="355"/>
                  </a:lnTo>
                  <a:lnTo>
                    <a:pt x="842" y="369"/>
                  </a:lnTo>
                  <a:lnTo>
                    <a:pt x="826" y="389"/>
                  </a:lnTo>
                  <a:lnTo>
                    <a:pt x="807" y="412"/>
                  </a:lnTo>
                  <a:lnTo>
                    <a:pt x="791" y="437"/>
                  </a:lnTo>
                  <a:lnTo>
                    <a:pt x="776" y="460"/>
                  </a:lnTo>
                  <a:lnTo>
                    <a:pt x="761" y="482"/>
                  </a:lnTo>
                  <a:lnTo>
                    <a:pt x="747" y="502"/>
                  </a:lnTo>
                  <a:lnTo>
                    <a:pt x="737" y="519"/>
                  </a:lnTo>
                  <a:lnTo>
                    <a:pt x="727" y="532"/>
                  </a:lnTo>
                  <a:lnTo>
                    <a:pt x="719" y="542"/>
                  </a:lnTo>
                  <a:lnTo>
                    <a:pt x="712" y="549"/>
                  </a:lnTo>
                  <a:lnTo>
                    <a:pt x="706" y="554"/>
                  </a:lnTo>
                  <a:lnTo>
                    <a:pt x="699" y="559"/>
                  </a:lnTo>
                  <a:lnTo>
                    <a:pt x="689" y="564"/>
                  </a:lnTo>
                  <a:lnTo>
                    <a:pt x="679" y="565"/>
                  </a:lnTo>
                  <a:lnTo>
                    <a:pt x="667" y="567"/>
                  </a:lnTo>
                  <a:lnTo>
                    <a:pt x="657" y="567"/>
                  </a:lnTo>
                  <a:lnTo>
                    <a:pt x="647" y="564"/>
                  </a:lnTo>
                  <a:lnTo>
                    <a:pt x="637" y="559"/>
                  </a:lnTo>
                  <a:lnTo>
                    <a:pt x="629" y="552"/>
                  </a:lnTo>
                  <a:lnTo>
                    <a:pt x="622" y="544"/>
                  </a:lnTo>
                  <a:lnTo>
                    <a:pt x="615" y="535"/>
                  </a:lnTo>
                  <a:lnTo>
                    <a:pt x="609" y="529"/>
                  </a:lnTo>
                  <a:lnTo>
                    <a:pt x="602" y="524"/>
                  </a:lnTo>
                  <a:lnTo>
                    <a:pt x="595" y="520"/>
                  </a:lnTo>
                  <a:lnTo>
                    <a:pt x="589" y="519"/>
                  </a:lnTo>
                  <a:lnTo>
                    <a:pt x="580" y="520"/>
                  </a:lnTo>
                  <a:lnTo>
                    <a:pt x="569" y="524"/>
                  </a:lnTo>
                  <a:lnTo>
                    <a:pt x="554" y="525"/>
                  </a:lnTo>
                  <a:lnTo>
                    <a:pt x="537" y="525"/>
                  </a:lnTo>
                  <a:lnTo>
                    <a:pt x="519" y="525"/>
                  </a:lnTo>
                  <a:lnTo>
                    <a:pt x="499" y="525"/>
                  </a:lnTo>
                  <a:lnTo>
                    <a:pt x="480" y="524"/>
                  </a:lnTo>
                  <a:lnTo>
                    <a:pt x="462" y="522"/>
                  </a:lnTo>
                  <a:lnTo>
                    <a:pt x="447" y="520"/>
                  </a:lnTo>
                  <a:lnTo>
                    <a:pt x="432" y="519"/>
                  </a:lnTo>
                  <a:lnTo>
                    <a:pt x="417" y="515"/>
                  </a:lnTo>
                  <a:lnTo>
                    <a:pt x="404" y="510"/>
                  </a:lnTo>
                  <a:lnTo>
                    <a:pt x="389" y="507"/>
                  </a:lnTo>
                  <a:lnTo>
                    <a:pt x="375" y="504"/>
                  </a:lnTo>
                  <a:lnTo>
                    <a:pt x="364" y="500"/>
                  </a:lnTo>
                  <a:lnTo>
                    <a:pt x="352" y="497"/>
                  </a:lnTo>
                  <a:lnTo>
                    <a:pt x="342" y="497"/>
                  </a:lnTo>
                  <a:lnTo>
                    <a:pt x="329" y="497"/>
                  </a:lnTo>
                  <a:lnTo>
                    <a:pt x="307" y="497"/>
                  </a:lnTo>
                  <a:lnTo>
                    <a:pt x="280" y="499"/>
                  </a:lnTo>
                  <a:lnTo>
                    <a:pt x="250" y="499"/>
                  </a:lnTo>
                  <a:lnTo>
                    <a:pt x="224" y="500"/>
                  </a:lnTo>
                  <a:lnTo>
                    <a:pt x="200" y="502"/>
                  </a:lnTo>
                  <a:lnTo>
                    <a:pt x="184" y="502"/>
                  </a:lnTo>
                  <a:lnTo>
                    <a:pt x="177" y="502"/>
                  </a:lnTo>
                  <a:lnTo>
                    <a:pt x="175" y="504"/>
                  </a:lnTo>
                  <a:lnTo>
                    <a:pt x="170" y="505"/>
                  </a:lnTo>
                  <a:lnTo>
                    <a:pt x="164" y="509"/>
                  </a:lnTo>
                  <a:lnTo>
                    <a:pt x="155" y="510"/>
                  </a:lnTo>
                  <a:lnTo>
                    <a:pt x="144" y="512"/>
                  </a:lnTo>
                  <a:lnTo>
                    <a:pt x="132" y="512"/>
                  </a:lnTo>
                  <a:lnTo>
                    <a:pt x="120" y="509"/>
                  </a:lnTo>
                  <a:lnTo>
                    <a:pt x="107" y="502"/>
                  </a:lnTo>
                  <a:lnTo>
                    <a:pt x="95" y="494"/>
                  </a:lnTo>
                  <a:lnTo>
                    <a:pt x="87" y="485"/>
                  </a:lnTo>
                  <a:lnTo>
                    <a:pt x="80" y="479"/>
                  </a:lnTo>
                  <a:lnTo>
                    <a:pt x="75" y="475"/>
                  </a:lnTo>
                  <a:lnTo>
                    <a:pt x="70" y="472"/>
                  </a:lnTo>
                  <a:lnTo>
                    <a:pt x="65" y="470"/>
                  </a:lnTo>
                  <a:lnTo>
                    <a:pt x="60" y="470"/>
                  </a:lnTo>
                  <a:lnTo>
                    <a:pt x="53" y="474"/>
                  </a:lnTo>
                  <a:lnTo>
                    <a:pt x="47" y="480"/>
                  </a:lnTo>
                  <a:lnTo>
                    <a:pt x="50" y="489"/>
                  </a:lnTo>
                  <a:lnTo>
                    <a:pt x="55" y="500"/>
                  </a:lnTo>
                  <a:lnTo>
                    <a:pt x="53" y="515"/>
                  </a:lnTo>
                  <a:lnTo>
                    <a:pt x="50" y="535"/>
                  </a:lnTo>
                  <a:lnTo>
                    <a:pt x="48" y="557"/>
                  </a:lnTo>
                  <a:lnTo>
                    <a:pt x="50" y="577"/>
                  </a:lnTo>
                  <a:lnTo>
                    <a:pt x="50" y="592"/>
                  </a:lnTo>
                  <a:lnTo>
                    <a:pt x="47" y="606"/>
                  </a:lnTo>
                  <a:lnTo>
                    <a:pt x="40" y="621"/>
                  </a:lnTo>
                  <a:lnTo>
                    <a:pt x="33" y="634"/>
                  </a:lnTo>
                  <a:lnTo>
                    <a:pt x="30" y="639"/>
                  </a:lnTo>
                  <a:lnTo>
                    <a:pt x="0" y="662"/>
                  </a:lnTo>
                  <a:lnTo>
                    <a:pt x="3" y="666"/>
                  </a:lnTo>
                  <a:lnTo>
                    <a:pt x="8" y="669"/>
                  </a:lnTo>
                  <a:lnTo>
                    <a:pt x="13" y="674"/>
                  </a:lnTo>
                  <a:lnTo>
                    <a:pt x="18" y="677"/>
                  </a:lnTo>
                  <a:lnTo>
                    <a:pt x="32" y="684"/>
                  </a:lnTo>
                  <a:lnTo>
                    <a:pt x="43" y="687"/>
                  </a:lnTo>
                  <a:lnTo>
                    <a:pt x="55" y="687"/>
                  </a:lnTo>
                  <a:lnTo>
                    <a:pt x="67" y="686"/>
                  </a:lnTo>
                  <a:lnTo>
                    <a:pt x="77" y="684"/>
                  </a:lnTo>
                  <a:lnTo>
                    <a:pt x="83" y="681"/>
                  </a:lnTo>
                  <a:lnTo>
                    <a:pt x="88" y="679"/>
                  </a:lnTo>
                  <a:lnTo>
                    <a:pt x="90" y="677"/>
                  </a:lnTo>
                  <a:lnTo>
                    <a:pt x="97" y="677"/>
                  </a:lnTo>
                  <a:lnTo>
                    <a:pt x="114" y="677"/>
                  </a:lnTo>
                  <a:lnTo>
                    <a:pt x="137" y="676"/>
                  </a:lnTo>
                  <a:lnTo>
                    <a:pt x="164" y="674"/>
                  </a:lnTo>
                  <a:lnTo>
                    <a:pt x="194" y="674"/>
                  </a:lnTo>
                  <a:lnTo>
                    <a:pt x="220" y="672"/>
                  </a:lnTo>
                  <a:lnTo>
                    <a:pt x="242" y="672"/>
                  </a:lnTo>
                  <a:lnTo>
                    <a:pt x="255" y="672"/>
                  </a:lnTo>
                  <a:lnTo>
                    <a:pt x="265" y="674"/>
                  </a:lnTo>
                  <a:lnTo>
                    <a:pt x="275" y="676"/>
                  </a:lnTo>
                  <a:lnTo>
                    <a:pt x="289" y="679"/>
                  </a:lnTo>
                  <a:lnTo>
                    <a:pt x="302" y="682"/>
                  </a:lnTo>
                  <a:lnTo>
                    <a:pt x="315" y="687"/>
                  </a:lnTo>
                  <a:lnTo>
                    <a:pt x="330" y="691"/>
                  </a:lnTo>
                  <a:lnTo>
                    <a:pt x="344" y="694"/>
                  </a:lnTo>
                  <a:lnTo>
                    <a:pt x="359" y="697"/>
                  </a:lnTo>
                  <a:lnTo>
                    <a:pt x="374" y="699"/>
                  </a:lnTo>
                  <a:lnTo>
                    <a:pt x="392" y="701"/>
                  </a:lnTo>
                  <a:lnTo>
                    <a:pt x="412" y="701"/>
                  </a:lnTo>
                  <a:lnTo>
                    <a:pt x="430" y="702"/>
                  </a:lnTo>
                  <a:lnTo>
                    <a:pt x="450" y="702"/>
                  </a:lnTo>
                  <a:lnTo>
                    <a:pt x="467" y="701"/>
                  </a:lnTo>
                  <a:lnTo>
                    <a:pt x="480" y="701"/>
                  </a:lnTo>
                  <a:lnTo>
                    <a:pt x="492" y="697"/>
                  </a:lnTo>
                  <a:lnTo>
                    <a:pt x="500" y="696"/>
                  </a:lnTo>
                  <a:lnTo>
                    <a:pt x="507" y="696"/>
                  </a:lnTo>
                  <a:lnTo>
                    <a:pt x="514" y="699"/>
                  </a:lnTo>
                  <a:lnTo>
                    <a:pt x="520" y="706"/>
                  </a:lnTo>
                  <a:lnTo>
                    <a:pt x="527" y="712"/>
                  </a:lnTo>
                  <a:lnTo>
                    <a:pt x="534" y="719"/>
                  </a:lnTo>
                  <a:lnTo>
                    <a:pt x="540" y="727"/>
                  </a:lnTo>
                  <a:lnTo>
                    <a:pt x="549" y="734"/>
                  </a:lnTo>
                  <a:lnTo>
                    <a:pt x="559" y="741"/>
                  </a:lnTo>
                  <a:lnTo>
                    <a:pt x="569" y="742"/>
                  </a:lnTo>
                  <a:lnTo>
                    <a:pt x="579" y="744"/>
                  </a:lnTo>
                  <a:lnTo>
                    <a:pt x="590" y="742"/>
                  </a:lnTo>
                  <a:lnTo>
                    <a:pt x="600" y="739"/>
                  </a:lnTo>
                  <a:lnTo>
                    <a:pt x="610" y="736"/>
                  </a:lnTo>
                  <a:lnTo>
                    <a:pt x="619" y="731"/>
                  </a:lnTo>
                  <a:lnTo>
                    <a:pt x="625" y="726"/>
                  </a:lnTo>
                  <a:lnTo>
                    <a:pt x="632" y="719"/>
                  </a:lnTo>
                  <a:lnTo>
                    <a:pt x="639" y="707"/>
                  </a:lnTo>
                  <a:lnTo>
                    <a:pt x="649" y="694"/>
                  </a:lnTo>
                  <a:lnTo>
                    <a:pt x="661" y="677"/>
                  </a:lnTo>
                  <a:lnTo>
                    <a:pt x="672" y="659"/>
                  </a:lnTo>
                  <a:lnTo>
                    <a:pt x="687" y="637"/>
                  </a:lnTo>
                  <a:lnTo>
                    <a:pt x="704" y="614"/>
                  </a:lnTo>
                  <a:lnTo>
                    <a:pt x="721" y="587"/>
                  </a:lnTo>
                  <a:lnTo>
                    <a:pt x="737" y="564"/>
                  </a:lnTo>
                  <a:lnTo>
                    <a:pt x="754" y="544"/>
                  </a:lnTo>
                  <a:lnTo>
                    <a:pt x="769" y="530"/>
                  </a:lnTo>
                  <a:lnTo>
                    <a:pt x="786" y="519"/>
                  </a:lnTo>
                  <a:lnTo>
                    <a:pt x="799" y="512"/>
                  </a:lnTo>
                  <a:lnTo>
                    <a:pt x="812" y="504"/>
                  </a:lnTo>
                  <a:lnTo>
                    <a:pt x="826" y="499"/>
                  </a:lnTo>
                  <a:lnTo>
                    <a:pt x="839" y="492"/>
                  </a:lnTo>
                  <a:lnTo>
                    <a:pt x="847" y="489"/>
                  </a:lnTo>
                  <a:lnTo>
                    <a:pt x="862" y="484"/>
                  </a:lnTo>
                  <a:lnTo>
                    <a:pt x="879" y="479"/>
                  </a:lnTo>
                  <a:lnTo>
                    <a:pt x="901" y="472"/>
                  </a:lnTo>
                  <a:lnTo>
                    <a:pt x="926" y="465"/>
                  </a:lnTo>
                  <a:lnTo>
                    <a:pt x="952" y="459"/>
                  </a:lnTo>
                  <a:lnTo>
                    <a:pt x="981" y="452"/>
                  </a:lnTo>
                  <a:lnTo>
                    <a:pt x="1009" y="444"/>
                  </a:lnTo>
                  <a:lnTo>
                    <a:pt x="1039" y="437"/>
                  </a:lnTo>
                  <a:lnTo>
                    <a:pt x="1069" y="430"/>
                  </a:lnTo>
                  <a:lnTo>
                    <a:pt x="1097" y="424"/>
                  </a:lnTo>
                  <a:lnTo>
                    <a:pt x="1126" y="417"/>
                  </a:lnTo>
                  <a:lnTo>
                    <a:pt x="1151" y="410"/>
                  </a:lnTo>
                  <a:lnTo>
                    <a:pt x="1174" y="405"/>
                  </a:lnTo>
                  <a:lnTo>
                    <a:pt x="1194" y="400"/>
                  </a:lnTo>
                  <a:lnTo>
                    <a:pt x="1209" y="397"/>
                  </a:lnTo>
                  <a:lnTo>
                    <a:pt x="1236" y="390"/>
                  </a:lnTo>
                  <a:lnTo>
                    <a:pt x="1263" y="385"/>
                  </a:lnTo>
                  <a:lnTo>
                    <a:pt x="1289" y="382"/>
                  </a:lnTo>
                  <a:lnTo>
                    <a:pt x="1313" y="379"/>
                  </a:lnTo>
                  <a:lnTo>
                    <a:pt x="1336" y="375"/>
                  </a:lnTo>
                  <a:lnTo>
                    <a:pt x="1354" y="370"/>
                  </a:lnTo>
                  <a:lnTo>
                    <a:pt x="1371" y="365"/>
                  </a:lnTo>
                  <a:lnTo>
                    <a:pt x="1384" y="359"/>
                  </a:lnTo>
                  <a:lnTo>
                    <a:pt x="1394" y="354"/>
                  </a:lnTo>
                  <a:lnTo>
                    <a:pt x="1411" y="345"/>
                  </a:lnTo>
                  <a:lnTo>
                    <a:pt x="1434" y="334"/>
                  </a:lnTo>
                  <a:lnTo>
                    <a:pt x="1463" y="320"/>
                  </a:lnTo>
                  <a:lnTo>
                    <a:pt x="1496" y="307"/>
                  </a:lnTo>
                  <a:lnTo>
                    <a:pt x="1533" y="290"/>
                  </a:lnTo>
                  <a:lnTo>
                    <a:pt x="1571" y="274"/>
                  </a:lnTo>
                  <a:lnTo>
                    <a:pt x="1611" y="255"/>
                  </a:lnTo>
                  <a:lnTo>
                    <a:pt x="1649" y="239"/>
                  </a:lnTo>
                  <a:lnTo>
                    <a:pt x="1688" y="222"/>
                  </a:lnTo>
                  <a:lnTo>
                    <a:pt x="1723" y="207"/>
                  </a:lnTo>
                  <a:lnTo>
                    <a:pt x="1756" y="192"/>
                  </a:lnTo>
                  <a:lnTo>
                    <a:pt x="1783" y="180"/>
                  </a:lnTo>
                  <a:lnTo>
                    <a:pt x="1805" y="170"/>
                  </a:lnTo>
                  <a:lnTo>
                    <a:pt x="1820" y="164"/>
                  </a:lnTo>
                  <a:lnTo>
                    <a:pt x="1826" y="160"/>
                  </a:lnTo>
                  <a:lnTo>
                    <a:pt x="1836" y="152"/>
                  </a:lnTo>
                  <a:lnTo>
                    <a:pt x="1841" y="142"/>
                  </a:lnTo>
                  <a:lnTo>
                    <a:pt x="1845" y="130"/>
                  </a:lnTo>
                  <a:lnTo>
                    <a:pt x="1846" y="117"/>
                  </a:lnTo>
                  <a:lnTo>
                    <a:pt x="1848" y="100"/>
                  </a:lnTo>
                  <a:lnTo>
                    <a:pt x="1851" y="78"/>
                  </a:lnTo>
                  <a:lnTo>
                    <a:pt x="1858" y="57"/>
                  </a:lnTo>
                  <a:lnTo>
                    <a:pt x="1865" y="37"/>
                  </a:lnTo>
                  <a:lnTo>
                    <a:pt x="1868" y="27"/>
                  </a:lnTo>
                  <a:lnTo>
                    <a:pt x="1873" y="18"/>
                  </a:lnTo>
                  <a:lnTo>
                    <a:pt x="1876" y="8"/>
                  </a:lnTo>
                  <a:lnTo>
                    <a:pt x="1881" y="0"/>
                  </a:lnTo>
                  <a:lnTo>
                    <a:pt x="1861" y="10"/>
                  </a:lnTo>
                  <a:lnTo>
                    <a:pt x="1836" y="20"/>
                  </a:lnTo>
                  <a:lnTo>
                    <a:pt x="1808" y="32"/>
                  </a:lnTo>
                  <a:lnTo>
                    <a:pt x="1778" y="45"/>
                  </a:lnTo>
                  <a:lnTo>
                    <a:pt x="1746" y="58"/>
                  </a:lnTo>
                  <a:lnTo>
                    <a:pt x="1714" y="73"/>
                  </a:lnTo>
                  <a:lnTo>
                    <a:pt x="1681" y="88"/>
                  </a:lnTo>
                  <a:lnTo>
                    <a:pt x="1648" y="102"/>
                  </a:lnTo>
                  <a:lnTo>
                    <a:pt x="1616" y="117"/>
                  </a:lnTo>
                  <a:lnTo>
                    <a:pt x="1586" y="130"/>
                  </a:lnTo>
                  <a:lnTo>
                    <a:pt x="1558" y="142"/>
                  </a:lnTo>
                  <a:lnTo>
                    <a:pt x="1533" y="154"/>
                  </a:lnTo>
                  <a:lnTo>
                    <a:pt x="1511" y="164"/>
                  </a:lnTo>
                  <a:lnTo>
                    <a:pt x="1493" y="174"/>
                  </a:lnTo>
                  <a:lnTo>
                    <a:pt x="1479" y="179"/>
                  </a:lnTo>
                  <a:lnTo>
                    <a:pt x="1473" y="184"/>
                  </a:lnTo>
                  <a:lnTo>
                    <a:pt x="1459" y="190"/>
                  </a:lnTo>
                  <a:lnTo>
                    <a:pt x="1443" y="195"/>
                  </a:lnTo>
                  <a:lnTo>
                    <a:pt x="1423" y="199"/>
                  </a:lnTo>
                  <a:lnTo>
                    <a:pt x="1401" y="202"/>
                  </a:lnTo>
                  <a:lnTo>
                    <a:pt x="1376" y="205"/>
                  </a:lnTo>
                  <a:lnTo>
                    <a:pt x="1351" y="210"/>
                  </a:lnTo>
                  <a:lnTo>
                    <a:pt x="1324" y="215"/>
                  </a:lnTo>
                  <a:lnTo>
                    <a:pt x="1298" y="222"/>
                  </a:lnTo>
                  <a:close/>
                </a:path>
              </a:pathLst>
            </a:custGeom>
            <a:solidFill>
              <a:srgbClr val="ffffff">
                <a:alpha val="20000"/>
              </a:srgbClr>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0" name=""/>
            <p:cNvSpPr/>
            <p:nvPr/>
          </p:nvSpPr>
          <p:spPr>
            <a:xfrm>
              <a:off x="2813040" y="1346040"/>
              <a:ext cx="4348080" cy="3579840"/>
            </a:xfrm>
            <a:custGeom>
              <a:avLst/>
              <a:gdLst/>
              <a:ahLst/>
              <a:rect l="l" t="t" r="r" b="b"/>
              <a:pathLst>
                <a:path w="3185" h="2678">
                  <a:moveTo>
                    <a:pt x="380" y="90"/>
                  </a:moveTo>
                  <a:lnTo>
                    <a:pt x="683" y="28"/>
                  </a:lnTo>
                  <a:lnTo>
                    <a:pt x="693" y="0"/>
                  </a:lnTo>
                  <a:lnTo>
                    <a:pt x="695" y="0"/>
                  </a:lnTo>
                  <a:lnTo>
                    <a:pt x="698" y="0"/>
                  </a:lnTo>
                  <a:lnTo>
                    <a:pt x="704" y="0"/>
                  </a:lnTo>
                  <a:lnTo>
                    <a:pt x="712" y="0"/>
                  </a:lnTo>
                  <a:lnTo>
                    <a:pt x="720" y="0"/>
                  </a:lnTo>
                  <a:lnTo>
                    <a:pt x="734" y="2"/>
                  </a:lnTo>
                  <a:lnTo>
                    <a:pt x="747" y="5"/>
                  </a:lnTo>
                  <a:lnTo>
                    <a:pt x="764" y="10"/>
                  </a:lnTo>
                  <a:lnTo>
                    <a:pt x="782" y="15"/>
                  </a:lnTo>
                  <a:lnTo>
                    <a:pt x="799" y="20"/>
                  </a:lnTo>
                  <a:lnTo>
                    <a:pt x="817" y="23"/>
                  </a:lnTo>
                  <a:lnTo>
                    <a:pt x="832" y="28"/>
                  </a:lnTo>
                  <a:lnTo>
                    <a:pt x="847" y="32"/>
                  </a:lnTo>
                  <a:lnTo>
                    <a:pt x="862" y="35"/>
                  </a:lnTo>
                  <a:lnTo>
                    <a:pt x="874" y="40"/>
                  </a:lnTo>
                  <a:lnTo>
                    <a:pt x="884" y="43"/>
                  </a:lnTo>
                  <a:lnTo>
                    <a:pt x="894" y="48"/>
                  </a:lnTo>
                  <a:lnTo>
                    <a:pt x="907" y="57"/>
                  </a:lnTo>
                  <a:lnTo>
                    <a:pt x="924" y="68"/>
                  </a:lnTo>
                  <a:lnTo>
                    <a:pt x="942" y="82"/>
                  </a:lnTo>
                  <a:lnTo>
                    <a:pt x="962" y="97"/>
                  </a:lnTo>
                  <a:lnTo>
                    <a:pt x="985" y="112"/>
                  </a:lnTo>
                  <a:lnTo>
                    <a:pt x="1009" y="127"/>
                  </a:lnTo>
                  <a:lnTo>
                    <a:pt x="1035" y="142"/>
                  </a:lnTo>
                  <a:lnTo>
                    <a:pt x="1060" y="155"/>
                  </a:lnTo>
                  <a:lnTo>
                    <a:pt x="1080" y="168"/>
                  </a:lnTo>
                  <a:lnTo>
                    <a:pt x="1099" y="180"/>
                  </a:lnTo>
                  <a:lnTo>
                    <a:pt x="1114" y="190"/>
                  </a:lnTo>
                  <a:lnTo>
                    <a:pt x="1124" y="197"/>
                  </a:lnTo>
                  <a:lnTo>
                    <a:pt x="1132" y="203"/>
                  </a:lnTo>
                  <a:lnTo>
                    <a:pt x="1137" y="207"/>
                  </a:lnTo>
                  <a:lnTo>
                    <a:pt x="1139" y="208"/>
                  </a:lnTo>
                  <a:lnTo>
                    <a:pt x="1142" y="210"/>
                  </a:lnTo>
                  <a:lnTo>
                    <a:pt x="1150" y="215"/>
                  </a:lnTo>
                  <a:lnTo>
                    <a:pt x="1162" y="223"/>
                  </a:lnTo>
                  <a:lnTo>
                    <a:pt x="1177" y="233"/>
                  </a:lnTo>
                  <a:lnTo>
                    <a:pt x="1192" y="243"/>
                  </a:lnTo>
                  <a:lnTo>
                    <a:pt x="1205" y="255"/>
                  </a:lnTo>
                  <a:lnTo>
                    <a:pt x="1217" y="265"/>
                  </a:lnTo>
                  <a:lnTo>
                    <a:pt x="1225" y="275"/>
                  </a:lnTo>
                  <a:lnTo>
                    <a:pt x="1234" y="285"/>
                  </a:lnTo>
                  <a:lnTo>
                    <a:pt x="1245" y="297"/>
                  </a:lnTo>
                  <a:lnTo>
                    <a:pt x="1259" y="310"/>
                  </a:lnTo>
                  <a:lnTo>
                    <a:pt x="1276" y="325"/>
                  </a:lnTo>
                  <a:lnTo>
                    <a:pt x="1292" y="340"/>
                  </a:lnTo>
                  <a:lnTo>
                    <a:pt x="1309" y="354"/>
                  </a:lnTo>
                  <a:lnTo>
                    <a:pt x="1324" y="365"/>
                  </a:lnTo>
                  <a:lnTo>
                    <a:pt x="1334" y="375"/>
                  </a:lnTo>
                  <a:lnTo>
                    <a:pt x="1346" y="385"/>
                  </a:lnTo>
                  <a:lnTo>
                    <a:pt x="1362" y="397"/>
                  </a:lnTo>
                  <a:lnTo>
                    <a:pt x="1381" y="410"/>
                  </a:lnTo>
                  <a:lnTo>
                    <a:pt x="1401" y="424"/>
                  </a:lnTo>
                  <a:lnTo>
                    <a:pt x="1421" y="437"/>
                  </a:lnTo>
                  <a:lnTo>
                    <a:pt x="1436" y="445"/>
                  </a:lnTo>
                  <a:lnTo>
                    <a:pt x="1447" y="454"/>
                  </a:lnTo>
                  <a:lnTo>
                    <a:pt x="1451" y="455"/>
                  </a:lnTo>
                  <a:lnTo>
                    <a:pt x="1489" y="509"/>
                  </a:lnTo>
                  <a:lnTo>
                    <a:pt x="1497" y="509"/>
                  </a:lnTo>
                  <a:lnTo>
                    <a:pt x="1517" y="509"/>
                  </a:lnTo>
                  <a:lnTo>
                    <a:pt x="1546" y="509"/>
                  </a:lnTo>
                  <a:lnTo>
                    <a:pt x="1581" y="509"/>
                  </a:lnTo>
                  <a:lnTo>
                    <a:pt x="1617" y="510"/>
                  </a:lnTo>
                  <a:lnTo>
                    <a:pt x="1651" y="514"/>
                  </a:lnTo>
                  <a:lnTo>
                    <a:pt x="1677" y="520"/>
                  </a:lnTo>
                  <a:lnTo>
                    <a:pt x="1694" y="527"/>
                  </a:lnTo>
                  <a:lnTo>
                    <a:pt x="1696" y="527"/>
                  </a:lnTo>
                  <a:lnTo>
                    <a:pt x="1702" y="525"/>
                  </a:lnTo>
                  <a:lnTo>
                    <a:pt x="1712" y="522"/>
                  </a:lnTo>
                  <a:lnTo>
                    <a:pt x="1722" y="520"/>
                  </a:lnTo>
                  <a:lnTo>
                    <a:pt x="1736" y="519"/>
                  </a:lnTo>
                  <a:lnTo>
                    <a:pt x="1747" y="515"/>
                  </a:lnTo>
                  <a:lnTo>
                    <a:pt x="1759" y="514"/>
                  </a:lnTo>
                  <a:lnTo>
                    <a:pt x="1769" y="514"/>
                  </a:lnTo>
                  <a:lnTo>
                    <a:pt x="1782" y="515"/>
                  </a:lnTo>
                  <a:lnTo>
                    <a:pt x="1801" y="519"/>
                  </a:lnTo>
                  <a:lnTo>
                    <a:pt x="1823" y="522"/>
                  </a:lnTo>
                  <a:lnTo>
                    <a:pt x="1848" y="527"/>
                  </a:lnTo>
                  <a:lnTo>
                    <a:pt x="1869" y="534"/>
                  </a:lnTo>
                  <a:lnTo>
                    <a:pt x="1889" y="537"/>
                  </a:lnTo>
                  <a:lnTo>
                    <a:pt x="1903" y="540"/>
                  </a:lnTo>
                  <a:lnTo>
                    <a:pt x="1908" y="542"/>
                  </a:lnTo>
                  <a:lnTo>
                    <a:pt x="1926" y="604"/>
                  </a:lnTo>
                  <a:lnTo>
                    <a:pt x="2044" y="604"/>
                  </a:lnTo>
                  <a:lnTo>
                    <a:pt x="2064" y="689"/>
                  </a:lnTo>
                  <a:lnTo>
                    <a:pt x="2071" y="692"/>
                  </a:lnTo>
                  <a:lnTo>
                    <a:pt x="2083" y="704"/>
                  </a:lnTo>
                  <a:lnTo>
                    <a:pt x="2093" y="722"/>
                  </a:lnTo>
                  <a:lnTo>
                    <a:pt x="2093" y="746"/>
                  </a:lnTo>
                  <a:lnTo>
                    <a:pt x="2116" y="784"/>
                  </a:lnTo>
                  <a:lnTo>
                    <a:pt x="2154" y="769"/>
                  </a:lnTo>
                  <a:lnTo>
                    <a:pt x="2158" y="774"/>
                  </a:lnTo>
                  <a:lnTo>
                    <a:pt x="2164" y="786"/>
                  </a:lnTo>
                  <a:lnTo>
                    <a:pt x="2169" y="801"/>
                  </a:lnTo>
                  <a:lnTo>
                    <a:pt x="2173" y="812"/>
                  </a:lnTo>
                  <a:lnTo>
                    <a:pt x="2176" y="824"/>
                  </a:lnTo>
                  <a:lnTo>
                    <a:pt x="2183" y="834"/>
                  </a:lnTo>
                  <a:lnTo>
                    <a:pt x="2189" y="842"/>
                  </a:lnTo>
                  <a:lnTo>
                    <a:pt x="2193" y="846"/>
                  </a:lnTo>
                  <a:lnTo>
                    <a:pt x="2201" y="822"/>
                  </a:lnTo>
                  <a:lnTo>
                    <a:pt x="2226" y="869"/>
                  </a:lnTo>
                  <a:lnTo>
                    <a:pt x="2228" y="869"/>
                  </a:lnTo>
                  <a:lnTo>
                    <a:pt x="2234" y="871"/>
                  </a:lnTo>
                  <a:lnTo>
                    <a:pt x="2244" y="874"/>
                  </a:lnTo>
                  <a:lnTo>
                    <a:pt x="2254" y="877"/>
                  </a:lnTo>
                  <a:lnTo>
                    <a:pt x="2266" y="882"/>
                  </a:lnTo>
                  <a:lnTo>
                    <a:pt x="2276" y="887"/>
                  </a:lnTo>
                  <a:lnTo>
                    <a:pt x="2284" y="894"/>
                  </a:lnTo>
                  <a:lnTo>
                    <a:pt x="2288" y="902"/>
                  </a:lnTo>
                  <a:lnTo>
                    <a:pt x="2289" y="921"/>
                  </a:lnTo>
                  <a:lnTo>
                    <a:pt x="2293" y="937"/>
                  </a:lnTo>
                  <a:lnTo>
                    <a:pt x="2296" y="952"/>
                  </a:lnTo>
                  <a:lnTo>
                    <a:pt x="2306" y="964"/>
                  </a:lnTo>
                  <a:lnTo>
                    <a:pt x="2316" y="979"/>
                  </a:lnTo>
                  <a:lnTo>
                    <a:pt x="2321" y="996"/>
                  </a:lnTo>
                  <a:lnTo>
                    <a:pt x="2318" y="1011"/>
                  </a:lnTo>
                  <a:lnTo>
                    <a:pt x="2311" y="1017"/>
                  </a:lnTo>
                  <a:lnTo>
                    <a:pt x="2303" y="1019"/>
                  </a:lnTo>
                  <a:lnTo>
                    <a:pt x="2299" y="1024"/>
                  </a:lnTo>
                  <a:lnTo>
                    <a:pt x="2301" y="1032"/>
                  </a:lnTo>
                  <a:lnTo>
                    <a:pt x="2306" y="1046"/>
                  </a:lnTo>
                  <a:lnTo>
                    <a:pt x="2313" y="1061"/>
                  </a:lnTo>
                  <a:lnTo>
                    <a:pt x="2319" y="1076"/>
                  </a:lnTo>
                  <a:lnTo>
                    <a:pt x="2324" y="1092"/>
                  </a:lnTo>
                  <a:lnTo>
                    <a:pt x="2329" y="1107"/>
                  </a:lnTo>
                  <a:lnTo>
                    <a:pt x="2336" y="1117"/>
                  </a:lnTo>
                  <a:lnTo>
                    <a:pt x="2344" y="1121"/>
                  </a:lnTo>
                  <a:lnTo>
                    <a:pt x="2351" y="1121"/>
                  </a:lnTo>
                  <a:lnTo>
                    <a:pt x="2354" y="1121"/>
                  </a:lnTo>
                  <a:lnTo>
                    <a:pt x="2356" y="1129"/>
                  </a:lnTo>
                  <a:lnTo>
                    <a:pt x="2365" y="1149"/>
                  </a:lnTo>
                  <a:lnTo>
                    <a:pt x="2375" y="1174"/>
                  </a:lnTo>
                  <a:lnTo>
                    <a:pt x="2388" y="1192"/>
                  </a:lnTo>
                  <a:lnTo>
                    <a:pt x="2395" y="1201"/>
                  </a:lnTo>
                  <a:lnTo>
                    <a:pt x="2400" y="1209"/>
                  </a:lnTo>
                  <a:lnTo>
                    <a:pt x="2405" y="1217"/>
                  </a:lnTo>
                  <a:lnTo>
                    <a:pt x="2411" y="1227"/>
                  </a:lnTo>
                  <a:lnTo>
                    <a:pt x="2416" y="1236"/>
                  </a:lnTo>
                  <a:lnTo>
                    <a:pt x="2425" y="1244"/>
                  </a:lnTo>
                  <a:lnTo>
                    <a:pt x="2433" y="1253"/>
                  </a:lnTo>
                  <a:lnTo>
                    <a:pt x="2445" y="1259"/>
                  </a:lnTo>
                  <a:lnTo>
                    <a:pt x="2456" y="1263"/>
                  </a:lnTo>
                  <a:lnTo>
                    <a:pt x="2468" y="1263"/>
                  </a:lnTo>
                  <a:lnTo>
                    <a:pt x="2478" y="1263"/>
                  </a:lnTo>
                  <a:lnTo>
                    <a:pt x="2486" y="1259"/>
                  </a:lnTo>
                  <a:lnTo>
                    <a:pt x="2493" y="1256"/>
                  </a:lnTo>
                  <a:lnTo>
                    <a:pt x="2498" y="1253"/>
                  </a:lnTo>
                  <a:lnTo>
                    <a:pt x="2500" y="1251"/>
                  </a:lnTo>
                  <a:lnTo>
                    <a:pt x="2501" y="1249"/>
                  </a:lnTo>
                  <a:lnTo>
                    <a:pt x="2520" y="1259"/>
                  </a:lnTo>
                  <a:lnTo>
                    <a:pt x="2501" y="1293"/>
                  </a:lnTo>
                  <a:lnTo>
                    <a:pt x="2501" y="1294"/>
                  </a:lnTo>
                  <a:lnTo>
                    <a:pt x="2501" y="1299"/>
                  </a:lnTo>
                  <a:lnTo>
                    <a:pt x="2503" y="1304"/>
                  </a:lnTo>
                  <a:lnTo>
                    <a:pt x="2511" y="1306"/>
                  </a:lnTo>
                  <a:lnTo>
                    <a:pt x="2521" y="1314"/>
                  </a:lnTo>
                  <a:lnTo>
                    <a:pt x="2531" y="1329"/>
                  </a:lnTo>
                  <a:lnTo>
                    <a:pt x="2536" y="1346"/>
                  </a:lnTo>
                  <a:lnTo>
                    <a:pt x="2540" y="1354"/>
                  </a:lnTo>
                  <a:lnTo>
                    <a:pt x="2541" y="1356"/>
                  </a:lnTo>
                  <a:lnTo>
                    <a:pt x="2546" y="1361"/>
                  </a:lnTo>
                  <a:lnTo>
                    <a:pt x="2553" y="1368"/>
                  </a:lnTo>
                  <a:lnTo>
                    <a:pt x="2561" y="1378"/>
                  </a:lnTo>
                  <a:lnTo>
                    <a:pt x="2571" y="1388"/>
                  </a:lnTo>
                  <a:lnTo>
                    <a:pt x="2583" y="1401"/>
                  </a:lnTo>
                  <a:lnTo>
                    <a:pt x="2595" y="1414"/>
                  </a:lnTo>
                  <a:lnTo>
                    <a:pt x="2606" y="1428"/>
                  </a:lnTo>
                  <a:lnTo>
                    <a:pt x="2618" y="1443"/>
                  </a:lnTo>
                  <a:lnTo>
                    <a:pt x="2631" y="1458"/>
                  </a:lnTo>
                  <a:lnTo>
                    <a:pt x="2645" y="1473"/>
                  </a:lnTo>
                  <a:lnTo>
                    <a:pt x="2658" y="1488"/>
                  </a:lnTo>
                  <a:lnTo>
                    <a:pt x="2670" y="1501"/>
                  </a:lnTo>
                  <a:lnTo>
                    <a:pt x="2680" y="1511"/>
                  </a:lnTo>
                  <a:lnTo>
                    <a:pt x="2688" y="1521"/>
                  </a:lnTo>
                  <a:lnTo>
                    <a:pt x="2691" y="1528"/>
                  </a:lnTo>
                  <a:lnTo>
                    <a:pt x="2701" y="1533"/>
                  </a:lnTo>
                  <a:lnTo>
                    <a:pt x="2723" y="1538"/>
                  </a:lnTo>
                  <a:lnTo>
                    <a:pt x="2753" y="1543"/>
                  </a:lnTo>
                  <a:lnTo>
                    <a:pt x="2790" y="1546"/>
                  </a:lnTo>
                  <a:lnTo>
                    <a:pt x="2828" y="1549"/>
                  </a:lnTo>
                  <a:lnTo>
                    <a:pt x="2863" y="1551"/>
                  </a:lnTo>
                  <a:lnTo>
                    <a:pt x="2891" y="1554"/>
                  </a:lnTo>
                  <a:lnTo>
                    <a:pt x="2910" y="1556"/>
                  </a:lnTo>
                  <a:lnTo>
                    <a:pt x="2925" y="1558"/>
                  </a:lnTo>
                  <a:lnTo>
                    <a:pt x="2945" y="1559"/>
                  </a:lnTo>
                  <a:lnTo>
                    <a:pt x="2968" y="1561"/>
                  </a:lnTo>
                  <a:lnTo>
                    <a:pt x="2992" y="1563"/>
                  </a:lnTo>
                  <a:lnTo>
                    <a:pt x="3013" y="1566"/>
                  </a:lnTo>
                  <a:lnTo>
                    <a:pt x="3033" y="1568"/>
                  </a:lnTo>
                  <a:lnTo>
                    <a:pt x="3048" y="1569"/>
                  </a:lnTo>
                  <a:lnTo>
                    <a:pt x="3057" y="1571"/>
                  </a:lnTo>
                  <a:lnTo>
                    <a:pt x="3070" y="1569"/>
                  </a:lnTo>
                  <a:lnTo>
                    <a:pt x="3083" y="1563"/>
                  </a:lnTo>
                  <a:lnTo>
                    <a:pt x="3095" y="1554"/>
                  </a:lnTo>
                  <a:lnTo>
                    <a:pt x="3100" y="1551"/>
                  </a:lnTo>
                  <a:lnTo>
                    <a:pt x="3102" y="1553"/>
                  </a:lnTo>
                  <a:lnTo>
                    <a:pt x="3105" y="1556"/>
                  </a:lnTo>
                  <a:lnTo>
                    <a:pt x="3112" y="1561"/>
                  </a:lnTo>
                  <a:lnTo>
                    <a:pt x="3120" y="1568"/>
                  </a:lnTo>
                  <a:lnTo>
                    <a:pt x="3130" y="1576"/>
                  </a:lnTo>
                  <a:lnTo>
                    <a:pt x="3140" y="1586"/>
                  </a:lnTo>
                  <a:lnTo>
                    <a:pt x="3152" y="1598"/>
                  </a:lnTo>
                  <a:lnTo>
                    <a:pt x="3162" y="1609"/>
                  </a:lnTo>
                  <a:lnTo>
                    <a:pt x="3172" y="1624"/>
                  </a:lnTo>
                  <a:lnTo>
                    <a:pt x="3180" y="1638"/>
                  </a:lnTo>
                  <a:lnTo>
                    <a:pt x="3183" y="1653"/>
                  </a:lnTo>
                  <a:lnTo>
                    <a:pt x="3185" y="1668"/>
                  </a:lnTo>
                  <a:lnTo>
                    <a:pt x="3185" y="1678"/>
                  </a:lnTo>
                  <a:lnTo>
                    <a:pt x="3183" y="1688"/>
                  </a:lnTo>
                  <a:lnTo>
                    <a:pt x="3180" y="1696"/>
                  </a:lnTo>
                  <a:lnTo>
                    <a:pt x="3175" y="1704"/>
                  </a:lnTo>
                  <a:lnTo>
                    <a:pt x="3168" y="1724"/>
                  </a:lnTo>
                  <a:lnTo>
                    <a:pt x="3168" y="1748"/>
                  </a:lnTo>
                  <a:lnTo>
                    <a:pt x="3168" y="1771"/>
                  </a:lnTo>
                  <a:lnTo>
                    <a:pt x="3167" y="1795"/>
                  </a:lnTo>
                  <a:lnTo>
                    <a:pt x="3162" y="1815"/>
                  </a:lnTo>
                  <a:lnTo>
                    <a:pt x="3153" y="1835"/>
                  </a:lnTo>
                  <a:lnTo>
                    <a:pt x="3145" y="1851"/>
                  </a:lnTo>
                  <a:lnTo>
                    <a:pt x="3138" y="1870"/>
                  </a:lnTo>
                  <a:lnTo>
                    <a:pt x="3132" y="1890"/>
                  </a:lnTo>
                  <a:lnTo>
                    <a:pt x="3125" y="1913"/>
                  </a:lnTo>
                  <a:lnTo>
                    <a:pt x="3120" y="1933"/>
                  </a:lnTo>
                  <a:lnTo>
                    <a:pt x="3118" y="1951"/>
                  </a:lnTo>
                  <a:lnTo>
                    <a:pt x="3117" y="1965"/>
                  </a:lnTo>
                  <a:lnTo>
                    <a:pt x="3115" y="1976"/>
                  </a:lnTo>
                  <a:lnTo>
                    <a:pt x="3108" y="1986"/>
                  </a:lnTo>
                  <a:lnTo>
                    <a:pt x="3100" y="1993"/>
                  </a:lnTo>
                  <a:lnTo>
                    <a:pt x="3093" y="1996"/>
                  </a:lnTo>
                  <a:lnTo>
                    <a:pt x="3078" y="2003"/>
                  </a:lnTo>
                  <a:lnTo>
                    <a:pt x="3057" y="2013"/>
                  </a:lnTo>
                  <a:lnTo>
                    <a:pt x="3028" y="2026"/>
                  </a:lnTo>
                  <a:lnTo>
                    <a:pt x="2997" y="2040"/>
                  </a:lnTo>
                  <a:lnTo>
                    <a:pt x="2962" y="2056"/>
                  </a:lnTo>
                  <a:lnTo>
                    <a:pt x="2923" y="2073"/>
                  </a:lnTo>
                  <a:lnTo>
                    <a:pt x="2885" y="2090"/>
                  </a:lnTo>
                  <a:lnTo>
                    <a:pt x="2845" y="2108"/>
                  </a:lnTo>
                  <a:lnTo>
                    <a:pt x="2806" y="2125"/>
                  </a:lnTo>
                  <a:lnTo>
                    <a:pt x="2770" y="2141"/>
                  </a:lnTo>
                  <a:lnTo>
                    <a:pt x="2736" y="2155"/>
                  </a:lnTo>
                  <a:lnTo>
                    <a:pt x="2708" y="2168"/>
                  </a:lnTo>
                  <a:lnTo>
                    <a:pt x="2685" y="2180"/>
                  </a:lnTo>
                  <a:lnTo>
                    <a:pt x="2668" y="2188"/>
                  </a:lnTo>
                  <a:lnTo>
                    <a:pt x="2658" y="2193"/>
                  </a:lnTo>
                  <a:lnTo>
                    <a:pt x="2645" y="2200"/>
                  </a:lnTo>
                  <a:lnTo>
                    <a:pt x="2628" y="2205"/>
                  </a:lnTo>
                  <a:lnTo>
                    <a:pt x="2608" y="2208"/>
                  </a:lnTo>
                  <a:lnTo>
                    <a:pt x="2586" y="2211"/>
                  </a:lnTo>
                  <a:lnTo>
                    <a:pt x="2561" y="2215"/>
                  </a:lnTo>
                  <a:lnTo>
                    <a:pt x="2535" y="2220"/>
                  </a:lnTo>
                  <a:lnTo>
                    <a:pt x="2508" y="2225"/>
                  </a:lnTo>
                  <a:lnTo>
                    <a:pt x="2481" y="2231"/>
                  </a:lnTo>
                  <a:lnTo>
                    <a:pt x="2466" y="2235"/>
                  </a:lnTo>
                  <a:lnTo>
                    <a:pt x="2446" y="2240"/>
                  </a:lnTo>
                  <a:lnTo>
                    <a:pt x="2425" y="2245"/>
                  </a:lnTo>
                  <a:lnTo>
                    <a:pt x="2398" y="2252"/>
                  </a:lnTo>
                  <a:lnTo>
                    <a:pt x="2371" y="2258"/>
                  </a:lnTo>
                  <a:lnTo>
                    <a:pt x="2343" y="2265"/>
                  </a:lnTo>
                  <a:lnTo>
                    <a:pt x="2313" y="2272"/>
                  </a:lnTo>
                  <a:lnTo>
                    <a:pt x="2283" y="2278"/>
                  </a:lnTo>
                  <a:lnTo>
                    <a:pt x="2253" y="2285"/>
                  </a:lnTo>
                  <a:lnTo>
                    <a:pt x="2224" y="2293"/>
                  </a:lnTo>
                  <a:lnTo>
                    <a:pt x="2198" y="2300"/>
                  </a:lnTo>
                  <a:lnTo>
                    <a:pt x="2173" y="2307"/>
                  </a:lnTo>
                  <a:lnTo>
                    <a:pt x="2151" y="2312"/>
                  </a:lnTo>
                  <a:lnTo>
                    <a:pt x="2134" y="2318"/>
                  </a:lnTo>
                  <a:lnTo>
                    <a:pt x="2119" y="2323"/>
                  </a:lnTo>
                  <a:lnTo>
                    <a:pt x="2111" y="2327"/>
                  </a:lnTo>
                  <a:lnTo>
                    <a:pt x="2098" y="2333"/>
                  </a:lnTo>
                  <a:lnTo>
                    <a:pt x="2086" y="2338"/>
                  </a:lnTo>
                  <a:lnTo>
                    <a:pt x="2071" y="2347"/>
                  </a:lnTo>
                  <a:lnTo>
                    <a:pt x="2058" y="2353"/>
                  </a:lnTo>
                  <a:lnTo>
                    <a:pt x="2043" y="2365"/>
                  </a:lnTo>
                  <a:lnTo>
                    <a:pt x="2028" y="2378"/>
                  </a:lnTo>
                  <a:lnTo>
                    <a:pt x="2011" y="2398"/>
                  </a:lnTo>
                  <a:lnTo>
                    <a:pt x="1993" y="2422"/>
                  </a:lnTo>
                  <a:lnTo>
                    <a:pt x="1976" y="2447"/>
                  </a:lnTo>
                  <a:lnTo>
                    <a:pt x="1961" y="2470"/>
                  </a:lnTo>
                  <a:lnTo>
                    <a:pt x="1946" y="2492"/>
                  </a:lnTo>
                  <a:lnTo>
                    <a:pt x="1933" y="2512"/>
                  </a:lnTo>
                  <a:lnTo>
                    <a:pt x="1923" y="2528"/>
                  </a:lnTo>
                  <a:lnTo>
                    <a:pt x="1913" y="2542"/>
                  </a:lnTo>
                  <a:lnTo>
                    <a:pt x="1904" y="2552"/>
                  </a:lnTo>
                  <a:lnTo>
                    <a:pt x="1898" y="2558"/>
                  </a:lnTo>
                  <a:lnTo>
                    <a:pt x="1891" y="2563"/>
                  </a:lnTo>
                  <a:lnTo>
                    <a:pt x="1884" y="2568"/>
                  </a:lnTo>
                  <a:lnTo>
                    <a:pt x="1874" y="2573"/>
                  </a:lnTo>
                  <a:lnTo>
                    <a:pt x="1864" y="2575"/>
                  </a:lnTo>
                  <a:lnTo>
                    <a:pt x="1853" y="2577"/>
                  </a:lnTo>
                  <a:lnTo>
                    <a:pt x="1843" y="2577"/>
                  </a:lnTo>
                  <a:lnTo>
                    <a:pt x="1833" y="2573"/>
                  </a:lnTo>
                  <a:lnTo>
                    <a:pt x="1823" y="2568"/>
                  </a:lnTo>
                  <a:lnTo>
                    <a:pt x="1814" y="2562"/>
                  </a:lnTo>
                  <a:lnTo>
                    <a:pt x="1806" y="2553"/>
                  </a:lnTo>
                  <a:lnTo>
                    <a:pt x="1799" y="2547"/>
                  </a:lnTo>
                  <a:lnTo>
                    <a:pt x="1794" y="2538"/>
                  </a:lnTo>
                  <a:lnTo>
                    <a:pt x="1787" y="2533"/>
                  </a:lnTo>
                  <a:lnTo>
                    <a:pt x="1781" y="2530"/>
                  </a:lnTo>
                  <a:lnTo>
                    <a:pt x="1772" y="2528"/>
                  </a:lnTo>
                  <a:lnTo>
                    <a:pt x="1764" y="2530"/>
                  </a:lnTo>
                  <a:lnTo>
                    <a:pt x="1752" y="2533"/>
                  </a:lnTo>
                  <a:lnTo>
                    <a:pt x="1739" y="2535"/>
                  </a:lnTo>
                  <a:lnTo>
                    <a:pt x="1722" y="2535"/>
                  </a:lnTo>
                  <a:lnTo>
                    <a:pt x="1704" y="2535"/>
                  </a:lnTo>
                  <a:lnTo>
                    <a:pt x="1684" y="2535"/>
                  </a:lnTo>
                  <a:lnTo>
                    <a:pt x="1666" y="2533"/>
                  </a:lnTo>
                  <a:lnTo>
                    <a:pt x="1647" y="2532"/>
                  </a:lnTo>
                  <a:lnTo>
                    <a:pt x="1632" y="2530"/>
                  </a:lnTo>
                  <a:lnTo>
                    <a:pt x="1617" y="2528"/>
                  </a:lnTo>
                  <a:lnTo>
                    <a:pt x="1602" y="2525"/>
                  </a:lnTo>
                  <a:lnTo>
                    <a:pt x="1589" y="2520"/>
                  </a:lnTo>
                  <a:lnTo>
                    <a:pt x="1574" y="2517"/>
                  </a:lnTo>
                  <a:lnTo>
                    <a:pt x="1561" y="2513"/>
                  </a:lnTo>
                  <a:lnTo>
                    <a:pt x="1549" y="2510"/>
                  </a:lnTo>
                  <a:lnTo>
                    <a:pt x="1537" y="2507"/>
                  </a:lnTo>
                  <a:lnTo>
                    <a:pt x="1527" y="2507"/>
                  </a:lnTo>
                  <a:lnTo>
                    <a:pt x="1514" y="2507"/>
                  </a:lnTo>
                  <a:lnTo>
                    <a:pt x="1492" y="2507"/>
                  </a:lnTo>
                  <a:lnTo>
                    <a:pt x="1466" y="2508"/>
                  </a:lnTo>
                  <a:lnTo>
                    <a:pt x="1436" y="2508"/>
                  </a:lnTo>
                  <a:lnTo>
                    <a:pt x="1409" y="2510"/>
                  </a:lnTo>
                  <a:lnTo>
                    <a:pt x="1386" y="2512"/>
                  </a:lnTo>
                  <a:lnTo>
                    <a:pt x="1369" y="2512"/>
                  </a:lnTo>
                  <a:lnTo>
                    <a:pt x="1362" y="2512"/>
                  </a:lnTo>
                  <a:lnTo>
                    <a:pt x="1361" y="2513"/>
                  </a:lnTo>
                  <a:lnTo>
                    <a:pt x="1356" y="2515"/>
                  </a:lnTo>
                  <a:lnTo>
                    <a:pt x="1349" y="2518"/>
                  </a:lnTo>
                  <a:lnTo>
                    <a:pt x="1339" y="2520"/>
                  </a:lnTo>
                  <a:lnTo>
                    <a:pt x="1329" y="2522"/>
                  </a:lnTo>
                  <a:lnTo>
                    <a:pt x="1317" y="2522"/>
                  </a:lnTo>
                  <a:lnTo>
                    <a:pt x="1304" y="2518"/>
                  </a:lnTo>
                  <a:lnTo>
                    <a:pt x="1292" y="2512"/>
                  </a:lnTo>
                  <a:lnTo>
                    <a:pt x="1281" y="2503"/>
                  </a:lnTo>
                  <a:lnTo>
                    <a:pt x="1272" y="2497"/>
                  </a:lnTo>
                  <a:lnTo>
                    <a:pt x="1266" y="2490"/>
                  </a:lnTo>
                  <a:lnTo>
                    <a:pt x="1261" y="2485"/>
                  </a:lnTo>
                  <a:lnTo>
                    <a:pt x="1256" y="2482"/>
                  </a:lnTo>
                  <a:lnTo>
                    <a:pt x="1250" y="2480"/>
                  </a:lnTo>
                  <a:lnTo>
                    <a:pt x="1245" y="2480"/>
                  </a:lnTo>
                  <a:lnTo>
                    <a:pt x="1239" y="2483"/>
                  </a:lnTo>
                  <a:lnTo>
                    <a:pt x="1232" y="2490"/>
                  </a:lnTo>
                  <a:lnTo>
                    <a:pt x="1235" y="2498"/>
                  </a:lnTo>
                  <a:lnTo>
                    <a:pt x="1240" y="2510"/>
                  </a:lnTo>
                  <a:lnTo>
                    <a:pt x="1239" y="2525"/>
                  </a:lnTo>
                  <a:lnTo>
                    <a:pt x="1234" y="2545"/>
                  </a:lnTo>
                  <a:lnTo>
                    <a:pt x="1232" y="2567"/>
                  </a:lnTo>
                  <a:lnTo>
                    <a:pt x="1234" y="2587"/>
                  </a:lnTo>
                  <a:lnTo>
                    <a:pt x="1234" y="2602"/>
                  </a:lnTo>
                  <a:lnTo>
                    <a:pt x="1230" y="2615"/>
                  </a:lnTo>
                  <a:lnTo>
                    <a:pt x="1225" y="2630"/>
                  </a:lnTo>
                  <a:lnTo>
                    <a:pt x="1219" y="2643"/>
                  </a:lnTo>
                  <a:lnTo>
                    <a:pt x="1215" y="2648"/>
                  </a:lnTo>
                  <a:lnTo>
                    <a:pt x="1177" y="2678"/>
                  </a:lnTo>
                  <a:lnTo>
                    <a:pt x="1175" y="2672"/>
                  </a:lnTo>
                  <a:lnTo>
                    <a:pt x="1170" y="2657"/>
                  </a:lnTo>
                  <a:lnTo>
                    <a:pt x="1167" y="2640"/>
                  </a:lnTo>
                  <a:lnTo>
                    <a:pt x="1167" y="2625"/>
                  </a:lnTo>
                  <a:lnTo>
                    <a:pt x="1167" y="2613"/>
                  </a:lnTo>
                  <a:lnTo>
                    <a:pt x="1164" y="2598"/>
                  </a:lnTo>
                  <a:lnTo>
                    <a:pt x="1154" y="2583"/>
                  </a:lnTo>
                  <a:lnTo>
                    <a:pt x="1144" y="2568"/>
                  </a:lnTo>
                  <a:lnTo>
                    <a:pt x="1134" y="2555"/>
                  </a:lnTo>
                  <a:lnTo>
                    <a:pt x="1124" y="2543"/>
                  </a:lnTo>
                  <a:lnTo>
                    <a:pt x="1115" y="2532"/>
                  </a:lnTo>
                  <a:lnTo>
                    <a:pt x="1110" y="2522"/>
                  </a:lnTo>
                  <a:lnTo>
                    <a:pt x="1107" y="2508"/>
                  </a:lnTo>
                  <a:lnTo>
                    <a:pt x="1104" y="2492"/>
                  </a:lnTo>
                  <a:lnTo>
                    <a:pt x="1095" y="2475"/>
                  </a:lnTo>
                  <a:lnTo>
                    <a:pt x="1082" y="2458"/>
                  </a:lnTo>
                  <a:lnTo>
                    <a:pt x="1072" y="2450"/>
                  </a:lnTo>
                  <a:lnTo>
                    <a:pt x="1059" y="2437"/>
                  </a:lnTo>
                  <a:lnTo>
                    <a:pt x="1044" y="2423"/>
                  </a:lnTo>
                  <a:lnTo>
                    <a:pt x="1029" y="2405"/>
                  </a:lnTo>
                  <a:lnTo>
                    <a:pt x="1014" y="2387"/>
                  </a:lnTo>
                  <a:lnTo>
                    <a:pt x="999" y="2368"/>
                  </a:lnTo>
                  <a:lnTo>
                    <a:pt x="987" y="2350"/>
                  </a:lnTo>
                  <a:lnTo>
                    <a:pt x="979" y="2332"/>
                  </a:lnTo>
                  <a:lnTo>
                    <a:pt x="964" y="2302"/>
                  </a:lnTo>
                  <a:lnTo>
                    <a:pt x="949" y="2280"/>
                  </a:lnTo>
                  <a:lnTo>
                    <a:pt x="937" y="2263"/>
                  </a:lnTo>
                  <a:lnTo>
                    <a:pt x="930" y="2245"/>
                  </a:lnTo>
                  <a:lnTo>
                    <a:pt x="927" y="2231"/>
                  </a:lnTo>
                  <a:lnTo>
                    <a:pt x="920" y="2211"/>
                  </a:lnTo>
                  <a:lnTo>
                    <a:pt x="910" y="2190"/>
                  </a:lnTo>
                  <a:lnTo>
                    <a:pt x="900" y="2166"/>
                  </a:lnTo>
                  <a:lnTo>
                    <a:pt x="890" y="2143"/>
                  </a:lnTo>
                  <a:lnTo>
                    <a:pt x="880" y="2123"/>
                  </a:lnTo>
                  <a:lnTo>
                    <a:pt x="870" y="2108"/>
                  </a:lnTo>
                  <a:lnTo>
                    <a:pt x="864" y="2098"/>
                  </a:lnTo>
                  <a:lnTo>
                    <a:pt x="854" y="2085"/>
                  </a:lnTo>
                  <a:lnTo>
                    <a:pt x="845" y="2071"/>
                  </a:lnTo>
                  <a:lnTo>
                    <a:pt x="834" y="2056"/>
                  </a:lnTo>
                  <a:lnTo>
                    <a:pt x="822" y="2041"/>
                  </a:lnTo>
                  <a:lnTo>
                    <a:pt x="814" y="2033"/>
                  </a:lnTo>
                  <a:lnTo>
                    <a:pt x="802" y="2025"/>
                  </a:lnTo>
                  <a:lnTo>
                    <a:pt x="790" y="2018"/>
                  </a:lnTo>
                  <a:lnTo>
                    <a:pt x="779" y="2010"/>
                  </a:lnTo>
                  <a:lnTo>
                    <a:pt x="765" y="2003"/>
                  </a:lnTo>
                  <a:lnTo>
                    <a:pt x="752" y="1998"/>
                  </a:lnTo>
                  <a:lnTo>
                    <a:pt x="740" y="1995"/>
                  </a:lnTo>
                  <a:lnTo>
                    <a:pt x="730" y="1993"/>
                  </a:lnTo>
                  <a:lnTo>
                    <a:pt x="722" y="1991"/>
                  </a:lnTo>
                  <a:lnTo>
                    <a:pt x="717" y="1988"/>
                  </a:lnTo>
                  <a:lnTo>
                    <a:pt x="710" y="1983"/>
                  </a:lnTo>
                  <a:lnTo>
                    <a:pt x="705" y="1975"/>
                  </a:lnTo>
                  <a:lnTo>
                    <a:pt x="700" y="1966"/>
                  </a:lnTo>
                  <a:lnTo>
                    <a:pt x="693" y="1953"/>
                  </a:lnTo>
                  <a:lnTo>
                    <a:pt x="685" y="1940"/>
                  </a:lnTo>
                  <a:lnTo>
                    <a:pt x="673" y="1923"/>
                  </a:lnTo>
                  <a:lnTo>
                    <a:pt x="662" y="1905"/>
                  </a:lnTo>
                  <a:lnTo>
                    <a:pt x="652" y="1886"/>
                  </a:lnTo>
                  <a:lnTo>
                    <a:pt x="642" y="1868"/>
                  </a:lnTo>
                  <a:lnTo>
                    <a:pt x="635" y="1851"/>
                  </a:lnTo>
                  <a:lnTo>
                    <a:pt x="628" y="1833"/>
                  </a:lnTo>
                  <a:lnTo>
                    <a:pt x="623" y="1818"/>
                  </a:lnTo>
                  <a:lnTo>
                    <a:pt x="620" y="1803"/>
                  </a:lnTo>
                  <a:lnTo>
                    <a:pt x="617" y="1790"/>
                  </a:lnTo>
                  <a:lnTo>
                    <a:pt x="612" y="1765"/>
                  </a:lnTo>
                  <a:lnTo>
                    <a:pt x="603" y="1741"/>
                  </a:lnTo>
                  <a:lnTo>
                    <a:pt x="597" y="1724"/>
                  </a:lnTo>
                  <a:lnTo>
                    <a:pt x="593" y="1718"/>
                  </a:lnTo>
                  <a:lnTo>
                    <a:pt x="600" y="1706"/>
                  </a:lnTo>
                  <a:lnTo>
                    <a:pt x="610" y="1676"/>
                  </a:lnTo>
                  <a:lnTo>
                    <a:pt x="617" y="1636"/>
                  </a:lnTo>
                  <a:lnTo>
                    <a:pt x="607" y="1594"/>
                  </a:lnTo>
                  <a:lnTo>
                    <a:pt x="590" y="1559"/>
                  </a:lnTo>
                  <a:lnTo>
                    <a:pt x="582" y="1531"/>
                  </a:lnTo>
                  <a:lnTo>
                    <a:pt x="573" y="1503"/>
                  </a:lnTo>
                  <a:lnTo>
                    <a:pt x="560" y="1471"/>
                  </a:lnTo>
                  <a:lnTo>
                    <a:pt x="552" y="1454"/>
                  </a:lnTo>
                  <a:lnTo>
                    <a:pt x="547" y="1439"/>
                  </a:lnTo>
                  <a:lnTo>
                    <a:pt x="542" y="1426"/>
                  </a:lnTo>
                  <a:lnTo>
                    <a:pt x="537" y="1413"/>
                  </a:lnTo>
                  <a:lnTo>
                    <a:pt x="532" y="1401"/>
                  </a:lnTo>
                  <a:lnTo>
                    <a:pt x="525" y="1393"/>
                  </a:lnTo>
                  <a:lnTo>
                    <a:pt x="518" y="1383"/>
                  </a:lnTo>
                  <a:lnTo>
                    <a:pt x="508" y="1376"/>
                  </a:lnTo>
                  <a:lnTo>
                    <a:pt x="497" y="1369"/>
                  </a:lnTo>
                  <a:lnTo>
                    <a:pt x="487" y="1361"/>
                  </a:lnTo>
                  <a:lnTo>
                    <a:pt x="475" y="1354"/>
                  </a:lnTo>
                  <a:lnTo>
                    <a:pt x="463" y="1346"/>
                  </a:lnTo>
                  <a:lnTo>
                    <a:pt x="452" y="1338"/>
                  </a:lnTo>
                  <a:lnTo>
                    <a:pt x="440" y="1329"/>
                  </a:lnTo>
                  <a:lnTo>
                    <a:pt x="427" y="1323"/>
                  </a:lnTo>
                  <a:lnTo>
                    <a:pt x="413" y="1316"/>
                  </a:lnTo>
                  <a:lnTo>
                    <a:pt x="392" y="1303"/>
                  </a:lnTo>
                  <a:lnTo>
                    <a:pt x="382" y="1286"/>
                  </a:lnTo>
                  <a:lnTo>
                    <a:pt x="375" y="1268"/>
                  </a:lnTo>
                  <a:lnTo>
                    <a:pt x="365" y="1249"/>
                  </a:lnTo>
                  <a:lnTo>
                    <a:pt x="355" y="1232"/>
                  </a:lnTo>
                  <a:lnTo>
                    <a:pt x="348" y="1219"/>
                  </a:lnTo>
                  <a:lnTo>
                    <a:pt x="347" y="1209"/>
                  </a:lnTo>
                  <a:lnTo>
                    <a:pt x="347" y="1206"/>
                  </a:lnTo>
                  <a:lnTo>
                    <a:pt x="348" y="1206"/>
                  </a:lnTo>
                  <a:lnTo>
                    <a:pt x="353" y="1204"/>
                  </a:lnTo>
                  <a:lnTo>
                    <a:pt x="360" y="1201"/>
                  </a:lnTo>
                  <a:lnTo>
                    <a:pt x="367" y="1194"/>
                  </a:lnTo>
                  <a:lnTo>
                    <a:pt x="370" y="1187"/>
                  </a:lnTo>
                  <a:lnTo>
                    <a:pt x="370" y="1176"/>
                  </a:lnTo>
                  <a:lnTo>
                    <a:pt x="365" y="1162"/>
                  </a:lnTo>
                  <a:lnTo>
                    <a:pt x="352" y="1144"/>
                  </a:lnTo>
                  <a:lnTo>
                    <a:pt x="330" y="1122"/>
                  </a:lnTo>
                  <a:lnTo>
                    <a:pt x="327" y="1122"/>
                  </a:lnTo>
                  <a:lnTo>
                    <a:pt x="330" y="1126"/>
                  </a:lnTo>
                  <a:lnTo>
                    <a:pt x="327" y="1112"/>
                  </a:lnTo>
                  <a:lnTo>
                    <a:pt x="320" y="1091"/>
                  </a:lnTo>
                  <a:lnTo>
                    <a:pt x="315" y="1076"/>
                  </a:lnTo>
                  <a:lnTo>
                    <a:pt x="308" y="1066"/>
                  </a:lnTo>
                  <a:lnTo>
                    <a:pt x="293" y="1054"/>
                  </a:lnTo>
                  <a:lnTo>
                    <a:pt x="283" y="1039"/>
                  </a:lnTo>
                  <a:lnTo>
                    <a:pt x="285" y="1024"/>
                  </a:lnTo>
                  <a:lnTo>
                    <a:pt x="287" y="1011"/>
                  </a:lnTo>
                  <a:lnTo>
                    <a:pt x="275" y="997"/>
                  </a:lnTo>
                  <a:lnTo>
                    <a:pt x="257" y="986"/>
                  </a:lnTo>
                  <a:lnTo>
                    <a:pt x="243" y="971"/>
                  </a:lnTo>
                  <a:lnTo>
                    <a:pt x="235" y="954"/>
                  </a:lnTo>
                  <a:lnTo>
                    <a:pt x="232" y="936"/>
                  </a:lnTo>
                  <a:lnTo>
                    <a:pt x="228" y="916"/>
                  </a:lnTo>
                  <a:lnTo>
                    <a:pt x="218" y="889"/>
                  </a:lnTo>
                  <a:lnTo>
                    <a:pt x="205" y="862"/>
                  </a:lnTo>
                  <a:lnTo>
                    <a:pt x="185" y="836"/>
                  </a:lnTo>
                  <a:lnTo>
                    <a:pt x="172" y="814"/>
                  </a:lnTo>
                  <a:lnTo>
                    <a:pt x="168" y="796"/>
                  </a:lnTo>
                  <a:lnTo>
                    <a:pt x="167" y="782"/>
                  </a:lnTo>
                  <a:lnTo>
                    <a:pt x="157" y="774"/>
                  </a:lnTo>
                  <a:lnTo>
                    <a:pt x="145" y="766"/>
                  </a:lnTo>
                  <a:lnTo>
                    <a:pt x="140" y="754"/>
                  </a:lnTo>
                  <a:lnTo>
                    <a:pt x="133" y="739"/>
                  </a:lnTo>
                  <a:lnTo>
                    <a:pt x="118" y="722"/>
                  </a:lnTo>
                  <a:lnTo>
                    <a:pt x="100" y="700"/>
                  </a:lnTo>
                  <a:lnTo>
                    <a:pt x="86" y="674"/>
                  </a:lnTo>
                  <a:lnTo>
                    <a:pt x="78" y="652"/>
                  </a:lnTo>
                  <a:lnTo>
                    <a:pt x="75" y="642"/>
                  </a:lnTo>
                  <a:lnTo>
                    <a:pt x="70" y="642"/>
                  </a:lnTo>
                  <a:lnTo>
                    <a:pt x="60" y="642"/>
                  </a:lnTo>
                  <a:lnTo>
                    <a:pt x="45" y="642"/>
                  </a:lnTo>
                  <a:lnTo>
                    <a:pt x="33" y="642"/>
                  </a:lnTo>
                  <a:lnTo>
                    <a:pt x="21" y="642"/>
                  </a:lnTo>
                  <a:lnTo>
                    <a:pt x="11" y="644"/>
                  </a:lnTo>
                  <a:lnTo>
                    <a:pt x="3" y="645"/>
                  </a:lnTo>
                  <a:lnTo>
                    <a:pt x="0" y="645"/>
                  </a:lnTo>
                  <a:lnTo>
                    <a:pt x="1" y="642"/>
                  </a:lnTo>
                  <a:lnTo>
                    <a:pt x="5" y="632"/>
                  </a:lnTo>
                  <a:lnTo>
                    <a:pt x="8" y="620"/>
                  </a:lnTo>
                  <a:lnTo>
                    <a:pt x="13" y="609"/>
                  </a:lnTo>
                  <a:lnTo>
                    <a:pt x="20" y="592"/>
                  </a:lnTo>
                  <a:lnTo>
                    <a:pt x="28" y="569"/>
                  </a:lnTo>
                  <a:lnTo>
                    <a:pt x="35" y="542"/>
                  </a:lnTo>
                  <a:lnTo>
                    <a:pt x="38" y="517"/>
                  </a:lnTo>
                  <a:lnTo>
                    <a:pt x="40" y="500"/>
                  </a:lnTo>
                  <a:lnTo>
                    <a:pt x="43" y="489"/>
                  </a:lnTo>
                  <a:lnTo>
                    <a:pt x="50" y="480"/>
                  </a:lnTo>
                  <a:lnTo>
                    <a:pt x="56" y="470"/>
                  </a:lnTo>
                  <a:lnTo>
                    <a:pt x="61" y="457"/>
                  </a:lnTo>
                  <a:lnTo>
                    <a:pt x="65" y="442"/>
                  </a:lnTo>
                  <a:lnTo>
                    <a:pt x="66" y="429"/>
                  </a:lnTo>
                  <a:lnTo>
                    <a:pt x="66" y="424"/>
                  </a:lnTo>
                  <a:lnTo>
                    <a:pt x="232" y="465"/>
                  </a:lnTo>
                  <a:lnTo>
                    <a:pt x="235" y="464"/>
                  </a:lnTo>
                  <a:lnTo>
                    <a:pt x="243" y="457"/>
                  </a:lnTo>
                  <a:lnTo>
                    <a:pt x="257" y="450"/>
                  </a:lnTo>
                  <a:lnTo>
                    <a:pt x="270" y="439"/>
                  </a:lnTo>
                  <a:lnTo>
                    <a:pt x="285" y="429"/>
                  </a:lnTo>
                  <a:lnTo>
                    <a:pt x="298" y="417"/>
                  </a:lnTo>
                  <a:lnTo>
                    <a:pt x="308" y="407"/>
                  </a:lnTo>
                  <a:lnTo>
                    <a:pt x="313" y="399"/>
                  </a:lnTo>
                  <a:lnTo>
                    <a:pt x="318" y="384"/>
                  </a:lnTo>
                  <a:lnTo>
                    <a:pt x="325" y="369"/>
                  </a:lnTo>
                  <a:lnTo>
                    <a:pt x="330" y="357"/>
                  </a:lnTo>
                  <a:lnTo>
                    <a:pt x="332" y="352"/>
                  </a:lnTo>
                  <a:lnTo>
                    <a:pt x="335" y="352"/>
                  </a:lnTo>
                  <a:lnTo>
                    <a:pt x="342" y="352"/>
                  </a:lnTo>
                  <a:lnTo>
                    <a:pt x="353" y="352"/>
                  </a:lnTo>
                  <a:lnTo>
                    <a:pt x="367" y="350"/>
                  </a:lnTo>
                  <a:lnTo>
                    <a:pt x="382" y="350"/>
                  </a:lnTo>
                  <a:lnTo>
                    <a:pt x="398" y="347"/>
                  </a:lnTo>
                  <a:lnTo>
                    <a:pt x="413" y="345"/>
                  </a:lnTo>
                  <a:lnTo>
                    <a:pt x="427" y="342"/>
                  </a:lnTo>
                  <a:lnTo>
                    <a:pt x="438" y="337"/>
                  </a:lnTo>
                  <a:lnTo>
                    <a:pt x="447" y="329"/>
                  </a:lnTo>
                  <a:lnTo>
                    <a:pt x="455" y="319"/>
                  </a:lnTo>
                  <a:lnTo>
                    <a:pt x="462" y="309"/>
                  </a:lnTo>
                  <a:lnTo>
                    <a:pt x="468" y="299"/>
                  </a:lnTo>
                  <a:lnTo>
                    <a:pt x="475" y="290"/>
                  </a:lnTo>
                  <a:lnTo>
                    <a:pt x="483" y="284"/>
                  </a:lnTo>
                  <a:lnTo>
                    <a:pt x="493" y="280"/>
                  </a:lnTo>
                  <a:lnTo>
                    <a:pt x="508" y="275"/>
                  </a:lnTo>
                  <a:lnTo>
                    <a:pt x="513" y="269"/>
                  </a:lnTo>
                  <a:lnTo>
                    <a:pt x="513" y="264"/>
                  </a:lnTo>
                  <a:lnTo>
                    <a:pt x="512" y="262"/>
                  </a:lnTo>
                  <a:lnTo>
                    <a:pt x="380" y="90"/>
                  </a:lnTo>
                  <a:close/>
                </a:path>
              </a:pathLst>
            </a:custGeom>
            <a:solidFill>
              <a:srgbClr val="b2b2b2">
                <a:alpha val="30000"/>
              </a:srgbClr>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281" name="PlaceHolder 1"/>
          <p:cNvSpPr>
            <a:spLocks noGrp="1"/>
          </p:cNvSpPr>
          <p:nvPr>
            <p:ph/>
          </p:nvPr>
        </p:nvSpPr>
        <p:spPr>
          <a:xfrm>
            <a:off x="990360" y="1600200"/>
            <a:ext cx="7467480" cy="4525920"/>
          </a:xfrm>
          <a:prstGeom prst="rect">
            <a:avLst/>
          </a:prstGeom>
          <a:noFill/>
          <a:ln w="0">
            <a:noFill/>
          </a:ln>
        </p:spPr>
        <p:txBody>
          <a:bodyPr lIns="90000" rIns="90000" tIns="46800" bIns="46800" anchor="t">
            <a:normAutofit/>
          </a:bodyPr>
          <a:p>
            <a:pPr marL="341280" indent="-341280">
              <a:lnSpc>
                <a:spcPct val="90000"/>
              </a:lnSpc>
              <a:spcBef>
                <a:spcPts val="601"/>
              </a:spcBef>
              <a:buClr>
                <a:srgbClr val="333399"/>
              </a:buClr>
              <a:buFont typeface="Albertus Medium"/>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333399"/>
                </a:solidFill>
                <a:latin typeface="Albertus Medium"/>
              </a:rPr>
              <a:t>Nanomedicine from science fiction in 1966 “Fantastic voyage” by the Author Isaac Asimov to reality,</a:t>
            </a:r>
            <a:endParaRPr b="0" lang="en-US" sz="2400" spc="-1" strike="noStrike">
              <a:solidFill>
                <a:srgbClr val="000000"/>
              </a:solidFill>
              <a:latin typeface="Arial"/>
            </a:endParaRPr>
          </a:p>
          <a:p>
            <a:pPr marL="341280" indent="0">
              <a:lnSpc>
                <a:spcPct val="9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400" spc="-1" strike="noStrike">
              <a:solidFill>
                <a:srgbClr val="000000"/>
              </a:solidFill>
              <a:latin typeface="Arial"/>
            </a:endParaRPr>
          </a:p>
          <a:p>
            <a:pPr marL="341280" indent="-341280">
              <a:lnSpc>
                <a:spcPct val="90000"/>
              </a:lnSpc>
              <a:spcBef>
                <a:spcPts val="601"/>
              </a:spcBef>
              <a:buClr>
                <a:srgbClr val="333399"/>
              </a:buClr>
              <a:buFont typeface="Albertus Medium"/>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333399"/>
                </a:solidFill>
                <a:latin typeface="Albertus Medium"/>
              </a:rPr>
              <a:t>Nanomedicine is an interdisciplinary research field incorporating biology, chemistry, engineering and medicine with the intention to improve disease prevention, diagnosis, and treatment.</a:t>
            </a:r>
            <a:endParaRPr b="0" lang="en-US" sz="2400" spc="-1" strike="noStrike">
              <a:solidFill>
                <a:srgbClr val="000000"/>
              </a:solidFill>
              <a:latin typeface="Arial"/>
            </a:endParaRPr>
          </a:p>
          <a:p>
            <a:pPr marL="341280" indent="0">
              <a:lnSpc>
                <a:spcPct val="9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000000"/>
              </a:solidFill>
              <a:latin typeface="Arial"/>
            </a:endParaRPr>
          </a:p>
        </p:txBody>
      </p:sp>
      <p:sp>
        <p:nvSpPr>
          <p:cNvPr id="282" name=""/>
          <p:cNvSpPr/>
          <p:nvPr/>
        </p:nvSpPr>
        <p:spPr>
          <a:xfrm>
            <a:off x="609480" y="6629400"/>
            <a:ext cx="8534520" cy="228600"/>
          </a:xfrm>
          <a:prstGeom prst="rect">
            <a:avLst/>
          </a:prstGeom>
          <a:solidFill>
            <a:srgbClr val="bbe0e3"/>
          </a:solidFill>
          <a:ln cap="sq"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99"/>
                </a:solidFill>
                <a:latin typeface="Albertus Medium"/>
              </a:rPr>
              <a:t>www.skinandallergy.org</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0" lang="en-US" sz="1000" spc="-1" strike="noStrike">
                <a:solidFill>
                  <a:srgbClr val="333399"/>
                </a:solidFill>
                <a:latin typeface="Albertus Medium"/>
              </a:rPr>
              <a:t>www.panarabderm.org</a:t>
            </a:r>
            <a:endParaRPr b="0" lang="en-US" sz="10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83" name="" descr=""/>
          <p:cNvPicPr/>
          <p:nvPr/>
        </p:nvPicPr>
        <p:blipFill>
          <a:blip r:embed="rId2"/>
          <a:stretch/>
        </p:blipFill>
        <p:spPr>
          <a:xfrm>
            <a:off x="8153280" y="74520"/>
            <a:ext cx="922320" cy="992160"/>
          </a:xfrm>
          <a:prstGeom prst="rect">
            <a:avLst/>
          </a:prstGeom>
          <a:ln w="0">
            <a:noFill/>
          </a:ln>
        </p:spPr>
      </p:pic>
      <p:sp>
        <p:nvSpPr>
          <p:cNvPr id="284" name=""/>
          <p:cNvSpPr/>
          <p:nvPr/>
        </p:nvSpPr>
        <p:spPr>
          <a:xfrm>
            <a:off x="1295280" y="1066680"/>
            <a:ext cx="6193080" cy="1800"/>
          </a:xfrm>
          <a:prstGeom prst="line">
            <a:avLst/>
          </a:prstGeom>
          <a:ln cap="sq" w="12600">
            <a:solidFill>
              <a:srgbClr val="b2b2b2"/>
            </a:solidFill>
            <a:miter/>
          </a:ln>
        </p:spPr>
        <p:style>
          <a:lnRef idx="0"/>
          <a:fillRef idx="0"/>
          <a:effectRef idx="0"/>
          <a:fontRef idx="minor"/>
        </p:style>
        <p:txBody>
          <a:bodyPr lIns="90000" rIns="90000" tIns="-45000" bIns="-45000" anchor="t">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285" name="" descr=""/>
          <p:cNvPicPr/>
          <p:nvPr/>
        </p:nvPicPr>
        <p:blipFill>
          <a:blip r:embed="rId3"/>
          <a:stretch/>
        </p:blipFill>
        <p:spPr>
          <a:xfrm>
            <a:off x="0" y="0"/>
            <a:ext cx="600120" cy="6858000"/>
          </a:xfrm>
          <a:prstGeom prst="rect">
            <a:avLst/>
          </a:prstGeom>
          <a:ln w="0">
            <a:noFill/>
          </a:ln>
        </p:spPr>
      </p:pic>
      <p:sp>
        <p:nvSpPr>
          <p:cNvPr id="286" name=""/>
          <p:cNvSpPr/>
          <p:nvPr/>
        </p:nvSpPr>
        <p:spPr>
          <a:xfrm>
            <a:off x="0" y="457200"/>
            <a:ext cx="914400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333399"/>
                </a:solidFill>
                <a:latin typeface="Albertus Medium"/>
              </a:rPr>
              <a:t>Nanotechnology in Medicine</a:t>
            </a:r>
            <a:endParaRPr b="0" lang="en-US" sz="3600" spc="-1" strike="noStrike">
              <a:solidFill>
                <a:srgbClr val="000000"/>
              </a:solidFill>
              <a:latin typeface="Arial"/>
            </a:endParaRPr>
          </a:p>
        </p:txBody>
      </p:sp>
      <p:grpSp>
        <p:nvGrpSpPr>
          <p:cNvPr id="287" name=""/>
          <p:cNvGrpSpPr/>
          <p:nvPr/>
        </p:nvGrpSpPr>
        <p:grpSpPr>
          <a:xfrm>
            <a:off x="2639880" y="1346040"/>
            <a:ext cx="4521240" cy="3986280"/>
            <a:chOff x="2639880" y="1346040"/>
            <a:chExt cx="4521240" cy="3986280"/>
          </a:xfrm>
        </p:grpSpPr>
        <p:sp>
          <p:nvSpPr>
            <p:cNvPr id="288" name=""/>
            <p:cNvSpPr/>
            <p:nvPr/>
          </p:nvSpPr>
          <p:spPr>
            <a:xfrm>
              <a:off x="2639880" y="2319480"/>
              <a:ext cx="1721160" cy="3012840"/>
            </a:xfrm>
            <a:custGeom>
              <a:avLst/>
              <a:gdLst/>
              <a:ahLst/>
              <a:rect l="l" t="t" r="r" b="b"/>
              <a:pathLst>
                <a:path w="1261" h="2255">
                  <a:moveTo>
                    <a:pt x="1257" y="2027"/>
                  </a:moveTo>
                  <a:lnTo>
                    <a:pt x="1257" y="2015"/>
                  </a:lnTo>
                  <a:lnTo>
                    <a:pt x="1252" y="2000"/>
                  </a:lnTo>
                  <a:lnTo>
                    <a:pt x="1244" y="1985"/>
                  </a:lnTo>
                  <a:lnTo>
                    <a:pt x="1232" y="1970"/>
                  </a:lnTo>
                  <a:lnTo>
                    <a:pt x="1222" y="1956"/>
                  </a:lnTo>
                  <a:lnTo>
                    <a:pt x="1212" y="1945"/>
                  </a:lnTo>
                  <a:lnTo>
                    <a:pt x="1204" y="1933"/>
                  </a:lnTo>
                  <a:lnTo>
                    <a:pt x="1199" y="1921"/>
                  </a:lnTo>
                  <a:lnTo>
                    <a:pt x="1197" y="1910"/>
                  </a:lnTo>
                  <a:lnTo>
                    <a:pt x="1192" y="1893"/>
                  </a:lnTo>
                  <a:lnTo>
                    <a:pt x="1186" y="1876"/>
                  </a:lnTo>
                  <a:lnTo>
                    <a:pt x="1171" y="1860"/>
                  </a:lnTo>
                  <a:lnTo>
                    <a:pt x="1161" y="1851"/>
                  </a:lnTo>
                  <a:lnTo>
                    <a:pt x="1147" y="1838"/>
                  </a:lnTo>
                  <a:lnTo>
                    <a:pt x="1132" y="1823"/>
                  </a:lnTo>
                  <a:lnTo>
                    <a:pt x="1117" y="1806"/>
                  </a:lnTo>
                  <a:lnTo>
                    <a:pt x="1102" y="1788"/>
                  </a:lnTo>
                  <a:lnTo>
                    <a:pt x="1087" y="1770"/>
                  </a:lnTo>
                  <a:lnTo>
                    <a:pt x="1076" y="1750"/>
                  </a:lnTo>
                  <a:lnTo>
                    <a:pt x="1067" y="1731"/>
                  </a:lnTo>
                  <a:lnTo>
                    <a:pt x="1052" y="1703"/>
                  </a:lnTo>
                  <a:lnTo>
                    <a:pt x="1037" y="1681"/>
                  </a:lnTo>
                  <a:lnTo>
                    <a:pt x="1026" y="1665"/>
                  </a:lnTo>
                  <a:lnTo>
                    <a:pt x="1019" y="1646"/>
                  </a:lnTo>
                  <a:lnTo>
                    <a:pt x="1016" y="1633"/>
                  </a:lnTo>
                  <a:lnTo>
                    <a:pt x="1009" y="1613"/>
                  </a:lnTo>
                  <a:lnTo>
                    <a:pt x="999" y="1591"/>
                  </a:lnTo>
                  <a:lnTo>
                    <a:pt x="989" y="1568"/>
                  </a:lnTo>
                  <a:lnTo>
                    <a:pt x="979" y="1545"/>
                  </a:lnTo>
                  <a:lnTo>
                    <a:pt x="969" y="1525"/>
                  </a:lnTo>
                  <a:lnTo>
                    <a:pt x="959" y="1508"/>
                  </a:lnTo>
                  <a:lnTo>
                    <a:pt x="952" y="1499"/>
                  </a:lnTo>
                  <a:lnTo>
                    <a:pt x="942" y="1486"/>
                  </a:lnTo>
                  <a:lnTo>
                    <a:pt x="934" y="1473"/>
                  </a:lnTo>
                  <a:lnTo>
                    <a:pt x="922" y="1458"/>
                  </a:lnTo>
                  <a:lnTo>
                    <a:pt x="911" y="1443"/>
                  </a:lnTo>
                  <a:lnTo>
                    <a:pt x="902" y="1434"/>
                  </a:lnTo>
                  <a:lnTo>
                    <a:pt x="891" y="1426"/>
                  </a:lnTo>
                  <a:lnTo>
                    <a:pt x="879" y="1419"/>
                  </a:lnTo>
                  <a:lnTo>
                    <a:pt x="867" y="1411"/>
                  </a:lnTo>
                  <a:lnTo>
                    <a:pt x="854" y="1404"/>
                  </a:lnTo>
                  <a:lnTo>
                    <a:pt x="842" y="1399"/>
                  </a:lnTo>
                  <a:lnTo>
                    <a:pt x="831" y="1396"/>
                  </a:lnTo>
                  <a:lnTo>
                    <a:pt x="820" y="1394"/>
                  </a:lnTo>
                  <a:lnTo>
                    <a:pt x="812" y="1393"/>
                  </a:lnTo>
                  <a:lnTo>
                    <a:pt x="805" y="1389"/>
                  </a:lnTo>
                  <a:lnTo>
                    <a:pt x="800" y="1384"/>
                  </a:lnTo>
                  <a:lnTo>
                    <a:pt x="794" y="1376"/>
                  </a:lnTo>
                  <a:lnTo>
                    <a:pt x="789" y="1368"/>
                  </a:lnTo>
                  <a:lnTo>
                    <a:pt x="782" y="1354"/>
                  </a:lnTo>
                  <a:lnTo>
                    <a:pt x="774" y="1341"/>
                  </a:lnTo>
                  <a:lnTo>
                    <a:pt x="762" y="1324"/>
                  </a:lnTo>
                  <a:lnTo>
                    <a:pt x="750" y="1306"/>
                  </a:lnTo>
                  <a:lnTo>
                    <a:pt x="740" y="1288"/>
                  </a:lnTo>
                  <a:lnTo>
                    <a:pt x="732" y="1269"/>
                  </a:lnTo>
                  <a:lnTo>
                    <a:pt x="724" y="1253"/>
                  </a:lnTo>
                  <a:lnTo>
                    <a:pt x="717" y="1234"/>
                  </a:lnTo>
                  <a:lnTo>
                    <a:pt x="712" y="1219"/>
                  </a:lnTo>
                  <a:lnTo>
                    <a:pt x="709" y="1204"/>
                  </a:lnTo>
                  <a:lnTo>
                    <a:pt x="705" y="1191"/>
                  </a:lnTo>
                  <a:lnTo>
                    <a:pt x="700" y="1166"/>
                  </a:lnTo>
                  <a:lnTo>
                    <a:pt x="692" y="1143"/>
                  </a:lnTo>
                  <a:lnTo>
                    <a:pt x="685" y="1126"/>
                  </a:lnTo>
                  <a:lnTo>
                    <a:pt x="682" y="1119"/>
                  </a:lnTo>
                  <a:lnTo>
                    <a:pt x="689" y="1108"/>
                  </a:lnTo>
                  <a:lnTo>
                    <a:pt x="700" y="1078"/>
                  </a:lnTo>
                  <a:lnTo>
                    <a:pt x="707" y="1038"/>
                  </a:lnTo>
                  <a:lnTo>
                    <a:pt x="697" y="996"/>
                  </a:lnTo>
                  <a:lnTo>
                    <a:pt x="680" y="961"/>
                  </a:lnTo>
                  <a:lnTo>
                    <a:pt x="670" y="932"/>
                  </a:lnTo>
                  <a:lnTo>
                    <a:pt x="662" y="904"/>
                  </a:lnTo>
                  <a:lnTo>
                    <a:pt x="649" y="872"/>
                  </a:lnTo>
                  <a:lnTo>
                    <a:pt x="640" y="856"/>
                  </a:lnTo>
                  <a:lnTo>
                    <a:pt x="635" y="839"/>
                  </a:lnTo>
                  <a:lnTo>
                    <a:pt x="630" y="826"/>
                  </a:lnTo>
                  <a:lnTo>
                    <a:pt x="625" y="814"/>
                  </a:lnTo>
                  <a:lnTo>
                    <a:pt x="620" y="802"/>
                  </a:lnTo>
                  <a:lnTo>
                    <a:pt x="614" y="792"/>
                  </a:lnTo>
                  <a:lnTo>
                    <a:pt x="607" y="784"/>
                  </a:lnTo>
                  <a:lnTo>
                    <a:pt x="597" y="777"/>
                  </a:lnTo>
                  <a:lnTo>
                    <a:pt x="587" y="771"/>
                  </a:lnTo>
                  <a:lnTo>
                    <a:pt x="575" y="762"/>
                  </a:lnTo>
                  <a:lnTo>
                    <a:pt x="565" y="754"/>
                  </a:lnTo>
                  <a:lnTo>
                    <a:pt x="554" y="744"/>
                  </a:lnTo>
                  <a:lnTo>
                    <a:pt x="542" y="736"/>
                  </a:lnTo>
                  <a:lnTo>
                    <a:pt x="529" y="729"/>
                  </a:lnTo>
                  <a:lnTo>
                    <a:pt x="515" y="721"/>
                  </a:lnTo>
                  <a:lnTo>
                    <a:pt x="502" y="716"/>
                  </a:lnTo>
                  <a:lnTo>
                    <a:pt x="480" y="702"/>
                  </a:lnTo>
                  <a:lnTo>
                    <a:pt x="470" y="686"/>
                  </a:lnTo>
                  <a:lnTo>
                    <a:pt x="464" y="667"/>
                  </a:lnTo>
                  <a:lnTo>
                    <a:pt x="454" y="649"/>
                  </a:lnTo>
                  <a:lnTo>
                    <a:pt x="444" y="634"/>
                  </a:lnTo>
                  <a:lnTo>
                    <a:pt x="437" y="621"/>
                  </a:lnTo>
                  <a:lnTo>
                    <a:pt x="435" y="611"/>
                  </a:lnTo>
                  <a:lnTo>
                    <a:pt x="435" y="607"/>
                  </a:lnTo>
                  <a:lnTo>
                    <a:pt x="437" y="607"/>
                  </a:lnTo>
                  <a:lnTo>
                    <a:pt x="442" y="606"/>
                  </a:lnTo>
                  <a:lnTo>
                    <a:pt x="449" y="602"/>
                  </a:lnTo>
                  <a:lnTo>
                    <a:pt x="455" y="596"/>
                  </a:lnTo>
                  <a:lnTo>
                    <a:pt x="459" y="589"/>
                  </a:lnTo>
                  <a:lnTo>
                    <a:pt x="459" y="577"/>
                  </a:lnTo>
                  <a:lnTo>
                    <a:pt x="454" y="564"/>
                  </a:lnTo>
                  <a:lnTo>
                    <a:pt x="440" y="546"/>
                  </a:lnTo>
                  <a:lnTo>
                    <a:pt x="434" y="539"/>
                  </a:lnTo>
                  <a:lnTo>
                    <a:pt x="429" y="532"/>
                  </a:lnTo>
                  <a:lnTo>
                    <a:pt x="424" y="529"/>
                  </a:lnTo>
                  <a:lnTo>
                    <a:pt x="420" y="526"/>
                  </a:lnTo>
                  <a:lnTo>
                    <a:pt x="419" y="527"/>
                  </a:lnTo>
                  <a:lnTo>
                    <a:pt x="415" y="526"/>
                  </a:lnTo>
                  <a:lnTo>
                    <a:pt x="415" y="522"/>
                  </a:lnTo>
                  <a:lnTo>
                    <a:pt x="420" y="526"/>
                  </a:lnTo>
                  <a:lnTo>
                    <a:pt x="420" y="524"/>
                  </a:lnTo>
                  <a:lnTo>
                    <a:pt x="419" y="521"/>
                  </a:lnTo>
                  <a:lnTo>
                    <a:pt x="419" y="517"/>
                  </a:lnTo>
                  <a:lnTo>
                    <a:pt x="417" y="512"/>
                  </a:lnTo>
                  <a:lnTo>
                    <a:pt x="409" y="490"/>
                  </a:lnTo>
                  <a:lnTo>
                    <a:pt x="405" y="477"/>
                  </a:lnTo>
                  <a:lnTo>
                    <a:pt x="399" y="467"/>
                  </a:lnTo>
                  <a:lnTo>
                    <a:pt x="384" y="455"/>
                  </a:lnTo>
                  <a:lnTo>
                    <a:pt x="372" y="440"/>
                  </a:lnTo>
                  <a:lnTo>
                    <a:pt x="374" y="425"/>
                  </a:lnTo>
                  <a:lnTo>
                    <a:pt x="375" y="412"/>
                  </a:lnTo>
                  <a:lnTo>
                    <a:pt x="364" y="399"/>
                  </a:lnTo>
                  <a:lnTo>
                    <a:pt x="345" y="387"/>
                  </a:lnTo>
                  <a:lnTo>
                    <a:pt x="332" y="372"/>
                  </a:lnTo>
                  <a:lnTo>
                    <a:pt x="325" y="355"/>
                  </a:lnTo>
                  <a:lnTo>
                    <a:pt x="322" y="337"/>
                  </a:lnTo>
                  <a:lnTo>
                    <a:pt x="319" y="317"/>
                  </a:lnTo>
                  <a:lnTo>
                    <a:pt x="309" y="290"/>
                  </a:lnTo>
                  <a:lnTo>
                    <a:pt x="294" y="264"/>
                  </a:lnTo>
                  <a:lnTo>
                    <a:pt x="273" y="237"/>
                  </a:lnTo>
                  <a:lnTo>
                    <a:pt x="260" y="215"/>
                  </a:lnTo>
                  <a:lnTo>
                    <a:pt x="257" y="197"/>
                  </a:lnTo>
                  <a:lnTo>
                    <a:pt x="255" y="184"/>
                  </a:lnTo>
                  <a:lnTo>
                    <a:pt x="245" y="175"/>
                  </a:lnTo>
                  <a:lnTo>
                    <a:pt x="233" y="167"/>
                  </a:lnTo>
                  <a:lnTo>
                    <a:pt x="228" y="154"/>
                  </a:lnTo>
                  <a:lnTo>
                    <a:pt x="222" y="140"/>
                  </a:lnTo>
                  <a:lnTo>
                    <a:pt x="207" y="124"/>
                  </a:lnTo>
                  <a:lnTo>
                    <a:pt x="188" y="100"/>
                  </a:lnTo>
                  <a:lnTo>
                    <a:pt x="175" y="74"/>
                  </a:lnTo>
                  <a:lnTo>
                    <a:pt x="168" y="52"/>
                  </a:lnTo>
                  <a:lnTo>
                    <a:pt x="165" y="42"/>
                  </a:lnTo>
                  <a:lnTo>
                    <a:pt x="160" y="42"/>
                  </a:lnTo>
                  <a:lnTo>
                    <a:pt x="148" y="42"/>
                  </a:lnTo>
                  <a:lnTo>
                    <a:pt x="133" y="42"/>
                  </a:lnTo>
                  <a:lnTo>
                    <a:pt x="122" y="42"/>
                  </a:lnTo>
                  <a:lnTo>
                    <a:pt x="110" y="42"/>
                  </a:lnTo>
                  <a:lnTo>
                    <a:pt x="100" y="44"/>
                  </a:lnTo>
                  <a:lnTo>
                    <a:pt x="92" y="47"/>
                  </a:lnTo>
                  <a:lnTo>
                    <a:pt x="88" y="47"/>
                  </a:lnTo>
                  <a:lnTo>
                    <a:pt x="90" y="44"/>
                  </a:lnTo>
                  <a:lnTo>
                    <a:pt x="93" y="34"/>
                  </a:lnTo>
                  <a:lnTo>
                    <a:pt x="98" y="20"/>
                  </a:lnTo>
                  <a:lnTo>
                    <a:pt x="103" y="8"/>
                  </a:lnTo>
                  <a:lnTo>
                    <a:pt x="103" y="8"/>
                  </a:lnTo>
                  <a:lnTo>
                    <a:pt x="103" y="8"/>
                  </a:lnTo>
                  <a:lnTo>
                    <a:pt x="103" y="8"/>
                  </a:lnTo>
                  <a:lnTo>
                    <a:pt x="103" y="8"/>
                  </a:lnTo>
                  <a:lnTo>
                    <a:pt x="67" y="0"/>
                  </a:lnTo>
                  <a:lnTo>
                    <a:pt x="67" y="5"/>
                  </a:lnTo>
                  <a:lnTo>
                    <a:pt x="65" y="19"/>
                  </a:lnTo>
                  <a:lnTo>
                    <a:pt x="62" y="34"/>
                  </a:lnTo>
                  <a:lnTo>
                    <a:pt x="57" y="47"/>
                  </a:lnTo>
                  <a:lnTo>
                    <a:pt x="50" y="57"/>
                  </a:lnTo>
                  <a:lnTo>
                    <a:pt x="45" y="65"/>
                  </a:lnTo>
                  <a:lnTo>
                    <a:pt x="40" y="79"/>
                  </a:lnTo>
                  <a:lnTo>
                    <a:pt x="38" y="95"/>
                  </a:lnTo>
                  <a:lnTo>
                    <a:pt x="35" y="119"/>
                  </a:lnTo>
                  <a:lnTo>
                    <a:pt x="28" y="145"/>
                  </a:lnTo>
                  <a:lnTo>
                    <a:pt x="20" y="169"/>
                  </a:lnTo>
                  <a:lnTo>
                    <a:pt x="15" y="185"/>
                  </a:lnTo>
                  <a:lnTo>
                    <a:pt x="10" y="197"/>
                  </a:lnTo>
                  <a:lnTo>
                    <a:pt x="5" y="209"/>
                  </a:lnTo>
                  <a:lnTo>
                    <a:pt x="2" y="220"/>
                  </a:lnTo>
                  <a:lnTo>
                    <a:pt x="0" y="224"/>
                  </a:lnTo>
                  <a:lnTo>
                    <a:pt x="3" y="224"/>
                  </a:lnTo>
                  <a:lnTo>
                    <a:pt x="12" y="220"/>
                  </a:lnTo>
                  <a:lnTo>
                    <a:pt x="23" y="219"/>
                  </a:lnTo>
                  <a:lnTo>
                    <a:pt x="33" y="219"/>
                  </a:lnTo>
                  <a:lnTo>
                    <a:pt x="47" y="219"/>
                  </a:lnTo>
                  <a:lnTo>
                    <a:pt x="60" y="219"/>
                  </a:lnTo>
                  <a:lnTo>
                    <a:pt x="72" y="219"/>
                  </a:lnTo>
                  <a:lnTo>
                    <a:pt x="77" y="219"/>
                  </a:lnTo>
                  <a:lnTo>
                    <a:pt x="80" y="229"/>
                  </a:lnTo>
                  <a:lnTo>
                    <a:pt x="87" y="250"/>
                  </a:lnTo>
                  <a:lnTo>
                    <a:pt x="100" y="277"/>
                  </a:lnTo>
                  <a:lnTo>
                    <a:pt x="118" y="299"/>
                  </a:lnTo>
                  <a:lnTo>
                    <a:pt x="133" y="315"/>
                  </a:lnTo>
                  <a:lnTo>
                    <a:pt x="140" y="330"/>
                  </a:lnTo>
                  <a:lnTo>
                    <a:pt x="145" y="342"/>
                  </a:lnTo>
                  <a:lnTo>
                    <a:pt x="157" y="352"/>
                  </a:lnTo>
                  <a:lnTo>
                    <a:pt x="167" y="360"/>
                  </a:lnTo>
                  <a:lnTo>
                    <a:pt x="168" y="374"/>
                  </a:lnTo>
                  <a:lnTo>
                    <a:pt x="172" y="390"/>
                  </a:lnTo>
                  <a:lnTo>
                    <a:pt x="185" y="414"/>
                  </a:lnTo>
                  <a:lnTo>
                    <a:pt x="205" y="440"/>
                  </a:lnTo>
                  <a:lnTo>
                    <a:pt x="220" y="467"/>
                  </a:lnTo>
                  <a:lnTo>
                    <a:pt x="230" y="492"/>
                  </a:lnTo>
                  <a:lnTo>
                    <a:pt x="233" y="512"/>
                  </a:lnTo>
                  <a:lnTo>
                    <a:pt x="237" y="531"/>
                  </a:lnTo>
                  <a:lnTo>
                    <a:pt x="243" y="547"/>
                  </a:lnTo>
                  <a:lnTo>
                    <a:pt x="257" y="562"/>
                  </a:lnTo>
                  <a:lnTo>
                    <a:pt x="275" y="574"/>
                  </a:lnTo>
                  <a:lnTo>
                    <a:pt x="287" y="587"/>
                  </a:lnTo>
                  <a:lnTo>
                    <a:pt x="285" y="601"/>
                  </a:lnTo>
                  <a:lnTo>
                    <a:pt x="284" y="617"/>
                  </a:lnTo>
                  <a:lnTo>
                    <a:pt x="295" y="632"/>
                  </a:lnTo>
                  <a:lnTo>
                    <a:pt x="310" y="642"/>
                  </a:lnTo>
                  <a:lnTo>
                    <a:pt x="317" y="652"/>
                  </a:lnTo>
                  <a:lnTo>
                    <a:pt x="320" y="666"/>
                  </a:lnTo>
                  <a:lnTo>
                    <a:pt x="329" y="687"/>
                  </a:lnTo>
                  <a:lnTo>
                    <a:pt x="330" y="692"/>
                  </a:lnTo>
                  <a:lnTo>
                    <a:pt x="330" y="696"/>
                  </a:lnTo>
                  <a:lnTo>
                    <a:pt x="332" y="697"/>
                  </a:lnTo>
                  <a:lnTo>
                    <a:pt x="332" y="699"/>
                  </a:lnTo>
                  <a:lnTo>
                    <a:pt x="335" y="702"/>
                  </a:lnTo>
                  <a:lnTo>
                    <a:pt x="340" y="707"/>
                  </a:lnTo>
                  <a:lnTo>
                    <a:pt x="345" y="712"/>
                  </a:lnTo>
                  <a:lnTo>
                    <a:pt x="352" y="721"/>
                  </a:lnTo>
                  <a:lnTo>
                    <a:pt x="365" y="737"/>
                  </a:lnTo>
                  <a:lnTo>
                    <a:pt x="370" y="752"/>
                  </a:lnTo>
                  <a:lnTo>
                    <a:pt x="370" y="762"/>
                  </a:lnTo>
                  <a:lnTo>
                    <a:pt x="367" y="771"/>
                  </a:lnTo>
                  <a:lnTo>
                    <a:pt x="360" y="776"/>
                  </a:lnTo>
                  <a:lnTo>
                    <a:pt x="354" y="781"/>
                  </a:lnTo>
                  <a:lnTo>
                    <a:pt x="349" y="782"/>
                  </a:lnTo>
                  <a:lnTo>
                    <a:pt x="347" y="782"/>
                  </a:lnTo>
                  <a:lnTo>
                    <a:pt x="347" y="786"/>
                  </a:lnTo>
                  <a:lnTo>
                    <a:pt x="350" y="794"/>
                  </a:lnTo>
                  <a:lnTo>
                    <a:pt x="355" y="807"/>
                  </a:lnTo>
                  <a:lnTo>
                    <a:pt x="367" y="824"/>
                  </a:lnTo>
                  <a:lnTo>
                    <a:pt x="377" y="842"/>
                  </a:lnTo>
                  <a:lnTo>
                    <a:pt x="384" y="862"/>
                  </a:lnTo>
                  <a:lnTo>
                    <a:pt x="392" y="877"/>
                  </a:lnTo>
                  <a:lnTo>
                    <a:pt x="414" y="891"/>
                  </a:lnTo>
                  <a:lnTo>
                    <a:pt x="427" y="897"/>
                  </a:lnTo>
                  <a:lnTo>
                    <a:pt x="440" y="904"/>
                  </a:lnTo>
                  <a:lnTo>
                    <a:pt x="454" y="912"/>
                  </a:lnTo>
                  <a:lnTo>
                    <a:pt x="465" y="921"/>
                  </a:lnTo>
                  <a:lnTo>
                    <a:pt x="477" y="929"/>
                  </a:lnTo>
                  <a:lnTo>
                    <a:pt x="487" y="937"/>
                  </a:lnTo>
                  <a:lnTo>
                    <a:pt x="499" y="946"/>
                  </a:lnTo>
                  <a:lnTo>
                    <a:pt x="509" y="952"/>
                  </a:lnTo>
                  <a:lnTo>
                    <a:pt x="519" y="961"/>
                  </a:lnTo>
                  <a:lnTo>
                    <a:pt x="525" y="969"/>
                  </a:lnTo>
                  <a:lnTo>
                    <a:pt x="532" y="979"/>
                  </a:lnTo>
                  <a:lnTo>
                    <a:pt x="537" y="989"/>
                  </a:lnTo>
                  <a:lnTo>
                    <a:pt x="542" y="1002"/>
                  </a:lnTo>
                  <a:lnTo>
                    <a:pt x="547" y="1016"/>
                  </a:lnTo>
                  <a:lnTo>
                    <a:pt x="552" y="1031"/>
                  </a:lnTo>
                  <a:lnTo>
                    <a:pt x="560" y="1048"/>
                  </a:lnTo>
                  <a:lnTo>
                    <a:pt x="574" y="1079"/>
                  </a:lnTo>
                  <a:lnTo>
                    <a:pt x="584" y="1108"/>
                  </a:lnTo>
                  <a:lnTo>
                    <a:pt x="592" y="1136"/>
                  </a:lnTo>
                  <a:lnTo>
                    <a:pt x="609" y="1171"/>
                  </a:lnTo>
                  <a:lnTo>
                    <a:pt x="619" y="1213"/>
                  </a:lnTo>
                  <a:lnTo>
                    <a:pt x="612" y="1253"/>
                  </a:lnTo>
                  <a:lnTo>
                    <a:pt x="600" y="1283"/>
                  </a:lnTo>
                  <a:lnTo>
                    <a:pt x="594" y="1294"/>
                  </a:lnTo>
                  <a:lnTo>
                    <a:pt x="597" y="1301"/>
                  </a:lnTo>
                  <a:lnTo>
                    <a:pt x="604" y="1318"/>
                  </a:lnTo>
                  <a:lnTo>
                    <a:pt x="612" y="1341"/>
                  </a:lnTo>
                  <a:lnTo>
                    <a:pt x="617" y="1366"/>
                  </a:lnTo>
                  <a:lnTo>
                    <a:pt x="620" y="1379"/>
                  </a:lnTo>
                  <a:lnTo>
                    <a:pt x="624" y="1394"/>
                  </a:lnTo>
                  <a:lnTo>
                    <a:pt x="629" y="1409"/>
                  </a:lnTo>
                  <a:lnTo>
                    <a:pt x="635" y="1428"/>
                  </a:lnTo>
                  <a:lnTo>
                    <a:pt x="644" y="1444"/>
                  </a:lnTo>
                  <a:lnTo>
                    <a:pt x="654" y="1463"/>
                  </a:lnTo>
                  <a:lnTo>
                    <a:pt x="664" y="1481"/>
                  </a:lnTo>
                  <a:lnTo>
                    <a:pt x="675" y="1499"/>
                  </a:lnTo>
                  <a:lnTo>
                    <a:pt x="687" y="1516"/>
                  </a:lnTo>
                  <a:lnTo>
                    <a:pt x="695" y="1531"/>
                  </a:lnTo>
                  <a:lnTo>
                    <a:pt x="702" y="1543"/>
                  </a:lnTo>
                  <a:lnTo>
                    <a:pt x="707" y="1553"/>
                  </a:lnTo>
                  <a:lnTo>
                    <a:pt x="712" y="1561"/>
                  </a:lnTo>
                  <a:lnTo>
                    <a:pt x="719" y="1566"/>
                  </a:lnTo>
                  <a:lnTo>
                    <a:pt x="724" y="1570"/>
                  </a:lnTo>
                  <a:lnTo>
                    <a:pt x="732" y="1571"/>
                  </a:lnTo>
                  <a:lnTo>
                    <a:pt x="742" y="1573"/>
                  </a:lnTo>
                  <a:lnTo>
                    <a:pt x="754" y="1576"/>
                  </a:lnTo>
                  <a:lnTo>
                    <a:pt x="765" y="1581"/>
                  </a:lnTo>
                  <a:lnTo>
                    <a:pt x="779" y="1588"/>
                  </a:lnTo>
                  <a:lnTo>
                    <a:pt x="792" y="1595"/>
                  </a:lnTo>
                  <a:lnTo>
                    <a:pt x="804" y="1603"/>
                  </a:lnTo>
                  <a:lnTo>
                    <a:pt x="814" y="1611"/>
                  </a:lnTo>
                  <a:lnTo>
                    <a:pt x="822" y="1618"/>
                  </a:lnTo>
                  <a:lnTo>
                    <a:pt x="834" y="1633"/>
                  </a:lnTo>
                  <a:lnTo>
                    <a:pt x="846" y="1648"/>
                  </a:lnTo>
                  <a:lnTo>
                    <a:pt x="856" y="1663"/>
                  </a:lnTo>
                  <a:lnTo>
                    <a:pt x="866" y="1675"/>
                  </a:lnTo>
                  <a:lnTo>
                    <a:pt x="872" y="1685"/>
                  </a:lnTo>
                  <a:lnTo>
                    <a:pt x="881" y="1700"/>
                  </a:lnTo>
                  <a:lnTo>
                    <a:pt x="891" y="1721"/>
                  </a:lnTo>
                  <a:lnTo>
                    <a:pt x="902" y="1743"/>
                  </a:lnTo>
                  <a:lnTo>
                    <a:pt x="912" y="1768"/>
                  </a:lnTo>
                  <a:lnTo>
                    <a:pt x="921" y="1790"/>
                  </a:lnTo>
                  <a:lnTo>
                    <a:pt x="927" y="1810"/>
                  </a:lnTo>
                  <a:lnTo>
                    <a:pt x="931" y="1823"/>
                  </a:lnTo>
                  <a:lnTo>
                    <a:pt x="937" y="1841"/>
                  </a:lnTo>
                  <a:lnTo>
                    <a:pt x="951" y="1858"/>
                  </a:lnTo>
                  <a:lnTo>
                    <a:pt x="964" y="1878"/>
                  </a:lnTo>
                  <a:lnTo>
                    <a:pt x="979" y="1908"/>
                  </a:lnTo>
                  <a:lnTo>
                    <a:pt x="987" y="1926"/>
                  </a:lnTo>
                  <a:lnTo>
                    <a:pt x="999" y="1945"/>
                  </a:lnTo>
                  <a:lnTo>
                    <a:pt x="1014" y="1965"/>
                  </a:lnTo>
                  <a:lnTo>
                    <a:pt x="1029" y="1981"/>
                  </a:lnTo>
                  <a:lnTo>
                    <a:pt x="1044" y="2000"/>
                  </a:lnTo>
                  <a:lnTo>
                    <a:pt x="1059" y="2015"/>
                  </a:lnTo>
                  <a:lnTo>
                    <a:pt x="1072" y="2027"/>
                  </a:lnTo>
                  <a:lnTo>
                    <a:pt x="1084" y="2037"/>
                  </a:lnTo>
                  <a:lnTo>
                    <a:pt x="1097" y="2052"/>
                  </a:lnTo>
                  <a:lnTo>
                    <a:pt x="1106" y="2068"/>
                  </a:lnTo>
                  <a:lnTo>
                    <a:pt x="1109" y="2085"/>
                  </a:lnTo>
                  <a:lnTo>
                    <a:pt x="1112" y="2098"/>
                  </a:lnTo>
                  <a:lnTo>
                    <a:pt x="1117" y="2108"/>
                  </a:lnTo>
                  <a:lnTo>
                    <a:pt x="1126" y="2120"/>
                  </a:lnTo>
                  <a:lnTo>
                    <a:pt x="1136" y="2132"/>
                  </a:lnTo>
                  <a:lnTo>
                    <a:pt x="1146" y="2145"/>
                  </a:lnTo>
                  <a:lnTo>
                    <a:pt x="1156" y="2160"/>
                  </a:lnTo>
                  <a:lnTo>
                    <a:pt x="1164" y="2175"/>
                  </a:lnTo>
                  <a:lnTo>
                    <a:pt x="1169" y="2190"/>
                  </a:lnTo>
                  <a:lnTo>
                    <a:pt x="1169" y="2202"/>
                  </a:lnTo>
                  <a:lnTo>
                    <a:pt x="1169" y="2217"/>
                  </a:lnTo>
                  <a:lnTo>
                    <a:pt x="1172" y="2233"/>
                  </a:lnTo>
                  <a:lnTo>
                    <a:pt x="1177" y="2248"/>
                  </a:lnTo>
                  <a:lnTo>
                    <a:pt x="1179" y="2255"/>
                  </a:lnTo>
                  <a:lnTo>
                    <a:pt x="1216" y="2227"/>
                  </a:lnTo>
                  <a:lnTo>
                    <a:pt x="1219" y="2222"/>
                  </a:lnTo>
                  <a:lnTo>
                    <a:pt x="1226" y="2208"/>
                  </a:lnTo>
                  <a:lnTo>
                    <a:pt x="1232" y="2192"/>
                  </a:lnTo>
                  <a:lnTo>
                    <a:pt x="1236" y="2178"/>
                  </a:lnTo>
                  <a:lnTo>
                    <a:pt x="1236" y="2165"/>
                  </a:lnTo>
                  <a:lnTo>
                    <a:pt x="1234" y="2145"/>
                  </a:lnTo>
                  <a:lnTo>
                    <a:pt x="1236" y="2123"/>
                  </a:lnTo>
                  <a:lnTo>
                    <a:pt x="1241" y="2103"/>
                  </a:lnTo>
                  <a:lnTo>
                    <a:pt x="1241" y="2087"/>
                  </a:lnTo>
                  <a:lnTo>
                    <a:pt x="1236" y="2077"/>
                  </a:lnTo>
                  <a:lnTo>
                    <a:pt x="1234" y="2067"/>
                  </a:lnTo>
                  <a:lnTo>
                    <a:pt x="1241" y="2060"/>
                  </a:lnTo>
                  <a:lnTo>
                    <a:pt x="1246" y="2057"/>
                  </a:lnTo>
                  <a:lnTo>
                    <a:pt x="1251" y="2057"/>
                  </a:lnTo>
                  <a:lnTo>
                    <a:pt x="1256" y="2058"/>
                  </a:lnTo>
                  <a:lnTo>
                    <a:pt x="1261" y="2062"/>
                  </a:lnTo>
                  <a:lnTo>
                    <a:pt x="1259" y="2052"/>
                  </a:lnTo>
                  <a:lnTo>
                    <a:pt x="1257" y="2043"/>
                  </a:lnTo>
                  <a:lnTo>
                    <a:pt x="1256" y="2033"/>
                  </a:lnTo>
                  <a:lnTo>
                    <a:pt x="1257" y="2027"/>
                  </a:lnTo>
                  <a:close/>
                </a:path>
              </a:pathLst>
            </a:custGeom>
            <a:solidFill>
              <a:srgbClr val="ffffff">
                <a:alpha val="10000"/>
              </a:srgbClr>
            </a:solidFill>
            <a:ln cap="sq" w="9360">
              <a:solidFill>
                <a:srgbClr val="ffffff"/>
              </a:solidFill>
              <a:round/>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9" name=""/>
            <p:cNvSpPr/>
            <p:nvPr/>
          </p:nvSpPr>
          <p:spPr>
            <a:xfrm>
              <a:off x="3086280" y="3249720"/>
              <a:ext cx="4680" cy="4680"/>
            </a:xfrm>
            <a:custGeom>
              <a:avLst/>
              <a:gdLst/>
              <a:ahLst/>
              <a:rect l="l" t="t" r="r" b="b"/>
              <a:pathLst>
                <a:path w="5" h="5">
                  <a:moveTo>
                    <a:pt x="5" y="3"/>
                  </a:moveTo>
                  <a:lnTo>
                    <a:pt x="0" y="0"/>
                  </a:lnTo>
                  <a:lnTo>
                    <a:pt x="2" y="3"/>
                  </a:lnTo>
                  <a:lnTo>
                    <a:pt x="3" y="5"/>
                  </a:lnTo>
                  <a:lnTo>
                    <a:pt x="5" y="3"/>
                  </a:lnTo>
                  <a:lnTo>
                    <a:pt x="5" y="3"/>
                  </a:lnTo>
                  <a:close/>
                </a:path>
              </a:pathLst>
            </a:custGeom>
            <a:solidFill>
              <a:srgbClr val="000000"/>
            </a:solidFill>
            <a:ln w="0">
              <a:noFill/>
            </a:ln>
          </p:spPr>
          <p:style>
            <a:lnRef idx="0"/>
            <a:fillRef idx="0"/>
            <a:effectRef idx="0"/>
            <a:fontRef idx="minor"/>
          </p:style>
          <p:txBody>
            <a:bodyPr wrap="none" lIns="90000" rIns="90000" tIns="-42120" bIns="-421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0" name=""/>
            <p:cNvSpPr/>
            <p:nvPr/>
          </p:nvSpPr>
          <p:spPr>
            <a:xfrm>
              <a:off x="4379760" y="4205160"/>
              <a:ext cx="2567160" cy="993960"/>
            </a:xfrm>
            <a:custGeom>
              <a:avLst/>
              <a:gdLst/>
              <a:ahLst/>
              <a:rect l="l" t="t" r="r" b="b"/>
              <a:pathLst>
                <a:path w="1881" h="744">
                  <a:moveTo>
                    <a:pt x="1298" y="222"/>
                  </a:moveTo>
                  <a:lnTo>
                    <a:pt x="1283" y="225"/>
                  </a:lnTo>
                  <a:lnTo>
                    <a:pt x="1263" y="230"/>
                  </a:lnTo>
                  <a:lnTo>
                    <a:pt x="1239" y="235"/>
                  </a:lnTo>
                  <a:lnTo>
                    <a:pt x="1214" y="242"/>
                  </a:lnTo>
                  <a:lnTo>
                    <a:pt x="1186" y="249"/>
                  </a:lnTo>
                  <a:lnTo>
                    <a:pt x="1157" y="255"/>
                  </a:lnTo>
                  <a:lnTo>
                    <a:pt x="1127" y="262"/>
                  </a:lnTo>
                  <a:lnTo>
                    <a:pt x="1097" y="269"/>
                  </a:lnTo>
                  <a:lnTo>
                    <a:pt x="1067" y="275"/>
                  </a:lnTo>
                  <a:lnTo>
                    <a:pt x="1039" y="284"/>
                  </a:lnTo>
                  <a:lnTo>
                    <a:pt x="1012" y="290"/>
                  </a:lnTo>
                  <a:lnTo>
                    <a:pt x="989" y="297"/>
                  </a:lnTo>
                  <a:lnTo>
                    <a:pt x="967" y="302"/>
                  </a:lnTo>
                  <a:lnTo>
                    <a:pt x="949" y="309"/>
                  </a:lnTo>
                  <a:lnTo>
                    <a:pt x="936" y="314"/>
                  </a:lnTo>
                  <a:lnTo>
                    <a:pt x="927" y="317"/>
                  </a:lnTo>
                  <a:lnTo>
                    <a:pt x="914" y="324"/>
                  </a:lnTo>
                  <a:lnTo>
                    <a:pt x="901" y="329"/>
                  </a:lnTo>
                  <a:lnTo>
                    <a:pt x="887" y="337"/>
                  </a:lnTo>
                  <a:lnTo>
                    <a:pt x="872" y="344"/>
                  </a:lnTo>
                  <a:lnTo>
                    <a:pt x="857" y="355"/>
                  </a:lnTo>
                  <a:lnTo>
                    <a:pt x="842" y="369"/>
                  </a:lnTo>
                  <a:lnTo>
                    <a:pt x="826" y="389"/>
                  </a:lnTo>
                  <a:lnTo>
                    <a:pt x="807" y="412"/>
                  </a:lnTo>
                  <a:lnTo>
                    <a:pt x="791" y="437"/>
                  </a:lnTo>
                  <a:lnTo>
                    <a:pt x="776" y="460"/>
                  </a:lnTo>
                  <a:lnTo>
                    <a:pt x="761" y="482"/>
                  </a:lnTo>
                  <a:lnTo>
                    <a:pt x="747" y="502"/>
                  </a:lnTo>
                  <a:lnTo>
                    <a:pt x="737" y="519"/>
                  </a:lnTo>
                  <a:lnTo>
                    <a:pt x="727" y="532"/>
                  </a:lnTo>
                  <a:lnTo>
                    <a:pt x="719" y="542"/>
                  </a:lnTo>
                  <a:lnTo>
                    <a:pt x="712" y="549"/>
                  </a:lnTo>
                  <a:lnTo>
                    <a:pt x="706" y="554"/>
                  </a:lnTo>
                  <a:lnTo>
                    <a:pt x="699" y="559"/>
                  </a:lnTo>
                  <a:lnTo>
                    <a:pt x="689" y="564"/>
                  </a:lnTo>
                  <a:lnTo>
                    <a:pt x="679" y="565"/>
                  </a:lnTo>
                  <a:lnTo>
                    <a:pt x="667" y="567"/>
                  </a:lnTo>
                  <a:lnTo>
                    <a:pt x="657" y="567"/>
                  </a:lnTo>
                  <a:lnTo>
                    <a:pt x="647" y="564"/>
                  </a:lnTo>
                  <a:lnTo>
                    <a:pt x="637" y="559"/>
                  </a:lnTo>
                  <a:lnTo>
                    <a:pt x="629" y="552"/>
                  </a:lnTo>
                  <a:lnTo>
                    <a:pt x="622" y="544"/>
                  </a:lnTo>
                  <a:lnTo>
                    <a:pt x="615" y="535"/>
                  </a:lnTo>
                  <a:lnTo>
                    <a:pt x="609" y="529"/>
                  </a:lnTo>
                  <a:lnTo>
                    <a:pt x="602" y="524"/>
                  </a:lnTo>
                  <a:lnTo>
                    <a:pt x="595" y="520"/>
                  </a:lnTo>
                  <a:lnTo>
                    <a:pt x="589" y="519"/>
                  </a:lnTo>
                  <a:lnTo>
                    <a:pt x="580" y="520"/>
                  </a:lnTo>
                  <a:lnTo>
                    <a:pt x="569" y="524"/>
                  </a:lnTo>
                  <a:lnTo>
                    <a:pt x="554" y="525"/>
                  </a:lnTo>
                  <a:lnTo>
                    <a:pt x="537" y="525"/>
                  </a:lnTo>
                  <a:lnTo>
                    <a:pt x="519" y="525"/>
                  </a:lnTo>
                  <a:lnTo>
                    <a:pt x="499" y="525"/>
                  </a:lnTo>
                  <a:lnTo>
                    <a:pt x="480" y="524"/>
                  </a:lnTo>
                  <a:lnTo>
                    <a:pt x="462" y="522"/>
                  </a:lnTo>
                  <a:lnTo>
                    <a:pt x="447" y="520"/>
                  </a:lnTo>
                  <a:lnTo>
                    <a:pt x="432" y="519"/>
                  </a:lnTo>
                  <a:lnTo>
                    <a:pt x="417" y="515"/>
                  </a:lnTo>
                  <a:lnTo>
                    <a:pt x="404" y="510"/>
                  </a:lnTo>
                  <a:lnTo>
                    <a:pt x="389" y="507"/>
                  </a:lnTo>
                  <a:lnTo>
                    <a:pt x="375" y="504"/>
                  </a:lnTo>
                  <a:lnTo>
                    <a:pt x="364" y="500"/>
                  </a:lnTo>
                  <a:lnTo>
                    <a:pt x="352" y="497"/>
                  </a:lnTo>
                  <a:lnTo>
                    <a:pt x="342" y="497"/>
                  </a:lnTo>
                  <a:lnTo>
                    <a:pt x="329" y="497"/>
                  </a:lnTo>
                  <a:lnTo>
                    <a:pt x="307" y="497"/>
                  </a:lnTo>
                  <a:lnTo>
                    <a:pt x="280" y="499"/>
                  </a:lnTo>
                  <a:lnTo>
                    <a:pt x="250" y="499"/>
                  </a:lnTo>
                  <a:lnTo>
                    <a:pt x="224" y="500"/>
                  </a:lnTo>
                  <a:lnTo>
                    <a:pt x="200" y="502"/>
                  </a:lnTo>
                  <a:lnTo>
                    <a:pt x="184" y="502"/>
                  </a:lnTo>
                  <a:lnTo>
                    <a:pt x="177" y="502"/>
                  </a:lnTo>
                  <a:lnTo>
                    <a:pt x="175" y="504"/>
                  </a:lnTo>
                  <a:lnTo>
                    <a:pt x="170" y="505"/>
                  </a:lnTo>
                  <a:lnTo>
                    <a:pt x="164" y="509"/>
                  </a:lnTo>
                  <a:lnTo>
                    <a:pt x="155" y="510"/>
                  </a:lnTo>
                  <a:lnTo>
                    <a:pt x="144" y="512"/>
                  </a:lnTo>
                  <a:lnTo>
                    <a:pt x="132" y="512"/>
                  </a:lnTo>
                  <a:lnTo>
                    <a:pt x="120" y="509"/>
                  </a:lnTo>
                  <a:lnTo>
                    <a:pt x="107" y="502"/>
                  </a:lnTo>
                  <a:lnTo>
                    <a:pt x="95" y="494"/>
                  </a:lnTo>
                  <a:lnTo>
                    <a:pt x="87" y="485"/>
                  </a:lnTo>
                  <a:lnTo>
                    <a:pt x="80" y="479"/>
                  </a:lnTo>
                  <a:lnTo>
                    <a:pt x="75" y="475"/>
                  </a:lnTo>
                  <a:lnTo>
                    <a:pt x="70" y="472"/>
                  </a:lnTo>
                  <a:lnTo>
                    <a:pt x="65" y="470"/>
                  </a:lnTo>
                  <a:lnTo>
                    <a:pt x="60" y="470"/>
                  </a:lnTo>
                  <a:lnTo>
                    <a:pt x="53" y="474"/>
                  </a:lnTo>
                  <a:lnTo>
                    <a:pt x="47" y="480"/>
                  </a:lnTo>
                  <a:lnTo>
                    <a:pt x="50" y="489"/>
                  </a:lnTo>
                  <a:lnTo>
                    <a:pt x="55" y="500"/>
                  </a:lnTo>
                  <a:lnTo>
                    <a:pt x="53" y="515"/>
                  </a:lnTo>
                  <a:lnTo>
                    <a:pt x="50" y="535"/>
                  </a:lnTo>
                  <a:lnTo>
                    <a:pt x="48" y="557"/>
                  </a:lnTo>
                  <a:lnTo>
                    <a:pt x="50" y="577"/>
                  </a:lnTo>
                  <a:lnTo>
                    <a:pt x="50" y="592"/>
                  </a:lnTo>
                  <a:lnTo>
                    <a:pt x="47" y="606"/>
                  </a:lnTo>
                  <a:lnTo>
                    <a:pt x="40" y="621"/>
                  </a:lnTo>
                  <a:lnTo>
                    <a:pt x="33" y="634"/>
                  </a:lnTo>
                  <a:lnTo>
                    <a:pt x="30" y="639"/>
                  </a:lnTo>
                  <a:lnTo>
                    <a:pt x="0" y="662"/>
                  </a:lnTo>
                  <a:lnTo>
                    <a:pt x="3" y="666"/>
                  </a:lnTo>
                  <a:lnTo>
                    <a:pt x="8" y="669"/>
                  </a:lnTo>
                  <a:lnTo>
                    <a:pt x="13" y="674"/>
                  </a:lnTo>
                  <a:lnTo>
                    <a:pt x="18" y="677"/>
                  </a:lnTo>
                  <a:lnTo>
                    <a:pt x="32" y="684"/>
                  </a:lnTo>
                  <a:lnTo>
                    <a:pt x="43" y="687"/>
                  </a:lnTo>
                  <a:lnTo>
                    <a:pt x="55" y="687"/>
                  </a:lnTo>
                  <a:lnTo>
                    <a:pt x="67" y="686"/>
                  </a:lnTo>
                  <a:lnTo>
                    <a:pt x="77" y="684"/>
                  </a:lnTo>
                  <a:lnTo>
                    <a:pt x="83" y="681"/>
                  </a:lnTo>
                  <a:lnTo>
                    <a:pt x="88" y="679"/>
                  </a:lnTo>
                  <a:lnTo>
                    <a:pt x="90" y="677"/>
                  </a:lnTo>
                  <a:lnTo>
                    <a:pt x="97" y="677"/>
                  </a:lnTo>
                  <a:lnTo>
                    <a:pt x="114" y="677"/>
                  </a:lnTo>
                  <a:lnTo>
                    <a:pt x="137" y="676"/>
                  </a:lnTo>
                  <a:lnTo>
                    <a:pt x="164" y="674"/>
                  </a:lnTo>
                  <a:lnTo>
                    <a:pt x="194" y="674"/>
                  </a:lnTo>
                  <a:lnTo>
                    <a:pt x="220" y="672"/>
                  </a:lnTo>
                  <a:lnTo>
                    <a:pt x="242" y="672"/>
                  </a:lnTo>
                  <a:lnTo>
                    <a:pt x="255" y="672"/>
                  </a:lnTo>
                  <a:lnTo>
                    <a:pt x="265" y="674"/>
                  </a:lnTo>
                  <a:lnTo>
                    <a:pt x="275" y="676"/>
                  </a:lnTo>
                  <a:lnTo>
                    <a:pt x="289" y="679"/>
                  </a:lnTo>
                  <a:lnTo>
                    <a:pt x="302" y="682"/>
                  </a:lnTo>
                  <a:lnTo>
                    <a:pt x="315" y="687"/>
                  </a:lnTo>
                  <a:lnTo>
                    <a:pt x="330" y="691"/>
                  </a:lnTo>
                  <a:lnTo>
                    <a:pt x="344" y="694"/>
                  </a:lnTo>
                  <a:lnTo>
                    <a:pt x="359" y="697"/>
                  </a:lnTo>
                  <a:lnTo>
                    <a:pt x="374" y="699"/>
                  </a:lnTo>
                  <a:lnTo>
                    <a:pt x="392" y="701"/>
                  </a:lnTo>
                  <a:lnTo>
                    <a:pt x="412" y="701"/>
                  </a:lnTo>
                  <a:lnTo>
                    <a:pt x="430" y="702"/>
                  </a:lnTo>
                  <a:lnTo>
                    <a:pt x="450" y="702"/>
                  </a:lnTo>
                  <a:lnTo>
                    <a:pt x="467" y="701"/>
                  </a:lnTo>
                  <a:lnTo>
                    <a:pt x="480" y="701"/>
                  </a:lnTo>
                  <a:lnTo>
                    <a:pt x="492" y="697"/>
                  </a:lnTo>
                  <a:lnTo>
                    <a:pt x="500" y="696"/>
                  </a:lnTo>
                  <a:lnTo>
                    <a:pt x="507" y="696"/>
                  </a:lnTo>
                  <a:lnTo>
                    <a:pt x="514" y="699"/>
                  </a:lnTo>
                  <a:lnTo>
                    <a:pt x="520" y="706"/>
                  </a:lnTo>
                  <a:lnTo>
                    <a:pt x="527" y="712"/>
                  </a:lnTo>
                  <a:lnTo>
                    <a:pt x="534" y="719"/>
                  </a:lnTo>
                  <a:lnTo>
                    <a:pt x="540" y="727"/>
                  </a:lnTo>
                  <a:lnTo>
                    <a:pt x="549" y="734"/>
                  </a:lnTo>
                  <a:lnTo>
                    <a:pt x="559" y="741"/>
                  </a:lnTo>
                  <a:lnTo>
                    <a:pt x="569" y="742"/>
                  </a:lnTo>
                  <a:lnTo>
                    <a:pt x="579" y="744"/>
                  </a:lnTo>
                  <a:lnTo>
                    <a:pt x="590" y="742"/>
                  </a:lnTo>
                  <a:lnTo>
                    <a:pt x="600" y="739"/>
                  </a:lnTo>
                  <a:lnTo>
                    <a:pt x="610" y="736"/>
                  </a:lnTo>
                  <a:lnTo>
                    <a:pt x="619" y="731"/>
                  </a:lnTo>
                  <a:lnTo>
                    <a:pt x="625" y="726"/>
                  </a:lnTo>
                  <a:lnTo>
                    <a:pt x="632" y="719"/>
                  </a:lnTo>
                  <a:lnTo>
                    <a:pt x="639" y="707"/>
                  </a:lnTo>
                  <a:lnTo>
                    <a:pt x="649" y="694"/>
                  </a:lnTo>
                  <a:lnTo>
                    <a:pt x="661" y="677"/>
                  </a:lnTo>
                  <a:lnTo>
                    <a:pt x="672" y="659"/>
                  </a:lnTo>
                  <a:lnTo>
                    <a:pt x="687" y="637"/>
                  </a:lnTo>
                  <a:lnTo>
                    <a:pt x="704" y="614"/>
                  </a:lnTo>
                  <a:lnTo>
                    <a:pt x="721" y="587"/>
                  </a:lnTo>
                  <a:lnTo>
                    <a:pt x="737" y="564"/>
                  </a:lnTo>
                  <a:lnTo>
                    <a:pt x="754" y="544"/>
                  </a:lnTo>
                  <a:lnTo>
                    <a:pt x="769" y="530"/>
                  </a:lnTo>
                  <a:lnTo>
                    <a:pt x="786" y="519"/>
                  </a:lnTo>
                  <a:lnTo>
                    <a:pt x="799" y="512"/>
                  </a:lnTo>
                  <a:lnTo>
                    <a:pt x="812" y="504"/>
                  </a:lnTo>
                  <a:lnTo>
                    <a:pt x="826" y="499"/>
                  </a:lnTo>
                  <a:lnTo>
                    <a:pt x="839" y="492"/>
                  </a:lnTo>
                  <a:lnTo>
                    <a:pt x="847" y="489"/>
                  </a:lnTo>
                  <a:lnTo>
                    <a:pt x="862" y="484"/>
                  </a:lnTo>
                  <a:lnTo>
                    <a:pt x="879" y="479"/>
                  </a:lnTo>
                  <a:lnTo>
                    <a:pt x="901" y="472"/>
                  </a:lnTo>
                  <a:lnTo>
                    <a:pt x="926" y="465"/>
                  </a:lnTo>
                  <a:lnTo>
                    <a:pt x="952" y="459"/>
                  </a:lnTo>
                  <a:lnTo>
                    <a:pt x="981" y="452"/>
                  </a:lnTo>
                  <a:lnTo>
                    <a:pt x="1009" y="444"/>
                  </a:lnTo>
                  <a:lnTo>
                    <a:pt x="1039" y="437"/>
                  </a:lnTo>
                  <a:lnTo>
                    <a:pt x="1069" y="430"/>
                  </a:lnTo>
                  <a:lnTo>
                    <a:pt x="1097" y="424"/>
                  </a:lnTo>
                  <a:lnTo>
                    <a:pt x="1126" y="417"/>
                  </a:lnTo>
                  <a:lnTo>
                    <a:pt x="1151" y="410"/>
                  </a:lnTo>
                  <a:lnTo>
                    <a:pt x="1174" y="405"/>
                  </a:lnTo>
                  <a:lnTo>
                    <a:pt x="1194" y="400"/>
                  </a:lnTo>
                  <a:lnTo>
                    <a:pt x="1209" y="397"/>
                  </a:lnTo>
                  <a:lnTo>
                    <a:pt x="1236" y="390"/>
                  </a:lnTo>
                  <a:lnTo>
                    <a:pt x="1263" y="385"/>
                  </a:lnTo>
                  <a:lnTo>
                    <a:pt x="1289" y="382"/>
                  </a:lnTo>
                  <a:lnTo>
                    <a:pt x="1313" y="379"/>
                  </a:lnTo>
                  <a:lnTo>
                    <a:pt x="1336" y="375"/>
                  </a:lnTo>
                  <a:lnTo>
                    <a:pt x="1354" y="370"/>
                  </a:lnTo>
                  <a:lnTo>
                    <a:pt x="1371" y="365"/>
                  </a:lnTo>
                  <a:lnTo>
                    <a:pt x="1384" y="359"/>
                  </a:lnTo>
                  <a:lnTo>
                    <a:pt x="1394" y="354"/>
                  </a:lnTo>
                  <a:lnTo>
                    <a:pt x="1411" y="345"/>
                  </a:lnTo>
                  <a:lnTo>
                    <a:pt x="1434" y="334"/>
                  </a:lnTo>
                  <a:lnTo>
                    <a:pt x="1463" y="320"/>
                  </a:lnTo>
                  <a:lnTo>
                    <a:pt x="1496" y="307"/>
                  </a:lnTo>
                  <a:lnTo>
                    <a:pt x="1533" y="290"/>
                  </a:lnTo>
                  <a:lnTo>
                    <a:pt x="1571" y="274"/>
                  </a:lnTo>
                  <a:lnTo>
                    <a:pt x="1611" y="255"/>
                  </a:lnTo>
                  <a:lnTo>
                    <a:pt x="1649" y="239"/>
                  </a:lnTo>
                  <a:lnTo>
                    <a:pt x="1688" y="222"/>
                  </a:lnTo>
                  <a:lnTo>
                    <a:pt x="1723" y="207"/>
                  </a:lnTo>
                  <a:lnTo>
                    <a:pt x="1756" y="192"/>
                  </a:lnTo>
                  <a:lnTo>
                    <a:pt x="1783" y="180"/>
                  </a:lnTo>
                  <a:lnTo>
                    <a:pt x="1805" y="170"/>
                  </a:lnTo>
                  <a:lnTo>
                    <a:pt x="1820" y="164"/>
                  </a:lnTo>
                  <a:lnTo>
                    <a:pt x="1826" y="160"/>
                  </a:lnTo>
                  <a:lnTo>
                    <a:pt x="1836" y="152"/>
                  </a:lnTo>
                  <a:lnTo>
                    <a:pt x="1841" y="142"/>
                  </a:lnTo>
                  <a:lnTo>
                    <a:pt x="1845" y="130"/>
                  </a:lnTo>
                  <a:lnTo>
                    <a:pt x="1846" y="117"/>
                  </a:lnTo>
                  <a:lnTo>
                    <a:pt x="1848" y="100"/>
                  </a:lnTo>
                  <a:lnTo>
                    <a:pt x="1851" y="78"/>
                  </a:lnTo>
                  <a:lnTo>
                    <a:pt x="1858" y="57"/>
                  </a:lnTo>
                  <a:lnTo>
                    <a:pt x="1865" y="37"/>
                  </a:lnTo>
                  <a:lnTo>
                    <a:pt x="1868" y="27"/>
                  </a:lnTo>
                  <a:lnTo>
                    <a:pt x="1873" y="18"/>
                  </a:lnTo>
                  <a:lnTo>
                    <a:pt x="1876" y="8"/>
                  </a:lnTo>
                  <a:lnTo>
                    <a:pt x="1881" y="0"/>
                  </a:lnTo>
                  <a:lnTo>
                    <a:pt x="1861" y="10"/>
                  </a:lnTo>
                  <a:lnTo>
                    <a:pt x="1836" y="20"/>
                  </a:lnTo>
                  <a:lnTo>
                    <a:pt x="1808" y="32"/>
                  </a:lnTo>
                  <a:lnTo>
                    <a:pt x="1778" y="45"/>
                  </a:lnTo>
                  <a:lnTo>
                    <a:pt x="1746" y="58"/>
                  </a:lnTo>
                  <a:lnTo>
                    <a:pt x="1714" y="73"/>
                  </a:lnTo>
                  <a:lnTo>
                    <a:pt x="1681" y="88"/>
                  </a:lnTo>
                  <a:lnTo>
                    <a:pt x="1648" y="102"/>
                  </a:lnTo>
                  <a:lnTo>
                    <a:pt x="1616" y="117"/>
                  </a:lnTo>
                  <a:lnTo>
                    <a:pt x="1586" y="130"/>
                  </a:lnTo>
                  <a:lnTo>
                    <a:pt x="1558" y="142"/>
                  </a:lnTo>
                  <a:lnTo>
                    <a:pt x="1533" y="154"/>
                  </a:lnTo>
                  <a:lnTo>
                    <a:pt x="1511" y="164"/>
                  </a:lnTo>
                  <a:lnTo>
                    <a:pt x="1493" y="174"/>
                  </a:lnTo>
                  <a:lnTo>
                    <a:pt x="1479" y="179"/>
                  </a:lnTo>
                  <a:lnTo>
                    <a:pt x="1473" y="184"/>
                  </a:lnTo>
                  <a:lnTo>
                    <a:pt x="1459" y="190"/>
                  </a:lnTo>
                  <a:lnTo>
                    <a:pt x="1443" y="195"/>
                  </a:lnTo>
                  <a:lnTo>
                    <a:pt x="1423" y="199"/>
                  </a:lnTo>
                  <a:lnTo>
                    <a:pt x="1401" y="202"/>
                  </a:lnTo>
                  <a:lnTo>
                    <a:pt x="1376" y="205"/>
                  </a:lnTo>
                  <a:lnTo>
                    <a:pt x="1351" y="210"/>
                  </a:lnTo>
                  <a:lnTo>
                    <a:pt x="1324" y="215"/>
                  </a:lnTo>
                  <a:lnTo>
                    <a:pt x="1298" y="222"/>
                  </a:lnTo>
                  <a:close/>
                </a:path>
              </a:pathLst>
            </a:custGeom>
            <a:solidFill>
              <a:srgbClr val="ffffff">
                <a:alpha val="20000"/>
              </a:srgbClr>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1" name=""/>
            <p:cNvSpPr/>
            <p:nvPr/>
          </p:nvSpPr>
          <p:spPr>
            <a:xfrm>
              <a:off x="2813040" y="1346040"/>
              <a:ext cx="4348080" cy="3579840"/>
            </a:xfrm>
            <a:custGeom>
              <a:avLst/>
              <a:gdLst/>
              <a:ahLst/>
              <a:rect l="l" t="t" r="r" b="b"/>
              <a:pathLst>
                <a:path w="3185" h="2678">
                  <a:moveTo>
                    <a:pt x="380" y="90"/>
                  </a:moveTo>
                  <a:lnTo>
                    <a:pt x="683" y="28"/>
                  </a:lnTo>
                  <a:lnTo>
                    <a:pt x="693" y="0"/>
                  </a:lnTo>
                  <a:lnTo>
                    <a:pt x="695" y="0"/>
                  </a:lnTo>
                  <a:lnTo>
                    <a:pt x="698" y="0"/>
                  </a:lnTo>
                  <a:lnTo>
                    <a:pt x="704" y="0"/>
                  </a:lnTo>
                  <a:lnTo>
                    <a:pt x="712" y="0"/>
                  </a:lnTo>
                  <a:lnTo>
                    <a:pt x="720" y="0"/>
                  </a:lnTo>
                  <a:lnTo>
                    <a:pt x="734" y="2"/>
                  </a:lnTo>
                  <a:lnTo>
                    <a:pt x="747" y="5"/>
                  </a:lnTo>
                  <a:lnTo>
                    <a:pt x="764" y="10"/>
                  </a:lnTo>
                  <a:lnTo>
                    <a:pt x="782" y="15"/>
                  </a:lnTo>
                  <a:lnTo>
                    <a:pt x="799" y="20"/>
                  </a:lnTo>
                  <a:lnTo>
                    <a:pt x="817" y="23"/>
                  </a:lnTo>
                  <a:lnTo>
                    <a:pt x="832" y="28"/>
                  </a:lnTo>
                  <a:lnTo>
                    <a:pt x="847" y="32"/>
                  </a:lnTo>
                  <a:lnTo>
                    <a:pt x="862" y="35"/>
                  </a:lnTo>
                  <a:lnTo>
                    <a:pt x="874" y="40"/>
                  </a:lnTo>
                  <a:lnTo>
                    <a:pt x="884" y="43"/>
                  </a:lnTo>
                  <a:lnTo>
                    <a:pt x="894" y="48"/>
                  </a:lnTo>
                  <a:lnTo>
                    <a:pt x="907" y="57"/>
                  </a:lnTo>
                  <a:lnTo>
                    <a:pt x="924" y="68"/>
                  </a:lnTo>
                  <a:lnTo>
                    <a:pt x="942" y="82"/>
                  </a:lnTo>
                  <a:lnTo>
                    <a:pt x="962" y="97"/>
                  </a:lnTo>
                  <a:lnTo>
                    <a:pt x="985" y="112"/>
                  </a:lnTo>
                  <a:lnTo>
                    <a:pt x="1009" y="127"/>
                  </a:lnTo>
                  <a:lnTo>
                    <a:pt x="1035" y="142"/>
                  </a:lnTo>
                  <a:lnTo>
                    <a:pt x="1060" y="155"/>
                  </a:lnTo>
                  <a:lnTo>
                    <a:pt x="1080" y="168"/>
                  </a:lnTo>
                  <a:lnTo>
                    <a:pt x="1099" y="180"/>
                  </a:lnTo>
                  <a:lnTo>
                    <a:pt x="1114" y="190"/>
                  </a:lnTo>
                  <a:lnTo>
                    <a:pt x="1124" y="197"/>
                  </a:lnTo>
                  <a:lnTo>
                    <a:pt x="1132" y="203"/>
                  </a:lnTo>
                  <a:lnTo>
                    <a:pt x="1137" y="207"/>
                  </a:lnTo>
                  <a:lnTo>
                    <a:pt x="1139" y="208"/>
                  </a:lnTo>
                  <a:lnTo>
                    <a:pt x="1142" y="210"/>
                  </a:lnTo>
                  <a:lnTo>
                    <a:pt x="1150" y="215"/>
                  </a:lnTo>
                  <a:lnTo>
                    <a:pt x="1162" y="223"/>
                  </a:lnTo>
                  <a:lnTo>
                    <a:pt x="1177" y="233"/>
                  </a:lnTo>
                  <a:lnTo>
                    <a:pt x="1192" y="243"/>
                  </a:lnTo>
                  <a:lnTo>
                    <a:pt x="1205" y="255"/>
                  </a:lnTo>
                  <a:lnTo>
                    <a:pt x="1217" y="265"/>
                  </a:lnTo>
                  <a:lnTo>
                    <a:pt x="1225" y="275"/>
                  </a:lnTo>
                  <a:lnTo>
                    <a:pt x="1234" y="285"/>
                  </a:lnTo>
                  <a:lnTo>
                    <a:pt x="1245" y="297"/>
                  </a:lnTo>
                  <a:lnTo>
                    <a:pt x="1259" y="310"/>
                  </a:lnTo>
                  <a:lnTo>
                    <a:pt x="1276" y="325"/>
                  </a:lnTo>
                  <a:lnTo>
                    <a:pt x="1292" y="340"/>
                  </a:lnTo>
                  <a:lnTo>
                    <a:pt x="1309" y="354"/>
                  </a:lnTo>
                  <a:lnTo>
                    <a:pt x="1324" y="365"/>
                  </a:lnTo>
                  <a:lnTo>
                    <a:pt x="1334" y="375"/>
                  </a:lnTo>
                  <a:lnTo>
                    <a:pt x="1346" y="385"/>
                  </a:lnTo>
                  <a:lnTo>
                    <a:pt x="1362" y="397"/>
                  </a:lnTo>
                  <a:lnTo>
                    <a:pt x="1381" y="410"/>
                  </a:lnTo>
                  <a:lnTo>
                    <a:pt x="1401" y="424"/>
                  </a:lnTo>
                  <a:lnTo>
                    <a:pt x="1421" y="437"/>
                  </a:lnTo>
                  <a:lnTo>
                    <a:pt x="1436" y="445"/>
                  </a:lnTo>
                  <a:lnTo>
                    <a:pt x="1447" y="454"/>
                  </a:lnTo>
                  <a:lnTo>
                    <a:pt x="1451" y="455"/>
                  </a:lnTo>
                  <a:lnTo>
                    <a:pt x="1489" y="509"/>
                  </a:lnTo>
                  <a:lnTo>
                    <a:pt x="1497" y="509"/>
                  </a:lnTo>
                  <a:lnTo>
                    <a:pt x="1517" y="509"/>
                  </a:lnTo>
                  <a:lnTo>
                    <a:pt x="1546" y="509"/>
                  </a:lnTo>
                  <a:lnTo>
                    <a:pt x="1581" y="509"/>
                  </a:lnTo>
                  <a:lnTo>
                    <a:pt x="1617" y="510"/>
                  </a:lnTo>
                  <a:lnTo>
                    <a:pt x="1651" y="514"/>
                  </a:lnTo>
                  <a:lnTo>
                    <a:pt x="1677" y="520"/>
                  </a:lnTo>
                  <a:lnTo>
                    <a:pt x="1694" y="527"/>
                  </a:lnTo>
                  <a:lnTo>
                    <a:pt x="1696" y="527"/>
                  </a:lnTo>
                  <a:lnTo>
                    <a:pt x="1702" y="525"/>
                  </a:lnTo>
                  <a:lnTo>
                    <a:pt x="1712" y="522"/>
                  </a:lnTo>
                  <a:lnTo>
                    <a:pt x="1722" y="520"/>
                  </a:lnTo>
                  <a:lnTo>
                    <a:pt x="1736" y="519"/>
                  </a:lnTo>
                  <a:lnTo>
                    <a:pt x="1747" y="515"/>
                  </a:lnTo>
                  <a:lnTo>
                    <a:pt x="1759" y="514"/>
                  </a:lnTo>
                  <a:lnTo>
                    <a:pt x="1769" y="514"/>
                  </a:lnTo>
                  <a:lnTo>
                    <a:pt x="1782" y="515"/>
                  </a:lnTo>
                  <a:lnTo>
                    <a:pt x="1801" y="519"/>
                  </a:lnTo>
                  <a:lnTo>
                    <a:pt x="1823" y="522"/>
                  </a:lnTo>
                  <a:lnTo>
                    <a:pt x="1848" y="527"/>
                  </a:lnTo>
                  <a:lnTo>
                    <a:pt x="1869" y="534"/>
                  </a:lnTo>
                  <a:lnTo>
                    <a:pt x="1889" y="537"/>
                  </a:lnTo>
                  <a:lnTo>
                    <a:pt x="1903" y="540"/>
                  </a:lnTo>
                  <a:lnTo>
                    <a:pt x="1908" y="542"/>
                  </a:lnTo>
                  <a:lnTo>
                    <a:pt x="1926" y="604"/>
                  </a:lnTo>
                  <a:lnTo>
                    <a:pt x="2044" y="604"/>
                  </a:lnTo>
                  <a:lnTo>
                    <a:pt x="2064" y="689"/>
                  </a:lnTo>
                  <a:lnTo>
                    <a:pt x="2071" y="692"/>
                  </a:lnTo>
                  <a:lnTo>
                    <a:pt x="2083" y="704"/>
                  </a:lnTo>
                  <a:lnTo>
                    <a:pt x="2093" y="722"/>
                  </a:lnTo>
                  <a:lnTo>
                    <a:pt x="2093" y="746"/>
                  </a:lnTo>
                  <a:lnTo>
                    <a:pt x="2116" y="784"/>
                  </a:lnTo>
                  <a:lnTo>
                    <a:pt x="2154" y="769"/>
                  </a:lnTo>
                  <a:lnTo>
                    <a:pt x="2158" y="774"/>
                  </a:lnTo>
                  <a:lnTo>
                    <a:pt x="2164" y="786"/>
                  </a:lnTo>
                  <a:lnTo>
                    <a:pt x="2169" y="801"/>
                  </a:lnTo>
                  <a:lnTo>
                    <a:pt x="2173" y="812"/>
                  </a:lnTo>
                  <a:lnTo>
                    <a:pt x="2176" y="824"/>
                  </a:lnTo>
                  <a:lnTo>
                    <a:pt x="2183" y="834"/>
                  </a:lnTo>
                  <a:lnTo>
                    <a:pt x="2189" y="842"/>
                  </a:lnTo>
                  <a:lnTo>
                    <a:pt x="2193" y="846"/>
                  </a:lnTo>
                  <a:lnTo>
                    <a:pt x="2201" y="822"/>
                  </a:lnTo>
                  <a:lnTo>
                    <a:pt x="2226" y="869"/>
                  </a:lnTo>
                  <a:lnTo>
                    <a:pt x="2228" y="869"/>
                  </a:lnTo>
                  <a:lnTo>
                    <a:pt x="2234" y="871"/>
                  </a:lnTo>
                  <a:lnTo>
                    <a:pt x="2244" y="874"/>
                  </a:lnTo>
                  <a:lnTo>
                    <a:pt x="2254" y="877"/>
                  </a:lnTo>
                  <a:lnTo>
                    <a:pt x="2266" y="882"/>
                  </a:lnTo>
                  <a:lnTo>
                    <a:pt x="2276" y="887"/>
                  </a:lnTo>
                  <a:lnTo>
                    <a:pt x="2284" y="894"/>
                  </a:lnTo>
                  <a:lnTo>
                    <a:pt x="2288" y="902"/>
                  </a:lnTo>
                  <a:lnTo>
                    <a:pt x="2289" y="921"/>
                  </a:lnTo>
                  <a:lnTo>
                    <a:pt x="2293" y="937"/>
                  </a:lnTo>
                  <a:lnTo>
                    <a:pt x="2296" y="952"/>
                  </a:lnTo>
                  <a:lnTo>
                    <a:pt x="2306" y="964"/>
                  </a:lnTo>
                  <a:lnTo>
                    <a:pt x="2316" y="979"/>
                  </a:lnTo>
                  <a:lnTo>
                    <a:pt x="2321" y="996"/>
                  </a:lnTo>
                  <a:lnTo>
                    <a:pt x="2318" y="1011"/>
                  </a:lnTo>
                  <a:lnTo>
                    <a:pt x="2311" y="1017"/>
                  </a:lnTo>
                  <a:lnTo>
                    <a:pt x="2303" y="1019"/>
                  </a:lnTo>
                  <a:lnTo>
                    <a:pt x="2299" y="1024"/>
                  </a:lnTo>
                  <a:lnTo>
                    <a:pt x="2301" y="1032"/>
                  </a:lnTo>
                  <a:lnTo>
                    <a:pt x="2306" y="1046"/>
                  </a:lnTo>
                  <a:lnTo>
                    <a:pt x="2313" y="1061"/>
                  </a:lnTo>
                  <a:lnTo>
                    <a:pt x="2319" y="1076"/>
                  </a:lnTo>
                  <a:lnTo>
                    <a:pt x="2324" y="1092"/>
                  </a:lnTo>
                  <a:lnTo>
                    <a:pt x="2329" y="1107"/>
                  </a:lnTo>
                  <a:lnTo>
                    <a:pt x="2336" y="1117"/>
                  </a:lnTo>
                  <a:lnTo>
                    <a:pt x="2344" y="1121"/>
                  </a:lnTo>
                  <a:lnTo>
                    <a:pt x="2351" y="1121"/>
                  </a:lnTo>
                  <a:lnTo>
                    <a:pt x="2354" y="1121"/>
                  </a:lnTo>
                  <a:lnTo>
                    <a:pt x="2356" y="1129"/>
                  </a:lnTo>
                  <a:lnTo>
                    <a:pt x="2365" y="1149"/>
                  </a:lnTo>
                  <a:lnTo>
                    <a:pt x="2375" y="1174"/>
                  </a:lnTo>
                  <a:lnTo>
                    <a:pt x="2388" y="1192"/>
                  </a:lnTo>
                  <a:lnTo>
                    <a:pt x="2395" y="1201"/>
                  </a:lnTo>
                  <a:lnTo>
                    <a:pt x="2400" y="1209"/>
                  </a:lnTo>
                  <a:lnTo>
                    <a:pt x="2405" y="1217"/>
                  </a:lnTo>
                  <a:lnTo>
                    <a:pt x="2411" y="1227"/>
                  </a:lnTo>
                  <a:lnTo>
                    <a:pt x="2416" y="1236"/>
                  </a:lnTo>
                  <a:lnTo>
                    <a:pt x="2425" y="1244"/>
                  </a:lnTo>
                  <a:lnTo>
                    <a:pt x="2433" y="1253"/>
                  </a:lnTo>
                  <a:lnTo>
                    <a:pt x="2445" y="1259"/>
                  </a:lnTo>
                  <a:lnTo>
                    <a:pt x="2456" y="1263"/>
                  </a:lnTo>
                  <a:lnTo>
                    <a:pt x="2468" y="1263"/>
                  </a:lnTo>
                  <a:lnTo>
                    <a:pt x="2478" y="1263"/>
                  </a:lnTo>
                  <a:lnTo>
                    <a:pt x="2486" y="1259"/>
                  </a:lnTo>
                  <a:lnTo>
                    <a:pt x="2493" y="1256"/>
                  </a:lnTo>
                  <a:lnTo>
                    <a:pt x="2498" y="1253"/>
                  </a:lnTo>
                  <a:lnTo>
                    <a:pt x="2500" y="1251"/>
                  </a:lnTo>
                  <a:lnTo>
                    <a:pt x="2501" y="1249"/>
                  </a:lnTo>
                  <a:lnTo>
                    <a:pt x="2520" y="1259"/>
                  </a:lnTo>
                  <a:lnTo>
                    <a:pt x="2501" y="1293"/>
                  </a:lnTo>
                  <a:lnTo>
                    <a:pt x="2501" y="1294"/>
                  </a:lnTo>
                  <a:lnTo>
                    <a:pt x="2501" y="1299"/>
                  </a:lnTo>
                  <a:lnTo>
                    <a:pt x="2503" y="1304"/>
                  </a:lnTo>
                  <a:lnTo>
                    <a:pt x="2511" y="1306"/>
                  </a:lnTo>
                  <a:lnTo>
                    <a:pt x="2521" y="1314"/>
                  </a:lnTo>
                  <a:lnTo>
                    <a:pt x="2531" y="1329"/>
                  </a:lnTo>
                  <a:lnTo>
                    <a:pt x="2536" y="1346"/>
                  </a:lnTo>
                  <a:lnTo>
                    <a:pt x="2540" y="1354"/>
                  </a:lnTo>
                  <a:lnTo>
                    <a:pt x="2541" y="1356"/>
                  </a:lnTo>
                  <a:lnTo>
                    <a:pt x="2546" y="1361"/>
                  </a:lnTo>
                  <a:lnTo>
                    <a:pt x="2553" y="1368"/>
                  </a:lnTo>
                  <a:lnTo>
                    <a:pt x="2561" y="1378"/>
                  </a:lnTo>
                  <a:lnTo>
                    <a:pt x="2571" y="1388"/>
                  </a:lnTo>
                  <a:lnTo>
                    <a:pt x="2583" y="1401"/>
                  </a:lnTo>
                  <a:lnTo>
                    <a:pt x="2595" y="1414"/>
                  </a:lnTo>
                  <a:lnTo>
                    <a:pt x="2606" y="1428"/>
                  </a:lnTo>
                  <a:lnTo>
                    <a:pt x="2618" y="1443"/>
                  </a:lnTo>
                  <a:lnTo>
                    <a:pt x="2631" y="1458"/>
                  </a:lnTo>
                  <a:lnTo>
                    <a:pt x="2645" y="1473"/>
                  </a:lnTo>
                  <a:lnTo>
                    <a:pt x="2658" y="1488"/>
                  </a:lnTo>
                  <a:lnTo>
                    <a:pt x="2670" y="1501"/>
                  </a:lnTo>
                  <a:lnTo>
                    <a:pt x="2680" y="1511"/>
                  </a:lnTo>
                  <a:lnTo>
                    <a:pt x="2688" y="1521"/>
                  </a:lnTo>
                  <a:lnTo>
                    <a:pt x="2691" y="1528"/>
                  </a:lnTo>
                  <a:lnTo>
                    <a:pt x="2701" y="1533"/>
                  </a:lnTo>
                  <a:lnTo>
                    <a:pt x="2723" y="1538"/>
                  </a:lnTo>
                  <a:lnTo>
                    <a:pt x="2753" y="1543"/>
                  </a:lnTo>
                  <a:lnTo>
                    <a:pt x="2790" y="1546"/>
                  </a:lnTo>
                  <a:lnTo>
                    <a:pt x="2828" y="1549"/>
                  </a:lnTo>
                  <a:lnTo>
                    <a:pt x="2863" y="1551"/>
                  </a:lnTo>
                  <a:lnTo>
                    <a:pt x="2891" y="1554"/>
                  </a:lnTo>
                  <a:lnTo>
                    <a:pt x="2910" y="1556"/>
                  </a:lnTo>
                  <a:lnTo>
                    <a:pt x="2925" y="1558"/>
                  </a:lnTo>
                  <a:lnTo>
                    <a:pt x="2945" y="1559"/>
                  </a:lnTo>
                  <a:lnTo>
                    <a:pt x="2968" y="1561"/>
                  </a:lnTo>
                  <a:lnTo>
                    <a:pt x="2992" y="1563"/>
                  </a:lnTo>
                  <a:lnTo>
                    <a:pt x="3013" y="1566"/>
                  </a:lnTo>
                  <a:lnTo>
                    <a:pt x="3033" y="1568"/>
                  </a:lnTo>
                  <a:lnTo>
                    <a:pt x="3048" y="1569"/>
                  </a:lnTo>
                  <a:lnTo>
                    <a:pt x="3057" y="1571"/>
                  </a:lnTo>
                  <a:lnTo>
                    <a:pt x="3070" y="1569"/>
                  </a:lnTo>
                  <a:lnTo>
                    <a:pt x="3083" y="1563"/>
                  </a:lnTo>
                  <a:lnTo>
                    <a:pt x="3095" y="1554"/>
                  </a:lnTo>
                  <a:lnTo>
                    <a:pt x="3100" y="1551"/>
                  </a:lnTo>
                  <a:lnTo>
                    <a:pt x="3102" y="1553"/>
                  </a:lnTo>
                  <a:lnTo>
                    <a:pt x="3105" y="1556"/>
                  </a:lnTo>
                  <a:lnTo>
                    <a:pt x="3112" y="1561"/>
                  </a:lnTo>
                  <a:lnTo>
                    <a:pt x="3120" y="1568"/>
                  </a:lnTo>
                  <a:lnTo>
                    <a:pt x="3130" y="1576"/>
                  </a:lnTo>
                  <a:lnTo>
                    <a:pt x="3140" y="1586"/>
                  </a:lnTo>
                  <a:lnTo>
                    <a:pt x="3152" y="1598"/>
                  </a:lnTo>
                  <a:lnTo>
                    <a:pt x="3162" y="1609"/>
                  </a:lnTo>
                  <a:lnTo>
                    <a:pt x="3172" y="1624"/>
                  </a:lnTo>
                  <a:lnTo>
                    <a:pt x="3180" y="1638"/>
                  </a:lnTo>
                  <a:lnTo>
                    <a:pt x="3183" y="1653"/>
                  </a:lnTo>
                  <a:lnTo>
                    <a:pt x="3185" y="1668"/>
                  </a:lnTo>
                  <a:lnTo>
                    <a:pt x="3185" y="1678"/>
                  </a:lnTo>
                  <a:lnTo>
                    <a:pt x="3183" y="1688"/>
                  </a:lnTo>
                  <a:lnTo>
                    <a:pt x="3180" y="1696"/>
                  </a:lnTo>
                  <a:lnTo>
                    <a:pt x="3175" y="1704"/>
                  </a:lnTo>
                  <a:lnTo>
                    <a:pt x="3168" y="1724"/>
                  </a:lnTo>
                  <a:lnTo>
                    <a:pt x="3168" y="1748"/>
                  </a:lnTo>
                  <a:lnTo>
                    <a:pt x="3168" y="1771"/>
                  </a:lnTo>
                  <a:lnTo>
                    <a:pt x="3167" y="1795"/>
                  </a:lnTo>
                  <a:lnTo>
                    <a:pt x="3162" y="1815"/>
                  </a:lnTo>
                  <a:lnTo>
                    <a:pt x="3153" y="1835"/>
                  </a:lnTo>
                  <a:lnTo>
                    <a:pt x="3145" y="1851"/>
                  </a:lnTo>
                  <a:lnTo>
                    <a:pt x="3138" y="1870"/>
                  </a:lnTo>
                  <a:lnTo>
                    <a:pt x="3132" y="1890"/>
                  </a:lnTo>
                  <a:lnTo>
                    <a:pt x="3125" y="1913"/>
                  </a:lnTo>
                  <a:lnTo>
                    <a:pt x="3120" y="1933"/>
                  </a:lnTo>
                  <a:lnTo>
                    <a:pt x="3118" y="1951"/>
                  </a:lnTo>
                  <a:lnTo>
                    <a:pt x="3117" y="1965"/>
                  </a:lnTo>
                  <a:lnTo>
                    <a:pt x="3115" y="1976"/>
                  </a:lnTo>
                  <a:lnTo>
                    <a:pt x="3108" y="1986"/>
                  </a:lnTo>
                  <a:lnTo>
                    <a:pt x="3100" y="1993"/>
                  </a:lnTo>
                  <a:lnTo>
                    <a:pt x="3093" y="1996"/>
                  </a:lnTo>
                  <a:lnTo>
                    <a:pt x="3078" y="2003"/>
                  </a:lnTo>
                  <a:lnTo>
                    <a:pt x="3057" y="2013"/>
                  </a:lnTo>
                  <a:lnTo>
                    <a:pt x="3028" y="2026"/>
                  </a:lnTo>
                  <a:lnTo>
                    <a:pt x="2997" y="2040"/>
                  </a:lnTo>
                  <a:lnTo>
                    <a:pt x="2962" y="2056"/>
                  </a:lnTo>
                  <a:lnTo>
                    <a:pt x="2923" y="2073"/>
                  </a:lnTo>
                  <a:lnTo>
                    <a:pt x="2885" y="2090"/>
                  </a:lnTo>
                  <a:lnTo>
                    <a:pt x="2845" y="2108"/>
                  </a:lnTo>
                  <a:lnTo>
                    <a:pt x="2806" y="2125"/>
                  </a:lnTo>
                  <a:lnTo>
                    <a:pt x="2770" y="2141"/>
                  </a:lnTo>
                  <a:lnTo>
                    <a:pt x="2736" y="2155"/>
                  </a:lnTo>
                  <a:lnTo>
                    <a:pt x="2708" y="2168"/>
                  </a:lnTo>
                  <a:lnTo>
                    <a:pt x="2685" y="2180"/>
                  </a:lnTo>
                  <a:lnTo>
                    <a:pt x="2668" y="2188"/>
                  </a:lnTo>
                  <a:lnTo>
                    <a:pt x="2658" y="2193"/>
                  </a:lnTo>
                  <a:lnTo>
                    <a:pt x="2645" y="2200"/>
                  </a:lnTo>
                  <a:lnTo>
                    <a:pt x="2628" y="2205"/>
                  </a:lnTo>
                  <a:lnTo>
                    <a:pt x="2608" y="2208"/>
                  </a:lnTo>
                  <a:lnTo>
                    <a:pt x="2586" y="2211"/>
                  </a:lnTo>
                  <a:lnTo>
                    <a:pt x="2561" y="2215"/>
                  </a:lnTo>
                  <a:lnTo>
                    <a:pt x="2535" y="2220"/>
                  </a:lnTo>
                  <a:lnTo>
                    <a:pt x="2508" y="2225"/>
                  </a:lnTo>
                  <a:lnTo>
                    <a:pt x="2481" y="2231"/>
                  </a:lnTo>
                  <a:lnTo>
                    <a:pt x="2466" y="2235"/>
                  </a:lnTo>
                  <a:lnTo>
                    <a:pt x="2446" y="2240"/>
                  </a:lnTo>
                  <a:lnTo>
                    <a:pt x="2425" y="2245"/>
                  </a:lnTo>
                  <a:lnTo>
                    <a:pt x="2398" y="2252"/>
                  </a:lnTo>
                  <a:lnTo>
                    <a:pt x="2371" y="2258"/>
                  </a:lnTo>
                  <a:lnTo>
                    <a:pt x="2343" y="2265"/>
                  </a:lnTo>
                  <a:lnTo>
                    <a:pt x="2313" y="2272"/>
                  </a:lnTo>
                  <a:lnTo>
                    <a:pt x="2283" y="2278"/>
                  </a:lnTo>
                  <a:lnTo>
                    <a:pt x="2253" y="2285"/>
                  </a:lnTo>
                  <a:lnTo>
                    <a:pt x="2224" y="2293"/>
                  </a:lnTo>
                  <a:lnTo>
                    <a:pt x="2198" y="2300"/>
                  </a:lnTo>
                  <a:lnTo>
                    <a:pt x="2173" y="2307"/>
                  </a:lnTo>
                  <a:lnTo>
                    <a:pt x="2151" y="2312"/>
                  </a:lnTo>
                  <a:lnTo>
                    <a:pt x="2134" y="2318"/>
                  </a:lnTo>
                  <a:lnTo>
                    <a:pt x="2119" y="2323"/>
                  </a:lnTo>
                  <a:lnTo>
                    <a:pt x="2111" y="2327"/>
                  </a:lnTo>
                  <a:lnTo>
                    <a:pt x="2098" y="2333"/>
                  </a:lnTo>
                  <a:lnTo>
                    <a:pt x="2086" y="2338"/>
                  </a:lnTo>
                  <a:lnTo>
                    <a:pt x="2071" y="2347"/>
                  </a:lnTo>
                  <a:lnTo>
                    <a:pt x="2058" y="2353"/>
                  </a:lnTo>
                  <a:lnTo>
                    <a:pt x="2043" y="2365"/>
                  </a:lnTo>
                  <a:lnTo>
                    <a:pt x="2028" y="2378"/>
                  </a:lnTo>
                  <a:lnTo>
                    <a:pt x="2011" y="2398"/>
                  </a:lnTo>
                  <a:lnTo>
                    <a:pt x="1993" y="2422"/>
                  </a:lnTo>
                  <a:lnTo>
                    <a:pt x="1976" y="2447"/>
                  </a:lnTo>
                  <a:lnTo>
                    <a:pt x="1961" y="2470"/>
                  </a:lnTo>
                  <a:lnTo>
                    <a:pt x="1946" y="2492"/>
                  </a:lnTo>
                  <a:lnTo>
                    <a:pt x="1933" y="2512"/>
                  </a:lnTo>
                  <a:lnTo>
                    <a:pt x="1923" y="2528"/>
                  </a:lnTo>
                  <a:lnTo>
                    <a:pt x="1913" y="2542"/>
                  </a:lnTo>
                  <a:lnTo>
                    <a:pt x="1904" y="2552"/>
                  </a:lnTo>
                  <a:lnTo>
                    <a:pt x="1898" y="2558"/>
                  </a:lnTo>
                  <a:lnTo>
                    <a:pt x="1891" y="2563"/>
                  </a:lnTo>
                  <a:lnTo>
                    <a:pt x="1884" y="2568"/>
                  </a:lnTo>
                  <a:lnTo>
                    <a:pt x="1874" y="2573"/>
                  </a:lnTo>
                  <a:lnTo>
                    <a:pt x="1864" y="2575"/>
                  </a:lnTo>
                  <a:lnTo>
                    <a:pt x="1853" y="2577"/>
                  </a:lnTo>
                  <a:lnTo>
                    <a:pt x="1843" y="2577"/>
                  </a:lnTo>
                  <a:lnTo>
                    <a:pt x="1833" y="2573"/>
                  </a:lnTo>
                  <a:lnTo>
                    <a:pt x="1823" y="2568"/>
                  </a:lnTo>
                  <a:lnTo>
                    <a:pt x="1814" y="2562"/>
                  </a:lnTo>
                  <a:lnTo>
                    <a:pt x="1806" y="2553"/>
                  </a:lnTo>
                  <a:lnTo>
                    <a:pt x="1799" y="2547"/>
                  </a:lnTo>
                  <a:lnTo>
                    <a:pt x="1794" y="2538"/>
                  </a:lnTo>
                  <a:lnTo>
                    <a:pt x="1787" y="2533"/>
                  </a:lnTo>
                  <a:lnTo>
                    <a:pt x="1781" y="2530"/>
                  </a:lnTo>
                  <a:lnTo>
                    <a:pt x="1772" y="2528"/>
                  </a:lnTo>
                  <a:lnTo>
                    <a:pt x="1764" y="2530"/>
                  </a:lnTo>
                  <a:lnTo>
                    <a:pt x="1752" y="2533"/>
                  </a:lnTo>
                  <a:lnTo>
                    <a:pt x="1739" y="2535"/>
                  </a:lnTo>
                  <a:lnTo>
                    <a:pt x="1722" y="2535"/>
                  </a:lnTo>
                  <a:lnTo>
                    <a:pt x="1704" y="2535"/>
                  </a:lnTo>
                  <a:lnTo>
                    <a:pt x="1684" y="2535"/>
                  </a:lnTo>
                  <a:lnTo>
                    <a:pt x="1666" y="2533"/>
                  </a:lnTo>
                  <a:lnTo>
                    <a:pt x="1647" y="2532"/>
                  </a:lnTo>
                  <a:lnTo>
                    <a:pt x="1632" y="2530"/>
                  </a:lnTo>
                  <a:lnTo>
                    <a:pt x="1617" y="2528"/>
                  </a:lnTo>
                  <a:lnTo>
                    <a:pt x="1602" y="2525"/>
                  </a:lnTo>
                  <a:lnTo>
                    <a:pt x="1589" y="2520"/>
                  </a:lnTo>
                  <a:lnTo>
                    <a:pt x="1574" y="2517"/>
                  </a:lnTo>
                  <a:lnTo>
                    <a:pt x="1561" y="2513"/>
                  </a:lnTo>
                  <a:lnTo>
                    <a:pt x="1549" y="2510"/>
                  </a:lnTo>
                  <a:lnTo>
                    <a:pt x="1537" y="2507"/>
                  </a:lnTo>
                  <a:lnTo>
                    <a:pt x="1527" y="2507"/>
                  </a:lnTo>
                  <a:lnTo>
                    <a:pt x="1514" y="2507"/>
                  </a:lnTo>
                  <a:lnTo>
                    <a:pt x="1492" y="2507"/>
                  </a:lnTo>
                  <a:lnTo>
                    <a:pt x="1466" y="2508"/>
                  </a:lnTo>
                  <a:lnTo>
                    <a:pt x="1436" y="2508"/>
                  </a:lnTo>
                  <a:lnTo>
                    <a:pt x="1409" y="2510"/>
                  </a:lnTo>
                  <a:lnTo>
                    <a:pt x="1386" y="2512"/>
                  </a:lnTo>
                  <a:lnTo>
                    <a:pt x="1369" y="2512"/>
                  </a:lnTo>
                  <a:lnTo>
                    <a:pt x="1362" y="2512"/>
                  </a:lnTo>
                  <a:lnTo>
                    <a:pt x="1361" y="2513"/>
                  </a:lnTo>
                  <a:lnTo>
                    <a:pt x="1356" y="2515"/>
                  </a:lnTo>
                  <a:lnTo>
                    <a:pt x="1349" y="2518"/>
                  </a:lnTo>
                  <a:lnTo>
                    <a:pt x="1339" y="2520"/>
                  </a:lnTo>
                  <a:lnTo>
                    <a:pt x="1329" y="2522"/>
                  </a:lnTo>
                  <a:lnTo>
                    <a:pt x="1317" y="2522"/>
                  </a:lnTo>
                  <a:lnTo>
                    <a:pt x="1304" y="2518"/>
                  </a:lnTo>
                  <a:lnTo>
                    <a:pt x="1292" y="2512"/>
                  </a:lnTo>
                  <a:lnTo>
                    <a:pt x="1281" y="2503"/>
                  </a:lnTo>
                  <a:lnTo>
                    <a:pt x="1272" y="2497"/>
                  </a:lnTo>
                  <a:lnTo>
                    <a:pt x="1266" y="2490"/>
                  </a:lnTo>
                  <a:lnTo>
                    <a:pt x="1261" y="2485"/>
                  </a:lnTo>
                  <a:lnTo>
                    <a:pt x="1256" y="2482"/>
                  </a:lnTo>
                  <a:lnTo>
                    <a:pt x="1250" y="2480"/>
                  </a:lnTo>
                  <a:lnTo>
                    <a:pt x="1245" y="2480"/>
                  </a:lnTo>
                  <a:lnTo>
                    <a:pt x="1239" y="2483"/>
                  </a:lnTo>
                  <a:lnTo>
                    <a:pt x="1232" y="2490"/>
                  </a:lnTo>
                  <a:lnTo>
                    <a:pt x="1235" y="2498"/>
                  </a:lnTo>
                  <a:lnTo>
                    <a:pt x="1240" y="2510"/>
                  </a:lnTo>
                  <a:lnTo>
                    <a:pt x="1239" y="2525"/>
                  </a:lnTo>
                  <a:lnTo>
                    <a:pt x="1234" y="2545"/>
                  </a:lnTo>
                  <a:lnTo>
                    <a:pt x="1232" y="2567"/>
                  </a:lnTo>
                  <a:lnTo>
                    <a:pt x="1234" y="2587"/>
                  </a:lnTo>
                  <a:lnTo>
                    <a:pt x="1234" y="2602"/>
                  </a:lnTo>
                  <a:lnTo>
                    <a:pt x="1230" y="2615"/>
                  </a:lnTo>
                  <a:lnTo>
                    <a:pt x="1225" y="2630"/>
                  </a:lnTo>
                  <a:lnTo>
                    <a:pt x="1219" y="2643"/>
                  </a:lnTo>
                  <a:lnTo>
                    <a:pt x="1215" y="2648"/>
                  </a:lnTo>
                  <a:lnTo>
                    <a:pt x="1177" y="2678"/>
                  </a:lnTo>
                  <a:lnTo>
                    <a:pt x="1175" y="2672"/>
                  </a:lnTo>
                  <a:lnTo>
                    <a:pt x="1170" y="2657"/>
                  </a:lnTo>
                  <a:lnTo>
                    <a:pt x="1167" y="2640"/>
                  </a:lnTo>
                  <a:lnTo>
                    <a:pt x="1167" y="2625"/>
                  </a:lnTo>
                  <a:lnTo>
                    <a:pt x="1167" y="2613"/>
                  </a:lnTo>
                  <a:lnTo>
                    <a:pt x="1164" y="2598"/>
                  </a:lnTo>
                  <a:lnTo>
                    <a:pt x="1154" y="2583"/>
                  </a:lnTo>
                  <a:lnTo>
                    <a:pt x="1144" y="2568"/>
                  </a:lnTo>
                  <a:lnTo>
                    <a:pt x="1134" y="2555"/>
                  </a:lnTo>
                  <a:lnTo>
                    <a:pt x="1124" y="2543"/>
                  </a:lnTo>
                  <a:lnTo>
                    <a:pt x="1115" y="2532"/>
                  </a:lnTo>
                  <a:lnTo>
                    <a:pt x="1110" y="2522"/>
                  </a:lnTo>
                  <a:lnTo>
                    <a:pt x="1107" y="2508"/>
                  </a:lnTo>
                  <a:lnTo>
                    <a:pt x="1104" y="2492"/>
                  </a:lnTo>
                  <a:lnTo>
                    <a:pt x="1095" y="2475"/>
                  </a:lnTo>
                  <a:lnTo>
                    <a:pt x="1082" y="2458"/>
                  </a:lnTo>
                  <a:lnTo>
                    <a:pt x="1072" y="2450"/>
                  </a:lnTo>
                  <a:lnTo>
                    <a:pt x="1059" y="2437"/>
                  </a:lnTo>
                  <a:lnTo>
                    <a:pt x="1044" y="2423"/>
                  </a:lnTo>
                  <a:lnTo>
                    <a:pt x="1029" y="2405"/>
                  </a:lnTo>
                  <a:lnTo>
                    <a:pt x="1014" y="2387"/>
                  </a:lnTo>
                  <a:lnTo>
                    <a:pt x="999" y="2368"/>
                  </a:lnTo>
                  <a:lnTo>
                    <a:pt x="987" y="2350"/>
                  </a:lnTo>
                  <a:lnTo>
                    <a:pt x="979" y="2332"/>
                  </a:lnTo>
                  <a:lnTo>
                    <a:pt x="964" y="2302"/>
                  </a:lnTo>
                  <a:lnTo>
                    <a:pt x="949" y="2280"/>
                  </a:lnTo>
                  <a:lnTo>
                    <a:pt x="937" y="2263"/>
                  </a:lnTo>
                  <a:lnTo>
                    <a:pt x="930" y="2245"/>
                  </a:lnTo>
                  <a:lnTo>
                    <a:pt x="927" y="2231"/>
                  </a:lnTo>
                  <a:lnTo>
                    <a:pt x="920" y="2211"/>
                  </a:lnTo>
                  <a:lnTo>
                    <a:pt x="910" y="2190"/>
                  </a:lnTo>
                  <a:lnTo>
                    <a:pt x="900" y="2166"/>
                  </a:lnTo>
                  <a:lnTo>
                    <a:pt x="890" y="2143"/>
                  </a:lnTo>
                  <a:lnTo>
                    <a:pt x="880" y="2123"/>
                  </a:lnTo>
                  <a:lnTo>
                    <a:pt x="870" y="2108"/>
                  </a:lnTo>
                  <a:lnTo>
                    <a:pt x="864" y="2098"/>
                  </a:lnTo>
                  <a:lnTo>
                    <a:pt x="854" y="2085"/>
                  </a:lnTo>
                  <a:lnTo>
                    <a:pt x="845" y="2071"/>
                  </a:lnTo>
                  <a:lnTo>
                    <a:pt x="834" y="2056"/>
                  </a:lnTo>
                  <a:lnTo>
                    <a:pt x="822" y="2041"/>
                  </a:lnTo>
                  <a:lnTo>
                    <a:pt x="814" y="2033"/>
                  </a:lnTo>
                  <a:lnTo>
                    <a:pt x="802" y="2025"/>
                  </a:lnTo>
                  <a:lnTo>
                    <a:pt x="790" y="2018"/>
                  </a:lnTo>
                  <a:lnTo>
                    <a:pt x="779" y="2010"/>
                  </a:lnTo>
                  <a:lnTo>
                    <a:pt x="765" y="2003"/>
                  </a:lnTo>
                  <a:lnTo>
                    <a:pt x="752" y="1998"/>
                  </a:lnTo>
                  <a:lnTo>
                    <a:pt x="740" y="1995"/>
                  </a:lnTo>
                  <a:lnTo>
                    <a:pt x="730" y="1993"/>
                  </a:lnTo>
                  <a:lnTo>
                    <a:pt x="722" y="1991"/>
                  </a:lnTo>
                  <a:lnTo>
                    <a:pt x="717" y="1988"/>
                  </a:lnTo>
                  <a:lnTo>
                    <a:pt x="710" y="1983"/>
                  </a:lnTo>
                  <a:lnTo>
                    <a:pt x="705" y="1975"/>
                  </a:lnTo>
                  <a:lnTo>
                    <a:pt x="700" y="1966"/>
                  </a:lnTo>
                  <a:lnTo>
                    <a:pt x="693" y="1953"/>
                  </a:lnTo>
                  <a:lnTo>
                    <a:pt x="685" y="1940"/>
                  </a:lnTo>
                  <a:lnTo>
                    <a:pt x="673" y="1923"/>
                  </a:lnTo>
                  <a:lnTo>
                    <a:pt x="662" y="1905"/>
                  </a:lnTo>
                  <a:lnTo>
                    <a:pt x="652" y="1886"/>
                  </a:lnTo>
                  <a:lnTo>
                    <a:pt x="642" y="1868"/>
                  </a:lnTo>
                  <a:lnTo>
                    <a:pt x="635" y="1851"/>
                  </a:lnTo>
                  <a:lnTo>
                    <a:pt x="628" y="1833"/>
                  </a:lnTo>
                  <a:lnTo>
                    <a:pt x="623" y="1818"/>
                  </a:lnTo>
                  <a:lnTo>
                    <a:pt x="620" y="1803"/>
                  </a:lnTo>
                  <a:lnTo>
                    <a:pt x="617" y="1790"/>
                  </a:lnTo>
                  <a:lnTo>
                    <a:pt x="612" y="1765"/>
                  </a:lnTo>
                  <a:lnTo>
                    <a:pt x="603" y="1741"/>
                  </a:lnTo>
                  <a:lnTo>
                    <a:pt x="597" y="1724"/>
                  </a:lnTo>
                  <a:lnTo>
                    <a:pt x="593" y="1718"/>
                  </a:lnTo>
                  <a:lnTo>
                    <a:pt x="600" y="1706"/>
                  </a:lnTo>
                  <a:lnTo>
                    <a:pt x="610" y="1676"/>
                  </a:lnTo>
                  <a:lnTo>
                    <a:pt x="617" y="1636"/>
                  </a:lnTo>
                  <a:lnTo>
                    <a:pt x="607" y="1594"/>
                  </a:lnTo>
                  <a:lnTo>
                    <a:pt x="590" y="1559"/>
                  </a:lnTo>
                  <a:lnTo>
                    <a:pt x="582" y="1531"/>
                  </a:lnTo>
                  <a:lnTo>
                    <a:pt x="573" y="1503"/>
                  </a:lnTo>
                  <a:lnTo>
                    <a:pt x="560" y="1471"/>
                  </a:lnTo>
                  <a:lnTo>
                    <a:pt x="552" y="1454"/>
                  </a:lnTo>
                  <a:lnTo>
                    <a:pt x="547" y="1439"/>
                  </a:lnTo>
                  <a:lnTo>
                    <a:pt x="542" y="1426"/>
                  </a:lnTo>
                  <a:lnTo>
                    <a:pt x="537" y="1413"/>
                  </a:lnTo>
                  <a:lnTo>
                    <a:pt x="532" y="1401"/>
                  </a:lnTo>
                  <a:lnTo>
                    <a:pt x="525" y="1393"/>
                  </a:lnTo>
                  <a:lnTo>
                    <a:pt x="518" y="1383"/>
                  </a:lnTo>
                  <a:lnTo>
                    <a:pt x="508" y="1376"/>
                  </a:lnTo>
                  <a:lnTo>
                    <a:pt x="497" y="1369"/>
                  </a:lnTo>
                  <a:lnTo>
                    <a:pt x="487" y="1361"/>
                  </a:lnTo>
                  <a:lnTo>
                    <a:pt x="475" y="1354"/>
                  </a:lnTo>
                  <a:lnTo>
                    <a:pt x="463" y="1346"/>
                  </a:lnTo>
                  <a:lnTo>
                    <a:pt x="452" y="1338"/>
                  </a:lnTo>
                  <a:lnTo>
                    <a:pt x="440" y="1329"/>
                  </a:lnTo>
                  <a:lnTo>
                    <a:pt x="427" y="1323"/>
                  </a:lnTo>
                  <a:lnTo>
                    <a:pt x="413" y="1316"/>
                  </a:lnTo>
                  <a:lnTo>
                    <a:pt x="392" y="1303"/>
                  </a:lnTo>
                  <a:lnTo>
                    <a:pt x="382" y="1286"/>
                  </a:lnTo>
                  <a:lnTo>
                    <a:pt x="375" y="1268"/>
                  </a:lnTo>
                  <a:lnTo>
                    <a:pt x="365" y="1249"/>
                  </a:lnTo>
                  <a:lnTo>
                    <a:pt x="355" y="1232"/>
                  </a:lnTo>
                  <a:lnTo>
                    <a:pt x="348" y="1219"/>
                  </a:lnTo>
                  <a:lnTo>
                    <a:pt x="347" y="1209"/>
                  </a:lnTo>
                  <a:lnTo>
                    <a:pt x="347" y="1206"/>
                  </a:lnTo>
                  <a:lnTo>
                    <a:pt x="348" y="1206"/>
                  </a:lnTo>
                  <a:lnTo>
                    <a:pt x="353" y="1204"/>
                  </a:lnTo>
                  <a:lnTo>
                    <a:pt x="360" y="1201"/>
                  </a:lnTo>
                  <a:lnTo>
                    <a:pt x="367" y="1194"/>
                  </a:lnTo>
                  <a:lnTo>
                    <a:pt x="370" y="1187"/>
                  </a:lnTo>
                  <a:lnTo>
                    <a:pt x="370" y="1176"/>
                  </a:lnTo>
                  <a:lnTo>
                    <a:pt x="365" y="1162"/>
                  </a:lnTo>
                  <a:lnTo>
                    <a:pt x="352" y="1144"/>
                  </a:lnTo>
                  <a:lnTo>
                    <a:pt x="330" y="1122"/>
                  </a:lnTo>
                  <a:lnTo>
                    <a:pt x="327" y="1122"/>
                  </a:lnTo>
                  <a:lnTo>
                    <a:pt x="330" y="1126"/>
                  </a:lnTo>
                  <a:lnTo>
                    <a:pt x="327" y="1112"/>
                  </a:lnTo>
                  <a:lnTo>
                    <a:pt x="320" y="1091"/>
                  </a:lnTo>
                  <a:lnTo>
                    <a:pt x="315" y="1076"/>
                  </a:lnTo>
                  <a:lnTo>
                    <a:pt x="308" y="1066"/>
                  </a:lnTo>
                  <a:lnTo>
                    <a:pt x="293" y="1054"/>
                  </a:lnTo>
                  <a:lnTo>
                    <a:pt x="283" y="1039"/>
                  </a:lnTo>
                  <a:lnTo>
                    <a:pt x="285" y="1024"/>
                  </a:lnTo>
                  <a:lnTo>
                    <a:pt x="287" y="1011"/>
                  </a:lnTo>
                  <a:lnTo>
                    <a:pt x="275" y="997"/>
                  </a:lnTo>
                  <a:lnTo>
                    <a:pt x="257" y="986"/>
                  </a:lnTo>
                  <a:lnTo>
                    <a:pt x="243" y="971"/>
                  </a:lnTo>
                  <a:lnTo>
                    <a:pt x="235" y="954"/>
                  </a:lnTo>
                  <a:lnTo>
                    <a:pt x="232" y="936"/>
                  </a:lnTo>
                  <a:lnTo>
                    <a:pt x="228" y="916"/>
                  </a:lnTo>
                  <a:lnTo>
                    <a:pt x="218" y="889"/>
                  </a:lnTo>
                  <a:lnTo>
                    <a:pt x="205" y="862"/>
                  </a:lnTo>
                  <a:lnTo>
                    <a:pt x="185" y="836"/>
                  </a:lnTo>
                  <a:lnTo>
                    <a:pt x="172" y="814"/>
                  </a:lnTo>
                  <a:lnTo>
                    <a:pt x="168" y="796"/>
                  </a:lnTo>
                  <a:lnTo>
                    <a:pt x="167" y="782"/>
                  </a:lnTo>
                  <a:lnTo>
                    <a:pt x="157" y="774"/>
                  </a:lnTo>
                  <a:lnTo>
                    <a:pt x="145" y="766"/>
                  </a:lnTo>
                  <a:lnTo>
                    <a:pt x="140" y="754"/>
                  </a:lnTo>
                  <a:lnTo>
                    <a:pt x="133" y="739"/>
                  </a:lnTo>
                  <a:lnTo>
                    <a:pt x="118" y="722"/>
                  </a:lnTo>
                  <a:lnTo>
                    <a:pt x="100" y="700"/>
                  </a:lnTo>
                  <a:lnTo>
                    <a:pt x="86" y="674"/>
                  </a:lnTo>
                  <a:lnTo>
                    <a:pt x="78" y="652"/>
                  </a:lnTo>
                  <a:lnTo>
                    <a:pt x="75" y="642"/>
                  </a:lnTo>
                  <a:lnTo>
                    <a:pt x="70" y="642"/>
                  </a:lnTo>
                  <a:lnTo>
                    <a:pt x="60" y="642"/>
                  </a:lnTo>
                  <a:lnTo>
                    <a:pt x="45" y="642"/>
                  </a:lnTo>
                  <a:lnTo>
                    <a:pt x="33" y="642"/>
                  </a:lnTo>
                  <a:lnTo>
                    <a:pt x="21" y="642"/>
                  </a:lnTo>
                  <a:lnTo>
                    <a:pt x="11" y="644"/>
                  </a:lnTo>
                  <a:lnTo>
                    <a:pt x="3" y="645"/>
                  </a:lnTo>
                  <a:lnTo>
                    <a:pt x="0" y="645"/>
                  </a:lnTo>
                  <a:lnTo>
                    <a:pt x="1" y="642"/>
                  </a:lnTo>
                  <a:lnTo>
                    <a:pt x="5" y="632"/>
                  </a:lnTo>
                  <a:lnTo>
                    <a:pt x="8" y="620"/>
                  </a:lnTo>
                  <a:lnTo>
                    <a:pt x="13" y="609"/>
                  </a:lnTo>
                  <a:lnTo>
                    <a:pt x="20" y="592"/>
                  </a:lnTo>
                  <a:lnTo>
                    <a:pt x="28" y="569"/>
                  </a:lnTo>
                  <a:lnTo>
                    <a:pt x="35" y="542"/>
                  </a:lnTo>
                  <a:lnTo>
                    <a:pt x="38" y="517"/>
                  </a:lnTo>
                  <a:lnTo>
                    <a:pt x="40" y="500"/>
                  </a:lnTo>
                  <a:lnTo>
                    <a:pt x="43" y="489"/>
                  </a:lnTo>
                  <a:lnTo>
                    <a:pt x="50" y="480"/>
                  </a:lnTo>
                  <a:lnTo>
                    <a:pt x="56" y="470"/>
                  </a:lnTo>
                  <a:lnTo>
                    <a:pt x="61" y="457"/>
                  </a:lnTo>
                  <a:lnTo>
                    <a:pt x="65" y="442"/>
                  </a:lnTo>
                  <a:lnTo>
                    <a:pt x="66" y="429"/>
                  </a:lnTo>
                  <a:lnTo>
                    <a:pt x="66" y="424"/>
                  </a:lnTo>
                  <a:lnTo>
                    <a:pt x="232" y="465"/>
                  </a:lnTo>
                  <a:lnTo>
                    <a:pt x="235" y="464"/>
                  </a:lnTo>
                  <a:lnTo>
                    <a:pt x="243" y="457"/>
                  </a:lnTo>
                  <a:lnTo>
                    <a:pt x="257" y="450"/>
                  </a:lnTo>
                  <a:lnTo>
                    <a:pt x="270" y="439"/>
                  </a:lnTo>
                  <a:lnTo>
                    <a:pt x="285" y="429"/>
                  </a:lnTo>
                  <a:lnTo>
                    <a:pt x="298" y="417"/>
                  </a:lnTo>
                  <a:lnTo>
                    <a:pt x="308" y="407"/>
                  </a:lnTo>
                  <a:lnTo>
                    <a:pt x="313" y="399"/>
                  </a:lnTo>
                  <a:lnTo>
                    <a:pt x="318" y="384"/>
                  </a:lnTo>
                  <a:lnTo>
                    <a:pt x="325" y="369"/>
                  </a:lnTo>
                  <a:lnTo>
                    <a:pt x="330" y="357"/>
                  </a:lnTo>
                  <a:lnTo>
                    <a:pt x="332" y="352"/>
                  </a:lnTo>
                  <a:lnTo>
                    <a:pt x="335" y="352"/>
                  </a:lnTo>
                  <a:lnTo>
                    <a:pt x="342" y="352"/>
                  </a:lnTo>
                  <a:lnTo>
                    <a:pt x="353" y="352"/>
                  </a:lnTo>
                  <a:lnTo>
                    <a:pt x="367" y="350"/>
                  </a:lnTo>
                  <a:lnTo>
                    <a:pt x="382" y="350"/>
                  </a:lnTo>
                  <a:lnTo>
                    <a:pt x="398" y="347"/>
                  </a:lnTo>
                  <a:lnTo>
                    <a:pt x="413" y="345"/>
                  </a:lnTo>
                  <a:lnTo>
                    <a:pt x="427" y="342"/>
                  </a:lnTo>
                  <a:lnTo>
                    <a:pt x="438" y="337"/>
                  </a:lnTo>
                  <a:lnTo>
                    <a:pt x="447" y="329"/>
                  </a:lnTo>
                  <a:lnTo>
                    <a:pt x="455" y="319"/>
                  </a:lnTo>
                  <a:lnTo>
                    <a:pt x="462" y="309"/>
                  </a:lnTo>
                  <a:lnTo>
                    <a:pt x="468" y="299"/>
                  </a:lnTo>
                  <a:lnTo>
                    <a:pt x="475" y="290"/>
                  </a:lnTo>
                  <a:lnTo>
                    <a:pt x="483" y="284"/>
                  </a:lnTo>
                  <a:lnTo>
                    <a:pt x="493" y="280"/>
                  </a:lnTo>
                  <a:lnTo>
                    <a:pt x="508" y="275"/>
                  </a:lnTo>
                  <a:lnTo>
                    <a:pt x="513" y="269"/>
                  </a:lnTo>
                  <a:lnTo>
                    <a:pt x="513" y="264"/>
                  </a:lnTo>
                  <a:lnTo>
                    <a:pt x="512" y="262"/>
                  </a:lnTo>
                  <a:lnTo>
                    <a:pt x="380" y="90"/>
                  </a:lnTo>
                  <a:close/>
                </a:path>
              </a:pathLst>
            </a:custGeom>
            <a:solidFill>
              <a:srgbClr val="b2b2b2">
                <a:alpha val="30000"/>
              </a:srgbClr>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292" name="PlaceHolder 1"/>
          <p:cNvSpPr>
            <a:spLocks noGrp="1"/>
          </p:cNvSpPr>
          <p:nvPr>
            <p:ph/>
          </p:nvPr>
        </p:nvSpPr>
        <p:spPr>
          <a:xfrm>
            <a:off x="1295280" y="1371600"/>
            <a:ext cx="7010640" cy="4525920"/>
          </a:xfrm>
          <a:prstGeom prst="rect">
            <a:avLst/>
          </a:prstGeom>
          <a:noFill/>
          <a:ln w="0">
            <a:noFill/>
          </a:ln>
        </p:spPr>
        <p:txBody>
          <a:bodyPr lIns="90000" rIns="90000" tIns="46800" bIns="46800" anchor="t">
            <a:normAutofit fontScale="97000"/>
          </a:bodyPr>
          <a:p>
            <a:pPr marL="330840" indent="-330840">
              <a:lnSpc>
                <a:spcPct val="90000"/>
              </a:lnSpc>
              <a:spcBef>
                <a:spcPts val="700"/>
              </a:spcBef>
              <a:buClr>
                <a:srgbClr val="333399"/>
              </a:buClr>
              <a:buFont typeface="Albertus Medium"/>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333399"/>
                </a:solidFill>
                <a:latin typeface="Albertus Medium"/>
              </a:rPr>
              <a:t>The field of nanotechnology is under constant and rapid growth, here are some classes of nanoparticles used in biotechnology and particularly nanomedicine:</a:t>
            </a:r>
            <a:endParaRPr b="0" lang="en-US" sz="2800" spc="-1" strike="noStrike">
              <a:solidFill>
                <a:srgbClr val="000000"/>
              </a:solidFill>
              <a:latin typeface="Arial"/>
            </a:endParaRPr>
          </a:p>
          <a:p>
            <a:pPr marL="33084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600" spc="-1" strike="noStrike">
              <a:solidFill>
                <a:srgbClr val="000000"/>
              </a:solidFill>
              <a:latin typeface="Arial"/>
            </a:endParaRPr>
          </a:p>
          <a:p>
            <a:pPr marL="330840" indent="-330840">
              <a:lnSpc>
                <a:spcPct val="90000"/>
              </a:lnSpc>
              <a:spcBef>
                <a:spcPts val="700"/>
              </a:spcBef>
              <a:buClr>
                <a:srgbClr val="333399"/>
              </a:buClr>
              <a:buFont typeface="Albertus Medium"/>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333399"/>
                </a:solidFill>
                <a:latin typeface="Albertus Medium"/>
              </a:rPr>
              <a:t>Fullerenes: Buckyballa and carbon tubes</a:t>
            </a:r>
            <a:endParaRPr b="0" lang="en-US" sz="2800" spc="-1" strike="noStrike">
              <a:solidFill>
                <a:srgbClr val="000000"/>
              </a:solidFill>
              <a:latin typeface="Arial"/>
            </a:endParaRPr>
          </a:p>
          <a:p>
            <a:pPr marL="33084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600" spc="-1" strike="noStrike">
              <a:solidFill>
                <a:srgbClr val="000000"/>
              </a:solidFill>
              <a:latin typeface="Arial"/>
            </a:endParaRPr>
          </a:p>
          <a:p>
            <a:pPr marL="330840" indent="-330840">
              <a:lnSpc>
                <a:spcPct val="90000"/>
              </a:lnSpc>
              <a:spcBef>
                <a:spcPts val="700"/>
              </a:spcBef>
              <a:buClr>
                <a:srgbClr val="333399"/>
              </a:buClr>
              <a:buFont typeface="Albertus Medium"/>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333399"/>
                </a:solidFill>
                <a:latin typeface="Albertus Medium"/>
              </a:rPr>
              <a:t>Carbon tubes found use in biomedicine as carriers for vaccines, drugs and other molecules.</a:t>
            </a:r>
            <a:endParaRPr b="0" lang="en-US" sz="2800" spc="-1" strike="noStrike">
              <a:solidFill>
                <a:srgbClr val="000000"/>
              </a:solidFill>
              <a:latin typeface="Arial"/>
            </a:endParaRPr>
          </a:p>
          <a:p>
            <a:pPr marL="33084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600" spc="-1" strike="noStrike">
              <a:solidFill>
                <a:srgbClr val="000000"/>
              </a:solidFill>
              <a:latin typeface="Arial"/>
            </a:endParaRPr>
          </a:p>
          <a:p>
            <a:pPr marL="33084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600" spc="-1" strike="noStrike">
              <a:solidFill>
                <a:srgbClr val="000000"/>
              </a:solidFill>
              <a:latin typeface="Arial"/>
            </a:endParaRPr>
          </a:p>
        </p:txBody>
      </p:sp>
      <p:sp>
        <p:nvSpPr>
          <p:cNvPr id="293" name=""/>
          <p:cNvSpPr/>
          <p:nvPr/>
        </p:nvSpPr>
        <p:spPr>
          <a:xfrm>
            <a:off x="609480" y="6629400"/>
            <a:ext cx="8534520" cy="228600"/>
          </a:xfrm>
          <a:prstGeom prst="rect">
            <a:avLst/>
          </a:prstGeom>
          <a:solidFill>
            <a:srgbClr val="bbe0e3"/>
          </a:solidFill>
          <a:ln cap="sq"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99"/>
                </a:solidFill>
                <a:latin typeface="Albertus Medium"/>
              </a:rPr>
              <a:t>www.skinandallergy.org</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0" lang="en-US" sz="1000" spc="-1" strike="noStrike">
                <a:solidFill>
                  <a:srgbClr val="333399"/>
                </a:solidFill>
                <a:latin typeface="Albertus Medium"/>
              </a:rPr>
              <a:t>www.panarabderm.org</a:t>
            </a:r>
            <a:endParaRPr b="0" lang="en-US" sz="10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94" name="" descr=""/>
          <p:cNvPicPr/>
          <p:nvPr/>
        </p:nvPicPr>
        <p:blipFill>
          <a:blip r:embed="rId2"/>
          <a:stretch/>
        </p:blipFill>
        <p:spPr>
          <a:xfrm>
            <a:off x="8153280" y="74520"/>
            <a:ext cx="922320" cy="992160"/>
          </a:xfrm>
          <a:prstGeom prst="rect">
            <a:avLst/>
          </a:prstGeom>
          <a:ln w="0">
            <a:noFill/>
          </a:ln>
        </p:spPr>
      </p:pic>
      <p:sp>
        <p:nvSpPr>
          <p:cNvPr id="295" name=""/>
          <p:cNvSpPr/>
          <p:nvPr/>
        </p:nvSpPr>
        <p:spPr>
          <a:xfrm>
            <a:off x="1295280" y="1066680"/>
            <a:ext cx="6193080" cy="1800"/>
          </a:xfrm>
          <a:prstGeom prst="line">
            <a:avLst/>
          </a:prstGeom>
          <a:ln cap="sq" w="12600">
            <a:solidFill>
              <a:srgbClr val="b2b2b2"/>
            </a:solidFill>
            <a:miter/>
          </a:ln>
        </p:spPr>
        <p:style>
          <a:lnRef idx="0"/>
          <a:fillRef idx="0"/>
          <a:effectRef idx="0"/>
          <a:fontRef idx="minor"/>
        </p:style>
        <p:txBody>
          <a:bodyPr lIns="90000" rIns="90000" tIns="-45000" bIns="-45000" anchor="t">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296" name="" descr=""/>
          <p:cNvPicPr/>
          <p:nvPr/>
        </p:nvPicPr>
        <p:blipFill>
          <a:blip r:embed="rId3"/>
          <a:stretch/>
        </p:blipFill>
        <p:spPr>
          <a:xfrm>
            <a:off x="0" y="0"/>
            <a:ext cx="600120" cy="6858000"/>
          </a:xfrm>
          <a:prstGeom prst="rect">
            <a:avLst/>
          </a:prstGeom>
          <a:ln w="0">
            <a:noFill/>
          </a:ln>
        </p:spPr>
      </p:pic>
      <p:sp>
        <p:nvSpPr>
          <p:cNvPr id="297" name=""/>
          <p:cNvSpPr/>
          <p:nvPr/>
        </p:nvSpPr>
        <p:spPr>
          <a:xfrm>
            <a:off x="0" y="457200"/>
            <a:ext cx="914400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333399"/>
                </a:solidFill>
                <a:latin typeface="Albertus Medium"/>
              </a:rPr>
              <a:t>Nanotechnology in Medicine</a:t>
            </a:r>
            <a:endParaRPr b="0" lang="en-US" sz="3600" spc="-1" strike="noStrike">
              <a:solidFill>
                <a:srgbClr val="000000"/>
              </a:solidFill>
              <a:latin typeface="Arial"/>
            </a:endParaRPr>
          </a:p>
        </p:txBody>
      </p:sp>
      <p:pic>
        <p:nvPicPr>
          <p:cNvPr id="298" name="" descr=""/>
          <p:cNvPicPr/>
          <p:nvPr/>
        </p:nvPicPr>
        <p:blipFill>
          <a:blip r:embed="rId4"/>
          <a:stretch/>
        </p:blipFill>
        <p:spPr>
          <a:xfrm>
            <a:off x="1042920" y="1413000"/>
            <a:ext cx="4176720" cy="3859200"/>
          </a:xfrm>
          <a:prstGeom prst="rect">
            <a:avLst/>
          </a:prstGeom>
          <a:ln w="0">
            <a:noFill/>
          </a:ln>
        </p:spPr>
      </p:pic>
      <p:sp>
        <p:nvSpPr>
          <p:cNvPr id="299" name=""/>
          <p:cNvSpPr/>
          <p:nvPr/>
        </p:nvSpPr>
        <p:spPr>
          <a:xfrm>
            <a:off x="1835280" y="5516640"/>
            <a:ext cx="2232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333399"/>
                </a:solidFill>
                <a:latin typeface="Albertus Medium"/>
              </a:rPr>
              <a:t>C60a buckyball</a:t>
            </a:r>
            <a:r>
              <a:rPr b="0" lang="en-US" sz="2200" spc="-1" strike="noStrike">
                <a:solidFill>
                  <a:srgbClr val="ffffff"/>
                </a:solidFill>
                <a:latin typeface="Arial"/>
              </a:rPr>
              <a:t> </a:t>
            </a:r>
            <a:endParaRPr b="0" lang="en-US" sz="2200" spc="-1" strike="noStrike">
              <a:solidFill>
                <a:srgbClr val="000000"/>
              </a:solidFill>
              <a:latin typeface="Arial"/>
            </a:endParaRPr>
          </a:p>
        </p:txBody>
      </p:sp>
      <p:pic>
        <p:nvPicPr>
          <p:cNvPr id="300" name="" descr=""/>
          <p:cNvPicPr/>
          <p:nvPr/>
        </p:nvPicPr>
        <p:blipFill>
          <a:blip r:embed="rId5"/>
          <a:stretch/>
        </p:blipFill>
        <p:spPr>
          <a:xfrm>
            <a:off x="5796000" y="1413000"/>
            <a:ext cx="2286000" cy="3744720"/>
          </a:xfrm>
          <a:prstGeom prst="rect">
            <a:avLst/>
          </a:prstGeom>
          <a:ln w="0">
            <a:noFill/>
          </a:ln>
        </p:spPr>
      </p:pic>
      <p:sp>
        <p:nvSpPr>
          <p:cNvPr id="301" name=""/>
          <p:cNvSpPr/>
          <p:nvPr/>
        </p:nvSpPr>
        <p:spPr>
          <a:xfrm>
            <a:off x="5256360" y="5505480"/>
            <a:ext cx="2592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333399"/>
                </a:solidFill>
                <a:latin typeface="Albertus Medium"/>
              </a:rPr>
              <a:t>Carbon nanotube</a:t>
            </a:r>
            <a:endParaRPr b="0" lang="en-US" sz="2400" spc="-1" strike="noStrike">
              <a:solidFill>
                <a:srgbClr val="000000"/>
              </a:solidFill>
              <a:latin typeface="Arial"/>
            </a:endParaRPr>
          </a:p>
        </p:txBody>
      </p:sp>
      <p:grpSp>
        <p:nvGrpSpPr>
          <p:cNvPr id="302" name=""/>
          <p:cNvGrpSpPr/>
          <p:nvPr/>
        </p:nvGrpSpPr>
        <p:grpSpPr>
          <a:xfrm>
            <a:off x="2639880" y="1346040"/>
            <a:ext cx="4521240" cy="3986280"/>
            <a:chOff x="2639880" y="1346040"/>
            <a:chExt cx="4521240" cy="3986280"/>
          </a:xfrm>
        </p:grpSpPr>
        <p:sp>
          <p:nvSpPr>
            <p:cNvPr id="303" name=""/>
            <p:cNvSpPr/>
            <p:nvPr/>
          </p:nvSpPr>
          <p:spPr>
            <a:xfrm>
              <a:off x="2639880" y="2319480"/>
              <a:ext cx="1721160" cy="3012840"/>
            </a:xfrm>
            <a:custGeom>
              <a:avLst/>
              <a:gdLst/>
              <a:ahLst/>
              <a:rect l="l" t="t" r="r" b="b"/>
              <a:pathLst>
                <a:path w="1261" h="2255">
                  <a:moveTo>
                    <a:pt x="1257" y="2027"/>
                  </a:moveTo>
                  <a:lnTo>
                    <a:pt x="1257" y="2015"/>
                  </a:lnTo>
                  <a:lnTo>
                    <a:pt x="1252" y="2000"/>
                  </a:lnTo>
                  <a:lnTo>
                    <a:pt x="1244" y="1985"/>
                  </a:lnTo>
                  <a:lnTo>
                    <a:pt x="1232" y="1970"/>
                  </a:lnTo>
                  <a:lnTo>
                    <a:pt x="1222" y="1956"/>
                  </a:lnTo>
                  <a:lnTo>
                    <a:pt x="1212" y="1945"/>
                  </a:lnTo>
                  <a:lnTo>
                    <a:pt x="1204" y="1933"/>
                  </a:lnTo>
                  <a:lnTo>
                    <a:pt x="1199" y="1921"/>
                  </a:lnTo>
                  <a:lnTo>
                    <a:pt x="1197" y="1910"/>
                  </a:lnTo>
                  <a:lnTo>
                    <a:pt x="1192" y="1893"/>
                  </a:lnTo>
                  <a:lnTo>
                    <a:pt x="1186" y="1876"/>
                  </a:lnTo>
                  <a:lnTo>
                    <a:pt x="1171" y="1860"/>
                  </a:lnTo>
                  <a:lnTo>
                    <a:pt x="1161" y="1851"/>
                  </a:lnTo>
                  <a:lnTo>
                    <a:pt x="1147" y="1838"/>
                  </a:lnTo>
                  <a:lnTo>
                    <a:pt x="1132" y="1823"/>
                  </a:lnTo>
                  <a:lnTo>
                    <a:pt x="1117" y="1806"/>
                  </a:lnTo>
                  <a:lnTo>
                    <a:pt x="1102" y="1788"/>
                  </a:lnTo>
                  <a:lnTo>
                    <a:pt x="1087" y="1770"/>
                  </a:lnTo>
                  <a:lnTo>
                    <a:pt x="1076" y="1750"/>
                  </a:lnTo>
                  <a:lnTo>
                    <a:pt x="1067" y="1731"/>
                  </a:lnTo>
                  <a:lnTo>
                    <a:pt x="1052" y="1703"/>
                  </a:lnTo>
                  <a:lnTo>
                    <a:pt x="1037" y="1681"/>
                  </a:lnTo>
                  <a:lnTo>
                    <a:pt x="1026" y="1665"/>
                  </a:lnTo>
                  <a:lnTo>
                    <a:pt x="1019" y="1646"/>
                  </a:lnTo>
                  <a:lnTo>
                    <a:pt x="1016" y="1633"/>
                  </a:lnTo>
                  <a:lnTo>
                    <a:pt x="1009" y="1613"/>
                  </a:lnTo>
                  <a:lnTo>
                    <a:pt x="999" y="1591"/>
                  </a:lnTo>
                  <a:lnTo>
                    <a:pt x="989" y="1568"/>
                  </a:lnTo>
                  <a:lnTo>
                    <a:pt x="979" y="1545"/>
                  </a:lnTo>
                  <a:lnTo>
                    <a:pt x="969" y="1525"/>
                  </a:lnTo>
                  <a:lnTo>
                    <a:pt x="959" y="1508"/>
                  </a:lnTo>
                  <a:lnTo>
                    <a:pt x="952" y="1499"/>
                  </a:lnTo>
                  <a:lnTo>
                    <a:pt x="942" y="1486"/>
                  </a:lnTo>
                  <a:lnTo>
                    <a:pt x="934" y="1473"/>
                  </a:lnTo>
                  <a:lnTo>
                    <a:pt x="922" y="1458"/>
                  </a:lnTo>
                  <a:lnTo>
                    <a:pt x="911" y="1443"/>
                  </a:lnTo>
                  <a:lnTo>
                    <a:pt x="902" y="1434"/>
                  </a:lnTo>
                  <a:lnTo>
                    <a:pt x="891" y="1426"/>
                  </a:lnTo>
                  <a:lnTo>
                    <a:pt x="879" y="1419"/>
                  </a:lnTo>
                  <a:lnTo>
                    <a:pt x="867" y="1411"/>
                  </a:lnTo>
                  <a:lnTo>
                    <a:pt x="854" y="1404"/>
                  </a:lnTo>
                  <a:lnTo>
                    <a:pt x="842" y="1399"/>
                  </a:lnTo>
                  <a:lnTo>
                    <a:pt x="831" y="1396"/>
                  </a:lnTo>
                  <a:lnTo>
                    <a:pt x="820" y="1394"/>
                  </a:lnTo>
                  <a:lnTo>
                    <a:pt x="812" y="1393"/>
                  </a:lnTo>
                  <a:lnTo>
                    <a:pt x="805" y="1389"/>
                  </a:lnTo>
                  <a:lnTo>
                    <a:pt x="800" y="1384"/>
                  </a:lnTo>
                  <a:lnTo>
                    <a:pt x="794" y="1376"/>
                  </a:lnTo>
                  <a:lnTo>
                    <a:pt x="789" y="1368"/>
                  </a:lnTo>
                  <a:lnTo>
                    <a:pt x="782" y="1354"/>
                  </a:lnTo>
                  <a:lnTo>
                    <a:pt x="774" y="1341"/>
                  </a:lnTo>
                  <a:lnTo>
                    <a:pt x="762" y="1324"/>
                  </a:lnTo>
                  <a:lnTo>
                    <a:pt x="750" y="1306"/>
                  </a:lnTo>
                  <a:lnTo>
                    <a:pt x="740" y="1288"/>
                  </a:lnTo>
                  <a:lnTo>
                    <a:pt x="732" y="1269"/>
                  </a:lnTo>
                  <a:lnTo>
                    <a:pt x="724" y="1253"/>
                  </a:lnTo>
                  <a:lnTo>
                    <a:pt x="717" y="1234"/>
                  </a:lnTo>
                  <a:lnTo>
                    <a:pt x="712" y="1219"/>
                  </a:lnTo>
                  <a:lnTo>
                    <a:pt x="709" y="1204"/>
                  </a:lnTo>
                  <a:lnTo>
                    <a:pt x="705" y="1191"/>
                  </a:lnTo>
                  <a:lnTo>
                    <a:pt x="700" y="1166"/>
                  </a:lnTo>
                  <a:lnTo>
                    <a:pt x="692" y="1143"/>
                  </a:lnTo>
                  <a:lnTo>
                    <a:pt x="685" y="1126"/>
                  </a:lnTo>
                  <a:lnTo>
                    <a:pt x="682" y="1119"/>
                  </a:lnTo>
                  <a:lnTo>
                    <a:pt x="689" y="1108"/>
                  </a:lnTo>
                  <a:lnTo>
                    <a:pt x="700" y="1078"/>
                  </a:lnTo>
                  <a:lnTo>
                    <a:pt x="707" y="1038"/>
                  </a:lnTo>
                  <a:lnTo>
                    <a:pt x="697" y="996"/>
                  </a:lnTo>
                  <a:lnTo>
                    <a:pt x="680" y="961"/>
                  </a:lnTo>
                  <a:lnTo>
                    <a:pt x="670" y="932"/>
                  </a:lnTo>
                  <a:lnTo>
                    <a:pt x="662" y="904"/>
                  </a:lnTo>
                  <a:lnTo>
                    <a:pt x="649" y="872"/>
                  </a:lnTo>
                  <a:lnTo>
                    <a:pt x="640" y="856"/>
                  </a:lnTo>
                  <a:lnTo>
                    <a:pt x="635" y="839"/>
                  </a:lnTo>
                  <a:lnTo>
                    <a:pt x="630" y="826"/>
                  </a:lnTo>
                  <a:lnTo>
                    <a:pt x="625" y="814"/>
                  </a:lnTo>
                  <a:lnTo>
                    <a:pt x="620" y="802"/>
                  </a:lnTo>
                  <a:lnTo>
                    <a:pt x="614" y="792"/>
                  </a:lnTo>
                  <a:lnTo>
                    <a:pt x="607" y="784"/>
                  </a:lnTo>
                  <a:lnTo>
                    <a:pt x="597" y="777"/>
                  </a:lnTo>
                  <a:lnTo>
                    <a:pt x="587" y="771"/>
                  </a:lnTo>
                  <a:lnTo>
                    <a:pt x="575" y="762"/>
                  </a:lnTo>
                  <a:lnTo>
                    <a:pt x="565" y="754"/>
                  </a:lnTo>
                  <a:lnTo>
                    <a:pt x="554" y="744"/>
                  </a:lnTo>
                  <a:lnTo>
                    <a:pt x="542" y="736"/>
                  </a:lnTo>
                  <a:lnTo>
                    <a:pt x="529" y="729"/>
                  </a:lnTo>
                  <a:lnTo>
                    <a:pt x="515" y="721"/>
                  </a:lnTo>
                  <a:lnTo>
                    <a:pt x="502" y="716"/>
                  </a:lnTo>
                  <a:lnTo>
                    <a:pt x="480" y="702"/>
                  </a:lnTo>
                  <a:lnTo>
                    <a:pt x="470" y="686"/>
                  </a:lnTo>
                  <a:lnTo>
                    <a:pt x="464" y="667"/>
                  </a:lnTo>
                  <a:lnTo>
                    <a:pt x="454" y="649"/>
                  </a:lnTo>
                  <a:lnTo>
                    <a:pt x="444" y="634"/>
                  </a:lnTo>
                  <a:lnTo>
                    <a:pt x="437" y="621"/>
                  </a:lnTo>
                  <a:lnTo>
                    <a:pt x="435" y="611"/>
                  </a:lnTo>
                  <a:lnTo>
                    <a:pt x="435" y="607"/>
                  </a:lnTo>
                  <a:lnTo>
                    <a:pt x="437" y="607"/>
                  </a:lnTo>
                  <a:lnTo>
                    <a:pt x="442" y="606"/>
                  </a:lnTo>
                  <a:lnTo>
                    <a:pt x="449" y="602"/>
                  </a:lnTo>
                  <a:lnTo>
                    <a:pt x="455" y="596"/>
                  </a:lnTo>
                  <a:lnTo>
                    <a:pt x="459" y="589"/>
                  </a:lnTo>
                  <a:lnTo>
                    <a:pt x="459" y="577"/>
                  </a:lnTo>
                  <a:lnTo>
                    <a:pt x="454" y="564"/>
                  </a:lnTo>
                  <a:lnTo>
                    <a:pt x="440" y="546"/>
                  </a:lnTo>
                  <a:lnTo>
                    <a:pt x="434" y="539"/>
                  </a:lnTo>
                  <a:lnTo>
                    <a:pt x="429" y="532"/>
                  </a:lnTo>
                  <a:lnTo>
                    <a:pt x="424" y="529"/>
                  </a:lnTo>
                  <a:lnTo>
                    <a:pt x="420" y="526"/>
                  </a:lnTo>
                  <a:lnTo>
                    <a:pt x="419" y="527"/>
                  </a:lnTo>
                  <a:lnTo>
                    <a:pt x="415" y="526"/>
                  </a:lnTo>
                  <a:lnTo>
                    <a:pt x="415" y="522"/>
                  </a:lnTo>
                  <a:lnTo>
                    <a:pt x="420" y="526"/>
                  </a:lnTo>
                  <a:lnTo>
                    <a:pt x="420" y="524"/>
                  </a:lnTo>
                  <a:lnTo>
                    <a:pt x="419" y="521"/>
                  </a:lnTo>
                  <a:lnTo>
                    <a:pt x="419" y="517"/>
                  </a:lnTo>
                  <a:lnTo>
                    <a:pt x="417" y="512"/>
                  </a:lnTo>
                  <a:lnTo>
                    <a:pt x="409" y="490"/>
                  </a:lnTo>
                  <a:lnTo>
                    <a:pt x="405" y="477"/>
                  </a:lnTo>
                  <a:lnTo>
                    <a:pt x="399" y="467"/>
                  </a:lnTo>
                  <a:lnTo>
                    <a:pt x="384" y="455"/>
                  </a:lnTo>
                  <a:lnTo>
                    <a:pt x="372" y="440"/>
                  </a:lnTo>
                  <a:lnTo>
                    <a:pt x="374" y="425"/>
                  </a:lnTo>
                  <a:lnTo>
                    <a:pt x="375" y="412"/>
                  </a:lnTo>
                  <a:lnTo>
                    <a:pt x="364" y="399"/>
                  </a:lnTo>
                  <a:lnTo>
                    <a:pt x="345" y="387"/>
                  </a:lnTo>
                  <a:lnTo>
                    <a:pt x="332" y="372"/>
                  </a:lnTo>
                  <a:lnTo>
                    <a:pt x="325" y="355"/>
                  </a:lnTo>
                  <a:lnTo>
                    <a:pt x="322" y="337"/>
                  </a:lnTo>
                  <a:lnTo>
                    <a:pt x="319" y="317"/>
                  </a:lnTo>
                  <a:lnTo>
                    <a:pt x="309" y="290"/>
                  </a:lnTo>
                  <a:lnTo>
                    <a:pt x="294" y="264"/>
                  </a:lnTo>
                  <a:lnTo>
                    <a:pt x="273" y="237"/>
                  </a:lnTo>
                  <a:lnTo>
                    <a:pt x="260" y="215"/>
                  </a:lnTo>
                  <a:lnTo>
                    <a:pt x="257" y="197"/>
                  </a:lnTo>
                  <a:lnTo>
                    <a:pt x="255" y="184"/>
                  </a:lnTo>
                  <a:lnTo>
                    <a:pt x="245" y="175"/>
                  </a:lnTo>
                  <a:lnTo>
                    <a:pt x="233" y="167"/>
                  </a:lnTo>
                  <a:lnTo>
                    <a:pt x="228" y="154"/>
                  </a:lnTo>
                  <a:lnTo>
                    <a:pt x="222" y="140"/>
                  </a:lnTo>
                  <a:lnTo>
                    <a:pt x="207" y="124"/>
                  </a:lnTo>
                  <a:lnTo>
                    <a:pt x="188" y="100"/>
                  </a:lnTo>
                  <a:lnTo>
                    <a:pt x="175" y="74"/>
                  </a:lnTo>
                  <a:lnTo>
                    <a:pt x="168" y="52"/>
                  </a:lnTo>
                  <a:lnTo>
                    <a:pt x="165" y="42"/>
                  </a:lnTo>
                  <a:lnTo>
                    <a:pt x="160" y="42"/>
                  </a:lnTo>
                  <a:lnTo>
                    <a:pt x="148" y="42"/>
                  </a:lnTo>
                  <a:lnTo>
                    <a:pt x="133" y="42"/>
                  </a:lnTo>
                  <a:lnTo>
                    <a:pt x="122" y="42"/>
                  </a:lnTo>
                  <a:lnTo>
                    <a:pt x="110" y="42"/>
                  </a:lnTo>
                  <a:lnTo>
                    <a:pt x="100" y="44"/>
                  </a:lnTo>
                  <a:lnTo>
                    <a:pt x="92" y="47"/>
                  </a:lnTo>
                  <a:lnTo>
                    <a:pt x="88" y="47"/>
                  </a:lnTo>
                  <a:lnTo>
                    <a:pt x="90" y="44"/>
                  </a:lnTo>
                  <a:lnTo>
                    <a:pt x="93" y="34"/>
                  </a:lnTo>
                  <a:lnTo>
                    <a:pt x="98" y="20"/>
                  </a:lnTo>
                  <a:lnTo>
                    <a:pt x="103" y="8"/>
                  </a:lnTo>
                  <a:lnTo>
                    <a:pt x="103" y="8"/>
                  </a:lnTo>
                  <a:lnTo>
                    <a:pt x="103" y="8"/>
                  </a:lnTo>
                  <a:lnTo>
                    <a:pt x="103" y="8"/>
                  </a:lnTo>
                  <a:lnTo>
                    <a:pt x="103" y="8"/>
                  </a:lnTo>
                  <a:lnTo>
                    <a:pt x="67" y="0"/>
                  </a:lnTo>
                  <a:lnTo>
                    <a:pt x="67" y="5"/>
                  </a:lnTo>
                  <a:lnTo>
                    <a:pt x="65" y="19"/>
                  </a:lnTo>
                  <a:lnTo>
                    <a:pt x="62" y="34"/>
                  </a:lnTo>
                  <a:lnTo>
                    <a:pt x="57" y="47"/>
                  </a:lnTo>
                  <a:lnTo>
                    <a:pt x="50" y="57"/>
                  </a:lnTo>
                  <a:lnTo>
                    <a:pt x="45" y="65"/>
                  </a:lnTo>
                  <a:lnTo>
                    <a:pt x="40" y="79"/>
                  </a:lnTo>
                  <a:lnTo>
                    <a:pt x="38" y="95"/>
                  </a:lnTo>
                  <a:lnTo>
                    <a:pt x="35" y="119"/>
                  </a:lnTo>
                  <a:lnTo>
                    <a:pt x="28" y="145"/>
                  </a:lnTo>
                  <a:lnTo>
                    <a:pt x="20" y="169"/>
                  </a:lnTo>
                  <a:lnTo>
                    <a:pt x="15" y="185"/>
                  </a:lnTo>
                  <a:lnTo>
                    <a:pt x="10" y="197"/>
                  </a:lnTo>
                  <a:lnTo>
                    <a:pt x="5" y="209"/>
                  </a:lnTo>
                  <a:lnTo>
                    <a:pt x="2" y="220"/>
                  </a:lnTo>
                  <a:lnTo>
                    <a:pt x="0" y="224"/>
                  </a:lnTo>
                  <a:lnTo>
                    <a:pt x="3" y="224"/>
                  </a:lnTo>
                  <a:lnTo>
                    <a:pt x="12" y="220"/>
                  </a:lnTo>
                  <a:lnTo>
                    <a:pt x="23" y="219"/>
                  </a:lnTo>
                  <a:lnTo>
                    <a:pt x="33" y="219"/>
                  </a:lnTo>
                  <a:lnTo>
                    <a:pt x="47" y="219"/>
                  </a:lnTo>
                  <a:lnTo>
                    <a:pt x="60" y="219"/>
                  </a:lnTo>
                  <a:lnTo>
                    <a:pt x="72" y="219"/>
                  </a:lnTo>
                  <a:lnTo>
                    <a:pt x="77" y="219"/>
                  </a:lnTo>
                  <a:lnTo>
                    <a:pt x="80" y="229"/>
                  </a:lnTo>
                  <a:lnTo>
                    <a:pt x="87" y="250"/>
                  </a:lnTo>
                  <a:lnTo>
                    <a:pt x="100" y="277"/>
                  </a:lnTo>
                  <a:lnTo>
                    <a:pt x="118" y="299"/>
                  </a:lnTo>
                  <a:lnTo>
                    <a:pt x="133" y="315"/>
                  </a:lnTo>
                  <a:lnTo>
                    <a:pt x="140" y="330"/>
                  </a:lnTo>
                  <a:lnTo>
                    <a:pt x="145" y="342"/>
                  </a:lnTo>
                  <a:lnTo>
                    <a:pt x="157" y="352"/>
                  </a:lnTo>
                  <a:lnTo>
                    <a:pt x="167" y="360"/>
                  </a:lnTo>
                  <a:lnTo>
                    <a:pt x="168" y="374"/>
                  </a:lnTo>
                  <a:lnTo>
                    <a:pt x="172" y="390"/>
                  </a:lnTo>
                  <a:lnTo>
                    <a:pt x="185" y="414"/>
                  </a:lnTo>
                  <a:lnTo>
                    <a:pt x="205" y="440"/>
                  </a:lnTo>
                  <a:lnTo>
                    <a:pt x="220" y="467"/>
                  </a:lnTo>
                  <a:lnTo>
                    <a:pt x="230" y="492"/>
                  </a:lnTo>
                  <a:lnTo>
                    <a:pt x="233" y="512"/>
                  </a:lnTo>
                  <a:lnTo>
                    <a:pt x="237" y="531"/>
                  </a:lnTo>
                  <a:lnTo>
                    <a:pt x="243" y="547"/>
                  </a:lnTo>
                  <a:lnTo>
                    <a:pt x="257" y="562"/>
                  </a:lnTo>
                  <a:lnTo>
                    <a:pt x="275" y="574"/>
                  </a:lnTo>
                  <a:lnTo>
                    <a:pt x="287" y="587"/>
                  </a:lnTo>
                  <a:lnTo>
                    <a:pt x="285" y="601"/>
                  </a:lnTo>
                  <a:lnTo>
                    <a:pt x="284" y="617"/>
                  </a:lnTo>
                  <a:lnTo>
                    <a:pt x="295" y="632"/>
                  </a:lnTo>
                  <a:lnTo>
                    <a:pt x="310" y="642"/>
                  </a:lnTo>
                  <a:lnTo>
                    <a:pt x="317" y="652"/>
                  </a:lnTo>
                  <a:lnTo>
                    <a:pt x="320" y="666"/>
                  </a:lnTo>
                  <a:lnTo>
                    <a:pt x="329" y="687"/>
                  </a:lnTo>
                  <a:lnTo>
                    <a:pt x="330" y="692"/>
                  </a:lnTo>
                  <a:lnTo>
                    <a:pt x="330" y="696"/>
                  </a:lnTo>
                  <a:lnTo>
                    <a:pt x="332" y="697"/>
                  </a:lnTo>
                  <a:lnTo>
                    <a:pt x="332" y="699"/>
                  </a:lnTo>
                  <a:lnTo>
                    <a:pt x="335" y="702"/>
                  </a:lnTo>
                  <a:lnTo>
                    <a:pt x="340" y="707"/>
                  </a:lnTo>
                  <a:lnTo>
                    <a:pt x="345" y="712"/>
                  </a:lnTo>
                  <a:lnTo>
                    <a:pt x="352" y="721"/>
                  </a:lnTo>
                  <a:lnTo>
                    <a:pt x="365" y="737"/>
                  </a:lnTo>
                  <a:lnTo>
                    <a:pt x="370" y="752"/>
                  </a:lnTo>
                  <a:lnTo>
                    <a:pt x="370" y="762"/>
                  </a:lnTo>
                  <a:lnTo>
                    <a:pt x="367" y="771"/>
                  </a:lnTo>
                  <a:lnTo>
                    <a:pt x="360" y="776"/>
                  </a:lnTo>
                  <a:lnTo>
                    <a:pt x="354" y="781"/>
                  </a:lnTo>
                  <a:lnTo>
                    <a:pt x="349" y="782"/>
                  </a:lnTo>
                  <a:lnTo>
                    <a:pt x="347" y="782"/>
                  </a:lnTo>
                  <a:lnTo>
                    <a:pt x="347" y="786"/>
                  </a:lnTo>
                  <a:lnTo>
                    <a:pt x="350" y="794"/>
                  </a:lnTo>
                  <a:lnTo>
                    <a:pt x="355" y="807"/>
                  </a:lnTo>
                  <a:lnTo>
                    <a:pt x="367" y="824"/>
                  </a:lnTo>
                  <a:lnTo>
                    <a:pt x="377" y="842"/>
                  </a:lnTo>
                  <a:lnTo>
                    <a:pt x="384" y="862"/>
                  </a:lnTo>
                  <a:lnTo>
                    <a:pt x="392" y="877"/>
                  </a:lnTo>
                  <a:lnTo>
                    <a:pt x="414" y="891"/>
                  </a:lnTo>
                  <a:lnTo>
                    <a:pt x="427" y="897"/>
                  </a:lnTo>
                  <a:lnTo>
                    <a:pt x="440" y="904"/>
                  </a:lnTo>
                  <a:lnTo>
                    <a:pt x="454" y="912"/>
                  </a:lnTo>
                  <a:lnTo>
                    <a:pt x="465" y="921"/>
                  </a:lnTo>
                  <a:lnTo>
                    <a:pt x="477" y="929"/>
                  </a:lnTo>
                  <a:lnTo>
                    <a:pt x="487" y="937"/>
                  </a:lnTo>
                  <a:lnTo>
                    <a:pt x="499" y="946"/>
                  </a:lnTo>
                  <a:lnTo>
                    <a:pt x="509" y="952"/>
                  </a:lnTo>
                  <a:lnTo>
                    <a:pt x="519" y="961"/>
                  </a:lnTo>
                  <a:lnTo>
                    <a:pt x="525" y="969"/>
                  </a:lnTo>
                  <a:lnTo>
                    <a:pt x="532" y="979"/>
                  </a:lnTo>
                  <a:lnTo>
                    <a:pt x="537" y="989"/>
                  </a:lnTo>
                  <a:lnTo>
                    <a:pt x="542" y="1002"/>
                  </a:lnTo>
                  <a:lnTo>
                    <a:pt x="547" y="1016"/>
                  </a:lnTo>
                  <a:lnTo>
                    <a:pt x="552" y="1031"/>
                  </a:lnTo>
                  <a:lnTo>
                    <a:pt x="560" y="1048"/>
                  </a:lnTo>
                  <a:lnTo>
                    <a:pt x="574" y="1079"/>
                  </a:lnTo>
                  <a:lnTo>
                    <a:pt x="584" y="1108"/>
                  </a:lnTo>
                  <a:lnTo>
                    <a:pt x="592" y="1136"/>
                  </a:lnTo>
                  <a:lnTo>
                    <a:pt x="609" y="1171"/>
                  </a:lnTo>
                  <a:lnTo>
                    <a:pt x="619" y="1213"/>
                  </a:lnTo>
                  <a:lnTo>
                    <a:pt x="612" y="1253"/>
                  </a:lnTo>
                  <a:lnTo>
                    <a:pt x="600" y="1283"/>
                  </a:lnTo>
                  <a:lnTo>
                    <a:pt x="594" y="1294"/>
                  </a:lnTo>
                  <a:lnTo>
                    <a:pt x="597" y="1301"/>
                  </a:lnTo>
                  <a:lnTo>
                    <a:pt x="604" y="1318"/>
                  </a:lnTo>
                  <a:lnTo>
                    <a:pt x="612" y="1341"/>
                  </a:lnTo>
                  <a:lnTo>
                    <a:pt x="617" y="1366"/>
                  </a:lnTo>
                  <a:lnTo>
                    <a:pt x="620" y="1379"/>
                  </a:lnTo>
                  <a:lnTo>
                    <a:pt x="624" y="1394"/>
                  </a:lnTo>
                  <a:lnTo>
                    <a:pt x="629" y="1409"/>
                  </a:lnTo>
                  <a:lnTo>
                    <a:pt x="635" y="1428"/>
                  </a:lnTo>
                  <a:lnTo>
                    <a:pt x="644" y="1444"/>
                  </a:lnTo>
                  <a:lnTo>
                    <a:pt x="654" y="1463"/>
                  </a:lnTo>
                  <a:lnTo>
                    <a:pt x="664" y="1481"/>
                  </a:lnTo>
                  <a:lnTo>
                    <a:pt x="675" y="1499"/>
                  </a:lnTo>
                  <a:lnTo>
                    <a:pt x="687" y="1516"/>
                  </a:lnTo>
                  <a:lnTo>
                    <a:pt x="695" y="1531"/>
                  </a:lnTo>
                  <a:lnTo>
                    <a:pt x="702" y="1543"/>
                  </a:lnTo>
                  <a:lnTo>
                    <a:pt x="707" y="1553"/>
                  </a:lnTo>
                  <a:lnTo>
                    <a:pt x="712" y="1561"/>
                  </a:lnTo>
                  <a:lnTo>
                    <a:pt x="719" y="1566"/>
                  </a:lnTo>
                  <a:lnTo>
                    <a:pt x="724" y="1570"/>
                  </a:lnTo>
                  <a:lnTo>
                    <a:pt x="732" y="1571"/>
                  </a:lnTo>
                  <a:lnTo>
                    <a:pt x="742" y="1573"/>
                  </a:lnTo>
                  <a:lnTo>
                    <a:pt x="754" y="1576"/>
                  </a:lnTo>
                  <a:lnTo>
                    <a:pt x="765" y="1581"/>
                  </a:lnTo>
                  <a:lnTo>
                    <a:pt x="779" y="1588"/>
                  </a:lnTo>
                  <a:lnTo>
                    <a:pt x="792" y="1595"/>
                  </a:lnTo>
                  <a:lnTo>
                    <a:pt x="804" y="1603"/>
                  </a:lnTo>
                  <a:lnTo>
                    <a:pt x="814" y="1611"/>
                  </a:lnTo>
                  <a:lnTo>
                    <a:pt x="822" y="1618"/>
                  </a:lnTo>
                  <a:lnTo>
                    <a:pt x="834" y="1633"/>
                  </a:lnTo>
                  <a:lnTo>
                    <a:pt x="846" y="1648"/>
                  </a:lnTo>
                  <a:lnTo>
                    <a:pt x="856" y="1663"/>
                  </a:lnTo>
                  <a:lnTo>
                    <a:pt x="866" y="1675"/>
                  </a:lnTo>
                  <a:lnTo>
                    <a:pt x="872" y="1685"/>
                  </a:lnTo>
                  <a:lnTo>
                    <a:pt x="881" y="1700"/>
                  </a:lnTo>
                  <a:lnTo>
                    <a:pt x="891" y="1721"/>
                  </a:lnTo>
                  <a:lnTo>
                    <a:pt x="902" y="1743"/>
                  </a:lnTo>
                  <a:lnTo>
                    <a:pt x="912" y="1768"/>
                  </a:lnTo>
                  <a:lnTo>
                    <a:pt x="921" y="1790"/>
                  </a:lnTo>
                  <a:lnTo>
                    <a:pt x="927" y="1810"/>
                  </a:lnTo>
                  <a:lnTo>
                    <a:pt x="931" y="1823"/>
                  </a:lnTo>
                  <a:lnTo>
                    <a:pt x="937" y="1841"/>
                  </a:lnTo>
                  <a:lnTo>
                    <a:pt x="951" y="1858"/>
                  </a:lnTo>
                  <a:lnTo>
                    <a:pt x="964" y="1878"/>
                  </a:lnTo>
                  <a:lnTo>
                    <a:pt x="979" y="1908"/>
                  </a:lnTo>
                  <a:lnTo>
                    <a:pt x="987" y="1926"/>
                  </a:lnTo>
                  <a:lnTo>
                    <a:pt x="999" y="1945"/>
                  </a:lnTo>
                  <a:lnTo>
                    <a:pt x="1014" y="1965"/>
                  </a:lnTo>
                  <a:lnTo>
                    <a:pt x="1029" y="1981"/>
                  </a:lnTo>
                  <a:lnTo>
                    <a:pt x="1044" y="2000"/>
                  </a:lnTo>
                  <a:lnTo>
                    <a:pt x="1059" y="2015"/>
                  </a:lnTo>
                  <a:lnTo>
                    <a:pt x="1072" y="2027"/>
                  </a:lnTo>
                  <a:lnTo>
                    <a:pt x="1084" y="2037"/>
                  </a:lnTo>
                  <a:lnTo>
                    <a:pt x="1097" y="2052"/>
                  </a:lnTo>
                  <a:lnTo>
                    <a:pt x="1106" y="2068"/>
                  </a:lnTo>
                  <a:lnTo>
                    <a:pt x="1109" y="2085"/>
                  </a:lnTo>
                  <a:lnTo>
                    <a:pt x="1112" y="2098"/>
                  </a:lnTo>
                  <a:lnTo>
                    <a:pt x="1117" y="2108"/>
                  </a:lnTo>
                  <a:lnTo>
                    <a:pt x="1126" y="2120"/>
                  </a:lnTo>
                  <a:lnTo>
                    <a:pt x="1136" y="2132"/>
                  </a:lnTo>
                  <a:lnTo>
                    <a:pt x="1146" y="2145"/>
                  </a:lnTo>
                  <a:lnTo>
                    <a:pt x="1156" y="2160"/>
                  </a:lnTo>
                  <a:lnTo>
                    <a:pt x="1164" y="2175"/>
                  </a:lnTo>
                  <a:lnTo>
                    <a:pt x="1169" y="2190"/>
                  </a:lnTo>
                  <a:lnTo>
                    <a:pt x="1169" y="2202"/>
                  </a:lnTo>
                  <a:lnTo>
                    <a:pt x="1169" y="2217"/>
                  </a:lnTo>
                  <a:lnTo>
                    <a:pt x="1172" y="2233"/>
                  </a:lnTo>
                  <a:lnTo>
                    <a:pt x="1177" y="2248"/>
                  </a:lnTo>
                  <a:lnTo>
                    <a:pt x="1179" y="2255"/>
                  </a:lnTo>
                  <a:lnTo>
                    <a:pt x="1216" y="2227"/>
                  </a:lnTo>
                  <a:lnTo>
                    <a:pt x="1219" y="2222"/>
                  </a:lnTo>
                  <a:lnTo>
                    <a:pt x="1226" y="2208"/>
                  </a:lnTo>
                  <a:lnTo>
                    <a:pt x="1232" y="2192"/>
                  </a:lnTo>
                  <a:lnTo>
                    <a:pt x="1236" y="2178"/>
                  </a:lnTo>
                  <a:lnTo>
                    <a:pt x="1236" y="2165"/>
                  </a:lnTo>
                  <a:lnTo>
                    <a:pt x="1234" y="2145"/>
                  </a:lnTo>
                  <a:lnTo>
                    <a:pt x="1236" y="2123"/>
                  </a:lnTo>
                  <a:lnTo>
                    <a:pt x="1241" y="2103"/>
                  </a:lnTo>
                  <a:lnTo>
                    <a:pt x="1241" y="2087"/>
                  </a:lnTo>
                  <a:lnTo>
                    <a:pt x="1236" y="2077"/>
                  </a:lnTo>
                  <a:lnTo>
                    <a:pt x="1234" y="2067"/>
                  </a:lnTo>
                  <a:lnTo>
                    <a:pt x="1241" y="2060"/>
                  </a:lnTo>
                  <a:lnTo>
                    <a:pt x="1246" y="2057"/>
                  </a:lnTo>
                  <a:lnTo>
                    <a:pt x="1251" y="2057"/>
                  </a:lnTo>
                  <a:lnTo>
                    <a:pt x="1256" y="2058"/>
                  </a:lnTo>
                  <a:lnTo>
                    <a:pt x="1261" y="2062"/>
                  </a:lnTo>
                  <a:lnTo>
                    <a:pt x="1259" y="2052"/>
                  </a:lnTo>
                  <a:lnTo>
                    <a:pt x="1257" y="2043"/>
                  </a:lnTo>
                  <a:lnTo>
                    <a:pt x="1256" y="2033"/>
                  </a:lnTo>
                  <a:lnTo>
                    <a:pt x="1257" y="2027"/>
                  </a:lnTo>
                  <a:close/>
                </a:path>
              </a:pathLst>
            </a:custGeom>
            <a:solidFill>
              <a:srgbClr val="ffffff">
                <a:alpha val="10000"/>
              </a:srgbClr>
            </a:solidFill>
            <a:ln cap="sq" w="9360">
              <a:solidFill>
                <a:srgbClr val="ffffff"/>
              </a:solidFill>
              <a:round/>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4" name=""/>
            <p:cNvSpPr/>
            <p:nvPr/>
          </p:nvSpPr>
          <p:spPr>
            <a:xfrm>
              <a:off x="3086280" y="3249720"/>
              <a:ext cx="4680" cy="4680"/>
            </a:xfrm>
            <a:custGeom>
              <a:avLst/>
              <a:gdLst/>
              <a:ahLst/>
              <a:rect l="l" t="t" r="r" b="b"/>
              <a:pathLst>
                <a:path w="5" h="5">
                  <a:moveTo>
                    <a:pt x="5" y="3"/>
                  </a:moveTo>
                  <a:lnTo>
                    <a:pt x="0" y="0"/>
                  </a:lnTo>
                  <a:lnTo>
                    <a:pt x="2" y="3"/>
                  </a:lnTo>
                  <a:lnTo>
                    <a:pt x="3" y="5"/>
                  </a:lnTo>
                  <a:lnTo>
                    <a:pt x="5" y="3"/>
                  </a:lnTo>
                  <a:lnTo>
                    <a:pt x="5" y="3"/>
                  </a:lnTo>
                  <a:close/>
                </a:path>
              </a:pathLst>
            </a:custGeom>
            <a:solidFill>
              <a:srgbClr val="000000"/>
            </a:solidFill>
            <a:ln w="0">
              <a:noFill/>
            </a:ln>
          </p:spPr>
          <p:style>
            <a:lnRef idx="0"/>
            <a:fillRef idx="0"/>
            <a:effectRef idx="0"/>
            <a:fontRef idx="minor"/>
          </p:style>
          <p:txBody>
            <a:bodyPr wrap="none" lIns="90000" rIns="90000" tIns="-42120" bIns="-421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5" name=""/>
            <p:cNvSpPr/>
            <p:nvPr/>
          </p:nvSpPr>
          <p:spPr>
            <a:xfrm>
              <a:off x="4379760" y="4205160"/>
              <a:ext cx="2567160" cy="993960"/>
            </a:xfrm>
            <a:custGeom>
              <a:avLst/>
              <a:gdLst/>
              <a:ahLst/>
              <a:rect l="l" t="t" r="r" b="b"/>
              <a:pathLst>
                <a:path w="1881" h="744">
                  <a:moveTo>
                    <a:pt x="1298" y="222"/>
                  </a:moveTo>
                  <a:lnTo>
                    <a:pt x="1283" y="225"/>
                  </a:lnTo>
                  <a:lnTo>
                    <a:pt x="1263" y="230"/>
                  </a:lnTo>
                  <a:lnTo>
                    <a:pt x="1239" y="235"/>
                  </a:lnTo>
                  <a:lnTo>
                    <a:pt x="1214" y="242"/>
                  </a:lnTo>
                  <a:lnTo>
                    <a:pt x="1186" y="249"/>
                  </a:lnTo>
                  <a:lnTo>
                    <a:pt x="1157" y="255"/>
                  </a:lnTo>
                  <a:lnTo>
                    <a:pt x="1127" y="262"/>
                  </a:lnTo>
                  <a:lnTo>
                    <a:pt x="1097" y="269"/>
                  </a:lnTo>
                  <a:lnTo>
                    <a:pt x="1067" y="275"/>
                  </a:lnTo>
                  <a:lnTo>
                    <a:pt x="1039" y="284"/>
                  </a:lnTo>
                  <a:lnTo>
                    <a:pt x="1012" y="290"/>
                  </a:lnTo>
                  <a:lnTo>
                    <a:pt x="989" y="297"/>
                  </a:lnTo>
                  <a:lnTo>
                    <a:pt x="967" y="302"/>
                  </a:lnTo>
                  <a:lnTo>
                    <a:pt x="949" y="309"/>
                  </a:lnTo>
                  <a:lnTo>
                    <a:pt x="936" y="314"/>
                  </a:lnTo>
                  <a:lnTo>
                    <a:pt x="927" y="317"/>
                  </a:lnTo>
                  <a:lnTo>
                    <a:pt x="914" y="324"/>
                  </a:lnTo>
                  <a:lnTo>
                    <a:pt x="901" y="329"/>
                  </a:lnTo>
                  <a:lnTo>
                    <a:pt x="887" y="337"/>
                  </a:lnTo>
                  <a:lnTo>
                    <a:pt x="872" y="344"/>
                  </a:lnTo>
                  <a:lnTo>
                    <a:pt x="857" y="355"/>
                  </a:lnTo>
                  <a:lnTo>
                    <a:pt x="842" y="369"/>
                  </a:lnTo>
                  <a:lnTo>
                    <a:pt x="826" y="389"/>
                  </a:lnTo>
                  <a:lnTo>
                    <a:pt x="807" y="412"/>
                  </a:lnTo>
                  <a:lnTo>
                    <a:pt x="791" y="437"/>
                  </a:lnTo>
                  <a:lnTo>
                    <a:pt x="776" y="460"/>
                  </a:lnTo>
                  <a:lnTo>
                    <a:pt x="761" y="482"/>
                  </a:lnTo>
                  <a:lnTo>
                    <a:pt x="747" y="502"/>
                  </a:lnTo>
                  <a:lnTo>
                    <a:pt x="737" y="519"/>
                  </a:lnTo>
                  <a:lnTo>
                    <a:pt x="727" y="532"/>
                  </a:lnTo>
                  <a:lnTo>
                    <a:pt x="719" y="542"/>
                  </a:lnTo>
                  <a:lnTo>
                    <a:pt x="712" y="549"/>
                  </a:lnTo>
                  <a:lnTo>
                    <a:pt x="706" y="554"/>
                  </a:lnTo>
                  <a:lnTo>
                    <a:pt x="699" y="559"/>
                  </a:lnTo>
                  <a:lnTo>
                    <a:pt x="689" y="564"/>
                  </a:lnTo>
                  <a:lnTo>
                    <a:pt x="679" y="565"/>
                  </a:lnTo>
                  <a:lnTo>
                    <a:pt x="667" y="567"/>
                  </a:lnTo>
                  <a:lnTo>
                    <a:pt x="657" y="567"/>
                  </a:lnTo>
                  <a:lnTo>
                    <a:pt x="647" y="564"/>
                  </a:lnTo>
                  <a:lnTo>
                    <a:pt x="637" y="559"/>
                  </a:lnTo>
                  <a:lnTo>
                    <a:pt x="629" y="552"/>
                  </a:lnTo>
                  <a:lnTo>
                    <a:pt x="622" y="544"/>
                  </a:lnTo>
                  <a:lnTo>
                    <a:pt x="615" y="535"/>
                  </a:lnTo>
                  <a:lnTo>
                    <a:pt x="609" y="529"/>
                  </a:lnTo>
                  <a:lnTo>
                    <a:pt x="602" y="524"/>
                  </a:lnTo>
                  <a:lnTo>
                    <a:pt x="595" y="520"/>
                  </a:lnTo>
                  <a:lnTo>
                    <a:pt x="589" y="519"/>
                  </a:lnTo>
                  <a:lnTo>
                    <a:pt x="580" y="520"/>
                  </a:lnTo>
                  <a:lnTo>
                    <a:pt x="569" y="524"/>
                  </a:lnTo>
                  <a:lnTo>
                    <a:pt x="554" y="525"/>
                  </a:lnTo>
                  <a:lnTo>
                    <a:pt x="537" y="525"/>
                  </a:lnTo>
                  <a:lnTo>
                    <a:pt x="519" y="525"/>
                  </a:lnTo>
                  <a:lnTo>
                    <a:pt x="499" y="525"/>
                  </a:lnTo>
                  <a:lnTo>
                    <a:pt x="480" y="524"/>
                  </a:lnTo>
                  <a:lnTo>
                    <a:pt x="462" y="522"/>
                  </a:lnTo>
                  <a:lnTo>
                    <a:pt x="447" y="520"/>
                  </a:lnTo>
                  <a:lnTo>
                    <a:pt x="432" y="519"/>
                  </a:lnTo>
                  <a:lnTo>
                    <a:pt x="417" y="515"/>
                  </a:lnTo>
                  <a:lnTo>
                    <a:pt x="404" y="510"/>
                  </a:lnTo>
                  <a:lnTo>
                    <a:pt x="389" y="507"/>
                  </a:lnTo>
                  <a:lnTo>
                    <a:pt x="375" y="504"/>
                  </a:lnTo>
                  <a:lnTo>
                    <a:pt x="364" y="500"/>
                  </a:lnTo>
                  <a:lnTo>
                    <a:pt x="352" y="497"/>
                  </a:lnTo>
                  <a:lnTo>
                    <a:pt x="342" y="497"/>
                  </a:lnTo>
                  <a:lnTo>
                    <a:pt x="329" y="497"/>
                  </a:lnTo>
                  <a:lnTo>
                    <a:pt x="307" y="497"/>
                  </a:lnTo>
                  <a:lnTo>
                    <a:pt x="280" y="499"/>
                  </a:lnTo>
                  <a:lnTo>
                    <a:pt x="250" y="499"/>
                  </a:lnTo>
                  <a:lnTo>
                    <a:pt x="224" y="500"/>
                  </a:lnTo>
                  <a:lnTo>
                    <a:pt x="200" y="502"/>
                  </a:lnTo>
                  <a:lnTo>
                    <a:pt x="184" y="502"/>
                  </a:lnTo>
                  <a:lnTo>
                    <a:pt x="177" y="502"/>
                  </a:lnTo>
                  <a:lnTo>
                    <a:pt x="175" y="504"/>
                  </a:lnTo>
                  <a:lnTo>
                    <a:pt x="170" y="505"/>
                  </a:lnTo>
                  <a:lnTo>
                    <a:pt x="164" y="509"/>
                  </a:lnTo>
                  <a:lnTo>
                    <a:pt x="155" y="510"/>
                  </a:lnTo>
                  <a:lnTo>
                    <a:pt x="144" y="512"/>
                  </a:lnTo>
                  <a:lnTo>
                    <a:pt x="132" y="512"/>
                  </a:lnTo>
                  <a:lnTo>
                    <a:pt x="120" y="509"/>
                  </a:lnTo>
                  <a:lnTo>
                    <a:pt x="107" y="502"/>
                  </a:lnTo>
                  <a:lnTo>
                    <a:pt x="95" y="494"/>
                  </a:lnTo>
                  <a:lnTo>
                    <a:pt x="87" y="485"/>
                  </a:lnTo>
                  <a:lnTo>
                    <a:pt x="80" y="479"/>
                  </a:lnTo>
                  <a:lnTo>
                    <a:pt x="75" y="475"/>
                  </a:lnTo>
                  <a:lnTo>
                    <a:pt x="70" y="472"/>
                  </a:lnTo>
                  <a:lnTo>
                    <a:pt x="65" y="470"/>
                  </a:lnTo>
                  <a:lnTo>
                    <a:pt x="60" y="470"/>
                  </a:lnTo>
                  <a:lnTo>
                    <a:pt x="53" y="474"/>
                  </a:lnTo>
                  <a:lnTo>
                    <a:pt x="47" y="480"/>
                  </a:lnTo>
                  <a:lnTo>
                    <a:pt x="50" y="489"/>
                  </a:lnTo>
                  <a:lnTo>
                    <a:pt x="55" y="500"/>
                  </a:lnTo>
                  <a:lnTo>
                    <a:pt x="53" y="515"/>
                  </a:lnTo>
                  <a:lnTo>
                    <a:pt x="50" y="535"/>
                  </a:lnTo>
                  <a:lnTo>
                    <a:pt x="48" y="557"/>
                  </a:lnTo>
                  <a:lnTo>
                    <a:pt x="50" y="577"/>
                  </a:lnTo>
                  <a:lnTo>
                    <a:pt x="50" y="592"/>
                  </a:lnTo>
                  <a:lnTo>
                    <a:pt x="47" y="606"/>
                  </a:lnTo>
                  <a:lnTo>
                    <a:pt x="40" y="621"/>
                  </a:lnTo>
                  <a:lnTo>
                    <a:pt x="33" y="634"/>
                  </a:lnTo>
                  <a:lnTo>
                    <a:pt x="30" y="639"/>
                  </a:lnTo>
                  <a:lnTo>
                    <a:pt x="0" y="662"/>
                  </a:lnTo>
                  <a:lnTo>
                    <a:pt x="3" y="666"/>
                  </a:lnTo>
                  <a:lnTo>
                    <a:pt x="8" y="669"/>
                  </a:lnTo>
                  <a:lnTo>
                    <a:pt x="13" y="674"/>
                  </a:lnTo>
                  <a:lnTo>
                    <a:pt x="18" y="677"/>
                  </a:lnTo>
                  <a:lnTo>
                    <a:pt x="32" y="684"/>
                  </a:lnTo>
                  <a:lnTo>
                    <a:pt x="43" y="687"/>
                  </a:lnTo>
                  <a:lnTo>
                    <a:pt x="55" y="687"/>
                  </a:lnTo>
                  <a:lnTo>
                    <a:pt x="67" y="686"/>
                  </a:lnTo>
                  <a:lnTo>
                    <a:pt x="77" y="684"/>
                  </a:lnTo>
                  <a:lnTo>
                    <a:pt x="83" y="681"/>
                  </a:lnTo>
                  <a:lnTo>
                    <a:pt x="88" y="679"/>
                  </a:lnTo>
                  <a:lnTo>
                    <a:pt x="90" y="677"/>
                  </a:lnTo>
                  <a:lnTo>
                    <a:pt x="97" y="677"/>
                  </a:lnTo>
                  <a:lnTo>
                    <a:pt x="114" y="677"/>
                  </a:lnTo>
                  <a:lnTo>
                    <a:pt x="137" y="676"/>
                  </a:lnTo>
                  <a:lnTo>
                    <a:pt x="164" y="674"/>
                  </a:lnTo>
                  <a:lnTo>
                    <a:pt x="194" y="674"/>
                  </a:lnTo>
                  <a:lnTo>
                    <a:pt x="220" y="672"/>
                  </a:lnTo>
                  <a:lnTo>
                    <a:pt x="242" y="672"/>
                  </a:lnTo>
                  <a:lnTo>
                    <a:pt x="255" y="672"/>
                  </a:lnTo>
                  <a:lnTo>
                    <a:pt x="265" y="674"/>
                  </a:lnTo>
                  <a:lnTo>
                    <a:pt x="275" y="676"/>
                  </a:lnTo>
                  <a:lnTo>
                    <a:pt x="289" y="679"/>
                  </a:lnTo>
                  <a:lnTo>
                    <a:pt x="302" y="682"/>
                  </a:lnTo>
                  <a:lnTo>
                    <a:pt x="315" y="687"/>
                  </a:lnTo>
                  <a:lnTo>
                    <a:pt x="330" y="691"/>
                  </a:lnTo>
                  <a:lnTo>
                    <a:pt x="344" y="694"/>
                  </a:lnTo>
                  <a:lnTo>
                    <a:pt x="359" y="697"/>
                  </a:lnTo>
                  <a:lnTo>
                    <a:pt x="374" y="699"/>
                  </a:lnTo>
                  <a:lnTo>
                    <a:pt x="392" y="701"/>
                  </a:lnTo>
                  <a:lnTo>
                    <a:pt x="412" y="701"/>
                  </a:lnTo>
                  <a:lnTo>
                    <a:pt x="430" y="702"/>
                  </a:lnTo>
                  <a:lnTo>
                    <a:pt x="450" y="702"/>
                  </a:lnTo>
                  <a:lnTo>
                    <a:pt x="467" y="701"/>
                  </a:lnTo>
                  <a:lnTo>
                    <a:pt x="480" y="701"/>
                  </a:lnTo>
                  <a:lnTo>
                    <a:pt x="492" y="697"/>
                  </a:lnTo>
                  <a:lnTo>
                    <a:pt x="500" y="696"/>
                  </a:lnTo>
                  <a:lnTo>
                    <a:pt x="507" y="696"/>
                  </a:lnTo>
                  <a:lnTo>
                    <a:pt x="514" y="699"/>
                  </a:lnTo>
                  <a:lnTo>
                    <a:pt x="520" y="706"/>
                  </a:lnTo>
                  <a:lnTo>
                    <a:pt x="527" y="712"/>
                  </a:lnTo>
                  <a:lnTo>
                    <a:pt x="534" y="719"/>
                  </a:lnTo>
                  <a:lnTo>
                    <a:pt x="540" y="727"/>
                  </a:lnTo>
                  <a:lnTo>
                    <a:pt x="549" y="734"/>
                  </a:lnTo>
                  <a:lnTo>
                    <a:pt x="559" y="741"/>
                  </a:lnTo>
                  <a:lnTo>
                    <a:pt x="569" y="742"/>
                  </a:lnTo>
                  <a:lnTo>
                    <a:pt x="579" y="744"/>
                  </a:lnTo>
                  <a:lnTo>
                    <a:pt x="590" y="742"/>
                  </a:lnTo>
                  <a:lnTo>
                    <a:pt x="600" y="739"/>
                  </a:lnTo>
                  <a:lnTo>
                    <a:pt x="610" y="736"/>
                  </a:lnTo>
                  <a:lnTo>
                    <a:pt x="619" y="731"/>
                  </a:lnTo>
                  <a:lnTo>
                    <a:pt x="625" y="726"/>
                  </a:lnTo>
                  <a:lnTo>
                    <a:pt x="632" y="719"/>
                  </a:lnTo>
                  <a:lnTo>
                    <a:pt x="639" y="707"/>
                  </a:lnTo>
                  <a:lnTo>
                    <a:pt x="649" y="694"/>
                  </a:lnTo>
                  <a:lnTo>
                    <a:pt x="661" y="677"/>
                  </a:lnTo>
                  <a:lnTo>
                    <a:pt x="672" y="659"/>
                  </a:lnTo>
                  <a:lnTo>
                    <a:pt x="687" y="637"/>
                  </a:lnTo>
                  <a:lnTo>
                    <a:pt x="704" y="614"/>
                  </a:lnTo>
                  <a:lnTo>
                    <a:pt x="721" y="587"/>
                  </a:lnTo>
                  <a:lnTo>
                    <a:pt x="737" y="564"/>
                  </a:lnTo>
                  <a:lnTo>
                    <a:pt x="754" y="544"/>
                  </a:lnTo>
                  <a:lnTo>
                    <a:pt x="769" y="530"/>
                  </a:lnTo>
                  <a:lnTo>
                    <a:pt x="786" y="519"/>
                  </a:lnTo>
                  <a:lnTo>
                    <a:pt x="799" y="512"/>
                  </a:lnTo>
                  <a:lnTo>
                    <a:pt x="812" y="504"/>
                  </a:lnTo>
                  <a:lnTo>
                    <a:pt x="826" y="499"/>
                  </a:lnTo>
                  <a:lnTo>
                    <a:pt x="839" y="492"/>
                  </a:lnTo>
                  <a:lnTo>
                    <a:pt x="847" y="489"/>
                  </a:lnTo>
                  <a:lnTo>
                    <a:pt x="862" y="484"/>
                  </a:lnTo>
                  <a:lnTo>
                    <a:pt x="879" y="479"/>
                  </a:lnTo>
                  <a:lnTo>
                    <a:pt x="901" y="472"/>
                  </a:lnTo>
                  <a:lnTo>
                    <a:pt x="926" y="465"/>
                  </a:lnTo>
                  <a:lnTo>
                    <a:pt x="952" y="459"/>
                  </a:lnTo>
                  <a:lnTo>
                    <a:pt x="981" y="452"/>
                  </a:lnTo>
                  <a:lnTo>
                    <a:pt x="1009" y="444"/>
                  </a:lnTo>
                  <a:lnTo>
                    <a:pt x="1039" y="437"/>
                  </a:lnTo>
                  <a:lnTo>
                    <a:pt x="1069" y="430"/>
                  </a:lnTo>
                  <a:lnTo>
                    <a:pt x="1097" y="424"/>
                  </a:lnTo>
                  <a:lnTo>
                    <a:pt x="1126" y="417"/>
                  </a:lnTo>
                  <a:lnTo>
                    <a:pt x="1151" y="410"/>
                  </a:lnTo>
                  <a:lnTo>
                    <a:pt x="1174" y="405"/>
                  </a:lnTo>
                  <a:lnTo>
                    <a:pt x="1194" y="400"/>
                  </a:lnTo>
                  <a:lnTo>
                    <a:pt x="1209" y="397"/>
                  </a:lnTo>
                  <a:lnTo>
                    <a:pt x="1236" y="390"/>
                  </a:lnTo>
                  <a:lnTo>
                    <a:pt x="1263" y="385"/>
                  </a:lnTo>
                  <a:lnTo>
                    <a:pt x="1289" y="382"/>
                  </a:lnTo>
                  <a:lnTo>
                    <a:pt x="1313" y="379"/>
                  </a:lnTo>
                  <a:lnTo>
                    <a:pt x="1336" y="375"/>
                  </a:lnTo>
                  <a:lnTo>
                    <a:pt x="1354" y="370"/>
                  </a:lnTo>
                  <a:lnTo>
                    <a:pt x="1371" y="365"/>
                  </a:lnTo>
                  <a:lnTo>
                    <a:pt x="1384" y="359"/>
                  </a:lnTo>
                  <a:lnTo>
                    <a:pt x="1394" y="354"/>
                  </a:lnTo>
                  <a:lnTo>
                    <a:pt x="1411" y="345"/>
                  </a:lnTo>
                  <a:lnTo>
                    <a:pt x="1434" y="334"/>
                  </a:lnTo>
                  <a:lnTo>
                    <a:pt x="1463" y="320"/>
                  </a:lnTo>
                  <a:lnTo>
                    <a:pt x="1496" y="307"/>
                  </a:lnTo>
                  <a:lnTo>
                    <a:pt x="1533" y="290"/>
                  </a:lnTo>
                  <a:lnTo>
                    <a:pt x="1571" y="274"/>
                  </a:lnTo>
                  <a:lnTo>
                    <a:pt x="1611" y="255"/>
                  </a:lnTo>
                  <a:lnTo>
                    <a:pt x="1649" y="239"/>
                  </a:lnTo>
                  <a:lnTo>
                    <a:pt x="1688" y="222"/>
                  </a:lnTo>
                  <a:lnTo>
                    <a:pt x="1723" y="207"/>
                  </a:lnTo>
                  <a:lnTo>
                    <a:pt x="1756" y="192"/>
                  </a:lnTo>
                  <a:lnTo>
                    <a:pt x="1783" y="180"/>
                  </a:lnTo>
                  <a:lnTo>
                    <a:pt x="1805" y="170"/>
                  </a:lnTo>
                  <a:lnTo>
                    <a:pt x="1820" y="164"/>
                  </a:lnTo>
                  <a:lnTo>
                    <a:pt x="1826" y="160"/>
                  </a:lnTo>
                  <a:lnTo>
                    <a:pt x="1836" y="152"/>
                  </a:lnTo>
                  <a:lnTo>
                    <a:pt x="1841" y="142"/>
                  </a:lnTo>
                  <a:lnTo>
                    <a:pt x="1845" y="130"/>
                  </a:lnTo>
                  <a:lnTo>
                    <a:pt x="1846" y="117"/>
                  </a:lnTo>
                  <a:lnTo>
                    <a:pt x="1848" y="100"/>
                  </a:lnTo>
                  <a:lnTo>
                    <a:pt x="1851" y="78"/>
                  </a:lnTo>
                  <a:lnTo>
                    <a:pt x="1858" y="57"/>
                  </a:lnTo>
                  <a:lnTo>
                    <a:pt x="1865" y="37"/>
                  </a:lnTo>
                  <a:lnTo>
                    <a:pt x="1868" y="27"/>
                  </a:lnTo>
                  <a:lnTo>
                    <a:pt x="1873" y="18"/>
                  </a:lnTo>
                  <a:lnTo>
                    <a:pt x="1876" y="8"/>
                  </a:lnTo>
                  <a:lnTo>
                    <a:pt x="1881" y="0"/>
                  </a:lnTo>
                  <a:lnTo>
                    <a:pt x="1861" y="10"/>
                  </a:lnTo>
                  <a:lnTo>
                    <a:pt x="1836" y="20"/>
                  </a:lnTo>
                  <a:lnTo>
                    <a:pt x="1808" y="32"/>
                  </a:lnTo>
                  <a:lnTo>
                    <a:pt x="1778" y="45"/>
                  </a:lnTo>
                  <a:lnTo>
                    <a:pt x="1746" y="58"/>
                  </a:lnTo>
                  <a:lnTo>
                    <a:pt x="1714" y="73"/>
                  </a:lnTo>
                  <a:lnTo>
                    <a:pt x="1681" y="88"/>
                  </a:lnTo>
                  <a:lnTo>
                    <a:pt x="1648" y="102"/>
                  </a:lnTo>
                  <a:lnTo>
                    <a:pt x="1616" y="117"/>
                  </a:lnTo>
                  <a:lnTo>
                    <a:pt x="1586" y="130"/>
                  </a:lnTo>
                  <a:lnTo>
                    <a:pt x="1558" y="142"/>
                  </a:lnTo>
                  <a:lnTo>
                    <a:pt x="1533" y="154"/>
                  </a:lnTo>
                  <a:lnTo>
                    <a:pt x="1511" y="164"/>
                  </a:lnTo>
                  <a:lnTo>
                    <a:pt x="1493" y="174"/>
                  </a:lnTo>
                  <a:lnTo>
                    <a:pt x="1479" y="179"/>
                  </a:lnTo>
                  <a:lnTo>
                    <a:pt x="1473" y="184"/>
                  </a:lnTo>
                  <a:lnTo>
                    <a:pt x="1459" y="190"/>
                  </a:lnTo>
                  <a:lnTo>
                    <a:pt x="1443" y="195"/>
                  </a:lnTo>
                  <a:lnTo>
                    <a:pt x="1423" y="199"/>
                  </a:lnTo>
                  <a:lnTo>
                    <a:pt x="1401" y="202"/>
                  </a:lnTo>
                  <a:lnTo>
                    <a:pt x="1376" y="205"/>
                  </a:lnTo>
                  <a:lnTo>
                    <a:pt x="1351" y="210"/>
                  </a:lnTo>
                  <a:lnTo>
                    <a:pt x="1324" y="215"/>
                  </a:lnTo>
                  <a:lnTo>
                    <a:pt x="1298" y="222"/>
                  </a:lnTo>
                  <a:close/>
                </a:path>
              </a:pathLst>
            </a:custGeom>
            <a:solidFill>
              <a:srgbClr val="ffffff">
                <a:alpha val="20000"/>
              </a:srgbClr>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6" name=""/>
            <p:cNvSpPr/>
            <p:nvPr/>
          </p:nvSpPr>
          <p:spPr>
            <a:xfrm>
              <a:off x="2813040" y="1346040"/>
              <a:ext cx="4348080" cy="3579840"/>
            </a:xfrm>
            <a:custGeom>
              <a:avLst/>
              <a:gdLst/>
              <a:ahLst/>
              <a:rect l="l" t="t" r="r" b="b"/>
              <a:pathLst>
                <a:path w="3185" h="2678">
                  <a:moveTo>
                    <a:pt x="380" y="90"/>
                  </a:moveTo>
                  <a:lnTo>
                    <a:pt x="683" y="28"/>
                  </a:lnTo>
                  <a:lnTo>
                    <a:pt x="693" y="0"/>
                  </a:lnTo>
                  <a:lnTo>
                    <a:pt x="695" y="0"/>
                  </a:lnTo>
                  <a:lnTo>
                    <a:pt x="698" y="0"/>
                  </a:lnTo>
                  <a:lnTo>
                    <a:pt x="704" y="0"/>
                  </a:lnTo>
                  <a:lnTo>
                    <a:pt x="712" y="0"/>
                  </a:lnTo>
                  <a:lnTo>
                    <a:pt x="720" y="0"/>
                  </a:lnTo>
                  <a:lnTo>
                    <a:pt x="734" y="2"/>
                  </a:lnTo>
                  <a:lnTo>
                    <a:pt x="747" y="5"/>
                  </a:lnTo>
                  <a:lnTo>
                    <a:pt x="764" y="10"/>
                  </a:lnTo>
                  <a:lnTo>
                    <a:pt x="782" y="15"/>
                  </a:lnTo>
                  <a:lnTo>
                    <a:pt x="799" y="20"/>
                  </a:lnTo>
                  <a:lnTo>
                    <a:pt x="817" y="23"/>
                  </a:lnTo>
                  <a:lnTo>
                    <a:pt x="832" y="28"/>
                  </a:lnTo>
                  <a:lnTo>
                    <a:pt x="847" y="32"/>
                  </a:lnTo>
                  <a:lnTo>
                    <a:pt x="862" y="35"/>
                  </a:lnTo>
                  <a:lnTo>
                    <a:pt x="874" y="40"/>
                  </a:lnTo>
                  <a:lnTo>
                    <a:pt x="884" y="43"/>
                  </a:lnTo>
                  <a:lnTo>
                    <a:pt x="894" y="48"/>
                  </a:lnTo>
                  <a:lnTo>
                    <a:pt x="907" y="57"/>
                  </a:lnTo>
                  <a:lnTo>
                    <a:pt x="924" y="68"/>
                  </a:lnTo>
                  <a:lnTo>
                    <a:pt x="942" y="82"/>
                  </a:lnTo>
                  <a:lnTo>
                    <a:pt x="962" y="97"/>
                  </a:lnTo>
                  <a:lnTo>
                    <a:pt x="985" y="112"/>
                  </a:lnTo>
                  <a:lnTo>
                    <a:pt x="1009" y="127"/>
                  </a:lnTo>
                  <a:lnTo>
                    <a:pt x="1035" y="142"/>
                  </a:lnTo>
                  <a:lnTo>
                    <a:pt x="1060" y="155"/>
                  </a:lnTo>
                  <a:lnTo>
                    <a:pt x="1080" y="168"/>
                  </a:lnTo>
                  <a:lnTo>
                    <a:pt x="1099" y="180"/>
                  </a:lnTo>
                  <a:lnTo>
                    <a:pt x="1114" y="190"/>
                  </a:lnTo>
                  <a:lnTo>
                    <a:pt x="1124" y="197"/>
                  </a:lnTo>
                  <a:lnTo>
                    <a:pt x="1132" y="203"/>
                  </a:lnTo>
                  <a:lnTo>
                    <a:pt x="1137" y="207"/>
                  </a:lnTo>
                  <a:lnTo>
                    <a:pt x="1139" y="208"/>
                  </a:lnTo>
                  <a:lnTo>
                    <a:pt x="1142" y="210"/>
                  </a:lnTo>
                  <a:lnTo>
                    <a:pt x="1150" y="215"/>
                  </a:lnTo>
                  <a:lnTo>
                    <a:pt x="1162" y="223"/>
                  </a:lnTo>
                  <a:lnTo>
                    <a:pt x="1177" y="233"/>
                  </a:lnTo>
                  <a:lnTo>
                    <a:pt x="1192" y="243"/>
                  </a:lnTo>
                  <a:lnTo>
                    <a:pt x="1205" y="255"/>
                  </a:lnTo>
                  <a:lnTo>
                    <a:pt x="1217" y="265"/>
                  </a:lnTo>
                  <a:lnTo>
                    <a:pt x="1225" y="275"/>
                  </a:lnTo>
                  <a:lnTo>
                    <a:pt x="1234" y="285"/>
                  </a:lnTo>
                  <a:lnTo>
                    <a:pt x="1245" y="297"/>
                  </a:lnTo>
                  <a:lnTo>
                    <a:pt x="1259" y="310"/>
                  </a:lnTo>
                  <a:lnTo>
                    <a:pt x="1276" y="325"/>
                  </a:lnTo>
                  <a:lnTo>
                    <a:pt x="1292" y="340"/>
                  </a:lnTo>
                  <a:lnTo>
                    <a:pt x="1309" y="354"/>
                  </a:lnTo>
                  <a:lnTo>
                    <a:pt x="1324" y="365"/>
                  </a:lnTo>
                  <a:lnTo>
                    <a:pt x="1334" y="375"/>
                  </a:lnTo>
                  <a:lnTo>
                    <a:pt x="1346" y="385"/>
                  </a:lnTo>
                  <a:lnTo>
                    <a:pt x="1362" y="397"/>
                  </a:lnTo>
                  <a:lnTo>
                    <a:pt x="1381" y="410"/>
                  </a:lnTo>
                  <a:lnTo>
                    <a:pt x="1401" y="424"/>
                  </a:lnTo>
                  <a:lnTo>
                    <a:pt x="1421" y="437"/>
                  </a:lnTo>
                  <a:lnTo>
                    <a:pt x="1436" y="445"/>
                  </a:lnTo>
                  <a:lnTo>
                    <a:pt x="1447" y="454"/>
                  </a:lnTo>
                  <a:lnTo>
                    <a:pt x="1451" y="455"/>
                  </a:lnTo>
                  <a:lnTo>
                    <a:pt x="1489" y="509"/>
                  </a:lnTo>
                  <a:lnTo>
                    <a:pt x="1497" y="509"/>
                  </a:lnTo>
                  <a:lnTo>
                    <a:pt x="1517" y="509"/>
                  </a:lnTo>
                  <a:lnTo>
                    <a:pt x="1546" y="509"/>
                  </a:lnTo>
                  <a:lnTo>
                    <a:pt x="1581" y="509"/>
                  </a:lnTo>
                  <a:lnTo>
                    <a:pt x="1617" y="510"/>
                  </a:lnTo>
                  <a:lnTo>
                    <a:pt x="1651" y="514"/>
                  </a:lnTo>
                  <a:lnTo>
                    <a:pt x="1677" y="520"/>
                  </a:lnTo>
                  <a:lnTo>
                    <a:pt x="1694" y="527"/>
                  </a:lnTo>
                  <a:lnTo>
                    <a:pt x="1696" y="527"/>
                  </a:lnTo>
                  <a:lnTo>
                    <a:pt x="1702" y="525"/>
                  </a:lnTo>
                  <a:lnTo>
                    <a:pt x="1712" y="522"/>
                  </a:lnTo>
                  <a:lnTo>
                    <a:pt x="1722" y="520"/>
                  </a:lnTo>
                  <a:lnTo>
                    <a:pt x="1736" y="519"/>
                  </a:lnTo>
                  <a:lnTo>
                    <a:pt x="1747" y="515"/>
                  </a:lnTo>
                  <a:lnTo>
                    <a:pt x="1759" y="514"/>
                  </a:lnTo>
                  <a:lnTo>
                    <a:pt x="1769" y="514"/>
                  </a:lnTo>
                  <a:lnTo>
                    <a:pt x="1782" y="515"/>
                  </a:lnTo>
                  <a:lnTo>
                    <a:pt x="1801" y="519"/>
                  </a:lnTo>
                  <a:lnTo>
                    <a:pt x="1823" y="522"/>
                  </a:lnTo>
                  <a:lnTo>
                    <a:pt x="1848" y="527"/>
                  </a:lnTo>
                  <a:lnTo>
                    <a:pt x="1869" y="534"/>
                  </a:lnTo>
                  <a:lnTo>
                    <a:pt x="1889" y="537"/>
                  </a:lnTo>
                  <a:lnTo>
                    <a:pt x="1903" y="540"/>
                  </a:lnTo>
                  <a:lnTo>
                    <a:pt x="1908" y="542"/>
                  </a:lnTo>
                  <a:lnTo>
                    <a:pt x="1926" y="604"/>
                  </a:lnTo>
                  <a:lnTo>
                    <a:pt x="2044" y="604"/>
                  </a:lnTo>
                  <a:lnTo>
                    <a:pt x="2064" y="689"/>
                  </a:lnTo>
                  <a:lnTo>
                    <a:pt x="2071" y="692"/>
                  </a:lnTo>
                  <a:lnTo>
                    <a:pt x="2083" y="704"/>
                  </a:lnTo>
                  <a:lnTo>
                    <a:pt x="2093" y="722"/>
                  </a:lnTo>
                  <a:lnTo>
                    <a:pt x="2093" y="746"/>
                  </a:lnTo>
                  <a:lnTo>
                    <a:pt x="2116" y="784"/>
                  </a:lnTo>
                  <a:lnTo>
                    <a:pt x="2154" y="769"/>
                  </a:lnTo>
                  <a:lnTo>
                    <a:pt x="2158" y="774"/>
                  </a:lnTo>
                  <a:lnTo>
                    <a:pt x="2164" y="786"/>
                  </a:lnTo>
                  <a:lnTo>
                    <a:pt x="2169" y="801"/>
                  </a:lnTo>
                  <a:lnTo>
                    <a:pt x="2173" y="812"/>
                  </a:lnTo>
                  <a:lnTo>
                    <a:pt x="2176" y="824"/>
                  </a:lnTo>
                  <a:lnTo>
                    <a:pt x="2183" y="834"/>
                  </a:lnTo>
                  <a:lnTo>
                    <a:pt x="2189" y="842"/>
                  </a:lnTo>
                  <a:lnTo>
                    <a:pt x="2193" y="846"/>
                  </a:lnTo>
                  <a:lnTo>
                    <a:pt x="2201" y="822"/>
                  </a:lnTo>
                  <a:lnTo>
                    <a:pt x="2226" y="869"/>
                  </a:lnTo>
                  <a:lnTo>
                    <a:pt x="2228" y="869"/>
                  </a:lnTo>
                  <a:lnTo>
                    <a:pt x="2234" y="871"/>
                  </a:lnTo>
                  <a:lnTo>
                    <a:pt x="2244" y="874"/>
                  </a:lnTo>
                  <a:lnTo>
                    <a:pt x="2254" y="877"/>
                  </a:lnTo>
                  <a:lnTo>
                    <a:pt x="2266" y="882"/>
                  </a:lnTo>
                  <a:lnTo>
                    <a:pt x="2276" y="887"/>
                  </a:lnTo>
                  <a:lnTo>
                    <a:pt x="2284" y="894"/>
                  </a:lnTo>
                  <a:lnTo>
                    <a:pt x="2288" y="902"/>
                  </a:lnTo>
                  <a:lnTo>
                    <a:pt x="2289" y="921"/>
                  </a:lnTo>
                  <a:lnTo>
                    <a:pt x="2293" y="937"/>
                  </a:lnTo>
                  <a:lnTo>
                    <a:pt x="2296" y="952"/>
                  </a:lnTo>
                  <a:lnTo>
                    <a:pt x="2306" y="964"/>
                  </a:lnTo>
                  <a:lnTo>
                    <a:pt x="2316" y="979"/>
                  </a:lnTo>
                  <a:lnTo>
                    <a:pt x="2321" y="996"/>
                  </a:lnTo>
                  <a:lnTo>
                    <a:pt x="2318" y="1011"/>
                  </a:lnTo>
                  <a:lnTo>
                    <a:pt x="2311" y="1017"/>
                  </a:lnTo>
                  <a:lnTo>
                    <a:pt x="2303" y="1019"/>
                  </a:lnTo>
                  <a:lnTo>
                    <a:pt x="2299" y="1024"/>
                  </a:lnTo>
                  <a:lnTo>
                    <a:pt x="2301" y="1032"/>
                  </a:lnTo>
                  <a:lnTo>
                    <a:pt x="2306" y="1046"/>
                  </a:lnTo>
                  <a:lnTo>
                    <a:pt x="2313" y="1061"/>
                  </a:lnTo>
                  <a:lnTo>
                    <a:pt x="2319" y="1076"/>
                  </a:lnTo>
                  <a:lnTo>
                    <a:pt x="2324" y="1092"/>
                  </a:lnTo>
                  <a:lnTo>
                    <a:pt x="2329" y="1107"/>
                  </a:lnTo>
                  <a:lnTo>
                    <a:pt x="2336" y="1117"/>
                  </a:lnTo>
                  <a:lnTo>
                    <a:pt x="2344" y="1121"/>
                  </a:lnTo>
                  <a:lnTo>
                    <a:pt x="2351" y="1121"/>
                  </a:lnTo>
                  <a:lnTo>
                    <a:pt x="2354" y="1121"/>
                  </a:lnTo>
                  <a:lnTo>
                    <a:pt x="2356" y="1129"/>
                  </a:lnTo>
                  <a:lnTo>
                    <a:pt x="2365" y="1149"/>
                  </a:lnTo>
                  <a:lnTo>
                    <a:pt x="2375" y="1174"/>
                  </a:lnTo>
                  <a:lnTo>
                    <a:pt x="2388" y="1192"/>
                  </a:lnTo>
                  <a:lnTo>
                    <a:pt x="2395" y="1201"/>
                  </a:lnTo>
                  <a:lnTo>
                    <a:pt x="2400" y="1209"/>
                  </a:lnTo>
                  <a:lnTo>
                    <a:pt x="2405" y="1217"/>
                  </a:lnTo>
                  <a:lnTo>
                    <a:pt x="2411" y="1227"/>
                  </a:lnTo>
                  <a:lnTo>
                    <a:pt x="2416" y="1236"/>
                  </a:lnTo>
                  <a:lnTo>
                    <a:pt x="2425" y="1244"/>
                  </a:lnTo>
                  <a:lnTo>
                    <a:pt x="2433" y="1253"/>
                  </a:lnTo>
                  <a:lnTo>
                    <a:pt x="2445" y="1259"/>
                  </a:lnTo>
                  <a:lnTo>
                    <a:pt x="2456" y="1263"/>
                  </a:lnTo>
                  <a:lnTo>
                    <a:pt x="2468" y="1263"/>
                  </a:lnTo>
                  <a:lnTo>
                    <a:pt x="2478" y="1263"/>
                  </a:lnTo>
                  <a:lnTo>
                    <a:pt x="2486" y="1259"/>
                  </a:lnTo>
                  <a:lnTo>
                    <a:pt x="2493" y="1256"/>
                  </a:lnTo>
                  <a:lnTo>
                    <a:pt x="2498" y="1253"/>
                  </a:lnTo>
                  <a:lnTo>
                    <a:pt x="2500" y="1251"/>
                  </a:lnTo>
                  <a:lnTo>
                    <a:pt x="2501" y="1249"/>
                  </a:lnTo>
                  <a:lnTo>
                    <a:pt x="2520" y="1259"/>
                  </a:lnTo>
                  <a:lnTo>
                    <a:pt x="2501" y="1293"/>
                  </a:lnTo>
                  <a:lnTo>
                    <a:pt x="2501" y="1294"/>
                  </a:lnTo>
                  <a:lnTo>
                    <a:pt x="2501" y="1299"/>
                  </a:lnTo>
                  <a:lnTo>
                    <a:pt x="2503" y="1304"/>
                  </a:lnTo>
                  <a:lnTo>
                    <a:pt x="2511" y="1306"/>
                  </a:lnTo>
                  <a:lnTo>
                    <a:pt x="2521" y="1314"/>
                  </a:lnTo>
                  <a:lnTo>
                    <a:pt x="2531" y="1329"/>
                  </a:lnTo>
                  <a:lnTo>
                    <a:pt x="2536" y="1346"/>
                  </a:lnTo>
                  <a:lnTo>
                    <a:pt x="2540" y="1354"/>
                  </a:lnTo>
                  <a:lnTo>
                    <a:pt x="2541" y="1356"/>
                  </a:lnTo>
                  <a:lnTo>
                    <a:pt x="2546" y="1361"/>
                  </a:lnTo>
                  <a:lnTo>
                    <a:pt x="2553" y="1368"/>
                  </a:lnTo>
                  <a:lnTo>
                    <a:pt x="2561" y="1378"/>
                  </a:lnTo>
                  <a:lnTo>
                    <a:pt x="2571" y="1388"/>
                  </a:lnTo>
                  <a:lnTo>
                    <a:pt x="2583" y="1401"/>
                  </a:lnTo>
                  <a:lnTo>
                    <a:pt x="2595" y="1414"/>
                  </a:lnTo>
                  <a:lnTo>
                    <a:pt x="2606" y="1428"/>
                  </a:lnTo>
                  <a:lnTo>
                    <a:pt x="2618" y="1443"/>
                  </a:lnTo>
                  <a:lnTo>
                    <a:pt x="2631" y="1458"/>
                  </a:lnTo>
                  <a:lnTo>
                    <a:pt x="2645" y="1473"/>
                  </a:lnTo>
                  <a:lnTo>
                    <a:pt x="2658" y="1488"/>
                  </a:lnTo>
                  <a:lnTo>
                    <a:pt x="2670" y="1501"/>
                  </a:lnTo>
                  <a:lnTo>
                    <a:pt x="2680" y="1511"/>
                  </a:lnTo>
                  <a:lnTo>
                    <a:pt x="2688" y="1521"/>
                  </a:lnTo>
                  <a:lnTo>
                    <a:pt x="2691" y="1528"/>
                  </a:lnTo>
                  <a:lnTo>
                    <a:pt x="2701" y="1533"/>
                  </a:lnTo>
                  <a:lnTo>
                    <a:pt x="2723" y="1538"/>
                  </a:lnTo>
                  <a:lnTo>
                    <a:pt x="2753" y="1543"/>
                  </a:lnTo>
                  <a:lnTo>
                    <a:pt x="2790" y="1546"/>
                  </a:lnTo>
                  <a:lnTo>
                    <a:pt x="2828" y="1549"/>
                  </a:lnTo>
                  <a:lnTo>
                    <a:pt x="2863" y="1551"/>
                  </a:lnTo>
                  <a:lnTo>
                    <a:pt x="2891" y="1554"/>
                  </a:lnTo>
                  <a:lnTo>
                    <a:pt x="2910" y="1556"/>
                  </a:lnTo>
                  <a:lnTo>
                    <a:pt x="2925" y="1558"/>
                  </a:lnTo>
                  <a:lnTo>
                    <a:pt x="2945" y="1559"/>
                  </a:lnTo>
                  <a:lnTo>
                    <a:pt x="2968" y="1561"/>
                  </a:lnTo>
                  <a:lnTo>
                    <a:pt x="2992" y="1563"/>
                  </a:lnTo>
                  <a:lnTo>
                    <a:pt x="3013" y="1566"/>
                  </a:lnTo>
                  <a:lnTo>
                    <a:pt x="3033" y="1568"/>
                  </a:lnTo>
                  <a:lnTo>
                    <a:pt x="3048" y="1569"/>
                  </a:lnTo>
                  <a:lnTo>
                    <a:pt x="3057" y="1571"/>
                  </a:lnTo>
                  <a:lnTo>
                    <a:pt x="3070" y="1569"/>
                  </a:lnTo>
                  <a:lnTo>
                    <a:pt x="3083" y="1563"/>
                  </a:lnTo>
                  <a:lnTo>
                    <a:pt x="3095" y="1554"/>
                  </a:lnTo>
                  <a:lnTo>
                    <a:pt x="3100" y="1551"/>
                  </a:lnTo>
                  <a:lnTo>
                    <a:pt x="3102" y="1553"/>
                  </a:lnTo>
                  <a:lnTo>
                    <a:pt x="3105" y="1556"/>
                  </a:lnTo>
                  <a:lnTo>
                    <a:pt x="3112" y="1561"/>
                  </a:lnTo>
                  <a:lnTo>
                    <a:pt x="3120" y="1568"/>
                  </a:lnTo>
                  <a:lnTo>
                    <a:pt x="3130" y="1576"/>
                  </a:lnTo>
                  <a:lnTo>
                    <a:pt x="3140" y="1586"/>
                  </a:lnTo>
                  <a:lnTo>
                    <a:pt x="3152" y="1598"/>
                  </a:lnTo>
                  <a:lnTo>
                    <a:pt x="3162" y="1609"/>
                  </a:lnTo>
                  <a:lnTo>
                    <a:pt x="3172" y="1624"/>
                  </a:lnTo>
                  <a:lnTo>
                    <a:pt x="3180" y="1638"/>
                  </a:lnTo>
                  <a:lnTo>
                    <a:pt x="3183" y="1653"/>
                  </a:lnTo>
                  <a:lnTo>
                    <a:pt x="3185" y="1668"/>
                  </a:lnTo>
                  <a:lnTo>
                    <a:pt x="3185" y="1678"/>
                  </a:lnTo>
                  <a:lnTo>
                    <a:pt x="3183" y="1688"/>
                  </a:lnTo>
                  <a:lnTo>
                    <a:pt x="3180" y="1696"/>
                  </a:lnTo>
                  <a:lnTo>
                    <a:pt x="3175" y="1704"/>
                  </a:lnTo>
                  <a:lnTo>
                    <a:pt x="3168" y="1724"/>
                  </a:lnTo>
                  <a:lnTo>
                    <a:pt x="3168" y="1748"/>
                  </a:lnTo>
                  <a:lnTo>
                    <a:pt x="3168" y="1771"/>
                  </a:lnTo>
                  <a:lnTo>
                    <a:pt x="3167" y="1795"/>
                  </a:lnTo>
                  <a:lnTo>
                    <a:pt x="3162" y="1815"/>
                  </a:lnTo>
                  <a:lnTo>
                    <a:pt x="3153" y="1835"/>
                  </a:lnTo>
                  <a:lnTo>
                    <a:pt x="3145" y="1851"/>
                  </a:lnTo>
                  <a:lnTo>
                    <a:pt x="3138" y="1870"/>
                  </a:lnTo>
                  <a:lnTo>
                    <a:pt x="3132" y="1890"/>
                  </a:lnTo>
                  <a:lnTo>
                    <a:pt x="3125" y="1913"/>
                  </a:lnTo>
                  <a:lnTo>
                    <a:pt x="3120" y="1933"/>
                  </a:lnTo>
                  <a:lnTo>
                    <a:pt x="3118" y="1951"/>
                  </a:lnTo>
                  <a:lnTo>
                    <a:pt x="3117" y="1965"/>
                  </a:lnTo>
                  <a:lnTo>
                    <a:pt x="3115" y="1976"/>
                  </a:lnTo>
                  <a:lnTo>
                    <a:pt x="3108" y="1986"/>
                  </a:lnTo>
                  <a:lnTo>
                    <a:pt x="3100" y="1993"/>
                  </a:lnTo>
                  <a:lnTo>
                    <a:pt x="3093" y="1996"/>
                  </a:lnTo>
                  <a:lnTo>
                    <a:pt x="3078" y="2003"/>
                  </a:lnTo>
                  <a:lnTo>
                    <a:pt x="3057" y="2013"/>
                  </a:lnTo>
                  <a:lnTo>
                    <a:pt x="3028" y="2026"/>
                  </a:lnTo>
                  <a:lnTo>
                    <a:pt x="2997" y="2040"/>
                  </a:lnTo>
                  <a:lnTo>
                    <a:pt x="2962" y="2056"/>
                  </a:lnTo>
                  <a:lnTo>
                    <a:pt x="2923" y="2073"/>
                  </a:lnTo>
                  <a:lnTo>
                    <a:pt x="2885" y="2090"/>
                  </a:lnTo>
                  <a:lnTo>
                    <a:pt x="2845" y="2108"/>
                  </a:lnTo>
                  <a:lnTo>
                    <a:pt x="2806" y="2125"/>
                  </a:lnTo>
                  <a:lnTo>
                    <a:pt x="2770" y="2141"/>
                  </a:lnTo>
                  <a:lnTo>
                    <a:pt x="2736" y="2155"/>
                  </a:lnTo>
                  <a:lnTo>
                    <a:pt x="2708" y="2168"/>
                  </a:lnTo>
                  <a:lnTo>
                    <a:pt x="2685" y="2180"/>
                  </a:lnTo>
                  <a:lnTo>
                    <a:pt x="2668" y="2188"/>
                  </a:lnTo>
                  <a:lnTo>
                    <a:pt x="2658" y="2193"/>
                  </a:lnTo>
                  <a:lnTo>
                    <a:pt x="2645" y="2200"/>
                  </a:lnTo>
                  <a:lnTo>
                    <a:pt x="2628" y="2205"/>
                  </a:lnTo>
                  <a:lnTo>
                    <a:pt x="2608" y="2208"/>
                  </a:lnTo>
                  <a:lnTo>
                    <a:pt x="2586" y="2211"/>
                  </a:lnTo>
                  <a:lnTo>
                    <a:pt x="2561" y="2215"/>
                  </a:lnTo>
                  <a:lnTo>
                    <a:pt x="2535" y="2220"/>
                  </a:lnTo>
                  <a:lnTo>
                    <a:pt x="2508" y="2225"/>
                  </a:lnTo>
                  <a:lnTo>
                    <a:pt x="2481" y="2231"/>
                  </a:lnTo>
                  <a:lnTo>
                    <a:pt x="2466" y="2235"/>
                  </a:lnTo>
                  <a:lnTo>
                    <a:pt x="2446" y="2240"/>
                  </a:lnTo>
                  <a:lnTo>
                    <a:pt x="2425" y="2245"/>
                  </a:lnTo>
                  <a:lnTo>
                    <a:pt x="2398" y="2252"/>
                  </a:lnTo>
                  <a:lnTo>
                    <a:pt x="2371" y="2258"/>
                  </a:lnTo>
                  <a:lnTo>
                    <a:pt x="2343" y="2265"/>
                  </a:lnTo>
                  <a:lnTo>
                    <a:pt x="2313" y="2272"/>
                  </a:lnTo>
                  <a:lnTo>
                    <a:pt x="2283" y="2278"/>
                  </a:lnTo>
                  <a:lnTo>
                    <a:pt x="2253" y="2285"/>
                  </a:lnTo>
                  <a:lnTo>
                    <a:pt x="2224" y="2293"/>
                  </a:lnTo>
                  <a:lnTo>
                    <a:pt x="2198" y="2300"/>
                  </a:lnTo>
                  <a:lnTo>
                    <a:pt x="2173" y="2307"/>
                  </a:lnTo>
                  <a:lnTo>
                    <a:pt x="2151" y="2312"/>
                  </a:lnTo>
                  <a:lnTo>
                    <a:pt x="2134" y="2318"/>
                  </a:lnTo>
                  <a:lnTo>
                    <a:pt x="2119" y="2323"/>
                  </a:lnTo>
                  <a:lnTo>
                    <a:pt x="2111" y="2327"/>
                  </a:lnTo>
                  <a:lnTo>
                    <a:pt x="2098" y="2333"/>
                  </a:lnTo>
                  <a:lnTo>
                    <a:pt x="2086" y="2338"/>
                  </a:lnTo>
                  <a:lnTo>
                    <a:pt x="2071" y="2347"/>
                  </a:lnTo>
                  <a:lnTo>
                    <a:pt x="2058" y="2353"/>
                  </a:lnTo>
                  <a:lnTo>
                    <a:pt x="2043" y="2365"/>
                  </a:lnTo>
                  <a:lnTo>
                    <a:pt x="2028" y="2378"/>
                  </a:lnTo>
                  <a:lnTo>
                    <a:pt x="2011" y="2398"/>
                  </a:lnTo>
                  <a:lnTo>
                    <a:pt x="1993" y="2422"/>
                  </a:lnTo>
                  <a:lnTo>
                    <a:pt x="1976" y="2447"/>
                  </a:lnTo>
                  <a:lnTo>
                    <a:pt x="1961" y="2470"/>
                  </a:lnTo>
                  <a:lnTo>
                    <a:pt x="1946" y="2492"/>
                  </a:lnTo>
                  <a:lnTo>
                    <a:pt x="1933" y="2512"/>
                  </a:lnTo>
                  <a:lnTo>
                    <a:pt x="1923" y="2528"/>
                  </a:lnTo>
                  <a:lnTo>
                    <a:pt x="1913" y="2542"/>
                  </a:lnTo>
                  <a:lnTo>
                    <a:pt x="1904" y="2552"/>
                  </a:lnTo>
                  <a:lnTo>
                    <a:pt x="1898" y="2558"/>
                  </a:lnTo>
                  <a:lnTo>
                    <a:pt x="1891" y="2563"/>
                  </a:lnTo>
                  <a:lnTo>
                    <a:pt x="1884" y="2568"/>
                  </a:lnTo>
                  <a:lnTo>
                    <a:pt x="1874" y="2573"/>
                  </a:lnTo>
                  <a:lnTo>
                    <a:pt x="1864" y="2575"/>
                  </a:lnTo>
                  <a:lnTo>
                    <a:pt x="1853" y="2577"/>
                  </a:lnTo>
                  <a:lnTo>
                    <a:pt x="1843" y="2577"/>
                  </a:lnTo>
                  <a:lnTo>
                    <a:pt x="1833" y="2573"/>
                  </a:lnTo>
                  <a:lnTo>
                    <a:pt x="1823" y="2568"/>
                  </a:lnTo>
                  <a:lnTo>
                    <a:pt x="1814" y="2562"/>
                  </a:lnTo>
                  <a:lnTo>
                    <a:pt x="1806" y="2553"/>
                  </a:lnTo>
                  <a:lnTo>
                    <a:pt x="1799" y="2547"/>
                  </a:lnTo>
                  <a:lnTo>
                    <a:pt x="1794" y="2538"/>
                  </a:lnTo>
                  <a:lnTo>
                    <a:pt x="1787" y="2533"/>
                  </a:lnTo>
                  <a:lnTo>
                    <a:pt x="1781" y="2530"/>
                  </a:lnTo>
                  <a:lnTo>
                    <a:pt x="1772" y="2528"/>
                  </a:lnTo>
                  <a:lnTo>
                    <a:pt x="1764" y="2530"/>
                  </a:lnTo>
                  <a:lnTo>
                    <a:pt x="1752" y="2533"/>
                  </a:lnTo>
                  <a:lnTo>
                    <a:pt x="1739" y="2535"/>
                  </a:lnTo>
                  <a:lnTo>
                    <a:pt x="1722" y="2535"/>
                  </a:lnTo>
                  <a:lnTo>
                    <a:pt x="1704" y="2535"/>
                  </a:lnTo>
                  <a:lnTo>
                    <a:pt x="1684" y="2535"/>
                  </a:lnTo>
                  <a:lnTo>
                    <a:pt x="1666" y="2533"/>
                  </a:lnTo>
                  <a:lnTo>
                    <a:pt x="1647" y="2532"/>
                  </a:lnTo>
                  <a:lnTo>
                    <a:pt x="1632" y="2530"/>
                  </a:lnTo>
                  <a:lnTo>
                    <a:pt x="1617" y="2528"/>
                  </a:lnTo>
                  <a:lnTo>
                    <a:pt x="1602" y="2525"/>
                  </a:lnTo>
                  <a:lnTo>
                    <a:pt x="1589" y="2520"/>
                  </a:lnTo>
                  <a:lnTo>
                    <a:pt x="1574" y="2517"/>
                  </a:lnTo>
                  <a:lnTo>
                    <a:pt x="1561" y="2513"/>
                  </a:lnTo>
                  <a:lnTo>
                    <a:pt x="1549" y="2510"/>
                  </a:lnTo>
                  <a:lnTo>
                    <a:pt x="1537" y="2507"/>
                  </a:lnTo>
                  <a:lnTo>
                    <a:pt x="1527" y="2507"/>
                  </a:lnTo>
                  <a:lnTo>
                    <a:pt x="1514" y="2507"/>
                  </a:lnTo>
                  <a:lnTo>
                    <a:pt x="1492" y="2507"/>
                  </a:lnTo>
                  <a:lnTo>
                    <a:pt x="1466" y="2508"/>
                  </a:lnTo>
                  <a:lnTo>
                    <a:pt x="1436" y="2508"/>
                  </a:lnTo>
                  <a:lnTo>
                    <a:pt x="1409" y="2510"/>
                  </a:lnTo>
                  <a:lnTo>
                    <a:pt x="1386" y="2512"/>
                  </a:lnTo>
                  <a:lnTo>
                    <a:pt x="1369" y="2512"/>
                  </a:lnTo>
                  <a:lnTo>
                    <a:pt x="1362" y="2512"/>
                  </a:lnTo>
                  <a:lnTo>
                    <a:pt x="1361" y="2513"/>
                  </a:lnTo>
                  <a:lnTo>
                    <a:pt x="1356" y="2515"/>
                  </a:lnTo>
                  <a:lnTo>
                    <a:pt x="1349" y="2518"/>
                  </a:lnTo>
                  <a:lnTo>
                    <a:pt x="1339" y="2520"/>
                  </a:lnTo>
                  <a:lnTo>
                    <a:pt x="1329" y="2522"/>
                  </a:lnTo>
                  <a:lnTo>
                    <a:pt x="1317" y="2522"/>
                  </a:lnTo>
                  <a:lnTo>
                    <a:pt x="1304" y="2518"/>
                  </a:lnTo>
                  <a:lnTo>
                    <a:pt x="1292" y="2512"/>
                  </a:lnTo>
                  <a:lnTo>
                    <a:pt x="1281" y="2503"/>
                  </a:lnTo>
                  <a:lnTo>
                    <a:pt x="1272" y="2497"/>
                  </a:lnTo>
                  <a:lnTo>
                    <a:pt x="1266" y="2490"/>
                  </a:lnTo>
                  <a:lnTo>
                    <a:pt x="1261" y="2485"/>
                  </a:lnTo>
                  <a:lnTo>
                    <a:pt x="1256" y="2482"/>
                  </a:lnTo>
                  <a:lnTo>
                    <a:pt x="1250" y="2480"/>
                  </a:lnTo>
                  <a:lnTo>
                    <a:pt x="1245" y="2480"/>
                  </a:lnTo>
                  <a:lnTo>
                    <a:pt x="1239" y="2483"/>
                  </a:lnTo>
                  <a:lnTo>
                    <a:pt x="1232" y="2490"/>
                  </a:lnTo>
                  <a:lnTo>
                    <a:pt x="1235" y="2498"/>
                  </a:lnTo>
                  <a:lnTo>
                    <a:pt x="1240" y="2510"/>
                  </a:lnTo>
                  <a:lnTo>
                    <a:pt x="1239" y="2525"/>
                  </a:lnTo>
                  <a:lnTo>
                    <a:pt x="1234" y="2545"/>
                  </a:lnTo>
                  <a:lnTo>
                    <a:pt x="1232" y="2567"/>
                  </a:lnTo>
                  <a:lnTo>
                    <a:pt x="1234" y="2587"/>
                  </a:lnTo>
                  <a:lnTo>
                    <a:pt x="1234" y="2602"/>
                  </a:lnTo>
                  <a:lnTo>
                    <a:pt x="1230" y="2615"/>
                  </a:lnTo>
                  <a:lnTo>
                    <a:pt x="1225" y="2630"/>
                  </a:lnTo>
                  <a:lnTo>
                    <a:pt x="1219" y="2643"/>
                  </a:lnTo>
                  <a:lnTo>
                    <a:pt x="1215" y="2648"/>
                  </a:lnTo>
                  <a:lnTo>
                    <a:pt x="1177" y="2678"/>
                  </a:lnTo>
                  <a:lnTo>
                    <a:pt x="1175" y="2672"/>
                  </a:lnTo>
                  <a:lnTo>
                    <a:pt x="1170" y="2657"/>
                  </a:lnTo>
                  <a:lnTo>
                    <a:pt x="1167" y="2640"/>
                  </a:lnTo>
                  <a:lnTo>
                    <a:pt x="1167" y="2625"/>
                  </a:lnTo>
                  <a:lnTo>
                    <a:pt x="1167" y="2613"/>
                  </a:lnTo>
                  <a:lnTo>
                    <a:pt x="1164" y="2598"/>
                  </a:lnTo>
                  <a:lnTo>
                    <a:pt x="1154" y="2583"/>
                  </a:lnTo>
                  <a:lnTo>
                    <a:pt x="1144" y="2568"/>
                  </a:lnTo>
                  <a:lnTo>
                    <a:pt x="1134" y="2555"/>
                  </a:lnTo>
                  <a:lnTo>
                    <a:pt x="1124" y="2543"/>
                  </a:lnTo>
                  <a:lnTo>
                    <a:pt x="1115" y="2532"/>
                  </a:lnTo>
                  <a:lnTo>
                    <a:pt x="1110" y="2522"/>
                  </a:lnTo>
                  <a:lnTo>
                    <a:pt x="1107" y="2508"/>
                  </a:lnTo>
                  <a:lnTo>
                    <a:pt x="1104" y="2492"/>
                  </a:lnTo>
                  <a:lnTo>
                    <a:pt x="1095" y="2475"/>
                  </a:lnTo>
                  <a:lnTo>
                    <a:pt x="1082" y="2458"/>
                  </a:lnTo>
                  <a:lnTo>
                    <a:pt x="1072" y="2450"/>
                  </a:lnTo>
                  <a:lnTo>
                    <a:pt x="1059" y="2437"/>
                  </a:lnTo>
                  <a:lnTo>
                    <a:pt x="1044" y="2423"/>
                  </a:lnTo>
                  <a:lnTo>
                    <a:pt x="1029" y="2405"/>
                  </a:lnTo>
                  <a:lnTo>
                    <a:pt x="1014" y="2387"/>
                  </a:lnTo>
                  <a:lnTo>
                    <a:pt x="999" y="2368"/>
                  </a:lnTo>
                  <a:lnTo>
                    <a:pt x="987" y="2350"/>
                  </a:lnTo>
                  <a:lnTo>
                    <a:pt x="979" y="2332"/>
                  </a:lnTo>
                  <a:lnTo>
                    <a:pt x="964" y="2302"/>
                  </a:lnTo>
                  <a:lnTo>
                    <a:pt x="949" y="2280"/>
                  </a:lnTo>
                  <a:lnTo>
                    <a:pt x="937" y="2263"/>
                  </a:lnTo>
                  <a:lnTo>
                    <a:pt x="930" y="2245"/>
                  </a:lnTo>
                  <a:lnTo>
                    <a:pt x="927" y="2231"/>
                  </a:lnTo>
                  <a:lnTo>
                    <a:pt x="920" y="2211"/>
                  </a:lnTo>
                  <a:lnTo>
                    <a:pt x="910" y="2190"/>
                  </a:lnTo>
                  <a:lnTo>
                    <a:pt x="900" y="2166"/>
                  </a:lnTo>
                  <a:lnTo>
                    <a:pt x="890" y="2143"/>
                  </a:lnTo>
                  <a:lnTo>
                    <a:pt x="880" y="2123"/>
                  </a:lnTo>
                  <a:lnTo>
                    <a:pt x="870" y="2108"/>
                  </a:lnTo>
                  <a:lnTo>
                    <a:pt x="864" y="2098"/>
                  </a:lnTo>
                  <a:lnTo>
                    <a:pt x="854" y="2085"/>
                  </a:lnTo>
                  <a:lnTo>
                    <a:pt x="845" y="2071"/>
                  </a:lnTo>
                  <a:lnTo>
                    <a:pt x="834" y="2056"/>
                  </a:lnTo>
                  <a:lnTo>
                    <a:pt x="822" y="2041"/>
                  </a:lnTo>
                  <a:lnTo>
                    <a:pt x="814" y="2033"/>
                  </a:lnTo>
                  <a:lnTo>
                    <a:pt x="802" y="2025"/>
                  </a:lnTo>
                  <a:lnTo>
                    <a:pt x="790" y="2018"/>
                  </a:lnTo>
                  <a:lnTo>
                    <a:pt x="779" y="2010"/>
                  </a:lnTo>
                  <a:lnTo>
                    <a:pt x="765" y="2003"/>
                  </a:lnTo>
                  <a:lnTo>
                    <a:pt x="752" y="1998"/>
                  </a:lnTo>
                  <a:lnTo>
                    <a:pt x="740" y="1995"/>
                  </a:lnTo>
                  <a:lnTo>
                    <a:pt x="730" y="1993"/>
                  </a:lnTo>
                  <a:lnTo>
                    <a:pt x="722" y="1991"/>
                  </a:lnTo>
                  <a:lnTo>
                    <a:pt x="717" y="1988"/>
                  </a:lnTo>
                  <a:lnTo>
                    <a:pt x="710" y="1983"/>
                  </a:lnTo>
                  <a:lnTo>
                    <a:pt x="705" y="1975"/>
                  </a:lnTo>
                  <a:lnTo>
                    <a:pt x="700" y="1966"/>
                  </a:lnTo>
                  <a:lnTo>
                    <a:pt x="693" y="1953"/>
                  </a:lnTo>
                  <a:lnTo>
                    <a:pt x="685" y="1940"/>
                  </a:lnTo>
                  <a:lnTo>
                    <a:pt x="673" y="1923"/>
                  </a:lnTo>
                  <a:lnTo>
                    <a:pt x="662" y="1905"/>
                  </a:lnTo>
                  <a:lnTo>
                    <a:pt x="652" y="1886"/>
                  </a:lnTo>
                  <a:lnTo>
                    <a:pt x="642" y="1868"/>
                  </a:lnTo>
                  <a:lnTo>
                    <a:pt x="635" y="1851"/>
                  </a:lnTo>
                  <a:lnTo>
                    <a:pt x="628" y="1833"/>
                  </a:lnTo>
                  <a:lnTo>
                    <a:pt x="623" y="1818"/>
                  </a:lnTo>
                  <a:lnTo>
                    <a:pt x="620" y="1803"/>
                  </a:lnTo>
                  <a:lnTo>
                    <a:pt x="617" y="1790"/>
                  </a:lnTo>
                  <a:lnTo>
                    <a:pt x="612" y="1765"/>
                  </a:lnTo>
                  <a:lnTo>
                    <a:pt x="603" y="1741"/>
                  </a:lnTo>
                  <a:lnTo>
                    <a:pt x="597" y="1724"/>
                  </a:lnTo>
                  <a:lnTo>
                    <a:pt x="593" y="1718"/>
                  </a:lnTo>
                  <a:lnTo>
                    <a:pt x="600" y="1706"/>
                  </a:lnTo>
                  <a:lnTo>
                    <a:pt x="610" y="1676"/>
                  </a:lnTo>
                  <a:lnTo>
                    <a:pt x="617" y="1636"/>
                  </a:lnTo>
                  <a:lnTo>
                    <a:pt x="607" y="1594"/>
                  </a:lnTo>
                  <a:lnTo>
                    <a:pt x="590" y="1559"/>
                  </a:lnTo>
                  <a:lnTo>
                    <a:pt x="582" y="1531"/>
                  </a:lnTo>
                  <a:lnTo>
                    <a:pt x="573" y="1503"/>
                  </a:lnTo>
                  <a:lnTo>
                    <a:pt x="560" y="1471"/>
                  </a:lnTo>
                  <a:lnTo>
                    <a:pt x="552" y="1454"/>
                  </a:lnTo>
                  <a:lnTo>
                    <a:pt x="547" y="1439"/>
                  </a:lnTo>
                  <a:lnTo>
                    <a:pt x="542" y="1426"/>
                  </a:lnTo>
                  <a:lnTo>
                    <a:pt x="537" y="1413"/>
                  </a:lnTo>
                  <a:lnTo>
                    <a:pt x="532" y="1401"/>
                  </a:lnTo>
                  <a:lnTo>
                    <a:pt x="525" y="1393"/>
                  </a:lnTo>
                  <a:lnTo>
                    <a:pt x="518" y="1383"/>
                  </a:lnTo>
                  <a:lnTo>
                    <a:pt x="508" y="1376"/>
                  </a:lnTo>
                  <a:lnTo>
                    <a:pt x="497" y="1369"/>
                  </a:lnTo>
                  <a:lnTo>
                    <a:pt x="487" y="1361"/>
                  </a:lnTo>
                  <a:lnTo>
                    <a:pt x="475" y="1354"/>
                  </a:lnTo>
                  <a:lnTo>
                    <a:pt x="463" y="1346"/>
                  </a:lnTo>
                  <a:lnTo>
                    <a:pt x="452" y="1338"/>
                  </a:lnTo>
                  <a:lnTo>
                    <a:pt x="440" y="1329"/>
                  </a:lnTo>
                  <a:lnTo>
                    <a:pt x="427" y="1323"/>
                  </a:lnTo>
                  <a:lnTo>
                    <a:pt x="413" y="1316"/>
                  </a:lnTo>
                  <a:lnTo>
                    <a:pt x="392" y="1303"/>
                  </a:lnTo>
                  <a:lnTo>
                    <a:pt x="382" y="1286"/>
                  </a:lnTo>
                  <a:lnTo>
                    <a:pt x="375" y="1268"/>
                  </a:lnTo>
                  <a:lnTo>
                    <a:pt x="365" y="1249"/>
                  </a:lnTo>
                  <a:lnTo>
                    <a:pt x="355" y="1232"/>
                  </a:lnTo>
                  <a:lnTo>
                    <a:pt x="348" y="1219"/>
                  </a:lnTo>
                  <a:lnTo>
                    <a:pt x="347" y="1209"/>
                  </a:lnTo>
                  <a:lnTo>
                    <a:pt x="347" y="1206"/>
                  </a:lnTo>
                  <a:lnTo>
                    <a:pt x="348" y="1206"/>
                  </a:lnTo>
                  <a:lnTo>
                    <a:pt x="353" y="1204"/>
                  </a:lnTo>
                  <a:lnTo>
                    <a:pt x="360" y="1201"/>
                  </a:lnTo>
                  <a:lnTo>
                    <a:pt x="367" y="1194"/>
                  </a:lnTo>
                  <a:lnTo>
                    <a:pt x="370" y="1187"/>
                  </a:lnTo>
                  <a:lnTo>
                    <a:pt x="370" y="1176"/>
                  </a:lnTo>
                  <a:lnTo>
                    <a:pt x="365" y="1162"/>
                  </a:lnTo>
                  <a:lnTo>
                    <a:pt x="352" y="1144"/>
                  </a:lnTo>
                  <a:lnTo>
                    <a:pt x="330" y="1122"/>
                  </a:lnTo>
                  <a:lnTo>
                    <a:pt x="327" y="1122"/>
                  </a:lnTo>
                  <a:lnTo>
                    <a:pt x="330" y="1126"/>
                  </a:lnTo>
                  <a:lnTo>
                    <a:pt x="327" y="1112"/>
                  </a:lnTo>
                  <a:lnTo>
                    <a:pt x="320" y="1091"/>
                  </a:lnTo>
                  <a:lnTo>
                    <a:pt x="315" y="1076"/>
                  </a:lnTo>
                  <a:lnTo>
                    <a:pt x="308" y="1066"/>
                  </a:lnTo>
                  <a:lnTo>
                    <a:pt x="293" y="1054"/>
                  </a:lnTo>
                  <a:lnTo>
                    <a:pt x="283" y="1039"/>
                  </a:lnTo>
                  <a:lnTo>
                    <a:pt x="285" y="1024"/>
                  </a:lnTo>
                  <a:lnTo>
                    <a:pt x="287" y="1011"/>
                  </a:lnTo>
                  <a:lnTo>
                    <a:pt x="275" y="997"/>
                  </a:lnTo>
                  <a:lnTo>
                    <a:pt x="257" y="986"/>
                  </a:lnTo>
                  <a:lnTo>
                    <a:pt x="243" y="971"/>
                  </a:lnTo>
                  <a:lnTo>
                    <a:pt x="235" y="954"/>
                  </a:lnTo>
                  <a:lnTo>
                    <a:pt x="232" y="936"/>
                  </a:lnTo>
                  <a:lnTo>
                    <a:pt x="228" y="916"/>
                  </a:lnTo>
                  <a:lnTo>
                    <a:pt x="218" y="889"/>
                  </a:lnTo>
                  <a:lnTo>
                    <a:pt x="205" y="862"/>
                  </a:lnTo>
                  <a:lnTo>
                    <a:pt x="185" y="836"/>
                  </a:lnTo>
                  <a:lnTo>
                    <a:pt x="172" y="814"/>
                  </a:lnTo>
                  <a:lnTo>
                    <a:pt x="168" y="796"/>
                  </a:lnTo>
                  <a:lnTo>
                    <a:pt x="167" y="782"/>
                  </a:lnTo>
                  <a:lnTo>
                    <a:pt x="157" y="774"/>
                  </a:lnTo>
                  <a:lnTo>
                    <a:pt x="145" y="766"/>
                  </a:lnTo>
                  <a:lnTo>
                    <a:pt x="140" y="754"/>
                  </a:lnTo>
                  <a:lnTo>
                    <a:pt x="133" y="739"/>
                  </a:lnTo>
                  <a:lnTo>
                    <a:pt x="118" y="722"/>
                  </a:lnTo>
                  <a:lnTo>
                    <a:pt x="100" y="700"/>
                  </a:lnTo>
                  <a:lnTo>
                    <a:pt x="86" y="674"/>
                  </a:lnTo>
                  <a:lnTo>
                    <a:pt x="78" y="652"/>
                  </a:lnTo>
                  <a:lnTo>
                    <a:pt x="75" y="642"/>
                  </a:lnTo>
                  <a:lnTo>
                    <a:pt x="70" y="642"/>
                  </a:lnTo>
                  <a:lnTo>
                    <a:pt x="60" y="642"/>
                  </a:lnTo>
                  <a:lnTo>
                    <a:pt x="45" y="642"/>
                  </a:lnTo>
                  <a:lnTo>
                    <a:pt x="33" y="642"/>
                  </a:lnTo>
                  <a:lnTo>
                    <a:pt x="21" y="642"/>
                  </a:lnTo>
                  <a:lnTo>
                    <a:pt x="11" y="644"/>
                  </a:lnTo>
                  <a:lnTo>
                    <a:pt x="3" y="645"/>
                  </a:lnTo>
                  <a:lnTo>
                    <a:pt x="0" y="645"/>
                  </a:lnTo>
                  <a:lnTo>
                    <a:pt x="1" y="642"/>
                  </a:lnTo>
                  <a:lnTo>
                    <a:pt x="5" y="632"/>
                  </a:lnTo>
                  <a:lnTo>
                    <a:pt x="8" y="620"/>
                  </a:lnTo>
                  <a:lnTo>
                    <a:pt x="13" y="609"/>
                  </a:lnTo>
                  <a:lnTo>
                    <a:pt x="20" y="592"/>
                  </a:lnTo>
                  <a:lnTo>
                    <a:pt x="28" y="569"/>
                  </a:lnTo>
                  <a:lnTo>
                    <a:pt x="35" y="542"/>
                  </a:lnTo>
                  <a:lnTo>
                    <a:pt x="38" y="517"/>
                  </a:lnTo>
                  <a:lnTo>
                    <a:pt x="40" y="500"/>
                  </a:lnTo>
                  <a:lnTo>
                    <a:pt x="43" y="489"/>
                  </a:lnTo>
                  <a:lnTo>
                    <a:pt x="50" y="480"/>
                  </a:lnTo>
                  <a:lnTo>
                    <a:pt x="56" y="470"/>
                  </a:lnTo>
                  <a:lnTo>
                    <a:pt x="61" y="457"/>
                  </a:lnTo>
                  <a:lnTo>
                    <a:pt x="65" y="442"/>
                  </a:lnTo>
                  <a:lnTo>
                    <a:pt x="66" y="429"/>
                  </a:lnTo>
                  <a:lnTo>
                    <a:pt x="66" y="424"/>
                  </a:lnTo>
                  <a:lnTo>
                    <a:pt x="232" y="465"/>
                  </a:lnTo>
                  <a:lnTo>
                    <a:pt x="235" y="464"/>
                  </a:lnTo>
                  <a:lnTo>
                    <a:pt x="243" y="457"/>
                  </a:lnTo>
                  <a:lnTo>
                    <a:pt x="257" y="450"/>
                  </a:lnTo>
                  <a:lnTo>
                    <a:pt x="270" y="439"/>
                  </a:lnTo>
                  <a:lnTo>
                    <a:pt x="285" y="429"/>
                  </a:lnTo>
                  <a:lnTo>
                    <a:pt x="298" y="417"/>
                  </a:lnTo>
                  <a:lnTo>
                    <a:pt x="308" y="407"/>
                  </a:lnTo>
                  <a:lnTo>
                    <a:pt x="313" y="399"/>
                  </a:lnTo>
                  <a:lnTo>
                    <a:pt x="318" y="384"/>
                  </a:lnTo>
                  <a:lnTo>
                    <a:pt x="325" y="369"/>
                  </a:lnTo>
                  <a:lnTo>
                    <a:pt x="330" y="357"/>
                  </a:lnTo>
                  <a:lnTo>
                    <a:pt x="332" y="352"/>
                  </a:lnTo>
                  <a:lnTo>
                    <a:pt x="335" y="352"/>
                  </a:lnTo>
                  <a:lnTo>
                    <a:pt x="342" y="352"/>
                  </a:lnTo>
                  <a:lnTo>
                    <a:pt x="353" y="352"/>
                  </a:lnTo>
                  <a:lnTo>
                    <a:pt x="367" y="350"/>
                  </a:lnTo>
                  <a:lnTo>
                    <a:pt x="382" y="350"/>
                  </a:lnTo>
                  <a:lnTo>
                    <a:pt x="398" y="347"/>
                  </a:lnTo>
                  <a:lnTo>
                    <a:pt x="413" y="345"/>
                  </a:lnTo>
                  <a:lnTo>
                    <a:pt x="427" y="342"/>
                  </a:lnTo>
                  <a:lnTo>
                    <a:pt x="438" y="337"/>
                  </a:lnTo>
                  <a:lnTo>
                    <a:pt x="447" y="329"/>
                  </a:lnTo>
                  <a:lnTo>
                    <a:pt x="455" y="319"/>
                  </a:lnTo>
                  <a:lnTo>
                    <a:pt x="462" y="309"/>
                  </a:lnTo>
                  <a:lnTo>
                    <a:pt x="468" y="299"/>
                  </a:lnTo>
                  <a:lnTo>
                    <a:pt x="475" y="290"/>
                  </a:lnTo>
                  <a:lnTo>
                    <a:pt x="483" y="284"/>
                  </a:lnTo>
                  <a:lnTo>
                    <a:pt x="493" y="280"/>
                  </a:lnTo>
                  <a:lnTo>
                    <a:pt x="508" y="275"/>
                  </a:lnTo>
                  <a:lnTo>
                    <a:pt x="513" y="269"/>
                  </a:lnTo>
                  <a:lnTo>
                    <a:pt x="513" y="264"/>
                  </a:lnTo>
                  <a:lnTo>
                    <a:pt x="512" y="262"/>
                  </a:lnTo>
                  <a:lnTo>
                    <a:pt x="380" y="90"/>
                  </a:lnTo>
                  <a:close/>
                </a:path>
              </a:pathLst>
            </a:custGeom>
            <a:solidFill>
              <a:srgbClr val="b2b2b2">
                <a:alpha val="30000"/>
              </a:srgbClr>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307" name=""/>
          <p:cNvSpPr/>
          <p:nvPr/>
        </p:nvSpPr>
        <p:spPr>
          <a:xfrm>
            <a:off x="609480" y="6629400"/>
            <a:ext cx="8534520" cy="228600"/>
          </a:xfrm>
          <a:prstGeom prst="rect">
            <a:avLst/>
          </a:prstGeom>
          <a:solidFill>
            <a:srgbClr val="bbe0e3"/>
          </a:solidFill>
          <a:ln cap="sq"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99"/>
                </a:solidFill>
                <a:latin typeface="Albertus Medium"/>
              </a:rPr>
              <a:t>www.skinandallergy.org</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0" lang="en-US" sz="1000" spc="-1" strike="noStrike">
                <a:solidFill>
                  <a:srgbClr val="333399"/>
                </a:solidFill>
                <a:latin typeface="Albertus Medium"/>
              </a:rPr>
              <a:t>www.panarabderm.org</a:t>
            </a:r>
            <a:endParaRPr b="0" lang="en-US" sz="1000" spc="-1" strike="noStrike">
              <a:solidFill>
                <a:srgbClr val="000000"/>
              </a:solidFill>
              <a:latin typeface="Arial"/>
            </a:endParaRPr>
          </a:p>
        </p:txBody>
      </p:sp>
    </p:spTree>
  </p:cSld>
  <p:timing>
    <p:tnLst>
      <p:par>
        <p:cTn id="52" dur="indefinite" restart="never" nodeType="tmRoot">
          <p:childTnLst>
            <p:seq>
              <p:cTn id="53" dur="indefinite" nodeType="mainSeq">
                <p:childTnLst>
                  <p:par>
                    <p:cTn id="54" dur="indefinite" fill="hold">
                      <p:stCondLst>
                        <p:cond delay="indefinite"/>
                      </p:stCondLst>
                      <p:childTnLst>
                        <p:par>
                          <p:cTn id="55" dur="indefinite" fill="hold">
                            <p:stCondLst>
                              <p:cond delay="0"/>
                            </p:stCondLst>
                            <p:childTnLst>
                              <p:par>
                                <p:cTn id="56" dur="indefinite" nodeType="clickEffect" fill="hold" presetClass="entr" presetID="35">
                                  <p:stCondLst>
                                    <p:cond delay="0"/>
                                  </p:stCondLst>
                                  <p:childTnLst>
                                    <p:set>
                                      <p:cBhvr>
                                        <p:cTn id="57" dur="1" fill="hold">
                                          <p:stCondLst>
                                            <p:cond delay="0"/>
                                          </p:stCondLst>
                                        </p:cTn>
                                        <p:tgtEl>
                                          <p:spTgt spid="298"/>
                                        </p:tgtEl>
                                        <p:attrNameLst>
                                          <p:attrName>style.visibility</p:attrName>
                                        </p:attrNameLst>
                                      </p:cBhvr>
                                      <p:to>
                                        <p:strVal val="visible"/>
                                      </p:to>
                                    </p:set>
                                    <p:animEffect filter="fade" transition="in">
                                      <p:cBhvr additive="repl">
                                        <p:cTn id="58" dur="2000"/>
                                        <p:tgtEl>
                                          <p:spTgt spid="298"/>
                                        </p:tgtEl>
                                      </p:cBhvr>
                                    </p:animEffect>
                                    <p:anim calcmode="lin" valueType="num">
                                      <p:cBhvr additive="repl">
                                        <p:cTn id="59" dur="2000" fill="hold"/>
                                        <p:tgtEl>
                                          <p:spTgt spid="298"/>
                                        </p:tgtEl>
                                        <p:attrNameLst>
                                          <p:attrName>r</p:attrName>
                                        </p:attrNameLst>
                                      </p:cBhvr>
                                      <p:tavLst>
                                        <p:tav tm="0">
                                          <p:val>
                                            <p:strVal val="720"/>
                                          </p:val>
                                        </p:tav>
                                        <p:tav tm="100000">
                                          <p:val>
                                            <p:strVal val="0"/>
                                          </p:val>
                                        </p:tav>
                                      </p:tavLst>
                                    </p:anim>
                                    <p:anim calcmode="lin" valueType="num">
                                      <p:cBhvr additive="repl">
                                        <p:cTn id="60" dur="2000" fill="hold"/>
                                        <p:tgtEl>
                                          <p:spTgt spid="298"/>
                                        </p:tgtEl>
                                        <p:attrNameLst>
                                          <p:attrName>ppt_h</p:attrName>
                                        </p:attrNameLst>
                                      </p:cBhvr>
                                      <p:tavLst>
                                        <p:tav tm="0">
                                          <p:val>
                                            <p:fltVal val="0"/>
                                          </p:val>
                                        </p:tav>
                                        <p:tav tm="100000">
                                          <p:val>
                                            <p:strVal val="#ppt_h"/>
                                          </p:val>
                                        </p:tav>
                                      </p:tavLst>
                                    </p:anim>
                                    <p:anim calcmode="lin" valueType="num">
                                      <p:cBhvr additive="repl">
                                        <p:cTn id="61" dur="2000" fill="hold"/>
                                        <p:tgtEl>
                                          <p:spTgt spid="298"/>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08" name="" descr=""/>
          <p:cNvPicPr/>
          <p:nvPr/>
        </p:nvPicPr>
        <p:blipFill>
          <a:blip r:embed="rId2"/>
          <a:stretch/>
        </p:blipFill>
        <p:spPr>
          <a:xfrm>
            <a:off x="8153280" y="74520"/>
            <a:ext cx="922320" cy="992160"/>
          </a:xfrm>
          <a:prstGeom prst="rect">
            <a:avLst/>
          </a:prstGeom>
          <a:ln w="0">
            <a:noFill/>
          </a:ln>
        </p:spPr>
      </p:pic>
      <p:sp>
        <p:nvSpPr>
          <p:cNvPr id="309" name=""/>
          <p:cNvSpPr/>
          <p:nvPr/>
        </p:nvSpPr>
        <p:spPr>
          <a:xfrm>
            <a:off x="1295280" y="1066680"/>
            <a:ext cx="6193080" cy="1800"/>
          </a:xfrm>
          <a:prstGeom prst="line">
            <a:avLst/>
          </a:prstGeom>
          <a:ln cap="sq" w="12600">
            <a:solidFill>
              <a:srgbClr val="b2b2b2"/>
            </a:solidFill>
            <a:miter/>
          </a:ln>
        </p:spPr>
        <p:style>
          <a:lnRef idx="0"/>
          <a:fillRef idx="0"/>
          <a:effectRef idx="0"/>
          <a:fontRef idx="minor"/>
        </p:style>
        <p:txBody>
          <a:bodyPr lIns="90000" rIns="90000" tIns="-45000" bIns="-45000" anchor="t">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310" name="" descr=""/>
          <p:cNvPicPr/>
          <p:nvPr/>
        </p:nvPicPr>
        <p:blipFill>
          <a:blip r:embed="rId3"/>
          <a:stretch/>
        </p:blipFill>
        <p:spPr>
          <a:xfrm>
            <a:off x="0" y="0"/>
            <a:ext cx="600120" cy="6858000"/>
          </a:xfrm>
          <a:prstGeom prst="rect">
            <a:avLst/>
          </a:prstGeom>
          <a:ln w="0">
            <a:noFill/>
          </a:ln>
        </p:spPr>
      </p:pic>
      <p:sp>
        <p:nvSpPr>
          <p:cNvPr id="311" name=""/>
          <p:cNvSpPr/>
          <p:nvPr/>
        </p:nvSpPr>
        <p:spPr>
          <a:xfrm>
            <a:off x="0" y="457200"/>
            <a:ext cx="914400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333399"/>
                </a:solidFill>
                <a:latin typeface="Albertus Medium"/>
              </a:rPr>
              <a:t>Nanotechnology in Medicine</a:t>
            </a:r>
            <a:endParaRPr b="0" lang="en-US" sz="3600" spc="-1" strike="noStrike">
              <a:solidFill>
                <a:srgbClr val="000000"/>
              </a:solidFill>
              <a:latin typeface="Arial"/>
            </a:endParaRPr>
          </a:p>
        </p:txBody>
      </p:sp>
      <p:sp>
        <p:nvSpPr>
          <p:cNvPr id="312" name=""/>
          <p:cNvSpPr/>
          <p:nvPr/>
        </p:nvSpPr>
        <p:spPr>
          <a:xfrm>
            <a:off x="1600200" y="1143000"/>
            <a:ext cx="6553080" cy="609480"/>
          </a:xfrm>
          <a:prstGeom prst="rect">
            <a:avLst/>
          </a:prstGeom>
          <a:noFill/>
          <a:ln w="0">
            <a:noFill/>
          </a:ln>
        </p:spPr>
        <p:style>
          <a:lnRef idx="0"/>
          <a:fillRef idx="0"/>
          <a:effectRef idx="0"/>
          <a:fontRef idx="minor"/>
        </p:style>
        <p:txBody>
          <a:bodyPr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u="sng">
                <a:solidFill>
                  <a:srgbClr val="333399"/>
                </a:solidFill>
                <a:uFillTx/>
                <a:latin typeface="Albertus Medium"/>
              </a:rPr>
              <a:t>Liposomes: Lipid based nanoparticles used extensively in pharmaceuticals and cosmetic industries.</a:t>
            </a:r>
            <a:endParaRPr b="0" lang="en-US" sz="2000" spc="-1" strike="noStrike">
              <a:solidFill>
                <a:srgbClr val="000000"/>
              </a:solidFill>
              <a:latin typeface="Arial"/>
            </a:endParaRPr>
          </a:p>
        </p:txBody>
      </p:sp>
      <p:pic>
        <p:nvPicPr>
          <p:cNvPr id="313" name="" descr=""/>
          <p:cNvPicPr/>
          <p:nvPr/>
        </p:nvPicPr>
        <p:blipFill>
          <a:blip r:embed="rId4"/>
          <a:stretch/>
        </p:blipFill>
        <p:spPr>
          <a:xfrm>
            <a:off x="1619280" y="1824120"/>
            <a:ext cx="6487920" cy="3814560"/>
          </a:xfrm>
          <a:prstGeom prst="rect">
            <a:avLst/>
          </a:prstGeom>
          <a:ln w="0">
            <a:noFill/>
          </a:ln>
        </p:spPr>
      </p:pic>
      <p:sp>
        <p:nvSpPr>
          <p:cNvPr id="314" name=""/>
          <p:cNvSpPr/>
          <p:nvPr/>
        </p:nvSpPr>
        <p:spPr>
          <a:xfrm>
            <a:off x="1600200" y="5638680"/>
            <a:ext cx="6553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u="sng">
                <a:solidFill>
                  <a:srgbClr val="333399"/>
                </a:solidFill>
                <a:uFillTx/>
                <a:latin typeface="Albertus Medium"/>
              </a:rPr>
              <a:t>In industry, they have been replaced by other nanoparticle Due to their propensity to fuse together in aqueous environment and release of their payload</a:t>
            </a:r>
            <a:r>
              <a:rPr b="0" lang="en-US" sz="2000" spc="-1" strike="noStrike" u="sng">
                <a:solidFill>
                  <a:srgbClr val="ffffff"/>
                </a:solidFill>
                <a:uFillTx/>
                <a:latin typeface="Albertus Medium"/>
              </a:rPr>
              <a:t> </a:t>
            </a:r>
            <a:endParaRPr b="0" lang="en-US" sz="2000" spc="-1" strike="noStrike">
              <a:solidFill>
                <a:srgbClr val="000000"/>
              </a:solidFill>
              <a:latin typeface="Arial"/>
            </a:endParaRPr>
          </a:p>
        </p:txBody>
      </p:sp>
      <p:sp>
        <p:nvSpPr>
          <p:cNvPr id="315" name=""/>
          <p:cNvSpPr/>
          <p:nvPr/>
        </p:nvSpPr>
        <p:spPr>
          <a:xfrm>
            <a:off x="609480" y="6629400"/>
            <a:ext cx="8534520" cy="228600"/>
          </a:xfrm>
          <a:prstGeom prst="rect">
            <a:avLst/>
          </a:prstGeom>
          <a:solidFill>
            <a:srgbClr val="bbe0e3"/>
          </a:solidFill>
          <a:ln cap="sq"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99"/>
                </a:solidFill>
                <a:latin typeface="Albertus Medium"/>
              </a:rPr>
              <a:t>www.skinandallergy.org</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0" lang="en-US" sz="1000" spc="-1" strike="noStrike">
                <a:solidFill>
                  <a:srgbClr val="333399"/>
                </a:solidFill>
                <a:latin typeface="Albertus Medium"/>
              </a:rPr>
              <a:t>www.panarabderm.org</a:t>
            </a:r>
            <a:endParaRPr b="0" lang="en-US" sz="10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16" name="" descr=""/>
          <p:cNvPicPr/>
          <p:nvPr/>
        </p:nvPicPr>
        <p:blipFill>
          <a:blip r:embed="rId2"/>
          <a:stretch/>
        </p:blipFill>
        <p:spPr>
          <a:xfrm>
            <a:off x="8153280" y="74520"/>
            <a:ext cx="922320" cy="992160"/>
          </a:xfrm>
          <a:prstGeom prst="rect">
            <a:avLst/>
          </a:prstGeom>
          <a:ln w="0">
            <a:noFill/>
          </a:ln>
        </p:spPr>
      </p:pic>
      <p:sp>
        <p:nvSpPr>
          <p:cNvPr id="317" name=""/>
          <p:cNvSpPr/>
          <p:nvPr/>
        </p:nvSpPr>
        <p:spPr>
          <a:xfrm>
            <a:off x="1295280" y="1066680"/>
            <a:ext cx="6193080" cy="1800"/>
          </a:xfrm>
          <a:prstGeom prst="line">
            <a:avLst/>
          </a:prstGeom>
          <a:ln cap="sq" w="12600">
            <a:solidFill>
              <a:srgbClr val="b2b2b2"/>
            </a:solidFill>
            <a:miter/>
          </a:ln>
        </p:spPr>
        <p:style>
          <a:lnRef idx="0"/>
          <a:fillRef idx="0"/>
          <a:effectRef idx="0"/>
          <a:fontRef idx="minor"/>
        </p:style>
        <p:txBody>
          <a:bodyPr lIns="90000" rIns="90000" tIns="-45000" bIns="-45000" anchor="t">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318" name="" descr=""/>
          <p:cNvPicPr/>
          <p:nvPr/>
        </p:nvPicPr>
        <p:blipFill>
          <a:blip r:embed="rId3"/>
          <a:stretch/>
        </p:blipFill>
        <p:spPr>
          <a:xfrm>
            <a:off x="0" y="0"/>
            <a:ext cx="600120" cy="6858000"/>
          </a:xfrm>
          <a:prstGeom prst="rect">
            <a:avLst/>
          </a:prstGeom>
          <a:ln w="0">
            <a:noFill/>
          </a:ln>
        </p:spPr>
      </p:pic>
      <p:sp>
        <p:nvSpPr>
          <p:cNvPr id="319" name=""/>
          <p:cNvSpPr/>
          <p:nvPr/>
        </p:nvSpPr>
        <p:spPr>
          <a:xfrm>
            <a:off x="0" y="457200"/>
            <a:ext cx="914400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333399"/>
                </a:solidFill>
                <a:latin typeface="Albertus Medium"/>
              </a:rPr>
              <a:t>Nanotechnology in Medicine</a:t>
            </a:r>
            <a:endParaRPr b="0" lang="en-US" sz="3600" spc="-1" strike="noStrike">
              <a:solidFill>
                <a:srgbClr val="000000"/>
              </a:solidFill>
              <a:latin typeface="Arial"/>
            </a:endParaRPr>
          </a:p>
        </p:txBody>
      </p:sp>
      <p:grpSp>
        <p:nvGrpSpPr>
          <p:cNvPr id="320" name=""/>
          <p:cNvGrpSpPr/>
          <p:nvPr/>
        </p:nvGrpSpPr>
        <p:grpSpPr>
          <a:xfrm>
            <a:off x="2639880" y="1346040"/>
            <a:ext cx="4521240" cy="3986280"/>
            <a:chOff x="2639880" y="1346040"/>
            <a:chExt cx="4521240" cy="3986280"/>
          </a:xfrm>
        </p:grpSpPr>
        <p:sp>
          <p:nvSpPr>
            <p:cNvPr id="321" name=""/>
            <p:cNvSpPr/>
            <p:nvPr/>
          </p:nvSpPr>
          <p:spPr>
            <a:xfrm>
              <a:off x="2639880" y="2319480"/>
              <a:ext cx="1721160" cy="3012840"/>
            </a:xfrm>
            <a:custGeom>
              <a:avLst/>
              <a:gdLst/>
              <a:ahLst/>
              <a:rect l="l" t="t" r="r" b="b"/>
              <a:pathLst>
                <a:path w="1261" h="2255">
                  <a:moveTo>
                    <a:pt x="1257" y="2027"/>
                  </a:moveTo>
                  <a:lnTo>
                    <a:pt x="1257" y="2015"/>
                  </a:lnTo>
                  <a:lnTo>
                    <a:pt x="1252" y="2000"/>
                  </a:lnTo>
                  <a:lnTo>
                    <a:pt x="1244" y="1985"/>
                  </a:lnTo>
                  <a:lnTo>
                    <a:pt x="1232" y="1970"/>
                  </a:lnTo>
                  <a:lnTo>
                    <a:pt x="1222" y="1956"/>
                  </a:lnTo>
                  <a:lnTo>
                    <a:pt x="1212" y="1945"/>
                  </a:lnTo>
                  <a:lnTo>
                    <a:pt x="1204" y="1933"/>
                  </a:lnTo>
                  <a:lnTo>
                    <a:pt x="1199" y="1921"/>
                  </a:lnTo>
                  <a:lnTo>
                    <a:pt x="1197" y="1910"/>
                  </a:lnTo>
                  <a:lnTo>
                    <a:pt x="1192" y="1893"/>
                  </a:lnTo>
                  <a:lnTo>
                    <a:pt x="1186" y="1876"/>
                  </a:lnTo>
                  <a:lnTo>
                    <a:pt x="1171" y="1860"/>
                  </a:lnTo>
                  <a:lnTo>
                    <a:pt x="1161" y="1851"/>
                  </a:lnTo>
                  <a:lnTo>
                    <a:pt x="1147" y="1838"/>
                  </a:lnTo>
                  <a:lnTo>
                    <a:pt x="1132" y="1823"/>
                  </a:lnTo>
                  <a:lnTo>
                    <a:pt x="1117" y="1806"/>
                  </a:lnTo>
                  <a:lnTo>
                    <a:pt x="1102" y="1788"/>
                  </a:lnTo>
                  <a:lnTo>
                    <a:pt x="1087" y="1770"/>
                  </a:lnTo>
                  <a:lnTo>
                    <a:pt x="1076" y="1750"/>
                  </a:lnTo>
                  <a:lnTo>
                    <a:pt x="1067" y="1731"/>
                  </a:lnTo>
                  <a:lnTo>
                    <a:pt x="1052" y="1703"/>
                  </a:lnTo>
                  <a:lnTo>
                    <a:pt x="1037" y="1681"/>
                  </a:lnTo>
                  <a:lnTo>
                    <a:pt x="1026" y="1665"/>
                  </a:lnTo>
                  <a:lnTo>
                    <a:pt x="1019" y="1646"/>
                  </a:lnTo>
                  <a:lnTo>
                    <a:pt x="1016" y="1633"/>
                  </a:lnTo>
                  <a:lnTo>
                    <a:pt x="1009" y="1613"/>
                  </a:lnTo>
                  <a:lnTo>
                    <a:pt x="999" y="1591"/>
                  </a:lnTo>
                  <a:lnTo>
                    <a:pt x="989" y="1568"/>
                  </a:lnTo>
                  <a:lnTo>
                    <a:pt x="979" y="1545"/>
                  </a:lnTo>
                  <a:lnTo>
                    <a:pt x="969" y="1525"/>
                  </a:lnTo>
                  <a:lnTo>
                    <a:pt x="959" y="1508"/>
                  </a:lnTo>
                  <a:lnTo>
                    <a:pt x="952" y="1499"/>
                  </a:lnTo>
                  <a:lnTo>
                    <a:pt x="942" y="1486"/>
                  </a:lnTo>
                  <a:lnTo>
                    <a:pt x="934" y="1473"/>
                  </a:lnTo>
                  <a:lnTo>
                    <a:pt x="922" y="1458"/>
                  </a:lnTo>
                  <a:lnTo>
                    <a:pt x="911" y="1443"/>
                  </a:lnTo>
                  <a:lnTo>
                    <a:pt x="902" y="1434"/>
                  </a:lnTo>
                  <a:lnTo>
                    <a:pt x="891" y="1426"/>
                  </a:lnTo>
                  <a:lnTo>
                    <a:pt x="879" y="1419"/>
                  </a:lnTo>
                  <a:lnTo>
                    <a:pt x="867" y="1411"/>
                  </a:lnTo>
                  <a:lnTo>
                    <a:pt x="854" y="1404"/>
                  </a:lnTo>
                  <a:lnTo>
                    <a:pt x="842" y="1399"/>
                  </a:lnTo>
                  <a:lnTo>
                    <a:pt x="831" y="1396"/>
                  </a:lnTo>
                  <a:lnTo>
                    <a:pt x="820" y="1394"/>
                  </a:lnTo>
                  <a:lnTo>
                    <a:pt x="812" y="1393"/>
                  </a:lnTo>
                  <a:lnTo>
                    <a:pt x="805" y="1389"/>
                  </a:lnTo>
                  <a:lnTo>
                    <a:pt x="800" y="1384"/>
                  </a:lnTo>
                  <a:lnTo>
                    <a:pt x="794" y="1376"/>
                  </a:lnTo>
                  <a:lnTo>
                    <a:pt x="789" y="1368"/>
                  </a:lnTo>
                  <a:lnTo>
                    <a:pt x="782" y="1354"/>
                  </a:lnTo>
                  <a:lnTo>
                    <a:pt x="774" y="1341"/>
                  </a:lnTo>
                  <a:lnTo>
                    <a:pt x="762" y="1324"/>
                  </a:lnTo>
                  <a:lnTo>
                    <a:pt x="750" y="1306"/>
                  </a:lnTo>
                  <a:lnTo>
                    <a:pt x="740" y="1288"/>
                  </a:lnTo>
                  <a:lnTo>
                    <a:pt x="732" y="1269"/>
                  </a:lnTo>
                  <a:lnTo>
                    <a:pt x="724" y="1253"/>
                  </a:lnTo>
                  <a:lnTo>
                    <a:pt x="717" y="1234"/>
                  </a:lnTo>
                  <a:lnTo>
                    <a:pt x="712" y="1219"/>
                  </a:lnTo>
                  <a:lnTo>
                    <a:pt x="709" y="1204"/>
                  </a:lnTo>
                  <a:lnTo>
                    <a:pt x="705" y="1191"/>
                  </a:lnTo>
                  <a:lnTo>
                    <a:pt x="700" y="1166"/>
                  </a:lnTo>
                  <a:lnTo>
                    <a:pt x="692" y="1143"/>
                  </a:lnTo>
                  <a:lnTo>
                    <a:pt x="685" y="1126"/>
                  </a:lnTo>
                  <a:lnTo>
                    <a:pt x="682" y="1119"/>
                  </a:lnTo>
                  <a:lnTo>
                    <a:pt x="689" y="1108"/>
                  </a:lnTo>
                  <a:lnTo>
                    <a:pt x="700" y="1078"/>
                  </a:lnTo>
                  <a:lnTo>
                    <a:pt x="707" y="1038"/>
                  </a:lnTo>
                  <a:lnTo>
                    <a:pt x="697" y="996"/>
                  </a:lnTo>
                  <a:lnTo>
                    <a:pt x="680" y="961"/>
                  </a:lnTo>
                  <a:lnTo>
                    <a:pt x="670" y="932"/>
                  </a:lnTo>
                  <a:lnTo>
                    <a:pt x="662" y="904"/>
                  </a:lnTo>
                  <a:lnTo>
                    <a:pt x="649" y="872"/>
                  </a:lnTo>
                  <a:lnTo>
                    <a:pt x="640" y="856"/>
                  </a:lnTo>
                  <a:lnTo>
                    <a:pt x="635" y="839"/>
                  </a:lnTo>
                  <a:lnTo>
                    <a:pt x="630" y="826"/>
                  </a:lnTo>
                  <a:lnTo>
                    <a:pt x="625" y="814"/>
                  </a:lnTo>
                  <a:lnTo>
                    <a:pt x="620" y="802"/>
                  </a:lnTo>
                  <a:lnTo>
                    <a:pt x="614" y="792"/>
                  </a:lnTo>
                  <a:lnTo>
                    <a:pt x="607" y="784"/>
                  </a:lnTo>
                  <a:lnTo>
                    <a:pt x="597" y="777"/>
                  </a:lnTo>
                  <a:lnTo>
                    <a:pt x="587" y="771"/>
                  </a:lnTo>
                  <a:lnTo>
                    <a:pt x="575" y="762"/>
                  </a:lnTo>
                  <a:lnTo>
                    <a:pt x="565" y="754"/>
                  </a:lnTo>
                  <a:lnTo>
                    <a:pt x="554" y="744"/>
                  </a:lnTo>
                  <a:lnTo>
                    <a:pt x="542" y="736"/>
                  </a:lnTo>
                  <a:lnTo>
                    <a:pt x="529" y="729"/>
                  </a:lnTo>
                  <a:lnTo>
                    <a:pt x="515" y="721"/>
                  </a:lnTo>
                  <a:lnTo>
                    <a:pt x="502" y="716"/>
                  </a:lnTo>
                  <a:lnTo>
                    <a:pt x="480" y="702"/>
                  </a:lnTo>
                  <a:lnTo>
                    <a:pt x="470" y="686"/>
                  </a:lnTo>
                  <a:lnTo>
                    <a:pt x="464" y="667"/>
                  </a:lnTo>
                  <a:lnTo>
                    <a:pt x="454" y="649"/>
                  </a:lnTo>
                  <a:lnTo>
                    <a:pt x="444" y="634"/>
                  </a:lnTo>
                  <a:lnTo>
                    <a:pt x="437" y="621"/>
                  </a:lnTo>
                  <a:lnTo>
                    <a:pt x="435" y="611"/>
                  </a:lnTo>
                  <a:lnTo>
                    <a:pt x="435" y="607"/>
                  </a:lnTo>
                  <a:lnTo>
                    <a:pt x="437" y="607"/>
                  </a:lnTo>
                  <a:lnTo>
                    <a:pt x="442" y="606"/>
                  </a:lnTo>
                  <a:lnTo>
                    <a:pt x="449" y="602"/>
                  </a:lnTo>
                  <a:lnTo>
                    <a:pt x="455" y="596"/>
                  </a:lnTo>
                  <a:lnTo>
                    <a:pt x="459" y="589"/>
                  </a:lnTo>
                  <a:lnTo>
                    <a:pt x="459" y="577"/>
                  </a:lnTo>
                  <a:lnTo>
                    <a:pt x="454" y="564"/>
                  </a:lnTo>
                  <a:lnTo>
                    <a:pt x="440" y="546"/>
                  </a:lnTo>
                  <a:lnTo>
                    <a:pt x="434" y="539"/>
                  </a:lnTo>
                  <a:lnTo>
                    <a:pt x="429" y="532"/>
                  </a:lnTo>
                  <a:lnTo>
                    <a:pt x="424" y="529"/>
                  </a:lnTo>
                  <a:lnTo>
                    <a:pt x="420" y="526"/>
                  </a:lnTo>
                  <a:lnTo>
                    <a:pt x="419" y="527"/>
                  </a:lnTo>
                  <a:lnTo>
                    <a:pt x="415" y="526"/>
                  </a:lnTo>
                  <a:lnTo>
                    <a:pt x="415" y="522"/>
                  </a:lnTo>
                  <a:lnTo>
                    <a:pt x="420" y="526"/>
                  </a:lnTo>
                  <a:lnTo>
                    <a:pt x="420" y="524"/>
                  </a:lnTo>
                  <a:lnTo>
                    <a:pt x="419" y="521"/>
                  </a:lnTo>
                  <a:lnTo>
                    <a:pt x="419" y="517"/>
                  </a:lnTo>
                  <a:lnTo>
                    <a:pt x="417" y="512"/>
                  </a:lnTo>
                  <a:lnTo>
                    <a:pt x="409" y="490"/>
                  </a:lnTo>
                  <a:lnTo>
                    <a:pt x="405" y="477"/>
                  </a:lnTo>
                  <a:lnTo>
                    <a:pt x="399" y="467"/>
                  </a:lnTo>
                  <a:lnTo>
                    <a:pt x="384" y="455"/>
                  </a:lnTo>
                  <a:lnTo>
                    <a:pt x="372" y="440"/>
                  </a:lnTo>
                  <a:lnTo>
                    <a:pt x="374" y="425"/>
                  </a:lnTo>
                  <a:lnTo>
                    <a:pt x="375" y="412"/>
                  </a:lnTo>
                  <a:lnTo>
                    <a:pt x="364" y="399"/>
                  </a:lnTo>
                  <a:lnTo>
                    <a:pt x="345" y="387"/>
                  </a:lnTo>
                  <a:lnTo>
                    <a:pt x="332" y="372"/>
                  </a:lnTo>
                  <a:lnTo>
                    <a:pt x="325" y="355"/>
                  </a:lnTo>
                  <a:lnTo>
                    <a:pt x="322" y="337"/>
                  </a:lnTo>
                  <a:lnTo>
                    <a:pt x="319" y="317"/>
                  </a:lnTo>
                  <a:lnTo>
                    <a:pt x="309" y="290"/>
                  </a:lnTo>
                  <a:lnTo>
                    <a:pt x="294" y="264"/>
                  </a:lnTo>
                  <a:lnTo>
                    <a:pt x="273" y="237"/>
                  </a:lnTo>
                  <a:lnTo>
                    <a:pt x="260" y="215"/>
                  </a:lnTo>
                  <a:lnTo>
                    <a:pt x="257" y="197"/>
                  </a:lnTo>
                  <a:lnTo>
                    <a:pt x="255" y="184"/>
                  </a:lnTo>
                  <a:lnTo>
                    <a:pt x="245" y="175"/>
                  </a:lnTo>
                  <a:lnTo>
                    <a:pt x="233" y="167"/>
                  </a:lnTo>
                  <a:lnTo>
                    <a:pt x="228" y="154"/>
                  </a:lnTo>
                  <a:lnTo>
                    <a:pt x="222" y="140"/>
                  </a:lnTo>
                  <a:lnTo>
                    <a:pt x="207" y="124"/>
                  </a:lnTo>
                  <a:lnTo>
                    <a:pt x="188" y="100"/>
                  </a:lnTo>
                  <a:lnTo>
                    <a:pt x="175" y="74"/>
                  </a:lnTo>
                  <a:lnTo>
                    <a:pt x="168" y="52"/>
                  </a:lnTo>
                  <a:lnTo>
                    <a:pt x="165" y="42"/>
                  </a:lnTo>
                  <a:lnTo>
                    <a:pt x="160" y="42"/>
                  </a:lnTo>
                  <a:lnTo>
                    <a:pt x="148" y="42"/>
                  </a:lnTo>
                  <a:lnTo>
                    <a:pt x="133" y="42"/>
                  </a:lnTo>
                  <a:lnTo>
                    <a:pt x="122" y="42"/>
                  </a:lnTo>
                  <a:lnTo>
                    <a:pt x="110" y="42"/>
                  </a:lnTo>
                  <a:lnTo>
                    <a:pt x="100" y="44"/>
                  </a:lnTo>
                  <a:lnTo>
                    <a:pt x="92" y="47"/>
                  </a:lnTo>
                  <a:lnTo>
                    <a:pt x="88" y="47"/>
                  </a:lnTo>
                  <a:lnTo>
                    <a:pt x="90" y="44"/>
                  </a:lnTo>
                  <a:lnTo>
                    <a:pt x="93" y="34"/>
                  </a:lnTo>
                  <a:lnTo>
                    <a:pt x="98" y="20"/>
                  </a:lnTo>
                  <a:lnTo>
                    <a:pt x="103" y="8"/>
                  </a:lnTo>
                  <a:lnTo>
                    <a:pt x="103" y="8"/>
                  </a:lnTo>
                  <a:lnTo>
                    <a:pt x="103" y="8"/>
                  </a:lnTo>
                  <a:lnTo>
                    <a:pt x="103" y="8"/>
                  </a:lnTo>
                  <a:lnTo>
                    <a:pt x="103" y="8"/>
                  </a:lnTo>
                  <a:lnTo>
                    <a:pt x="67" y="0"/>
                  </a:lnTo>
                  <a:lnTo>
                    <a:pt x="67" y="5"/>
                  </a:lnTo>
                  <a:lnTo>
                    <a:pt x="65" y="19"/>
                  </a:lnTo>
                  <a:lnTo>
                    <a:pt x="62" y="34"/>
                  </a:lnTo>
                  <a:lnTo>
                    <a:pt x="57" y="47"/>
                  </a:lnTo>
                  <a:lnTo>
                    <a:pt x="50" y="57"/>
                  </a:lnTo>
                  <a:lnTo>
                    <a:pt x="45" y="65"/>
                  </a:lnTo>
                  <a:lnTo>
                    <a:pt x="40" y="79"/>
                  </a:lnTo>
                  <a:lnTo>
                    <a:pt x="38" y="95"/>
                  </a:lnTo>
                  <a:lnTo>
                    <a:pt x="35" y="119"/>
                  </a:lnTo>
                  <a:lnTo>
                    <a:pt x="28" y="145"/>
                  </a:lnTo>
                  <a:lnTo>
                    <a:pt x="20" y="169"/>
                  </a:lnTo>
                  <a:lnTo>
                    <a:pt x="15" y="185"/>
                  </a:lnTo>
                  <a:lnTo>
                    <a:pt x="10" y="197"/>
                  </a:lnTo>
                  <a:lnTo>
                    <a:pt x="5" y="209"/>
                  </a:lnTo>
                  <a:lnTo>
                    <a:pt x="2" y="220"/>
                  </a:lnTo>
                  <a:lnTo>
                    <a:pt x="0" y="224"/>
                  </a:lnTo>
                  <a:lnTo>
                    <a:pt x="3" y="224"/>
                  </a:lnTo>
                  <a:lnTo>
                    <a:pt x="12" y="220"/>
                  </a:lnTo>
                  <a:lnTo>
                    <a:pt x="23" y="219"/>
                  </a:lnTo>
                  <a:lnTo>
                    <a:pt x="33" y="219"/>
                  </a:lnTo>
                  <a:lnTo>
                    <a:pt x="47" y="219"/>
                  </a:lnTo>
                  <a:lnTo>
                    <a:pt x="60" y="219"/>
                  </a:lnTo>
                  <a:lnTo>
                    <a:pt x="72" y="219"/>
                  </a:lnTo>
                  <a:lnTo>
                    <a:pt x="77" y="219"/>
                  </a:lnTo>
                  <a:lnTo>
                    <a:pt x="80" y="229"/>
                  </a:lnTo>
                  <a:lnTo>
                    <a:pt x="87" y="250"/>
                  </a:lnTo>
                  <a:lnTo>
                    <a:pt x="100" y="277"/>
                  </a:lnTo>
                  <a:lnTo>
                    <a:pt x="118" y="299"/>
                  </a:lnTo>
                  <a:lnTo>
                    <a:pt x="133" y="315"/>
                  </a:lnTo>
                  <a:lnTo>
                    <a:pt x="140" y="330"/>
                  </a:lnTo>
                  <a:lnTo>
                    <a:pt x="145" y="342"/>
                  </a:lnTo>
                  <a:lnTo>
                    <a:pt x="157" y="352"/>
                  </a:lnTo>
                  <a:lnTo>
                    <a:pt x="167" y="360"/>
                  </a:lnTo>
                  <a:lnTo>
                    <a:pt x="168" y="374"/>
                  </a:lnTo>
                  <a:lnTo>
                    <a:pt x="172" y="390"/>
                  </a:lnTo>
                  <a:lnTo>
                    <a:pt x="185" y="414"/>
                  </a:lnTo>
                  <a:lnTo>
                    <a:pt x="205" y="440"/>
                  </a:lnTo>
                  <a:lnTo>
                    <a:pt x="220" y="467"/>
                  </a:lnTo>
                  <a:lnTo>
                    <a:pt x="230" y="492"/>
                  </a:lnTo>
                  <a:lnTo>
                    <a:pt x="233" y="512"/>
                  </a:lnTo>
                  <a:lnTo>
                    <a:pt x="237" y="531"/>
                  </a:lnTo>
                  <a:lnTo>
                    <a:pt x="243" y="547"/>
                  </a:lnTo>
                  <a:lnTo>
                    <a:pt x="257" y="562"/>
                  </a:lnTo>
                  <a:lnTo>
                    <a:pt x="275" y="574"/>
                  </a:lnTo>
                  <a:lnTo>
                    <a:pt x="287" y="587"/>
                  </a:lnTo>
                  <a:lnTo>
                    <a:pt x="285" y="601"/>
                  </a:lnTo>
                  <a:lnTo>
                    <a:pt x="284" y="617"/>
                  </a:lnTo>
                  <a:lnTo>
                    <a:pt x="295" y="632"/>
                  </a:lnTo>
                  <a:lnTo>
                    <a:pt x="310" y="642"/>
                  </a:lnTo>
                  <a:lnTo>
                    <a:pt x="317" y="652"/>
                  </a:lnTo>
                  <a:lnTo>
                    <a:pt x="320" y="666"/>
                  </a:lnTo>
                  <a:lnTo>
                    <a:pt x="329" y="687"/>
                  </a:lnTo>
                  <a:lnTo>
                    <a:pt x="330" y="692"/>
                  </a:lnTo>
                  <a:lnTo>
                    <a:pt x="330" y="696"/>
                  </a:lnTo>
                  <a:lnTo>
                    <a:pt x="332" y="697"/>
                  </a:lnTo>
                  <a:lnTo>
                    <a:pt x="332" y="699"/>
                  </a:lnTo>
                  <a:lnTo>
                    <a:pt x="335" y="702"/>
                  </a:lnTo>
                  <a:lnTo>
                    <a:pt x="340" y="707"/>
                  </a:lnTo>
                  <a:lnTo>
                    <a:pt x="345" y="712"/>
                  </a:lnTo>
                  <a:lnTo>
                    <a:pt x="352" y="721"/>
                  </a:lnTo>
                  <a:lnTo>
                    <a:pt x="365" y="737"/>
                  </a:lnTo>
                  <a:lnTo>
                    <a:pt x="370" y="752"/>
                  </a:lnTo>
                  <a:lnTo>
                    <a:pt x="370" y="762"/>
                  </a:lnTo>
                  <a:lnTo>
                    <a:pt x="367" y="771"/>
                  </a:lnTo>
                  <a:lnTo>
                    <a:pt x="360" y="776"/>
                  </a:lnTo>
                  <a:lnTo>
                    <a:pt x="354" y="781"/>
                  </a:lnTo>
                  <a:lnTo>
                    <a:pt x="349" y="782"/>
                  </a:lnTo>
                  <a:lnTo>
                    <a:pt x="347" y="782"/>
                  </a:lnTo>
                  <a:lnTo>
                    <a:pt x="347" y="786"/>
                  </a:lnTo>
                  <a:lnTo>
                    <a:pt x="350" y="794"/>
                  </a:lnTo>
                  <a:lnTo>
                    <a:pt x="355" y="807"/>
                  </a:lnTo>
                  <a:lnTo>
                    <a:pt x="367" y="824"/>
                  </a:lnTo>
                  <a:lnTo>
                    <a:pt x="377" y="842"/>
                  </a:lnTo>
                  <a:lnTo>
                    <a:pt x="384" y="862"/>
                  </a:lnTo>
                  <a:lnTo>
                    <a:pt x="392" y="877"/>
                  </a:lnTo>
                  <a:lnTo>
                    <a:pt x="414" y="891"/>
                  </a:lnTo>
                  <a:lnTo>
                    <a:pt x="427" y="897"/>
                  </a:lnTo>
                  <a:lnTo>
                    <a:pt x="440" y="904"/>
                  </a:lnTo>
                  <a:lnTo>
                    <a:pt x="454" y="912"/>
                  </a:lnTo>
                  <a:lnTo>
                    <a:pt x="465" y="921"/>
                  </a:lnTo>
                  <a:lnTo>
                    <a:pt x="477" y="929"/>
                  </a:lnTo>
                  <a:lnTo>
                    <a:pt x="487" y="937"/>
                  </a:lnTo>
                  <a:lnTo>
                    <a:pt x="499" y="946"/>
                  </a:lnTo>
                  <a:lnTo>
                    <a:pt x="509" y="952"/>
                  </a:lnTo>
                  <a:lnTo>
                    <a:pt x="519" y="961"/>
                  </a:lnTo>
                  <a:lnTo>
                    <a:pt x="525" y="969"/>
                  </a:lnTo>
                  <a:lnTo>
                    <a:pt x="532" y="979"/>
                  </a:lnTo>
                  <a:lnTo>
                    <a:pt x="537" y="989"/>
                  </a:lnTo>
                  <a:lnTo>
                    <a:pt x="542" y="1002"/>
                  </a:lnTo>
                  <a:lnTo>
                    <a:pt x="547" y="1016"/>
                  </a:lnTo>
                  <a:lnTo>
                    <a:pt x="552" y="1031"/>
                  </a:lnTo>
                  <a:lnTo>
                    <a:pt x="560" y="1048"/>
                  </a:lnTo>
                  <a:lnTo>
                    <a:pt x="574" y="1079"/>
                  </a:lnTo>
                  <a:lnTo>
                    <a:pt x="584" y="1108"/>
                  </a:lnTo>
                  <a:lnTo>
                    <a:pt x="592" y="1136"/>
                  </a:lnTo>
                  <a:lnTo>
                    <a:pt x="609" y="1171"/>
                  </a:lnTo>
                  <a:lnTo>
                    <a:pt x="619" y="1213"/>
                  </a:lnTo>
                  <a:lnTo>
                    <a:pt x="612" y="1253"/>
                  </a:lnTo>
                  <a:lnTo>
                    <a:pt x="600" y="1283"/>
                  </a:lnTo>
                  <a:lnTo>
                    <a:pt x="594" y="1294"/>
                  </a:lnTo>
                  <a:lnTo>
                    <a:pt x="597" y="1301"/>
                  </a:lnTo>
                  <a:lnTo>
                    <a:pt x="604" y="1318"/>
                  </a:lnTo>
                  <a:lnTo>
                    <a:pt x="612" y="1341"/>
                  </a:lnTo>
                  <a:lnTo>
                    <a:pt x="617" y="1366"/>
                  </a:lnTo>
                  <a:lnTo>
                    <a:pt x="620" y="1379"/>
                  </a:lnTo>
                  <a:lnTo>
                    <a:pt x="624" y="1394"/>
                  </a:lnTo>
                  <a:lnTo>
                    <a:pt x="629" y="1409"/>
                  </a:lnTo>
                  <a:lnTo>
                    <a:pt x="635" y="1428"/>
                  </a:lnTo>
                  <a:lnTo>
                    <a:pt x="644" y="1444"/>
                  </a:lnTo>
                  <a:lnTo>
                    <a:pt x="654" y="1463"/>
                  </a:lnTo>
                  <a:lnTo>
                    <a:pt x="664" y="1481"/>
                  </a:lnTo>
                  <a:lnTo>
                    <a:pt x="675" y="1499"/>
                  </a:lnTo>
                  <a:lnTo>
                    <a:pt x="687" y="1516"/>
                  </a:lnTo>
                  <a:lnTo>
                    <a:pt x="695" y="1531"/>
                  </a:lnTo>
                  <a:lnTo>
                    <a:pt x="702" y="1543"/>
                  </a:lnTo>
                  <a:lnTo>
                    <a:pt x="707" y="1553"/>
                  </a:lnTo>
                  <a:lnTo>
                    <a:pt x="712" y="1561"/>
                  </a:lnTo>
                  <a:lnTo>
                    <a:pt x="719" y="1566"/>
                  </a:lnTo>
                  <a:lnTo>
                    <a:pt x="724" y="1570"/>
                  </a:lnTo>
                  <a:lnTo>
                    <a:pt x="732" y="1571"/>
                  </a:lnTo>
                  <a:lnTo>
                    <a:pt x="742" y="1573"/>
                  </a:lnTo>
                  <a:lnTo>
                    <a:pt x="754" y="1576"/>
                  </a:lnTo>
                  <a:lnTo>
                    <a:pt x="765" y="1581"/>
                  </a:lnTo>
                  <a:lnTo>
                    <a:pt x="779" y="1588"/>
                  </a:lnTo>
                  <a:lnTo>
                    <a:pt x="792" y="1595"/>
                  </a:lnTo>
                  <a:lnTo>
                    <a:pt x="804" y="1603"/>
                  </a:lnTo>
                  <a:lnTo>
                    <a:pt x="814" y="1611"/>
                  </a:lnTo>
                  <a:lnTo>
                    <a:pt x="822" y="1618"/>
                  </a:lnTo>
                  <a:lnTo>
                    <a:pt x="834" y="1633"/>
                  </a:lnTo>
                  <a:lnTo>
                    <a:pt x="846" y="1648"/>
                  </a:lnTo>
                  <a:lnTo>
                    <a:pt x="856" y="1663"/>
                  </a:lnTo>
                  <a:lnTo>
                    <a:pt x="866" y="1675"/>
                  </a:lnTo>
                  <a:lnTo>
                    <a:pt x="872" y="1685"/>
                  </a:lnTo>
                  <a:lnTo>
                    <a:pt x="881" y="1700"/>
                  </a:lnTo>
                  <a:lnTo>
                    <a:pt x="891" y="1721"/>
                  </a:lnTo>
                  <a:lnTo>
                    <a:pt x="902" y="1743"/>
                  </a:lnTo>
                  <a:lnTo>
                    <a:pt x="912" y="1768"/>
                  </a:lnTo>
                  <a:lnTo>
                    <a:pt x="921" y="1790"/>
                  </a:lnTo>
                  <a:lnTo>
                    <a:pt x="927" y="1810"/>
                  </a:lnTo>
                  <a:lnTo>
                    <a:pt x="931" y="1823"/>
                  </a:lnTo>
                  <a:lnTo>
                    <a:pt x="937" y="1841"/>
                  </a:lnTo>
                  <a:lnTo>
                    <a:pt x="951" y="1858"/>
                  </a:lnTo>
                  <a:lnTo>
                    <a:pt x="964" y="1878"/>
                  </a:lnTo>
                  <a:lnTo>
                    <a:pt x="979" y="1908"/>
                  </a:lnTo>
                  <a:lnTo>
                    <a:pt x="987" y="1926"/>
                  </a:lnTo>
                  <a:lnTo>
                    <a:pt x="999" y="1945"/>
                  </a:lnTo>
                  <a:lnTo>
                    <a:pt x="1014" y="1965"/>
                  </a:lnTo>
                  <a:lnTo>
                    <a:pt x="1029" y="1981"/>
                  </a:lnTo>
                  <a:lnTo>
                    <a:pt x="1044" y="2000"/>
                  </a:lnTo>
                  <a:lnTo>
                    <a:pt x="1059" y="2015"/>
                  </a:lnTo>
                  <a:lnTo>
                    <a:pt x="1072" y="2027"/>
                  </a:lnTo>
                  <a:lnTo>
                    <a:pt x="1084" y="2037"/>
                  </a:lnTo>
                  <a:lnTo>
                    <a:pt x="1097" y="2052"/>
                  </a:lnTo>
                  <a:lnTo>
                    <a:pt x="1106" y="2068"/>
                  </a:lnTo>
                  <a:lnTo>
                    <a:pt x="1109" y="2085"/>
                  </a:lnTo>
                  <a:lnTo>
                    <a:pt x="1112" y="2098"/>
                  </a:lnTo>
                  <a:lnTo>
                    <a:pt x="1117" y="2108"/>
                  </a:lnTo>
                  <a:lnTo>
                    <a:pt x="1126" y="2120"/>
                  </a:lnTo>
                  <a:lnTo>
                    <a:pt x="1136" y="2132"/>
                  </a:lnTo>
                  <a:lnTo>
                    <a:pt x="1146" y="2145"/>
                  </a:lnTo>
                  <a:lnTo>
                    <a:pt x="1156" y="2160"/>
                  </a:lnTo>
                  <a:lnTo>
                    <a:pt x="1164" y="2175"/>
                  </a:lnTo>
                  <a:lnTo>
                    <a:pt x="1169" y="2190"/>
                  </a:lnTo>
                  <a:lnTo>
                    <a:pt x="1169" y="2202"/>
                  </a:lnTo>
                  <a:lnTo>
                    <a:pt x="1169" y="2217"/>
                  </a:lnTo>
                  <a:lnTo>
                    <a:pt x="1172" y="2233"/>
                  </a:lnTo>
                  <a:lnTo>
                    <a:pt x="1177" y="2248"/>
                  </a:lnTo>
                  <a:lnTo>
                    <a:pt x="1179" y="2255"/>
                  </a:lnTo>
                  <a:lnTo>
                    <a:pt x="1216" y="2227"/>
                  </a:lnTo>
                  <a:lnTo>
                    <a:pt x="1219" y="2222"/>
                  </a:lnTo>
                  <a:lnTo>
                    <a:pt x="1226" y="2208"/>
                  </a:lnTo>
                  <a:lnTo>
                    <a:pt x="1232" y="2192"/>
                  </a:lnTo>
                  <a:lnTo>
                    <a:pt x="1236" y="2178"/>
                  </a:lnTo>
                  <a:lnTo>
                    <a:pt x="1236" y="2165"/>
                  </a:lnTo>
                  <a:lnTo>
                    <a:pt x="1234" y="2145"/>
                  </a:lnTo>
                  <a:lnTo>
                    <a:pt x="1236" y="2123"/>
                  </a:lnTo>
                  <a:lnTo>
                    <a:pt x="1241" y="2103"/>
                  </a:lnTo>
                  <a:lnTo>
                    <a:pt x="1241" y="2087"/>
                  </a:lnTo>
                  <a:lnTo>
                    <a:pt x="1236" y="2077"/>
                  </a:lnTo>
                  <a:lnTo>
                    <a:pt x="1234" y="2067"/>
                  </a:lnTo>
                  <a:lnTo>
                    <a:pt x="1241" y="2060"/>
                  </a:lnTo>
                  <a:lnTo>
                    <a:pt x="1246" y="2057"/>
                  </a:lnTo>
                  <a:lnTo>
                    <a:pt x="1251" y="2057"/>
                  </a:lnTo>
                  <a:lnTo>
                    <a:pt x="1256" y="2058"/>
                  </a:lnTo>
                  <a:lnTo>
                    <a:pt x="1261" y="2062"/>
                  </a:lnTo>
                  <a:lnTo>
                    <a:pt x="1259" y="2052"/>
                  </a:lnTo>
                  <a:lnTo>
                    <a:pt x="1257" y="2043"/>
                  </a:lnTo>
                  <a:lnTo>
                    <a:pt x="1256" y="2033"/>
                  </a:lnTo>
                  <a:lnTo>
                    <a:pt x="1257" y="2027"/>
                  </a:lnTo>
                  <a:close/>
                </a:path>
              </a:pathLst>
            </a:custGeom>
            <a:solidFill>
              <a:srgbClr val="ffffff">
                <a:alpha val="10000"/>
              </a:srgbClr>
            </a:solidFill>
            <a:ln cap="sq" w="9360">
              <a:solidFill>
                <a:srgbClr val="ffffff"/>
              </a:solidFill>
              <a:round/>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2" name=""/>
            <p:cNvSpPr/>
            <p:nvPr/>
          </p:nvSpPr>
          <p:spPr>
            <a:xfrm>
              <a:off x="3086280" y="3249720"/>
              <a:ext cx="4680" cy="4680"/>
            </a:xfrm>
            <a:custGeom>
              <a:avLst/>
              <a:gdLst/>
              <a:ahLst/>
              <a:rect l="l" t="t" r="r" b="b"/>
              <a:pathLst>
                <a:path w="5" h="5">
                  <a:moveTo>
                    <a:pt x="5" y="3"/>
                  </a:moveTo>
                  <a:lnTo>
                    <a:pt x="0" y="0"/>
                  </a:lnTo>
                  <a:lnTo>
                    <a:pt x="2" y="3"/>
                  </a:lnTo>
                  <a:lnTo>
                    <a:pt x="3" y="5"/>
                  </a:lnTo>
                  <a:lnTo>
                    <a:pt x="5" y="3"/>
                  </a:lnTo>
                  <a:lnTo>
                    <a:pt x="5" y="3"/>
                  </a:lnTo>
                  <a:close/>
                </a:path>
              </a:pathLst>
            </a:custGeom>
            <a:solidFill>
              <a:srgbClr val="000000"/>
            </a:solidFill>
            <a:ln w="0">
              <a:noFill/>
            </a:ln>
          </p:spPr>
          <p:style>
            <a:lnRef idx="0"/>
            <a:fillRef idx="0"/>
            <a:effectRef idx="0"/>
            <a:fontRef idx="minor"/>
          </p:style>
          <p:txBody>
            <a:bodyPr wrap="none" lIns="90000" rIns="90000" tIns="-42120" bIns="-421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3" name=""/>
            <p:cNvSpPr/>
            <p:nvPr/>
          </p:nvSpPr>
          <p:spPr>
            <a:xfrm>
              <a:off x="4379760" y="4205160"/>
              <a:ext cx="2567160" cy="993960"/>
            </a:xfrm>
            <a:custGeom>
              <a:avLst/>
              <a:gdLst/>
              <a:ahLst/>
              <a:rect l="l" t="t" r="r" b="b"/>
              <a:pathLst>
                <a:path w="1881" h="744">
                  <a:moveTo>
                    <a:pt x="1298" y="222"/>
                  </a:moveTo>
                  <a:lnTo>
                    <a:pt x="1283" y="225"/>
                  </a:lnTo>
                  <a:lnTo>
                    <a:pt x="1263" y="230"/>
                  </a:lnTo>
                  <a:lnTo>
                    <a:pt x="1239" y="235"/>
                  </a:lnTo>
                  <a:lnTo>
                    <a:pt x="1214" y="242"/>
                  </a:lnTo>
                  <a:lnTo>
                    <a:pt x="1186" y="249"/>
                  </a:lnTo>
                  <a:lnTo>
                    <a:pt x="1157" y="255"/>
                  </a:lnTo>
                  <a:lnTo>
                    <a:pt x="1127" y="262"/>
                  </a:lnTo>
                  <a:lnTo>
                    <a:pt x="1097" y="269"/>
                  </a:lnTo>
                  <a:lnTo>
                    <a:pt x="1067" y="275"/>
                  </a:lnTo>
                  <a:lnTo>
                    <a:pt x="1039" y="284"/>
                  </a:lnTo>
                  <a:lnTo>
                    <a:pt x="1012" y="290"/>
                  </a:lnTo>
                  <a:lnTo>
                    <a:pt x="989" y="297"/>
                  </a:lnTo>
                  <a:lnTo>
                    <a:pt x="967" y="302"/>
                  </a:lnTo>
                  <a:lnTo>
                    <a:pt x="949" y="309"/>
                  </a:lnTo>
                  <a:lnTo>
                    <a:pt x="936" y="314"/>
                  </a:lnTo>
                  <a:lnTo>
                    <a:pt x="927" y="317"/>
                  </a:lnTo>
                  <a:lnTo>
                    <a:pt x="914" y="324"/>
                  </a:lnTo>
                  <a:lnTo>
                    <a:pt x="901" y="329"/>
                  </a:lnTo>
                  <a:lnTo>
                    <a:pt x="887" y="337"/>
                  </a:lnTo>
                  <a:lnTo>
                    <a:pt x="872" y="344"/>
                  </a:lnTo>
                  <a:lnTo>
                    <a:pt x="857" y="355"/>
                  </a:lnTo>
                  <a:lnTo>
                    <a:pt x="842" y="369"/>
                  </a:lnTo>
                  <a:lnTo>
                    <a:pt x="826" y="389"/>
                  </a:lnTo>
                  <a:lnTo>
                    <a:pt x="807" y="412"/>
                  </a:lnTo>
                  <a:lnTo>
                    <a:pt x="791" y="437"/>
                  </a:lnTo>
                  <a:lnTo>
                    <a:pt x="776" y="460"/>
                  </a:lnTo>
                  <a:lnTo>
                    <a:pt x="761" y="482"/>
                  </a:lnTo>
                  <a:lnTo>
                    <a:pt x="747" y="502"/>
                  </a:lnTo>
                  <a:lnTo>
                    <a:pt x="737" y="519"/>
                  </a:lnTo>
                  <a:lnTo>
                    <a:pt x="727" y="532"/>
                  </a:lnTo>
                  <a:lnTo>
                    <a:pt x="719" y="542"/>
                  </a:lnTo>
                  <a:lnTo>
                    <a:pt x="712" y="549"/>
                  </a:lnTo>
                  <a:lnTo>
                    <a:pt x="706" y="554"/>
                  </a:lnTo>
                  <a:lnTo>
                    <a:pt x="699" y="559"/>
                  </a:lnTo>
                  <a:lnTo>
                    <a:pt x="689" y="564"/>
                  </a:lnTo>
                  <a:lnTo>
                    <a:pt x="679" y="565"/>
                  </a:lnTo>
                  <a:lnTo>
                    <a:pt x="667" y="567"/>
                  </a:lnTo>
                  <a:lnTo>
                    <a:pt x="657" y="567"/>
                  </a:lnTo>
                  <a:lnTo>
                    <a:pt x="647" y="564"/>
                  </a:lnTo>
                  <a:lnTo>
                    <a:pt x="637" y="559"/>
                  </a:lnTo>
                  <a:lnTo>
                    <a:pt x="629" y="552"/>
                  </a:lnTo>
                  <a:lnTo>
                    <a:pt x="622" y="544"/>
                  </a:lnTo>
                  <a:lnTo>
                    <a:pt x="615" y="535"/>
                  </a:lnTo>
                  <a:lnTo>
                    <a:pt x="609" y="529"/>
                  </a:lnTo>
                  <a:lnTo>
                    <a:pt x="602" y="524"/>
                  </a:lnTo>
                  <a:lnTo>
                    <a:pt x="595" y="520"/>
                  </a:lnTo>
                  <a:lnTo>
                    <a:pt x="589" y="519"/>
                  </a:lnTo>
                  <a:lnTo>
                    <a:pt x="580" y="520"/>
                  </a:lnTo>
                  <a:lnTo>
                    <a:pt x="569" y="524"/>
                  </a:lnTo>
                  <a:lnTo>
                    <a:pt x="554" y="525"/>
                  </a:lnTo>
                  <a:lnTo>
                    <a:pt x="537" y="525"/>
                  </a:lnTo>
                  <a:lnTo>
                    <a:pt x="519" y="525"/>
                  </a:lnTo>
                  <a:lnTo>
                    <a:pt x="499" y="525"/>
                  </a:lnTo>
                  <a:lnTo>
                    <a:pt x="480" y="524"/>
                  </a:lnTo>
                  <a:lnTo>
                    <a:pt x="462" y="522"/>
                  </a:lnTo>
                  <a:lnTo>
                    <a:pt x="447" y="520"/>
                  </a:lnTo>
                  <a:lnTo>
                    <a:pt x="432" y="519"/>
                  </a:lnTo>
                  <a:lnTo>
                    <a:pt x="417" y="515"/>
                  </a:lnTo>
                  <a:lnTo>
                    <a:pt x="404" y="510"/>
                  </a:lnTo>
                  <a:lnTo>
                    <a:pt x="389" y="507"/>
                  </a:lnTo>
                  <a:lnTo>
                    <a:pt x="375" y="504"/>
                  </a:lnTo>
                  <a:lnTo>
                    <a:pt x="364" y="500"/>
                  </a:lnTo>
                  <a:lnTo>
                    <a:pt x="352" y="497"/>
                  </a:lnTo>
                  <a:lnTo>
                    <a:pt x="342" y="497"/>
                  </a:lnTo>
                  <a:lnTo>
                    <a:pt x="329" y="497"/>
                  </a:lnTo>
                  <a:lnTo>
                    <a:pt x="307" y="497"/>
                  </a:lnTo>
                  <a:lnTo>
                    <a:pt x="280" y="499"/>
                  </a:lnTo>
                  <a:lnTo>
                    <a:pt x="250" y="499"/>
                  </a:lnTo>
                  <a:lnTo>
                    <a:pt x="224" y="500"/>
                  </a:lnTo>
                  <a:lnTo>
                    <a:pt x="200" y="502"/>
                  </a:lnTo>
                  <a:lnTo>
                    <a:pt x="184" y="502"/>
                  </a:lnTo>
                  <a:lnTo>
                    <a:pt x="177" y="502"/>
                  </a:lnTo>
                  <a:lnTo>
                    <a:pt x="175" y="504"/>
                  </a:lnTo>
                  <a:lnTo>
                    <a:pt x="170" y="505"/>
                  </a:lnTo>
                  <a:lnTo>
                    <a:pt x="164" y="509"/>
                  </a:lnTo>
                  <a:lnTo>
                    <a:pt x="155" y="510"/>
                  </a:lnTo>
                  <a:lnTo>
                    <a:pt x="144" y="512"/>
                  </a:lnTo>
                  <a:lnTo>
                    <a:pt x="132" y="512"/>
                  </a:lnTo>
                  <a:lnTo>
                    <a:pt x="120" y="509"/>
                  </a:lnTo>
                  <a:lnTo>
                    <a:pt x="107" y="502"/>
                  </a:lnTo>
                  <a:lnTo>
                    <a:pt x="95" y="494"/>
                  </a:lnTo>
                  <a:lnTo>
                    <a:pt x="87" y="485"/>
                  </a:lnTo>
                  <a:lnTo>
                    <a:pt x="80" y="479"/>
                  </a:lnTo>
                  <a:lnTo>
                    <a:pt x="75" y="475"/>
                  </a:lnTo>
                  <a:lnTo>
                    <a:pt x="70" y="472"/>
                  </a:lnTo>
                  <a:lnTo>
                    <a:pt x="65" y="470"/>
                  </a:lnTo>
                  <a:lnTo>
                    <a:pt x="60" y="470"/>
                  </a:lnTo>
                  <a:lnTo>
                    <a:pt x="53" y="474"/>
                  </a:lnTo>
                  <a:lnTo>
                    <a:pt x="47" y="480"/>
                  </a:lnTo>
                  <a:lnTo>
                    <a:pt x="50" y="489"/>
                  </a:lnTo>
                  <a:lnTo>
                    <a:pt x="55" y="500"/>
                  </a:lnTo>
                  <a:lnTo>
                    <a:pt x="53" y="515"/>
                  </a:lnTo>
                  <a:lnTo>
                    <a:pt x="50" y="535"/>
                  </a:lnTo>
                  <a:lnTo>
                    <a:pt x="48" y="557"/>
                  </a:lnTo>
                  <a:lnTo>
                    <a:pt x="50" y="577"/>
                  </a:lnTo>
                  <a:lnTo>
                    <a:pt x="50" y="592"/>
                  </a:lnTo>
                  <a:lnTo>
                    <a:pt x="47" y="606"/>
                  </a:lnTo>
                  <a:lnTo>
                    <a:pt x="40" y="621"/>
                  </a:lnTo>
                  <a:lnTo>
                    <a:pt x="33" y="634"/>
                  </a:lnTo>
                  <a:lnTo>
                    <a:pt x="30" y="639"/>
                  </a:lnTo>
                  <a:lnTo>
                    <a:pt x="0" y="662"/>
                  </a:lnTo>
                  <a:lnTo>
                    <a:pt x="3" y="666"/>
                  </a:lnTo>
                  <a:lnTo>
                    <a:pt x="8" y="669"/>
                  </a:lnTo>
                  <a:lnTo>
                    <a:pt x="13" y="674"/>
                  </a:lnTo>
                  <a:lnTo>
                    <a:pt x="18" y="677"/>
                  </a:lnTo>
                  <a:lnTo>
                    <a:pt x="32" y="684"/>
                  </a:lnTo>
                  <a:lnTo>
                    <a:pt x="43" y="687"/>
                  </a:lnTo>
                  <a:lnTo>
                    <a:pt x="55" y="687"/>
                  </a:lnTo>
                  <a:lnTo>
                    <a:pt x="67" y="686"/>
                  </a:lnTo>
                  <a:lnTo>
                    <a:pt x="77" y="684"/>
                  </a:lnTo>
                  <a:lnTo>
                    <a:pt x="83" y="681"/>
                  </a:lnTo>
                  <a:lnTo>
                    <a:pt x="88" y="679"/>
                  </a:lnTo>
                  <a:lnTo>
                    <a:pt x="90" y="677"/>
                  </a:lnTo>
                  <a:lnTo>
                    <a:pt x="97" y="677"/>
                  </a:lnTo>
                  <a:lnTo>
                    <a:pt x="114" y="677"/>
                  </a:lnTo>
                  <a:lnTo>
                    <a:pt x="137" y="676"/>
                  </a:lnTo>
                  <a:lnTo>
                    <a:pt x="164" y="674"/>
                  </a:lnTo>
                  <a:lnTo>
                    <a:pt x="194" y="674"/>
                  </a:lnTo>
                  <a:lnTo>
                    <a:pt x="220" y="672"/>
                  </a:lnTo>
                  <a:lnTo>
                    <a:pt x="242" y="672"/>
                  </a:lnTo>
                  <a:lnTo>
                    <a:pt x="255" y="672"/>
                  </a:lnTo>
                  <a:lnTo>
                    <a:pt x="265" y="674"/>
                  </a:lnTo>
                  <a:lnTo>
                    <a:pt x="275" y="676"/>
                  </a:lnTo>
                  <a:lnTo>
                    <a:pt x="289" y="679"/>
                  </a:lnTo>
                  <a:lnTo>
                    <a:pt x="302" y="682"/>
                  </a:lnTo>
                  <a:lnTo>
                    <a:pt x="315" y="687"/>
                  </a:lnTo>
                  <a:lnTo>
                    <a:pt x="330" y="691"/>
                  </a:lnTo>
                  <a:lnTo>
                    <a:pt x="344" y="694"/>
                  </a:lnTo>
                  <a:lnTo>
                    <a:pt x="359" y="697"/>
                  </a:lnTo>
                  <a:lnTo>
                    <a:pt x="374" y="699"/>
                  </a:lnTo>
                  <a:lnTo>
                    <a:pt x="392" y="701"/>
                  </a:lnTo>
                  <a:lnTo>
                    <a:pt x="412" y="701"/>
                  </a:lnTo>
                  <a:lnTo>
                    <a:pt x="430" y="702"/>
                  </a:lnTo>
                  <a:lnTo>
                    <a:pt x="450" y="702"/>
                  </a:lnTo>
                  <a:lnTo>
                    <a:pt x="467" y="701"/>
                  </a:lnTo>
                  <a:lnTo>
                    <a:pt x="480" y="701"/>
                  </a:lnTo>
                  <a:lnTo>
                    <a:pt x="492" y="697"/>
                  </a:lnTo>
                  <a:lnTo>
                    <a:pt x="500" y="696"/>
                  </a:lnTo>
                  <a:lnTo>
                    <a:pt x="507" y="696"/>
                  </a:lnTo>
                  <a:lnTo>
                    <a:pt x="514" y="699"/>
                  </a:lnTo>
                  <a:lnTo>
                    <a:pt x="520" y="706"/>
                  </a:lnTo>
                  <a:lnTo>
                    <a:pt x="527" y="712"/>
                  </a:lnTo>
                  <a:lnTo>
                    <a:pt x="534" y="719"/>
                  </a:lnTo>
                  <a:lnTo>
                    <a:pt x="540" y="727"/>
                  </a:lnTo>
                  <a:lnTo>
                    <a:pt x="549" y="734"/>
                  </a:lnTo>
                  <a:lnTo>
                    <a:pt x="559" y="741"/>
                  </a:lnTo>
                  <a:lnTo>
                    <a:pt x="569" y="742"/>
                  </a:lnTo>
                  <a:lnTo>
                    <a:pt x="579" y="744"/>
                  </a:lnTo>
                  <a:lnTo>
                    <a:pt x="590" y="742"/>
                  </a:lnTo>
                  <a:lnTo>
                    <a:pt x="600" y="739"/>
                  </a:lnTo>
                  <a:lnTo>
                    <a:pt x="610" y="736"/>
                  </a:lnTo>
                  <a:lnTo>
                    <a:pt x="619" y="731"/>
                  </a:lnTo>
                  <a:lnTo>
                    <a:pt x="625" y="726"/>
                  </a:lnTo>
                  <a:lnTo>
                    <a:pt x="632" y="719"/>
                  </a:lnTo>
                  <a:lnTo>
                    <a:pt x="639" y="707"/>
                  </a:lnTo>
                  <a:lnTo>
                    <a:pt x="649" y="694"/>
                  </a:lnTo>
                  <a:lnTo>
                    <a:pt x="661" y="677"/>
                  </a:lnTo>
                  <a:lnTo>
                    <a:pt x="672" y="659"/>
                  </a:lnTo>
                  <a:lnTo>
                    <a:pt x="687" y="637"/>
                  </a:lnTo>
                  <a:lnTo>
                    <a:pt x="704" y="614"/>
                  </a:lnTo>
                  <a:lnTo>
                    <a:pt x="721" y="587"/>
                  </a:lnTo>
                  <a:lnTo>
                    <a:pt x="737" y="564"/>
                  </a:lnTo>
                  <a:lnTo>
                    <a:pt x="754" y="544"/>
                  </a:lnTo>
                  <a:lnTo>
                    <a:pt x="769" y="530"/>
                  </a:lnTo>
                  <a:lnTo>
                    <a:pt x="786" y="519"/>
                  </a:lnTo>
                  <a:lnTo>
                    <a:pt x="799" y="512"/>
                  </a:lnTo>
                  <a:lnTo>
                    <a:pt x="812" y="504"/>
                  </a:lnTo>
                  <a:lnTo>
                    <a:pt x="826" y="499"/>
                  </a:lnTo>
                  <a:lnTo>
                    <a:pt x="839" y="492"/>
                  </a:lnTo>
                  <a:lnTo>
                    <a:pt x="847" y="489"/>
                  </a:lnTo>
                  <a:lnTo>
                    <a:pt x="862" y="484"/>
                  </a:lnTo>
                  <a:lnTo>
                    <a:pt x="879" y="479"/>
                  </a:lnTo>
                  <a:lnTo>
                    <a:pt x="901" y="472"/>
                  </a:lnTo>
                  <a:lnTo>
                    <a:pt x="926" y="465"/>
                  </a:lnTo>
                  <a:lnTo>
                    <a:pt x="952" y="459"/>
                  </a:lnTo>
                  <a:lnTo>
                    <a:pt x="981" y="452"/>
                  </a:lnTo>
                  <a:lnTo>
                    <a:pt x="1009" y="444"/>
                  </a:lnTo>
                  <a:lnTo>
                    <a:pt x="1039" y="437"/>
                  </a:lnTo>
                  <a:lnTo>
                    <a:pt x="1069" y="430"/>
                  </a:lnTo>
                  <a:lnTo>
                    <a:pt x="1097" y="424"/>
                  </a:lnTo>
                  <a:lnTo>
                    <a:pt x="1126" y="417"/>
                  </a:lnTo>
                  <a:lnTo>
                    <a:pt x="1151" y="410"/>
                  </a:lnTo>
                  <a:lnTo>
                    <a:pt x="1174" y="405"/>
                  </a:lnTo>
                  <a:lnTo>
                    <a:pt x="1194" y="400"/>
                  </a:lnTo>
                  <a:lnTo>
                    <a:pt x="1209" y="397"/>
                  </a:lnTo>
                  <a:lnTo>
                    <a:pt x="1236" y="390"/>
                  </a:lnTo>
                  <a:lnTo>
                    <a:pt x="1263" y="385"/>
                  </a:lnTo>
                  <a:lnTo>
                    <a:pt x="1289" y="382"/>
                  </a:lnTo>
                  <a:lnTo>
                    <a:pt x="1313" y="379"/>
                  </a:lnTo>
                  <a:lnTo>
                    <a:pt x="1336" y="375"/>
                  </a:lnTo>
                  <a:lnTo>
                    <a:pt x="1354" y="370"/>
                  </a:lnTo>
                  <a:lnTo>
                    <a:pt x="1371" y="365"/>
                  </a:lnTo>
                  <a:lnTo>
                    <a:pt x="1384" y="359"/>
                  </a:lnTo>
                  <a:lnTo>
                    <a:pt x="1394" y="354"/>
                  </a:lnTo>
                  <a:lnTo>
                    <a:pt x="1411" y="345"/>
                  </a:lnTo>
                  <a:lnTo>
                    <a:pt x="1434" y="334"/>
                  </a:lnTo>
                  <a:lnTo>
                    <a:pt x="1463" y="320"/>
                  </a:lnTo>
                  <a:lnTo>
                    <a:pt x="1496" y="307"/>
                  </a:lnTo>
                  <a:lnTo>
                    <a:pt x="1533" y="290"/>
                  </a:lnTo>
                  <a:lnTo>
                    <a:pt x="1571" y="274"/>
                  </a:lnTo>
                  <a:lnTo>
                    <a:pt x="1611" y="255"/>
                  </a:lnTo>
                  <a:lnTo>
                    <a:pt x="1649" y="239"/>
                  </a:lnTo>
                  <a:lnTo>
                    <a:pt x="1688" y="222"/>
                  </a:lnTo>
                  <a:lnTo>
                    <a:pt x="1723" y="207"/>
                  </a:lnTo>
                  <a:lnTo>
                    <a:pt x="1756" y="192"/>
                  </a:lnTo>
                  <a:lnTo>
                    <a:pt x="1783" y="180"/>
                  </a:lnTo>
                  <a:lnTo>
                    <a:pt x="1805" y="170"/>
                  </a:lnTo>
                  <a:lnTo>
                    <a:pt x="1820" y="164"/>
                  </a:lnTo>
                  <a:lnTo>
                    <a:pt x="1826" y="160"/>
                  </a:lnTo>
                  <a:lnTo>
                    <a:pt x="1836" y="152"/>
                  </a:lnTo>
                  <a:lnTo>
                    <a:pt x="1841" y="142"/>
                  </a:lnTo>
                  <a:lnTo>
                    <a:pt x="1845" y="130"/>
                  </a:lnTo>
                  <a:lnTo>
                    <a:pt x="1846" y="117"/>
                  </a:lnTo>
                  <a:lnTo>
                    <a:pt x="1848" y="100"/>
                  </a:lnTo>
                  <a:lnTo>
                    <a:pt x="1851" y="78"/>
                  </a:lnTo>
                  <a:lnTo>
                    <a:pt x="1858" y="57"/>
                  </a:lnTo>
                  <a:lnTo>
                    <a:pt x="1865" y="37"/>
                  </a:lnTo>
                  <a:lnTo>
                    <a:pt x="1868" y="27"/>
                  </a:lnTo>
                  <a:lnTo>
                    <a:pt x="1873" y="18"/>
                  </a:lnTo>
                  <a:lnTo>
                    <a:pt x="1876" y="8"/>
                  </a:lnTo>
                  <a:lnTo>
                    <a:pt x="1881" y="0"/>
                  </a:lnTo>
                  <a:lnTo>
                    <a:pt x="1861" y="10"/>
                  </a:lnTo>
                  <a:lnTo>
                    <a:pt x="1836" y="20"/>
                  </a:lnTo>
                  <a:lnTo>
                    <a:pt x="1808" y="32"/>
                  </a:lnTo>
                  <a:lnTo>
                    <a:pt x="1778" y="45"/>
                  </a:lnTo>
                  <a:lnTo>
                    <a:pt x="1746" y="58"/>
                  </a:lnTo>
                  <a:lnTo>
                    <a:pt x="1714" y="73"/>
                  </a:lnTo>
                  <a:lnTo>
                    <a:pt x="1681" y="88"/>
                  </a:lnTo>
                  <a:lnTo>
                    <a:pt x="1648" y="102"/>
                  </a:lnTo>
                  <a:lnTo>
                    <a:pt x="1616" y="117"/>
                  </a:lnTo>
                  <a:lnTo>
                    <a:pt x="1586" y="130"/>
                  </a:lnTo>
                  <a:lnTo>
                    <a:pt x="1558" y="142"/>
                  </a:lnTo>
                  <a:lnTo>
                    <a:pt x="1533" y="154"/>
                  </a:lnTo>
                  <a:lnTo>
                    <a:pt x="1511" y="164"/>
                  </a:lnTo>
                  <a:lnTo>
                    <a:pt x="1493" y="174"/>
                  </a:lnTo>
                  <a:lnTo>
                    <a:pt x="1479" y="179"/>
                  </a:lnTo>
                  <a:lnTo>
                    <a:pt x="1473" y="184"/>
                  </a:lnTo>
                  <a:lnTo>
                    <a:pt x="1459" y="190"/>
                  </a:lnTo>
                  <a:lnTo>
                    <a:pt x="1443" y="195"/>
                  </a:lnTo>
                  <a:lnTo>
                    <a:pt x="1423" y="199"/>
                  </a:lnTo>
                  <a:lnTo>
                    <a:pt x="1401" y="202"/>
                  </a:lnTo>
                  <a:lnTo>
                    <a:pt x="1376" y="205"/>
                  </a:lnTo>
                  <a:lnTo>
                    <a:pt x="1351" y="210"/>
                  </a:lnTo>
                  <a:lnTo>
                    <a:pt x="1324" y="215"/>
                  </a:lnTo>
                  <a:lnTo>
                    <a:pt x="1298" y="222"/>
                  </a:lnTo>
                  <a:close/>
                </a:path>
              </a:pathLst>
            </a:custGeom>
            <a:solidFill>
              <a:srgbClr val="ffffff">
                <a:alpha val="20000"/>
              </a:srgbClr>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4" name=""/>
            <p:cNvSpPr/>
            <p:nvPr/>
          </p:nvSpPr>
          <p:spPr>
            <a:xfrm>
              <a:off x="2813040" y="1346040"/>
              <a:ext cx="4348080" cy="3579840"/>
            </a:xfrm>
            <a:custGeom>
              <a:avLst/>
              <a:gdLst/>
              <a:ahLst/>
              <a:rect l="l" t="t" r="r" b="b"/>
              <a:pathLst>
                <a:path w="3185" h="2678">
                  <a:moveTo>
                    <a:pt x="380" y="90"/>
                  </a:moveTo>
                  <a:lnTo>
                    <a:pt x="683" y="28"/>
                  </a:lnTo>
                  <a:lnTo>
                    <a:pt x="693" y="0"/>
                  </a:lnTo>
                  <a:lnTo>
                    <a:pt x="695" y="0"/>
                  </a:lnTo>
                  <a:lnTo>
                    <a:pt x="698" y="0"/>
                  </a:lnTo>
                  <a:lnTo>
                    <a:pt x="704" y="0"/>
                  </a:lnTo>
                  <a:lnTo>
                    <a:pt x="712" y="0"/>
                  </a:lnTo>
                  <a:lnTo>
                    <a:pt x="720" y="0"/>
                  </a:lnTo>
                  <a:lnTo>
                    <a:pt x="734" y="2"/>
                  </a:lnTo>
                  <a:lnTo>
                    <a:pt x="747" y="5"/>
                  </a:lnTo>
                  <a:lnTo>
                    <a:pt x="764" y="10"/>
                  </a:lnTo>
                  <a:lnTo>
                    <a:pt x="782" y="15"/>
                  </a:lnTo>
                  <a:lnTo>
                    <a:pt x="799" y="20"/>
                  </a:lnTo>
                  <a:lnTo>
                    <a:pt x="817" y="23"/>
                  </a:lnTo>
                  <a:lnTo>
                    <a:pt x="832" y="28"/>
                  </a:lnTo>
                  <a:lnTo>
                    <a:pt x="847" y="32"/>
                  </a:lnTo>
                  <a:lnTo>
                    <a:pt x="862" y="35"/>
                  </a:lnTo>
                  <a:lnTo>
                    <a:pt x="874" y="40"/>
                  </a:lnTo>
                  <a:lnTo>
                    <a:pt x="884" y="43"/>
                  </a:lnTo>
                  <a:lnTo>
                    <a:pt x="894" y="48"/>
                  </a:lnTo>
                  <a:lnTo>
                    <a:pt x="907" y="57"/>
                  </a:lnTo>
                  <a:lnTo>
                    <a:pt x="924" y="68"/>
                  </a:lnTo>
                  <a:lnTo>
                    <a:pt x="942" y="82"/>
                  </a:lnTo>
                  <a:lnTo>
                    <a:pt x="962" y="97"/>
                  </a:lnTo>
                  <a:lnTo>
                    <a:pt x="985" y="112"/>
                  </a:lnTo>
                  <a:lnTo>
                    <a:pt x="1009" y="127"/>
                  </a:lnTo>
                  <a:lnTo>
                    <a:pt x="1035" y="142"/>
                  </a:lnTo>
                  <a:lnTo>
                    <a:pt x="1060" y="155"/>
                  </a:lnTo>
                  <a:lnTo>
                    <a:pt x="1080" y="168"/>
                  </a:lnTo>
                  <a:lnTo>
                    <a:pt x="1099" y="180"/>
                  </a:lnTo>
                  <a:lnTo>
                    <a:pt x="1114" y="190"/>
                  </a:lnTo>
                  <a:lnTo>
                    <a:pt x="1124" y="197"/>
                  </a:lnTo>
                  <a:lnTo>
                    <a:pt x="1132" y="203"/>
                  </a:lnTo>
                  <a:lnTo>
                    <a:pt x="1137" y="207"/>
                  </a:lnTo>
                  <a:lnTo>
                    <a:pt x="1139" y="208"/>
                  </a:lnTo>
                  <a:lnTo>
                    <a:pt x="1142" y="210"/>
                  </a:lnTo>
                  <a:lnTo>
                    <a:pt x="1150" y="215"/>
                  </a:lnTo>
                  <a:lnTo>
                    <a:pt x="1162" y="223"/>
                  </a:lnTo>
                  <a:lnTo>
                    <a:pt x="1177" y="233"/>
                  </a:lnTo>
                  <a:lnTo>
                    <a:pt x="1192" y="243"/>
                  </a:lnTo>
                  <a:lnTo>
                    <a:pt x="1205" y="255"/>
                  </a:lnTo>
                  <a:lnTo>
                    <a:pt x="1217" y="265"/>
                  </a:lnTo>
                  <a:lnTo>
                    <a:pt x="1225" y="275"/>
                  </a:lnTo>
                  <a:lnTo>
                    <a:pt x="1234" y="285"/>
                  </a:lnTo>
                  <a:lnTo>
                    <a:pt x="1245" y="297"/>
                  </a:lnTo>
                  <a:lnTo>
                    <a:pt x="1259" y="310"/>
                  </a:lnTo>
                  <a:lnTo>
                    <a:pt x="1276" y="325"/>
                  </a:lnTo>
                  <a:lnTo>
                    <a:pt x="1292" y="340"/>
                  </a:lnTo>
                  <a:lnTo>
                    <a:pt x="1309" y="354"/>
                  </a:lnTo>
                  <a:lnTo>
                    <a:pt x="1324" y="365"/>
                  </a:lnTo>
                  <a:lnTo>
                    <a:pt x="1334" y="375"/>
                  </a:lnTo>
                  <a:lnTo>
                    <a:pt x="1346" y="385"/>
                  </a:lnTo>
                  <a:lnTo>
                    <a:pt x="1362" y="397"/>
                  </a:lnTo>
                  <a:lnTo>
                    <a:pt x="1381" y="410"/>
                  </a:lnTo>
                  <a:lnTo>
                    <a:pt x="1401" y="424"/>
                  </a:lnTo>
                  <a:lnTo>
                    <a:pt x="1421" y="437"/>
                  </a:lnTo>
                  <a:lnTo>
                    <a:pt x="1436" y="445"/>
                  </a:lnTo>
                  <a:lnTo>
                    <a:pt x="1447" y="454"/>
                  </a:lnTo>
                  <a:lnTo>
                    <a:pt x="1451" y="455"/>
                  </a:lnTo>
                  <a:lnTo>
                    <a:pt x="1489" y="509"/>
                  </a:lnTo>
                  <a:lnTo>
                    <a:pt x="1497" y="509"/>
                  </a:lnTo>
                  <a:lnTo>
                    <a:pt x="1517" y="509"/>
                  </a:lnTo>
                  <a:lnTo>
                    <a:pt x="1546" y="509"/>
                  </a:lnTo>
                  <a:lnTo>
                    <a:pt x="1581" y="509"/>
                  </a:lnTo>
                  <a:lnTo>
                    <a:pt x="1617" y="510"/>
                  </a:lnTo>
                  <a:lnTo>
                    <a:pt x="1651" y="514"/>
                  </a:lnTo>
                  <a:lnTo>
                    <a:pt x="1677" y="520"/>
                  </a:lnTo>
                  <a:lnTo>
                    <a:pt x="1694" y="527"/>
                  </a:lnTo>
                  <a:lnTo>
                    <a:pt x="1696" y="527"/>
                  </a:lnTo>
                  <a:lnTo>
                    <a:pt x="1702" y="525"/>
                  </a:lnTo>
                  <a:lnTo>
                    <a:pt x="1712" y="522"/>
                  </a:lnTo>
                  <a:lnTo>
                    <a:pt x="1722" y="520"/>
                  </a:lnTo>
                  <a:lnTo>
                    <a:pt x="1736" y="519"/>
                  </a:lnTo>
                  <a:lnTo>
                    <a:pt x="1747" y="515"/>
                  </a:lnTo>
                  <a:lnTo>
                    <a:pt x="1759" y="514"/>
                  </a:lnTo>
                  <a:lnTo>
                    <a:pt x="1769" y="514"/>
                  </a:lnTo>
                  <a:lnTo>
                    <a:pt x="1782" y="515"/>
                  </a:lnTo>
                  <a:lnTo>
                    <a:pt x="1801" y="519"/>
                  </a:lnTo>
                  <a:lnTo>
                    <a:pt x="1823" y="522"/>
                  </a:lnTo>
                  <a:lnTo>
                    <a:pt x="1848" y="527"/>
                  </a:lnTo>
                  <a:lnTo>
                    <a:pt x="1869" y="534"/>
                  </a:lnTo>
                  <a:lnTo>
                    <a:pt x="1889" y="537"/>
                  </a:lnTo>
                  <a:lnTo>
                    <a:pt x="1903" y="540"/>
                  </a:lnTo>
                  <a:lnTo>
                    <a:pt x="1908" y="542"/>
                  </a:lnTo>
                  <a:lnTo>
                    <a:pt x="1926" y="604"/>
                  </a:lnTo>
                  <a:lnTo>
                    <a:pt x="2044" y="604"/>
                  </a:lnTo>
                  <a:lnTo>
                    <a:pt x="2064" y="689"/>
                  </a:lnTo>
                  <a:lnTo>
                    <a:pt x="2071" y="692"/>
                  </a:lnTo>
                  <a:lnTo>
                    <a:pt x="2083" y="704"/>
                  </a:lnTo>
                  <a:lnTo>
                    <a:pt x="2093" y="722"/>
                  </a:lnTo>
                  <a:lnTo>
                    <a:pt x="2093" y="746"/>
                  </a:lnTo>
                  <a:lnTo>
                    <a:pt x="2116" y="784"/>
                  </a:lnTo>
                  <a:lnTo>
                    <a:pt x="2154" y="769"/>
                  </a:lnTo>
                  <a:lnTo>
                    <a:pt x="2158" y="774"/>
                  </a:lnTo>
                  <a:lnTo>
                    <a:pt x="2164" y="786"/>
                  </a:lnTo>
                  <a:lnTo>
                    <a:pt x="2169" y="801"/>
                  </a:lnTo>
                  <a:lnTo>
                    <a:pt x="2173" y="812"/>
                  </a:lnTo>
                  <a:lnTo>
                    <a:pt x="2176" y="824"/>
                  </a:lnTo>
                  <a:lnTo>
                    <a:pt x="2183" y="834"/>
                  </a:lnTo>
                  <a:lnTo>
                    <a:pt x="2189" y="842"/>
                  </a:lnTo>
                  <a:lnTo>
                    <a:pt x="2193" y="846"/>
                  </a:lnTo>
                  <a:lnTo>
                    <a:pt x="2201" y="822"/>
                  </a:lnTo>
                  <a:lnTo>
                    <a:pt x="2226" y="869"/>
                  </a:lnTo>
                  <a:lnTo>
                    <a:pt x="2228" y="869"/>
                  </a:lnTo>
                  <a:lnTo>
                    <a:pt x="2234" y="871"/>
                  </a:lnTo>
                  <a:lnTo>
                    <a:pt x="2244" y="874"/>
                  </a:lnTo>
                  <a:lnTo>
                    <a:pt x="2254" y="877"/>
                  </a:lnTo>
                  <a:lnTo>
                    <a:pt x="2266" y="882"/>
                  </a:lnTo>
                  <a:lnTo>
                    <a:pt x="2276" y="887"/>
                  </a:lnTo>
                  <a:lnTo>
                    <a:pt x="2284" y="894"/>
                  </a:lnTo>
                  <a:lnTo>
                    <a:pt x="2288" y="902"/>
                  </a:lnTo>
                  <a:lnTo>
                    <a:pt x="2289" y="921"/>
                  </a:lnTo>
                  <a:lnTo>
                    <a:pt x="2293" y="937"/>
                  </a:lnTo>
                  <a:lnTo>
                    <a:pt x="2296" y="952"/>
                  </a:lnTo>
                  <a:lnTo>
                    <a:pt x="2306" y="964"/>
                  </a:lnTo>
                  <a:lnTo>
                    <a:pt x="2316" y="979"/>
                  </a:lnTo>
                  <a:lnTo>
                    <a:pt x="2321" y="996"/>
                  </a:lnTo>
                  <a:lnTo>
                    <a:pt x="2318" y="1011"/>
                  </a:lnTo>
                  <a:lnTo>
                    <a:pt x="2311" y="1017"/>
                  </a:lnTo>
                  <a:lnTo>
                    <a:pt x="2303" y="1019"/>
                  </a:lnTo>
                  <a:lnTo>
                    <a:pt x="2299" y="1024"/>
                  </a:lnTo>
                  <a:lnTo>
                    <a:pt x="2301" y="1032"/>
                  </a:lnTo>
                  <a:lnTo>
                    <a:pt x="2306" y="1046"/>
                  </a:lnTo>
                  <a:lnTo>
                    <a:pt x="2313" y="1061"/>
                  </a:lnTo>
                  <a:lnTo>
                    <a:pt x="2319" y="1076"/>
                  </a:lnTo>
                  <a:lnTo>
                    <a:pt x="2324" y="1092"/>
                  </a:lnTo>
                  <a:lnTo>
                    <a:pt x="2329" y="1107"/>
                  </a:lnTo>
                  <a:lnTo>
                    <a:pt x="2336" y="1117"/>
                  </a:lnTo>
                  <a:lnTo>
                    <a:pt x="2344" y="1121"/>
                  </a:lnTo>
                  <a:lnTo>
                    <a:pt x="2351" y="1121"/>
                  </a:lnTo>
                  <a:lnTo>
                    <a:pt x="2354" y="1121"/>
                  </a:lnTo>
                  <a:lnTo>
                    <a:pt x="2356" y="1129"/>
                  </a:lnTo>
                  <a:lnTo>
                    <a:pt x="2365" y="1149"/>
                  </a:lnTo>
                  <a:lnTo>
                    <a:pt x="2375" y="1174"/>
                  </a:lnTo>
                  <a:lnTo>
                    <a:pt x="2388" y="1192"/>
                  </a:lnTo>
                  <a:lnTo>
                    <a:pt x="2395" y="1201"/>
                  </a:lnTo>
                  <a:lnTo>
                    <a:pt x="2400" y="1209"/>
                  </a:lnTo>
                  <a:lnTo>
                    <a:pt x="2405" y="1217"/>
                  </a:lnTo>
                  <a:lnTo>
                    <a:pt x="2411" y="1227"/>
                  </a:lnTo>
                  <a:lnTo>
                    <a:pt x="2416" y="1236"/>
                  </a:lnTo>
                  <a:lnTo>
                    <a:pt x="2425" y="1244"/>
                  </a:lnTo>
                  <a:lnTo>
                    <a:pt x="2433" y="1253"/>
                  </a:lnTo>
                  <a:lnTo>
                    <a:pt x="2445" y="1259"/>
                  </a:lnTo>
                  <a:lnTo>
                    <a:pt x="2456" y="1263"/>
                  </a:lnTo>
                  <a:lnTo>
                    <a:pt x="2468" y="1263"/>
                  </a:lnTo>
                  <a:lnTo>
                    <a:pt x="2478" y="1263"/>
                  </a:lnTo>
                  <a:lnTo>
                    <a:pt x="2486" y="1259"/>
                  </a:lnTo>
                  <a:lnTo>
                    <a:pt x="2493" y="1256"/>
                  </a:lnTo>
                  <a:lnTo>
                    <a:pt x="2498" y="1253"/>
                  </a:lnTo>
                  <a:lnTo>
                    <a:pt x="2500" y="1251"/>
                  </a:lnTo>
                  <a:lnTo>
                    <a:pt x="2501" y="1249"/>
                  </a:lnTo>
                  <a:lnTo>
                    <a:pt x="2520" y="1259"/>
                  </a:lnTo>
                  <a:lnTo>
                    <a:pt x="2501" y="1293"/>
                  </a:lnTo>
                  <a:lnTo>
                    <a:pt x="2501" y="1294"/>
                  </a:lnTo>
                  <a:lnTo>
                    <a:pt x="2501" y="1299"/>
                  </a:lnTo>
                  <a:lnTo>
                    <a:pt x="2503" y="1304"/>
                  </a:lnTo>
                  <a:lnTo>
                    <a:pt x="2511" y="1306"/>
                  </a:lnTo>
                  <a:lnTo>
                    <a:pt x="2521" y="1314"/>
                  </a:lnTo>
                  <a:lnTo>
                    <a:pt x="2531" y="1329"/>
                  </a:lnTo>
                  <a:lnTo>
                    <a:pt x="2536" y="1346"/>
                  </a:lnTo>
                  <a:lnTo>
                    <a:pt x="2540" y="1354"/>
                  </a:lnTo>
                  <a:lnTo>
                    <a:pt x="2541" y="1356"/>
                  </a:lnTo>
                  <a:lnTo>
                    <a:pt x="2546" y="1361"/>
                  </a:lnTo>
                  <a:lnTo>
                    <a:pt x="2553" y="1368"/>
                  </a:lnTo>
                  <a:lnTo>
                    <a:pt x="2561" y="1378"/>
                  </a:lnTo>
                  <a:lnTo>
                    <a:pt x="2571" y="1388"/>
                  </a:lnTo>
                  <a:lnTo>
                    <a:pt x="2583" y="1401"/>
                  </a:lnTo>
                  <a:lnTo>
                    <a:pt x="2595" y="1414"/>
                  </a:lnTo>
                  <a:lnTo>
                    <a:pt x="2606" y="1428"/>
                  </a:lnTo>
                  <a:lnTo>
                    <a:pt x="2618" y="1443"/>
                  </a:lnTo>
                  <a:lnTo>
                    <a:pt x="2631" y="1458"/>
                  </a:lnTo>
                  <a:lnTo>
                    <a:pt x="2645" y="1473"/>
                  </a:lnTo>
                  <a:lnTo>
                    <a:pt x="2658" y="1488"/>
                  </a:lnTo>
                  <a:lnTo>
                    <a:pt x="2670" y="1501"/>
                  </a:lnTo>
                  <a:lnTo>
                    <a:pt x="2680" y="1511"/>
                  </a:lnTo>
                  <a:lnTo>
                    <a:pt x="2688" y="1521"/>
                  </a:lnTo>
                  <a:lnTo>
                    <a:pt x="2691" y="1528"/>
                  </a:lnTo>
                  <a:lnTo>
                    <a:pt x="2701" y="1533"/>
                  </a:lnTo>
                  <a:lnTo>
                    <a:pt x="2723" y="1538"/>
                  </a:lnTo>
                  <a:lnTo>
                    <a:pt x="2753" y="1543"/>
                  </a:lnTo>
                  <a:lnTo>
                    <a:pt x="2790" y="1546"/>
                  </a:lnTo>
                  <a:lnTo>
                    <a:pt x="2828" y="1549"/>
                  </a:lnTo>
                  <a:lnTo>
                    <a:pt x="2863" y="1551"/>
                  </a:lnTo>
                  <a:lnTo>
                    <a:pt x="2891" y="1554"/>
                  </a:lnTo>
                  <a:lnTo>
                    <a:pt x="2910" y="1556"/>
                  </a:lnTo>
                  <a:lnTo>
                    <a:pt x="2925" y="1558"/>
                  </a:lnTo>
                  <a:lnTo>
                    <a:pt x="2945" y="1559"/>
                  </a:lnTo>
                  <a:lnTo>
                    <a:pt x="2968" y="1561"/>
                  </a:lnTo>
                  <a:lnTo>
                    <a:pt x="2992" y="1563"/>
                  </a:lnTo>
                  <a:lnTo>
                    <a:pt x="3013" y="1566"/>
                  </a:lnTo>
                  <a:lnTo>
                    <a:pt x="3033" y="1568"/>
                  </a:lnTo>
                  <a:lnTo>
                    <a:pt x="3048" y="1569"/>
                  </a:lnTo>
                  <a:lnTo>
                    <a:pt x="3057" y="1571"/>
                  </a:lnTo>
                  <a:lnTo>
                    <a:pt x="3070" y="1569"/>
                  </a:lnTo>
                  <a:lnTo>
                    <a:pt x="3083" y="1563"/>
                  </a:lnTo>
                  <a:lnTo>
                    <a:pt x="3095" y="1554"/>
                  </a:lnTo>
                  <a:lnTo>
                    <a:pt x="3100" y="1551"/>
                  </a:lnTo>
                  <a:lnTo>
                    <a:pt x="3102" y="1553"/>
                  </a:lnTo>
                  <a:lnTo>
                    <a:pt x="3105" y="1556"/>
                  </a:lnTo>
                  <a:lnTo>
                    <a:pt x="3112" y="1561"/>
                  </a:lnTo>
                  <a:lnTo>
                    <a:pt x="3120" y="1568"/>
                  </a:lnTo>
                  <a:lnTo>
                    <a:pt x="3130" y="1576"/>
                  </a:lnTo>
                  <a:lnTo>
                    <a:pt x="3140" y="1586"/>
                  </a:lnTo>
                  <a:lnTo>
                    <a:pt x="3152" y="1598"/>
                  </a:lnTo>
                  <a:lnTo>
                    <a:pt x="3162" y="1609"/>
                  </a:lnTo>
                  <a:lnTo>
                    <a:pt x="3172" y="1624"/>
                  </a:lnTo>
                  <a:lnTo>
                    <a:pt x="3180" y="1638"/>
                  </a:lnTo>
                  <a:lnTo>
                    <a:pt x="3183" y="1653"/>
                  </a:lnTo>
                  <a:lnTo>
                    <a:pt x="3185" y="1668"/>
                  </a:lnTo>
                  <a:lnTo>
                    <a:pt x="3185" y="1678"/>
                  </a:lnTo>
                  <a:lnTo>
                    <a:pt x="3183" y="1688"/>
                  </a:lnTo>
                  <a:lnTo>
                    <a:pt x="3180" y="1696"/>
                  </a:lnTo>
                  <a:lnTo>
                    <a:pt x="3175" y="1704"/>
                  </a:lnTo>
                  <a:lnTo>
                    <a:pt x="3168" y="1724"/>
                  </a:lnTo>
                  <a:lnTo>
                    <a:pt x="3168" y="1748"/>
                  </a:lnTo>
                  <a:lnTo>
                    <a:pt x="3168" y="1771"/>
                  </a:lnTo>
                  <a:lnTo>
                    <a:pt x="3167" y="1795"/>
                  </a:lnTo>
                  <a:lnTo>
                    <a:pt x="3162" y="1815"/>
                  </a:lnTo>
                  <a:lnTo>
                    <a:pt x="3153" y="1835"/>
                  </a:lnTo>
                  <a:lnTo>
                    <a:pt x="3145" y="1851"/>
                  </a:lnTo>
                  <a:lnTo>
                    <a:pt x="3138" y="1870"/>
                  </a:lnTo>
                  <a:lnTo>
                    <a:pt x="3132" y="1890"/>
                  </a:lnTo>
                  <a:lnTo>
                    <a:pt x="3125" y="1913"/>
                  </a:lnTo>
                  <a:lnTo>
                    <a:pt x="3120" y="1933"/>
                  </a:lnTo>
                  <a:lnTo>
                    <a:pt x="3118" y="1951"/>
                  </a:lnTo>
                  <a:lnTo>
                    <a:pt x="3117" y="1965"/>
                  </a:lnTo>
                  <a:lnTo>
                    <a:pt x="3115" y="1976"/>
                  </a:lnTo>
                  <a:lnTo>
                    <a:pt x="3108" y="1986"/>
                  </a:lnTo>
                  <a:lnTo>
                    <a:pt x="3100" y="1993"/>
                  </a:lnTo>
                  <a:lnTo>
                    <a:pt x="3093" y="1996"/>
                  </a:lnTo>
                  <a:lnTo>
                    <a:pt x="3078" y="2003"/>
                  </a:lnTo>
                  <a:lnTo>
                    <a:pt x="3057" y="2013"/>
                  </a:lnTo>
                  <a:lnTo>
                    <a:pt x="3028" y="2026"/>
                  </a:lnTo>
                  <a:lnTo>
                    <a:pt x="2997" y="2040"/>
                  </a:lnTo>
                  <a:lnTo>
                    <a:pt x="2962" y="2056"/>
                  </a:lnTo>
                  <a:lnTo>
                    <a:pt x="2923" y="2073"/>
                  </a:lnTo>
                  <a:lnTo>
                    <a:pt x="2885" y="2090"/>
                  </a:lnTo>
                  <a:lnTo>
                    <a:pt x="2845" y="2108"/>
                  </a:lnTo>
                  <a:lnTo>
                    <a:pt x="2806" y="2125"/>
                  </a:lnTo>
                  <a:lnTo>
                    <a:pt x="2770" y="2141"/>
                  </a:lnTo>
                  <a:lnTo>
                    <a:pt x="2736" y="2155"/>
                  </a:lnTo>
                  <a:lnTo>
                    <a:pt x="2708" y="2168"/>
                  </a:lnTo>
                  <a:lnTo>
                    <a:pt x="2685" y="2180"/>
                  </a:lnTo>
                  <a:lnTo>
                    <a:pt x="2668" y="2188"/>
                  </a:lnTo>
                  <a:lnTo>
                    <a:pt x="2658" y="2193"/>
                  </a:lnTo>
                  <a:lnTo>
                    <a:pt x="2645" y="2200"/>
                  </a:lnTo>
                  <a:lnTo>
                    <a:pt x="2628" y="2205"/>
                  </a:lnTo>
                  <a:lnTo>
                    <a:pt x="2608" y="2208"/>
                  </a:lnTo>
                  <a:lnTo>
                    <a:pt x="2586" y="2211"/>
                  </a:lnTo>
                  <a:lnTo>
                    <a:pt x="2561" y="2215"/>
                  </a:lnTo>
                  <a:lnTo>
                    <a:pt x="2535" y="2220"/>
                  </a:lnTo>
                  <a:lnTo>
                    <a:pt x="2508" y="2225"/>
                  </a:lnTo>
                  <a:lnTo>
                    <a:pt x="2481" y="2231"/>
                  </a:lnTo>
                  <a:lnTo>
                    <a:pt x="2466" y="2235"/>
                  </a:lnTo>
                  <a:lnTo>
                    <a:pt x="2446" y="2240"/>
                  </a:lnTo>
                  <a:lnTo>
                    <a:pt x="2425" y="2245"/>
                  </a:lnTo>
                  <a:lnTo>
                    <a:pt x="2398" y="2252"/>
                  </a:lnTo>
                  <a:lnTo>
                    <a:pt x="2371" y="2258"/>
                  </a:lnTo>
                  <a:lnTo>
                    <a:pt x="2343" y="2265"/>
                  </a:lnTo>
                  <a:lnTo>
                    <a:pt x="2313" y="2272"/>
                  </a:lnTo>
                  <a:lnTo>
                    <a:pt x="2283" y="2278"/>
                  </a:lnTo>
                  <a:lnTo>
                    <a:pt x="2253" y="2285"/>
                  </a:lnTo>
                  <a:lnTo>
                    <a:pt x="2224" y="2293"/>
                  </a:lnTo>
                  <a:lnTo>
                    <a:pt x="2198" y="2300"/>
                  </a:lnTo>
                  <a:lnTo>
                    <a:pt x="2173" y="2307"/>
                  </a:lnTo>
                  <a:lnTo>
                    <a:pt x="2151" y="2312"/>
                  </a:lnTo>
                  <a:lnTo>
                    <a:pt x="2134" y="2318"/>
                  </a:lnTo>
                  <a:lnTo>
                    <a:pt x="2119" y="2323"/>
                  </a:lnTo>
                  <a:lnTo>
                    <a:pt x="2111" y="2327"/>
                  </a:lnTo>
                  <a:lnTo>
                    <a:pt x="2098" y="2333"/>
                  </a:lnTo>
                  <a:lnTo>
                    <a:pt x="2086" y="2338"/>
                  </a:lnTo>
                  <a:lnTo>
                    <a:pt x="2071" y="2347"/>
                  </a:lnTo>
                  <a:lnTo>
                    <a:pt x="2058" y="2353"/>
                  </a:lnTo>
                  <a:lnTo>
                    <a:pt x="2043" y="2365"/>
                  </a:lnTo>
                  <a:lnTo>
                    <a:pt x="2028" y="2378"/>
                  </a:lnTo>
                  <a:lnTo>
                    <a:pt x="2011" y="2398"/>
                  </a:lnTo>
                  <a:lnTo>
                    <a:pt x="1993" y="2422"/>
                  </a:lnTo>
                  <a:lnTo>
                    <a:pt x="1976" y="2447"/>
                  </a:lnTo>
                  <a:lnTo>
                    <a:pt x="1961" y="2470"/>
                  </a:lnTo>
                  <a:lnTo>
                    <a:pt x="1946" y="2492"/>
                  </a:lnTo>
                  <a:lnTo>
                    <a:pt x="1933" y="2512"/>
                  </a:lnTo>
                  <a:lnTo>
                    <a:pt x="1923" y="2528"/>
                  </a:lnTo>
                  <a:lnTo>
                    <a:pt x="1913" y="2542"/>
                  </a:lnTo>
                  <a:lnTo>
                    <a:pt x="1904" y="2552"/>
                  </a:lnTo>
                  <a:lnTo>
                    <a:pt x="1898" y="2558"/>
                  </a:lnTo>
                  <a:lnTo>
                    <a:pt x="1891" y="2563"/>
                  </a:lnTo>
                  <a:lnTo>
                    <a:pt x="1884" y="2568"/>
                  </a:lnTo>
                  <a:lnTo>
                    <a:pt x="1874" y="2573"/>
                  </a:lnTo>
                  <a:lnTo>
                    <a:pt x="1864" y="2575"/>
                  </a:lnTo>
                  <a:lnTo>
                    <a:pt x="1853" y="2577"/>
                  </a:lnTo>
                  <a:lnTo>
                    <a:pt x="1843" y="2577"/>
                  </a:lnTo>
                  <a:lnTo>
                    <a:pt x="1833" y="2573"/>
                  </a:lnTo>
                  <a:lnTo>
                    <a:pt x="1823" y="2568"/>
                  </a:lnTo>
                  <a:lnTo>
                    <a:pt x="1814" y="2562"/>
                  </a:lnTo>
                  <a:lnTo>
                    <a:pt x="1806" y="2553"/>
                  </a:lnTo>
                  <a:lnTo>
                    <a:pt x="1799" y="2547"/>
                  </a:lnTo>
                  <a:lnTo>
                    <a:pt x="1794" y="2538"/>
                  </a:lnTo>
                  <a:lnTo>
                    <a:pt x="1787" y="2533"/>
                  </a:lnTo>
                  <a:lnTo>
                    <a:pt x="1781" y="2530"/>
                  </a:lnTo>
                  <a:lnTo>
                    <a:pt x="1772" y="2528"/>
                  </a:lnTo>
                  <a:lnTo>
                    <a:pt x="1764" y="2530"/>
                  </a:lnTo>
                  <a:lnTo>
                    <a:pt x="1752" y="2533"/>
                  </a:lnTo>
                  <a:lnTo>
                    <a:pt x="1739" y="2535"/>
                  </a:lnTo>
                  <a:lnTo>
                    <a:pt x="1722" y="2535"/>
                  </a:lnTo>
                  <a:lnTo>
                    <a:pt x="1704" y="2535"/>
                  </a:lnTo>
                  <a:lnTo>
                    <a:pt x="1684" y="2535"/>
                  </a:lnTo>
                  <a:lnTo>
                    <a:pt x="1666" y="2533"/>
                  </a:lnTo>
                  <a:lnTo>
                    <a:pt x="1647" y="2532"/>
                  </a:lnTo>
                  <a:lnTo>
                    <a:pt x="1632" y="2530"/>
                  </a:lnTo>
                  <a:lnTo>
                    <a:pt x="1617" y="2528"/>
                  </a:lnTo>
                  <a:lnTo>
                    <a:pt x="1602" y="2525"/>
                  </a:lnTo>
                  <a:lnTo>
                    <a:pt x="1589" y="2520"/>
                  </a:lnTo>
                  <a:lnTo>
                    <a:pt x="1574" y="2517"/>
                  </a:lnTo>
                  <a:lnTo>
                    <a:pt x="1561" y="2513"/>
                  </a:lnTo>
                  <a:lnTo>
                    <a:pt x="1549" y="2510"/>
                  </a:lnTo>
                  <a:lnTo>
                    <a:pt x="1537" y="2507"/>
                  </a:lnTo>
                  <a:lnTo>
                    <a:pt x="1527" y="2507"/>
                  </a:lnTo>
                  <a:lnTo>
                    <a:pt x="1514" y="2507"/>
                  </a:lnTo>
                  <a:lnTo>
                    <a:pt x="1492" y="2507"/>
                  </a:lnTo>
                  <a:lnTo>
                    <a:pt x="1466" y="2508"/>
                  </a:lnTo>
                  <a:lnTo>
                    <a:pt x="1436" y="2508"/>
                  </a:lnTo>
                  <a:lnTo>
                    <a:pt x="1409" y="2510"/>
                  </a:lnTo>
                  <a:lnTo>
                    <a:pt x="1386" y="2512"/>
                  </a:lnTo>
                  <a:lnTo>
                    <a:pt x="1369" y="2512"/>
                  </a:lnTo>
                  <a:lnTo>
                    <a:pt x="1362" y="2512"/>
                  </a:lnTo>
                  <a:lnTo>
                    <a:pt x="1361" y="2513"/>
                  </a:lnTo>
                  <a:lnTo>
                    <a:pt x="1356" y="2515"/>
                  </a:lnTo>
                  <a:lnTo>
                    <a:pt x="1349" y="2518"/>
                  </a:lnTo>
                  <a:lnTo>
                    <a:pt x="1339" y="2520"/>
                  </a:lnTo>
                  <a:lnTo>
                    <a:pt x="1329" y="2522"/>
                  </a:lnTo>
                  <a:lnTo>
                    <a:pt x="1317" y="2522"/>
                  </a:lnTo>
                  <a:lnTo>
                    <a:pt x="1304" y="2518"/>
                  </a:lnTo>
                  <a:lnTo>
                    <a:pt x="1292" y="2512"/>
                  </a:lnTo>
                  <a:lnTo>
                    <a:pt x="1281" y="2503"/>
                  </a:lnTo>
                  <a:lnTo>
                    <a:pt x="1272" y="2497"/>
                  </a:lnTo>
                  <a:lnTo>
                    <a:pt x="1266" y="2490"/>
                  </a:lnTo>
                  <a:lnTo>
                    <a:pt x="1261" y="2485"/>
                  </a:lnTo>
                  <a:lnTo>
                    <a:pt x="1256" y="2482"/>
                  </a:lnTo>
                  <a:lnTo>
                    <a:pt x="1250" y="2480"/>
                  </a:lnTo>
                  <a:lnTo>
                    <a:pt x="1245" y="2480"/>
                  </a:lnTo>
                  <a:lnTo>
                    <a:pt x="1239" y="2483"/>
                  </a:lnTo>
                  <a:lnTo>
                    <a:pt x="1232" y="2490"/>
                  </a:lnTo>
                  <a:lnTo>
                    <a:pt x="1235" y="2498"/>
                  </a:lnTo>
                  <a:lnTo>
                    <a:pt x="1240" y="2510"/>
                  </a:lnTo>
                  <a:lnTo>
                    <a:pt x="1239" y="2525"/>
                  </a:lnTo>
                  <a:lnTo>
                    <a:pt x="1234" y="2545"/>
                  </a:lnTo>
                  <a:lnTo>
                    <a:pt x="1232" y="2567"/>
                  </a:lnTo>
                  <a:lnTo>
                    <a:pt x="1234" y="2587"/>
                  </a:lnTo>
                  <a:lnTo>
                    <a:pt x="1234" y="2602"/>
                  </a:lnTo>
                  <a:lnTo>
                    <a:pt x="1230" y="2615"/>
                  </a:lnTo>
                  <a:lnTo>
                    <a:pt x="1225" y="2630"/>
                  </a:lnTo>
                  <a:lnTo>
                    <a:pt x="1219" y="2643"/>
                  </a:lnTo>
                  <a:lnTo>
                    <a:pt x="1215" y="2648"/>
                  </a:lnTo>
                  <a:lnTo>
                    <a:pt x="1177" y="2678"/>
                  </a:lnTo>
                  <a:lnTo>
                    <a:pt x="1175" y="2672"/>
                  </a:lnTo>
                  <a:lnTo>
                    <a:pt x="1170" y="2657"/>
                  </a:lnTo>
                  <a:lnTo>
                    <a:pt x="1167" y="2640"/>
                  </a:lnTo>
                  <a:lnTo>
                    <a:pt x="1167" y="2625"/>
                  </a:lnTo>
                  <a:lnTo>
                    <a:pt x="1167" y="2613"/>
                  </a:lnTo>
                  <a:lnTo>
                    <a:pt x="1164" y="2598"/>
                  </a:lnTo>
                  <a:lnTo>
                    <a:pt x="1154" y="2583"/>
                  </a:lnTo>
                  <a:lnTo>
                    <a:pt x="1144" y="2568"/>
                  </a:lnTo>
                  <a:lnTo>
                    <a:pt x="1134" y="2555"/>
                  </a:lnTo>
                  <a:lnTo>
                    <a:pt x="1124" y="2543"/>
                  </a:lnTo>
                  <a:lnTo>
                    <a:pt x="1115" y="2532"/>
                  </a:lnTo>
                  <a:lnTo>
                    <a:pt x="1110" y="2522"/>
                  </a:lnTo>
                  <a:lnTo>
                    <a:pt x="1107" y="2508"/>
                  </a:lnTo>
                  <a:lnTo>
                    <a:pt x="1104" y="2492"/>
                  </a:lnTo>
                  <a:lnTo>
                    <a:pt x="1095" y="2475"/>
                  </a:lnTo>
                  <a:lnTo>
                    <a:pt x="1082" y="2458"/>
                  </a:lnTo>
                  <a:lnTo>
                    <a:pt x="1072" y="2450"/>
                  </a:lnTo>
                  <a:lnTo>
                    <a:pt x="1059" y="2437"/>
                  </a:lnTo>
                  <a:lnTo>
                    <a:pt x="1044" y="2423"/>
                  </a:lnTo>
                  <a:lnTo>
                    <a:pt x="1029" y="2405"/>
                  </a:lnTo>
                  <a:lnTo>
                    <a:pt x="1014" y="2387"/>
                  </a:lnTo>
                  <a:lnTo>
                    <a:pt x="999" y="2368"/>
                  </a:lnTo>
                  <a:lnTo>
                    <a:pt x="987" y="2350"/>
                  </a:lnTo>
                  <a:lnTo>
                    <a:pt x="979" y="2332"/>
                  </a:lnTo>
                  <a:lnTo>
                    <a:pt x="964" y="2302"/>
                  </a:lnTo>
                  <a:lnTo>
                    <a:pt x="949" y="2280"/>
                  </a:lnTo>
                  <a:lnTo>
                    <a:pt x="937" y="2263"/>
                  </a:lnTo>
                  <a:lnTo>
                    <a:pt x="930" y="2245"/>
                  </a:lnTo>
                  <a:lnTo>
                    <a:pt x="927" y="2231"/>
                  </a:lnTo>
                  <a:lnTo>
                    <a:pt x="920" y="2211"/>
                  </a:lnTo>
                  <a:lnTo>
                    <a:pt x="910" y="2190"/>
                  </a:lnTo>
                  <a:lnTo>
                    <a:pt x="900" y="2166"/>
                  </a:lnTo>
                  <a:lnTo>
                    <a:pt x="890" y="2143"/>
                  </a:lnTo>
                  <a:lnTo>
                    <a:pt x="880" y="2123"/>
                  </a:lnTo>
                  <a:lnTo>
                    <a:pt x="870" y="2108"/>
                  </a:lnTo>
                  <a:lnTo>
                    <a:pt x="864" y="2098"/>
                  </a:lnTo>
                  <a:lnTo>
                    <a:pt x="854" y="2085"/>
                  </a:lnTo>
                  <a:lnTo>
                    <a:pt x="845" y="2071"/>
                  </a:lnTo>
                  <a:lnTo>
                    <a:pt x="834" y="2056"/>
                  </a:lnTo>
                  <a:lnTo>
                    <a:pt x="822" y="2041"/>
                  </a:lnTo>
                  <a:lnTo>
                    <a:pt x="814" y="2033"/>
                  </a:lnTo>
                  <a:lnTo>
                    <a:pt x="802" y="2025"/>
                  </a:lnTo>
                  <a:lnTo>
                    <a:pt x="790" y="2018"/>
                  </a:lnTo>
                  <a:lnTo>
                    <a:pt x="779" y="2010"/>
                  </a:lnTo>
                  <a:lnTo>
                    <a:pt x="765" y="2003"/>
                  </a:lnTo>
                  <a:lnTo>
                    <a:pt x="752" y="1998"/>
                  </a:lnTo>
                  <a:lnTo>
                    <a:pt x="740" y="1995"/>
                  </a:lnTo>
                  <a:lnTo>
                    <a:pt x="730" y="1993"/>
                  </a:lnTo>
                  <a:lnTo>
                    <a:pt x="722" y="1991"/>
                  </a:lnTo>
                  <a:lnTo>
                    <a:pt x="717" y="1988"/>
                  </a:lnTo>
                  <a:lnTo>
                    <a:pt x="710" y="1983"/>
                  </a:lnTo>
                  <a:lnTo>
                    <a:pt x="705" y="1975"/>
                  </a:lnTo>
                  <a:lnTo>
                    <a:pt x="700" y="1966"/>
                  </a:lnTo>
                  <a:lnTo>
                    <a:pt x="693" y="1953"/>
                  </a:lnTo>
                  <a:lnTo>
                    <a:pt x="685" y="1940"/>
                  </a:lnTo>
                  <a:lnTo>
                    <a:pt x="673" y="1923"/>
                  </a:lnTo>
                  <a:lnTo>
                    <a:pt x="662" y="1905"/>
                  </a:lnTo>
                  <a:lnTo>
                    <a:pt x="652" y="1886"/>
                  </a:lnTo>
                  <a:lnTo>
                    <a:pt x="642" y="1868"/>
                  </a:lnTo>
                  <a:lnTo>
                    <a:pt x="635" y="1851"/>
                  </a:lnTo>
                  <a:lnTo>
                    <a:pt x="628" y="1833"/>
                  </a:lnTo>
                  <a:lnTo>
                    <a:pt x="623" y="1818"/>
                  </a:lnTo>
                  <a:lnTo>
                    <a:pt x="620" y="1803"/>
                  </a:lnTo>
                  <a:lnTo>
                    <a:pt x="617" y="1790"/>
                  </a:lnTo>
                  <a:lnTo>
                    <a:pt x="612" y="1765"/>
                  </a:lnTo>
                  <a:lnTo>
                    <a:pt x="603" y="1741"/>
                  </a:lnTo>
                  <a:lnTo>
                    <a:pt x="597" y="1724"/>
                  </a:lnTo>
                  <a:lnTo>
                    <a:pt x="593" y="1718"/>
                  </a:lnTo>
                  <a:lnTo>
                    <a:pt x="600" y="1706"/>
                  </a:lnTo>
                  <a:lnTo>
                    <a:pt x="610" y="1676"/>
                  </a:lnTo>
                  <a:lnTo>
                    <a:pt x="617" y="1636"/>
                  </a:lnTo>
                  <a:lnTo>
                    <a:pt x="607" y="1594"/>
                  </a:lnTo>
                  <a:lnTo>
                    <a:pt x="590" y="1559"/>
                  </a:lnTo>
                  <a:lnTo>
                    <a:pt x="582" y="1531"/>
                  </a:lnTo>
                  <a:lnTo>
                    <a:pt x="573" y="1503"/>
                  </a:lnTo>
                  <a:lnTo>
                    <a:pt x="560" y="1471"/>
                  </a:lnTo>
                  <a:lnTo>
                    <a:pt x="552" y="1454"/>
                  </a:lnTo>
                  <a:lnTo>
                    <a:pt x="547" y="1439"/>
                  </a:lnTo>
                  <a:lnTo>
                    <a:pt x="542" y="1426"/>
                  </a:lnTo>
                  <a:lnTo>
                    <a:pt x="537" y="1413"/>
                  </a:lnTo>
                  <a:lnTo>
                    <a:pt x="532" y="1401"/>
                  </a:lnTo>
                  <a:lnTo>
                    <a:pt x="525" y="1393"/>
                  </a:lnTo>
                  <a:lnTo>
                    <a:pt x="518" y="1383"/>
                  </a:lnTo>
                  <a:lnTo>
                    <a:pt x="508" y="1376"/>
                  </a:lnTo>
                  <a:lnTo>
                    <a:pt x="497" y="1369"/>
                  </a:lnTo>
                  <a:lnTo>
                    <a:pt x="487" y="1361"/>
                  </a:lnTo>
                  <a:lnTo>
                    <a:pt x="475" y="1354"/>
                  </a:lnTo>
                  <a:lnTo>
                    <a:pt x="463" y="1346"/>
                  </a:lnTo>
                  <a:lnTo>
                    <a:pt x="452" y="1338"/>
                  </a:lnTo>
                  <a:lnTo>
                    <a:pt x="440" y="1329"/>
                  </a:lnTo>
                  <a:lnTo>
                    <a:pt x="427" y="1323"/>
                  </a:lnTo>
                  <a:lnTo>
                    <a:pt x="413" y="1316"/>
                  </a:lnTo>
                  <a:lnTo>
                    <a:pt x="392" y="1303"/>
                  </a:lnTo>
                  <a:lnTo>
                    <a:pt x="382" y="1286"/>
                  </a:lnTo>
                  <a:lnTo>
                    <a:pt x="375" y="1268"/>
                  </a:lnTo>
                  <a:lnTo>
                    <a:pt x="365" y="1249"/>
                  </a:lnTo>
                  <a:lnTo>
                    <a:pt x="355" y="1232"/>
                  </a:lnTo>
                  <a:lnTo>
                    <a:pt x="348" y="1219"/>
                  </a:lnTo>
                  <a:lnTo>
                    <a:pt x="347" y="1209"/>
                  </a:lnTo>
                  <a:lnTo>
                    <a:pt x="347" y="1206"/>
                  </a:lnTo>
                  <a:lnTo>
                    <a:pt x="348" y="1206"/>
                  </a:lnTo>
                  <a:lnTo>
                    <a:pt x="353" y="1204"/>
                  </a:lnTo>
                  <a:lnTo>
                    <a:pt x="360" y="1201"/>
                  </a:lnTo>
                  <a:lnTo>
                    <a:pt x="367" y="1194"/>
                  </a:lnTo>
                  <a:lnTo>
                    <a:pt x="370" y="1187"/>
                  </a:lnTo>
                  <a:lnTo>
                    <a:pt x="370" y="1176"/>
                  </a:lnTo>
                  <a:lnTo>
                    <a:pt x="365" y="1162"/>
                  </a:lnTo>
                  <a:lnTo>
                    <a:pt x="352" y="1144"/>
                  </a:lnTo>
                  <a:lnTo>
                    <a:pt x="330" y="1122"/>
                  </a:lnTo>
                  <a:lnTo>
                    <a:pt x="327" y="1122"/>
                  </a:lnTo>
                  <a:lnTo>
                    <a:pt x="330" y="1126"/>
                  </a:lnTo>
                  <a:lnTo>
                    <a:pt x="327" y="1112"/>
                  </a:lnTo>
                  <a:lnTo>
                    <a:pt x="320" y="1091"/>
                  </a:lnTo>
                  <a:lnTo>
                    <a:pt x="315" y="1076"/>
                  </a:lnTo>
                  <a:lnTo>
                    <a:pt x="308" y="1066"/>
                  </a:lnTo>
                  <a:lnTo>
                    <a:pt x="293" y="1054"/>
                  </a:lnTo>
                  <a:lnTo>
                    <a:pt x="283" y="1039"/>
                  </a:lnTo>
                  <a:lnTo>
                    <a:pt x="285" y="1024"/>
                  </a:lnTo>
                  <a:lnTo>
                    <a:pt x="287" y="1011"/>
                  </a:lnTo>
                  <a:lnTo>
                    <a:pt x="275" y="997"/>
                  </a:lnTo>
                  <a:lnTo>
                    <a:pt x="257" y="986"/>
                  </a:lnTo>
                  <a:lnTo>
                    <a:pt x="243" y="971"/>
                  </a:lnTo>
                  <a:lnTo>
                    <a:pt x="235" y="954"/>
                  </a:lnTo>
                  <a:lnTo>
                    <a:pt x="232" y="936"/>
                  </a:lnTo>
                  <a:lnTo>
                    <a:pt x="228" y="916"/>
                  </a:lnTo>
                  <a:lnTo>
                    <a:pt x="218" y="889"/>
                  </a:lnTo>
                  <a:lnTo>
                    <a:pt x="205" y="862"/>
                  </a:lnTo>
                  <a:lnTo>
                    <a:pt x="185" y="836"/>
                  </a:lnTo>
                  <a:lnTo>
                    <a:pt x="172" y="814"/>
                  </a:lnTo>
                  <a:lnTo>
                    <a:pt x="168" y="796"/>
                  </a:lnTo>
                  <a:lnTo>
                    <a:pt x="167" y="782"/>
                  </a:lnTo>
                  <a:lnTo>
                    <a:pt x="157" y="774"/>
                  </a:lnTo>
                  <a:lnTo>
                    <a:pt x="145" y="766"/>
                  </a:lnTo>
                  <a:lnTo>
                    <a:pt x="140" y="754"/>
                  </a:lnTo>
                  <a:lnTo>
                    <a:pt x="133" y="739"/>
                  </a:lnTo>
                  <a:lnTo>
                    <a:pt x="118" y="722"/>
                  </a:lnTo>
                  <a:lnTo>
                    <a:pt x="100" y="700"/>
                  </a:lnTo>
                  <a:lnTo>
                    <a:pt x="86" y="674"/>
                  </a:lnTo>
                  <a:lnTo>
                    <a:pt x="78" y="652"/>
                  </a:lnTo>
                  <a:lnTo>
                    <a:pt x="75" y="642"/>
                  </a:lnTo>
                  <a:lnTo>
                    <a:pt x="70" y="642"/>
                  </a:lnTo>
                  <a:lnTo>
                    <a:pt x="60" y="642"/>
                  </a:lnTo>
                  <a:lnTo>
                    <a:pt x="45" y="642"/>
                  </a:lnTo>
                  <a:lnTo>
                    <a:pt x="33" y="642"/>
                  </a:lnTo>
                  <a:lnTo>
                    <a:pt x="21" y="642"/>
                  </a:lnTo>
                  <a:lnTo>
                    <a:pt x="11" y="644"/>
                  </a:lnTo>
                  <a:lnTo>
                    <a:pt x="3" y="645"/>
                  </a:lnTo>
                  <a:lnTo>
                    <a:pt x="0" y="645"/>
                  </a:lnTo>
                  <a:lnTo>
                    <a:pt x="1" y="642"/>
                  </a:lnTo>
                  <a:lnTo>
                    <a:pt x="5" y="632"/>
                  </a:lnTo>
                  <a:lnTo>
                    <a:pt x="8" y="620"/>
                  </a:lnTo>
                  <a:lnTo>
                    <a:pt x="13" y="609"/>
                  </a:lnTo>
                  <a:lnTo>
                    <a:pt x="20" y="592"/>
                  </a:lnTo>
                  <a:lnTo>
                    <a:pt x="28" y="569"/>
                  </a:lnTo>
                  <a:lnTo>
                    <a:pt x="35" y="542"/>
                  </a:lnTo>
                  <a:lnTo>
                    <a:pt x="38" y="517"/>
                  </a:lnTo>
                  <a:lnTo>
                    <a:pt x="40" y="500"/>
                  </a:lnTo>
                  <a:lnTo>
                    <a:pt x="43" y="489"/>
                  </a:lnTo>
                  <a:lnTo>
                    <a:pt x="50" y="480"/>
                  </a:lnTo>
                  <a:lnTo>
                    <a:pt x="56" y="470"/>
                  </a:lnTo>
                  <a:lnTo>
                    <a:pt x="61" y="457"/>
                  </a:lnTo>
                  <a:lnTo>
                    <a:pt x="65" y="442"/>
                  </a:lnTo>
                  <a:lnTo>
                    <a:pt x="66" y="429"/>
                  </a:lnTo>
                  <a:lnTo>
                    <a:pt x="66" y="424"/>
                  </a:lnTo>
                  <a:lnTo>
                    <a:pt x="232" y="465"/>
                  </a:lnTo>
                  <a:lnTo>
                    <a:pt x="235" y="464"/>
                  </a:lnTo>
                  <a:lnTo>
                    <a:pt x="243" y="457"/>
                  </a:lnTo>
                  <a:lnTo>
                    <a:pt x="257" y="450"/>
                  </a:lnTo>
                  <a:lnTo>
                    <a:pt x="270" y="439"/>
                  </a:lnTo>
                  <a:lnTo>
                    <a:pt x="285" y="429"/>
                  </a:lnTo>
                  <a:lnTo>
                    <a:pt x="298" y="417"/>
                  </a:lnTo>
                  <a:lnTo>
                    <a:pt x="308" y="407"/>
                  </a:lnTo>
                  <a:lnTo>
                    <a:pt x="313" y="399"/>
                  </a:lnTo>
                  <a:lnTo>
                    <a:pt x="318" y="384"/>
                  </a:lnTo>
                  <a:lnTo>
                    <a:pt x="325" y="369"/>
                  </a:lnTo>
                  <a:lnTo>
                    <a:pt x="330" y="357"/>
                  </a:lnTo>
                  <a:lnTo>
                    <a:pt x="332" y="352"/>
                  </a:lnTo>
                  <a:lnTo>
                    <a:pt x="335" y="352"/>
                  </a:lnTo>
                  <a:lnTo>
                    <a:pt x="342" y="352"/>
                  </a:lnTo>
                  <a:lnTo>
                    <a:pt x="353" y="352"/>
                  </a:lnTo>
                  <a:lnTo>
                    <a:pt x="367" y="350"/>
                  </a:lnTo>
                  <a:lnTo>
                    <a:pt x="382" y="350"/>
                  </a:lnTo>
                  <a:lnTo>
                    <a:pt x="398" y="347"/>
                  </a:lnTo>
                  <a:lnTo>
                    <a:pt x="413" y="345"/>
                  </a:lnTo>
                  <a:lnTo>
                    <a:pt x="427" y="342"/>
                  </a:lnTo>
                  <a:lnTo>
                    <a:pt x="438" y="337"/>
                  </a:lnTo>
                  <a:lnTo>
                    <a:pt x="447" y="329"/>
                  </a:lnTo>
                  <a:lnTo>
                    <a:pt x="455" y="319"/>
                  </a:lnTo>
                  <a:lnTo>
                    <a:pt x="462" y="309"/>
                  </a:lnTo>
                  <a:lnTo>
                    <a:pt x="468" y="299"/>
                  </a:lnTo>
                  <a:lnTo>
                    <a:pt x="475" y="290"/>
                  </a:lnTo>
                  <a:lnTo>
                    <a:pt x="483" y="284"/>
                  </a:lnTo>
                  <a:lnTo>
                    <a:pt x="493" y="280"/>
                  </a:lnTo>
                  <a:lnTo>
                    <a:pt x="508" y="275"/>
                  </a:lnTo>
                  <a:lnTo>
                    <a:pt x="513" y="269"/>
                  </a:lnTo>
                  <a:lnTo>
                    <a:pt x="513" y="264"/>
                  </a:lnTo>
                  <a:lnTo>
                    <a:pt x="512" y="262"/>
                  </a:lnTo>
                  <a:lnTo>
                    <a:pt x="380" y="90"/>
                  </a:lnTo>
                  <a:close/>
                </a:path>
              </a:pathLst>
            </a:custGeom>
            <a:solidFill>
              <a:srgbClr val="b2b2b2">
                <a:alpha val="30000"/>
              </a:srgbClr>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325" name="PlaceHolder 1"/>
          <p:cNvSpPr>
            <a:spLocks noGrp="1"/>
          </p:cNvSpPr>
          <p:nvPr>
            <p:ph/>
          </p:nvPr>
        </p:nvSpPr>
        <p:spPr>
          <a:xfrm>
            <a:off x="838080" y="1523880"/>
            <a:ext cx="7772400" cy="4114800"/>
          </a:xfrm>
          <a:prstGeom prst="rect">
            <a:avLst/>
          </a:prstGeom>
          <a:noFill/>
          <a:ln w="0">
            <a:noFill/>
          </a:ln>
        </p:spPr>
        <p:txBody>
          <a:bodyPr lIns="90000" rIns="90000" tIns="46800" bIns="46800" anchor="t">
            <a:normAutofit/>
          </a:bodyPr>
          <a:p>
            <a:pPr marL="341280" indent="-341280">
              <a:lnSpc>
                <a:spcPct val="90000"/>
              </a:lnSpc>
              <a:spcBef>
                <a:spcPts val="601"/>
              </a:spcBef>
              <a:buClr>
                <a:srgbClr val="333399"/>
              </a:buClr>
              <a:buFont typeface="Albertus Medium"/>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333399"/>
                </a:solidFill>
                <a:latin typeface="Albertus Medium"/>
              </a:rPr>
              <a:t>Similar concept Nanospheres of Gold can be coupled to antibody, that when attached to cancer cells the gold absorb laser light</a:t>
            </a:r>
            <a:r>
              <a:rPr b="0" lang="en-GB" sz="2400" spc="-1" strike="noStrike">
                <a:solidFill>
                  <a:srgbClr val="333399"/>
                </a:solidFill>
                <a:latin typeface="Albertus Medium"/>
              </a:rPr>
              <a:t> and allows for selective tumour photothermolysis.</a:t>
            </a:r>
            <a:endParaRPr b="0" lang="en-US" sz="2400" spc="-1" strike="noStrike">
              <a:solidFill>
                <a:srgbClr val="000000"/>
              </a:solidFill>
              <a:latin typeface="Arial"/>
            </a:endParaRPr>
          </a:p>
          <a:p>
            <a:pPr marL="341280" indent="0">
              <a:lnSpc>
                <a:spcPct val="9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400" spc="-1" strike="noStrike">
              <a:solidFill>
                <a:srgbClr val="000000"/>
              </a:solidFill>
              <a:latin typeface="Arial"/>
            </a:endParaRPr>
          </a:p>
          <a:p>
            <a:pPr marL="341280" indent="-341280">
              <a:lnSpc>
                <a:spcPct val="90000"/>
              </a:lnSpc>
              <a:spcBef>
                <a:spcPts val="1500"/>
              </a:spcBef>
              <a:buClr>
                <a:srgbClr val="333399"/>
              </a:buClr>
              <a:buFont typeface="Albertus Medium"/>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333399"/>
                </a:solidFill>
                <a:latin typeface="Albertus Medium"/>
              </a:rPr>
              <a:t>Although It is generally known that, Skin care companies are notoriously tight-lipped about their research</a:t>
            </a:r>
            <a:r>
              <a:rPr b="0" lang="en-US" sz="2400" spc="-1" strike="noStrike">
                <a:solidFill>
                  <a:srgbClr val="333399"/>
                </a:solidFill>
                <a:latin typeface="Albertus Medium"/>
              </a:rPr>
              <a:t> </a:t>
            </a:r>
            <a:r>
              <a:rPr b="0" lang="en-US" sz="2400" spc="-1" strike="noStrike">
                <a:solidFill>
                  <a:srgbClr val="333399"/>
                </a:solidFill>
                <a:latin typeface="Albertus Medium"/>
              </a:rPr>
              <a:t>budgets, we know that</a:t>
            </a:r>
            <a:r>
              <a:rPr b="0" lang="en-US" sz="2400" spc="-1" strike="noStrike">
                <a:solidFill>
                  <a:srgbClr val="333399"/>
                </a:solidFill>
                <a:latin typeface="Albertus Medium"/>
              </a:rPr>
              <a:t> </a:t>
            </a:r>
            <a:r>
              <a:rPr b="0" lang="en-US" sz="2400" spc="-1" strike="noStrike">
                <a:solidFill>
                  <a:srgbClr val="333399"/>
                </a:solidFill>
                <a:latin typeface="Albertus Medium"/>
              </a:rPr>
              <a:t>the sixth largest patent holder of nanotechnology in the united states is cosmetic companies.</a:t>
            </a:r>
            <a:endParaRPr b="0" lang="en-US" sz="2400" spc="-1" strike="noStrike">
              <a:solidFill>
                <a:srgbClr val="000000"/>
              </a:solidFill>
              <a:latin typeface="Arial"/>
            </a:endParaRPr>
          </a:p>
        </p:txBody>
      </p:sp>
      <p:sp>
        <p:nvSpPr>
          <p:cNvPr id="326" name=""/>
          <p:cNvSpPr/>
          <p:nvPr/>
        </p:nvSpPr>
        <p:spPr>
          <a:xfrm>
            <a:off x="609480" y="6629400"/>
            <a:ext cx="8534520" cy="228600"/>
          </a:xfrm>
          <a:prstGeom prst="rect">
            <a:avLst/>
          </a:prstGeom>
          <a:solidFill>
            <a:srgbClr val="bbe0e3"/>
          </a:solidFill>
          <a:ln cap="sq"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99"/>
                </a:solidFill>
                <a:latin typeface="Albertus Medium"/>
              </a:rPr>
              <a:t>www.skinandallergy.org</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0" lang="en-US" sz="1000" spc="-1" strike="noStrike">
                <a:solidFill>
                  <a:srgbClr val="333399"/>
                </a:solidFill>
                <a:latin typeface="Albertus Medium"/>
              </a:rPr>
              <a:t>www.panarabderm.org</a:t>
            </a:r>
            <a:endParaRPr b="0" lang="en-US" sz="1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1" name="" descr=""/>
          <p:cNvPicPr/>
          <p:nvPr/>
        </p:nvPicPr>
        <p:blipFill>
          <a:blip r:embed="rId2"/>
          <a:stretch/>
        </p:blipFill>
        <p:spPr>
          <a:xfrm>
            <a:off x="8153280" y="74520"/>
            <a:ext cx="922320" cy="992160"/>
          </a:xfrm>
          <a:prstGeom prst="rect">
            <a:avLst/>
          </a:prstGeom>
          <a:ln w="0">
            <a:noFill/>
          </a:ln>
        </p:spPr>
      </p:pic>
      <p:sp>
        <p:nvSpPr>
          <p:cNvPr id="62" name=""/>
          <p:cNvSpPr/>
          <p:nvPr/>
        </p:nvSpPr>
        <p:spPr>
          <a:xfrm>
            <a:off x="1295280" y="1066680"/>
            <a:ext cx="6193080" cy="1800"/>
          </a:xfrm>
          <a:prstGeom prst="line">
            <a:avLst/>
          </a:prstGeom>
          <a:ln cap="sq" w="12600">
            <a:solidFill>
              <a:srgbClr val="b2b2b2"/>
            </a:solidFill>
            <a:miter/>
          </a:ln>
        </p:spPr>
        <p:style>
          <a:lnRef idx="0"/>
          <a:fillRef idx="0"/>
          <a:effectRef idx="0"/>
          <a:fontRef idx="minor"/>
        </p:style>
        <p:txBody>
          <a:bodyPr lIns="90000" rIns="90000" tIns="-45000" bIns="-45000" anchor="t">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63" name="" descr=""/>
          <p:cNvPicPr/>
          <p:nvPr/>
        </p:nvPicPr>
        <p:blipFill>
          <a:blip r:embed="rId3"/>
          <a:stretch/>
        </p:blipFill>
        <p:spPr>
          <a:xfrm>
            <a:off x="0" y="0"/>
            <a:ext cx="600120" cy="6858000"/>
          </a:xfrm>
          <a:prstGeom prst="rect">
            <a:avLst/>
          </a:prstGeom>
          <a:ln w="0">
            <a:noFill/>
          </a:ln>
        </p:spPr>
      </p:pic>
      <p:grpSp>
        <p:nvGrpSpPr>
          <p:cNvPr id="64" name=""/>
          <p:cNvGrpSpPr/>
          <p:nvPr/>
        </p:nvGrpSpPr>
        <p:grpSpPr>
          <a:xfrm>
            <a:off x="2639880" y="1803240"/>
            <a:ext cx="4521240" cy="3986280"/>
            <a:chOff x="2639880" y="1803240"/>
            <a:chExt cx="4521240" cy="3986280"/>
          </a:xfrm>
        </p:grpSpPr>
        <p:sp>
          <p:nvSpPr>
            <p:cNvPr id="65" name=""/>
            <p:cNvSpPr/>
            <p:nvPr/>
          </p:nvSpPr>
          <p:spPr>
            <a:xfrm>
              <a:off x="2639880" y="2776680"/>
              <a:ext cx="1721160" cy="3012840"/>
            </a:xfrm>
            <a:custGeom>
              <a:avLst/>
              <a:gdLst/>
              <a:ahLst/>
              <a:rect l="l" t="t" r="r" b="b"/>
              <a:pathLst>
                <a:path w="1261" h="2255">
                  <a:moveTo>
                    <a:pt x="1257" y="2027"/>
                  </a:moveTo>
                  <a:lnTo>
                    <a:pt x="1257" y="2015"/>
                  </a:lnTo>
                  <a:lnTo>
                    <a:pt x="1252" y="2000"/>
                  </a:lnTo>
                  <a:lnTo>
                    <a:pt x="1244" y="1985"/>
                  </a:lnTo>
                  <a:lnTo>
                    <a:pt x="1232" y="1970"/>
                  </a:lnTo>
                  <a:lnTo>
                    <a:pt x="1222" y="1956"/>
                  </a:lnTo>
                  <a:lnTo>
                    <a:pt x="1212" y="1945"/>
                  </a:lnTo>
                  <a:lnTo>
                    <a:pt x="1204" y="1933"/>
                  </a:lnTo>
                  <a:lnTo>
                    <a:pt x="1199" y="1921"/>
                  </a:lnTo>
                  <a:lnTo>
                    <a:pt x="1197" y="1910"/>
                  </a:lnTo>
                  <a:lnTo>
                    <a:pt x="1192" y="1893"/>
                  </a:lnTo>
                  <a:lnTo>
                    <a:pt x="1186" y="1876"/>
                  </a:lnTo>
                  <a:lnTo>
                    <a:pt x="1171" y="1860"/>
                  </a:lnTo>
                  <a:lnTo>
                    <a:pt x="1161" y="1851"/>
                  </a:lnTo>
                  <a:lnTo>
                    <a:pt x="1147" y="1838"/>
                  </a:lnTo>
                  <a:lnTo>
                    <a:pt x="1132" y="1823"/>
                  </a:lnTo>
                  <a:lnTo>
                    <a:pt x="1117" y="1806"/>
                  </a:lnTo>
                  <a:lnTo>
                    <a:pt x="1102" y="1788"/>
                  </a:lnTo>
                  <a:lnTo>
                    <a:pt x="1087" y="1770"/>
                  </a:lnTo>
                  <a:lnTo>
                    <a:pt x="1076" y="1750"/>
                  </a:lnTo>
                  <a:lnTo>
                    <a:pt x="1067" y="1731"/>
                  </a:lnTo>
                  <a:lnTo>
                    <a:pt x="1052" y="1703"/>
                  </a:lnTo>
                  <a:lnTo>
                    <a:pt x="1037" y="1681"/>
                  </a:lnTo>
                  <a:lnTo>
                    <a:pt x="1026" y="1665"/>
                  </a:lnTo>
                  <a:lnTo>
                    <a:pt x="1019" y="1646"/>
                  </a:lnTo>
                  <a:lnTo>
                    <a:pt x="1016" y="1633"/>
                  </a:lnTo>
                  <a:lnTo>
                    <a:pt x="1009" y="1613"/>
                  </a:lnTo>
                  <a:lnTo>
                    <a:pt x="999" y="1591"/>
                  </a:lnTo>
                  <a:lnTo>
                    <a:pt x="989" y="1568"/>
                  </a:lnTo>
                  <a:lnTo>
                    <a:pt x="979" y="1545"/>
                  </a:lnTo>
                  <a:lnTo>
                    <a:pt x="969" y="1525"/>
                  </a:lnTo>
                  <a:lnTo>
                    <a:pt x="959" y="1508"/>
                  </a:lnTo>
                  <a:lnTo>
                    <a:pt x="952" y="1499"/>
                  </a:lnTo>
                  <a:lnTo>
                    <a:pt x="942" y="1486"/>
                  </a:lnTo>
                  <a:lnTo>
                    <a:pt x="934" y="1473"/>
                  </a:lnTo>
                  <a:lnTo>
                    <a:pt x="922" y="1458"/>
                  </a:lnTo>
                  <a:lnTo>
                    <a:pt x="911" y="1443"/>
                  </a:lnTo>
                  <a:lnTo>
                    <a:pt x="902" y="1434"/>
                  </a:lnTo>
                  <a:lnTo>
                    <a:pt x="891" y="1426"/>
                  </a:lnTo>
                  <a:lnTo>
                    <a:pt x="879" y="1419"/>
                  </a:lnTo>
                  <a:lnTo>
                    <a:pt x="867" y="1411"/>
                  </a:lnTo>
                  <a:lnTo>
                    <a:pt x="854" y="1404"/>
                  </a:lnTo>
                  <a:lnTo>
                    <a:pt x="842" y="1399"/>
                  </a:lnTo>
                  <a:lnTo>
                    <a:pt x="831" y="1396"/>
                  </a:lnTo>
                  <a:lnTo>
                    <a:pt x="820" y="1394"/>
                  </a:lnTo>
                  <a:lnTo>
                    <a:pt x="812" y="1393"/>
                  </a:lnTo>
                  <a:lnTo>
                    <a:pt x="805" y="1389"/>
                  </a:lnTo>
                  <a:lnTo>
                    <a:pt x="800" y="1384"/>
                  </a:lnTo>
                  <a:lnTo>
                    <a:pt x="794" y="1376"/>
                  </a:lnTo>
                  <a:lnTo>
                    <a:pt x="789" y="1368"/>
                  </a:lnTo>
                  <a:lnTo>
                    <a:pt x="782" y="1354"/>
                  </a:lnTo>
                  <a:lnTo>
                    <a:pt x="774" y="1341"/>
                  </a:lnTo>
                  <a:lnTo>
                    <a:pt x="762" y="1324"/>
                  </a:lnTo>
                  <a:lnTo>
                    <a:pt x="750" y="1306"/>
                  </a:lnTo>
                  <a:lnTo>
                    <a:pt x="740" y="1288"/>
                  </a:lnTo>
                  <a:lnTo>
                    <a:pt x="732" y="1269"/>
                  </a:lnTo>
                  <a:lnTo>
                    <a:pt x="724" y="1253"/>
                  </a:lnTo>
                  <a:lnTo>
                    <a:pt x="717" y="1234"/>
                  </a:lnTo>
                  <a:lnTo>
                    <a:pt x="712" y="1219"/>
                  </a:lnTo>
                  <a:lnTo>
                    <a:pt x="709" y="1204"/>
                  </a:lnTo>
                  <a:lnTo>
                    <a:pt x="705" y="1191"/>
                  </a:lnTo>
                  <a:lnTo>
                    <a:pt x="700" y="1166"/>
                  </a:lnTo>
                  <a:lnTo>
                    <a:pt x="692" y="1143"/>
                  </a:lnTo>
                  <a:lnTo>
                    <a:pt x="685" y="1126"/>
                  </a:lnTo>
                  <a:lnTo>
                    <a:pt x="682" y="1119"/>
                  </a:lnTo>
                  <a:lnTo>
                    <a:pt x="689" y="1108"/>
                  </a:lnTo>
                  <a:lnTo>
                    <a:pt x="700" y="1078"/>
                  </a:lnTo>
                  <a:lnTo>
                    <a:pt x="707" y="1038"/>
                  </a:lnTo>
                  <a:lnTo>
                    <a:pt x="697" y="996"/>
                  </a:lnTo>
                  <a:lnTo>
                    <a:pt x="680" y="961"/>
                  </a:lnTo>
                  <a:lnTo>
                    <a:pt x="670" y="932"/>
                  </a:lnTo>
                  <a:lnTo>
                    <a:pt x="662" y="904"/>
                  </a:lnTo>
                  <a:lnTo>
                    <a:pt x="649" y="872"/>
                  </a:lnTo>
                  <a:lnTo>
                    <a:pt x="640" y="856"/>
                  </a:lnTo>
                  <a:lnTo>
                    <a:pt x="635" y="839"/>
                  </a:lnTo>
                  <a:lnTo>
                    <a:pt x="630" y="826"/>
                  </a:lnTo>
                  <a:lnTo>
                    <a:pt x="625" y="814"/>
                  </a:lnTo>
                  <a:lnTo>
                    <a:pt x="620" y="802"/>
                  </a:lnTo>
                  <a:lnTo>
                    <a:pt x="614" y="792"/>
                  </a:lnTo>
                  <a:lnTo>
                    <a:pt x="607" y="784"/>
                  </a:lnTo>
                  <a:lnTo>
                    <a:pt x="597" y="777"/>
                  </a:lnTo>
                  <a:lnTo>
                    <a:pt x="587" y="771"/>
                  </a:lnTo>
                  <a:lnTo>
                    <a:pt x="575" y="762"/>
                  </a:lnTo>
                  <a:lnTo>
                    <a:pt x="565" y="754"/>
                  </a:lnTo>
                  <a:lnTo>
                    <a:pt x="554" y="744"/>
                  </a:lnTo>
                  <a:lnTo>
                    <a:pt x="542" y="736"/>
                  </a:lnTo>
                  <a:lnTo>
                    <a:pt x="529" y="729"/>
                  </a:lnTo>
                  <a:lnTo>
                    <a:pt x="515" y="721"/>
                  </a:lnTo>
                  <a:lnTo>
                    <a:pt x="502" y="716"/>
                  </a:lnTo>
                  <a:lnTo>
                    <a:pt x="480" y="702"/>
                  </a:lnTo>
                  <a:lnTo>
                    <a:pt x="470" y="686"/>
                  </a:lnTo>
                  <a:lnTo>
                    <a:pt x="464" y="667"/>
                  </a:lnTo>
                  <a:lnTo>
                    <a:pt x="454" y="649"/>
                  </a:lnTo>
                  <a:lnTo>
                    <a:pt x="444" y="634"/>
                  </a:lnTo>
                  <a:lnTo>
                    <a:pt x="437" y="621"/>
                  </a:lnTo>
                  <a:lnTo>
                    <a:pt x="435" y="611"/>
                  </a:lnTo>
                  <a:lnTo>
                    <a:pt x="435" y="607"/>
                  </a:lnTo>
                  <a:lnTo>
                    <a:pt x="437" y="607"/>
                  </a:lnTo>
                  <a:lnTo>
                    <a:pt x="442" y="606"/>
                  </a:lnTo>
                  <a:lnTo>
                    <a:pt x="449" y="602"/>
                  </a:lnTo>
                  <a:lnTo>
                    <a:pt x="455" y="596"/>
                  </a:lnTo>
                  <a:lnTo>
                    <a:pt x="459" y="589"/>
                  </a:lnTo>
                  <a:lnTo>
                    <a:pt x="459" y="577"/>
                  </a:lnTo>
                  <a:lnTo>
                    <a:pt x="454" y="564"/>
                  </a:lnTo>
                  <a:lnTo>
                    <a:pt x="440" y="546"/>
                  </a:lnTo>
                  <a:lnTo>
                    <a:pt x="434" y="539"/>
                  </a:lnTo>
                  <a:lnTo>
                    <a:pt x="429" y="532"/>
                  </a:lnTo>
                  <a:lnTo>
                    <a:pt x="424" y="529"/>
                  </a:lnTo>
                  <a:lnTo>
                    <a:pt x="420" y="526"/>
                  </a:lnTo>
                  <a:lnTo>
                    <a:pt x="419" y="527"/>
                  </a:lnTo>
                  <a:lnTo>
                    <a:pt x="415" y="526"/>
                  </a:lnTo>
                  <a:lnTo>
                    <a:pt x="415" y="522"/>
                  </a:lnTo>
                  <a:lnTo>
                    <a:pt x="420" y="526"/>
                  </a:lnTo>
                  <a:lnTo>
                    <a:pt x="420" y="524"/>
                  </a:lnTo>
                  <a:lnTo>
                    <a:pt x="419" y="521"/>
                  </a:lnTo>
                  <a:lnTo>
                    <a:pt x="419" y="517"/>
                  </a:lnTo>
                  <a:lnTo>
                    <a:pt x="417" y="512"/>
                  </a:lnTo>
                  <a:lnTo>
                    <a:pt x="409" y="490"/>
                  </a:lnTo>
                  <a:lnTo>
                    <a:pt x="405" y="477"/>
                  </a:lnTo>
                  <a:lnTo>
                    <a:pt x="399" y="467"/>
                  </a:lnTo>
                  <a:lnTo>
                    <a:pt x="384" y="455"/>
                  </a:lnTo>
                  <a:lnTo>
                    <a:pt x="372" y="440"/>
                  </a:lnTo>
                  <a:lnTo>
                    <a:pt x="374" y="425"/>
                  </a:lnTo>
                  <a:lnTo>
                    <a:pt x="375" y="412"/>
                  </a:lnTo>
                  <a:lnTo>
                    <a:pt x="364" y="399"/>
                  </a:lnTo>
                  <a:lnTo>
                    <a:pt x="345" y="387"/>
                  </a:lnTo>
                  <a:lnTo>
                    <a:pt x="332" y="372"/>
                  </a:lnTo>
                  <a:lnTo>
                    <a:pt x="325" y="355"/>
                  </a:lnTo>
                  <a:lnTo>
                    <a:pt x="322" y="337"/>
                  </a:lnTo>
                  <a:lnTo>
                    <a:pt x="319" y="317"/>
                  </a:lnTo>
                  <a:lnTo>
                    <a:pt x="309" y="290"/>
                  </a:lnTo>
                  <a:lnTo>
                    <a:pt x="294" y="264"/>
                  </a:lnTo>
                  <a:lnTo>
                    <a:pt x="273" y="237"/>
                  </a:lnTo>
                  <a:lnTo>
                    <a:pt x="260" y="215"/>
                  </a:lnTo>
                  <a:lnTo>
                    <a:pt x="257" y="197"/>
                  </a:lnTo>
                  <a:lnTo>
                    <a:pt x="255" y="184"/>
                  </a:lnTo>
                  <a:lnTo>
                    <a:pt x="245" y="175"/>
                  </a:lnTo>
                  <a:lnTo>
                    <a:pt x="233" y="167"/>
                  </a:lnTo>
                  <a:lnTo>
                    <a:pt x="228" y="154"/>
                  </a:lnTo>
                  <a:lnTo>
                    <a:pt x="222" y="140"/>
                  </a:lnTo>
                  <a:lnTo>
                    <a:pt x="207" y="124"/>
                  </a:lnTo>
                  <a:lnTo>
                    <a:pt x="188" y="100"/>
                  </a:lnTo>
                  <a:lnTo>
                    <a:pt x="175" y="74"/>
                  </a:lnTo>
                  <a:lnTo>
                    <a:pt x="168" y="52"/>
                  </a:lnTo>
                  <a:lnTo>
                    <a:pt x="165" y="42"/>
                  </a:lnTo>
                  <a:lnTo>
                    <a:pt x="160" y="42"/>
                  </a:lnTo>
                  <a:lnTo>
                    <a:pt x="148" y="42"/>
                  </a:lnTo>
                  <a:lnTo>
                    <a:pt x="133" y="42"/>
                  </a:lnTo>
                  <a:lnTo>
                    <a:pt x="122" y="42"/>
                  </a:lnTo>
                  <a:lnTo>
                    <a:pt x="110" y="42"/>
                  </a:lnTo>
                  <a:lnTo>
                    <a:pt x="100" y="44"/>
                  </a:lnTo>
                  <a:lnTo>
                    <a:pt x="92" y="47"/>
                  </a:lnTo>
                  <a:lnTo>
                    <a:pt x="88" y="47"/>
                  </a:lnTo>
                  <a:lnTo>
                    <a:pt x="90" y="44"/>
                  </a:lnTo>
                  <a:lnTo>
                    <a:pt x="93" y="34"/>
                  </a:lnTo>
                  <a:lnTo>
                    <a:pt x="98" y="20"/>
                  </a:lnTo>
                  <a:lnTo>
                    <a:pt x="103" y="8"/>
                  </a:lnTo>
                  <a:lnTo>
                    <a:pt x="103" y="8"/>
                  </a:lnTo>
                  <a:lnTo>
                    <a:pt x="103" y="8"/>
                  </a:lnTo>
                  <a:lnTo>
                    <a:pt x="103" y="8"/>
                  </a:lnTo>
                  <a:lnTo>
                    <a:pt x="103" y="8"/>
                  </a:lnTo>
                  <a:lnTo>
                    <a:pt x="67" y="0"/>
                  </a:lnTo>
                  <a:lnTo>
                    <a:pt x="67" y="5"/>
                  </a:lnTo>
                  <a:lnTo>
                    <a:pt x="65" y="19"/>
                  </a:lnTo>
                  <a:lnTo>
                    <a:pt x="62" y="34"/>
                  </a:lnTo>
                  <a:lnTo>
                    <a:pt x="57" y="47"/>
                  </a:lnTo>
                  <a:lnTo>
                    <a:pt x="50" y="57"/>
                  </a:lnTo>
                  <a:lnTo>
                    <a:pt x="45" y="65"/>
                  </a:lnTo>
                  <a:lnTo>
                    <a:pt x="40" y="79"/>
                  </a:lnTo>
                  <a:lnTo>
                    <a:pt x="38" y="95"/>
                  </a:lnTo>
                  <a:lnTo>
                    <a:pt x="35" y="119"/>
                  </a:lnTo>
                  <a:lnTo>
                    <a:pt x="28" y="145"/>
                  </a:lnTo>
                  <a:lnTo>
                    <a:pt x="20" y="169"/>
                  </a:lnTo>
                  <a:lnTo>
                    <a:pt x="15" y="185"/>
                  </a:lnTo>
                  <a:lnTo>
                    <a:pt x="10" y="197"/>
                  </a:lnTo>
                  <a:lnTo>
                    <a:pt x="5" y="209"/>
                  </a:lnTo>
                  <a:lnTo>
                    <a:pt x="2" y="220"/>
                  </a:lnTo>
                  <a:lnTo>
                    <a:pt x="0" y="224"/>
                  </a:lnTo>
                  <a:lnTo>
                    <a:pt x="3" y="224"/>
                  </a:lnTo>
                  <a:lnTo>
                    <a:pt x="12" y="220"/>
                  </a:lnTo>
                  <a:lnTo>
                    <a:pt x="23" y="219"/>
                  </a:lnTo>
                  <a:lnTo>
                    <a:pt x="33" y="219"/>
                  </a:lnTo>
                  <a:lnTo>
                    <a:pt x="47" y="219"/>
                  </a:lnTo>
                  <a:lnTo>
                    <a:pt x="60" y="219"/>
                  </a:lnTo>
                  <a:lnTo>
                    <a:pt x="72" y="219"/>
                  </a:lnTo>
                  <a:lnTo>
                    <a:pt x="77" y="219"/>
                  </a:lnTo>
                  <a:lnTo>
                    <a:pt x="80" y="229"/>
                  </a:lnTo>
                  <a:lnTo>
                    <a:pt x="87" y="250"/>
                  </a:lnTo>
                  <a:lnTo>
                    <a:pt x="100" y="277"/>
                  </a:lnTo>
                  <a:lnTo>
                    <a:pt x="118" y="299"/>
                  </a:lnTo>
                  <a:lnTo>
                    <a:pt x="133" y="315"/>
                  </a:lnTo>
                  <a:lnTo>
                    <a:pt x="140" y="330"/>
                  </a:lnTo>
                  <a:lnTo>
                    <a:pt x="145" y="342"/>
                  </a:lnTo>
                  <a:lnTo>
                    <a:pt x="157" y="352"/>
                  </a:lnTo>
                  <a:lnTo>
                    <a:pt x="167" y="360"/>
                  </a:lnTo>
                  <a:lnTo>
                    <a:pt x="168" y="374"/>
                  </a:lnTo>
                  <a:lnTo>
                    <a:pt x="172" y="390"/>
                  </a:lnTo>
                  <a:lnTo>
                    <a:pt x="185" y="414"/>
                  </a:lnTo>
                  <a:lnTo>
                    <a:pt x="205" y="440"/>
                  </a:lnTo>
                  <a:lnTo>
                    <a:pt x="220" y="467"/>
                  </a:lnTo>
                  <a:lnTo>
                    <a:pt x="230" y="492"/>
                  </a:lnTo>
                  <a:lnTo>
                    <a:pt x="233" y="512"/>
                  </a:lnTo>
                  <a:lnTo>
                    <a:pt x="237" y="531"/>
                  </a:lnTo>
                  <a:lnTo>
                    <a:pt x="243" y="547"/>
                  </a:lnTo>
                  <a:lnTo>
                    <a:pt x="257" y="562"/>
                  </a:lnTo>
                  <a:lnTo>
                    <a:pt x="275" y="574"/>
                  </a:lnTo>
                  <a:lnTo>
                    <a:pt x="287" y="587"/>
                  </a:lnTo>
                  <a:lnTo>
                    <a:pt x="285" y="601"/>
                  </a:lnTo>
                  <a:lnTo>
                    <a:pt x="284" y="617"/>
                  </a:lnTo>
                  <a:lnTo>
                    <a:pt x="295" y="632"/>
                  </a:lnTo>
                  <a:lnTo>
                    <a:pt x="310" y="642"/>
                  </a:lnTo>
                  <a:lnTo>
                    <a:pt x="317" y="652"/>
                  </a:lnTo>
                  <a:lnTo>
                    <a:pt x="320" y="666"/>
                  </a:lnTo>
                  <a:lnTo>
                    <a:pt x="329" y="687"/>
                  </a:lnTo>
                  <a:lnTo>
                    <a:pt x="330" y="692"/>
                  </a:lnTo>
                  <a:lnTo>
                    <a:pt x="330" y="696"/>
                  </a:lnTo>
                  <a:lnTo>
                    <a:pt x="332" y="697"/>
                  </a:lnTo>
                  <a:lnTo>
                    <a:pt x="332" y="699"/>
                  </a:lnTo>
                  <a:lnTo>
                    <a:pt x="335" y="702"/>
                  </a:lnTo>
                  <a:lnTo>
                    <a:pt x="340" y="707"/>
                  </a:lnTo>
                  <a:lnTo>
                    <a:pt x="345" y="712"/>
                  </a:lnTo>
                  <a:lnTo>
                    <a:pt x="352" y="721"/>
                  </a:lnTo>
                  <a:lnTo>
                    <a:pt x="365" y="737"/>
                  </a:lnTo>
                  <a:lnTo>
                    <a:pt x="370" y="752"/>
                  </a:lnTo>
                  <a:lnTo>
                    <a:pt x="370" y="762"/>
                  </a:lnTo>
                  <a:lnTo>
                    <a:pt x="367" y="771"/>
                  </a:lnTo>
                  <a:lnTo>
                    <a:pt x="360" y="776"/>
                  </a:lnTo>
                  <a:lnTo>
                    <a:pt x="354" y="781"/>
                  </a:lnTo>
                  <a:lnTo>
                    <a:pt x="349" y="782"/>
                  </a:lnTo>
                  <a:lnTo>
                    <a:pt x="347" y="782"/>
                  </a:lnTo>
                  <a:lnTo>
                    <a:pt x="347" y="786"/>
                  </a:lnTo>
                  <a:lnTo>
                    <a:pt x="350" y="794"/>
                  </a:lnTo>
                  <a:lnTo>
                    <a:pt x="355" y="807"/>
                  </a:lnTo>
                  <a:lnTo>
                    <a:pt x="367" y="824"/>
                  </a:lnTo>
                  <a:lnTo>
                    <a:pt x="377" y="842"/>
                  </a:lnTo>
                  <a:lnTo>
                    <a:pt x="384" y="862"/>
                  </a:lnTo>
                  <a:lnTo>
                    <a:pt x="392" y="877"/>
                  </a:lnTo>
                  <a:lnTo>
                    <a:pt x="414" y="891"/>
                  </a:lnTo>
                  <a:lnTo>
                    <a:pt x="427" y="897"/>
                  </a:lnTo>
                  <a:lnTo>
                    <a:pt x="440" y="904"/>
                  </a:lnTo>
                  <a:lnTo>
                    <a:pt x="454" y="912"/>
                  </a:lnTo>
                  <a:lnTo>
                    <a:pt x="465" y="921"/>
                  </a:lnTo>
                  <a:lnTo>
                    <a:pt x="477" y="929"/>
                  </a:lnTo>
                  <a:lnTo>
                    <a:pt x="487" y="937"/>
                  </a:lnTo>
                  <a:lnTo>
                    <a:pt x="499" y="946"/>
                  </a:lnTo>
                  <a:lnTo>
                    <a:pt x="509" y="952"/>
                  </a:lnTo>
                  <a:lnTo>
                    <a:pt x="519" y="961"/>
                  </a:lnTo>
                  <a:lnTo>
                    <a:pt x="525" y="969"/>
                  </a:lnTo>
                  <a:lnTo>
                    <a:pt x="532" y="979"/>
                  </a:lnTo>
                  <a:lnTo>
                    <a:pt x="537" y="989"/>
                  </a:lnTo>
                  <a:lnTo>
                    <a:pt x="542" y="1002"/>
                  </a:lnTo>
                  <a:lnTo>
                    <a:pt x="547" y="1016"/>
                  </a:lnTo>
                  <a:lnTo>
                    <a:pt x="552" y="1031"/>
                  </a:lnTo>
                  <a:lnTo>
                    <a:pt x="560" y="1048"/>
                  </a:lnTo>
                  <a:lnTo>
                    <a:pt x="574" y="1079"/>
                  </a:lnTo>
                  <a:lnTo>
                    <a:pt x="584" y="1108"/>
                  </a:lnTo>
                  <a:lnTo>
                    <a:pt x="592" y="1136"/>
                  </a:lnTo>
                  <a:lnTo>
                    <a:pt x="609" y="1171"/>
                  </a:lnTo>
                  <a:lnTo>
                    <a:pt x="619" y="1213"/>
                  </a:lnTo>
                  <a:lnTo>
                    <a:pt x="612" y="1253"/>
                  </a:lnTo>
                  <a:lnTo>
                    <a:pt x="600" y="1283"/>
                  </a:lnTo>
                  <a:lnTo>
                    <a:pt x="594" y="1294"/>
                  </a:lnTo>
                  <a:lnTo>
                    <a:pt x="597" y="1301"/>
                  </a:lnTo>
                  <a:lnTo>
                    <a:pt x="604" y="1318"/>
                  </a:lnTo>
                  <a:lnTo>
                    <a:pt x="612" y="1341"/>
                  </a:lnTo>
                  <a:lnTo>
                    <a:pt x="617" y="1366"/>
                  </a:lnTo>
                  <a:lnTo>
                    <a:pt x="620" y="1379"/>
                  </a:lnTo>
                  <a:lnTo>
                    <a:pt x="624" y="1394"/>
                  </a:lnTo>
                  <a:lnTo>
                    <a:pt x="629" y="1409"/>
                  </a:lnTo>
                  <a:lnTo>
                    <a:pt x="635" y="1428"/>
                  </a:lnTo>
                  <a:lnTo>
                    <a:pt x="644" y="1444"/>
                  </a:lnTo>
                  <a:lnTo>
                    <a:pt x="654" y="1463"/>
                  </a:lnTo>
                  <a:lnTo>
                    <a:pt x="664" y="1481"/>
                  </a:lnTo>
                  <a:lnTo>
                    <a:pt x="675" y="1499"/>
                  </a:lnTo>
                  <a:lnTo>
                    <a:pt x="687" y="1516"/>
                  </a:lnTo>
                  <a:lnTo>
                    <a:pt x="695" y="1531"/>
                  </a:lnTo>
                  <a:lnTo>
                    <a:pt x="702" y="1543"/>
                  </a:lnTo>
                  <a:lnTo>
                    <a:pt x="707" y="1553"/>
                  </a:lnTo>
                  <a:lnTo>
                    <a:pt x="712" y="1561"/>
                  </a:lnTo>
                  <a:lnTo>
                    <a:pt x="719" y="1566"/>
                  </a:lnTo>
                  <a:lnTo>
                    <a:pt x="724" y="1570"/>
                  </a:lnTo>
                  <a:lnTo>
                    <a:pt x="732" y="1571"/>
                  </a:lnTo>
                  <a:lnTo>
                    <a:pt x="742" y="1573"/>
                  </a:lnTo>
                  <a:lnTo>
                    <a:pt x="754" y="1576"/>
                  </a:lnTo>
                  <a:lnTo>
                    <a:pt x="765" y="1581"/>
                  </a:lnTo>
                  <a:lnTo>
                    <a:pt x="779" y="1588"/>
                  </a:lnTo>
                  <a:lnTo>
                    <a:pt x="792" y="1595"/>
                  </a:lnTo>
                  <a:lnTo>
                    <a:pt x="804" y="1603"/>
                  </a:lnTo>
                  <a:lnTo>
                    <a:pt x="814" y="1611"/>
                  </a:lnTo>
                  <a:lnTo>
                    <a:pt x="822" y="1618"/>
                  </a:lnTo>
                  <a:lnTo>
                    <a:pt x="834" y="1633"/>
                  </a:lnTo>
                  <a:lnTo>
                    <a:pt x="846" y="1648"/>
                  </a:lnTo>
                  <a:lnTo>
                    <a:pt x="856" y="1663"/>
                  </a:lnTo>
                  <a:lnTo>
                    <a:pt x="866" y="1675"/>
                  </a:lnTo>
                  <a:lnTo>
                    <a:pt x="872" y="1685"/>
                  </a:lnTo>
                  <a:lnTo>
                    <a:pt x="881" y="1700"/>
                  </a:lnTo>
                  <a:lnTo>
                    <a:pt x="891" y="1721"/>
                  </a:lnTo>
                  <a:lnTo>
                    <a:pt x="902" y="1743"/>
                  </a:lnTo>
                  <a:lnTo>
                    <a:pt x="912" y="1768"/>
                  </a:lnTo>
                  <a:lnTo>
                    <a:pt x="921" y="1790"/>
                  </a:lnTo>
                  <a:lnTo>
                    <a:pt x="927" y="1810"/>
                  </a:lnTo>
                  <a:lnTo>
                    <a:pt x="931" y="1823"/>
                  </a:lnTo>
                  <a:lnTo>
                    <a:pt x="937" y="1841"/>
                  </a:lnTo>
                  <a:lnTo>
                    <a:pt x="951" y="1858"/>
                  </a:lnTo>
                  <a:lnTo>
                    <a:pt x="964" y="1878"/>
                  </a:lnTo>
                  <a:lnTo>
                    <a:pt x="979" y="1908"/>
                  </a:lnTo>
                  <a:lnTo>
                    <a:pt x="987" y="1926"/>
                  </a:lnTo>
                  <a:lnTo>
                    <a:pt x="999" y="1945"/>
                  </a:lnTo>
                  <a:lnTo>
                    <a:pt x="1014" y="1965"/>
                  </a:lnTo>
                  <a:lnTo>
                    <a:pt x="1029" y="1981"/>
                  </a:lnTo>
                  <a:lnTo>
                    <a:pt x="1044" y="2000"/>
                  </a:lnTo>
                  <a:lnTo>
                    <a:pt x="1059" y="2015"/>
                  </a:lnTo>
                  <a:lnTo>
                    <a:pt x="1072" y="2027"/>
                  </a:lnTo>
                  <a:lnTo>
                    <a:pt x="1084" y="2037"/>
                  </a:lnTo>
                  <a:lnTo>
                    <a:pt x="1097" y="2052"/>
                  </a:lnTo>
                  <a:lnTo>
                    <a:pt x="1106" y="2068"/>
                  </a:lnTo>
                  <a:lnTo>
                    <a:pt x="1109" y="2085"/>
                  </a:lnTo>
                  <a:lnTo>
                    <a:pt x="1112" y="2098"/>
                  </a:lnTo>
                  <a:lnTo>
                    <a:pt x="1117" y="2108"/>
                  </a:lnTo>
                  <a:lnTo>
                    <a:pt x="1126" y="2120"/>
                  </a:lnTo>
                  <a:lnTo>
                    <a:pt x="1136" y="2132"/>
                  </a:lnTo>
                  <a:lnTo>
                    <a:pt x="1146" y="2145"/>
                  </a:lnTo>
                  <a:lnTo>
                    <a:pt x="1156" y="2160"/>
                  </a:lnTo>
                  <a:lnTo>
                    <a:pt x="1164" y="2175"/>
                  </a:lnTo>
                  <a:lnTo>
                    <a:pt x="1169" y="2190"/>
                  </a:lnTo>
                  <a:lnTo>
                    <a:pt x="1169" y="2202"/>
                  </a:lnTo>
                  <a:lnTo>
                    <a:pt x="1169" y="2217"/>
                  </a:lnTo>
                  <a:lnTo>
                    <a:pt x="1172" y="2233"/>
                  </a:lnTo>
                  <a:lnTo>
                    <a:pt x="1177" y="2248"/>
                  </a:lnTo>
                  <a:lnTo>
                    <a:pt x="1179" y="2255"/>
                  </a:lnTo>
                  <a:lnTo>
                    <a:pt x="1216" y="2227"/>
                  </a:lnTo>
                  <a:lnTo>
                    <a:pt x="1219" y="2222"/>
                  </a:lnTo>
                  <a:lnTo>
                    <a:pt x="1226" y="2208"/>
                  </a:lnTo>
                  <a:lnTo>
                    <a:pt x="1232" y="2192"/>
                  </a:lnTo>
                  <a:lnTo>
                    <a:pt x="1236" y="2178"/>
                  </a:lnTo>
                  <a:lnTo>
                    <a:pt x="1236" y="2165"/>
                  </a:lnTo>
                  <a:lnTo>
                    <a:pt x="1234" y="2145"/>
                  </a:lnTo>
                  <a:lnTo>
                    <a:pt x="1236" y="2123"/>
                  </a:lnTo>
                  <a:lnTo>
                    <a:pt x="1241" y="2103"/>
                  </a:lnTo>
                  <a:lnTo>
                    <a:pt x="1241" y="2087"/>
                  </a:lnTo>
                  <a:lnTo>
                    <a:pt x="1236" y="2077"/>
                  </a:lnTo>
                  <a:lnTo>
                    <a:pt x="1234" y="2067"/>
                  </a:lnTo>
                  <a:lnTo>
                    <a:pt x="1241" y="2060"/>
                  </a:lnTo>
                  <a:lnTo>
                    <a:pt x="1246" y="2057"/>
                  </a:lnTo>
                  <a:lnTo>
                    <a:pt x="1251" y="2057"/>
                  </a:lnTo>
                  <a:lnTo>
                    <a:pt x="1256" y="2058"/>
                  </a:lnTo>
                  <a:lnTo>
                    <a:pt x="1261" y="2062"/>
                  </a:lnTo>
                  <a:lnTo>
                    <a:pt x="1259" y="2052"/>
                  </a:lnTo>
                  <a:lnTo>
                    <a:pt x="1257" y="2043"/>
                  </a:lnTo>
                  <a:lnTo>
                    <a:pt x="1256" y="2033"/>
                  </a:lnTo>
                  <a:lnTo>
                    <a:pt x="1257" y="2027"/>
                  </a:lnTo>
                  <a:close/>
                </a:path>
              </a:pathLst>
            </a:custGeom>
            <a:solidFill>
              <a:srgbClr val="ffffff">
                <a:alpha val="10000"/>
              </a:srgbClr>
            </a:solidFill>
            <a:ln cap="sq" w="9360">
              <a:solidFill>
                <a:srgbClr val="ffffff"/>
              </a:solidFill>
              <a:round/>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6" name=""/>
            <p:cNvSpPr/>
            <p:nvPr/>
          </p:nvSpPr>
          <p:spPr>
            <a:xfrm>
              <a:off x="3086280" y="3706920"/>
              <a:ext cx="4680" cy="4680"/>
            </a:xfrm>
            <a:custGeom>
              <a:avLst/>
              <a:gdLst/>
              <a:ahLst/>
              <a:rect l="l" t="t" r="r" b="b"/>
              <a:pathLst>
                <a:path w="5" h="5">
                  <a:moveTo>
                    <a:pt x="5" y="3"/>
                  </a:moveTo>
                  <a:lnTo>
                    <a:pt x="0" y="0"/>
                  </a:lnTo>
                  <a:lnTo>
                    <a:pt x="2" y="3"/>
                  </a:lnTo>
                  <a:lnTo>
                    <a:pt x="3" y="5"/>
                  </a:lnTo>
                  <a:lnTo>
                    <a:pt x="5" y="3"/>
                  </a:lnTo>
                  <a:lnTo>
                    <a:pt x="5" y="3"/>
                  </a:lnTo>
                  <a:close/>
                </a:path>
              </a:pathLst>
            </a:custGeom>
            <a:solidFill>
              <a:srgbClr val="000000"/>
            </a:solidFill>
            <a:ln w="0">
              <a:noFill/>
            </a:ln>
          </p:spPr>
          <p:style>
            <a:lnRef idx="0"/>
            <a:fillRef idx="0"/>
            <a:effectRef idx="0"/>
            <a:fontRef idx="minor"/>
          </p:style>
          <p:txBody>
            <a:bodyPr wrap="none" lIns="90000" rIns="90000" tIns="-42120" bIns="-421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4379760" y="4662360"/>
              <a:ext cx="2567160" cy="993960"/>
            </a:xfrm>
            <a:custGeom>
              <a:avLst/>
              <a:gdLst/>
              <a:ahLst/>
              <a:rect l="l" t="t" r="r" b="b"/>
              <a:pathLst>
                <a:path w="1881" h="744">
                  <a:moveTo>
                    <a:pt x="1298" y="222"/>
                  </a:moveTo>
                  <a:lnTo>
                    <a:pt x="1283" y="225"/>
                  </a:lnTo>
                  <a:lnTo>
                    <a:pt x="1263" y="230"/>
                  </a:lnTo>
                  <a:lnTo>
                    <a:pt x="1239" y="235"/>
                  </a:lnTo>
                  <a:lnTo>
                    <a:pt x="1214" y="242"/>
                  </a:lnTo>
                  <a:lnTo>
                    <a:pt x="1186" y="249"/>
                  </a:lnTo>
                  <a:lnTo>
                    <a:pt x="1157" y="255"/>
                  </a:lnTo>
                  <a:lnTo>
                    <a:pt x="1127" y="262"/>
                  </a:lnTo>
                  <a:lnTo>
                    <a:pt x="1097" y="269"/>
                  </a:lnTo>
                  <a:lnTo>
                    <a:pt x="1067" y="275"/>
                  </a:lnTo>
                  <a:lnTo>
                    <a:pt x="1039" y="284"/>
                  </a:lnTo>
                  <a:lnTo>
                    <a:pt x="1012" y="290"/>
                  </a:lnTo>
                  <a:lnTo>
                    <a:pt x="989" y="297"/>
                  </a:lnTo>
                  <a:lnTo>
                    <a:pt x="967" y="302"/>
                  </a:lnTo>
                  <a:lnTo>
                    <a:pt x="949" y="309"/>
                  </a:lnTo>
                  <a:lnTo>
                    <a:pt x="936" y="314"/>
                  </a:lnTo>
                  <a:lnTo>
                    <a:pt x="927" y="317"/>
                  </a:lnTo>
                  <a:lnTo>
                    <a:pt x="914" y="324"/>
                  </a:lnTo>
                  <a:lnTo>
                    <a:pt x="901" y="329"/>
                  </a:lnTo>
                  <a:lnTo>
                    <a:pt x="887" y="337"/>
                  </a:lnTo>
                  <a:lnTo>
                    <a:pt x="872" y="344"/>
                  </a:lnTo>
                  <a:lnTo>
                    <a:pt x="857" y="355"/>
                  </a:lnTo>
                  <a:lnTo>
                    <a:pt x="842" y="369"/>
                  </a:lnTo>
                  <a:lnTo>
                    <a:pt x="826" y="389"/>
                  </a:lnTo>
                  <a:lnTo>
                    <a:pt x="807" y="412"/>
                  </a:lnTo>
                  <a:lnTo>
                    <a:pt x="791" y="437"/>
                  </a:lnTo>
                  <a:lnTo>
                    <a:pt x="776" y="460"/>
                  </a:lnTo>
                  <a:lnTo>
                    <a:pt x="761" y="482"/>
                  </a:lnTo>
                  <a:lnTo>
                    <a:pt x="747" y="502"/>
                  </a:lnTo>
                  <a:lnTo>
                    <a:pt x="737" y="519"/>
                  </a:lnTo>
                  <a:lnTo>
                    <a:pt x="727" y="532"/>
                  </a:lnTo>
                  <a:lnTo>
                    <a:pt x="719" y="542"/>
                  </a:lnTo>
                  <a:lnTo>
                    <a:pt x="712" y="549"/>
                  </a:lnTo>
                  <a:lnTo>
                    <a:pt x="706" y="554"/>
                  </a:lnTo>
                  <a:lnTo>
                    <a:pt x="699" y="559"/>
                  </a:lnTo>
                  <a:lnTo>
                    <a:pt x="689" y="564"/>
                  </a:lnTo>
                  <a:lnTo>
                    <a:pt x="679" y="565"/>
                  </a:lnTo>
                  <a:lnTo>
                    <a:pt x="667" y="567"/>
                  </a:lnTo>
                  <a:lnTo>
                    <a:pt x="657" y="567"/>
                  </a:lnTo>
                  <a:lnTo>
                    <a:pt x="647" y="564"/>
                  </a:lnTo>
                  <a:lnTo>
                    <a:pt x="637" y="559"/>
                  </a:lnTo>
                  <a:lnTo>
                    <a:pt x="629" y="552"/>
                  </a:lnTo>
                  <a:lnTo>
                    <a:pt x="622" y="544"/>
                  </a:lnTo>
                  <a:lnTo>
                    <a:pt x="615" y="535"/>
                  </a:lnTo>
                  <a:lnTo>
                    <a:pt x="609" y="529"/>
                  </a:lnTo>
                  <a:lnTo>
                    <a:pt x="602" y="524"/>
                  </a:lnTo>
                  <a:lnTo>
                    <a:pt x="595" y="520"/>
                  </a:lnTo>
                  <a:lnTo>
                    <a:pt x="589" y="519"/>
                  </a:lnTo>
                  <a:lnTo>
                    <a:pt x="580" y="520"/>
                  </a:lnTo>
                  <a:lnTo>
                    <a:pt x="569" y="524"/>
                  </a:lnTo>
                  <a:lnTo>
                    <a:pt x="554" y="525"/>
                  </a:lnTo>
                  <a:lnTo>
                    <a:pt x="537" y="525"/>
                  </a:lnTo>
                  <a:lnTo>
                    <a:pt x="519" y="525"/>
                  </a:lnTo>
                  <a:lnTo>
                    <a:pt x="499" y="525"/>
                  </a:lnTo>
                  <a:lnTo>
                    <a:pt x="480" y="524"/>
                  </a:lnTo>
                  <a:lnTo>
                    <a:pt x="462" y="522"/>
                  </a:lnTo>
                  <a:lnTo>
                    <a:pt x="447" y="520"/>
                  </a:lnTo>
                  <a:lnTo>
                    <a:pt x="432" y="519"/>
                  </a:lnTo>
                  <a:lnTo>
                    <a:pt x="417" y="515"/>
                  </a:lnTo>
                  <a:lnTo>
                    <a:pt x="404" y="510"/>
                  </a:lnTo>
                  <a:lnTo>
                    <a:pt x="389" y="507"/>
                  </a:lnTo>
                  <a:lnTo>
                    <a:pt x="375" y="504"/>
                  </a:lnTo>
                  <a:lnTo>
                    <a:pt x="364" y="500"/>
                  </a:lnTo>
                  <a:lnTo>
                    <a:pt x="352" y="497"/>
                  </a:lnTo>
                  <a:lnTo>
                    <a:pt x="342" y="497"/>
                  </a:lnTo>
                  <a:lnTo>
                    <a:pt x="329" y="497"/>
                  </a:lnTo>
                  <a:lnTo>
                    <a:pt x="307" y="497"/>
                  </a:lnTo>
                  <a:lnTo>
                    <a:pt x="280" y="499"/>
                  </a:lnTo>
                  <a:lnTo>
                    <a:pt x="250" y="499"/>
                  </a:lnTo>
                  <a:lnTo>
                    <a:pt x="224" y="500"/>
                  </a:lnTo>
                  <a:lnTo>
                    <a:pt x="200" y="502"/>
                  </a:lnTo>
                  <a:lnTo>
                    <a:pt x="184" y="502"/>
                  </a:lnTo>
                  <a:lnTo>
                    <a:pt x="177" y="502"/>
                  </a:lnTo>
                  <a:lnTo>
                    <a:pt x="175" y="504"/>
                  </a:lnTo>
                  <a:lnTo>
                    <a:pt x="170" y="505"/>
                  </a:lnTo>
                  <a:lnTo>
                    <a:pt x="164" y="509"/>
                  </a:lnTo>
                  <a:lnTo>
                    <a:pt x="155" y="510"/>
                  </a:lnTo>
                  <a:lnTo>
                    <a:pt x="144" y="512"/>
                  </a:lnTo>
                  <a:lnTo>
                    <a:pt x="132" y="512"/>
                  </a:lnTo>
                  <a:lnTo>
                    <a:pt x="120" y="509"/>
                  </a:lnTo>
                  <a:lnTo>
                    <a:pt x="107" y="502"/>
                  </a:lnTo>
                  <a:lnTo>
                    <a:pt x="95" y="494"/>
                  </a:lnTo>
                  <a:lnTo>
                    <a:pt x="87" y="485"/>
                  </a:lnTo>
                  <a:lnTo>
                    <a:pt x="80" y="479"/>
                  </a:lnTo>
                  <a:lnTo>
                    <a:pt x="75" y="475"/>
                  </a:lnTo>
                  <a:lnTo>
                    <a:pt x="70" y="472"/>
                  </a:lnTo>
                  <a:lnTo>
                    <a:pt x="65" y="470"/>
                  </a:lnTo>
                  <a:lnTo>
                    <a:pt x="60" y="470"/>
                  </a:lnTo>
                  <a:lnTo>
                    <a:pt x="53" y="474"/>
                  </a:lnTo>
                  <a:lnTo>
                    <a:pt x="47" y="480"/>
                  </a:lnTo>
                  <a:lnTo>
                    <a:pt x="50" y="489"/>
                  </a:lnTo>
                  <a:lnTo>
                    <a:pt x="55" y="500"/>
                  </a:lnTo>
                  <a:lnTo>
                    <a:pt x="53" y="515"/>
                  </a:lnTo>
                  <a:lnTo>
                    <a:pt x="50" y="535"/>
                  </a:lnTo>
                  <a:lnTo>
                    <a:pt x="48" y="557"/>
                  </a:lnTo>
                  <a:lnTo>
                    <a:pt x="50" y="577"/>
                  </a:lnTo>
                  <a:lnTo>
                    <a:pt x="50" y="592"/>
                  </a:lnTo>
                  <a:lnTo>
                    <a:pt x="47" y="606"/>
                  </a:lnTo>
                  <a:lnTo>
                    <a:pt x="40" y="621"/>
                  </a:lnTo>
                  <a:lnTo>
                    <a:pt x="33" y="634"/>
                  </a:lnTo>
                  <a:lnTo>
                    <a:pt x="30" y="639"/>
                  </a:lnTo>
                  <a:lnTo>
                    <a:pt x="0" y="662"/>
                  </a:lnTo>
                  <a:lnTo>
                    <a:pt x="3" y="666"/>
                  </a:lnTo>
                  <a:lnTo>
                    <a:pt x="8" y="669"/>
                  </a:lnTo>
                  <a:lnTo>
                    <a:pt x="13" y="674"/>
                  </a:lnTo>
                  <a:lnTo>
                    <a:pt x="18" y="677"/>
                  </a:lnTo>
                  <a:lnTo>
                    <a:pt x="32" y="684"/>
                  </a:lnTo>
                  <a:lnTo>
                    <a:pt x="43" y="687"/>
                  </a:lnTo>
                  <a:lnTo>
                    <a:pt x="55" y="687"/>
                  </a:lnTo>
                  <a:lnTo>
                    <a:pt x="67" y="686"/>
                  </a:lnTo>
                  <a:lnTo>
                    <a:pt x="77" y="684"/>
                  </a:lnTo>
                  <a:lnTo>
                    <a:pt x="83" y="681"/>
                  </a:lnTo>
                  <a:lnTo>
                    <a:pt x="88" y="679"/>
                  </a:lnTo>
                  <a:lnTo>
                    <a:pt x="90" y="677"/>
                  </a:lnTo>
                  <a:lnTo>
                    <a:pt x="97" y="677"/>
                  </a:lnTo>
                  <a:lnTo>
                    <a:pt x="114" y="677"/>
                  </a:lnTo>
                  <a:lnTo>
                    <a:pt x="137" y="676"/>
                  </a:lnTo>
                  <a:lnTo>
                    <a:pt x="164" y="674"/>
                  </a:lnTo>
                  <a:lnTo>
                    <a:pt x="194" y="674"/>
                  </a:lnTo>
                  <a:lnTo>
                    <a:pt x="220" y="672"/>
                  </a:lnTo>
                  <a:lnTo>
                    <a:pt x="242" y="672"/>
                  </a:lnTo>
                  <a:lnTo>
                    <a:pt x="255" y="672"/>
                  </a:lnTo>
                  <a:lnTo>
                    <a:pt x="265" y="674"/>
                  </a:lnTo>
                  <a:lnTo>
                    <a:pt x="275" y="676"/>
                  </a:lnTo>
                  <a:lnTo>
                    <a:pt x="289" y="679"/>
                  </a:lnTo>
                  <a:lnTo>
                    <a:pt x="302" y="682"/>
                  </a:lnTo>
                  <a:lnTo>
                    <a:pt x="315" y="687"/>
                  </a:lnTo>
                  <a:lnTo>
                    <a:pt x="330" y="691"/>
                  </a:lnTo>
                  <a:lnTo>
                    <a:pt x="344" y="694"/>
                  </a:lnTo>
                  <a:lnTo>
                    <a:pt x="359" y="697"/>
                  </a:lnTo>
                  <a:lnTo>
                    <a:pt x="374" y="699"/>
                  </a:lnTo>
                  <a:lnTo>
                    <a:pt x="392" y="701"/>
                  </a:lnTo>
                  <a:lnTo>
                    <a:pt x="412" y="701"/>
                  </a:lnTo>
                  <a:lnTo>
                    <a:pt x="430" y="702"/>
                  </a:lnTo>
                  <a:lnTo>
                    <a:pt x="450" y="702"/>
                  </a:lnTo>
                  <a:lnTo>
                    <a:pt x="467" y="701"/>
                  </a:lnTo>
                  <a:lnTo>
                    <a:pt x="480" y="701"/>
                  </a:lnTo>
                  <a:lnTo>
                    <a:pt x="492" y="697"/>
                  </a:lnTo>
                  <a:lnTo>
                    <a:pt x="500" y="696"/>
                  </a:lnTo>
                  <a:lnTo>
                    <a:pt x="507" y="696"/>
                  </a:lnTo>
                  <a:lnTo>
                    <a:pt x="514" y="699"/>
                  </a:lnTo>
                  <a:lnTo>
                    <a:pt x="520" y="706"/>
                  </a:lnTo>
                  <a:lnTo>
                    <a:pt x="527" y="712"/>
                  </a:lnTo>
                  <a:lnTo>
                    <a:pt x="534" y="719"/>
                  </a:lnTo>
                  <a:lnTo>
                    <a:pt x="540" y="727"/>
                  </a:lnTo>
                  <a:lnTo>
                    <a:pt x="549" y="734"/>
                  </a:lnTo>
                  <a:lnTo>
                    <a:pt x="559" y="741"/>
                  </a:lnTo>
                  <a:lnTo>
                    <a:pt x="569" y="742"/>
                  </a:lnTo>
                  <a:lnTo>
                    <a:pt x="579" y="744"/>
                  </a:lnTo>
                  <a:lnTo>
                    <a:pt x="590" y="742"/>
                  </a:lnTo>
                  <a:lnTo>
                    <a:pt x="600" y="739"/>
                  </a:lnTo>
                  <a:lnTo>
                    <a:pt x="610" y="736"/>
                  </a:lnTo>
                  <a:lnTo>
                    <a:pt x="619" y="731"/>
                  </a:lnTo>
                  <a:lnTo>
                    <a:pt x="625" y="726"/>
                  </a:lnTo>
                  <a:lnTo>
                    <a:pt x="632" y="719"/>
                  </a:lnTo>
                  <a:lnTo>
                    <a:pt x="639" y="707"/>
                  </a:lnTo>
                  <a:lnTo>
                    <a:pt x="649" y="694"/>
                  </a:lnTo>
                  <a:lnTo>
                    <a:pt x="661" y="677"/>
                  </a:lnTo>
                  <a:lnTo>
                    <a:pt x="672" y="659"/>
                  </a:lnTo>
                  <a:lnTo>
                    <a:pt x="687" y="637"/>
                  </a:lnTo>
                  <a:lnTo>
                    <a:pt x="704" y="614"/>
                  </a:lnTo>
                  <a:lnTo>
                    <a:pt x="721" y="587"/>
                  </a:lnTo>
                  <a:lnTo>
                    <a:pt x="737" y="564"/>
                  </a:lnTo>
                  <a:lnTo>
                    <a:pt x="754" y="544"/>
                  </a:lnTo>
                  <a:lnTo>
                    <a:pt x="769" y="530"/>
                  </a:lnTo>
                  <a:lnTo>
                    <a:pt x="786" y="519"/>
                  </a:lnTo>
                  <a:lnTo>
                    <a:pt x="799" y="512"/>
                  </a:lnTo>
                  <a:lnTo>
                    <a:pt x="812" y="504"/>
                  </a:lnTo>
                  <a:lnTo>
                    <a:pt x="826" y="499"/>
                  </a:lnTo>
                  <a:lnTo>
                    <a:pt x="839" y="492"/>
                  </a:lnTo>
                  <a:lnTo>
                    <a:pt x="847" y="489"/>
                  </a:lnTo>
                  <a:lnTo>
                    <a:pt x="862" y="484"/>
                  </a:lnTo>
                  <a:lnTo>
                    <a:pt x="879" y="479"/>
                  </a:lnTo>
                  <a:lnTo>
                    <a:pt x="901" y="472"/>
                  </a:lnTo>
                  <a:lnTo>
                    <a:pt x="926" y="465"/>
                  </a:lnTo>
                  <a:lnTo>
                    <a:pt x="952" y="459"/>
                  </a:lnTo>
                  <a:lnTo>
                    <a:pt x="981" y="452"/>
                  </a:lnTo>
                  <a:lnTo>
                    <a:pt x="1009" y="444"/>
                  </a:lnTo>
                  <a:lnTo>
                    <a:pt x="1039" y="437"/>
                  </a:lnTo>
                  <a:lnTo>
                    <a:pt x="1069" y="430"/>
                  </a:lnTo>
                  <a:lnTo>
                    <a:pt x="1097" y="424"/>
                  </a:lnTo>
                  <a:lnTo>
                    <a:pt x="1126" y="417"/>
                  </a:lnTo>
                  <a:lnTo>
                    <a:pt x="1151" y="410"/>
                  </a:lnTo>
                  <a:lnTo>
                    <a:pt x="1174" y="405"/>
                  </a:lnTo>
                  <a:lnTo>
                    <a:pt x="1194" y="400"/>
                  </a:lnTo>
                  <a:lnTo>
                    <a:pt x="1209" y="397"/>
                  </a:lnTo>
                  <a:lnTo>
                    <a:pt x="1236" y="390"/>
                  </a:lnTo>
                  <a:lnTo>
                    <a:pt x="1263" y="385"/>
                  </a:lnTo>
                  <a:lnTo>
                    <a:pt x="1289" y="382"/>
                  </a:lnTo>
                  <a:lnTo>
                    <a:pt x="1313" y="379"/>
                  </a:lnTo>
                  <a:lnTo>
                    <a:pt x="1336" y="375"/>
                  </a:lnTo>
                  <a:lnTo>
                    <a:pt x="1354" y="370"/>
                  </a:lnTo>
                  <a:lnTo>
                    <a:pt x="1371" y="365"/>
                  </a:lnTo>
                  <a:lnTo>
                    <a:pt x="1384" y="359"/>
                  </a:lnTo>
                  <a:lnTo>
                    <a:pt x="1394" y="354"/>
                  </a:lnTo>
                  <a:lnTo>
                    <a:pt x="1411" y="345"/>
                  </a:lnTo>
                  <a:lnTo>
                    <a:pt x="1434" y="334"/>
                  </a:lnTo>
                  <a:lnTo>
                    <a:pt x="1463" y="320"/>
                  </a:lnTo>
                  <a:lnTo>
                    <a:pt x="1496" y="307"/>
                  </a:lnTo>
                  <a:lnTo>
                    <a:pt x="1533" y="290"/>
                  </a:lnTo>
                  <a:lnTo>
                    <a:pt x="1571" y="274"/>
                  </a:lnTo>
                  <a:lnTo>
                    <a:pt x="1611" y="255"/>
                  </a:lnTo>
                  <a:lnTo>
                    <a:pt x="1649" y="239"/>
                  </a:lnTo>
                  <a:lnTo>
                    <a:pt x="1688" y="222"/>
                  </a:lnTo>
                  <a:lnTo>
                    <a:pt x="1723" y="207"/>
                  </a:lnTo>
                  <a:lnTo>
                    <a:pt x="1756" y="192"/>
                  </a:lnTo>
                  <a:lnTo>
                    <a:pt x="1783" y="180"/>
                  </a:lnTo>
                  <a:lnTo>
                    <a:pt x="1805" y="170"/>
                  </a:lnTo>
                  <a:lnTo>
                    <a:pt x="1820" y="164"/>
                  </a:lnTo>
                  <a:lnTo>
                    <a:pt x="1826" y="160"/>
                  </a:lnTo>
                  <a:lnTo>
                    <a:pt x="1836" y="152"/>
                  </a:lnTo>
                  <a:lnTo>
                    <a:pt x="1841" y="142"/>
                  </a:lnTo>
                  <a:lnTo>
                    <a:pt x="1845" y="130"/>
                  </a:lnTo>
                  <a:lnTo>
                    <a:pt x="1846" y="117"/>
                  </a:lnTo>
                  <a:lnTo>
                    <a:pt x="1848" y="100"/>
                  </a:lnTo>
                  <a:lnTo>
                    <a:pt x="1851" y="78"/>
                  </a:lnTo>
                  <a:lnTo>
                    <a:pt x="1858" y="57"/>
                  </a:lnTo>
                  <a:lnTo>
                    <a:pt x="1865" y="37"/>
                  </a:lnTo>
                  <a:lnTo>
                    <a:pt x="1868" y="27"/>
                  </a:lnTo>
                  <a:lnTo>
                    <a:pt x="1873" y="18"/>
                  </a:lnTo>
                  <a:lnTo>
                    <a:pt x="1876" y="8"/>
                  </a:lnTo>
                  <a:lnTo>
                    <a:pt x="1881" y="0"/>
                  </a:lnTo>
                  <a:lnTo>
                    <a:pt x="1861" y="10"/>
                  </a:lnTo>
                  <a:lnTo>
                    <a:pt x="1836" y="20"/>
                  </a:lnTo>
                  <a:lnTo>
                    <a:pt x="1808" y="32"/>
                  </a:lnTo>
                  <a:lnTo>
                    <a:pt x="1778" y="45"/>
                  </a:lnTo>
                  <a:lnTo>
                    <a:pt x="1746" y="58"/>
                  </a:lnTo>
                  <a:lnTo>
                    <a:pt x="1714" y="73"/>
                  </a:lnTo>
                  <a:lnTo>
                    <a:pt x="1681" y="88"/>
                  </a:lnTo>
                  <a:lnTo>
                    <a:pt x="1648" y="102"/>
                  </a:lnTo>
                  <a:lnTo>
                    <a:pt x="1616" y="117"/>
                  </a:lnTo>
                  <a:lnTo>
                    <a:pt x="1586" y="130"/>
                  </a:lnTo>
                  <a:lnTo>
                    <a:pt x="1558" y="142"/>
                  </a:lnTo>
                  <a:lnTo>
                    <a:pt x="1533" y="154"/>
                  </a:lnTo>
                  <a:lnTo>
                    <a:pt x="1511" y="164"/>
                  </a:lnTo>
                  <a:lnTo>
                    <a:pt x="1493" y="174"/>
                  </a:lnTo>
                  <a:lnTo>
                    <a:pt x="1479" y="179"/>
                  </a:lnTo>
                  <a:lnTo>
                    <a:pt x="1473" y="184"/>
                  </a:lnTo>
                  <a:lnTo>
                    <a:pt x="1459" y="190"/>
                  </a:lnTo>
                  <a:lnTo>
                    <a:pt x="1443" y="195"/>
                  </a:lnTo>
                  <a:lnTo>
                    <a:pt x="1423" y="199"/>
                  </a:lnTo>
                  <a:lnTo>
                    <a:pt x="1401" y="202"/>
                  </a:lnTo>
                  <a:lnTo>
                    <a:pt x="1376" y="205"/>
                  </a:lnTo>
                  <a:lnTo>
                    <a:pt x="1351" y="210"/>
                  </a:lnTo>
                  <a:lnTo>
                    <a:pt x="1324" y="215"/>
                  </a:lnTo>
                  <a:lnTo>
                    <a:pt x="1298" y="222"/>
                  </a:lnTo>
                  <a:close/>
                </a:path>
              </a:pathLst>
            </a:custGeom>
            <a:solidFill>
              <a:srgbClr val="ffffff">
                <a:alpha val="20000"/>
              </a:srgbClr>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2813040" y="1803240"/>
              <a:ext cx="4348080" cy="3579840"/>
            </a:xfrm>
            <a:custGeom>
              <a:avLst/>
              <a:gdLst/>
              <a:ahLst/>
              <a:rect l="l" t="t" r="r" b="b"/>
              <a:pathLst>
                <a:path w="3185" h="2678">
                  <a:moveTo>
                    <a:pt x="380" y="90"/>
                  </a:moveTo>
                  <a:lnTo>
                    <a:pt x="683" y="28"/>
                  </a:lnTo>
                  <a:lnTo>
                    <a:pt x="693" y="0"/>
                  </a:lnTo>
                  <a:lnTo>
                    <a:pt x="695" y="0"/>
                  </a:lnTo>
                  <a:lnTo>
                    <a:pt x="698" y="0"/>
                  </a:lnTo>
                  <a:lnTo>
                    <a:pt x="704" y="0"/>
                  </a:lnTo>
                  <a:lnTo>
                    <a:pt x="712" y="0"/>
                  </a:lnTo>
                  <a:lnTo>
                    <a:pt x="720" y="0"/>
                  </a:lnTo>
                  <a:lnTo>
                    <a:pt x="734" y="2"/>
                  </a:lnTo>
                  <a:lnTo>
                    <a:pt x="747" y="5"/>
                  </a:lnTo>
                  <a:lnTo>
                    <a:pt x="764" y="10"/>
                  </a:lnTo>
                  <a:lnTo>
                    <a:pt x="782" y="15"/>
                  </a:lnTo>
                  <a:lnTo>
                    <a:pt x="799" y="20"/>
                  </a:lnTo>
                  <a:lnTo>
                    <a:pt x="817" y="23"/>
                  </a:lnTo>
                  <a:lnTo>
                    <a:pt x="832" y="28"/>
                  </a:lnTo>
                  <a:lnTo>
                    <a:pt x="847" y="32"/>
                  </a:lnTo>
                  <a:lnTo>
                    <a:pt x="862" y="35"/>
                  </a:lnTo>
                  <a:lnTo>
                    <a:pt x="874" y="40"/>
                  </a:lnTo>
                  <a:lnTo>
                    <a:pt x="884" y="43"/>
                  </a:lnTo>
                  <a:lnTo>
                    <a:pt x="894" y="48"/>
                  </a:lnTo>
                  <a:lnTo>
                    <a:pt x="907" y="57"/>
                  </a:lnTo>
                  <a:lnTo>
                    <a:pt x="924" y="68"/>
                  </a:lnTo>
                  <a:lnTo>
                    <a:pt x="942" y="82"/>
                  </a:lnTo>
                  <a:lnTo>
                    <a:pt x="962" y="97"/>
                  </a:lnTo>
                  <a:lnTo>
                    <a:pt x="985" y="112"/>
                  </a:lnTo>
                  <a:lnTo>
                    <a:pt x="1009" y="127"/>
                  </a:lnTo>
                  <a:lnTo>
                    <a:pt x="1035" y="142"/>
                  </a:lnTo>
                  <a:lnTo>
                    <a:pt x="1060" y="155"/>
                  </a:lnTo>
                  <a:lnTo>
                    <a:pt x="1080" y="168"/>
                  </a:lnTo>
                  <a:lnTo>
                    <a:pt x="1099" y="180"/>
                  </a:lnTo>
                  <a:lnTo>
                    <a:pt x="1114" y="190"/>
                  </a:lnTo>
                  <a:lnTo>
                    <a:pt x="1124" y="197"/>
                  </a:lnTo>
                  <a:lnTo>
                    <a:pt x="1132" y="203"/>
                  </a:lnTo>
                  <a:lnTo>
                    <a:pt x="1137" y="207"/>
                  </a:lnTo>
                  <a:lnTo>
                    <a:pt x="1139" y="208"/>
                  </a:lnTo>
                  <a:lnTo>
                    <a:pt x="1142" y="210"/>
                  </a:lnTo>
                  <a:lnTo>
                    <a:pt x="1150" y="215"/>
                  </a:lnTo>
                  <a:lnTo>
                    <a:pt x="1162" y="223"/>
                  </a:lnTo>
                  <a:lnTo>
                    <a:pt x="1177" y="233"/>
                  </a:lnTo>
                  <a:lnTo>
                    <a:pt x="1192" y="243"/>
                  </a:lnTo>
                  <a:lnTo>
                    <a:pt x="1205" y="255"/>
                  </a:lnTo>
                  <a:lnTo>
                    <a:pt x="1217" y="265"/>
                  </a:lnTo>
                  <a:lnTo>
                    <a:pt x="1225" y="275"/>
                  </a:lnTo>
                  <a:lnTo>
                    <a:pt x="1234" y="285"/>
                  </a:lnTo>
                  <a:lnTo>
                    <a:pt x="1245" y="297"/>
                  </a:lnTo>
                  <a:lnTo>
                    <a:pt x="1259" y="310"/>
                  </a:lnTo>
                  <a:lnTo>
                    <a:pt x="1276" y="325"/>
                  </a:lnTo>
                  <a:lnTo>
                    <a:pt x="1292" y="340"/>
                  </a:lnTo>
                  <a:lnTo>
                    <a:pt x="1309" y="354"/>
                  </a:lnTo>
                  <a:lnTo>
                    <a:pt x="1324" y="365"/>
                  </a:lnTo>
                  <a:lnTo>
                    <a:pt x="1334" y="375"/>
                  </a:lnTo>
                  <a:lnTo>
                    <a:pt x="1346" y="385"/>
                  </a:lnTo>
                  <a:lnTo>
                    <a:pt x="1362" y="397"/>
                  </a:lnTo>
                  <a:lnTo>
                    <a:pt x="1381" y="410"/>
                  </a:lnTo>
                  <a:lnTo>
                    <a:pt x="1401" y="424"/>
                  </a:lnTo>
                  <a:lnTo>
                    <a:pt x="1421" y="437"/>
                  </a:lnTo>
                  <a:lnTo>
                    <a:pt x="1436" y="445"/>
                  </a:lnTo>
                  <a:lnTo>
                    <a:pt x="1447" y="454"/>
                  </a:lnTo>
                  <a:lnTo>
                    <a:pt x="1451" y="455"/>
                  </a:lnTo>
                  <a:lnTo>
                    <a:pt x="1489" y="509"/>
                  </a:lnTo>
                  <a:lnTo>
                    <a:pt x="1497" y="509"/>
                  </a:lnTo>
                  <a:lnTo>
                    <a:pt x="1517" y="509"/>
                  </a:lnTo>
                  <a:lnTo>
                    <a:pt x="1546" y="509"/>
                  </a:lnTo>
                  <a:lnTo>
                    <a:pt x="1581" y="509"/>
                  </a:lnTo>
                  <a:lnTo>
                    <a:pt x="1617" y="510"/>
                  </a:lnTo>
                  <a:lnTo>
                    <a:pt x="1651" y="514"/>
                  </a:lnTo>
                  <a:lnTo>
                    <a:pt x="1677" y="520"/>
                  </a:lnTo>
                  <a:lnTo>
                    <a:pt x="1694" y="527"/>
                  </a:lnTo>
                  <a:lnTo>
                    <a:pt x="1696" y="527"/>
                  </a:lnTo>
                  <a:lnTo>
                    <a:pt x="1702" y="525"/>
                  </a:lnTo>
                  <a:lnTo>
                    <a:pt x="1712" y="522"/>
                  </a:lnTo>
                  <a:lnTo>
                    <a:pt x="1722" y="520"/>
                  </a:lnTo>
                  <a:lnTo>
                    <a:pt x="1736" y="519"/>
                  </a:lnTo>
                  <a:lnTo>
                    <a:pt x="1747" y="515"/>
                  </a:lnTo>
                  <a:lnTo>
                    <a:pt x="1759" y="514"/>
                  </a:lnTo>
                  <a:lnTo>
                    <a:pt x="1769" y="514"/>
                  </a:lnTo>
                  <a:lnTo>
                    <a:pt x="1782" y="515"/>
                  </a:lnTo>
                  <a:lnTo>
                    <a:pt x="1801" y="519"/>
                  </a:lnTo>
                  <a:lnTo>
                    <a:pt x="1823" y="522"/>
                  </a:lnTo>
                  <a:lnTo>
                    <a:pt x="1848" y="527"/>
                  </a:lnTo>
                  <a:lnTo>
                    <a:pt x="1869" y="534"/>
                  </a:lnTo>
                  <a:lnTo>
                    <a:pt x="1889" y="537"/>
                  </a:lnTo>
                  <a:lnTo>
                    <a:pt x="1903" y="540"/>
                  </a:lnTo>
                  <a:lnTo>
                    <a:pt x="1908" y="542"/>
                  </a:lnTo>
                  <a:lnTo>
                    <a:pt x="1926" y="604"/>
                  </a:lnTo>
                  <a:lnTo>
                    <a:pt x="2044" y="604"/>
                  </a:lnTo>
                  <a:lnTo>
                    <a:pt x="2064" y="689"/>
                  </a:lnTo>
                  <a:lnTo>
                    <a:pt x="2071" y="692"/>
                  </a:lnTo>
                  <a:lnTo>
                    <a:pt x="2083" y="704"/>
                  </a:lnTo>
                  <a:lnTo>
                    <a:pt x="2093" y="722"/>
                  </a:lnTo>
                  <a:lnTo>
                    <a:pt x="2093" y="746"/>
                  </a:lnTo>
                  <a:lnTo>
                    <a:pt x="2116" y="784"/>
                  </a:lnTo>
                  <a:lnTo>
                    <a:pt x="2154" y="769"/>
                  </a:lnTo>
                  <a:lnTo>
                    <a:pt x="2158" y="774"/>
                  </a:lnTo>
                  <a:lnTo>
                    <a:pt x="2164" y="786"/>
                  </a:lnTo>
                  <a:lnTo>
                    <a:pt x="2169" y="801"/>
                  </a:lnTo>
                  <a:lnTo>
                    <a:pt x="2173" y="812"/>
                  </a:lnTo>
                  <a:lnTo>
                    <a:pt x="2176" y="824"/>
                  </a:lnTo>
                  <a:lnTo>
                    <a:pt x="2183" y="834"/>
                  </a:lnTo>
                  <a:lnTo>
                    <a:pt x="2189" y="842"/>
                  </a:lnTo>
                  <a:lnTo>
                    <a:pt x="2193" y="846"/>
                  </a:lnTo>
                  <a:lnTo>
                    <a:pt x="2201" y="822"/>
                  </a:lnTo>
                  <a:lnTo>
                    <a:pt x="2226" y="869"/>
                  </a:lnTo>
                  <a:lnTo>
                    <a:pt x="2228" y="869"/>
                  </a:lnTo>
                  <a:lnTo>
                    <a:pt x="2234" y="871"/>
                  </a:lnTo>
                  <a:lnTo>
                    <a:pt x="2244" y="874"/>
                  </a:lnTo>
                  <a:lnTo>
                    <a:pt x="2254" y="877"/>
                  </a:lnTo>
                  <a:lnTo>
                    <a:pt x="2266" y="882"/>
                  </a:lnTo>
                  <a:lnTo>
                    <a:pt x="2276" y="887"/>
                  </a:lnTo>
                  <a:lnTo>
                    <a:pt x="2284" y="894"/>
                  </a:lnTo>
                  <a:lnTo>
                    <a:pt x="2288" y="902"/>
                  </a:lnTo>
                  <a:lnTo>
                    <a:pt x="2289" y="921"/>
                  </a:lnTo>
                  <a:lnTo>
                    <a:pt x="2293" y="937"/>
                  </a:lnTo>
                  <a:lnTo>
                    <a:pt x="2296" y="952"/>
                  </a:lnTo>
                  <a:lnTo>
                    <a:pt x="2306" y="964"/>
                  </a:lnTo>
                  <a:lnTo>
                    <a:pt x="2316" y="979"/>
                  </a:lnTo>
                  <a:lnTo>
                    <a:pt x="2321" y="996"/>
                  </a:lnTo>
                  <a:lnTo>
                    <a:pt x="2318" y="1011"/>
                  </a:lnTo>
                  <a:lnTo>
                    <a:pt x="2311" y="1017"/>
                  </a:lnTo>
                  <a:lnTo>
                    <a:pt x="2303" y="1019"/>
                  </a:lnTo>
                  <a:lnTo>
                    <a:pt x="2299" y="1024"/>
                  </a:lnTo>
                  <a:lnTo>
                    <a:pt x="2301" y="1032"/>
                  </a:lnTo>
                  <a:lnTo>
                    <a:pt x="2306" y="1046"/>
                  </a:lnTo>
                  <a:lnTo>
                    <a:pt x="2313" y="1061"/>
                  </a:lnTo>
                  <a:lnTo>
                    <a:pt x="2319" y="1076"/>
                  </a:lnTo>
                  <a:lnTo>
                    <a:pt x="2324" y="1092"/>
                  </a:lnTo>
                  <a:lnTo>
                    <a:pt x="2329" y="1107"/>
                  </a:lnTo>
                  <a:lnTo>
                    <a:pt x="2336" y="1117"/>
                  </a:lnTo>
                  <a:lnTo>
                    <a:pt x="2344" y="1121"/>
                  </a:lnTo>
                  <a:lnTo>
                    <a:pt x="2351" y="1121"/>
                  </a:lnTo>
                  <a:lnTo>
                    <a:pt x="2354" y="1121"/>
                  </a:lnTo>
                  <a:lnTo>
                    <a:pt x="2356" y="1129"/>
                  </a:lnTo>
                  <a:lnTo>
                    <a:pt x="2365" y="1149"/>
                  </a:lnTo>
                  <a:lnTo>
                    <a:pt x="2375" y="1174"/>
                  </a:lnTo>
                  <a:lnTo>
                    <a:pt x="2388" y="1192"/>
                  </a:lnTo>
                  <a:lnTo>
                    <a:pt x="2395" y="1201"/>
                  </a:lnTo>
                  <a:lnTo>
                    <a:pt x="2400" y="1209"/>
                  </a:lnTo>
                  <a:lnTo>
                    <a:pt x="2405" y="1217"/>
                  </a:lnTo>
                  <a:lnTo>
                    <a:pt x="2411" y="1227"/>
                  </a:lnTo>
                  <a:lnTo>
                    <a:pt x="2416" y="1236"/>
                  </a:lnTo>
                  <a:lnTo>
                    <a:pt x="2425" y="1244"/>
                  </a:lnTo>
                  <a:lnTo>
                    <a:pt x="2433" y="1253"/>
                  </a:lnTo>
                  <a:lnTo>
                    <a:pt x="2445" y="1259"/>
                  </a:lnTo>
                  <a:lnTo>
                    <a:pt x="2456" y="1263"/>
                  </a:lnTo>
                  <a:lnTo>
                    <a:pt x="2468" y="1263"/>
                  </a:lnTo>
                  <a:lnTo>
                    <a:pt x="2478" y="1263"/>
                  </a:lnTo>
                  <a:lnTo>
                    <a:pt x="2486" y="1259"/>
                  </a:lnTo>
                  <a:lnTo>
                    <a:pt x="2493" y="1256"/>
                  </a:lnTo>
                  <a:lnTo>
                    <a:pt x="2498" y="1253"/>
                  </a:lnTo>
                  <a:lnTo>
                    <a:pt x="2500" y="1251"/>
                  </a:lnTo>
                  <a:lnTo>
                    <a:pt x="2501" y="1249"/>
                  </a:lnTo>
                  <a:lnTo>
                    <a:pt x="2520" y="1259"/>
                  </a:lnTo>
                  <a:lnTo>
                    <a:pt x="2501" y="1293"/>
                  </a:lnTo>
                  <a:lnTo>
                    <a:pt x="2501" y="1294"/>
                  </a:lnTo>
                  <a:lnTo>
                    <a:pt x="2501" y="1299"/>
                  </a:lnTo>
                  <a:lnTo>
                    <a:pt x="2503" y="1304"/>
                  </a:lnTo>
                  <a:lnTo>
                    <a:pt x="2511" y="1306"/>
                  </a:lnTo>
                  <a:lnTo>
                    <a:pt x="2521" y="1314"/>
                  </a:lnTo>
                  <a:lnTo>
                    <a:pt x="2531" y="1329"/>
                  </a:lnTo>
                  <a:lnTo>
                    <a:pt x="2536" y="1346"/>
                  </a:lnTo>
                  <a:lnTo>
                    <a:pt x="2540" y="1354"/>
                  </a:lnTo>
                  <a:lnTo>
                    <a:pt x="2541" y="1356"/>
                  </a:lnTo>
                  <a:lnTo>
                    <a:pt x="2546" y="1361"/>
                  </a:lnTo>
                  <a:lnTo>
                    <a:pt x="2553" y="1368"/>
                  </a:lnTo>
                  <a:lnTo>
                    <a:pt x="2561" y="1378"/>
                  </a:lnTo>
                  <a:lnTo>
                    <a:pt x="2571" y="1388"/>
                  </a:lnTo>
                  <a:lnTo>
                    <a:pt x="2583" y="1401"/>
                  </a:lnTo>
                  <a:lnTo>
                    <a:pt x="2595" y="1414"/>
                  </a:lnTo>
                  <a:lnTo>
                    <a:pt x="2606" y="1428"/>
                  </a:lnTo>
                  <a:lnTo>
                    <a:pt x="2618" y="1443"/>
                  </a:lnTo>
                  <a:lnTo>
                    <a:pt x="2631" y="1458"/>
                  </a:lnTo>
                  <a:lnTo>
                    <a:pt x="2645" y="1473"/>
                  </a:lnTo>
                  <a:lnTo>
                    <a:pt x="2658" y="1488"/>
                  </a:lnTo>
                  <a:lnTo>
                    <a:pt x="2670" y="1501"/>
                  </a:lnTo>
                  <a:lnTo>
                    <a:pt x="2680" y="1511"/>
                  </a:lnTo>
                  <a:lnTo>
                    <a:pt x="2688" y="1521"/>
                  </a:lnTo>
                  <a:lnTo>
                    <a:pt x="2691" y="1528"/>
                  </a:lnTo>
                  <a:lnTo>
                    <a:pt x="2701" y="1533"/>
                  </a:lnTo>
                  <a:lnTo>
                    <a:pt x="2723" y="1538"/>
                  </a:lnTo>
                  <a:lnTo>
                    <a:pt x="2753" y="1543"/>
                  </a:lnTo>
                  <a:lnTo>
                    <a:pt x="2790" y="1546"/>
                  </a:lnTo>
                  <a:lnTo>
                    <a:pt x="2828" y="1549"/>
                  </a:lnTo>
                  <a:lnTo>
                    <a:pt x="2863" y="1551"/>
                  </a:lnTo>
                  <a:lnTo>
                    <a:pt x="2891" y="1554"/>
                  </a:lnTo>
                  <a:lnTo>
                    <a:pt x="2910" y="1556"/>
                  </a:lnTo>
                  <a:lnTo>
                    <a:pt x="2925" y="1558"/>
                  </a:lnTo>
                  <a:lnTo>
                    <a:pt x="2945" y="1559"/>
                  </a:lnTo>
                  <a:lnTo>
                    <a:pt x="2968" y="1561"/>
                  </a:lnTo>
                  <a:lnTo>
                    <a:pt x="2992" y="1563"/>
                  </a:lnTo>
                  <a:lnTo>
                    <a:pt x="3013" y="1566"/>
                  </a:lnTo>
                  <a:lnTo>
                    <a:pt x="3033" y="1568"/>
                  </a:lnTo>
                  <a:lnTo>
                    <a:pt x="3048" y="1569"/>
                  </a:lnTo>
                  <a:lnTo>
                    <a:pt x="3057" y="1571"/>
                  </a:lnTo>
                  <a:lnTo>
                    <a:pt x="3070" y="1569"/>
                  </a:lnTo>
                  <a:lnTo>
                    <a:pt x="3083" y="1563"/>
                  </a:lnTo>
                  <a:lnTo>
                    <a:pt x="3095" y="1554"/>
                  </a:lnTo>
                  <a:lnTo>
                    <a:pt x="3100" y="1551"/>
                  </a:lnTo>
                  <a:lnTo>
                    <a:pt x="3102" y="1553"/>
                  </a:lnTo>
                  <a:lnTo>
                    <a:pt x="3105" y="1556"/>
                  </a:lnTo>
                  <a:lnTo>
                    <a:pt x="3112" y="1561"/>
                  </a:lnTo>
                  <a:lnTo>
                    <a:pt x="3120" y="1568"/>
                  </a:lnTo>
                  <a:lnTo>
                    <a:pt x="3130" y="1576"/>
                  </a:lnTo>
                  <a:lnTo>
                    <a:pt x="3140" y="1586"/>
                  </a:lnTo>
                  <a:lnTo>
                    <a:pt x="3152" y="1598"/>
                  </a:lnTo>
                  <a:lnTo>
                    <a:pt x="3162" y="1609"/>
                  </a:lnTo>
                  <a:lnTo>
                    <a:pt x="3172" y="1624"/>
                  </a:lnTo>
                  <a:lnTo>
                    <a:pt x="3180" y="1638"/>
                  </a:lnTo>
                  <a:lnTo>
                    <a:pt x="3183" y="1653"/>
                  </a:lnTo>
                  <a:lnTo>
                    <a:pt x="3185" y="1668"/>
                  </a:lnTo>
                  <a:lnTo>
                    <a:pt x="3185" y="1678"/>
                  </a:lnTo>
                  <a:lnTo>
                    <a:pt x="3183" y="1688"/>
                  </a:lnTo>
                  <a:lnTo>
                    <a:pt x="3180" y="1696"/>
                  </a:lnTo>
                  <a:lnTo>
                    <a:pt x="3175" y="1704"/>
                  </a:lnTo>
                  <a:lnTo>
                    <a:pt x="3168" y="1724"/>
                  </a:lnTo>
                  <a:lnTo>
                    <a:pt x="3168" y="1748"/>
                  </a:lnTo>
                  <a:lnTo>
                    <a:pt x="3168" y="1771"/>
                  </a:lnTo>
                  <a:lnTo>
                    <a:pt x="3167" y="1795"/>
                  </a:lnTo>
                  <a:lnTo>
                    <a:pt x="3162" y="1815"/>
                  </a:lnTo>
                  <a:lnTo>
                    <a:pt x="3153" y="1835"/>
                  </a:lnTo>
                  <a:lnTo>
                    <a:pt x="3145" y="1851"/>
                  </a:lnTo>
                  <a:lnTo>
                    <a:pt x="3138" y="1870"/>
                  </a:lnTo>
                  <a:lnTo>
                    <a:pt x="3132" y="1890"/>
                  </a:lnTo>
                  <a:lnTo>
                    <a:pt x="3125" y="1913"/>
                  </a:lnTo>
                  <a:lnTo>
                    <a:pt x="3120" y="1933"/>
                  </a:lnTo>
                  <a:lnTo>
                    <a:pt x="3118" y="1951"/>
                  </a:lnTo>
                  <a:lnTo>
                    <a:pt x="3117" y="1965"/>
                  </a:lnTo>
                  <a:lnTo>
                    <a:pt x="3115" y="1976"/>
                  </a:lnTo>
                  <a:lnTo>
                    <a:pt x="3108" y="1986"/>
                  </a:lnTo>
                  <a:lnTo>
                    <a:pt x="3100" y="1993"/>
                  </a:lnTo>
                  <a:lnTo>
                    <a:pt x="3093" y="1996"/>
                  </a:lnTo>
                  <a:lnTo>
                    <a:pt x="3078" y="2003"/>
                  </a:lnTo>
                  <a:lnTo>
                    <a:pt x="3057" y="2013"/>
                  </a:lnTo>
                  <a:lnTo>
                    <a:pt x="3028" y="2026"/>
                  </a:lnTo>
                  <a:lnTo>
                    <a:pt x="2997" y="2040"/>
                  </a:lnTo>
                  <a:lnTo>
                    <a:pt x="2962" y="2056"/>
                  </a:lnTo>
                  <a:lnTo>
                    <a:pt x="2923" y="2073"/>
                  </a:lnTo>
                  <a:lnTo>
                    <a:pt x="2885" y="2090"/>
                  </a:lnTo>
                  <a:lnTo>
                    <a:pt x="2845" y="2108"/>
                  </a:lnTo>
                  <a:lnTo>
                    <a:pt x="2806" y="2125"/>
                  </a:lnTo>
                  <a:lnTo>
                    <a:pt x="2770" y="2141"/>
                  </a:lnTo>
                  <a:lnTo>
                    <a:pt x="2736" y="2155"/>
                  </a:lnTo>
                  <a:lnTo>
                    <a:pt x="2708" y="2168"/>
                  </a:lnTo>
                  <a:lnTo>
                    <a:pt x="2685" y="2180"/>
                  </a:lnTo>
                  <a:lnTo>
                    <a:pt x="2668" y="2188"/>
                  </a:lnTo>
                  <a:lnTo>
                    <a:pt x="2658" y="2193"/>
                  </a:lnTo>
                  <a:lnTo>
                    <a:pt x="2645" y="2200"/>
                  </a:lnTo>
                  <a:lnTo>
                    <a:pt x="2628" y="2205"/>
                  </a:lnTo>
                  <a:lnTo>
                    <a:pt x="2608" y="2208"/>
                  </a:lnTo>
                  <a:lnTo>
                    <a:pt x="2586" y="2211"/>
                  </a:lnTo>
                  <a:lnTo>
                    <a:pt x="2561" y="2215"/>
                  </a:lnTo>
                  <a:lnTo>
                    <a:pt x="2535" y="2220"/>
                  </a:lnTo>
                  <a:lnTo>
                    <a:pt x="2508" y="2225"/>
                  </a:lnTo>
                  <a:lnTo>
                    <a:pt x="2481" y="2231"/>
                  </a:lnTo>
                  <a:lnTo>
                    <a:pt x="2466" y="2235"/>
                  </a:lnTo>
                  <a:lnTo>
                    <a:pt x="2446" y="2240"/>
                  </a:lnTo>
                  <a:lnTo>
                    <a:pt x="2425" y="2245"/>
                  </a:lnTo>
                  <a:lnTo>
                    <a:pt x="2398" y="2252"/>
                  </a:lnTo>
                  <a:lnTo>
                    <a:pt x="2371" y="2258"/>
                  </a:lnTo>
                  <a:lnTo>
                    <a:pt x="2343" y="2265"/>
                  </a:lnTo>
                  <a:lnTo>
                    <a:pt x="2313" y="2272"/>
                  </a:lnTo>
                  <a:lnTo>
                    <a:pt x="2283" y="2278"/>
                  </a:lnTo>
                  <a:lnTo>
                    <a:pt x="2253" y="2285"/>
                  </a:lnTo>
                  <a:lnTo>
                    <a:pt x="2224" y="2293"/>
                  </a:lnTo>
                  <a:lnTo>
                    <a:pt x="2198" y="2300"/>
                  </a:lnTo>
                  <a:lnTo>
                    <a:pt x="2173" y="2307"/>
                  </a:lnTo>
                  <a:lnTo>
                    <a:pt x="2151" y="2312"/>
                  </a:lnTo>
                  <a:lnTo>
                    <a:pt x="2134" y="2318"/>
                  </a:lnTo>
                  <a:lnTo>
                    <a:pt x="2119" y="2323"/>
                  </a:lnTo>
                  <a:lnTo>
                    <a:pt x="2111" y="2327"/>
                  </a:lnTo>
                  <a:lnTo>
                    <a:pt x="2098" y="2333"/>
                  </a:lnTo>
                  <a:lnTo>
                    <a:pt x="2086" y="2338"/>
                  </a:lnTo>
                  <a:lnTo>
                    <a:pt x="2071" y="2347"/>
                  </a:lnTo>
                  <a:lnTo>
                    <a:pt x="2058" y="2353"/>
                  </a:lnTo>
                  <a:lnTo>
                    <a:pt x="2043" y="2365"/>
                  </a:lnTo>
                  <a:lnTo>
                    <a:pt x="2028" y="2378"/>
                  </a:lnTo>
                  <a:lnTo>
                    <a:pt x="2011" y="2398"/>
                  </a:lnTo>
                  <a:lnTo>
                    <a:pt x="1993" y="2422"/>
                  </a:lnTo>
                  <a:lnTo>
                    <a:pt x="1976" y="2447"/>
                  </a:lnTo>
                  <a:lnTo>
                    <a:pt x="1961" y="2470"/>
                  </a:lnTo>
                  <a:lnTo>
                    <a:pt x="1946" y="2492"/>
                  </a:lnTo>
                  <a:lnTo>
                    <a:pt x="1933" y="2512"/>
                  </a:lnTo>
                  <a:lnTo>
                    <a:pt x="1923" y="2528"/>
                  </a:lnTo>
                  <a:lnTo>
                    <a:pt x="1913" y="2542"/>
                  </a:lnTo>
                  <a:lnTo>
                    <a:pt x="1904" y="2552"/>
                  </a:lnTo>
                  <a:lnTo>
                    <a:pt x="1898" y="2558"/>
                  </a:lnTo>
                  <a:lnTo>
                    <a:pt x="1891" y="2563"/>
                  </a:lnTo>
                  <a:lnTo>
                    <a:pt x="1884" y="2568"/>
                  </a:lnTo>
                  <a:lnTo>
                    <a:pt x="1874" y="2573"/>
                  </a:lnTo>
                  <a:lnTo>
                    <a:pt x="1864" y="2575"/>
                  </a:lnTo>
                  <a:lnTo>
                    <a:pt x="1853" y="2577"/>
                  </a:lnTo>
                  <a:lnTo>
                    <a:pt x="1843" y="2577"/>
                  </a:lnTo>
                  <a:lnTo>
                    <a:pt x="1833" y="2573"/>
                  </a:lnTo>
                  <a:lnTo>
                    <a:pt x="1823" y="2568"/>
                  </a:lnTo>
                  <a:lnTo>
                    <a:pt x="1814" y="2562"/>
                  </a:lnTo>
                  <a:lnTo>
                    <a:pt x="1806" y="2553"/>
                  </a:lnTo>
                  <a:lnTo>
                    <a:pt x="1799" y="2547"/>
                  </a:lnTo>
                  <a:lnTo>
                    <a:pt x="1794" y="2538"/>
                  </a:lnTo>
                  <a:lnTo>
                    <a:pt x="1787" y="2533"/>
                  </a:lnTo>
                  <a:lnTo>
                    <a:pt x="1781" y="2530"/>
                  </a:lnTo>
                  <a:lnTo>
                    <a:pt x="1772" y="2528"/>
                  </a:lnTo>
                  <a:lnTo>
                    <a:pt x="1764" y="2530"/>
                  </a:lnTo>
                  <a:lnTo>
                    <a:pt x="1752" y="2533"/>
                  </a:lnTo>
                  <a:lnTo>
                    <a:pt x="1739" y="2535"/>
                  </a:lnTo>
                  <a:lnTo>
                    <a:pt x="1722" y="2535"/>
                  </a:lnTo>
                  <a:lnTo>
                    <a:pt x="1704" y="2535"/>
                  </a:lnTo>
                  <a:lnTo>
                    <a:pt x="1684" y="2535"/>
                  </a:lnTo>
                  <a:lnTo>
                    <a:pt x="1666" y="2533"/>
                  </a:lnTo>
                  <a:lnTo>
                    <a:pt x="1647" y="2532"/>
                  </a:lnTo>
                  <a:lnTo>
                    <a:pt x="1632" y="2530"/>
                  </a:lnTo>
                  <a:lnTo>
                    <a:pt x="1617" y="2528"/>
                  </a:lnTo>
                  <a:lnTo>
                    <a:pt x="1602" y="2525"/>
                  </a:lnTo>
                  <a:lnTo>
                    <a:pt x="1589" y="2520"/>
                  </a:lnTo>
                  <a:lnTo>
                    <a:pt x="1574" y="2517"/>
                  </a:lnTo>
                  <a:lnTo>
                    <a:pt x="1561" y="2513"/>
                  </a:lnTo>
                  <a:lnTo>
                    <a:pt x="1549" y="2510"/>
                  </a:lnTo>
                  <a:lnTo>
                    <a:pt x="1537" y="2507"/>
                  </a:lnTo>
                  <a:lnTo>
                    <a:pt x="1527" y="2507"/>
                  </a:lnTo>
                  <a:lnTo>
                    <a:pt x="1514" y="2507"/>
                  </a:lnTo>
                  <a:lnTo>
                    <a:pt x="1492" y="2507"/>
                  </a:lnTo>
                  <a:lnTo>
                    <a:pt x="1466" y="2508"/>
                  </a:lnTo>
                  <a:lnTo>
                    <a:pt x="1436" y="2508"/>
                  </a:lnTo>
                  <a:lnTo>
                    <a:pt x="1409" y="2510"/>
                  </a:lnTo>
                  <a:lnTo>
                    <a:pt x="1386" y="2512"/>
                  </a:lnTo>
                  <a:lnTo>
                    <a:pt x="1369" y="2512"/>
                  </a:lnTo>
                  <a:lnTo>
                    <a:pt x="1362" y="2512"/>
                  </a:lnTo>
                  <a:lnTo>
                    <a:pt x="1361" y="2513"/>
                  </a:lnTo>
                  <a:lnTo>
                    <a:pt x="1356" y="2515"/>
                  </a:lnTo>
                  <a:lnTo>
                    <a:pt x="1349" y="2518"/>
                  </a:lnTo>
                  <a:lnTo>
                    <a:pt x="1339" y="2520"/>
                  </a:lnTo>
                  <a:lnTo>
                    <a:pt x="1329" y="2522"/>
                  </a:lnTo>
                  <a:lnTo>
                    <a:pt x="1317" y="2522"/>
                  </a:lnTo>
                  <a:lnTo>
                    <a:pt x="1304" y="2518"/>
                  </a:lnTo>
                  <a:lnTo>
                    <a:pt x="1292" y="2512"/>
                  </a:lnTo>
                  <a:lnTo>
                    <a:pt x="1281" y="2503"/>
                  </a:lnTo>
                  <a:lnTo>
                    <a:pt x="1272" y="2497"/>
                  </a:lnTo>
                  <a:lnTo>
                    <a:pt x="1266" y="2490"/>
                  </a:lnTo>
                  <a:lnTo>
                    <a:pt x="1261" y="2485"/>
                  </a:lnTo>
                  <a:lnTo>
                    <a:pt x="1256" y="2482"/>
                  </a:lnTo>
                  <a:lnTo>
                    <a:pt x="1250" y="2480"/>
                  </a:lnTo>
                  <a:lnTo>
                    <a:pt x="1245" y="2480"/>
                  </a:lnTo>
                  <a:lnTo>
                    <a:pt x="1239" y="2483"/>
                  </a:lnTo>
                  <a:lnTo>
                    <a:pt x="1232" y="2490"/>
                  </a:lnTo>
                  <a:lnTo>
                    <a:pt x="1235" y="2498"/>
                  </a:lnTo>
                  <a:lnTo>
                    <a:pt x="1240" y="2510"/>
                  </a:lnTo>
                  <a:lnTo>
                    <a:pt x="1239" y="2525"/>
                  </a:lnTo>
                  <a:lnTo>
                    <a:pt x="1234" y="2545"/>
                  </a:lnTo>
                  <a:lnTo>
                    <a:pt x="1232" y="2567"/>
                  </a:lnTo>
                  <a:lnTo>
                    <a:pt x="1234" y="2587"/>
                  </a:lnTo>
                  <a:lnTo>
                    <a:pt x="1234" y="2602"/>
                  </a:lnTo>
                  <a:lnTo>
                    <a:pt x="1230" y="2615"/>
                  </a:lnTo>
                  <a:lnTo>
                    <a:pt x="1225" y="2630"/>
                  </a:lnTo>
                  <a:lnTo>
                    <a:pt x="1219" y="2643"/>
                  </a:lnTo>
                  <a:lnTo>
                    <a:pt x="1215" y="2648"/>
                  </a:lnTo>
                  <a:lnTo>
                    <a:pt x="1177" y="2678"/>
                  </a:lnTo>
                  <a:lnTo>
                    <a:pt x="1175" y="2672"/>
                  </a:lnTo>
                  <a:lnTo>
                    <a:pt x="1170" y="2657"/>
                  </a:lnTo>
                  <a:lnTo>
                    <a:pt x="1167" y="2640"/>
                  </a:lnTo>
                  <a:lnTo>
                    <a:pt x="1167" y="2625"/>
                  </a:lnTo>
                  <a:lnTo>
                    <a:pt x="1167" y="2613"/>
                  </a:lnTo>
                  <a:lnTo>
                    <a:pt x="1164" y="2598"/>
                  </a:lnTo>
                  <a:lnTo>
                    <a:pt x="1154" y="2583"/>
                  </a:lnTo>
                  <a:lnTo>
                    <a:pt x="1144" y="2568"/>
                  </a:lnTo>
                  <a:lnTo>
                    <a:pt x="1134" y="2555"/>
                  </a:lnTo>
                  <a:lnTo>
                    <a:pt x="1124" y="2543"/>
                  </a:lnTo>
                  <a:lnTo>
                    <a:pt x="1115" y="2532"/>
                  </a:lnTo>
                  <a:lnTo>
                    <a:pt x="1110" y="2522"/>
                  </a:lnTo>
                  <a:lnTo>
                    <a:pt x="1107" y="2508"/>
                  </a:lnTo>
                  <a:lnTo>
                    <a:pt x="1104" y="2492"/>
                  </a:lnTo>
                  <a:lnTo>
                    <a:pt x="1095" y="2475"/>
                  </a:lnTo>
                  <a:lnTo>
                    <a:pt x="1082" y="2458"/>
                  </a:lnTo>
                  <a:lnTo>
                    <a:pt x="1072" y="2450"/>
                  </a:lnTo>
                  <a:lnTo>
                    <a:pt x="1059" y="2437"/>
                  </a:lnTo>
                  <a:lnTo>
                    <a:pt x="1044" y="2423"/>
                  </a:lnTo>
                  <a:lnTo>
                    <a:pt x="1029" y="2405"/>
                  </a:lnTo>
                  <a:lnTo>
                    <a:pt x="1014" y="2387"/>
                  </a:lnTo>
                  <a:lnTo>
                    <a:pt x="999" y="2368"/>
                  </a:lnTo>
                  <a:lnTo>
                    <a:pt x="987" y="2350"/>
                  </a:lnTo>
                  <a:lnTo>
                    <a:pt x="979" y="2332"/>
                  </a:lnTo>
                  <a:lnTo>
                    <a:pt x="964" y="2302"/>
                  </a:lnTo>
                  <a:lnTo>
                    <a:pt x="949" y="2280"/>
                  </a:lnTo>
                  <a:lnTo>
                    <a:pt x="937" y="2263"/>
                  </a:lnTo>
                  <a:lnTo>
                    <a:pt x="930" y="2245"/>
                  </a:lnTo>
                  <a:lnTo>
                    <a:pt x="927" y="2231"/>
                  </a:lnTo>
                  <a:lnTo>
                    <a:pt x="920" y="2211"/>
                  </a:lnTo>
                  <a:lnTo>
                    <a:pt x="910" y="2190"/>
                  </a:lnTo>
                  <a:lnTo>
                    <a:pt x="900" y="2166"/>
                  </a:lnTo>
                  <a:lnTo>
                    <a:pt x="890" y="2143"/>
                  </a:lnTo>
                  <a:lnTo>
                    <a:pt x="880" y="2123"/>
                  </a:lnTo>
                  <a:lnTo>
                    <a:pt x="870" y="2108"/>
                  </a:lnTo>
                  <a:lnTo>
                    <a:pt x="864" y="2098"/>
                  </a:lnTo>
                  <a:lnTo>
                    <a:pt x="854" y="2085"/>
                  </a:lnTo>
                  <a:lnTo>
                    <a:pt x="845" y="2071"/>
                  </a:lnTo>
                  <a:lnTo>
                    <a:pt x="834" y="2056"/>
                  </a:lnTo>
                  <a:lnTo>
                    <a:pt x="822" y="2041"/>
                  </a:lnTo>
                  <a:lnTo>
                    <a:pt x="814" y="2033"/>
                  </a:lnTo>
                  <a:lnTo>
                    <a:pt x="802" y="2025"/>
                  </a:lnTo>
                  <a:lnTo>
                    <a:pt x="790" y="2018"/>
                  </a:lnTo>
                  <a:lnTo>
                    <a:pt x="779" y="2010"/>
                  </a:lnTo>
                  <a:lnTo>
                    <a:pt x="765" y="2003"/>
                  </a:lnTo>
                  <a:lnTo>
                    <a:pt x="752" y="1998"/>
                  </a:lnTo>
                  <a:lnTo>
                    <a:pt x="740" y="1995"/>
                  </a:lnTo>
                  <a:lnTo>
                    <a:pt x="730" y="1993"/>
                  </a:lnTo>
                  <a:lnTo>
                    <a:pt x="722" y="1991"/>
                  </a:lnTo>
                  <a:lnTo>
                    <a:pt x="717" y="1988"/>
                  </a:lnTo>
                  <a:lnTo>
                    <a:pt x="710" y="1983"/>
                  </a:lnTo>
                  <a:lnTo>
                    <a:pt x="705" y="1975"/>
                  </a:lnTo>
                  <a:lnTo>
                    <a:pt x="700" y="1966"/>
                  </a:lnTo>
                  <a:lnTo>
                    <a:pt x="693" y="1953"/>
                  </a:lnTo>
                  <a:lnTo>
                    <a:pt x="685" y="1940"/>
                  </a:lnTo>
                  <a:lnTo>
                    <a:pt x="673" y="1923"/>
                  </a:lnTo>
                  <a:lnTo>
                    <a:pt x="662" y="1905"/>
                  </a:lnTo>
                  <a:lnTo>
                    <a:pt x="652" y="1886"/>
                  </a:lnTo>
                  <a:lnTo>
                    <a:pt x="642" y="1868"/>
                  </a:lnTo>
                  <a:lnTo>
                    <a:pt x="635" y="1851"/>
                  </a:lnTo>
                  <a:lnTo>
                    <a:pt x="628" y="1833"/>
                  </a:lnTo>
                  <a:lnTo>
                    <a:pt x="623" y="1818"/>
                  </a:lnTo>
                  <a:lnTo>
                    <a:pt x="620" y="1803"/>
                  </a:lnTo>
                  <a:lnTo>
                    <a:pt x="617" y="1790"/>
                  </a:lnTo>
                  <a:lnTo>
                    <a:pt x="612" y="1765"/>
                  </a:lnTo>
                  <a:lnTo>
                    <a:pt x="603" y="1741"/>
                  </a:lnTo>
                  <a:lnTo>
                    <a:pt x="597" y="1724"/>
                  </a:lnTo>
                  <a:lnTo>
                    <a:pt x="593" y="1718"/>
                  </a:lnTo>
                  <a:lnTo>
                    <a:pt x="600" y="1706"/>
                  </a:lnTo>
                  <a:lnTo>
                    <a:pt x="610" y="1676"/>
                  </a:lnTo>
                  <a:lnTo>
                    <a:pt x="617" y="1636"/>
                  </a:lnTo>
                  <a:lnTo>
                    <a:pt x="607" y="1594"/>
                  </a:lnTo>
                  <a:lnTo>
                    <a:pt x="590" y="1559"/>
                  </a:lnTo>
                  <a:lnTo>
                    <a:pt x="582" y="1531"/>
                  </a:lnTo>
                  <a:lnTo>
                    <a:pt x="573" y="1503"/>
                  </a:lnTo>
                  <a:lnTo>
                    <a:pt x="560" y="1471"/>
                  </a:lnTo>
                  <a:lnTo>
                    <a:pt x="552" y="1454"/>
                  </a:lnTo>
                  <a:lnTo>
                    <a:pt x="547" y="1439"/>
                  </a:lnTo>
                  <a:lnTo>
                    <a:pt x="542" y="1426"/>
                  </a:lnTo>
                  <a:lnTo>
                    <a:pt x="537" y="1413"/>
                  </a:lnTo>
                  <a:lnTo>
                    <a:pt x="532" y="1401"/>
                  </a:lnTo>
                  <a:lnTo>
                    <a:pt x="525" y="1393"/>
                  </a:lnTo>
                  <a:lnTo>
                    <a:pt x="518" y="1383"/>
                  </a:lnTo>
                  <a:lnTo>
                    <a:pt x="508" y="1376"/>
                  </a:lnTo>
                  <a:lnTo>
                    <a:pt x="497" y="1369"/>
                  </a:lnTo>
                  <a:lnTo>
                    <a:pt x="487" y="1361"/>
                  </a:lnTo>
                  <a:lnTo>
                    <a:pt x="475" y="1354"/>
                  </a:lnTo>
                  <a:lnTo>
                    <a:pt x="463" y="1346"/>
                  </a:lnTo>
                  <a:lnTo>
                    <a:pt x="452" y="1338"/>
                  </a:lnTo>
                  <a:lnTo>
                    <a:pt x="440" y="1329"/>
                  </a:lnTo>
                  <a:lnTo>
                    <a:pt x="427" y="1323"/>
                  </a:lnTo>
                  <a:lnTo>
                    <a:pt x="413" y="1316"/>
                  </a:lnTo>
                  <a:lnTo>
                    <a:pt x="392" y="1303"/>
                  </a:lnTo>
                  <a:lnTo>
                    <a:pt x="382" y="1286"/>
                  </a:lnTo>
                  <a:lnTo>
                    <a:pt x="375" y="1268"/>
                  </a:lnTo>
                  <a:lnTo>
                    <a:pt x="365" y="1249"/>
                  </a:lnTo>
                  <a:lnTo>
                    <a:pt x="355" y="1232"/>
                  </a:lnTo>
                  <a:lnTo>
                    <a:pt x="348" y="1219"/>
                  </a:lnTo>
                  <a:lnTo>
                    <a:pt x="347" y="1209"/>
                  </a:lnTo>
                  <a:lnTo>
                    <a:pt x="347" y="1206"/>
                  </a:lnTo>
                  <a:lnTo>
                    <a:pt x="348" y="1206"/>
                  </a:lnTo>
                  <a:lnTo>
                    <a:pt x="353" y="1204"/>
                  </a:lnTo>
                  <a:lnTo>
                    <a:pt x="360" y="1201"/>
                  </a:lnTo>
                  <a:lnTo>
                    <a:pt x="367" y="1194"/>
                  </a:lnTo>
                  <a:lnTo>
                    <a:pt x="370" y="1187"/>
                  </a:lnTo>
                  <a:lnTo>
                    <a:pt x="370" y="1176"/>
                  </a:lnTo>
                  <a:lnTo>
                    <a:pt x="365" y="1162"/>
                  </a:lnTo>
                  <a:lnTo>
                    <a:pt x="352" y="1144"/>
                  </a:lnTo>
                  <a:lnTo>
                    <a:pt x="330" y="1122"/>
                  </a:lnTo>
                  <a:lnTo>
                    <a:pt x="327" y="1122"/>
                  </a:lnTo>
                  <a:lnTo>
                    <a:pt x="330" y="1126"/>
                  </a:lnTo>
                  <a:lnTo>
                    <a:pt x="327" y="1112"/>
                  </a:lnTo>
                  <a:lnTo>
                    <a:pt x="320" y="1091"/>
                  </a:lnTo>
                  <a:lnTo>
                    <a:pt x="315" y="1076"/>
                  </a:lnTo>
                  <a:lnTo>
                    <a:pt x="308" y="1066"/>
                  </a:lnTo>
                  <a:lnTo>
                    <a:pt x="293" y="1054"/>
                  </a:lnTo>
                  <a:lnTo>
                    <a:pt x="283" y="1039"/>
                  </a:lnTo>
                  <a:lnTo>
                    <a:pt x="285" y="1024"/>
                  </a:lnTo>
                  <a:lnTo>
                    <a:pt x="287" y="1011"/>
                  </a:lnTo>
                  <a:lnTo>
                    <a:pt x="275" y="997"/>
                  </a:lnTo>
                  <a:lnTo>
                    <a:pt x="257" y="986"/>
                  </a:lnTo>
                  <a:lnTo>
                    <a:pt x="243" y="971"/>
                  </a:lnTo>
                  <a:lnTo>
                    <a:pt x="235" y="954"/>
                  </a:lnTo>
                  <a:lnTo>
                    <a:pt x="232" y="936"/>
                  </a:lnTo>
                  <a:lnTo>
                    <a:pt x="228" y="916"/>
                  </a:lnTo>
                  <a:lnTo>
                    <a:pt x="218" y="889"/>
                  </a:lnTo>
                  <a:lnTo>
                    <a:pt x="205" y="862"/>
                  </a:lnTo>
                  <a:lnTo>
                    <a:pt x="185" y="836"/>
                  </a:lnTo>
                  <a:lnTo>
                    <a:pt x="172" y="814"/>
                  </a:lnTo>
                  <a:lnTo>
                    <a:pt x="168" y="796"/>
                  </a:lnTo>
                  <a:lnTo>
                    <a:pt x="167" y="782"/>
                  </a:lnTo>
                  <a:lnTo>
                    <a:pt x="157" y="774"/>
                  </a:lnTo>
                  <a:lnTo>
                    <a:pt x="145" y="766"/>
                  </a:lnTo>
                  <a:lnTo>
                    <a:pt x="140" y="754"/>
                  </a:lnTo>
                  <a:lnTo>
                    <a:pt x="133" y="739"/>
                  </a:lnTo>
                  <a:lnTo>
                    <a:pt x="118" y="722"/>
                  </a:lnTo>
                  <a:lnTo>
                    <a:pt x="100" y="700"/>
                  </a:lnTo>
                  <a:lnTo>
                    <a:pt x="86" y="674"/>
                  </a:lnTo>
                  <a:lnTo>
                    <a:pt x="78" y="652"/>
                  </a:lnTo>
                  <a:lnTo>
                    <a:pt x="75" y="642"/>
                  </a:lnTo>
                  <a:lnTo>
                    <a:pt x="70" y="642"/>
                  </a:lnTo>
                  <a:lnTo>
                    <a:pt x="60" y="642"/>
                  </a:lnTo>
                  <a:lnTo>
                    <a:pt x="45" y="642"/>
                  </a:lnTo>
                  <a:lnTo>
                    <a:pt x="33" y="642"/>
                  </a:lnTo>
                  <a:lnTo>
                    <a:pt x="21" y="642"/>
                  </a:lnTo>
                  <a:lnTo>
                    <a:pt x="11" y="644"/>
                  </a:lnTo>
                  <a:lnTo>
                    <a:pt x="3" y="645"/>
                  </a:lnTo>
                  <a:lnTo>
                    <a:pt x="0" y="645"/>
                  </a:lnTo>
                  <a:lnTo>
                    <a:pt x="1" y="642"/>
                  </a:lnTo>
                  <a:lnTo>
                    <a:pt x="5" y="632"/>
                  </a:lnTo>
                  <a:lnTo>
                    <a:pt x="8" y="620"/>
                  </a:lnTo>
                  <a:lnTo>
                    <a:pt x="13" y="609"/>
                  </a:lnTo>
                  <a:lnTo>
                    <a:pt x="20" y="592"/>
                  </a:lnTo>
                  <a:lnTo>
                    <a:pt x="28" y="569"/>
                  </a:lnTo>
                  <a:lnTo>
                    <a:pt x="35" y="542"/>
                  </a:lnTo>
                  <a:lnTo>
                    <a:pt x="38" y="517"/>
                  </a:lnTo>
                  <a:lnTo>
                    <a:pt x="40" y="500"/>
                  </a:lnTo>
                  <a:lnTo>
                    <a:pt x="43" y="489"/>
                  </a:lnTo>
                  <a:lnTo>
                    <a:pt x="50" y="480"/>
                  </a:lnTo>
                  <a:lnTo>
                    <a:pt x="56" y="470"/>
                  </a:lnTo>
                  <a:lnTo>
                    <a:pt x="61" y="457"/>
                  </a:lnTo>
                  <a:lnTo>
                    <a:pt x="65" y="442"/>
                  </a:lnTo>
                  <a:lnTo>
                    <a:pt x="66" y="429"/>
                  </a:lnTo>
                  <a:lnTo>
                    <a:pt x="66" y="424"/>
                  </a:lnTo>
                  <a:lnTo>
                    <a:pt x="232" y="465"/>
                  </a:lnTo>
                  <a:lnTo>
                    <a:pt x="235" y="464"/>
                  </a:lnTo>
                  <a:lnTo>
                    <a:pt x="243" y="457"/>
                  </a:lnTo>
                  <a:lnTo>
                    <a:pt x="257" y="450"/>
                  </a:lnTo>
                  <a:lnTo>
                    <a:pt x="270" y="439"/>
                  </a:lnTo>
                  <a:lnTo>
                    <a:pt x="285" y="429"/>
                  </a:lnTo>
                  <a:lnTo>
                    <a:pt x="298" y="417"/>
                  </a:lnTo>
                  <a:lnTo>
                    <a:pt x="308" y="407"/>
                  </a:lnTo>
                  <a:lnTo>
                    <a:pt x="313" y="399"/>
                  </a:lnTo>
                  <a:lnTo>
                    <a:pt x="318" y="384"/>
                  </a:lnTo>
                  <a:lnTo>
                    <a:pt x="325" y="369"/>
                  </a:lnTo>
                  <a:lnTo>
                    <a:pt x="330" y="357"/>
                  </a:lnTo>
                  <a:lnTo>
                    <a:pt x="332" y="352"/>
                  </a:lnTo>
                  <a:lnTo>
                    <a:pt x="335" y="352"/>
                  </a:lnTo>
                  <a:lnTo>
                    <a:pt x="342" y="352"/>
                  </a:lnTo>
                  <a:lnTo>
                    <a:pt x="353" y="352"/>
                  </a:lnTo>
                  <a:lnTo>
                    <a:pt x="367" y="350"/>
                  </a:lnTo>
                  <a:lnTo>
                    <a:pt x="382" y="350"/>
                  </a:lnTo>
                  <a:lnTo>
                    <a:pt x="398" y="347"/>
                  </a:lnTo>
                  <a:lnTo>
                    <a:pt x="413" y="345"/>
                  </a:lnTo>
                  <a:lnTo>
                    <a:pt x="427" y="342"/>
                  </a:lnTo>
                  <a:lnTo>
                    <a:pt x="438" y="337"/>
                  </a:lnTo>
                  <a:lnTo>
                    <a:pt x="447" y="329"/>
                  </a:lnTo>
                  <a:lnTo>
                    <a:pt x="455" y="319"/>
                  </a:lnTo>
                  <a:lnTo>
                    <a:pt x="462" y="309"/>
                  </a:lnTo>
                  <a:lnTo>
                    <a:pt x="468" y="299"/>
                  </a:lnTo>
                  <a:lnTo>
                    <a:pt x="475" y="290"/>
                  </a:lnTo>
                  <a:lnTo>
                    <a:pt x="483" y="284"/>
                  </a:lnTo>
                  <a:lnTo>
                    <a:pt x="493" y="280"/>
                  </a:lnTo>
                  <a:lnTo>
                    <a:pt x="508" y="275"/>
                  </a:lnTo>
                  <a:lnTo>
                    <a:pt x="513" y="269"/>
                  </a:lnTo>
                  <a:lnTo>
                    <a:pt x="513" y="264"/>
                  </a:lnTo>
                  <a:lnTo>
                    <a:pt x="512" y="262"/>
                  </a:lnTo>
                  <a:lnTo>
                    <a:pt x="380" y="90"/>
                  </a:lnTo>
                  <a:close/>
                </a:path>
              </a:pathLst>
            </a:custGeom>
            <a:solidFill>
              <a:srgbClr val="b2b2b2">
                <a:alpha val="30000"/>
              </a:srgbClr>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69" name=""/>
          <p:cNvSpPr/>
          <p:nvPr/>
        </p:nvSpPr>
        <p:spPr>
          <a:xfrm>
            <a:off x="609480" y="6629400"/>
            <a:ext cx="8534520" cy="228600"/>
          </a:xfrm>
          <a:prstGeom prst="rect">
            <a:avLst/>
          </a:prstGeom>
          <a:solidFill>
            <a:srgbClr val="bbe0e3"/>
          </a:solidFill>
          <a:ln cap="sq"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99"/>
                </a:solidFill>
                <a:latin typeface="Albertus Medium"/>
              </a:rPr>
              <a:t>www.skinandallergy.org</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0" lang="en-US" sz="1000" spc="-1" strike="noStrike">
                <a:solidFill>
                  <a:srgbClr val="333399"/>
                </a:solidFill>
                <a:latin typeface="Albertus Medium"/>
              </a:rPr>
              <a:t>www.panarabderm.org</a:t>
            </a:r>
            <a:endParaRPr b="0" lang="en-US" sz="1000" spc="-1" strike="noStrike">
              <a:solidFill>
                <a:srgbClr val="000000"/>
              </a:solidFill>
              <a:latin typeface="Arial"/>
            </a:endParaRPr>
          </a:p>
        </p:txBody>
      </p:sp>
      <p:sp>
        <p:nvSpPr>
          <p:cNvPr id="70" name=""/>
          <p:cNvSpPr/>
          <p:nvPr/>
        </p:nvSpPr>
        <p:spPr>
          <a:xfrm>
            <a:off x="914400" y="1295280"/>
            <a:ext cx="6913440" cy="4483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400" spc="-1" strike="noStrike">
              <a:solidFill>
                <a:srgbClr val="000000"/>
              </a:solidFill>
              <a:latin typeface="Arial"/>
            </a:endParaRPr>
          </a:p>
          <a:p>
            <a:pPr algn="r" rtl="1">
              <a:lnSpc>
                <a:spcPct val="100000"/>
              </a:lnSpc>
              <a:buClr>
                <a:srgbClr val="000099"/>
              </a:buClr>
              <a:buFont typeface="Albertus Medium"/>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ar-SA" sz="2400" spc="-1" strike="noStrike">
                <a:solidFill>
                  <a:srgbClr val="000099"/>
                </a:solidFill>
                <a:latin typeface="Albertus Medium"/>
                <a:ea typeface="Simplified Arabic"/>
              </a:rPr>
              <a:t> </a:t>
            </a:r>
            <a:r>
              <a:rPr b="0" i="1" lang="ar-SA" sz="2400" spc="-1" strike="noStrike">
                <a:solidFill>
                  <a:srgbClr val="000099"/>
                </a:solidFill>
                <a:latin typeface="Albertus Medium"/>
              </a:rPr>
              <a:t>تعريف علم (تقنية النانو):</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ar-SA" sz="2400" spc="-1" strike="noStrike">
                <a:solidFill>
                  <a:srgbClr val="000099"/>
                </a:solidFill>
                <a:latin typeface="Albertus Medium"/>
              </a:rPr>
              <a:t>القدرة في التحكم التام والدقيق في انتاج المواد (المتناهية الصغر) من خلال التحكم في تفاعل الجزيئات الداخلة في التفاعل وتوجيها للحصول أو انتاج مادة معينة لتصبح أكثر دقه ونقاوة من الطرق التقليدية.</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ar-SA" sz="2400" spc="-1" strike="noStrike">
                <a:solidFill>
                  <a:srgbClr val="000099"/>
                </a:solidFill>
                <a:latin typeface="Albertus Medium"/>
              </a:rPr>
              <a:t>هذا النوع من التفاعل يعرف بالإنتاج أو التصنيع الجزيئي.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400" spc="-1" strike="noStrike">
              <a:solidFill>
                <a:srgbClr val="000000"/>
              </a:solidFill>
              <a:latin typeface="Arial"/>
            </a:endParaRPr>
          </a:p>
        </p:txBody>
      </p:sp>
      <p:sp>
        <p:nvSpPr>
          <p:cNvPr id="71" name=""/>
          <p:cNvSpPr/>
          <p:nvPr/>
        </p:nvSpPr>
        <p:spPr>
          <a:xfrm>
            <a:off x="685800" y="380880"/>
            <a:ext cx="7620120" cy="533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ar-SA" sz="3600" spc="-1" strike="noStrike">
                <a:solidFill>
                  <a:srgbClr val="000099"/>
                </a:solidFill>
                <a:latin typeface="Arial"/>
              </a:rPr>
              <a:t> </a:t>
            </a:r>
            <a:r>
              <a:rPr b="1" lang="ar-SA" sz="3600" spc="-1" strike="noStrike">
                <a:solidFill>
                  <a:srgbClr val="333399"/>
                </a:solidFill>
                <a:latin typeface="Albertus Medium"/>
              </a:rPr>
              <a:t>تقنية النانو واستعمالاتها في الجلدية</a:t>
            </a:r>
            <a:endParaRPr b="0" lang="en-US" sz="36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27" name="" descr=""/>
          <p:cNvPicPr/>
          <p:nvPr/>
        </p:nvPicPr>
        <p:blipFill>
          <a:blip r:embed="rId2"/>
          <a:stretch/>
        </p:blipFill>
        <p:spPr>
          <a:xfrm>
            <a:off x="8153280" y="74520"/>
            <a:ext cx="922320" cy="992160"/>
          </a:xfrm>
          <a:prstGeom prst="rect">
            <a:avLst/>
          </a:prstGeom>
          <a:ln w="0">
            <a:noFill/>
          </a:ln>
        </p:spPr>
      </p:pic>
      <p:sp>
        <p:nvSpPr>
          <p:cNvPr id="328" name=""/>
          <p:cNvSpPr/>
          <p:nvPr/>
        </p:nvSpPr>
        <p:spPr>
          <a:xfrm>
            <a:off x="1295280" y="1066680"/>
            <a:ext cx="6193080" cy="1800"/>
          </a:xfrm>
          <a:prstGeom prst="line">
            <a:avLst/>
          </a:prstGeom>
          <a:ln cap="sq" w="12600">
            <a:solidFill>
              <a:srgbClr val="b2b2b2"/>
            </a:solidFill>
            <a:miter/>
          </a:ln>
        </p:spPr>
        <p:style>
          <a:lnRef idx="0"/>
          <a:fillRef idx="0"/>
          <a:effectRef idx="0"/>
          <a:fontRef idx="minor"/>
        </p:style>
        <p:txBody>
          <a:bodyPr lIns="90000" rIns="90000" tIns="-45000" bIns="-45000" anchor="t">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329" name="" descr=""/>
          <p:cNvPicPr/>
          <p:nvPr/>
        </p:nvPicPr>
        <p:blipFill>
          <a:blip r:embed="rId3"/>
          <a:stretch/>
        </p:blipFill>
        <p:spPr>
          <a:xfrm>
            <a:off x="0" y="0"/>
            <a:ext cx="600120" cy="6858000"/>
          </a:xfrm>
          <a:prstGeom prst="rect">
            <a:avLst/>
          </a:prstGeom>
          <a:ln w="0">
            <a:noFill/>
          </a:ln>
        </p:spPr>
      </p:pic>
      <p:sp>
        <p:nvSpPr>
          <p:cNvPr id="330" name=""/>
          <p:cNvSpPr/>
          <p:nvPr/>
        </p:nvSpPr>
        <p:spPr>
          <a:xfrm>
            <a:off x="0" y="0"/>
            <a:ext cx="9144000" cy="914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800" spc="-1" strike="noStrike">
                <a:solidFill>
                  <a:srgbClr val="333399"/>
                </a:solidFill>
                <a:latin typeface="Arial"/>
              </a:rPr>
              <a:t>Nanotechnology and </a:t>
            </a:r>
            <a:br>
              <a:rPr sz="2800"/>
            </a:br>
            <a:r>
              <a:rPr b="1" lang="en-US" sz="2800" spc="-1" strike="noStrike">
                <a:solidFill>
                  <a:srgbClr val="333399"/>
                </a:solidFill>
                <a:latin typeface="Arial"/>
              </a:rPr>
              <a:t>Stem Cell Research</a:t>
            </a:r>
            <a:endParaRPr b="0" lang="en-US" sz="2800" spc="-1" strike="noStrike">
              <a:solidFill>
                <a:srgbClr val="000000"/>
              </a:solidFill>
              <a:latin typeface="Arial"/>
            </a:endParaRPr>
          </a:p>
        </p:txBody>
      </p:sp>
      <p:grpSp>
        <p:nvGrpSpPr>
          <p:cNvPr id="331" name=""/>
          <p:cNvGrpSpPr/>
          <p:nvPr/>
        </p:nvGrpSpPr>
        <p:grpSpPr>
          <a:xfrm>
            <a:off x="2639880" y="1346040"/>
            <a:ext cx="4521240" cy="3986280"/>
            <a:chOff x="2639880" y="1346040"/>
            <a:chExt cx="4521240" cy="3986280"/>
          </a:xfrm>
        </p:grpSpPr>
        <p:sp>
          <p:nvSpPr>
            <p:cNvPr id="332" name=""/>
            <p:cNvSpPr/>
            <p:nvPr/>
          </p:nvSpPr>
          <p:spPr>
            <a:xfrm>
              <a:off x="2639880" y="2319480"/>
              <a:ext cx="1721160" cy="3012840"/>
            </a:xfrm>
            <a:custGeom>
              <a:avLst/>
              <a:gdLst/>
              <a:ahLst/>
              <a:rect l="l" t="t" r="r" b="b"/>
              <a:pathLst>
                <a:path w="1261" h="2255">
                  <a:moveTo>
                    <a:pt x="1257" y="2027"/>
                  </a:moveTo>
                  <a:lnTo>
                    <a:pt x="1257" y="2015"/>
                  </a:lnTo>
                  <a:lnTo>
                    <a:pt x="1252" y="2000"/>
                  </a:lnTo>
                  <a:lnTo>
                    <a:pt x="1244" y="1985"/>
                  </a:lnTo>
                  <a:lnTo>
                    <a:pt x="1232" y="1970"/>
                  </a:lnTo>
                  <a:lnTo>
                    <a:pt x="1222" y="1956"/>
                  </a:lnTo>
                  <a:lnTo>
                    <a:pt x="1212" y="1945"/>
                  </a:lnTo>
                  <a:lnTo>
                    <a:pt x="1204" y="1933"/>
                  </a:lnTo>
                  <a:lnTo>
                    <a:pt x="1199" y="1921"/>
                  </a:lnTo>
                  <a:lnTo>
                    <a:pt x="1197" y="1910"/>
                  </a:lnTo>
                  <a:lnTo>
                    <a:pt x="1192" y="1893"/>
                  </a:lnTo>
                  <a:lnTo>
                    <a:pt x="1186" y="1876"/>
                  </a:lnTo>
                  <a:lnTo>
                    <a:pt x="1171" y="1860"/>
                  </a:lnTo>
                  <a:lnTo>
                    <a:pt x="1161" y="1851"/>
                  </a:lnTo>
                  <a:lnTo>
                    <a:pt x="1147" y="1838"/>
                  </a:lnTo>
                  <a:lnTo>
                    <a:pt x="1132" y="1823"/>
                  </a:lnTo>
                  <a:lnTo>
                    <a:pt x="1117" y="1806"/>
                  </a:lnTo>
                  <a:lnTo>
                    <a:pt x="1102" y="1788"/>
                  </a:lnTo>
                  <a:lnTo>
                    <a:pt x="1087" y="1770"/>
                  </a:lnTo>
                  <a:lnTo>
                    <a:pt x="1076" y="1750"/>
                  </a:lnTo>
                  <a:lnTo>
                    <a:pt x="1067" y="1731"/>
                  </a:lnTo>
                  <a:lnTo>
                    <a:pt x="1052" y="1703"/>
                  </a:lnTo>
                  <a:lnTo>
                    <a:pt x="1037" y="1681"/>
                  </a:lnTo>
                  <a:lnTo>
                    <a:pt x="1026" y="1665"/>
                  </a:lnTo>
                  <a:lnTo>
                    <a:pt x="1019" y="1646"/>
                  </a:lnTo>
                  <a:lnTo>
                    <a:pt x="1016" y="1633"/>
                  </a:lnTo>
                  <a:lnTo>
                    <a:pt x="1009" y="1613"/>
                  </a:lnTo>
                  <a:lnTo>
                    <a:pt x="999" y="1591"/>
                  </a:lnTo>
                  <a:lnTo>
                    <a:pt x="989" y="1568"/>
                  </a:lnTo>
                  <a:lnTo>
                    <a:pt x="979" y="1545"/>
                  </a:lnTo>
                  <a:lnTo>
                    <a:pt x="969" y="1525"/>
                  </a:lnTo>
                  <a:lnTo>
                    <a:pt x="959" y="1508"/>
                  </a:lnTo>
                  <a:lnTo>
                    <a:pt x="952" y="1499"/>
                  </a:lnTo>
                  <a:lnTo>
                    <a:pt x="942" y="1486"/>
                  </a:lnTo>
                  <a:lnTo>
                    <a:pt x="934" y="1473"/>
                  </a:lnTo>
                  <a:lnTo>
                    <a:pt x="922" y="1458"/>
                  </a:lnTo>
                  <a:lnTo>
                    <a:pt x="911" y="1443"/>
                  </a:lnTo>
                  <a:lnTo>
                    <a:pt x="902" y="1434"/>
                  </a:lnTo>
                  <a:lnTo>
                    <a:pt x="891" y="1426"/>
                  </a:lnTo>
                  <a:lnTo>
                    <a:pt x="879" y="1419"/>
                  </a:lnTo>
                  <a:lnTo>
                    <a:pt x="867" y="1411"/>
                  </a:lnTo>
                  <a:lnTo>
                    <a:pt x="854" y="1404"/>
                  </a:lnTo>
                  <a:lnTo>
                    <a:pt x="842" y="1399"/>
                  </a:lnTo>
                  <a:lnTo>
                    <a:pt x="831" y="1396"/>
                  </a:lnTo>
                  <a:lnTo>
                    <a:pt x="820" y="1394"/>
                  </a:lnTo>
                  <a:lnTo>
                    <a:pt x="812" y="1393"/>
                  </a:lnTo>
                  <a:lnTo>
                    <a:pt x="805" y="1389"/>
                  </a:lnTo>
                  <a:lnTo>
                    <a:pt x="800" y="1384"/>
                  </a:lnTo>
                  <a:lnTo>
                    <a:pt x="794" y="1376"/>
                  </a:lnTo>
                  <a:lnTo>
                    <a:pt x="789" y="1368"/>
                  </a:lnTo>
                  <a:lnTo>
                    <a:pt x="782" y="1354"/>
                  </a:lnTo>
                  <a:lnTo>
                    <a:pt x="774" y="1341"/>
                  </a:lnTo>
                  <a:lnTo>
                    <a:pt x="762" y="1324"/>
                  </a:lnTo>
                  <a:lnTo>
                    <a:pt x="750" y="1306"/>
                  </a:lnTo>
                  <a:lnTo>
                    <a:pt x="740" y="1288"/>
                  </a:lnTo>
                  <a:lnTo>
                    <a:pt x="732" y="1269"/>
                  </a:lnTo>
                  <a:lnTo>
                    <a:pt x="724" y="1253"/>
                  </a:lnTo>
                  <a:lnTo>
                    <a:pt x="717" y="1234"/>
                  </a:lnTo>
                  <a:lnTo>
                    <a:pt x="712" y="1219"/>
                  </a:lnTo>
                  <a:lnTo>
                    <a:pt x="709" y="1204"/>
                  </a:lnTo>
                  <a:lnTo>
                    <a:pt x="705" y="1191"/>
                  </a:lnTo>
                  <a:lnTo>
                    <a:pt x="700" y="1166"/>
                  </a:lnTo>
                  <a:lnTo>
                    <a:pt x="692" y="1143"/>
                  </a:lnTo>
                  <a:lnTo>
                    <a:pt x="685" y="1126"/>
                  </a:lnTo>
                  <a:lnTo>
                    <a:pt x="682" y="1119"/>
                  </a:lnTo>
                  <a:lnTo>
                    <a:pt x="689" y="1108"/>
                  </a:lnTo>
                  <a:lnTo>
                    <a:pt x="700" y="1078"/>
                  </a:lnTo>
                  <a:lnTo>
                    <a:pt x="707" y="1038"/>
                  </a:lnTo>
                  <a:lnTo>
                    <a:pt x="697" y="996"/>
                  </a:lnTo>
                  <a:lnTo>
                    <a:pt x="680" y="961"/>
                  </a:lnTo>
                  <a:lnTo>
                    <a:pt x="670" y="932"/>
                  </a:lnTo>
                  <a:lnTo>
                    <a:pt x="662" y="904"/>
                  </a:lnTo>
                  <a:lnTo>
                    <a:pt x="649" y="872"/>
                  </a:lnTo>
                  <a:lnTo>
                    <a:pt x="640" y="856"/>
                  </a:lnTo>
                  <a:lnTo>
                    <a:pt x="635" y="839"/>
                  </a:lnTo>
                  <a:lnTo>
                    <a:pt x="630" y="826"/>
                  </a:lnTo>
                  <a:lnTo>
                    <a:pt x="625" y="814"/>
                  </a:lnTo>
                  <a:lnTo>
                    <a:pt x="620" y="802"/>
                  </a:lnTo>
                  <a:lnTo>
                    <a:pt x="614" y="792"/>
                  </a:lnTo>
                  <a:lnTo>
                    <a:pt x="607" y="784"/>
                  </a:lnTo>
                  <a:lnTo>
                    <a:pt x="597" y="777"/>
                  </a:lnTo>
                  <a:lnTo>
                    <a:pt x="587" y="771"/>
                  </a:lnTo>
                  <a:lnTo>
                    <a:pt x="575" y="762"/>
                  </a:lnTo>
                  <a:lnTo>
                    <a:pt x="565" y="754"/>
                  </a:lnTo>
                  <a:lnTo>
                    <a:pt x="554" y="744"/>
                  </a:lnTo>
                  <a:lnTo>
                    <a:pt x="542" y="736"/>
                  </a:lnTo>
                  <a:lnTo>
                    <a:pt x="529" y="729"/>
                  </a:lnTo>
                  <a:lnTo>
                    <a:pt x="515" y="721"/>
                  </a:lnTo>
                  <a:lnTo>
                    <a:pt x="502" y="716"/>
                  </a:lnTo>
                  <a:lnTo>
                    <a:pt x="480" y="702"/>
                  </a:lnTo>
                  <a:lnTo>
                    <a:pt x="470" y="686"/>
                  </a:lnTo>
                  <a:lnTo>
                    <a:pt x="464" y="667"/>
                  </a:lnTo>
                  <a:lnTo>
                    <a:pt x="454" y="649"/>
                  </a:lnTo>
                  <a:lnTo>
                    <a:pt x="444" y="634"/>
                  </a:lnTo>
                  <a:lnTo>
                    <a:pt x="437" y="621"/>
                  </a:lnTo>
                  <a:lnTo>
                    <a:pt x="435" y="611"/>
                  </a:lnTo>
                  <a:lnTo>
                    <a:pt x="435" y="607"/>
                  </a:lnTo>
                  <a:lnTo>
                    <a:pt x="437" y="607"/>
                  </a:lnTo>
                  <a:lnTo>
                    <a:pt x="442" y="606"/>
                  </a:lnTo>
                  <a:lnTo>
                    <a:pt x="449" y="602"/>
                  </a:lnTo>
                  <a:lnTo>
                    <a:pt x="455" y="596"/>
                  </a:lnTo>
                  <a:lnTo>
                    <a:pt x="459" y="589"/>
                  </a:lnTo>
                  <a:lnTo>
                    <a:pt x="459" y="577"/>
                  </a:lnTo>
                  <a:lnTo>
                    <a:pt x="454" y="564"/>
                  </a:lnTo>
                  <a:lnTo>
                    <a:pt x="440" y="546"/>
                  </a:lnTo>
                  <a:lnTo>
                    <a:pt x="434" y="539"/>
                  </a:lnTo>
                  <a:lnTo>
                    <a:pt x="429" y="532"/>
                  </a:lnTo>
                  <a:lnTo>
                    <a:pt x="424" y="529"/>
                  </a:lnTo>
                  <a:lnTo>
                    <a:pt x="420" y="526"/>
                  </a:lnTo>
                  <a:lnTo>
                    <a:pt x="419" y="527"/>
                  </a:lnTo>
                  <a:lnTo>
                    <a:pt x="415" y="526"/>
                  </a:lnTo>
                  <a:lnTo>
                    <a:pt x="415" y="522"/>
                  </a:lnTo>
                  <a:lnTo>
                    <a:pt x="420" y="526"/>
                  </a:lnTo>
                  <a:lnTo>
                    <a:pt x="420" y="524"/>
                  </a:lnTo>
                  <a:lnTo>
                    <a:pt x="419" y="521"/>
                  </a:lnTo>
                  <a:lnTo>
                    <a:pt x="419" y="517"/>
                  </a:lnTo>
                  <a:lnTo>
                    <a:pt x="417" y="512"/>
                  </a:lnTo>
                  <a:lnTo>
                    <a:pt x="409" y="490"/>
                  </a:lnTo>
                  <a:lnTo>
                    <a:pt x="405" y="477"/>
                  </a:lnTo>
                  <a:lnTo>
                    <a:pt x="399" y="467"/>
                  </a:lnTo>
                  <a:lnTo>
                    <a:pt x="384" y="455"/>
                  </a:lnTo>
                  <a:lnTo>
                    <a:pt x="372" y="440"/>
                  </a:lnTo>
                  <a:lnTo>
                    <a:pt x="374" y="425"/>
                  </a:lnTo>
                  <a:lnTo>
                    <a:pt x="375" y="412"/>
                  </a:lnTo>
                  <a:lnTo>
                    <a:pt x="364" y="399"/>
                  </a:lnTo>
                  <a:lnTo>
                    <a:pt x="345" y="387"/>
                  </a:lnTo>
                  <a:lnTo>
                    <a:pt x="332" y="372"/>
                  </a:lnTo>
                  <a:lnTo>
                    <a:pt x="325" y="355"/>
                  </a:lnTo>
                  <a:lnTo>
                    <a:pt x="322" y="337"/>
                  </a:lnTo>
                  <a:lnTo>
                    <a:pt x="319" y="317"/>
                  </a:lnTo>
                  <a:lnTo>
                    <a:pt x="309" y="290"/>
                  </a:lnTo>
                  <a:lnTo>
                    <a:pt x="294" y="264"/>
                  </a:lnTo>
                  <a:lnTo>
                    <a:pt x="273" y="237"/>
                  </a:lnTo>
                  <a:lnTo>
                    <a:pt x="260" y="215"/>
                  </a:lnTo>
                  <a:lnTo>
                    <a:pt x="257" y="197"/>
                  </a:lnTo>
                  <a:lnTo>
                    <a:pt x="255" y="184"/>
                  </a:lnTo>
                  <a:lnTo>
                    <a:pt x="245" y="175"/>
                  </a:lnTo>
                  <a:lnTo>
                    <a:pt x="233" y="167"/>
                  </a:lnTo>
                  <a:lnTo>
                    <a:pt x="228" y="154"/>
                  </a:lnTo>
                  <a:lnTo>
                    <a:pt x="222" y="140"/>
                  </a:lnTo>
                  <a:lnTo>
                    <a:pt x="207" y="124"/>
                  </a:lnTo>
                  <a:lnTo>
                    <a:pt x="188" y="100"/>
                  </a:lnTo>
                  <a:lnTo>
                    <a:pt x="175" y="74"/>
                  </a:lnTo>
                  <a:lnTo>
                    <a:pt x="168" y="52"/>
                  </a:lnTo>
                  <a:lnTo>
                    <a:pt x="165" y="42"/>
                  </a:lnTo>
                  <a:lnTo>
                    <a:pt x="160" y="42"/>
                  </a:lnTo>
                  <a:lnTo>
                    <a:pt x="148" y="42"/>
                  </a:lnTo>
                  <a:lnTo>
                    <a:pt x="133" y="42"/>
                  </a:lnTo>
                  <a:lnTo>
                    <a:pt x="122" y="42"/>
                  </a:lnTo>
                  <a:lnTo>
                    <a:pt x="110" y="42"/>
                  </a:lnTo>
                  <a:lnTo>
                    <a:pt x="100" y="44"/>
                  </a:lnTo>
                  <a:lnTo>
                    <a:pt x="92" y="47"/>
                  </a:lnTo>
                  <a:lnTo>
                    <a:pt x="88" y="47"/>
                  </a:lnTo>
                  <a:lnTo>
                    <a:pt x="90" y="44"/>
                  </a:lnTo>
                  <a:lnTo>
                    <a:pt x="93" y="34"/>
                  </a:lnTo>
                  <a:lnTo>
                    <a:pt x="98" y="20"/>
                  </a:lnTo>
                  <a:lnTo>
                    <a:pt x="103" y="8"/>
                  </a:lnTo>
                  <a:lnTo>
                    <a:pt x="103" y="8"/>
                  </a:lnTo>
                  <a:lnTo>
                    <a:pt x="103" y="8"/>
                  </a:lnTo>
                  <a:lnTo>
                    <a:pt x="103" y="8"/>
                  </a:lnTo>
                  <a:lnTo>
                    <a:pt x="103" y="8"/>
                  </a:lnTo>
                  <a:lnTo>
                    <a:pt x="67" y="0"/>
                  </a:lnTo>
                  <a:lnTo>
                    <a:pt x="67" y="5"/>
                  </a:lnTo>
                  <a:lnTo>
                    <a:pt x="65" y="19"/>
                  </a:lnTo>
                  <a:lnTo>
                    <a:pt x="62" y="34"/>
                  </a:lnTo>
                  <a:lnTo>
                    <a:pt x="57" y="47"/>
                  </a:lnTo>
                  <a:lnTo>
                    <a:pt x="50" y="57"/>
                  </a:lnTo>
                  <a:lnTo>
                    <a:pt x="45" y="65"/>
                  </a:lnTo>
                  <a:lnTo>
                    <a:pt x="40" y="79"/>
                  </a:lnTo>
                  <a:lnTo>
                    <a:pt x="38" y="95"/>
                  </a:lnTo>
                  <a:lnTo>
                    <a:pt x="35" y="119"/>
                  </a:lnTo>
                  <a:lnTo>
                    <a:pt x="28" y="145"/>
                  </a:lnTo>
                  <a:lnTo>
                    <a:pt x="20" y="169"/>
                  </a:lnTo>
                  <a:lnTo>
                    <a:pt x="15" y="185"/>
                  </a:lnTo>
                  <a:lnTo>
                    <a:pt x="10" y="197"/>
                  </a:lnTo>
                  <a:lnTo>
                    <a:pt x="5" y="209"/>
                  </a:lnTo>
                  <a:lnTo>
                    <a:pt x="2" y="220"/>
                  </a:lnTo>
                  <a:lnTo>
                    <a:pt x="0" y="224"/>
                  </a:lnTo>
                  <a:lnTo>
                    <a:pt x="3" y="224"/>
                  </a:lnTo>
                  <a:lnTo>
                    <a:pt x="12" y="220"/>
                  </a:lnTo>
                  <a:lnTo>
                    <a:pt x="23" y="219"/>
                  </a:lnTo>
                  <a:lnTo>
                    <a:pt x="33" y="219"/>
                  </a:lnTo>
                  <a:lnTo>
                    <a:pt x="47" y="219"/>
                  </a:lnTo>
                  <a:lnTo>
                    <a:pt x="60" y="219"/>
                  </a:lnTo>
                  <a:lnTo>
                    <a:pt x="72" y="219"/>
                  </a:lnTo>
                  <a:lnTo>
                    <a:pt x="77" y="219"/>
                  </a:lnTo>
                  <a:lnTo>
                    <a:pt x="80" y="229"/>
                  </a:lnTo>
                  <a:lnTo>
                    <a:pt x="87" y="250"/>
                  </a:lnTo>
                  <a:lnTo>
                    <a:pt x="100" y="277"/>
                  </a:lnTo>
                  <a:lnTo>
                    <a:pt x="118" y="299"/>
                  </a:lnTo>
                  <a:lnTo>
                    <a:pt x="133" y="315"/>
                  </a:lnTo>
                  <a:lnTo>
                    <a:pt x="140" y="330"/>
                  </a:lnTo>
                  <a:lnTo>
                    <a:pt x="145" y="342"/>
                  </a:lnTo>
                  <a:lnTo>
                    <a:pt x="157" y="352"/>
                  </a:lnTo>
                  <a:lnTo>
                    <a:pt x="167" y="360"/>
                  </a:lnTo>
                  <a:lnTo>
                    <a:pt x="168" y="374"/>
                  </a:lnTo>
                  <a:lnTo>
                    <a:pt x="172" y="390"/>
                  </a:lnTo>
                  <a:lnTo>
                    <a:pt x="185" y="414"/>
                  </a:lnTo>
                  <a:lnTo>
                    <a:pt x="205" y="440"/>
                  </a:lnTo>
                  <a:lnTo>
                    <a:pt x="220" y="467"/>
                  </a:lnTo>
                  <a:lnTo>
                    <a:pt x="230" y="492"/>
                  </a:lnTo>
                  <a:lnTo>
                    <a:pt x="233" y="512"/>
                  </a:lnTo>
                  <a:lnTo>
                    <a:pt x="237" y="531"/>
                  </a:lnTo>
                  <a:lnTo>
                    <a:pt x="243" y="547"/>
                  </a:lnTo>
                  <a:lnTo>
                    <a:pt x="257" y="562"/>
                  </a:lnTo>
                  <a:lnTo>
                    <a:pt x="275" y="574"/>
                  </a:lnTo>
                  <a:lnTo>
                    <a:pt x="287" y="587"/>
                  </a:lnTo>
                  <a:lnTo>
                    <a:pt x="285" y="601"/>
                  </a:lnTo>
                  <a:lnTo>
                    <a:pt x="284" y="617"/>
                  </a:lnTo>
                  <a:lnTo>
                    <a:pt x="295" y="632"/>
                  </a:lnTo>
                  <a:lnTo>
                    <a:pt x="310" y="642"/>
                  </a:lnTo>
                  <a:lnTo>
                    <a:pt x="317" y="652"/>
                  </a:lnTo>
                  <a:lnTo>
                    <a:pt x="320" y="666"/>
                  </a:lnTo>
                  <a:lnTo>
                    <a:pt x="329" y="687"/>
                  </a:lnTo>
                  <a:lnTo>
                    <a:pt x="330" y="692"/>
                  </a:lnTo>
                  <a:lnTo>
                    <a:pt x="330" y="696"/>
                  </a:lnTo>
                  <a:lnTo>
                    <a:pt x="332" y="697"/>
                  </a:lnTo>
                  <a:lnTo>
                    <a:pt x="332" y="699"/>
                  </a:lnTo>
                  <a:lnTo>
                    <a:pt x="335" y="702"/>
                  </a:lnTo>
                  <a:lnTo>
                    <a:pt x="340" y="707"/>
                  </a:lnTo>
                  <a:lnTo>
                    <a:pt x="345" y="712"/>
                  </a:lnTo>
                  <a:lnTo>
                    <a:pt x="352" y="721"/>
                  </a:lnTo>
                  <a:lnTo>
                    <a:pt x="365" y="737"/>
                  </a:lnTo>
                  <a:lnTo>
                    <a:pt x="370" y="752"/>
                  </a:lnTo>
                  <a:lnTo>
                    <a:pt x="370" y="762"/>
                  </a:lnTo>
                  <a:lnTo>
                    <a:pt x="367" y="771"/>
                  </a:lnTo>
                  <a:lnTo>
                    <a:pt x="360" y="776"/>
                  </a:lnTo>
                  <a:lnTo>
                    <a:pt x="354" y="781"/>
                  </a:lnTo>
                  <a:lnTo>
                    <a:pt x="349" y="782"/>
                  </a:lnTo>
                  <a:lnTo>
                    <a:pt x="347" y="782"/>
                  </a:lnTo>
                  <a:lnTo>
                    <a:pt x="347" y="786"/>
                  </a:lnTo>
                  <a:lnTo>
                    <a:pt x="350" y="794"/>
                  </a:lnTo>
                  <a:lnTo>
                    <a:pt x="355" y="807"/>
                  </a:lnTo>
                  <a:lnTo>
                    <a:pt x="367" y="824"/>
                  </a:lnTo>
                  <a:lnTo>
                    <a:pt x="377" y="842"/>
                  </a:lnTo>
                  <a:lnTo>
                    <a:pt x="384" y="862"/>
                  </a:lnTo>
                  <a:lnTo>
                    <a:pt x="392" y="877"/>
                  </a:lnTo>
                  <a:lnTo>
                    <a:pt x="414" y="891"/>
                  </a:lnTo>
                  <a:lnTo>
                    <a:pt x="427" y="897"/>
                  </a:lnTo>
                  <a:lnTo>
                    <a:pt x="440" y="904"/>
                  </a:lnTo>
                  <a:lnTo>
                    <a:pt x="454" y="912"/>
                  </a:lnTo>
                  <a:lnTo>
                    <a:pt x="465" y="921"/>
                  </a:lnTo>
                  <a:lnTo>
                    <a:pt x="477" y="929"/>
                  </a:lnTo>
                  <a:lnTo>
                    <a:pt x="487" y="937"/>
                  </a:lnTo>
                  <a:lnTo>
                    <a:pt x="499" y="946"/>
                  </a:lnTo>
                  <a:lnTo>
                    <a:pt x="509" y="952"/>
                  </a:lnTo>
                  <a:lnTo>
                    <a:pt x="519" y="961"/>
                  </a:lnTo>
                  <a:lnTo>
                    <a:pt x="525" y="969"/>
                  </a:lnTo>
                  <a:lnTo>
                    <a:pt x="532" y="979"/>
                  </a:lnTo>
                  <a:lnTo>
                    <a:pt x="537" y="989"/>
                  </a:lnTo>
                  <a:lnTo>
                    <a:pt x="542" y="1002"/>
                  </a:lnTo>
                  <a:lnTo>
                    <a:pt x="547" y="1016"/>
                  </a:lnTo>
                  <a:lnTo>
                    <a:pt x="552" y="1031"/>
                  </a:lnTo>
                  <a:lnTo>
                    <a:pt x="560" y="1048"/>
                  </a:lnTo>
                  <a:lnTo>
                    <a:pt x="574" y="1079"/>
                  </a:lnTo>
                  <a:lnTo>
                    <a:pt x="584" y="1108"/>
                  </a:lnTo>
                  <a:lnTo>
                    <a:pt x="592" y="1136"/>
                  </a:lnTo>
                  <a:lnTo>
                    <a:pt x="609" y="1171"/>
                  </a:lnTo>
                  <a:lnTo>
                    <a:pt x="619" y="1213"/>
                  </a:lnTo>
                  <a:lnTo>
                    <a:pt x="612" y="1253"/>
                  </a:lnTo>
                  <a:lnTo>
                    <a:pt x="600" y="1283"/>
                  </a:lnTo>
                  <a:lnTo>
                    <a:pt x="594" y="1294"/>
                  </a:lnTo>
                  <a:lnTo>
                    <a:pt x="597" y="1301"/>
                  </a:lnTo>
                  <a:lnTo>
                    <a:pt x="604" y="1318"/>
                  </a:lnTo>
                  <a:lnTo>
                    <a:pt x="612" y="1341"/>
                  </a:lnTo>
                  <a:lnTo>
                    <a:pt x="617" y="1366"/>
                  </a:lnTo>
                  <a:lnTo>
                    <a:pt x="620" y="1379"/>
                  </a:lnTo>
                  <a:lnTo>
                    <a:pt x="624" y="1394"/>
                  </a:lnTo>
                  <a:lnTo>
                    <a:pt x="629" y="1409"/>
                  </a:lnTo>
                  <a:lnTo>
                    <a:pt x="635" y="1428"/>
                  </a:lnTo>
                  <a:lnTo>
                    <a:pt x="644" y="1444"/>
                  </a:lnTo>
                  <a:lnTo>
                    <a:pt x="654" y="1463"/>
                  </a:lnTo>
                  <a:lnTo>
                    <a:pt x="664" y="1481"/>
                  </a:lnTo>
                  <a:lnTo>
                    <a:pt x="675" y="1499"/>
                  </a:lnTo>
                  <a:lnTo>
                    <a:pt x="687" y="1516"/>
                  </a:lnTo>
                  <a:lnTo>
                    <a:pt x="695" y="1531"/>
                  </a:lnTo>
                  <a:lnTo>
                    <a:pt x="702" y="1543"/>
                  </a:lnTo>
                  <a:lnTo>
                    <a:pt x="707" y="1553"/>
                  </a:lnTo>
                  <a:lnTo>
                    <a:pt x="712" y="1561"/>
                  </a:lnTo>
                  <a:lnTo>
                    <a:pt x="719" y="1566"/>
                  </a:lnTo>
                  <a:lnTo>
                    <a:pt x="724" y="1570"/>
                  </a:lnTo>
                  <a:lnTo>
                    <a:pt x="732" y="1571"/>
                  </a:lnTo>
                  <a:lnTo>
                    <a:pt x="742" y="1573"/>
                  </a:lnTo>
                  <a:lnTo>
                    <a:pt x="754" y="1576"/>
                  </a:lnTo>
                  <a:lnTo>
                    <a:pt x="765" y="1581"/>
                  </a:lnTo>
                  <a:lnTo>
                    <a:pt x="779" y="1588"/>
                  </a:lnTo>
                  <a:lnTo>
                    <a:pt x="792" y="1595"/>
                  </a:lnTo>
                  <a:lnTo>
                    <a:pt x="804" y="1603"/>
                  </a:lnTo>
                  <a:lnTo>
                    <a:pt x="814" y="1611"/>
                  </a:lnTo>
                  <a:lnTo>
                    <a:pt x="822" y="1618"/>
                  </a:lnTo>
                  <a:lnTo>
                    <a:pt x="834" y="1633"/>
                  </a:lnTo>
                  <a:lnTo>
                    <a:pt x="846" y="1648"/>
                  </a:lnTo>
                  <a:lnTo>
                    <a:pt x="856" y="1663"/>
                  </a:lnTo>
                  <a:lnTo>
                    <a:pt x="866" y="1675"/>
                  </a:lnTo>
                  <a:lnTo>
                    <a:pt x="872" y="1685"/>
                  </a:lnTo>
                  <a:lnTo>
                    <a:pt x="881" y="1700"/>
                  </a:lnTo>
                  <a:lnTo>
                    <a:pt x="891" y="1721"/>
                  </a:lnTo>
                  <a:lnTo>
                    <a:pt x="902" y="1743"/>
                  </a:lnTo>
                  <a:lnTo>
                    <a:pt x="912" y="1768"/>
                  </a:lnTo>
                  <a:lnTo>
                    <a:pt x="921" y="1790"/>
                  </a:lnTo>
                  <a:lnTo>
                    <a:pt x="927" y="1810"/>
                  </a:lnTo>
                  <a:lnTo>
                    <a:pt x="931" y="1823"/>
                  </a:lnTo>
                  <a:lnTo>
                    <a:pt x="937" y="1841"/>
                  </a:lnTo>
                  <a:lnTo>
                    <a:pt x="951" y="1858"/>
                  </a:lnTo>
                  <a:lnTo>
                    <a:pt x="964" y="1878"/>
                  </a:lnTo>
                  <a:lnTo>
                    <a:pt x="979" y="1908"/>
                  </a:lnTo>
                  <a:lnTo>
                    <a:pt x="987" y="1926"/>
                  </a:lnTo>
                  <a:lnTo>
                    <a:pt x="999" y="1945"/>
                  </a:lnTo>
                  <a:lnTo>
                    <a:pt x="1014" y="1965"/>
                  </a:lnTo>
                  <a:lnTo>
                    <a:pt x="1029" y="1981"/>
                  </a:lnTo>
                  <a:lnTo>
                    <a:pt x="1044" y="2000"/>
                  </a:lnTo>
                  <a:lnTo>
                    <a:pt x="1059" y="2015"/>
                  </a:lnTo>
                  <a:lnTo>
                    <a:pt x="1072" y="2027"/>
                  </a:lnTo>
                  <a:lnTo>
                    <a:pt x="1084" y="2037"/>
                  </a:lnTo>
                  <a:lnTo>
                    <a:pt x="1097" y="2052"/>
                  </a:lnTo>
                  <a:lnTo>
                    <a:pt x="1106" y="2068"/>
                  </a:lnTo>
                  <a:lnTo>
                    <a:pt x="1109" y="2085"/>
                  </a:lnTo>
                  <a:lnTo>
                    <a:pt x="1112" y="2098"/>
                  </a:lnTo>
                  <a:lnTo>
                    <a:pt x="1117" y="2108"/>
                  </a:lnTo>
                  <a:lnTo>
                    <a:pt x="1126" y="2120"/>
                  </a:lnTo>
                  <a:lnTo>
                    <a:pt x="1136" y="2132"/>
                  </a:lnTo>
                  <a:lnTo>
                    <a:pt x="1146" y="2145"/>
                  </a:lnTo>
                  <a:lnTo>
                    <a:pt x="1156" y="2160"/>
                  </a:lnTo>
                  <a:lnTo>
                    <a:pt x="1164" y="2175"/>
                  </a:lnTo>
                  <a:lnTo>
                    <a:pt x="1169" y="2190"/>
                  </a:lnTo>
                  <a:lnTo>
                    <a:pt x="1169" y="2202"/>
                  </a:lnTo>
                  <a:lnTo>
                    <a:pt x="1169" y="2217"/>
                  </a:lnTo>
                  <a:lnTo>
                    <a:pt x="1172" y="2233"/>
                  </a:lnTo>
                  <a:lnTo>
                    <a:pt x="1177" y="2248"/>
                  </a:lnTo>
                  <a:lnTo>
                    <a:pt x="1179" y="2255"/>
                  </a:lnTo>
                  <a:lnTo>
                    <a:pt x="1216" y="2227"/>
                  </a:lnTo>
                  <a:lnTo>
                    <a:pt x="1219" y="2222"/>
                  </a:lnTo>
                  <a:lnTo>
                    <a:pt x="1226" y="2208"/>
                  </a:lnTo>
                  <a:lnTo>
                    <a:pt x="1232" y="2192"/>
                  </a:lnTo>
                  <a:lnTo>
                    <a:pt x="1236" y="2178"/>
                  </a:lnTo>
                  <a:lnTo>
                    <a:pt x="1236" y="2165"/>
                  </a:lnTo>
                  <a:lnTo>
                    <a:pt x="1234" y="2145"/>
                  </a:lnTo>
                  <a:lnTo>
                    <a:pt x="1236" y="2123"/>
                  </a:lnTo>
                  <a:lnTo>
                    <a:pt x="1241" y="2103"/>
                  </a:lnTo>
                  <a:lnTo>
                    <a:pt x="1241" y="2087"/>
                  </a:lnTo>
                  <a:lnTo>
                    <a:pt x="1236" y="2077"/>
                  </a:lnTo>
                  <a:lnTo>
                    <a:pt x="1234" y="2067"/>
                  </a:lnTo>
                  <a:lnTo>
                    <a:pt x="1241" y="2060"/>
                  </a:lnTo>
                  <a:lnTo>
                    <a:pt x="1246" y="2057"/>
                  </a:lnTo>
                  <a:lnTo>
                    <a:pt x="1251" y="2057"/>
                  </a:lnTo>
                  <a:lnTo>
                    <a:pt x="1256" y="2058"/>
                  </a:lnTo>
                  <a:lnTo>
                    <a:pt x="1261" y="2062"/>
                  </a:lnTo>
                  <a:lnTo>
                    <a:pt x="1259" y="2052"/>
                  </a:lnTo>
                  <a:lnTo>
                    <a:pt x="1257" y="2043"/>
                  </a:lnTo>
                  <a:lnTo>
                    <a:pt x="1256" y="2033"/>
                  </a:lnTo>
                  <a:lnTo>
                    <a:pt x="1257" y="2027"/>
                  </a:lnTo>
                  <a:close/>
                </a:path>
              </a:pathLst>
            </a:custGeom>
            <a:solidFill>
              <a:srgbClr val="ffffff">
                <a:alpha val="10000"/>
              </a:srgbClr>
            </a:solidFill>
            <a:ln cap="sq" w="9360">
              <a:solidFill>
                <a:srgbClr val="ffffff"/>
              </a:solidFill>
              <a:round/>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3" name=""/>
            <p:cNvSpPr/>
            <p:nvPr/>
          </p:nvSpPr>
          <p:spPr>
            <a:xfrm>
              <a:off x="3086280" y="3249720"/>
              <a:ext cx="4680" cy="4680"/>
            </a:xfrm>
            <a:custGeom>
              <a:avLst/>
              <a:gdLst/>
              <a:ahLst/>
              <a:rect l="l" t="t" r="r" b="b"/>
              <a:pathLst>
                <a:path w="5" h="5">
                  <a:moveTo>
                    <a:pt x="5" y="3"/>
                  </a:moveTo>
                  <a:lnTo>
                    <a:pt x="0" y="0"/>
                  </a:lnTo>
                  <a:lnTo>
                    <a:pt x="2" y="3"/>
                  </a:lnTo>
                  <a:lnTo>
                    <a:pt x="3" y="5"/>
                  </a:lnTo>
                  <a:lnTo>
                    <a:pt x="5" y="3"/>
                  </a:lnTo>
                  <a:lnTo>
                    <a:pt x="5" y="3"/>
                  </a:lnTo>
                  <a:close/>
                </a:path>
              </a:pathLst>
            </a:custGeom>
            <a:solidFill>
              <a:srgbClr val="000000"/>
            </a:solidFill>
            <a:ln w="0">
              <a:noFill/>
            </a:ln>
          </p:spPr>
          <p:style>
            <a:lnRef idx="0"/>
            <a:fillRef idx="0"/>
            <a:effectRef idx="0"/>
            <a:fontRef idx="minor"/>
          </p:style>
          <p:txBody>
            <a:bodyPr wrap="none" lIns="90000" rIns="90000" tIns="-42120" bIns="-421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4" name=""/>
            <p:cNvSpPr/>
            <p:nvPr/>
          </p:nvSpPr>
          <p:spPr>
            <a:xfrm>
              <a:off x="4379760" y="4205160"/>
              <a:ext cx="2567160" cy="993960"/>
            </a:xfrm>
            <a:custGeom>
              <a:avLst/>
              <a:gdLst/>
              <a:ahLst/>
              <a:rect l="l" t="t" r="r" b="b"/>
              <a:pathLst>
                <a:path w="1881" h="744">
                  <a:moveTo>
                    <a:pt x="1298" y="222"/>
                  </a:moveTo>
                  <a:lnTo>
                    <a:pt x="1283" y="225"/>
                  </a:lnTo>
                  <a:lnTo>
                    <a:pt x="1263" y="230"/>
                  </a:lnTo>
                  <a:lnTo>
                    <a:pt x="1239" y="235"/>
                  </a:lnTo>
                  <a:lnTo>
                    <a:pt x="1214" y="242"/>
                  </a:lnTo>
                  <a:lnTo>
                    <a:pt x="1186" y="249"/>
                  </a:lnTo>
                  <a:lnTo>
                    <a:pt x="1157" y="255"/>
                  </a:lnTo>
                  <a:lnTo>
                    <a:pt x="1127" y="262"/>
                  </a:lnTo>
                  <a:lnTo>
                    <a:pt x="1097" y="269"/>
                  </a:lnTo>
                  <a:lnTo>
                    <a:pt x="1067" y="275"/>
                  </a:lnTo>
                  <a:lnTo>
                    <a:pt x="1039" y="284"/>
                  </a:lnTo>
                  <a:lnTo>
                    <a:pt x="1012" y="290"/>
                  </a:lnTo>
                  <a:lnTo>
                    <a:pt x="989" y="297"/>
                  </a:lnTo>
                  <a:lnTo>
                    <a:pt x="967" y="302"/>
                  </a:lnTo>
                  <a:lnTo>
                    <a:pt x="949" y="309"/>
                  </a:lnTo>
                  <a:lnTo>
                    <a:pt x="936" y="314"/>
                  </a:lnTo>
                  <a:lnTo>
                    <a:pt x="927" y="317"/>
                  </a:lnTo>
                  <a:lnTo>
                    <a:pt x="914" y="324"/>
                  </a:lnTo>
                  <a:lnTo>
                    <a:pt x="901" y="329"/>
                  </a:lnTo>
                  <a:lnTo>
                    <a:pt x="887" y="337"/>
                  </a:lnTo>
                  <a:lnTo>
                    <a:pt x="872" y="344"/>
                  </a:lnTo>
                  <a:lnTo>
                    <a:pt x="857" y="355"/>
                  </a:lnTo>
                  <a:lnTo>
                    <a:pt x="842" y="369"/>
                  </a:lnTo>
                  <a:lnTo>
                    <a:pt x="826" y="389"/>
                  </a:lnTo>
                  <a:lnTo>
                    <a:pt x="807" y="412"/>
                  </a:lnTo>
                  <a:lnTo>
                    <a:pt x="791" y="437"/>
                  </a:lnTo>
                  <a:lnTo>
                    <a:pt x="776" y="460"/>
                  </a:lnTo>
                  <a:lnTo>
                    <a:pt x="761" y="482"/>
                  </a:lnTo>
                  <a:lnTo>
                    <a:pt x="747" y="502"/>
                  </a:lnTo>
                  <a:lnTo>
                    <a:pt x="737" y="519"/>
                  </a:lnTo>
                  <a:lnTo>
                    <a:pt x="727" y="532"/>
                  </a:lnTo>
                  <a:lnTo>
                    <a:pt x="719" y="542"/>
                  </a:lnTo>
                  <a:lnTo>
                    <a:pt x="712" y="549"/>
                  </a:lnTo>
                  <a:lnTo>
                    <a:pt x="706" y="554"/>
                  </a:lnTo>
                  <a:lnTo>
                    <a:pt x="699" y="559"/>
                  </a:lnTo>
                  <a:lnTo>
                    <a:pt x="689" y="564"/>
                  </a:lnTo>
                  <a:lnTo>
                    <a:pt x="679" y="565"/>
                  </a:lnTo>
                  <a:lnTo>
                    <a:pt x="667" y="567"/>
                  </a:lnTo>
                  <a:lnTo>
                    <a:pt x="657" y="567"/>
                  </a:lnTo>
                  <a:lnTo>
                    <a:pt x="647" y="564"/>
                  </a:lnTo>
                  <a:lnTo>
                    <a:pt x="637" y="559"/>
                  </a:lnTo>
                  <a:lnTo>
                    <a:pt x="629" y="552"/>
                  </a:lnTo>
                  <a:lnTo>
                    <a:pt x="622" y="544"/>
                  </a:lnTo>
                  <a:lnTo>
                    <a:pt x="615" y="535"/>
                  </a:lnTo>
                  <a:lnTo>
                    <a:pt x="609" y="529"/>
                  </a:lnTo>
                  <a:lnTo>
                    <a:pt x="602" y="524"/>
                  </a:lnTo>
                  <a:lnTo>
                    <a:pt x="595" y="520"/>
                  </a:lnTo>
                  <a:lnTo>
                    <a:pt x="589" y="519"/>
                  </a:lnTo>
                  <a:lnTo>
                    <a:pt x="580" y="520"/>
                  </a:lnTo>
                  <a:lnTo>
                    <a:pt x="569" y="524"/>
                  </a:lnTo>
                  <a:lnTo>
                    <a:pt x="554" y="525"/>
                  </a:lnTo>
                  <a:lnTo>
                    <a:pt x="537" y="525"/>
                  </a:lnTo>
                  <a:lnTo>
                    <a:pt x="519" y="525"/>
                  </a:lnTo>
                  <a:lnTo>
                    <a:pt x="499" y="525"/>
                  </a:lnTo>
                  <a:lnTo>
                    <a:pt x="480" y="524"/>
                  </a:lnTo>
                  <a:lnTo>
                    <a:pt x="462" y="522"/>
                  </a:lnTo>
                  <a:lnTo>
                    <a:pt x="447" y="520"/>
                  </a:lnTo>
                  <a:lnTo>
                    <a:pt x="432" y="519"/>
                  </a:lnTo>
                  <a:lnTo>
                    <a:pt x="417" y="515"/>
                  </a:lnTo>
                  <a:lnTo>
                    <a:pt x="404" y="510"/>
                  </a:lnTo>
                  <a:lnTo>
                    <a:pt x="389" y="507"/>
                  </a:lnTo>
                  <a:lnTo>
                    <a:pt x="375" y="504"/>
                  </a:lnTo>
                  <a:lnTo>
                    <a:pt x="364" y="500"/>
                  </a:lnTo>
                  <a:lnTo>
                    <a:pt x="352" y="497"/>
                  </a:lnTo>
                  <a:lnTo>
                    <a:pt x="342" y="497"/>
                  </a:lnTo>
                  <a:lnTo>
                    <a:pt x="329" y="497"/>
                  </a:lnTo>
                  <a:lnTo>
                    <a:pt x="307" y="497"/>
                  </a:lnTo>
                  <a:lnTo>
                    <a:pt x="280" y="499"/>
                  </a:lnTo>
                  <a:lnTo>
                    <a:pt x="250" y="499"/>
                  </a:lnTo>
                  <a:lnTo>
                    <a:pt x="224" y="500"/>
                  </a:lnTo>
                  <a:lnTo>
                    <a:pt x="200" y="502"/>
                  </a:lnTo>
                  <a:lnTo>
                    <a:pt x="184" y="502"/>
                  </a:lnTo>
                  <a:lnTo>
                    <a:pt x="177" y="502"/>
                  </a:lnTo>
                  <a:lnTo>
                    <a:pt x="175" y="504"/>
                  </a:lnTo>
                  <a:lnTo>
                    <a:pt x="170" y="505"/>
                  </a:lnTo>
                  <a:lnTo>
                    <a:pt x="164" y="509"/>
                  </a:lnTo>
                  <a:lnTo>
                    <a:pt x="155" y="510"/>
                  </a:lnTo>
                  <a:lnTo>
                    <a:pt x="144" y="512"/>
                  </a:lnTo>
                  <a:lnTo>
                    <a:pt x="132" y="512"/>
                  </a:lnTo>
                  <a:lnTo>
                    <a:pt x="120" y="509"/>
                  </a:lnTo>
                  <a:lnTo>
                    <a:pt x="107" y="502"/>
                  </a:lnTo>
                  <a:lnTo>
                    <a:pt x="95" y="494"/>
                  </a:lnTo>
                  <a:lnTo>
                    <a:pt x="87" y="485"/>
                  </a:lnTo>
                  <a:lnTo>
                    <a:pt x="80" y="479"/>
                  </a:lnTo>
                  <a:lnTo>
                    <a:pt x="75" y="475"/>
                  </a:lnTo>
                  <a:lnTo>
                    <a:pt x="70" y="472"/>
                  </a:lnTo>
                  <a:lnTo>
                    <a:pt x="65" y="470"/>
                  </a:lnTo>
                  <a:lnTo>
                    <a:pt x="60" y="470"/>
                  </a:lnTo>
                  <a:lnTo>
                    <a:pt x="53" y="474"/>
                  </a:lnTo>
                  <a:lnTo>
                    <a:pt x="47" y="480"/>
                  </a:lnTo>
                  <a:lnTo>
                    <a:pt x="50" y="489"/>
                  </a:lnTo>
                  <a:lnTo>
                    <a:pt x="55" y="500"/>
                  </a:lnTo>
                  <a:lnTo>
                    <a:pt x="53" y="515"/>
                  </a:lnTo>
                  <a:lnTo>
                    <a:pt x="50" y="535"/>
                  </a:lnTo>
                  <a:lnTo>
                    <a:pt x="48" y="557"/>
                  </a:lnTo>
                  <a:lnTo>
                    <a:pt x="50" y="577"/>
                  </a:lnTo>
                  <a:lnTo>
                    <a:pt x="50" y="592"/>
                  </a:lnTo>
                  <a:lnTo>
                    <a:pt x="47" y="606"/>
                  </a:lnTo>
                  <a:lnTo>
                    <a:pt x="40" y="621"/>
                  </a:lnTo>
                  <a:lnTo>
                    <a:pt x="33" y="634"/>
                  </a:lnTo>
                  <a:lnTo>
                    <a:pt x="30" y="639"/>
                  </a:lnTo>
                  <a:lnTo>
                    <a:pt x="0" y="662"/>
                  </a:lnTo>
                  <a:lnTo>
                    <a:pt x="3" y="666"/>
                  </a:lnTo>
                  <a:lnTo>
                    <a:pt x="8" y="669"/>
                  </a:lnTo>
                  <a:lnTo>
                    <a:pt x="13" y="674"/>
                  </a:lnTo>
                  <a:lnTo>
                    <a:pt x="18" y="677"/>
                  </a:lnTo>
                  <a:lnTo>
                    <a:pt x="32" y="684"/>
                  </a:lnTo>
                  <a:lnTo>
                    <a:pt x="43" y="687"/>
                  </a:lnTo>
                  <a:lnTo>
                    <a:pt x="55" y="687"/>
                  </a:lnTo>
                  <a:lnTo>
                    <a:pt x="67" y="686"/>
                  </a:lnTo>
                  <a:lnTo>
                    <a:pt x="77" y="684"/>
                  </a:lnTo>
                  <a:lnTo>
                    <a:pt x="83" y="681"/>
                  </a:lnTo>
                  <a:lnTo>
                    <a:pt x="88" y="679"/>
                  </a:lnTo>
                  <a:lnTo>
                    <a:pt x="90" y="677"/>
                  </a:lnTo>
                  <a:lnTo>
                    <a:pt x="97" y="677"/>
                  </a:lnTo>
                  <a:lnTo>
                    <a:pt x="114" y="677"/>
                  </a:lnTo>
                  <a:lnTo>
                    <a:pt x="137" y="676"/>
                  </a:lnTo>
                  <a:lnTo>
                    <a:pt x="164" y="674"/>
                  </a:lnTo>
                  <a:lnTo>
                    <a:pt x="194" y="674"/>
                  </a:lnTo>
                  <a:lnTo>
                    <a:pt x="220" y="672"/>
                  </a:lnTo>
                  <a:lnTo>
                    <a:pt x="242" y="672"/>
                  </a:lnTo>
                  <a:lnTo>
                    <a:pt x="255" y="672"/>
                  </a:lnTo>
                  <a:lnTo>
                    <a:pt x="265" y="674"/>
                  </a:lnTo>
                  <a:lnTo>
                    <a:pt x="275" y="676"/>
                  </a:lnTo>
                  <a:lnTo>
                    <a:pt x="289" y="679"/>
                  </a:lnTo>
                  <a:lnTo>
                    <a:pt x="302" y="682"/>
                  </a:lnTo>
                  <a:lnTo>
                    <a:pt x="315" y="687"/>
                  </a:lnTo>
                  <a:lnTo>
                    <a:pt x="330" y="691"/>
                  </a:lnTo>
                  <a:lnTo>
                    <a:pt x="344" y="694"/>
                  </a:lnTo>
                  <a:lnTo>
                    <a:pt x="359" y="697"/>
                  </a:lnTo>
                  <a:lnTo>
                    <a:pt x="374" y="699"/>
                  </a:lnTo>
                  <a:lnTo>
                    <a:pt x="392" y="701"/>
                  </a:lnTo>
                  <a:lnTo>
                    <a:pt x="412" y="701"/>
                  </a:lnTo>
                  <a:lnTo>
                    <a:pt x="430" y="702"/>
                  </a:lnTo>
                  <a:lnTo>
                    <a:pt x="450" y="702"/>
                  </a:lnTo>
                  <a:lnTo>
                    <a:pt x="467" y="701"/>
                  </a:lnTo>
                  <a:lnTo>
                    <a:pt x="480" y="701"/>
                  </a:lnTo>
                  <a:lnTo>
                    <a:pt x="492" y="697"/>
                  </a:lnTo>
                  <a:lnTo>
                    <a:pt x="500" y="696"/>
                  </a:lnTo>
                  <a:lnTo>
                    <a:pt x="507" y="696"/>
                  </a:lnTo>
                  <a:lnTo>
                    <a:pt x="514" y="699"/>
                  </a:lnTo>
                  <a:lnTo>
                    <a:pt x="520" y="706"/>
                  </a:lnTo>
                  <a:lnTo>
                    <a:pt x="527" y="712"/>
                  </a:lnTo>
                  <a:lnTo>
                    <a:pt x="534" y="719"/>
                  </a:lnTo>
                  <a:lnTo>
                    <a:pt x="540" y="727"/>
                  </a:lnTo>
                  <a:lnTo>
                    <a:pt x="549" y="734"/>
                  </a:lnTo>
                  <a:lnTo>
                    <a:pt x="559" y="741"/>
                  </a:lnTo>
                  <a:lnTo>
                    <a:pt x="569" y="742"/>
                  </a:lnTo>
                  <a:lnTo>
                    <a:pt x="579" y="744"/>
                  </a:lnTo>
                  <a:lnTo>
                    <a:pt x="590" y="742"/>
                  </a:lnTo>
                  <a:lnTo>
                    <a:pt x="600" y="739"/>
                  </a:lnTo>
                  <a:lnTo>
                    <a:pt x="610" y="736"/>
                  </a:lnTo>
                  <a:lnTo>
                    <a:pt x="619" y="731"/>
                  </a:lnTo>
                  <a:lnTo>
                    <a:pt x="625" y="726"/>
                  </a:lnTo>
                  <a:lnTo>
                    <a:pt x="632" y="719"/>
                  </a:lnTo>
                  <a:lnTo>
                    <a:pt x="639" y="707"/>
                  </a:lnTo>
                  <a:lnTo>
                    <a:pt x="649" y="694"/>
                  </a:lnTo>
                  <a:lnTo>
                    <a:pt x="661" y="677"/>
                  </a:lnTo>
                  <a:lnTo>
                    <a:pt x="672" y="659"/>
                  </a:lnTo>
                  <a:lnTo>
                    <a:pt x="687" y="637"/>
                  </a:lnTo>
                  <a:lnTo>
                    <a:pt x="704" y="614"/>
                  </a:lnTo>
                  <a:lnTo>
                    <a:pt x="721" y="587"/>
                  </a:lnTo>
                  <a:lnTo>
                    <a:pt x="737" y="564"/>
                  </a:lnTo>
                  <a:lnTo>
                    <a:pt x="754" y="544"/>
                  </a:lnTo>
                  <a:lnTo>
                    <a:pt x="769" y="530"/>
                  </a:lnTo>
                  <a:lnTo>
                    <a:pt x="786" y="519"/>
                  </a:lnTo>
                  <a:lnTo>
                    <a:pt x="799" y="512"/>
                  </a:lnTo>
                  <a:lnTo>
                    <a:pt x="812" y="504"/>
                  </a:lnTo>
                  <a:lnTo>
                    <a:pt x="826" y="499"/>
                  </a:lnTo>
                  <a:lnTo>
                    <a:pt x="839" y="492"/>
                  </a:lnTo>
                  <a:lnTo>
                    <a:pt x="847" y="489"/>
                  </a:lnTo>
                  <a:lnTo>
                    <a:pt x="862" y="484"/>
                  </a:lnTo>
                  <a:lnTo>
                    <a:pt x="879" y="479"/>
                  </a:lnTo>
                  <a:lnTo>
                    <a:pt x="901" y="472"/>
                  </a:lnTo>
                  <a:lnTo>
                    <a:pt x="926" y="465"/>
                  </a:lnTo>
                  <a:lnTo>
                    <a:pt x="952" y="459"/>
                  </a:lnTo>
                  <a:lnTo>
                    <a:pt x="981" y="452"/>
                  </a:lnTo>
                  <a:lnTo>
                    <a:pt x="1009" y="444"/>
                  </a:lnTo>
                  <a:lnTo>
                    <a:pt x="1039" y="437"/>
                  </a:lnTo>
                  <a:lnTo>
                    <a:pt x="1069" y="430"/>
                  </a:lnTo>
                  <a:lnTo>
                    <a:pt x="1097" y="424"/>
                  </a:lnTo>
                  <a:lnTo>
                    <a:pt x="1126" y="417"/>
                  </a:lnTo>
                  <a:lnTo>
                    <a:pt x="1151" y="410"/>
                  </a:lnTo>
                  <a:lnTo>
                    <a:pt x="1174" y="405"/>
                  </a:lnTo>
                  <a:lnTo>
                    <a:pt x="1194" y="400"/>
                  </a:lnTo>
                  <a:lnTo>
                    <a:pt x="1209" y="397"/>
                  </a:lnTo>
                  <a:lnTo>
                    <a:pt x="1236" y="390"/>
                  </a:lnTo>
                  <a:lnTo>
                    <a:pt x="1263" y="385"/>
                  </a:lnTo>
                  <a:lnTo>
                    <a:pt x="1289" y="382"/>
                  </a:lnTo>
                  <a:lnTo>
                    <a:pt x="1313" y="379"/>
                  </a:lnTo>
                  <a:lnTo>
                    <a:pt x="1336" y="375"/>
                  </a:lnTo>
                  <a:lnTo>
                    <a:pt x="1354" y="370"/>
                  </a:lnTo>
                  <a:lnTo>
                    <a:pt x="1371" y="365"/>
                  </a:lnTo>
                  <a:lnTo>
                    <a:pt x="1384" y="359"/>
                  </a:lnTo>
                  <a:lnTo>
                    <a:pt x="1394" y="354"/>
                  </a:lnTo>
                  <a:lnTo>
                    <a:pt x="1411" y="345"/>
                  </a:lnTo>
                  <a:lnTo>
                    <a:pt x="1434" y="334"/>
                  </a:lnTo>
                  <a:lnTo>
                    <a:pt x="1463" y="320"/>
                  </a:lnTo>
                  <a:lnTo>
                    <a:pt x="1496" y="307"/>
                  </a:lnTo>
                  <a:lnTo>
                    <a:pt x="1533" y="290"/>
                  </a:lnTo>
                  <a:lnTo>
                    <a:pt x="1571" y="274"/>
                  </a:lnTo>
                  <a:lnTo>
                    <a:pt x="1611" y="255"/>
                  </a:lnTo>
                  <a:lnTo>
                    <a:pt x="1649" y="239"/>
                  </a:lnTo>
                  <a:lnTo>
                    <a:pt x="1688" y="222"/>
                  </a:lnTo>
                  <a:lnTo>
                    <a:pt x="1723" y="207"/>
                  </a:lnTo>
                  <a:lnTo>
                    <a:pt x="1756" y="192"/>
                  </a:lnTo>
                  <a:lnTo>
                    <a:pt x="1783" y="180"/>
                  </a:lnTo>
                  <a:lnTo>
                    <a:pt x="1805" y="170"/>
                  </a:lnTo>
                  <a:lnTo>
                    <a:pt x="1820" y="164"/>
                  </a:lnTo>
                  <a:lnTo>
                    <a:pt x="1826" y="160"/>
                  </a:lnTo>
                  <a:lnTo>
                    <a:pt x="1836" y="152"/>
                  </a:lnTo>
                  <a:lnTo>
                    <a:pt x="1841" y="142"/>
                  </a:lnTo>
                  <a:lnTo>
                    <a:pt x="1845" y="130"/>
                  </a:lnTo>
                  <a:lnTo>
                    <a:pt x="1846" y="117"/>
                  </a:lnTo>
                  <a:lnTo>
                    <a:pt x="1848" y="100"/>
                  </a:lnTo>
                  <a:lnTo>
                    <a:pt x="1851" y="78"/>
                  </a:lnTo>
                  <a:lnTo>
                    <a:pt x="1858" y="57"/>
                  </a:lnTo>
                  <a:lnTo>
                    <a:pt x="1865" y="37"/>
                  </a:lnTo>
                  <a:lnTo>
                    <a:pt x="1868" y="27"/>
                  </a:lnTo>
                  <a:lnTo>
                    <a:pt x="1873" y="18"/>
                  </a:lnTo>
                  <a:lnTo>
                    <a:pt x="1876" y="8"/>
                  </a:lnTo>
                  <a:lnTo>
                    <a:pt x="1881" y="0"/>
                  </a:lnTo>
                  <a:lnTo>
                    <a:pt x="1861" y="10"/>
                  </a:lnTo>
                  <a:lnTo>
                    <a:pt x="1836" y="20"/>
                  </a:lnTo>
                  <a:lnTo>
                    <a:pt x="1808" y="32"/>
                  </a:lnTo>
                  <a:lnTo>
                    <a:pt x="1778" y="45"/>
                  </a:lnTo>
                  <a:lnTo>
                    <a:pt x="1746" y="58"/>
                  </a:lnTo>
                  <a:lnTo>
                    <a:pt x="1714" y="73"/>
                  </a:lnTo>
                  <a:lnTo>
                    <a:pt x="1681" y="88"/>
                  </a:lnTo>
                  <a:lnTo>
                    <a:pt x="1648" y="102"/>
                  </a:lnTo>
                  <a:lnTo>
                    <a:pt x="1616" y="117"/>
                  </a:lnTo>
                  <a:lnTo>
                    <a:pt x="1586" y="130"/>
                  </a:lnTo>
                  <a:lnTo>
                    <a:pt x="1558" y="142"/>
                  </a:lnTo>
                  <a:lnTo>
                    <a:pt x="1533" y="154"/>
                  </a:lnTo>
                  <a:lnTo>
                    <a:pt x="1511" y="164"/>
                  </a:lnTo>
                  <a:lnTo>
                    <a:pt x="1493" y="174"/>
                  </a:lnTo>
                  <a:lnTo>
                    <a:pt x="1479" y="179"/>
                  </a:lnTo>
                  <a:lnTo>
                    <a:pt x="1473" y="184"/>
                  </a:lnTo>
                  <a:lnTo>
                    <a:pt x="1459" y="190"/>
                  </a:lnTo>
                  <a:lnTo>
                    <a:pt x="1443" y="195"/>
                  </a:lnTo>
                  <a:lnTo>
                    <a:pt x="1423" y="199"/>
                  </a:lnTo>
                  <a:lnTo>
                    <a:pt x="1401" y="202"/>
                  </a:lnTo>
                  <a:lnTo>
                    <a:pt x="1376" y="205"/>
                  </a:lnTo>
                  <a:lnTo>
                    <a:pt x="1351" y="210"/>
                  </a:lnTo>
                  <a:lnTo>
                    <a:pt x="1324" y="215"/>
                  </a:lnTo>
                  <a:lnTo>
                    <a:pt x="1298" y="222"/>
                  </a:lnTo>
                  <a:close/>
                </a:path>
              </a:pathLst>
            </a:custGeom>
            <a:solidFill>
              <a:srgbClr val="ffffff">
                <a:alpha val="20000"/>
              </a:srgbClr>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5" name=""/>
            <p:cNvSpPr/>
            <p:nvPr/>
          </p:nvSpPr>
          <p:spPr>
            <a:xfrm>
              <a:off x="2813040" y="1346040"/>
              <a:ext cx="4348080" cy="3579840"/>
            </a:xfrm>
            <a:custGeom>
              <a:avLst/>
              <a:gdLst/>
              <a:ahLst/>
              <a:rect l="l" t="t" r="r" b="b"/>
              <a:pathLst>
                <a:path w="3185" h="2678">
                  <a:moveTo>
                    <a:pt x="380" y="90"/>
                  </a:moveTo>
                  <a:lnTo>
                    <a:pt x="683" y="28"/>
                  </a:lnTo>
                  <a:lnTo>
                    <a:pt x="693" y="0"/>
                  </a:lnTo>
                  <a:lnTo>
                    <a:pt x="695" y="0"/>
                  </a:lnTo>
                  <a:lnTo>
                    <a:pt x="698" y="0"/>
                  </a:lnTo>
                  <a:lnTo>
                    <a:pt x="704" y="0"/>
                  </a:lnTo>
                  <a:lnTo>
                    <a:pt x="712" y="0"/>
                  </a:lnTo>
                  <a:lnTo>
                    <a:pt x="720" y="0"/>
                  </a:lnTo>
                  <a:lnTo>
                    <a:pt x="734" y="2"/>
                  </a:lnTo>
                  <a:lnTo>
                    <a:pt x="747" y="5"/>
                  </a:lnTo>
                  <a:lnTo>
                    <a:pt x="764" y="10"/>
                  </a:lnTo>
                  <a:lnTo>
                    <a:pt x="782" y="15"/>
                  </a:lnTo>
                  <a:lnTo>
                    <a:pt x="799" y="20"/>
                  </a:lnTo>
                  <a:lnTo>
                    <a:pt x="817" y="23"/>
                  </a:lnTo>
                  <a:lnTo>
                    <a:pt x="832" y="28"/>
                  </a:lnTo>
                  <a:lnTo>
                    <a:pt x="847" y="32"/>
                  </a:lnTo>
                  <a:lnTo>
                    <a:pt x="862" y="35"/>
                  </a:lnTo>
                  <a:lnTo>
                    <a:pt x="874" y="40"/>
                  </a:lnTo>
                  <a:lnTo>
                    <a:pt x="884" y="43"/>
                  </a:lnTo>
                  <a:lnTo>
                    <a:pt x="894" y="48"/>
                  </a:lnTo>
                  <a:lnTo>
                    <a:pt x="907" y="57"/>
                  </a:lnTo>
                  <a:lnTo>
                    <a:pt x="924" y="68"/>
                  </a:lnTo>
                  <a:lnTo>
                    <a:pt x="942" y="82"/>
                  </a:lnTo>
                  <a:lnTo>
                    <a:pt x="962" y="97"/>
                  </a:lnTo>
                  <a:lnTo>
                    <a:pt x="985" y="112"/>
                  </a:lnTo>
                  <a:lnTo>
                    <a:pt x="1009" y="127"/>
                  </a:lnTo>
                  <a:lnTo>
                    <a:pt x="1035" y="142"/>
                  </a:lnTo>
                  <a:lnTo>
                    <a:pt x="1060" y="155"/>
                  </a:lnTo>
                  <a:lnTo>
                    <a:pt x="1080" y="168"/>
                  </a:lnTo>
                  <a:lnTo>
                    <a:pt x="1099" y="180"/>
                  </a:lnTo>
                  <a:lnTo>
                    <a:pt x="1114" y="190"/>
                  </a:lnTo>
                  <a:lnTo>
                    <a:pt x="1124" y="197"/>
                  </a:lnTo>
                  <a:lnTo>
                    <a:pt x="1132" y="203"/>
                  </a:lnTo>
                  <a:lnTo>
                    <a:pt x="1137" y="207"/>
                  </a:lnTo>
                  <a:lnTo>
                    <a:pt x="1139" y="208"/>
                  </a:lnTo>
                  <a:lnTo>
                    <a:pt x="1142" y="210"/>
                  </a:lnTo>
                  <a:lnTo>
                    <a:pt x="1150" y="215"/>
                  </a:lnTo>
                  <a:lnTo>
                    <a:pt x="1162" y="223"/>
                  </a:lnTo>
                  <a:lnTo>
                    <a:pt x="1177" y="233"/>
                  </a:lnTo>
                  <a:lnTo>
                    <a:pt x="1192" y="243"/>
                  </a:lnTo>
                  <a:lnTo>
                    <a:pt x="1205" y="255"/>
                  </a:lnTo>
                  <a:lnTo>
                    <a:pt x="1217" y="265"/>
                  </a:lnTo>
                  <a:lnTo>
                    <a:pt x="1225" y="275"/>
                  </a:lnTo>
                  <a:lnTo>
                    <a:pt x="1234" y="285"/>
                  </a:lnTo>
                  <a:lnTo>
                    <a:pt x="1245" y="297"/>
                  </a:lnTo>
                  <a:lnTo>
                    <a:pt x="1259" y="310"/>
                  </a:lnTo>
                  <a:lnTo>
                    <a:pt x="1276" y="325"/>
                  </a:lnTo>
                  <a:lnTo>
                    <a:pt x="1292" y="340"/>
                  </a:lnTo>
                  <a:lnTo>
                    <a:pt x="1309" y="354"/>
                  </a:lnTo>
                  <a:lnTo>
                    <a:pt x="1324" y="365"/>
                  </a:lnTo>
                  <a:lnTo>
                    <a:pt x="1334" y="375"/>
                  </a:lnTo>
                  <a:lnTo>
                    <a:pt x="1346" y="385"/>
                  </a:lnTo>
                  <a:lnTo>
                    <a:pt x="1362" y="397"/>
                  </a:lnTo>
                  <a:lnTo>
                    <a:pt x="1381" y="410"/>
                  </a:lnTo>
                  <a:lnTo>
                    <a:pt x="1401" y="424"/>
                  </a:lnTo>
                  <a:lnTo>
                    <a:pt x="1421" y="437"/>
                  </a:lnTo>
                  <a:lnTo>
                    <a:pt x="1436" y="445"/>
                  </a:lnTo>
                  <a:lnTo>
                    <a:pt x="1447" y="454"/>
                  </a:lnTo>
                  <a:lnTo>
                    <a:pt x="1451" y="455"/>
                  </a:lnTo>
                  <a:lnTo>
                    <a:pt x="1489" y="509"/>
                  </a:lnTo>
                  <a:lnTo>
                    <a:pt x="1497" y="509"/>
                  </a:lnTo>
                  <a:lnTo>
                    <a:pt x="1517" y="509"/>
                  </a:lnTo>
                  <a:lnTo>
                    <a:pt x="1546" y="509"/>
                  </a:lnTo>
                  <a:lnTo>
                    <a:pt x="1581" y="509"/>
                  </a:lnTo>
                  <a:lnTo>
                    <a:pt x="1617" y="510"/>
                  </a:lnTo>
                  <a:lnTo>
                    <a:pt x="1651" y="514"/>
                  </a:lnTo>
                  <a:lnTo>
                    <a:pt x="1677" y="520"/>
                  </a:lnTo>
                  <a:lnTo>
                    <a:pt x="1694" y="527"/>
                  </a:lnTo>
                  <a:lnTo>
                    <a:pt x="1696" y="527"/>
                  </a:lnTo>
                  <a:lnTo>
                    <a:pt x="1702" y="525"/>
                  </a:lnTo>
                  <a:lnTo>
                    <a:pt x="1712" y="522"/>
                  </a:lnTo>
                  <a:lnTo>
                    <a:pt x="1722" y="520"/>
                  </a:lnTo>
                  <a:lnTo>
                    <a:pt x="1736" y="519"/>
                  </a:lnTo>
                  <a:lnTo>
                    <a:pt x="1747" y="515"/>
                  </a:lnTo>
                  <a:lnTo>
                    <a:pt x="1759" y="514"/>
                  </a:lnTo>
                  <a:lnTo>
                    <a:pt x="1769" y="514"/>
                  </a:lnTo>
                  <a:lnTo>
                    <a:pt x="1782" y="515"/>
                  </a:lnTo>
                  <a:lnTo>
                    <a:pt x="1801" y="519"/>
                  </a:lnTo>
                  <a:lnTo>
                    <a:pt x="1823" y="522"/>
                  </a:lnTo>
                  <a:lnTo>
                    <a:pt x="1848" y="527"/>
                  </a:lnTo>
                  <a:lnTo>
                    <a:pt x="1869" y="534"/>
                  </a:lnTo>
                  <a:lnTo>
                    <a:pt x="1889" y="537"/>
                  </a:lnTo>
                  <a:lnTo>
                    <a:pt x="1903" y="540"/>
                  </a:lnTo>
                  <a:lnTo>
                    <a:pt x="1908" y="542"/>
                  </a:lnTo>
                  <a:lnTo>
                    <a:pt x="1926" y="604"/>
                  </a:lnTo>
                  <a:lnTo>
                    <a:pt x="2044" y="604"/>
                  </a:lnTo>
                  <a:lnTo>
                    <a:pt x="2064" y="689"/>
                  </a:lnTo>
                  <a:lnTo>
                    <a:pt x="2071" y="692"/>
                  </a:lnTo>
                  <a:lnTo>
                    <a:pt x="2083" y="704"/>
                  </a:lnTo>
                  <a:lnTo>
                    <a:pt x="2093" y="722"/>
                  </a:lnTo>
                  <a:lnTo>
                    <a:pt x="2093" y="746"/>
                  </a:lnTo>
                  <a:lnTo>
                    <a:pt x="2116" y="784"/>
                  </a:lnTo>
                  <a:lnTo>
                    <a:pt x="2154" y="769"/>
                  </a:lnTo>
                  <a:lnTo>
                    <a:pt x="2158" y="774"/>
                  </a:lnTo>
                  <a:lnTo>
                    <a:pt x="2164" y="786"/>
                  </a:lnTo>
                  <a:lnTo>
                    <a:pt x="2169" y="801"/>
                  </a:lnTo>
                  <a:lnTo>
                    <a:pt x="2173" y="812"/>
                  </a:lnTo>
                  <a:lnTo>
                    <a:pt x="2176" y="824"/>
                  </a:lnTo>
                  <a:lnTo>
                    <a:pt x="2183" y="834"/>
                  </a:lnTo>
                  <a:lnTo>
                    <a:pt x="2189" y="842"/>
                  </a:lnTo>
                  <a:lnTo>
                    <a:pt x="2193" y="846"/>
                  </a:lnTo>
                  <a:lnTo>
                    <a:pt x="2201" y="822"/>
                  </a:lnTo>
                  <a:lnTo>
                    <a:pt x="2226" y="869"/>
                  </a:lnTo>
                  <a:lnTo>
                    <a:pt x="2228" y="869"/>
                  </a:lnTo>
                  <a:lnTo>
                    <a:pt x="2234" y="871"/>
                  </a:lnTo>
                  <a:lnTo>
                    <a:pt x="2244" y="874"/>
                  </a:lnTo>
                  <a:lnTo>
                    <a:pt x="2254" y="877"/>
                  </a:lnTo>
                  <a:lnTo>
                    <a:pt x="2266" y="882"/>
                  </a:lnTo>
                  <a:lnTo>
                    <a:pt x="2276" y="887"/>
                  </a:lnTo>
                  <a:lnTo>
                    <a:pt x="2284" y="894"/>
                  </a:lnTo>
                  <a:lnTo>
                    <a:pt x="2288" y="902"/>
                  </a:lnTo>
                  <a:lnTo>
                    <a:pt x="2289" y="921"/>
                  </a:lnTo>
                  <a:lnTo>
                    <a:pt x="2293" y="937"/>
                  </a:lnTo>
                  <a:lnTo>
                    <a:pt x="2296" y="952"/>
                  </a:lnTo>
                  <a:lnTo>
                    <a:pt x="2306" y="964"/>
                  </a:lnTo>
                  <a:lnTo>
                    <a:pt x="2316" y="979"/>
                  </a:lnTo>
                  <a:lnTo>
                    <a:pt x="2321" y="996"/>
                  </a:lnTo>
                  <a:lnTo>
                    <a:pt x="2318" y="1011"/>
                  </a:lnTo>
                  <a:lnTo>
                    <a:pt x="2311" y="1017"/>
                  </a:lnTo>
                  <a:lnTo>
                    <a:pt x="2303" y="1019"/>
                  </a:lnTo>
                  <a:lnTo>
                    <a:pt x="2299" y="1024"/>
                  </a:lnTo>
                  <a:lnTo>
                    <a:pt x="2301" y="1032"/>
                  </a:lnTo>
                  <a:lnTo>
                    <a:pt x="2306" y="1046"/>
                  </a:lnTo>
                  <a:lnTo>
                    <a:pt x="2313" y="1061"/>
                  </a:lnTo>
                  <a:lnTo>
                    <a:pt x="2319" y="1076"/>
                  </a:lnTo>
                  <a:lnTo>
                    <a:pt x="2324" y="1092"/>
                  </a:lnTo>
                  <a:lnTo>
                    <a:pt x="2329" y="1107"/>
                  </a:lnTo>
                  <a:lnTo>
                    <a:pt x="2336" y="1117"/>
                  </a:lnTo>
                  <a:lnTo>
                    <a:pt x="2344" y="1121"/>
                  </a:lnTo>
                  <a:lnTo>
                    <a:pt x="2351" y="1121"/>
                  </a:lnTo>
                  <a:lnTo>
                    <a:pt x="2354" y="1121"/>
                  </a:lnTo>
                  <a:lnTo>
                    <a:pt x="2356" y="1129"/>
                  </a:lnTo>
                  <a:lnTo>
                    <a:pt x="2365" y="1149"/>
                  </a:lnTo>
                  <a:lnTo>
                    <a:pt x="2375" y="1174"/>
                  </a:lnTo>
                  <a:lnTo>
                    <a:pt x="2388" y="1192"/>
                  </a:lnTo>
                  <a:lnTo>
                    <a:pt x="2395" y="1201"/>
                  </a:lnTo>
                  <a:lnTo>
                    <a:pt x="2400" y="1209"/>
                  </a:lnTo>
                  <a:lnTo>
                    <a:pt x="2405" y="1217"/>
                  </a:lnTo>
                  <a:lnTo>
                    <a:pt x="2411" y="1227"/>
                  </a:lnTo>
                  <a:lnTo>
                    <a:pt x="2416" y="1236"/>
                  </a:lnTo>
                  <a:lnTo>
                    <a:pt x="2425" y="1244"/>
                  </a:lnTo>
                  <a:lnTo>
                    <a:pt x="2433" y="1253"/>
                  </a:lnTo>
                  <a:lnTo>
                    <a:pt x="2445" y="1259"/>
                  </a:lnTo>
                  <a:lnTo>
                    <a:pt x="2456" y="1263"/>
                  </a:lnTo>
                  <a:lnTo>
                    <a:pt x="2468" y="1263"/>
                  </a:lnTo>
                  <a:lnTo>
                    <a:pt x="2478" y="1263"/>
                  </a:lnTo>
                  <a:lnTo>
                    <a:pt x="2486" y="1259"/>
                  </a:lnTo>
                  <a:lnTo>
                    <a:pt x="2493" y="1256"/>
                  </a:lnTo>
                  <a:lnTo>
                    <a:pt x="2498" y="1253"/>
                  </a:lnTo>
                  <a:lnTo>
                    <a:pt x="2500" y="1251"/>
                  </a:lnTo>
                  <a:lnTo>
                    <a:pt x="2501" y="1249"/>
                  </a:lnTo>
                  <a:lnTo>
                    <a:pt x="2520" y="1259"/>
                  </a:lnTo>
                  <a:lnTo>
                    <a:pt x="2501" y="1293"/>
                  </a:lnTo>
                  <a:lnTo>
                    <a:pt x="2501" y="1294"/>
                  </a:lnTo>
                  <a:lnTo>
                    <a:pt x="2501" y="1299"/>
                  </a:lnTo>
                  <a:lnTo>
                    <a:pt x="2503" y="1304"/>
                  </a:lnTo>
                  <a:lnTo>
                    <a:pt x="2511" y="1306"/>
                  </a:lnTo>
                  <a:lnTo>
                    <a:pt x="2521" y="1314"/>
                  </a:lnTo>
                  <a:lnTo>
                    <a:pt x="2531" y="1329"/>
                  </a:lnTo>
                  <a:lnTo>
                    <a:pt x="2536" y="1346"/>
                  </a:lnTo>
                  <a:lnTo>
                    <a:pt x="2540" y="1354"/>
                  </a:lnTo>
                  <a:lnTo>
                    <a:pt x="2541" y="1356"/>
                  </a:lnTo>
                  <a:lnTo>
                    <a:pt x="2546" y="1361"/>
                  </a:lnTo>
                  <a:lnTo>
                    <a:pt x="2553" y="1368"/>
                  </a:lnTo>
                  <a:lnTo>
                    <a:pt x="2561" y="1378"/>
                  </a:lnTo>
                  <a:lnTo>
                    <a:pt x="2571" y="1388"/>
                  </a:lnTo>
                  <a:lnTo>
                    <a:pt x="2583" y="1401"/>
                  </a:lnTo>
                  <a:lnTo>
                    <a:pt x="2595" y="1414"/>
                  </a:lnTo>
                  <a:lnTo>
                    <a:pt x="2606" y="1428"/>
                  </a:lnTo>
                  <a:lnTo>
                    <a:pt x="2618" y="1443"/>
                  </a:lnTo>
                  <a:lnTo>
                    <a:pt x="2631" y="1458"/>
                  </a:lnTo>
                  <a:lnTo>
                    <a:pt x="2645" y="1473"/>
                  </a:lnTo>
                  <a:lnTo>
                    <a:pt x="2658" y="1488"/>
                  </a:lnTo>
                  <a:lnTo>
                    <a:pt x="2670" y="1501"/>
                  </a:lnTo>
                  <a:lnTo>
                    <a:pt x="2680" y="1511"/>
                  </a:lnTo>
                  <a:lnTo>
                    <a:pt x="2688" y="1521"/>
                  </a:lnTo>
                  <a:lnTo>
                    <a:pt x="2691" y="1528"/>
                  </a:lnTo>
                  <a:lnTo>
                    <a:pt x="2701" y="1533"/>
                  </a:lnTo>
                  <a:lnTo>
                    <a:pt x="2723" y="1538"/>
                  </a:lnTo>
                  <a:lnTo>
                    <a:pt x="2753" y="1543"/>
                  </a:lnTo>
                  <a:lnTo>
                    <a:pt x="2790" y="1546"/>
                  </a:lnTo>
                  <a:lnTo>
                    <a:pt x="2828" y="1549"/>
                  </a:lnTo>
                  <a:lnTo>
                    <a:pt x="2863" y="1551"/>
                  </a:lnTo>
                  <a:lnTo>
                    <a:pt x="2891" y="1554"/>
                  </a:lnTo>
                  <a:lnTo>
                    <a:pt x="2910" y="1556"/>
                  </a:lnTo>
                  <a:lnTo>
                    <a:pt x="2925" y="1558"/>
                  </a:lnTo>
                  <a:lnTo>
                    <a:pt x="2945" y="1559"/>
                  </a:lnTo>
                  <a:lnTo>
                    <a:pt x="2968" y="1561"/>
                  </a:lnTo>
                  <a:lnTo>
                    <a:pt x="2992" y="1563"/>
                  </a:lnTo>
                  <a:lnTo>
                    <a:pt x="3013" y="1566"/>
                  </a:lnTo>
                  <a:lnTo>
                    <a:pt x="3033" y="1568"/>
                  </a:lnTo>
                  <a:lnTo>
                    <a:pt x="3048" y="1569"/>
                  </a:lnTo>
                  <a:lnTo>
                    <a:pt x="3057" y="1571"/>
                  </a:lnTo>
                  <a:lnTo>
                    <a:pt x="3070" y="1569"/>
                  </a:lnTo>
                  <a:lnTo>
                    <a:pt x="3083" y="1563"/>
                  </a:lnTo>
                  <a:lnTo>
                    <a:pt x="3095" y="1554"/>
                  </a:lnTo>
                  <a:lnTo>
                    <a:pt x="3100" y="1551"/>
                  </a:lnTo>
                  <a:lnTo>
                    <a:pt x="3102" y="1553"/>
                  </a:lnTo>
                  <a:lnTo>
                    <a:pt x="3105" y="1556"/>
                  </a:lnTo>
                  <a:lnTo>
                    <a:pt x="3112" y="1561"/>
                  </a:lnTo>
                  <a:lnTo>
                    <a:pt x="3120" y="1568"/>
                  </a:lnTo>
                  <a:lnTo>
                    <a:pt x="3130" y="1576"/>
                  </a:lnTo>
                  <a:lnTo>
                    <a:pt x="3140" y="1586"/>
                  </a:lnTo>
                  <a:lnTo>
                    <a:pt x="3152" y="1598"/>
                  </a:lnTo>
                  <a:lnTo>
                    <a:pt x="3162" y="1609"/>
                  </a:lnTo>
                  <a:lnTo>
                    <a:pt x="3172" y="1624"/>
                  </a:lnTo>
                  <a:lnTo>
                    <a:pt x="3180" y="1638"/>
                  </a:lnTo>
                  <a:lnTo>
                    <a:pt x="3183" y="1653"/>
                  </a:lnTo>
                  <a:lnTo>
                    <a:pt x="3185" y="1668"/>
                  </a:lnTo>
                  <a:lnTo>
                    <a:pt x="3185" y="1678"/>
                  </a:lnTo>
                  <a:lnTo>
                    <a:pt x="3183" y="1688"/>
                  </a:lnTo>
                  <a:lnTo>
                    <a:pt x="3180" y="1696"/>
                  </a:lnTo>
                  <a:lnTo>
                    <a:pt x="3175" y="1704"/>
                  </a:lnTo>
                  <a:lnTo>
                    <a:pt x="3168" y="1724"/>
                  </a:lnTo>
                  <a:lnTo>
                    <a:pt x="3168" y="1748"/>
                  </a:lnTo>
                  <a:lnTo>
                    <a:pt x="3168" y="1771"/>
                  </a:lnTo>
                  <a:lnTo>
                    <a:pt x="3167" y="1795"/>
                  </a:lnTo>
                  <a:lnTo>
                    <a:pt x="3162" y="1815"/>
                  </a:lnTo>
                  <a:lnTo>
                    <a:pt x="3153" y="1835"/>
                  </a:lnTo>
                  <a:lnTo>
                    <a:pt x="3145" y="1851"/>
                  </a:lnTo>
                  <a:lnTo>
                    <a:pt x="3138" y="1870"/>
                  </a:lnTo>
                  <a:lnTo>
                    <a:pt x="3132" y="1890"/>
                  </a:lnTo>
                  <a:lnTo>
                    <a:pt x="3125" y="1913"/>
                  </a:lnTo>
                  <a:lnTo>
                    <a:pt x="3120" y="1933"/>
                  </a:lnTo>
                  <a:lnTo>
                    <a:pt x="3118" y="1951"/>
                  </a:lnTo>
                  <a:lnTo>
                    <a:pt x="3117" y="1965"/>
                  </a:lnTo>
                  <a:lnTo>
                    <a:pt x="3115" y="1976"/>
                  </a:lnTo>
                  <a:lnTo>
                    <a:pt x="3108" y="1986"/>
                  </a:lnTo>
                  <a:lnTo>
                    <a:pt x="3100" y="1993"/>
                  </a:lnTo>
                  <a:lnTo>
                    <a:pt x="3093" y="1996"/>
                  </a:lnTo>
                  <a:lnTo>
                    <a:pt x="3078" y="2003"/>
                  </a:lnTo>
                  <a:lnTo>
                    <a:pt x="3057" y="2013"/>
                  </a:lnTo>
                  <a:lnTo>
                    <a:pt x="3028" y="2026"/>
                  </a:lnTo>
                  <a:lnTo>
                    <a:pt x="2997" y="2040"/>
                  </a:lnTo>
                  <a:lnTo>
                    <a:pt x="2962" y="2056"/>
                  </a:lnTo>
                  <a:lnTo>
                    <a:pt x="2923" y="2073"/>
                  </a:lnTo>
                  <a:lnTo>
                    <a:pt x="2885" y="2090"/>
                  </a:lnTo>
                  <a:lnTo>
                    <a:pt x="2845" y="2108"/>
                  </a:lnTo>
                  <a:lnTo>
                    <a:pt x="2806" y="2125"/>
                  </a:lnTo>
                  <a:lnTo>
                    <a:pt x="2770" y="2141"/>
                  </a:lnTo>
                  <a:lnTo>
                    <a:pt x="2736" y="2155"/>
                  </a:lnTo>
                  <a:lnTo>
                    <a:pt x="2708" y="2168"/>
                  </a:lnTo>
                  <a:lnTo>
                    <a:pt x="2685" y="2180"/>
                  </a:lnTo>
                  <a:lnTo>
                    <a:pt x="2668" y="2188"/>
                  </a:lnTo>
                  <a:lnTo>
                    <a:pt x="2658" y="2193"/>
                  </a:lnTo>
                  <a:lnTo>
                    <a:pt x="2645" y="2200"/>
                  </a:lnTo>
                  <a:lnTo>
                    <a:pt x="2628" y="2205"/>
                  </a:lnTo>
                  <a:lnTo>
                    <a:pt x="2608" y="2208"/>
                  </a:lnTo>
                  <a:lnTo>
                    <a:pt x="2586" y="2211"/>
                  </a:lnTo>
                  <a:lnTo>
                    <a:pt x="2561" y="2215"/>
                  </a:lnTo>
                  <a:lnTo>
                    <a:pt x="2535" y="2220"/>
                  </a:lnTo>
                  <a:lnTo>
                    <a:pt x="2508" y="2225"/>
                  </a:lnTo>
                  <a:lnTo>
                    <a:pt x="2481" y="2231"/>
                  </a:lnTo>
                  <a:lnTo>
                    <a:pt x="2466" y="2235"/>
                  </a:lnTo>
                  <a:lnTo>
                    <a:pt x="2446" y="2240"/>
                  </a:lnTo>
                  <a:lnTo>
                    <a:pt x="2425" y="2245"/>
                  </a:lnTo>
                  <a:lnTo>
                    <a:pt x="2398" y="2252"/>
                  </a:lnTo>
                  <a:lnTo>
                    <a:pt x="2371" y="2258"/>
                  </a:lnTo>
                  <a:lnTo>
                    <a:pt x="2343" y="2265"/>
                  </a:lnTo>
                  <a:lnTo>
                    <a:pt x="2313" y="2272"/>
                  </a:lnTo>
                  <a:lnTo>
                    <a:pt x="2283" y="2278"/>
                  </a:lnTo>
                  <a:lnTo>
                    <a:pt x="2253" y="2285"/>
                  </a:lnTo>
                  <a:lnTo>
                    <a:pt x="2224" y="2293"/>
                  </a:lnTo>
                  <a:lnTo>
                    <a:pt x="2198" y="2300"/>
                  </a:lnTo>
                  <a:lnTo>
                    <a:pt x="2173" y="2307"/>
                  </a:lnTo>
                  <a:lnTo>
                    <a:pt x="2151" y="2312"/>
                  </a:lnTo>
                  <a:lnTo>
                    <a:pt x="2134" y="2318"/>
                  </a:lnTo>
                  <a:lnTo>
                    <a:pt x="2119" y="2323"/>
                  </a:lnTo>
                  <a:lnTo>
                    <a:pt x="2111" y="2327"/>
                  </a:lnTo>
                  <a:lnTo>
                    <a:pt x="2098" y="2333"/>
                  </a:lnTo>
                  <a:lnTo>
                    <a:pt x="2086" y="2338"/>
                  </a:lnTo>
                  <a:lnTo>
                    <a:pt x="2071" y="2347"/>
                  </a:lnTo>
                  <a:lnTo>
                    <a:pt x="2058" y="2353"/>
                  </a:lnTo>
                  <a:lnTo>
                    <a:pt x="2043" y="2365"/>
                  </a:lnTo>
                  <a:lnTo>
                    <a:pt x="2028" y="2378"/>
                  </a:lnTo>
                  <a:lnTo>
                    <a:pt x="2011" y="2398"/>
                  </a:lnTo>
                  <a:lnTo>
                    <a:pt x="1993" y="2422"/>
                  </a:lnTo>
                  <a:lnTo>
                    <a:pt x="1976" y="2447"/>
                  </a:lnTo>
                  <a:lnTo>
                    <a:pt x="1961" y="2470"/>
                  </a:lnTo>
                  <a:lnTo>
                    <a:pt x="1946" y="2492"/>
                  </a:lnTo>
                  <a:lnTo>
                    <a:pt x="1933" y="2512"/>
                  </a:lnTo>
                  <a:lnTo>
                    <a:pt x="1923" y="2528"/>
                  </a:lnTo>
                  <a:lnTo>
                    <a:pt x="1913" y="2542"/>
                  </a:lnTo>
                  <a:lnTo>
                    <a:pt x="1904" y="2552"/>
                  </a:lnTo>
                  <a:lnTo>
                    <a:pt x="1898" y="2558"/>
                  </a:lnTo>
                  <a:lnTo>
                    <a:pt x="1891" y="2563"/>
                  </a:lnTo>
                  <a:lnTo>
                    <a:pt x="1884" y="2568"/>
                  </a:lnTo>
                  <a:lnTo>
                    <a:pt x="1874" y="2573"/>
                  </a:lnTo>
                  <a:lnTo>
                    <a:pt x="1864" y="2575"/>
                  </a:lnTo>
                  <a:lnTo>
                    <a:pt x="1853" y="2577"/>
                  </a:lnTo>
                  <a:lnTo>
                    <a:pt x="1843" y="2577"/>
                  </a:lnTo>
                  <a:lnTo>
                    <a:pt x="1833" y="2573"/>
                  </a:lnTo>
                  <a:lnTo>
                    <a:pt x="1823" y="2568"/>
                  </a:lnTo>
                  <a:lnTo>
                    <a:pt x="1814" y="2562"/>
                  </a:lnTo>
                  <a:lnTo>
                    <a:pt x="1806" y="2553"/>
                  </a:lnTo>
                  <a:lnTo>
                    <a:pt x="1799" y="2547"/>
                  </a:lnTo>
                  <a:lnTo>
                    <a:pt x="1794" y="2538"/>
                  </a:lnTo>
                  <a:lnTo>
                    <a:pt x="1787" y="2533"/>
                  </a:lnTo>
                  <a:lnTo>
                    <a:pt x="1781" y="2530"/>
                  </a:lnTo>
                  <a:lnTo>
                    <a:pt x="1772" y="2528"/>
                  </a:lnTo>
                  <a:lnTo>
                    <a:pt x="1764" y="2530"/>
                  </a:lnTo>
                  <a:lnTo>
                    <a:pt x="1752" y="2533"/>
                  </a:lnTo>
                  <a:lnTo>
                    <a:pt x="1739" y="2535"/>
                  </a:lnTo>
                  <a:lnTo>
                    <a:pt x="1722" y="2535"/>
                  </a:lnTo>
                  <a:lnTo>
                    <a:pt x="1704" y="2535"/>
                  </a:lnTo>
                  <a:lnTo>
                    <a:pt x="1684" y="2535"/>
                  </a:lnTo>
                  <a:lnTo>
                    <a:pt x="1666" y="2533"/>
                  </a:lnTo>
                  <a:lnTo>
                    <a:pt x="1647" y="2532"/>
                  </a:lnTo>
                  <a:lnTo>
                    <a:pt x="1632" y="2530"/>
                  </a:lnTo>
                  <a:lnTo>
                    <a:pt x="1617" y="2528"/>
                  </a:lnTo>
                  <a:lnTo>
                    <a:pt x="1602" y="2525"/>
                  </a:lnTo>
                  <a:lnTo>
                    <a:pt x="1589" y="2520"/>
                  </a:lnTo>
                  <a:lnTo>
                    <a:pt x="1574" y="2517"/>
                  </a:lnTo>
                  <a:lnTo>
                    <a:pt x="1561" y="2513"/>
                  </a:lnTo>
                  <a:lnTo>
                    <a:pt x="1549" y="2510"/>
                  </a:lnTo>
                  <a:lnTo>
                    <a:pt x="1537" y="2507"/>
                  </a:lnTo>
                  <a:lnTo>
                    <a:pt x="1527" y="2507"/>
                  </a:lnTo>
                  <a:lnTo>
                    <a:pt x="1514" y="2507"/>
                  </a:lnTo>
                  <a:lnTo>
                    <a:pt x="1492" y="2507"/>
                  </a:lnTo>
                  <a:lnTo>
                    <a:pt x="1466" y="2508"/>
                  </a:lnTo>
                  <a:lnTo>
                    <a:pt x="1436" y="2508"/>
                  </a:lnTo>
                  <a:lnTo>
                    <a:pt x="1409" y="2510"/>
                  </a:lnTo>
                  <a:lnTo>
                    <a:pt x="1386" y="2512"/>
                  </a:lnTo>
                  <a:lnTo>
                    <a:pt x="1369" y="2512"/>
                  </a:lnTo>
                  <a:lnTo>
                    <a:pt x="1362" y="2512"/>
                  </a:lnTo>
                  <a:lnTo>
                    <a:pt x="1361" y="2513"/>
                  </a:lnTo>
                  <a:lnTo>
                    <a:pt x="1356" y="2515"/>
                  </a:lnTo>
                  <a:lnTo>
                    <a:pt x="1349" y="2518"/>
                  </a:lnTo>
                  <a:lnTo>
                    <a:pt x="1339" y="2520"/>
                  </a:lnTo>
                  <a:lnTo>
                    <a:pt x="1329" y="2522"/>
                  </a:lnTo>
                  <a:lnTo>
                    <a:pt x="1317" y="2522"/>
                  </a:lnTo>
                  <a:lnTo>
                    <a:pt x="1304" y="2518"/>
                  </a:lnTo>
                  <a:lnTo>
                    <a:pt x="1292" y="2512"/>
                  </a:lnTo>
                  <a:lnTo>
                    <a:pt x="1281" y="2503"/>
                  </a:lnTo>
                  <a:lnTo>
                    <a:pt x="1272" y="2497"/>
                  </a:lnTo>
                  <a:lnTo>
                    <a:pt x="1266" y="2490"/>
                  </a:lnTo>
                  <a:lnTo>
                    <a:pt x="1261" y="2485"/>
                  </a:lnTo>
                  <a:lnTo>
                    <a:pt x="1256" y="2482"/>
                  </a:lnTo>
                  <a:lnTo>
                    <a:pt x="1250" y="2480"/>
                  </a:lnTo>
                  <a:lnTo>
                    <a:pt x="1245" y="2480"/>
                  </a:lnTo>
                  <a:lnTo>
                    <a:pt x="1239" y="2483"/>
                  </a:lnTo>
                  <a:lnTo>
                    <a:pt x="1232" y="2490"/>
                  </a:lnTo>
                  <a:lnTo>
                    <a:pt x="1235" y="2498"/>
                  </a:lnTo>
                  <a:lnTo>
                    <a:pt x="1240" y="2510"/>
                  </a:lnTo>
                  <a:lnTo>
                    <a:pt x="1239" y="2525"/>
                  </a:lnTo>
                  <a:lnTo>
                    <a:pt x="1234" y="2545"/>
                  </a:lnTo>
                  <a:lnTo>
                    <a:pt x="1232" y="2567"/>
                  </a:lnTo>
                  <a:lnTo>
                    <a:pt x="1234" y="2587"/>
                  </a:lnTo>
                  <a:lnTo>
                    <a:pt x="1234" y="2602"/>
                  </a:lnTo>
                  <a:lnTo>
                    <a:pt x="1230" y="2615"/>
                  </a:lnTo>
                  <a:lnTo>
                    <a:pt x="1225" y="2630"/>
                  </a:lnTo>
                  <a:lnTo>
                    <a:pt x="1219" y="2643"/>
                  </a:lnTo>
                  <a:lnTo>
                    <a:pt x="1215" y="2648"/>
                  </a:lnTo>
                  <a:lnTo>
                    <a:pt x="1177" y="2678"/>
                  </a:lnTo>
                  <a:lnTo>
                    <a:pt x="1175" y="2672"/>
                  </a:lnTo>
                  <a:lnTo>
                    <a:pt x="1170" y="2657"/>
                  </a:lnTo>
                  <a:lnTo>
                    <a:pt x="1167" y="2640"/>
                  </a:lnTo>
                  <a:lnTo>
                    <a:pt x="1167" y="2625"/>
                  </a:lnTo>
                  <a:lnTo>
                    <a:pt x="1167" y="2613"/>
                  </a:lnTo>
                  <a:lnTo>
                    <a:pt x="1164" y="2598"/>
                  </a:lnTo>
                  <a:lnTo>
                    <a:pt x="1154" y="2583"/>
                  </a:lnTo>
                  <a:lnTo>
                    <a:pt x="1144" y="2568"/>
                  </a:lnTo>
                  <a:lnTo>
                    <a:pt x="1134" y="2555"/>
                  </a:lnTo>
                  <a:lnTo>
                    <a:pt x="1124" y="2543"/>
                  </a:lnTo>
                  <a:lnTo>
                    <a:pt x="1115" y="2532"/>
                  </a:lnTo>
                  <a:lnTo>
                    <a:pt x="1110" y="2522"/>
                  </a:lnTo>
                  <a:lnTo>
                    <a:pt x="1107" y="2508"/>
                  </a:lnTo>
                  <a:lnTo>
                    <a:pt x="1104" y="2492"/>
                  </a:lnTo>
                  <a:lnTo>
                    <a:pt x="1095" y="2475"/>
                  </a:lnTo>
                  <a:lnTo>
                    <a:pt x="1082" y="2458"/>
                  </a:lnTo>
                  <a:lnTo>
                    <a:pt x="1072" y="2450"/>
                  </a:lnTo>
                  <a:lnTo>
                    <a:pt x="1059" y="2437"/>
                  </a:lnTo>
                  <a:lnTo>
                    <a:pt x="1044" y="2423"/>
                  </a:lnTo>
                  <a:lnTo>
                    <a:pt x="1029" y="2405"/>
                  </a:lnTo>
                  <a:lnTo>
                    <a:pt x="1014" y="2387"/>
                  </a:lnTo>
                  <a:lnTo>
                    <a:pt x="999" y="2368"/>
                  </a:lnTo>
                  <a:lnTo>
                    <a:pt x="987" y="2350"/>
                  </a:lnTo>
                  <a:lnTo>
                    <a:pt x="979" y="2332"/>
                  </a:lnTo>
                  <a:lnTo>
                    <a:pt x="964" y="2302"/>
                  </a:lnTo>
                  <a:lnTo>
                    <a:pt x="949" y="2280"/>
                  </a:lnTo>
                  <a:lnTo>
                    <a:pt x="937" y="2263"/>
                  </a:lnTo>
                  <a:lnTo>
                    <a:pt x="930" y="2245"/>
                  </a:lnTo>
                  <a:lnTo>
                    <a:pt x="927" y="2231"/>
                  </a:lnTo>
                  <a:lnTo>
                    <a:pt x="920" y="2211"/>
                  </a:lnTo>
                  <a:lnTo>
                    <a:pt x="910" y="2190"/>
                  </a:lnTo>
                  <a:lnTo>
                    <a:pt x="900" y="2166"/>
                  </a:lnTo>
                  <a:lnTo>
                    <a:pt x="890" y="2143"/>
                  </a:lnTo>
                  <a:lnTo>
                    <a:pt x="880" y="2123"/>
                  </a:lnTo>
                  <a:lnTo>
                    <a:pt x="870" y="2108"/>
                  </a:lnTo>
                  <a:lnTo>
                    <a:pt x="864" y="2098"/>
                  </a:lnTo>
                  <a:lnTo>
                    <a:pt x="854" y="2085"/>
                  </a:lnTo>
                  <a:lnTo>
                    <a:pt x="845" y="2071"/>
                  </a:lnTo>
                  <a:lnTo>
                    <a:pt x="834" y="2056"/>
                  </a:lnTo>
                  <a:lnTo>
                    <a:pt x="822" y="2041"/>
                  </a:lnTo>
                  <a:lnTo>
                    <a:pt x="814" y="2033"/>
                  </a:lnTo>
                  <a:lnTo>
                    <a:pt x="802" y="2025"/>
                  </a:lnTo>
                  <a:lnTo>
                    <a:pt x="790" y="2018"/>
                  </a:lnTo>
                  <a:lnTo>
                    <a:pt x="779" y="2010"/>
                  </a:lnTo>
                  <a:lnTo>
                    <a:pt x="765" y="2003"/>
                  </a:lnTo>
                  <a:lnTo>
                    <a:pt x="752" y="1998"/>
                  </a:lnTo>
                  <a:lnTo>
                    <a:pt x="740" y="1995"/>
                  </a:lnTo>
                  <a:lnTo>
                    <a:pt x="730" y="1993"/>
                  </a:lnTo>
                  <a:lnTo>
                    <a:pt x="722" y="1991"/>
                  </a:lnTo>
                  <a:lnTo>
                    <a:pt x="717" y="1988"/>
                  </a:lnTo>
                  <a:lnTo>
                    <a:pt x="710" y="1983"/>
                  </a:lnTo>
                  <a:lnTo>
                    <a:pt x="705" y="1975"/>
                  </a:lnTo>
                  <a:lnTo>
                    <a:pt x="700" y="1966"/>
                  </a:lnTo>
                  <a:lnTo>
                    <a:pt x="693" y="1953"/>
                  </a:lnTo>
                  <a:lnTo>
                    <a:pt x="685" y="1940"/>
                  </a:lnTo>
                  <a:lnTo>
                    <a:pt x="673" y="1923"/>
                  </a:lnTo>
                  <a:lnTo>
                    <a:pt x="662" y="1905"/>
                  </a:lnTo>
                  <a:lnTo>
                    <a:pt x="652" y="1886"/>
                  </a:lnTo>
                  <a:lnTo>
                    <a:pt x="642" y="1868"/>
                  </a:lnTo>
                  <a:lnTo>
                    <a:pt x="635" y="1851"/>
                  </a:lnTo>
                  <a:lnTo>
                    <a:pt x="628" y="1833"/>
                  </a:lnTo>
                  <a:lnTo>
                    <a:pt x="623" y="1818"/>
                  </a:lnTo>
                  <a:lnTo>
                    <a:pt x="620" y="1803"/>
                  </a:lnTo>
                  <a:lnTo>
                    <a:pt x="617" y="1790"/>
                  </a:lnTo>
                  <a:lnTo>
                    <a:pt x="612" y="1765"/>
                  </a:lnTo>
                  <a:lnTo>
                    <a:pt x="603" y="1741"/>
                  </a:lnTo>
                  <a:lnTo>
                    <a:pt x="597" y="1724"/>
                  </a:lnTo>
                  <a:lnTo>
                    <a:pt x="593" y="1718"/>
                  </a:lnTo>
                  <a:lnTo>
                    <a:pt x="600" y="1706"/>
                  </a:lnTo>
                  <a:lnTo>
                    <a:pt x="610" y="1676"/>
                  </a:lnTo>
                  <a:lnTo>
                    <a:pt x="617" y="1636"/>
                  </a:lnTo>
                  <a:lnTo>
                    <a:pt x="607" y="1594"/>
                  </a:lnTo>
                  <a:lnTo>
                    <a:pt x="590" y="1559"/>
                  </a:lnTo>
                  <a:lnTo>
                    <a:pt x="582" y="1531"/>
                  </a:lnTo>
                  <a:lnTo>
                    <a:pt x="573" y="1503"/>
                  </a:lnTo>
                  <a:lnTo>
                    <a:pt x="560" y="1471"/>
                  </a:lnTo>
                  <a:lnTo>
                    <a:pt x="552" y="1454"/>
                  </a:lnTo>
                  <a:lnTo>
                    <a:pt x="547" y="1439"/>
                  </a:lnTo>
                  <a:lnTo>
                    <a:pt x="542" y="1426"/>
                  </a:lnTo>
                  <a:lnTo>
                    <a:pt x="537" y="1413"/>
                  </a:lnTo>
                  <a:lnTo>
                    <a:pt x="532" y="1401"/>
                  </a:lnTo>
                  <a:lnTo>
                    <a:pt x="525" y="1393"/>
                  </a:lnTo>
                  <a:lnTo>
                    <a:pt x="518" y="1383"/>
                  </a:lnTo>
                  <a:lnTo>
                    <a:pt x="508" y="1376"/>
                  </a:lnTo>
                  <a:lnTo>
                    <a:pt x="497" y="1369"/>
                  </a:lnTo>
                  <a:lnTo>
                    <a:pt x="487" y="1361"/>
                  </a:lnTo>
                  <a:lnTo>
                    <a:pt x="475" y="1354"/>
                  </a:lnTo>
                  <a:lnTo>
                    <a:pt x="463" y="1346"/>
                  </a:lnTo>
                  <a:lnTo>
                    <a:pt x="452" y="1338"/>
                  </a:lnTo>
                  <a:lnTo>
                    <a:pt x="440" y="1329"/>
                  </a:lnTo>
                  <a:lnTo>
                    <a:pt x="427" y="1323"/>
                  </a:lnTo>
                  <a:lnTo>
                    <a:pt x="413" y="1316"/>
                  </a:lnTo>
                  <a:lnTo>
                    <a:pt x="392" y="1303"/>
                  </a:lnTo>
                  <a:lnTo>
                    <a:pt x="382" y="1286"/>
                  </a:lnTo>
                  <a:lnTo>
                    <a:pt x="375" y="1268"/>
                  </a:lnTo>
                  <a:lnTo>
                    <a:pt x="365" y="1249"/>
                  </a:lnTo>
                  <a:lnTo>
                    <a:pt x="355" y="1232"/>
                  </a:lnTo>
                  <a:lnTo>
                    <a:pt x="348" y="1219"/>
                  </a:lnTo>
                  <a:lnTo>
                    <a:pt x="347" y="1209"/>
                  </a:lnTo>
                  <a:lnTo>
                    <a:pt x="347" y="1206"/>
                  </a:lnTo>
                  <a:lnTo>
                    <a:pt x="348" y="1206"/>
                  </a:lnTo>
                  <a:lnTo>
                    <a:pt x="353" y="1204"/>
                  </a:lnTo>
                  <a:lnTo>
                    <a:pt x="360" y="1201"/>
                  </a:lnTo>
                  <a:lnTo>
                    <a:pt x="367" y="1194"/>
                  </a:lnTo>
                  <a:lnTo>
                    <a:pt x="370" y="1187"/>
                  </a:lnTo>
                  <a:lnTo>
                    <a:pt x="370" y="1176"/>
                  </a:lnTo>
                  <a:lnTo>
                    <a:pt x="365" y="1162"/>
                  </a:lnTo>
                  <a:lnTo>
                    <a:pt x="352" y="1144"/>
                  </a:lnTo>
                  <a:lnTo>
                    <a:pt x="330" y="1122"/>
                  </a:lnTo>
                  <a:lnTo>
                    <a:pt x="327" y="1122"/>
                  </a:lnTo>
                  <a:lnTo>
                    <a:pt x="330" y="1126"/>
                  </a:lnTo>
                  <a:lnTo>
                    <a:pt x="327" y="1112"/>
                  </a:lnTo>
                  <a:lnTo>
                    <a:pt x="320" y="1091"/>
                  </a:lnTo>
                  <a:lnTo>
                    <a:pt x="315" y="1076"/>
                  </a:lnTo>
                  <a:lnTo>
                    <a:pt x="308" y="1066"/>
                  </a:lnTo>
                  <a:lnTo>
                    <a:pt x="293" y="1054"/>
                  </a:lnTo>
                  <a:lnTo>
                    <a:pt x="283" y="1039"/>
                  </a:lnTo>
                  <a:lnTo>
                    <a:pt x="285" y="1024"/>
                  </a:lnTo>
                  <a:lnTo>
                    <a:pt x="287" y="1011"/>
                  </a:lnTo>
                  <a:lnTo>
                    <a:pt x="275" y="997"/>
                  </a:lnTo>
                  <a:lnTo>
                    <a:pt x="257" y="986"/>
                  </a:lnTo>
                  <a:lnTo>
                    <a:pt x="243" y="971"/>
                  </a:lnTo>
                  <a:lnTo>
                    <a:pt x="235" y="954"/>
                  </a:lnTo>
                  <a:lnTo>
                    <a:pt x="232" y="936"/>
                  </a:lnTo>
                  <a:lnTo>
                    <a:pt x="228" y="916"/>
                  </a:lnTo>
                  <a:lnTo>
                    <a:pt x="218" y="889"/>
                  </a:lnTo>
                  <a:lnTo>
                    <a:pt x="205" y="862"/>
                  </a:lnTo>
                  <a:lnTo>
                    <a:pt x="185" y="836"/>
                  </a:lnTo>
                  <a:lnTo>
                    <a:pt x="172" y="814"/>
                  </a:lnTo>
                  <a:lnTo>
                    <a:pt x="168" y="796"/>
                  </a:lnTo>
                  <a:lnTo>
                    <a:pt x="167" y="782"/>
                  </a:lnTo>
                  <a:lnTo>
                    <a:pt x="157" y="774"/>
                  </a:lnTo>
                  <a:lnTo>
                    <a:pt x="145" y="766"/>
                  </a:lnTo>
                  <a:lnTo>
                    <a:pt x="140" y="754"/>
                  </a:lnTo>
                  <a:lnTo>
                    <a:pt x="133" y="739"/>
                  </a:lnTo>
                  <a:lnTo>
                    <a:pt x="118" y="722"/>
                  </a:lnTo>
                  <a:lnTo>
                    <a:pt x="100" y="700"/>
                  </a:lnTo>
                  <a:lnTo>
                    <a:pt x="86" y="674"/>
                  </a:lnTo>
                  <a:lnTo>
                    <a:pt x="78" y="652"/>
                  </a:lnTo>
                  <a:lnTo>
                    <a:pt x="75" y="642"/>
                  </a:lnTo>
                  <a:lnTo>
                    <a:pt x="70" y="642"/>
                  </a:lnTo>
                  <a:lnTo>
                    <a:pt x="60" y="642"/>
                  </a:lnTo>
                  <a:lnTo>
                    <a:pt x="45" y="642"/>
                  </a:lnTo>
                  <a:lnTo>
                    <a:pt x="33" y="642"/>
                  </a:lnTo>
                  <a:lnTo>
                    <a:pt x="21" y="642"/>
                  </a:lnTo>
                  <a:lnTo>
                    <a:pt x="11" y="644"/>
                  </a:lnTo>
                  <a:lnTo>
                    <a:pt x="3" y="645"/>
                  </a:lnTo>
                  <a:lnTo>
                    <a:pt x="0" y="645"/>
                  </a:lnTo>
                  <a:lnTo>
                    <a:pt x="1" y="642"/>
                  </a:lnTo>
                  <a:lnTo>
                    <a:pt x="5" y="632"/>
                  </a:lnTo>
                  <a:lnTo>
                    <a:pt x="8" y="620"/>
                  </a:lnTo>
                  <a:lnTo>
                    <a:pt x="13" y="609"/>
                  </a:lnTo>
                  <a:lnTo>
                    <a:pt x="20" y="592"/>
                  </a:lnTo>
                  <a:lnTo>
                    <a:pt x="28" y="569"/>
                  </a:lnTo>
                  <a:lnTo>
                    <a:pt x="35" y="542"/>
                  </a:lnTo>
                  <a:lnTo>
                    <a:pt x="38" y="517"/>
                  </a:lnTo>
                  <a:lnTo>
                    <a:pt x="40" y="500"/>
                  </a:lnTo>
                  <a:lnTo>
                    <a:pt x="43" y="489"/>
                  </a:lnTo>
                  <a:lnTo>
                    <a:pt x="50" y="480"/>
                  </a:lnTo>
                  <a:lnTo>
                    <a:pt x="56" y="470"/>
                  </a:lnTo>
                  <a:lnTo>
                    <a:pt x="61" y="457"/>
                  </a:lnTo>
                  <a:lnTo>
                    <a:pt x="65" y="442"/>
                  </a:lnTo>
                  <a:lnTo>
                    <a:pt x="66" y="429"/>
                  </a:lnTo>
                  <a:lnTo>
                    <a:pt x="66" y="424"/>
                  </a:lnTo>
                  <a:lnTo>
                    <a:pt x="232" y="465"/>
                  </a:lnTo>
                  <a:lnTo>
                    <a:pt x="235" y="464"/>
                  </a:lnTo>
                  <a:lnTo>
                    <a:pt x="243" y="457"/>
                  </a:lnTo>
                  <a:lnTo>
                    <a:pt x="257" y="450"/>
                  </a:lnTo>
                  <a:lnTo>
                    <a:pt x="270" y="439"/>
                  </a:lnTo>
                  <a:lnTo>
                    <a:pt x="285" y="429"/>
                  </a:lnTo>
                  <a:lnTo>
                    <a:pt x="298" y="417"/>
                  </a:lnTo>
                  <a:lnTo>
                    <a:pt x="308" y="407"/>
                  </a:lnTo>
                  <a:lnTo>
                    <a:pt x="313" y="399"/>
                  </a:lnTo>
                  <a:lnTo>
                    <a:pt x="318" y="384"/>
                  </a:lnTo>
                  <a:lnTo>
                    <a:pt x="325" y="369"/>
                  </a:lnTo>
                  <a:lnTo>
                    <a:pt x="330" y="357"/>
                  </a:lnTo>
                  <a:lnTo>
                    <a:pt x="332" y="352"/>
                  </a:lnTo>
                  <a:lnTo>
                    <a:pt x="335" y="352"/>
                  </a:lnTo>
                  <a:lnTo>
                    <a:pt x="342" y="352"/>
                  </a:lnTo>
                  <a:lnTo>
                    <a:pt x="353" y="352"/>
                  </a:lnTo>
                  <a:lnTo>
                    <a:pt x="367" y="350"/>
                  </a:lnTo>
                  <a:lnTo>
                    <a:pt x="382" y="350"/>
                  </a:lnTo>
                  <a:lnTo>
                    <a:pt x="398" y="347"/>
                  </a:lnTo>
                  <a:lnTo>
                    <a:pt x="413" y="345"/>
                  </a:lnTo>
                  <a:lnTo>
                    <a:pt x="427" y="342"/>
                  </a:lnTo>
                  <a:lnTo>
                    <a:pt x="438" y="337"/>
                  </a:lnTo>
                  <a:lnTo>
                    <a:pt x="447" y="329"/>
                  </a:lnTo>
                  <a:lnTo>
                    <a:pt x="455" y="319"/>
                  </a:lnTo>
                  <a:lnTo>
                    <a:pt x="462" y="309"/>
                  </a:lnTo>
                  <a:lnTo>
                    <a:pt x="468" y="299"/>
                  </a:lnTo>
                  <a:lnTo>
                    <a:pt x="475" y="290"/>
                  </a:lnTo>
                  <a:lnTo>
                    <a:pt x="483" y="284"/>
                  </a:lnTo>
                  <a:lnTo>
                    <a:pt x="493" y="280"/>
                  </a:lnTo>
                  <a:lnTo>
                    <a:pt x="508" y="275"/>
                  </a:lnTo>
                  <a:lnTo>
                    <a:pt x="513" y="269"/>
                  </a:lnTo>
                  <a:lnTo>
                    <a:pt x="513" y="264"/>
                  </a:lnTo>
                  <a:lnTo>
                    <a:pt x="512" y="262"/>
                  </a:lnTo>
                  <a:lnTo>
                    <a:pt x="380" y="90"/>
                  </a:lnTo>
                  <a:close/>
                </a:path>
              </a:pathLst>
            </a:custGeom>
            <a:solidFill>
              <a:srgbClr val="b2b2b2">
                <a:alpha val="30000"/>
              </a:srgbClr>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336" name=""/>
          <p:cNvSpPr/>
          <p:nvPr/>
        </p:nvSpPr>
        <p:spPr>
          <a:xfrm>
            <a:off x="609480" y="6629400"/>
            <a:ext cx="8534520" cy="228600"/>
          </a:xfrm>
          <a:prstGeom prst="rect">
            <a:avLst/>
          </a:prstGeom>
          <a:solidFill>
            <a:srgbClr val="bbe0e3"/>
          </a:solidFill>
          <a:ln cap="sq"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99"/>
                </a:solidFill>
                <a:latin typeface="Albertus Medium"/>
              </a:rPr>
              <a:t>www.skinandallergy.org</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0" lang="en-US" sz="1000" spc="-1" strike="noStrike">
                <a:solidFill>
                  <a:srgbClr val="333399"/>
                </a:solidFill>
                <a:latin typeface="Albertus Medium"/>
              </a:rPr>
              <a:t>www.panarabderm.org</a:t>
            </a:r>
            <a:endParaRPr b="0" lang="en-US" sz="1000" spc="-1" strike="noStrike">
              <a:solidFill>
                <a:srgbClr val="000000"/>
              </a:solidFill>
              <a:latin typeface="Arial"/>
            </a:endParaRPr>
          </a:p>
        </p:txBody>
      </p:sp>
      <p:sp>
        <p:nvSpPr>
          <p:cNvPr id="337" name="PlaceHolder 1"/>
          <p:cNvSpPr>
            <a:spLocks noGrp="1"/>
          </p:cNvSpPr>
          <p:nvPr>
            <p:ph/>
          </p:nvPr>
        </p:nvSpPr>
        <p:spPr>
          <a:xfrm>
            <a:off x="761760" y="1600200"/>
            <a:ext cx="7924680" cy="4525920"/>
          </a:xfrm>
          <a:prstGeom prst="rect">
            <a:avLst/>
          </a:prstGeom>
          <a:noFill/>
          <a:ln w="0">
            <a:noFill/>
          </a:ln>
        </p:spPr>
        <p:txBody>
          <a:bodyPr lIns="90000" rIns="90000" tIns="46800" bIns="46800" anchor="t">
            <a:normAutofit/>
          </a:bodyPr>
          <a:p>
            <a:pPr marL="343080" indent="0" rtl="1">
              <a:lnSpc>
                <a:spcPct val="80000"/>
              </a:lnSpc>
              <a:spcBef>
                <a:spcPts val="55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200" spc="-1" strike="noStrike">
                <a:solidFill>
                  <a:srgbClr val="333399"/>
                </a:solidFill>
                <a:latin typeface="Arial"/>
              </a:rPr>
              <a:t>“</a:t>
            </a:r>
            <a:r>
              <a:rPr b="0" lang="en-US" sz="2200" spc="-1" strike="noStrike">
                <a:solidFill>
                  <a:srgbClr val="333399"/>
                </a:solidFill>
                <a:latin typeface="Arial"/>
              </a:rPr>
              <a:t>The marriage of nanotechnology and stem cell will dramatically advance our ability to understand and control stem cell-fate decision and develop novel stem cell technologies, which will eventually lead to stem cell-based therapeutics for the prevention, diagnosis and treatment of human diseases” Yubing Xie</a:t>
            </a:r>
            <a:endParaRPr b="0" lang="en-US" sz="2200" spc="-1" strike="noStrike">
              <a:solidFill>
                <a:srgbClr val="000000"/>
              </a:solidFill>
              <a:latin typeface="Arial"/>
            </a:endParaRPr>
          </a:p>
          <a:p>
            <a:pPr marL="343080" indent="0" rtl="1">
              <a:lnSpc>
                <a:spcPct val="80000"/>
              </a:lnSpc>
              <a:spcBef>
                <a:spcPts val="55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endParaRPr b="0" lang="en-US" sz="2200" spc="-1" strike="noStrike">
              <a:solidFill>
                <a:srgbClr val="000000"/>
              </a:solidFill>
              <a:latin typeface="Arial"/>
            </a:endParaRPr>
          </a:p>
          <a:p>
            <a:pPr marL="343080" indent="0" rtl="1">
              <a:lnSpc>
                <a:spcPct val="80000"/>
              </a:lnSpc>
              <a:spcBef>
                <a:spcPts val="55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200" spc="-1" strike="noStrike">
                <a:solidFill>
                  <a:srgbClr val="333399"/>
                </a:solidFill>
                <a:latin typeface="Arial"/>
              </a:rPr>
              <a:t>Three main categories can be assigned to the use of nanotechnology in stem cell research</a:t>
            </a:r>
            <a:endParaRPr b="0" lang="en-US" sz="2200" spc="-1" strike="noStrike">
              <a:solidFill>
                <a:srgbClr val="000000"/>
              </a:solidFill>
              <a:latin typeface="Arial"/>
            </a:endParaRPr>
          </a:p>
          <a:p>
            <a:pPr marL="343080" indent="0" rtl="1">
              <a:lnSpc>
                <a:spcPct val="80000"/>
              </a:lnSpc>
              <a:spcBef>
                <a:spcPts val="55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200" spc="-1" strike="noStrike">
                <a:solidFill>
                  <a:srgbClr val="333399"/>
                </a:solidFill>
                <a:latin typeface="Arial"/>
              </a:rPr>
              <a:t>1</a:t>
            </a:r>
            <a:r>
              <a:rPr b="0" lang="en-US" sz="2200" spc="-1" strike="noStrike">
                <a:solidFill>
                  <a:srgbClr val="333399"/>
                </a:solidFill>
                <a:latin typeface="Arial"/>
              </a:rPr>
              <a:t>- </a:t>
            </a:r>
            <a:r>
              <a:rPr b="0" lang="en-US" sz="2200" spc="-1" strike="noStrike">
                <a:solidFill>
                  <a:srgbClr val="333399"/>
                </a:solidFill>
                <a:latin typeface="Arial"/>
              </a:rPr>
              <a:t>tracking or labeling (Qdots, SPIO/ MRI)</a:t>
            </a:r>
            <a:endParaRPr b="0" lang="en-US" sz="2200" spc="-1" strike="noStrike">
              <a:solidFill>
                <a:srgbClr val="000000"/>
              </a:solidFill>
              <a:latin typeface="Arial"/>
            </a:endParaRPr>
          </a:p>
          <a:p>
            <a:pPr marL="343080" indent="0" rtl="1">
              <a:lnSpc>
                <a:spcPct val="80000"/>
              </a:lnSpc>
              <a:spcBef>
                <a:spcPts val="55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200" spc="-1" strike="noStrike">
                <a:solidFill>
                  <a:srgbClr val="333399"/>
                </a:solidFill>
                <a:latin typeface="Arial"/>
              </a:rPr>
              <a:t>2</a:t>
            </a:r>
            <a:r>
              <a:rPr b="0" lang="en-US" sz="2200" spc="-1" strike="noStrike">
                <a:solidFill>
                  <a:srgbClr val="333399"/>
                </a:solidFill>
                <a:latin typeface="Arial"/>
              </a:rPr>
              <a:t>-</a:t>
            </a:r>
            <a:r>
              <a:rPr b="0" lang="en-US" sz="2200" spc="-1" strike="noStrike">
                <a:solidFill>
                  <a:srgbClr val="333399"/>
                </a:solidFill>
                <a:latin typeface="Arial"/>
              </a:rPr>
              <a:t>delivery</a:t>
            </a:r>
            <a:endParaRPr b="0" lang="en-US" sz="2200" spc="-1" strike="noStrike">
              <a:solidFill>
                <a:srgbClr val="000000"/>
              </a:solidFill>
              <a:latin typeface="Arial"/>
            </a:endParaRPr>
          </a:p>
          <a:p>
            <a:pPr marL="343080" indent="0" rtl="1">
              <a:lnSpc>
                <a:spcPct val="80000"/>
              </a:lnSpc>
              <a:spcBef>
                <a:spcPts val="55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200" spc="-1" strike="noStrike">
                <a:solidFill>
                  <a:srgbClr val="333399"/>
                </a:solidFill>
                <a:latin typeface="Arial"/>
              </a:rPr>
              <a:t>3</a:t>
            </a:r>
            <a:r>
              <a:rPr b="0" lang="en-US" sz="2200" spc="-1" strike="noStrike">
                <a:solidFill>
                  <a:srgbClr val="333399"/>
                </a:solidFill>
                <a:latin typeface="Arial"/>
              </a:rPr>
              <a:t>-</a:t>
            </a:r>
            <a:r>
              <a:rPr b="0" lang="en-US" sz="2200" spc="-1" strike="noStrike">
                <a:solidFill>
                  <a:srgbClr val="333399"/>
                </a:solidFill>
                <a:latin typeface="Arial"/>
              </a:rPr>
              <a:t>scafold platforms e.g (Nanofibers)</a:t>
            </a:r>
            <a:r>
              <a:rPr b="0" lang="en-US" sz="2200" spc="-1" strike="noStrike">
                <a:solidFill>
                  <a:srgbClr val="333399"/>
                </a:solidFill>
                <a:latin typeface="Arial"/>
              </a:rPr>
              <a:t>. </a:t>
            </a:r>
            <a:endParaRPr b="0" lang="en-US" sz="2200" spc="-1" strike="noStrike">
              <a:solidFill>
                <a:srgbClr val="000000"/>
              </a:solidFill>
              <a:latin typeface="Arial"/>
            </a:endParaRPr>
          </a:p>
          <a:p>
            <a:pPr marL="341280" indent="0" rtl="1">
              <a:lnSpc>
                <a:spcPct val="80000"/>
              </a:lnSpc>
              <a:spcBef>
                <a:spcPts val="55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endParaRPr b="0" lang="en-US" sz="22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38" name="" descr=""/>
          <p:cNvPicPr/>
          <p:nvPr/>
        </p:nvPicPr>
        <p:blipFill>
          <a:blip r:embed="rId2"/>
          <a:stretch/>
        </p:blipFill>
        <p:spPr>
          <a:xfrm>
            <a:off x="8153280" y="74520"/>
            <a:ext cx="922320" cy="992160"/>
          </a:xfrm>
          <a:prstGeom prst="rect">
            <a:avLst/>
          </a:prstGeom>
          <a:ln w="0">
            <a:noFill/>
          </a:ln>
        </p:spPr>
      </p:pic>
      <p:sp>
        <p:nvSpPr>
          <p:cNvPr id="339" name=""/>
          <p:cNvSpPr/>
          <p:nvPr/>
        </p:nvSpPr>
        <p:spPr>
          <a:xfrm>
            <a:off x="1295280" y="1066680"/>
            <a:ext cx="6193080" cy="1800"/>
          </a:xfrm>
          <a:prstGeom prst="line">
            <a:avLst/>
          </a:prstGeom>
          <a:ln cap="sq" w="12600">
            <a:solidFill>
              <a:srgbClr val="b2b2b2"/>
            </a:solidFill>
            <a:miter/>
          </a:ln>
        </p:spPr>
        <p:style>
          <a:lnRef idx="0"/>
          <a:fillRef idx="0"/>
          <a:effectRef idx="0"/>
          <a:fontRef idx="minor"/>
        </p:style>
        <p:txBody>
          <a:bodyPr lIns="90000" rIns="90000" tIns="-45000" bIns="-45000" anchor="t">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340" name="" descr=""/>
          <p:cNvPicPr/>
          <p:nvPr/>
        </p:nvPicPr>
        <p:blipFill>
          <a:blip r:embed="rId3"/>
          <a:stretch/>
        </p:blipFill>
        <p:spPr>
          <a:xfrm>
            <a:off x="0" y="0"/>
            <a:ext cx="600120" cy="6858000"/>
          </a:xfrm>
          <a:prstGeom prst="rect">
            <a:avLst/>
          </a:prstGeom>
          <a:ln w="0">
            <a:noFill/>
          </a:ln>
        </p:spPr>
      </p:pic>
      <p:sp>
        <p:nvSpPr>
          <p:cNvPr id="341" name=""/>
          <p:cNvSpPr/>
          <p:nvPr/>
        </p:nvSpPr>
        <p:spPr>
          <a:xfrm>
            <a:off x="0" y="0"/>
            <a:ext cx="9144000" cy="9144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342" name=""/>
          <p:cNvGrpSpPr/>
          <p:nvPr/>
        </p:nvGrpSpPr>
        <p:grpSpPr>
          <a:xfrm>
            <a:off x="2666880" y="1378080"/>
            <a:ext cx="4521240" cy="3985920"/>
            <a:chOff x="2666880" y="1378080"/>
            <a:chExt cx="4521240" cy="3985920"/>
          </a:xfrm>
        </p:grpSpPr>
        <p:sp>
          <p:nvSpPr>
            <p:cNvPr id="343" name=""/>
            <p:cNvSpPr/>
            <p:nvPr/>
          </p:nvSpPr>
          <p:spPr>
            <a:xfrm>
              <a:off x="2666880" y="2351160"/>
              <a:ext cx="1720800" cy="3012840"/>
            </a:xfrm>
            <a:custGeom>
              <a:avLst/>
              <a:gdLst/>
              <a:ahLst/>
              <a:rect l="l" t="t" r="r" b="b"/>
              <a:pathLst>
                <a:path w="1261" h="2255">
                  <a:moveTo>
                    <a:pt x="1257" y="2027"/>
                  </a:moveTo>
                  <a:lnTo>
                    <a:pt x="1257" y="2015"/>
                  </a:lnTo>
                  <a:lnTo>
                    <a:pt x="1252" y="2000"/>
                  </a:lnTo>
                  <a:lnTo>
                    <a:pt x="1244" y="1985"/>
                  </a:lnTo>
                  <a:lnTo>
                    <a:pt x="1232" y="1970"/>
                  </a:lnTo>
                  <a:lnTo>
                    <a:pt x="1222" y="1956"/>
                  </a:lnTo>
                  <a:lnTo>
                    <a:pt x="1212" y="1945"/>
                  </a:lnTo>
                  <a:lnTo>
                    <a:pt x="1204" y="1933"/>
                  </a:lnTo>
                  <a:lnTo>
                    <a:pt x="1199" y="1921"/>
                  </a:lnTo>
                  <a:lnTo>
                    <a:pt x="1197" y="1910"/>
                  </a:lnTo>
                  <a:lnTo>
                    <a:pt x="1192" y="1893"/>
                  </a:lnTo>
                  <a:lnTo>
                    <a:pt x="1186" y="1876"/>
                  </a:lnTo>
                  <a:lnTo>
                    <a:pt x="1171" y="1860"/>
                  </a:lnTo>
                  <a:lnTo>
                    <a:pt x="1161" y="1851"/>
                  </a:lnTo>
                  <a:lnTo>
                    <a:pt x="1147" y="1838"/>
                  </a:lnTo>
                  <a:lnTo>
                    <a:pt x="1132" y="1823"/>
                  </a:lnTo>
                  <a:lnTo>
                    <a:pt x="1117" y="1806"/>
                  </a:lnTo>
                  <a:lnTo>
                    <a:pt x="1102" y="1788"/>
                  </a:lnTo>
                  <a:lnTo>
                    <a:pt x="1087" y="1770"/>
                  </a:lnTo>
                  <a:lnTo>
                    <a:pt x="1076" y="1750"/>
                  </a:lnTo>
                  <a:lnTo>
                    <a:pt x="1067" y="1731"/>
                  </a:lnTo>
                  <a:lnTo>
                    <a:pt x="1052" y="1703"/>
                  </a:lnTo>
                  <a:lnTo>
                    <a:pt x="1037" y="1681"/>
                  </a:lnTo>
                  <a:lnTo>
                    <a:pt x="1026" y="1665"/>
                  </a:lnTo>
                  <a:lnTo>
                    <a:pt x="1019" y="1646"/>
                  </a:lnTo>
                  <a:lnTo>
                    <a:pt x="1016" y="1633"/>
                  </a:lnTo>
                  <a:lnTo>
                    <a:pt x="1009" y="1613"/>
                  </a:lnTo>
                  <a:lnTo>
                    <a:pt x="999" y="1591"/>
                  </a:lnTo>
                  <a:lnTo>
                    <a:pt x="989" y="1568"/>
                  </a:lnTo>
                  <a:lnTo>
                    <a:pt x="979" y="1545"/>
                  </a:lnTo>
                  <a:lnTo>
                    <a:pt x="969" y="1525"/>
                  </a:lnTo>
                  <a:lnTo>
                    <a:pt x="959" y="1508"/>
                  </a:lnTo>
                  <a:lnTo>
                    <a:pt x="952" y="1499"/>
                  </a:lnTo>
                  <a:lnTo>
                    <a:pt x="942" y="1486"/>
                  </a:lnTo>
                  <a:lnTo>
                    <a:pt x="934" y="1473"/>
                  </a:lnTo>
                  <a:lnTo>
                    <a:pt x="922" y="1458"/>
                  </a:lnTo>
                  <a:lnTo>
                    <a:pt x="911" y="1443"/>
                  </a:lnTo>
                  <a:lnTo>
                    <a:pt x="902" y="1434"/>
                  </a:lnTo>
                  <a:lnTo>
                    <a:pt x="891" y="1426"/>
                  </a:lnTo>
                  <a:lnTo>
                    <a:pt x="879" y="1419"/>
                  </a:lnTo>
                  <a:lnTo>
                    <a:pt x="867" y="1411"/>
                  </a:lnTo>
                  <a:lnTo>
                    <a:pt x="854" y="1404"/>
                  </a:lnTo>
                  <a:lnTo>
                    <a:pt x="842" y="1399"/>
                  </a:lnTo>
                  <a:lnTo>
                    <a:pt x="831" y="1396"/>
                  </a:lnTo>
                  <a:lnTo>
                    <a:pt x="820" y="1394"/>
                  </a:lnTo>
                  <a:lnTo>
                    <a:pt x="812" y="1393"/>
                  </a:lnTo>
                  <a:lnTo>
                    <a:pt x="805" y="1389"/>
                  </a:lnTo>
                  <a:lnTo>
                    <a:pt x="800" y="1384"/>
                  </a:lnTo>
                  <a:lnTo>
                    <a:pt x="794" y="1376"/>
                  </a:lnTo>
                  <a:lnTo>
                    <a:pt x="789" y="1368"/>
                  </a:lnTo>
                  <a:lnTo>
                    <a:pt x="782" y="1354"/>
                  </a:lnTo>
                  <a:lnTo>
                    <a:pt x="774" y="1341"/>
                  </a:lnTo>
                  <a:lnTo>
                    <a:pt x="762" y="1324"/>
                  </a:lnTo>
                  <a:lnTo>
                    <a:pt x="750" y="1306"/>
                  </a:lnTo>
                  <a:lnTo>
                    <a:pt x="740" y="1288"/>
                  </a:lnTo>
                  <a:lnTo>
                    <a:pt x="732" y="1269"/>
                  </a:lnTo>
                  <a:lnTo>
                    <a:pt x="724" y="1253"/>
                  </a:lnTo>
                  <a:lnTo>
                    <a:pt x="717" y="1234"/>
                  </a:lnTo>
                  <a:lnTo>
                    <a:pt x="712" y="1219"/>
                  </a:lnTo>
                  <a:lnTo>
                    <a:pt x="709" y="1204"/>
                  </a:lnTo>
                  <a:lnTo>
                    <a:pt x="705" y="1191"/>
                  </a:lnTo>
                  <a:lnTo>
                    <a:pt x="700" y="1166"/>
                  </a:lnTo>
                  <a:lnTo>
                    <a:pt x="692" y="1143"/>
                  </a:lnTo>
                  <a:lnTo>
                    <a:pt x="685" y="1126"/>
                  </a:lnTo>
                  <a:lnTo>
                    <a:pt x="682" y="1119"/>
                  </a:lnTo>
                  <a:lnTo>
                    <a:pt x="689" y="1108"/>
                  </a:lnTo>
                  <a:lnTo>
                    <a:pt x="700" y="1078"/>
                  </a:lnTo>
                  <a:lnTo>
                    <a:pt x="707" y="1038"/>
                  </a:lnTo>
                  <a:lnTo>
                    <a:pt x="697" y="996"/>
                  </a:lnTo>
                  <a:lnTo>
                    <a:pt x="680" y="961"/>
                  </a:lnTo>
                  <a:lnTo>
                    <a:pt x="670" y="932"/>
                  </a:lnTo>
                  <a:lnTo>
                    <a:pt x="662" y="904"/>
                  </a:lnTo>
                  <a:lnTo>
                    <a:pt x="649" y="872"/>
                  </a:lnTo>
                  <a:lnTo>
                    <a:pt x="640" y="856"/>
                  </a:lnTo>
                  <a:lnTo>
                    <a:pt x="635" y="839"/>
                  </a:lnTo>
                  <a:lnTo>
                    <a:pt x="630" y="826"/>
                  </a:lnTo>
                  <a:lnTo>
                    <a:pt x="625" y="814"/>
                  </a:lnTo>
                  <a:lnTo>
                    <a:pt x="620" y="802"/>
                  </a:lnTo>
                  <a:lnTo>
                    <a:pt x="614" y="792"/>
                  </a:lnTo>
                  <a:lnTo>
                    <a:pt x="607" y="784"/>
                  </a:lnTo>
                  <a:lnTo>
                    <a:pt x="597" y="777"/>
                  </a:lnTo>
                  <a:lnTo>
                    <a:pt x="587" y="771"/>
                  </a:lnTo>
                  <a:lnTo>
                    <a:pt x="575" y="762"/>
                  </a:lnTo>
                  <a:lnTo>
                    <a:pt x="565" y="754"/>
                  </a:lnTo>
                  <a:lnTo>
                    <a:pt x="554" y="744"/>
                  </a:lnTo>
                  <a:lnTo>
                    <a:pt x="542" y="736"/>
                  </a:lnTo>
                  <a:lnTo>
                    <a:pt x="529" y="729"/>
                  </a:lnTo>
                  <a:lnTo>
                    <a:pt x="515" y="721"/>
                  </a:lnTo>
                  <a:lnTo>
                    <a:pt x="502" y="716"/>
                  </a:lnTo>
                  <a:lnTo>
                    <a:pt x="480" y="702"/>
                  </a:lnTo>
                  <a:lnTo>
                    <a:pt x="470" y="686"/>
                  </a:lnTo>
                  <a:lnTo>
                    <a:pt x="464" y="667"/>
                  </a:lnTo>
                  <a:lnTo>
                    <a:pt x="454" y="649"/>
                  </a:lnTo>
                  <a:lnTo>
                    <a:pt x="444" y="634"/>
                  </a:lnTo>
                  <a:lnTo>
                    <a:pt x="437" y="621"/>
                  </a:lnTo>
                  <a:lnTo>
                    <a:pt x="435" y="611"/>
                  </a:lnTo>
                  <a:lnTo>
                    <a:pt x="435" y="607"/>
                  </a:lnTo>
                  <a:lnTo>
                    <a:pt x="437" y="607"/>
                  </a:lnTo>
                  <a:lnTo>
                    <a:pt x="442" y="606"/>
                  </a:lnTo>
                  <a:lnTo>
                    <a:pt x="449" y="602"/>
                  </a:lnTo>
                  <a:lnTo>
                    <a:pt x="455" y="596"/>
                  </a:lnTo>
                  <a:lnTo>
                    <a:pt x="459" y="589"/>
                  </a:lnTo>
                  <a:lnTo>
                    <a:pt x="459" y="577"/>
                  </a:lnTo>
                  <a:lnTo>
                    <a:pt x="454" y="564"/>
                  </a:lnTo>
                  <a:lnTo>
                    <a:pt x="440" y="546"/>
                  </a:lnTo>
                  <a:lnTo>
                    <a:pt x="434" y="539"/>
                  </a:lnTo>
                  <a:lnTo>
                    <a:pt x="429" y="532"/>
                  </a:lnTo>
                  <a:lnTo>
                    <a:pt x="424" y="529"/>
                  </a:lnTo>
                  <a:lnTo>
                    <a:pt x="420" y="526"/>
                  </a:lnTo>
                  <a:lnTo>
                    <a:pt x="419" y="527"/>
                  </a:lnTo>
                  <a:lnTo>
                    <a:pt x="415" y="526"/>
                  </a:lnTo>
                  <a:lnTo>
                    <a:pt x="415" y="522"/>
                  </a:lnTo>
                  <a:lnTo>
                    <a:pt x="420" y="526"/>
                  </a:lnTo>
                  <a:lnTo>
                    <a:pt x="420" y="524"/>
                  </a:lnTo>
                  <a:lnTo>
                    <a:pt x="419" y="521"/>
                  </a:lnTo>
                  <a:lnTo>
                    <a:pt x="419" y="517"/>
                  </a:lnTo>
                  <a:lnTo>
                    <a:pt x="417" y="512"/>
                  </a:lnTo>
                  <a:lnTo>
                    <a:pt x="409" y="490"/>
                  </a:lnTo>
                  <a:lnTo>
                    <a:pt x="405" y="477"/>
                  </a:lnTo>
                  <a:lnTo>
                    <a:pt x="399" y="467"/>
                  </a:lnTo>
                  <a:lnTo>
                    <a:pt x="384" y="455"/>
                  </a:lnTo>
                  <a:lnTo>
                    <a:pt x="372" y="440"/>
                  </a:lnTo>
                  <a:lnTo>
                    <a:pt x="374" y="425"/>
                  </a:lnTo>
                  <a:lnTo>
                    <a:pt x="375" y="412"/>
                  </a:lnTo>
                  <a:lnTo>
                    <a:pt x="364" y="399"/>
                  </a:lnTo>
                  <a:lnTo>
                    <a:pt x="345" y="387"/>
                  </a:lnTo>
                  <a:lnTo>
                    <a:pt x="332" y="372"/>
                  </a:lnTo>
                  <a:lnTo>
                    <a:pt x="325" y="355"/>
                  </a:lnTo>
                  <a:lnTo>
                    <a:pt x="322" y="337"/>
                  </a:lnTo>
                  <a:lnTo>
                    <a:pt x="319" y="317"/>
                  </a:lnTo>
                  <a:lnTo>
                    <a:pt x="309" y="290"/>
                  </a:lnTo>
                  <a:lnTo>
                    <a:pt x="294" y="264"/>
                  </a:lnTo>
                  <a:lnTo>
                    <a:pt x="273" y="237"/>
                  </a:lnTo>
                  <a:lnTo>
                    <a:pt x="260" y="215"/>
                  </a:lnTo>
                  <a:lnTo>
                    <a:pt x="257" y="197"/>
                  </a:lnTo>
                  <a:lnTo>
                    <a:pt x="255" y="184"/>
                  </a:lnTo>
                  <a:lnTo>
                    <a:pt x="245" y="175"/>
                  </a:lnTo>
                  <a:lnTo>
                    <a:pt x="233" y="167"/>
                  </a:lnTo>
                  <a:lnTo>
                    <a:pt x="228" y="154"/>
                  </a:lnTo>
                  <a:lnTo>
                    <a:pt x="222" y="140"/>
                  </a:lnTo>
                  <a:lnTo>
                    <a:pt x="207" y="124"/>
                  </a:lnTo>
                  <a:lnTo>
                    <a:pt x="188" y="100"/>
                  </a:lnTo>
                  <a:lnTo>
                    <a:pt x="175" y="74"/>
                  </a:lnTo>
                  <a:lnTo>
                    <a:pt x="168" y="52"/>
                  </a:lnTo>
                  <a:lnTo>
                    <a:pt x="165" y="42"/>
                  </a:lnTo>
                  <a:lnTo>
                    <a:pt x="160" y="42"/>
                  </a:lnTo>
                  <a:lnTo>
                    <a:pt x="148" y="42"/>
                  </a:lnTo>
                  <a:lnTo>
                    <a:pt x="133" y="42"/>
                  </a:lnTo>
                  <a:lnTo>
                    <a:pt x="122" y="42"/>
                  </a:lnTo>
                  <a:lnTo>
                    <a:pt x="110" y="42"/>
                  </a:lnTo>
                  <a:lnTo>
                    <a:pt x="100" y="44"/>
                  </a:lnTo>
                  <a:lnTo>
                    <a:pt x="92" y="47"/>
                  </a:lnTo>
                  <a:lnTo>
                    <a:pt x="88" y="47"/>
                  </a:lnTo>
                  <a:lnTo>
                    <a:pt x="90" y="44"/>
                  </a:lnTo>
                  <a:lnTo>
                    <a:pt x="93" y="34"/>
                  </a:lnTo>
                  <a:lnTo>
                    <a:pt x="98" y="20"/>
                  </a:lnTo>
                  <a:lnTo>
                    <a:pt x="103" y="8"/>
                  </a:lnTo>
                  <a:lnTo>
                    <a:pt x="103" y="8"/>
                  </a:lnTo>
                  <a:lnTo>
                    <a:pt x="103" y="8"/>
                  </a:lnTo>
                  <a:lnTo>
                    <a:pt x="103" y="8"/>
                  </a:lnTo>
                  <a:lnTo>
                    <a:pt x="103" y="8"/>
                  </a:lnTo>
                  <a:lnTo>
                    <a:pt x="67" y="0"/>
                  </a:lnTo>
                  <a:lnTo>
                    <a:pt x="67" y="5"/>
                  </a:lnTo>
                  <a:lnTo>
                    <a:pt x="65" y="19"/>
                  </a:lnTo>
                  <a:lnTo>
                    <a:pt x="62" y="34"/>
                  </a:lnTo>
                  <a:lnTo>
                    <a:pt x="57" y="47"/>
                  </a:lnTo>
                  <a:lnTo>
                    <a:pt x="50" y="57"/>
                  </a:lnTo>
                  <a:lnTo>
                    <a:pt x="45" y="65"/>
                  </a:lnTo>
                  <a:lnTo>
                    <a:pt x="40" y="79"/>
                  </a:lnTo>
                  <a:lnTo>
                    <a:pt x="38" y="95"/>
                  </a:lnTo>
                  <a:lnTo>
                    <a:pt x="35" y="119"/>
                  </a:lnTo>
                  <a:lnTo>
                    <a:pt x="28" y="145"/>
                  </a:lnTo>
                  <a:lnTo>
                    <a:pt x="20" y="169"/>
                  </a:lnTo>
                  <a:lnTo>
                    <a:pt x="15" y="185"/>
                  </a:lnTo>
                  <a:lnTo>
                    <a:pt x="10" y="197"/>
                  </a:lnTo>
                  <a:lnTo>
                    <a:pt x="5" y="209"/>
                  </a:lnTo>
                  <a:lnTo>
                    <a:pt x="2" y="220"/>
                  </a:lnTo>
                  <a:lnTo>
                    <a:pt x="0" y="224"/>
                  </a:lnTo>
                  <a:lnTo>
                    <a:pt x="3" y="224"/>
                  </a:lnTo>
                  <a:lnTo>
                    <a:pt x="12" y="220"/>
                  </a:lnTo>
                  <a:lnTo>
                    <a:pt x="23" y="219"/>
                  </a:lnTo>
                  <a:lnTo>
                    <a:pt x="33" y="219"/>
                  </a:lnTo>
                  <a:lnTo>
                    <a:pt x="47" y="219"/>
                  </a:lnTo>
                  <a:lnTo>
                    <a:pt x="60" y="219"/>
                  </a:lnTo>
                  <a:lnTo>
                    <a:pt x="72" y="219"/>
                  </a:lnTo>
                  <a:lnTo>
                    <a:pt x="77" y="219"/>
                  </a:lnTo>
                  <a:lnTo>
                    <a:pt x="80" y="229"/>
                  </a:lnTo>
                  <a:lnTo>
                    <a:pt x="87" y="250"/>
                  </a:lnTo>
                  <a:lnTo>
                    <a:pt x="100" y="277"/>
                  </a:lnTo>
                  <a:lnTo>
                    <a:pt x="118" y="299"/>
                  </a:lnTo>
                  <a:lnTo>
                    <a:pt x="133" y="315"/>
                  </a:lnTo>
                  <a:lnTo>
                    <a:pt x="140" y="330"/>
                  </a:lnTo>
                  <a:lnTo>
                    <a:pt x="145" y="342"/>
                  </a:lnTo>
                  <a:lnTo>
                    <a:pt x="157" y="352"/>
                  </a:lnTo>
                  <a:lnTo>
                    <a:pt x="167" y="360"/>
                  </a:lnTo>
                  <a:lnTo>
                    <a:pt x="168" y="374"/>
                  </a:lnTo>
                  <a:lnTo>
                    <a:pt x="172" y="390"/>
                  </a:lnTo>
                  <a:lnTo>
                    <a:pt x="185" y="414"/>
                  </a:lnTo>
                  <a:lnTo>
                    <a:pt x="205" y="440"/>
                  </a:lnTo>
                  <a:lnTo>
                    <a:pt x="220" y="467"/>
                  </a:lnTo>
                  <a:lnTo>
                    <a:pt x="230" y="492"/>
                  </a:lnTo>
                  <a:lnTo>
                    <a:pt x="233" y="512"/>
                  </a:lnTo>
                  <a:lnTo>
                    <a:pt x="237" y="531"/>
                  </a:lnTo>
                  <a:lnTo>
                    <a:pt x="243" y="547"/>
                  </a:lnTo>
                  <a:lnTo>
                    <a:pt x="257" y="562"/>
                  </a:lnTo>
                  <a:lnTo>
                    <a:pt x="275" y="574"/>
                  </a:lnTo>
                  <a:lnTo>
                    <a:pt x="287" y="587"/>
                  </a:lnTo>
                  <a:lnTo>
                    <a:pt x="285" y="601"/>
                  </a:lnTo>
                  <a:lnTo>
                    <a:pt x="284" y="617"/>
                  </a:lnTo>
                  <a:lnTo>
                    <a:pt x="295" y="632"/>
                  </a:lnTo>
                  <a:lnTo>
                    <a:pt x="310" y="642"/>
                  </a:lnTo>
                  <a:lnTo>
                    <a:pt x="317" y="652"/>
                  </a:lnTo>
                  <a:lnTo>
                    <a:pt x="320" y="666"/>
                  </a:lnTo>
                  <a:lnTo>
                    <a:pt x="329" y="687"/>
                  </a:lnTo>
                  <a:lnTo>
                    <a:pt x="330" y="692"/>
                  </a:lnTo>
                  <a:lnTo>
                    <a:pt x="330" y="696"/>
                  </a:lnTo>
                  <a:lnTo>
                    <a:pt x="332" y="697"/>
                  </a:lnTo>
                  <a:lnTo>
                    <a:pt x="332" y="699"/>
                  </a:lnTo>
                  <a:lnTo>
                    <a:pt x="335" y="702"/>
                  </a:lnTo>
                  <a:lnTo>
                    <a:pt x="340" y="707"/>
                  </a:lnTo>
                  <a:lnTo>
                    <a:pt x="345" y="712"/>
                  </a:lnTo>
                  <a:lnTo>
                    <a:pt x="352" y="721"/>
                  </a:lnTo>
                  <a:lnTo>
                    <a:pt x="365" y="737"/>
                  </a:lnTo>
                  <a:lnTo>
                    <a:pt x="370" y="752"/>
                  </a:lnTo>
                  <a:lnTo>
                    <a:pt x="370" y="762"/>
                  </a:lnTo>
                  <a:lnTo>
                    <a:pt x="367" y="771"/>
                  </a:lnTo>
                  <a:lnTo>
                    <a:pt x="360" y="776"/>
                  </a:lnTo>
                  <a:lnTo>
                    <a:pt x="354" y="781"/>
                  </a:lnTo>
                  <a:lnTo>
                    <a:pt x="349" y="782"/>
                  </a:lnTo>
                  <a:lnTo>
                    <a:pt x="347" y="782"/>
                  </a:lnTo>
                  <a:lnTo>
                    <a:pt x="347" y="786"/>
                  </a:lnTo>
                  <a:lnTo>
                    <a:pt x="350" y="794"/>
                  </a:lnTo>
                  <a:lnTo>
                    <a:pt x="355" y="807"/>
                  </a:lnTo>
                  <a:lnTo>
                    <a:pt x="367" y="824"/>
                  </a:lnTo>
                  <a:lnTo>
                    <a:pt x="377" y="842"/>
                  </a:lnTo>
                  <a:lnTo>
                    <a:pt x="384" y="862"/>
                  </a:lnTo>
                  <a:lnTo>
                    <a:pt x="392" y="877"/>
                  </a:lnTo>
                  <a:lnTo>
                    <a:pt x="414" y="891"/>
                  </a:lnTo>
                  <a:lnTo>
                    <a:pt x="427" y="897"/>
                  </a:lnTo>
                  <a:lnTo>
                    <a:pt x="440" y="904"/>
                  </a:lnTo>
                  <a:lnTo>
                    <a:pt x="454" y="912"/>
                  </a:lnTo>
                  <a:lnTo>
                    <a:pt x="465" y="921"/>
                  </a:lnTo>
                  <a:lnTo>
                    <a:pt x="477" y="929"/>
                  </a:lnTo>
                  <a:lnTo>
                    <a:pt x="487" y="937"/>
                  </a:lnTo>
                  <a:lnTo>
                    <a:pt x="499" y="946"/>
                  </a:lnTo>
                  <a:lnTo>
                    <a:pt x="509" y="952"/>
                  </a:lnTo>
                  <a:lnTo>
                    <a:pt x="519" y="961"/>
                  </a:lnTo>
                  <a:lnTo>
                    <a:pt x="525" y="969"/>
                  </a:lnTo>
                  <a:lnTo>
                    <a:pt x="532" y="979"/>
                  </a:lnTo>
                  <a:lnTo>
                    <a:pt x="537" y="989"/>
                  </a:lnTo>
                  <a:lnTo>
                    <a:pt x="542" y="1002"/>
                  </a:lnTo>
                  <a:lnTo>
                    <a:pt x="547" y="1016"/>
                  </a:lnTo>
                  <a:lnTo>
                    <a:pt x="552" y="1031"/>
                  </a:lnTo>
                  <a:lnTo>
                    <a:pt x="560" y="1048"/>
                  </a:lnTo>
                  <a:lnTo>
                    <a:pt x="574" y="1079"/>
                  </a:lnTo>
                  <a:lnTo>
                    <a:pt x="584" y="1108"/>
                  </a:lnTo>
                  <a:lnTo>
                    <a:pt x="592" y="1136"/>
                  </a:lnTo>
                  <a:lnTo>
                    <a:pt x="609" y="1171"/>
                  </a:lnTo>
                  <a:lnTo>
                    <a:pt x="619" y="1213"/>
                  </a:lnTo>
                  <a:lnTo>
                    <a:pt x="612" y="1253"/>
                  </a:lnTo>
                  <a:lnTo>
                    <a:pt x="600" y="1283"/>
                  </a:lnTo>
                  <a:lnTo>
                    <a:pt x="594" y="1294"/>
                  </a:lnTo>
                  <a:lnTo>
                    <a:pt x="597" y="1301"/>
                  </a:lnTo>
                  <a:lnTo>
                    <a:pt x="604" y="1318"/>
                  </a:lnTo>
                  <a:lnTo>
                    <a:pt x="612" y="1341"/>
                  </a:lnTo>
                  <a:lnTo>
                    <a:pt x="617" y="1366"/>
                  </a:lnTo>
                  <a:lnTo>
                    <a:pt x="620" y="1379"/>
                  </a:lnTo>
                  <a:lnTo>
                    <a:pt x="624" y="1394"/>
                  </a:lnTo>
                  <a:lnTo>
                    <a:pt x="629" y="1409"/>
                  </a:lnTo>
                  <a:lnTo>
                    <a:pt x="635" y="1428"/>
                  </a:lnTo>
                  <a:lnTo>
                    <a:pt x="644" y="1444"/>
                  </a:lnTo>
                  <a:lnTo>
                    <a:pt x="654" y="1463"/>
                  </a:lnTo>
                  <a:lnTo>
                    <a:pt x="664" y="1481"/>
                  </a:lnTo>
                  <a:lnTo>
                    <a:pt x="675" y="1499"/>
                  </a:lnTo>
                  <a:lnTo>
                    <a:pt x="687" y="1516"/>
                  </a:lnTo>
                  <a:lnTo>
                    <a:pt x="695" y="1531"/>
                  </a:lnTo>
                  <a:lnTo>
                    <a:pt x="702" y="1543"/>
                  </a:lnTo>
                  <a:lnTo>
                    <a:pt x="707" y="1553"/>
                  </a:lnTo>
                  <a:lnTo>
                    <a:pt x="712" y="1561"/>
                  </a:lnTo>
                  <a:lnTo>
                    <a:pt x="719" y="1566"/>
                  </a:lnTo>
                  <a:lnTo>
                    <a:pt x="724" y="1570"/>
                  </a:lnTo>
                  <a:lnTo>
                    <a:pt x="732" y="1571"/>
                  </a:lnTo>
                  <a:lnTo>
                    <a:pt x="742" y="1573"/>
                  </a:lnTo>
                  <a:lnTo>
                    <a:pt x="754" y="1576"/>
                  </a:lnTo>
                  <a:lnTo>
                    <a:pt x="765" y="1581"/>
                  </a:lnTo>
                  <a:lnTo>
                    <a:pt x="779" y="1588"/>
                  </a:lnTo>
                  <a:lnTo>
                    <a:pt x="792" y="1595"/>
                  </a:lnTo>
                  <a:lnTo>
                    <a:pt x="804" y="1603"/>
                  </a:lnTo>
                  <a:lnTo>
                    <a:pt x="814" y="1611"/>
                  </a:lnTo>
                  <a:lnTo>
                    <a:pt x="822" y="1618"/>
                  </a:lnTo>
                  <a:lnTo>
                    <a:pt x="834" y="1633"/>
                  </a:lnTo>
                  <a:lnTo>
                    <a:pt x="846" y="1648"/>
                  </a:lnTo>
                  <a:lnTo>
                    <a:pt x="856" y="1663"/>
                  </a:lnTo>
                  <a:lnTo>
                    <a:pt x="866" y="1675"/>
                  </a:lnTo>
                  <a:lnTo>
                    <a:pt x="872" y="1685"/>
                  </a:lnTo>
                  <a:lnTo>
                    <a:pt x="881" y="1700"/>
                  </a:lnTo>
                  <a:lnTo>
                    <a:pt x="891" y="1721"/>
                  </a:lnTo>
                  <a:lnTo>
                    <a:pt x="902" y="1743"/>
                  </a:lnTo>
                  <a:lnTo>
                    <a:pt x="912" y="1768"/>
                  </a:lnTo>
                  <a:lnTo>
                    <a:pt x="921" y="1790"/>
                  </a:lnTo>
                  <a:lnTo>
                    <a:pt x="927" y="1810"/>
                  </a:lnTo>
                  <a:lnTo>
                    <a:pt x="931" y="1823"/>
                  </a:lnTo>
                  <a:lnTo>
                    <a:pt x="937" y="1841"/>
                  </a:lnTo>
                  <a:lnTo>
                    <a:pt x="951" y="1858"/>
                  </a:lnTo>
                  <a:lnTo>
                    <a:pt x="964" y="1878"/>
                  </a:lnTo>
                  <a:lnTo>
                    <a:pt x="979" y="1908"/>
                  </a:lnTo>
                  <a:lnTo>
                    <a:pt x="987" y="1926"/>
                  </a:lnTo>
                  <a:lnTo>
                    <a:pt x="999" y="1945"/>
                  </a:lnTo>
                  <a:lnTo>
                    <a:pt x="1014" y="1965"/>
                  </a:lnTo>
                  <a:lnTo>
                    <a:pt x="1029" y="1981"/>
                  </a:lnTo>
                  <a:lnTo>
                    <a:pt x="1044" y="2000"/>
                  </a:lnTo>
                  <a:lnTo>
                    <a:pt x="1059" y="2015"/>
                  </a:lnTo>
                  <a:lnTo>
                    <a:pt x="1072" y="2027"/>
                  </a:lnTo>
                  <a:lnTo>
                    <a:pt x="1084" y="2037"/>
                  </a:lnTo>
                  <a:lnTo>
                    <a:pt x="1097" y="2052"/>
                  </a:lnTo>
                  <a:lnTo>
                    <a:pt x="1106" y="2068"/>
                  </a:lnTo>
                  <a:lnTo>
                    <a:pt x="1109" y="2085"/>
                  </a:lnTo>
                  <a:lnTo>
                    <a:pt x="1112" y="2098"/>
                  </a:lnTo>
                  <a:lnTo>
                    <a:pt x="1117" y="2108"/>
                  </a:lnTo>
                  <a:lnTo>
                    <a:pt x="1126" y="2120"/>
                  </a:lnTo>
                  <a:lnTo>
                    <a:pt x="1136" y="2132"/>
                  </a:lnTo>
                  <a:lnTo>
                    <a:pt x="1146" y="2145"/>
                  </a:lnTo>
                  <a:lnTo>
                    <a:pt x="1156" y="2160"/>
                  </a:lnTo>
                  <a:lnTo>
                    <a:pt x="1164" y="2175"/>
                  </a:lnTo>
                  <a:lnTo>
                    <a:pt x="1169" y="2190"/>
                  </a:lnTo>
                  <a:lnTo>
                    <a:pt x="1169" y="2202"/>
                  </a:lnTo>
                  <a:lnTo>
                    <a:pt x="1169" y="2217"/>
                  </a:lnTo>
                  <a:lnTo>
                    <a:pt x="1172" y="2233"/>
                  </a:lnTo>
                  <a:lnTo>
                    <a:pt x="1177" y="2248"/>
                  </a:lnTo>
                  <a:lnTo>
                    <a:pt x="1179" y="2255"/>
                  </a:lnTo>
                  <a:lnTo>
                    <a:pt x="1216" y="2227"/>
                  </a:lnTo>
                  <a:lnTo>
                    <a:pt x="1219" y="2222"/>
                  </a:lnTo>
                  <a:lnTo>
                    <a:pt x="1226" y="2208"/>
                  </a:lnTo>
                  <a:lnTo>
                    <a:pt x="1232" y="2192"/>
                  </a:lnTo>
                  <a:lnTo>
                    <a:pt x="1236" y="2178"/>
                  </a:lnTo>
                  <a:lnTo>
                    <a:pt x="1236" y="2165"/>
                  </a:lnTo>
                  <a:lnTo>
                    <a:pt x="1234" y="2145"/>
                  </a:lnTo>
                  <a:lnTo>
                    <a:pt x="1236" y="2123"/>
                  </a:lnTo>
                  <a:lnTo>
                    <a:pt x="1241" y="2103"/>
                  </a:lnTo>
                  <a:lnTo>
                    <a:pt x="1241" y="2087"/>
                  </a:lnTo>
                  <a:lnTo>
                    <a:pt x="1236" y="2077"/>
                  </a:lnTo>
                  <a:lnTo>
                    <a:pt x="1234" y="2067"/>
                  </a:lnTo>
                  <a:lnTo>
                    <a:pt x="1241" y="2060"/>
                  </a:lnTo>
                  <a:lnTo>
                    <a:pt x="1246" y="2057"/>
                  </a:lnTo>
                  <a:lnTo>
                    <a:pt x="1251" y="2057"/>
                  </a:lnTo>
                  <a:lnTo>
                    <a:pt x="1256" y="2058"/>
                  </a:lnTo>
                  <a:lnTo>
                    <a:pt x="1261" y="2062"/>
                  </a:lnTo>
                  <a:lnTo>
                    <a:pt x="1259" y="2052"/>
                  </a:lnTo>
                  <a:lnTo>
                    <a:pt x="1257" y="2043"/>
                  </a:lnTo>
                  <a:lnTo>
                    <a:pt x="1256" y="2033"/>
                  </a:lnTo>
                  <a:lnTo>
                    <a:pt x="1257" y="2027"/>
                  </a:lnTo>
                  <a:close/>
                </a:path>
              </a:pathLst>
            </a:custGeom>
            <a:solidFill>
              <a:srgbClr val="ffffff">
                <a:alpha val="10000"/>
              </a:srgbClr>
            </a:solidFill>
            <a:ln cap="sq" w="9360">
              <a:solidFill>
                <a:srgbClr val="ffffff"/>
              </a:solidFill>
              <a:round/>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44" name=""/>
            <p:cNvSpPr/>
            <p:nvPr/>
          </p:nvSpPr>
          <p:spPr>
            <a:xfrm>
              <a:off x="3112920" y="3281400"/>
              <a:ext cx="5040" cy="4680"/>
            </a:xfrm>
            <a:custGeom>
              <a:avLst/>
              <a:gdLst/>
              <a:ahLst/>
              <a:rect l="l" t="t" r="r" b="b"/>
              <a:pathLst>
                <a:path w="5" h="5">
                  <a:moveTo>
                    <a:pt x="5" y="3"/>
                  </a:moveTo>
                  <a:lnTo>
                    <a:pt x="0" y="0"/>
                  </a:lnTo>
                  <a:lnTo>
                    <a:pt x="2" y="3"/>
                  </a:lnTo>
                  <a:lnTo>
                    <a:pt x="3" y="5"/>
                  </a:lnTo>
                  <a:lnTo>
                    <a:pt x="5" y="3"/>
                  </a:lnTo>
                  <a:lnTo>
                    <a:pt x="5" y="3"/>
                  </a:lnTo>
                  <a:close/>
                </a:path>
              </a:pathLst>
            </a:custGeom>
            <a:solidFill>
              <a:srgbClr val="000000"/>
            </a:solidFill>
            <a:ln w="0">
              <a:noFill/>
            </a:ln>
          </p:spPr>
          <p:style>
            <a:lnRef idx="0"/>
            <a:fillRef idx="0"/>
            <a:effectRef idx="0"/>
            <a:fontRef idx="minor"/>
          </p:style>
          <p:txBody>
            <a:bodyPr wrap="none" lIns="90000" rIns="90000" tIns="-42120" bIns="-421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45" name=""/>
            <p:cNvSpPr/>
            <p:nvPr/>
          </p:nvSpPr>
          <p:spPr>
            <a:xfrm>
              <a:off x="4406760" y="4237200"/>
              <a:ext cx="2567160" cy="993600"/>
            </a:xfrm>
            <a:custGeom>
              <a:avLst/>
              <a:gdLst/>
              <a:ahLst/>
              <a:rect l="l" t="t" r="r" b="b"/>
              <a:pathLst>
                <a:path w="1881" h="744">
                  <a:moveTo>
                    <a:pt x="1298" y="222"/>
                  </a:moveTo>
                  <a:lnTo>
                    <a:pt x="1283" y="225"/>
                  </a:lnTo>
                  <a:lnTo>
                    <a:pt x="1263" y="230"/>
                  </a:lnTo>
                  <a:lnTo>
                    <a:pt x="1239" y="235"/>
                  </a:lnTo>
                  <a:lnTo>
                    <a:pt x="1214" y="242"/>
                  </a:lnTo>
                  <a:lnTo>
                    <a:pt x="1186" y="249"/>
                  </a:lnTo>
                  <a:lnTo>
                    <a:pt x="1157" y="255"/>
                  </a:lnTo>
                  <a:lnTo>
                    <a:pt x="1127" y="262"/>
                  </a:lnTo>
                  <a:lnTo>
                    <a:pt x="1097" y="269"/>
                  </a:lnTo>
                  <a:lnTo>
                    <a:pt x="1067" y="275"/>
                  </a:lnTo>
                  <a:lnTo>
                    <a:pt x="1039" y="284"/>
                  </a:lnTo>
                  <a:lnTo>
                    <a:pt x="1012" y="290"/>
                  </a:lnTo>
                  <a:lnTo>
                    <a:pt x="989" y="297"/>
                  </a:lnTo>
                  <a:lnTo>
                    <a:pt x="967" y="302"/>
                  </a:lnTo>
                  <a:lnTo>
                    <a:pt x="949" y="309"/>
                  </a:lnTo>
                  <a:lnTo>
                    <a:pt x="936" y="314"/>
                  </a:lnTo>
                  <a:lnTo>
                    <a:pt x="927" y="317"/>
                  </a:lnTo>
                  <a:lnTo>
                    <a:pt x="914" y="324"/>
                  </a:lnTo>
                  <a:lnTo>
                    <a:pt x="901" y="329"/>
                  </a:lnTo>
                  <a:lnTo>
                    <a:pt x="887" y="337"/>
                  </a:lnTo>
                  <a:lnTo>
                    <a:pt x="872" y="344"/>
                  </a:lnTo>
                  <a:lnTo>
                    <a:pt x="857" y="355"/>
                  </a:lnTo>
                  <a:lnTo>
                    <a:pt x="842" y="369"/>
                  </a:lnTo>
                  <a:lnTo>
                    <a:pt x="826" y="389"/>
                  </a:lnTo>
                  <a:lnTo>
                    <a:pt x="807" y="412"/>
                  </a:lnTo>
                  <a:lnTo>
                    <a:pt x="791" y="437"/>
                  </a:lnTo>
                  <a:lnTo>
                    <a:pt x="776" y="460"/>
                  </a:lnTo>
                  <a:lnTo>
                    <a:pt x="761" y="482"/>
                  </a:lnTo>
                  <a:lnTo>
                    <a:pt x="747" y="502"/>
                  </a:lnTo>
                  <a:lnTo>
                    <a:pt x="737" y="519"/>
                  </a:lnTo>
                  <a:lnTo>
                    <a:pt x="727" y="532"/>
                  </a:lnTo>
                  <a:lnTo>
                    <a:pt x="719" y="542"/>
                  </a:lnTo>
                  <a:lnTo>
                    <a:pt x="712" y="549"/>
                  </a:lnTo>
                  <a:lnTo>
                    <a:pt x="706" y="554"/>
                  </a:lnTo>
                  <a:lnTo>
                    <a:pt x="699" y="559"/>
                  </a:lnTo>
                  <a:lnTo>
                    <a:pt x="689" y="564"/>
                  </a:lnTo>
                  <a:lnTo>
                    <a:pt x="679" y="565"/>
                  </a:lnTo>
                  <a:lnTo>
                    <a:pt x="667" y="567"/>
                  </a:lnTo>
                  <a:lnTo>
                    <a:pt x="657" y="567"/>
                  </a:lnTo>
                  <a:lnTo>
                    <a:pt x="647" y="564"/>
                  </a:lnTo>
                  <a:lnTo>
                    <a:pt x="637" y="559"/>
                  </a:lnTo>
                  <a:lnTo>
                    <a:pt x="629" y="552"/>
                  </a:lnTo>
                  <a:lnTo>
                    <a:pt x="622" y="544"/>
                  </a:lnTo>
                  <a:lnTo>
                    <a:pt x="615" y="535"/>
                  </a:lnTo>
                  <a:lnTo>
                    <a:pt x="609" y="529"/>
                  </a:lnTo>
                  <a:lnTo>
                    <a:pt x="602" y="524"/>
                  </a:lnTo>
                  <a:lnTo>
                    <a:pt x="595" y="520"/>
                  </a:lnTo>
                  <a:lnTo>
                    <a:pt x="589" y="519"/>
                  </a:lnTo>
                  <a:lnTo>
                    <a:pt x="580" y="520"/>
                  </a:lnTo>
                  <a:lnTo>
                    <a:pt x="569" y="524"/>
                  </a:lnTo>
                  <a:lnTo>
                    <a:pt x="554" y="525"/>
                  </a:lnTo>
                  <a:lnTo>
                    <a:pt x="537" y="525"/>
                  </a:lnTo>
                  <a:lnTo>
                    <a:pt x="519" y="525"/>
                  </a:lnTo>
                  <a:lnTo>
                    <a:pt x="499" y="525"/>
                  </a:lnTo>
                  <a:lnTo>
                    <a:pt x="480" y="524"/>
                  </a:lnTo>
                  <a:lnTo>
                    <a:pt x="462" y="522"/>
                  </a:lnTo>
                  <a:lnTo>
                    <a:pt x="447" y="520"/>
                  </a:lnTo>
                  <a:lnTo>
                    <a:pt x="432" y="519"/>
                  </a:lnTo>
                  <a:lnTo>
                    <a:pt x="417" y="515"/>
                  </a:lnTo>
                  <a:lnTo>
                    <a:pt x="404" y="510"/>
                  </a:lnTo>
                  <a:lnTo>
                    <a:pt x="389" y="507"/>
                  </a:lnTo>
                  <a:lnTo>
                    <a:pt x="375" y="504"/>
                  </a:lnTo>
                  <a:lnTo>
                    <a:pt x="364" y="500"/>
                  </a:lnTo>
                  <a:lnTo>
                    <a:pt x="352" y="497"/>
                  </a:lnTo>
                  <a:lnTo>
                    <a:pt x="342" y="497"/>
                  </a:lnTo>
                  <a:lnTo>
                    <a:pt x="329" y="497"/>
                  </a:lnTo>
                  <a:lnTo>
                    <a:pt x="307" y="497"/>
                  </a:lnTo>
                  <a:lnTo>
                    <a:pt x="280" y="499"/>
                  </a:lnTo>
                  <a:lnTo>
                    <a:pt x="250" y="499"/>
                  </a:lnTo>
                  <a:lnTo>
                    <a:pt x="224" y="500"/>
                  </a:lnTo>
                  <a:lnTo>
                    <a:pt x="200" y="502"/>
                  </a:lnTo>
                  <a:lnTo>
                    <a:pt x="184" y="502"/>
                  </a:lnTo>
                  <a:lnTo>
                    <a:pt x="177" y="502"/>
                  </a:lnTo>
                  <a:lnTo>
                    <a:pt x="175" y="504"/>
                  </a:lnTo>
                  <a:lnTo>
                    <a:pt x="170" y="505"/>
                  </a:lnTo>
                  <a:lnTo>
                    <a:pt x="164" y="509"/>
                  </a:lnTo>
                  <a:lnTo>
                    <a:pt x="155" y="510"/>
                  </a:lnTo>
                  <a:lnTo>
                    <a:pt x="144" y="512"/>
                  </a:lnTo>
                  <a:lnTo>
                    <a:pt x="132" y="512"/>
                  </a:lnTo>
                  <a:lnTo>
                    <a:pt x="120" y="509"/>
                  </a:lnTo>
                  <a:lnTo>
                    <a:pt x="107" y="502"/>
                  </a:lnTo>
                  <a:lnTo>
                    <a:pt x="95" y="494"/>
                  </a:lnTo>
                  <a:lnTo>
                    <a:pt x="87" y="485"/>
                  </a:lnTo>
                  <a:lnTo>
                    <a:pt x="80" y="479"/>
                  </a:lnTo>
                  <a:lnTo>
                    <a:pt x="75" y="475"/>
                  </a:lnTo>
                  <a:lnTo>
                    <a:pt x="70" y="472"/>
                  </a:lnTo>
                  <a:lnTo>
                    <a:pt x="65" y="470"/>
                  </a:lnTo>
                  <a:lnTo>
                    <a:pt x="60" y="470"/>
                  </a:lnTo>
                  <a:lnTo>
                    <a:pt x="53" y="474"/>
                  </a:lnTo>
                  <a:lnTo>
                    <a:pt x="47" y="480"/>
                  </a:lnTo>
                  <a:lnTo>
                    <a:pt x="50" y="489"/>
                  </a:lnTo>
                  <a:lnTo>
                    <a:pt x="55" y="500"/>
                  </a:lnTo>
                  <a:lnTo>
                    <a:pt x="53" y="515"/>
                  </a:lnTo>
                  <a:lnTo>
                    <a:pt x="50" y="535"/>
                  </a:lnTo>
                  <a:lnTo>
                    <a:pt x="48" y="557"/>
                  </a:lnTo>
                  <a:lnTo>
                    <a:pt x="50" y="577"/>
                  </a:lnTo>
                  <a:lnTo>
                    <a:pt x="50" y="592"/>
                  </a:lnTo>
                  <a:lnTo>
                    <a:pt x="47" y="606"/>
                  </a:lnTo>
                  <a:lnTo>
                    <a:pt x="40" y="621"/>
                  </a:lnTo>
                  <a:lnTo>
                    <a:pt x="33" y="634"/>
                  </a:lnTo>
                  <a:lnTo>
                    <a:pt x="30" y="639"/>
                  </a:lnTo>
                  <a:lnTo>
                    <a:pt x="0" y="662"/>
                  </a:lnTo>
                  <a:lnTo>
                    <a:pt x="3" y="666"/>
                  </a:lnTo>
                  <a:lnTo>
                    <a:pt x="8" y="669"/>
                  </a:lnTo>
                  <a:lnTo>
                    <a:pt x="13" y="674"/>
                  </a:lnTo>
                  <a:lnTo>
                    <a:pt x="18" y="677"/>
                  </a:lnTo>
                  <a:lnTo>
                    <a:pt x="32" y="684"/>
                  </a:lnTo>
                  <a:lnTo>
                    <a:pt x="43" y="687"/>
                  </a:lnTo>
                  <a:lnTo>
                    <a:pt x="55" y="687"/>
                  </a:lnTo>
                  <a:lnTo>
                    <a:pt x="67" y="686"/>
                  </a:lnTo>
                  <a:lnTo>
                    <a:pt x="77" y="684"/>
                  </a:lnTo>
                  <a:lnTo>
                    <a:pt x="83" y="681"/>
                  </a:lnTo>
                  <a:lnTo>
                    <a:pt x="88" y="679"/>
                  </a:lnTo>
                  <a:lnTo>
                    <a:pt x="90" y="677"/>
                  </a:lnTo>
                  <a:lnTo>
                    <a:pt x="97" y="677"/>
                  </a:lnTo>
                  <a:lnTo>
                    <a:pt x="114" y="677"/>
                  </a:lnTo>
                  <a:lnTo>
                    <a:pt x="137" y="676"/>
                  </a:lnTo>
                  <a:lnTo>
                    <a:pt x="164" y="674"/>
                  </a:lnTo>
                  <a:lnTo>
                    <a:pt x="194" y="674"/>
                  </a:lnTo>
                  <a:lnTo>
                    <a:pt x="220" y="672"/>
                  </a:lnTo>
                  <a:lnTo>
                    <a:pt x="242" y="672"/>
                  </a:lnTo>
                  <a:lnTo>
                    <a:pt x="255" y="672"/>
                  </a:lnTo>
                  <a:lnTo>
                    <a:pt x="265" y="674"/>
                  </a:lnTo>
                  <a:lnTo>
                    <a:pt x="275" y="676"/>
                  </a:lnTo>
                  <a:lnTo>
                    <a:pt x="289" y="679"/>
                  </a:lnTo>
                  <a:lnTo>
                    <a:pt x="302" y="682"/>
                  </a:lnTo>
                  <a:lnTo>
                    <a:pt x="315" y="687"/>
                  </a:lnTo>
                  <a:lnTo>
                    <a:pt x="330" y="691"/>
                  </a:lnTo>
                  <a:lnTo>
                    <a:pt x="344" y="694"/>
                  </a:lnTo>
                  <a:lnTo>
                    <a:pt x="359" y="697"/>
                  </a:lnTo>
                  <a:lnTo>
                    <a:pt x="374" y="699"/>
                  </a:lnTo>
                  <a:lnTo>
                    <a:pt x="392" y="701"/>
                  </a:lnTo>
                  <a:lnTo>
                    <a:pt x="412" y="701"/>
                  </a:lnTo>
                  <a:lnTo>
                    <a:pt x="430" y="702"/>
                  </a:lnTo>
                  <a:lnTo>
                    <a:pt x="450" y="702"/>
                  </a:lnTo>
                  <a:lnTo>
                    <a:pt x="467" y="701"/>
                  </a:lnTo>
                  <a:lnTo>
                    <a:pt x="480" y="701"/>
                  </a:lnTo>
                  <a:lnTo>
                    <a:pt x="492" y="697"/>
                  </a:lnTo>
                  <a:lnTo>
                    <a:pt x="500" y="696"/>
                  </a:lnTo>
                  <a:lnTo>
                    <a:pt x="507" y="696"/>
                  </a:lnTo>
                  <a:lnTo>
                    <a:pt x="514" y="699"/>
                  </a:lnTo>
                  <a:lnTo>
                    <a:pt x="520" y="706"/>
                  </a:lnTo>
                  <a:lnTo>
                    <a:pt x="527" y="712"/>
                  </a:lnTo>
                  <a:lnTo>
                    <a:pt x="534" y="719"/>
                  </a:lnTo>
                  <a:lnTo>
                    <a:pt x="540" y="727"/>
                  </a:lnTo>
                  <a:lnTo>
                    <a:pt x="549" y="734"/>
                  </a:lnTo>
                  <a:lnTo>
                    <a:pt x="559" y="741"/>
                  </a:lnTo>
                  <a:lnTo>
                    <a:pt x="569" y="742"/>
                  </a:lnTo>
                  <a:lnTo>
                    <a:pt x="579" y="744"/>
                  </a:lnTo>
                  <a:lnTo>
                    <a:pt x="590" y="742"/>
                  </a:lnTo>
                  <a:lnTo>
                    <a:pt x="600" y="739"/>
                  </a:lnTo>
                  <a:lnTo>
                    <a:pt x="610" y="736"/>
                  </a:lnTo>
                  <a:lnTo>
                    <a:pt x="619" y="731"/>
                  </a:lnTo>
                  <a:lnTo>
                    <a:pt x="625" y="726"/>
                  </a:lnTo>
                  <a:lnTo>
                    <a:pt x="632" y="719"/>
                  </a:lnTo>
                  <a:lnTo>
                    <a:pt x="639" y="707"/>
                  </a:lnTo>
                  <a:lnTo>
                    <a:pt x="649" y="694"/>
                  </a:lnTo>
                  <a:lnTo>
                    <a:pt x="661" y="677"/>
                  </a:lnTo>
                  <a:lnTo>
                    <a:pt x="672" y="659"/>
                  </a:lnTo>
                  <a:lnTo>
                    <a:pt x="687" y="637"/>
                  </a:lnTo>
                  <a:lnTo>
                    <a:pt x="704" y="614"/>
                  </a:lnTo>
                  <a:lnTo>
                    <a:pt x="721" y="587"/>
                  </a:lnTo>
                  <a:lnTo>
                    <a:pt x="737" y="564"/>
                  </a:lnTo>
                  <a:lnTo>
                    <a:pt x="754" y="544"/>
                  </a:lnTo>
                  <a:lnTo>
                    <a:pt x="769" y="530"/>
                  </a:lnTo>
                  <a:lnTo>
                    <a:pt x="786" y="519"/>
                  </a:lnTo>
                  <a:lnTo>
                    <a:pt x="799" y="512"/>
                  </a:lnTo>
                  <a:lnTo>
                    <a:pt x="812" y="504"/>
                  </a:lnTo>
                  <a:lnTo>
                    <a:pt x="826" y="499"/>
                  </a:lnTo>
                  <a:lnTo>
                    <a:pt x="839" y="492"/>
                  </a:lnTo>
                  <a:lnTo>
                    <a:pt x="847" y="489"/>
                  </a:lnTo>
                  <a:lnTo>
                    <a:pt x="862" y="484"/>
                  </a:lnTo>
                  <a:lnTo>
                    <a:pt x="879" y="479"/>
                  </a:lnTo>
                  <a:lnTo>
                    <a:pt x="901" y="472"/>
                  </a:lnTo>
                  <a:lnTo>
                    <a:pt x="926" y="465"/>
                  </a:lnTo>
                  <a:lnTo>
                    <a:pt x="952" y="459"/>
                  </a:lnTo>
                  <a:lnTo>
                    <a:pt x="981" y="452"/>
                  </a:lnTo>
                  <a:lnTo>
                    <a:pt x="1009" y="444"/>
                  </a:lnTo>
                  <a:lnTo>
                    <a:pt x="1039" y="437"/>
                  </a:lnTo>
                  <a:lnTo>
                    <a:pt x="1069" y="430"/>
                  </a:lnTo>
                  <a:lnTo>
                    <a:pt x="1097" y="424"/>
                  </a:lnTo>
                  <a:lnTo>
                    <a:pt x="1126" y="417"/>
                  </a:lnTo>
                  <a:lnTo>
                    <a:pt x="1151" y="410"/>
                  </a:lnTo>
                  <a:lnTo>
                    <a:pt x="1174" y="405"/>
                  </a:lnTo>
                  <a:lnTo>
                    <a:pt x="1194" y="400"/>
                  </a:lnTo>
                  <a:lnTo>
                    <a:pt x="1209" y="397"/>
                  </a:lnTo>
                  <a:lnTo>
                    <a:pt x="1236" y="390"/>
                  </a:lnTo>
                  <a:lnTo>
                    <a:pt x="1263" y="385"/>
                  </a:lnTo>
                  <a:lnTo>
                    <a:pt x="1289" y="382"/>
                  </a:lnTo>
                  <a:lnTo>
                    <a:pt x="1313" y="379"/>
                  </a:lnTo>
                  <a:lnTo>
                    <a:pt x="1336" y="375"/>
                  </a:lnTo>
                  <a:lnTo>
                    <a:pt x="1354" y="370"/>
                  </a:lnTo>
                  <a:lnTo>
                    <a:pt x="1371" y="365"/>
                  </a:lnTo>
                  <a:lnTo>
                    <a:pt x="1384" y="359"/>
                  </a:lnTo>
                  <a:lnTo>
                    <a:pt x="1394" y="354"/>
                  </a:lnTo>
                  <a:lnTo>
                    <a:pt x="1411" y="345"/>
                  </a:lnTo>
                  <a:lnTo>
                    <a:pt x="1434" y="334"/>
                  </a:lnTo>
                  <a:lnTo>
                    <a:pt x="1463" y="320"/>
                  </a:lnTo>
                  <a:lnTo>
                    <a:pt x="1496" y="307"/>
                  </a:lnTo>
                  <a:lnTo>
                    <a:pt x="1533" y="290"/>
                  </a:lnTo>
                  <a:lnTo>
                    <a:pt x="1571" y="274"/>
                  </a:lnTo>
                  <a:lnTo>
                    <a:pt x="1611" y="255"/>
                  </a:lnTo>
                  <a:lnTo>
                    <a:pt x="1649" y="239"/>
                  </a:lnTo>
                  <a:lnTo>
                    <a:pt x="1688" y="222"/>
                  </a:lnTo>
                  <a:lnTo>
                    <a:pt x="1723" y="207"/>
                  </a:lnTo>
                  <a:lnTo>
                    <a:pt x="1756" y="192"/>
                  </a:lnTo>
                  <a:lnTo>
                    <a:pt x="1783" y="180"/>
                  </a:lnTo>
                  <a:lnTo>
                    <a:pt x="1805" y="170"/>
                  </a:lnTo>
                  <a:lnTo>
                    <a:pt x="1820" y="164"/>
                  </a:lnTo>
                  <a:lnTo>
                    <a:pt x="1826" y="160"/>
                  </a:lnTo>
                  <a:lnTo>
                    <a:pt x="1836" y="152"/>
                  </a:lnTo>
                  <a:lnTo>
                    <a:pt x="1841" y="142"/>
                  </a:lnTo>
                  <a:lnTo>
                    <a:pt x="1845" y="130"/>
                  </a:lnTo>
                  <a:lnTo>
                    <a:pt x="1846" y="117"/>
                  </a:lnTo>
                  <a:lnTo>
                    <a:pt x="1848" y="100"/>
                  </a:lnTo>
                  <a:lnTo>
                    <a:pt x="1851" y="78"/>
                  </a:lnTo>
                  <a:lnTo>
                    <a:pt x="1858" y="57"/>
                  </a:lnTo>
                  <a:lnTo>
                    <a:pt x="1865" y="37"/>
                  </a:lnTo>
                  <a:lnTo>
                    <a:pt x="1868" y="27"/>
                  </a:lnTo>
                  <a:lnTo>
                    <a:pt x="1873" y="18"/>
                  </a:lnTo>
                  <a:lnTo>
                    <a:pt x="1876" y="8"/>
                  </a:lnTo>
                  <a:lnTo>
                    <a:pt x="1881" y="0"/>
                  </a:lnTo>
                  <a:lnTo>
                    <a:pt x="1861" y="10"/>
                  </a:lnTo>
                  <a:lnTo>
                    <a:pt x="1836" y="20"/>
                  </a:lnTo>
                  <a:lnTo>
                    <a:pt x="1808" y="32"/>
                  </a:lnTo>
                  <a:lnTo>
                    <a:pt x="1778" y="45"/>
                  </a:lnTo>
                  <a:lnTo>
                    <a:pt x="1746" y="58"/>
                  </a:lnTo>
                  <a:lnTo>
                    <a:pt x="1714" y="73"/>
                  </a:lnTo>
                  <a:lnTo>
                    <a:pt x="1681" y="88"/>
                  </a:lnTo>
                  <a:lnTo>
                    <a:pt x="1648" y="102"/>
                  </a:lnTo>
                  <a:lnTo>
                    <a:pt x="1616" y="117"/>
                  </a:lnTo>
                  <a:lnTo>
                    <a:pt x="1586" y="130"/>
                  </a:lnTo>
                  <a:lnTo>
                    <a:pt x="1558" y="142"/>
                  </a:lnTo>
                  <a:lnTo>
                    <a:pt x="1533" y="154"/>
                  </a:lnTo>
                  <a:lnTo>
                    <a:pt x="1511" y="164"/>
                  </a:lnTo>
                  <a:lnTo>
                    <a:pt x="1493" y="174"/>
                  </a:lnTo>
                  <a:lnTo>
                    <a:pt x="1479" y="179"/>
                  </a:lnTo>
                  <a:lnTo>
                    <a:pt x="1473" y="184"/>
                  </a:lnTo>
                  <a:lnTo>
                    <a:pt x="1459" y="190"/>
                  </a:lnTo>
                  <a:lnTo>
                    <a:pt x="1443" y="195"/>
                  </a:lnTo>
                  <a:lnTo>
                    <a:pt x="1423" y="199"/>
                  </a:lnTo>
                  <a:lnTo>
                    <a:pt x="1401" y="202"/>
                  </a:lnTo>
                  <a:lnTo>
                    <a:pt x="1376" y="205"/>
                  </a:lnTo>
                  <a:lnTo>
                    <a:pt x="1351" y="210"/>
                  </a:lnTo>
                  <a:lnTo>
                    <a:pt x="1324" y="215"/>
                  </a:lnTo>
                  <a:lnTo>
                    <a:pt x="1298" y="222"/>
                  </a:lnTo>
                  <a:close/>
                </a:path>
              </a:pathLst>
            </a:custGeom>
            <a:solidFill>
              <a:srgbClr val="ffffff">
                <a:alpha val="20000"/>
              </a:srgbClr>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46" name=""/>
            <p:cNvSpPr/>
            <p:nvPr/>
          </p:nvSpPr>
          <p:spPr>
            <a:xfrm>
              <a:off x="2840040" y="1378080"/>
              <a:ext cx="4348080" cy="3579840"/>
            </a:xfrm>
            <a:custGeom>
              <a:avLst/>
              <a:gdLst/>
              <a:ahLst/>
              <a:rect l="l" t="t" r="r" b="b"/>
              <a:pathLst>
                <a:path w="3185" h="2678">
                  <a:moveTo>
                    <a:pt x="380" y="90"/>
                  </a:moveTo>
                  <a:lnTo>
                    <a:pt x="683" y="28"/>
                  </a:lnTo>
                  <a:lnTo>
                    <a:pt x="693" y="0"/>
                  </a:lnTo>
                  <a:lnTo>
                    <a:pt x="695" y="0"/>
                  </a:lnTo>
                  <a:lnTo>
                    <a:pt x="698" y="0"/>
                  </a:lnTo>
                  <a:lnTo>
                    <a:pt x="704" y="0"/>
                  </a:lnTo>
                  <a:lnTo>
                    <a:pt x="712" y="0"/>
                  </a:lnTo>
                  <a:lnTo>
                    <a:pt x="720" y="0"/>
                  </a:lnTo>
                  <a:lnTo>
                    <a:pt x="734" y="2"/>
                  </a:lnTo>
                  <a:lnTo>
                    <a:pt x="747" y="5"/>
                  </a:lnTo>
                  <a:lnTo>
                    <a:pt x="764" y="10"/>
                  </a:lnTo>
                  <a:lnTo>
                    <a:pt x="782" y="15"/>
                  </a:lnTo>
                  <a:lnTo>
                    <a:pt x="799" y="20"/>
                  </a:lnTo>
                  <a:lnTo>
                    <a:pt x="817" y="23"/>
                  </a:lnTo>
                  <a:lnTo>
                    <a:pt x="832" y="28"/>
                  </a:lnTo>
                  <a:lnTo>
                    <a:pt x="847" y="32"/>
                  </a:lnTo>
                  <a:lnTo>
                    <a:pt x="862" y="35"/>
                  </a:lnTo>
                  <a:lnTo>
                    <a:pt x="874" y="40"/>
                  </a:lnTo>
                  <a:lnTo>
                    <a:pt x="884" y="43"/>
                  </a:lnTo>
                  <a:lnTo>
                    <a:pt x="894" y="48"/>
                  </a:lnTo>
                  <a:lnTo>
                    <a:pt x="907" y="57"/>
                  </a:lnTo>
                  <a:lnTo>
                    <a:pt x="924" y="68"/>
                  </a:lnTo>
                  <a:lnTo>
                    <a:pt x="942" y="82"/>
                  </a:lnTo>
                  <a:lnTo>
                    <a:pt x="962" y="97"/>
                  </a:lnTo>
                  <a:lnTo>
                    <a:pt x="985" y="112"/>
                  </a:lnTo>
                  <a:lnTo>
                    <a:pt x="1009" y="127"/>
                  </a:lnTo>
                  <a:lnTo>
                    <a:pt x="1035" y="142"/>
                  </a:lnTo>
                  <a:lnTo>
                    <a:pt x="1060" y="155"/>
                  </a:lnTo>
                  <a:lnTo>
                    <a:pt x="1080" y="168"/>
                  </a:lnTo>
                  <a:lnTo>
                    <a:pt x="1099" y="180"/>
                  </a:lnTo>
                  <a:lnTo>
                    <a:pt x="1114" y="190"/>
                  </a:lnTo>
                  <a:lnTo>
                    <a:pt x="1124" y="197"/>
                  </a:lnTo>
                  <a:lnTo>
                    <a:pt x="1132" y="203"/>
                  </a:lnTo>
                  <a:lnTo>
                    <a:pt x="1137" y="207"/>
                  </a:lnTo>
                  <a:lnTo>
                    <a:pt x="1139" y="208"/>
                  </a:lnTo>
                  <a:lnTo>
                    <a:pt x="1142" y="210"/>
                  </a:lnTo>
                  <a:lnTo>
                    <a:pt x="1150" y="215"/>
                  </a:lnTo>
                  <a:lnTo>
                    <a:pt x="1162" y="223"/>
                  </a:lnTo>
                  <a:lnTo>
                    <a:pt x="1177" y="233"/>
                  </a:lnTo>
                  <a:lnTo>
                    <a:pt x="1192" y="243"/>
                  </a:lnTo>
                  <a:lnTo>
                    <a:pt x="1205" y="255"/>
                  </a:lnTo>
                  <a:lnTo>
                    <a:pt x="1217" y="265"/>
                  </a:lnTo>
                  <a:lnTo>
                    <a:pt x="1225" y="275"/>
                  </a:lnTo>
                  <a:lnTo>
                    <a:pt x="1234" y="285"/>
                  </a:lnTo>
                  <a:lnTo>
                    <a:pt x="1245" y="297"/>
                  </a:lnTo>
                  <a:lnTo>
                    <a:pt x="1259" y="310"/>
                  </a:lnTo>
                  <a:lnTo>
                    <a:pt x="1276" y="325"/>
                  </a:lnTo>
                  <a:lnTo>
                    <a:pt x="1292" y="340"/>
                  </a:lnTo>
                  <a:lnTo>
                    <a:pt x="1309" y="354"/>
                  </a:lnTo>
                  <a:lnTo>
                    <a:pt x="1324" y="365"/>
                  </a:lnTo>
                  <a:lnTo>
                    <a:pt x="1334" y="375"/>
                  </a:lnTo>
                  <a:lnTo>
                    <a:pt x="1346" y="385"/>
                  </a:lnTo>
                  <a:lnTo>
                    <a:pt x="1362" y="397"/>
                  </a:lnTo>
                  <a:lnTo>
                    <a:pt x="1381" y="410"/>
                  </a:lnTo>
                  <a:lnTo>
                    <a:pt x="1401" y="424"/>
                  </a:lnTo>
                  <a:lnTo>
                    <a:pt x="1421" y="437"/>
                  </a:lnTo>
                  <a:lnTo>
                    <a:pt x="1436" y="445"/>
                  </a:lnTo>
                  <a:lnTo>
                    <a:pt x="1447" y="454"/>
                  </a:lnTo>
                  <a:lnTo>
                    <a:pt x="1451" y="455"/>
                  </a:lnTo>
                  <a:lnTo>
                    <a:pt x="1489" y="509"/>
                  </a:lnTo>
                  <a:lnTo>
                    <a:pt x="1497" y="509"/>
                  </a:lnTo>
                  <a:lnTo>
                    <a:pt x="1517" y="509"/>
                  </a:lnTo>
                  <a:lnTo>
                    <a:pt x="1546" y="509"/>
                  </a:lnTo>
                  <a:lnTo>
                    <a:pt x="1581" y="509"/>
                  </a:lnTo>
                  <a:lnTo>
                    <a:pt x="1617" y="510"/>
                  </a:lnTo>
                  <a:lnTo>
                    <a:pt x="1651" y="514"/>
                  </a:lnTo>
                  <a:lnTo>
                    <a:pt x="1677" y="520"/>
                  </a:lnTo>
                  <a:lnTo>
                    <a:pt x="1694" y="527"/>
                  </a:lnTo>
                  <a:lnTo>
                    <a:pt x="1696" y="527"/>
                  </a:lnTo>
                  <a:lnTo>
                    <a:pt x="1702" y="525"/>
                  </a:lnTo>
                  <a:lnTo>
                    <a:pt x="1712" y="522"/>
                  </a:lnTo>
                  <a:lnTo>
                    <a:pt x="1722" y="520"/>
                  </a:lnTo>
                  <a:lnTo>
                    <a:pt x="1736" y="519"/>
                  </a:lnTo>
                  <a:lnTo>
                    <a:pt x="1747" y="515"/>
                  </a:lnTo>
                  <a:lnTo>
                    <a:pt x="1759" y="514"/>
                  </a:lnTo>
                  <a:lnTo>
                    <a:pt x="1769" y="514"/>
                  </a:lnTo>
                  <a:lnTo>
                    <a:pt x="1782" y="515"/>
                  </a:lnTo>
                  <a:lnTo>
                    <a:pt x="1801" y="519"/>
                  </a:lnTo>
                  <a:lnTo>
                    <a:pt x="1823" y="522"/>
                  </a:lnTo>
                  <a:lnTo>
                    <a:pt x="1848" y="527"/>
                  </a:lnTo>
                  <a:lnTo>
                    <a:pt x="1869" y="534"/>
                  </a:lnTo>
                  <a:lnTo>
                    <a:pt x="1889" y="537"/>
                  </a:lnTo>
                  <a:lnTo>
                    <a:pt x="1903" y="540"/>
                  </a:lnTo>
                  <a:lnTo>
                    <a:pt x="1908" y="542"/>
                  </a:lnTo>
                  <a:lnTo>
                    <a:pt x="1926" y="604"/>
                  </a:lnTo>
                  <a:lnTo>
                    <a:pt x="2044" y="604"/>
                  </a:lnTo>
                  <a:lnTo>
                    <a:pt x="2064" y="689"/>
                  </a:lnTo>
                  <a:lnTo>
                    <a:pt x="2071" y="692"/>
                  </a:lnTo>
                  <a:lnTo>
                    <a:pt x="2083" y="704"/>
                  </a:lnTo>
                  <a:lnTo>
                    <a:pt x="2093" y="722"/>
                  </a:lnTo>
                  <a:lnTo>
                    <a:pt x="2093" y="746"/>
                  </a:lnTo>
                  <a:lnTo>
                    <a:pt x="2116" y="784"/>
                  </a:lnTo>
                  <a:lnTo>
                    <a:pt x="2154" y="769"/>
                  </a:lnTo>
                  <a:lnTo>
                    <a:pt x="2158" y="774"/>
                  </a:lnTo>
                  <a:lnTo>
                    <a:pt x="2164" y="786"/>
                  </a:lnTo>
                  <a:lnTo>
                    <a:pt x="2169" y="801"/>
                  </a:lnTo>
                  <a:lnTo>
                    <a:pt x="2173" y="812"/>
                  </a:lnTo>
                  <a:lnTo>
                    <a:pt x="2176" y="824"/>
                  </a:lnTo>
                  <a:lnTo>
                    <a:pt x="2183" y="834"/>
                  </a:lnTo>
                  <a:lnTo>
                    <a:pt x="2189" y="842"/>
                  </a:lnTo>
                  <a:lnTo>
                    <a:pt x="2193" y="846"/>
                  </a:lnTo>
                  <a:lnTo>
                    <a:pt x="2201" y="822"/>
                  </a:lnTo>
                  <a:lnTo>
                    <a:pt x="2226" y="869"/>
                  </a:lnTo>
                  <a:lnTo>
                    <a:pt x="2228" y="869"/>
                  </a:lnTo>
                  <a:lnTo>
                    <a:pt x="2234" y="871"/>
                  </a:lnTo>
                  <a:lnTo>
                    <a:pt x="2244" y="874"/>
                  </a:lnTo>
                  <a:lnTo>
                    <a:pt x="2254" y="877"/>
                  </a:lnTo>
                  <a:lnTo>
                    <a:pt x="2266" y="882"/>
                  </a:lnTo>
                  <a:lnTo>
                    <a:pt x="2276" y="887"/>
                  </a:lnTo>
                  <a:lnTo>
                    <a:pt x="2284" y="894"/>
                  </a:lnTo>
                  <a:lnTo>
                    <a:pt x="2288" y="902"/>
                  </a:lnTo>
                  <a:lnTo>
                    <a:pt x="2289" y="921"/>
                  </a:lnTo>
                  <a:lnTo>
                    <a:pt x="2293" y="937"/>
                  </a:lnTo>
                  <a:lnTo>
                    <a:pt x="2296" y="952"/>
                  </a:lnTo>
                  <a:lnTo>
                    <a:pt x="2306" y="964"/>
                  </a:lnTo>
                  <a:lnTo>
                    <a:pt x="2316" y="979"/>
                  </a:lnTo>
                  <a:lnTo>
                    <a:pt x="2321" y="996"/>
                  </a:lnTo>
                  <a:lnTo>
                    <a:pt x="2318" y="1011"/>
                  </a:lnTo>
                  <a:lnTo>
                    <a:pt x="2311" y="1017"/>
                  </a:lnTo>
                  <a:lnTo>
                    <a:pt x="2303" y="1019"/>
                  </a:lnTo>
                  <a:lnTo>
                    <a:pt x="2299" y="1024"/>
                  </a:lnTo>
                  <a:lnTo>
                    <a:pt x="2301" y="1032"/>
                  </a:lnTo>
                  <a:lnTo>
                    <a:pt x="2306" y="1046"/>
                  </a:lnTo>
                  <a:lnTo>
                    <a:pt x="2313" y="1061"/>
                  </a:lnTo>
                  <a:lnTo>
                    <a:pt x="2319" y="1076"/>
                  </a:lnTo>
                  <a:lnTo>
                    <a:pt x="2324" y="1092"/>
                  </a:lnTo>
                  <a:lnTo>
                    <a:pt x="2329" y="1107"/>
                  </a:lnTo>
                  <a:lnTo>
                    <a:pt x="2336" y="1117"/>
                  </a:lnTo>
                  <a:lnTo>
                    <a:pt x="2344" y="1121"/>
                  </a:lnTo>
                  <a:lnTo>
                    <a:pt x="2351" y="1121"/>
                  </a:lnTo>
                  <a:lnTo>
                    <a:pt x="2354" y="1121"/>
                  </a:lnTo>
                  <a:lnTo>
                    <a:pt x="2356" y="1129"/>
                  </a:lnTo>
                  <a:lnTo>
                    <a:pt x="2365" y="1149"/>
                  </a:lnTo>
                  <a:lnTo>
                    <a:pt x="2375" y="1174"/>
                  </a:lnTo>
                  <a:lnTo>
                    <a:pt x="2388" y="1192"/>
                  </a:lnTo>
                  <a:lnTo>
                    <a:pt x="2395" y="1201"/>
                  </a:lnTo>
                  <a:lnTo>
                    <a:pt x="2400" y="1209"/>
                  </a:lnTo>
                  <a:lnTo>
                    <a:pt x="2405" y="1217"/>
                  </a:lnTo>
                  <a:lnTo>
                    <a:pt x="2411" y="1227"/>
                  </a:lnTo>
                  <a:lnTo>
                    <a:pt x="2416" y="1236"/>
                  </a:lnTo>
                  <a:lnTo>
                    <a:pt x="2425" y="1244"/>
                  </a:lnTo>
                  <a:lnTo>
                    <a:pt x="2433" y="1253"/>
                  </a:lnTo>
                  <a:lnTo>
                    <a:pt x="2445" y="1259"/>
                  </a:lnTo>
                  <a:lnTo>
                    <a:pt x="2456" y="1263"/>
                  </a:lnTo>
                  <a:lnTo>
                    <a:pt x="2468" y="1263"/>
                  </a:lnTo>
                  <a:lnTo>
                    <a:pt x="2478" y="1263"/>
                  </a:lnTo>
                  <a:lnTo>
                    <a:pt x="2486" y="1259"/>
                  </a:lnTo>
                  <a:lnTo>
                    <a:pt x="2493" y="1256"/>
                  </a:lnTo>
                  <a:lnTo>
                    <a:pt x="2498" y="1253"/>
                  </a:lnTo>
                  <a:lnTo>
                    <a:pt x="2500" y="1251"/>
                  </a:lnTo>
                  <a:lnTo>
                    <a:pt x="2501" y="1249"/>
                  </a:lnTo>
                  <a:lnTo>
                    <a:pt x="2520" y="1259"/>
                  </a:lnTo>
                  <a:lnTo>
                    <a:pt x="2501" y="1293"/>
                  </a:lnTo>
                  <a:lnTo>
                    <a:pt x="2501" y="1294"/>
                  </a:lnTo>
                  <a:lnTo>
                    <a:pt x="2501" y="1299"/>
                  </a:lnTo>
                  <a:lnTo>
                    <a:pt x="2503" y="1304"/>
                  </a:lnTo>
                  <a:lnTo>
                    <a:pt x="2511" y="1306"/>
                  </a:lnTo>
                  <a:lnTo>
                    <a:pt x="2521" y="1314"/>
                  </a:lnTo>
                  <a:lnTo>
                    <a:pt x="2531" y="1329"/>
                  </a:lnTo>
                  <a:lnTo>
                    <a:pt x="2536" y="1346"/>
                  </a:lnTo>
                  <a:lnTo>
                    <a:pt x="2540" y="1354"/>
                  </a:lnTo>
                  <a:lnTo>
                    <a:pt x="2541" y="1356"/>
                  </a:lnTo>
                  <a:lnTo>
                    <a:pt x="2546" y="1361"/>
                  </a:lnTo>
                  <a:lnTo>
                    <a:pt x="2553" y="1368"/>
                  </a:lnTo>
                  <a:lnTo>
                    <a:pt x="2561" y="1378"/>
                  </a:lnTo>
                  <a:lnTo>
                    <a:pt x="2571" y="1388"/>
                  </a:lnTo>
                  <a:lnTo>
                    <a:pt x="2583" y="1401"/>
                  </a:lnTo>
                  <a:lnTo>
                    <a:pt x="2595" y="1414"/>
                  </a:lnTo>
                  <a:lnTo>
                    <a:pt x="2606" y="1428"/>
                  </a:lnTo>
                  <a:lnTo>
                    <a:pt x="2618" y="1443"/>
                  </a:lnTo>
                  <a:lnTo>
                    <a:pt x="2631" y="1458"/>
                  </a:lnTo>
                  <a:lnTo>
                    <a:pt x="2645" y="1473"/>
                  </a:lnTo>
                  <a:lnTo>
                    <a:pt x="2658" y="1488"/>
                  </a:lnTo>
                  <a:lnTo>
                    <a:pt x="2670" y="1501"/>
                  </a:lnTo>
                  <a:lnTo>
                    <a:pt x="2680" y="1511"/>
                  </a:lnTo>
                  <a:lnTo>
                    <a:pt x="2688" y="1521"/>
                  </a:lnTo>
                  <a:lnTo>
                    <a:pt x="2691" y="1528"/>
                  </a:lnTo>
                  <a:lnTo>
                    <a:pt x="2701" y="1533"/>
                  </a:lnTo>
                  <a:lnTo>
                    <a:pt x="2723" y="1538"/>
                  </a:lnTo>
                  <a:lnTo>
                    <a:pt x="2753" y="1543"/>
                  </a:lnTo>
                  <a:lnTo>
                    <a:pt x="2790" y="1546"/>
                  </a:lnTo>
                  <a:lnTo>
                    <a:pt x="2828" y="1549"/>
                  </a:lnTo>
                  <a:lnTo>
                    <a:pt x="2863" y="1551"/>
                  </a:lnTo>
                  <a:lnTo>
                    <a:pt x="2891" y="1554"/>
                  </a:lnTo>
                  <a:lnTo>
                    <a:pt x="2910" y="1556"/>
                  </a:lnTo>
                  <a:lnTo>
                    <a:pt x="2925" y="1558"/>
                  </a:lnTo>
                  <a:lnTo>
                    <a:pt x="2945" y="1559"/>
                  </a:lnTo>
                  <a:lnTo>
                    <a:pt x="2968" y="1561"/>
                  </a:lnTo>
                  <a:lnTo>
                    <a:pt x="2992" y="1563"/>
                  </a:lnTo>
                  <a:lnTo>
                    <a:pt x="3013" y="1566"/>
                  </a:lnTo>
                  <a:lnTo>
                    <a:pt x="3033" y="1568"/>
                  </a:lnTo>
                  <a:lnTo>
                    <a:pt x="3048" y="1569"/>
                  </a:lnTo>
                  <a:lnTo>
                    <a:pt x="3057" y="1571"/>
                  </a:lnTo>
                  <a:lnTo>
                    <a:pt x="3070" y="1569"/>
                  </a:lnTo>
                  <a:lnTo>
                    <a:pt x="3083" y="1563"/>
                  </a:lnTo>
                  <a:lnTo>
                    <a:pt x="3095" y="1554"/>
                  </a:lnTo>
                  <a:lnTo>
                    <a:pt x="3100" y="1551"/>
                  </a:lnTo>
                  <a:lnTo>
                    <a:pt x="3102" y="1553"/>
                  </a:lnTo>
                  <a:lnTo>
                    <a:pt x="3105" y="1556"/>
                  </a:lnTo>
                  <a:lnTo>
                    <a:pt x="3112" y="1561"/>
                  </a:lnTo>
                  <a:lnTo>
                    <a:pt x="3120" y="1568"/>
                  </a:lnTo>
                  <a:lnTo>
                    <a:pt x="3130" y="1576"/>
                  </a:lnTo>
                  <a:lnTo>
                    <a:pt x="3140" y="1586"/>
                  </a:lnTo>
                  <a:lnTo>
                    <a:pt x="3152" y="1598"/>
                  </a:lnTo>
                  <a:lnTo>
                    <a:pt x="3162" y="1609"/>
                  </a:lnTo>
                  <a:lnTo>
                    <a:pt x="3172" y="1624"/>
                  </a:lnTo>
                  <a:lnTo>
                    <a:pt x="3180" y="1638"/>
                  </a:lnTo>
                  <a:lnTo>
                    <a:pt x="3183" y="1653"/>
                  </a:lnTo>
                  <a:lnTo>
                    <a:pt x="3185" y="1668"/>
                  </a:lnTo>
                  <a:lnTo>
                    <a:pt x="3185" y="1678"/>
                  </a:lnTo>
                  <a:lnTo>
                    <a:pt x="3183" y="1688"/>
                  </a:lnTo>
                  <a:lnTo>
                    <a:pt x="3180" y="1696"/>
                  </a:lnTo>
                  <a:lnTo>
                    <a:pt x="3175" y="1704"/>
                  </a:lnTo>
                  <a:lnTo>
                    <a:pt x="3168" y="1724"/>
                  </a:lnTo>
                  <a:lnTo>
                    <a:pt x="3168" y="1748"/>
                  </a:lnTo>
                  <a:lnTo>
                    <a:pt x="3168" y="1771"/>
                  </a:lnTo>
                  <a:lnTo>
                    <a:pt x="3167" y="1795"/>
                  </a:lnTo>
                  <a:lnTo>
                    <a:pt x="3162" y="1815"/>
                  </a:lnTo>
                  <a:lnTo>
                    <a:pt x="3153" y="1835"/>
                  </a:lnTo>
                  <a:lnTo>
                    <a:pt x="3145" y="1851"/>
                  </a:lnTo>
                  <a:lnTo>
                    <a:pt x="3138" y="1870"/>
                  </a:lnTo>
                  <a:lnTo>
                    <a:pt x="3132" y="1890"/>
                  </a:lnTo>
                  <a:lnTo>
                    <a:pt x="3125" y="1913"/>
                  </a:lnTo>
                  <a:lnTo>
                    <a:pt x="3120" y="1933"/>
                  </a:lnTo>
                  <a:lnTo>
                    <a:pt x="3118" y="1951"/>
                  </a:lnTo>
                  <a:lnTo>
                    <a:pt x="3117" y="1965"/>
                  </a:lnTo>
                  <a:lnTo>
                    <a:pt x="3115" y="1976"/>
                  </a:lnTo>
                  <a:lnTo>
                    <a:pt x="3108" y="1986"/>
                  </a:lnTo>
                  <a:lnTo>
                    <a:pt x="3100" y="1993"/>
                  </a:lnTo>
                  <a:lnTo>
                    <a:pt x="3093" y="1996"/>
                  </a:lnTo>
                  <a:lnTo>
                    <a:pt x="3078" y="2003"/>
                  </a:lnTo>
                  <a:lnTo>
                    <a:pt x="3057" y="2013"/>
                  </a:lnTo>
                  <a:lnTo>
                    <a:pt x="3028" y="2026"/>
                  </a:lnTo>
                  <a:lnTo>
                    <a:pt x="2997" y="2040"/>
                  </a:lnTo>
                  <a:lnTo>
                    <a:pt x="2962" y="2056"/>
                  </a:lnTo>
                  <a:lnTo>
                    <a:pt x="2923" y="2073"/>
                  </a:lnTo>
                  <a:lnTo>
                    <a:pt x="2885" y="2090"/>
                  </a:lnTo>
                  <a:lnTo>
                    <a:pt x="2845" y="2108"/>
                  </a:lnTo>
                  <a:lnTo>
                    <a:pt x="2806" y="2125"/>
                  </a:lnTo>
                  <a:lnTo>
                    <a:pt x="2770" y="2141"/>
                  </a:lnTo>
                  <a:lnTo>
                    <a:pt x="2736" y="2155"/>
                  </a:lnTo>
                  <a:lnTo>
                    <a:pt x="2708" y="2168"/>
                  </a:lnTo>
                  <a:lnTo>
                    <a:pt x="2685" y="2180"/>
                  </a:lnTo>
                  <a:lnTo>
                    <a:pt x="2668" y="2188"/>
                  </a:lnTo>
                  <a:lnTo>
                    <a:pt x="2658" y="2193"/>
                  </a:lnTo>
                  <a:lnTo>
                    <a:pt x="2645" y="2200"/>
                  </a:lnTo>
                  <a:lnTo>
                    <a:pt x="2628" y="2205"/>
                  </a:lnTo>
                  <a:lnTo>
                    <a:pt x="2608" y="2208"/>
                  </a:lnTo>
                  <a:lnTo>
                    <a:pt x="2586" y="2211"/>
                  </a:lnTo>
                  <a:lnTo>
                    <a:pt x="2561" y="2215"/>
                  </a:lnTo>
                  <a:lnTo>
                    <a:pt x="2535" y="2220"/>
                  </a:lnTo>
                  <a:lnTo>
                    <a:pt x="2508" y="2225"/>
                  </a:lnTo>
                  <a:lnTo>
                    <a:pt x="2481" y="2231"/>
                  </a:lnTo>
                  <a:lnTo>
                    <a:pt x="2466" y="2235"/>
                  </a:lnTo>
                  <a:lnTo>
                    <a:pt x="2446" y="2240"/>
                  </a:lnTo>
                  <a:lnTo>
                    <a:pt x="2425" y="2245"/>
                  </a:lnTo>
                  <a:lnTo>
                    <a:pt x="2398" y="2252"/>
                  </a:lnTo>
                  <a:lnTo>
                    <a:pt x="2371" y="2258"/>
                  </a:lnTo>
                  <a:lnTo>
                    <a:pt x="2343" y="2265"/>
                  </a:lnTo>
                  <a:lnTo>
                    <a:pt x="2313" y="2272"/>
                  </a:lnTo>
                  <a:lnTo>
                    <a:pt x="2283" y="2278"/>
                  </a:lnTo>
                  <a:lnTo>
                    <a:pt x="2253" y="2285"/>
                  </a:lnTo>
                  <a:lnTo>
                    <a:pt x="2224" y="2293"/>
                  </a:lnTo>
                  <a:lnTo>
                    <a:pt x="2198" y="2300"/>
                  </a:lnTo>
                  <a:lnTo>
                    <a:pt x="2173" y="2307"/>
                  </a:lnTo>
                  <a:lnTo>
                    <a:pt x="2151" y="2312"/>
                  </a:lnTo>
                  <a:lnTo>
                    <a:pt x="2134" y="2318"/>
                  </a:lnTo>
                  <a:lnTo>
                    <a:pt x="2119" y="2323"/>
                  </a:lnTo>
                  <a:lnTo>
                    <a:pt x="2111" y="2327"/>
                  </a:lnTo>
                  <a:lnTo>
                    <a:pt x="2098" y="2333"/>
                  </a:lnTo>
                  <a:lnTo>
                    <a:pt x="2086" y="2338"/>
                  </a:lnTo>
                  <a:lnTo>
                    <a:pt x="2071" y="2347"/>
                  </a:lnTo>
                  <a:lnTo>
                    <a:pt x="2058" y="2353"/>
                  </a:lnTo>
                  <a:lnTo>
                    <a:pt x="2043" y="2365"/>
                  </a:lnTo>
                  <a:lnTo>
                    <a:pt x="2028" y="2378"/>
                  </a:lnTo>
                  <a:lnTo>
                    <a:pt x="2011" y="2398"/>
                  </a:lnTo>
                  <a:lnTo>
                    <a:pt x="1993" y="2422"/>
                  </a:lnTo>
                  <a:lnTo>
                    <a:pt x="1976" y="2447"/>
                  </a:lnTo>
                  <a:lnTo>
                    <a:pt x="1961" y="2470"/>
                  </a:lnTo>
                  <a:lnTo>
                    <a:pt x="1946" y="2492"/>
                  </a:lnTo>
                  <a:lnTo>
                    <a:pt x="1933" y="2512"/>
                  </a:lnTo>
                  <a:lnTo>
                    <a:pt x="1923" y="2528"/>
                  </a:lnTo>
                  <a:lnTo>
                    <a:pt x="1913" y="2542"/>
                  </a:lnTo>
                  <a:lnTo>
                    <a:pt x="1904" y="2552"/>
                  </a:lnTo>
                  <a:lnTo>
                    <a:pt x="1898" y="2558"/>
                  </a:lnTo>
                  <a:lnTo>
                    <a:pt x="1891" y="2563"/>
                  </a:lnTo>
                  <a:lnTo>
                    <a:pt x="1884" y="2568"/>
                  </a:lnTo>
                  <a:lnTo>
                    <a:pt x="1874" y="2573"/>
                  </a:lnTo>
                  <a:lnTo>
                    <a:pt x="1864" y="2575"/>
                  </a:lnTo>
                  <a:lnTo>
                    <a:pt x="1853" y="2577"/>
                  </a:lnTo>
                  <a:lnTo>
                    <a:pt x="1843" y="2577"/>
                  </a:lnTo>
                  <a:lnTo>
                    <a:pt x="1833" y="2573"/>
                  </a:lnTo>
                  <a:lnTo>
                    <a:pt x="1823" y="2568"/>
                  </a:lnTo>
                  <a:lnTo>
                    <a:pt x="1814" y="2562"/>
                  </a:lnTo>
                  <a:lnTo>
                    <a:pt x="1806" y="2553"/>
                  </a:lnTo>
                  <a:lnTo>
                    <a:pt x="1799" y="2547"/>
                  </a:lnTo>
                  <a:lnTo>
                    <a:pt x="1794" y="2538"/>
                  </a:lnTo>
                  <a:lnTo>
                    <a:pt x="1787" y="2533"/>
                  </a:lnTo>
                  <a:lnTo>
                    <a:pt x="1781" y="2530"/>
                  </a:lnTo>
                  <a:lnTo>
                    <a:pt x="1772" y="2528"/>
                  </a:lnTo>
                  <a:lnTo>
                    <a:pt x="1764" y="2530"/>
                  </a:lnTo>
                  <a:lnTo>
                    <a:pt x="1752" y="2533"/>
                  </a:lnTo>
                  <a:lnTo>
                    <a:pt x="1739" y="2535"/>
                  </a:lnTo>
                  <a:lnTo>
                    <a:pt x="1722" y="2535"/>
                  </a:lnTo>
                  <a:lnTo>
                    <a:pt x="1704" y="2535"/>
                  </a:lnTo>
                  <a:lnTo>
                    <a:pt x="1684" y="2535"/>
                  </a:lnTo>
                  <a:lnTo>
                    <a:pt x="1666" y="2533"/>
                  </a:lnTo>
                  <a:lnTo>
                    <a:pt x="1647" y="2532"/>
                  </a:lnTo>
                  <a:lnTo>
                    <a:pt x="1632" y="2530"/>
                  </a:lnTo>
                  <a:lnTo>
                    <a:pt x="1617" y="2528"/>
                  </a:lnTo>
                  <a:lnTo>
                    <a:pt x="1602" y="2525"/>
                  </a:lnTo>
                  <a:lnTo>
                    <a:pt x="1589" y="2520"/>
                  </a:lnTo>
                  <a:lnTo>
                    <a:pt x="1574" y="2517"/>
                  </a:lnTo>
                  <a:lnTo>
                    <a:pt x="1561" y="2513"/>
                  </a:lnTo>
                  <a:lnTo>
                    <a:pt x="1549" y="2510"/>
                  </a:lnTo>
                  <a:lnTo>
                    <a:pt x="1537" y="2507"/>
                  </a:lnTo>
                  <a:lnTo>
                    <a:pt x="1527" y="2507"/>
                  </a:lnTo>
                  <a:lnTo>
                    <a:pt x="1514" y="2507"/>
                  </a:lnTo>
                  <a:lnTo>
                    <a:pt x="1492" y="2507"/>
                  </a:lnTo>
                  <a:lnTo>
                    <a:pt x="1466" y="2508"/>
                  </a:lnTo>
                  <a:lnTo>
                    <a:pt x="1436" y="2508"/>
                  </a:lnTo>
                  <a:lnTo>
                    <a:pt x="1409" y="2510"/>
                  </a:lnTo>
                  <a:lnTo>
                    <a:pt x="1386" y="2512"/>
                  </a:lnTo>
                  <a:lnTo>
                    <a:pt x="1369" y="2512"/>
                  </a:lnTo>
                  <a:lnTo>
                    <a:pt x="1362" y="2512"/>
                  </a:lnTo>
                  <a:lnTo>
                    <a:pt x="1361" y="2513"/>
                  </a:lnTo>
                  <a:lnTo>
                    <a:pt x="1356" y="2515"/>
                  </a:lnTo>
                  <a:lnTo>
                    <a:pt x="1349" y="2518"/>
                  </a:lnTo>
                  <a:lnTo>
                    <a:pt x="1339" y="2520"/>
                  </a:lnTo>
                  <a:lnTo>
                    <a:pt x="1329" y="2522"/>
                  </a:lnTo>
                  <a:lnTo>
                    <a:pt x="1317" y="2522"/>
                  </a:lnTo>
                  <a:lnTo>
                    <a:pt x="1304" y="2518"/>
                  </a:lnTo>
                  <a:lnTo>
                    <a:pt x="1292" y="2512"/>
                  </a:lnTo>
                  <a:lnTo>
                    <a:pt x="1281" y="2503"/>
                  </a:lnTo>
                  <a:lnTo>
                    <a:pt x="1272" y="2497"/>
                  </a:lnTo>
                  <a:lnTo>
                    <a:pt x="1266" y="2490"/>
                  </a:lnTo>
                  <a:lnTo>
                    <a:pt x="1261" y="2485"/>
                  </a:lnTo>
                  <a:lnTo>
                    <a:pt x="1256" y="2482"/>
                  </a:lnTo>
                  <a:lnTo>
                    <a:pt x="1250" y="2480"/>
                  </a:lnTo>
                  <a:lnTo>
                    <a:pt x="1245" y="2480"/>
                  </a:lnTo>
                  <a:lnTo>
                    <a:pt x="1239" y="2483"/>
                  </a:lnTo>
                  <a:lnTo>
                    <a:pt x="1232" y="2490"/>
                  </a:lnTo>
                  <a:lnTo>
                    <a:pt x="1235" y="2498"/>
                  </a:lnTo>
                  <a:lnTo>
                    <a:pt x="1240" y="2510"/>
                  </a:lnTo>
                  <a:lnTo>
                    <a:pt x="1239" y="2525"/>
                  </a:lnTo>
                  <a:lnTo>
                    <a:pt x="1234" y="2545"/>
                  </a:lnTo>
                  <a:lnTo>
                    <a:pt x="1232" y="2567"/>
                  </a:lnTo>
                  <a:lnTo>
                    <a:pt x="1234" y="2587"/>
                  </a:lnTo>
                  <a:lnTo>
                    <a:pt x="1234" y="2602"/>
                  </a:lnTo>
                  <a:lnTo>
                    <a:pt x="1230" y="2615"/>
                  </a:lnTo>
                  <a:lnTo>
                    <a:pt x="1225" y="2630"/>
                  </a:lnTo>
                  <a:lnTo>
                    <a:pt x="1219" y="2643"/>
                  </a:lnTo>
                  <a:lnTo>
                    <a:pt x="1215" y="2648"/>
                  </a:lnTo>
                  <a:lnTo>
                    <a:pt x="1177" y="2678"/>
                  </a:lnTo>
                  <a:lnTo>
                    <a:pt x="1175" y="2672"/>
                  </a:lnTo>
                  <a:lnTo>
                    <a:pt x="1170" y="2657"/>
                  </a:lnTo>
                  <a:lnTo>
                    <a:pt x="1167" y="2640"/>
                  </a:lnTo>
                  <a:lnTo>
                    <a:pt x="1167" y="2625"/>
                  </a:lnTo>
                  <a:lnTo>
                    <a:pt x="1167" y="2613"/>
                  </a:lnTo>
                  <a:lnTo>
                    <a:pt x="1164" y="2598"/>
                  </a:lnTo>
                  <a:lnTo>
                    <a:pt x="1154" y="2583"/>
                  </a:lnTo>
                  <a:lnTo>
                    <a:pt x="1144" y="2568"/>
                  </a:lnTo>
                  <a:lnTo>
                    <a:pt x="1134" y="2555"/>
                  </a:lnTo>
                  <a:lnTo>
                    <a:pt x="1124" y="2543"/>
                  </a:lnTo>
                  <a:lnTo>
                    <a:pt x="1115" y="2532"/>
                  </a:lnTo>
                  <a:lnTo>
                    <a:pt x="1110" y="2522"/>
                  </a:lnTo>
                  <a:lnTo>
                    <a:pt x="1107" y="2508"/>
                  </a:lnTo>
                  <a:lnTo>
                    <a:pt x="1104" y="2492"/>
                  </a:lnTo>
                  <a:lnTo>
                    <a:pt x="1095" y="2475"/>
                  </a:lnTo>
                  <a:lnTo>
                    <a:pt x="1082" y="2458"/>
                  </a:lnTo>
                  <a:lnTo>
                    <a:pt x="1072" y="2450"/>
                  </a:lnTo>
                  <a:lnTo>
                    <a:pt x="1059" y="2437"/>
                  </a:lnTo>
                  <a:lnTo>
                    <a:pt x="1044" y="2423"/>
                  </a:lnTo>
                  <a:lnTo>
                    <a:pt x="1029" y="2405"/>
                  </a:lnTo>
                  <a:lnTo>
                    <a:pt x="1014" y="2387"/>
                  </a:lnTo>
                  <a:lnTo>
                    <a:pt x="999" y="2368"/>
                  </a:lnTo>
                  <a:lnTo>
                    <a:pt x="987" y="2350"/>
                  </a:lnTo>
                  <a:lnTo>
                    <a:pt x="979" y="2332"/>
                  </a:lnTo>
                  <a:lnTo>
                    <a:pt x="964" y="2302"/>
                  </a:lnTo>
                  <a:lnTo>
                    <a:pt x="949" y="2280"/>
                  </a:lnTo>
                  <a:lnTo>
                    <a:pt x="937" y="2263"/>
                  </a:lnTo>
                  <a:lnTo>
                    <a:pt x="930" y="2245"/>
                  </a:lnTo>
                  <a:lnTo>
                    <a:pt x="927" y="2231"/>
                  </a:lnTo>
                  <a:lnTo>
                    <a:pt x="920" y="2211"/>
                  </a:lnTo>
                  <a:lnTo>
                    <a:pt x="910" y="2190"/>
                  </a:lnTo>
                  <a:lnTo>
                    <a:pt x="900" y="2166"/>
                  </a:lnTo>
                  <a:lnTo>
                    <a:pt x="890" y="2143"/>
                  </a:lnTo>
                  <a:lnTo>
                    <a:pt x="880" y="2123"/>
                  </a:lnTo>
                  <a:lnTo>
                    <a:pt x="870" y="2108"/>
                  </a:lnTo>
                  <a:lnTo>
                    <a:pt x="864" y="2098"/>
                  </a:lnTo>
                  <a:lnTo>
                    <a:pt x="854" y="2085"/>
                  </a:lnTo>
                  <a:lnTo>
                    <a:pt x="845" y="2071"/>
                  </a:lnTo>
                  <a:lnTo>
                    <a:pt x="834" y="2056"/>
                  </a:lnTo>
                  <a:lnTo>
                    <a:pt x="822" y="2041"/>
                  </a:lnTo>
                  <a:lnTo>
                    <a:pt x="814" y="2033"/>
                  </a:lnTo>
                  <a:lnTo>
                    <a:pt x="802" y="2025"/>
                  </a:lnTo>
                  <a:lnTo>
                    <a:pt x="790" y="2018"/>
                  </a:lnTo>
                  <a:lnTo>
                    <a:pt x="779" y="2010"/>
                  </a:lnTo>
                  <a:lnTo>
                    <a:pt x="765" y="2003"/>
                  </a:lnTo>
                  <a:lnTo>
                    <a:pt x="752" y="1998"/>
                  </a:lnTo>
                  <a:lnTo>
                    <a:pt x="740" y="1995"/>
                  </a:lnTo>
                  <a:lnTo>
                    <a:pt x="730" y="1993"/>
                  </a:lnTo>
                  <a:lnTo>
                    <a:pt x="722" y="1991"/>
                  </a:lnTo>
                  <a:lnTo>
                    <a:pt x="717" y="1988"/>
                  </a:lnTo>
                  <a:lnTo>
                    <a:pt x="710" y="1983"/>
                  </a:lnTo>
                  <a:lnTo>
                    <a:pt x="705" y="1975"/>
                  </a:lnTo>
                  <a:lnTo>
                    <a:pt x="700" y="1966"/>
                  </a:lnTo>
                  <a:lnTo>
                    <a:pt x="693" y="1953"/>
                  </a:lnTo>
                  <a:lnTo>
                    <a:pt x="685" y="1940"/>
                  </a:lnTo>
                  <a:lnTo>
                    <a:pt x="673" y="1923"/>
                  </a:lnTo>
                  <a:lnTo>
                    <a:pt x="662" y="1905"/>
                  </a:lnTo>
                  <a:lnTo>
                    <a:pt x="652" y="1886"/>
                  </a:lnTo>
                  <a:lnTo>
                    <a:pt x="642" y="1868"/>
                  </a:lnTo>
                  <a:lnTo>
                    <a:pt x="635" y="1851"/>
                  </a:lnTo>
                  <a:lnTo>
                    <a:pt x="628" y="1833"/>
                  </a:lnTo>
                  <a:lnTo>
                    <a:pt x="623" y="1818"/>
                  </a:lnTo>
                  <a:lnTo>
                    <a:pt x="620" y="1803"/>
                  </a:lnTo>
                  <a:lnTo>
                    <a:pt x="617" y="1790"/>
                  </a:lnTo>
                  <a:lnTo>
                    <a:pt x="612" y="1765"/>
                  </a:lnTo>
                  <a:lnTo>
                    <a:pt x="603" y="1741"/>
                  </a:lnTo>
                  <a:lnTo>
                    <a:pt x="597" y="1724"/>
                  </a:lnTo>
                  <a:lnTo>
                    <a:pt x="593" y="1718"/>
                  </a:lnTo>
                  <a:lnTo>
                    <a:pt x="600" y="1706"/>
                  </a:lnTo>
                  <a:lnTo>
                    <a:pt x="610" y="1676"/>
                  </a:lnTo>
                  <a:lnTo>
                    <a:pt x="617" y="1636"/>
                  </a:lnTo>
                  <a:lnTo>
                    <a:pt x="607" y="1594"/>
                  </a:lnTo>
                  <a:lnTo>
                    <a:pt x="590" y="1559"/>
                  </a:lnTo>
                  <a:lnTo>
                    <a:pt x="582" y="1531"/>
                  </a:lnTo>
                  <a:lnTo>
                    <a:pt x="573" y="1503"/>
                  </a:lnTo>
                  <a:lnTo>
                    <a:pt x="560" y="1471"/>
                  </a:lnTo>
                  <a:lnTo>
                    <a:pt x="552" y="1454"/>
                  </a:lnTo>
                  <a:lnTo>
                    <a:pt x="547" y="1439"/>
                  </a:lnTo>
                  <a:lnTo>
                    <a:pt x="542" y="1426"/>
                  </a:lnTo>
                  <a:lnTo>
                    <a:pt x="537" y="1413"/>
                  </a:lnTo>
                  <a:lnTo>
                    <a:pt x="532" y="1401"/>
                  </a:lnTo>
                  <a:lnTo>
                    <a:pt x="525" y="1393"/>
                  </a:lnTo>
                  <a:lnTo>
                    <a:pt x="518" y="1383"/>
                  </a:lnTo>
                  <a:lnTo>
                    <a:pt x="508" y="1376"/>
                  </a:lnTo>
                  <a:lnTo>
                    <a:pt x="497" y="1369"/>
                  </a:lnTo>
                  <a:lnTo>
                    <a:pt x="487" y="1361"/>
                  </a:lnTo>
                  <a:lnTo>
                    <a:pt x="475" y="1354"/>
                  </a:lnTo>
                  <a:lnTo>
                    <a:pt x="463" y="1346"/>
                  </a:lnTo>
                  <a:lnTo>
                    <a:pt x="452" y="1338"/>
                  </a:lnTo>
                  <a:lnTo>
                    <a:pt x="440" y="1329"/>
                  </a:lnTo>
                  <a:lnTo>
                    <a:pt x="427" y="1323"/>
                  </a:lnTo>
                  <a:lnTo>
                    <a:pt x="413" y="1316"/>
                  </a:lnTo>
                  <a:lnTo>
                    <a:pt x="392" y="1303"/>
                  </a:lnTo>
                  <a:lnTo>
                    <a:pt x="382" y="1286"/>
                  </a:lnTo>
                  <a:lnTo>
                    <a:pt x="375" y="1268"/>
                  </a:lnTo>
                  <a:lnTo>
                    <a:pt x="365" y="1249"/>
                  </a:lnTo>
                  <a:lnTo>
                    <a:pt x="355" y="1232"/>
                  </a:lnTo>
                  <a:lnTo>
                    <a:pt x="348" y="1219"/>
                  </a:lnTo>
                  <a:lnTo>
                    <a:pt x="347" y="1209"/>
                  </a:lnTo>
                  <a:lnTo>
                    <a:pt x="347" y="1206"/>
                  </a:lnTo>
                  <a:lnTo>
                    <a:pt x="348" y="1206"/>
                  </a:lnTo>
                  <a:lnTo>
                    <a:pt x="353" y="1204"/>
                  </a:lnTo>
                  <a:lnTo>
                    <a:pt x="360" y="1201"/>
                  </a:lnTo>
                  <a:lnTo>
                    <a:pt x="367" y="1194"/>
                  </a:lnTo>
                  <a:lnTo>
                    <a:pt x="370" y="1187"/>
                  </a:lnTo>
                  <a:lnTo>
                    <a:pt x="370" y="1176"/>
                  </a:lnTo>
                  <a:lnTo>
                    <a:pt x="365" y="1162"/>
                  </a:lnTo>
                  <a:lnTo>
                    <a:pt x="352" y="1144"/>
                  </a:lnTo>
                  <a:lnTo>
                    <a:pt x="330" y="1122"/>
                  </a:lnTo>
                  <a:lnTo>
                    <a:pt x="327" y="1122"/>
                  </a:lnTo>
                  <a:lnTo>
                    <a:pt x="330" y="1126"/>
                  </a:lnTo>
                  <a:lnTo>
                    <a:pt x="327" y="1112"/>
                  </a:lnTo>
                  <a:lnTo>
                    <a:pt x="320" y="1091"/>
                  </a:lnTo>
                  <a:lnTo>
                    <a:pt x="315" y="1076"/>
                  </a:lnTo>
                  <a:lnTo>
                    <a:pt x="308" y="1066"/>
                  </a:lnTo>
                  <a:lnTo>
                    <a:pt x="293" y="1054"/>
                  </a:lnTo>
                  <a:lnTo>
                    <a:pt x="283" y="1039"/>
                  </a:lnTo>
                  <a:lnTo>
                    <a:pt x="285" y="1024"/>
                  </a:lnTo>
                  <a:lnTo>
                    <a:pt x="287" y="1011"/>
                  </a:lnTo>
                  <a:lnTo>
                    <a:pt x="275" y="997"/>
                  </a:lnTo>
                  <a:lnTo>
                    <a:pt x="257" y="986"/>
                  </a:lnTo>
                  <a:lnTo>
                    <a:pt x="243" y="971"/>
                  </a:lnTo>
                  <a:lnTo>
                    <a:pt x="235" y="954"/>
                  </a:lnTo>
                  <a:lnTo>
                    <a:pt x="232" y="936"/>
                  </a:lnTo>
                  <a:lnTo>
                    <a:pt x="228" y="916"/>
                  </a:lnTo>
                  <a:lnTo>
                    <a:pt x="218" y="889"/>
                  </a:lnTo>
                  <a:lnTo>
                    <a:pt x="205" y="862"/>
                  </a:lnTo>
                  <a:lnTo>
                    <a:pt x="185" y="836"/>
                  </a:lnTo>
                  <a:lnTo>
                    <a:pt x="172" y="814"/>
                  </a:lnTo>
                  <a:lnTo>
                    <a:pt x="168" y="796"/>
                  </a:lnTo>
                  <a:lnTo>
                    <a:pt x="167" y="782"/>
                  </a:lnTo>
                  <a:lnTo>
                    <a:pt x="157" y="774"/>
                  </a:lnTo>
                  <a:lnTo>
                    <a:pt x="145" y="766"/>
                  </a:lnTo>
                  <a:lnTo>
                    <a:pt x="140" y="754"/>
                  </a:lnTo>
                  <a:lnTo>
                    <a:pt x="133" y="739"/>
                  </a:lnTo>
                  <a:lnTo>
                    <a:pt x="118" y="722"/>
                  </a:lnTo>
                  <a:lnTo>
                    <a:pt x="100" y="700"/>
                  </a:lnTo>
                  <a:lnTo>
                    <a:pt x="86" y="674"/>
                  </a:lnTo>
                  <a:lnTo>
                    <a:pt x="78" y="652"/>
                  </a:lnTo>
                  <a:lnTo>
                    <a:pt x="75" y="642"/>
                  </a:lnTo>
                  <a:lnTo>
                    <a:pt x="70" y="642"/>
                  </a:lnTo>
                  <a:lnTo>
                    <a:pt x="60" y="642"/>
                  </a:lnTo>
                  <a:lnTo>
                    <a:pt x="45" y="642"/>
                  </a:lnTo>
                  <a:lnTo>
                    <a:pt x="33" y="642"/>
                  </a:lnTo>
                  <a:lnTo>
                    <a:pt x="21" y="642"/>
                  </a:lnTo>
                  <a:lnTo>
                    <a:pt x="11" y="644"/>
                  </a:lnTo>
                  <a:lnTo>
                    <a:pt x="3" y="645"/>
                  </a:lnTo>
                  <a:lnTo>
                    <a:pt x="0" y="645"/>
                  </a:lnTo>
                  <a:lnTo>
                    <a:pt x="1" y="642"/>
                  </a:lnTo>
                  <a:lnTo>
                    <a:pt x="5" y="632"/>
                  </a:lnTo>
                  <a:lnTo>
                    <a:pt x="8" y="620"/>
                  </a:lnTo>
                  <a:lnTo>
                    <a:pt x="13" y="609"/>
                  </a:lnTo>
                  <a:lnTo>
                    <a:pt x="20" y="592"/>
                  </a:lnTo>
                  <a:lnTo>
                    <a:pt x="28" y="569"/>
                  </a:lnTo>
                  <a:lnTo>
                    <a:pt x="35" y="542"/>
                  </a:lnTo>
                  <a:lnTo>
                    <a:pt x="38" y="517"/>
                  </a:lnTo>
                  <a:lnTo>
                    <a:pt x="40" y="500"/>
                  </a:lnTo>
                  <a:lnTo>
                    <a:pt x="43" y="489"/>
                  </a:lnTo>
                  <a:lnTo>
                    <a:pt x="50" y="480"/>
                  </a:lnTo>
                  <a:lnTo>
                    <a:pt x="56" y="470"/>
                  </a:lnTo>
                  <a:lnTo>
                    <a:pt x="61" y="457"/>
                  </a:lnTo>
                  <a:lnTo>
                    <a:pt x="65" y="442"/>
                  </a:lnTo>
                  <a:lnTo>
                    <a:pt x="66" y="429"/>
                  </a:lnTo>
                  <a:lnTo>
                    <a:pt x="66" y="424"/>
                  </a:lnTo>
                  <a:lnTo>
                    <a:pt x="232" y="465"/>
                  </a:lnTo>
                  <a:lnTo>
                    <a:pt x="235" y="464"/>
                  </a:lnTo>
                  <a:lnTo>
                    <a:pt x="243" y="457"/>
                  </a:lnTo>
                  <a:lnTo>
                    <a:pt x="257" y="450"/>
                  </a:lnTo>
                  <a:lnTo>
                    <a:pt x="270" y="439"/>
                  </a:lnTo>
                  <a:lnTo>
                    <a:pt x="285" y="429"/>
                  </a:lnTo>
                  <a:lnTo>
                    <a:pt x="298" y="417"/>
                  </a:lnTo>
                  <a:lnTo>
                    <a:pt x="308" y="407"/>
                  </a:lnTo>
                  <a:lnTo>
                    <a:pt x="313" y="399"/>
                  </a:lnTo>
                  <a:lnTo>
                    <a:pt x="318" y="384"/>
                  </a:lnTo>
                  <a:lnTo>
                    <a:pt x="325" y="369"/>
                  </a:lnTo>
                  <a:lnTo>
                    <a:pt x="330" y="357"/>
                  </a:lnTo>
                  <a:lnTo>
                    <a:pt x="332" y="352"/>
                  </a:lnTo>
                  <a:lnTo>
                    <a:pt x="335" y="352"/>
                  </a:lnTo>
                  <a:lnTo>
                    <a:pt x="342" y="352"/>
                  </a:lnTo>
                  <a:lnTo>
                    <a:pt x="353" y="352"/>
                  </a:lnTo>
                  <a:lnTo>
                    <a:pt x="367" y="350"/>
                  </a:lnTo>
                  <a:lnTo>
                    <a:pt x="382" y="350"/>
                  </a:lnTo>
                  <a:lnTo>
                    <a:pt x="398" y="347"/>
                  </a:lnTo>
                  <a:lnTo>
                    <a:pt x="413" y="345"/>
                  </a:lnTo>
                  <a:lnTo>
                    <a:pt x="427" y="342"/>
                  </a:lnTo>
                  <a:lnTo>
                    <a:pt x="438" y="337"/>
                  </a:lnTo>
                  <a:lnTo>
                    <a:pt x="447" y="329"/>
                  </a:lnTo>
                  <a:lnTo>
                    <a:pt x="455" y="319"/>
                  </a:lnTo>
                  <a:lnTo>
                    <a:pt x="462" y="309"/>
                  </a:lnTo>
                  <a:lnTo>
                    <a:pt x="468" y="299"/>
                  </a:lnTo>
                  <a:lnTo>
                    <a:pt x="475" y="290"/>
                  </a:lnTo>
                  <a:lnTo>
                    <a:pt x="483" y="284"/>
                  </a:lnTo>
                  <a:lnTo>
                    <a:pt x="493" y="280"/>
                  </a:lnTo>
                  <a:lnTo>
                    <a:pt x="508" y="275"/>
                  </a:lnTo>
                  <a:lnTo>
                    <a:pt x="513" y="269"/>
                  </a:lnTo>
                  <a:lnTo>
                    <a:pt x="513" y="264"/>
                  </a:lnTo>
                  <a:lnTo>
                    <a:pt x="512" y="262"/>
                  </a:lnTo>
                  <a:lnTo>
                    <a:pt x="380" y="90"/>
                  </a:lnTo>
                  <a:close/>
                </a:path>
              </a:pathLst>
            </a:custGeom>
            <a:solidFill>
              <a:srgbClr val="b2b2b2">
                <a:alpha val="30000"/>
              </a:srgbClr>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347" name="PlaceHolder 1"/>
          <p:cNvSpPr>
            <a:spLocks noGrp="1"/>
          </p:cNvSpPr>
          <p:nvPr>
            <p:ph/>
          </p:nvPr>
        </p:nvSpPr>
        <p:spPr>
          <a:xfrm>
            <a:off x="1142640" y="1417680"/>
            <a:ext cx="7543800" cy="4525920"/>
          </a:xfrm>
          <a:prstGeom prst="rect">
            <a:avLst/>
          </a:prstGeom>
          <a:noFill/>
          <a:ln w="0">
            <a:noFill/>
          </a:ln>
        </p:spPr>
        <p:txBody>
          <a:bodyPr lIns="90000" rIns="90000" tIns="46800" bIns="46800" anchor="t">
            <a:normAutofit/>
          </a:bodyPr>
          <a:p>
            <a:pPr marL="341280" indent="-341280">
              <a:lnSpc>
                <a:spcPct val="80000"/>
              </a:lnSpc>
              <a:spcBef>
                <a:spcPts val="601"/>
              </a:spcBef>
              <a:buClr>
                <a:srgbClr val="333399"/>
              </a:buClr>
              <a:buFont typeface="Albertus Medium"/>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333399"/>
                </a:solidFill>
                <a:latin typeface="Albertus Medium"/>
              </a:rPr>
              <a:t>Nanofibers would eventually become the foundation of scaffold for stem cell culture and transplantation.</a:t>
            </a:r>
            <a:endParaRPr b="0" lang="en-US" sz="2400" spc="-1" strike="noStrike">
              <a:solidFill>
                <a:srgbClr val="000000"/>
              </a:solidFill>
              <a:latin typeface="Arial"/>
            </a:endParaRPr>
          </a:p>
          <a:p>
            <a:pPr marL="341280" indent="0">
              <a:lnSpc>
                <a:spcPct val="8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400" spc="-1" strike="noStrike">
              <a:solidFill>
                <a:srgbClr val="000000"/>
              </a:solidFill>
              <a:latin typeface="Arial"/>
            </a:endParaRPr>
          </a:p>
          <a:p>
            <a:pPr marL="341280" indent="-341280">
              <a:lnSpc>
                <a:spcPct val="80000"/>
              </a:lnSpc>
              <a:spcBef>
                <a:spcPts val="601"/>
              </a:spcBef>
              <a:buClr>
                <a:srgbClr val="333399"/>
              </a:buClr>
              <a:buFont typeface="Albertus Medium"/>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333399"/>
                </a:solidFill>
                <a:latin typeface="Albertus Medium"/>
              </a:rPr>
              <a:t>Now researches are ongoing in the application of nanomaterials to regenerate numerous organs (including, as specific examples, bone, neural, and bladder tissues) will be presented with necessary future directions highlighted for the field of nanomedicine to progress</a:t>
            </a:r>
            <a:endParaRPr b="0" lang="en-US" sz="2400" spc="-1" strike="noStrike">
              <a:solidFill>
                <a:srgbClr val="000000"/>
              </a:solidFill>
              <a:latin typeface="Arial"/>
            </a:endParaRPr>
          </a:p>
          <a:p>
            <a:pPr marL="341280" indent="0">
              <a:lnSpc>
                <a:spcPct val="8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400" spc="-1" strike="noStrike">
              <a:solidFill>
                <a:srgbClr val="000000"/>
              </a:solidFill>
              <a:latin typeface="Arial"/>
            </a:endParaRPr>
          </a:p>
          <a:p>
            <a:pPr marL="341280" indent="-341280">
              <a:lnSpc>
                <a:spcPct val="80000"/>
              </a:lnSpc>
              <a:spcBef>
                <a:spcPts val="601"/>
              </a:spcBef>
              <a:buClr>
                <a:srgbClr val="333399"/>
              </a:buClr>
              <a:buFont typeface="Albertus Medium"/>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333399"/>
                </a:solidFill>
                <a:latin typeface="Albertus Medium"/>
              </a:rPr>
              <a:t>The fact that particles of materials at nanoscale change their properties interests cosmetic and pharmaceutical companies lead to the following and many more:</a:t>
            </a:r>
            <a:endParaRPr b="0" lang="en-US" sz="2400" spc="-1" strike="noStrike">
              <a:solidFill>
                <a:srgbClr val="000000"/>
              </a:solidFill>
              <a:latin typeface="Arial"/>
            </a:endParaRPr>
          </a:p>
          <a:p>
            <a:pPr marL="341280" indent="0">
              <a:lnSpc>
                <a:spcPct val="8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000000"/>
              </a:solidFill>
              <a:latin typeface="Arial"/>
            </a:endParaRPr>
          </a:p>
          <a:p>
            <a:pPr marL="341280" indent="0">
              <a:lnSpc>
                <a:spcPct val="80000"/>
              </a:lnSpc>
              <a:spcBef>
                <a:spcPts val="2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800" spc="-1" strike="noStrike">
              <a:solidFill>
                <a:srgbClr val="000000"/>
              </a:solidFill>
              <a:latin typeface="Arial"/>
            </a:endParaRPr>
          </a:p>
          <a:p>
            <a:pPr marL="341280" indent="0">
              <a:lnSpc>
                <a:spcPct val="80000"/>
              </a:lnSpc>
              <a:spcBef>
                <a:spcPts val="2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800" spc="-1" strike="noStrike">
              <a:solidFill>
                <a:srgbClr val="000000"/>
              </a:solidFill>
              <a:latin typeface="Arial"/>
            </a:endParaRPr>
          </a:p>
        </p:txBody>
      </p:sp>
      <p:sp>
        <p:nvSpPr>
          <p:cNvPr id="348" name=""/>
          <p:cNvSpPr/>
          <p:nvPr/>
        </p:nvSpPr>
        <p:spPr>
          <a:xfrm>
            <a:off x="609480" y="6629400"/>
            <a:ext cx="8534520" cy="228600"/>
          </a:xfrm>
          <a:prstGeom prst="rect">
            <a:avLst/>
          </a:prstGeom>
          <a:solidFill>
            <a:srgbClr val="bbe0e3"/>
          </a:solidFill>
          <a:ln cap="sq"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99"/>
                </a:solidFill>
                <a:latin typeface="Albertus Medium"/>
              </a:rPr>
              <a:t>www.skinandallergy.org</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0" lang="en-US" sz="1000" spc="-1" strike="noStrike">
                <a:solidFill>
                  <a:srgbClr val="333399"/>
                </a:solidFill>
                <a:latin typeface="Albertus Medium"/>
              </a:rPr>
              <a:t>www.panarabderm.org</a:t>
            </a:r>
            <a:endParaRPr b="0" lang="en-US" sz="10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49" name="" descr=""/>
          <p:cNvPicPr/>
          <p:nvPr/>
        </p:nvPicPr>
        <p:blipFill>
          <a:blip r:embed="rId2"/>
          <a:stretch/>
        </p:blipFill>
        <p:spPr>
          <a:xfrm>
            <a:off x="8153280" y="74520"/>
            <a:ext cx="922320" cy="992160"/>
          </a:xfrm>
          <a:prstGeom prst="rect">
            <a:avLst/>
          </a:prstGeom>
          <a:ln w="0">
            <a:noFill/>
          </a:ln>
        </p:spPr>
      </p:pic>
      <p:sp>
        <p:nvSpPr>
          <p:cNvPr id="350" name=""/>
          <p:cNvSpPr/>
          <p:nvPr/>
        </p:nvSpPr>
        <p:spPr>
          <a:xfrm>
            <a:off x="1295280" y="1066680"/>
            <a:ext cx="6193080" cy="1800"/>
          </a:xfrm>
          <a:prstGeom prst="line">
            <a:avLst/>
          </a:prstGeom>
          <a:ln cap="sq" w="12600">
            <a:solidFill>
              <a:srgbClr val="b2b2b2"/>
            </a:solidFill>
            <a:miter/>
          </a:ln>
        </p:spPr>
        <p:style>
          <a:lnRef idx="0"/>
          <a:fillRef idx="0"/>
          <a:effectRef idx="0"/>
          <a:fontRef idx="minor"/>
        </p:style>
        <p:txBody>
          <a:bodyPr lIns="90000" rIns="90000" tIns="-45000" bIns="-45000" anchor="t">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351" name="" descr=""/>
          <p:cNvPicPr/>
          <p:nvPr/>
        </p:nvPicPr>
        <p:blipFill>
          <a:blip r:embed="rId3"/>
          <a:stretch/>
        </p:blipFill>
        <p:spPr>
          <a:xfrm>
            <a:off x="0" y="0"/>
            <a:ext cx="600120" cy="6858000"/>
          </a:xfrm>
          <a:prstGeom prst="rect">
            <a:avLst/>
          </a:prstGeom>
          <a:ln w="0">
            <a:noFill/>
          </a:ln>
        </p:spPr>
      </p:pic>
      <p:sp>
        <p:nvSpPr>
          <p:cNvPr id="352" name=""/>
          <p:cNvSpPr/>
          <p:nvPr/>
        </p:nvSpPr>
        <p:spPr>
          <a:xfrm>
            <a:off x="0" y="0"/>
            <a:ext cx="914400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400" spc="-1" strike="noStrike">
                <a:solidFill>
                  <a:srgbClr val="333399"/>
                </a:solidFill>
                <a:latin typeface="Albertus Medium"/>
              </a:rPr>
              <a:t>Nanotechnology in </a:t>
            </a:r>
            <a:br>
              <a:rPr sz="3400"/>
            </a:br>
            <a:r>
              <a:rPr b="1" lang="en-US" sz="3400" spc="-1" strike="noStrike">
                <a:solidFill>
                  <a:srgbClr val="333399"/>
                </a:solidFill>
                <a:latin typeface="Albertus Medium"/>
              </a:rPr>
              <a:t>Cosmetic &amp; Dermatology</a:t>
            </a:r>
            <a:endParaRPr b="0" lang="en-US" sz="3400" spc="-1" strike="noStrike">
              <a:solidFill>
                <a:srgbClr val="000000"/>
              </a:solidFill>
              <a:latin typeface="Arial"/>
            </a:endParaRPr>
          </a:p>
        </p:txBody>
      </p:sp>
      <p:grpSp>
        <p:nvGrpSpPr>
          <p:cNvPr id="353" name=""/>
          <p:cNvGrpSpPr/>
          <p:nvPr/>
        </p:nvGrpSpPr>
        <p:grpSpPr>
          <a:xfrm>
            <a:off x="2639880" y="1346040"/>
            <a:ext cx="4521240" cy="3986280"/>
            <a:chOff x="2639880" y="1346040"/>
            <a:chExt cx="4521240" cy="3986280"/>
          </a:xfrm>
        </p:grpSpPr>
        <p:sp>
          <p:nvSpPr>
            <p:cNvPr id="354" name=""/>
            <p:cNvSpPr/>
            <p:nvPr/>
          </p:nvSpPr>
          <p:spPr>
            <a:xfrm>
              <a:off x="2639880" y="2319480"/>
              <a:ext cx="1721160" cy="3012840"/>
            </a:xfrm>
            <a:custGeom>
              <a:avLst/>
              <a:gdLst/>
              <a:ahLst/>
              <a:rect l="l" t="t" r="r" b="b"/>
              <a:pathLst>
                <a:path w="1261" h="2255">
                  <a:moveTo>
                    <a:pt x="1257" y="2027"/>
                  </a:moveTo>
                  <a:lnTo>
                    <a:pt x="1257" y="2015"/>
                  </a:lnTo>
                  <a:lnTo>
                    <a:pt x="1252" y="2000"/>
                  </a:lnTo>
                  <a:lnTo>
                    <a:pt x="1244" y="1985"/>
                  </a:lnTo>
                  <a:lnTo>
                    <a:pt x="1232" y="1970"/>
                  </a:lnTo>
                  <a:lnTo>
                    <a:pt x="1222" y="1956"/>
                  </a:lnTo>
                  <a:lnTo>
                    <a:pt x="1212" y="1945"/>
                  </a:lnTo>
                  <a:lnTo>
                    <a:pt x="1204" y="1933"/>
                  </a:lnTo>
                  <a:lnTo>
                    <a:pt x="1199" y="1921"/>
                  </a:lnTo>
                  <a:lnTo>
                    <a:pt x="1197" y="1910"/>
                  </a:lnTo>
                  <a:lnTo>
                    <a:pt x="1192" y="1893"/>
                  </a:lnTo>
                  <a:lnTo>
                    <a:pt x="1186" y="1876"/>
                  </a:lnTo>
                  <a:lnTo>
                    <a:pt x="1171" y="1860"/>
                  </a:lnTo>
                  <a:lnTo>
                    <a:pt x="1161" y="1851"/>
                  </a:lnTo>
                  <a:lnTo>
                    <a:pt x="1147" y="1838"/>
                  </a:lnTo>
                  <a:lnTo>
                    <a:pt x="1132" y="1823"/>
                  </a:lnTo>
                  <a:lnTo>
                    <a:pt x="1117" y="1806"/>
                  </a:lnTo>
                  <a:lnTo>
                    <a:pt x="1102" y="1788"/>
                  </a:lnTo>
                  <a:lnTo>
                    <a:pt x="1087" y="1770"/>
                  </a:lnTo>
                  <a:lnTo>
                    <a:pt x="1076" y="1750"/>
                  </a:lnTo>
                  <a:lnTo>
                    <a:pt x="1067" y="1731"/>
                  </a:lnTo>
                  <a:lnTo>
                    <a:pt x="1052" y="1703"/>
                  </a:lnTo>
                  <a:lnTo>
                    <a:pt x="1037" y="1681"/>
                  </a:lnTo>
                  <a:lnTo>
                    <a:pt x="1026" y="1665"/>
                  </a:lnTo>
                  <a:lnTo>
                    <a:pt x="1019" y="1646"/>
                  </a:lnTo>
                  <a:lnTo>
                    <a:pt x="1016" y="1633"/>
                  </a:lnTo>
                  <a:lnTo>
                    <a:pt x="1009" y="1613"/>
                  </a:lnTo>
                  <a:lnTo>
                    <a:pt x="999" y="1591"/>
                  </a:lnTo>
                  <a:lnTo>
                    <a:pt x="989" y="1568"/>
                  </a:lnTo>
                  <a:lnTo>
                    <a:pt x="979" y="1545"/>
                  </a:lnTo>
                  <a:lnTo>
                    <a:pt x="969" y="1525"/>
                  </a:lnTo>
                  <a:lnTo>
                    <a:pt x="959" y="1508"/>
                  </a:lnTo>
                  <a:lnTo>
                    <a:pt x="952" y="1499"/>
                  </a:lnTo>
                  <a:lnTo>
                    <a:pt x="942" y="1486"/>
                  </a:lnTo>
                  <a:lnTo>
                    <a:pt x="934" y="1473"/>
                  </a:lnTo>
                  <a:lnTo>
                    <a:pt x="922" y="1458"/>
                  </a:lnTo>
                  <a:lnTo>
                    <a:pt x="911" y="1443"/>
                  </a:lnTo>
                  <a:lnTo>
                    <a:pt x="902" y="1434"/>
                  </a:lnTo>
                  <a:lnTo>
                    <a:pt x="891" y="1426"/>
                  </a:lnTo>
                  <a:lnTo>
                    <a:pt x="879" y="1419"/>
                  </a:lnTo>
                  <a:lnTo>
                    <a:pt x="867" y="1411"/>
                  </a:lnTo>
                  <a:lnTo>
                    <a:pt x="854" y="1404"/>
                  </a:lnTo>
                  <a:lnTo>
                    <a:pt x="842" y="1399"/>
                  </a:lnTo>
                  <a:lnTo>
                    <a:pt x="831" y="1396"/>
                  </a:lnTo>
                  <a:lnTo>
                    <a:pt x="820" y="1394"/>
                  </a:lnTo>
                  <a:lnTo>
                    <a:pt x="812" y="1393"/>
                  </a:lnTo>
                  <a:lnTo>
                    <a:pt x="805" y="1389"/>
                  </a:lnTo>
                  <a:lnTo>
                    <a:pt x="800" y="1384"/>
                  </a:lnTo>
                  <a:lnTo>
                    <a:pt x="794" y="1376"/>
                  </a:lnTo>
                  <a:lnTo>
                    <a:pt x="789" y="1368"/>
                  </a:lnTo>
                  <a:lnTo>
                    <a:pt x="782" y="1354"/>
                  </a:lnTo>
                  <a:lnTo>
                    <a:pt x="774" y="1341"/>
                  </a:lnTo>
                  <a:lnTo>
                    <a:pt x="762" y="1324"/>
                  </a:lnTo>
                  <a:lnTo>
                    <a:pt x="750" y="1306"/>
                  </a:lnTo>
                  <a:lnTo>
                    <a:pt x="740" y="1288"/>
                  </a:lnTo>
                  <a:lnTo>
                    <a:pt x="732" y="1269"/>
                  </a:lnTo>
                  <a:lnTo>
                    <a:pt x="724" y="1253"/>
                  </a:lnTo>
                  <a:lnTo>
                    <a:pt x="717" y="1234"/>
                  </a:lnTo>
                  <a:lnTo>
                    <a:pt x="712" y="1219"/>
                  </a:lnTo>
                  <a:lnTo>
                    <a:pt x="709" y="1204"/>
                  </a:lnTo>
                  <a:lnTo>
                    <a:pt x="705" y="1191"/>
                  </a:lnTo>
                  <a:lnTo>
                    <a:pt x="700" y="1166"/>
                  </a:lnTo>
                  <a:lnTo>
                    <a:pt x="692" y="1143"/>
                  </a:lnTo>
                  <a:lnTo>
                    <a:pt x="685" y="1126"/>
                  </a:lnTo>
                  <a:lnTo>
                    <a:pt x="682" y="1119"/>
                  </a:lnTo>
                  <a:lnTo>
                    <a:pt x="689" y="1108"/>
                  </a:lnTo>
                  <a:lnTo>
                    <a:pt x="700" y="1078"/>
                  </a:lnTo>
                  <a:lnTo>
                    <a:pt x="707" y="1038"/>
                  </a:lnTo>
                  <a:lnTo>
                    <a:pt x="697" y="996"/>
                  </a:lnTo>
                  <a:lnTo>
                    <a:pt x="680" y="961"/>
                  </a:lnTo>
                  <a:lnTo>
                    <a:pt x="670" y="932"/>
                  </a:lnTo>
                  <a:lnTo>
                    <a:pt x="662" y="904"/>
                  </a:lnTo>
                  <a:lnTo>
                    <a:pt x="649" y="872"/>
                  </a:lnTo>
                  <a:lnTo>
                    <a:pt x="640" y="856"/>
                  </a:lnTo>
                  <a:lnTo>
                    <a:pt x="635" y="839"/>
                  </a:lnTo>
                  <a:lnTo>
                    <a:pt x="630" y="826"/>
                  </a:lnTo>
                  <a:lnTo>
                    <a:pt x="625" y="814"/>
                  </a:lnTo>
                  <a:lnTo>
                    <a:pt x="620" y="802"/>
                  </a:lnTo>
                  <a:lnTo>
                    <a:pt x="614" y="792"/>
                  </a:lnTo>
                  <a:lnTo>
                    <a:pt x="607" y="784"/>
                  </a:lnTo>
                  <a:lnTo>
                    <a:pt x="597" y="777"/>
                  </a:lnTo>
                  <a:lnTo>
                    <a:pt x="587" y="771"/>
                  </a:lnTo>
                  <a:lnTo>
                    <a:pt x="575" y="762"/>
                  </a:lnTo>
                  <a:lnTo>
                    <a:pt x="565" y="754"/>
                  </a:lnTo>
                  <a:lnTo>
                    <a:pt x="554" y="744"/>
                  </a:lnTo>
                  <a:lnTo>
                    <a:pt x="542" y="736"/>
                  </a:lnTo>
                  <a:lnTo>
                    <a:pt x="529" y="729"/>
                  </a:lnTo>
                  <a:lnTo>
                    <a:pt x="515" y="721"/>
                  </a:lnTo>
                  <a:lnTo>
                    <a:pt x="502" y="716"/>
                  </a:lnTo>
                  <a:lnTo>
                    <a:pt x="480" y="702"/>
                  </a:lnTo>
                  <a:lnTo>
                    <a:pt x="470" y="686"/>
                  </a:lnTo>
                  <a:lnTo>
                    <a:pt x="464" y="667"/>
                  </a:lnTo>
                  <a:lnTo>
                    <a:pt x="454" y="649"/>
                  </a:lnTo>
                  <a:lnTo>
                    <a:pt x="444" y="634"/>
                  </a:lnTo>
                  <a:lnTo>
                    <a:pt x="437" y="621"/>
                  </a:lnTo>
                  <a:lnTo>
                    <a:pt x="435" y="611"/>
                  </a:lnTo>
                  <a:lnTo>
                    <a:pt x="435" y="607"/>
                  </a:lnTo>
                  <a:lnTo>
                    <a:pt x="437" y="607"/>
                  </a:lnTo>
                  <a:lnTo>
                    <a:pt x="442" y="606"/>
                  </a:lnTo>
                  <a:lnTo>
                    <a:pt x="449" y="602"/>
                  </a:lnTo>
                  <a:lnTo>
                    <a:pt x="455" y="596"/>
                  </a:lnTo>
                  <a:lnTo>
                    <a:pt x="459" y="589"/>
                  </a:lnTo>
                  <a:lnTo>
                    <a:pt x="459" y="577"/>
                  </a:lnTo>
                  <a:lnTo>
                    <a:pt x="454" y="564"/>
                  </a:lnTo>
                  <a:lnTo>
                    <a:pt x="440" y="546"/>
                  </a:lnTo>
                  <a:lnTo>
                    <a:pt x="434" y="539"/>
                  </a:lnTo>
                  <a:lnTo>
                    <a:pt x="429" y="532"/>
                  </a:lnTo>
                  <a:lnTo>
                    <a:pt x="424" y="529"/>
                  </a:lnTo>
                  <a:lnTo>
                    <a:pt x="420" y="526"/>
                  </a:lnTo>
                  <a:lnTo>
                    <a:pt x="419" y="527"/>
                  </a:lnTo>
                  <a:lnTo>
                    <a:pt x="415" y="526"/>
                  </a:lnTo>
                  <a:lnTo>
                    <a:pt x="415" y="522"/>
                  </a:lnTo>
                  <a:lnTo>
                    <a:pt x="420" y="526"/>
                  </a:lnTo>
                  <a:lnTo>
                    <a:pt x="420" y="524"/>
                  </a:lnTo>
                  <a:lnTo>
                    <a:pt x="419" y="521"/>
                  </a:lnTo>
                  <a:lnTo>
                    <a:pt x="419" y="517"/>
                  </a:lnTo>
                  <a:lnTo>
                    <a:pt x="417" y="512"/>
                  </a:lnTo>
                  <a:lnTo>
                    <a:pt x="409" y="490"/>
                  </a:lnTo>
                  <a:lnTo>
                    <a:pt x="405" y="477"/>
                  </a:lnTo>
                  <a:lnTo>
                    <a:pt x="399" y="467"/>
                  </a:lnTo>
                  <a:lnTo>
                    <a:pt x="384" y="455"/>
                  </a:lnTo>
                  <a:lnTo>
                    <a:pt x="372" y="440"/>
                  </a:lnTo>
                  <a:lnTo>
                    <a:pt x="374" y="425"/>
                  </a:lnTo>
                  <a:lnTo>
                    <a:pt x="375" y="412"/>
                  </a:lnTo>
                  <a:lnTo>
                    <a:pt x="364" y="399"/>
                  </a:lnTo>
                  <a:lnTo>
                    <a:pt x="345" y="387"/>
                  </a:lnTo>
                  <a:lnTo>
                    <a:pt x="332" y="372"/>
                  </a:lnTo>
                  <a:lnTo>
                    <a:pt x="325" y="355"/>
                  </a:lnTo>
                  <a:lnTo>
                    <a:pt x="322" y="337"/>
                  </a:lnTo>
                  <a:lnTo>
                    <a:pt x="319" y="317"/>
                  </a:lnTo>
                  <a:lnTo>
                    <a:pt x="309" y="290"/>
                  </a:lnTo>
                  <a:lnTo>
                    <a:pt x="294" y="264"/>
                  </a:lnTo>
                  <a:lnTo>
                    <a:pt x="273" y="237"/>
                  </a:lnTo>
                  <a:lnTo>
                    <a:pt x="260" y="215"/>
                  </a:lnTo>
                  <a:lnTo>
                    <a:pt x="257" y="197"/>
                  </a:lnTo>
                  <a:lnTo>
                    <a:pt x="255" y="184"/>
                  </a:lnTo>
                  <a:lnTo>
                    <a:pt x="245" y="175"/>
                  </a:lnTo>
                  <a:lnTo>
                    <a:pt x="233" y="167"/>
                  </a:lnTo>
                  <a:lnTo>
                    <a:pt x="228" y="154"/>
                  </a:lnTo>
                  <a:lnTo>
                    <a:pt x="222" y="140"/>
                  </a:lnTo>
                  <a:lnTo>
                    <a:pt x="207" y="124"/>
                  </a:lnTo>
                  <a:lnTo>
                    <a:pt x="188" y="100"/>
                  </a:lnTo>
                  <a:lnTo>
                    <a:pt x="175" y="74"/>
                  </a:lnTo>
                  <a:lnTo>
                    <a:pt x="168" y="52"/>
                  </a:lnTo>
                  <a:lnTo>
                    <a:pt x="165" y="42"/>
                  </a:lnTo>
                  <a:lnTo>
                    <a:pt x="160" y="42"/>
                  </a:lnTo>
                  <a:lnTo>
                    <a:pt x="148" y="42"/>
                  </a:lnTo>
                  <a:lnTo>
                    <a:pt x="133" y="42"/>
                  </a:lnTo>
                  <a:lnTo>
                    <a:pt x="122" y="42"/>
                  </a:lnTo>
                  <a:lnTo>
                    <a:pt x="110" y="42"/>
                  </a:lnTo>
                  <a:lnTo>
                    <a:pt x="100" y="44"/>
                  </a:lnTo>
                  <a:lnTo>
                    <a:pt x="92" y="47"/>
                  </a:lnTo>
                  <a:lnTo>
                    <a:pt x="88" y="47"/>
                  </a:lnTo>
                  <a:lnTo>
                    <a:pt x="90" y="44"/>
                  </a:lnTo>
                  <a:lnTo>
                    <a:pt x="93" y="34"/>
                  </a:lnTo>
                  <a:lnTo>
                    <a:pt x="98" y="20"/>
                  </a:lnTo>
                  <a:lnTo>
                    <a:pt x="103" y="8"/>
                  </a:lnTo>
                  <a:lnTo>
                    <a:pt x="103" y="8"/>
                  </a:lnTo>
                  <a:lnTo>
                    <a:pt x="103" y="8"/>
                  </a:lnTo>
                  <a:lnTo>
                    <a:pt x="103" y="8"/>
                  </a:lnTo>
                  <a:lnTo>
                    <a:pt x="103" y="8"/>
                  </a:lnTo>
                  <a:lnTo>
                    <a:pt x="67" y="0"/>
                  </a:lnTo>
                  <a:lnTo>
                    <a:pt x="67" y="5"/>
                  </a:lnTo>
                  <a:lnTo>
                    <a:pt x="65" y="19"/>
                  </a:lnTo>
                  <a:lnTo>
                    <a:pt x="62" y="34"/>
                  </a:lnTo>
                  <a:lnTo>
                    <a:pt x="57" y="47"/>
                  </a:lnTo>
                  <a:lnTo>
                    <a:pt x="50" y="57"/>
                  </a:lnTo>
                  <a:lnTo>
                    <a:pt x="45" y="65"/>
                  </a:lnTo>
                  <a:lnTo>
                    <a:pt x="40" y="79"/>
                  </a:lnTo>
                  <a:lnTo>
                    <a:pt x="38" y="95"/>
                  </a:lnTo>
                  <a:lnTo>
                    <a:pt x="35" y="119"/>
                  </a:lnTo>
                  <a:lnTo>
                    <a:pt x="28" y="145"/>
                  </a:lnTo>
                  <a:lnTo>
                    <a:pt x="20" y="169"/>
                  </a:lnTo>
                  <a:lnTo>
                    <a:pt x="15" y="185"/>
                  </a:lnTo>
                  <a:lnTo>
                    <a:pt x="10" y="197"/>
                  </a:lnTo>
                  <a:lnTo>
                    <a:pt x="5" y="209"/>
                  </a:lnTo>
                  <a:lnTo>
                    <a:pt x="2" y="220"/>
                  </a:lnTo>
                  <a:lnTo>
                    <a:pt x="0" y="224"/>
                  </a:lnTo>
                  <a:lnTo>
                    <a:pt x="3" y="224"/>
                  </a:lnTo>
                  <a:lnTo>
                    <a:pt x="12" y="220"/>
                  </a:lnTo>
                  <a:lnTo>
                    <a:pt x="23" y="219"/>
                  </a:lnTo>
                  <a:lnTo>
                    <a:pt x="33" y="219"/>
                  </a:lnTo>
                  <a:lnTo>
                    <a:pt x="47" y="219"/>
                  </a:lnTo>
                  <a:lnTo>
                    <a:pt x="60" y="219"/>
                  </a:lnTo>
                  <a:lnTo>
                    <a:pt x="72" y="219"/>
                  </a:lnTo>
                  <a:lnTo>
                    <a:pt x="77" y="219"/>
                  </a:lnTo>
                  <a:lnTo>
                    <a:pt x="80" y="229"/>
                  </a:lnTo>
                  <a:lnTo>
                    <a:pt x="87" y="250"/>
                  </a:lnTo>
                  <a:lnTo>
                    <a:pt x="100" y="277"/>
                  </a:lnTo>
                  <a:lnTo>
                    <a:pt x="118" y="299"/>
                  </a:lnTo>
                  <a:lnTo>
                    <a:pt x="133" y="315"/>
                  </a:lnTo>
                  <a:lnTo>
                    <a:pt x="140" y="330"/>
                  </a:lnTo>
                  <a:lnTo>
                    <a:pt x="145" y="342"/>
                  </a:lnTo>
                  <a:lnTo>
                    <a:pt x="157" y="352"/>
                  </a:lnTo>
                  <a:lnTo>
                    <a:pt x="167" y="360"/>
                  </a:lnTo>
                  <a:lnTo>
                    <a:pt x="168" y="374"/>
                  </a:lnTo>
                  <a:lnTo>
                    <a:pt x="172" y="390"/>
                  </a:lnTo>
                  <a:lnTo>
                    <a:pt x="185" y="414"/>
                  </a:lnTo>
                  <a:lnTo>
                    <a:pt x="205" y="440"/>
                  </a:lnTo>
                  <a:lnTo>
                    <a:pt x="220" y="467"/>
                  </a:lnTo>
                  <a:lnTo>
                    <a:pt x="230" y="492"/>
                  </a:lnTo>
                  <a:lnTo>
                    <a:pt x="233" y="512"/>
                  </a:lnTo>
                  <a:lnTo>
                    <a:pt x="237" y="531"/>
                  </a:lnTo>
                  <a:lnTo>
                    <a:pt x="243" y="547"/>
                  </a:lnTo>
                  <a:lnTo>
                    <a:pt x="257" y="562"/>
                  </a:lnTo>
                  <a:lnTo>
                    <a:pt x="275" y="574"/>
                  </a:lnTo>
                  <a:lnTo>
                    <a:pt x="287" y="587"/>
                  </a:lnTo>
                  <a:lnTo>
                    <a:pt x="285" y="601"/>
                  </a:lnTo>
                  <a:lnTo>
                    <a:pt x="284" y="617"/>
                  </a:lnTo>
                  <a:lnTo>
                    <a:pt x="295" y="632"/>
                  </a:lnTo>
                  <a:lnTo>
                    <a:pt x="310" y="642"/>
                  </a:lnTo>
                  <a:lnTo>
                    <a:pt x="317" y="652"/>
                  </a:lnTo>
                  <a:lnTo>
                    <a:pt x="320" y="666"/>
                  </a:lnTo>
                  <a:lnTo>
                    <a:pt x="329" y="687"/>
                  </a:lnTo>
                  <a:lnTo>
                    <a:pt x="330" y="692"/>
                  </a:lnTo>
                  <a:lnTo>
                    <a:pt x="330" y="696"/>
                  </a:lnTo>
                  <a:lnTo>
                    <a:pt x="332" y="697"/>
                  </a:lnTo>
                  <a:lnTo>
                    <a:pt x="332" y="699"/>
                  </a:lnTo>
                  <a:lnTo>
                    <a:pt x="335" y="702"/>
                  </a:lnTo>
                  <a:lnTo>
                    <a:pt x="340" y="707"/>
                  </a:lnTo>
                  <a:lnTo>
                    <a:pt x="345" y="712"/>
                  </a:lnTo>
                  <a:lnTo>
                    <a:pt x="352" y="721"/>
                  </a:lnTo>
                  <a:lnTo>
                    <a:pt x="365" y="737"/>
                  </a:lnTo>
                  <a:lnTo>
                    <a:pt x="370" y="752"/>
                  </a:lnTo>
                  <a:lnTo>
                    <a:pt x="370" y="762"/>
                  </a:lnTo>
                  <a:lnTo>
                    <a:pt x="367" y="771"/>
                  </a:lnTo>
                  <a:lnTo>
                    <a:pt x="360" y="776"/>
                  </a:lnTo>
                  <a:lnTo>
                    <a:pt x="354" y="781"/>
                  </a:lnTo>
                  <a:lnTo>
                    <a:pt x="349" y="782"/>
                  </a:lnTo>
                  <a:lnTo>
                    <a:pt x="347" y="782"/>
                  </a:lnTo>
                  <a:lnTo>
                    <a:pt x="347" y="786"/>
                  </a:lnTo>
                  <a:lnTo>
                    <a:pt x="350" y="794"/>
                  </a:lnTo>
                  <a:lnTo>
                    <a:pt x="355" y="807"/>
                  </a:lnTo>
                  <a:lnTo>
                    <a:pt x="367" y="824"/>
                  </a:lnTo>
                  <a:lnTo>
                    <a:pt x="377" y="842"/>
                  </a:lnTo>
                  <a:lnTo>
                    <a:pt x="384" y="862"/>
                  </a:lnTo>
                  <a:lnTo>
                    <a:pt x="392" y="877"/>
                  </a:lnTo>
                  <a:lnTo>
                    <a:pt x="414" y="891"/>
                  </a:lnTo>
                  <a:lnTo>
                    <a:pt x="427" y="897"/>
                  </a:lnTo>
                  <a:lnTo>
                    <a:pt x="440" y="904"/>
                  </a:lnTo>
                  <a:lnTo>
                    <a:pt x="454" y="912"/>
                  </a:lnTo>
                  <a:lnTo>
                    <a:pt x="465" y="921"/>
                  </a:lnTo>
                  <a:lnTo>
                    <a:pt x="477" y="929"/>
                  </a:lnTo>
                  <a:lnTo>
                    <a:pt x="487" y="937"/>
                  </a:lnTo>
                  <a:lnTo>
                    <a:pt x="499" y="946"/>
                  </a:lnTo>
                  <a:lnTo>
                    <a:pt x="509" y="952"/>
                  </a:lnTo>
                  <a:lnTo>
                    <a:pt x="519" y="961"/>
                  </a:lnTo>
                  <a:lnTo>
                    <a:pt x="525" y="969"/>
                  </a:lnTo>
                  <a:lnTo>
                    <a:pt x="532" y="979"/>
                  </a:lnTo>
                  <a:lnTo>
                    <a:pt x="537" y="989"/>
                  </a:lnTo>
                  <a:lnTo>
                    <a:pt x="542" y="1002"/>
                  </a:lnTo>
                  <a:lnTo>
                    <a:pt x="547" y="1016"/>
                  </a:lnTo>
                  <a:lnTo>
                    <a:pt x="552" y="1031"/>
                  </a:lnTo>
                  <a:lnTo>
                    <a:pt x="560" y="1048"/>
                  </a:lnTo>
                  <a:lnTo>
                    <a:pt x="574" y="1079"/>
                  </a:lnTo>
                  <a:lnTo>
                    <a:pt x="584" y="1108"/>
                  </a:lnTo>
                  <a:lnTo>
                    <a:pt x="592" y="1136"/>
                  </a:lnTo>
                  <a:lnTo>
                    <a:pt x="609" y="1171"/>
                  </a:lnTo>
                  <a:lnTo>
                    <a:pt x="619" y="1213"/>
                  </a:lnTo>
                  <a:lnTo>
                    <a:pt x="612" y="1253"/>
                  </a:lnTo>
                  <a:lnTo>
                    <a:pt x="600" y="1283"/>
                  </a:lnTo>
                  <a:lnTo>
                    <a:pt x="594" y="1294"/>
                  </a:lnTo>
                  <a:lnTo>
                    <a:pt x="597" y="1301"/>
                  </a:lnTo>
                  <a:lnTo>
                    <a:pt x="604" y="1318"/>
                  </a:lnTo>
                  <a:lnTo>
                    <a:pt x="612" y="1341"/>
                  </a:lnTo>
                  <a:lnTo>
                    <a:pt x="617" y="1366"/>
                  </a:lnTo>
                  <a:lnTo>
                    <a:pt x="620" y="1379"/>
                  </a:lnTo>
                  <a:lnTo>
                    <a:pt x="624" y="1394"/>
                  </a:lnTo>
                  <a:lnTo>
                    <a:pt x="629" y="1409"/>
                  </a:lnTo>
                  <a:lnTo>
                    <a:pt x="635" y="1428"/>
                  </a:lnTo>
                  <a:lnTo>
                    <a:pt x="644" y="1444"/>
                  </a:lnTo>
                  <a:lnTo>
                    <a:pt x="654" y="1463"/>
                  </a:lnTo>
                  <a:lnTo>
                    <a:pt x="664" y="1481"/>
                  </a:lnTo>
                  <a:lnTo>
                    <a:pt x="675" y="1499"/>
                  </a:lnTo>
                  <a:lnTo>
                    <a:pt x="687" y="1516"/>
                  </a:lnTo>
                  <a:lnTo>
                    <a:pt x="695" y="1531"/>
                  </a:lnTo>
                  <a:lnTo>
                    <a:pt x="702" y="1543"/>
                  </a:lnTo>
                  <a:lnTo>
                    <a:pt x="707" y="1553"/>
                  </a:lnTo>
                  <a:lnTo>
                    <a:pt x="712" y="1561"/>
                  </a:lnTo>
                  <a:lnTo>
                    <a:pt x="719" y="1566"/>
                  </a:lnTo>
                  <a:lnTo>
                    <a:pt x="724" y="1570"/>
                  </a:lnTo>
                  <a:lnTo>
                    <a:pt x="732" y="1571"/>
                  </a:lnTo>
                  <a:lnTo>
                    <a:pt x="742" y="1573"/>
                  </a:lnTo>
                  <a:lnTo>
                    <a:pt x="754" y="1576"/>
                  </a:lnTo>
                  <a:lnTo>
                    <a:pt x="765" y="1581"/>
                  </a:lnTo>
                  <a:lnTo>
                    <a:pt x="779" y="1588"/>
                  </a:lnTo>
                  <a:lnTo>
                    <a:pt x="792" y="1595"/>
                  </a:lnTo>
                  <a:lnTo>
                    <a:pt x="804" y="1603"/>
                  </a:lnTo>
                  <a:lnTo>
                    <a:pt x="814" y="1611"/>
                  </a:lnTo>
                  <a:lnTo>
                    <a:pt x="822" y="1618"/>
                  </a:lnTo>
                  <a:lnTo>
                    <a:pt x="834" y="1633"/>
                  </a:lnTo>
                  <a:lnTo>
                    <a:pt x="846" y="1648"/>
                  </a:lnTo>
                  <a:lnTo>
                    <a:pt x="856" y="1663"/>
                  </a:lnTo>
                  <a:lnTo>
                    <a:pt x="866" y="1675"/>
                  </a:lnTo>
                  <a:lnTo>
                    <a:pt x="872" y="1685"/>
                  </a:lnTo>
                  <a:lnTo>
                    <a:pt x="881" y="1700"/>
                  </a:lnTo>
                  <a:lnTo>
                    <a:pt x="891" y="1721"/>
                  </a:lnTo>
                  <a:lnTo>
                    <a:pt x="902" y="1743"/>
                  </a:lnTo>
                  <a:lnTo>
                    <a:pt x="912" y="1768"/>
                  </a:lnTo>
                  <a:lnTo>
                    <a:pt x="921" y="1790"/>
                  </a:lnTo>
                  <a:lnTo>
                    <a:pt x="927" y="1810"/>
                  </a:lnTo>
                  <a:lnTo>
                    <a:pt x="931" y="1823"/>
                  </a:lnTo>
                  <a:lnTo>
                    <a:pt x="937" y="1841"/>
                  </a:lnTo>
                  <a:lnTo>
                    <a:pt x="951" y="1858"/>
                  </a:lnTo>
                  <a:lnTo>
                    <a:pt x="964" y="1878"/>
                  </a:lnTo>
                  <a:lnTo>
                    <a:pt x="979" y="1908"/>
                  </a:lnTo>
                  <a:lnTo>
                    <a:pt x="987" y="1926"/>
                  </a:lnTo>
                  <a:lnTo>
                    <a:pt x="999" y="1945"/>
                  </a:lnTo>
                  <a:lnTo>
                    <a:pt x="1014" y="1965"/>
                  </a:lnTo>
                  <a:lnTo>
                    <a:pt x="1029" y="1981"/>
                  </a:lnTo>
                  <a:lnTo>
                    <a:pt x="1044" y="2000"/>
                  </a:lnTo>
                  <a:lnTo>
                    <a:pt x="1059" y="2015"/>
                  </a:lnTo>
                  <a:lnTo>
                    <a:pt x="1072" y="2027"/>
                  </a:lnTo>
                  <a:lnTo>
                    <a:pt x="1084" y="2037"/>
                  </a:lnTo>
                  <a:lnTo>
                    <a:pt x="1097" y="2052"/>
                  </a:lnTo>
                  <a:lnTo>
                    <a:pt x="1106" y="2068"/>
                  </a:lnTo>
                  <a:lnTo>
                    <a:pt x="1109" y="2085"/>
                  </a:lnTo>
                  <a:lnTo>
                    <a:pt x="1112" y="2098"/>
                  </a:lnTo>
                  <a:lnTo>
                    <a:pt x="1117" y="2108"/>
                  </a:lnTo>
                  <a:lnTo>
                    <a:pt x="1126" y="2120"/>
                  </a:lnTo>
                  <a:lnTo>
                    <a:pt x="1136" y="2132"/>
                  </a:lnTo>
                  <a:lnTo>
                    <a:pt x="1146" y="2145"/>
                  </a:lnTo>
                  <a:lnTo>
                    <a:pt x="1156" y="2160"/>
                  </a:lnTo>
                  <a:lnTo>
                    <a:pt x="1164" y="2175"/>
                  </a:lnTo>
                  <a:lnTo>
                    <a:pt x="1169" y="2190"/>
                  </a:lnTo>
                  <a:lnTo>
                    <a:pt x="1169" y="2202"/>
                  </a:lnTo>
                  <a:lnTo>
                    <a:pt x="1169" y="2217"/>
                  </a:lnTo>
                  <a:lnTo>
                    <a:pt x="1172" y="2233"/>
                  </a:lnTo>
                  <a:lnTo>
                    <a:pt x="1177" y="2248"/>
                  </a:lnTo>
                  <a:lnTo>
                    <a:pt x="1179" y="2255"/>
                  </a:lnTo>
                  <a:lnTo>
                    <a:pt x="1216" y="2227"/>
                  </a:lnTo>
                  <a:lnTo>
                    <a:pt x="1219" y="2222"/>
                  </a:lnTo>
                  <a:lnTo>
                    <a:pt x="1226" y="2208"/>
                  </a:lnTo>
                  <a:lnTo>
                    <a:pt x="1232" y="2192"/>
                  </a:lnTo>
                  <a:lnTo>
                    <a:pt x="1236" y="2178"/>
                  </a:lnTo>
                  <a:lnTo>
                    <a:pt x="1236" y="2165"/>
                  </a:lnTo>
                  <a:lnTo>
                    <a:pt x="1234" y="2145"/>
                  </a:lnTo>
                  <a:lnTo>
                    <a:pt x="1236" y="2123"/>
                  </a:lnTo>
                  <a:lnTo>
                    <a:pt x="1241" y="2103"/>
                  </a:lnTo>
                  <a:lnTo>
                    <a:pt x="1241" y="2087"/>
                  </a:lnTo>
                  <a:lnTo>
                    <a:pt x="1236" y="2077"/>
                  </a:lnTo>
                  <a:lnTo>
                    <a:pt x="1234" y="2067"/>
                  </a:lnTo>
                  <a:lnTo>
                    <a:pt x="1241" y="2060"/>
                  </a:lnTo>
                  <a:lnTo>
                    <a:pt x="1246" y="2057"/>
                  </a:lnTo>
                  <a:lnTo>
                    <a:pt x="1251" y="2057"/>
                  </a:lnTo>
                  <a:lnTo>
                    <a:pt x="1256" y="2058"/>
                  </a:lnTo>
                  <a:lnTo>
                    <a:pt x="1261" y="2062"/>
                  </a:lnTo>
                  <a:lnTo>
                    <a:pt x="1259" y="2052"/>
                  </a:lnTo>
                  <a:lnTo>
                    <a:pt x="1257" y="2043"/>
                  </a:lnTo>
                  <a:lnTo>
                    <a:pt x="1256" y="2033"/>
                  </a:lnTo>
                  <a:lnTo>
                    <a:pt x="1257" y="2027"/>
                  </a:lnTo>
                  <a:close/>
                </a:path>
              </a:pathLst>
            </a:custGeom>
            <a:solidFill>
              <a:srgbClr val="ffffff">
                <a:alpha val="10000"/>
              </a:srgbClr>
            </a:solidFill>
            <a:ln cap="sq" w="9360">
              <a:solidFill>
                <a:srgbClr val="ffffff"/>
              </a:solidFill>
              <a:round/>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5" name=""/>
            <p:cNvSpPr/>
            <p:nvPr/>
          </p:nvSpPr>
          <p:spPr>
            <a:xfrm>
              <a:off x="3086280" y="3249720"/>
              <a:ext cx="4680" cy="4680"/>
            </a:xfrm>
            <a:custGeom>
              <a:avLst/>
              <a:gdLst/>
              <a:ahLst/>
              <a:rect l="l" t="t" r="r" b="b"/>
              <a:pathLst>
                <a:path w="5" h="5">
                  <a:moveTo>
                    <a:pt x="5" y="3"/>
                  </a:moveTo>
                  <a:lnTo>
                    <a:pt x="0" y="0"/>
                  </a:lnTo>
                  <a:lnTo>
                    <a:pt x="2" y="3"/>
                  </a:lnTo>
                  <a:lnTo>
                    <a:pt x="3" y="5"/>
                  </a:lnTo>
                  <a:lnTo>
                    <a:pt x="5" y="3"/>
                  </a:lnTo>
                  <a:lnTo>
                    <a:pt x="5" y="3"/>
                  </a:lnTo>
                  <a:close/>
                </a:path>
              </a:pathLst>
            </a:custGeom>
            <a:solidFill>
              <a:srgbClr val="000000"/>
            </a:solidFill>
            <a:ln w="0">
              <a:noFill/>
            </a:ln>
          </p:spPr>
          <p:style>
            <a:lnRef idx="0"/>
            <a:fillRef idx="0"/>
            <a:effectRef idx="0"/>
            <a:fontRef idx="minor"/>
          </p:style>
          <p:txBody>
            <a:bodyPr wrap="none" lIns="90000" rIns="90000" tIns="-42120" bIns="-421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6" name=""/>
            <p:cNvSpPr/>
            <p:nvPr/>
          </p:nvSpPr>
          <p:spPr>
            <a:xfrm>
              <a:off x="4379760" y="4205160"/>
              <a:ext cx="2567160" cy="993960"/>
            </a:xfrm>
            <a:custGeom>
              <a:avLst/>
              <a:gdLst/>
              <a:ahLst/>
              <a:rect l="l" t="t" r="r" b="b"/>
              <a:pathLst>
                <a:path w="1881" h="744">
                  <a:moveTo>
                    <a:pt x="1298" y="222"/>
                  </a:moveTo>
                  <a:lnTo>
                    <a:pt x="1283" y="225"/>
                  </a:lnTo>
                  <a:lnTo>
                    <a:pt x="1263" y="230"/>
                  </a:lnTo>
                  <a:lnTo>
                    <a:pt x="1239" y="235"/>
                  </a:lnTo>
                  <a:lnTo>
                    <a:pt x="1214" y="242"/>
                  </a:lnTo>
                  <a:lnTo>
                    <a:pt x="1186" y="249"/>
                  </a:lnTo>
                  <a:lnTo>
                    <a:pt x="1157" y="255"/>
                  </a:lnTo>
                  <a:lnTo>
                    <a:pt x="1127" y="262"/>
                  </a:lnTo>
                  <a:lnTo>
                    <a:pt x="1097" y="269"/>
                  </a:lnTo>
                  <a:lnTo>
                    <a:pt x="1067" y="275"/>
                  </a:lnTo>
                  <a:lnTo>
                    <a:pt x="1039" y="284"/>
                  </a:lnTo>
                  <a:lnTo>
                    <a:pt x="1012" y="290"/>
                  </a:lnTo>
                  <a:lnTo>
                    <a:pt x="989" y="297"/>
                  </a:lnTo>
                  <a:lnTo>
                    <a:pt x="967" y="302"/>
                  </a:lnTo>
                  <a:lnTo>
                    <a:pt x="949" y="309"/>
                  </a:lnTo>
                  <a:lnTo>
                    <a:pt x="936" y="314"/>
                  </a:lnTo>
                  <a:lnTo>
                    <a:pt x="927" y="317"/>
                  </a:lnTo>
                  <a:lnTo>
                    <a:pt x="914" y="324"/>
                  </a:lnTo>
                  <a:lnTo>
                    <a:pt x="901" y="329"/>
                  </a:lnTo>
                  <a:lnTo>
                    <a:pt x="887" y="337"/>
                  </a:lnTo>
                  <a:lnTo>
                    <a:pt x="872" y="344"/>
                  </a:lnTo>
                  <a:lnTo>
                    <a:pt x="857" y="355"/>
                  </a:lnTo>
                  <a:lnTo>
                    <a:pt x="842" y="369"/>
                  </a:lnTo>
                  <a:lnTo>
                    <a:pt x="826" y="389"/>
                  </a:lnTo>
                  <a:lnTo>
                    <a:pt x="807" y="412"/>
                  </a:lnTo>
                  <a:lnTo>
                    <a:pt x="791" y="437"/>
                  </a:lnTo>
                  <a:lnTo>
                    <a:pt x="776" y="460"/>
                  </a:lnTo>
                  <a:lnTo>
                    <a:pt x="761" y="482"/>
                  </a:lnTo>
                  <a:lnTo>
                    <a:pt x="747" y="502"/>
                  </a:lnTo>
                  <a:lnTo>
                    <a:pt x="737" y="519"/>
                  </a:lnTo>
                  <a:lnTo>
                    <a:pt x="727" y="532"/>
                  </a:lnTo>
                  <a:lnTo>
                    <a:pt x="719" y="542"/>
                  </a:lnTo>
                  <a:lnTo>
                    <a:pt x="712" y="549"/>
                  </a:lnTo>
                  <a:lnTo>
                    <a:pt x="706" y="554"/>
                  </a:lnTo>
                  <a:lnTo>
                    <a:pt x="699" y="559"/>
                  </a:lnTo>
                  <a:lnTo>
                    <a:pt x="689" y="564"/>
                  </a:lnTo>
                  <a:lnTo>
                    <a:pt x="679" y="565"/>
                  </a:lnTo>
                  <a:lnTo>
                    <a:pt x="667" y="567"/>
                  </a:lnTo>
                  <a:lnTo>
                    <a:pt x="657" y="567"/>
                  </a:lnTo>
                  <a:lnTo>
                    <a:pt x="647" y="564"/>
                  </a:lnTo>
                  <a:lnTo>
                    <a:pt x="637" y="559"/>
                  </a:lnTo>
                  <a:lnTo>
                    <a:pt x="629" y="552"/>
                  </a:lnTo>
                  <a:lnTo>
                    <a:pt x="622" y="544"/>
                  </a:lnTo>
                  <a:lnTo>
                    <a:pt x="615" y="535"/>
                  </a:lnTo>
                  <a:lnTo>
                    <a:pt x="609" y="529"/>
                  </a:lnTo>
                  <a:lnTo>
                    <a:pt x="602" y="524"/>
                  </a:lnTo>
                  <a:lnTo>
                    <a:pt x="595" y="520"/>
                  </a:lnTo>
                  <a:lnTo>
                    <a:pt x="589" y="519"/>
                  </a:lnTo>
                  <a:lnTo>
                    <a:pt x="580" y="520"/>
                  </a:lnTo>
                  <a:lnTo>
                    <a:pt x="569" y="524"/>
                  </a:lnTo>
                  <a:lnTo>
                    <a:pt x="554" y="525"/>
                  </a:lnTo>
                  <a:lnTo>
                    <a:pt x="537" y="525"/>
                  </a:lnTo>
                  <a:lnTo>
                    <a:pt x="519" y="525"/>
                  </a:lnTo>
                  <a:lnTo>
                    <a:pt x="499" y="525"/>
                  </a:lnTo>
                  <a:lnTo>
                    <a:pt x="480" y="524"/>
                  </a:lnTo>
                  <a:lnTo>
                    <a:pt x="462" y="522"/>
                  </a:lnTo>
                  <a:lnTo>
                    <a:pt x="447" y="520"/>
                  </a:lnTo>
                  <a:lnTo>
                    <a:pt x="432" y="519"/>
                  </a:lnTo>
                  <a:lnTo>
                    <a:pt x="417" y="515"/>
                  </a:lnTo>
                  <a:lnTo>
                    <a:pt x="404" y="510"/>
                  </a:lnTo>
                  <a:lnTo>
                    <a:pt x="389" y="507"/>
                  </a:lnTo>
                  <a:lnTo>
                    <a:pt x="375" y="504"/>
                  </a:lnTo>
                  <a:lnTo>
                    <a:pt x="364" y="500"/>
                  </a:lnTo>
                  <a:lnTo>
                    <a:pt x="352" y="497"/>
                  </a:lnTo>
                  <a:lnTo>
                    <a:pt x="342" y="497"/>
                  </a:lnTo>
                  <a:lnTo>
                    <a:pt x="329" y="497"/>
                  </a:lnTo>
                  <a:lnTo>
                    <a:pt x="307" y="497"/>
                  </a:lnTo>
                  <a:lnTo>
                    <a:pt x="280" y="499"/>
                  </a:lnTo>
                  <a:lnTo>
                    <a:pt x="250" y="499"/>
                  </a:lnTo>
                  <a:lnTo>
                    <a:pt x="224" y="500"/>
                  </a:lnTo>
                  <a:lnTo>
                    <a:pt x="200" y="502"/>
                  </a:lnTo>
                  <a:lnTo>
                    <a:pt x="184" y="502"/>
                  </a:lnTo>
                  <a:lnTo>
                    <a:pt x="177" y="502"/>
                  </a:lnTo>
                  <a:lnTo>
                    <a:pt x="175" y="504"/>
                  </a:lnTo>
                  <a:lnTo>
                    <a:pt x="170" y="505"/>
                  </a:lnTo>
                  <a:lnTo>
                    <a:pt x="164" y="509"/>
                  </a:lnTo>
                  <a:lnTo>
                    <a:pt x="155" y="510"/>
                  </a:lnTo>
                  <a:lnTo>
                    <a:pt x="144" y="512"/>
                  </a:lnTo>
                  <a:lnTo>
                    <a:pt x="132" y="512"/>
                  </a:lnTo>
                  <a:lnTo>
                    <a:pt x="120" y="509"/>
                  </a:lnTo>
                  <a:lnTo>
                    <a:pt x="107" y="502"/>
                  </a:lnTo>
                  <a:lnTo>
                    <a:pt x="95" y="494"/>
                  </a:lnTo>
                  <a:lnTo>
                    <a:pt x="87" y="485"/>
                  </a:lnTo>
                  <a:lnTo>
                    <a:pt x="80" y="479"/>
                  </a:lnTo>
                  <a:lnTo>
                    <a:pt x="75" y="475"/>
                  </a:lnTo>
                  <a:lnTo>
                    <a:pt x="70" y="472"/>
                  </a:lnTo>
                  <a:lnTo>
                    <a:pt x="65" y="470"/>
                  </a:lnTo>
                  <a:lnTo>
                    <a:pt x="60" y="470"/>
                  </a:lnTo>
                  <a:lnTo>
                    <a:pt x="53" y="474"/>
                  </a:lnTo>
                  <a:lnTo>
                    <a:pt x="47" y="480"/>
                  </a:lnTo>
                  <a:lnTo>
                    <a:pt x="50" y="489"/>
                  </a:lnTo>
                  <a:lnTo>
                    <a:pt x="55" y="500"/>
                  </a:lnTo>
                  <a:lnTo>
                    <a:pt x="53" y="515"/>
                  </a:lnTo>
                  <a:lnTo>
                    <a:pt x="50" y="535"/>
                  </a:lnTo>
                  <a:lnTo>
                    <a:pt x="48" y="557"/>
                  </a:lnTo>
                  <a:lnTo>
                    <a:pt x="50" y="577"/>
                  </a:lnTo>
                  <a:lnTo>
                    <a:pt x="50" y="592"/>
                  </a:lnTo>
                  <a:lnTo>
                    <a:pt x="47" y="606"/>
                  </a:lnTo>
                  <a:lnTo>
                    <a:pt x="40" y="621"/>
                  </a:lnTo>
                  <a:lnTo>
                    <a:pt x="33" y="634"/>
                  </a:lnTo>
                  <a:lnTo>
                    <a:pt x="30" y="639"/>
                  </a:lnTo>
                  <a:lnTo>
                    <a:pt x="0" y="662"/>
                  </a:lnTo>
                  <a:lnTo>
                    <a:pt x="3" y="666"/>
                  </a:lnTo>
                  <a:lnTo>
                    <a:pt x="8" y="669"/>
                  </a:lnTo>
                  <a:lnTo>
                    <a:pt x="13" y="674"/>
                  </a:lnTo>
                  <a:lnTo>
                    <a:pt x="18" y="677"/>
                  </a:lnTo>
                  <a:lnTo>
                    <a:pt x="32" y="684"/>
                  </a:lnTo>
                  <a:lnTo>
                    <a:pt x="43" y="687"/>
                  </a:lnTo>
                  <a:lnTo>
                    <a:pt x="55" y="687"/>
                  </a:lnTo>
                  <a:lnTo>
                    <a:pt x="67" y="686"/>
                  </a:lnTo>
                  <a:lnTo>
                    <a:pt x="77" y="684"/>
                  </a:lnTo>
                  <a:lnTo>
                    <a:pt x="83" y="681"/>
                  </a:lnTo>
                  <a:lnTo>
                    <a:pt x="88" y="679"/>
                  </a:lnTo>
                  <a:lnTo>
                    <a:pt x="90" y="677"/>
                  </a:lnTo>
                  <a:lnTo>
                    <a:pt x="97" y="677"/>
                  </a:lnTo>
                  <a:lnTo>
                    <a:pt x="114" y="677"/>
                  </a:lnTo>
                  <a:lnTo>
                    <a:pt x="137" y="676"/>
                  </a:lnTo>
                  <a:lnTo>
                    <a:pt x="164" y="674"/>
                  </a:lnTo>
                  <a:lnTo>
                    <a:pt x="194" y="674"/>
                  </a:lnTo>
                  <a:lnTo>
                    <a:pt x="220" y="672"/>
                  </a:lnTo>
                  <a:lnTo>
                    <a:pt x="242" y="672"/>
                  </a:lnTo>
                  <a:lnTo>
                    <a:pt x="255" y="672"/>
                  </a:lnTo>
                  <a:lnTo>
                    <a:pt x="265" y="674"/>
                  </a:lnTo>
                  <a:lnTo>
                    <a:pt x="275" y="676"/>
                  </a:lnTo>
                  <a:lnTo>
                    <a:pt x="289" y="679"/>
                  </a:lnTo>
                  <a:lnTo>
                    <a:pt x="302" y="682"/>
                  </a:lnTo>
                  <a:lnTo>
                    <a:pt x="315" y="687"/>
                  </a:lnTo>
                  <a:lnTo>
                    <a:pt x="330" y="691"/>
                  </a:lnTo>
                  <a:lnTo>
                    <a:pt x="344" y="694"/>
                  </a:lnTo>
                  <a:lnTo>
                    <a:pt x="359" y="697"/>
                  </a:lnTo>
                  <a:lnTo>
                    <a:pt x="374" y="699"/>
                  </a:lnTo>
                  <a:lnTo>
                    <a:pt x="392" y="701"/>
                  </a:lnTo>
                  <a:lnTo>
                    <a:pt x="412" y="701"/>
                  </a:lnTo>
                  <a:lnTo>
                    <a:pt x="430" y="702"/>
                  </a:lnTo>
                  <a:lnTo>
                    <a:pt x="450" y="702"/>
                  </a:lnTo>
                  <a:lnTo>
                    <a:pt x="467" y="701"/>
                  </a:lnTo>
                  <a:lnTo>
                    <a:pt x="480" y="701"/>
                  </a:lnTo>
                  <a:lnTo>
                    <a:pt x="492" y="697"/>
                  </a:lnTo>
                  <a:lnTo>
                    <a:pt x="500" y="696"/>
                  </a:lnTo>
                  <a:lnTo>
                    <a:pt x="507" y="696"/>
                  </a:lnTo>
                  <a:lnTo>
                    <a:pt x="514" y="699"/>
                  </a:lnTo>
                  <a:lnTo>
                    <a:pt x="520" y="706"/>
                  </a:lnTo>
                  <a:lnTo>
                    <a:pt x="527" y="712"/>
                  </a:lnTo>
                  <a:lnTo>
                    <a:pt x="534" y="719"/>
                  </a:lnTo>
                  <a:lnTo>
                    <a:pt x="540" y="727"/>
                  </a:lnTo>
                  <a:lnTo>
                    <a:pt x="549" y="734"/>
                  </a:lnTo>
                  <a:lnTo>
                    <a:pt x="559" y="741"/>
                  </a:lnTo>
                  <a:lnTo>
                    <a:pt x="569" y="742"/>
                  </a:lnTo>
                  <a:lnTo>
                    <a:pt x="579" y="744"/>
                  </a:lnTo>
                  <a:lnTo>
                    <a:pt x="590" y="742"/>
                  </a:lnTo>
                  <a:lnTo>
                    <a:pt x="600" y="739"/>
                  </a:lnTo>
                  <a:lnTo>
                    <a:pt x="610" y="736"/>
                  </a:lnTo>
                  <a:lnTo>
                    <a:pt x="619" y="731"/>
                  </a:lnTo>
                  <a:lnTo>
                    <a:pt x="625" y="726"/>
                  </a:lnTo>
                  <a:lnTo>
                    <a:pt x="632" y="719"/>
                  </a:lnTo>
                  <a:lnTo>
                    <a:pt x="639" y="707"/>
                  </a:lnTo>
                  <a:lnTo>
                    <a:pt x="649" y="694"/>
                  </a:lnTo>
                  <a:lnTo>
                    <a:pt x="661" y="677"/>
                  </a:lnTo>
                  <a:lnTo>
                    <a:pt x="672" y="659"/>
                  </a:lnTo>
                  <a:lnTo>
                    <a:pt x="687" y="637"/>
                  </a:lnTo>
                  <a:lnTo>
                    <a:pt x="704" y="614"/>
                  </a:lnTo>
                  <a:lnTo>
                    <a:pt x="721" y="587"/>
                  </a:lnTo>
                  <a:lnTo>
                    <a:pt x="737" y="564"/>
                  </a:lnTo>
                  <a:lnTo>
                    <a:pt x="754" y="544"/>
                  </a:lnTo>
                  <a:lnTo>
                    <a:pt x="769" y="530"/>
                  </a:lnTo>
                  <a:lnTo>
                    <a:pt x="786" y="519"/>
                  </a:lnTo>
                  <a:lnTo>
                    <a:pt x="799" y="512"/>
                  </a:lnTo>
                  <a:lnTo>
                    <a:pt x="812" y="504"/>
                  </a:lnTo>
                  <a:lnTo>
                    <a:pt x="826" y="499"/>
                  </a:lnTo>
                  <a:lnTo>
                    <a:pt x="839" y="492"/>
                  </a:lnTo>
                  <a:lnTo>
                    <a:pt x="847" y="489"/>
                  </a:lnTo>
                  <a:lnTo>
                    <a:pt x="862" y="484"/>
                  </a:lnTo>
                  <a:lnTo>
                    <a:pt x="879" y="479"/>
                  </a:lnTo>
                  <a:lnTo>
                    <a:pt x="901" y="472"/>
                  </a:lnTo>
                  <a:lnTo>
                    <a:pt x="926" y="465"/>
                  </a:lnTo>
                  <a:lnTo>
                    <a:pt x="952" y="459"/>
                  </a:lnTo>
                  <a:lnTo>
                    <a:pt x="981" y="452"/>
                  </a:lnTo>
                  <a:lnTo>
                    <a:pt x="1009" y="444"/>
                  </a:lnTo>
                  <a:lnTo>
                    <a:pt x="1039" y="437"/>
                  </a:lnTo>
                  <a:lnTo>
                    <a:pt x="1069" y="430"/>
                  </a:lnTo>
                  <a:lnTo>
                    <a:pt x="1097" y="424"/>
                  </a:lnTo>
                  <a:lnTo>
                    <a:pt x="1126" y="417"/>
                  </a:lnTo>
                  <a:lnTo>
                    <a:pt x="1151" y="410"/>
                  </a:lnTo>
                  <a:lnTo>
                    <a:pt x="1174" y="405"/>
                  </a:lnTo>
                  <a:lnTo>
                    <a:pt x="1194" y="400"/>
                  </a:lnTo>
                  <a:lnTo>
                    <a:pt x="1209" y="397"/>
                  </a:lnTo>
                  <a:lnTo>
                    <a:pt x="1236" y="390"/>
                  </a:lnTo>
                  <a:lnTo>
                    <a:pt x="1263" y="385"/>
                  </a:lnTo>
                  <a:lnTo>
                    <a:pt x="1289" y="382"/>
                  </a:lnTo>
                  <a:lnTo>
                    <a:pt x="1313" y="379"/>
                  </a:lnTo>
                  <a:lnTo>
                    <a:pt x="1336" y="375"/>
                  </a:lnTo>
                  <a:lnTo>
                    <a:pt x="1354" y="370"/>
                  </a:lnTo>
                  <a:lnTo>
                    <a:pt x="1371" y="365"/>
                  </a:lnTo>
                  <a:lnTo>
                    <a:pt x="1384" y="359"/>
                  </a:lnTo>
                  <a:lnTo>
                    <a:pt x="1394" y="354"/>
                  </a:lnTo>
                  <a:lnTo>
                    <a:pt x="1411" y="345"/>
                  </a:lnTo>
                  <a:lnTo>
                    <a:pt x="1434" y="334"/>
                  </a:lnTo>
                  <a:lnTo>
                    <a:pt x="1463" y="320"/>
                  </a:lnTo>
                  <a:lnTo>
                    <a:pt x="1496" y="307"/>
                  </a:lnTo>
                  <a:lnTo>
                    <a:pt x="1533" y="290"/>
                  </a:lnTo>
                  <a:lnTo>
                    <a:pt x="1571" y="274"/>
                  </a:lnTo>
                  <a:lnTo>
                    <a:pt x="1611" y="255"/>
                  </a:lnTo>
                  <a:lnTo>
                    <a:pt x="1649" y="239"/>
                  </a:lnTo>
                  <a:lnTo>
                    <a:pt x="1688" y="222"/>
                  </a:lnTo>
                  <a:lnTo>
                    <a:pt x="1723" y="207"/>
                  </a:lnTo>
                  <a:lnTo>
                    <a:pt x="1756" y="192"/>
                  </a:lnTo>
                  <a:lnTo>
                    <a:pt x="1783" y="180"/>
                  </a:lnTo>
                  <a:lnTo>
                    <a:pt x="1805" y="170"/>
                  </a:lnTo>
                  <a:lnTo>
                    <a:pt x="1820" y="164"/>
                  </a:lnTo>
                  <a:lnTo>
                    <a:pt x="1826" y="160"/>
                  </a:lnTo>
                  <a:lnTo>
                    <a:pt x="1836" y="152"/>
                  </a:lnTo>
                  <a:lnTo>
                    <a:pt x="1841" y="142"/>
                  </a:lnTo>
                  <a:lnTo>
                    <a:pt x="1845" y="130"/>
                  </a:lnTo>
                  <a:lnTo>
                    <a:pt x="1846" y="117"/>
                  </a:lnTo>
                  <a:lnTo>
                    <a:pt x="1848" y="100"/>
                  </a:lnTo>
                  <a:lnTo>
                    <a:pt x="1851" y="78"/>
                  </a:lnTo>
                  <a:lnTo>
                    <a:pt x="1858" y="57"/>
                  </a:lnTo>
                  <a:lnTo>
                    <a:pt x="1865" y="37"/>
                  </a:lnTo>
                  <a:lnTo>
                    <a:pt x="1868" y="27"/>
                  </a:lnTo>
                  <a:lnTo>
                    <a:pt x="1873" y="18"/>
                  </a:lnTo>
                  <a:lnTo>
                    <a:pt x="1876" y="8"/>
                  </a:lnTo>
                  <a:lnTo>
                    <a:pt x="1881" y="0"/>
                  </a:lnTo>
                  <a:lnTo>
                    <a:pt x="1861" y="10"/>
                  </a:lnTo>
                  <a:lnTo>
                    <a:pt x="1836" y="20"/>
                  </a:lnTo>
                  <a:lnTo>
                    <a:pt x="1808" y="32"/>
                  </a:lnTo>
                  <a:lnTo>
                    <a:pt x="1778" y="45"/>
                  </a:lnTo>
                  <a:lnTo>
                    <a:pt x="1746" y="58"/>
                  </a:lnTo>
                  <a:lnTo>
                    <a:pt x="1714" y="73"/>
                  </a:lnTo>
                  <a:lnTo>
                    <a:pt x="1681" y="88"/>
                  </a:lnTo>
                  <a:lnTo>
                    <a:pt x="1648" y="102"/>
                  </a:lnTo>
                  <a:lnTo>
                    <a:pt x="1616" y="117"/>
                  </a:lnTo>
                  <a:lnTo>
                    <a:pt x="1586" y="130"/>
                  </a:lnTo>
                  <a:lnTo>
                    <a:pt x="1558" y="142"/>
                  </a:lnTo>
                  <a:lnTo>
                    <a:pt x="1533" y="154"/>
                  </a:lnTo>
                  <a:lnTo>
                    <a:pt x="1511" y="164"/>
                  </a:lnTo>
                  <a:lnTo>
                    <a:pt x="1493" y="174"/>
                  </a:lnTo>
                  <a:lnTo>
                    <a:pt x="1479" y="179"/>
                  </a:lnTo>
                  <a:lnTo>
                    <a:pt x="1473" y="184"/>
                  </a:lnTo>
                  <a:lnTo>
                    <a:pt x="1459" y="190"/>
                  </a:lnTo>
                  <a:lnTo>
                    <a:pt x="1443" y="195"/>
                  </a:lnTo>
                  <a:lnTo>
                    <a:pt x="1423" y="199"/>
                  </a:lnTo>
                  <a:lnTo>
                    <a:pt x="1401" y="202"/>
                  </a:lnTo>
                  <a:lnTo>
                    <a:pt x="1376" y="205"/>
                  </a:lnTo>
                  <a:lnTo>
                    <a:pt x="1351" y="210"/>
                  </a:lnTo>
                  <a:lnTo>
                    <a:pt x="1324" y="215"/>
                  </a:lnTo>
                  <a:lnTo>
                    <a:pt x="1298" y="222"/>
                  </a:lnTo>
                  <a:close/>
                </a:path>
              </a:pathLst>
            </a:custGeom>
            <a:solidFill>
              <a:srgbClr val="ffffff">
                <a:alpha val="20000"/>
              </a:srgbClr>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7" name=""/>
            <p:cNvSpPr/>
            <p:nvPr/>
          </p:nvSpPr>
          <p:spPr>
            <a:xfrm>
              <a:off x="2813040" y="1346040"/>
              <a:ext cx="4348080" cy="3579840"/>
            </a:xfrm>
            <a:custGeom>
              <a:avLst/>
              <a:gdLst/>
              <a:ahLst/>
              <a:rect l="l" t="t" r="r" b="b"/>
              <a:pathLst>
                <a:path w="3185" h="2678">
                  <a:moveTo>
                    <a:pt x="380" y="90"/>
                  </a:moveTo>
                  <a:lnTo>
                    <a:pt x="683" y="28"/>
                  </a:lnTo>
                  <a:lnTo>
                    <a:pt x="693" y="0"/>
                  </a:lnTo>
                  <a:lnTo>
                    <a:pt x="695" y="0"/>
                  </a:lnTo>
                  <a:lnTo>
                    <a:pt x="698" y="0"/>
                  </a:lnTo>
                  <a:lnTo>
                    <a:pt x="704" y="0"/>
                  </a:lnTo>
                  <a:lnTo>
                    <a:pt x="712" y="0"/>
                  </a:lnTo>
                  <a:lnTo>
                    <a:pt x="720" y="0"/>
                  </a:lnTo>
                  <a:lnTo>
                    <a:pt x="734" y="2"/>
                  </a:lnTo>
                  <a:lnTo>
                    <a:pt x="747" y="5"/>
                  </a:lnTo>
                  <a:lnTo>
                    <a:pt x="764" y="10"/>
                  </a:lnTo>
                  <a:lnTo>
                    <a:pt x="782" y="15"/>
                  </a:lnTo>
                  <a:lnTo>
                    <a:pt x="799" y="20"/>
                  </a:lnTo>
                  <a:lnTo>
                    <a:pt x="817" y="23"/>
                  </a:lnTo>
                  <a:lnTo>
                    <a:pt x="832" y="28"/>
                  </a:lnTo>
                  <a:lnTo>
                    <a:pt x="847" y="32"/>
                  </a:lnTo>
                  <a:lnTo>
                    <a:pt x="862" y="35"/>
                  </a:lnTo>
                  <a:lnTo>
                    <a:pt x="874" y="40"/>
                  </a:lnTo>
                  <a:lnTo>
                    <a:pt x="884" y="43"/>
                  </a:lnTo>
                  <a:lnTo>
                    <a:pt x="894" y="48"/>
                  </a:lnTo>
                  <a:lnTo>
                    <a:pt x="907" y="57"/>
                  </a:lnTo>
                  <a:lnTo>
                    <a:pt x="924" y="68"/>
                  </a:lnTo>
                  <a:lnTo>
                    <a:pt x="942" y="82"/>
                  </a:lnTo>
                  <a:lnTo>
                    <a:pt x="962" y="97"/>
                  </a:lnTo>
                  <a:lnTo>
                    <a:pt x="985" y="112"/>
                  </a:lnTo>
                  <a:lnTo>
                    <a:pt x="1009" y="127"/>
                  </a:lnTo>
                  <a:lnTo>
                    <a:pt x="1035" y="142"/>
                  </a:lnTo>
                  <a:lnTo>
                    <a:pt x="1060" y="155"/>
                  </a:lnTo>
                  <a:lnTo>
                    <a:pt x="1080" y="168"/>
                  </a:lnTo>
                  <a:lnTo>
                    <a:pt x="1099" y="180"/>
                  </a:lnTo>
                  <a:lnTo>
                    <a:pt x="1114" y="190"/>
                  </a:lnTo>
                  <a:lnTo>
                    <a:pt x="1124" y="197"/>
                  </a:lnTo>
                  <a:lnTo>
                    <a:pt x="1132" y="203"/>
                  </a:lnTo>
                  <a:lnTo>
                    <a:pt x="1137" y="207"/>
                  </a:lnTo>
                  <a:lnTo>
                    <a:pt x="1139" y="208"/>
                  </a:lnTo>
                  <a:lnTo>
                    <a:pt x="1142" y="210"/>
                  </a:lnTo>
                  <a:lnTo>
                    <a:pt x="1150" y="215"/>
                  </a:lnTo>
                  <a:lnTo>
                    <a:pt x="1162" y="223"/>
                  </a:lnTo>
                  <a:lnTo>
                    <a:pt x="1177" y="233"/>
                  </a:lnTo>
                  <a:lnTo>
                    <a:pt x="1192" y="243"/>
                  </a:lnTo>
                  <a:lnTo>
                    <a:pt x="1205" y="255"/>
                  </a:lnTo>
                  <a:lnTo>
                    <a:pt x="1217" y="265"/>
                  </a:lnTo>
                  <a:lnTo>
                    <a:pt x="1225" y="275"/>
                  </a:lnTo>
                  <a:lnTo>
                    <a:pt x="1234" y="285"/>
                  </a:lnTo>
                  <a:lnTo>
                    <a:pt x="1245" y="297"/>
                  </a:lnTo>
                  <a:lnTo>
                    <a:pt x="1259" y="310"/>
                  </a:lnTo>
                  <a:lnTo>
                    <a:pt x="1276" y="325"/>
                  </a:lnTo>
                  <a:lnTo>
                    <a:pt x="1292" y="340"/>
                  </a:lnTo>
                  <a:lnTo>
                    <a:pt x="1309" y="354"/>
                  </a:lnTo>
                  <a:lnTo>
                    <a:pt x="1324" y="365"/>
                  </a:lnTo>
                  <a:lnTo>
                    <a:pt x="1334" y="375"/>
                  </a:lnTo>
                  <a:lnTo>
                    <a:pt x="1346" y="385"/>
                  </a:lnTo>
                  <a:lnTo>
                    <a:pt x="1362" y="397"/>
                  </a:lnTo>
                  <a:lnTo>
                    <a:pt x="1381" y="410"/>
                  </a:lnTo>
                  <a:lnTo>
                    <a:pt x="1401" y="424"/>
                  </a:lnTo>
                  <a:lnTo>
                    <a:pt x="1421" y="437"/>
                  </a:lnTo>
                  <a:lnTo>
                    <a:pt x="1436" y="445"/>
                  </a:lnTo>
                  <a:lnTo>
                    <a:pt x="1447" y="454"/>
                  </a:lnTo>
                  <a:lnTo>
                    <a:pt x="1451" y="455"/>
                  </a:lnTo>
                  <a:lnTo>
                    <a:pt x="1489" y="509"/>
                  </a:lnTo>
                  <a:lnTo>
                    <a:pt x="1497" y="509"/>
                  </a:lnTo>
                  <a:lnTo>
                    <a:pt x="1517" y="509"/>
                  </a:lnTo>
                  <a:lnTo>
                    <a:pt x="1546" y="509"/>
                  </a:lnTo>
                  <a:lnTo>
                    <a:pt x="1581" y="509"/>
                  </a:lnTo>
                  <a:lnTo>
                    <a:pt x="1617" y="510"/>
                  </a:lnTo>
                  <a:lnTo>
                    <a:pt x="1651" y="514"/>
                  </a:lnTo>
                  <a:lnTo>
                    <a:pt x="1677" y="520"/>
                  </a:lnTo>
                  <a:lnTo>
                    <a:pt x="1694" y="527"/>
                  </a:lnTo>
                  <a:lnTo>
                    <a:pt x="1696" y="527"/>
                  </a:lnTo>
                  <a:lnTo>
                    <a:pt x="1702" y="525"/>
                  </a:lnTo>
                  <a:lnTo>
                    <a:pt x="1712" y="522"/>
                  </a:lnTo>
                  <a:lnTo>
                    <a:pt x="1722" y="520"/>
                  </a:lnTo>
                  <a:lnTo>
                    <a:pt x="1736" y="519"/>
                  </a:lnTo>
                  <a:lnTo>
                    <a:pt x="1747" y="515"/>
                  </a:lnTo>
                  <a:lnTo>
                    <a:pt x="1759" y="514"/>
                  </a:lnTo>
                  <a:lnTo>
                    <a:pt x="1769" y="514"/>
                  </a:lnTo>
                  <a:lnTo>
                    <a:pt x="1782" y="515"/>
                  </a:lnTo>
                  <a:lnTo>
                    <a:pt x="1801" y="519"/>
                  </a:lnTo>
                  <a:lnTo>
                    <a:pt x="1823" y="522"/>
                  </a:lnTo>
                  <a:lnTo>
                    <a:pt x="1848" y="527"/>
                  </a:lnTo>
                  <a:lnTo>
                    <a:pt x="1869" y="534"/>
                  </a:lnTo>
                  <a:lnTo>
                    <a:pt x="1889" y="537"/>
                  </a:lnTo>
                  <a:lnTo>
                    <a:pt x="1903" y="540"/>
                  </a:lnTo>
                  <a:lnTo>
                    <a:pt x="1908" y="542"/>
                  </a:lnTo>
                  <a:lnTo>
                    <a:pt x="1926" y="604"/>
                  </a:lnTo>
                  <a:lnTo>
                    <a:pt x="2044" y="604"/>
                  </a:lnTo>
                  <a:lnTo>
                    <a:pt x="2064" y="689"/>
                  </a:lnTo>
                  <a:lnTo>
                    <a:pt x="2071" y="692"/>
                  </a:lnTo>
                  <a:lnTo>
                    <a:pt x="2083" y="704"/>
                  </a:lnTo>
                  <a:lnTo>
                    <a:pt x="2093" y="722"/>
                  </a:lnTo>
                  <a:lnTo>
                    <a:pt x="2093" y="746"/>
                  </a:lnTo>
                  <a:lnTo>
                    <a:pt x="2116" y="784"/>
                  </a:lnTo>
                  <a:lnTo>
                    <a:pt x="2154" y="769"/>
                  </a:lnTo>
                  <a:lnTo>
                    <a:pt x="2158" y="774"/>
                  </a:lnTo>
                  <a:lnTo>
                    <a:pt x="2164" y="786"/>
                  </a:lnTo>
                  <a:lnTo>
                    <a:pt x="2169" y="801"/>
                  </a:lnTo>
                  <a:lnTo>
                    <a:pt x="2173" y="812"/>
                  </a:lnTo>
                  <a:lnTo>
                    <a:pt x="2176" y="824"/>
                  </a:lnTo>
                  <a:lnTo>
                    <a:pt x="2183" y="834"/>
                  </a:lnTo>
                  <a:lnTo>
                    <a:pt x="2189" y="842"/>
                  </a:lnTo>
                  <a:lnTo>
                    <a:pt x="2193" y="846"/>
                  </a:lnTo>
                  <a:lnTo>
                    <a:pt x="2201" y="822"/>
                  </a:lnTo>
                  <a:lnTo>
                    <a:pt x="2226" y="869"/>
                  </a:lnTo>
                  <a:lnTo>
                    <a:pt x="2228" y="869"/>
                  </a:lnTo>
                  <a:lnTo>
                    <a:pt x="2234" y="871"/>
                  </a:lnTo>
                  <a:lnTo>
                    <a:pt x="2244" y="874"/>
                  </a:lnTo>
                  <a:lnTo>
                    <a:pt x="2254" y="877"/>
                  </a:lnTo>
                  <a:lnTo>
                    <a:pt x="2266" y="882"/>
                  </a:lnTo>
                  <a:lnTo>
                    <a:pt x="2276" y="887"/>
                  </a:lnTo>
                  <a:lnTo>
                    <a:pt x="2284" y="894"/>
                  </a:lnTo>
                  <a:lnTo>
                    <a:pt x="2288" y="902"/>
                  </a:lnTo>
                  <a:lnTo>
                    <a:pt x="2289" y="921"/>
                  </a:lnTo>
                  <a:lnTo>
                    <a:pt x="2293" y="937"/>
                  </a:lnTo>
                  <a:lnTo>
                    <a:pt x="2296" y="952"/>
                  </a:lnTo>
                  <a:lnTo>
                    <a:pt x="2306" y="964"/>
                  </a:lnTo>
                  <a:lnTo>
                    <a:pt x="2316" y="979"/>
                  </a:lnTo>
                  <a:lnTo>
                    <a:pt x="2321" y="996"/>
                  </a:lnTo>
                  <a:lnTo>
                    <a:pt x="2318" y="1011"/>
                  </a:lnTo>
                  <a:lnTo>
                    <a:pt x="2311" y="1017"/>
                  </a:lnTo>
                  <a:lnTo>
                    <a:pt x="2303" y="1019"/>
                  </a:lnTo>
                  <a:lnTo>
                    <a:pt x="2299" y="1024"/>
                  </a:lnTo>
                  <a:lnTo>
                    <a:pt x="2301" y="1032"/>
                  </a:lnTo>
                  <a:lnTo>
                    <a:pt x="2306" y="1046"/>
                  </a:lnTo>
                  <a:lnTo>
                    <a:pt x="2313" y="1061"/>
                  </a:lnTo>
                  <a:lnTo>
                    <a:pt x="2319" y="1076"/>
                  </a:lnTo>
                  <a:lnTo>
                    <a:pt x="2324" y="1092"/>
                  </a:lnTo>
                  <a:lnTo>
                    <a:pt x="2329" y="1107"/>
                  </a:lnTo>
                  <a:lnTo>
                    <a:pt x="2336" y="1117"/>
                  </a:lnTo>
                  <a:lnTo>
                    <a:pt x="2344" y="1121"/>
                  </a:lnTo>
                  <a:lnTo>
                    <a:pt x="2351" y="1121"/>
                  </a:lnTo>
                  <a:lnTo>
                    <a:pt x="2354" y="1121"/>
                  </a:lnTo>
                  <a:lnTo>
                    <a:pt x="2356" y="1129"/>
                  </a:lnTo>
                  <a:lnTo>
                    <a:pt x="2365" y="1149"/>
                  </a:lnTo>
                  <a:lnTo>
                    <a:pt x="2375" y="1174"/>
                  </a:lnTo>
                  <a:lnTo>
                    <a:pt x="2388" y="1192"/>
                  </a:lnTo>
                  <a:lnTo>
                    <a:pt x="2395" y="1201"/>
                  </a:lnTo>
                  <a:lnTo>
                    <a:pt x="2400" y="1209"/>
                  </a:lnTo>
                  <a:lnTo>
                    <a:pt x="2405" y="1217"/>
                  </a:lnTo>
                  <a:lnTo>
                    <a:pt x="2411" y="1227"/>
                  </a:lnTo>
                  <a:lnTo>
                    <a:pt x="2416" y="1236"/>
                  </a:lnTo>
                  <a:lnTo>
                    <a:pt x="2425" y="1244"/>
                  </a:lnTo>
                  <a:lnTo>
                    <a:pt x="2433" y="1253"/>
                  </a:lnTo>
                  <a:lnTo>
                    <a:pt x="2445" y="1259"/>
                  </a:lnTo>
                  <a:lnTo>
                    <a:pt x="2456" y="1263"/>
                  </a:lnTo>
                  <a:lnTo>
                    <a:pt x="2468" y="1263"/>
                  </a:lnTo>
                  <a:lnTo>
                    <a:pt x="2478" y="1263"/>
                  </a:lnTo>
                  <a:lnTo>
                    <a:pt x="2486" y="1259"/>
                  </a:lnTo>
                  <a:lnTo>
                    <a:pt x="2493" y="1256"/>
                  </a:lnTo>
                  <a:lnTo>
                    <a:pt x="2498" y="1253"/>
                  </a:lnTo>
                  <a:lnTo>
                    <a:pt x="2500" y="1251"/>
                  </a:lnTo>
                  <a:lnTo>
                    <a:pt x="2501" y="1249"/>
                  </a:lnTo>
                  <a:lnTo>
                    <a:pt x="2520" y="1259"/>
                  </a:lnTo>
                  <a:lnTo>
                    <a:pt x="2501" y="1293"/>
                  </a:lnTo>
                  <a:lnTo>
                    <a:pt x="2501" y="1294"/>
                  </a:lnTo>
                  <a:lnTo>
                    <a:pt x="2501" y="1299"/>
                  </a:lnTo>
                  <a:lnTo>
                    <a:pt x="2503" y="1304"/>
                  </a:lnTo>
                  <a:lnTo>
                    <a:pt x="2511" y="1306"/>
                  </a:lnTo>
                  <a:lnTo>
                    <a:pt x="2521" y="1314"/>
                  </a:lnTo>
                  <a:lnTo>
                    <a:pt x="2531" y="1329"/>
                  </a:lnTo>
                  <a:lnTo>
                    <a:pt x="2536" y="1346"/>
                  </a:lnTo>
                  <a:lnTo>
                    <a:pt x="2540" y="1354"/>
                  </a:lnTo>
                  <a:lnTo>
                    <a:pt x="2541" y="1356"/>
                  </a:lnTo>
                  <a:lnTo>
                    <a:pt x="2546" y="1361"/>
                  </a:lnTo>
                  <a:lnTo>
                    <a:pt x="2553" y="1368"/>
                  </a:lnTo>
                  <a:lnTo>
                    <a:pt x="2561" y="1378"/>
                  </a:lnTo>
                  <a:lnTo>
                    <a:pt x="2571" y="1388"/>
                  </a:lnTo>
                  <a:lnTo>
                    <a:pt x="2583" y="1401"/>
                  </a:lnTo>
                  <a:lnTo>
                    <a:pt x="2595" y="1414"/>
                  </a:lnTo>
                  <a:lnTo>
                    <a:pt x="2606" y="1428"/>
                  </a:lnTo>
                  <a:lnTo>
                    <a:pt x="2618" y="1443"/>
                  </a:lnTo>
                  <a:lnTo>
                    <a:pt x="2631" y="1458"/>
                  </a:lnTo>
                  <a:lnTo>
                    <a:pt x="2645" y="1473"/>
                  </a:lnTo>
                  <a:lnTo>
                    <a:pt x="2658" y="1488"/>
                  </a:lnTo>
                  <a:lnTo>
                    <a:pt x="2670" y="1501"/>
                  </a:lnTo>
                  <a:lnTo>
                    <a:pt x="2680" y="1511"/>
                  </a:lnTo>
                  <a:lnTo>
                    <a:pt x="2688" y="1521"/>
                  </a:lnTo>
                  <a:lnTo>
                    <a:pt x="2691" y="1528"/>
                  </a:lnTo>
                  <a:lnTo>
                    <a:pt x="2701" y="1533"/>
                  </a:lnTo>
                  <a:lnTo>
                    <a:pt x="2723" y="1538"/>
                  </a:lnTo>
                  <a:lnTo>
                    <a:pt x="2753" y="1543"/>
                  </a:lnTo>
                  <a:lnTo>
                    <a:pt x="2790" y="1546"/>
                  </a:lnTo>
                  <a:lnTo>
                    <a:pt x="2828" y="1549"/>
                  </a:lnTo>
                  <a:lnTo>
                    <a:pt x="2863" y="1551"/>
                  </a:lnTo>
                  <a:lnTo>
                    <a:pt x="2891" y="1554"/>
                  </a:lnTo>
                  <a:lnTo>
                    <a:pt x="2910" y="1556"/>
                  </a:lnTo>
                  <a:lnTo>
                    <a:pt x="2925" y="1558"/>
                  </a:lnTo>
                  <a:lnTo>
                    <a:pt x="2945" y="1559"/>
                  </a:lnTo>
                  <a:lnTo>
                    <a:pt x="2968" y="1561"/>
                  </a:lnTo>
                  <a:lnTo>
                    <a:pt x="2992" y="1563"/>
                  </a:lnTo>
                  <a:lnTo>
                    <a:pt x="3013" y="1566"/>
                  </a:lnTo>
                  <a:lnTo>
                    <a:pt x="3033" y="1568"/>
                  </a:lnTo>
                  <a:lnTo>
                    <a:pt x="3048" y="1569"/>
                  </a:lnTo>
                  <a:lnTo>
                    <a:pt x="3057" y="1571"/>
                  </a:lnTo>
                  <a:lnTo>
                    <a:pt x="3070" y="1569"/>
                  </a:lnTo>
                  <a:lnTo>
                    <a:pt x="3083" y="1563"/>
                  </a:lnTo>
                  <a:lnTo>
                    <a:pt x="3095" y="1554"/>
                  </a:lnTo>
                  <a:lnTo>
                    <a:pt x="3100" y="1551"/>
                  </a:lnTo>
                  <a:lnTo>
                    <a:pt x="3102" y="1553"/>
                  </a:lnTo>
                  <a:lnTo>
                    <a:pt x="3105" y="1556"/>
                  </a:lnTo>
                  <a:lnTo>
                    <a:pt x="3112" y="1561"/>
                  </a:lnTo>
                  <a:lnTo>
                    <a:pt x="3120" y="1568"/>
                  </a:lnTo>
                  <a:lnTo>
                    <a:pt x="3130" y="1576"/>
                  </a:lnTo>
                  <a:lnTo>
                    <a:pt x="3140" y="1586"/>
                  </a:lnTo>
                  <a:lnTo>
                    <a:pt x="3152" y="1598"/>
                  </a:lnTo>
                  <a:lnTo>
                    <a:pt x="3162" y="1609"/>
                  </a:lnTo>
                  <a:lnTo>
                    <a:pt x="3172" y="1624"/>
                  </a:lnTo>
                  <a:lnTo>
                    <a:pt x="3180" y="1638"/>
                  </a:lnTo>
                  <a:lnTo>
                    <a:pt x="3183" y="1653"/>
                  </a:lnTo>
                  <a:lnTo>
                    <a:pt x="3185" y="1668"/>
                  </a:lnTo>
                  <a:lnTo>
                    <a:pt x="3185" y="1678"/>
                  </a:lnTo>
                  <a:lnTo>
                    <a:pt x="3183" y="1688"/>
                  </a:lnTo>
                  <a:lnTo>
                    <a:pt x="3180" y="1696"/>
                  </a:lnTo>
                  <a:lnTo>
                    <a:pt x="3175" y="1704"/>
                  </a:lnTo>
                  <a:lnTo>
                    <a:pt x="3168" y="1724"/>
                  </a:lnTo>
                  <a:lnTo>
                    <a:pt x="3168" y="1748"/>
                  </a:lnTo>
                  <a:lnTo>
                    <a:pt x="3168" y="1771"/>
                  </a:lnTo>
                  <a:lnTo>
                    <a:pt x="3167" y="1795"/>
                  </a:lnTo>
                  <a:lnTo>
                    <a:pt x="3162" y="1815"/>
                  </a:lnTo>
                  <a:lnTo>
                    <a:pt x="3153" y="1835"/>
                  </a:lnTo>
                  <a:lnTo>
                    <a:pt x="3145" y="1851"/>
                  </a:lnTo>
                  <a:lnTo>
                    <a:pt x="3138" y="1870"/>
                  </a:lnTo>
                  <a:lnTo>
                    <a:pt x="3132" y="1890"/>
                  </a:lnTo>
                  <a:lnTo>
                    <a:pt x="3125" y="1913"/>
                  </a:lnTo>
                  <a:lnTo>
                    <a:pt x="3120" y="1933"/>
                  </a:lnTo>
                  <a:lnTo>
                    <a:pt x="3118" y="1951"/>
                  </a:lnTo>
                  <a:lnTo>
                    <a:pt x="3117" y="1965"/>
                  </a:lnTo>
                  <a:lnTo>
                    <a:pt x="3115" y="1976"/>
                  </a:lnTo>
                  <a:lnTo>
                    <a:pt x="3108" y="1986"/>
                  </a:lnTo>
                  <a:lnTo>
                    <a:pt x="3100" y="1993"/>
                  </a:lnTo>
                  <a:lnTo>
                    <a:pt x="3093" y="1996"/>
                  </a:lnTo>
                  <a:lnTo>
                    <a:pt x="3078" y="2003"/>
                  </a:lnTo>
                  <a:lnTo>
                    <a:pt x="3057" y="2013"/>
                  </a:lnTo>
                  <a:lnTo>
                    <a:pt x="3028" y="2026"/>
                  </a:lnTo>
                  <a:lnTo>
                    <a:pt x="2997" y="2040"/>
                  </a:lnTo>
                  <a:lnTo>
                    <a:pt x="2962" y="2056"/>
                  </a:lnTo>
                  <a:lnTo>
                    <a:pt x="2923" y="2073"/>
                  </a:lnTo>
                  <a:lnTo>
                    <a:pt x="2885" y="2090"/>
                  </a:lnTo>
                  <a:lnTo>
                    <a:pt x="2845" y="2108"/>
                  </a:lnTo>
                  <a:lnTo>
                    <a:pt x="2806" y="2125"/>
                  </a:lnTo>
                  <a:lnTo>
                    <a:pt x="2770" y="2141"/>
                  </a:lnTo>
                  <a:lnTo>
                    <a:pt x="2736" y="2155"/>
                  </a:lnTo>
                  <a:lnTo>
                    <a:pt x="2708" y="2168"/>
                  </a:lnTo>
                  <a:lnTo>
                    <a:pt x="2685" y="2180"/>
                  </a:lnTo>
                  <a:lnTo>
                    <a:pt x="2668" y="2188"/>
                  </a:lnTo>
                  <a:lnTo>
                    <a:pt x="2658" y="2193"/>
                  </a:lnTo>
                  <a:lnTo>
                    <a:pt x="2645" y="2200"/>
                  </a:lnTo>
                  <a:lnTo>
                    <a:pt x="2628" y="2205"/>
                  </a:lnTo>
                  <a:lnTo>
                    <a:pt x="2608" y="2208"/>
                  </a:lnTo>
                  <a:lnTo>
                    <a:pt x="2586" y="2211"/>
                  </a:lnTo>
                  <a:lnTo>
                    <a:pt x="2561" y="2215"/>
                  </a:lnTo>
                  <a:lnTo>
                    <a:pt x="2535" y="2220"/>
                  </a:lnTo>
                  <a:lnTo>
                    <a:pt x="2508" y="2225"/>
                  </a:lnTo>
                  <a:lnTo>
                    <a:pt x="2481" y="2231"/>
                  </a:lnTo>
                  <a:lnTo>
                    <a:pt x="2466" y="2235"/>
                  </a:lnTo>
                  <a:lnTo>
                    <a:pt x="2446" y="2240"/>
                  </a:lnTo>
                  <a:lnTo>
                    <a:pt x="2425" y="2245"/>
                  </a:lnTo>
                  <a:lnTo>
                    <a:pt x="2398" y="2252"/>
                  </a:lnTo>
                  <a:lnTo>
                    <a:pt x="2371" y="2258"/>
                  </a:lnTo>
                  <a:lnTo>
                    <a:pt x="2343" y="2265"/>
                  </a:lnTo>
                  <a:lnTo>
                    <a:pt x="2313" y="2272"/>
                  </a:lnTo>
                  <a:lnTo>
                    <a:pt x="2283" y="2278"/>
                  </a:lnTo>
                  <a:lnTo>
                    <a:pt x="2253" y="2285"/>
                  </a:lnTo>
                  <a:lnTo>
                    <a:pt x="2224" y="2293"/>
                  </a:lnTo>
                  <a:lnTo>
                    <a:pt x="2198" y="2300"/>
                  </a:lnTo>
                  <a:lnTo>
                    <a:pt x="2173" y="2307"/>
                  </a:lnTo>
                  <a:lnTo>
                    <a:pt x="2151" y="2312"/>
                  </a:lnTo>
                  <a:lnTo>
                    <a:pt x="2134" y="2318"/>
                  </a:lnTo>
                  <a:lnTo>
                    <a:pt x="2119" y="2323"/>
                  </a:lnTo>
                  <a:lnTo>
                    <a:pt x="2111" y="2327"/>
                  </a:lnTo>
                  <a:lnTo>
                    <a:pt x="2098" y="2333"/>
                  </a:lnTo>
                  <a:lnTo>
                    <a:pt x="2086" y="2338"/>
                  </a:lnTo>
                  <a:lnTo>
                    <a:pt x="2071" y="2347"/>
                  </a:lnTo>
                  <a:lnTo>
                    <a:pt x="2058" y="2353"/>
                  </a:lnTo>
                  <a:lnTo>
                    <a:pt x="2043" y="2365"/>
                  </a:lnTo>
                  <a:lnTo>
                    <a:pt x="2028" y="2378"/>
                  </a:lnTo>
                  <a:lnTo>
                    <a:pt x="2011" y="2398"/>
                  </a:lnTo>
                  <a:lnTo>
                    <a:pt x="1993" y="2422"/>
                  </a:lnTo>
                  <a:lnTo>
                    <a:pt x="1976" y="2447"/>
                  </a:lnTo>
                  <a:lnTo>
                    <a:pt x="1961" y="2470"/>
                  </a:lnTo>
                  <a:lnTo>
                    <a:pt x="1946" y="2492"/>
                  </a:lnTo>
                  <a:lnTo>
                    <a:pt x="1933" y="2512"/>
                  </a:lnTo>
                  <a:lnTo>
                    <a:pt x="1923" y="2528"/>
                  </a:lnTo>
                  <a:lnTo>
                    <a:pt x="1913" y="2542"/>
                  </a:lnTo>
                  <a:lnTo>
                    <a:pt x="1904" y="2552"/>
                  </a:lnTo>
                  <a:lnTo>
                    <a:pt x="1898" y="2558"/>
                  </a:lnTo>
                  <a:lnTo>
                    <a:pt x="1891" y="2563"/>
                  </a:lnTo>
                  <a:lnTo>
                    <a:pt x="1884" y="2568"/>
                  </a:lnTo>
                  <a:lnTo>
                    <a:pt x="1874" y="2573"/>
                  </a:lnTo>
                  <a:lnTo>
                    <a:pt x="1864" y="2575"/>
                  </a:lnTo>
                  <a:lnTo>
                    <a:pt x="1853" y="2577"/>
                  </a:lnTo>
                  <a:lnTo>
                    <a:pt x="1843" y="2577"/>
                  </a:lnTo>
                  <a:lnTo>
                    <a:pt x="1833" y="2573"/>
                  </a:lnTo>
                  <a:lnTo>
                    <a:pt x="1823" y="2568"/>
                  </a:lnTo>
                  <a:lnTo>
                    <a:pt x="1814" y="2562"/>
                  </a:lnTo>
                  <a:lnTo>
                    <a:pt x="1806" y="2553"/>
                  </a:lnTo>
                  <a:lnTo>
                    <a:pt x="1799" y="2547"/>
                  </a:lnTo>
                  <a:lnTo>
                    <a:pt x="1794" y="2538"/>
                  </a:lnTo>
                  <a:lnTo>
                    <a:pt x="1787" y="2533"/>
                  </a:lnTo>
                  <a:lnTo>
                    <a:pt x="1781" y="2530"/>
                  </a:lnTo>
                  <a:lnTo>
                    <a:pt x="1772" y="2528"/>
                  </a:lnTo>
                  <a:lnTo>
                    <a:pt x="1764" y="2530"/>
                  </a:lnTo>
                  <a:lnTo>
                    <a:pt x="1752" y="2533"/>
                  </a:lnTo>
                  <a:lnTo>
                    <a:pt x="1739" y="2535"/>
                  </a:lnTo>
                  <a:lnTo>
                    <a:pt x="1722" y="2535"/>
                  </a:lnTo>
                  <a:lnTo>
                    <a:pt x="1704" y="2535"/>
                  </a:lnTo>
                  <a:lnTo>
                    <a:pt x="1684" y="2535"/>
                  </a:lnTo>
                  <a:lnTo>
                    <a:pt x="1666" y="2533"/>
                  </a:lnTo>
                  <a:lnTo>
                    <a:pt x="1647" y="2532"/>
                  </a:lnTo>
                  <a:lnTo>
                    <a:pt x="1632" y="2530"/>
                  </a:lnTo>
                  <a:lnTo>
                    <a:pt x="1617" y="2528"/>
                  </a:lnTo>
                  <a:lnTo>
                    <a:pt x="1602" y="2525"/>
                  </a:lnTo>
                  <a:lnTo>
                    <a:pt x="1589" y="2520"/>
                  </a:lnTo>
                  <a:lnTo>
                    <a:pt x="1574" y="2517"/>
                  </a:lnTo>
                  <a:lnTo>
                    <a:pt x="1561" y="2513"/>
                  </a:lnTo>
                  <a:lnTo>
                    <a:pt x="1549" y="2510"/>
                  </a:lnTo>
                  <a:lnTo>
                    <a:pt x="1537" y="2507"/>
                  </a:lnTo>
                  <a:lnTo>
                    <a:pt x="1527" y="2507"/>
                  </a:lnTo>
                  <a:lnTo>
                    <a:pt x="1514" y="2507"/>
                  </a:lnTo>
                  <a:lnTo>
                    <a:pt x="1492" y="2507"/>
                  </a:lnTo>
                  <a:lnTo>
                    <a:pt x="1466" y="2508"/>
                  </a:lnTo>
                  <a:lnTo>
                    <a:pt x="1436" y="2508"/>
                  </a:lnTo>
                  <a:lnTo>
                    <a:pt x="1409" y="2510"/>
                  </a:lnTo>
                  <a:lnTo>
                    <a:pt x="1386" y="2512"/>
                  </a:lnTo>
                  <a:lnTo>
                    <a:pt x="1369" y="2512"/>
                  </a:lnTo>
                  <a:lnTo>
                    <a:pt x="1362" y="2512"/>
                  </a:lnTo>
                  <a:lnTo>
                    <a:pt x="1361" y="2513"/>
                  </a:lnTo>
                  <a:lnTo>
                    <a:pt x="1356" y="2515"/>
                  </a:lnTo>
                  <a:lnTo>
                    <a:pt x="1349" y="2518"/>
                  </a:lnTo>
                  <a:lnTo>
                    <a:pt x="1339" y="2520"/>
                  </a:lnTo>
                  <a:lnTo>
                    <a:pt x="1329" y="2522"/>
                  </a:lnTo>
                  <a:lnTo>
                    <a:pt x="1317" y="2522"/>
                  </a:lnTo>
                  <a:lnTo>
                    <a:pt x="1304" y="2518"/>
                  </a:lnTo>
                  <a:lnTo>
                    <a:pt x="1292" y="2512"/>
                  </a:lnTo>
                  <a:lnTo>
                    <a:pt x="1281" y="2503"/>
                  </a:lnTo>
                  <a:lnTo>
                    <a:pt x="1272" y="2497"/>
                  </a:lnTo>
                  <a:lnTo>
                    <a:pt x="1266" y="2490"/>
                  </a:lnTo>
                  <a:lnTo>
                    <a:pt x="1261" y="2485"/>
                  </a:lnTo>
                  <a:lnTo>
                    <a:pt x="1256" y="2482"/>
                  </a:lnTo>
                  <a:lnTo>
                    <a:pt x="1250" y="2480"/>
                  </a:lnTo>
                  <a:lnTo>
                    <a:pt x="1245" y="2480"/>
                  </a:lnTo>
                  <a:lnTo>
                    <a:pt x="1239" y="2483"/>
                  </a:lnTo>
                  <a:lnTo>
                    <a:pt x="1232" y="2490"/>
                  </a:lnTo>
                  <a:lnTo>
                    <a:pt x="1235" y="2498"/>
                  </a:lnTo>
                  <a:lnTo>
                    <a:pt x="1240" y="2510"/>
                  </a:lnTo>
                  <a:lnTo>
                    <a:pt x="1239" y="2525"/>
                  </a:lnTo>
                  <a:lnTo>
                    <a:pt x="1234" y="2545"/>
                  </a:lnTo>
                  <a:lnTo>
                    <a:pt x="1232" y="2567"/>
                  </a:lnTo>
                  <a:lnTo>
                    <a:pt x="1234" y="2587"/>
                  </a:lnTo>
                  <a:lnTo>
                    <a:pt x="1234" y="2602"/>
                  </a:lnTo>
                  <a:lnTo>
                    <a:pt x="1230" y="2615"/>
                  </a:lnTo>
                  <a:lnTo>
                    <a:pt x="1225" y="2630"/>
                  </a:lnTo>
                  <a:lnTo>
                    <a:pt x="1219" y="2643"/>
                  </a:lnTo>
                  <a:lnTo>
                    <a:pt x="1215" y="2648"/>
                  </a:lnTo>
                  <a:lnTo>
                    <a:pt x="1177" y="2678"/>
                  </a:lnTo>
                  <a:lnTo>
                    <a:pt x="1175" y="2672"/>
                  </a:lnTo>
                  <a:lnTo>
                    <a:pt x="1170" y="2657"/>
                  </a:lnTo>
                  <a:lnTo>
                    <a:pt x="1167" y="2640"/>
                  </a:lnTo>
                  <a:lnTo>
                    <a:pt x="1167" y="2625"/>
                  </a:lnTo>
                  <a:lnTo>
                    <a:pt x="1167" y="2613"/>
                  </a:lnTo>
                  <a:lnTo>
                    <a:pt x="1164" y="2598"/>
                  </a:lnTo>
                  <a:lnTo>
                    <a:pt x="1154" y="2583"/>
                  </a:lnTo>
                  <a:lnTo>
                    <a:pt x="1144" y="2568"/>
                  </a:lnTo>
                  <a:lnTo>
                    <a:pt x="1134" y="2555"/>
                  </a:lnTo>
                  <a:lnTo>
                    <a:pt x="1124" y="2543"/>
                  </a:lnTo>
                  <a:lnTo>
                    <a:pt x="1115" y="2532"/>
                  </a:lnTo>
                  <a:lnTo>
                    <a:pt x="1110" y="2522"/>
                  </a:lnTo>
                  <a:lnTo>
                    <a:pt x="1107" y="2508"/>
                  </a:lnTo>
                  <a:lnTo>
                    <a:pt x="1104" y="2492"/>
                  </a:lnTo>
                  <a:lnTo>
                    <a:pt x="1095" y="2475"/>
                  </a:lnTo>
                  <a:lnTo>
                    <a:pt x="1082" y="2458"/>
                  </a:lnTo>
                  <a:lnTo>
                    <a:pt x="1072" y="2450"/>
                  </a:lnTo>
                  <a:lnTo>
                    <a:pt x="1059" y="2437"/>
                  </a:lnTo>
                  <a:lnTo>
                    <a:pt x="1044" y="2423"/>
                  </a:lnTo>
                  <a:lnTo>
                    <a:pt x="1029" y="2405"/>
                  </a:lnTo>
                  <a:lnTo>
                    <a:pt x="1014" y="2387"/>
                  </a:lnTo>
                  <a:lnTo>
                    <a:pt x="999" y="2368"/>
                  </a:lnTo>
                  <a:lnTo>
                    <a:pt x="987" y="2350"/>
                  </a:lnTo>
                  <a:lnTo>
                    <a:pt x="979" y="2332"/>
                  </a:lnTo>
                  <a:lnTo>
                    <a:pt x="964" y="2302"/>
                  </a:lnTo>
                  <a:lnTo>
                    <a:pt x="949" y="2280"/>
                  </a:lnTo>
                  <a:lnTo>
                    <a:pt x="937" y="2263"/>
                  </a:lnTo>
                  <a:lnTo>
                    <a:pt x="930" y="2245"/>
                  </a:lnTo>
                  <a:lnTo>
                    <a:pt x="927" y="2231"/>
                  </a:lnTo>
                  <a:lnTo>
                    <a:pt x="920" y="2211"/>
                  </a:lnTo>
                  <a:lnTo>
                    <a:pt x="910" y="2190"/>
                  </a:lnTo>
                  <a:lnTo>
                    <a:pt x="900" y="2166"/>
                  </a:lnTo>
                  <a:lnTo>
                    <a:pt x="890" y="2143"/>
                  </a:lnTo>
                  <a:lnTo>
                    <a:pt x="880" y="2123"/>
                  </a:lnTo>
                  <a:lnTo>
                    <a:pt x="870" y="2108"/>
                  </a:lnTo>
                  <a:lnTo>
                    <a:pt x="864" y="2098"/>
                  </a:lnTo>
                  <a:lnTo>
                    <a:pt x="854" y="2085"/>
                  </a:lnTo>
                  <a:lnTo>
                    <a:pt x="845" y="2071"/>
                  </a:lnTo>
                  <a:lnTo>
                    <a:pt x="834" y="2056"/>
                  </a:lnTo>
                  <a:lnTo>
                    <a:pt x="822" y="2041"/>
                  </a:lnTo>
                  <a:lnTo>
                    <a:pt x="814" y="2033"/>
                  </a:lnTo>
                  <a:lnTo>
                    <a:pt x="802" y="2025"/>
                  </a:lnTo>
                  <a:lnTo>
                    <a:pt x="790" y="2018"/>
                  </a:lnTo>
                  <a:lnTo>
                    <a:pt x="779" y="2010"/>
                  </a:lnTo>
                  <a:lnTo>
                    <a:pt x="765" y="2003"/>
                  </a:lnTo>
                  <a:lnTo>
                    <a:pt x="752" y="1998"/>
                  </a:lnTo>
                  <a:lnTo>
                    <a:pt x="740" y="1995"/>
                  </a:lnTo>
                  <a:lnTo>
                    <a:pt x="730" y="1993"/>
                  </a:lnTo>
                  <a:lnTo>
                    <a:pt x="722" y="1991"/>
                  </a:lnTo>
                  <a:lnTo>
                    <a:pt x="717" y="1988"/>
                  </a:lnTo>
                  <a:lnTo>
                    <a:pt x="710" y="1983"/>
                  </a:lnTo>
                  <a:lnTo>
                    <a:pt x="705" y="1975"/>
                  </a:lnTo>
                  <a:lnTo>
                    <a:pt x="700" y="1966"/>
                  </a:lnTo>
                  <a:lnTo>
                    <a:pt x="693" y="1953"/>
                  </a:lnTo>
                  <a:lnTo>
                    <a:pt x="685" y="1940"/>
                  </a:lnTo>
                  <a:lnTo>
                    <a:pt x="673" y="1923"/>
                  </a:lnTo>
                  <a:lnTo>
                    <a:pt x="662" y="1905"/>
                  </a:lnTo>
                  <a:lnTo>
                    <a:pt x="652" y="1886"/>
                  </a:lnTo>
                  <a:lnTo>
                    <a:pt x="642" y="1868"/>
                  </a:lnTo>
                  <a:lnTo>
                    <a:pt x="635" y="1851"/>
                  </a:lnTo>
                  <a:lnTo>
                    <a:pt x="628" y="1833"/>
                  </a:lnTo>
                  <a:lnTo>
                    <a:pt x="623" y="1818"/>
                  </a:lnTo>
                  <a:lnTo>
                    <a:pt x="620" y="1803"/>
                  </a:lnTo>
                  <a:lnTo>
                    <a:pt x="617" y="1790"/>
                  </a:lnTo>
                  <a:lnTo>
                    <a:pt x="612" y="1765"/>
                  </a:lnTo>
                  <a:lnTo>
                    <a:pt x="603" y="1741"/>
                  </a:lnTo>
                  <a:lnTo>
                    <a:pt x="597" y="1724"/>
                  </a:lnTo>
                  <a:lnTo>
                    <a:pt x="593" y="1718"/>
                  </a:lnTo>
                  <a:lnTo>
                    <a:pt x="600" y="1706"/>
                  </a:lnTo>
                  <a:lnTo>
                    <a:pt x="610" y="1676"/>
                  </a:lnTo>
                  <a:lnTo>
                    <a:pt x="617" y="1636"/>
                  </a:lnTo>
                  <a:lnTo>
                    <a:pt x="607" y="1594"/>
                  </a:lnTo>
                  <a:lnTo>
                    <a:pt x="590" y="1559"/>
                  </a:lnTo>
                  <a:lnTo>
                    <a:pt x="582" y="1531"/>
                  </a:lnTo>
                  <a:lnTo>
                    <a:pt x="573" y="1503"/>
                  </a:lnTo>
                  <a:lnTo>
                    <a:pt x="560" y="1471"/>
                  </a:lnTo>
                  <a:lnTo>
                    <a:pt x="552" y="1454"/>
                  </a:lnTo>
                  <a:lnTo>
                    <a:pt x="547" y="1439"/>
                  </a:lnTo>
                  <a:lnTo>
                    <a:pt x="542" y="1426"/>
                  </a:lnTo>
                  <a:lnTo>
                    <a:pt x="537" y="1413"/>
                  </a:lnTo>
                  <a:lnTo>
                    <a:pt x="532" y="1401"/>
                  </a:lnTo>
                  <a:lnTo>
                    <a:pt x="525" y="1393"/>
                  </a:lnTo>
                  <a:lnTo>
                    <a:pt x="518" y="1383"/>
                  </a:lnTo>
                  <a:lnTo>
                    <a:pt x="508" y="1376"/>
                  </a:lnTo>
                  <a:lnTo>
                    <a:pt x="497" y="1369"/>
                  </a:lnTo>
                  <a:lnTo>
                    <a:pt x="487" y="1361"/>
                  </a:lnTo>
                  <a:lnTo>
                    <a:pt x="475" y="1354"/>
                  </a:lnTo>
                  <a:lnTo>
                    <a:pt x="463" y="1346"/>
                  </a:lnTo>
                  <a:lnTo>
                    <a:pt x="452" y="1338"/>
                  </a:lnTo>
                  <a:lnTo>
                    <a:pt x="440" y="1329"/>
                  </a:lnTo>
                  <a:lnTo>
                    <a:pt x="427" y="1323"/>
                  </a:lnTo>
                  <a:lnTo>
                    <a:pt x="413" y="1316"/>
                  </a:lnTo>
                  <a:lnTo>
                    <a:pt x="392" y="1303"/>
                  </a:lnTo>
                  <a:lnTo>
                    <a:pt x="382" y="1286"/>
                  </a:lnTo>
                  <a:lnTo>
                    <a:pt x="375" y="1268"/>
                  </a:lnTo>
                  <a:lnTo>
                    <a:pt x="365" y="1249"/>
                  </a:lnTo>
                  <a:lnTo>
                    <a:pt x="355" y="1232"/>
                  </a:lnTo>
                  <a:lnTo>
                    <a:pt x="348" y="1219"/>
                  </a:lnTo>
                  <a:lnTo>
                    <a:pt x="347" y="1209"/>
                  </a:lnTo>
                  <a:lnTo>
                    <a:pt x="347" y="1206"/>
                  </a:lnTo>
                  <a:lnTo>
                    <a:pt x="348" y="1206"/>
                  </a:lnTo>
                  <a:lnTo>
                    <a:pt x="353" y="1204"/>
                  </a:lnTo>
                  <a:lnTo>
                    <a:pt x="360" y="1201"/>
                  </a:lnTo>
                  <a:lnTo>
                    <a:pt x="367" y="1194"/>
                  </a:lnTo>
                  <a:lnTo>
                    <a:pt x="370" y="1187"/>
                  </a:lnTo>
                  <a:lnTo>
                    <a:pt x="370" y="1176"/>
                  </a:lnTo>
                  <a:lnTo>
                    <a:pt x="365" y="1162"/>
                  </a:lnTo>
                  <a:lnTo>
                    <a:pt x="352" y="1144"/>
                  </a:lnTo>
                  <a:lnTo>
                    <a:pt x="330" y="1122"/>
                  </a:lnTo>
                  <a:lnTo>
                    <a:pt x="327" y="1122"/>
                  </a:lnTo>
                  <a:lnTo>
                    <a:pt x="330" y="1126"/>
                  </a:lnTo>
                  <a:lnTo>
                    <a:pt x="327" y="1112"/>
                  </a:lnTo>
                  <a:lnTo>
                    <a:pt x="320" y="1091"/>
                  </a:lnTo>
                  <a:lnTo>
                    <a:pt x="315" y="1076"/>
                  </a:lnTo>
                  <a:lnTo>
                    <a:pt x="308" y="1066"/>
                  </a:lnTo>
                  <a:lnTo>
                    <a:pt x="293" y="1054"/>
                  </a:lnTo>
                  <a:lnTo>
                    <a:pt x="283" y="1039"/>
                  </a:lnTo>
                  <a:lnTo>
                    <a:pt x="285" y="1024"/>
                  </a:lnTo>
                  <a:lnTo>
                    <a:pt x="287" y="1011"/>
                  </a:lnTo>
                  <a:lnTo>
                    <a:pt x="275" y="997"/>
                  </a:lnTo>
                  <a:lnTo>
                    <a:pt x="257" y="986"/>
                  </a:lnTo>
                  <a:lnTo>
                    <a:pt x="243" y="971"/>
                  </a:lnTo>
                  <a:lnTo>
                    <a:pt x="235" y="954"/>
                  </a:lnTo>
                  <a:lnTo>
                    <a:pt x="232" y="936"/>
                  </a:lnTo>
                  <a:lnTo>
                    <a:pt x="228" y="916"/>
                  </a:lnTo>
                  <a:lnTo>
                    <a:pt x="218" y="889"/>
                  </a:lnTo>
                  <a:lnTo>
                    <a:pt x="205" y="862"/>
                  </a:lnTo>
                  <a:lnTo>
                    <a:pt x="185" y="836"/>
                  </a:lnTo>
                  <a:lnTo>
                    <a:pt x="172" y="814"/>
                  </a:lnTo>
                  <a:lnTo>
                    <a:pt x="168" y="796"/>
                  </a:lnTo>
                  <a:lnTo>
                    <a:pt x="167" y="782"/>
                  </a:lnTo>
                  <a:lnTo>
                    <a:pt x="157" y="774"/>
                  </a:lnTo>
                  <a:lnTo>
                    <a:pt x="145" y="766"/>
                  </a:lnTo>
                  <a:lnTo>
                    <a:pt x="140" y="754"/>
                  </a:lnTo>
                  <a:lnTo>
                    <a:pt x="133" y="739"/>
                  </a:lnTo>
                  <a:lnTo>
                    <a:pt x="118" y="722"/>
                  </a:lnTo>
                  <a:lnTo>
                    <a:pt x="100" y="700"/>
                  </a:lnTo>
                  <a:lnTo>
                    <a:pt x="86" y="674"/>
                  </a:lnTo>
                  <a:lnTo>
                    <a:pt x="78" y="652"/>
                  </a:lnTo>
                  <a:lnTo>
                    <a:pt x="75" y="642"/>
                  </a:lnTo>
                  <a:lnTo>
                    <a:pt x="70" y="642"/>
                  </a:lnTo>
                  <a:lnTo>
                    <a:pt x="60" y="642"/>
                  </a:lnTo>
                  <a:lnTo>
                    <a:pt x="45" y="642"/>
                  </a:lnTo>
                  <a:lnTo>
                    <a:pt x="33" y="642"/>
                  </a:lnTo>
                  <a:lnTo>
                    <a:pt x="21" y="642"/>
                  </a:lnTo>
                  <a:lnTo>
                    <a:pt x="11" y="644"/>
                  </a:lnTo>
                  <a:lnTo>
                    <a:pt x="3" y="645"/>
                  </a:lnTo>
                  <a:lnTo>
                    <a:pt x="0" y="645"/>
                  </a:lnTo>
                  <a:lnTo>
                    <a:pt x="1" y="642"/>
                  </a:lnTo>
                  <a:lnTo>
                    <a:pt x="5" y="632"/>
                  </a:lnTo>
                  <a:lnTo>
                    <a:pt x="8" y="620"/>
                  </a:lnTo>
                  <a:lnTo>
                    <a:pt x="13" y="609"/>
                  </a:lnTo>
                  <a:lnTo>
                    <a:pt x="20" y="592"/>
                  </a:lnTo>
                  <a:lnTo>
                    <a:pt x="28" y="569"/>
                  </a:lnTo>
                  <a:lnTo>
                    <a:pt x="35" y="542"/>
                  </a:lnTo>
                  <a:lnTo>
                    <a:pt x="38" y="517"/>
                  </a:lnTo>
                  <a:lnTo>
                    <a:pt x="40" y="500"/>
                  </a:lnTo>
                  <a:lnTo>
                    <a:pt x="43" y="489"/>
                  </a:lnTo>
                  <a:lnTo>
                    <a:pt x="50" y="480"/>
                  </a:lnTo>
                  <a:lnTo>
                    <a:pt x="56" y="470"/>
                  </a:lnTo>
                  <a:lnTo>
                    <a:pt x="61" y="457"/>
                  </a:lnTo>
                  <a:lnTo>
                    <a:pt x="65" y="442"/>
                  </a:lnTo>
                  <a:lnTo>
                    <a:pt x="66" y="429"/>
                  </a:lnTo>
                  <a:lnTo>
                    <a:pt x="66" y="424"/>
                  </a:lnTo>
                  <a:lnTo>
                    <a:pt x="232" y="465"/>
                  </a:lnTo>
                  <a:lnTo>
                    <a:pt x="235" y="464"/>
                  </a:lnTo>
                  <a:lnTo>
                    <a:pt x="243" y="457"/>
                  </a:lnTo>
                  <a:lnTo>
                    <a:pt x="257" y="450"/>
                  </a:lnTo>
                  <a:lnTo>
                    <a:pt x="270" y="439"/>
                  </a:lnTo>
                  <a:lnTo>
                    <a:pt x="285" y="429"/>
                  </a:lnTo>
                  <a:lnTo>
                    <a:pt x="298" y="417"/>
                  </a:lnTo>
                  <a:lnTo>
                    <a:pt x="308" y="407"/>
                  </a:lnTo>
                  <a:lnTo>
                    <a:pt x="313" y="399"/>
                  </a:lnTo>
                  <a:lnTo>
                    <a:pt x="318" y="384"/>
                  </a:lnTo>
                  <a:lnTo>
                    <a:pt x="325" y="369"/>
                  </a:lnTo>
                  <a:lnTo>
                    <a:pt x="330" y="357"/>
                  </a:lnTo>
                  <a:lnTo>
                    <a:pt x="332" y="352"/>
                  </a:lnTo>
                  <a:lnTo>
                    <a:pt x="335" y="352"/>
                  </a:lnTo>
                  <a:lnTo>
                    <a:pt x="342" y="352"/>
                  </a:lnTo>
                  <a:lnTo>
                    <a:pt x="353" y="352"/>
                  </a:lnTo>
                  <a:lnTo>
                    <a:pt x="367" y="350"/>
                  </a:lnTo>
                  <a:lnTo>
                    <a:pt x="382" y="350"/>
                  </a:lnTo>
                  <a:lnTo>
                    <a:pt x="398" y="347"/>
                  </a:lnTo>
                  <a:lnTo>
                    <a:pt x="413" y="345"/>
                  </a:lnTo>
                  <a:lnTo>
                    <a:pt x="427" y="342"/>
                  </a:lnTo>
                  <a:lnTo>
                    <a:pt x="438" y="337"/>
                  </a:lnTo>
                  <a:lnTo>
                    <a:pt x="447" y="329"/>
                  </a:lnTo>
                  <a:lnTo>
                    <a:pt x="455" y="319"/>
                  </a:lnTo>
                  <a:lnTo>
                    <a:pt x="462" y="309"/>
                  </a:lnTo>
                  <a:lnTo>
                    <a:pt x="468" y="299"/>
                  </a:lnTo>
                  <a:lnTo>
                    <a:pt x="475" y="290"/>
                  </a:lnTo>
                  <a:lnTo>
                    <a:pt x="483" y="284"/>
                  </a:lnTo>
                  <a:lnTo>
                    <a:pt x="493" y="280"/>
                  </a:lnTo>
                  <a:lnTo>
                    <a:pt x="508" y="275"/>
                  </a:lnTo>
                  <a:lnTo>
                    <a:pt x="513" y="269"/>
                  </a:lnTo>
                  <a:lnTo>
                    <a:pt x="513" y="264"/>
                  </a:lnTo>
                  <a:lnTo>
                    <a:pt x="512" y="262"/>
                  </a:lnTo>
                  <a:lnTo>
                    <a:pt x="380" y="90"/>
                  </a:lnTo>
                  <a:close/>
                </a:path>
              </a:pathLst>
            </a:custGeom>
            <a:solidFill>
              <a:srgbClr val="b2b2b2">
                <a:alpha val="30000"/>
              </a:srgbClr>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358" name="PlaceHolder 1"/>
          <p:cNvSpPr>
            <a:spLocks noGrp="1"/>
          </p:cNvSpPr>
          <p:nvPr>
            <p:ph/>
          </p:nvPr>
        </p:nvSpPr>
        <p:spPr>
          <a:xfrm>
            <a:off x="990360" y="1295280"/>
            <a:ext cx="7467480" cy="4525920"/>
          </a:xfrm>
          <a:prstGeom prst="rect">
            <a:avLst/>
          </a:prstGeom>
          <a:noFill/>
          <a:ln w="0">
            <a:noFill/>
          </a:ln>
        </p:spPr>
        <p:txBody>
          <a:bodyPr lIns="90000" rIns="90000" tIns="46800" bIns="46800" anchor="t">
            <a:normAutofit fontScale="97000"/>
          </a:bodyPr>
          <a:p>
            <a:pPr marL="330840" indent="-330840">
              <a:lnSpc>
                <a:spcPct val="90000"/>
              </a:lnSpc>
              <a:spcBef>
                <a:spcPts val="601"/>
              </a:spcBef>
              <a:buClr>
                <a:srgbClr val="333399"/>
              </a:buClr>
              <a:buFont typeface="Albertus Medium"/>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333399"/>
                </a:solidFill>
                <a:latin typeface="Albertus Medium"/>
              </a:rPr>
              <a:t>The total over the counter skin care market is estimated to be $12 Billion treatment of face alone account for 7$ Billion in USA with about 5% annual growth.</a:t>
            </a:r>
            <a:endParaRPr b="0" lang="en-US" sz="2400" spc="-1" strike="noStrike">
              <a:solidFill>
                <a:srgbClr val="000000"/>
              </a:solidFill>
              <a:latin typeface="Arial"/>
            </a:endParaRPr>
          </a:p>
          <a:p>
            <a:pPr marL="330840" indent="0">
              <a:lnSpc>
                <a:spcPct val="9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000000"/>
              </a:solidFill>
              <a:latin typeface="Arial"/>
            </a:endParaRPr>
          </a:p>
          <a:p>
            <a:pPr marL="330840" indent="-330840">
              <a:lnSpc>
                <a:spcPct val="90000"/>
              </a:lnSpc>
              <a:spcBef>
                <a:spcPts val="601"/>
              </a:spcBef>
              <a:buClr>
                <a:srgbClr val="333399"/>
              </a:buClr>
              <a:buFont typeface="Albertus Medium"/>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333399"/>
                </a:solidFill>
                <a:latin typeface="Albertus Medium"/>
              </a:rPr>
              <a:t>Cosmetic companies like L'Oréal devotes about $600 million of its annual $17 billion revenues to research, is the industry leader on nanopatents.</a:t>
            </a:r>
            <a:endParaRPr b="0" lang="en-US" sz="2400" spc="-1" strike="noStrike">
              <a:solidFill>
                <a:srgbClr val="000000"/>
              </a:solidFill>
              <a:latin typeface="Arial"/>
            </a:endParaRPr>
          </a:p>
          <a:p>
            <a:pPr marL="330840" indent="0">
              <a:lnSpc>
                <a:spcPct val="9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000000"/>
              </a:solidFill>
              <a:latin typeface="Arial"/>
            </a:endParaRPr>
          </a:p>
          <a:p>
            <a:pPr marL="330840" indent="-330840">
              <a:lnSpc>
                <a:spcPct val="90000"/>
              </a:lnSpc>
              <a:spcBef>
                <a:spcPts val="601"/>
              </a:spcBef>
              <a:buClr>
                <a:srgbClr val="333399"/>
              </a:buClr>
              <a:buFont typeface="Albertus Medium"/>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333399"/>
                </a:solidFill>
                <a:latin typeface="Albertus Medium"/>
              </a:rPr>
              <a:t>Some believe a coming boom in nanotechnology stocks with estimates floating around of about 1-2 trillion-dollar industry in all field within 10 years.</a:t>
            </a:r>
            <a:endParaRPr b="0" lang="en-US" sz="2400" spc="-1" strike="noStrike">
              <a:solidFill>
                <a:srgbClr val="000000"/>
              </a:solidFill>
              <a:latin typeface="Arial"/>
            </a:endParaRPr>
          </a:p>
          <a:p>
            <a:pPr marL="330840" indent="0">
              <a:lnSpc>
                <a:spcPct val="9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000000"/>
              </a:solidFill>
              <a:latin typeface="Arial"/>
            </a:endParaRPr>
          </a:p>
        </p:txBody>
      </p:sp>
      <p:sp>
        <p:nvSpPr>
          <p:cNvPr id="359" name=""/>
          <p:cNvSpPr/>
          <p:nvPr/>
        </p:nvSpPr>
        <p:spPr>
          <a:xfrm>
            <a:off x="609480" y="6629400"/>
            <a:ext cx="8534520" cy="228600"/>
          </a:xfrm>
          <a:prstGeom prst="rect">
            <a:avLst/>
          </a:prstGeom>
          <a:solidFill>
            <a:srgbClr val="bbe0e3"/>
          </a:solidFill>
          <a:ln cap="sq"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99"/>
                </a:solidFill>
                <a:latin typeface="Albertus Medium"/>
              </a:rPr>
              <a:t>www.skinandallergy.org</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0" lang="en-US" sz="1000" spc="-1" strike="noStrike">
                <a:solidFill>
                  <a:srgbClr val="333399"/>
                </a:solidFill>
                <a:latin typeface="Albertus Medium"/>
              </a:rPr>
              <a:t>www.panarabderm.org</a:t>
            </a:r>
            <a:endParaRPr b="0" lang="en-US" sz="10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60" name="" descr=""/>
          <p:cNvPicPr/>
          <p:nvPr/>
        </p:nvPicPr>
        <p:blipFill>
          <a:blip r:embed="rId2"/>
          <a:stretch/>
        </p:blipFill>
        <p:spPr>
          <a:xfrm>
            <a:off x="8153280" y="74520"/>
            <a:ext cx="922320" cy="992160"/>
          </a:xfrm>
          <a:prstGeom prst="rect">
            <a:avLst/>
          </a:prstGeom>
          <a:ln w="0">
            <a:noFill/>
          </a:ln>
        </p:spPr>
      </p:pic>
      <p:sp>
        <p:nvSpPr>
          <p:cNvPr id="361" name=""/>
          <p:cNvSpPr/>
          <p:nvPr/>
        </p:nvSpPr>
        <p:spPr>
          <a:xfrm>
            <a:off x="1295280" y="1066680"/>
            <a:ext cx="6193080" cy="1800"/>
          </a:xfrm>
          <a:prstGeom prst="line">
            <a:avLst/>
          </a:prstGeom>
          <a:ln cap="sq" w="12600">
            <a:solidFill>
              <a:srgbClr val="b2b2b2"/>
            </a:solidFill>
            <a:miter/>
          </a:ln>
        </p:spPr>
        <p:style>
          <a:lnRef idx="0"/>
          <a:fillRef idx="0"/>
          <a:effectRef idx="0"/>
          <a:fontRef idx="minor"/>
        </p:style>
        <p:txBody>
          <a:bodyPr lIns="90000" rIns="90000" tIns="-45000" bIns="-45000" anchor="t">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362" name="" descr=""/>
          <p:cNvPicPr/>
          <p:nvPr/>
        </p:nvPicPr>
        <p:blipFill>
          <a:blip r:embed="rId3"/>
          <a:stretch/>
        </p:blipFill>
        <p:spPr>
          <a:xfrm>
            <a:off x="0" y="0"/>
            <a:ext cx="600120" cy="6858000"/>
          </a:xfrm>
          <a:prstGeom prst="rect">
            <a:avLst/>
          </a:prstGeom>
          <a:ln w="0">
            <a:noFill/>
          </a:ln>
        </p:spPr>
      </p:pic>
      <p:pic>
        <p:nvPicPr>
          <p:cNvPr id="363" name="" descr=""/>
          <p:cNvPicPr/>
          <p:nvPr/>
        </p:nvPicPr>
        <p:blipFill>
          <a:blip r:embed="rId4"/>
          <a:stretch/>
        </p:blipFill>
        <p:spPr>
          <a:xfrm>
            <a:off x="4859280" y="1838160"/>
            <a:ext cx="3672000" cy="3527640"/>
          </a:xfrm>
          <a:prstGeom prst="rect">
            <a:avLst/>
          </a:prstGeom>
          <a:ln w="0">
            <a:noFill/>
          </a:ln>
        </p:spPr>
      </p:pic>
      <p:sp>
        <p:nvSpPr>
          <p:cNvPr id="364" name=""/>
          <p:cNvSpPr/>
          <p:nvPr/>
        </p:nvSpPr>
        <p:spPr>
          <a:xfrm>
            <a:off x="1219320" y="5486400"/>
            <a:ext cx="6913440" cy="1054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100" spc="-1" strike="noStrike">
                <a:solidFill>
                  <a:srgbClr val="333399"/>
                </a:solidFill>
                <a:latin typeface="Albertus Medium"/>
              </a:rPr>
              <a:t>Computer-generated images of nanoparticles. Image courtesy Center for Biologic Nanotechnology, University of Michigan-Ann Arbor</a:t>
            </a:r>
            <a:endParaRPr b="0" lang="en-US" sz="2100" spc="-1" strike="noStrike">
              <a:solidFill>
                <a:srgbClr val="000000"/>
              </a:solidFill>
              <a:latin typeface="Arial"/>
            </a:endParaRPr>
          </a:p>
        </p:txBody>
      </p:sp>
      <p:sp>
        <p:nvSpPr>
          <p:cNvPr id="365" name=""/>
          <p:cNvSpPr/>
          <p:nvPr/>
        </p:nvSpPr>
        <p:spPr>
          <a:xfrm>
            <a:off x="1042920" y="1143000"/>
            <a:ext cx="712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333399"/>
                </a:solidFill>
                <a:latin typeface="Albertus Medium"/>
              </a:rPr>
              <a:t>The Nano products are not new</a:t>
            </a:r>
            <a:endParaRPr b="0" lang="en-US" sz="2400" spc="-1" strike="noStrike">
              <a:solidFill>
                <a:srgbClr val="000000"/>
              </a:solidFill>
              <a:latin typeface="Arial"/>
            </a:endParaRPr>
          </a:p>
        </p:txBody>
      </p:sp>
      <p:sp>
        <p:nvSpPr>
          <p:cNvPr id="366" name=""/>
          <p:cNvSpPr/>
          <p:nvPr/>
        </p:nvSpPr>
        <p:spPr>
          <a:xfrm>
            <a:off x="1187280" y="1959120"/>
            <a:ext cx="3672000" cy="3934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100" spc="-1" strike="noStrike">
                <a:solidFill>
                  <a:srgbClr val="333399"/>
                </a:solidFill>
                <a:latin typeface="Albertus Medium"/>
              </a:rPr>
              <a:t>L'Oréal researchers have been tinkering with nanotech since the 1980s. Its first nanoproducts, introduced about 19 years ago, were nanosomes, tiny capsule-like structures that transport active ingredients, such as vitamins, into the skin's outer layer, and then release them. </a:t>
            </a:r>
            <a:endParaRPr b="0" lang="en-US" sz="2100" spc="-1" strike="noStrike">
              <a:solidFill>
                <a:srgbClr val="000000"/>
              </a:solidFill>
              <a:latin typeface="Arial"/>
            </a:endParaRPr>
          </a:p>
        </p:txBody>
      </p:sp>
      <p:sp>
        <p:nvSpPr>
          <p:cNvPr id="367" name=""/>
          <p:cNvSpPr/>
          <p:nvPr/>
        </p:nvSpPr>
        <p:spPr>
          <a:xfrm>
            <a:off x="0" y="0"/>
            <a:ext cx="914400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400" spc="-1" strike="noStrike">
                <a:solidFill>
                  <a:srgbClr val="333399"/>
                </a:solidFill>
                <a:latin typeface="Albertus Medium"/>
              </a:rPr>
              <a:t>Nanotechnology in </a:t>
            </a:r>
            <a:br>
              <a:rPr sz="3400"/>
            </a:br>
            <a:r>
              <a:rPr b="1" lang="en-US" sz="3400" spc="-1" strike="noStrike">
                <a:solidFill>
                  <a:srgbClr val="333399"/>
                </a:solidFill>
                <a:latin typeface="Albertus Medium"/>
              </a:rPr>
              <a:t>Cosmetic &amp; Dermatology</a:t>
            </a:r>
            <a:endParaRPr b="0" lang="en-US" sz="3400" spc="-1" strike="noStrike">
              <a:solidFill>
                <a:srgbClr val="000000"/>
              </a:solidFill>
              <a:latin typeface="Arial"/>
            </a:endParaRPr>
          </a:p>
        </p:txBody>
      </p:sp>
      <p:sp>
        <p:nvSpPr>
          <p:cNvPr id="368" name=""/>
          <p:cNvSpPr/>
          <p:nvPr/>
        </p:nvSpPr>
        <p:spPr>
          <a:xfrm>
            <a:off x="609480" y="6629400"/>
            <a:ext cx="8534520" cy="228600"/>
          </a:xfrm>
          <a:prstGeom prst="rect">
            <a:avLst/>
          </a:prstGeom>
          <a:solidFill>
            <a:srgbClr val="bbe0e3"/>
          </a:solidFill>
          <a:ln cap="sq"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99"/>
                </a:solidFill>
                <a:latin typeface="Albertus Medium"/>
              </a:rPr>
              <a:t>www.skinandallergy.org</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0" lang="en-US" sz="1000" spc="-1" strike="noStrike">
                <a:solidFill>
                  <a:srgbClr val="333399"/>
                </a:solidFill>
                <a:latin typeface="Albertus Medium"/>
              </a:rPr>
              <a:t>www.panarabderm.org</a:t>
            </a:r>
            <a:endParaRPr b="0" lang="en-US" sz="10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69" name="" descr=""/>
          <p:cNvPicPr/>
          <p:nvPr/>
        </p:nvPicPr>
        <p:blipFill>
          <a:blip r:embed="rId2"/>
          <a:stretch/>
        </p:blipFill>
        <p:spPr>
          <a:xfrm>
            <a:off x="8153280" y="74520"/>
            <a:ext cx="922320" cy="992160"/>
          </a:xfrm>
          <a:prstGeom prst="rect">
            <a:avLst/>
          </a:prstGeom>
          <a:ln w="0">
            <a:noFill/>
          </a:ln>
        </p:spPr>
      </p:pic>
      <p:sp>
        <p:nvSpPr>
          <p:cNvPr id="370" name=""/>
          <p:cNvSpPr/>
          <p:nvPr/>
        </p:nvSpPr>
        <p:spPr>
          <a:xfrm>
            <a:off x="1295280" y="1066680"/>
            <a:ext cx="6193080" cy="1800"/>
          </a:xfrm>
          <a:prstGeom prst="line">
            <a:avLst/>
          </a:prstGeom>
          <a:ln cap="sq" w="12600">
            <a:solidFill>
              <a:srgbClr val="b2b2b2"/>
            </a:solidFill>
            <a:miter/>
          </a:ln>
        </p:spPr>
        <p:style>
          <a:lnRef idx="0"/>
          <a:fillRef idx="0"/>
          <a:effectRef idx="0"/>
          <a:fontRef idx="minor"/>
        </p:style>
        <p:txBody>
          <a:bodyPr lIns="90000" rIns="90000" tIns="-45000" bIns="-45000" anchor="t">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371" name="" descr=""/>
          <p:cNvPicPr/>
          <p:nvPr/>
        </p:nvPicPr>
        <p:blipFill>
          <a:blip r:embed="rId3"/>
          <a:stretch/>
        </p:blipFill>
        <p:spPr>
          <a:xfrm>
            <a:off x="0" y="0"/>
            <a:ext cx="600120" cy="6858000"/>
          </a:xfrm>
          <a:prstGeom prst="rect">
            <a:avLst/>
          </a:prstGeom>
          <a:ln w="0">
            <a:noFill/>
          </a:ln>
        </p:spPr>
      </p:pic>
      <p:sp>
        <p:nvSpPr>
          <p:cNvPr id="372" name=""/>
          <p:cNvSpPr/>
          <p:nvPr/>
        </p:nvSpPr>
        <p:spPr>
          <a:xfrm>
            <a:off x="0" y="0"/>
            <a:ext cx="914400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400" spc="-1" strike="noStrike">
                <a:solidFill>
                  <a:srgbClr val="333399"/>
                </a:solidFill>
                <a:latin typeface="Albertus Medium"/>
              </a:rPr>
              <a:t>Nanotechnology in </a:t>
            </a:r>
            <a:br>
              <a:rPr sz="3400"/>
            </a:br>
            <a:r>
              <a:rPr b="1" lang="en-US" sz="3400" spc="-1" strike="noStrike">
                <a:solidFill>
                  <a:srgbClr val="333399"/>
                </a:solidFill>
                <a:latin typeface="Albertus Medium"/>
              </a:rPr>
              <a:t>Cosmetic &amp; Dermatology</a:t>
            </a:r>
            <a:endParaRPr b="0" lang="en-US" sz="3400" spc="-1" strike="noStrike">
              <a:solidFill>
                <a:srgbClr val="000000"/>
              </a:solidFill>
              <a:latin typeface="Arial"/>
            </a:endParaRPr>
          </a:p>
        </p:txBody>
      </p:sp>
      <p:sp>
        <p:nvSpPr>
          <p:cNvPr id="373" name=""/>
          <p:cNvSpPr/>
          <p:nvPr/>
        </p:nvSpPr>
        <p:spPr>
          <a:xfrm>
            <a:off x="961920" y="1143000"/>
            <a:ext cx="7826400" cy="457200"/>
          </a:xfrm>
          <a:prstGeom prst="rect">
            <a:avLst/>
          </a:prstGeom>
          <a:no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333399"/>
                </a:solidFill>
                <a:latin typeface="Albertus Medium"/>
              </a:rPr>
              <a:t>Sunscreen</a:t>
            </a:r>
            <a:endParaRPr b="0" lang="en-US" sz="2800" spc="-1" strike="noStrike">
              <a:solidFill>
                <a:srgbClr val="000000"/>
              </a:solidFill>
              <a:latin typeface="Arial"/>
            </a:endParaRPr>
          </a:p>
        </p:txBody>
      </p:sp>
      <p:grpSp>
        <p:nvGrpSpPr>
          <p:cNvPr id="374" name=""/>
          <p:cNvGrpSpPr/>
          <p:nvPr/>
        </p:nvGrpSpPr>
        <p:grpSpPr>
          <a:xfrm>
            <a:off x="2639880" y="1346040"/>
            <a:ext cx="4521240" cy="3986280"/>
            <a:chOff x="2639880" y="1346040"/>
            <a:chExt cx="4521240" cy="3986280"/>
          </a:xfrm>
        </p:grpSpPr>
        <p:sp>
          <p:nvSpPr>
            <p:cNvPr id="375" name=""/>
            <p:cNvSpPr/>
            <p:nvPr/>
          </p:nvSpPr>
          <p:spPr>
            <a:xfrm>
              <a:off x="2639880" y="2319480"/>
              <a:ext cx="1721160" cy="3012840"/>
            </a:xfrm>
            <a:custGeom>
              <a:avLst/>
              <a:gdLst/>
              <a:ahLst/>
              <a:rect l="l" t="t" r="r" b="b"/>
              <a:pathLst>
                <a:path w="1261" h="2255">
                  <a:moveTo>
                    <a:pt x="1257" y="2027"/>
                  </a:moveTo>
                  <a:lnTo>
                    <a:pt x="1257" y="2015"/>
                  </a:lnTo>
                  <a:lnTo>
                    <a:pt x="1252" y="2000"/>
                  </a:lnTo>
                  <a:lnTo>
                    <a:pt x="1244" y="1985"/>
                  </a:lnTo>
                  <a:lnTo>
                    <a:pt x="1232" y="1970"/>
                  </a:lnTo>
                  <a:lnTo>
                    <a:pt x="1222" y="1956"/>
                  </a:lnTo>
                  <a:lnTo>
                    <a:pt x="1212" y="1945"/>
                  </a:lnTo>
                  <a:lnTo>
                    <a:pt x="1204" y="1933"/>
                  </a:lnTo>
                  <a:lnTo>
                    <a:pt x="1199" y="1921"/>
                  </a:lnTo>
                  <a:lnTo>
                    <a:pt x="1197" y="1910"/>
                  </a:lnTo>
                  <a:lnTo>
                    <a:pt x="1192" y="1893"/>
                  </a:lnTo>
                  <a:lnTo>
                    <a:pt x="1186" y="1876"/>
                  </a:lnTo>
                  <a:lnTo>
                    <a:pt x="1171" y="1860"/>
                  </a:lnTo>
                  <a:lnTo>
                    <a:pt x="1161" y="1851"/>
                  </a:lnTo>
                  <a:lnTo>
                    <a:pt x="1147" y="1838"/>
                  </a:lnTo>
                  <a:lnTo>
                    <a:pt x="1132" y="1823"/>
                  </a:lnTo>
                  <a:lnTo>
                    <a:pt x="1117" y="1806"/>
                  </a:lnTo>
                  <a:lnTo>
                    <a:pt x="1102" y="1788"/>
                  </a:lnTo>
                  <a:lnTo>
                    <a:pt x="1087" y="1770"/>
                  </a:lnTo>
                  <a:lnTo>
                    <a:pt x="1076" y="1750"/>
                  </a:lnTo>
                  <a:lnTo>
                    <a:pt x="1067" y="1731"/>
                  </a:lnTo>
                  <a:lnTo>
                    <a:pt x="1052" y="1703"/>
                  </a:lnTo>
                  <a:lnTo>
                    <a:pt x="1037" y="1681"/>
                  </a:lnTo>
                  <a:lnTo>
                    <a:pt x="1026" y="1665"/>
                  </a:lnTo>
                  <a:lnTo>
                    <a:pt x="1019" y="1646"/>
                  </a:lnTo>
                  <a:lnTo>
                    <a:pt x="1016" y="1633"/>
                  </a:lnTo>
                  <a:lnTo>
                    <a:pt x="1009" y="1613"/>
                  </a:lnTo>
                  <a:lnTo>
                    <a:pt x="999" y="1591"/>
                  </a:lnTo>
                  <a:lnTo>
                    <a:pt x="989" y="1568"/>
                  </a:lnTo>
                  <a:lnTo>
                    <a:pt x="979" y="1545"/>
                  </a:lnTo>
                  <a:lnTo>
                    <a:pt x="969" y="1525"/>
                  </a:lnTo>
                  <a:lnTo>
                    <a:pt x="959" y="1508"/>
                  </a:lnTo>
                  <a:lnTo>
                    <a:pt x="952" y="1499"/>
                  </a:lnTo>
                  <a:lnTo>
                    <a:pt x="942" y="1486"/>
                  </a:lnTo>
                  <a:lnTo>
                    <a:pt x="934" y="1473"/>
                  </a:lnTo>
                  <a:lnTo>
                    <a:pt x="922" y="1458"/>
                  </a:lnTo>
                  <a:lnTo>
                    <a:pt x="911" y="1443"/>
                  </a:lnTo>
                  <a:lnTo>
                    <a:pt x="902" y="1434"/>
                  </a:lnTo>
                  <a:lnTo>
                    <a:pt x="891" y="1426"/>
                  </a:lnTo>
                  <a:lnTo>
                    <a:pt x="879" y="1419"/>
                  </a:lnTo>
                  <a:lnTo>
                    <a:pt x="867" y="1411"/>
                  </a:lnTo>
                  <a:lnTo>
                    <a:pt x="854" y="1404"/>
                  </a:lnTo>
                  <a:lnTo>
                    <a:pt x="842" y="1399"/>
                  </a:lnTo>
                  <a:lnTo>
                    <a:pt x="831" y="1396"/>
                  </a:lnTo>
                  <a:lnTo>
                    <a:pt x="820" y="1394"/>
                  </a:lnTo>
                  <a:lnTo>
                    <a:pt x="812" y="1393"/>
                  </a:lnTo>
                  <a:lnTo>
                    <a:pt x="805" y="1389"/>
                  </a:lnTo>
                  <a:lnTo>
                    <a:pt x="800" y="1384"/>
                  </a:lnTo>
                  <a:lnTo>
                    <a:pt x="794" y="1376"/>
                  </a:lnTo>
                  <a:lnTo>
                    <a:pt x="789" y="1368"/>
                  </a:lnTo>
                  <a:lnTo>
                    <a:pt x="782" y="1354"/>
                  </a:lnTo>
                  <a:lnTo>
                    <a:pt x="774" y="1341"/>
                  </a:lnTo>
                  <a:lnTo>
                    <a:pt x="762" y="1324"/>
                  </a:lnTo>
                  <a:lnTo>
                    <a:pt x="750" y="1306"/>
                  </a:lnTo>
                  <a:lnTo>
                    <a:pt x="740" y="1288"/>
                  </a:lnTo>
                  <a:lnTo>
                    <a:pt x="732" y="1269"/>
                  </a:lnTo>
                  <a:lnTo>
                    <a:pt x="724" y="1253"/>
                  </a:lnTo>
                  <a:lnTo>
                    <a:pt x="717" y="1234"/>
                  </a:lnTo>
                  <a:lnTo>
                    <a:pt x="712" y="1219"/>
                  </a:lnTo>
                  <a:lnTo>
                    <a:pt x="709" y="1204"/>
                  </a:lnTo>
                  <a:lnTo>
                    <a:pt x="705" y="1191"/>
                  </a:lnTo>
                  <a:lnTo>
                    <a:pt x="700" y="1166"/>
                  </a:lnTo>
                  <a:lnTo>
                    <a:pt x="692" y="1143"/>
                  </a:lnTo>
                  <a:lnTo>
                    <a:pt x="685" y="1126"/>
                  </a:lnTo>
                  <a:lnTo>
                    <a:pt x="682" y="1119"/>
                  </a:lnTo>
                  <a:lnTo>
                    <a:pt x="689" y="1108"/>
                  </a:lnTo>
                  <a:lnTo>
                    <a:pt x="700" y="1078"/>
                  </a:lnTo>
                  <a:lnTo>
                    <a:pt x="707" y="1038"/>
                  </a:lnTo>
                  <a:lnTo>
                    <a:pt x="697" y="996"/>
                  </a:lnTo>
                  <a:lnTo>
                    <a:pt x="680" y="961"/>
                  </a:lnTo>
                  <a:lnTo>
                    <a:pt x="670" y="932"/>
                  </a:lnTo>
                  <a:lnTo>
                    <a:pt x="662" y="904"/>
                  </a:lnTo>
                  <a:lnTo>
                    <a:pt x="649" y="872"/>
                  </a:lnTo>
                  <a:lnTo>
                    <a:pt x="640" y="856"/>
                  </a:lnTo>
                  <a:lnTo>
                    <a:pt x="635" y="839"/>
                  </a:lnTo>
                  <a:lnTo>
                    <a:pt x="630" y="826"/>
                  </a:lnTo>
                  <a:lnTo>
                    <a:pt x="625" y="814"/>
                  </a:lnTo>
                  <a:lnTo>
                    <a:pt x="620" y="802"/>
                  </a:lnTo>
                  <a:lnTo>
                    <a:pt x="614" y="792"/>
                  </a:lnTo>
                  <a:lnTo>
                    <a:pt x="607" y="784"/>
                  </a:lnTo>
                  <a:lnTo>
                    <a:pt x="597" y="777"/>
                  </a:lnTo>
                  <a:lnTo>
                    <a:pt x="587" y="771"/>
                  </a:lnTo>
                  <a:lnTo>
                    <a:pt x="575" y="762"/>
                  </a:lnTo>
                  <a:lnTo>
                    <a:pt x="565" y="754"/>
                  </a:lnTo>
                  <a:lnTo>
                    <a:pt x="554" y="744"/>
                  </a:lnTo>
                  <a:lnTo>
                    <a:pt x="542" y="736"/>
                  </a:lnTo>
                  <a:lnTo>
                    <a:pt x="529" y="729"/>
                  </a:lnTo>
                  <a:lnTo>
                    <a:pt x="515" y="721"/>
                  </a:lnTo>
                  <a:lnTo>
                    <a:pt x="502" y="716"/>
                  </a:lnTo>
                  <a:lnTo>
                    <a:pt x="480" y="702"/>
                  </a:lnTo>
                  <a:lnTo>
                    <a:pt x="470" y="686"/>
                  </a:lnTo>
                  <a:lnTo>
                    <a:pt x="464" y="667"/>
                  </a:lnTo>
                  <a:lnTo>
                    <a:pt x="454" y="649"/>
                  </a:lnTo>
                  <a:lnTo>
                    <a:pt x="444" y="634"/>
                  </a:lnTo>
                  <a:lnTo>
                    <a:pt x="437" y="621"/>
                  </a:lnTo>
                  <a:lnTo>
                    <a:pt x="435" y="611"/>
                  </a:lnTo>
                  <a:lnTo>
                    <a:pt x="435" y="607"/>
                  </a:lnTo>
                  <a:lnTo>
                    <a:pt x="437" y="607"/>
                  </a:lnTo>
                  <a:lnTo>
                    <a:pt x="442" y="606"/>
                  </a:lnTo>
                  <a:lnTo>
                    <a:pt x="449" y="602"/>
                  </a:lnTo>
                  <a:lnTo>
                    <a:pt x="455" y="596"/>
                  </a:lnTo>
                  <a:lnTo>
                    <a:pt x="459" y="589"/>
                  </a:lnTo>
                  <a:lnTo>
                    <a:pt x="459" y="577"/>
                  </a:lnTo>
                  <a:lnTo>
                    <a:pt x="454" y="564"/>
                  </a:lnTo>
                  <a:lnTo>
                    <a:pt x="440" y="546"/>
                  </a:lnTo>
                  <a:lnTo>
                    <a:pt x="434" y="539"/>
                  </a:lnTo>
                  <a:lnTo>
                    <a:pt x="429" y="532"/>
                  </a:lnTo>
                  <a:lnTo>
                    <a:pt x="424" y="529"/>
                  </a:lnTo>
                  <a:lnTo>
                    <a:pt x="420" y="526"/>
                  </a:lnTo>
                  <a:lnTo>
                    <a:pt x="419" y="527"/>
                  </a:lnTo>
                  <a:lnTo>
                    <a:pt x="415" y="526"/>
                  </a:lnTo>
                  <a:lnTo>
                    <a:pt x="415" y="522"/>
                  </a:lnTo>
                  <a:lnTo>
                    <a:pt x="420" y="526"/>
                  </a:lnTo>
                  <a:lnTo>
                    <a:pt x="420" y="524"/>
                  </a:lnTo>
                  <a:lnTo>
                    <a:pt x="419" y="521"/>
                  </a:lnTo>
                  <a:lnTo>
                    <a:pt x="419" y="517"/>
                  </a:lnTo>
                  <a:lnTo>
                    <a:pt x="417" y="512"/>
                  </a:lnTo>
                  <a:lnTo>
                    <a:pt x="409" y="490"/>
                  </a:lnTo>
                  <a:lnTo>
                    <a:pt x="405" y="477"/>
                  </a:lnTo>
                  <a:lnTo>
                    <a:pt x="399" y="467"/>
                  </a:lnTo>
                  <a:lnTo>
                    <a:pt x="384" y="455"/>
                  </a:lnTo>
                  <a:lnTo>
                    <a:pt x="372" y="440"/>
                  </a:lnTo>
                  <a:lnTo>
                    <a:pt x="374" y="425"/>
                  </a:lnTo>
                  <a:lnTo>
                    <a:pt x="375" y="412"/>
                  </a:lnTo>
                  <a:lnTo>
                    <a:pt x="364" y="399"/>
                  </a:lnTo>
                  <a:lnTo>
                    <a:pt x="345" y="387"/>
                  </a:lnTo>
                  <a:lnTo>
                    <a:pt x="332" y="372"/>
                  </a:lnTo>
                  <a:lnTo>
                    <a:pt x="325" y="355"/>
                  </a:lnTo>
                  <a:lnTo>
                    <a:pt x="322" y="337"/>
                  </a:lnTo>
                  <a:lnTo>
                    <a:pt x="319" y="317"/>
                  </a:lnTo>
                  <a:lnTo>
                    <a:pt x="309" y="290"/>
                  </a:lnTo>
                  <a:lnTo>
                    <a:pt x="294" y="264"/>
                  </a:lnTo>
                  <a:lnTo>
                    <a:pt x="273" y="237"/>
                  </a:lnTo>
                  <a:lnTo>
                    <a:pt x="260" y="215"/>
                  </a:lnTo>
                  <a:lnTo>
                    <a:pt x="257" y="197"/>
                  </a:lnTo>
                  <a:lnTo>
                    <a:pt x="255" y="184"/>
                  </a:lnTo>
                  <a:lnTo>
                    <a:pt x="245" y="175"/>
                  </a:lnTo>
                  <a:lnTo>
                    <a:pt x="233" y="167"/>
                  </a:lnTo>
                  <a:lnTo>
                    <a:pt x="228" y="154"/>
                  </a:lnTo>
                  <a:lnTo>
                    <a:pt x="222" y="140"/>
                  </a:lnTo>
                  <a:lnTo>
                    <a:pt x="207" y="124"/>
                  </a:lnTo>
                  <a:lnTo>
                    <a:pt x="188" y="100"/>
                  </a:lnTo>
                  <a:lnTo>
                    <a:pt x="175" y="74"/>
                  </a:lnTo>
                  <a:lnTo>
                    <a:pt x="168" y="52"/>
                  </a:lnTo>
                  <a:lnTo>
                    <a:pt x="165" y="42"/>
                  </a:lnTo>
                  <a:lnTo>
                    <a:pt x="160" y="42"/>
                  </a:lnTo>
                  <a:lnTo>
                    <a:pt x="148" y="42"/>
                  </a:lnTo>
                  <a:lnTo>
                    <a:pt x="133" y="42"/>
                  </a:lnTo>
                  <a:lnTo>
                    <a:pt x="122" y="42"/>
                  </a:lnTo>
                  <a:lnTo>
                    <a:pt x="110" y="42"/>
                  </a:lnTo>
                  <a:lnTo>
                    <a:pt x="100" y="44"/>
                  </a:lnTo>
                  <a:lnTo>
                    <a:pt x="92" y="47"/>
                  </a:lnTo>
                  <a:lnTo>
                    <a:pt x="88" y="47"/>
                  </a:lnTo>
                  <a:lnTo>
                    <a:pt x="90" y="44"/>
                  </a:lnTo>
                  <a:lnTo>
                    <a:pt x="93" y="34"/>
                  </a:lnTo>
                  <a:lnTo>
                    <a:pt x="98" y="20"/>
                  </a:lnTo>
                  <a:lnTo>
                    <a:pt x="103" y="8"/>
                  </a:lnTo>
                  <a:lnTo>
                    <a:pt x="103" y="8"/>
                  </a:lnTo>
                  <a:lnTo>
                    <a:pt x="103" y="8"/>
                  </a:lnTo>
                  <a:lnTo>
                    <a:pt x="103" y="8"/>
                  </a:lnTo>
                  <a:lnTo>
                    <a:pt x="103" y="8"/>
                  </a:lnTo>
                  <a:lnTo>
                    <a:pt x="67" y="0"/>
                  </a:lnTo>
                  <a:lnTo>
                    <a:pt x="67" y="5"/>
                  </a:lnTo>
                  <a:lnTo>
                    <a:pt x="65" y="19"/>
                  </a:lnTo>
                  <a:lnTo>
                    <a:pt x="62" y="34"/>
                  </a:lnTo>
                  <a:lnTo>
                    <a:pt x="57" y="47"/>
                  </a:lnTo>
                  <a:lnTo>
                    <a:pt x="50" y="57"/>
                  </a:lnTo>
                  <a:lnTo>
                    <a:pt x="45" y="65"/>
                  </a:lnTo>
                  <a:lnTo>
                    <a:pt x="40" y="79"/>
                  </a:lnTo>
                  <a:lnTo>
                    <a:pt x="38" y="95"/>
                  </a:lnTo>
                  <a:lnTo>
                    <a:pt x="35" y="119"/>
                  </a:lnTo>
                  <a:lnTo>
                    <a:pt x="28" y="145"/>
                  </a:lnTo>
                  <a:lnTo>
                    <a:pt x="20" y="169"/>
                  </a:lnTo>
                  <a:lnTo>
                    <a:pt x="15" y="185"/>
                  </a:lnTo>
                  <a:lnTo>
                    <a:pt x="10" y="197"/>
                  </a:lnTo>
                  <a:lnTo>
                    <a:pt x="5" y="209"/>
                  </a:lnTo>
                  <a:lnTo>
                    <a:pt x="2" y="220"/>
                  </a:lnTo>
                  <a:lnTo>
                    <a:pt x="0" y="224"/>
                  </a:lnTo>
                  <a:lnTo>
                    <a:pt x="3" y="224"/>
                  </a:lnTo>
                  <a:lnTo>
                    <a:pt x="12" y="220"/>
                  </a:lnTo>
                  <a:lnTo>
                    <a:pt x="23" y="219"/>
                  </a:lnTo>
                  <a:lnTo>
                    <a:pt x="33" y="219"/>
                  </a:lnTo>
                  <a:lnTo>
                    <a:pt x="47" y="219"/>
                  </a:lnTo>
                  <a:lnTo>
                    <a:pt x="60" y="219"/>
                  </a:lnTo>
                  <a:lnTo>
                    <a:pt x="72" y="219"/>
                  </a:lnTo>
                  <a:lnTo>
                    <a:pt x="77" y="219"/>
                  </a:lnTo>
                  <a:lnTo>
                    <a:pt x="80" y="229"/>
                  </a:lnTo>
                  <a:lnTo>
                    <a:pt x="87" y="250"/>
                  </a:lnTo>
                  <a:lnTo>
                    <a:pt x="100" y="277"/>
                  </a:lnTo>
                  <a:lnTo>
                    <a:pt x="118" y="299"/>
                  </a:lnTo>
                  <a:lnTo>
                    <a:pt x="133" y="315"/>
                  </a:lnTo>
                  <a:lnTo>
                    <a:pt x="140" y="330"/>
                  </a:lnTo>
                  <a:lnTo>
                    <a:pt x="145" y="342"/>
                  </a:lnTo>
                  <a:lnTo>
                    <a:pt x="157" y="352"/>
                  </a:lnTo>
                  <a:lnTo>
                    <a:pt x="167" y="360"/>
                  </a:lnTo>
                  <a:lnTo>
                    <a:pt x="168" y="374"/>
                  </a:lnTo>
                  <a:lnTo>
                    <a:pt x="172" y="390"/>
                  </a:lnTo>
                  <a:lnTo>
                    <a:pt x="185" y="414"/>
                  </a:lnTo>
                  <a:lnTo>
                    <a:pt x="205" y="440"/>
                  </a:lnTo>
                  <a:lnTo>
                    <a:pt x="220" y="467"/>
                  </a:lnTo>
                  <a:lnTo>
                    <a:pt x="230" y="492"/>
                  </a:lnTo>
                  <a:lnTo>
                    <a:pt x="233" y="512"/>
                  </a:lnTo>
                  <a:lnTo>
                    <a:pt x="237" y="531"/>
                  </a:lnTo>
                  <a:lnTo>
                    <a:pt x="243" y="547"/>
                  </a:lnTo>
                  <a:lnTo>
                    <a:pt x="257" y="562"/>
                  </a:lnTo>
                  <a:lnTo>
                    <a:pt x="275" y="574"/>
                  </a:lnTo>
                  <a:lnTo>
                    <a:pt x="287" y="587"/>
                  </a:lnTo>
                  <a:lnTo>
                    <a:pt x="285" y="601"/>
                  </a:lnTo>
                  <a:lnTo>
                    <a:pt x="284" y="617"/>
                  </a:lnTo>
                  <a:lnTo>
                    <a:pt x="295" y="632"/>
                  </a:lnTo>
                  <a:lnTo>
                    <a:pt x="310" y="642"/>
                  </a:lnTo>
                  <a:lnTo>
                    <a:pt x="317" y="652"/>
                  </a:lnTo>
                  <a:lnTo>
                    <a:pt x="320" y="666"/>
                  </a:lnTo>
                  <a:lnTo>
                    <a:pt x="329" y="687"/>
                  </a:lnTo>
                  <a:lnTo>
                    <a:pt x="330" y="692"/>
                  </a:lnTo>
                  <a:lnTo>
                    <a:pt x="330" y="696"/>
                  </a:lnTo>
                  <a:lnTo>
                    <a:pt x="332" y="697"/>
                  </a:lnTo>
                  <a:lnTo>
                    <a:pt x="332" y="699"/>
                  </a:lnTo>
                  <a:lnTo>
                    <a:pt x="335" y="702"/>
                  </a:lnTo>
                  <a:lnTo>
                    <a:pt x="340" y="707"/>
                  </a:lnTo>
                  <a:lnTo>
                    <a:pt x="345" y="712"/>
                  </a:lnTo>
                  <a:lnTo>
                    <a:pt x="352" y="721"/>
                  </a:lnTo>
                  <a:lnTo>
                    <a:pt x="365" y="737"/>
                  </a:lnTo>
                  <a:lnTo>
                    <a:pt x="370" y="752"/>
                  </a:lnTo>
                  <a:lnTo>
                    <a:pt x="370" y="762"/>
                  </a:lnTo>
                  <a:lnTo>
                    <a:pt x="367" y="771"/>
                  </a:lnTo>
                  <a:lnTo>
                    <a:pt x="360" y="776"/>
                  </a:lnTo>
                  <a:lnTo>
                    <a:pt x="354" y="781"/>
                  </a:lnTo>
                  <a:lnTo>
                    <a:pt x="349" y="782"/>
                  </a:lnTo>
                  <a:lnTo>
                    <a:pt x="347" y="782"/>
                  </a:lnTo>
                  <a:lnTo>
                    <a:pt x="347" y="786"/>
                  </a:lnTo>
                  <a:lnTo>
                    <a:pt x="350" y="794"/>
                  </a:lnTo>
                  <a:lnTo>
                    <a:pt x="355" y="807"/>
                  </a:lnTo>
                  <a:lnTo>
                    <a:pt x="367" y="824"/>
                  </a:lnTo>
                  <a:lnTo>
                    <a:pt x="377" y="842"/>
                  </a:lnTo>
                  <a:lnTo>
                    <a:pt x="384" y="862"/>
                  </a:lnTo>
                  <a:lnTo>
                    <a:pt x="392" y="877"/>
                  </a:lnTo>
                  <a:lnTo>
                    <a:pt x="414" y="891"/>
                  </a:lnTo>
                  <a:lnTo>
                    <a:pt x="427" y="897"/>
                  </a:lnTo>
                  <a:lnTo>
                    <a:pt x="440" y="904"/>
                  </a:lnTo>
                  <a:lnTo>
                    <a:pt x="454" y="912"/>
                  </a:lnTo>
                  <a:lnTo>
                    <a:pt x="465" y="921"/>
                  </a:lnTo>
                  <a:lnTo>
                    <a:pt x="477" y="929"/>
                  </a:lnTo>
                  <a:lnTo>
                    <a:pt x="487" y="937"/>
                  </a:lnTo>
                  <a:lnTo>
                    <a:pt x="499" y="946"/>
                  </a:lnTo>
                  <a:lnTo>
                    <a:pt x="509" y="952"/>
                  </a:lnTo>
                  <a:lnTo>
                    <a:pt x="519" y="961"/>
                  </a:lnTo>
                  <a:lnTo>
                    <a:pt x="525" y="969"/>
                  </a:lnTo>
                  <a:lnTo>
                    <a:pt x="532" y="979"/>
                  </a:lnTo>
                  <a:lnTo>
                    <a:pt x="537" y="989"/>
                  </a:lnTo>
                  <a:lnTo>
                    <a:pt x="542" y="1002"/>
                  </a:lnTo>
                  <a:lnTo>
                    <a:pt x="547" y="1016"/>
                  </a:lnTo>
                  <a:lnTo>
                    <a:pt x="552" y="1031"/>
                  </a:lnTo>
                  <a:lnTo>
                    <a:pt x="560" y="1048"/>
                  </a:lnTo>
                  <a:lnTo>
                    <a:pt x="574" y="1079"/>
                  </a:lnTo>
                  <a:lnTo>
                    <a:pt x="584" y="1108"/>
                  </a:lnTo>
                  <a:lnTo>
                    <a:pt x="592" y="1136"/>
                  </a:lnTo>
                  <a:lnTo>
                    <a:pt x="609" y="1171"/>
                  </a:lnTo>
                  <a:lnTo>
                    <a:pt x="619" y="1213"/>
                  </a:lnTo>
                  <a:lnTo>
                    <a:pt x="612" y="1253"/>
                  </a:lnTo>
                  <a:lnTo>
                    <a:pt x="600" y="1283"/>
                  </a:lnTo>
                  <a:lnTo>
                    <a:pt x="594" y="1294"/>
                  </a:lnTo>
                  <a:lnTo>
                    <a:pt x="597" y="1301"/>
                  </a:lnTo>
                  <a:lnTo>
                    <a:pt x="604" y="1318"/>
                  </a:lnTo>
                  <a:lnTo>
                    <a:pt x="612" y="1341"/>
                  </a:lnTo>
                  <a:lnTo>
                    <a:pt x="617" y="1366"/>
                  </a:lnTo>
                  <a:lnTo>
                    <a:pt x="620" y="1379"/>
                  </a:lnTo>
                  <a:lnTo>
                    <a:pt x="624" y="1394"/>
                  </a:lnTo>
                  <a:lnTo>
                    <a:pt x="629" y="1409"/>
                  </a:lnTo>
                  <a:lnTo>
                    <a:pt x="635" y="1428"/>
                  </a:lnTo>
                  <a:lnTo>
                    <a:pt x="644" y="1444"/>
                  </a:lnTo>
                  <a:lnTo>
                    <a:pt x="654" y="1463"/>
                  </a:lnTo>
                  <a:lnTo>
                    <a:pt x="664" y="1481"/>
                  </a:lnTo>
                  <a:lnTo>
                    <a:pt x="675" y="1499"/>
                  </a:lnTo>
                  <a:lnTo>
                    <a:pt x="687" y="1516"/>
                  </a:lnTo>
                  <a:lnTo>
                    <a:pt x="695" y="1531"/>
                  </a:lnTo>
                  <a:lnTo>
                    <a:pt x="702" y="1543"/>
                  </a:lnTo>
                  <a:lnTo>
                    <a:pt x="707" y="1553"/>
                  </a:lnTo>
                  <a:lnTo>
                    <a:pt x="712" y="1561"/>
                  </a:lnTo>
                  <a:lnTo>
                    <a:pt x="719" y="1566"/>
                  </a:lnTo>
                  <a:lnTo>
                    <a:pt x="724" y="1570"/>
                  </a:lnTo>
                  <a:lnTo>
                    <a:pt x="732" y="1571"/>
                  </a:lnTo>
                  <a:lnTo>
                    <a:pt x="742" y="1573"/>
                  </a:lnTo>
                  <a:lnTo>
                    <a:pt x="754" y="1576"/>
                  </a:lnTo>
                  <a:lnTo>
                    <a:pt x="765" y="1581"/>
                  </a:lnTo>
                  <a:lnTo>
                    <a:pt x="779" y="1588"/>
                  </a:lnTo>
                  <a:lnTo>
                    <a:pt x="792" y="1595"/>
                  </a:lnTo>
                  <a:lnTo>
                    <a:pt x="804" y="1603"/>
                  </a:lnTo>
                  <a:lnTo>
                    <a:pt x="814" y="1611"/>
                  </a:lnTo>
                  <a:lnTo>
                    <a:pt x="822" y="1618"/>
                  </a:lnTo>
                  <a:lnTo>
                    <a:pt x="834" y="1633"/>
                  </a:lnTo>
                  <a:lnTo>
                    <a:pt x="846" y="1648"/>
                  </a:lnTo>
                  <a:lnTo>
                    <a:pt x="856" y="1663"/>
                  </a:lnTo>
                  <a:lnTo>
                    <a:pt x="866" y="1675"/>
                  </a:lnTo>
                  <a:lnTo>
                    <a:pt x="872" y="1685"/>
                  </a:lnTo>
                  <a:lnTo>
                    <a:pt x="881" y="1700"/>
                  </a:lnTo>
                  <a:lnTo>
                    <a:pt x="891" y="1721"/>
                  </a:lnTo>
                  <a:lnTo>
                    <a:pt x="902" y="1743"/>
                  </a:lnTo>
                  <a:lnTo>
                    <a:pt x="912" y="1768"/>
                  </a:lnTo>
                  <a:lnTo>
                    <a:pt x="921" y="1790"/>
                  </a:lnTo>
                  <a:lnTo>
                    <a:pt x="927" y="1810"/>
                  </a:lnTo>
                  <a:lnTo>
                    <a:pt x="931" y="1823"/>
                  </a:lnTo>
                  <a:lnTo>
                    <a:pt x="937" y="1841"/>
                  </a:lnTo>
                  <a:lnTo>
                    <a:pt x="951" y="1858"/>
                  </a:lnTo>
                  <a:lnTo>
                    <a:pt x="964" y="1878"/>
                  </a:lnTo>
                  <a:lnTo>
                    <a:pt x="979" y="1908"/>
                  </a:lnTo>
                  <a:lnTo>
                    <a:pt x="987" y="1926"/>
                  </a:lnTo>
                  <a:lnTo>
                    <a:pt x="999" y="1945"/>
                  </a:lnTo>
                  <a:lnTo>
                    <a:pt x="1014" y="1965"/>
                  </a:lnTo>
                  <a:lnTo>
                    <a:pt x="1029" y="1981"/>
                  </a:lnTo>
                  <a:lnTo>
                    <a:pt x="1044" y="2000"/>
                  </a:lnTo>
                  <a:lnTo>
                    <a:pt x="1059" y="2015"/>
                  </a:lnTo>
                  <a:lnTo>
                    <a:pt x="1072" y="2027"/>
                  </a:lnTo>
                  <a:lnTo>
                    <a:pt x="1084" y="2037"/>
                  </a:lnTo>
                  <a:lnTo>
                    <a:pt x="1097" y="2052"/>
                  </a:lnTo>
                  <a:lnTo>
                    <a:pt x="1106" y="2068"/>
                  </a:lnTo>
                  <a:lnTo>
                    <a:pt x="1109" y="2085"/>
                  </a:lnTo>
                  <a:lnTo>
                    <a:pt x="1112" y="2098"/>
                  </a:lnTo>
                  <a:lnTo>
                    <a:pt x="1117" y="2108"/>
                  </a:lnTo>
                  <a:lnTo>
                    <a:pt x="1126" y="2120"/>
                  </a:lnTo>
                  <a:lnTo>
                    <a:pt x="1136" y="2132"/>
                  </a:lnTo>
                  <a:lnTo>
                    <a:pt x="1146" y="2145"/>
                  </a:lnTo>
                  <a:lnTo>
                    <a:pt x="1156" y="2160"/>
                  </a:lnTo>
                  <a:lnTo>
                    <a:pt x="1164" y="2175"/>
                  </a:lnTo>
                  <a:lnTo>
                    <a:pt x="1169" y="2190"/>
                  </a:lnTo>
                  <a:lnTo>
                    <a:pt x="1169" y="2202"/>
                  </a:lnTo>
                  <a:lnTo>
                    <a:pt x="1169" y="2217"/>
                  </a:lnTo>
                  <a:lnTo>
                    <a:pt x="1172" y="2233"/>
                  </a:lnTo>
                  <a:lnTo>
                    <a:pt x="1177" y="2248"/>
                  </a:lnTo>
                  <a:lnTo>
                    <a:pt x="1179" y="2255"/>
                  </a:lnTo>
                  <a:lnTo>
                    <a:pt x="1216" y="2227"/>
                  </a:lnTo>
                  <a:lnTo>
                    <a:pt x="1219" y="2222"/>
                  </a:lnTo>
                  <a:lnTo>
                    <a:pt x="1226" y="2208"/>
                  </a:lnTo>
                  <a:lnTo>
                    <a:pt x="1232" y="2192"/>
                  </a:lnTo>
                  <a:lnTo>
                    <a:pt x="1236" y="2178"/>
                  </a:lnTo>
                  <a:lnTo>
                    <a:pt x="1236" y="2165"/>
                  </a:lnTo>
                  <a:lnTo>
                    <a:pt x="1234" y="2145"/>
                  </a:lnTo>
                  <a:lnTo>
                    <a:pt x="1236" y="2123"/>
                  </a:lnTo>
                  <a:lnTo>
                    <a:pt x="1241" y="2103"/>
                  </a:lnTo>
                  <a:lnTo>
                    <a:pt x="1241" y="2087"/>
                  </a:lnTo>
                  <a:lnTo>
                    <a:pt x="1236" y="2077"/>
                  </a:lnTo>
                  <a:lnTo>
                    <a:pt x="1234" y="2067"/>
                  </a:lnTo>
                  <a:lnTo>
                    <a:pt x="1241" y="2060"/>
                  </a:lnTo>
                  <a:lnTo>
                    <a:pt x="1246" y="2057"/>
                  </a:lnTo>
                  <a:lnTo>
                    <a:pt x="1251" y="2057"/>
                  </a:lnTo>
                  <a:lnTo>
                    <a:pt x="1256" y="2058"/>
                  </a:lnTo>
                  <a:lnTo>
                    <a:pt x="1261" y="2062"/>
                  </a:lnTo>
                  <a:lnTo>
                    <a:pt x="1259" y="2052"/>
                  </a:lnTo>
                  <a:lnTo>
                    <a:pt x="1257" y="2043"/>
                  </a:lnTo>
                  <a:lnTo>
                    <a:pt x="1256" y="2033"/>
                  </a:lnTo>
                  <a:lnTo>
                    <a:pt x="1257" y="2027"/>
                  </a:lnTo>
                  <a:close/>
                </a:path>
              </a:pathLst>
            </a:custGeom>
            <a:solidFill>
              <a:srgbClr val="ffffff">
                <a:alpha val="10000"/>
              </a:srgbClr>
            </a:solidFill>
            <a:ln cap="sq" w="9360">
              <a:solidFill>
                <a:srgbClr val="ffffff"/>
              </a:solidFill>
              <a:round/>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6" name=""/>
            <p:cNvSpPr/>
            <p:nvPr/>
          </p:nvSpPr>
          <p:spPr>
            <a:xfrm>
              <a:off x="3086280" y="3249720"/>
              <a:ext cx="4680" cy="4680"/>
            </a:xfrm>
            <a:custGeom>
              <a:avLst/>
              <a:gdLst/>
              <a:ahLst/>
              <a:rect l="l" t="t" r="r" b="b"/>
              <a:pathLst>
                <a:path w="5" h="5">
                  <a:moveTo>
                    <a:pt x="5" y="3"/>
                  </a:moveTo>
                  <a:lnTo>
                    <a:pt x="0" y="0"/>
                  </a:lnTo>
                  <a:lnTo>
                    <a:pt x="2" y="3"/>
                  </a:lnTo>
                  <a:lnTo>
                    <a:pt x="3" y="5"/>
                  </a:lnTo>
                  <a:lnTo>
                    <a:pt x="5" y="3"/>
                  </a:lnTo>
                  <a:lnTo>
                    <a:pt x="5" y="3"/>
                  </a:lnTo>
                  <a:close/>
                </a:path>
              </a:pathLst>
            </a:custGeom>
            <a:solidFill>
              <a:srgbClr val="000000"/>
            </a:solidFill>
            <a:ln w="0">
              <a:noFill/>
            </a:ln>
          </p:spPr>
          <p:style>
            <a:lnRef idx="0"/>
            <a:fillRef idx="0"/>
            <a:effectRef idx="0"/>
            <a:fontRef idx="minor"/>
          </p:style>
          <p:txBody>
            <a:bodyPr wrap="none" lIns="90000" rIns="90000" tIns="-42120" bIns="-421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7" name=""/>
            <p:cNvSpPr/>
            <p:nvPr/>
          </p:nvSpPr>
          <p:spPr>
            <a:xfrm>
              <a:off x="4379760" y="4205160"/>
              <a:ext cx="2567160" cy="993960"/>
            </a:xfrm>
            <a:custGeom>
              <a:avLst/>
              <a:gdLst/>
              <a:ahLst/>
              <a:rect l="l" t="t" r="r" b="b"/>
              <a:pathLst>
                <a:path w="1881" h="744">
                  <a:moveTo>
                    <a:pt x="1298" y="222"/>
                  </a:moveTo>
                  <a:lnTo>
                    <a:pt x="1283" y="225"/>
                  </a:lnTo>
                  <a:lnTo>
                    <a:pt x="1263" y="230"/>
                  </a:lnTo>
                  <a:lnTo>
                    <a:pt x="1239" y="235"/>
                  </a:lnTo>
                  <a:lnTo>
                    <a:pt x="1214" y="242"/>
                  </a:lnTo>
                  <a:lnTo>
                    <a:pt x="1186" y="249"/>
                  </a:lnTo>
                  <a:lnTo>
                    <a:pt x="1157" y="255"/>
                  </a:lnTo>
                  <a:lnTo>
                    <a:pt x="1127" y="262"/>
                  </a:lnTo>
                  <a:lnTo>
                    <a:pt x="1097" y="269"/>
                  </a:lnTo>
                  <a:lnTo>
                    <a:pt x="1067" y="275"/>
                  </a:lnTo>
                  <a:lnTo>
                    <a:pt x="1039" y="284"/>
                  </a:lnTo>
                  <a:lnTo>
                    <a:pt x="1012" y="290"/>
                  </a:lnTo>
                  <a:lnTo>
                    <a:pt x="989" y="297"/>
                  </a:lnTo>
                  <a:lnTo>
                    <a:pt x="967" y="302"/>
                  </a:lnTo>
                  <a:lnTo>
                    <a:pt x="949" y="309"/>
                  </a:lnTo>
                  <a:lnTo>
                    <a:pt x="936" y="314"/>
                  </a:lnTo>
                  <a:lnTo>
                    <a:pt x="927" y="317"/>
                  </a:lnTo>
                  <a:lnTo>
                    <a:pt x="914" y="324"/>
                  </a:lnTo>
                  <a:lnTo>
                    <a:pt x="901" y="329"/>
                  </a:lnTo>
                  <a:lnTo>
                    <a:pt x="887" y="337"/>
                  </a:lnTo>
                  <a:lnTo>
                    <a:pt x="872" y="344"/>
                  </a:lnTo>
                  <a:lnTo>
                    <a:pt x="857" y="355"/>
                  </a:lnTo>
                  <a:lnTo>
                    <a:pt x="842" y="369"/>
                  </a:lnTo>
                  <a:lnTo>
                    <a:pt x="826" y="389"/>
                  </a:lnTo>
                  <a:lnTo>
                    <a:pt x="807" y="412"/>
                  </a:lnTo>
                  <a:lnTo>
                    <a:pt x="791" y="437"/>
                  </a:lnTo>
                  <a:lnTo>
                    <a:pt x="776" y="460"/>
                  </a:lnTo>
                  <a:lnTo>
                    <a:pt x="761" y="482"/>
                  </a:lnTo>
                  <a:lnTo>
                    <a:pt x="747" y="502"/>
                  </a:lnTo>
                  <a:lnTo>
                    <a:pt x="737" y="519"/>
                  </a:lnTo>
                  <a:lnTo>
                    <a:pt x="727" y="532"/>
                  </a:lnTo>
                  <a:lnTo>
                    <a:pt x="719" y="542"/>
                  </a:lnTo>
                  <a:lnTo>
                    <a:pt x="712" y="549"/>
                  </a:lnTo>
                  <a:lnTo>
                    <a:pt x="706" y="554"/>
                  </a:lnTo>
                  <a:lnTo>
                    <a:pt x="699" y="559"/>
                  </a:lnTo>
                  <a:lnTo>
                    <a:pt x="689" y="564"/>
                  </a:lnTo>
                  <a:lnTo>
                    <a:pt x="679" y="565"/>
                  </a:lnTo>
                  <a:lnTo>
                    <a:pt x="667" y="567"/>
                  </a:lnTo>
                  <a:lnTo>
                    <a:pt x="657" y="567"/>
                  </a:lnTo>
                  <a:lnTo>
                    <a:pt x="647" y="564"/>
                  </a:lnTo>
                  <a:lnTo>
                    <a:pt x="637" y="559"/>
                  </a:lnTo>
                  <a:lnTo>
                    <a:pt x="629" y="552"/>
                  </a:lnTo>
                  <a:lnTo>
                    <a:pt x="622" y="544"/>
                  </a:lnTo>
                  <a:lnTo>
                    <a:pt x="615" y="535"/>
                  </a:lnTo>
                  <a:lnTo>
                    <a:pt x="609" y="529"/>
                  </a:lnTo>
                  <a:lnTo>
                    <a:pt x="602" y="524"/>
                  </a:lnTo>
                  <a:lnTo>
                    <a:pt x="595" y="520"/>
                  </a:lnTo>
                  <a:lnTo>
                    <a:pt x="589" y="519"/>
                  </a:lnTo>
                  <a:lnTo>
                    <a:pt x="580" y="520"/>
                  </a:lnTo>
                  <a:lnTo>
                    <a:pt x="569" y="524"/>
                  </a:lnTo>
                  <a:lnTo>
                    <a:pt x="554" y="525"/>
                  </a:lnTo>
                  <a:lnTo>
                    <a:pt x="537" y="525"/>
                  </a:lnTo>
                  <a:lnTo>
                    <a:pt x="519" y="525"/>
                  </a:lnTo>
                  <a:lnTo>
                    <a:pt x="499" y="525"/>
                  </a:lnTo>
                  <a:lnTo>
                    <a:pt x="480" y="524"/>
                  </a:lnTo>
                  <a:lnTo>
                    <a:pt x="462" y="522"/>
                  </a:lnTo>
                  <a:lnTo>
                    <a:pt x="447" y="520"/>
                  </a:lnTo>
                  <a:lnTo>
                    <a:pt x="432" y="519"/>
                  </a:lnTo>
                  <a:lnTo>
                    <a:pt x="417" y="515"/>
                  </a:lnTo>
                  <a:lnTo>
                    <a:pt x="404" y="510"/>
                  </a:lnTo>
                  <a:lnTo>
                    <a:pt x="389" y="507"/>
                  </a:lnTo>
                  <a:lnTo>
                    <a:pt x="375" y="504"/>
                  </a:lnTo>
                  <a:lnTo>
                    <a:pt x="364" y="500"/>
                  </a:lnTo>
                  <a:lnTo>
                    <a:pt x="352" y="497"/>
                  </a:lnTo>
                  <a:lnTo>
                    <a:pt x="342" y="497"/>
                  </a:lnTo>
                  <a:lnTo>
                    <a:pt x="329" y="497"/>
                  </a:lnTo>
                  <a:lnTo>
                    <a:pt x="307" y="497"/>
                  </a:lnTo>
                  <a:lnTo>
                    <a:pt x="280" y="499"/>
                  </a:lnTo>
                  <a:lnTo>
                    <a:pt x="250" y="499"/>
                  </a:lnTo>
                  <a:lnTo>
                    <a:pt x="224" y="500"/>
                  </a:lnTo>
                  <a:lnTo>
                    <a:pt x="200" y="502"/>
                  </a:lnTo>
                  <a:lnTo>
                    <a:pt x="184" y="502"/>
                  </a:lnTo>
                  <a:lnTo>
                    <a:pt x="177" y="502"/>
                  </a:lnTo>
                  <a:lnTo>
                    <a:pt x="175" y="504"/>
                  </a:lnTo>
                  <a:lnTo>
                    <a:pt x="170" y="505"/>
                  </a:lnTo>
                  <a:lnTo>
                    <a:pt x="164" y="509"/>
                  </a:lnTo>
                  <a:lnTo>
                    <a:pt x="155" y="510"/>
                  </a:lnTo>
                  <a:lnTo>
                    <a:pt x="144" y="512"/>
                  </a:lnTo>
                  <a:lnTo>
                    <a:pt x="132" y="512"/>
                  </a:lnTo>
                  <a:lnTo>
                    <a:pt x="120" y="509"/>
                  </a:lnTo>
                  <a:lnTo>
                    <a:pt x="107" y="502"/>
                  </a:lnTo>
                  <a:lnTo>
                    <a:pt x="95" y="494"/>
                  </a:lnTo>
                  <a:lnTo>
                    <a:pt x="87" y="485"/>
                  </a:lnTo>
                  <a:lnTo>
                    <a:pt x="80" y="479"/>
                  </a:lnTo>
                  <a:lnTo>
                    <a:pt x="75" y="475"/>
                  </a:lnTo>
                  <a:lnTo>
                    <a:pt x="70" y="472"/>
                  </a:lnTo>
                  <a:lnTo>
                    <a:pt x="65" y="470"/>
                  </a:lnTo>
                  <a:lnTo>
                    <a:pt x="60" y="470"/>
                  </a:lnTo>
                  <a:lnTo>
                    <a:pt x="53" y="474"/>
                  </a:lnTo>
                  <a:lnTo>
                    <a:pt x="47" y="480"/>
                  </a:lnTo>
                  <a:lnTo>
                    <a:pt x="50" y="489"/>
                  </a:lnTo>
                  <a:lnTo>
                    <a:pt x="55" y="500"/>
                  </a:lnTo>
                  <a:lnTo>
                    <a:pt x="53" y="515"/>
                  </a:lnTo>
                  <a:lnTo>
                    <a:pt x="50" y="535"/>
                  </a:lnTo>
                  <a:lnTo>
                    <a:pt x="48" y="557"/>
                  </a:lnTo>
                  <a:lnTo>
                    <a:pt x="50" y="577"/>
                  </a:lnTo>
                  <a:lnTo>
                    <a:pt x="50" y="592"/>
                  </a:lnTo>
                  <a:lnTo>
                    <a:pt x="47" y="606"/>
                  </a:lnTo>
                  <a:lnTo>
                    <a:pt x="40" y="621"/>
                  </a:lnTo>
                  <a:lnTo>
                    <a:pt x="33" y="634"/>
                  </a:lnTo>
                  <a:lnTo>
                    <a:pt x="30" y="639"/>
                  </a:lnTo>
                  <a:lnTo>
                    <a:pt x="0" y="662"/>
                  </a:lnTo>
                  <a:lnTo>
                    <a:pt x="3" y="666"/>
                  </a:lnTo>
                  <a:lnTo>
                    <a:pt x="8" y="669"/>
                  </a:lnTo>
                  <a:lnTo>
                    <a:pt x="13" y="674"/>
                  </a:lnTo>
                  <a:lnTo>
                    <a:pt x="18" y="677"/>
                  </a:lnTo>
                  <a:lnTo>
                    <a:pt x="32" y="684"/>
                  </a:lnTo>
                  <a:lnTo>
                    <a:pt x="43" y="687"/>
                  </a:lnTo>
                  <a:lnTo>
                    <a:pt x="55" y="687"/>
                  </a:lnTo>
                  <a:lnTo>
                    <a:pt x="67" y="686"/>
                  </a:lnTo>
                  <a:lnTo>
                    <a:pt x="77" y="684"/>
                  </a:lnTo>
                  <a:lnTo>
                    <a:pt x="83" y="681"/>
                  </a:lnTo>
                  <a:lnTo>
                    <a:pt x="88" y="679"/>
                  </a:lnTo>
                  <a:lnTo>
                    <a:pt x="90" y="677"/>
                  </a:lnTo>
                  <a:lnTo>
                    <a:pt x="97" y="677"/>
                  </a:lnTo>
                  <a:lnTo>
                    <a:pt x="114" y="677"/>
                  </a:lnTo>
                  <a:lnTo>
                    <a:pt x="137" y="676"/>
                  </a:lnTo>
                  <a:lnTo>
                    <a:pt x="164" y="674"/>
                  </a:lnTo>
                  <a:lnTo>
                    <a:pt x="194" y="674"/>
                  </a:lnTo>
                  <a:lnTo>
                    <a:pt x="220" y="672"/>
                  </a:lnTo>
                  <a:lnTo>
                    <a:pt x="242" y="672"/>
                  </a:lnTo>
                  <a:lnTo>
                    <a:pt x="255" y="672"/>
                  </a:lnTo>
                  <a:lnTo>
                    <a:pt x="265" y="674"/>
                  </a:lnTo>
                  <a:lnTo>
                    <a:pt x="275" y="676"/>
                  </a:lnTo>
                  <a:lnTo>
                    <a:pt x="289" y="679"/>
                  </a:lnTo>
                  <a:lnTo>
                    <a:pt x="302" y="682"/>
                  </a:lnTo>
                  <a:lnTo>
                    <a:pt x="315" y="687"/>
                  </a:lnTo>
                  <a:lnTo>
                    <a:pt x="330" y="691"/>
                  </a:lnTo>
                  <a:lnTo>
                    <a:pt x="344" y="694"/>
                  </a:lnTo>
                  <a:lnTo>
                    <a:pt x="359" y="697"/>
                  </a:lnTo>
                  <a:lnTo>
                    <a:pt x="374" y="699"/>
                  </a:lnTo>
                  <a:lnTo>
                    <a:pt x="392" y="701"/>
                  </a:lnTo>
                  <a:lnTo>
                    <a:pt x="412" y="701"/>
                  </a:lnTo>
                  <a:lnTo>
                    <a:pt x="430" y="702"/>
                  </a:lnTo>
                  <a:lnTo>
                    <a:pt x="450" y="702"/>
                  </a:lnTo>
                  <a:lnTo>
                    <a:pt x="467" y="701"/>
                  </a:lnTo>
                  <a:lnTo>
                    <a:pt x="480" y="701"/>
                  </a:lnTo>
                  <a:lnTo>
                    <a:pt x="492" y="697"/>
                  </a:lnTo>
                  <a:lnTo>
                    <a:pt x="500" y="696"/>
                  </a:lnTo>
                  <a:lnTo>
                    <a:pt x="507" y="696"/>
                  </a:lnTo>
                  <a:lnTo>
                    <a:pt x="514" y="699"/>
                  </a:lnTo>
                  <a:lnTo>
                    <a:pt x="520" y="706"/>
                  </a:lnTo>
                  <a:lnTo>
                    <a:pt x="527" y="712"/>
                  </a:lnTo>
                  <a:lnTo>
                    <a:pt x="534" y="719"/>
                  </a:lnTo>
                  <a:lnTo>
                    <a:pt x="540" y="727"/>
                  </a:lnTo>
                  <a:lnTo>
                    <a:pt x="549" y="734"/>
                  </a:lnTo>
                  <a:lnTo>
                    <a:pt x="559" y="741"/>
                  </a:lnTo>
                  <a:lnTo>
                    <a:pt x="569" y="742"/>
                  </a:lnTo>
                  <a:lnTo>
                    <a:pt x="579" y="744"/>
                  </a:lnTo>
                  <a:lnTo>
                    <a:pt x="590" y="742"/>
                  </a:lnTo>
                  <a:lnTo>
                    <a:pt x="600" y="739"/>
                  </a:lnTo>
                  <a:lnTo>
                    <a:pt x="610" y="736"/>
                  </a:lnTo>
                  <a:lnTo>
                    <a:pt x="619" y="731"/>
                  </a:lnTo>
                  <a:lnTo>
                    <a:pt x="625" y="726"/>
                  </a:lnTo>
                  <a:lnTo>
                    <a:pt x="632" y="719"/>
                  </a:lnTo>
                  <a:lnTo>
                    <a:pt x="639" y="707"/>
                  </a:lnTo>
                  <a:lnTo>
                    <a:pt x="649" y="694"/>
                  </a:lnTo>
                  <a:lnTo>
                    <a:pt x="661" y="677"/>
                  </a:lnTo>
                  <a:lnTo>
                    <a:pt x="672" y="659"/>
                  </a:lnTo>
                  <a:lnTo>
                    <a:pt x="687" y="637"/>
                  </a:lnTo>
                  <a:lnTo>
                    <a:pt x="704" y="614"/>
                  </a:lnTo>
                  <a:lnTo>
                    <a:pt x="721" y="587"/>
                  </a:lnTo>
                  <a:lnTo>
                    <a:pt x="737" y="564"/>
                  </a:lnTo>
                  <a:lnTo>
                    <a:pt x="754" y="544"/>
                  </a:lnTo>
                  <a:lnTo>
                    <a:pt x="769" y="530"/>
                  </a:lnTo>
                  <a:lnTo>
                    <a:pt x="786" y="519"/>
                  </a:lnTo>
                  <a:lnTo>
                    <a:pt x="799" y="512"/>
                  </a:lnTo>
                  <a:lnTo>
                    <a:pt x="812" y="504"/>
                  </a:lnTo>
                  <a:lnTo>
                    <a:pt x="826" y="499"/>
                  </a:lnTo>
                  <a:lnTo>
                    <a:pt x="839" y="492"/>
                  </a:lnTo>
                  <a:lnTo>
                    <a:pt x="847" y="489"/>
                  </a:lnTo>
                  <a:lnTo>
                    <a:pt x="862" y="484"/>
                  </a:lnTo>
                  <a:lnTo>
                    <a:pt x="879" y="479"/>
                  </a:lnTo>
                  <a:lnTo>
                    <a:pt x="901" y="472"/>
                  </a:lnTo>
                  <a:lnTo>
                    <a:pt x="926" y="465"/>
                  </a:lnTo>
                  <a:lnTo>
                    <a:pt x="952" y="459"/>
                  </a:lnTo>
                  <a:lnTo>
                    <a:pt x="981" y="452"/>
                  </a:lnTo>
                  <a:lnTo>
                    <a:pt x="1009" y="444"/>
                  </a:lnTo>
                  <a:lnTo>
                    <a:pt x="1039" y="437"/>
                  </a:lnTo>
                  <a:lnTo>
                    <a:pt x="1069" y="430"/>
                  </a:lnTo>
                  <a:lnTo>
                    <a:pt x="1097" y="424"/>
                  </a:lnTo>
                  <a:lnTo>
                    <a:pt x="1126" y="417"/>
                  </a:lnTo>
                  <a:lnTo>
                    <a:pt x="1151" y="410"/>
                  </a:lnTo>
                  <a:lnTo>
                    <a:pt x="1174" y="405"/>
                  </a:lnTo>
                  <a:lnTo>
                    <a:pt x="1194" y="400"/>
                  </a:lnTo>
                  <a:lnTo>
                    <a:pt x="1209" y="397"/>
                  </a:lnTo>
                  <a:lnTo>
                    <a:pt x="1236" y="390"/>
                  </a:lnTo>
                  <a:lnTo>
                    <a:pt x="1263" y="385"/>
                  </a:lnTo>
                  <a:lnTo>
                    <a:pt x="1289" y="382"/>
                  </a:lnTo>
                  <a:lnTo>
                    <a:pt x="1313" y="379"/>
                  </a:lnTo>
                  <a:lnTo>
                    <a:pt x="1336" y="375"/>
                  </a:lnTo>
                  <a:lnTo>
                    <a:pt x="1354" y="370"/>
                  </a:lnTo>
                  <a:lnTo>
                    <a:pt x="1371" y="365"/>
                  </a:lnTo>
                  <a:lnTo>
                    <a:pt x="1384" y="359"/>
                  </a:lnTo>
                  <a:lnTo>
                    <a:pt x="1394" y="354"/>
                  </a:lnTo>
                  <a:lnTo>
                    <a:pt x="1411" y="345"/>
                  </a:lnTo>
                  <a:lnTo>
                    <a:pt x="1434" y="334"/>
                  </a:lnTo>
                  <a:lnTo>
                    <a:pt x="1463" y="320"/>
                  </a:lnTo>
                  <a:lnTo>
                    <a:pt x="1496" y="307"/>
                  </a:lnTo>
                  <a:lnTo>
                    <a:pt x="1533" y="290"/>
                  </a:lnTo>
                  <a:lnTo>
                    <a:pt x="1571" y="274"/>
                  </a:lnTo>
                  <a:lnTo>
                    <a:pt x="1611" y="255"/>
                  </a:lnTo>
                  <a:lnTo>
                    <a:pt x="1649" y="239"/>
                  </a:lnTo>
                  <a:lnTo>
                    <a:pt x="1688" y="222"/>
                  </a:lnTo>
                  <a:lnTo>
                    <a:pt x="1723" y="207"/>
                  </a:lnTo>
                  <a:lnTo>
                    <a:pt x="1756" y="192"/>
                  </a:lnTo>
                  <a:lnTo>
                    <a:pt x="1783" y="180"/>
                  </a:lnTo>
                  <a:lnTo>
                    <a:pt x="1805" y="170"/>
                  </a:lnTo>
                  <a:lnTo>
                    <a:pt x="1820" y="164"/>
                  </a:lnTo>
                  <a:lnTo>
                    <a:pt x="1826" y="160"/>
                  </a:lnTo>
                  <a:lnTo>
                    <a:pt x="1836" y="152"/>
                  </a:lnTo>
                  <a:lnTo>
                    <a:pt x="1841" y="142"/>
                  </a:lnTo>
                  <a:lnTo>
                    <a:pt x="1845" y="130"/>
                  </a:lnTo>
                  <a:lnTo>
                    <a:pt x="1846" y="117"/>
                  </a:lnTo>
                  <a:lnTo>
                    <a:pt x="1848" y="100"/>
                  </a:lnTo>
                  <a:lnTo>
                    <a:pt x="1851" y="78"/>
                  </a:lnTo>
                  <a:lnTo>
                    <a:pt x="1858" y="57"/>
                  </a:lnTo>
                  <a:lnTo>
                    <a:pt x="1865" y="37"/>
                  </a:lnTo>
                  <a:lnTo>
                    <a:pt x="1868" y="27"/>
                  </a:lnTo>
                  <a:lnTo>
                    <a:pt x="1873" y="18"/>
                  </a:lnTo>
                  <a:lnTo>
                    <a:pt x="1876" y="8"/>
                  </a:lnTo>
                  <a:lnTo>
                    <a:pt x="1881" y="0"/>
                  </a:lnTo>
                  <a:lnTo>
                    <a:pt x="1861" y="10"/>
                  </a:lnTo>
                  <a:lnTo>
                    <a:pt x="1836" y="20"/>
                  </a:lnTo>
                  <a:lnTo>
                    <a:pt x="1808" y="32"/>
                  </a:lnTo>
                  <a:lnTo>
                    <a:pt x="1778" y="45"/>
                  </a:lnTo>
                  <a:lnTo>
                    <a:pt x="1746" y="58"/>
                  </a:lnTo>
                  <a:lnTo>
                    <a:pt x="1714" y="73"/>
                  </a:lnTo>
                  <a:lnTo>
                    <a:pt x="1681" y="88"/>
                  </a:lnTo>
                  <a:lnTo>
                    <a:pt x="1648" y="102"/>
                  </a:lnTo>
                  <a:lnTo>
                    <a:pt x="1616" y="117"/>
                  </a:lnTo>
                  <a:lnTo>
                    <a:pt x="1586" y="130"/>
                  </a:lnTo>
                  <a:lnTo>
                    <a:pt x="1558" y="142"/>
                  </a:lnTo>
                  <a:lnTo>
                    <a:pt x="1533" y="154"/>
                  </a:lnTo>
                  <a:lnTo>
                    <a:pt x="1511" y="164"/>
                  </a:lnTo>
                  <a:lnTo>
                    <a:pt x="1493" y="174"/>
                  </a:lnTo>
                  <a:lnTo>
                    <a:pt x="1479" y="179"/>
                  </a:lnTo>
                  <a:lnTo>
                    <a:pt x="1473" y="184"/>
                  </a:lnTo>
                  <a:lnTo>
                    <a:pt x="1459" y="190"/>
                  </a:lnTo>
                  <a:lnTo>
                    <a:pt x="1443" y="195"/>
                  </a:lnTo>
                  <a:lnTo>
                    <a:pt x="1423" y="199"/>
                  </a:lnTo>
                  <a:lnTo>
                    <a:pt x="1401" y="202"/>
                  </a:lnTo>
                  <a:lnTo>
                    <a:pt x="1376" y="205"/>
                  </a:lnTo>
                  <a:lnTo>
                    <a:pt x="1351" y="210"/>
                  </a:lnTo>
                  <a:lnTo>
                    <a:pt x="1324" y="215"/>
                  </a:lnTo>
                  <a:lnTo>
                    <a:pt x="1298" y="222"/>
                  </a:lnTo>
                  <a:close/>
                </a:path>
              </a:pathLst>
            </a:custGeom>
            <a:solidFill>
              <a:srgbClr val="ffffff">
                <a:alpha val="20000"/>
              </a:srgbClr>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8" name=""/>
            <p:cNvSpPr/>
            <p:nvPr/>
          </p:nvSpPr>
          <p:spPr>
            <a:xfrm>
              <a:off x="2813040" y="1346040"/>
              <a:ext cx="4348080" cy="3579840"/>
            </a:xfrm>
            <a:custGeom>
              <a:avLst/>
              <a:gdLst/>
              <a:ahLst/>
              <a:rect l="l" t="t" r="r" b="b"/>
              <a:pathLst>
                <a:path w="3185" h="2678">
                  <a:moveTo>
                    <a:pt x="380" y="90"/>
                  </a:moveTo>
                  <a:lnTo>
                    <a:pt x="683" y="28"/>
                  </a:lnTo>
                  <a:lnTo>
                    <a:pt x="693" y="0"/>
                  </a:lnTo>
                  <a:lnTo>
                    <a:pt x="695" y="0"/>
                  </a:lnTo>
                  <a:lnTo>
                    <a:pt x="698" y="0"/>
                  </a:lnTo>
                  <a:lnTo>
                    <a:pt x="704" y="0"/>
                  </a:lnTo>
                  <a:lnTo>
                    <a:pt x="712" y="0"/>
                  </a:lnTo>
                  <a:lnTo>
                    <a:pt x="720" y="0"/>
                  </a:lnTo>
                  <a:lnTo>
                    <a:pt x="734" y="2"/>
                  </a:lnTo>
                  <a:lnTo>
                    <a:pt x="747" y="5"/>
                  </a:lnTo>
                  <a:lnTo>
                    <a:pt x="764" y="10"/>
                  </a:lnTo>
                  <a:lnTo>
                    <a:pt x="782" y="15"/>
                  </a:lnTo>
                  <a:lnTo>
                    <a:pt x="799" y="20"/>
                  </a:lnTo>
                  <a:lnTo>
                    <a:pt x="817" y="23"/>
                  </a:lnTo>
                  <a:lnTo>
                    <a:pt x="832" y="28"/>
                  </a:lnTo>
                  <a:lnTo>
                    <a:pt x="847" y="32"/>
                  </a:lnTo>
                  <a:lnTo>
                    <a:pt x="862" y="35"/>
                  </a:lnTo>
                  <a:lnTo>
                    <a:pt x="874" y="40"/>
                  </a:lnTo>
                  <a:lnTo>
                    <a:pt x="884" y="43"/>
                  </a:lnTo>
                  <a:lnTo>
                    <a:pt x="894" y="48"/>
                  </a:lnTo>
                  <a:lnTo>
                    <a:pt x="907" y="57"/>
                  </a:lnTo>
                  <a:lnTo>
                    <a:pt x="924" y="68"/>
                  </a:lnTo>
                  <a:lnTo>
                    <a:pt x="942" y="82"/>
                  </a:lnTo>
                  <a:lnTo>
                    <a:pt x="962" y="97"/>
                  </a:lnTo>
                  <a:lnTo>
                    <a:pt x="985" y="112"/>
                  </a:lnTo>
                  <a:lnTo>
                    <a:pt x="1009" y="127"/>
                  </a:lnTo>
                  <a:lnTo>
                    <a:pt x="1035" y="142"/>
                  </a:lnTo>
                  <a:lnTo>
                    <a:pt x="1060" y="155"/>
                  </a:lnTo>
                  <a:lnTo>
                    <a:pt x="1080" y="168"/>
                  </a:lnTo>
                  <a:lnTo>
                    <a:pt x="1099" y="180"/>
                  </a:lnTo>
                  <a:lnTo>
                    <a:pt x="1114" y="190"/>
                  </a:lnTo>
                  <a:lnTo>
                    <a:pt x="1124" y="197"/>
                  </a:lnTo>
                  <a:lnTo>
                    <a:pt x="1132" y="203"/>
                  </a:lnTo>
                  <a:lnTo>
                    <a:pt x="1137" y="207"/>
                  </a:lnTo>
                  <a:lnTo>
                    <a:pt x="1139" y="208"/>
                  </a:lnTo>
                  <a:lnTo>
                    <a:pt x="1142" y="210"/>
                  </a:lnTo>
                  <a:lnTo>
                    <a:pt x="1150" y="215"/>
                  </a:lnTo>
                  <a:lnTo>
                    <a:pt x="1162" y="223"/>
                  </a:lnTo>
                  <a:lnTo>
                    <a:pt x="1177" y="233"/>
                  </a:lnTo>
                  <a:lnTo>
                    <a:pt x="1192" y="243"/>
                  </a:lnTo>
                  <a:lnTo>
                    <a:pt x="1205" y="255"/>
                  </a:lnTo>
                  <a:lnTo>
                    <a:pt x="1217" y="265"/>
                  </a:lnTo>
                  <a:lnTo>
                    <a:pt x="1225" y="275"/>
                  </a:lnTo>
                  <a:lnTo>
                    <a:pt x="1234" y="285"/>
                  </a:lnTo>
                  <a:lnTo>
                    <a:pt x="1245" y="297"/>
                  </a:lnTo>
                  <a:lnTo>
                    <a:pt x="1259" y="310"/>
                  </a:lnTo>
                  <a:lnTo>
                    <a:pt x="1276" y="325"/>
                  </a:lnTo>
                  <a:lnTo>
                    <a:pt x="1292" y="340"/>
                  </a:lnTo>
                  <a:lnTo>
                    <a:pt x="1309" y="354"/>
                  </a:lnTo>
                  <a:lnTo>
                    <a:pt x="1324" y="365"/>
                  </a:lnTo>
                  <a:lnTo>
                    <a:pt x="1334" y="375"/>
                  </a:lnTo>
                  <a:lnTo>
                    <a:pt x="1346" y="385"/>
                  </a:lnTo>
                  <a:lnTo>
                    <a:pt x="1362" y="397"/>
                  </a:lnTo>
                  <a:lnTo>
                    <a:pt x="1381" y="410"/>
                  </a:lnTo>
                  <a:lnTo>
                    <a:pt x="1401" y="424"/>
                  </a:lnTo>
                  <a:lnTo>
                    <a:pt x="1421" y="437"/>
                  </a:lnTo>
                  <a:lnTo>
                    <a:pt x="1436" y="445"/>
                  </a:lnTo>
                  <a:lnTo>
                    <a:pt x="1447" y="454"/>
                  </a:lnTo>
                  <a:lnTo>
                    <a:pt x="1451" y="455"/>
                  </a:lnTo>
                  <a:lnTo>
                    <a:pt x="1489" y="509"/>
                  </a:lnTo>
                  <a:lnTo>
                    <a:pt x="1497" y="509"/>
                  </a:lnTo>
                  <a:lnTo>
                    <a:pt x="1517" y="509"/>
                  </a:lnTo>
                  <a:lnTo>
                    <a:pt x="1546" y="509"/>
                  </a:lnTo>
                  <a:lnTo>
                    <a:pt x="1581" y="509"/>
                  </a:lnTo>
                  <a:lnTo>
                    <a:pt x="1617" y="510"/>
                  </a:lnTo>
                  <a:lnTo>
                    <a:pt x="1651" y="514"/>
                  </a:lnTo>
                  <a:lnTo>
                    <a:pt x="1677" y="520"/>
                  </a:lnTo>
                  <a:lnTo>
                    <a:pt x="1694" y="527"/>
                  </a:lnTo>
                  <a:lnTo>
                    <a:pt x="1696" y="527"/>
                  </a:lnTo>
                  <a:lnTo>
                    <a:pt x="1702" y="525"/>
                  </a:lnTo>
                  <a:lnTo>
                    <a:pt x="1712" y="522"/>
                  </a:lnTo>
                  <a:lnTo>
                    <a:pt x="1722" y="520"/>
                  </a:lnTo>
                  <a:lnTo>
                    <a:pt x="1736" y="519"/>
                  </a:lnTo>
                  <a:lnTo>
                    <a:pt x="1747" y="515"/>
                  </a:lnTo>
                  <a:lnTo>
                    <a:pt x="1759" y="514"/>
                  </a:lnTo>
                  <a:lnTo>
                    <a:pt x="1769" y="514"/>
                  </a:lnTo>
                  <a:lnTo>
                    <a:pt x="1782" y="515"/>
                  </a:lnTo>
                  <a:lnTo>
                    <a:pt x="1801" y="519"/>
                  </a:lnTo>
                  <a:lnTo>
                    <a:pt x="1823" y="522"/>
                  </a:lnTo>
                  <a:lnTo>
                    <a:pt x="1848" y="527"/>
                  </a:lnTo>
                  <a:lnTo>
                    <a:pt x="1869" y="534"/>
                  </a:lnTo>
                  <a:lnTo>
                    <a:pt x="1889" y="537"/>
                  </a:lnTo>
                  <a:lnTo>
                    <a:pt x="1903" y="540"/>
                  </a:lnTo>
                  <a:lnTo>
                    <a:pt x="1908" y="542"/>
                  </a:lnTo>
                  <a:lnTo>
                    <a:pt x="1926" y="604"/>
                  </a:lnTo>
                  <a:lnTo>
                    <a:pt x="2044" y="604"/>
                  </a:lnTo>
                  <a:lnTo>
                    <a:pt x="2064" y="689"/>
                  </a:lnTo>
                  <a:lnTo>
                    <a:pt x="2071" y="692"/>
                  </a:lnTo>
                  <a:lnTo>
                    <a:pt x="2083" y="704"/>
                  </a:lnTo>
                  <a:lnTo>
                    <a:pt x="2093" y="722"/>
                  </a:lnTo>
                  <a:lnTo>
                    <a:pt x="2093" y="746"/>
                  </a:lnTo>
                  <a:lnTo>
                    <a:pt x="2116" y="784"/>
                  </a:lnTo>
                  <a:lnTo>
                    <a:pt x="2154" y="769"/>
                  </a:lnTo>
                  <a:lnTo>
                    <a:pt x="2158" y="774"/>
                  </a:lnTo>
                  <a:lnTo>
                    <a:pt x="2164" y="786"/>
                  </a:lnTo>
                  <a:lnTo>
                    <a:pt x="2169" y="801"/>
                  </a:lnTo>
                  <a:lnTo>
                    <a:pt x="2173" y="812"/>
                  </a:lnTo>
                  <a:lnTo>
                    <a:pt x="2176" y="824"/>
                  </a:lnTo>
                  <a:lnTo>
                    <a:pt x="2183" y="834"/>
                  </a:lnTo>
                  <a:lnTo>
                    <a:pt x="2189" y="842"/>
                  </a:lnTo>
                  <a:lnTo>
                    <a:pt x="2193" y="846"/>
                  </a:lnTo>
                  <a:lnTo>
                    <a:pt x="2201" y="822"/>
                  </a:lnTo>
                  <a:lnTo>
                    <a:pt x="2226" y="869"/>
                  </a:lnTo>
                  <a:lnTo>
                    <a:pt x="2228" y="869"/>
                  </a:lnTo>
                  <a:lnTo>
                    <a:pt x="2234" y="871"/>
                  </a:lnTo>
                  <a:lnTo>
                    <a:pt x="2244" y="874"/>
                  </a:lnTo>
                  <a:lnTo>
                    <a:pt x="2254" y="877"/>
                  </a:lnTo>
                  <a:lnTo>
                    <a:pt x="2266" y="882"/>
                  </a:lnTo>
                  <a:lnTo>
                    <a:pt x="2276" y="887"/>
                  </a:lnTo>
                  <a:lnTo>
                    <a:pt x="2284" y="894"/>
                  </a:lnTo>
                  <a:lnTo>
                    <a:pt x="2288" y="902"/>
                  </a:lnTo>
                  <a:lnTo>
                    <a:pt x="2289" y="921"/>
                  </a:lnTo>
                  <a:lnTo>
                    <a:pt x="2293" y="937"/>
                  </a:lnTo>
                  <a:lnTo>
                    <a:pt x="2296" y="952"/>
                  </a:lnTo>
                  <a:lnTo>
                    <a:pt x="2306" y="964"/>
                  </a:lnTo>
                  <a:lnTo>
                    <a:pt x="2316" y="979"/>
                  </a:lnTo>
                  <a:lnTo>
                    <a:pt x="2321" y="996"/>
                  </a:lnTo>
                  <a:lnTo>
                    <a:pt x="2318" y="1011"/>
                  </a:lnTo>
                  <a:lnTo>
                    <a:pt x="2311" y="1017"/>
                  </a:lnTo>
                  <a:lnTo>
                    <a:pt x="2303" y="1019"/>
                  </a:lnTo>
                  <a:lnTo>
                    <a:pt x="2299" y="1024"/>
                  </a:lnTo>
                  <a:lnTo>
                    <a:pt x="2301" y="1032"/>
                  </a:lnTo>
                  <a:lnTo>
                    <a:pt x="2306" y="1046"/>
                  </a:lnTo>
                  <a:lnTo>
                    <a:pt x="2313" y="1061"/>
                  </a:lnTo>
                  <a:lnTo>
                    <a:pt x="2319" y="1076"/>
                  </a:lnTo>
                  <a:lnTo>
                    <a:pt x="2324" y="1092"/>
                  </a:lnTo>
                  <a:lnTo>
                    <a:pt x="2329" y="1107"/>
                  </a:lnTo>
                  <a:lnTo>
                    <a:pt x="2336" y="1117"/>
                  </a:lnTo>
                  <a:lnTo>
                    <a:pt x="2344" y="1121"/>
                  </a:lnTo>
                  <a:lnTo>
                    <a:pt x="2351" y="1121"/>
                  </a:lnTo>
                  <a:lnTo>
                    <a:pt x="2354" y="1121"/>
                  </a:lnTo>
                  <a:lnTo>
                    <a:pt x="2356" y="1129"/>
                  </a:lnTo>
                  <a:lnTo>
                    <a:pt x="2365" y="1149"/>
                  </a:lnTo>
                  <a:lnTo>
                    <a:pt x="2375" y="1174"/>
                  </a:lnTo>
                  <a:lnTo>
                    <a:pt x="2388" y="1192"/>
                  </a:lnTo>
                  <a:lnTo>
                    <a:pt x="2395" y="1201"/>
                  </a:lnTo>
                  <a:lnTo>
                    <a:pt x="2400" y="1209"/>
                  </a:lnTo>
                  <a:lnTo>
                    <a:pt x="2405" y="1217"/>
                  </a:lnTo>
                  <a:lnTo>
                    <a:pt x="2411" y="1227"/>
                  </a:lnTo>
                  <a:lnTo>
                    <a:pt x="2416" y="1236"/>
                  </a:lnTo>
                  <a:lnTo>
                    <a:pt x="2425" y="1244"/>
                  </a:lnTo>
                  <a:lnTo>
                    <a:pt x="2433" y="1253"/>
                  </a:lnTo>
                  <a:lnTo>
                    <a:pt x="2445" y="1259"/>
                  </a:lnTo>
                  <a:lnTo>
                    <a:pt x="2456" y="1263"/>
                  </a:lnTo>
                  <a:lnTo>
                    <a:pt x="2468" y="1263"/>
                  </a:lnTo>
                  <a:lnTo>
                    <a:pt x="2478" y="1263"/>
                  </a:lnTo>
                  <a:lnTo>
                    <a:pt x="2486" y="1259"/>
                  </a:lnTo>
                  <a:lnTo>
                    <a:pt x="2493" y="1256"/>
                  </a:lnTo>
                  <a:lnTo>
                    <a:pt x="2498" y="1253"/>
                  </a:lnTo>
                  <a:lnTo>
                    <a:pt x="2500" y="1251"/>
                  </a:lnTo>
                  <a:lnTo>
                    <a:pt x="2501" y="1249"/>
                  </a:lnTo>
                  <a:lnTo>
                    <a:pt x="2520" y="1259"/>
                  </a:lnTo>
                  <a:lnTo>
                    <a:pt x="2501" y="1293"/>
                  </a:lnTo>
                  <a:lnTo>
                    <a:pt x="2501" y="1294"/>
                  </a:lnTo>
                  <a:lnTo>
                    <a:pt x="2501" y="1299"/>
                  </a:lnTo>
                  <a:lnTo>
                    <a:pt x="2503" y="1304"/>
                  </a:lnTo>
                  <a:lnTo>
                    <a:pt x="2511" y="1306"/>
                  </a:lnTo>
                  <a:lnTo>
                    <a:pt x="2521" y="1314"/>
                  </a:lnTo>
                  <a:lnTo>
                    <a:pt x="2531" y="1329"/>
                  </a:lnTo>
                  <a:lnTo>
                    <a:pt x="2536" y="1346"/>
                  </a:lnTo>
                  <a:lnTo>
                    <a:pt x="2540" y="1354"/>
                  </a:lnTo>
                  <a:lnTo>
                    <a:pt x="2541" y="1356"/>
                  </a:lnTo>
                  <a:lnTo>
                    <a:pt x="2546" y="1361"/>
                  </a:lnTo>
                  <a:lnTo>
                    <a:pt x="2553" y="1368"/>
                  </a:lnTo>
                  <a:lnTo>
                    <a:pt x="2561" y="1378"/>
                  </a:lnTo>
                  <a:lnTo>
                    <a:pt x="2571" y="1388"/>
                  </a:lnTo>
                  <a:lnTo>
                    <a:pt x="2583" y="1401"/>
                  </a:lnTo>
                  <a:lnTo>
                    <a:pt x="2595" y="1414"/>
                  </a:lnTo>
                  <a:lnTo>
                    <a:pt x="2606" y="1428"/>
                  </a:lnTo>
                  <a:lnTo>
                    <a:pt x="2618" y="1443"/>
                  </a:lnTo>
                  <a:lnTo>
                    <a:pt x="2631" y="1458"/>
                  </a:lnTo>
                  <a:lnTo>
                    <a:pt x="2645" y="1473"/>
                  </a:lnTo>
                  <a:lnTo>
                    <a:pt x="2658" y="1488"/>
                  </a:lnTo>
                  <a:lnTo>
                    <a:pt x="2670" y="1501"/>
                  </a:lnTo>
                  <a:lnTo>
                    <a:pt x="2680" y="1511"/>
                  </a:lnTo>
                  <a:lnTo>
                    <a:pt x="2688" y="1521"/>
                  </a:lnTo>
                  <a:lnTo>
                    <a:pt x="2691" y="1528"/>
                  </a:lnTo>
                  <a:lnTo>
                    <a:pt x="2701" y="1533"/>
                  </a:lnTo>
                  <a:lnTo>
                    <a:pt x="2723" y="1538"/>
                  </a:lnTo>
                  <a:lnTo>
                    <a:pt x="2753" y="1543"/>
                  </a:lnTo>
                  <a:lnTo>
                    <a:pt x="2790" y="1546"/>
                  </a:lnTo>
                  <a:lnTo>
                    <a:pt x="2828" y="1549"/>
                  </a:lnTo>
                  <a:lnTo>
                    <a:pt x="2863" y="1551"/>
                  </a:lnTo>
                  <a:lnTo>
                    <a:pt x="2891" y="1554"/>
                  </a:lnTo>
                  <a:lnTo>
                    <a:pt x="2910" y="1556"/>
                  </a:lnTo>
                  <a:lnTo>
                    <a:pt x="2925" y="1558"/>
                  </a:lnTo>
                  <a:lnTo>
                    <a:pt x="2945" y="1559"/>
                  </a:lnTo>
                  <a:lnTo>
                    <a:pt x="2968" y="1561"/>
                  </a:lnTo>
                  <a:lnTo>
                    <a:pt x="2992" y="1563"/>
                  </a:lnTo>
                  <a:lnTo>
                    <a:pt x="3013" y="1566"/>
                  </a:lnTo>
                  <a:lnTo>
                    <a:pt x="3033" y="1568"/>
                  </a:lnTo>
                  <a:lnTo>
                    <a:pt x="3048" y="1569"/>
                  </a:lnTo>
                  <a:lnTo>
                    <a:pt x="3057" y="1571"/>
                  </a:lnTo>
                  <a:lnTo>
                    <a:pt x="3070" y="1569"/>
                  </a:lnTo>
                  <a:lnTo>
                    <a:pt x="3083" y="1563"/>
                  </a:lnTo>
                  <a:lnTo>
                    <a:pt x="3095" y="1554"/>
                  </a:lnTo>
                  <a:lnTo>
                    <a:pt x="3100" y="1551"/>
                  </a:lnTo>
                  <a:lnTo>
                    <a:pt x="3102" y="1553"/>
                  </a:lnTo>
                  <a:lnTo>
                    <a:pt x="3105" y="1556"/>
                  </a:lnTo>
                  <a:lnTo>
                    <a:pt x="3112" y="1561"/>
                  </a:lnTo>
                  <a:lnTo>
                    <a:pt x="3120" y="1568"/>
                  </a:lnTo>
                  <a:lnTo>
                    <a:pt x="3130" y="1576"/>
                  </a:lnTo>
                  <a:lnTo>
                    <a:pt x="3140" y="1586"/>
                  </a:lnTo>
                  <a:lnTo>
                    <a:pt x="3152" y="1598"/>
                  </a:lnTo>
                  <a:lnTo>
                    <a:pt x="3162" y="1609"/>
                  </a:lnTo>
                  <a:lnTo>
                    <a:pt x="3172" y="1624"/>
                  </a:lnTo>
                  <a:lnTo>
                    <a:pt x="3180" y="1638"/>
                  </a:lnTo>
                  <a:lnTo>
                    <a:pt x="3183" y="1653"/>
                  </a:lnTo>
                  <a:lnTo>
                    <a:pt x="3185" y="1668"/>
                  </a:lnTo>
                  <a:lnTo>
                    <a:pt x="3185" y="1678"/>
                  </a:lnTo>
                  <a:lnTo>
                    <a:pt x="3183" y="1688"/>
                  </a:lnTo>
                  <a:lnTo>
                    <a:pt x="3180" y="1696"/>
                  </a:lnTo>
                  <a:lnTo>
                    <a:pt x="3175" y="1704"/>
                  </a:lnTo>
                  <a:lnTo>
                    <a:pt x="3168" y="1724"/>
                  </a:lnTo>
                  <a:lnTo>
                    <a:pt x="3168" y="1748"/>
                  </a:lnTo>
                  <a:lnTo>
                    <a:pt x="3168" y="1771"/>
                  </a:lnTo>
                  <a:lnTo>
                    <a:pt x="3167" y="1795"/>
                  </a:lnTo>
                  <a:lnTo>
                    <a:pt x="3162" y="1815"/>
                  </a:lnTo>
                  <a:lnTo>
                    <a:pt x="3153" y="1835"/>
                  </a:lnTo>
                  <a:lnTo>
                    <a:pt x="3145" y="1851"/>
                  </a:lnTo>
                  <a:lnTo>
                    <a:pt x="3138" y="1870"/>
                  </a:lnTo>
                  <a:lnTo>
                    <a:pt x="3132" y="1890"/>
                  </a:lnTo>
                  <a:lnTo>
                    <a:pt x="3125" y="1913"/>
                  </a:lnTo>
                  <a:lnTo>
                    <a:pt x="3120" y="1933"/>
                  </a:lnTo>
                  <a:lnTo>
                    <a:pt x="3118" y="1951"/>
                  </a:lnTo>
                  <a:lnTo>
                    <a:pt x="3117" y="1965"/>
                  </a:lnTo>
                  <a:lnTo>
                    <a:pt x="3115" y="1976"/>
                  </a:lnTo>
                  <a:lnTo>
                    <a:pt x="3108" y="1986"/>
                  </a:lnTo>
                  <a:lnTo>
                    <a:pt x="3100" y="1993"/>
                  </a:lnTo>
                  <a:lnTo>
                    <a:pt x="3093" y="1996"/>
                  </a:lnTo>
                  <a:lnTo>
                    <a:pt x="3078" y="2003"/>
                  </a:lnTo>
                  <a:lnTo>
                    <a:pt x="3057" y="2013"/>
                  </a:lnTo>
                  <a:lnTo>
                    <a:pt x="3028" y="2026"/>
                  </a:lnTo>
                  <a:lnTo>
                    <a:pt x="2997" y="2040"/>
                  </a:lnTo>
                  <a:lnTo>
                    <a:pt x="2962" y="2056"/>
                  </a:lnTo>
                  <a:lnTo>
                    <a:pt x="2923" y="2073"/>
                  </a:lnTo>
                  <a:lnTo>
                    <a:pt x="2885" y="2090"/>
                  </a:lnTo>
                  <a:lnTo>
                    <a:pt x="2845" y="2108"/>
                  </a:lnTo>
                  <a:lnTo>
                    <a:pt x="2806" y="2125"/>
                  </a:lnTo>
                  <a:lnTo>
                    <a:pt x="2770" y="2141"/>
                  </a:lnTo>
                  <a:lnTo>
                    <a:pt x="2736" y="2155"/>
                  </a:lnTo>
                  <a:lnTo>
                    <a:pt x="2708" y="2168"/>
                  </a:lnTo>
                  <a:lnTo>
                    <a:pt x="2685" y="2180"/>
                  </a:lnTo>
                  <a:lnTo>
                    <a:pt x="2668" y="2188"/>
                  </a:lnTo>
                  <a:lnTo>
                    <a:pt x="2658" y="2193"/>
                  </a:lnTo>
                  <a:lnTo>
                    <a:pt x="2645" y="2200"/>
                  </a:lnTo>
                  <a:lnTo>
                    <a:pt x="2628" y="2205"/>
                  </a:lnTo>
                  <a:lnTo>
                    <a:pt x="2608" y="2208"/>
                  </a:lnTo>
                  <a:lnTo>
                    <a:pt x="2586" y="2211"/>
                  </a:lnTo>
                  <a:lnTo>
                    <a:pt x="2561" y="2215"/>
                  </a:lnTo>
                  <a:lnTo>
                    <a:pt x="2535" y="2220"/>
                  </a:lnTo>
                  <a:lnTo>
                    <a:pt x="2508" y="2225"/>
                  </a:lnTo>
                  <a:lnTo>
                    <a:pt x="2481" y="2231"/>
                  </a:lnTo>
                  <a:lnTo>
                    <a:pt x="2466" y="2235"/>
                  </a:lnTo>
                  <a:lnTo>
                    <a:pt x="2446" y="2240"/>
                  </a:lnTo>
                  <a:lnTo>
                    <a:pt x="2425" y="2245"/>
                  </a:lnTo>
                  <a:lnTo>
                    <a:pt x="2398" y="2252"/>
                  </a:lnTo>
                  <a:lnTo>
                    <a:pt x="2371" y="2258"/>
                  </a:lnTo>
                  <a:lnTo>
                    <a:pt x="2343" y="2265"/>
                  </a:lnTo>
                  <a:lnTo>
                    <a:pt x="2313" y="2272"/>
                  </a:lnTo>
                  <a:lnTo>
                    <a:pt x="2283" y="2278"/>
                  </a:lnTo>
                  <a:lnTo>
                    <a:pt x="2253" y="2285"/>
                  </a:lnTo>
                  <a:lnTo>
                    <a:pt x="2224" y="2293"/>
                  </a:lnTo>
                  <a:lnTo>
                    <a:pt x="2198" y="2300"/>
                  </a:lnTo>
                  <a:lnTo>
                    <a:pt x="2173" y="2307"/>
                  </a:lnTo>
                  <a:lnTo>
                    <a:pt x="2151" y="2312"/>
                  </a:lnTo>
                  <a:lnTo>
                    <a:pt x="2134" y="2318"/>
                  </a:lnTo>
                  <a:lnTo>
                    <a:pt x="2119" y="2323"/>
                  </a:lnTo>
                  <a:lnTo>
                    <a:pt x="2111" y="2327"/>
                  </a:lnTo>
                  <a:lnTo>
                    <a:pt x="2098" y="2333"/>
                  </a:lnTo>
                  <a:lnTo>
                    <a:pt x="2086" y="2338"/>
                  </a:lnTo>
                  <a:lnTo>
                    <a:pt x="2071" y="2347"/>
                  </a:lnTo>
                  <a:lnTo>
                    <a:pt x="2058" y="2353"/>
                  </a:lnTo>
                  <a:lnTo>
                    <a:pt x="2043" y="2365"/>
                  </a:lnTo>
                  <a:lnTo>
                    <a:pt x="2028" y="2378"/>
                  </a:lnTo>
                  <a:lnTo>
                    <a:pt x="2011" y="2398"/>
                  </a:lnTo>
                  <a:lnTo>
                    <a:pt x="1993" y="2422"/>
                  </a:lnTo>
                  <a:lnTo>
                    <a:pt x="1976" y="2447"/>
                  </a:lnTo>
                  <a:lnTo>
                    <a:pt x="1961" y="2470"/>
                  </a:lnTo>
                  <a:lnTo>
                    <a:pt x="1946" y="2492"/>
                  </a:lnTo>
                  <a:lnTo>
                    <a:pt x="1933" y="2512"/>
                  </a:lnTo>
                  <a:lnTo>
                    <a:pt x="1923" y="2528"/>
                  </a:lnTo>
                  <a:lnTo>
                    <a:pt x="1913" y="2542"/>
                  </a:lnTo>
                  <a:lnTo>
                    <a:pt x="1904" y="2552"/>
                  </a:lnTo>
                  <a:lnTo>
                    <a:pt x="1898" y="2558"/>
                  </a:lnTo>
                  <a:lnTo>
                    <a:pt x="1891" y="2563"/>
                  </a:lnTo>
                  <a:lnTo>
                    <a:pt x="1884" y="2568"/>
                  </a:lnTo>
                  <a:lnTo>
                    <a:pt x="1874" y="2573"/>
                  </a:lnTo>
                  <a:lnTo>
                    <a:pt x="1864" y="2575"/>
                  </a:lnTo>
                  <a:lnTo>
                    <a:pt x="1853" y="2577"/>
                  </a:lnTo>
                  <a:lnTo>
                    <a:pt x="1843" y="2577"/>
                  </a:lnTo>
                  <a:lnTo>
                    <a:pt x="1833" y="2573"/>
                  </a:lnTo>
                  <a:lnTo>
                    <a:pt x="1823" y="2568"/>
                  </a:lnTo>
                  <a:lnTo>
                    <a:pt x="1814" y="2562"/>
                  </a:lnTo>
                  <a:lnTo>
                    <a:pt x="1806" y="2553"/>
                  </a:lnTo>
                  <a:lnTo>
                    <a:pt x="1799" y="2547"/>
                  </a:lnTo>
                  <a:lnTo>
                    <a:pt x="1794" y="2538"/>
                  </a:lnTo>
                  <a:lnTo>
                    <a:pt x="1787" y="2533"/>
                  </a:lnTo>
                  <a:lnTo>
                    <a:pt x="1781" y="2530"/>
                  </a:lnTo>
                  <a:lnTo>
                    <a:pt x="1772" y="2528"/>
                  </a:lnTo>
                  <a:lnTo>
                    <a:pt x="1764" y="2530"/>
                  </a:lnTo>
                  <a:lnTo>
                    <a:pt x="1752" y="2533"/>
                  </a:lnTo>
                  <a:lnTo>
                    <a:pt x="1739" y="2535"/>
                  </a:lnTo>
                  <a:lnTo>
                    <a:pt x="1722" y="2535"/>
                  </a:lnTo>
                  <a:lnTo>
                    <a:pt x="1704" y="2535"/>
                  </a:lnTo>
                  <a:lnTo>
                    <a:pt x="1684" y="2535"/>
                  </a:lnTo>
                  <a:lnTo>
                    <a:pt x="1666" y="2533"/>
                  </a:lnTo>
                  <a:lnTo>
                    <a:pt x="1647" y="2532"/>
                  </a:lnTo>
                  <a:lnTo>
                    <a:pt x="1632" y="2530"/>
                  </a:lnTo>
                  <a:lnTo>
                    <a:pt x="1617" y="2528"/>
                  </a:lnTo>
                  <a:lnTo>
                    <a:pt x="1602" y="2525"/>
                  </a:lnTo>
                  <a:lnTo>
                    <a:pt x="1589" y="2520"/>
                  </a:lnTo>
                  <a:lnTo>
                    <a:pt x="1574" y="2517"/>
                  </a:lnTo>
                  <a:lnTo>
                    <a:pt x="1561" y="2513"/>
                  </a:lnTo>
                  <a:lnTo>
                    <a:pt x="1549" y="2510"/>
                  </a:lnTo>
                  <a:lnTo>
                    <a:pt x="1537" y="2507"/>
                  </a:lnTo>
                  <a:lnTo>
                    <a:pt x="1527" y="2507"/>
                  </a:lnTo>
                  <a:lnTo>
                    <a:pt x="1514" y="2507"/>
                  </a:lnTo>
                  <a:lnTo>
                    <a:pt x="1492" y="2507"/>
                  </a:lnTo>
                  <a:lnTo>
                    <a:pt x="1466" y="2508"/>
                  </a:lnTo>
                  <a:lnTo>
                    <a:pt x="1436" y="2508"/>
                  </a:lnTo>
                  <a:lnTo>
                    <a:pt x="1409" y="2510"/>
                  </a:lnTo>
                  <a:lnTo>
                    <a:pt x="1386" y="2512"/>
                  </a:lnTo>
                  <a:lnTo>
                    <a:pt x="1369" y="2512"/>
                  </a:lnTo>
                  <a:lnTo>
                    <a:pt x="1362" y="2512"/>
                  </a:lnTo>
                  <a:lnTo>
                    <a:pt x="1361" y="2513"/>
                  </a:lnTo>
                  <a:lnTo>
                    <a:pt x="1356" y="2515"/>
                  </a:lnTo>
                  <a:lnTo>
                    <a:pt x="1349" y="2518"/>
                  </a:lnTo>
                  <a:lnTo>
                    <a:pt x="1339" y="2520"/>
                  </a:lnTo>
                  <a:lnTo>
                    <a:pt x="1329" y="2522"/>
                  </a:lnTo>
                  <a:lnTo>
                    <a:pt x="1317" y="2522"/>
                  </a:lnTo>
                  <a:lnTo>
                    <a:pt x="1304" y="2518"/>
                  </a:lnTo>
                  <a:lnTo>
                    <a:pt x="1292" y="2512"/>
                  </a:lnTo>
                  <a:lnTo>
                    <a:pt x="1281" y="2503"/>
                  </a:lnTo>
                  <a:lnTo>
                    <a:pt x="1272" y="2497"/>
                  </a:lnTo>
                  <a:lnTo>
                    <a:pt x="1266" y="2490"/>
                  </a:lnTo>
                  <a:lnTo>
                    <a:pt x="1261" y="2485"/>
                  </a:lnTo>
                  <a:lnTo>
                    <a:pt x="1256" y="2482"/>
                  </a:lnTo>
                  <a:lnTo>
                    <a:pt x="1250" y="2480"/>
                  </a:lnTo>
                  <a:lnTo>
                    <a:pt x="1245" y="2480"/>
                  </a:lnTo>
                  <a:lnTo>
                    <a:pt x="1239" y="2483"/>
                  </a:lnTo>
                  <a:lnTo>
                    <a:pt x="1232" y="2490"/>
                  </a:lnTo>
                  <a:lnTo>
                    <a:pt x="1235" y="2498"/>
                  </a:lnTo>
                  <a:lnTo>
                    <a:pt x="1240" y="2510"/>
                  </a:lnTo>
                  <a:lnTo>
                    <a:pt x="1239" y="2525"/>
                  </a:lnTo>
                  <a:lnTo>
                    <a:pt x="1234" y="2545"/>
                  </a:lnTo>
                  <a:lnTo>
                    <a:pt x="1232" y="2567"/>
                  </a:lnTo>
                  <a:lnTo>
                    <a:pt x="1234" y="2587"/>
                  </a:lnTo>
                  <a:lnTo>
                    <a:pt x="1234" y="2602"/>
                  </a:lnTo>
                  <a:lnTo>
                    <a:pt x="1230" y="2615"/>
                  </a:lnTo>
                  <a:lnTo>
                    <a:pt x="1225" y="2630"/>
                  </a:lnTo>
                  <a:lnTo>
                    <a:pt x="1219" y="2643"/>
                  </a:lnTo>
                  <a:lnTo>
                    <a:pt x="1215" y="2648"/>
                  </a:lnTo>
                  <a:lnTo>
                    <a:pt x="1177" y="2678"/>
                  </a:lnTo>
                  <a:lnTo>
                    <a:pt x="1175" y="2672"/>
                  </a:lnTo>
                  <a:lnTo>
                    <a:pt x="1170" y="2657"/>
                  </a:lnTo>
                  <a:lnTo>
                    <a:pt x="1167" y="2640"/>
                  </a:lnTo>
                  <a:lnTo>
                    <a:pt x="1167" y="2625"/>
                  </a:lnTo>
                  <a:lnTo>
                    <a:pt x="1167" y="2613"/>
                  </a:lnTo>
                  <a:lnTo>
                    <a:pt x="1164" y="2598"/>
                  </a:lnTo>
                  <a:lnTo>
                    <a:pt x="1154" y="2583"/>
                  </a:lnTo>
                  <a:lnTo>
                    <a:pt x="1144" y="2568"/>
                  </a:lnTo>
                  <a:lnTo>
                    <a:pt x="1134" y="2555"/>
                  </a:lnTo>
                  <a:lnTo>
                    <a:pt x="1124" y="2543"/>
                  </a:lnTo>
                  <a:lnTo>
                    <a:pt x="1115" y="2532"/>
                  </a:lnTo>
                  <a:lnTo>
                    <a:pt x="1110" y="2522"/>
                  </a:lnTo>
                  <a:lnTo>
                    <a:pt x="1107" y="2508"/>
                  </a:lnTo>
                  <a:lnTo>
                    <a:pt x="1104" y="2492"/>
                  </a:lnTo>
                  <a:lnTo>
                    <a:pt x="1095" y="2475"/>
                  </a:lnTo>
                  <a:lnTo>
                    <a:pt x="1082" y="2458"/>
                  </a:lnTo>
                  <a:lnTo>
                    <a:pt x="1072" y="2450"/>
                  </a:lnTo>
                  <a:lnTo>
                    <a:pt x="1059" y="2437"/>
                  </a:lnTo>
                  <a:lnTo>
                    <a:pt x="1044" y="2423"/>
                  </a:lnTo>
                  <a:lnTo>
                    <a:pt x="1029" y="2405"/>
                  </a:lnTo>
                  <a:lnTo>
                    <a:pt x="1014" y="2387"/>
                  </a:lnTo>
                  <a:lnTo>
                    <a:pt x="999" y="2368"/>
                  </a:lnTo>
                  <a:lnTo>
                    <a:pt x="987" y="2350"/>
                  </a:lnTo>
                  <a:lnTo>
                    <a:pt x="979" y="2332"/>
                  </a:lnTo>
                  <a:lnTo>
                    <a:pt x="964" y="2302"/>
                  </a:lnTo>
                  <a:lnTo>
                    <a:pt x="949" y="2280"/>
                  </a:lnTo>
                  <a:lnTo>
                    <a:pt x="937" y="2263"/>
                  </a:lnTo>
                  <a:lnTo>
                    <a:pt x="930" y="2245"/>
                  </a:lnTo>
                  <a:lnTo>
                    <a:pt x="927" y="2231"/>
                  </a:lnTo>
                  <a:lnTo>
                    <a:pt x="920" y="2211"/>
                  </a:lnTo>
                  <a:lnTo>
                    <a:pt x="910" y="2190"/>
                  </a:lnTo>
                  <a:lnTo>
                    <a:pt x="900" y="2166"/>
                  </a:lnTo>
                  <a:lnTo>
                    <a:pt x="890" y="2143"/>
                  </a:lnTo>
                  <a:lnTo>
                    <a:pt x="880" y="2123"/>
                  </a:lnTo>
                  <a:lnTo>
                    <a:pt x="870" y="2108"/>
                  </a:lnTo>
                  <a:lnTo>
                    <a:pt x="864" y="2098"/>
                  </a:lnTo>
                  <a:lnTo>
                    <a:pt x="854" y="2085"/>
                  </a:lnTo>
                  <a:lnTo>
                    <a:pt x="845" y="2071"/>
                  </a:lnTo>
                  <a:lnTo>
                    <a:pt x="834" y="2056"/>
                  </a:lnTo>
                  <a:lnTo>
                    <a:pt x="822" y="2041"/>
                  </a:lnTo>
                  <a:lnTo>
                    <a:pt x="814" y="2033"/>
                  </a:lnTo>
                  <a:lnTo>
                    <a:pt x="802" y="2025"/>
                  </a:lnTo>
                  <a:lnTo>
                    <a:pt x="790" y="2018"/>
                  </a:lnTo>
                  <a:lnTo>
                    <a:pt x="779" y="2010"/>
                  </a:lnTo>
                  <a:lnTo>
                    <a:pt x="765" y="2003"/>
                  </a:lnTo>
                  <a:lnTo>
                    <a:pt x="752" y="1998"/>
                  </a:lnTo>
                  <a:lnTo>
                    <a:pt x="740" y="1995"/>
                  </a:lnTo>
                  <a:lnTo>
                    <a:pt x="730" y="1993"/>
                  </a:lnTo>
                  <a:lnTo>
                    <a:pt x="722" y="1991"/>
                  </a:lnTo>
                  <a:lnTo>
                    <a:pt x="717" y="1988"/>
                  </a:lnTo>
                  <a:lnTo>
                    <a:pt x="710" y="1983"/>
                  </a:lnTo>
                  <a:lnTo>
                    <a:pt x="705" y="1975"/>
                  </a:lnTo>
                  <a:lnTo>
                    <a:pt x="700" y="1966"/>
                  </a:lnTo>
                  <a:lnTo>
                    <a:pt x="693" y="1953"/>
                  </a:lnTo>
                  <a:lnTo>
                    <a:pt x="685" y="1940"/>
                  </a:lnTo>
                  <a:lnTo>
                    <a:pt x="673" y="1923"/>
                  </a:lnTo>
                  <a:lnTo>
                    <a:pt x="662" y="1905"/>
                  </a:lnTo>
                  <a:lnTo>
                    <a:pt x="652" y="1886"/>
                  </a:lnTo>
                  <a:lnTo>
                    <a:pt x="642" y="1868"/>
                  </a:lnTo>
                  <a:lnTo>
                    <a:pt x="635" y="1851"/>
                  </a:lnTo>
                  <a:lnTo>
                    <a:pt x="628" y="1833"/>
                  </a:lnTo>
                  <a:lnTo>
                    <a:pt x="623" y="1818"/>
                  </a:lnTo>
                  <a:lnTo>
                    <a:pt x="620" y="1803"/>
                  </a:lnTo>
                  <a:lnTo>
                    <a:pt x="617" y="1790"/>
                  </a:lnTo>
                  <a:lnTo>
                    <a:pt x="612" y="1765"/>
                  </a:lnTo>
                  <a:lnTo>
                    <a:pt x="603" y="1741"/>
                  </a:lnTo>
                  <a:lnTo>
                    <a:pt x="597" y="1724"/>
                  </a:lnTo>
                  <a:lnTo>
                    <a:pt x="593" y="1718"/>
                  </a:lnTo>
                  <a:lnTo>
                    <a:pt x="600" y="1706"/>
                  </a:lnTo>
                  <a:lnTo>
                    <a:pt x="610" y="1676"/>
                  </a:lnTo>
                  <a:lnTo>
                    <a:pt x="617" y="1636"/>
                  </a:lnTo>
                  <a:lnTo>
                    <a:pt x="607" y="1594"/>
                  </a:lnTo>
                  <a:lnTo>
                    <a:pt x="590" y="1559"/>
                  </a:lnTo>
                  <a:lnTo>
                    <a:pt x="582" y="1531"/>
                  </a:lnTo>
                  <a:lnTo>
                    <a:pt x="573" y="1503"/>
                  </a:lnTo>
                  <a:lnTo>
                    <a:pt x="560" y="1471"/>
                  </a:lnTo>
                  <a:lnTo>
                    <a:pt x="552" y="1454"/>
                  </a:lnTo>
                  <a:lnTo>
                    <a:pt x="547" y="1439"/>
                  </a:lnTo>
                  <a:lnTo>
                    <a:pt x="542" y="1426"/>
                  </a:lnTo>
                  <a:lnTo>
                    <a:pt x="537" y="1413"/>
                  </a:lnTo>
                  <a:lnTo>
                    <a:pt x="532" y="1401"/>
                  </a:lnTo>
                  <a:lnTo>
                    <a:pt x="525" y="1393"/>
                  </a:lnTo>
                  <a:lnTo>
                    <a:pt x="518" y="1383"/>
                  </a:lnTo>
                  <a:lnTo>
                    <a:pt x="508" y="1376"/>
                  </a:lnTo>
                  <a:lnTo>
                    <a:pt x="497" y="1369"/>
                  </a:lnTo>
                  <a:lnTo>
                    <a:pt x="487" y="1361"/>
                  </a:lnTo>
                  <a:lnTo>
                    <a:pt x="475" y="1354"/>
                  </a:lnTo>
                  <a:lnTo>
                    <a:pt x="463" y="1346"/>
                  </a:lnTo>
                  <a:lnTo>
                    <a:pt x="452" y="1338"/>
                  </a:lnTo>
                  <a:lnTo>
                    <a:pt x="440" y="1329"/>
                  </a:lnTo>
                  <a:lnTo>
                    <a:pt x="427" y="1323"/>
                  </a:lnTo>
                  <a:lnTo>
                    <a:pt x="413" y="1316"/>
                  </a:lnTo>
                  <a:lnTo>
                    <a:pt x="392" y="1303"/>
                  </a:lnTo>
                  <a:lnTo>
                    <a:pt x="382" y="1286"/>
                  </a:lnTo>
                  <a:lnTo>
                    <a:pt x="375" y="1268"/>
                  </a:lnTo>
                  <a:lnTo>
                    <a:pt x="365" y="1249"/>
                  </a:lnTo>
                  <a:lnTo>
                    <a:pt x="355" y="1232"/>
                  </a:lnTo>
                  <a:lnTo>
                    <a:pt x="348" y="1219"/>
                  </a:lnTo>
                  <a:lnTo>
                    <a:pt x="347" y="1209"/>
                  </a:lnTo>
                  <a:lnTo>
                    <a:pt x="347" y="1206"/>
                  </a:lnTo>
                  <a:lnTo>
                    <a:pt x="348" y="1206"/>
                  </a:lnTo>
                  <a:lnTo>
                    <a:pt x="353" y="1204"/>
                  </a:lnTo>
                  <a:lnTo>
                    <a:pt x="360" y="1201"/>
                  </a:lnTo>
                  <a:lnTo>
                    <a:pt x="367" y="1194"/>
                  </a:lnTo>
                  <a:lnTo>
                    <a:pt x="370" y="1187"/>
                  </a:lnTo>
                  <a:lnTo>
                    <a:pt x="370" y="1176"/>
                  </a:lnTo>
                  <a:lnTo>
                    <a:pt x="365" y="1162"/>
                  </a:lnTo>
                  <a:lnTo>
                    <a:pt x="352" y="1144"/>
                  </a:lnTo>
                  <a:lnTo>
                    <a:pt x="330" y="1122"/>
                  </a:lnTo>
                  <a:lnTo>
                    <a:pt x="327" y="1122"/>
                  </a:lnTo>
                  <a:lnTo>
                    <a:pt x="330" y="1126"/>
                  </a:lnTo>
                  <a:lnTo>
                    <a:pt x="327" y="1112"/>
                  </a:lnTo>
                  <a:lnTo>
                    <a:pt x="320" y="1091"/>
                  </a:lnTo>
                  <a:lnTo>
                    <a:pt x="315" y="1076"/>
                  </a:lnTo>
                  <a:lnTo>
                    <a:pt x="308" y="1066"/>
                  </a:lnTo>
                  <a:lnTo>
                    <a:pt x="293" y="1054"/>
                  </a:lnTo>
                  <a:lnTo>
                    <a:pt x="283" y="1039"/>
                  </a:lnTo>
                  <a:lnTo>
                    <a:pt x="285" y="1024"/>
                  </a:lnTo>
                  <a:lnTo>
                    <a:pt x="287" y="1011"/>
                  </a:lnTo>
                  <a:lnTo>
                    <a:pt x="275" y="997"/>
                  </a:lnTo>
                  <a:lnTo>
                    <a:pt x="257" y="986"/>
                  </a:lnTo>
                  <a:lnTo>
                    <a:pt x="243" y="971"/>
                  </a:lnTo>
                  <a:lnTo>
                    <a:pt x="235" y="954"/>
                  </a:lnTo>
                  <a:lnTo>
                    <a:pt x="232" y="936"/>
                  </a:lnTo>
                  <a:lnTo>
                    <a:pt x="228" y="916"/>
                  </a:lnTo>
                  <a:lnTo>
                    <a:pt x="218" y="889"/>
                  </a:lnTo>
                  <a:lnTo>
                    <a:pt x="205" y="862"/>
                  </a:lnTo>
                  <a:lnTo>
                    <a:pt x="185" y="836"/>
                  </a:lnTo>
                  <a:lnTo>
                    <a:pt x="172" y="814"/>
                  </a:lnTo>
                  <a:lnTo>
                    <a:pt x="168" y="796"/>
                  </a:lnTo>
                  <a:lnTo>
                    <a:pt x="167" y="782"/>
                  </a:lnTo>
                  <a:lnTo>
                    <a:pt x="157" y="774"/>
                  </a:lnTo>
                  <a:lnTo>
                    <a:pt x="145" y="766"/>
                  </a:lnTo>
                  <a:lnTo>
                    <a:pt x="140" y="754"/>
                  </a:lnTo>
                  <a:lnTo>
                    <a:pt x="133" y="739"/>
                  </a:lnTo>
                  <a:lnTo>
                    <a:pt x="118" y="722"/>
                  </a:lnTo>
                  <a:lnTo>
                    <a:pt x="100" y="700"/>
                  </a:lnTo>
                  <a:lnTo>
                    <a:pt x="86" y="674"/>
                  </a:lnTo>
                  <a:lnTo>
                    <a:pt x="78" y="652"/>
                  </a:lnTo>
                  <a:lnTo>
                    <a:pt x="75" y="642"/>
                  </a:lnTo>
                  <a:lnTo>
                    <a:pt x="70" y="642"/>
                  </a:lnTo>
                  <a:lnTo>
                    <a:pt x="60" y="642"/>
                  </a:lnTo>
                  <a:lnTo>
                    <a:pt x="45" y="642"/>
                  </a:lnTo>
                  <a:lnTo>
                    <a:pt x="33" y="642"/>
                  </a:lnTo>
                  <a:lnTo>
                    <a:pt x="21" y="642"/>
                  </a:lnTo>
                  <a:lnTo>
                    <a:pt x="11" y="644"/>
                  </a:lnTo>
                  <a:lnTo>
                    <a:pt x="3" y="645"/>
                  </a:lnTo>
                  <a:lnTo>
                    <a:pt x="0" y="645"/>
                  </a:lnTo>
                  <a:lnTo>
                    <a:pt x="1" y="642"/>
                  </a:lnTo>
                  <a:lnTo>
                    <a:pt x="5" y="632"/>
                  </a:lnTo>
                  <a:lnTo>
                    <a:pt x="8" y="620"/>
                  </a:lnTo>
                  <a:lnTo>
                    <a:pt x="13" y="609"/>
                  </a:lnTo>
                  <a:lnTo>
                    <a:pt x="20" y="592"/>
                  </a:lnTo>
                  <a:lnTo>
                    <a:pt x="28" y="569"/>
                  </a:lnTo>
                  <a:lnTo>
                    <a:pt x="35" y="542"/>
                  </a:lnTo>
                  <a:lnTo>
                    <a:pt x="38" y="517"/>
                  </a:lnTo>
                  <a:lnTo>
                    <a:pt x="40" y="500"/>
                  </a:lnTo>
                  <a:lnTo>
                    <a:pt x="43" y="489"/>
                  </a:lnTo>
                  <a:lnTo>
                    <a:pt x="50" y="480"/>
                  </a:lnTo>
                  <a:lnTo>
                    <a:pt x="56" y="470"/>
                  </a:lnTo>
                  <a:lnTo>
                    <a:pt x="61" y="457"/>
                  </a:lnTo>
                  <a:lnTo>
                    <a:pt x="65" y="442"/>
                  </a:lnTo>
                  <a:lnTo>
                    <a:pt x="66" y="429"/>
                  </a:lnTo>
                  <a:lnTo>
                    <a:pt x="66" y="424"/>
                  </a:lnTo>
                  <a:lnTo>
                    <a:pt x="232" y="465"/>
                  </a:lnTo>
                  <a:lnTo>
                    <a:pt x="235" y="464"/>
                  </a:lnTo>
                  <a:lnTo>
                    <a:pt x="243" y="457"/>
                  </a:lnTo>
                  <a:lnTo>
                    <a:pt x="257" y="450"/>
                  </a:lnTo>
                  <a:lnTo>
                    <a:pt x="270" y="439"/>
                  </a:lnTo>
                  <a:lnTo>
                    <a:pt x="285" y="429"/>
                  </a:lnTo>
                  <a:lnTo>
                    <a:pt x="298" y="417"/>
                  </a:lnTo>
                  <a:lnTo>
                    <a:pt x="308" y="407"/>
                  </a:lnTo>
                  <a:lnTo>
                    <a:pt x="313" y="399"/>
                  </a:lnTo>
                  <a:lnTo>
                    <a:pt x="318" y="384"/>
                  </a:lnTo>
                  <a:lnTo>
                    <a:pt x="325" y="369"/>
                  </a:lnTo>
                  <a:lnTo>
                    <a:pt x="330" y="357"/>
                  </a:lnTo>
                  <a:lnTo>
                    <a:pt x="332" y="352"/>
                  </a:lnTo>
                  <a:lnTo>
                    <a:pt x="335" y="352"/>
                  </a:lnTo>
                  <a:lnTo>
                    <a:pt x="342" y="352"/>
                  </a:lnTo>
                  <a:lnTo>
                    <a:pt x="353" y="352"/>
                  </a:lnTo>
                  <a:lnTo>
                    <a:pt x="367" y="350"/>
                  </a:lnTo>
                  <a:lnTo>
                    <a:pt x="382" y="350"/>
                  </a:lnTo>
                  <a:lnTo>
                    <a:pt x="398" y="347"/>
                  </a:lnTo>
                  <a:lnTo>
                    <a:pt x="413" y="345"/>
                  </a:lnTo>
                  <a:lnTo>
                    <a:pt x="427" y="342"/>
                  </a:lnTo>
                  <a:lnTo>
                    <a:pt x="438" y="337"/>
                  </a:lnTo>
                  <a:lnTo>
                    <a:pt x="447" y="329"/>
                  </a:lnTo>
                  <a:lnTo>
                    <a:pt x="455" y="319"/>
                  </a:lnTo>
                  <a:lnTo>
                    <a:pt x="462" y="309"/>
                  </a:lnTo>
                  <a:lnTo>
                    <a:pt x="468" y="299"/>
                  </a:lnTo>
                  <a:lnTo>
                    <a:pt x="475" y="290"/>
                  </a:lnTo>
                  <a:lnTo>
                    <a:pt x="483" y="284"/>
                  </a:lnTo>
                  <a:lnTo>
                    <a:pt x="493" y="280"/>
                  </a:lnTo>
                  <a:lnTo>
                    <a:pt x="508" y="275"/>
                  </a:lnTo>
                  <a:lnTo>
                    <a:pt x="513" y="269"/>
                  </a:lnTo>
                  <a:lnTo>
                    <a:pt x="513" y="264"/>
                  </a:lnTo>
                  <a:lnTo>
                    <a:pt x="512" y="262"/>
                  </a:lnTo>
                  <a:lnTo>
                    <a:pt x="380" y="90"/>
                  </a:lnTo>
                  <a:close/>
                </a:path>
              </a:pathLst>
            </a:custGeom>
            <a:solidFill>
              <a:srgbClr val="b2b2b2">
                <a:alpha val="30000"/>
              </a:srgbClr>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379" name="PlaceHolder 1"/>
          <p:cNvSpPr>
            <a:spLocks noGrp="1"/>
          </p:cNvSpPr>
          <p:nvPr>
            <p:ph/>
          </p:nvPr>
        </p:nvSpPr>
        <p:spPr>
          <a:xfrm>
            <a:off x="1295280" y="1600200"/>
            <a:ext cx="7391520" cy="4525920"/>
          </a:xfrm>
          <a:prstGeom prst="rect">
            <a:avLst/>
          </a:prstGeom>
          <a:noFill/>
          <a:ln w="0">
            <a:noFill/>
          </a:ln>
        </p:spPr>
        <p:txBody>
          <a:bodyPr lIns="90000" rIns="90000" tIns="46800" bIns="46800" anchor="t">
            <a:normAutofit fontScale="94000"/>
          </a:bodyPr>
          <a:p>
            <a:pPr marL="320760" indent="-320760">
              <a:lnSpc>
                <a:spcPct val="90000"/>
              </a:lnSpc>
              <a:spcBef>
                <a:spcPts val="601"/>
              </a:spcBef>
              <a:buClr>
                <a:srgbClr val="333399"/>
              </a:buClr>
              <a:buFont typeface="Albertus Medium"/>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333399"/>
                </a:solidFill>
                <a:latin typeface="Albertus Medium"/>
              </a:rPr>
              <a:t>Nanosized zinc oxide, Zinc oxide particle normally opaque and greasy when broken down to nanoparticles they become invisible and have elegant feel.</a:t>
            </a:r>
            <a:endParaRPr b="0" lang="en-US" sz="2400" spc="-1" strike="noStrike">
              <a:solidFill>
                <a:srgbClr val="000000"/>
              </a:solidFill>
              <a:latin typeface="Arial"/>
            </a:endParaRPr>
          </a:p>
          <a:p>
            <a:pPr marL="322200" indent="0">
              <a:lnSpc>
                <a:spcPct val="90000"/>
              </a:lnSpc>
              <a:spcBef>
                <a:spcPts val="2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800" spc="-1" strike="noStrike">
              <a:solidFill>
                <a:srgbClr val="000000"/>
              </a:solidFill>
              <a:latin typeface="Arial"/>
            </a:endParaRPr>
          </a:p>
          <a:p>
            <a:pPr marL="322200" indent="0">
              <a:lnSpc>
                <a:spcPct val="9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9999"/>
                </a:solidFill>
                <a:latin typeface="Albertus Medium"/>
              </a:rPr>
              <a:t>Nanopigments:</a:t>
            </a:r>
            <a:endParaRPr b="0" lang="en-US" sz="2400" spc="-1" strike="noStrike">
              <a:solidFill>
                <a:srgbClr val="000000"/>
              </a:solidFill>
              <a:latin typeface="Arial"/>
            </a:endParaRPr>
          </a:p>
          <a:p>
            <a:pPr marL="322200" indent="0">
              <a:lnSpc>
                <a:spcPct val="90000"/>
              </a:lnSpc>
              <a:spcBef>
                <a:spcPts val="2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800" spc="-1" strike="noStrike">
              <a:solidFill>
                <a:srgbClr val="000000"/>
              </a:solidFill>
              <a:latin typeface="Arial"/>
            </a:endParaRPr>
          </a:p>
          <a:p>
            <a:pPr marL="320760" indent="-320760">
              <a:lnSpc>
                <a:spcPct val="90000"/>
              </a:lnSpc>
              <a:spcBef>
                <a:spcPts val="601"/>
              </a:spcBef>
              <a:buClr>
                <a:srgbClr val="333399"/>
              </a:buClr>
              <a:buFont typeface="Albertus Medium"/>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333399"/>
                </a:solidFill>
                <a:latin typeface="Albertus Medium"/>
              </a:rPr>
              <a:t>Titanium and Titanium oxide, another physical UV blocker with whitening properties at nanoscale it retains its ability to block UV light, but does not scatter visible light thus less noticeable when applied topically, they also pack more densely and evenly on the skin and leave fewer gaps for UV light to penetrate in comparison to larger particles.</a:t>
            </a:r>
            <a:endParaRPr b="0" lang="en-US" sz="2400" spc="-1" strike="noStrike">
              <a:solidFill>
                <a:srgbClr val="000000"/>
              </a:solidFill>
              <a:latin typeface="Arial"/>
            </a:endParaRPr>
          </a:p>
          <a:p>
            <a:pPr marL="320760" indent="0">
              <a:lnSpc>
                <a:spcPct val="9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000000"/>
              </a:solidFill>
              <a:latin typeface="Arial"/>
            </a:endParaRPr>
          </a:p>
        </p:txBody>
      </p:sp>
      <p:sp>
        <p:nvSpPr>
          <p:cNvPr id="380" name=""/>
          <p:cNvSpPr/>
          <p:nvPr/>
        </p:nvSpPr>
        <p:spPr>
          <a:xfrm>
            <a:off x="609480" y="6629400"/>
            <a:ext cx="8534520" cy="228600"/>
          </a:xfrm>
          <a:prstGeom prst="rect">
            <a:avLst/>
          </a:prstGeom>
          <a:solidFill>
            <a:srgbClr val="bbe0e3"/>
          </a:solidFill>
          <a:ln cap="sq"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99"/>
                </a:solidFill>
                <a:latin typeface="Albertus Medium"/>
              </a:rPr>
              <a:t>www.skinandallergy.org</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0" lang="en-US" sz="1000" spc="-1" strike="noStrike">
                <a:solidFill>
                  <a:srgbClr val="333399"/>
                </a:solidFill>
                <a:latin typeface="Albertus Medium"/>
              </a:rPr>
              <a:t>www.panarabderm.org</a:t>
            </a:r>
            <a:endParaRPr b="0" lang="en-US" sz="10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81" name="" descr=""/>
          <p:cNvPicPr/>
          <p:nvPr/>
        </p:nvPicPr>
        <p:blipFill>
          <a:blip r:embed="rId2"/>
          <a:stretch/>
        </p:blipFill>
        <p:spPr>
          <a:xfrm>
            <a:off x="8153280" y="74520"/>
            <a:ext cx="922320" cy="992160"/>
          </a:xfrm>
          <a:prstGeom prst="rect">
            <a:avLst/>
          </a:prstGeom>
          <a:ln w="0">
            <a:noFill/>
          </a:ln>
        </p:spPr>
      </p:pic>
      <p:sp>
        <p:nvSpPr>
          <p:cNvPr id="382" name=""/>
          <p:cNvSpPr/>
          <p:nvPr/>
        </p:nvSpPr>
        <p:spPr>
          <a:xfrm>
            <a:off x="1295280" y="1066680"/>
            <a:ext cx="6193080" cy="1800"/>
          </a:xfrm>
          <a:prstGeom prst="line">
            <a:avLst/>
          </a:prstGeom>
          <a:ln cap="sq" w="12600">
            <a:solidFill>
              <a:srgbClr val="b2b2b2"/>
            </a:solidFill>
            <a:miter/>
          </a:ln>
        </p:spPr>
        <p:style>
          <a:lnRef idx="0"/>
          <a:fillRef idx="0"/>
          <a:effectRef idx="0"/>
          <a:fontRef idx="minor"/>
        </p:style>
        <p:txBody>
          <a:bodyPr lIns="90000" rIns="90000" tIns="-45000" bIns="-45000" anchor="t">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383" name="" descr=""/>
          <p:cNvPicPr/>
          <p:nvPr/>
        </p:nvPicPr>
        <p:blipFill>
          <a:blip r:embed="rId3"/>
          <a:stretch/>
        </p:blipFill>
        <p:spPr>
          <a:xfrm>
            <a:off x="0" y="0"/>
            <a:ext cx="600120" cy="6858000"/>
          </a:xfrm>
          <a:prstGeom prst="rect">
            <a:avLst/>
          </a:prstGeom>
          <a:ln w="0">
            <a:noFill/>
          </a:ln>
        </p:spPr>
      </p:pic>
      <p:sp>
        <p:nvSpPr>
          <p:cNvPr id="384" name=""/>
          <p:cNvSpPr/>
          <p:nvPr/>
        </p:nvSpPr>
        <p:spPr>
          <a:xfrm>
            <a:off x="0" y="0"/>
            <a:ext cx="914400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400" spc="-1" strike="noStrike">
                <a:solidFill>
                  <a:srgbClr val="333399"/>
                </a:solidFill>
                <a:latin typeface="Albertus Medium"/>
              </a:rPr>
              <a:t>Nanotechnology in </a:t>
            </a:r>
            <a:br>
              <a:rPr sz="3400"/>
            </a:br>
            <a:r>
              <a:rPr b="1" lang="en-US" sz="3400" spc="-1" strike="noStrike">
                <a:solidFill>
                  <a:srgbClr val="333399"/>
                </a:solidFill>
                <a:latin typeface="Albertus Medium"/>
              </a:rPr>
              <a:t>Cosmetic &amp; Dermatology</a:t>
            </a:r>
            <a:endParaRPr b="0" lang="en-US" sz="3400" spc="-1" strike="noStrike">
              <a:solidFill>
                <a:srgbClr val="000000"/>
              </a:solidFill>
              <a:latin typeface="Arial"/>
            </a:endParaRPr>
          </a:p>
        </p:txBody>
      </p:sp>
      <p:grpSp>
        <p:nvGrpSpPr>
          <p:cNvPr id="385" name=""/>
          <p:cNvGrpSpPr/>
          <p:nvPr/>
        </p:nvGrpSpPr>
        <p:grpSpPr>
          <a:xfrm>
            <a:off x="2639880" y="1346040"/>
            <a:ext cx="4521240" cy="3986280"/>
            <a:chOff x="2639880" y="1346040"/>
            <a:chExt cx="4521240" cy="3986280"/>
          </a:xfrm>
        </p:grpSpPr>
        <p:sp>
          <p:nvSpPr>
            <p:cNvPr id="386" name=""/>
            <p:cNvSpPr/>
            <p:nvPr/>
          </p:nvSpPr>
          <p:spPr>
            <a:xfrm>
              <a:off x="2639880" y="2319480"/>
              <a:ext cx="1721160" cy="3012840"/>
            </a:xfrm>
            <a:custGeom>
              <a:avLst/>
              <a:gdLst/>
              <a:ahLst/>
              <a:rect l="l" t="t" r="r" b="b"/>
              <a:pathLst>
                <a:path w="1261" h="2255">
                  <a:moveTo>
                    <a:pt x="1257" y="2027"/>
                  </a:moveTo>
                  <a:lnTo>
                    <a:pt x="1257" y="2015"/>
                  </a:lnTo>
                  <a:lnTo>
                    <a:pt x="1252" y="2000"/>
                  </a:lnTo>
                  <a:lnTo>
                    <a:pt x="1244" y="1985"/>
                  </a:lnTo>
                  <a:lnTo>
                    <a:pt x="1232" y="1970"/>
                  </a:lnTo>
                  <a:lnTo>
                    <a:pt x="1222" y="1956"/>
                  </a:lnTo>
                  <a:lnTo>
                    <a:pt x="1212" y="1945"/>
                  </a:lnTo>
                  <a:lnTo>
                    <a:pt x="1204" y="1933"/>
                  </a:lnTo>
                  <a:lnTo>
                    <a:pt x="1199" y="1921"/>
                  </a:lnTo>
                  <a:lnTo>
                    <a:pt x="1197" y="1910"/>
                  </a:lnTo>
                  <a:lnTo>
                    <a:pt x="1192" y="1893"/>
                  </a:lnTo>
                  <a:lnTo>
                    <a:pt x="1186" y="1876"/>
                  </a:lnTo>
                  <a:lnTo>
                    <a:pt x="1171" y="1860"/>
                  </a:lnTo>
                  <a:lnTo>
                    <a:pt x="1161" y="1851"/>
                  </a:lnTo>
                  <a:lnTo>
                    <a:pt x="1147" y="1838"/>
                  </a:lnTo>
                  <a:lnTo>
                    <a:pt x="1132" y="1823"/>
                  </a:lnTo>
                  <a:lnTo>
                    <a:pt x="1117" y="1806"/>
                  </a:lnTo>
                  <a:lnTo>
                    <a:pt x="1102" y="1788"/>
                  </a:lnTo>
                  <a:lnTo>
                    <a:pt x="1087" y="1770"/>
                  </a:lnTo>
                  <a:lnTo>
                    <a:pt x="1076" y="1750"/>
                  </a:lnTo>
                  <a:lnTo>
                    <a:pt x="1067" y="1731"/>
                  </a:lnTo>
                  <a:lnTo>
                    <a:pt x="1052" y="1703"/>
                  </a:lnTo>
                  <a:lnTo>
                    <a:pt x="1037" y="1681"/>
                  </a:lnTo>
                  <a:lnTo>
                    <a:pt x="1026" y="1665"/>
                  </a:lnTo>
                  <a:lnTo>
                    <a:pt x="1019" y="1646"/>
                  </a:lnTo>
                  <a:lnTo>
                    <a:pt x="1016" y="1633"/>
                  </a:lnTo>
                  <a:lnTo>
                    <a:pt x="1009" y="1613"/>
                  </a:lnTo>
                  <a:lnTo>
                    <a:pt x="999" y="1591"/>
                  </a:lnTo>
                  <a:lnTo>
                    <a:pt x="989" y="1568"/>
                  </a:lnTo>
                  <a:lnTo>
                    <a:pt x="979" y="1545"/>
                  </a:lnTo>
                  <a:lnTo>
                    <a:pt x="969" y="1525"/>
                  </a:lnTo>
                  <a:lnTo>
                    <a:pt x="959" y="1508"/>
                  </a:lnTo>
                  <a:lnTo>
                    <a:pt x="952" y="1499"/>
                  </a:lnTo>
                  <a:lnTo>
                    <a:pt x="942" y="1486"/>
                  </a:lnTo>
                  <a:lnTo>
                    <a:pt x="934" y="1473"/>
                  </a:lnTo>
                  <a:lnTo>
                    <a:pt x="922" y="1458"/>
                  </a:lnTo>
                  <a:lnTo>
                    <a:pt x="911" y="1443"/>
                  </a:lnTo>
                  <a:lnTo>
                    <a:pt x="902" y="1434"/>
                  </a:lnTo>
                  <a:lnTo>
                    <a:pt x="891" y="1426"/>
                  </a:lnTo>
                  <a:lnTo>
                    <a:pt x="879" y="1419"/>
                  </a:lnTo>
                  <a:lnTo>
                    <a:pt x="867" y="1411"/>
                  </a:lnTo>
                  <a:lnTo>
                    <a:pt x="854" y="1404"/>
                  </a:lnTo>
                  <a:lnTo>
                    <a:pt x="842" y="1399"/>
                  </a:lnTo>
                  <a:lnTo>
                    <a:pt x="831" y="1396"/>
                  </a:lnTo>
                  <a:lnTo>
                    <a:pt x="820" y="1394"/>
                  </a:lnTo>
                  <a:lnTo>
                    <a:pt x="812" y="1393"/>
                  </a:lnTo>
                  <a:lnTo>
                    <a:pt x="805" y="1389"/>
                  </a:lnTo>
                  <a:lnTo>
                    <a:pt x="800" y="1384"/>
                  </a:lnTo>
                  <a:lnTo>
                    <a:pt x="794" y="1376"/>
                  </a:lnTo>
                  <a:lnTo>
                    <a:pt x="789" y="1368"/>
                  </a:lnTo>
                  <a:lnTo>
                    <a:pt x="782" y="1354"/>
                  </a:lnTo>
                  <a:lnTo>
                    <a:pt x="774" y="1341"/>
                  </a:lnTo>
                  <a:lnTo>
                    <a:pt x="762" y="1324"/>
                  </a:lnTo>
                  <a:lnTo>
                    <a:pt x="750" y="1306"/>
                  </a:lnTo>
                  <a:lnTo>
                    <a:pt x="740" y="1288"/>
                  </a:lnTo>
                  <a:lnTo>
                    <a:pt x="732" y="1269"/>
                  </a:lnTo>
                  <a:lnTo>
                    <a:pt x="724" y="1253"/>
                  </a:lnTo>
                  <a:lnTo>
                    <a:pt x="717" y="1234"/>
                  </a:lnTo>
                  <a:lnTo>
                    <a:pt x="712" y="1219"/>
                  </a:lnTo>
                  <a:lnTo>
                    <a:pt x="709" y="1204"/>
                  </a:lnTo>
                  <a:lnTo>
                    <a:pt x="705" y="1191"/>
                  </a:lnTo>
                  <a:lnTo>
                    <a:pt x="700" y="1166"/>
                  </a:lnTo>
                  <a:lnTo>
                    <a:pt x="692" y="1143"/>
                  </a:lnTo>
                  <a:lnTo>
                    <a:pt x="685" y="1126"/>
                  </a:lnTo>
                  <a:lnTo>
                    <a:pt x="682" y="1119"/>
                  </a:lnTo>
                  <a:lnTo>
                    <a:pt x="689" y="1108"/>
                  </a:lnTo>
                  <a:lnTo>
                    <a:pt x="700" y="1078"/>
                  </a:lnTo>
                  <a:lnTo>
                    <a:pt x="707" y="1038"/>
                  </a:lnTo>
                  <a:lnTo>
                    <a:pt x="697" y="996"/>
                  </a:lnTo>
                  <a:lnTo>
                    <a:pt x="680" y="961"/>
                  </a:lnTo>
                  <a:lnTo>
                    <a:pt x="670" y="932"/>
                  </a:lnTo>
                  <a:lnTo>
                    <a:pt x="662" y="904"/>
                  </a:lnTo>
                  <a:lnTo>
                    <a:pt x="649" y="872"/>
                  </a:lnTo>
                  <a:lnTo>
                    <a:pt x="640" y="856"/>
                  </a:lnTo>
                  <a:lnTo>
                    <a:pt x="635" y="839"/>
                  </a:lnTo>
                  <a:lnTo>
                    <a:pt x="630" y="826"/>
                  </a:lnTo>
                  <a:lnTo>
                    <a:pt x="625" y="814"/>
                  </a:lnTo>
                  <a:lnTo>
                    <a:pt x="620" y="802"/>
                  </a:lnTo>
                  <a:lnTo>
                    <a:pt x="614" y="792"/>
                  </a:lnTo>
                  <a:lnTo>
                    <a:pt x="607" y="784"/>
                  </a:lnTo>
                  <a:lnTo>
                    <a:pt x="597" y="777"/>
                  </a:lnTo>
                  <a:lnTo>
                    <a:pt x="587" y="771"/>
                  </a:lnTo>
                  <a:lnTo>
                    <a:pt x="575" y="762"/>
                  </a:lnTo>
                  <a:lnTo>
                    <a:pt x="565" y="754"/>
                  </a:lnTo>
                  <a:lnTo>
                    <a:pt x="554" y="744"/>
                  </a:lnTo>
                  <a:lnTo>
                    <a:pt x="542" y="736"/>
                  </a:lnTo>
                  <a:lnTo>
                    <a:pt x="529" y="729"/>
                  </a:lnTo>
                  <a:lnTo>
                    <a:pt x="515" y="721"/>
                  </a:lnTo>
                  <a:lnTo>
                    <a:pt x="502" y="716"/>
                  </a:lnTo>
                  <a:lnTo>
                    <a:pt x="480" y="702"/>
                  </a:lnTo>
                  <a:lnTo>
                    <a:pt x="470" y="686"/>
                  </a:lnTo>
                  <a:lnTo>
                    <a:pt x="464" y="667"/>
                  </a:lnTo>
                  <a:lnTo>
                    <a:pt x="454" y="649"/>
                  </a:lnTo>
                  <a:lnTo>
                    <a:pt x="444" y="634"/>
                  </a:lnTo>
                  <a:lnTo>
                    <a:pt x="437" y="621"/>
                  </a:lnTo>
                  <a:lnTo>
                    <a:pt x="435" y="611"/>
                  </a:lnTo>
                  <a:lnTo>
                    <a:pt x="435" y="607"/>
                  </a:lnTo>
                  <a:lnTo>
                    <a:pt x="437" y="607"/>
                  </a:lnTo>
                  <a:lnTo>
                    <a:pt x="442" y="606"/>
                  </a:lnTo>
                  <a:lnTo>
                    <a:pt x="449" y="602"/>
                  </a:lnTo>
                  <a:lnTo>
                    <a:pt x="455" y="596"/>
                  </a:lnTo>
                  <a:lnTo>
                    <a:pt x="459" y="589"/>
                  </a:lnTo>
                  <a:lnTo>
                    <a:pt x="459" y="577"/>
                  </a:lnTo>
                  <a:lnTo>
                    <a:pt x="454" y="564"/>
                  </a:lnTo>
                  <a:lnTo>
                    <a:pt x="440" y="546"/>
                  </a:lnTo>
                  <a:lnTo>
                    <a:pt x="434" y="539"/>
                  </a:lnTo>
                  <a:lnTo>
                    <a:pt x="429" y="532"/>
                  </a:lnTo>
                  <a:lnTo>
                    <a:pt x="424" y="529"/>
                  </a:lnTo>
                  <a:lnTo>
                    <a:pt x="420" y="526"/>
                  </a:lnTo>
                  <a:lnTo>
                    <a:pt x="419" y="527"/>
                  </a:lnTo>
                  <a:lnTo>
                    <a:pt x="415" y="526"/>
                  </a:lnTo>
                  <a:lnTo>
                    <a:pt x="415" y="522"/>
                  </a:lnTo>
                  <a:lnTo>
                    <a:pt x="420" y="526"/>
                  </a:lnTo>
                  <a:lnTo>
                    <a:pt x="420" y="524"/>
                  </a:lnTo>
                  <a:lnTo>
                    <a:pt x="419" y="521"/>
                  </a:lnTo>
                  <a:lnTo>
                    <a:pt x="419" y="517"/>
                  </a:lnTo>
                  <a:lnTo>
                    <a:pt x="417" y="512"/>
                  </a:lnTo>
                  <a:lnTo>
                    <a:pt x="409" y="490"/>
                  </a:lnTo>
                  <a:lnTo>
                    <a:pt x="405" y="477"/>
                  </a:lnTo>
                  <a:lnTo>
                    <a:pt x="399" y="467"/>
                  </a:lnTo>
                  <a:lnTo>
                    <a:pt x="384" y="455"/>
                  </a:lnTo>
                  <a:lnTo>
                    <a:pt x="372" y="440"/>
                  </a:lnTo>
                  <a:lnTo>
                    <a:pt x="374" y="425"/>
                  </a:lnTo>
                  <a:lnTo>
                    <a:pt x="375" y="412"/>
                  </a:lnTo>
                  <a:lnTo>
                    <a:pt x="364" y="399"/>
                  </a:lnTo>
                  <a:lnTo>
                    <a:pt x="345" y="387"/>
                  </a:lnTo>
                  <a:lnTo>
                    <a:pt x="332" y="372"/>
                  </a:lnTo>
                  <a:lnTo>
                    <a:pt x="325" y="355"/>
                  </a:lnTo>
                  <a:lnTo>
                    <a:pt x="322" y="337"/>
                  </a:lnTo>
                  <a:lnTo>
                    <a:pt x="319" y="317"/>
                  </a:lnTo>
                  <a:lnTo>
                    <a:pt x="309" y="290"/>
                  </a:lnTo>
                  <a:lnTo>
                    <a:pt x="294" y="264"/>
                  </a:lnTo>
                  <a:lnTo>
                    <a:pt x="273" y="237"/>
                  </a:lnTo>
                  <a:lnTo>
                    <a:pt x="260" y="215"/>
                  </a:lnTo>
                  <a:lnTo>
                    <a:pt x="257" y="197"/>
                  </a:lnTo>
                  <a:lnTo>
                    <a:pt x="255" y="184"/>
                  </a:lnTo>
                  <a:lnTo>
                    <a:pt x="245" y="175"/>
                  </a:lnTo>
                  <a:lnTo>
                    <a:pt x="233" y="167"/>
                  </a:lnTo>
                  <a:lnTo>
                    <a:pt x="228" y="154"/>
                  </a:lnTo>
                  <a:lnTo>
                    <a:pt x="222" y="140"/>
                  </a:lnTo>
                  <a:lnTo>
                    <a:pt x="207" y="124"/>
                  </a:lnTo>
                  <a:lnTo>
                    <a:pt x="188" y="100"/>
                  </a:lnTo>
                  <a:lnTo>
                    <a:pt x="175" y="74"/>
                  </a:lnTo>
                  <a:lnTo>
                    <a:pt x="168" y="52"/>
                  </a:lnTo>
                  <a:lnTo>
                    <a:pt x="165" y="42"/>
                  </a:lnTo>
                  <a:lnTo>
                    <a:pt x="160" y="42"/>
                  </a:lnTo>
                  <a:lnTo>
                    <a:pt x="148" y="42"/>
                  </a:lnTo>
                  <a:lnTo>
                    <a:pt x="133" y="42"/>
                  </a:lnTo>
                  <a:lnTo>
                    <a:pt x="122" y="42"/>
                  </a:lnTo>
                  <a:lnTo>
                    <a:pt x="110" y="42"/>
                  </a:lnTo>
                  <a:lnTo>
                    <a:pt x="100" y="44"/>
                  </a:lnTo>
                  <a:lnTo>
                    <a:pt x="92" y="47"/>
                  </a:lnTo>
                  <a:lnTo>
                    <a:pt x="88" y="47"/>
                  </a:lnTo>
                  <a:lnTo>
                    <a:pt x="90" y="44"/>
                  </a:lnTo>
                  <a:lnTo>
                    <a:pt x="93" y="34"/>
                  </a:lnTo>
                  <a:lnTo>
                    <a:pt x="98" y="20"/>
                  </a:lnTo>
                  <a:lnTo>
                    <a:pt x="103" y="8"/>
                  </a:lnTo>
                  <a:lnTo>
                    <a:pt x="103" y="8"/>
                  </a:lnTo>
                  <a:lnTo>
                    <a:pt x="103" y="8"/>
                  </a:lnTo>
                  <a:lnTo>
                    <a:pt x="103" y="8"/>
                  </a:lnTo>
                  <a:lnTo>
                    <a:pt x="103" y="8"/>
                  </a:lnTo>
                  <a:lnTo>
                    <a:pt x="67" y="0"/>
                  </a:lnTo>
                  <a:lnTo>
                    <a:pt x="67" y="5"/>
                  </a:lnTo>
                  <a:lnTo>
                    <a:pt x="65" y="19"/>
                  </a:lnTo>
                  <a:lnTo>
                    <a:pt x="62" y="34"/>
                  </a:lnTo>
                  <a:lnTo>
                    <a:pt x="57" y="47"/>
                  </a:lnTo>
                  <a:lnTo>
                    <a:pt x="50" y="57"/>
                  </a:lnTo>
                  <a:lnTo>
                    <a:pt x="45" y="65"/>
                  </a:lnTo>
                  <a:lnTo>
                    <a:pt x="40" y="79"/>
                  </a:lnTo>
                  <a:lnTo>
                    <a:pt x="38" y="95"/>
                  </a:lnTo>
                  <a:lnTo>
                    <a:pt x="35" y="119"/>
                  </a:lnTo>
                  <a:lnTo>
                    <a:pt x="28" y="145"/>
                  </a:lnTo>
                  <a:lnTo>
                    <a:pt x="20" y="169"/>
                  </a:lnTo>
                  <a:lnTo>
                    <a:pt x="15" y="185"/>
                  </a:lnTo>
                  <a:lnTo>
                    <a:pt x="10" y="197"/>
                  </a:lnTo>
                  <a:lnTo>
                    <a:pt x="5" y="209"/>
                  </a:lnTo>
                  <a:lnTo>
                    <a:pt x="2" y="220"/>
                  </a:lnTo>
                  <a:lnTo>
                    <a:pt x="0" y="224"/>
                  </a:lnTo>
                  <a:lnTo>
                    <a:pt x="3" y="224"/>
                  </a:lnTo>
                  <a:lnTo>
                    <a:pt x="12" y="220"/>
                  </a:lnTo>
                  <a:lnTo>
                    <a:pt x="23" y="219"/>
                  </a:lnTo>
                  <a:lnTo>
                    <a:pt x="33" y="219"/>
                  </a:lnTo>
                  <a:lnTo>
                    <a:pt x="47" y="219"/>
                  </a:lnTo>
                  <a:lnTo>
                    <a:pt x="60" y="219"/>
                  </a:lnTo>
                  <a:lnTo>
                    <a:pt x="72" y="219"/>
                  </a:lnTo>
                  <a:lnTo>
                    <a:pt x="77" y="219"/>
                  </a:lnTo>
                  <a:lnTo>
                    <a:pt x="80" y="229"/>
                  </a:lnTo>
                  <a:lnTo>
                    <a:pt x="87" y="250"/>
                  </a:lnTo>
                  <a:lnTo>
                    <a:pt x="100" y="277"/>
                  </a:lnTo>
                  <a:lnTo>
                    <a:pt x="118" y="299"/>
                  </a:lnTo>
                  <a:lnTo>
                    <a:pt x="133" y="315"/>
                  </a:lnTo>
                  <a:lnTo>
                    <a:pt x="140" y="330"/>
                  </a:lnTo>
                  <a:lnTo>
                    <a:pt x="145" y="342"/>
                  </a:lnTo>
                  <a:lnTo>
                    <a:pt x="157" y="352"/>
                  </a:lnTo>
                  <a:lnTo>
                    <a:pt x="167" y="360"/>
                  </a:lnTo>
                  <a:lnTo>
                    <a:pt x="168" y="374"/>
                  </a:lnTo>
                  <a:lnTo>
                    <a:pt x="172" y="390"/>
                  </a:lnTo>
                  <a:lnTo>
                    <a:pt x="185" y="414"/>
                  </a:lnTo>
                  <a:lnTo>
                    <a:pt x="205" y="440"/>
                  </a:lnTo>
                  <a:lnTo>
                    <a:pt x="220" y="467"/>
                  </a:lnTo>
                  <a:lnTo>
                    <a:pt x="230" y="492"/>
                  </a:lnTo>
                  <a:lnTo>
                    <a:pt x="233" y="512"/>
                  </a:lnTo>
                  <a:lnTo>
                    <a:pt x="237" y="531"/>
                  </a:lnTo>
                  <a:lnTo>
                    <a:pt x="243" y="547"/>
                  </a:lnTo>
                  <a:lnTo>
                    <a:pt x="257" y="562"/>
                  </a:lnTo>
                  <a:lnTo>
                    <a:pt x="275" y="574"/>
                  </a:lnTo>
                  <a:lnTo>
                    <a:pt x="287" y="587"/>
                  </a:lnTo>
                  <a:lnTo>
                    <a:pt x="285" y="601"/>
                  </a:lnTo>
                  <a:lnTo>
                    <a:pt x="284" y="617"/>
                  </a:lnTo>
                  <a:lnTo>
                    <a:pt x="295" y="632"/>
                  </a:lnTo>
                  <a:lnTo>
                    <a:pt x="310" y="642"/>
                  </a:lnTo>
                  <a:lnTo>
                    <a:pt x="317" y="652"/>
                  </a:lnTo>
                  <a:lnTo>
                    <a:pt x="320" y="666"/>
                  </a:lnTo>
                  <a:lnTo>
                    <a:pt x="329" y="687"/>
                  </a:lnTo>
                  <a:lnTo>
                    <a:pt x="330" y="692"/>
                  </a:lnTo>
                  <a:lnTo>
                    <a:pt x="330" y="696"/>
                  </a:lnTo>
                  <a:lnTo>
                    <a:pt x="332" y="697"/>
                  </a:lnTo>
                  <a:lnTo>
                    <a:pt x="332" y="699"/>
                  </a:lnTo>
                  <a:lnTo>
                    <a:pt x="335" y="702"/>
                  </a:lnTo>
                  <a:lnTo>
                    <a:pt x="340" y="707"/>
                  </a:lnTo>
                  <a:lnTo>
                    <a:pt x="345" y="712"/>
                  </a:lnTo>
                  <a:lnTo>
                    <a:pt x="352" y="721"/>
                  </a:lnTo>
                  <a:lnTo>
                    <a:pt x="365" y="737"/>
                  </a:lnTo>
                  <a:lnTo>
                    <a:pt x="370" y="752"/>
                  </a:lnTo>
                  <a:lnTo>
                    <a:pt x="370" y="762"/>
                  </a:lnTo>
                  <a:lnTo>
                    <a:pt x="367" y="771"/>
                  </a:lnTo>
                  <a:lnTo>
                    <a:pt x="360" y="776"/>
                  </a:lnTo>
                  <a:lnTo>
                    <a:pt x="354" y="781"/>
                  </a:lnTo>
                  <a:lnTo>
                    <a:pt x="349" y="782"/>
                  </a:lnTo>
                  <a:lnTo>
                    <a:pt x="347" y="782"/>
                  </a:lnTo>
                  <a:lnTo>
                    <a:pt x="347" y="786"/>
                  </a:lnTo>
                  <a:lnTo>
                    <a:pt x="350" y="794"/>
                  </a:lnTo>
                  <a:lnTo>
                    <a:pt x="355" y="807"/>
                  </a:lnTo>
                  <a:lnTo>
                    <a:pt x="367" y="824"/>
                  </a:lnTo>
                  <a:lnTo>
                    <a:pt x="377" y="842"/>
                  </a:lnTo>
                  <a:lnTo>
                    <a:pt x="384" y="862"/>
                  </a:lnTo>
                  <a:lnTo>
                    <a:pt x="392" y="877"/>
                  </a:lnTo>
                  <a:lnTo>
                    <a:pt x="414" y="891"/>
                  </a:lnTo>
                  <a:lnTo>
                    <a:pt x="427" y="897"/>
                  </a:lnTo>
                  <a:lnTo>
                    <a:pt x="440" y="904"/>
                  </a:lnTo>
                  <a:lnTo>
                    <a:pt x="454" y="912"/>
                  </a:lnTo>
                  <a:lnTo>
                    <a:pt x="465" y="921"/>
                  </a:lnTo>
                  <a:lnTo>
                    <a:pt x="477" y="929"/>
                  </a:lnTo>
                  <a:lnTo>
                    <a:pt x="487" y="937"/>
                  </a:lnTo>
                  <a:lnTo>
                    <a:pt x="499" y="946"/>
                  </a:lnTo>
                  <a:lnTo>
                    <a:pt x="509" y="952"/>
                  </a:lnTo>
                  <a:lnTo>
                    <a:pt x="519" y="961"/>
                  </a:lnTo>
                  <a:lnTo>
                    <a:pt x="525" y="969"/>
                  </a:lnTo>
                  <a:lnTo>
                    <a:pt x="532" y="979"/>
                  </a:lnTo>
                  <a:lnTo>
                    <a:pt x="537" y="989"/>
                  </a:lnTo>
                  <a:lnTo>
                    <a:pt x="542" y="1002"/>
                  </a:lnTo>
                  <a:lnTo>
                    <a:pt x="547" y="1016"/>
                  </a:lnTo>
                  <a:lnTo>
                    <a:pt x="552" y="1031"/>
                  </a:lnTo>
                  <a:lnTo>
                    <a:pt x="560" y="1048"/>
                  </a:lnTo>
                  <a:lnTo>
                    <a:pt x="574" y="1079"/>
                  </a:lnTo>
                  <a:lnTo>
                    <a:pt x="584" y="1108"/>
                  </a:lnTo>
                  <a:lnTo>
                    <a:pt x="592" y="1136"/>
                  </a:lnTo>
                  <a:lnTo>
                    <a:pt x="609" y="1171"/>
                  </a:lnTo>
                  <a:lnTo>
                    <a:pt x="619" y="1213"/>
                  </a:lnTo>
                  <a:lnTo>
                    <a:pt x="612" y="1253"/>
                  </a:lnTo>
                  <a:lnTo>
                    <a:pt x="600" y="1283"/>
                  </a:lnTo>
                  <a:lnTo>
                    <a:pt x="594" y="1294"/>
                  </a:lnTo>
                  <a:lnTo>
                    <a:pt x="597" y="1301"/>
                  </a:lnTo>
                  <a:lnTo>
                    <a:pt x="604" y="1318"/>
                  </a:lnTo>
                  <a:lnTo>
                    <a:pt x="612" y="1341"/>
                  </a:lnTo>
                  <a:lnTo>
                    <a:pt x="617" y="1366"/>
                  </a:lnTo>
                  <a:lnTo>
                    <a:pt x="620" y="1379"/>
                  </a:lnTo>
                  <a:lnTo>
                    <a:pt x="624" y="1394"/>
                  </a:lnTo>
                  <a:lnTo>
                    <a:pt x="629" y="1409"/>
                  </a:lnTo>
                  <a:lnTo>
                    <a:pt x="635" y="1428"/>
                  </a:lnTo>
                  <a:lnTo>
                    <a:pt x="644" y="1444"/>
                  </a:lnTo>
                  <a:lnTo>
                    <a:pt x="654" y="1463"/>
                  </a:lnTo>
                  <a:lnTo>
                    <a:pt x="664" y="1481"/>
                  </a:lnTo>
                  <a:lnTo>
                    <a:pt x="675" y="1499"/>
                  </a:lnTo>
                  <a:lnTo>
                    <a:pt x="687" y="1516"/>
                  </a:lnTo>
                  <a:lnTo>
                    <a:pt x="695" y="1531"/>
                  </a:lnTo>
                  <a:lnTo>
                    <a:pt x="702" y="1543"/>
                  </a:lnTo>
                  <a:lnTo>
                    <a:pt x="707" y="1553"/>
                  </a:lnTo>
                  <a:lnTo>
                    <a:pt x="712" y="1561"/>
                  </a:lnTo>
                  <a:lnTo>
                    <a:pt x="719" y="1566"/>
                  </a:lnTo>
                  <a:lnTo>
                    <a:pt x="724" y="1570"/>
                  </a:lnTo>
                  <a:lnTo>
                    <a:pt x="732" y="1571"/>
                  </a:lnTo>
                  <a:lnTo>
                    <a:pt x="742" y="1573"/>
                  </a:lnTo>
                  <a:lnTo>
                    <a:pt x="754" y="1576"/>
                  </a:lnTo>
                  <a:lnTo>
                    <a:pt x="765" y="1581"/>
                  </a:lnTo>
                  <a:lnTo>
                    <a:pt x="779" y="1588"/>
                  </a:lnTo>
                  <a:lnTo>
                    <a:pt x="792" y="1595"/>
                  </a:lnTo>
                  <a:lnTo>
                    <a:pt x="804" y="1603"/>
                  </a:lnTo>
                  <a:lnTo>
                    <a:pt x="814" y="1611"/>
                  </a:lnTo>
                  <a:lnTo>
                    <a:pt x="822" y="1618"/>
                  </a:lnTo>
                  <a:lnTo>
                    <a:pt x="834" y="1633"/>
                  </a:lnTo>
                  <a:lnTo>
                    <a:pt x="846" y="1648"/>
                  </a:lnTo>
                  <a:lnTo>
                    <a:pt x="856" y="1663"/>
                  </a:lnTo>
                  <a:lnTo>
                    <a:pt x="866" y="1675"/>
                  </a:lnTo>
                  <a:lnTo>
                    <a:pt x="872" y="1685"/>
                  </a:lnTo>
                  <a:lnTo>
                    <a:pt x="881" y="1700"/>
                  </a:lnTo>
                  <a:lnTo>
                    <a:pt x="891" y="1721"/>
                  </a:lnTo>
                  <a:lnTo>
                    <a:pt x="902" y="1743"/>
                  </a:lnTo>
                  <a:lnTo>
                    <a:pt x="912" y="1768"/>
                  </a:lnTo>
                  <a:lnTo>
                    <a:pt x="921" y="1790"/>
                  </a:lnTo>
                  <a:lnTo>
                    <a:pt x="927" y="1810"/>
                  </a:lnTo>
                  <a:lnTo>
                    <a:pt x="931" y="1823"/>
                  </a:lnTo>
                  <a:lnTo>
                    <a:pt x="937" y="1841"/>
                  </a:lnTo>
                  <a:lnTo>
                    <a:pt x="951" y="1858"/>
                  </a:lnTo>
                  <a:lnTo>
                    <a:pt x="964" y="1878"/>
                  </a:lnTo>
                  <a:lnTo>
                    <a:pt x="979" y="1908"/>
                  </a:lnTo>
                  <a:lnTo>
                    <a:pt x="987" y="1926"/>
                  </a:lnTo>
                  <a:lnTo>
                    <a:pt x="999" y="1945"/>
                  </a:lnTo>
                  <a:lnTo>
                    <a:pt x="1014" y="1965"/>
                  </a:lnTo>
                  <a:lnTo>
                    <a:pt x="1029" y="1981"/>
                  </a:lnTo>
                  <a:lnTo>
                    <a:pt x="1044" y="2000"/>
                  </a:lnTo>
                  <a:lnTo>
                    <a:pt x="1059" y="2015"/>
                  </a:lnTo>
                  <a:lnTo>
                    <a:pt x="1072" y="2027"/>
                  </a:lnTo>
                  <a:lnTo>
                    <a:pt x="1084" y="2037"/>
                  </a:lnTo>
                  <a:lnTo>
                    <a:pt x="1097" y="2052"/>
                  </a:lnTo>
                  <a:lnTo>
                    <a:pt x="1106" y="2068"/>
                  </a:lnTo>
                  <a:lnTo>
                    <a:pt x="1109" y="2085"/>
                  </a:lnTo>
                  <a:lnTo>
                    <a:pt x="1112" y="2098"/>
                  </a:lnTo>
                  <a:lnTo>
                    <a:pt x="1117" y="2108"/>
                  </a:lnTo>
                  <a:lnTo>
                    <a:pt x="1126" y="2120"/>
                  </a:lnTo>
                  <a:lnTo>
                    <a:pt x="1136" y="2132"/>
                  </a:lnTo>
                  <a:lnTo>
                    <a:pt x="1146" y="2145"/>
                  </a:lnTo>
                  <a:lnTo>
                    <a:pt x="1156" y="2160"/>
                  </a:lnTo>
                  <a:lnTo>
                    <a:pt x="1164" y="2175"/>
                  </a:lnTo>
                  <a:lnTo>
                    <a:pt x="1169" y="2190"/>
                  </a:lnTo>
                  <a:lnTo>
                    <a:pt x="1169" y="2202"/>
                  </a:lnTo>
                  <a:lnTo>
                    <a:pt x="1169" y="2217"/>
                  </a:lnTo>
                  <a:lnTo>
                    <a:pt x="1172" y="2233"/>
                  </a:lnTo>
                  <a:lnTo>
                    <a:pt x="1177" y="2248"/>
                  </a:lnTo>
                  <a:lnTo>
                    <a:pt x="1179" y="2255"/>
                  </a:lnTo>
                  <a:lnTo>
                    <a:pt x="1216" y="2227"/>
                  </a:lnTo>
                  <a:lnTo>
                    <a:pt x="1219" y="2222"/>
                  </a:lnTo>
                  <a:lnTo>
                    <a:pt x="1226" y="2208"/>
                  </a:lnTo>
                  <a:lnTo>
                    <a:pt x="1232" y="2192"/>
                  </a:lnTo>
                  <a:lnTo>
                    <a:pt x="1236" y="2178"/>
                  </a:lnTo>
                  <a:lnTo>
                    <a:pt x="1236" y="2165"/>
                  </a:lnTo>
                  <a:lnTo>
                    <a:pt x="1234" y="2145"/>
                  </a:lnTo>
                  <a:lnTo>
                    <a:pt x="1236" y="2123"/>
                  </a:lnTo>
                  <a:lnTo>
                    <a:pt x="1241" y="2103"/>
                  </a:lnTo>
                  <a:lnTo>
                    <a:pt x="1241" y="2087"/>
                  </a:lnTo>
                  <a:lnTo>
                    <a:pt x="1236" y="2077"/>
                  </a:lnTo>
                  <a:lnTo>
                    <a:pt x="1234" y="2067"/>
                  </a:lnTo>
                  <a:lnTo>
                    <a:pt x="1241" y="2060"/>
                  </a:lnTo>
                  <a:lnTo>
                    <a:pt x="1246" y="2057"/>
                  </a:lnTo>
                  <a:lnTo>
                    <a:pt x="1251" y="2057"/>
                  </a:lnTo>
                  <a:lnTo>
                    <a:pt x="1256" y="2058"/>
                  </a:lnTo>
                  <a:lnTo>
                    <a:pt x="1261" y="2062"/>
                  </a:lnTo>
                  <a:lnTo>
                    <a:pt x="1259" y="2052"/>
                  </a:lnTo>
                  <a:lnTo>
                    <a:pt x="1257" y="2043"/>
                  </a:lnTo>
                  <a:lnTo>
                    <a:pt x="1256" y="2033"/>
                  </a:lnTo>
                  <a:lnTo>
                    <a:pt x="1257" y="2027"/>
                  </a:lnTo>
                  <a:close/>
                </a:path>
              </a:pathLst>
            </a:custGeom>
            <a:solidFill>
              <a:srgbClr val="ffffff">
                <a:alpha val="10000"/>
              </a:srgbClr>
            </a:solidFill>
            <a:ln cap="sq" w="9360">
              <a:solidFill>
                <a:srgbClr val="ffffff"/>
              </a:solidFill>
              <a:round/>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7" name=""/>
            <p:cNvSpPr/>
            <p:nvPr/>
          </p:nvSpPr>
          <p:spPr>
            <a:xfrm>
              <a:off x="3086280" y="3249720"/>
              <a:ext cx="4680" cy="4680"/>
            </a:xfrm>
            <a:custGeom>
              <a:avLst/>
              <a:gdLst/>
              <a:ahLst/>
              <a:rect l="l" t="t" r="r" b="b"/>
              <a:pathLst>
                <a:path w="5" h="5">
                  <a:moveTo>
                    <a:pt x="5" y="3"/>
                  </a:moveTo>
                  <a:lnTo>
                    <a:pt x="0" y="0"/>
                  </a:lnTo>
                  <a:lnTo>
                    <a:pt x="2" y="3"/>
                  </a:lnTo>
                  <a:lnTo>
                    <a:pt x="3" y="5"/>
                  </a:lnTo>
                  <a:lnTo>
                    <a:pt x="5" y="3"/>
                  </a:lnTo>
                  <a:lnTo>
                    <a:pt x="5" y="3"/>
                  </a:lnTo>
                  <a:close/>
                </a:path>
              </a:pathLst>
            </a:custGeom>
            <a:solidFill>
              <a:srgbClr val="000000"/>
            </a:solidFill>
            <a:ln w="0">
              <a:noFill/>
            </a:ln>
          </p:spPr>
          <p:style>
            <a:lnRef idx="0"/>
            <a:fillRef idx="0"/>
            <a:effectRef idx="0"/>
            <a:fontRef idx="minor"/>
          </p:style>
          <p:txBody>
            <a:bodyPr wrap="none" lIns="90000" rIns="90000" tIns="-42120" bIns="-421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8" name=""/>
            <p:cNvSpPr/>
            <p:nvPr/>
          </p:nvSpPr>
          <p:spPr>
            <a:xfrm>
              <a:off x="4379760" y="4205160"/>
              <a:ext cx="2567160" cy="993960"/>
            </a:xfrm>
            <a:custGeom>
              <a:avLst/>
              <a:gdLst/>
              <a:ahLst/>
              <a:rect l="l" t="t" r="r" b="b"/>
              <a:pathLst>
                <a:path w="1881" h="744">
                  <a:moveTo>
                    <a:pt x="1298" y="222"/>
                  </a:moveTo>
                  <a:lnTo>
                    <a:pt x="1283" y="225"/>
                  </a:lnTo>
                  <a:lnTo>
                    <a:pt x="1263" y="230"/>
                  </a:lnTo>
                  <a:lnTo>
                    <a:pt x="1239" y="235"/>
                  </a:lnTo>
                  <a:lnTo>
                    <a:pt x="1214" y="242"/>
                  </a:lnTo>
                  <a:lnTo>
                    <a:pt x="1186" y="249"/>
                  </a:lnTo>
                  <a:lnTo>
                    <a:pt x="1157" y="255"/>
                  </a:lnTo>
                  <a:lnTo>
                    <a:pt x="1127" y="262"/>
                  </a:lnTo>
                  <a:lnTo>
                    <a:pt x="1097" y="269"/>
                  </a:lnTo>
                  <a:lnTo>
                    <a:pt x="1067" y="275"/>
                  </a:lnTo>
                  <a:lnTo>
                    <a:pt x="1039" y="284"/>
                  </a:lnTo>
                  <a:lnTo>
                    <a:pt x="1012" y="290"/>
                  </a:lnTo>
                  <a:lnTo>
                    <a:pt x="989" y="297"/>
                  </a:lnTo>
                  <a:lnTo>
                    <a:pt x="967" y="302"/>
                  </a:lnTo>
                  <a:lnTo>
                    <a:pt x="949" y="309"/>
                  </a:lnTo>
                  <a:lnTo>
                    <a:pt x="936" y="314"/>
                  </a:lnTo>
                  <a:lnTo>
                    <a:pt x="927" y="317"/>
                  </a:lnTo>
                  <a:lnTo>
                    <a:pt x="914" y="324"/>
                  </a:lnTo>
                  <a:lnTo>
                    <a:pt x="901" y="329"/>
                  </a:lnTo>
                  <a:lnTo>
                    <a:pt x="887" y="337"/>
                  </a:lnTo>
                  <a:lnTo>
                    <a:pt x="872" y="344"/>
                  </a:lnTo>
                  <a:lnTo>
                    <a:pt x="857" y="355"/>
                  </a:lnTo>
                  <a:lnTo>
                    <a:pt x="842" y="369"/>
                  </a:lnTo>
                  <a:lnTo>
                    <a:pt x="826" y="389"/>
                  </a:lnTo>
                  <a:lnTo>
                    <a:pt x="807" y="412"/>
                  </a:lnTo>
                  <a:lnTo>
                    <a:pt x="791" y="437"/>
                  </a:lnTo>
                  <a:lnTo>
                    <a:pt x="776" y="460"/>
                  </a:lnTo>
                  <a:lnTo>
                    <a:pt x="761" y="482"/>
                  </a:lnTo>
                  <a:lnTo>
                    <a:pt x="747" y="502"/>
                  </a:lnTo>
                  <a:lnTo>
                    <a:pt x="737" y="519"/>
                  </a:lnTo>
                  <a:lnTo>
                    <a:pt x="727" y="532"/>
                  </a:lnTo>
                  <a:lnTo>
                    <a:pt x="719" y="542"/>
                  </a:lnTo>
                  <a:lnTo>
                    <a:pt x="712" y="549"/>
                  </a:lnTo>
                  <a:lnTo>
                    <a:pt x="706" y="554"/>
                  </a:lnTo>
                  <a:lnTo>
                    <a:pt x="699" y="559"/>
                  </a:lnTo>
                  <a:lnTo>
                    <a:pt x="689" y="564"/>
                  </a:lnTo>
                  <a:lnTo>
                    <a:pt x="679" y="565"/>
                  </a:lnTo>
                  <a:lnTo>
                    <a:pt x="667" y="567"/>
                  </a:lnTo>
                  <a:lnTo>
                    <a:pt x="657" y="567"/>
                  </a:lnTo>
                  <a:lnTo>
                    <a:pt x="647" y="564"/>
                  </a:lnTo>
                  <a:lnTo>
                    <a:pt x="637" y="559"/>
                  </a:lnTo>
                  <a:lnTo>
                    <a:pt x="629" y="552"/>
                  </a:lnTo>
                  <a:lnTo>
                    <a:pt x="622" y="544"/>
                  </a:lnTo>
                  <a:lnTo>
                    <a:pt x="615" y="535"/>
                  </a:lnTo>
                  <a:lnTo>
                    <a:pt x="609" y="529"/>
                  </a:lnTo>
                  <a:lnTo>
                    <a:pt x="602" y="524"/>
                  </a:lnTo>
                  <a:lnTo>
                    <a:pt x="595" y="520"/>
                  </a:lnTo>
                  <a:lnTo>
                    <a:pt x="589" y="519"/>
                  </a:lnTo>
                  <a:lnTo>
                    <a:pt x="580" y="520"/>
                  </a:lnTo>
                  <a:lnTo>
                    <a:pt x="569" y="524"/>
                  </a:lnTo>
                  <a:lnTo>
                    <a:pt x="554" y="525"/>
                  </a:lnTo>
                  <a:lnTo>
                    <a:pt x="537" y="525"/>
                  </a:lnTo>
                  <a:lnTo>
                    <a:pt x="519" y="525"/>
                  </a:lnTo>
                  <a:lnTo>
                    <a:pt x="499" y="525"/>
                  </a:lnTo>
                  <a:lnTo>
                    <a:pt x="480" y="524"/>
                  </a:lnTo>
                  <a:lnTo>
                    <a:pt x="462" y="522"/>
                  </a:lnTo>
                  <a:lnTo>
                    <a:pt x="447" y="520"/>
                  </a:lnTo>
                  <a:lnTo>
                    <a:pt x="432" y="519"/>
                  </a:lnTo>
                  <a:lnTo>
                    <a:pt x="417" y="515"/>
                  </a:lnTo>
                  <a:lnTo>
                    <a:pt x="404" y="510"/>
                  </a:lnTo>
                  <a:lnTo>
                    <a:pt x="389" y="507"/>
                  </a:lnTo>
                  <a:lnTo>
                    <a:pt x="375" y="504"/>
                  </a:lnTo>
                  <a:lnTo>
                    <a:pt x="364" y="500"/>
                  </a:lnTo>
                  <a:lnTo>
                    <a:pt x="352" y="497"/>
                  </a:lnTo>
                  <a:lnTo>
                    <a:pt x="342" y="497"/>
                  </a:lnTo>
                  <a:lnTo>
                    <a:pt x="329" y="497"/>
                  </a:lnTo>
                  <a:lnTo>
                    <a:pt x="307" y="497"/>
                  </a:lnTo>
                  <a:lnTo>
                    <a:pt x="280" y="499"/>
                  </a:lnTo>
                  <a:lnTo>
                    <a:pt x="250" y="499"/>
                  </a:lnTo>
                  <a:lnTo>
                    <a:pt x="224" y="500"/>
                  </a:lnTo>
                  <a:lnTo>
                    <a:pt x="200" y="502"/>
                  </a:lnTo>
                  <a:lnTo>
                    <a:pt x="184" y="502"/>
                  </a:lnTo>
                  <a:lnTo>
                    <a:pt x="177" y="502"/>
                  </a:lnTo>
                  <a:lnTo>
                    <a:pt x="175" y="504"/>
                  </a:lnTo>
                  <a:lnTo>
                    <a:pt x="170" y="505"/>
                  </a:lnTo>
                  <a:lnTo>
                    <a:pt x="164" y="509"/>
                  </a:lnTo>
                  <a:lnTo>
                    <a:pt x="155" y="510"/>
                  </a:lnTo>
                  <a:lnTo>
                    <a:pt x="144" y="512"/>
                  </a:lnTo>
                  <a:lnTo>
                    <a:pt x="132" y="512"/>
                  </a:lnTo>
                  <a:lnTo>
                    <a:pt x="120" y="509"/>
                  </a:lnTo>
                  <a:lnTo>
                    <a:pt x="107" y="502"/>
                  </a:lnTo>
                  <a:lnTo>
                    <a:pt x="95" y="494"/>
                  </a:lnTo>
                  <a:lnTo>
                    <a:pt x="87" y="485"/>
                  </a:lnTo>
                  <a:lnTo>
                    <a:pt x="80" y="479"/>
                  </a:lnTo>
                  <a:lnTo>
                    <a:pt x="75" y="475"/>
                  </a:lnTo>
                  <a:lnTo>
                    <a:pt x="70" y="472"/>
                  </a:lnTo>
                  <a:lnTo>
                    <a:pt x="65" y="470"/>
                  </a:lnTo>
                  <a:lnTo>
                    <a:pt x="60" y="470"/>
                  </a:lnTo>
                  <a:lnTo>
                    <a:pt x="53" y="474"/>
                  </a:lnTo>
                  <a:lnTo>
                    <a:pt x="47" y="480"/>
                  </a:lnTo>
                  <a:lnTo>
                    <a:pt x="50" y="489"/>
                  </a:lnTo>
                  <a:lnTo>
                    <a:pt x="55" y="500"/>
                  </a:lnTo>
                  <a:lnTo>
                    <a:pt x="53" y="515"/>
                  </a:lnTo>
                  <a:lnTo>
                    <a:pt x="50" y="535"/>
                  </a:lnTo>
                  <a:lnTo>
                    <a:pt x="48" y="557"/>
                  </a:lnTo>
                  <a:lnTo>
                    <a:pt x="50" y="577"/>
                  </a:lnTo>
                  <a:lnTo>
                    <a:pt x="50" y="592"/>
                  </a:lnTo>
                  <a:lnTo>
                    <a:pt x="47" y="606"/>
                  </a:lnTo>
                  <a:lnTo>
                    <a:pt x="40" y="621"/>
                  </a:lnTo>
                  <a:lnTo>
                    <a:pt x="33" y="634"/>
                  </a:lnTo>
                  <a:lnTo>
                    <a:pt x="30" y="639"/>
                  </a:lnTo>
                  <a:lnTo>
                    <a:pt x="0" y="662"/>
                  </a:lnTo>
                  <a:lnTo>
                    <a:pt x="3" y="666"/>
                  </a:lnTo>
                  <a:lnTo>
                    <a:pt x="8" y="669"/>
                  </a:lnTo>
                  <a:lnTo>
                    <a:pt x="13" y="674"/>
                  </a:lnTo>
                  <a:lnTo>
                    <a:pt x="18" y="677"/>
                  </a:lnTo>
                  <a:lnTo>
                    <a:pt x="32" y="684"/>
                  </a:lnTo>
                  <a:lnTo>
                    <a:pt x="43" y="687"/>
                  </a:lnTo>
                  <a:lnTo>
                    <a:pt x="55" y="687"/>
                  </a:lnTo>
                  <a:lnTo>
                    <a:pt x="67" y="686"/>
                  </a:lnTo>
                  <a:lnTo>
                    <a:pt x="77" y="684"/>
                  </a:lnTo>
                  <a:lnTo>
                    <a:pt x="83" y="681"/>
                  </a:lnTo>
                  <a:lnTo>
                    <a:pt x="88" y="679"/>
                  </a:lnTo>
                  <a:lnTo>
                    <a:pt x="90" y="677"/>
                  </a:lnTo>
                  <a:lnTo>
                    <a:pt x="97" y="677"/>
                  </a:lnTo>
                  <a:lnTo>
                    <a:pt x="114" y="677"/>
                  </a:lnTo>
                  <a:lnTo>
                    <a:pt x="137" y="676"/>
                  </a:lnTo>
                  <a:lnTo>
                    <a:pt x="164" y="674"/>
                  </a:lnTo>
                  <a:lnTo>
                    <a:pt x="194" y="674"/>
                  </a:lnTo>
                  <a:lnTo>
                    <a:pt x="220" y="672"/>
                  </a:lnTo>
                  <a:lnTo>
                    <a:pt x="242" y="672"/>
                  </a:lnTo>
                  <a:lnTo>
                    <a:pt x="255" y="672"/>
                  </a:lnTo>
                  <a:lnTo>
                    <a:pt x="265" y="674"/>
                  </a:lnTo>
                  <a:lnTo>
                    <a:pt x="275" y="676"/>
                  </a:lnTo>
                  <a:lnTo>
                    <a:pt x="289" y="679"/>
                  </a:lnTo>
                  <a:lnTo>
                    <a:pt x="302" y="682"/>
                  </a:lnTo>
                  <a:lnTo>
                    <a:pt x="315" y="687"/>
                  </a:lnTo>
                  <a:lnTo>
                    <a:pt x="330" y="691"/>
                  </a:lnTo>
                  <a:lnTo>
                    <a:pt x="344" y="694"/>
                  </a:lnTo>
                  <a:lnTo>
                    <a:pt x="359" y="697"/>
                  </a:lnTo>
                  <a:lnTo>
                    <a:pt x="374" y="699"/>
                  </a:lnTo>
                  <a:lnTo>
                    <a:pt x="392" y="701"/>
                  </a:lnTo>
                  <a:lnTo>
                    <a:pt x="412" y="701"/>
                  </a:lnTo>
                  <a:lnTo>
                    <a:pt x="430" y="702"/>
                  </a:lnTo>
                  <a:lnTo>
                    <a:pt x="450" y="702"/>
                  </a:lnTo>
                  <a:lnTo>
                    <a:pt x="467" y="701"/>
                  </a:lnTo>
                  <a:lnTo>
                    <a:pt x="480" y="701"/>
                  </a:lnTo>
                  <a:lnTo>
                    <a:pt x="492" y="697"/>
                  </a:lnTo>
                  <a:lnTo>
                    <a:pt x="500" y="696"/>
                  </a:lnTo>
                  <a:lnTo>
                    <a:pt x="507" y="696"/>
                  </a:lnTo>
                  <a:lnTo>
                    <a:pt x="514" y="699"/>
                  </a:lnTo>
                  <a:lnTo>
                    <a:pt x="520" y="706"/>
                  </a:lnTo>
                  <a:lnTo>
                    <a:pt x="527" y="712"/>
                  </a:lnTo>
                  <a:lnTo>
                    <a:pt x="534" y="719"/>
                  </a:lnTo>
                  <a:lnTo>
                    <a:pt x="540" y="727"/>
                  </a:lnTo>
                  <a:lnTo>
                    <a:pt x="549" y="734"/>
                  </a:lnTo>
                  <a:lnTo>
                    <a:pt x="559" y="741"/>
                  </a:lnTo>
                  <a:lnTo>
                    <a:pt x="569" y="742"/>
                  </a:lnTo>
                  <a:lnTo>
                    <a:pt x="579" y="744"/>
                  </a:lnTo>
                  <a:lnTo>
                    <a:pt x="590" y="742"/>
                  </a:lnTo>
                  <a:lnTo>
                    <a:pt x="600" y="739"/>
                  </a:lnTo>
                  <a:lnTo>
                    <a:pt x="610" y="736"/>
                  </a:lnTo>
                  <a:lnTo>
                    <a:pt x="619" y="731"/>
                  </a:lnTo>
                  <a:lnTo>
                    <a:pt x="625" y="726"/>
                  </a:lnTo>
                  <a:lnTo>
                    <a:pt x="632" y="719"/>
                  </a:lnTo>
                  <a:lnTo>
                    <a:pt x="639" y="707"/>
                  </a:lnTo>
                  <a:lnTo>
                    <a:pt x="649" y="694"/>
                  </a:lnTo>
                  <a:lnTo>
                    <a:pt x="661" y="677"/>
                  </a:lnTo>
                  <a:lnTo>
                    <a:pt x="672" y="659"/>
                  </a:lnTo>
                  <a:lnTo>
                    <a:pt x="687" y="637"/>
                  </a:lnTo>
                  <a:lnTo>
                    <a:pt x="704" y="614"/>
                  </a:lnTo>
                  <a:lnTo>
                    <a:pt x="721" y="587"/>
                  </a:lnTo>
                  <a:lnTo>
                    <a:pt x="737" y="564"/>
                  </a:lnTo>
                  <a:lnTo>
                    <a:pt x="754" y="544"/>
                  </a:lnTo>
                  <a:lnTo>
                    <a:pt x="769" y="530"/>
                  </a:lnTo>
                  <a:lnTo>
                    <a:pt x="786" y="519"/>
                  </a:lnTo>
                  <a:lnTo>
                    <a:pt x="799" y="512"/>
                  </a:lnTo>
                  <a:lnTo>
                    <a:pt x="812" y="504"/>
                  </a:lnTo>
                  <a:lnTo>
                    <a:pt x="826" y="499"/>
                  </a:lnTo>
                  <a:lnTo>
                    <a:pt x="839" y="492"/>
                  </a:lnTo>
                  <a:lnTo>
                    <a:pt x="847" y="489"/>
                  </a:lnTo>
                  <a:lnTo>
                    <a:pt x="862" y="484"/>
                  </a:lnTo>
                  <a:lnTo>
                    <a:pt x="879" y="479"/>
                  </a:lnTo>
                  <a:lnTo>
                    <a:pt x="901" y="472"/>
                  </a:lnTo>
                  <a:lnTo>
                    <a:pt x="926" y="465"/>
                  </a:lnTo>
                  <a:lnTo>
                    <a:pt x="952" y="459"/>
                  </a:lnTo>
                  <a:lnTo>
                    <a:pt x="981" y="452"/>
                  </a:lnTo>
                  <a:lnTo>
                    <a:pt x="1009" y="444"/>
                  </a:lnTo>
                  <a:lnTo>
                    <a:pt x="1039" y="437"/>
                  </a:lnTo>
                  <a:lnTo>
                    <a:pt x="1069" y="430"/>
                  </a:lnTo>
                  <a:lnTo>
                    <a:pt x="1097" y="424"/>
                  </a:lnTo>
                  <a:lnTo>
                    <a:pt x="1126" y="417"/>
                  </a:lnTo>
                  <a:lnTo>
                    <a:pt x="1151" y="410"/>
                  </a:lnTo>
                  <a:lnTo>
                    <a:pt x="1174" y="405"/>
                  </a:lnTo>
                  <a:lnTo>
                    <a:pt x="1194" y="400"/>
                  </a:lnTo>
                  <a:lnTo>
                    <a:pt x="1209" y="397"/>
                  </a:lnTo>
                  <a:lnTo>
                    <a:pt x="1236" y="390"/>
                  </a:lnTo>
                  <a:lnTo>
                    <a:pt x="1263" y="385"/>
                  </a:lnTo>
                  <a:lnTo>
                    <a:pt x="1289" y="382"/>
                  </a:lnTo>
                  <a:lnTo>
                    <a:pt x="1313" y="379"/>
                  </a:lnTo>
                  <a:lnTo>
                    <a:pt x="1336" y="375"/>
                  </a:lnTo>
                  <a:lnTo>
                    <a:pt x="1354" y="370"/>
                  </a:lnTo>
                  <a:lnTo>
                    <a:pt x="1371" y="365"/>
                  </a:lnTo>
                  <a:lnTo>
                    <a:pt x="1384" y="359"/>
                  </a:lnTo>
                  <a:lnTo>
                    <a:pt x="1394" y="354"/>
                  </a:lnTo>
                  <a:lnTo>
                    <a:pt x="1411" y="345"/>
                  </a:lnTo>
                  <a:lnTo>
                    <a:pt x="1434" y="334"/>
                  </a:lnTo>
                  <a:lnTo>
                    <a:pt x="1463" y="320"/>
                  </a:lnTo>
                  <a:lnTo>
                    <a:pt x="1496" y="307"/>
                  </a:lnTo>
                  <a:lnTo>
                    <a:pt x="1533" y="290"/>
                  </a:lnTo>
                  <a:lnTo>
                    <a:pt x="1571" y="274"/>
                  </a:lnTo>
                  <a:lnTo>
                    <a:pt x="1611" y="255"/>
                  </a:lnTo>
                  <a:lnTo>
                    <a:pt x="1649" y="239"/>
                  </a:lnTo>
                  <a:lnTo>
                    <a:pt x="1688" y="222"/>
                  </a:lnTo>
                  <a:lnTo>
                    <a:pt x="1723" y="207"/>
                  </a:lnTo>
                  <a:lnTo>
                    <a:pt x="1756" y="192"/>
                  </a:lnTo>
                  <a:lnTo>
                    <a:pt x="1783" y="180"/>
                  </a:lnTo>
                  <a:lnTo>
                    <a:pt x="1805" y="170"/>
                  </a:lnTo>
                  <a:lnTo>
                    <a:pt x="1820" y="164"/>
                  </a:lnTo>
                  <a:lnTo>
                    <a:pt x="1826" y="160"/>
                  </a:lnTo>
                  <a:lnTo>
                    <a:pt x="1836" y="152"/>
                  </a:lnTo>
                  <a:lnTo>
                    <a:pt x="1841" y="142"/>
                  </a:lnTo>
                  <a:lnTo>
                    <a:pt x="1845" y="130"/>
                  </a:lnTo>
                  <a:lnTo>
                    <a:pt x="1846" y="117"/>
                  </a:lnTo>
                  <a:lnTo>
                    <a:pt x="1848" y="100"/>
                  </a:lnTo>
                  <a:lnTo>
                    <a:pt x="1851" y="78"/>
                  </a:lnTo>
                  <a:lnTo>
                    <a:pt x="1858" y="57"/>
                  </a:lnTo>
                  <a:lnTo>
                    <a:pt x="1865" y="37"/>
                  </a:lnTo>
                  <a:lnTo>
                    <a:pt x="1868" y="27"/>
                  </a:lnTo>
                  <a:lnTo>
                    <a:pt x="1873" y="18"/>
                  </a:lnTo>
                  <a:lnTo>
                    <a:pt x="1876" y="8"/>
                  </a:lnTo>
                  <a:lnTo>
                    <a:pt x="1881" y="0"/>
                  </a:lnTo>
                  <a:lnTo>
                    <a:pt x="1861" y="10"/>
                  </a:lnTo>
                  <a:lnTo>
                    <a:pt x="1836" y="20"/>
                  </a:lnTo>
                  <a:lnTo>
                    <a:pt x="1808" y="32"/>
                  </a:lnTo>
                  <a:lnTo>
                    <a:pt x="1778" y="45"/>
                  </a:lnTo>
                  <a:lnTo>
                    <a:pt x="1746" y="58"/>
                  </a:lnTo>
                  <a:lnTo>
                    <a:pt x="1714" y="73"/>
                  </a:lnTo>
                  <a:lnTo>
                    <a:pt x="1681" y="88"/>
                  </a:lnTo>
                  <a:lnTo>
                    <a:pt x="1648" y="102"/>
                  </a:lnTo>
                  <a:lnTo>
                    <a:pt x="1616" y="117"/>
                  </a:lnTo>
                  <a:lnTo>
                    <a:pt x="1586" y="130"/>
                  </a:lnTo>
                  <a:lnTo>
                    <a:pt x="1558" y="142"/>
                  </a:lnTo>
                  <a:lnTo>
                    <a:pt x="1533" y="154"/>
                  </a:lnTo>
                  <a:lnTo>
                    <a:pt x="1511" y="164"/>
                  </a:lnTo>
                  <a:lnTo>
                    <a:pt x="1493" y="174"/>
                  </a:lnTo>
                  <a:lnTo>
                    <a:pt x="1479" y="179"/>
                  </a:lnTo>
                  <a:lnTo>
                    <a:pt x="1473" y="184"/>
                  </a:lnTo>
                  <a:lnTo>
                    <a:pt x="1459" y="190"/>
                  </a:lnTo>
                  <a:lnTo>
                    <a:pt x="1443" y="195"/>
                  </a:lnTo>
                  <a:lnTo>
                    <a:pt x="1423" y="199"/>
                  </a:lnTo>
                  <a:lnTo>
                    <a:pt x="1401" y="202"/>
                  </a:lnTo>
                  <a:lnTo>
                    <a:pt x="1376" y="205"/>
                  </a:lnTo>
                  <a:lnTo>
                    <a:pt x="1351" y="210"/>
                  </a:lnTo>
                  <a:lnTo>
                    <a:pt x="1324" y="215"/>
                  </a:lnTo>
                  <a:lnTo>
                    <a:pt x="1298" y="222"/>
                  </a:lnTo>
                  <a:close/>
                </a:path>
              </a:pathLst>
            </a:custGeom>
            <a:solidFill>
              <a:srgbClr val="ffffff">
                <a:alpha val="20000"/>
              </a:srgbClr>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9" name=""/>
            <p:cNvSpPr/>
            <p:nvPr/>
          </p:nvSpPr>
          <p:spPr>
            <a:xfrm>
              <a:off x="2813040" y="1346040"/>
              <a:ext cx="4348080" cy="3579840"/>
            </a:xfrm>
            <a:custGeom>
              <a:avLst/>
              <a:gdLst/>
              <a:ahLst/>
              <a:rect l="l" t="t" r="r" b="b"/>
              <a:pathLst>
                <a:path w="3185" h="2678">
                  <a:moveTo>
                    <a:pt x="380" y="90"/>
                  </a:moveTo>
                  <a:lnTo>
                    <a:pt x="683" y="28"/>
                  </a:lnTo>
                  <a:lnTo>
                    <a:pt x="693" y="0"/>
                  </a:lnTo>
                  <a:lnTo>
                    <a:pt x="695" y="0"/>
                  </a:lnTo>
                  <a:lnTo>
                    <a:pt x="698" y="0"/>
                  </a:lnTo>
                  <a:lnTo>
                    <a:pt x="704" y="0"/>
                  </a:lnTo>
                  <a:lnTo>
                    <a:pt x="712" y="0"/>
                  </a:lnTo>
                  <a:lnTo>
                    <a:pt x="720" y="0"/>
                  </a:lnTo>
                  <a:lnTo>
                    <a:pt x="734" y="2"/>
                  </a:lnTo>
                  <a:lnTo>
                    <a:pt x="747" y="5"/>
                  </a:lnTo>
                  <a:lnTo>
                    <a:pt x="764" y="10"/>
                  </a:lnTo>
                  <a:lnTo>
                    <a:pt x="782" y="15"/>
                  </a:lnTo>
                  <a:lnTo>
                    <a:pt x="799" y="20"/>
                  </a:lnTo>
                  <a:lnTo>
                    <a:pt x="817" y="23"/>
                  </a:lnTo>
                  <a:lnTo>
                    <a:pt x="832" y="28"/>
                  </a:lnTo>
                  <a:lnTo>
                    <a:pt x="847" y="32"/>
                  </a:lnTo>
                  <a:lnTo>
                    <a:pt x="862" y="35"/>
                  </a:lnTo>
                  <a:lnTo>
                    <a:pt x="874" y="40"/>
                  </a:lnTo>
                  <a:lnTo>
                    <a:pt x="884" y="43"/>
                  </a:lnTo>
                  <a:lnTo>
                    <a:pt x="894" y="48"/>
                  </a:lnTo>
                  <a:lnTo>
                    <a:pt x="907" y="57"/>
                  </a:lnTo>
                  <a:lnTo>
                    <a:pt x="924" y="68"/>
                  </a:lnTo>
                  <a:lnTo>
                    <a:pt x="942" y="82"/>
                  </a:lnTo>
                  <a:lnTo>
                    <a:pt x="962" y="97"/>
                  </a:lnTo>
                  <a:lnTo>
                    <a:pt x="985" y="112"/>
                  </a:lnTo>
                  <a:lnTo>
                    <a:pt x="1009" y="127"/>
                  </a:lnTo>
                  <a:lnTo>
                    <a:pt x="1035" y="142"/>
                  </a:lnTo>
                  <a:lnTo>
                    <a:pt x="1060" y="155"/>
                  </a:lnTo>
                  <a:lnTo>
                    <a:pt x="1080" y="168"/>
                  </a:lnTo>
                  <a:lnTo>
                    <a:pt x="1099" y="180"/>
                  </a:lnTo>
                  <a:lnTo>
                    <a:pt x="1114" y="190"/>
                  </a:lnTo>
                  <a:lnTo>
                    <a:pt x="1124" y="197"/>
                  </a:lnTo>
                  <a:lnTo>
                    <a:pt x="1132" y="203"/>
                  </a:lnTo>
                  <a:lnTo>
                    <a:pt x="1137" y="207"/>
                  </a:lnTo>
                  <a:lnTo>
                    <a:pt x="1139" y="208"/>
                  </a:lnTo>
                  <a:lnTo>
                    <a:pt x="1142" y="210"/>
                  </a:lnTo>
                  <a:lnTo>
                    <a:pt x="1150" y="215"/>
                  </a:lnTo>
                  <a:lnTo>
                    <a:pt x="1162" y="223"/>
                  </a:lnTo>
                  <a:lnTo>
                    <a:pt x="1177" y="233"/>
                  </a:lnTo>
                  <a:lnTo>
                    <a:pt x="1192" y="243"/>
                  </a:lnTo>
                  <a:lnTo>
                    <a:pt x="1205" y="255"/>
                  </a:lnTo>
                  <a:lnTo>
                    <a:pt x="1217" y="265"/>
                  </a:lnTo>
                  <a:lnTo>
                    <a:pt x="1225" y="275"/>
                  </a:lnTo>
                  <a:lnTo>
                    <a:pt x="1234" y="285"/>
                  </a:lnTo>
                  <a:lnTo>
                    <a:pt x="1245" y="297"/>
                  </a:lnTo>
                  <a:lnTo>
                    <a:pt x="1259" y="310"/>
                  </a:lnTo>
                  <a:lnTo>
                    <a:pt x="1276" y="325"/>
                  </a:lnTo>
                  <a:lnTo>
                    <a:pt x="1292" y="340"/>
                  </a:lnTo>
                  <a:lnTo>
                    <a:pt x="1309" y="354"/>
                  </a:lnTo>
                  <a:lnTo>
                    <a:pt x="1324" y="365"/>
                  </a:lnTo>
                  <a:lnTo>
                    <a:pt x="1334" y="375"/>
                  </a:lnTo>
                  <a:lnTo>
                    <a:pt x="1346" y="385"/>
                  </a:lnTo>
                  <a:lnTo>
                    <a:pt x="1362" y="397"/>
                  </a:lnTo>
                  <a:lnTo>
                    <a:pt x="1381" y="410"/>
                  </a:lnTo>
                  <a:lnTo>
                    <a:pt x="1401" y="424"/>
                  </a:lnTo>
                  <a:lnTo>
                    <a:pt x="1421" y="437"/>
                  </a:lnTo>
                  <a:lnTo>
                    <a:pt x="1436" y="445"/>
                  </a:lnTo>
                  <a:lnTo>
                    <a:pt x="1447" y="454"/>
                  </a:lnTo>
                  <a:lnTo>
                    <a:pt x="1451" y="455"/>
                  </a:lnTo>
                  <a:lnTo>
                    <a:pt x="1489" y="509"/>
                  </a:lnTo>
                  <a:lnTo>
                    <a:pt x="1497" y="509"/>
                  </a:lnTo>
                  <a:lnTo>
                    <a:pt x="1517" y="509"/>
                  </a:lnTo>
                  <a:lnTo>
                    <a:pt x="1546" y="509"/>
                  </a:lnTo>
                  <a:lnTo>
                    <a:pt x="1581" y="509"/>
                  </a:lnTo>
                  <a:lnTo>
                    <a:pt x="1617" y="510"/>
                  </a:lnTo>
                  <a:lnTo>
                    <a:pt x="1651" y="514"/>
                  </a:lnTo>
                  <a:lnTo>
                    <a:pt x="1677" y="520"/>
                  </a:lnTo>
                  <a:lnTo>
                    <a:pt x="1694" y="527"/>
                  </a:lnTo>
                  <a:lnTo>
                    <a:pt x="1696" y="527"/>
                  </a:lnTo>
                  <a:lnTo>
                    <a:pt x="1702" y="525"/>
                  </a:lnTo>
                  <a:lnTo>
                    <a:pt x="1712" y="522"/>
                  </a:lnTo>
                  <a:lnTo>
                    <a:pt x="1722" y="520"/>
                  </a:lnTo>
                  <a:lnTo>
                    <a:pt x="1736" y="519"/>
                  </a:lnTo>
                  <a:lnTo>
                    <a:pt x="1747" y="515"/>
                  </a:lnTo>
                  <a:lnTo>
                    <a:pt x="1759" y="514"/>
                  </a:lnTo>
                  <a:lnTo>
                    <a:pt x="1769" y="514"/>
                  </a:lnTo>
                  <a:lnTo>
                    <a:pt x="1782" y="515"/>
                  </a:lnTo>
                  <a:lnTo>
                    <a:pt x="1801" y="519"/>
                  </a:lnTo>
                  <a:lnTo>
                    <a:pt x="1823" y="522"/>
                  </a:lnTo>
                  <a:lnTo>
                    <a:pt x="1848" y="527"/>
                  </a:lnTo>
                  <a:lnTo>
                    <a:pt x="1869" y="534"/>
                  </a:lnTo>
                  <a:lnTo>
                    <a:pt x="1889" y="537"/>
                  </a:lnTo>
                  <a:lnTo>
                    <a:pt x="1903" y="540"/>
                  </a:lnTo>
                  <a:lnTo>
                    <a:pt x="1908" y="542"/>
                  </a:lnTo>
                  <a:lnTo>
                    <a:pt x="1926" y="604"/>
                  </a:lnTo>
                  <a:lnTo>
                    <a:pt x="2044" y="604"/>
                  </a:lnTo>
                  <a:lnTo>
                    <a:pt x="2064" y="689"/>
                  </a:lnTo>
                  <a:lnTo>
                    <a:pt x="2071" y="692"/>
                  </a:lnTo>
                  <a:lnTo>
                    <a:pt x="2083" y="704"/>
                  </a:lnTo>
                  <a:lnTo>
                    <a:pt x="2093" y="722"/>
                  </a:lnTo>
                  <a:lnTo>
                    <a:pt x="2093" y="746"/>
                  </a:lnTo>
                  <a:lnTo>
                    <a:pt x="2116" y="784"/>
                  </a:lnTo>
                  <a:lnTo>
                    <a:pt x="2154" y="769"/>
                  </a:lnTo>
                  <a:lnTo>
                    <a:pt x="2158" y="774"/>
                  </a:lnTo>
                  <a:lnTo>
                    <a:pt x="2164" y="786"/>
                  </a:lnTo>
                  <a:lnTo>
                    <a:pt x="2169" y="801"/>
                  </a:lnTo>
                  <a:lnTo>
                    <a:pt x="2173" y="812"/>
                  </a:lnTo>
                  <a:lnTo>
                    <a:pt x="2176" y="824"/>
                  </a:lnTo>
                  <a:lnTo>
                    <a:pt x="2183" y="834"/>
                  </a:lnTo>
                  <a:lnTo>
                    <a:pt x="2189" y="842"/>
                  </a:lnTo>
                  <a:lnTo>
                    <a:pt x="2193" y="846"/>
                  </a:lnTo>
                  <a:lnTo>
                    <a:pt x="2201" y="822"/>
                  </a:lnTo>
                  <a:lnTo>
                    <a:pt x="2226" y="869"/>
                  </a:lnTo>
                  <a:lnTo>
                    <a:pt x="2228" y="869"/>
                  </a:lnTo>
                  <a:lnTo>
                    <a:pt x="2234" y="871"/>
                  </a:lnTo>
                  <a:lnTo>
                    <a:pt x="2244" y="874"/>
                  </a:lnTo>
                  <a:lnTo>
                    <a:pt x="2254" y="877"/>
                  </a:lnTo>
                  <a:lnTo>
                    <a:pt x="2266" y="882"/>
                  </a:lnTo>
                  <a:lnTo>
                    <a:pt x="2276" y="887"/>
                  </a:lnTo>
                  <a:lnTo>
                    <a:pt x="2284" y="894"/>
                  </a:lnTo>
                  <a:lnTo>
                    <a:pt x="2288" y="902"/>
                  </a:lnTo>
                  <a:lnTo>
                    <a:pt x="2289" y="921"/>
                  </a:lnTo>
                  <a:lnTo>
                    <a:pt x="2293" y="937"/>
                  </a:lnTo>
                  <a:lnTo>
                    <a:pt x="2296" y="952"/>
                  </a:lnTo>
                  <a:lnTo>
                    <a:pt x="2306" y="964"/>
                  </a:lnTo>
                  <a:lnTo>
                    <a:pt x="2316" y="979"/>
                  </a:lnTo>
                  <a:lnTo>
                    <a:pt x="2321" y="996"/>
                  </a:lnTo>
                  <a:lnTo>
                    <a:pt x="2318" y="1011"/>
                  </a:lnTo>
                  <a:lnTo>
                    <a:pt x="2311" y="1017"/>
                  </a:lnTo>
                  <a:lnTo>
                    <a:pt x="2303" y="1019"/>
                  </a:lnTo>
                  <a:lnTo>
                    <a:pt x="2299" y="1024"/>
                  </a:lnTo>
                  <a:lnTo>
                    <a:pt x="2301" y="1032"/>
                  </a:lnTo>
                  <a:lnTo>
                    <a:pt x="2306" y="1046"/>
                  </a:lnTo>
                  <a:lnTo>
                    <a:pt x="2313" y="1061"/>
                  </a:lnTo>
                  <a:lnTo>
                    <a:pt x="2319" y="1076"/>
                  </a:lnTo>
                  <a:lnTo>
                    <a:pt x="2324" y="1092"/>
                  </a:lnTo>
                  <a:lnTo>
                    <a:pt x="2329" y="1107"/>
                  </a:lnTo>
                  <a:lnTo>
                    <a:pt x="2336" y="1117"/>
                  </a:lnTo>
                  <a:lnTo>
                    <a:pt x="2344" y="1121"/>
                  </a:lnTo>
                  <a:lnTo>
                    <a:pt x="2351" y="1121"/>
                  </a:lnTo>
                  <a:lnTo>
                    <a:pt x="2354" y="1121"/>
                  </a:lnTo>
                  <a:lnTo>
                    <a:pt x="2356" y="1129"/>
                  </a:lnTo>
                  <a:lnTo>
                    <a:pt x="2365" y="1149"/>
                  </a:lnTo>
                  <a:lnTo>
                    <a:pt x="2375" y="1174"/>
                  </a:lnTo>
                  <a:lnTo>
                    <a:pt x="2388" y="1192"/>
                  </a:lnTo>
                  <a:lnTo>
                    <a:pt x="2395" y="1201"/>
                  </a:lnTo>
                  <a:lnTo>
                    <a:pt x="2400" y="1209"/>
                  </a:lnTo>
                  <a:lnTo>
                    <a:pt x="2405" y="1217"/>
                  </a:lnTo>
                  <a:lnTo>
                    <a:pt x="2411" y="1227"/>
                  </a:lnTo>
                  <a:lnTo>
                    <a:pt x="2416" y="1236"/>
                  </a:lnTo>
                  <a:lnTo>
                    <a:pt x="2425" y="1244"/>
                  </a:lnTo>
                  <a:lnTo>
                    <a:pt x="2433" y="1253"/>
                  </a:lnTo>
                  <a:lnTo>
                    <a:pt x="2445" y="1259"/>
                  </a:lnTo>
                  <a:lnTo>
                    <a:pt x="2456" y="1263"/>
                  </a:lnTo>
                  <a:lnTo>
                    <a:pt x="2468" y="1263"/>
                  </a:lnTo>
                  <a:lnTo>
                    <a:pt x="2478" y="1263"/>
                  </a:lnTo>
                  <a:lnTo>
                    <a:pt x="2486" y="1259"/>
                  </a:lnTo>
                  <a:lnTo>
                    <a:pt x="2493" y="1256"/>
                  </a:lnTo>
                  <a:lnTo>
                    <a:pt x="2498" y="1253"/>
                  </a:lnTo>
                  <a:lnTo>
                    <a:pt x="2500" y="1251"/>
                  </a:lnTo>
                  <a:lnTo>
                    <a:pt x="2501" y="1249"/>
                  </a:lnTo>
                  <a:lnTo>
                    <a:pt x="2520" y="1259"/>
                  </a:lnTo>
                  <a:lnTo>
                    <a:pt x="2501" y="1293"/>
                  </a:lnTo>
                  <a:lnTo>
                    <a:pt x="2501" y="1294"/>
                  </a:lnTo>
                  <a:lnTo>
                    <a:pt x="2501" y="1299"/>
                  </a:lnTo>
                  <a:lnTo>
                    <a:pt x="2503" y="1304"/>
                  </a:lnTo>
                  <a:lnTo>
                    <a:pt x="2511" y="1306"/>
                  </a:lnTo>
                  <a:lnTo>
                    <a:pt x="2521" y="1314"/>
                  </a:lnTo>
                  <a:lnTo>
                    <a:pt x="2531" y="1329"/>
                  </a:lnTo>
                  <a:lnTo>
                    <a:pt x="2536" y="1346"/>
                  </a:lnTo>
                  <a:lnTo>
                    <a:pt x="2540" y="1354"/>
                  </a:lnTo>
                  <a:lnTo>
                    <a:pt x="2541" y="1356"/>
                  </a:lnTo>
                  <a:lnTo>
                    <a:pt x="2546" y="1361"/>
                  </a:lnTo>
                  <a:lnTo>
                    <a:pt x="2553" y="1368"/>
                  </a:lnTo>
                  <a:lnTo>
                    <a:pt x="2561" y="1378"/>
                  </a:lnTo>
                  <a:lnTo>
                    <a:pt x="2571" y="1388"/>
                  </a:lnTo>
                  <a:lnTo>
                    <a:pt x="2583" y="1401"/>
                  </a:lnTo>
                  <a:lnTo>
                    <a:pt x="2595" y="1414"/>
                  </a:lnTo>
                  <a:lnTo>
                    <a:pt x="2606" y="1428"/>
                  </a:lnTo>
                  <a:lnTo>
                    <a:pt x="2618" y="1443"/>
                  </a:lnTo>
                  <a:lnTo>
                    <a:pt x="2631" y="1458"/>
                  </a:lnTo>
                  <a:lnTo>
                    <a:pt x="2645" y="1473"/>
                  </a:lnTo>
                  <a:lnTo>
                    <a:pt x="2658" y="1488"/>
                  </a:lnTo>
                  <a:lnTo>
                    <a:pt x="2670" y="1501"/>
                  </a:lnTo>
                  <a:lnTo>
                    <a:pt x="2680" y="1511"/>
                  </a:lnTo>
                  <a:lnTo>
                    <a:pt x="2688" y="1521"/>
                  </a:lnTo>
                  <a:lnTo>
                    <a:pt x="2691" y="1528"/>
                  </a:lnTo>
                  <a:lnTo>
                    <a:pt x="2701" y="1533"/>
                  </a:lnTo>
                  <a:lnTo>
                    <a:pt x="2723" y="1538"/>
                  </a:lnTo>
                  <a:lnTo>
                    <a:pt x="2753" y="1543"/>
                  </a:lnTo>
                  <a:lnTo>
                    <a:pt x="2790" y="1546"/>
                  </a:lnTo>
                  <a:lnTo>
                    <a:pt x="2828" y="1549"/>
                  </a:lnTo>
                  <a:lnTo>
                    <a:pt x="2863" y="1551"/>
                  </a:lnTo>
                  <a:lnTo>
                    <a:pt x="2891" y="1554"/>
                  </a:lnTo>
                  <a:lnTo>
                    <a:pt x="2910" y="1556"/>
                  </a:lnTo>
                  <a:lnTo>
                    <a:pt x="2925" y="1558"/>
                  </a:lnTo>
                  <a:lnTo>
                    <a:pt x="2945" y="1559"/>
                  </a:lnTo>
                  <a:lnTo>
                    <a:pt x="2968" y="1561"/>
                  </a:lnTo>
                  <a:lnTo>
                    <a:pt x="2992" y="1563"/>
                  </a:lnTo>
                  <a:lnTo>
                    <a:pt x="3013" y="1566"/>
                  </a:lnTo>
                  <a:lnTo>
                    <a:pt x="3033" y="1568"/>
                  </a:lnTo>
                  <a:lnTo>
                    <a:pt x="3048" y="1569"/>
                  </a:lnTo>
                  <a:lnTo>
                    <a:pt x="3057" y="1571"/>
                  </a:lnTo>
                  <a:lnTo>
                    <a:pt x="3070" y="1569"/>
                  </a:lnTo>
                  <a:lnTo>
                    <a:pt x="3083" y="1563"/>
                  </a:lnTo>
                  <a:lnTo>
                    <a:pt x="3095" y="1554"/>
                  </a:lnTo>
                  <a:lnTo>
                    <a:pt x="3100" y="1551"/>
                  </a:lnTo>
                  <a:lnTo>
                    <a:pt x="3102" y="1553"/>
                  </a:lnTo>
                  <a:lnTo>
                    <a:pt x="3105" y="1556"/>
                  </a:lnTo>
                  <a:lnTo>
                    <a:pt x="3112" y="1561"/>
                  </a:lnTo>
                  <a:lnTo>
                    <a:pt x="3120" y="1568"/>
                  </a:lnTo>
                  <a:lnTo>
                    <a:pt x="3130" y="1576"/>
                  </a:lnTo>
                  <a:lnTo>
                    <a:pt x="3140" y="1586"/>
                  </a:lnTo>
                  <a:lnTo>
                    <a:pt x="3152" y="1598"/>
                  </a:lnTo>
                  <a:lnTo>
                    <a:pt x="3162" y="1609"/>
                  </a:lnTo>
                  <a:lnTo>
                    <a:pt x="3172" y="1624"/>
                  </a:lnTo>
                  <a:lnTo>
                    <a:pt x="3180" y="1638"/>
                  </a:lnTo>
                  <a:lnTo>
                    <a:pt x="3183" y="1653"/>
                  </a:lnTo>
                  <a:lnTo>
                    <a:pt x="3185" y="1668"/>
                  </a:lnTo>
                  <a:lnTo>
                    <a:pt x="3185" y="1678"/>
                  </a:lnTo>
                  <a:lnTo>
                    <a:pt x="3183" y="1688"/>
                  </a:lnTo>
                  <a:lnTo>
                    <a:pt x="3180" y="1696"/>
                  </a:lnTo>
                  <a:lnTo>
                    <a:pt x="3175" y="1704"/>
                  </a:lnTo>
                  <a:lnTo>
                    <a:pt x="3168" y="1724"/>
                  </a:lnTo>
                  <a:lnTo>
                    <a:pt x="3168" y="1748"/>
                  </a:lnTo>
                  <a:lnTo>
                    <a:pt x="3168" y="1771"/>
                  </a:lnTo>
                  <a:lnTo>
                    <a:pt x="3167" y="1795"/>
                  </a:lnTo>
                  <a:lnTo>
                    <a:pt x="3162" y="1815"/>
                  </a:lnTo>
                  <a:lnTo>
                    <a:pt x="3153" y="1835"/>
                  </a:lnTo>
                  <a:lnTo>
                    <a:pt x="3145" y="1851"/>
                  </a:lnTo>
                  <a:lnTo>
                    <a:pt x="3138" y="1870"/>
                  </a:lnTo>
                  <a:lnTo>
                    <a:pt x="3132" y="1890"/>
                  </a:lnTo>
                  <a:lnTo>
                    <a:pt x="3125" y="1913"/>
                  </a:lnTo>
                  <a:lnTo>
                    <a:pt x="3120" y="1933"/>
                  </a:lnTo>
                  <a:lnTo>
                    <a:pt x="3118" y="1951"/>
                  </a:lnTo>
                  <a:lnTo>
                    <a:pt x="3117" y="1965"/>
                  </a:lnTo>
                  <a:lnTo>
                    <a:pt x="3115" y="1976"/>
                  </a:lnTo>
                  <a:lnTo>
                    <a:pt x="3108" y="1986"/>
                  </a:lnTo>
                  <a:lnTo>
                    <a:pt x="3100" y="1993"/>
                  </a:lnTo>
                  <a:lnTo>
                    <a:pt x="3093" y="1996"/>
                  </a:lnTo>
                  <a:lnTo>
                    <a:pt x="3078" y="2003"/>
                  </a:lnTo>
                  <a:lnTo>
                    <a:pt x="3057" y="2013"/>
                  </a:lnTo>
                  <a:lnTo>
                    <a:pt x="3028" y="2026"/>
                  </a:lnTo>
                  <a:lnTo>
                    <a:pt x="2997" y="2040"/>
                  </a:lnTo>
                  <a:lnTo>
                    <a:pt x="2962" y="2056"/>
                  </a:lnTo>
                  <a:lnTo>
                    <a:pt x="2923" y="2073"/>
                  </a:lnTo>
                  <a:lnTo>
                    <a:pt x="2885" y="2090"/>
                  </a:lnTo>
                  <a:lnTo>
                    <a:pt x="2845" y="2108"/>
                  </a:lnTo>
                  <a:lnTo>
                    <a:pt x="2806" y="2125"/>
                  </a:lnTo>
                  <a:lnTo>
                    <a:pt x="2770" y="2141"/>
                  </a:lnTo>
                  <a:lnTo>
                    <a:pt x="2736" y="2155"/>
                  </a:lnTo>
                  <a:lnTo>
                    <a:pt x="2708" y="2168"/>
                  </a:lnTo>
                  <a:lnTo>
                    <a:pt x="2685" y="2180"/>
                  </a:lnTo>
                  <a:lnTo>
                    <a:pt x="2668" y="2188"/>
                  </a:lnTo>
                  <a:lnTo>
                    <a:pt x="2658" y="2193"/>
                  </a:lnTo>
                  <a:lnTo>
                    <a:pt x="2645" y="2200"/>
                  </a:lnTo>
                  <a:lnTo>
                    <a:pt x="2628" y="2205"/>
                  </a:lnTo>
                  <a:lnTo>
                    <a:pt x="2608" y="2208"/>
                  </a:lnTo>
                  <a:lnTo>
                    <a:pt x="2586" y="2211"/>
                  </a:lnTo>
                  <a:lnTo>
                    <a:pt x="2561" y="2215"/>
                  </a:lnTo>
                  <a:lnTo>
                    <a:pt x="2535" y="2220"/>
                  </a:lnTo>
                  <a:lnTo>
                    <a:pt x="2508" y="2225"/>
                  </a:lnTo>
                  <a:lnTo>
                    <a:pt x="2481" y="2231"/>
                  </a:lnTo>
                  <a:lnTo>
                    <a:pt x="2466" y="2235"/>
                  </a:lnTo>
                  <a:lnTo>
                    <a:pt x="2446" y="2240"/>
                  </a:lnTo>
                  <a:lnTo>
                    <a:pt x="2425" y="2245"/>
                  </a:lnTo>
                  <a:lnTo>
                    <a:pt x="2398" y="2252"/>
                  </a:lnTo>
                  <a:lnTo>
                    <a:pt x="2371" y="2258"/>
                  </a:lnTo>
                  <a:lnTo>
                    <a:pt x="2343" y="2265"/>
                  </a:lnTo>
                  <a:lnTo>
                    <a:pt x="2313" y="2272"/>
                  </a:lnTo>
                  <a:lnTo>
                    <a:pt x="2283" y="2278"/>
                  </a:lnTo>
                  <a:lnTo>
                    <a:pt x="2253" y="2285"/>
                  </a:lnTo>
                  <a:lnTo>
                    <a:pt x="2224" y="2293"/>
                  </a:lnTo>
                  <a:lnTo>
                    <a:pt x="2198" y="2300"/>
                  </a:lnTo>
                  <a:lnTo>
                    <a:pt x="2173" y="2307"/>
                  </a:lnTo>
                  <a:lnTo>
                    <a:pt x="2151" y="2312"/>
                  </a:lnTo>
                  <a:lnTo>
                    <a:pt x="2134" y="2318"/>
                  </a:lnTo>
                  <a:lnTo>
                    <a:pt x="2119" y="2323"/>
                  </a:lnTo>
                  <a:lnTo>
                    <a:pt x="2111" y="2327"/>
                  </a:lnTo>
                  <a:lnTo>
                    <a:pt x="2098" y="2333"/>
                  </a:lnTo>
                  <a:lnTo>
                    <a:pt x="2086" y="2338"/>
                  </a:lnTo>
                  <a:lnTo>
                    <a:pt x="2071" y="2347"/>
                  </a:lnTo>
                  <a:lnTo>
                    <a:pt x="2058" y="2353"/>
                  </a:lnTo>
                  <a:lnTo>
                    <a:pt x="2043" y="2365"/>
                  </a:lnTo>
                  <a:lnTo>
                    <a:pt x="2028" y="2378"/>
                  </a:lnTo>
                  <a:lnTo>
                    <a:pt x="2011" y="2398"/>
                  </a:lnTo>
                  <a:lnTo>
                    <a:pt x="1993" y="2422"/>
                  </a:lnTo>
                  <a:lnTo>
                    <a:pt x="1976" y="2447"/>
                  </a:lnTo>
                  <a:lnTo>
                    <a:pt x="1961" y="2470"/>
                  </a:lnTo>
                  <a:lnTo>
                    <a:pt x="1946" y="2492"/>
                  </a:lnTo>
                  <a:lnTo>
                    <a:pt x="1933" y="2512"/>
                  </a:lnTo>
                  <a:lnTo>
                    <a:pt x="1923" y="2528"/>
                  </a:lnTo>
                  <a:lnTo>
                    <a:pt x="1913" y="2542"/>
                  </a:lnTo>
                  <a:lnTo>
                    <a:pt x="1904" y="2552"/>
                  </a:lnTo>
                  <a:lnTo>
                    <a:pt x="1898" y="2558"/>
                  </a:lnTo>
                  <a:lnTo>
                    <a:pt x="1891" y="2563"/>
                  </a:lnTo>
                  <a:lnTo>
                    <a:pt x="1884" y="2568"/>
                  </a:lnTo>
                  <a:lnTo>
                    <a:pt x="1874" y="2573"/>
                  </a:lnTo>
                  <a:lnTo>
                    <a:pt x="1864" y="2575"/>
                  </a:lnTo>
                  <a:lnTo>
                    <a:pt x="1853" y="2577"/>
                  </a:lnTo>
                  <a:lnTo>
                    <a:pt x="1843" y="2577"/>
                  </a:lnTo>
                  <a:lnTo>
                    <a:pt x="1833" y="2573"/>
                  </a:lnTo>
                  <a:lnTo>
                    <a:pt x="1823" y="2568"/>
                  </a:lnTo>
                  <a:lnTo>
                    <a:pt x="1814" y="2562"/>
                  </a:lnTo>
                  <a:lnTo>
                    <a:pt x="1806" y="2553"/>
                  </a:lnTo>
                  <a:lnTo>
                    <a:pt x="1799" y="2547"/>
                  </a:lnTo>
                  <a:lnTo>
                    <a:pt x="1794" y="2538"/>
                  </a:lnTo>
                  <a:lnTo>
                    <a:pt x="1787" y="2533"/>
                  </a:lnTo>
                  <a:lnTo>
                    <a:pt x="1781" y="2530"/>
                  </a:lnTo>
                  <a:lnTo>
                    <a:pt x="1772" y="2528"/>
                  </a:lnTo>
                  <a:lnTo>
                    <a:pt x="1764" y="2530"/>
                  </a:lnTo>
                  <a:lnTo>
                    <a:pt x="1752" y="2533"/>
                  </a:lnTo>
                  <a:lnTo>
                    <a:pt x="1739" y="2535"/>
                  </a:lnTo>
                  <a:lnTo>
                    <a:pt x="1722" y="2535"/>
                  </a:lnTo>
                  <a:lnTo>
                    <a:pt x="1704" y="2535"/>
                  </a:lnTo>
                  <a:lnTo>
                    <a:pt x="1684" y="2535"/>
                  </a:lnTo>
                  <a:lnTo>
                    <a:pt x="1666" y="2533"/>
                  </a:lnTo>
                  <a:lnTo>
                    <a:pt x="1647" y="2532"/>
                  </a:lnTo>
                  <a:lnTo>
                    <a:pt x="1632" y="2530"/>
                  </a:lnTo>
                  <a:lnTo>
                    <a:pt x="1617" y="2528"/>
                  </a:lnTo>
                  <a:lnTo>
                    <a:pt x="1602" y="2525"/>
                  </a:lnTo>
                  <a:lnTo>
                    <a:pt x="1589" y="2520"/>
                  </a:lnTo>
                  <a:lnTo>
                    <a:pt x="1574" y="2517"/>
                  </a:lnTo>
                  <a:lnTo>
                    <a:pt x="1561" y="2513"/>
                  </a:lnTo>
                  <a:lnTo>
                    <a:pt x="1549" y="2510"/>
                  </a:lnTo>
                  <a:lnTo>
                    <a:pt x="1537" y="2507"/>
                  </a:lnTo>
                  <a:lnTo>
                    <a:pt x="1527" y="2507"/>
                  </a:lnTo>
                  <a:lnTo>
                    <a:pt x="1514" y="2507"/>
                  </a:lnTo>
                  <a:lnTo>
                    <a:pt x="1492" y="2507"/>
                  </a:lnTo>
                  <a:lnTo>
                    <a:pt x="1466" y="2508"/>
                  </a:lnTo>
                  <a:lnTo>
                    <a:pt x="1436" y="2508"/>
                  </a:lnTo>
                  <a:lnTo>
                    <a:pt x="1409" y="2510"/>
                  </a:lnTo>
                  <a:lnTo>
                    <a:pt x="1386" y="2512"/>
                  </a:lnTo>
                  <a:lnTo>
                    <a:pt x="1369" y="2512"/>
                  </a:lnTo>
                  <a:lnTo>
                    <a:pt x="1362" y="2512"/>
                  </a:lnTo>
                  <a:lnTo>
                    <a:pt x="1361" y="2513"/>
                  </a:lnTo>
                  <a:lnTo>
                    <a:pt x="1356" y="2515"/>
                  </a:lnTo>
                  <a:lnTo>
                    <a:pt x="1349" y="2518"/>
                  </a:lnTo>
                  <a:lnTo>
                    <a:pt x="1339" y="2520"/>
                  </a:lnTo>
                  <a:lnTo>
                    <a:pt x="1329" y="2522"/>
                  </a:lnTo>
                  <a:lnTo>
                    <a:pt x="1317" y="2522"/>
                  </a:lnTo>
                  <a:lnTo>
                    <a:pt x="1304" y="2518"/>
                  </a:lnTo>
                  <a:lnTo>
                    <a:pt x="1292" y="2512"/>
                  </a:lnTo>
                  <a:lnTo>
                    <a:pt x="1281" y="2503"/>
                  </a:lnTo>
                  <a:lnTo>
                    <a:pt x="1272" y="2497"/>
                  </a:lnTo>
                  <a:lnTo>
                    <a:pt x="1266" y="2490"/>
                  </a:lnTo>
                  <a:lnTo>
                    <a:pt x="1261" y="2485"/>
                  </a:lnTo>
                  <a:lnTo>
                    <a:pt x="1256" y="2482"/>
                  </a:lnTo>
                  <a:lnTo>
                    <a:pt x="1250" y="2480"/>
                  </a:lnTo>
                  <a:lnTo>
                    <a:pt x="1245" y="2480"/>
                  </a:lnTo>
                  <a:lnTo>
                    <a:pt x="1239" y="2483"/>
                  </a:lnTo>
                  <a:lnTo>
                    <a:pt x="1232" y="2490"/>
                  </a:lnTo>
                  <a:lnTo>
                    <a:pt x="1235" y="2498"/>
                  </a:lnTo>
                  <a:lnTo>
                    <a:pt x="1240" y="2510"/>
                  </a:lnTo>
                  <a:lnTo>
                    <a:pt x="1239" y="2525"/>
                  </a:lnTo>
                  <a:lnTo>
                    <a:pt x="1234" y="2545"/>
                  </a:lnTo>
                  <a:lnTo>
                    <a:pt x="1232" y="2567"/>
                  </a:lnTo>
                  <a:lnTo>
                    <a:pt x="1234" y="2587"/>
                  </a:lnTo>
                  <a:lnTo>
                    <a:pt x="1234" y="2602"/>
                  </a:lnTo>
                  <a:lnTo>
                    <a:pt x="1230" y="2615"/>
                  </a:lnTo>
                  <a:lnTo>
                    <a:pt x="1225" y="2630"/>
                  </a:lnTo>
                  <a:lnTo>
                    <a:pt x="1219" y="2643"/>
                  </a:lnTo>
                  <a:lnTo>
                    <a:pt x="1215" y="2648"/>
                  </a:lnTo>
                  <a:lnTo>
                    <a:pt x="1177" y="2678"/>
                  </a:lnTo>
                  <a:lnTo>
                    <a:pt x="1175" y="2672"/>
                  </a:lnTo>
                  <a:lnTo>
                    <a:pt x="1170" y="2657"/>
                  </a:lnTo>
                  <a:lnTo>
                    <a:pt x="1167" y="2640"/>
                  </a:lnTo>
                  <a:lnTo>
                    <a:pt x="1167" y="2625"/>
                  </a:lnTo>
                  <a:lnTo>
                    <a:pt x="1167" y="2613"/>
                  </a:lnTo>
                  <a:lnTo>
                    <a:pt x="1164" y="2598"/>
                  </a:lnTo>
                  <a:lnTo>
                    <a:pt x="1154" y="2583"/>
                  </a:lnTo>
                  <a:lnTo>
                    <a:pt x="1144" y="2568"/>
                  </a:lnTo>
                  <a:lnTo>
                    <a:pt x="1134" y="2555"/>
                  </a:lnTo>
                  <a:lnTo>
                    <a:pt x="1124" y="2543"/>
                  </a:lnTo>
                  <a:lnTo>
                    <a:pt x="1115" y="2532"/>
                  </a:lnTo>
                  <a:lnTo>
                    <a:pt x="1110" y="2522"/>
                  </a:lnTo>
                  <a:lnTo>
                    <a:pt x="1107" y="2508"/>
                  </a:lnTo>
                  <a:lnTo>
                    <a:pt x="1104" y="2492"/>
                  </a:lnTo>
                  <a:lnTo>
                    <a:pt x="1095" y="2475"/>
                  </a:lnTo>
                  <a:lnTo>
                    <a:pt x="1082" y="2458"/>
                  </a:lnTo>
                  <a:lnTo>
                    <a:pt x="1072" y="2450"/>
                  </a:lnTo>
                  <a:lnTo>
                    <a:pt x="1059" y="2437"/>
                  </a:lnTo>
                  <a:lnTo>
                    <a:pt x="1044" y="2423"/>
                  </a:lnTo>
                  <a:lnTo>
                    <a:pt x="1029" y="2405"/>
                  </a:lnTo>
                  <a:lnTo>
                    <a:pt x="1014" y="2387"/>
                  </a:lnTo>
                  <a:lnTo>
                    <a:pt x="999" y="2368"/>
                  </a:lnTo>
                  <a:lnTo>
                    <a:pt x="987" y="2350"/>
                  </a:lnTo>
                  <a:lnTo>
                    <a:pt x="979" y="2332"/>
                  </a:lnTo>
                  <a:lnTo>
                    <a:pt x="964" y="2302"/>
                  </a:lnTo>
                  <a:lnTo>
                    <a:pt x="949" y="2280"/>
                  </a:lnTo>
                  <a:lnTo>
                    <a:pt x="937" y="2263"/>
                  </a:lnTo>
                  <a:lnTo>
                    <a:pt x="930" y="2245"/>
                  </a:lnTo>
                  <a:lnTo>
                    <a:pt x="927" y="2231"/>
                  </a:lnTo>
                  <a:lnTo>
                    <a:pt x="920" y="2211"/>
                  </a:lnTo>
                  <a:lnTo>
                    <a:pt x="910" y="2190"/>
                  </a:lnTo>
                  <a:lnTo>
                    <a:pt x="900" y="2166"/>
                  </a:lnTo>
                  <a:lnTo>
                    <a:pt x="890" y="2143"/>
                  </a:lnTo>
                  <a:lnTo>
                    <a:pt x="880" y="2123"/>
                  </a:lnTo>
                  <a:lnTo>
                    <a:pt x="870" y="2108"/>
                  </a:lnTo>
                  <a:lnTo>
                    <a:pt x="864" y="2098"/>
                  </a:lnTo>
                  <a:lnTo>
                    <a:pt x="854" y="2085"/>
                  </a:lnTo>
                  <a:lnTo>
                    <a:pt x="845" y="2071"/>
                  </a:lnTo>
                  <a:lnTo>
                    <a:pt x="834" y="2056"/>
                  </a:lnTo>
                  <a:lnTo>
                    <a:pt x="822" y="2041"/>
                  </a:lnTo>
                  <a:lnTo>
                    <a:pt x="814" y="2033"/>
                  </a:lnTo>
                  <a:lnTo>
                    <a:pt x="802" y="2025"/>
                  </a:lnTo>
                  <a:lnTo>
                    <a:pt x="790" y="2018"/>
                  </a:lnTo>
                  <a:lnTo>
                    <a:pt x="779" y="2010"/>
                  </a:lnTo>
                  <a:lnTo>
                    <a:pt x="765" y="2003"/>
                  </a:lnTo>
                  <a:lnTo>
                    <a:pt x="752" y="1998"/>
                  </a:lnTo>
                  <a:lnTo>
                    <a:pt x="740" y="1995"/>
                  </a:lnTo>
                  <a:lnTo>
                    <a:pt x="730" y="1993"/>
                  </a:lnTo>
                  <a:lnTo>
                    <a:pt x="722" y="1991"/>
                  </a:lnTo>
                  <a:lnTo>
                    <a:pt x="717" y="1988"/>
                  </a:lnTo>
                  <a:lnTo>
                    <a:pt x="710" y="1983"/>
                  </a:lnTo>
                  <a:lnTo>
                    <a:pt x="705" y="1975"/>
                  </a:lnTo>
                  <a:lnTo>
                    <a:pt x="700" y="1966"/>
                  </a:lnTo>
                  <a:lnTo>
                    <a:pt x="693" y="1953"/>
                  </a:lnTo>
                  <a:lnTo>
                    <a:pt x="685" y="1940"/>
                  </a:lnTo>
                  <a:lnTo>
                    <a:pt x="673" y="1923"/>
                  </a:lnTo>
                  <a:lnTo>
                    <a:pt x="662" y="1905"/>
                  </a:lnTo>
                  <a:lnTo>
                    <a:pt x="652" y="1886"/>
                  </a:lnTo>
                  <a:lnTo>
                    <a:pt x="642" y="1868"/>
                  </a:lnTo>
                  <a:lnTo>
                    <a:pt x="635" y="1851"/>
                  </a:lnTo>
                  <a:lnTo>
                    <a:pt x="628" y="1833"/>
                  </a:lnTo>
                  <a:lnTo>
                    <a:pt x="623" y="1818"/>
                  </a:lnTo>
                  <a:lnTo>
                    <a:pt x="620" y="1803"/>
                  </a:lnTo>
                  <a:lnTo>
                    <a:pt x="617" y="1790"/>
                  </a:lnTo>
                  <a:lnTo>
                    <a:pt x="612" y="1765"/>
                  </a:lnTo>
                  <a:lnTo>
                    <a:pt x="603" y="1741"/>
                  </a:lnTo>
                  <a:lnTo>
                    <a:pt x="597" y="1724"/>
                  </a:lnTo>
                  <a:lnTo>
                    <a:pt x="593" y="1718"/>
                  </a:lnTo>
                  <a:lnTo>
                    <a:pt x="600" y="1706"/>
                  </a:lnTo>
                  <a:lnTo>
                    <a:pt x="610" y="1676"/>
                  </a:lnTo>
                  <a:lnTo>
                    <a:pt x="617" y="1636"/>
                  </a:lnTo>
                  <a:lnTo>
                    <a:pt x="607" y="1594"/>
                  </a:lnTo>
                  <a:lnTo>
                    <a:pt x="590" y="1559"/>
                  </a:lnTo>
                  <a:lnTo>
                    <a:pt x="582" y="1531"/>
                  </a:lnTo>
                  <a:lnTo>
                    <a:pt x="573" y="1503"/>
                  </a:lnTo>
                  <a:lnTo>
                    <a:pt x="560" y="1471"/>
                  </a:lnTo>
                  <a:lnTo>
                    <a:pt x="552" y="1454"/>
                  </a:lnTo>
                  <a:lnTo>
                    <a:pt x="547" y="1439"/>
                  </a:lnTo>
                  <a:lnTo>
                    <a:pt x="542" y="1426"/>
                  </a:lnTo>
                  <a:lnTo>
                    <a:pt x="537" y="1413"/>
                  </a:lnTo>
                  <a:lnTo>
                    <a:pt x="532" y="1401"/>
                  </a:lnTo>
                  <a:lnTo>
                    <a:pt x="525" y="1393"/>
                  </a:lnTo>
                  <a:lnTo>
                    <a:pt x="518" y="1383"/>
                  </a:lnTo>
                  <a:lnTo>
                    <a:pt x="508" y="1376"/>
                  </a:lnTo>
                  <a:lnTo>
                    <a:pt x="497" y="1369"/>
                  </a:lnTo>
                  <a:lnTo>
                    <a:pt x="487" y="1361"/>
                  </a:lnTo>
                  <a:lnTo>
                    <a:pt x="475" y="1354"/>
                  </a:lnTo>
                  <a:lnTo>
                    <a:pt x="463" y="1346"/>
                  </a:lnTo>
                  <a:lnTo>
                    <a:pt x="452" y="1338"/>
                  </a:lnTo>
                  <a:lnTo>
                    <a:pt x="440" y="1329"/>
                  </a:lnTo>
                  <a:lnTo>
                    <a:pt x="427" y="1323"/>
                  </a:lnTo>
                  <a:lnTo>
                    <a:pt x="413" y="1316"/>
                  </a:lnTo>
                  <a:lnTo>
                    <a:pt x="392" y="1303"/>
                  </a:lnTo>
                  <a:lnTo>
                    <a:pt x="382" y="1286"/>
                  </a:lnTo>
                  <a:lnTo>
                    <a:pt x="375" y="1268"/>
                  </a:lnTo>
                  <a:lnTo>
                    <a:pt x="365" y="1249"/>
                  </a:lnTo>
                  <a:lnTo>
                    <a:pt x="355" y="1232"/>
                  </a:lnTo>
                  <a:lnTo>
                    <a:pt x="348" y="1219"/>
                  </a:lnTo>
                  <a:lnTo>
                    <a:pt x="347" y="1209"/>
                  </a:lnTo>
                  <a:lnTo>
                    <a:pt x="347" y="1206"/>
                  </a:lnTo>
                  <a:lnTo>
                    <a:pt x="348" y="1206"/>
                  </a:lnTo>
                  <a:lnTo>
                    <a:pt x="353" y="1204"/>
                  </a:lnTo>
                  <a:lnTo>
                    <a:pt x="360" y="1201"/>
                  </a:lnTo>
                  <a:lnTo>
                    <a:pt x="367" y="1194"/>
                  </a:lnTo>
                  <a:lnTo>
                    <a:pt x="370" y="1187"/>
                  </a:lnTo>
                  <a:lnTo>
                    <a:pt x="370" y="1176"/>
                  </a:lnTo>
                  <a:lnTo>
                    <a:pt x="365" y="1162"/>
                  </a:lnTo>
                  <a:lnTo>
                    <a:pt x="352" y="1144"/>
                  </a:lnTo>
                  <a:lnTo>
                    <a:pt x="330" y="1122"/>
                  </a:lnTo>
                  <a:lnTo>
                    <a:pt x="327" y="1122"/>
                  </a:lnTo>
                  <a:lnTo>
                    <a:pt x="330" y="1126"/>
                  </a:lnTo>
                  <a:lnTo>
                    <a:pt x="327" y="1112"/>
                  </a:lnTo>
                  <a:lnTo>
                    <a:pt x="320" y="1091"/>
                  </a:lnTo>
                  <a:lnTo>
                    <a:pt x="315" y="1076"/>
                  </a:lnTo>
                  <a:lnTo>
                    <a:pt x="308" y="1066"/>
                  </a:lnTo>
                  <a:lnTo>
                    <a:pt x="293" y="1054"/>
                  </a:lnTo>
                  <a:lnTo>
                    <a:pt x="283" y="1039"/>
                  </a:lnTo>
                  <a:lnTo>
                    <a:pt x="285" y="1024"/>
                  </a:lnTo>
                  <a:lnTo>
                    <a:pt x="287" y="1011"/>
                  </a:lnTo>
                  <a:lnTo>
                    <a:pt x="275" y="997"/>
                  </a:lnTo>
                  <a:lnTo>
                    <a:pt x="257" y="986"/>
                  </a:lnTo>
                  <a:lnTo>
                    <a:pt x="243" y="971"/>
                  </a:lnTo>
                  <a:lnTo>
                    <a:pt x="235" y="954"/>
                  </a:lnTo>
                  <a:lnTo>
                    <a:pt x="232" y="936"/>
                  </a:lnTo>
                  <a:lnTo>
                    <a:pt x="228" y="916"/>
                  </a:lnTo>
                  <a:lnTo>
                    <a:pt x="218" y="889"/>
                  </a:lnTo>
                  <a:lnTo>
                    <a:pt x="205" y="862"/>
                  </a:lnTo>
                  <a:lnTo>
                    <a:pt x="185" y="836"/>
                  </a:lnTo>
                  <a:lnTo>
                    <a:pt x="172" y="814"/>
                  </a:lnTo>
                  <a:lnTo>
                    <a:pt x="168" y="796"/>
                  </a:lnTo>
                  <a:lnTo>
                    <a:pt x="167" y="782"/>
                  </a:lnTo>
                  <a:lnTo>
                    <a:pt x="157" y="774"/>
                  </a:lnTo>
                  <a:lnTo>
                    <a:pt x="145" y="766"/>
                  </a:lnTo>
                  <a:lnTo>
                    <a:pt x="140" y="754"/>
                  </a:lnTo>
                  <a:lnTo>
                    <a:pt x="133" y="739"/>
                  </a:lnTo>
                  <a:lnTo>
                    <a:pt x="118" y="722"/>
                  </a:lnTo>
                  <a:lnTo>
                    <a:pt x="100" y="700"/>
                  </a:lnTo>
                  <a:lnTo>
                    <a:pt x="86" y="674"/>
                  </a:lnTo>
                  <a:lnTo>
                    <a:pt x="78" y="652"/>
                  </a:lnTo>
                  <a:lnTo>
                    <a:pt x="75" y="642"/>
                  </a:lnTo>
                  <a:lnTo>
                    <a:pt x="70" y="642"/>
                  </a:lnTo>
                  <a:lnTo>
                    <a:pt x="60" y="642"/>
                  </a:lnTo>
                  <a:lnTo>
                    <a:pt x="45" y="642"/>
                  </a:lnTo>
                  <a:lnTo>
                    <a:pt x="33" y="642"/>
                  </a:lnTo>
                  <a:lnTo>
                    <a:pt x="21" y="642"/>
                  </a:lnTo>
                  <a:lnTo>
                    <a:pt x="11" y="644"/>
                  </a:lnTo>
                  <a:lnTo>
                    <a:pt x="3" y="645"/>
                  </a:lnTo>
                  <a:lnTo>
                    <a:pt x="0" y="645"/>
                  </a:lnTo>
                  <a:lnTo>
                    <a:pt x="1" y="642"/>
                  </a:lnTo>
                  <a:lnTo>
                    <a:pt x="5" y="632"/>
                  </a:lnTo>
                  <a:lnTo>
                    <a:pt x="8" y="620"/>
                  </a:lnTo>
                  <a:lnTo>
                    <a:pt x="13" y="609"/>
                  </a:lnTo>
                  <a:lnTo>
                    <a:pt x="20" y="592"/>
                  </a:lnTo>
                  <a:lnTo>
                    <a:pt x="28" y="569"/>
                  </a:lnTo>
                  <a:lnTo>
                    <a:pt x="35" y="542"/>
                  </a:lnTo>
                  <a:lnTo>
                    <a:pt x="38" y="517"/>
                  </a:lnTo>
                  <a:lnTo>
                    <a:pt x="40" y="500"/>
                  </a:lnTo>
                  <a:lnTo>
                    <a:pt x="43" y="489"/>
                  </a:lnTo>
                  <a:lnTo>
                    <a:pt x="50" y="480"/>
                  </a:lnTo>
                  <a:lnTo>
                    <a:pt x="56" y="470"/>
                  </a:lnTo>
                  <a:lnTo>
                    <a:pt x="61" y="457"/>
                  </a:lnTo>
                  <a:lnTo>
                    <a:pt x="65" y="442"/>
                  </a:lnTo>
                  <a:lnTo>
                    <a:pt x="66" y="429"/>
                  </a:lnTo>
                  <a:lnTo>
                    <a:pt x="66" y="424"/>
                  </a:lnTo>
                  <a:lnTo>
                    <a:pt x="232" y="465"/>
                  </a:lnTo>
                  <a:lnTo>
                    <a:pt x="235" y="464"/>
                  </a:lnTo>
                  <a:lnTo>
                    <a:pt x="243" y="457"/>
                  </a:lnTo>
                  <a:lnTo>
                    <a:pt x="257" y="450"/>
                  </a:lnTo>
                  <a:lnTo>
                    <a:pt x="270" y="439"/>
                  </a:lnTo>
                  <a:lnTo>
                    <a:pt x="285" y="429"/>
                  </a:lnTo>
                  <a:lnTo>
                    <a:pt x="298" y="417"/>
                  </a:lnTo>
                  <a:lnTo>
                    <a:pt x="308" y="407"/>
                  </a:lnTo>
                  <a:lnTo>
                    <a:pt x="313" y="399"/>
                  </a:lnTo>
                  <a:lnTo>
                    <a:pt x="318" y="384"/>
                  </a:lnTo>
                  <a:lnTo>
                    <a:pt x="325" y="369"/>
                  </a:lnTo>
                  <a:lnTo>
                    <a:pt x="330" y="357"/>
                  </a:lnTo>
                  <a:lnTo>
                    <a:pt x="332" y="352"/>
                  </a:lnTo>
                  <a:lnTo>
                    <a:pt x="335" y="352"/>
                  </a:lnTo>
                  <a:lnTo>
                    <a:pt x="342" y="352"/>
                  </a:lnTo>
                  <a:lnTo>
                    <a:pt x="353" y="352"/>
                  </a:lnTo>
                  <a:lnTo>
                    <a:pt x="367" y="350"/>
                  </a:lnTo>
                  <a:lnTo>
                    <a:pt x="382" y="350"/>
                  </a:lnTo>
                  <a:lnTo>
                    <a:pt x="398" y="347"/>
                  </a:lnTo>
                  <a:lnTo>
                    <a:pt x="413" y="345"/>
                  </a:lnTo>
                  <a:lnTo>
                    <a:pt x="427" y="342"/>
                  </a:lnTo>
                  <a:lnTo>
                    <a:pt x="438" y="337"/>
                  </a:lnTo>
                  <a:lnTo>
                    <a:pt x="447" y="329"/>
                  </a:lnTo>
                  <a:lnTo>
                    <a:pt x="455" y="319"/>
                  </a:lnTo>
                  <a:lnTo>
                    <a:pt x="462" y="309"/>
                  </a:lnTo>
                  <a:lnTo>
                    <a:pt x="468" y="299"/>
                  </a:lnTo>
                  <a:lnTo>
                    <a:pt x="475" y="290"/>
                  </a:lnTo>
                  <a:lnTo>
                    <a:pt x="483" y="284"/>
                  </a:lnTo>
                  <a:lnTo>
                    <a:pt x="493" y="280"/>
                  </a:lnTo>
                  <a:lnTo>
                    <a:pt x="508" y="275"/>
                  </a:lnTo>
                  <a:lnTo>
                    <a:pt x="513" y="269"/>
                  </a:lnTo>
                  <a:lnTo>
                    <a:pt x="513" y="264"/>
                  </a:lnTo>
                  <a:lnTo>
                    <a:pt x="512" y="262"/>
                  </a:lnTo>
                  <a:lnTo>
                    <a:pt x="380" y="90"/>
                  </a:lnTo>
                  <a:close/>
                </a:path>
              </a:pathLst>
            </a:custGeom>
            <a:solidFill>
              <a:srgbClr val="b2b2b2">
                <a:alpha val="30000"/>
              </a:srgbClr>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390" name=""/>
          <p:cNvSpPr/>
          <p:nvPr/>
        </p:nvSpPr>
        <p:spPr>
          <a:xfrm>
            <a:off x="961920" y="1143000"/>
            <a:ext cx="7826400" cy="457200"/>
          </a:xfrm>
          <a:prstGeom prst="rect">
            <a:avLst/>
          </a:prstGeom>
          <a:no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333399"/>
                </a:solidFill>
                <a:latin typeface="Albertus Medium"/>
              </a:rPr>
              <a:t>Nanoemulsion</a:t>
            </a:r>
            <a:endParaRPr b="0" lang="en-US" sz="2800" spc="-1" strike="noStrike">
              <a:solidFill>
                <a:srgbClr val="000000"/>
              </a:solidFill>
              <a:latin typeface="Arial"/>
            </a:endParaRPr>
          </a:p>
        </p:txBody>
      </p:sp>
      <p:sp>
        <p:nvSpPr>
          <p:cNvPr id="391" name="PlaceHolder 1"/>
          <p:cNvSpPr>
            <a:spLocks noGrp="1"/>
          </p:cNvSpPr>
          <p:nvPr>
            <p:ph/>
          </p:nvPr>
        </p:nvSpPr>
        <p:spPr>
          <a:xfrm>
            <a:off x="1371600" y="1600200"/>
            <a:ext cx="7315200" cy="4525920"/>
          </a:xfrm>
          <a:prstGeom prst="rect">
            <a:avLst/>
          </a:prstGeom>
          <a:noFill/>
          <a:ln w="0">
            <a:noFill/>
          </a:ln>
        </p:spPr>
        <p:txBody>
          <a:bodyPr lIns="90000" rIns="90000" tIns="46800" bIns="46800" anchor="t">
            <a:normAutofit fontScale="97000"/>
          </a:bodyPr>
          <a:p>
            <a:pPr marL="330840" indent="-330840">
              <a:lnSpc>
                <a:spcPct val="80000"/>
              </a:lnSpc>
              <a:spcBef>
                <a:spcPts val="601"/>
              </a:spcBef>
              <a:buClr>
                <a:srgbClr val="333399"/>
              </a:buClr>
              <a:buFont typeface="Albertus Medium"/>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333399"/>
                </a:solidFill>
                <a:latin typeface="Albertus Medium"/>
              </a:rPr>
              <a:t>particles range 50-1000 nm (widely used in parenetral nutrition), at this size nanoemulsions become invisible, they also develop good sensory texture with light non greasy feel. </a:t>
            </a:r>
            <a:endParaRPr b="0" lang="en-US" sz="2400" spc="-1" strike="noStrike">
              <a:solidFill>
                <a:srgbClr val="000000"/>
              </a:solidFill>
              <a:latin typeface="Arial"/>
            </a:endParaRPr>
          </a:p>
          <a:p>
            <a:pPr marL="330840" indent="0">
              <a:lnSpc>
                <a:spcPct val="8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400" spc="-1" strike="noStrike">
              <a:solidFill>
                <a:srgbClr val="000000"/>
              </a:solidFill>
              <a:latin typeface="Arial"/>
            </a:endParaRPr>
          </a:p>
          <a:p>
            <a:pPr marL="330840" indent="-330840">
              <a:lnSpc>
                <a:spcPct val="80000"/>
              </a:lnSpc>
              <a:spcBef>
                <a:spcPts val="601"/>
              </a:spcBef>
              <a:buClr>
                <a:srgbClr val="333399"/>
              </a:buClr>
              <a:buFont typeface="Albertus Medium"/>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333399"/>
                </a:solidFill>
                <a:latin typeface="Albertus Medium"/>
              </a:rPr>
              <a:t>Due to their hydrophilic exterior they penetrate rapidly to the outer layer of the skin and Hair. And with their hydrophobic interior they can transport hydrophobic substance in aqueous environment, and sprayable form could be used.</a:t>
            </a:r>
            <a:endParaRPr b="0" lang="en-US" sz="2400" spc="-1" strike="noStrike">
              <a:solidFill>
                <a:srgbClr val="000000"/>
              </a:solidFill>
              <a:latin typeface="Arial"/>
            </a:endParaRPr>
          </a:p>
          <a:p>
            <a:pPr marL="330840" indent="0">
              <a:lnSpc>
                <a:spcPct val="8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400" spc="-1" strike="noStrike">
              <a:solidFill>
                <a:srgbClr val="000000"/>
              </a:solidFill>
              <a:latin typeface="Arial"/>
            </a:endParaRPr>
          </a:p>
          <a:p>
            <a:pPr marL="330840" indent="-330840">
              <a:lnSpc>
                <a:spcPct val="80000"/>
              </a:lnSpc>
              <a:spcBef>
                <a:spcPts val="601"/>
              </a:spcBef>
              <a:buClr>
                <a:srgbClr val="333399"/>
              </a:buClr>
              <a:buFont typeface="Albertus Medium"/>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333399"/>
                </a:solidFill>
                <a:latin typeface="Albertus Medium"/>
              </a:rPr>
              <a:t> </a:t>
            </a:r>
            <a:r>
              <a:rPr b="0" lang="en-US" sz="2400" spc="-1" strike="noStrike">
                <a:solidFill>
                  <a:srgbClr val="333399"/>
                </a:solidFill>
                <a:latin typeface="Albertus Medium"/>
              </a:rPr>
              <a:t>Nasal nanoemulsion vaccines for influenza have been developed and now in the same way vaccine against HIV and Smallpox is underway.</a:t>
            </a:r>
            <a:endParaRPr b="0" lang="en-US" sz="2400" spc="-1" strike="noStrike">
              <a:solidFill>
                <a:srgbClr val="000000"/>
              </a:solidFill>
              <a:latin typeface="Arial"/>
            </a:endParaRPr>
          </a:p>
          <a:p>
            <a:pPr marL="330840" indent="0">
              <a:lnSpc>
                <a:spcPct val="8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000000"/>
              </a:solidFill>
              <a:latin typeface="Arial"/>
            </a:endParaRPr>
          </a:p>
        </p:txBody>
      </p:sp>
      <p:sp>
        <p:nvSpPr>
          <p:cNvPr id="392" name=""/>
          <p:cNvSpPr/>
          <p:nvPr/>
        </p:nvSpPr>
        <p:spPr>
          <a:xfrm>
            <a:off x="609480" y="6629400"/>
            <a:ext cx="8534520" cy="228600"/>
          </a:xfrm>
          <a:prstGeom prst="rect">
            <a:avLst/>
          </a:prstGeom>
          <a:solidFill>
            <a:srgbClr val="bbe0e3"/>
          </a:solidFill>
          <a:ln cap="sq"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99"/>
                </a:solidFill>
                <a:latin typeface="Albertus Medium"/>
              </a:rPr>
              <a:t>www.skinandallergy.org</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0" lang="en-US" sz="1000" spc="-1" strike="noStrike">
                <a:solidFill>
                  <a:srgbClr val="333399"/>
                </a:solidFill>
                <a:latin typeface="Albertus Medium"/>
              </a:rPr>
              <a:t>www.panarabderm.org</a:t>
            </a:r>
            <a:endParaRPr b="0" lang="en-US" sz="10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93" name="" descr=""/>
          <p:cNvPicPr/>
          <p:nvPr/>
        </p:nvPicPr>
        <p:blipFill>
          <a:blip r:embed="rId2"/>
          <a:stretch/>
        </p:blipFill>
        <p:spPr>
          <a:xfrm>
            <a:off x="8153280" y="74520"/>
            <a:ext cx="922320" cy="992160"/>
          </a:xfrm>
          <a:prstGeom prst="rect">
            <a:avLst/>
          </a:prstGeom>
          <a:ln w="0">
            <a:noFill/>
          </a:ln>
        </p:spPr>
      </p:pic>
      <p:sp>
        <p:nvSpPr>
          <p:cNvPr id="394" name=""/>
          <p:cNvSpPr/>
          <p:nvPr/>
        </p:nvSpPr>
        <p:spPr>
          <a:xfrm>
            <a:off x="1295280" y="1066680"/>
            <a:ext cx="6193080" cy="1800"/>
          </a:xfrm>
          <a:prstGeom prst="line">
            <a:avLst/>
          </a:prstGeom>
          <a:ln cap="sq" w="12600">
            <a:solidFill>
              <a:srgbClr val="b2b2b2"/>
            </a:solidFill>
            <a:miter/>
          </a:ln>
        </p:spPr>
        <p:style>
          <a:lnRef idx="0"/>
          <a:fillRef idx="0"/>
          <a:effectRef idx="0"/>
          <a:fontRef idx="minor"/>
        </p:style>
        <p:txBody>
          <a:bodyPr lIns="90000" rIns="90000" tIns="-45000" bIns="-45000" anchor="t">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395" name="" descr=""/>
          <p:cNvPicPr/>
          <p:nvPr/>
        </p:nvPicPr>
        <p:blipFill>
          <a:blip r:embed="rId3"/>
          <a:stretch/>
        </p:blipFill>
        <p:spPr>
          <a:xfrm>
            <a:off x="0" y="0"/>
            <a:ext cx="600120" cy="6858000"/>
          </a:xfrm>
          <a:prstGeom prst="rect">
            <a:avLst/>
          </a:prstGeom>
          <a:ln w="0">
            <a:noFill/>
          </a:ln>
        </p:spPr>
      </p:pic>
      <p:sp>
        <p:nvSpPr>
          <p:cNvPr id="396" name=""/>
          <p:cNvSpPr/>
          <p:nvPr/>
        </p:nvSpPr>
        <p:spPr>
          <a:xfrm>
            <a:off x="0" y="0"/>
            <a:ext cx="914400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400" spc="-1" strike="noStrike">
                <a:solidFill>
                  <a:srgbClr val="333399"/>
                </a:solidFill>
                <a:latin typeface="Albertus Medium"/>
              </a:rPr>
              <a:t>Nanotechnology in </a:t>
            </a:r>
            <a:br>
              <a:rPr sz="3400"/>
            </a:br>
            <a:r>
              <a:rPr b="1" lang="en-US" sz="3400" spc="-1" strike="noStrike">
                <a:solidFill>
                  <a:srgbClr val="333399"/>
                </a:solidFill>
                <a:latin typeface="Albertus Medium"/>
              </a:rPr>
              <a:t>Cosmetic &amp; Dermatology</a:t>
            </a:r>
            <a:endParaRPr b="0" lang="en-US" sz="3400" spc="-1" strike="noStrike">
              <a:solidFill>
                <a:srgbClr val="000000"/>
              </a:solidFill>
              <a:latin typeface="Arial"/>
            </a:endParaRPr>
          </a:p>
        </p:txBody>
      </p:sp>
      <p:grpSp>
        <p:nvGrpSpPr>
          <p:cNvPr id="397" name=""/>
          <p:cNvGrpSpPr/>
          <p:nvPr/>
        </p:nvGrpSpPr>
        <p:grpSpPr>
          <a:xfrm>
            <a:off x="2639880" y="1346040"/>
            <a:ext cx="4521240" cy="3986280"/>
            <a:chOff x="2639880" y="1346040"/>
            <a:chExt cx="4521240" cy="3986280"/>
          </a:xfrm>
        </p:grpSpPr>
        <p:sp>
          <p:nvSpPr>
            <p:cNvPr id="398" name=""/>
            <p:cNvSpPr/>
            <p:nvPr/>
          </p:nvSpPr>
          <p:spPr>
            <a:xfrm>
              <a:off x="2639880" y="2319480"/>
              <a:ext cx="1721160" cy="3012840"/>
            </a:xfrm>
            <a:custGeom>
              <a:avLst/>
              <a:gdLst/>
              <a:ahLst/>
              <a:rect l="l" t="t" r="r" b="b"/>
              <a:pathLst>
                <a:path w="1261" h="2255">
                  <a:moveTo>
                    <a:pt x="1257" y="2027"/>
                  </a:moveTo>
                  <a:lnTo>
                    <a:pt x="1257" y="2015"/>
                  </a:lnTo>
                  <a:lnTo>
                    <a:pt x="1252" y="2000"/>
                  </a:lnTo>
                  <a:lnTo>
                    <a:pt x="1244" y="1985"/>
                  </a:lnTo>
                  <a:lnTo>
                    <a:pt x="1232" y="1970"/>
                  </a:lnTo>
                  <a:lnTo>
                    <a:pt x="1222" y="1956"/>
                  </a:lnTo>
                  <a:lnTo>
                    <a:pt x="1212" y="1945"/>
                  </a:lnTo>
                  <a:lnTo>
                    <a:pt x="1204" y="1933"/>
                  </a:lnTo>
                  <a:lnTo>
                    <a:pt x="1199" y="1921"/>
                  </a:lnTo>
                  <a:lnTo>
                    <a:pt x="1197" y="1910"/>
                  </a:lnTo>
                  <a:lnTo>
                    <a:pt x="1192" y="1893"/>
                  </a:lnTo>
                  <a:lnTo>
                    <a:pt x="1186" y="1876"/>
                  </a:lnTo>
                  <a:lnTo>
                    <a:pt x="1171" y="1860"/>
                  </a:lnTo>
                  <a:lnTo>
                    <a:pt x="1161" y="1851"/>
                  </a:lnTo>
                  <a:lnTo>
                    <a:pt x="1147" y="1838"/>
                  </a:lnTo>
                  <a:lnTo>
                    <a:pt x="1132" y="1823"/>
                  </a:lnTo>
                  <a:lnTo>
                    <a:pt x="1117" y="1806"/>
                  </a:lnTo>
                  <a:lnTo>
                    <a:pt x="1102" y="1788"/>
                  </a:lnTo>
                  <a:lnTo>
                    <a:pt x="1087" y="1770"/>
                  </a:lnTo>
                  <a:lnTo>
                    <a:pt x="1076" y="1750"/>
                  </a:lnTo>
                  <a:lnTo>
                    <a:pt x="1067" y="1731"/>
                  </a:lnTo>
                  <a:lnTo>
                    <a:pt x="1052" y="1703"/>
                  </a:lnTo>
                  <a:lnTo>
                    <a:pt x="1037" y="1681"/>
                  </a:lnTo>
                  <a:lnTo>
                    <a:pt x="1026" y="1665"/>
                  </a:lnTo>
                  <a:lnTo>
                    <a:pt x="1019" y="1646"/>
                  </a:lnTo>
                  <a:lnTo>
                    <a:pt x="1016" y="1633"/>
                  </a:lnTo>
                  <a:lnTo>
                    <a:pt x="1009" y="1613"/>
                  </a:lnTo>
                  <a:lnTo>
                    <a:pt x="999" y="1591"/>
                  </a:lnTo>
                  <a:lnTo>
                    <a:pt x="989" y="1568"/>
                  </a:lnTo>
                  <a:lnTo>
                    <a:pt x="979" y="1545"/>
                  </a:lnTo>
                  <a:lnTo>
                    <a:pt x="969" y="1525"/>
                  </a:lnTo>
                  <a:lnTo>
                    <a:pt x="959" y="1508"/>
                  </a:lnTo>
                  <a:lnTo>
                    <a:pt x="952" y="1499"/>
                  </a:lnTo>
                  <a:lnTo>
                    <a:pt x="942" y="1486"/>
                  </a:lnTo>
                  <a:lnTo>
                    <a:pt x="934" y="1473"/>
                  </a:lnTo>
                  <a:lnTo>
                    <a:pt x="922" y="1458"/>
                  </a:lnTo>
                  <a:lnTo>
                    <a:pt x="911" y="1443"/>
                  </a:lnTo>
                  <a:lnTo>
                    <a:pt x="902" y="1434"/>
                  </a:lnTo>
                  <a:lnTo>
                    <a:pt x="891" y="1426"/>
                  </a:lnTo>
                  <a:lnTo>
                    <a:pt x="879" y="1419"/>
                  </a:lnTo>
                  <a:lnTo>
                    <a:pt x="867" y="1411"/>
                  </a:lnTo>
                  <a:lnTo>
                    <a:pt x="854" y="1404"/>
                  </a:lnTo>
                  <a:lnTo>
                    <a:pt x="842" y="1399"/>
                  </a:lnTo>
                  <a:lnTo>
                    <a:pt x="831" y="1396"/>
                  </a:lnTo>
                  <a:lnTo>
                    <a:pt x="820" y="1394"/>
                  </a:lnTo>
                  <a:lnTo>
                    <a:pt x="812" y="1393"/>
                  </a:lnTo>
                  <a:lnTo>
                    <a:pt x="805" y="1389"/>
                  </a:lnTo>
                  <a:lnTo>
                    <a:pt x="800" y="1384"/>
                  </a:lnTo>
                  <a:lnTo>
                    <a:pt x="794" y="1376"/>
                  </a:lnTo>
                  <a:lnTo>
                    <a:pt x="789" y="1368"/>
                  </a:lnTo>
                  <a:lnTo>
                    <a:pt x="782" y="1354"/>
                  </a:lnTo>
                  <a:lnTo>
                    <a:pt x="774" y="1341"/>
                  </a:lnTo>
                  <a:lnTo>
                    <a:pt x="762" y="1324"/>
                  </a:lnTo>
                  <a:lnTo>
                    <a:pt x="750" y="1306"/>
                  </a:lnTo>
                  <a:lnTo>
                    <a:pt x="740" y="1288"/>
                  </a:lnTo>
                  <a:lnTo>
                    <a:pt x="732" y="1269"/>
                  </a:lnTo>
                  <a:lnTo>
                    <a:pt x="724" y="1253"/>
                  </a:lnTo>
                  <a:lnTo>
                    <a:pt x="717" y="1234"/>
                  </a:lnTo>
                  <a:lnTo>
                    <a:pt x="712" y="1219"/>
                  </a:lnTo>
                  <a:lnTo>
                    <a:pt x="709" y="1204"/>
                  </a:lnTo>
                  <a:lnTo>
                    <a:pt x="705" y="1191"/>
                  </a:lnTo>
                  <a:lnTo>
                    <a:pt x="700" y="1166"/>
                  </a:lnTo>
                  <a:lnTo>
                    <a:pt x="692" y="1143"/>
                  </a:lnTo>
                  <a:lnTo>
                    <a:pt x="685" y="1126"/>
                  </a:lnTo>
                  <a:lnTo>
                    <a:pt x="682" y="1119"/>
                  </a:lnTo>
                  <a:lnTo>
                    <a:pt x="689" y="1108"/>
                  </a:lnTo>
                  <a:lnTo>
                    <a:pt x="700" y="1078"/>
                  </a:lnTo>
                  <a:lnTo>
                    <a:pt x="707" y="1038"/>
                  </a:lnTo>
                  <a:lnTo>
                    <a:pt x="697" y="996"/>
                  </a:lnTo>
                  <a:lnTo>
                    <a:pt x="680" y="961"/>
                  </a:lnTo>
                  <a:lnTo>
                    <a:pt x="670" y="932"/>
                  </a:lnTo>
                  <a:lnTo>
                    <a:pt x="662" y="904"/>
                  </a:lnTo>
                  <a:lnTo>
                    <a:pt x="649" y="872"/>
                  </a:lnTo>
                  <a:lnTo>
                    <a:pt x="640" y="856"/>
                  </a:lnTo>
                  <a:lnTo>
                    <a:pt x="635" y="839"/>
                  </a:lnTo>
                  <a:lnTo>
                    <a:pt x="630" y="826"/>
                  </a:lnTo>
                  <a:lnTo>
                    <a:pt x="625" y="814"/>
                  </a:lnTo>
                  <a:lnTo>
                    <a:pt x="620" y="802"/>
                  </a:lnTo>
                  <a:lnTo>
                    <a:pt x="614" y="792"/>
                  </a:lnTo>
                  <a:lnTo>
                    <a:pt x="607" y="784"/>
                  </a:lnTo>
                  <a:lnTo>
                    <a:pt x="597" y="777"/>
                  </a:lnTo>
                  <a:lnTo>
                    <a:pt x="587" y="771"/>
                  </a:lnTo>
                  <a:lnTo>
                    <a:pt x="575" y="762"/>
                  </a:lnTo>
                  <a:lnTo>
                    <a:pt x="565" y="754"/>
                  </a:lnTo>
                  <a:lnTo>
                    <a:pt x="554" y="744"/>
                  </a:lnTo>
                  <a:lnTo>
                    <a:pt x="542" y="736"/>
                  </a:lnTo>
                  <a:lnTo>
                    <a:pt x="529" y="729"/>
                  </a:lnTo>
                  <a:lnTo>
                    <a:pt x="515" y="721"/>
                  </a:lnTo>
                  <a:lnTo>
                    <a:pt x="502" y="716"/>
                  </a:lnTo>
                  <a:lnTo>
                    <a:pt x="480" y="702"/>
                  </a:lnTo>
                  <a:lnTo>
                    <a:pt x="470" y="686"/>
                  </a:lnTo>
                  <a:lnTo>
                    <a:pt x="464" y="667"/>
                  </a:lnTo>
                  <a:lnTo>
                    <a:pt x="454" y="649"/>
                  </a:lnTo>
                  <a:lnTo>
                    <a:pt x="444" y="634"/>
                  </a:lnTo>
                  <a:lnTo>
                    <a:pt x="437" y="621"/>
                  </a:lnTo>
                  <a:lnTo>
                    <a:pt x="435" y="611"/>
                  </a:lnTo>
                  <a:lnTo>
                    <a:pt x="435" y="607"/>
                  </a:lnTo>
                  <a:lnTo>
                    <a:pt x="437" y="607"/>
                  </a:lnTo>
                  <a:lnTo>
                    <a:pt x="442" y="606"/>
                  </a:lnTo>
                  <a:lnTo>
                    <a:pt x="449" y="602"/>
                  </a:lnTo>
                  <a:lnTo>
                    <a:pt x="455" y="596"/>
                  </a:lnTo>
                  <a:lnTo>
                    <a:pt x="459" y="589"/>
                  </a:lnTo>
                  <a:lnTo>
                    <a:pt x="459" y="577"/>
                  </a:lnTo>
                  <a:lnTo>
                    <a:pt x="454" y="564"/>
                  </a:lnTo>
                  <a:lnTo>
                    <a:pt x="440" y="546"/>
                  </a:lnTo>
                  <a:lnTo>
                    <a:pt x="434" y="539"/>
                  </a:lnTo>
                  <a:lnTo>
                    <a:pt x="429" y="532"/>
                  </a:lnTo>
                  <a:lnTo>
                    <a:pt x="424" y="529"/>
                  </a:lnTo>
                  <a:lnTo>
                    <a:pt x="420" y="526"/>
                  </a:lnTo>
                  <a:lnTo>
                    <a:pt x="419" y="527"/>
                  </a:lnTo>
                  <a:lnTo>
                    <a:pt x="415" y="526"/>
                  </a:lnTo>
                  <a:lnTo>
                    <a:pt x="415" y="522"/>
                  </a:lnTo>
                  <a:lnTo>
                    <a:pt x="420" y="526"/>
                  </a:lnTo>
                  <a:lnTo>
                    <a:pt x="420" y="524"/>
                  </a:lnTo>
                  <a:lnTo>
                    <a:pt x="419" y="521"/>
                  </a:lnTo>
                  <a:lnTo>
                    <a:pt x="419" y="517"/>
                  </a:lnTo>
                  <a:lnTo>
                    <a:pt x="417" y="512"/>
                  </a:lnTo>
                  <a:lnTo>
                    <a:pt x="409" y="490"/>
                  </a:lnTo>
                  <a:lnTo>
                    <a:pt x="405" y="477"/>
                  </a:lnTo>
                  <a:lnTo>
                    <a:pt x="399" y="467"/>
                  </a:lnTo>
                  <a:lnTo>
                    <a:pt x="384" y="455"/>
                  </a:lnTo>
                  <a:lnTo>
                    <a:pt x="372" y="440"/>
                  </a:lnTo>
                  <a:lnTo>
                    <a:pt x="374" y="425"/>
                  </a:lnTo>
                  <a:lnTo>
                    <a:pt x="375" y="412"/>
                  </a:lnTo>
                  <a:lnTo>
                    <a:pt x="364" y="399"/>
                  </a:lnTo>
                  <a:lnTo>
                    <a:pt x="345" y="387"/>
                  </a:lnTo>
                  <a:lnTo>
                    <a:pt x="332" y="372"/>
                  </a:lnTo>
                  <a:lnTo>
                    <a:pt x="325" y="355"/>
                  </a:lnTo>
                  <a:lnTo>
                    <a:pt x="322" y="337"/>
                  </a:lnTo>
                  <a:lnTo>
                    <a:pt x="319" y="317"/>
                  </a:lnTo>
                  <a:lnTo>
                    <a:pt x="309" y="290"/>
                  </a:lnTo>
                  <a:lnTo>
                    <a:pt x="294" y="264"/>
                  </a:lnTo>
                  <a:lnTo>
                    <a:pt x="273" y="237"/>
                  </a:lnTo>
                  <a:lnTo>
                    <a:pt x="260" y="215"/>
                  </a:lnTo>
                  <a:lnTo>
                    <a:pt x="257" y="197"/>
                  </a:lnTo>
                  <a:lnTo>
                    <a:pt x="255" y="184"/>
                  </a:lnTo>
                  <a:lnTo>
                    <a:pt x="245" y="175"/>
                  </a:lnTo>
                  <a:lnTo>
                    <a:pt x="233" y="167"/>
                  </a:lnTo>
                  <a:lnTo>
                    <a:pt x="228" y="154"/>
                  </a:lnTo>
                  <a:lnTo>
                    <a:pt x="222" y="140"/>
                  </a:lnTo>
                  <a:lnTo>
                    <a:pt x="207" y="124"/>
                  </a:lnTo>
                  <a:lnTo>
                    <a:pt x="188" y="100"/>
                  </a:lnTo>
                  <a:lnTo>
                    <a:pt x="175" y="74"/>
                  </a:lnTo>
                  <a:lnTo>
                    <a:pt x="168" y="52"/>
                  </a:lnTo>
                  <a:lnTo>
                    <a:pt x="165" y="42"/>
                  </a:lnTo>
                  <a:lnTo>
                    <a:pt x="160" y="42"/>
                  </a:lnTo>
                  <a:lnTo>
                    <a:pt x="148" y="42"/>
                  </a:lnTo>
                  <a:lnTo>
                    <a:pt x="133" y="42"/>
                  </a:lnTo>
                  <a:lnTo>
                    <a:pt x="122" y="42"/>
                  </a:lnTo>
                  <a:lnTo>
                    <a:pt x="110" y="42"/>
                  </a:lnTo>
                  <a:lnTo>
                    <a:pt x="100" y="44"/>
                  </a:lnTo>
                  <a:lnTo>
                    <a:pt x="92" y="47"/>
                  </a:lnTo>
                  <a:lnTo>
                    <a:pt x="88" y="47"/>
                  </a:lnTo>
                  <a:lnTo>
                    <a:pt x="90" y="44"/>
                  </a:lnTo>
                  <a:lnTo>
                    <a:pt x="93" y="34"/>
                  </a:lnTo>
                  <a:lnTo>
                    <a:pt x="98" y="20"/>
                  </a:lnTo>
                  <a:lnTo>
                    <a:pt x="103" y="8"/>
                  </a:lnTo>
                  <a:lnTo>
                    <a:pt x="103" y="8"/>
                  </a:lnTo>
                  <a:lnTo>
                    <a:pt x="103" y="8"/>
                  </a:lnTo>
                  <a:lnTo>
                    <a:pt x="103" y="8"/>
                  </a:lnTo>
                  <a:lnTo>
                    <a:pt x="103" y="8"/>
                  </a:lnTo>
                  <a:lnTo>
                    <a:pt x="67" y="0"/>
                  </a:lnTo>
                  <a:lnTo>
                    <a:pt x="67" y="5"/>
                  </a:lnTo>
                  <a:lnTo>
                    <a:pt x="65" y="19"/>
                  </a:lnTo>
                  <a:lnTo>
                    <a:pt x="62" y="34"/>
                  </a:lnTo>
                  <a:lnTo>
                    <a:pt x="57" y="47"/>
                  </a:lnTo>
                  <a:lnTo>
                    <a:pt x="50" y="57"/>
                  </a:lnTo>
                  <a:lnTo>
                    <a:pt x="45" y="65"/>
                  </a:lnTo>
                  <a:lnTo>
                    <a:pt x="40" y="79"/>
                  </a:lnTo>
                  <a:lnTo>
                    <a:pt x="38" y="95"/>
                  </a:lnTo>
                  <a:lnTo>
                    <a:pt x="35" y="119"/>
                  </a:lnTo>
                  <a:lnTo>
                    <a:pt x="28" y="145"/>
                  </a:lnTo>
                  <a:lnTo>
                    <a:pt x="20" y="169"/>
                  </a:lnTo>
                  <a:lnTo>
                    <a:pt x="15" y="185"/>
                  </a:lnTo>
                  <a:lnTo>
                    <a:pt x="10" y="197"/>
                  </a:lnTo>
                  <a:lnTo>
                    <a:pt x="5" y="209"/>
                  </a:lnTo>
                  <a:lnTo>
                    <a:pt x="2" y="220"/>
                  </a:lnTo>
                  <a:lnTo>
                    <a:pt x="0" y="224"/>
                  </a:lnTo>
                  <a:lnTo>
                    <a:pt x="3" y="224"/>
                  </a:lnTo>
                  <a:lnTo>
                    <a:pt x="12" y="220"/>
                  </a:lnTo>
                  <a:lnTo>
                    <a:pt x="23" y="219"/>
                  </a:lnTo>
                  <a:lnTo>
                    <a:pt x="33" y="219"/>
                  </a:lnTo>
                  <a:lnTo>
                    <a:pt x="47" y="219"/>
                  </a:lnTo>
                  <a:lnTo>
                    <a:pt x="60" y="219"/>
                  </a:lnTo>
                  <a:lnTo>
                    <a:pt x="72" y="219"/>
                  </a:lnTo>
                  <a:lnTo>
                    <a:pt x="77" y="219"/>
                  </a:lnTo>
                  <a:lnTo>
                    <a:pt x="80" y="229"/>
                  </a:lnTo>
                  <a:lnTo>
                    <a:pt x="87" y="250"/>
                  </a:lnTo>
                  <a:lnTo>
                    <a:pt x="100" y="277"/>
                  </a:lnTo>
                  <a:lnTo>
                    <a:pt x="118" y="299"/>
                  </a:lnTo>
                  <a:lnTo>
                    <a:pt x="133" y="315"/>
                  </a:lnTo>
                  <a:lnTo>
                    <a:pt x="140" y="330"/>
                  </a:lnTo>
                  <a:lnTo>
                    <a:pt x="145" y="342"/>
                  </a:lnTo>
                  <a:lnTo>
                    <a:pt x="157" y="352"/>
                  </a:lnTo>
                  <a:lnTo>
                    <a:pt x="167" y="360"/>
                  </a:lnTo>
                  <a:lnTo>
                    <a:pt x="168" y="374"/>
                  </a:lnTo>
                  <a:lnTo>
                    <a:pt x="172" y="390"/>
                  </a:lnTo>
                  <a:lnTo>
                    <a:pt x="185" y="414"/>
                  </a:lnTo>
                  <a:lnTo>
                    <a:pt x="205" y="440"/>
                  </a:lnTo>
                  <a:lnTo>
                    <a:pt x="220" y="467"/>
                  </a:lnTo>
                  <a:lnTo>
                    <a:pt x="230" y="492"/>
                  </a:lnTo>
                  <a:lnTo>
                    <a:pt x="233" y="512"/>
                  </a:lnTo>
                  <a:lnTo>
                    <a:pt x="237" y="531"/>
                  </a:lnTo>
                  <a:lnTo>
                    <a:pt x="243" y="547"/>
                  </a:lnTo>
                  <a:lnTo>
                    <a:pt x="257" y="562"/>
                  </a:lnTo>
                  <a:lnTo>
                    <a:pt x="275" y="574"/>
                  </a:lnTo>
                  <a:lnTo>
                    <a:pt x="287" y="587"/>
                  </a:lnTo>
                  <a:lnTo>
                    <a:pt x="285" y="601"/>
                  </a:lnTo>
                  <a:lnTo>
                    <a:pt x="284" y="617"/>
                  </a:lnTo>
                  <a:lnTo>
                    <a:pt x="295" y="632"/>
                  </a:lnTo>
                  <a:lnTo>
                    <a:pt x="310" y="642"/>
                  </a:lnTo>
                  <a:lnTo>
                    <a:pt x="317" y="652"/>
                  </a:lnTo>
                  <a:lnTo>
                    <a:pt x="320" y="666"/>
                  </a:lnTo>
                  <a:lnTo>
                    <a:pt x="329" y="687"/>
                  </a:lnTo>
                  <a:lnTo>
                    <a:pt x="330" y="692"/>
                  </a:lnTo>
                  <a:lnTo>
                    <a:pt x="330" y="696"/>
                  </a:lnTo>
                  <a:lnTo>
                    <a:pt x="332" y="697"/>
                  </a:lnTo>
                  <a:lnTo>
                    <a:pt x="332" y="699"/>
                  </a:lnTo>
                  <a:lnTo>
                    <a:pt x="335" y="702"/>
                  </a:lnTo>
                  <a:lnTo>
                    <a:pt x="340" y="707"/>
                  </a:lnTo>
                  <a:lnTo>
                    <a:pt x="345" y="712"/>
                  </a:lnTo>
                  <a:lnTo>
                    <a:pt x="352" y="721"/>
                  </a:lnTo>
                  <a:lnTo>
                    <a:pt x="365" y="737"/>
                  </a:lnTo>
                  <a:lnTo>
                    <a:pt x="370" y="752"/>
                  </a:lnTo>
                  <a:lnTo>
                    <a:pt x="370" y="762"/>
                  </a:lnTo>
                  <a:lnTo>
                    <a:pt x="367" y="771"/>
                  </a:lnTo>
                  <a:lnTo>
                    <a:pt x="360" y="776"/>
                  </a:lnTo>
                  <a:lnTo>
                    <a:pt x="354" y="781"/>
                  </a:lnTo>
                  <a:lnTo>
                    <a:pt x="349" y="782"/>
                  </a:lnTo>
                  <a:lnTo>
                    <a:pt x="347" y="782"/>
                  </a:lnTo>
                  <a:lnTo>
                    <a:pt x="347" y="786"/>
                  </a:lnTo>
                  <a:lnTo>
                    <a:pt x="350" y="794"/>
                  </a:lnTo>
                  <a:lnTo>
                    <a:pt x="355" y="807"/>
                  </a:lnTo>
                  <a:lnTo>
                    <a:pt x="367" y="824"/>
                  </a:lnTo>
                  <a:lnTo>
                    <a:pt x="377" y="842"/>
                  </a:lnTo>
                  <a:lnTo>
                    <a:pt x="384" y="862"/>
                  </a:lnTo>
                  <a:lnTo>
                    <a:pt x="392" y="877"/>
                  </a:lnTo>
                  <a:lnTo>
                    <a:pt x="414" y="891"/>
                  </a:lnTo>
                  <a:lnTo>
                    <a:pt x="427" y="897"/>
                  </a:lnTo>
                  <a:lnTo>
                    <a:pt x="440" y="904"/>
                  </a:lnTo>
                  <a:lnTo>
                    <a:pt x="454" y="912"/>
                  </a:lnTo>
                  <a:lnTo>
                    <a:pt x="465" y="921"/>
                  </a:lnTo>
                  <a:lnTo>
                    <a:pt x="477" y="929"/>
                  </a:lnTo>
                  <a:lnTo>
                    <a:pt x="487" y="937"/>
                  </a:lnTo>
                  <a:lnTo>
                    <a:pt x="499" y="946"/>
                  </a:lnTo>
                  <a:lnTo>
                    <a:pt x="509" y="952"/>
                  </a:lnTo>
                  <a:lnTo>
                    <a:pt x="519" y="961"/>
                  </a:lnTo>
                  <a:lnTo>
                    <a:pt x="525" y="969"/>
                  </a:lnTo>
                  <a:lnTo>
                    <a:pt x="532" y="979"/>
                  </a:lnTo>
                  <a:lnTo>
                    <a:pt x="537" y="989"/>
                  </a:lnTo>
                  <a:lnTo>
                    <a:pt x="542" y="1002"/>
                  </a:lnTo>
                  <a:lnTo>
                    <a:pt x="547" y="1016"/>
                  </a:lnTo>
                  <a:lnTo>
                    <a:pt x="552" y="1031"/>
                  </a:lnTo>
                  <a:lnTo>
                    <a:pt x="560" y="1048"/>
                  </a:lnTo>
                  <a:lnTo>
                    <a:pt x="574" y="1079"/>
                  </a:lnTo>
                  <a:lnTo>
                    <a:pt x="584" y="1108"/>
                  </a:lnTo>
                  <a:lnTo>
                    <a:pt x="592" y="1136"/>
                  </a:lnTo>
                  <a:lnTo>
                    <a:pt x="609" y="1171"/>
                  </a:lnTo>
                  <a:lnTo>
                    <a:pt x="619" y="1213"/>
                  </a:lnTo>
                  <a:lnTo>
                    <a:pt x="612" y="1253"/>
                  </a:lnTo>
                  <a:lnTo>
                    <a:pt x="600" y="1283"/>
                  </a:lnTo>
                  <a:lnTo>
                    <a:pt x="594" y="1294"/>
                  </a:lnTo>
                  <a:lnTo>
                    <a:pt x="597" y="1301"/>
                  </a:lnTo>
                  <a:lnTo>
                    <a:pt x="604" y="1318"/>
                  </a:lnTo>
                  <a:lnTo>
                    <a:pt x="612" y="1341"/>
                  </a:lnTo>
                  <a:lnTo>
                    <a:pt x="617" y="1366"/>
                  </a:lnTo>
                  <a:lnTo>
                    <a:pt x="620" y="1379"/>
                  </a:lnTo>
                  <a:lnTo>
                    <a:pt x="624" y="1394"/>
                  </a:lnTo>
                  <a:lnTo>
                    <a:pt x="629" y="1409"/>
                  </a:lnTo>
                  <a:lnTo>
                    <a:pt x="635" y="1428"/>
                  </a:lnTo>
                  <a:lnTo>
                    <a:pt x="644" y="1444"/>
                  </a:lnTo>
                  <a:lnTo>
                    <a:pt x="654" y="1463"/>
                  </a:lnTo>
                  <a:lnTo>
                    <a:pt x="664" y="1481"/>
                  </a:lnTo>
                  <a:lnTo>
                    <a:pt x="675" y="1499"/>
                  </a:lnTo>
                  <a:lnTo>
                    <a:pt x="687" y="1516"/>
                  </a:lnTo>
                  <a:lnTo>
                    <a:pt x="695" y="1531"/>
                  </a:lnTo>
                  <a:lnTo>
                    <a:pt x="702" y="1543"/>
                  </a:lnTo>
                  <a:lnTo>
                    <a:pt x="707" y="1553"/>
                  </a:lnTo>
                  <a:lnTo>
                    <a:pt x="712" y="1561"/>
                  </a:lnTo>
                  <a:lnTo>
                    <a:pt x="719" y="1566"/>
                  </a:lnTo>
                  <a:lnTo>
                    <a:pt x="724" y="1570"/>
                  </a:lnTo>
                  <a:lnTo>
                    <a:pt x="732" y="1571"/>
                  </a:lnTo>
                  <a:lnTo>
                    <a:pt x="742" y="1573"/>
                  </a:lnTo>
                  <a:lnTo>
                    <a:pt x="754" y="1576"/>
                  </a:lnTo>
                  <a:lnTo>
                    <a:pt x="765" y="1581"/>
                  </a:lnTo>
                  <a:lnTo>
                    <a:pt x="779" y="1588"/>
                  </a:lnTo>
                  <a:lnTo>
                    <a:pt x="792" y="1595"/>
                  </a:lnTo>
                  <a:lnTo>
                    <a:pt x="804" y="1603"/>
                  </a:lnTo>
                  <a:lnTo>
                    <a:pt x="814" y="1611"/>
                  </a:lnTo>
                  <a:lnTo>
                    <a:pt x="822" y="1618"/>
                  </a:lnTo>
                  <a:lnTo>
                    <a:pt x="834" y="1633"/>
                  </a:lnTo>
                  <a:lnTo>
                    <a:pt x="846" y="1648"/>
                  </a:lnTo>
                  <a:lnTo>
                    <a:pt x="856" y="1663"/>
                  </a:lnTo>
                  <a:lnTo>
                    <a:pt x="866" y="1675"/>
                  </a:lnTo>
                  <a:lnTo>
                    <a:pt x="872" y="1685"/>
                  </a:lnTo>
                  <a:lnTo>
                    <a:pt x="881" y="1700"/>
                  </a:lnTo>
                  <a:lnTo>
                    <a:pt x="891" y="1721"/>
                  </a:lnTo>
                  <a:lnTo>
                    <a:pt x="902" y="1743"/>
                  </a:lnTo>
                  <a:lnTo>
                    <a:pt x="912" y="1768"/>
                  </a:lnTo>
                  <a:lnTo>
                    <a:pt x="921" y="1790"/>
                  </a:lnTo>
                  <a:lnTo>
                    <a:pt x="927" y="1810"/>
                  </a:lnTo>
                  <a:lnTo>
                    <a:pt x="931" y="1823"/>
                  </a:lnTo>
                  <a:lnTo>
                    <a:pt x="937" y="1841"/>
                  </a:lnTo>
                  <a:lnTo>
                    <a:pt x="951" y="1858"/>
                  </a:lnTo>
                  <a:lnTo>
                    <a:pt x="964" y="1878"/>
                  </a:lnTo>
                  <a:lnTo>
                    <a:pt x="979" y="1908"/>
                  </a:lnTo>
                  <a:lnTo>
                    <a:pt x="987" y="1926"/>
                  </a:lnTo>
                  <a:lnTo>
                    <a:pt x="999" y="1945"/>
                  </a:lnTo>
                  <a:lnTo>
                    <a:pt x="1014" y="1965"/>
                  </a:lnTo>
                  <a:lnTo>
                    <a:pt x="1029" y="1981"/>
                  </a:lnTo>
                  <a:lnTo>
                    <a:pt x="1044" y="2000"/>
                  </a:lnTo>
                  <a:lnTo>
                    <a:pt x="1059" y="2015"/>
                  </a:lnTo>
                  <a:lnTo>
                    <a:pt x="1072" y="2027"/>
                  </a:lnTo>
                  <a:lnTo>
                    <a:pt x="1084" y="2037"/>
                  </a:lnTo>
                  <a:lnTo>
                    <a:pt x="1097" y="2052"/>
                  </a:lnTo>
                  <a:lnTo>
                    <a:pt x="1106" y="2068"/>
                  </a:lnTo>
                  <a:lnTo>
                    <a:pt x="1109" y="2085"/>
                  </a:lnTo>
                  <a:lnTo>
                    <a:pt x="1112" y="2098"/>
                  </a:lnTo>
                  <a:lnTo>
                    <a:pt x="1117" y="2108"/>
                  </a:lnTo>
                  <a:lnTo>
                    <a:pt x="1126" y="2120"/>
                  </a:lnTo>
                  <a:lnTo>
                    <a:pt x="1136" y="2132"/>
                  </a:lnTo>
                  <a:lnTo>
                    <a:pt x="1146" y="2145"/>
                  </a:lnTo>
                  <a:lnTo>
                    <a:pt x="1156" y="2160"/>
                  </a:lnTo>
                  <a:lnTo>
                    <a:pt x="1164" y="2175"/>
                  </a:lnTo>
                  <a:lnTo>
                    <a:pt x="1169" y="2190"/>
                  </a:lnTo>
                  <a:lnTo>
                    <a:pt x="1169" y="2202"/>
                  </a:lnTo>
                  <a:lnTo>
                    <a:pt x="1169" y="2217"/>
                  </a:lnTo>
                  <a:lnTo>
                    <a:pt x="1172" y="2233"/>
                  </a:lnTo>
                  <a:lnTo>
                    <a:pt x="1177" y="2248"/>
                  </a:lnTo>
                  <a:lnTo>
                    <a:pt x="1179" y="2255"/>
                  </a:lnTo>
                  <a:lnTo>
                    <a:pt x="1216" y="2227"/>
                  </a:lnTo>
                  <a:lnTo>
                    <a:pt x="1219" y="2222"/>
                  </a:lnTo>
                  <a:lnTo>
                    <a:pt x="1226" y="2208"/>
                  </a:lnTo>
                  <a:lnTo>
                    <a:pt x="1232" y="2192"/>
                  </a:lnTo>
                  <a:lnTo>
                    <a:pt x="1236" y="2178"/>
                  </a:lnTo>
                  <a:lnTo>
                    <a:pt x="1236" y="2165"/>
                  </a:lnTo>
                  <a:lnTo>
                    <a:pt x="1234" y="2145"/>
                  </a:lnTo>
                  <a:lnTo>
                    <a:pt x="1236" y="2123"/>
                  </a:lnTo>
                  <a:lnTo>
                    <a:pt x="1241" y="2103"/>
                  </a:lnTo>
                  <a:lnTo>
                    <a:pt x="1241" y="2087"/>
                  </a:lnTo>
                  <a:lnTo>
                    <a:pt x="1236" y="2077"/>
                  </a:lnTo>
                  <a:lnTo>
                    <a:pt x="1234" y="2067"/>
                  </a:lnTo>
                  <a:lnTo>
                    <a:pt x="1241" y="2060"/>
                  </a:lnTo>
                  <a:lnTo>
                    <a:pt x="1246" y="2057"/>
                  </a:lnTo>
                  <a:lnTo>
                    <a:pt x="1251" y="2057"/>
                  </a:lnTo>
                  <a:lnTo>
                    <a:pt x="1256" y="2058"/>
                  </a:lnTo>
                  <a:lnTo>
                    <a:pt x="1261" y="2062"/>
                  </a:lnTo>
                  <a:lnTo>
                    <a:pt x="1259" y="2052"/>
                  </a:lnTo>
                  <a:lnTo>
                    <a:pt x="1257" y="2043"/>
                  </a:lnTo>
                  <a:lnTo>
                    <a:pt x="1256" y="2033"/>
                  </a:lnTo>
                  <a:lnTo>
                    <a:pt x="1257" y="2027"/>
                  </a:lnTo>
                  <a:close/>
                </a:path>
              </a:pathLst>
            </a:custGeom>
            <a:solidFill>
              <a:srgbClr val="ffffff">
                <a:alpha val="10000"/>
              </a:srgbClr>
            </a:solidFill>
            <a:ln cap="sq" w="9360">
              <a:solidFill>
                <a:srgbClr val="ffffff"/>
              </a:solidFill>
              <a:round/>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9" name=""/>
            <p:cNvSpPr/>
            <p:nvPr/>
          </p:nvSpPr>
          <p:spPr>
            <a:xfrm>
              <a:off x="3086280" y="3249720"/>
              <a:ext cx="4680" cy="4680"/>
            </a:xfrm>
            <a:custGeom>
              <a:avLst/>
              <a:gdLst/>
              <a:ahLst/>
              <a:rect l="l" t="t" r="r" b="b"/>
              <a:pathLst>
                <a:path w="5" h="5">
                  <a:moveTo>
                    <a:pt x="5" y="3"/>
                  </a:moveTo>
                  <a:lnTo>
                    <a:pt x="0" y="0"/>
                  </a:lnTo>
                  <a:lnTo>
                    <a:pt x="2" y="3"/>
                  </a:lnTo>
                  <a:lnTo>
                    <a:pt x="3" y="5"/>
                  </a:lnTo>
                  <a:lnTo>
                    <a:pt x="5" y="3"/>
                  </a:lnTo>
                  <a:lnTo>
                    <a:pt x="5" y="3"/>
                  </a:lnTo>
                  <a:close/>
                </a:path>
              </a:pathLst>
            </a:custGeom>
            <a:solidFill>
              <a:srgbClr val="000000"/>
            </a:solidFill>
            <a:ln w="0">
              <a:noFill/>
            </a:ln>
          </p:spPr>
          <p:style>
            <a:lnRef idx="0"/>
            <a:fillRef idx="0"/>
            <a:effectRef idx="0"/>
            <a:fontRef idx="minor"/>
          </p:style>
          <p:txBody>
            <a:bodyPr wrap="none" lIns="90000" rIns="90000" tIns="-42120" bIns="-421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0" name=""/>
            <p:cNvSpPr/>
            <p:nvPr/>
          </p:nvSpPr>
          <p:spPr>
            <a:xfrm>
              <a:off x="4379760" y="4205160"/>
              <a:ext cx="2567160" cy="993960"/>
            </a:xfrm>
            <a:custGeom>
              <a:avLst/>
              <a:gdLst/>
              <a:ahLst/>
              <a:rect l="l" t="t" r="r" b="b"/>
              <a:pathLst>
                <a:path w="1881" h="744">
                  <a:moveTo>
                    <a:pt x="1298" y="222"/>
                  </a:moveTo>
                  <a:lnTo>
                    <a:pt x="1283" y="225"/>
                  </a:lnTo>
                  <a:lnTo>
                    <a:pt x="1263" y="230"/>
                  </a:lnTo>
                  <a:lnTo>
                    <a:pt x="1239" y="235"/>
                  </a:lnTo>
                  <a:lnTo>
                    <a:pt x="1214" y="242"/>
                  </a:lnTo>
                  <a:lnTo>
                    <a:pt x="1186" y="249"/>
                  </a:lnTo>
                  <a:lnTo>
                    <a:pt x="1157" y="255"/>
                  </a:lnTo>
                  <a:lnTo>
                    <a:pt x="1127" y="262"/>
                  </a:lnTo>
                  <a:lnTo>
                    <a:pt x="1097" y="269"/>
                  </a:lnTo>
                  <a:lnTo>
                    <a:pt x="1067" y="275"/>
                  </a:lnTo>
                  <a:lnTo>
                    <a:pt x="1039" y="284"/>
                  </a:lnTo>
                  <a:lnTo>
                    <a:pt x="1012" y="290"/>
                  </a:lnTo>
                  <a:lnTo>
                    <a:pt x="989" y="297"/>
                  </a:lnTo>
                  <a:lnTo>
                    <a:pt x="967" y="302"/>
                  </a:lnTo>
                  <a:lnTo>
                    <a:pt x="949" y="309"/>
                  </a:lnTo>
                  <a:lnTo>
                    <a:pt x="936" y="314"/>
                  </a:lnTo>
                  <a:lnTo>
                    <a:pt x="927" y="317"/>
                  </a:lnTo>
                  <a:lnTo>
                    <a:pt x="914" y="324"/>
                  </a:lnTo>
                  <a:lnTo>
                    <a:pt x="901" y="329"/>
                  </a:lnTo>
                  <a:lnTo>
                    <a:pt x="887" y="337"/>
                  </a:lnTo>
                  <a:lnTo>
                    <a:pt x="872" y="344"/>
                  </a:lnTo>
                  <a:lnTo>
                    <a:pt x="857" y="355"/>
                  </a:lnTo>
                  <a:lnTo>
                    <a:pt x="842" y="369"/>
                  </a:lnTo>
                  <a:lnTo>
                    <a:pt x="826" y="389"/>
                  </a:lnTo>
                  <a:lnTo>
                    <a:pt x="807" y="412"/>
                  </a:lnTo>
                  <a:lnTo>
                    <a:pt x="791" y="437"/>
                  </a:lnTo>
                  <a:lnTo>
                    <a:pt x="776" y="460"/>
                  </a:lnTo>
                  <a:lnTo>
                    <a:pt x="761" y="482"/>
                  </a:lnTo>
                  <a:lnTo>
                    <a:pt x="747" y="502"/>
                  </a:lnTo>
                  <a:lnTo>
                    <a:pt x="737" y="519"/>
                  </a:lnTo>
                  <a:lnTo>
                    <a:pt x="727" y="532"/>
                  </a:lnTo>
                  <a:lnTo>
                    <a:pt x="719" y="542"/>
                  </a:lnTo>
                  <a:lnTo>
                    <a:pt x="712" y="549"/>
                  </a:lnTo>
                  <a:lnTo>
                    <a:pt x="706" y="554"/>
                  </a:lnTo>
                  <a:lnTo>
                    <a:pt x="699" y="559"/>
                  </a:lnTo>
                  <a:lnTo>
                    <a:pt x="689" y="564"/>
                  </a:lnTo>
                  <a:lnTo>
                    <a:pt x="679" y="565"/>
                  </a:lnTo>
                  <a:lnTo>
                    <a:pt x="667" y="567"/>
                  </a:lnTo>
                  <a:lnTo>
                    <a:pt x="657" y="567"/>
                  </a:lnTo>
                  <a:lnTo>
                    <a:pt x="647" y="564"/>
                  </a:lnTo>
                  <a:lnTo>
                    <a:pt x="637" y="559"/>
                  </a:lnTo>
                  <a:lnTo>
                    <a:pt x="629" y="552"/>
                  </a:lnTo>
                  <a:lnTo>
                    <a:pt x="622" y="544"/>
                  </a:lnTo>
                  <a:lnTo>
                    <a:pt x="615" y="535"/>
                  </a:lnTo>
                  <a:lnTo>
                    <a:pt x="609" y="529"/>
                  </a:lnTo>
                  <a:lnTo>
                    <a:pt x="602" y="524"/>
                  </a:lnTo>
                  <a:lnTo>
                    <a:pt x="595" y="520"/>
                  </a:lnTo>
                  <a:lnTo>
                    <a:pt x="589" y="519"/>
                  </a:lnTo>
                  <a:lnTo>
                    <a:pt x="580" y="520"/>
                  </a:lnTo>
                  <a:lnTo>
                    <a:pt x="569" y="524"/>
                  </a:lnTo>
                  <a:lnTo>
                    <a:pt x="554" y="525"/>
                  </a:lnTo>
                  <a:lnTo>
                    <a:pt x="537" y="525"/>
                  </a:lnTo>
                  <a:lnTo>
                    <a:pt x="519" y="525"/>
                  </a:lnTo>
                  <a:lnTo>
                    <a:pt x="499" y="525"/>
                  </a:lnTo>
                  <a:lnTo>
                    <a:pt x="480" y="524"/>
                  </a:lnTo>
                  <a:lnTo>
                    <a:pt x="462" y="522"/>
                  </a:lnTo>
                  <a:lnTo>
                    <a:pt x="447" y="520"/>
                  </a:lnTo>
                  <a:lnTo>
                    <a:pt x="432" y="519"/>
                  </a:lnTo>
                  <a:lnTo>
                    <a:pt x="417" y="515"/>
                  </a:lnTo>
                  <a:lnTo>
                    <a:pt x="404" y="510"/>
                  </a:lnTo>
                  <a:lnTo>
                    <a:pt x="389" y="507"/>
                  </a:lnTo>
                  <a:lnTo>
                    <a:pt x="375" y="504"/>
                  </a:lnTo>
                  <a:lnTo>
                    <a:pt x="364" y="500"/>
                  </a:lnTo>
                  <a:lnTo>
                    <a:pt x="352" y="497"/>
                  </a:lnTo>
                  <a:lnTo>
                    <a:pt x="342" y="497"/>
                  </a:lnTo>
                  <a:lnTo>
                    <a:pt x="329" y="497"/>
                  </a:lnTo>
                  <a:lnTo>
                    <a:pt x="307" y="497"/>
                  </a:lnTo>
                  <a:lnTo>
                    <a:pt x="280" y="499"/>
                  </a:lnTo>
                  <a:lnTo>
                    <a:pt x="250" y="499"/>
                  </a:lnTo>
                  <a:lnTo>
                    <a:pt x="224" y="500"/>
                  </a:lnTo>
                  <a:lnTo>
                    <a:pt x="200" y="502"/>
                  </a:lnTo>
                  <a:lnTo>
                    <a:pt x="184" y="502"/>
                  </a:lnTo>
                  <a:lnTo>
                    <a:pt x="177" y="502"/>
                  </a:lnTo>
                  <a:lnTo>
                    <a:pt x="175" y="504"/>
                  </a:lnTo>
                  <a:lnTo>
                    <a:pt x="170" y="505"/>
                  </a:lnTo>
                  <a:lnTo>
                    <a:pt x="164" y="509"/>
                  </a:lnTo>
                  <a:lnTo>
                    <a:pt x="155" y="510"/>
                  </a:lnTo>
                  <a:lnTo>
                    <a:pt x="144" y="512"/>
                  </a:lnTo>
                  <a:lnTo>
                    <a:pt x="132" y="512"/>
                  </a:lnTo>
                  <a:lnTo>
                    <a:pt x="120" y="509"/>
                  </a:lnTo>
                  <a:lnTo>
                    <a:pt x="107" y="502"/>
                  </a:lnTo>
                  <a:lnTo>
                    <a:pt x="95" y="494"/>
                  </a:lnTo>
                  <a:lnTo>
                    <a:pt x="87" y="485"/>
                  </a:lnTo>
                  <a:lnTo>
                    <a:pt x="80" y="479"/>
                  </a:lnTo>
                  <a:lnTo>
                    <a:pt x="75" y="475"/>
                  </a:lnTo>
                  <a:lnTo>
                    <a:pt x="70" y="472"/>
                  </a:lnTo>
                  <a:lnTo>
                    <a:pt x="65" y="470"/>
                  </a:lnTo>
                  <a:lnTo>
                    <a:pt x="60" y="470"/>
                  </a:lnTo>
                  <a:lnTo>
                    <a:pt x="53" y="474"/>
                  </a:lnTo>
                  <a:lnTo>
                    <a:pt x="47" y="480"/>
                  </a:lnTo>
                  <a:lnTo>
                    <a:pt x="50" y="489"/>
                  </a:lnTo>
                  <a:lnTo>
                    <a:pt x="55" y="500"/>
                  </a:lnTo>
                  <a:lnTo>
                    <a:pt x="53" y="515"/>
                  </a:lnTo>
                  <a:lnTo>
                    <a:pt x="50" y="535"/>
                  </a:lnTo>
                  <a:lnTo>
                    <a:pt x="48" y="557"/>
                  </a:lnTo>
                  <a:lnTo>
                    <a:pt x="50" y="577"/>
                  </a:lnTo>
                  <a:lnTo>
                    <a:pt x="50" y="592"/>
                  </a:lnTo>
                  <a:lnTo>
                    <a:pt x="47" y="606"/>
                  </a:lnTo>
                  <a:lnTo>
                    <a:pt x="40" y="621"/>
                  </a:lnTo>
                  <a:lnTo>
                    <a:pt x="33" y="634"/>
                  </a:lnTo>
                  <a:lnTo>
                    <a:pt x="30" y="639"/>
                  </a:lnTo>
                  <a:lnTo>
                    <a:pt x="0" y="662"/>
                  </a:lnTo>
                  <a:lnTo>
                    <a:pt x="3" y="666"/>
                  </a:lnTo>
                  <a:lnTo>
                    <a:pt x="8" y="669"/>
                  </a:lnTo>
                  <a:lnTo>
                    <a:pt x="13" y="674"/>
                  </a:lnTo>
                  <a:lnTo>
                    <a:pt x="18" y="677"/>
                  </a:lnTo>
                  <a:lnTo>
                    <a:pt x="32" y="684"/>
                  </a:lnTo>
                  <a:lnTo>
                    <a:pt x="43" y="687"/>
                  </a:lnTo>
                  <a:lnTo>
                    <a:pt x="55" y="687"/>
                  </a:lnTo>
                  <a:lnTo>
                    <a:pt x="67" y="686"/>
                  </a:lnTo>
                  <a:lnTo>
                    <a:pt x="77" y="684"/>
                  </a:lnTo>
                  <a:lnTo>
                    <a:pt x="83" y="681"/>
                  </a:lnTo>
                  <a:lnTo>
                    <a:pt x="88" y="679"/>
                  </a:lnTo>
                  <a:lnTo>
                    <a:pt x="90" y="677"/>
                  </a:lnTo>
                  <a:lnTo>
                    <a:pt x="97" y="677"/>
                  </a:lnTo>
                  <a:lnTo>
                    <a:pt x="114" y="677"/>
                  </a:lnTo>
                  <a:lnTo>
                    <a:pt x="137" y="676"/>
                  </a:lnTo>
                  <a:lnTo>
                    <a:pt x="164" y="674"/>
                  </a:lnTo>
                  <a:lnTo>
                    <a:pt x="194" y="674"/>
                  </a:lnTo>
                  <a:lnTo>
                    <a:pt x="220" y="672"/>
                  </a:lnTo>
                  <a:lnTo>
                    <a:pt x="242" y="672"/>
                  </a:lnTo>
                  <a:lnTo>
                    <a:pt x="255" y="672"/>
                  </a:lnTo>
                  <a:lnTo>
                    <a:pt x="265" y="674"/>
                  </a:lnTo>
                  <a:lnTo>
                    <a:pt x="275" y="676"/>
                  </a:lnTo>
                  <a:lnTo>
                    <a:pt x="289" y="679"/>
                  </a:lnTo>
                  <a:lnTo>
                    <a:pt x="302" y="682"/>
                  </a:lnTo>
                  <a:lnTo>
                    <a:pt x="315" y="687"/>
                  </a:lnTo>
                  <a:lnTo>
                    <a:pt x="330" y="691"/>
                  </a:lnTo>
                  <a:lnTo>
                    <a:pt x="344" y="694"/>
                  </a:lnTo>
                  <a:lnTo>
                    <a:pt x="359" y="697"/>
                  </a:lnTo>
                  <a:lnTo>
                    <a:pt x="374" y="699"/>
                  </a:lnTo>
                  <a:lnTo>
                    <a:pt x="392" y="701"/>
                  </a:lnTo>
                  <a:lnTo>
                    <a:pt x="412" y="701"/>
                  </a:lnTo>
                  <a:lnTo>
                    <a:pt x="430" y="702"/>
                  </a:lnTo>
                  <a:lnTo>
                    <a:pt x="450" y="702"/>
                  </a:lnTo>
                  <a:lnTo>
                    <a:pt x="467" y="701"/>
                  </a:lnTo>
                  <a:lnTo>
                    <a:pt x="480" y="701"/>
                  </a:lnTo>
                  <a:lnTo>
                    <a:pt x="492" y="697"/>
                  </a:lnTo>
                  <a:lnTo>
                    <a:pt x="500" y="696"/>
                  </a:lnTo>
                  <a:lnTo>
                    <a:pt x="507" y="696"/>
                  </a:lnTo>
                  <a:lnTo>
                    <a:pt x="514" y="699"/>
                  </a:lnTo>
                  <a:lnTo>
                    <a:pt x="520" y="706"/>
                  </a:lnTo>
                  <a:lnTo>
                    <a:pt x="527" y="712"/>
                  </a:lnTo>
                  <a:lnTo>
                    <a:pt x="534" y="719"/>
                  </a:lnTo>
                  <a:lnTo>
                    <a:pt x="540" y="727"/>
                  </a:lnTo>
                  <a:lnTo>
                    <a:pt x="549" y="734"/>
                  </a:lnTo>
                  <a:lnTo>
                    <a:pt x="559" y="741"/>
                  </a:lnTo>
                  <a:lnTo>
                    <a:pt x="569" y="742"/>
                  </a:lnTo>
                  <a:lnTo>
                    <a:pt x="579" y="744"/>
                  </a:lnTo>
                  <a:lnTo>
                    <a:pt x="590" y="742"/>
                  </a:lnTo>
                  <a:lnTo>
                    <a:pt x="600" y="739"/>
                  </a:lnTo>
                  <a:lnTo>
                    <a:pt x="610" y="736"/>
                  </a:lnTo>
                  <a:lnTo>
                    <a:pt x="619" y="731"/>
                  </a:lnTo>
                  <a:lnTo>
                    <a:pt x="625" y="726"/>
                  </a:lnTo>
                  <a:lnTo>
                    <a:pt x="632" y="719"/>
                  </a:lnTo>
                  <a:lnTo>
                    <a:pt x="639" y="707"/>
                  </a:lnTo>
                  <a:lnTo>
                    <a:pt x="649" y="694"/>
                  </a:lnTo>
                  <a:lnTo>
                    <a:pt x="661" y="677"/>
                  </a:lnTo>
                  <a:lnTo>
                    <a:pt x="672" y="659"/>
                  </a:lnTo>
                  <a:lnTo>
                    <a:pt x="687" y="637"/>
                  </a:lnTo>
                  <a:lnTo>
                    <a:pt x="704" y="614"/>
                  </a:lnTo>
                  <a:lnTo>
                    <a:pt x="721" y="587"/>
                  </a:lnTo>
                  <a:lnTo>
                    <a:pt x="737" y="564"/>
                  </a:lnTo>
                  <a:lnTo>
                    <a:pt x="754" y="544"/>
                  </a:lnTo>
                  <a:lnTo>
                    <a:pt x="769" y="530"/>
                  </a:lnTo>
                  <a:lnTo>
                    <a:pt x="786" y="519"/>
                  </a:lnTo>
                  <a:lnTo>
                    <a:pt x="799" y="512"/>
                  </a:lnTo>
                  <a:lnTo>
                    <a:pt x="812" y="504"/>
                  </a:lnTo>
                  <a:lnTo>
                    <a:pt x="826" y="499"/>
                  </a:lnTo>
                  <a:lnTo>
                    <a:pt x="839" y="492"/>
                  </a:lnTo>
                  <a:lnTo>
                    <a:pt x="847" y="489"/>
                  </a:lnTo>
                  <a:lnTo>
                    <a:pt x="862" y="484"/>
                  </a:lnTo>
                  <a:lnTo>
                    <a:pt x="879" y="479"/>
                  </a:lnTo>
                  <a:lnTo>
                    <a:pt x="901" y="472"/>
                  </a:lnTo>
                  <a:lnTo>
                    <a:pt x="926" y="465"/>
                  </a:lnTo>
                  <a:lnTo>
                    <a:pt x="952" y="459"/>
                  </a:lnTo>
                  <a:lnTo>
                    <a:pt x="981" y="452"/>
                  </a:lnTo>
                  <a:lnTo>
                    <a:pt x="1009" y="444"/>
                  </a:lnTo>
                  <a:lnTo>
                    <a:pt x="1039" y="437"/>
                  </a:lnTo>
                  <a:lnTo>
                    <a:pt x="1069" y="430"/>
                  </a:lnTo>
                  <a:lnTo>
                    <a:pt x="1097" y="424"/>
                  </a:lnTo>
                  <a:lnTo>
                    <a:pt x="1126" y="417"/>
                  </a:lnTo>
                  <a:lnTo>
                    <a:pt x="1151" y="410"/>
                  </a:lnTo>
                  <a:lnTo>
                    <a:pt x="1174" y="405"/>
                  </a:lnTo>
                  <a:lnTo>
                    <a:pt x="1194" y="400"/>
                  </a:lnTo>
                  <a:lnTo>
                    <a:pt x="1209" y="397"/>
                  </a:lnTo>
                  <a:lnTo>
                    <a:pt x="1236" y="390"/>
                  </a:lnTo>
                  <a:lnTo>
                    <a:pt x="1263" y="385"/>
                  </a:lnTo>
                  <a:lnTo>
                    <a:pt x="1289" y="382"/>
                  </a:lnTo>
                  <a:lnTo>
                    <a:pt x="1313" y="379"/>
                  </a:lnTo>
                  <a:lnTo>
                    <a:pt x="1336" y="375"/>
                  </a:lnTo>
                  <a:lnTo>
                    <a:pt x="1354" y="370"/>
                  </a:lnTo>
                  <a:lnTo>
                    <a:pt x="1371" y="365"/>
                  </a:lnTo>
                  <a:lnTo>
                    <a:pt x="1384" y="359"/>
                  </a:lnTo>
                  <a:lnTo>
                    <a:pt x="1394" y="354"/>
                  </a:lnTo>
                  <a:lnTo>
                    <a:pt x="1411" y="345"/>
                  </a:lnTo>
                  <a:lnTo>
                    <a:pt x="1434" y="334"/>
                  </a:lnTo>
                  <a:lnTo>
                    <a:pt x="1463" y="320"/>
                  </a:lnTo>
                  <a:lnTo>
                    <a:pt x="1496" y="307"/>
                  </a:lnTo>
                  <a:lnTo>
                    <a:pt x="1533" y="290"/>
                  </a:lnTo>
                  <a:lnTo>
                    <a:pt x="1571" y="274"/>
                  </a:lnTo>
                  <a:lnTo>
                    <a:pt x="1611" y="255"/>
                  </a:lnTo>
                  <a:lnTo>
                    <a:pt x="1649" y="239"/>
                  </a:lnTo>
                  <a:lnTo>
                    <a:pt x="1688" y="222"/>
                  </a:lnTo>
                  <a:lnTo>
                    <a:pt x="1723" y="207"/>
                  </a:lnTo>
                  <a:lnTo>
                    <a:pt x="1756" y="192"/>
                  </a:lnTo>
                  <a:lnTo>
                    <a:pt x="1783" y="180"/>
                  </a:lnTo>
                  <a:lnTo>
                    <a:pt x="1805" y="170"/>
                  </a:lnTo>
                  <a:lnTo>
                    <a:pt x="1820" y="164"/>
                  </a:lnTo>
                  <a:lnTo>
                    <a:pt x="1826" y="160"/>
                  </a:lnTo>
                  <a:lnTo>
                    <a:pt x="1836" y="152"/>
                  </a:lnTo>
                  <a:lnTo>
                    <a:pt x="1841" y="142"/>
                  </a:lnTo>
                  <a:lnTo>
                    <a:pt x="1845" y="130"/>
                  </a:lnTo>
                  <a:lnTo>
                    <a:pt x="1846" y="117"/>
                  </a:lnTo>
                  <a:lnTo>
                    <a:pt x="1848" y="100"/>
                  </a:lnTo>
                  <a:lnTo>
                    <a:pt x="1851" y="78"/>
                  </a:lnTo>
                  <a:lnTo>
                    <a:pt x="1858" y="57"/>
                  </a:lnTo>
                  <a:lnTo>
                    <a:pt x="1865" y="37"/>
                  </a:lnTo>
                  <a:lnTo>
                    <a:pt x="1868" y="27"/>
                  </a:lnTo>
                  <a:lnTo>
                    <a:pt x="1873" y="18"/>
                  </a:lnTo>
                  <a:lnTo>
                    <a:pt x="1876" y="8"/>
                  </a:lnTo>
                  <a:lnTo>
                    <a:pt x="1881" y="0"/>
                  </a:lnTo>
                  <a:lnTo>
                    <a:pt x="1861" y="10"/>
                  </a:lnTo>
                  <a:lnTo>
                    <a:pt x="1836" y="20"/>
                  </a:lnTo>
                  <a:lnTo>
                    <a:pt x="1808" y="32"/>
                  </a:lnTo>
                  <a:lnTo>
                    <a:pt x="1778" y="45"/>
                  </a:lnTo>
                  <a:lnTo>
                    <a:pt x="1746" y="58"/>
                  </a:lnTo>
                  <a:lnTo>
                    <a:pt x="1714" y="73"/>
                  </a:lnTo>
                  <a:lnTo>
                    <a:pt x="1681" y="88"/>
                  </a:lnTo>
                  <a:lnTo>
                    <a:pt x="1648" y="102"/>
                  </a:lnTo>
                  <a:lnTo>
                    <a:pt x="1616" y="117"/>
                  </a:lnTo>
                  <a:lnTo>
                    <a:pt x="1586" y="130"/>
                  </a:lnTo>
                  <a:lnTo>
                    <a:pt x="1558" y="142"/>
                  </a:lnTo>
                  <a:lnTo>
                    <a:pt x="1533" y="154"/>
                  </a:lnTo>
                  <a:lnTo>
                    <a:pt x="1511" y="164"/>
                  </a:lnTo>
                  <a:lnTo>
                    <a:pt x="1493" y="174"/>
                  </a:lnTo>
                  <a:lnTo>
                    <a:pt x="1479" y="179"/>
                  </a:lnTo>
                  <a:lnTo>
                    <a:pt x="1473" y="184"/>
                  </a:lnTo>
                  <a:lnTo>
                    <a:pt x="1459" y="190"/>
                  </a:lnTo>
                  <a:lnTo>
                    <a:pt x="1443" y="195"/>
                  </a:lnTo>
                  <a:lnTo>
                    <a:pt x="1423" y="199"/>
                  </a:lnTo>
                  <a:lnTo>
                    <a:pt x="1401" y="202"/>
                  </a:lnTo>
                  <a:lnTo>
                    <a:pt x="1376" y="205"/>
                  </a:lnTo>
                  <a:lnTo>
                    <a:pt x="1351" y="210"/>
                  </a:lnTo>
                  <a:lnTo>
                    <a:pt x="1324" y="215"/>
                  </a:lnTo>
                  <a:lnTo>
                    <a:pt x="1298" y="222"/>
                  </a:lnTo>
                  <a:close/>
                </a:path>
              </a:pathLst>
            </a:custGeom>
            <a:solidFill>
              <a:srgbClr val="ffffff">
                <a:alpha val="20000"/>
              </a:srgbClr>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1" name=""/>
            <p:cNvSpPr/>
            <p:nvPr/>
          </p:nvSpPr>
          <p:spPr>
            <a:xfrm>
              <a:off x="2813040" y="1346040"/>
              <a:ext cx="4348080" cy="3579840"/>
            </a:xfrm>
            <a:custGeom>
              <a:avLst/>
              <a:gdLst/>
              <a:ahLst/>
              <a:rect l="l" t="t" r="r" b="b"/>
              <a:pathLst>
                <a:path w="3185" h="2678">
                  <a:moveTo>
                    <a:pt x="380" y="90"/>
                  </a:moveTo>
                  <a:lnTo>
                    <a:pt x="683" y="28"/>
                  </a:lnTo>
                  <a:lnTo>
                    <a:pt x="693" y="0"/>
                  </a:lnTo>
                  <a:lnTo>
                    <a:pt x="695" y="0"/>
                  </a:lnTo>
                  <a:lnTo>
                    <a:pt x="698" y="0"/>
                  </a:lnTo>
                  <a:lnTo>
                    <a:pt x="704" y="0"/>
                  </a:lnTo>
                  <a:lnTo>
                    <a:pt x="712" y="0"/>
                  </a:lnTo>
                  <a:lnTo>
                    <a:pt x="720" y="0"/>
                  </a:lnTo>
                  <a:lnTo>
                    <a:pt x="734" y="2"/>
                  </a:lnTo>
                  <a:lnTo>
                    <a:pt x="747" y="5"/>
                  </a:lnTo>
                  <a:lnTo>
                    <a:pt x="764" y="10"/>
                  </a:lnTo>
                  <a:lnTo>
                    <a:pt x="782" y="15"/>
                  </a:lnTo>
                  <a:lnTo>
                    <a:pt x="799" y="20"/>
                  </a:lnTo>
                  <a:lnTo>
                    <a:pt x="817" y="23"/>
                  </a:lnTo>
                  <a:lnTo>
                    <a:pt x="832" y="28"/>
                  </a:lnTo>
                  <a:lnTo>
                    <a:pt x="847" y="32"/>
                  </a:lnTo>
                  <a:lnTo>
                    <a:pt x="862" y="35"/>
                  </a:lnTo>
                  <a:lnTo>
                    <a:pt x="874" y="40"/>
                  </a:lnTo>
                  <a:lnTo>
                    <a:pt x="884" y="43"/>
                  </a:lnTo>
                  <a:lnTo>
                    <a:pt x="894" y="48"/>
                  </a:lnTo>
                  <a:lnTo>
                    <a:pt x="907" y="57"/>
                  </a:lnTo>
                  <a:lnTo>
                    <a:pt x="924" y="68"/>
                  </a:lnTo>
                  <a:lnTo>
                    <a:pt x="942" y="82"/>
                  </a:lnTo>
                  <a:lnTo>
                    <a:pt x="962" y="97"/>
                  </a:lnTo>
                  <a:lnTo>
                    <a:pt x="985" y="112"/>
                  </a:lnTo>
                  <a:lnTo>
                    <a:pt x="1009" y="127"/>
                  </a:lnTo>
                  <a:lnTo>
                    <a:pt x="1035" y="142"/>
                  </a:lnTo>
                  <a:lnTo>
                    <a:pt x="1060" y="155"/>
                  </a:lnTo>
                  <a:lnTo>
                    <a:pt x="1080" y="168"/>
                  </a:lnTo>
                  <a:lnTo>
                    <a:pt x="1099" y="180"/>
                  </a:lnTo>
                  <a:lnTo>
                    <a:pt x="1114" y="190"/>
                  </a:lnTo>
                  <a:lnTo>
                    <a:pt x="1124" y="197"/>
                  </a:lnTo>
                  <a:lnTo>
                    <a:pt x="1132" y="203"/>
                  </a:lnTo>
                  <a:lnTo>
                    <a:pt x="1137" y="207"/>
                  </a:lnTo>
                  <a:lnTo>
                    <a:pt x="1139" y="208"/>
                  </a:lnTo>
                  <a:lnTo>
                    <a:pt x="1142" y="210"/>
                  </a:lnTo>
                  <a:lnTo>
                    <a:pt x="1150" y="215"/>
                  </a:lnTo>
                  <a:lnTo>
                    <a:pt x="1162" y="223"/>
                  </a:lnTo>
                  <a:lnTo>
                    <a:pt x="1177" y="233"/>
                  </a:lnTo>
                  <a:lnTo>
                    <a:pt x="1192" y="243"/>
                  </a:lnTo>
                  <a:lnTo>
                    <a:pt x="1205" y="255"/>
                  </a:lnTo>
                  <a:lnTo>
                    <a:pt x="1217" y="265"/>
                  </a:lnTo>
                  <a:lnTo>
                    <a:pt x="1225" y="275"/>
                  </a:lnTo>
                  <a:lnTo>
                    <a:pt x="1234" y="285"/>
                  </a:lnTo>
                  <a:lnTo>
                    <a:pt x="1245" y="297"/>
                  </a:lnTo>
                  <a:lnTo>
                    <a:pt x="1259" y="310"/>
                  </a:lnTo>
                  <a:lnTo>
                    <a:pt x="1276" y="325"/>
                  </a:lnTo>
                  <a:lnTo>
                    <a:pt x="1292" y="340"/>
                  </a:lnTo>
                  <a:lnTo>
                    <a:pt x="1309" y="354"/>
                  </a:lnTo>
                  <a:lnTo>
                    <a:pt x="1324" y="365"/>
                  </a:lnTo>
                  <a:lnTo>
                    <a:pt x="1334" y="375"/>
                  </a:lnTo>
                  <a:lnTo>
                    <a:pt x="1346" y="385"/>
                  </a:lnTo>
                  <a:lnTo>
                    <a:pt x="1362" y="397"/>
                  </a:lnTo>
                  <a:lnTo>
                    <a:pt x="1381" y="410"/>
                  </a:lnTo>
                  <a:lnTo>
                    <a:pt x="1401" y="424"/>
                  </a:lnTo>
                  <a:lnTo>
                    <a:pt x="1421" y="437"/>
                  </a:lnTo>
                  <a:lnTo>
                    <a:pt x="1436" y="445"/>
                  </a:lnTo>
                  <a:lnTo>
                    <a:pt x="1447" y="454"/>
                  </a:lnTo>
                  <a:lnTo>
                    <a:pt x="1451" y="455"/>
                  </a:lnTo>
                  <a:lnTo>
                    <a:pt x="1489" y="509"/>
                  </a:lnTo>
                  <a:lnTo>
                    <a:pt x="1497" y="509"/>
                  </a:lnTo>
                  <a:lnTo>
                    <a:pt x="1517" y="509"/>
                  </a:lnTo>
                  <a:lnTo>
                    <a:pt x="1546" y="509"/>
                  </a:lnTo>
                  <a:lnTo>
                    <a:pt x="1581" y="509"/>
                  </a:lnTo>
                  <a:lnTo>
                    <a:pt x="1617" y="510"/>
                  </a:lnTo>
                  <a:lnTo>
                    <a:pt x="1651" y="514"/>
                  </a:lnTo>
                  <a:lnTo>
                    <a:pt x="1677" y="520"/>
                  </a:lnTo>
                  <a:lnTo>
                    <a:pt x="1694" y="527"/>
                  </a:lnTo>
                  <a:lnTo>
                    <a:pt x="1696" y="527"/>
                  </a:lnTo>
                  <a:lnTo>
                    <a:pt x="1702" y="525"/>
                  </a:lnTo>
                  <a:lnTo>
                    <a:pt x="1712" y="522"/>
                  </a:lnTo>
                  <a:lnTo>
                    <a:pt x="1722" y="520"/>
                  </a:lnTo>
                  <a:lnTo>
                    <a:pt x="1736" y="519"/>
                  </a:lnTo>
                  <a:lnTo>
                    <a:pt x="1747" y="515"/>
                  </a:lnTo>
                  <a:lnTo>
                    <a:pt x="1759" y="514"/>
                  </a:lnTo>
                  <a:lnTo>
                    <a:pt x="1769" y="514"/>
                  </a:lnTo>
                  <a:lnTo>
                    <a:pt x="1782" y="515"/>
                  </a:lnTo>
                  <a:lnTo>
                    <a:pt x="1801" y="519"/>
                  </a:lnTo>
                  <a:lnTo>
                    <a:pt x="1823" y="522"/>
                  </a:lnTo>
                  <a:lnTo>
                    <a:pt x="1848" y="527"/>
                  </a:lnTo>
                  <a:lnTo>
                    <a:pt x="1869" y="534"/>
                  </a:lnTo>
                  <a:lnTo>
                    <a:pt x="1889" y="537"/>
                  </a:lnTo>
                  <a:lnTo>
                    <a:pt x="1903" y="540"/>
                  </a:lnTo>
                  <a:lnTo>
                    <a:pt x="1908" y="542"/>
                  </a:lnTo>
                  <a:lnTo>
                    <a:pt x="1926" y="604"/>
                  </a:lnTo>
                  <a:lnTo>
                    <a:pt x="2044" y="604"/>
                  </a:lnTo>
                  <a:lnTo>
                    <a:pt x="2064" y="689"/>
                  </a:lnTo>
                  <a:lnTo>
                    <a:pt x="2071" y="692"/>
                  </a:lnTo>
                  <a:lnTo>
                    <a:pt x="2083" y="704"/>
                  </a:lnTo>
                  <a:lnTo>
                    <a:pt x="2093" y="722"/>
                  </a:lnTo>
                  <a:lnTo>
                    <a:pt x="2093" y="746"/>
                  </a:lnTo>
                  <a:lnTo>
                    <a:pt x="2116" y="784"/>
                  </a:lnTo>
                  <a:lnTo>
                    <a:pt x="2154" y="769"/>
                  </a:lnTo>
                  <a:lnTo>
                    <a:pt x="2158" y="774"/>
                  </a:lnTo>
                  <a:lnTo>
                    <a:pt x="2164" y="786"/>
                  </a:lnTo>
                  <a:lnTo>
                    <a:pt x="2169" y="801"/>
                  </a:lnTo>
                  <a:lnTo>
                    <a:pt x="2173" y="812"/>
                  </a:lnTo>
                  <a:lnTo>
                    <a:pt x="2176" y="824"/>
                  </a:lnTo>
                  <a:lnTo>
                    <a:pt x="2183" y="834"/>
                  </a:lnTo>
                  <a:lnTo>
                    <a:pt x="2189" y="842"/>
                  </a:lnTo>
                  <a:lnTo>
                    <a:pt x="2193" y="846"/>
                  </a:lnTo>
                  <a:lnTo>
                    <a:pt x="2201" y="822"/>
                  </a:lnTo>
                  <a:lnTo>
                    <a:pt x="2226" y="869"/>
                  </a:lnTo>
                  <a:lnTo>
                    <a:pt x="2228" y="869"/>
                  </a:lnTo>
                  <a:lnTo>
                    <a:pt x="2234" y="871"/>
                  </a:lnTo>
                  <a:lnTo>
                    <a:pt x="2244" y="874"/>
                  </a:lnTo>
                  <a:lnTo>
                    <a:pt x="2254" y="877"/>
                  </a:lnTo>
                  <a:lnTo>
                    <a:pt x="2266" y="882"/>
                  </a:lnTo>
                  <a:lnTo>
                    <a:pt x="2276" y="887"/>
                  </a:lnTo>
                  <a:lnTo>
                    <a:pt x="2284" y="894"/>
                  </a:lnTo>
                  <a:lnTo>
                    <a:pt x="2288" y="902"/>
                  </a:lnTo>
                  <a:lnTo>
                    <a:pt x="2289" y="921"/>
                  </a:lnTo>
                  <a:lnTo>
                    <a:pt x="2293" y="937"/>
                  </a:lnTo>
                  <a:lnTo>
                    <a:pt x="2296" y="952"/>
                  </a:lnTo>
                  <a:lnTo>
                    <a:pt x="2306" y="964"/>
                  </a:lnTo>
                  <a:lnTo>
                    <a:pt x="2316" y="979"/>
                  </a:lnTo>
                  <a:lnTo>
                    <a:pt x="2321" y="996"/>
                  </a:lnTo>
                  <a:lnTo>
                    <a:pt x="2318" y="1011"/>
                  </a:lnTo>
                  <a:lnTo>
                    <a:pt x="2311" y="1017"/>
                  </a:lnTo>
                  <a:lnTo>
                    <a:pt x="2303" y="1019"/>
                  </a:lnTo>
                  <a:lnTo>
                    <a:pt x="2299" y="1024"/>
                  </a:lnTo>
                  <a:lnTo>
                    <a:pt x="2301" y="1032"/>
                  </a:lnTo>
                  <a:lnTo>
                    <a:pt x="2306" y="1046"/>
                  </a:lnTo>
                  <a:lnTo>
                    <a:pt x="2313" y="1061"/>
                  </a:lnTo>
                  <a:lnTo>
                    <a:pt x="2319" y="1076"/>
                  </a:lnTo>
                  <a:lnTo>
                    <a:pt x="2324" y="1092"/>
                  </a:lnTo>
                  <a:lnTo>
                    <a:pt x="2329" y="1107"/>
                  </a:lnTo>
                  <a:lnTo>
                    <a:pt x="2336" y="1117"/>
                  </a:lnTo>
                  <a:lnTo>
                    <a:pt x="2344" y="1121"/>
                  </a:lnTo>
                  <a:lnTo>
                    <a:pt x="2351" y="1121"/>
                  </a:lnTo>
                  <a:lnTo>
                    <a:pt x="2354" y="1121"/>
                  </a:lnTo>
                  <a:lnTo>
                    <a:pt x="2356" y="1129"/>
                  </a:lnTo>
                  <a:lnTo>
                    <a:pt x="2365" y="1149"/>
                  </a:lnTo>
                  <a:lnTo>
                    <a:pt x="2375" y="1174"/>
                  </a:lnTo>
                  <a:lnTo>
                    <a:pt x="2388" y="1192"/>
                  </a:lnTo>
                  <a:lnTo>
                    <a:pt x="2395" y="1201"/>
                  </a:lnTo>
                  <a:lnTo>
                    <a:pt x="2400" y="1209"/>
                  </a:lnTo>
                  <a:lnTo>
                    <a:pt x="2405" y="1217"/>
                  </a:lnTo>
                  <a:lnTo>
                    <a:pt x="2411" y="1227"/>
                  </a:lnTo>
                  <a:lnTo>
                    <a:pt x="2416" y="1236"/>
                  </a:lnTo>
                  <a:lnTo>
                    <a:pt x="2425" y="1244"/>
                  </a:lnTo>
                  <a:lnTo>
                    <a:pt x="2433" y="1253"/>
                  </a:lnTo>
                  <a:lnTo>
                    <a:pt x="2445" y="1259"/>
                  </a:lnTo>
                  <a:lnTo>
                    <a:pt x="2456" y="1263"/>
                  </a:lnTo>
                  <a:lnTo>
                    <a:pt x="2468" y="1263"/>
                  </a:lnTo>
                  <a:lnTo>
                    <a:pt x="2478" y="1263"/>
                  </a:lnTo>
                  <a:lnTo>
                    <a:pt x="2486" y="1259"/>
                  </a:lnTo>
                  <a:lnTo>
                    <a:pt x="2493" y="1256"/>
                  </a:lnTo>
                  <a:lnTo>
                    <a:pt x="2498" y="1253"/>
                  </a:lnTo>
                  <a:lnTo>
                    <a:pt x="2500" y="1251"/>
                  </a:lnTo>
                  <a:lnTo>
                    <a:pt x="2501" y="1249"/>
                  </a:lnTo>
                  <a:lnTo>
                    <a:pt x="2520" y="1259"/>
                  </a:lnTo>
                  <a:lnTo>
                    <a:pt x="2501" y="1293"/>
                  </a:lnTo>
                  <a:lnTo>
                    <a:pt x="2501" y="1294"/>
                  </a:lnTo>
                  <a:lnTo>
                    <a:pt x="2501" y="1299"/>
                  </a:lnTo>
                  <a:lnTo>
                    <a:pt x="2503" y="1304"/>
                  </a:lnTo>
                  <a:lnTo>
                    <a:pt x="2511" y="1306"/>
                  </a:lnTo>
                  <a:lnTo>
                    <a:pt x="2521" y="1314"/>
                  </a:lnTo>
                  <a:lnTo>
                    <a:pt x="2531" y="1329"/>
                  </a:lnTo>
                  <a:lnTo>
                    <a:pt x="2536" y="1346"/>
                  </a:lnTo>
                  <a:lnTo>
                    <a:pt x="2540" y="1354"/>
                  </a:lnTo>
                  <a:lnTo>
                    <a:pt x="2541" y="1356"/>
                  </a:lnTo>
                  <a:lnTo>
                    <a:pt x="2546" y="1361"/>
                  </a:lnTo>
                  <a:lnTo>
                    <a:pt x="2553" y="1368"/>
                  </a:lnTo>
                  <a:lnTo>
                    <a:pt x="2561" y="1378"/>
                  </a:lnTo>
                  <a:lnTo>
                    <a:pt x="2571" y="1388"/>
                  </a:lnTo>
                  <a:lnTo>
                    <a:pt x="2583" y="1401"/>
                  </a:lnTo>
                  <a:lnTo>
                    <a:pt x="2595" y="1414"/>
                  </a:lnTo>
                  <a:lnTo>
                    <a:pt x="2606" y="1428"/>
                  </a:lnTo>
                  <a:lnTo>
                    <a:pt x="2618" y="1443"/>
                  </a:lnTo>
                  <a:lnTo>
                    <a:pt x="2631" y="1458"/>
                  </a:lnTo>
                  <a:lnTo>
                    <a:pt x="2645" y="1473"/>
                  </a:lnTo>
                  <a:lnTo>
                    <a:pt x="2658" y="1488"/>
                  </a:lnTo>
                  <a:lnTo>
                    <a:pt x="2670" y="1501"/>
                  </a:lnTo>
                  <a:lnTo>
                    <a:pt x="2680" y="1511"/>
                  </a:lnTo>
                  <a:lnTo>
                    <a:pt x="2688" y="1521"/>
                  </a:lnTo>
                  <a:lnTo>
                    <a:pt x="2691" y="1528"/>
                  </a:lnTo>
                  <a:lnTo>
                    <a:pt x="2701" y="1533"/>
                  </a:lnTo>
                  <a:lnTo>
                    <a:pt x="2723" y="1538"/>
                  </a:lnTo>
                  <a:lnTo>
                    <a:pt x="2753" y="1543"/>
                  </a:lnTo>
                  <a:lnTo>
                    <a:pt x="2790" y="1546"/>
                  </a:lnTo>
                  <a:lnTo>
                    <a:pt x="2828" y="1549"/>
                  </a:lnTo>
                  <a:lnTo>
                    <a:pt x="2863" y="1551"/>
                  </a:lnTo>
                  <a:lnTo>
                    <a:pt x="2891" y="1554"/>
                  </a:lnTo>
                  <a:lnTo>
                    <a:pt x="2910" y="1556"/>
                  </a:lnTo>
                  <a:lnTo>
                    <a:pt x="2925" y="1558"/>
                  </a:lnTo>
                  <a:lnTo>
                    <a:pt x="2945" y="1559"/>
                  </a:lnTo>
                  <a:lnTo>
                    <a:pt x="2968" y="1561"/>
                  </a:lnTo>
                  <a:lnTo>
                    <a:pt x="2992" y="1563"/>
                  </a:lnTo>
                  <a:lnTo>
                    <a:pt x="3013" y="1566"/>
                  </a:lnTo>
                  <a:lnTo>
                    <a:pt x="3033" y="1568"/>
                  </a:lnTo>
                  <a:lnTo>
                    <a:pt x="3048" y="1569"/>
                  </a:lnTo>
                  <a:lnTo>
                    <a:pt x="3057" y="1571"/>
                  </a:lnTo>
                  <a:lnTo>
                    <a:pt x="3070" y="1569"/>
                  </a:lnTo>
                  <a:lnTo>
                    <a:pt x="3083" y="1563"/>
                  </a:lnTo>
                  <a:lnTo>
                    <a:pt x="3095" y="1554"/>
                  </a:lnTo>
                  <a:lnTo>
                    <a:pt x="3100" y="1551"/>
                  </a:lnTo>
                  <a:lnTo>
                    <a:pt x="3102" y="1553"/>
                  </a:lnTo>
                  <a:lnTo>
                    <a:pt x="3105" y="1556"/>
                  </a:lnTo>
                  <a:lnTo>
                    <a:pt x="3112" y="1561"/>
                  </a:lnTo>
                  <a:lnTo>
                    <a:pt x="3120" y="1568"/>
                  </a:lnTo>
                  <a:lnTo>
                    <a:pt x="3130" y="1576"/>
                  </a:lnTo>
                  <a:lnTo>
                    <a:pt x="3140" y="1586"/>
                  </a:lnTo>
                  <a:lnTo>
                    <a:pt x="3152" y="1598"/>
                  </a:lnTo>
                  <a:lnTo>
                    <a:pt x="3162" y="1609"/>
                  </a:lnTo>
                  <a:lnTo>
                    <a:pt x="3172" y="1624"/>
                  </a:lnTo>
                  <a:lnTo>
                    <a:pt x="3180" y="1638"/>
                  </a:lnTo>
                  <a:lnTo>
                    <a:pt x="3183" y="1653"/>
                  </a:lnTo>
                  <a:lnTo>
                    <a:pt x="3185" y="1668"/>
                  </a:lnTo>
                  <a:lnTo>
                    <a:pt x="3185" y="1678"/>
                  </a:lnTo>
                  <a:lnTo>
                    <a:pt x="3183" y="1688"/>
                  </a:lnTo>
                  <a:lnTo>
                    <a:pt x="3180" y="1696"/>
                  </a:lnTo>
                  <a:lnTo>
                    <a:pt x="3175" y="1704"/>
                  </a:lnTo>
                  <a:lnTo>
                    <a:pt x="3168" y="1724"/>
                  </a:lnTo>
                  <a:lnTo>
                    <a:pt x="3168" y="1748"/>
                  </a:lnTo>
                  <a:lnTo>
                    <a:pt x="3168" y="1771"/>
                  </a:lnTo>
                  <a:lnTo>
                    <a:pt x="3167" y="1795"/>
                  </a:lnTo>
                  <a:lnTo>
                    <a:pt x="3162" y="1815"/>
                  </a:lnTo>
                  <a:lnTo>
                    <a:pt x="3153" y="1835"/>
                  </a:lnTo>
                  <a:lnTo>
                    <a:pt x="3145" y="1851"/>
                  </a:lnTo>
                  <a:lnTo>
                    <a:pt x="3138" y="1870"/>
                  </a:lnTo>
                  <a:lnTo>
                    <a:pt x="3132" y="1890"/>
                  </a:lnTo>
                  <a:lnTo>
                    <a:pt x="3125" y="1913"/>
                  </a:lnTo>
                  <a:lnTo>
                    <a:pt x="3120" y="1933"/>
                  </a:lnTo>
                  <a:lnTo>
                    <a:pt x="3118" y="1951"/>
                  </a:lnTo>
                  <a:lnTo>
                    <a:pt x="3117" y="1965"/>
                  </a:lnTo>
                  <a:lnTo>
                    <a:pt x="3115" y="1976"/>
                  </a:lnTo>
                  <a:lnTo>
                    <a:pt x="3108" y="1986"/>
                  </a:lnTo>
                  <a:lnTo>
                    <a:pt x="3100" y="1993"/>
                  </a:lnTo>
                  <a:lnTo>
                    <a:pt x="3093" y="1996"/>
                  </a:lnTo>
                  <a:lnTo>
                    <a:pt x="3078" y="2003"/>
                  </a:lnTo>
                  <a:lnTo>
                    <a:pt x="3057" y="2013"/>
                  </a:lnTo>
                  <a:lnTo>
                    <a:pt x="3028" y="2026"/>
                  </a:lnTo>
                  <a:lnTo>
                    <a:pt x="2997" y="2040"/>
                  </a:lnTo>
                  <a:lnTo>
                    <a:pt x="2962" y="2056"/>
                  </a:lnTo>
                  <a:lnTo>
                    <a:pt x="2923" y="2073"/>
                  </a:lnTo>
                  <a:lnTo>
                    <a:pt x="2885" y="2090"/>
                  </a:lnTo>
                  <a:lnTo>
                    <a:pt x="2845" y="2108"/>
                  </a:lnTo>
                  <a:lnTo>
                    <a:pt x="2806" y="2125"/>
                  </a:lnTo>
                  <a:lnTo>
                    <a:pt x="2770" y="2141"/>
                  </a:lnTo>
                  <a:lnTo>
                    <a:pt x="2736" y="2155"/>
                  </a:lnTo>
                  <a:lnTo>
                    <a:pt x="2708" y="2168"/>
                  </a:lnTo>
                  <a:lnTo>
                    <a:pt x="2685" y="2180"/>
                  </a:lnTo>
                  <a:lnTo>
                    <a:pt x="2668" y="2188"/>
                  </a:lnTo>
                  <a:lnTo>
                    <a:pt x="2658" y="2193"/>
                  </a:lnTo>
                  <a:lnTo>
                    <a:pt x="2645" y="2200"/>
                  </a:lnTo>
                  <a:lnTo>
                    <a:pt x="2628" y="2205"/>
                  </a:lnTo>
                  <a:lnTo>
                    <a:pt x="2608" y="2208"/>
                  </a:lnTo>
                  <a:lnTo>
                    <a:pt x="2586" y="2211"/>
                  </a:lnTo>
                  <a:lnTo>
                    <a:pt x="2561" y="2215"/>
                  </a:lnTo>
                  <a:lnTo>
                    <a:pt x="2535" y="2220"/>
                  </a:lnTo>
                  <a:lnTo>
                    <a:pt x="2508" y="2225"/>
                  </a:lnTo>
                  <a:lnTo>
                    <a:pt x="2481" y="2231"/>
                  </a:lnTo>
                  <a:lnTo>
                    <a:pt x="2466" y="2235"/>
                  </a:lnTo>
                  <a:lnTo>
                    <a:pt x="2446" y="2240"/>
                  </a:lnTo>
                  <a:lnTo>
                    <a:pt x="2425" y="2245"/>
                  </a:lnTo>
                  <a:lnTo>
                    <a:pt x="2398" y="2252"/>
                  </a:lnTo>
                  <a:lnTo>
                    <a:pt x="2371" y="2258"/>
                  </a:lnTo>
                  <a:lnTo>
                    <a:pt x="2343" y="2265"/>
                  </a:lnTo>
                  <a:lnTo>
                    <a:pt x="2313" y="2272"/>
                  </a:lnTo>
                  <a:lnTo>
                    <a:pt x="2283" y="2278"/>
                  </a:lnTo>
                  <a:lnTo>
                    <a:pt x="2253" y="2285"/>
                  </a:lnTo>
                  <a:lnTo>
                    <a:pt x="2224" y="2293"/>
                  </a:lnTo>
                  <a:lnTo>
                    <a:pt x="2198" y="2300"/>
                  </a:lnTo>
                  <a:lnTo>
                    <a:pt x="2173" y="2307"/>
                  </a:lnTo>
                  <a:lnTo>
                    <a:pt x="2151" y="2312"/>
                  </a:lnTo>
                  <a:lnTo>
                    <a:pt x="2134" y="2318"/>
                  </a:lnTo>
                  <a:lnTo>
                    <a:pt x="2119" y="2323"/>
                  </a:lnTo>
                  <a:lnTo>
                    <a:pt x="2111" y="2327"/>
                  </a:lnTo>
                  <a:lnTo>
                    <a:pt x="2098" y="2333"/>
                  </a:lnTo>
                  <a:lnTo>
                    <a:pt x="2086" y="2338"/>
                  </a:lnTo>
                  <a:lnTo>
                    <a:pt x="2071" y="2347"/>
                  </a:lnTo>
                  <a:lnTo>
                    <a:pt x="2058" y="2353"/>
                  </a:lnTo>
                  <a:lnTo>
                    <a:pt x="2043" y="2365"/>
                  </a:lnTo>
                  <a:lnTo>
                    <a:pt x="2028" y="2378"/>
                  </a:lnTo>
                  <a:lnTo>
                    <a:pt x="2011" y="2398"/>
                  </a:lnTo>
                  <a:lnTo>
                    <a:pt x="1993" y="2422"/>
                  </a:lnTo>
                  <a:lnTo>
                    <a:pt x="1976" y="2447"/>
                  </a:lnTo>
                  <a:lnTo>
                    <a:pt x="1961" y="2470"/>
                  </a:lnTo>
                  <a:lnTo>
                    <a:pt x="1946" y="2492"/>
                  </a:lnTo>
                  <a:lnTo>
                    <a:pt x="1933" y="2512"/>
                  </a:lnTo>
                  <a:lnTo>
                    <a:pt x="1923" y="2528"/>
                  </a:lnTo>
                  <a:lnTo>
                    <a:pt x="1913" y="2542"/>
                  </a:lnTo>
                  <a:lnTo>
                    <a:pt x="1904" y="2552"/>
                  </a:lnTo>
                  <a:lnTo>
                    <a:pt x="1898" y="2558"/>
                  </a:lnTo>
                  <a:lnTo>
                    <a:pt x="1891" y="2563"/>
                  </a:lnTo>
                  <a:lnTo>
                    <a:pt x="1884" y="2568"/>
                  </a:lnTo>
                  <a:lnTo>
                    <a:pt x="1874" y="2573"/>
                  </a:lnTo>
                  <a:lnTo>
                    <a:pt x="1864" y="2575"/>
                  </a:lnTo>
                  <a:lnTo>
                    <a:pt x="1853" y="2577"/>
                  </a:lnTo>
                  <a:lnTo>
                    <a:pt x="1843" y="2577"/>
                  </a:lnTo>
                  <a:lnTo>
                    <a:pt x="1833" y="2573"/>
                  </a:lnTo>
                  <a:lnTo>
                    <a:pt x="1823" y="2568"/>
                  </a:lnTo>
                  <a:lnTo>
                    <a:pt x="1814" y="2562"/>
                  </a:lnTo>
                  <a:lnTo>
                    <a:pt x="1806" y="2553"/>
                  </a:lnTo>
                  <a:lnTo>
                    <a:pt x="1799" y="2547"/>
                  </a:lnTo>
                  <a:lnTo>
                    <a:pt x="1794" y="2538"/>
                  </a:lnTo>
                  <a:lnTo>
                    <a:pt x="1787" y="2533"/>
                  </a:lnTo>
                  <a:lnTo>
                    <a:pt x="1781" y="2530"/>
                  </a:lnTo>
                  <a:lnTo>
                    <a:pt x="1772" y="2528"/>
                  </a:lnTo>
                  <a:lnTo>
                    <a:pt x="1764" y="2530"/>
                  </a:lnTo>
                  <a:lnTo>
                    <a:pt x="1752" y="2533"/>
                  </a:lnTo>
                  <a:lnTo>
                    <a:pt x="1739" y="2535"/>
                  </a:lnTo>
                  <a:lnTo>
                    <a:pt x="1722" y="2535"/>
                  </a:lnTo>
                  <a:lnTo>
                    <a:pt x="1704" y="2535"/>
                  </a:lnTo>
                  <a:lnTo>
                    <a:pt x="1684" y="2535"/>
                  </a:lnTo>
                  <a:lnTo>
                    <a:pt x="1666" y="2533"/>
                  </a:lnTo>
                  <a:lnTo>
                    <a:pt x="1647" y="2532"/>
                  </a:lnTo>
                  <a:lnTo>
                    <a:pt x="1632" y="2530"/>
                  </a:lnTo>
                  <a:lnTo>
                    <a:pt x="1617" y="2528"/>
                  </a:lnTo>
                  <a:lnTo>
                    <a:pt x="1602" y="2525"/>
                  </a:lnTo>
                  <a:lnTo>
                    <a:pt x="1589" y="2520"/>
                  </a:lnTo>
                  <a:lnTo>
                    <a:pt x="1574" y="2517"/>
                  </a:lnTo>
                  <a:lnTo>
                    <a:pt x="1561" y="2513"/>
                  </a:lnTo>
                  <a:lnTo>
                    <a:pt x="1549" y="2510"/>
                  </a:lnTo>
                  <a:lnTo>
                    <a:pt x="1537" y="2507"/>
                  </a:lnTo>
                  <a:lnTo>
                    <a:pt x="1527" y="2507"/>
                  </a:lnTo>
                  <a:lnTo>
                    <a:pt x="1514" y="2507"/>
                  </a:lnTo>
                  <a:lnTo>
                    <a:pt x="1492" y="2507"/>
                  </a:lnTo>
                  <a:lnTo>
                    <a:pt x="1466" y="2508"/>
                  </a:lnTo>
                  <a:lnTo>
                    <a:pt x="1436" y="2508"/>
                  </a:lnTo>
                  <a:lnTo>
                    <a:pt x="1409" y="2510"/>
                  </a:lnTo>
                  <a:lnTo>
                    <a:pt x="1386" y="2512"/>
                  </a:lnTo>
                  <a:lnTo>
                    <a:pt x="1369" y="2512"/>
                  </a:lnTo>
                  <a:lnTo>
                    <a:pt x="1362" y="2512"/>
                  </a:lnTo>
                  <a:lnTo>
                    <a:pt x="1361" y="2513"/>
                  </a:lnTo>
                  <a:lnTo>
                    <a:pt x="1356" y="2515"/>
                  </a:lnTo>
                  <a:lnTo>
                    <a:pt x="1349" y="2518"/>
                  </a:lnTo>
                  <a:lnTo>
                    <a:pt x="1339" y="2520"/>
                  </a:lnTo>
                  <a:lnTo>
                    <a:pt x="1329" y="2522"/>
                  </a:lnTo>
                  <a:lnTo>
                    <a:pt x="1317" y="2522"/>
                  </a:lnTo>
                  <a:lnTo>
                    <a:pt x="1304" y="2518"/>
                  </a:lnTo>
                  <a:lnTo>
                    <a:pt x="1292" y="2512"/>
                  </a:lnTo>
                  <a:lnTo>
                    <a:pt x="1281" y="2503"/>
                  </a:lnTo>
                  <a:lnTo>
                    <a:pt x="1272" y="2497"/>
                  </a:lnTo>
                  <a:lnTo>
                    <a:pt x="1266" y="2490"/>
                  </a:lnTo>
                  <a:lnTo>
                    <a:pt x="1261" y="2485"/>
                  </a:lnTo>
                  <a:lnTo>
                    <a:pt x="1256" y="2482"/>
                  </a:lnTo>
                  <a:lnTo>
                    <a:pt x="1250" y="2480"/>
                  </a:lnTo>
                  <a:lnTo>
                    <a:pt x="1245" y="2480"/>
                  </a:lnTo>
                  <a:lnTo>
                    <a:pt x="1239" y="2483"/>
                  </a:lnTo>
                  <a:lnTo>
                    <a:pt x="1232" y="2490"/>
                  </a:lnTo>
                  <a:lnTo>
                    <a:pt x="1235" y="2498"/>
                  </a:lnTo>
                  <a:lnTo>
                    <a:pt x="1240" y="2510"/>
                  </a:lnTo>
                  <a:lnTo>
                    <a:pt x="1239" y="2525"/>
                  </a:lnTo>
                  <a:lnTo>
                    <a:pt x="1234" y="2545"/>
                  </a:lnTo>
                  <a:lnTo>
                    <a:pt x="1232" y="2567"/>
                  </a:lnTo>
                  <a:lnTo>
                    <a:pt x="1234" y="2587"/>
                  </a:lnTo>
                  <a:lnTo>
                    <a:pt x="1234" y="2602"/>
                  </a:lnTo>
                  <a:lnTo>
                    <a:pt x="1230" y="2615"/>
                  </a:lnTo>
                  <a:lnTo>
                    <a:pt x="1225" y="2630"/>
                  </a:lnTo>
                  <a:lnTo>
                    <a:pt x="1219" y="2643"/>
                  </a:lnTo>
                  <a:lnTo>
                    <a:pt x="1215" y="2648"/>
                  </a:lnTo>
                  <a:lnTo>
                    <a:pt x="1177" y="2678"/>
                  </a:lnTo>
                  <a:lnTo>
                    <a:pt x="1175" y="2672"/>
                  </a:lnTo>
                  <a:lnTo>
                    <a:pt x="1170" y="2657"/>
                  </a:lnTo>
                  <a:lnTo>
                    <a:pt x="1167" y="2640"/>
                  </a:lnTo>
                  <a:lnTo>
                    <a:pt x="1167" y="2625"/>
                  </a:lnTo>
                  <a:lnTo>
                    <a:pt x="1167" y="2613"/>
                  </a:lnTo>
                  <a:lnTo>
                    <a:pt x="1164" y="2598"/>
                  </a:lnTo>
                  <a:lnTo>
                    <a:pt x="1154" y="2583"/>
                  </a:lnTo>
                  <a:lnTo>
                    <a:pt x="1144" y="2568"/>
                  </a:lnTo>
                  <a:lnTo>
                    <a:pt x="1134" y="2555"/>
                  </a:lnTo>
                  <a:lnTo>
                    <a:pt x="1124" y="2543"/>
                  </a:lnTo>
                  <a:lnTo>
                    <a:pt x="1115" y="2532"/>
                  </a:lnTo>
                  <a:lnTo>
                    <a:pt x="1110" y="2522"/>
                  </a:lnTo>
                  <a:lnTo>
                    <a:pt x="1107" y="2508"/>
                  </a:lnTo>
                  <a:lnTo>
                    <a:pt x="1104" y="2492"/>
                  </a:lnTo>
                  <a:lnTo>
                    <a:pt x="1095" y="2475"/>
                  </a:lnTo>
                  <a:lnTo>
                    <a:pt x="1082" y="2458"/>
                  </a:lnTo>
                  <a:lnTo>
                    <a:pt x="1072" y="2450"/>
                  </a:lnTo>
                  <a:lnTo>
                    <a:pt x="1059" y="2437"/>
                  </a:lnTo>
                  <a:lnTo>
                    <a:pt x="1044" y="2423"/>
                  </a:lnTo>
                  <a:lnTo>
                    <a:pt x="1029" y="2405"/>
                  </a:lnTo>
                  <a:lnTo>
                    <a:pt x="1014" y="2387"/>
                  </a:lnTo>
                  <a:lnTo>
                    <a:pt x="999" y="2368"/>
                  </a:lnTo>
                  <a:lnTo>
                    <a:pt x="987" y="2350"/>
                  </a:lnTo>
                  <a:lnTo>
                    <a:pt x="979" y="2332"/>
                  </a:lnTo>
                  <a:lnTo>
                    <a:pt x="964" y="2302"/>
                  </a:lnTo>
                  <a:lnTo>
                    <a:pt x="949" y="2280"/>
                  </a:lnTo>
                  <a:lnTo>
                    <a:pt x="937" y="2263"/>
                  </a:lnTo>
                  <a:lnTo>
                    <a:pt x="930" y="2245"/>
                  </a:lnTo>
                  <a:lnTo>
                    <a:pt x="927" y="2231"/>
                  </a:lnTo>
                  <a:lnTo>
                    <a:pt x="920" y="2211"/>
                  </a:lnTo>
                  <a:lnTo>
                    <a:pt x="910" y="2190"/>
                  </a:lnTo>
                  <a:lnTo>
                    <a:pt x="900" y="2166"/>
                  </a:lnTo>
                  <a:lnTo>
                    <a:pt x="890" y="2143"/>
                  </a:lnTo>
                  <a:lnTo>
                    <a:pt x="880" y="2123"/>
                  </a:lnTo>
                  <a:lnTo>
                    <a:pt x="870" y="2108"/>
                  </a:lnTo>
                  <a:lnTo>
                    <a:pt x="864" y="2098"/>
                  </a:lnTo>
                  <a:lnTo>
                    <a:pt x="854" y="2085"/>
                  </a:lnTo>
                  <a:lnTo>
                    <a:pt x="845" y="2071"/>
                  </a:lnTo>
                  <a:lnTo>
                    <a:pt x="834" y="2056"/>
                  </a:lnTo>
                  <a:lnTo>
                    <a:pt x="822" y="2041"/>
                  </a:lnTo>
                  <a:lnTo>
                    <a:pt x="814" y="2033"/>
                  </a:lnTo>
                  <a:lnTo>
                    <a:pt x="802" y="2025"/>
                  </a:lnTo>
                  <a:lnTo>
                    <a:pt x="790" y="2018"/>
                  </a:lnTo>
                  <a:lnTo>
                    <a:pt x="779" y="2010"/>
                  </a:lnTo>
                  <a:lnTo>
                    <a:pt x="765" y="2003"/>
                  </a:lnTo>
                  <a:lnTo>
                    <a:pt x="752" y="1998"/>
                  </a:lnTo>
                  <a:lnTo>
                    <a:pt x="740" y="1995"/>
                  </a:lnTo>
                  <a:lnTo>
                    <a:pt x="730" y="1993"/>
                  </a:lnTo>
                  <a:lnTo>
                    <a:pt x="722" y="1991"/>
                  </a:lnTo>
                  <a:lnTo>
                    <a:pt x="717" y="1988"/>
                  </a:lnTo>
                  <a:lnTo>
                    <a:pt x="710" y="1983"/>
                  </a:lnTo>
                  <a:lnTo>
                    <a:pt x="705" y="1975"/>
                  </a:lnTo>
                  <a:lnTo>
                    <a:pt x="700" y="1966"/>
                  </a:lnTo>
                  <a:lnTo>
                    <a:pt x="693" y="1953"/>
                  </a:lnTo>
                  <a:lnTo>
                    <a:pt x="685" y="1940"/>
                  </a:lnTo>
                  <a:lnTo>
                    <a:pt x="673" y="1923"/>
                  </a:lnTo>
                  <a:lnTo>
                    <a:pt x="662" y="1905"/>
                  </a:lnTo>
                  <a:lnTo>
                    <a:pt x="652" y="1886"/>
                  </a:lnTo>
                  <a:lnTo>
                    <a:pt x="642" y="1868"/>
                  </a:lnTo>
                  <a:lnTo>
                    <a:pt x="635" y="1851"/>
                  </a:lnTo>
                  <a:lnTo>
                    <a:pt x="628" y="1833"/>
                  </a:lnTo>
                  <a:lnTo>
                    <a:pt x="623" y="1818"/>
                  </a:lnTo>
                  <a:lnTo>
                    <a:pt x="620" y="1803"/>
                  </a:lnTo>
                  <a:lnTo>
                    <a:pt x="617" y="1790"/>
                  </a:lnTo>
                  <a:lnTo>
                    <a:pt x="612" y="1765"/>
                  </a:lnTo>
                  <a:lnTo>
                    <a:pt x="603" y="1741"/>
                  </a:lnTo>
                  <a:lnTo>
                    <a:pt x="597" y="1724"/>
                  </a:lnTo>
                  <a:lnTo>
                    <a:pt x="593" y="1718"/>
                  </a:lnTo>
                  <a:lnTo>
                    <a:pt x="600" y="1706"/>
                  </a:lnTo>
                  <a:lnTo>
                    <a:pt x="610" y="1676"/>
                  </a:lnTo>
                  <a:lnTo>
                    <a:pt x="617" y="1636"/>
                  </a:lnTo>
                  <a:lnTo>
                    <a:pt x="607" y="1594"/>
                  </a:lnTo>
                  <a:lnTo>
                    <a:pt x="590" y="1559"/>
                  </a:lnTo>
                  <a:lnTo>
                    <a:pt x="582" y="1531"/>
                  </a:lnTo>
                  <a:lnTo>
                    <a:pt x="573" y="1503"/>
                  </a:lnTo>
                  <a:lnTo>
                    <a:pt x="560" y="1471"/>
                  </a:lnTo>
                  <a:lnTo>
                    <a:pt x="552" y="1454"/>
                  </a:lnTo>
                  <a:lnTo>
                    <a:pt x="547" y="1439"/>
                  </a:lnTo>
                  <a:lnTo>
                    <a:pt x="542" y="1426"/>
                  </a:lnTo>
                  <a:lnTo>
                    <a:pt x="537" y="1413"/>
                  </a:lnTo>
                  <a:lnTo>
                    <a:pt x="532" y="1401"/>
                  </a:lnTo>
                  <a:lnTo>
                    <a:pt x="525" y="1393"/>
                  </a:lnTo>
                  <a:lnTo>
                    <a:pt x="518" y="1383"/>
                  </a:lnTo>
                  <a:lnTo>
                    <a:pt x="508" y="1376"/>
                  </a:lnTo>
                  <a:lnTo>
                    <a:pt x="497" y="1369"/>
                  </a:lnTo>
                  <a:lnTo>
                    <a:pt x="487" y="1361"/>
                  </a:lnTo>
                  <a:lnTo>
                    <a:pt x="475" y="1354"/>
                  </a:lnTo>
                  <a:lnTo>
                    <a:pt x="463" y="1346"/>
                  </a:lnTo>
                  <a:lnTo>
                    <a:pt x="452" y="1338"/>
                  </a:lnTo>
                  <a:lnTo>
                    <a:pt x="440" y="1329"/>
                  </a:lnTo>
                  <a:lnTo>
                    <a:pt x="427" y="1323"/>
                  </a:lnTo>
                  <a:lnTo>
                    <a:pt x="413" y="1316"/>
                  </a:lnTo>
                  <a:lnTo>
                    <a:pt x="392" y="1303"/>
                  </a:lnTo>
                  <a:lnTo>
                    <a:pt x="382" y="1286"/>
                  </a:lnTo>
                  <a:lnTo>
                    <a:pt x="375" y="1268"/>
                  </a:lnTo>
                  <a:lnTo>
                    <a:pt x="365" y="1249"/>
                  </a:lnTo>
                  <a:lnTo>
                    <a:pt x="355" y="1232"/>
                  </a:lnTo>
                  <a:lnTo>
                    <a:pt x="348" y="1219"/>
                  </a:lnTo>
                  <a:lnTo>
                    <a:pt x="347" y="1209"/>
                  </a:lnTo>
                  <a:lnTo>
                    <a:pt x="347" y="1206"/>
                  </a:lnTo>
                  <a:lnTo>
                    <a:pt x="348" y="1206"/>
                  </a:lnTo>
                  <a:lnTo>
                    <a:pt x="353" y="1204"/>
                  </a:lnTo>
                  <a:lnTo>
                    <a:pt x="360" y="1201"/>
                  </a:lnTo>
                  <a:lnTo>
                    <a:pt x="367" y="1194"/>
                  </a:lnTo>
                  <a:lnTo>
                    <a:pt x="370" y="1187"/>
                  </a:lnTo>
                  <a:lnTo>
                    <a:pt x="370" y="1176"/>
                  </a:lnTo>
                  <a:lnTo>
                    <a:pt x="365" y="1162"/>
                  </a:lnTo>
                  <a:lnTo>
                    <a:pt x="352" y="1144"/>
                  </a:lnTo>
                  <a:lnTo>
                    <a:pt x="330" y="1122"/>
                  </a:lnTo>
                  <a:lnTo>
                    <a:pt x="327" y="1122"/>
                  </a:lnTo>
                  <a:lnTo>
                    <a:pt x="330" y="1126"/>
                  </a:lnTo>
                  <a:lnTo>
                    <a:pt x="327" y="1112"/>
                  </a:lnTo>
                  <a:lnTo>
                    <a:pt x="320" y="1091"/>
                  </a:lnTo>
                  <a:lnTo>
                    <a:pt x="315" y="1076"/>
                  </a:lnTo>
                  <a:lnTo>
                    <a:pt x="308" y="1066"/>
                  </a:lnTo>
                  <a:lnTo>
                    <a:pt x="293" y="1054"/>
                  </a:lnTo>
                  <a:lnTo>
                    <a:pt x="283" y="1039"/>
                  </a:lnTo>
                  <a:lnTo>
                    <a:pt x="285" y="1024"/>
                  </a:lnTo>
                  <a:lnTo>
                    <a:pt x="287" y="1011"/>
                  </a:lnTo>
                  <a:lnTo>
                    <a:pt x="275" y="997"/>
                  </a:lnTo>
                  <a:lnTo>
                    <a:pt x="257" y="986"/>
                  </a:lnTo>
                  <a:lnTo>
                    <a:pt x="243" y="971"/>
                  </a:lnTo>
                  <a:lnTo>
                    <a:pt x="235" y="954"/>
                  </a:lnTo>
                  <a:lnTo>
                    <a:pt x="232" y="936"/>
                  </a:lnTo>
                  <a:lnTo>
                    <a:pt x="228" y="916"/>
                  </a:lnTo>
                  <a:lnTo>
                    <a:pt x="218" y="889"/>
                  </a:lnTo>
                  <a:lnTo>
                    <a:pt x="205" y="862"/>
                  </a:lnTo>
                  <a:lnTo>
                    <a:pt x="185" y="836"/>
                  </a:lnTo>
                  <a:lnTo>
                    <a:pt x="172" y="814"/>
                  </a:lnTo>
                  <a:lnTo>
                    <a:pt x="168" y="796"/>
                  </a:lnTo>
                  <a:lnTo>
                    <a:pt x="167" y="782"/>
                  </a:lnTo>
                  <a:lnTo>
                    <a:pt x="157" y="774"/>
                  </a:lnTo>
                  <a:lnTo>
                    <a:pt x="145" y="766"/>
                  </a:lnTo>
                  <a:lnTo>
                    <a:pt x="140" y="754"/>
                  </a:lnTo>
                  <a:lnTo>
                    <a:pt x="133" y="739"/>
                  </a:lnTo>
                  <a:lnTo>
                    <a:pt x="118" y="722"/>
                  </a:lnTo>
                  <a:lnTo>
                    <a:pt x="100" y="700"/>
                  </a:lnTo>
                  <a:lnTo>
                    <a:pt x="86" y="674"/>
                  </a:lnTo>
                  <a:lnTo>
                    <a:pt x="78" y="652"/>
                  </a:lnTo>
                  <a:lnTo>
                    <a:pt x="75" y="642"/>
                  </a:lnTo>
                  <a:lnTo>
                    <a:pt x="70" y="642"/>
                  </a:lnTo>
                  <a:lnTo>
                    <a:pt x="60" y="642"/>
                  </a:lnTo>
                  <a:lnTo>
                    <a:pt x="45" y="642"/>
                  </a:lnTo>
                  <a:lnTo>
                    <a:pt x="33" y="642"/>
                  </a:lnTo>
                  <a:lnTo>
                    <a:pt x="21" y="642"/>
                  </a:lnTo>
                  <a:lnTo>
                    <a:pt x="11" y="644"/>
                  </a:lnTo>
                  <a:lnTo>
                    <a:pt x="3" y="645"/>
                  </a:lnTo>
                  <a:lnTo>
                    <a:pt x="0" y="645"/>
                  </a:lnTo>
                  <a:lnTo>
                    <a:pt x="1" y="642"/>
                  </a:lnTo>
                  <a:lnTo>
                    <a:pt x="5" y="632"/>
                  </a:lnTo>
                  <a:lnTo>
                    <a:pt x="8" y="620"/>
                  </a:lnTo>
                  <a:lnTo>
                    <a:pt x="13" y="609"/>
                  </a:lnTo>
                  <a:lnTo>
                    <a:pt x="20" y="592"/>
                  </a:lnTo>
                  <a:lnTo>
                    <a:pt x="28" y="569"/>
                  </a:lnTo>
                  <a:lnTo>
                    <a:pt x="35" y="542"/>
                  </a:lnTo>
                  <a:lnTo>
                    <a:pt x="38" y="517"/>
                  </a:lnTo>
                  <a:lnTo>
                    <a:pt x="40" y="500"/>
                  </a:lnTo>
                  <a:lnTo>
                    <a:pt x="43" y="489"/>
                  </a:lnTo>
                  <a:lnTo>
                    <a:pt x="50" y="480"/>
                  </a:lnTo>
                  <a:lnTo>
                    <a:pt x="56" y="470"/>
                  </a:lnTo>
                  <a:lnTo>
                    <a:pt x="61" y="457"/>
                  </a:lnTo>
                  <a:lnTo>
                    <a:pt x="65" y="442"/>
                  </a:lnTo>
                  <a:lnTo>
                    <a:pt x="66" y="429"/>
                  </a:lnTo>
                  <a:lnTo>
                    <a:pt x="66" y="424"/>
                  </a:lnTo>
                  <a:lnTo>
                    <a:pt x="232" y="465"/>
                  </a:lnTo>
                  <a:lnTo>
                    <a:pt x="235" y="464"/>
                  </a:lnTo>
                  <a:lnTo>
                    <a:pt x="243" y="457"/>
                  </a:lnTo>
                  <a:lnTo>
                    <a:pt x="257" y="450"/>
                  </a:lnTo>
                  <a:lnTo>
                    <a:pt x="270" y="439"/>
                  </a:lnTo>
                  <a:lnTo>
                    <a:pt x="285" y="429"/>
                  </a:lnTo>
                  <a:lnTo>
                    <a:pt x="298" y="417"/>
                  </a:lnTo>
                  <a:lnTo>
                    <a:pt x="308" y="407"/>
                  </a:lnTo>
                  <a:lnTo>
                    <a:pt x="313" y="399"/>
                  </a:lnTo>
                  <a:lnTo>
                    <a:pt x="318" y="384"/>
                  </a:lnTo>
                  <a:lnTo>
                    <a:pt x="325" y="369"/>
                  </a:lnTo>
                  <a:lnTo>
                    <a:pt x="330" y="357"/>
                  </a:lnTo>
                  <a:lnTo>
                    <a:pt x="332" y="352"/>
                  </a:lnTo>
                  <a:lnTo>
                    <a:pt x="335" y="352"/>
                  </a:lnTo>
                  <a:lnTo>
                    <a:pt x="342" y="352"/>
                  </a:lnTo>
                  <a:lnTo>
                    <a:pt x="353" y="352"/>
                  </a:lnTo>
                  <a:lnTo>
                    <a:pt x="367" y="350"/>
                  </a:lnTo>
                  <a:lnTo>
                    <a:pt x="382" y="350"/>
                  </a:lnTo>
                  <a:lnTo>
                    <a:pt x="398" y="347"/>
                  </a:lnTo>
                  <a:lnTo>
                    <a:pt x="413" y="345"/>
                  </a:lnTo>
                  <a:lnTo>
                    <a:pt x="427" y="342"/>
                  </a:lnTo>
                  <a:lnTo>
                    <a:pt x="438" y="337"/>
                  </a:lnTo>
                  <a:lnTo>
                    <a:pt x="447" y="329"/>
                  </a:lnTo>
                  <a:lnTo>
                    <a:pt x="455" y="319"/>
                  </a:lnTo>
                  <a:lnTo>
                    <a:pt x="462" y="309"/>
                  </a:lnTo>
                  <a:lnTo>
                    <a:pt x="468" y="299"/>
                  </a:lnTo>
                  <a:lnTo>
                    <a:pt x="475" y="290"/>
                  </a:lnTo>
                  <a:lnTo>
                    <a:pt x="483" y="284"/>
                  </a:lnTo>
                  <a:lnTo>
                    <a:pt x="493" y="280"/>
                  </a:lnTo>
                  <a:lnTo>
                    <a:pt x="508" y="275"/>
                  </a:lnTo>
                  <a:lnTo>
                    <a:pt x="513" y="269"/>
                  </a:lnTo>
                  <a:lnTo>
                    <a:pt x="513" y="264"/>
                  </a:lnTo>
                  <a:lnTo>
                    <a:pt x="512" y="262"/>
                  </a:lnTo>
                  <a:lnTo>
                    <a:pt x="380" y="90"/>
                  </a:lnTo>
                  <a:close/>
                </a:path>
              </a:pathLst>
            </a:custGeom>
            <a:solidFill>
              <a:srgbClr val="b2b2b2">
                <a:alpha val="30000"/>
              </a:srgbClr>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402" name="PlaceHolder 1"/>
          <p:cNvSpPr>
            <a:spLocks noGrp="1"/>
          </p:cNvSpPr>
          <p:nvPr>
            <p:ph/>
          </p:nvPr>
        </p:nvSpPr>
        <p:spPr>
          <a:xfrm>
            <a:off x="1066320" y="1371600"/>
            <a:ext cx="7239240" cy="4525920"/>
          </a:xfrm>
          <a:prstGeom prst="rect">
            <a:avLst/>
          </a:prstGeom>
          <a:noFill/>
          <a:ln w="0">
            <a:noFill/>
          </a:ln>
        </p:spPr>
        <p:txBody>
          <a:bodyPr lIns="90000" rIns="90000" tIns="46800" bIns="46800" anchor="t">
            <a:normAutofit fontScale="98000"/>
          </a:bodyPr>
          <a:p>
            <a:pPr marL="334440" indent="-334440">
              <a:lnSpc>
                <a:spcPct val="90000"/>
              </a:lnSpc>
              <a:spcBef>
                <a:spcPts val="601"/>
              </a:spcBef>
              <a:buClr>
                <a:srgbClr val="333399"/>
              </a:buClr>
              <a:buFont typeface="Albertus Medium"/>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333399"/>
                </a:solidFill>
                <a:latin typeface="Albertus Medium"/>
              </a:rPr>
              <a:t>Nanoemulsion can be used as Drug delivery system in creams to pass the lipophilic skin barrier in administering fat soluble vitamin like Vit E, K </a:t>
            </a:r>
            <a:endParaRPr b="0" lang="en-US" sz="2400" spc="-1" strike="noStrike">
              <a:solidFill>
                <a:srgbClr val="000000"/>
              </a:solidFill>
              <a:latin typeface="Arial"/>
            </a:endParaRPr>
          </a:p>
          <a:p>
            <a:pPr marL="334440" indent="0">
              <a:lnSpc>
                <a:spcPct val="9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400" spc="-1" strike="noStrike">
              <a:solidFill>
                <a:srgbClr val="000000"/>
              </a:solidFill>
              <a:latin typeface="Arial"/>
            </a:endParaRPr>
          </a:p>
          <a:p>
            <a:pPr marL="334440" indent="-334440">
              <a:lnSpc>
                <a:spcPct val="90000"/>
              </a:lnSpc>
              <a:spcBef>
                <a:spcPts val="601"/>
              </a:spcBef>
              <a:buClr>
                <a:srgbClr val="333399"/>
              </a:buClr>
              <a:buFont typeface="Albertus Medium"/>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333399"/>
                </a:solidFill>
                <a:latin typeface="Albertus Medium"/>
              </a:rPr>
              <a:t>Topical containing GABA used in cosmetic and has been studied for wrinkle reduction.</a:t>
            </a:r>
            <a:endParaRPr b="0" lang="en-US" sz="2400" spc="-1" strike="noStrike">
              <a:solidFill>
                <a:srgbClr val="000000"/>
              </a:solidFill>
              <a:latin typeface="Arial"/>
            </a:endParaRPr>
          </a:p>
          <a:p>
            <a:pPr marL="334440" indent="0">
              <a:lnSpc>
                <a:spcPct val="9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400" spc="-1" strike="noStrike">
              <a:solidFill>
                <a:srgbClr val="000000"/>
              </a:solidFill>
              <a:latin typeface="Arial"/>
            </a:endParaRPr>
          </a:p>
          <a:p>
            <a:pPr marL="334440" indent="-334440">
              <a:lnSpc>
                <a:spcPct val="90000"/>
              </a:lnSpc>
              <a:spcBef>
                <a:spcPts val="601"/>
              </a:spcBef>
              <a:buClr>
                <a:srgbClr val="333399"/>
              </a:buClr>
              <a:buFont typeface="Albertus Medium"/>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333399"/>
                </a:solidFill>
                <a:latin typeface="Albertus Medium"/>
              </a:rPr>
              <a:t>Some can be used to stabilize bioactive enzymes e.g.(transglutaminase) or deliver molecular particles (filaggrin), given a potential to treat difficult skin conditions e.g. (Atopic Eczema Ichthyosis, palmoplantar keratoderma) </a:t>
            </a:r>
            <a:endParaRPr b="0" lang="en-US" sz="2400" spc="-1" strike="noStrike">
              <a:solidFill>
                <a:srgbClr val="000000"/>
              </a:solidFill>
              <a:latin typeface="Arial"/>
            </a:endParaRPr>
          </a:p>
          <a:p>
            <a:pPr marL="334440" indent="0">
              <a:lnSpc>
                <a:spcPct val="9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000000"/>
              </a:solidFill>
              <a:latin typeface="Arial"/>
            </a:endParaRPr>
          </a:p>
        </p:txBody>
      </p:sp>
      <p:sp>
        <p:nvSpPr>
          <p:cNvPr id="403" name=""/>
          <p:cNvSpPr/>
          <p:nvPr/>
        </p:nvSpPr>
        <p:spPr>
          <a:xfrm>
            <a:off x="609480" y="6629400"/>
            <a:ext cx="8534520" cy="228600"/>
          </a:xfrm>
          <a:prstGeom prst="rect">
            <a:avLst/>
          </a:prstGeom>
          <a:solidFill>
            <a:srgbClr val="bbe0e3"/>
          </a:solidFill>
          <a:ln cap="sq"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99"/>
                </a:solidFill>
                <a:latin typeface="Albertus Medium"/>
              </a:rPr>
              <a:t>www.skinandallergy.org</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0" lang="en-US" sz="1000" spc="-1" strike="noStrike">
                <a:solidFill>
                  <a:srgbClr val="333399"/>
                </a:solidFill>
                <a:latin typeface="Albertus Medium"/>
              </a:rPr>
              <a:t>www.panarabderm.org</a:t>
            </a:r>
            <a:endParaRPr b="0" lang="en-US" sz="10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04" name="" descr=""/>
          <p:cNvPicPr/>
          <p:nvPr/>
        </p:nvPicPr>
        <p:blipFill>
          <a:blip r:embed="rId2"/>
          <a:stretch/>
        </p:blipFill>
        <p:spPr>
          <a:xfrm>
            <a:off x="8153280" y="74520"/>
            <a:ext cx="922320" cy="992160"/>
          </a:xfrm>
          <a:prstGeom prst="rect">
            <a:avLst/>
          </a:prstGeom>
          <a:ln w="0">
            <a:noFill/>
          </a:ln>
        </p:spPr>
      </p:pic>
      <p:sp>
        <p:nvSpPr>
          <p:cNvPr id="405" name=""/>
          <p:cNvSpPr/>
          <p:nvPr/>
        </p:nvSpPr>
        <p:spPr>
          <a:xfrm>
            <a:off x="1295280" y="1066680"/>
            <a:ext cx="6193080" cy="1800"/>
          </a:xfrm>
          <a:prstGeom prst="line">
            <a:avLst/>
          </a:prstGeom>
          <a:ln cap="sq" w="12600">
            <a:solidFill>
              <a:srgbClr val="b2b2b2"/>
            </a:solidFill>
            <a:miter/>
          </a:ln>
        </p:spPr>
        <p:style>
          <a:lnRef idx="0"/>
          <a:fillRef idx="0"/>
          <a:effectRef idx="0"/>
          <a:fontRef idx="minor"/>
        </p:style>
        <p:txBody>
          <a:bodyPr lIns="90000" rIns="90000" tIns="-45000" bIns="-45000" anchor="t">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406" name="" descr=""/>
          <p:cNvPicPr/>
          <p:nvPr/>
        </p:nvPicPr>
        <p:blipFill>
          <a:blip r:embed="rId3"/>
          <a:stretch/>
        </p:blipFill>
        <p:spPr>
          <a:xfrm>
            <a:off x="0" y="0"/>
            <a:ext cx="600120" cy="6858000"/>
          </a:xfrm>
          <a:prstGeom prst="rect">
            <a:avLst/>
          </a:prstGeom>
          <a:ln w="0">
            <a:noFill/>
          </a:ln>
        </p:spPr>
      </p:pic>
      <p:sp>
        <p:nvSpPr>
          <p:cNvPr id="407" name=""/>
          <p:cNvSpPr/>
          <p:nvPr/>
        </p:nvSpPr>
        <p:spPr>
          <a:xfrm>
            <a:off x="0" y="0"/>
            <a:ext cx="914400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400" spc="-1" strike="noStrike">
                <a:solidFill>
                  <a:srgbClr val="333399"/>
                </a:solidFill>
                <a:latin typeface="Albertus Medium"/>
              </a:rPr>
              <a:t>Nanotechnology in </a:t>
            </a:r>
            <a:br>
              <a:rPr sz="3400"/>
            </a:br>
            <a:r>
              <a:rPr b="1" lang="en-US" sz="3400" spc="-1" strike="noStrike">
                <a:solidFill>
                  <a:srgbClr val="333399"/>
                </a:solidFill>
                <a:latin typeface="Albertus Medium"/>
              </a:rPr>
              <a:t>Cosmetic &amp; Dermatology</a:t>
            </a:r>
            <a:endParaRPr b="0" lang="en-US" sz="3400" spc="-1" strike="noStrike">
              <a:solidFill>
                <a:srgbClr val="000000"/>
              </a:solidFill>
              <a:latin typeface="Arial"/>
            </a:endParaRPr>
          </a:p>
        </p:txBody>
      </p:sp>
      <p:grpSp>
        <p:nvGrpSpPr>
          <p:cNvPr id="408" name=""/>
          <p:cNvGrpSpPr/>
          <p:nvPr/>
        </p:nvGrpSpPr>
        <p:grpSpPr>
          <a:xfrm>
            <a:off x="2639880" y="1346040"/>
            <a:ext cx="4521240" cy="3986280"/>
            <a:chOff x="2639880" y="1346040"/>
            <a:chExt cx="4521240" cy="3986280"/>
          </a:xfrm>
        </p:grpSpPr>
        <p:sp>
          <p:nvSpPr>
            <p:cNvPr id="409" name=""/>
            <p:cNvSpPr/>
            <p:nvPr/>
          </p:nvSpPr>
          <p:spPr>
            <a:xfrm>
              <a:off x="2639880" y="2319480"/>
              <a:ext cx="1721160" cy="3012840"/>
            </a:xfrm>
            <a:custGeom>
              <a:avLst/>
              <a:gdLst/>
              <a:ahLst/>
              <a:rect l="l" t="t" r="r" b="b"/>
              <a:pathLst>
                <a:path w="1261" h="2255">
                  <a:moveTo>
                    <a:pt x="1257" y="2027"/>
                  </a:moveTo>
                  <a:lnTo>
                    <a:pt x="1257" y="2015"/>
                  </a:lnTo>
                  <a:lnTo>
                    <a:pt x="1252" y="2000"/>
                  </a:lnTo>
                  <a:lnTo>
                    <a:pt x="1244" y="1985"/>
                  </a:lnTo>
                  <a:lnTo>
                    <a:pt x="1232" y="1970"/>
                  </a:lnTo>
                  <a:lnTo>
                    <a:pt x="1222" y="1956"/>
                  </a:lnTo>
                  <a:lnTo>
                    <a:pt x="1212" y="1945"/>
                  </a:lnTo>
                  <a:lnTo>
                    <a:pt x="1204" y="1933"/>
                  </a:lnTo>
                  <a:lnTo>
                    <a:pt x="1199" y="1921"/>
                  </a:lnTo>
                  <a:lnTo>
                    <a:pt x="1197" y="1910"/>
                  </a:lnTo>
                  <a:lnTo>
                    <a:pt x="1192" y="1893"/>
                  </a:lnTo>
                  <a:lnTo>
                    <a:pt x="1186" y="1876"/>
                  </a:lnTo>
                  <a:lnTo>
                    <a:pt x="1171" y="1860"/>
                  </a:lnTo>
                  <a:lnTo>
                    <a:pt x="1161" y="1851"/>
                  </a:lnTo>
                  <a:lnTo>
                    <a:pt x="1147" y="1838"/>
                  </a:lnTo>
                  <a:lnTo>
                    <a:pt x="1132" y="1823"/>
                  </a:lnTo>
                  <a:lnTo>
                    <a:pt x="1117" y="1806"/>
                  </a:lnTo>
                  <a:lnTo>
                    <a:pt x="1102" y="1788"/>
                  </a:lnTo>
                  <a:lnTo>
                    <a:pt x="1087" y="1770"/>
                  </a:lnTo>
                  <a:lnTo>
                    <a:pt x="1076" y="1750"/>
                  </a:lnTo>
                  <a:lnTo>
                    <a:pt x="1067" y="1731"/>
                  </a:lnTo>
                  <a:lnTo>
                    <a:pt x="1052" y="1703"/>
                  </a:lnTo>
                  <a:lnTo>
                    <a:pt x="1037" y="1681"/>
                  </a:lnTo>
                  <a:lnTo>
                    <a:pt x="1026" y="1665"/>
                  </a:lnTo>
                  <a:lnTo>
                    <a:pt x="1019" y="1646"/>
                  </a:lnTo>
                  <a:lnTo>
                    <a:pt x="1016" y="1633"/>
                  </a:lnTo>
                  <a:lnTo>
                    <a:pt x="1009" y="1613"/>
                  </a:lnTo>
                  <a:lnTo>
                    <a:pt x="999" y="1591"/>
                  </a:lnTo>
                  <a:lnTo>
                    <a:pt x="989" y="1568"/>
                  </a:lnTo>
                  <a:lnTo>
                    <a:pt x="979" y="1545"/>
                  </a:lnTo>
                  <a:lnTo>
                    <a:pt x="969" y="1525"/>
                  </a:lnTo>
                  <a:lnTo>
                    <a:pt x="959" y="1508"/>
                  </a:lnTo>
                  <a:lnTo>
                    <a:pt x="952" y="1499"/>
                  </a:lnTo>
                  <a:lnTo>
                    <a:pt x="942" y="1486"/>
                  </a:lnTo>
                  <a:lnTo>
                    <a:pt x="934" y="1473"/>
                  </a:lnTo>
                  <a:lnTo>
                    <a:pt x="922" y="1458"/>
                  </a:lnTo>
                  <a:lnTo>
                    <a:pt x="911" y="1443"/>
                  </a:lnTo>
                  <a:lnTo>
                    <a:pt x="902" y="1434"/>
                  </a:lnTo>
                  <a:lnTo>
                    <a:pt x="891" y="1426"/>
                  </a:lnTo>
                  <a:lnTo>
                    <a:pt x="879" y="1419"/>
                  </a:lnTo>
                  <a:lnTo>
                    <a:pt x="867" y="1411"/>
                  </a:lnTo>
                  <a:lnTo>
                    <a:pt x="854" y="1404"/>
                  </a:lnTo>
                  <a:lnTo>
                    <a:pt x="842" y="1399"/>
                  </a:lnTo>
                  <a:lnTo>
                    <a:pt x="831" y="1396"/>
                  </a:lnTo>
                  <a:lnTo>
                    <a:pt x="820" y="1394"/>
                  </a:lnTo>
                  <a:lnTo>
                    <a:pt x="812" y="1393"/>
                  </a:lnTo>
                  <a:lnTo>
                    <a:pt x="805" y="1389"/>
                  </a:lnTo>
                  <a:lnTo>
                    <a:pt x="800" y="1384"/>
                  </a:lnTo>
                  <a:lnTo>
                    <a:pt x="794" y="1376"/>
                  </a:lnTo>
                  <a:lnTo>
                    <a:pt x="789" y="1368"/>
                  </a:lnTo>
                  <a:lnTo>
                    <a:pt x="782" y="1354"/>
                  </a:lnTo>
                  <a:lnTo>
                    <a:pt x="774" y="1341"/>
                  </a:lnTo>
                  <a:lnTo>
                    <a:pt x="762" y="1324"/>
                  </a:lnTo>
                  <a:lnTo>
                    <a:pt x="750" y="1306"/>
                  </a:lnTo>
                  <a:lnTo>
                    <a:pt x="740" y="1288"/>
                  </a:lnTo>
                  <a:lnTo>
                    <a:pt x="732" y="1269"/>
                  </a:lnTo>
                  <a:lnTo>
                    <a:pt x="724" y="1253"/>
                  </a:lnTo>
                  <a:lnTo>
                    <a:pt x="717" y="1234"/>
                  </a:lnTo>
                  <a:lnTo>
                    <a:pt x="712" y="1219"/>
                  </a:lnTo>
                  <a:lnTo>
                    <a:pt x="709" y="1204"/>
                  </a:lnTo>
                  <a:lnTo>
                    <a:pt x="705" y="1191"/>
                  </a:lnTo>
                  <a:lnTo>
                    <a:pt x="700" y="1166"/>
                  </a:lnTo>
                  <a:lnTo>
                    <a:pt x="692" y="1143"/>
                  </a:lnTo>
                  <a:lnTo>
                    <a:pt x="685" y="1126"/>
                  </a:lnTo>
                  <a:lnTo>
                    <a:pt x="682" y="1119"/>
                  </a:lnTo>
                  <a:lnTo>
                    <a:pt x="689" y="1108"/>
                  </a:lnTo>
                  <a:lnTo>
                    <a:pt x="700" y="1078"/>
                  </a:lnTo>
                  <a:lnTo>
                    <a:pt x="707" y="1038"/>
                  </a:lnTo>
                  <a:lnTo>
                    <a:pt x="697" y="996"/>
                  </a:lnTo>
                  <a:lnTo>
                    <a:pt x="680" y="961"/>
                  </a:lnTo>
                  <a:lnTo>
                    <a:pt x="670" y="932"/>
                  </a:lnTo>
                  <a:lnTo>
                    <a:pt x="662" y="904"/>
                  </a:lnTo>
                  <a:lnTo>
                    <a:pt x="649" y="872"/>
                  </a:lnTo>
                  <a:lnTo>
                    <a:pt x="640" y="856"/>
                  </a:lnTo>
                  <a:lnTo>
                    <a:pt x="635" y="839"/>
                  </a:lnTo>
                  <a:lnTo>
                    <a:pt x="630" y="826"/>
                  </a:lnTo>
                  <a:lnTo>
                    <a:pt x="625" y="814"/>
                  </a:lnTo>
                  <a:lnTo>
                    <a:pt x="620" y="802"/>
                  </a:lnTo>
                  <a:lnTo>
                    <a:pt x="614" y="792"/>
                  </a:lnTo>
                  <a:lnTo>
                    <a:pt x="607" y="784"/>
                  </a:lnTo>
                  <a:lnTo>
                    <a:pt x="597" y="777"/>
                  </a:lnTo>
                  <a:lnTo>
                    <a:pt x="587" y="771"/>
                  </a:lnTo>
                  <a:lnTo>
                    <a:pt x="575" y="762"/>
                  </a:lnTo>
                  <a:lnTo>
                    <a:pt x="565" y="754"/>
                  </a:lnTo>
                  <a:lnTo>
                    <a:pt x="554" y="744"/>
                  </a:lnTo>
                  <a:lnTo>
                    <a:pt x="542" y="736"/>
                  </a:lnTo>
                  <a:lnTo>
                    <a:pt x="529" y="729"/>
                  </a:lnTo>
                  <a:lnTo>
                    <a:pt x="515" y="721"/>
                  </a:lnTo>
                  <a:lnTo>
                    <a:pt x="502" y="716"/>
                  </a:lnTo>
                  <a:lnTo>
                    <a:pt x="480" y="702"/>
                  </a:lnTo>
                  <a:lnTo>
                    <a:pt x="470" y="686"/>
                  </a:lnTo>
                  <a:lnTo>
                    <a:pt x="464" y="667"/>
                  </a:lnTo>
                  <a:lnTo>
                    <a:pt x="454" y="649"/>
                  </a:lnTo>
                  <a:lnTo>
                    <a:pt x="444" y="634"/>
                  </a:lnTo>
                  <a:lnTo>
                    <a:pt x="437" y="621"/>
                  </a:lnTo>
                  <a:lnTo>
                    <a:pt x="435" y="611"/>
                  </a:lnTo>
                  <a:lnTo>
                    <a:pt x="435" y="607"/>
                  </a:lnTo>
                  <a:lnTo>
                    <a:pt x="437" y="607"/>
                  </a:lnTo>
                  <a:lnTo>
                    <a:pt x="442" y="606"/>
                  </a:lnTo>
                  <a:lnTo>
                    <a:pt x="449" y="602"/>
                  </a:lnTo>
                  <a:lnTo>
                    <a:pt x="455" y="596"/>
                  </a:lnTo>
                  <a:lnTo>
                    <a:pt x="459" y="589"/>
                  </a:lnTo>
                  <a:lnTo>
                    <a:pt x="459" y="577"/>
                  </a:lnTo>
                  <a:lnTo>
                    <a:pt x="454" y="564"/>
                  </a:lnTo>
                  <a:lnTo>
                    <a:pt x="440" y="546"/>
                  </a:lnTo>
                  <a:lnTo>
                    <a:pt x="434" y="539"/>
                  </a:lnTo>
                  <a:lnTo>
                    <a:pt x="429" y="532"/>
                  </a:lnTo>
                  <a:lnTo>
                    <a:pt x="424" y="529"/>
                  </a:lnTo>
                  <a:lnTo>
                    <a:pt x="420" y="526"/>
                  </a:lnTo>
                  <a:lnTo>
                    <a:pt x="419" y="527"/>
                  </a:lnTo>
                  <a:lnTo>
                    <a:pt x="415" y="526"/>
                  </a:lnTo>
                  <a:lnTo>
                    <a:pt x="415" y="522"/>
                  </a:lnTo>
                  <a:lnTo>
                    <a:pt x="420" y="526"/>
                  </a:lnTo>
                  <a:lnTo>
                    <a:pt x="420" y="524"/>
                  </a:lnTo>
                  <a:lnTo>
                    <a:pt x="419" y="521"/>
                  </a:lnTo>
                  <a:lnTo>
                    <a:pt x="419" y="517"/>
                  </a:lnTo>
                  <a:lnTo>
                    <a:pt x="417" y="512"/>
                  </a:lnTo>
                  <a:lnTo>
                    <a:pt x="409" y="490"/>
                  </a:lnTo>
                  <a:lnTo>
                    <a:pt x="405" y="477"/>
                  </a:lnTo>
                  <a:lnTo>
                    <a:pt x="399" y="467"/>
                  </a:lnTo>
                  <a:lnTo>
                    <a:pt x="384" y="455"/>
                  </a:lnTo>
                  <a:lnTo>
                    <a:pt x="372" y="440"/>
                  </a:lnTo>
                  <a:lnTo>
                    <a:pt x="374" y="425"/>
                  </a:lnTo>
                  <a:lnTo>
                    <a:pt x="375" y="412"/>
                  </a:lnTo>
                  <a:lnTo>
                    <a:pt x="364" y="399"/>
                  </a:lnTo>
                  <a:lnTo>
                    <a:pt x="345" y="387"/>
                  </a:lnTo>
                  <a:lnTo>
                    <a:pt x="332" y="372"/>
                  </a:lnTo>
                  <a:lnTo>
                    <a:pt x="325" y="355"/>
                  </a:lnTo>
                  <a:lnTo>
                    <a:pt x="322" y="337"/>
                  </a:lnTo>
                  <a:lnTo>
                    <a:pt x="319" y="317"/>
                  </a:lnTo>
                  <a:lnTo>
                    <a:pt x="309" y="290"/>
                  </a:lnTo>
                  <a:lnTo>
                    <a:pt x="294" y="264"/>
                  </a:lnTo>
                  <a:lnTo>
                    <a:pt x="273" y="237"/>
                  </a:lnTo>
                  <a:lnTo>
                    <a:pt x="260" y="215"/>
                  </a:lnTo>
                  <a:lnTo>
                    <a:pt x="257" y="197"/>
                  </a:lnTo>
                  <a:lnTo>
                    <a:pt x="255" y="184"/>
                  </a:lnTo>
                  <a:lnTo>
                    <a:pt x="245" y="175"/>
                  </a:lnTo>
                  <a:lnTo>
                    <a:pt x="233" y="167"/>
                  </a:lnTo>
                  <a:lnTo>
                    <a:pt x="228" y="154"/>
                  </a:lnTo>
                  <a:lnTo>
                    <a:pt x="222" y="140"/>
                  </a:lnTo>
                  <a:lnTo>
                    <a:pt x="207" y="124"/>
                  </a:lnTo>
                  <a:lnTo>
                    <a:pt x="188" y="100"/>
                  </a:lnTo>
                  <a:lnTo>
                    <a:pt x="175" y="74"/>
                  </a:lnTo>
                  <a:lnTo>
                    <a:pt x="168" y="52"/>
                  </a:lnTo>
                  <a:lnTo>
                    <a:pt x="165" y="42"/>
                  </a:lnTo>
                  <a:lnTo>
                    <a:pt x="160" y="42"/>
                  </a:lnTo>
                  <a:lnTo>
                    <a:pt x="148" y="42"/>
                  </a:lnTo>
                  <a:lnTo>
                    <a:pt x="133" y="42"/>
                  </a:lnTo>
                  <a:lnTo>
                    <a:pt x="122" y="42"/>
                  </a:lnTo>
                  <a:lnTo>
                    <a:pt x="110" y="42"/>
                  </a:lnTo>
                  <a:lnTo>
                    <a:pt x="100" y="44"/>
                  </a:lnTo>
                  <a:lnTo>
                    <a:pt x="92" y="47"/>
                  </a:lnTo>
                  <a:lnTo>
                    <a:pt x="88" y="47"/>
                  </a:lnTo>
                  <a:lnTo>
                    <a:pt x="90" y="44"/>
                  </a:lnTo>
                  <a:lnTo>
                    <a:pt x="93" y="34"/>
                  </a:lnTo>
                  <a:lnTo>
                    <a:pt x="98" y="20"/>
                  </a:lnTo>
                  <a:lnTo>
                    <a:pt x="103" y="8"/>
                  </a:lnTo>
                  <a:lnTo>
                    <a:pt x="103" y="8"/>
                  </a:lnTo>
                  <a:lnTo>
                    <a:pt x="103" y="8"/>
                  </a:lnTo>
                  <a:lnTo>
                    <a:pt x="103" y="8"/>
                  </a:lnTo>
                  <a:lnTo>
                    <a:pt x="103" y="8"/>
                  </a:lnTo>
                  <a:lnTo>
                    <a:pt x="67" y="0"/>
                  </a:lnTo>
                  <a:lnTo>
                    <a:pt x="67" y="5"/>
                  </a:lnTo>
                  <a:lnTo>
                    <a:pt x="65" y="19"/>
                  </a:lnTo>
                  <a:lnTo>
                    <a:pt x="62" y="34"/>
                  </a:lnTo>
                  <a:lnTo>
                    <a:pt x="57" y="47"/>
                  </a:lnTo>
                  <a:lnTo>
                    <a:pt x="50" y="57"/>
                  </a:lnTo>
                  <a:lnTo>
                    <a:pt x="45" y="65"/>
                  </a:lnTo>
                  <a:lnTo>
                    <a:pt x="40" y="79"/>
                  </a:lnTo>
                  <a:lnTo>
                    <a:pt x="38" y="95"/>
                  </a:lnTo>
                  <a:lnTo>
                    <a:pt x="35" y="119"/>
                  </a:lnTo>
                  <a:lnTo>
                    <a:pt x="28" y="145"/>
                  </a:lnTo>
                  <a:lnTo>
                    <a:pt x="20" y="169"/>
                  </a:lnTo>
                  <a:lnTo>
                    <a:pt x="15" y="185"/>
                  </a:lnTo>
                  <a:lnTo>
                    <a:pt x="10" y="197"/>
                  </a:lnTo>
                  <a:lnTo>
                    <a:pt x="5" y="209"/>
                  </a:lnTo>
                  <a:lnTo>
                    <a:pt x="2" y="220"/>
                  </a:lnTo>
                  <a:lnTo>
                    <a:pt x="0" y="224"/>
                  </a:lnTo>
                  <a:lnTo>
                    <a:pt x="3" y="224"/>
                  </a:lnTo>
                  <a:lnTo>
                    <a:pt x="12" y="220"/>
                  </a:lnTo>
                  <a:lnTo>
                    <a:pt x="23" y="219"/>
                  </a:lnTo>
                  <a:lnTo>
                    <a:pt x="33" y="219"/>
                  </a:lnTo>
                  <a:lnTo>
                    <a:pt x="47" y="219"/>
                  </a:lnTo>
                  <a:lnTo>
                    <a:pt x="60" y="219"/>
                  </a:lnTo>
                  <a:lnTo>
                    <a:pt x="72" y="219"/>
                  </a:lnTo>
                  <a:lnTo>
                    <a:pt x="77" y="219"/>
                  </a:lnTo>
                  <a:lnTo>
                    <a:pt x="80" y="229"/>
                  </a:lnTo>
                  <a:lnTo>
                    <a:pt x="87" y="250"/>
                  </a:lnTo>
                  <a:lnTo>
                    <a:pt x="100" y="277"/>
                  </a:lnTo>
                  <a:lnTo>
                    <a:pt x="118" y="299"/>
                  </a:lnTo>
                  <a:lnTo>
                    <a:pt x="133" y="315"/>
                  </a:lnTo>
                  <a:lnTo>
                    <a:pt x="140" y="330"/>
                  </a:lnTo>
                  <a:lnTo>
                    <a:pt x="145" y="342"/>
                  </a:lnTo>
                  <a:lnTo>
                    <a:pt x="157" y="352"/>
                  </a:lnTo>
                  <a:lnTo>
                    <a:pt x="167" y="360"/>
                  </a:lnTo>
                  <a:lnTo>
                    <a:pt x="168" y="374"/>
                  </a:lnTo>
                  <a:lnTo>
                    <a:pt x="172" y="390"/>
                  </a:lnTo>
                  <a:lnTo>
                    <a:pt x="185" y="414"/>
                  </a:lnTo>
                  <a:lnTo>
                    <a:pt x="205" y="440"/>
                  </a:lnTo>
                  <a:lnTo>
                    <a:pt x="220" y="467"/>
                  </a:lnTo>
                  <a:lnTo>
                    <a:pt x="230" y="492"/>
                  </a:lnTo>
                  <a:lnTo>
                    <a:pt x="233" y="512"/>
                  </a:lnTo>
                  <a:lnTo>
                    <a:pt x="237" y="531"/>
                  </a:lnTo>
                  <a:lnTo>
                    <a:pt x="243" y="547"/>
                  </a:lnTo>
                  <a:lnTo>
                    <a:pt x="257" y="562"/>
                  </a:lnTo>
                  <a:lnTo>
                    <a:pt x="275" y="574"/>
                  </a:lnTo>
                  <a:lnTo>
                    <a:pt x="287" y="587"/>
                  </a:lnTo>
                  <a:lnTo>
                    <a:pt x="285" y="601"/>
                  </a:lnTo>
                  <a:lnTo>
                    <a:pt x="284" y="617"/>
                  </a:lnTo>
                  <a:lnTo>
                    <a:pt x="295" y="632"/>
                  </a:lnTo>
                  <a:lnTo>
                    <a:pt x="310" y="642"/>
                  </a:lnTo>
                  <a:lnTo>
                    <a:pt x="317" y="652"/>
                  </a:lnTo>
                  <a:lnTo>
                    <a:pt x="320" y="666"/>
                  </a:lnTo>
                  <a:lnTo>
                    <a:pt x="329" y="687"/>
                  </a:lnTo>
                  <a:lnTo>
                    <a:pt x="330" y="692"/>
                  </a:lnTo>
                  <a:lnTo>
                    <a:pt x="330" y="696"/>
                  </a:lnTo>
                  <a:lnTo>
                    <a:pt x="332" y="697"/>
                  </a:lnTo>
                  <a:lnTo>
                    <a:pt x="332" y="699"/>
                  </a:lnTo>
                  <a:lnTo>
                    <a:pt x="335" y="702"/>
                  </a:lnTo>
                  <a:lnTo>
                    <a:pt x="340" y="707"/>
                  </a:lnTo>
                  <a:lnTo>
                    <a:pt x="345" y="712"/>
                  </a:lnTo>
                  <a:lnTo>
                    <a:pt x="352" y="721"/>
                  </a:lnTo>
                  <a:lnTo>
                    <a:pt x="365" y="737"/>
                  </a:lnTo>
                  <a:lnTo>
                    <a:pt x="370" y="752"/>
                  </a:lnTo>
                  <a:lnTo>
                    <a:pt x="370" y="762"/>
                  </a:lnTo>
                  <a:lnTo>
                    <a:pt x="367" y="771"/>
                  </a:lnTo>
                  <a:lnTo>
                    <a:pt x="360" y="776"/>
                  </a:lnTo>
                  <a:lnTo>
                    <a:pt x="354" y="781"/>
                  </a:lnTo>
                  <a:lnTo>
                    <a:pt x="349" y="782"/>
                  </a:lnTo>
                  <a:lnTo>
                    <a:pt x="347" y="782"/>
                  </a:lnTo>
                  <a:lnTo>
                    <a:pt x="347" y="786"/>
                  </a:lnTo>
                  <a:lnTo>
                    <a:pt x="350" y="794"/>
                  </a:lnTo>
                  <a:lnTo>
                    <a:pt x="355" y="807"/>
                  </a:lnTo>
                  <a:lnTo>
                    <a:pt x="367" y="824"/>
                  </a:lnTo>
                  <a:lnTo>
                    <a:pt x="377" y="842"/>
                  </a:lnTo>
                  <a:lnTo>
                    <a:pt x="384" y="862"/>
                  </a:lnTo>
                  <a:lnTo>
                    <a:pt x="392" y="877"/>
                  </a:lnTo>
                  <a:lnTo>
                    <a:pt x="414" y="891"/>
                  </a:lnTo>
                  <a:lnTo>
                    <a:pt x="427" y="897"/>
                  </a:lnTo>
                  <a:lnTo>
                    <a:pt x="440" y="904"/>
                  </a:lnTo>
                  <a:lnTo>
                    <a:pt x="454" y="912"/>
                  </a:lnTo>
                  <a:lnTo>
                    <a:pt x="465" y="921"/>
                  </a:lnTo>
                  <a:lnTo>
                    <a:pt x="477" y="929"/>
                  </a:lnTo>
                  <a:lnTo>
                    <a:pt x="487" y="937"/>
                  </a:lnTo>
                  <a:lnTo>
                    <a:pt x="499" y="946"/>
                  </a:lnTo>
                  <a:lnTo>
                    <a:pt x="509" y="952"/>
                  </a:lnTo>
                  <a:lnTo>
                    <a:pt x="519" y="961"/>
                  </a:lnTo>
                  <a:lnTo>
                    <a:pt x="525" y="969"/>
                  </a:lnTo>
                  <a:lnTo>
                    <a:pt x="532" y="979"/>
                  </a:lnTo>
                  <a:lnTo>
                    <a:pt x="537" y="989"/>
                  </a:lnTo>
                  <a:lnTo>
                    <a:pt x="542" y="1002"/>
                  </a:lnTo>
                  <a:lnTo>
                    <a:pt x="547" y="1016"/>
                  </a:lnTo>
                  <a:lnTo>
                    <a:pt x="552" y="1031"/>
                  </a:lnTo>
                  <a:lnTo>
                    <a:pt x="560" y="1048"/>
                  </a:lnTo>
                  <a:lnTo>
                    <a:pt x="574" y="1079"/>
                  </a:lnTo>
                  <a:lnTo>
                    <a:pt x="584" y="1108"/>
                  </a:lnTo>
                  <a:lnTo>
                    <a:pt x="592" y="1136"/>
                  </a:lnTo>
                  <a:lnTo>
                    <a:pt x="609" y="1171"/>
                  </a:lnTo>
                  <a:lnTo>
                    <a:pt x="619" y="1213"/>
                  </a:lnTo>
                  <a:lnTo>
                    <a:pt x="612" y="1253"/>
                  </a:lnTo>
                  <a:lnTo>
                    <a:pt x="600" y="1283"/>
                  </a:lnTo>
                  <a:lnTo>
                    <a:pt x="594" y="1294"/>
                  </a:lnTo>
                  <a:lnTo>
                    <a:pt x="597" y="1301"/>
                  </a:lnTo>
                  <a:lnTo>
                    <a:pt x="604" y="1318"/>
                  </a:lnTo>
                  <a:lnTo>
                    <a:pt x="612" y="1341"/>
                  </a:lnTo>
                  <a:lnTo>
                    <a:pt x="617" y="1366"/>
                  </a:lnTo>
                  <a:lnTo>
                    <a:pt x="620" y="1379"/>
                  </a:lnTo>
                  <a:lnTo>
                    <a:pt x="624" y="1394"/>
                  </a:lnTo>
                  <a:lnTo>
                    <a:pt x="629" y="1409"/>
                  </a:lnTo>
                  <a:lnTo>
                    <a:pt x="635" y="1428"/>
                  </a:lnTo>
                  <a:lnTo>
                    <a:pt x="644" y="1444"/>
                  </a:lnTo>
                  <a:lnTo>
                    <a:pt x="654" y="1463"/>
                  </a:lnTo>
                  <a:lnTo>
                    <a:pt x="664" y="1481"/>
                  </a:lnTo>
                  <a:lnTo>
                    <a:pt x="675" y="1499"/>
                  </a:lnTo>
                  <a:lnTo>
                    <a:pt x="687" y="1516"/>
                  </a:lnTo>
                  <a:lnTo>
                    <a:pt x="695" y="1531"/>
                  </a:lnTo>
                  <a:lnTo>
                    <a:pt x="702" y="1543"/>
                  </a:lnTo>
                  <a:lnTo>
                    <a:pt x="707" y="1553"/>
                  </a:lnTo>
                  <a:lnTo>
                    <a:pt x="712" y="1561"/>
                  </a:lnTo>
                  <a:lnTo>
                    <a:pt x="719" y="1566"/>
                  </a:lnTo>
                  <a:lnTo>
                    <a:pt x="724" y="1570"/>
                  </a:lnTo>
                  <a:lnTo>
                    <a:pt x="732" y="1571"/>
                  </a:lnTo>
                  <a:lnTo>
                    <a:pt x="742" y="1573"/>
                  </a:lnTo>
                  <a:lnTo>
                    <a:pt x="754" y="1576"/>
                  </a:lnTo>
                  <a:lnTo>
                    <a:pt x="765" y="1581"/>
                  </a:lnTo>
                  <a:lnTo>
                    <a:pt x="779" y="1588"/>
                  </a:lnTo>
                  <a:lnTo>
                    <a:pt x="792" y="1595"/>
                  </a:lnTo>
                  <a:lnTo>
                    <a:pt x="804" y="1603"/>
                  </a:lnTo>
                  <a:lnTo>
                    <a:pt x="814" y="1611"/>
                  </a:lnTo>
                  <a:lnTo>
                    <a:pt x="822" y="1618"/>
                  </a:lnTo>
                  <a:lnTo>
                    <a:pt x="834" y="1633"/>
                  </a:lnTo>
                  <a:lnTo>
                    <a:pt x="846" y="1648"/>
                  </a:lnTo>
                  <a:lnTo>
                    <a:pt x="856" y="1663"/>
                  </a:lnTo>
                  <a:lnTo>
                    <a:pt x="866" y="1675"/>
                  </a:lnTo>
                  <a:lnTo>
                    <a:pt x="872" y="1685"/>
                  </a:lnTo>
                  <a:lnTo>
                    <a:pt x="881" y="1700"/>
                  </a:lnTo>
                  <a:lnTo>
                    <a:pt x="891" y="1721"/>
                  </a:lnTo>
                  <a:lnTo>
                    <a:pt x="902" y="1743"/>
                  </a:lnTo>
                  <a:lnTo>
                    <a:pt x="912" y="1768"/>
                  </a:lnTo>
                  <a:lnTo>
                    <a:pt x="921" y="1790"/>
                  </a:lnTo>
                  <a:lnTo>
                    <a:pt x="927" y="1810"/>
                  </a:lnTo>
                  <a:lnTo>
                    <a:pt x="931" y="1823"/>
                  </a:lnTo>
                  <a:lnTo>
                    <a:pt x="937" y="1841"/>
                  </a:lnTo>
                  <a:lnTo>
                    <a:pt x="951" y="1858"/>
                  </a:lnTo>
                  <a:lnTo>
                    <a:pt x="964" y="1878"/>
                  </a:lnTo>
                  <a:lnTo>
                    <a:pt x="979" y="1908"/>
                  </a:lnTo>
                  <a:lnTo>
                    <a:pt x="987" y="1926"/>
                  </a:lnTo>
                  <a:lnTo>
                    <a:pt x="999" y="1945"/>
                  </a:lnTo>
                  <a:lnTo>
                    <a:pt x="1014" y="1965"/>
                  </a:lnTo>
                  <a:lnTo>
                    <a:pt x="1029" y="1981"/>
                  </a:lnTo>
                  <a:lnTo>
                    <a:pt x="1044" y="2000"/>
                  </a:lnTo>
                  <a:lnTo>
                    <a:pt x="1059" y="2015"/>
                  </a:lnTo>
                  <a:lnTo>
                    <a:pt x="1072" y="2027"/>
                  </a:lnTo>
                  <a:lnTo>
                    <a:pt x="1084" y="2037"/>
                  </a:lnTo>
                  <a:lnTo>
                    <a:pt x="1097" y="2052"/>
                  </a:lnTo>
                  <a:lnTo>
                    <a:pt x="1106" y="2068"/>
                  </a:lnTo>
                  <a:lnTo>
                    <a:pt x="1109" y="2085"/>
                  </a:lnTo>
                  <a:lnTo>
                    <a:pt x="1112" y="2098"/>
                  </a:lnTo>
                  <a:lnTo>
                    <a:pt x="1117" y="2108"/>
                  </a:lnTo>
                  <a:lnTo>
                    <a:pt x="1126" y="2120"/>
                  </a:lnTo>
                  <a:lnTo>
                    <a:pt x="1136" y="2132"/>
                  </a:lnTo>
                  <a:lnTo>
                    <a:pt x="1146" y="2145"/>
                  </a:lnTo>
                  <a:lnTo>
                    <a:pt x="1156" y="2160"/>
                  </a:lnTo>
                  <a:lnTo>
                    <a:pt x="1164" y="2175"/>
                  </a:lnTo>
                  <a:lnTo>
                    <a:pt x="1169" y="2190"/>
                  </a:lnTo>
                  <a:lnTo>
                    <a:pt x="1169" y="2202"/>
                  </a:lnTo>
                  <a:lnTo>
                    <a:pt x="1169" y="2217"/>
                  </a:lnTo>
                  <a:lnTo>
                    <a:pt x="1172" y="2233"/>
                  </a:lnTo>
                  <a:lnTo>
                    <a:pt x="1177" y="2248"/>
                  </a:lnTo>
                  <a:lnTo>
                    <a:pt x="1179" y="2255"/>
                  </a:lnTo>
                  <a:lnTo>
                    <a:pt x="1216" y="2227"/>
                  </a:lnTo>
                  <a:lnTo>
                    <a:pt x="1219" y="2222"/>
                  </a:lnTo>
                  <a:lnTo>
                    <a:pt x="1226" y="2208"/>
                  </a:lnTo>
                  <a:lnTo>
                    <a:pt x="1232" y="2192"/>
                  </a:lnTo>
                  <a:lnTo>
                    <a:pt x="1236" y="2178"/>
                  </a:lnTo>
                  <a:lnTo>
                    <a:pt x="1236" y="2165"/>
                  </a:lnTo>
                  <a:lnTo>
                    <a:pt x="1234" y="2145"/>
                  </a:lnTo>
                  <a:lnTo>
                    <a:pt x="1236" y="2123"/>
                  </a:lnTo>
                  <a:lnTo>
                    <a:pt x="1241" y="2103"/>
                  </a:lnTo>
                  <a:lnTo>
                    <a:pt x="1241" y="2087"/>
                  </a:lnTo>
                  <a:lnTo>
                    <a:pt x="1236" y="2077"/>
                  </a:lnTo>
                  <a:lnTo>
                    <a:pt x="1234" y="2067"/>
                  </a:lnTo>
                  <a:lnTo>
                    <a:pt x="1241" y="2060"/>
                  </a:lnTo>
                  <a:lnTo>
                    <a:pt x="1246" y="2057"/>
                  </a:lnTo>
                  <a:lnTo>
                    <a:pt x="1251" y="2057"/>
                  </a:lnTo>
                  <a:lnTo>
                    <a:pt x="1256" y="2058"/>
                  </a:lnTo>
                  <a:lnTo>
                    <a:pt x="1261" y="2062"/>
                  </a:lnTo>
                  <a:lnTo>
                    <a:pt x="1259" y="2052"/>
                  </a:lnTo>
                  <a:lnTo>
                    <a:pt x="1257" y="2043"/>
                  </a:lnTo>
                  <a:lnTo>
                    <a:pt x="1256" y="2033"/>
                  </a:lnTo>
                  <a:lnTo>
                    <a:pt x="1257" y="2027"/>
                  </a:lnTo>
                  <a:close/>
                </a:path>
              </a:pathLst>
            </a:custGeom>
            <a:solidFill>
              <a:srgbClr val="ffffff">
                <a:alpha val="10000"/>
              </a:srgbClr>
            </a:solidFill>
            <a:ln cap="sq" w="9360">
              <a:solidFill>
                <a:srgbClr val="ffffff"/>
              </a:solidFill>
              <a:round/>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0" name=""/>
            <p:cNvSpPr/>
            <p:nvPr/>
          </p:nvSpPr>
          <p:spPr>
            <a:xfrm>
              <a:off x="3086280" y="3249720"/>
              <a:ext cx="4680" cy="4680"/>
            </a:xfrm>
            <a:custGeom>
              <a:avLst/>
              <a:gdLst/>
              <a:ahLst/>
              <a:rect l="l" t="t" r="r" b="b"/>
              <a:pathLst>
                <a:path w="5" h="5">
                  <a:moveTo>
                    <a:pt x="5" y="3"/>
                  </a:moveTo>
                  <a:lnTo>
                    <a:pt x="0" y="0"/>
                  </a:lnTo>
                  <a:lnTo>
                    <a:pt x="2" y="3"/>
                  </a:lnTo>
                  <a:lnTo>
                    <a:pt x="3" y="5"/>
                  </a:lnTo>
                  <a:lnTo>
                    <a:pt x="5" y="3"/>
                  </a:lnTo>
                  <a:lnTo>
                    <a:pt x="5" y="3"/>
                  </a:lnTo>
                  <a:close/>
                </a:path>
              </a:pathLst>
            </a:custGeom>
            <a:solidFill>
              <a:srgbClr val="000000"/>
            </a:solidFill>
            <a:ln w="0">
              <a:noFill/>
            </a:ln>
          </p:spPr>
          <p:style>
            <a:lnRef idx="0"/>
            <a:fillRef idx="0"/>
            <a:effectRef idx="0"/>
            <a:fontRef idx="minor"/>
          </p:style>
          <p:txBody>
            <a:bodyPr wrap="none" lIns="90000" rIns="90000" tIns="-42120" bIns="-421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1" name=""/>
            <p:cNvSpPr/>
            <p:nvPr/>
          </p:nvSpPr>
          <p:spPr>
            <a:xfrm>
              <a:off x="4379760" y="4205160"/>
              <a:ext cx="2567160" cy="993960"/>
            </a:xfrm>
            <a:custGeom>
              <a:avLst/>
              <a:gdLst/>
              <a:ahLst/>
              <a:rect l="l" t="t" r="r" b="b"/>
              <a:pathLst>
                <a:path w="1881" h="744">
                  <a:moveTo>
                    <a:pt x="1298" y="222"/>
                  </a:moveTo>
                  <a:lnTo>
                    <a:pt x="1283" y="225"/>
                  </a:lnTo>
                  <a:lnTo>
                    <a:pt x="1263" y="230"/>
                  </a:lnTo>
                  <a:lnTo>
                    <a:pt x="1239" y="235"/>
                  </a:lnTo>
                  <a:lnTo>
                    <a:pt x="1214" y="242"/>
                  </a:lnTo>
                  <a:lnTo>
                    <a:pt x="1186" y="249"/>
                  </a:lnTo>
                  <a:lnTo>
                    <a:pt x="1157" y="255"/>
                  </a:lnTo>
                  <a:lnTo>
                    <a:pt x="1127" y="262"/>
                  </a:lnTo>
                  <a:lnTo>
                    <a:pt x="1097" y="269"/>
                  </a:lnTo>
                  <a:lnTo>
                    <a:pt x="1067" y="275"/>
                  </a:lnTo>
                  <a:lnTo>
                    <a:pt x="1039" y="284"/>
                  </a:lnTo>
                  <a:lnTo>
                    <a:pt x="1012" y="290"/>
                  </a:lnTo>
                  <a:lnTo>
                    <a:pt x="989" y="297"/>
                  </a:lnTo>
                  <a:lnTo>
                    <a:pt x="967" y="302"/>
                  </a:lnTo>
                  <a:lnTo>
                    <a:pt x="949" y="309"/>
                  </a:lnTo>
                  <a:lnTo>
                    <a:pt x="936" y="314"/>
                  </a:lnTo>
                  <a:lnTo>
                    <a:pt x="927" y="317"/>
                  </a:lnTo>
                  <a:lnTo>
                    <a:pt x="914" y="324"/>
                  </a:lnTo>
                  <a:lnTo>
                    <a:pt x="901" y="329"/>
                  </a:lnTo>
                  <a:lnTo>
                    <a:pt x="887" y="337"/>
                  </a:lnTo>
                  <a:lnTo>
                    <a:pt x="872" y="344"/>
                  </a:lnTo>
                  <a:lnTo>
                    <a:pt x="857" y="355"/>
                  </a:lnTo>
                  <a:lnTo>
                    <a:pt x="842" y="369"/>
                  </a:lnTo>
                  <a:lnTo>
                    <a:pt x="826" y="389"/>
                  </a:lnTo>
                  <a:lnTo>
                    <a:pt x="807" y="412"/>
                  </a:lnTo>
                  <a:lnTo>
                    <a:pt x="791" y="437"/>
                  </a:lnTo>
                  <a:lnTo>
                    <a:pt x="776" y="460"/>
                  </a:lnTo>
                  <a:lnTo>
                    <a:pt x="761" y="482"/>
                  </a:lnTo>
                  <a:lnTo>
                    <a:pt x="747" y="502"/>
                  </a:lnTo>
                  <a:lnTo>
                    <a:pt x="737" y="519"/>
                  </a:lnTo>
                  <a:lnTo>
                    <a:pt x="727" y="532"/>
                  </a:lnTo>
                  <a:lnTo>
                    <a:pt x="719" y="542"/>
                  </a:lnTo>
                  <a:lnTo>
                    <a:pt x="712" y="549"/>
                  </a:lnTo>
                  <a:lnTo>
                    <a:pt x="706" y="554"/>
                  </a:lnTo>
                  <a:lnTo>
                    <a:pt x="699" y="559"/>
                  </a:lnTo>
                  <a:lnTo>
                    <a:pt x="689" y="564"/>
                  </a:lnTo>
                  <a:lnTo>
                    <a:pt x="679" y="565"/>
                  </a:lnTo>
                  <a:lnTo>
                    <a:pt x="667" y="567"/>
                  </a:lnTo>
                  <a:lnTo>
                    <a:pt x="657" y="567"/>
                  </a:lnTo>
                  <a:lnTo>
                    <a:pt x="647" y="564"/>
                  </a:lnTo>
                  <a:lnTo>
                    <a:pt x="637" y="559"/>
                  </a:lnTo>
                  <a:lnTo>
                    <a:pt x="629" y="552"/>
                  </a:lnTo>
                  <a:lnTo>
                    <a:pt x="622" y="544"/>
                  </a:lnTo>
                  <a:lnTo>
                    <a:pt x="615" y="535"/>
                  </a:lnTo>
                  <a:lnTo>
                    <a:pt x="609" y="529"/>
                  </a:lnTo>
                  <a:lnTo>
                    <a:pt x="602" y="524"/>
                  </a:lnTo>
                  <a:lnTo>
                    <a:pt x="595" y="520"/>
                  </a:lnTo>
                  <a:lnTo>
                    <a:pt x="589" y="519"/>
                  </a:lnTo>
                  <a:lnTo>
                    <a:pt x="580" y="520"/>
                  </a:lnTo>
                  <a:lnTo>
                    <a:pt x="569" y="524"/>
                  </a:lnTo>
                  <a:lnTo>
                    <a:pt x="554" y="525"/>
                  </a:lnTo>
                  <a:lnTo>
                    <a:pt x="537" y="525"/>
                  </a:lnTo>
                  <a:lnTo>
                    <a:pt x="519" y="525"/>
                  </a:lnTo>
                  <a:lnTo>
                    <a:pt x="499" y="525"/>
                  </a:lnTo>
                  <a:lnTo>
                    <a:pt x="480" y="524"/>
                  </a:lnTo>
                  <a:lnTo>
                    <a:pt x="462" y="522"/>
                  </a:lnTo>
                  <a:lnTo>
                    <a:pt x="447" y="520"/>
                  </a:lnTo>
                  <a:lnTo>
                    <a:pt x="432" y="519"/>
                  </a:lnTo>
                  <a:lnTo>
                    <a:pt x="417" y="515"/>
                  </a:lnTo>
                  <a:lnTo>
                    <a:pt x="404" y="510"/>
                  </a:lnTo>
                  <a:lnTo>
                    <a:pt x="389" y="507"/>
                  </a:lnTo>
                  <a:lnTo>
                    <a:pt x="375" y="504"/>
                  </a:lnTo>
                  <a:lnTo>
                    <a:pt x="364" y="500"/>
                  </a:lnTo>
                  <a:lnTo>
                    <a:pt x="352" y="497"/>
                  </a:lnTo>
                  <a:lnTo>
                    <a:pt x="342" y="497"/>
                  </a:lnTo>
                  <a:lnTo>
                    <a:pt x="329" y="497"/>
                  </a:lnTo>
                  <a:lnTo>
                    <a:pt x="307" y="497"/>
                  </a:lnTo>
                  <a:lnTo>
                    <a:pt x="280" y="499"/>
                  </a:lnTo>
                  <a:lnTo>
                    <a:pt x="250" y="499"/>
                  </a:lnTo>
                  <a:lnTo>
                    <a:pt x="224" y="500"/>
                  </a:lnTo>
                  <a:lnTo>
                    <a:pt x="200" y="502"/>
                  </a:lnTo>
                  <a:lnTo>
                    <a:pt x="184" y="502"/>
                  </a:lnTo>
                  <a:lnTo>
                    <a:pt x="177" y="502"/>
                  </a:lnTo>
                  <a:lnTo>
                    <a:pt x="175" y="504"/>
                  </a:lnTo>
                  <a:lnTo>
                    <a:pt x="170" y="505"/>
                  </a:lnTo>
                  <a:lnTo>
                    <a:pt x="164" y="509"/>
                  </a:lnTo>
                  <a:lnTo>
                    <a:pt x="155" y="510"/>
                  </a:lnTo>
                  <a:lnTo>
                    <a:pt x="144" y="512"/>
                  </a:lnTo>
                  <a:lnTo>
                    <a:pt x="132" y="512"/>
                  </a:lnTo>
                  <a:lnTo>
                    <a:pt x="120" y="509"/>
                  </a:lnTo>
                  <a:lnTo>
                    <a:pt x="107" y="502"/>
                  </a:lnTo>
                  <a:lnTo>
                    <a:pt x="95" y="494"/>
                  </a:lnTo>
                  <a:lnTo>
                    <a:pt x="87" y="485"/>
                  </a:lnTo>
                  <a:lnTo>
                    <a:pt x="80" y="479"/>
                  </a:lnTo>
                  <a:lnTo>
                    <a:pt x="75" y="475"/>
                  </a:lnTo>
                  <a:lnTo>
                    <a:pt x="70" y="472"/>
                  </a:lnTo>
                  <a:lnTo>
                    <a:pt x="65" y="470"/>
                  </a:lnTo>
                  <a:lnTo>
                    <a:pt x="60" y="470"/>
                  </a:lnTo>
                  <a:lnTo>
                    <a:pt x="53" y="474"/>
                  </a:lnTo>
                  <a:lnTo>
                    <a:pt x="47" y="480"/>
                  </a:lnTo>
                  <a:lnTo>
                    <a:pt x="50" y="489"/>
                  </a:lnTo>
                  <a:lnTo>
                    <a:pt x="55" y="500"/>
                  </a:lnTo>
                  <a:lnTo>
                    <a:pt x="53" y="515"/>
                  </a:lnTo>
                  <a:lnTo>
                    <a:pt x="50" y="535"/>
                  </a:lnTo>
                  <a:lnTo>
                    <a:pt x="48" y="557"/>
                  </a:lnTo>
                  <a:lnTo>
                    <a:pt x="50" y="577"/>
                  </a:lnTo>
                  <a:lnTo>
                    <a:pt x="50" y="592"/>
                  </a:lnTo>
                  <a:lnTo>
                    <a:pt x="47" y="606"/>
                  </a:lnTo>
                  <a:lnTo>
                    <a:pt x="40" y="621"/>
                  </a:lnTo>
                  <a:lnTo>
                    <a:pt x="33" y="634"/>
                  </a:lnTo>
                  <a:lnTo>
                    <a:pt x="30" y="639"/>
                  </a:lnTo>
                  <a:lnTo>
                    <a:pt x="0" y="662"/>
                  </a:lnTo>
                  <a:lnTo>
                    <a:pt x="3" y="666"/>
                  </a:lnTo>
                  <a:lnTo>
                    <a:pt x="8" y="669"/>
                  </a:lnTo>
                  <a:lnTo>
                    <a:pt x="13" y="674"/>
                  </a:lnTo>
                  <a:lnTo>
                    <a:pt x="18" y="677"/>
                  </a:lnTo>
                  <a:lnTo>
                    <a:pt x="32" y="684"/>
                  </a:lnTo>
                  <a:lnTo>
                    <a:pt x="43" y="687"/>
                  </a:lnTo>
                  <a:lnTo>
                    <a:pt x="55" y="687"/>
                  </a:lnTo>
                  <a:lnTo>
                    <a:pt x="67" y="686"/>
                  </a:lnTo>
                  <a:lnTo>
                    <a:pt x="77" y="684"/>
                  </a:lnTo>
                  <a:lnTo>
                    <a:pt x="83" y="681"/>
                  </a:lnTo>
                  <a:lnTo>
                    <a:pt x="88" y="679"/>
                  </a:lnTo>
                  <a:lnTo>
                    <a:pt x="90" y="677"/>
                  </a:lnTo>
                  <a:lnTo>
                    <a:pt x="97" y="677"/>
                  </a:lnTo>
                  <a:lnTo>
                    <a:pt x="114" y="677"/>
                  </a:lnTo>
                  <a:lnTo>
                    <a:pt x="137" y="676"/>
                  </a:lnTo>
                  <a:lnTo>
                    <a:pt x="164" y="674"/>
                  </a:lnTo>
                  <a:lnTo>
                    <a:pt x="194" y="674"/>
                  </a:lnTo>
                  <a:lnTo>
                    <a:pt x="220" y="672"/>
                  </a:lnTo>
                  <a:lnTo>
                    <a:pt x="242" y="672"/>
                  </a:lnTo>
                  <a:lnTo>
                    <a:pt x="255" y="672"/>
                  </a:lnTo>
                  <a:lnTo>
                    <a:pt x="265" y="674"/>
                  </a:lnTo>
                  <a:lnTo>
                    <a:pt x="275" y="676"/>
                  </a:lnTo>
                  <a:lnTo>
                    <a:pt x="289" y="679"/>
                  </a:lnTo>
                  <a:lnTo>
                    <a:pt x="302" y="682"/>
                  </a:lnTo>
                  <a:lnTo>
                    <a:pt x="315" y="687"/>
                  </a:lnTo>
                  <a:lnTo>
                    <a:pt x="330" y="691"/>
                  </a:lnTo>
                  <a:lnTo>
                    <a:pt x="344" y="694"/>
                  </a:lnTo>
                  <a:lnTo>
                    <a:pt x="359" y="697"/>
                  </a:lnTo>
                  <a:lnTo>
                    <a:pt x="374" y="699"/>
                  </a:lnTo>
                  <a:lnTo>
                    <a:pt x="392" y="701"/>
                  </a:lnTo>
                  <a:lnTo>
                    <a:pt x="412" y="701"/>
                  </a:lnTo>
                  <a:lnTo>
                    <a:pt x="430" y="702"/>
                  </a:lnTo>
                  <a:lnTo>
                    <a:pt x="450" y="702"/>
                  </a:lnTo>
                  <a:lnTo>
                    <a:pt x="467" y="701"/>
                  </a:lnTo>
                  <a:lnTo>
                    <a:pt x="480" y="701"/>
                  </a:lnTo>
                  <a:lnTo>
                    <a:pt x="492" y="697"/>
                  </a:lnTo>
                  <a:lnTo>
                    <a:pt x="500" y="696"/>
                  </a:lnTo>
                  <a:lnTo>
                    <a:pt x="507" y="696"/>
                  </a:lnTo>
                  <a:lnTo>
                    <a:pt x="514" y="699"/>
                  </a:lnTo>
                  <a:lnTo>
                    <a:pt x="520" y="706"/>
                  </a:lnTo>
                  <a:lnTo>
                    <a:pt x="527" y="712"/>
                  </a:lnTo>
                  <a:lnTo>
                    <a:pt x="534" y="719"/>
                  </a:lnTo>
                  <a:lnTo>
                    <a:pt x="540" y="727"/>
                  </a:lnTo>
                  <a:lnTo>
                    <a:pt x="549" y="734"/>
                  </a:lnTo>
                  <a:lnTo>
                    <a:pt x="559" y="741"/>
                  </a:lnTo>
                  <a:lnTo>
                    <a:pt x="569" y="742"/>
                  </a:lnTo>
                  <a:lnTo>
                    <a:pt x="579" y="744"/>
                  </a:lnTo>
                  <a:lnTo>
                    <a:pt x="590" y="742"/>
                  </a:lnTo>
                  <a:lnTo>
                    <a:pt x="600" y="739"/>
                  </a:lnTo>
                  <a:lnTo>
                    <a:pt x="610" y="736"/>
                  </a:lnTo>
                  <a:lnTo>
                    <a:pt x="619" y="731"/>
                  </a:lnTo>
                  <a:lnTo>
                    <a:pt x="625" y="726"/>
                  </a:lnTo>
                  <a:lnTo>
                    <a:pt x="632" y="719"/>
                  </a:lnTo>
                  <a:lnTo>
                    <a:pt x="639" y="707"/>
                  </a:lnTo>
                  <a:lnTo>
                    <a:pt x="649" y="694"/>
                  </a:lnTo>
                  <a:lnTo>
                    <a:pt x="661" y="677"/>
                  </a:lnTo>
                  <a:lnTo>
                    <a:pt x="672" y="659"/>
                  </a:lnTo>
                  <a:lnTo>
                    <a:pt x="687" y="637"/>
                  </a:lnTo>
                  <a:lnTo>
                    <a:pt x="704" y="614"/>
                  </a:lnTo>
                  <a:lnTo>
                    <a:pt x="721" y="587"/>
                  </a:lnTo>
                  <a:lnTo>
                    <a:pt x="737" y="564"/>
                  </a:lnTo>
                  <a:lnTo>
                    <a:pt x="754" y="544"/>
                  </a:lnTo>
                  <a:lnTo>
                    <a:pt x="769" y="530"/>
                  </a:lnTo>
                  <a:lnTo>
                    <a:pt x="786" y="519"/>
                  </a:lnTo>
                  <a:lnTo>
                    <a:pt x="799" y="512"/>
                  </a:lnTo>
                  <a:lnTo>
                    <a:pt x="812" y="504"/>
                  </a:lnTo>
                  <a:lnTo>
                    <a:pt x="826" y="499"/>
                  </a:lnTo>
                  <a:lnTo>
                    <a:pt x="839" y="492"/>
                  </a:lnTo>
                  <a:lnTo>
                    <a:pt x="847" y="489"/>
                  </a:lnTo>
                  <a:lnTo>
                    <a:pt x="862" y="484"/>
                  </a:lnTo>
                  <a:lnTo>
                    <a:pt x="879" y="479"/>
                  </a:lnTo>
                  <a:lnTo>
                    <a:pt x="901" y="472"/>
                  </a:lnTo>
                  <a:lnTo>
                    <a:pt x="926" y="465"/>
                  </a:lnTo>
                  <a:lnTo>
                    <a:pt x="952" y="459"/>
                  </a:lnTo>
                  <a:lnTo>
                    <a:pt x="981" y="452"/>
                  </a:lnTo>
                  <a:lnTo>
                    <a:pt x="1009" y="444"/>
                  </a:lnTo>
                  <a:lnTo>
                    <a:pt x="1039" y="437"/>
                  </a:lnTo>
                  <a:lnTo>
                    <a:pt x="1069" y="430"/>
                  </a:lnTo>
                  <a:lnTo>
                    <a:pt x="1097" y="424"/>
                  </a:lnTo>
                  <a:lnTo>
                    <a:pt x="1126" y="417"/>
                  </a:lnTo>
                  <a:lnTo>
                    <a:pt x="1151" y="410"/>
                  </a:lnTo>
                  <a:lnTo>
                    <a:pt x="1174" y="405"/>
                  </a:lnTo>
                  <a:lnTo>
                    <a:pt x="1194" y="400"/>
                  </a:lnTo>
                  <a:lnTo>
                    <a:pt x="1209" y="397"/>
                  </a:lnTo>
                  <a:lnTo>
                    <a:pt x="1236" y="390"/>
                  </a:lnTo>
                  <a:lnTo>
                    <a:pt x="1263" y="385"/>
                  </a:lnTo>
                  <a:lnTo>
                    <a:pt x="1289" y="382"/>
                  </a:lnTo>
                  <a:lnTo>
                    <a:pt x="1313" y="379"/>
                  </a:lnTo>
                  <a:lnTo>
                    <a:pt x="1336" y="375"/>
                  </a:lnTo>
                  <a:lnTo>
                    <a:pt x="1354" y="370"/>
                  </a:lnTo>
                  <a:lnTo>
                    <a:pt x="1371" y="365"/>
                  </a:lnTo>
                  <a:lnTo>
                    <a:pt x="1384" y="359"/>
                  </a:lnTo>
                  <a:lnTo>
                    <a:pt x="1394" y="354"/>
                  </a:lnTo>
                  <a:lnTo>
                    <a:pt x="1411" y="345"/>
                  </a:lnTo>
                  <a:lnTo>
                    <a:pt x="1434" y="334"/>
                  </a:lnTo>
                  <a:lnTo>
                    <a:pt x="1463" y="320"/>
                  </a:lnTo>
                  <a:lnTo>
                    <a:pt x="1496" y="307"/>
                  </a:lnTo>
                  <a:lnTo>
                    <a:pt x="1533" y="290"/>
                  </a:lnTo>
                  <a:lnTo>
                    <a:pt x="1571" y="274"/>
                  </a:lnTo>
                  <a:lnTo>
                    <a:pt x="1611" y="255"/>
                  </a:lnTo>
                  <a:lnTo>
                    <a:pt x="1649" y="239"/>
                  </a:lnTo>
                  <a:lnTo>
                    <a:pt x="1688" y="222"/>
                  </a:lnTo>
                  <a:lnTo>
                    <a:pt x="1723" y="207"/>
                  </a:lnTo>
                  <a:lnTo>
                    <a:pt x="1756" y="192"/>
                  </a:lnTo>
                  <a:lnTo>
                    <a:pt x="1783" y="180"/>
                  </a:lnTo>
                  <a:lnTo>
                    <a:pt x="1805" y="170"/>
                  </a:lnTo>
                  <a:lnTo>
                    <a:pt x="1820" y="164"/>
                  </a:lnTo>
                  <a:lnTo>
                    <a:pt x="1826" y="160"/>
                  </a:lnTo>
                  <a:lnTo>
                    <a:pt x="1836" y="152"/>
                  </a:lnTo>
                  <a:lnTo>
                    <a:pt x="1841" y="142"/>
                  </a:lnTo>
                  <a:lnTo>
                    <a:pt x="1845" y="130"/>
                  </a:lnTo>
                  <a:lnTo>
                    <a:pt x="1846" y="117"/>
                  </a:lnTo>
                  <a:lnTo>
                    <a:pt x="1848" y="100"/>
                  </a:lnTo>
                  <a:lnTo>
                    <a:pt x="1851" y="78"/>
                  </a:lnTo>
                  <a:lnTo>
                    <a:pt x="1858" y="57"/>
                  </a:lnTo>
                  <a:lnTo>
                    <a:pt x="1865" y="37"/>
                  </a:lnTo>
                  <a:lnTo>
                    <a:pt x="1868" y="27"/>
                  </a:lnTo>
                  <a:lnTo>
                    <a:pt x="1873" y="18"/>
                  </a:lnTo>
                  <a:lnTo>
                    <a:pt x="1876" y="8"/>
                  </a:lnTo>
                  <a:lnTo>
                    <a:pt x="1881" y="0"/>
                  </a:lnTo>
                  <a:lnTo>
                    <a:pt x="1861" y="10"/>
                  </a:lnTo>
                  <a:lnTo>
                    <a:pt x="1836" y="20"/>
                  </a:lnTo>
                  <a:lnTo>
                    <a:pt x="1808" y="32"/>
                  </a:lnTo>
                  <a:lnTo>
                    <a:pt x="1778" y="45"/>
                  </a:lnTo>
                  <a:lnTo>
                    <a:pt x="1746" y="58"/>
                  </a:lnTo>
                  <a:lnTo>
                    <a:pt x="1714" y="73"/>
                  </a:lnTo>
                  <a:lnTo>
                    <a:pt x="1681" y="88"/>
                  </a:lnTo>
                  <a:lnTo>
                    <a:pt x="1648" y="102"/>
                  </a:lnTo>
                  <a:lnTo>
                    <a:pt x="1616" y="117"/>
                  </a:lnTo>
                  <a:lnTo>
                    <a:pt x="1586" y="130"/>
                  </a:lnTo>
                  <a:lnTo>
                    <a:pt x="1558" y="142"/>
                  </a:lnTo>
                  <a:lnTo>
                    <a:pt x="1533" y="154"/>
                  </a:lnTo>
                  <a:lnTo>
                    <a:pt x="1511" y="164"/>
                  </a:lnTo>
                  <a:lnTo>
                    <a:pt x="1493" y="174"/>
                  </a:lnTo>
                  <a:lnTo>
                    <a:pt x="1479" y="179"/>
                  </a:lnTo>
                  <a:lnTo>
                    <a:pt x="1473" y="184"/>
                  </a:lnTo>
                  <a:lnTo>
                    <a:pt x="1459" y="190"/>
                  </a:lnTo>
                  <a:lnTo>
                    <a:pt x="1443" y="195"/>
                  </a:lnTo>
                  <a:lnTo>
                    <a:pt x="1423" y="199"/>
                  </a:lnTo>
                  <a:lnTo>
                    <a:pt x="1401" y="202"/>
                  </a:lnTo>
                  <a:lnTo>
                    <a:pt x="1376" y="205"/>
                  </a:lnTo>
                  <a:lnTo>
                    <a:pt x="1351" y="210"/>
                  </a:lnTo>
                  <a:lnTo>
                    <a:pt x="1324" y="215"/>
                  </a:lnTo>
                  <a:lnTo>
                    <a:pt x="1298" y="222"/>
                  </a:lnTo>
                  <a:close/>
                </a:path>
              </a:pathLst>
            </a:custGeom>
            <a:solidFill>
              <a:srgbClr val="ffffff">
                <a:alpha val="20000"/>
              </a:srgbClr>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2" name=""/>
            <p:cNvSpPr/>
            <p:nvPr/>
          </p:nvSpPr>
          <p:spPr>
            <a:xfrm>
              <a:off x="2813040" y="1346040"/>
              <a:ext cx="4348080" cy="3579840"/>
            </a:xfrm>
            <a:custGeom>
              <a:avLst/>
              <a:gdLst/>
              <a:ahLst/>
              <a:rect l="l" t="t" r="r" b="b"/>
              <a:pathLst>
                <a:path w="3185" h="2678">
                  <a:moveTo>
                    <a:pt x="380" y="90"/>
                  </a:moveTo>
                  <a:lnTo>
                    <a:pt x="683" y="28"/>
                  </a:lnTo>
                  <a:lnTo>
                    <a:pt x="693" y="0"/>
                  </a:lnTo>
                  <a:lnTo>
                    <a:pt x="695" y="0"/>
                  </a:lnTo>
                  <a:lnTo>
                    <a:pt x="698" y="0"/>
                  </a:lnTo>
                  <a:lnTo>
                    <a:pt x="704" y="0"/>
                  </a:lnTo>
                  <a:lnTo>
                    <a:pt x="712" y="0"/>
                  </a:lnTo>
                  <a:lnTo>
                    <a:pt x="720" y="0"/>
                  </a:lnTo>
                  <a:lnTo>
                    <a:pt x="734" y="2"/>
                  </a:lnTo>
                  <a:lnTo>
                    <a:pt x="747" y="5"/>
                  </a:lnTo>
                  <a:lnTo>
                    <a:pt x="764" y="10"/>
                  </a:lnTo>
                  <a:lnTo>
                    <a:pt x="782" y="15"/>
                  </a:lnTo>
                  <a:lnTo>
                    <a:pt x="799" y="20"/>
                  </a:lnTo>
                  <a:lnTo>
                    <a:pt x="817" y="23"/>
                  </a:lnTo>
                  <a:lnTo>
                    <a:pt x="832" y="28"/>
                  </a:lnTo>
                  <a:lnTo>
                    <a:pt x="847" y="32"/>
                  </a:lnTo>
                  <a:lnTo>
                    <a:pt x="862" y="35"/>
                  </a:lnTo>
                  <a:lnTo>
                    <a:pt x="874" y="40"/>
                  </a:lnTo>
                  <a:lnTo>
                    <a:pt x="884" y="43"/>
                  </a:lnTo>
                  <a:lnTo>
                    <a:pt x="894" y="48"/>
                  </a:lnTo>
                  <a:lnTo>
                    <a:pt x="907" y="57"/>
                  </a:lnTo>
                  <a:lnTo>
                    <a:pt x="924" y="68"/>
                  </a:lnTo>
                  <a:lnTo>
                    <a:pt x="942" y="82"/>
                  </a:lnTo>
                  <a:lnTo>
                    <a:pt x="962" y="97"/>
                  </a:lnTo>
                  <a:lnTo>
                    <a:pt x="985" y="112"/>
                  </a:lnTo>
                  <a:lnTo>
                    <a:pt x="1009" y="127"/>
                  </a:lnTo>
                  <a:lnTo>
                    <a:pt x="1035" y="142"/>
                  </a:lnTo>
                  <a:lnTo>
                    <a:pt x="1060" y="155"/>
                  </a:lnTo>
                  <a:lnTo>
                    <a:pt x="1080" y="168"/>
                  </a:lnTo>
                  <a:lnTo>
                    <a:pt x="1099" y="180"/>
                  </a:lnTo>
                  <a:lnTo>
                    <a:pt x="1114" y="190"/>
                  </a:lnTo>
                  <a:lnTo>
                    <a:pt x="1124" y="197"/>
                  </a:lnTo>
                  <a:lnTo>
                    <a:pt x="1132" y="203"/>
                  </a:lnTo>
                  <a:lnTo>
                    <a:pt x="1137" y="207"/>
                  </a:lnTo>
                  <a:lnTo>
                    <a:pt x="1139" y="208"/>
                  </a:lnTo>
                  <a:lnTo>
                    <a:pt x="1142" y="210"/>
                  </a:lnTo>
                  <a:lnTo>
                    <a:pt x="1150" y="215"/>
                  </a:lnTo>
                  <a:lnTo>
                    <a:pt x="1162" y="223"/>
                  </a:lnTo>
                  <a:lnTo>
                    <a:pt x="1177" y="233"/>
                  </a:lnTo>
                  <a:lnTo>
                    <a:pt x="1192" y="243"/>
                  </a:lnTo>
                  <a:lnTo>
                    <a:pt x="1205" y="255"/>
                  </a:lnTo>
                  <a:lnTo>
                    <a:pt x="1217" y="265"/>
                  </a:lnTo>
                  <a:lnTo>
                    <a:pt x="1225" y="275"/>
                  </a:lnTo>
                  <a:lnTo>
                    <a:pt x="1234" y="285"/>
                  </a:lnTo>
                  <a:lnTo>
                    <a:pt x="1245" y="297"/>
                  </a:lnTo>
                  <a:lnTo>
                    <a:pt x="1259" y="310"/>
                  </a:lnTo>
                  <a:lnTo>
                    <a:pt x="1276" y="325"/>
                  </a:lnTo>
                  <a:lnTo>
                    <a:pt x="1292" y="340"/>
                  </a:lnTo>
                  <a:lnTo>
                    <a:pt x="1309" y="354"/>
                  </a:lnTo>
                  <a:lnTo>
                    <a:pt x="1324" y="365"/>
                  </a:lnTo>
                  <a:lnTo>
                    <a:pt x="1334" y="375"/>
                  </a:lnTo>
                  <a:lnTo>
                    <a:pt x="1346" y="385"/>
                  </a:lnTo>
                  <a:lnTo>
                    <a:pt x="1362" y="397"/>
                  </a:lnTo>
                  <a:lnTo>
                    <a:pt x="1381" y="410"/>
                  </a:lnTo>
                  <a:lnTo>
                    <a:pt x="1401" y="424"/>
                  </a:lnTo>
                  <a:lnTo>
                    <a:pt x="1421" y="437"/>
                  </a:lnTo>
                  <a:lnTo>
                    <a:pt x="1436" y="445"/>
                  </a:lnTo>
                  <a:lnTo>
                    <a:pt x="1447" y="454"/>
                  </a:lnTo>
                  <a:lnTo>
                    <a:pt x="1451" y="455"/>
                  </a:lnTo>
                  <a:lnTo>
                    <a:pt x="1489" y="509"/>
                  </a:lnTo>
                  <a:lnTo>
                    <a:pt x="1497" y="509"/>
                  </a:lnTo>
                  <a:lnTo>
                    <a:pt x="1517" y="509"/>
                  </a:lnTo>
                  <a:lnTo>
                    <a:pt x="1546" y="509"/>
                  </a:lnTo>
                  <a:lnTo>
                    <a:pt x="1581" y="509"/>
                  </a:lnTo>
                  <a:lnTo>
                    <a:pt x="1617" y="510"/>
                  </a:lnTo>
                  <a:lnTo>
                    <a:pt x="1651" y="514"/>
                  </a:lnTo>
                  <a:lnTo>
                    <a:pt x="1677" y="520"/>
                  </a:lnTo>
                  <a:lnTo>
                    <a:pt x="1694" y="527"/>
                  </a:lnTo>
                  <a:lnTo>
                    <a:pt x="1696" y="527"/>
                  </a:lnTo>
                  <a:lnTo>
                    <a:pt x="1702" y="525"/>
                  </a:lnTo>
                  <a:lnTo>
                    <a:pt x="1712" y="522"/>
                  </a:lnTo>
                  <a:lnTo>
                    <a:pt x="1722" y="520"/>
                  </a:lnTo>
                  <a:lnTo>
                    <a:pt x="1736" y="519"/>
                  </a:lnTo>
                  <a:lnTo>
                    <a:pt x="1747" y="515"/>
                  </a:lnTo>
                  <a:lnTo>
                    <a:pt x="1759" y="514"/>
                  </a:lnTo>
                  <a:lnTo>
                    <a:pt x="1769" y="514"/>
                  </a:lnTo>
                  <a:lnTo>
                    <a:pt x="1782" y="515"/>
                  </a:lnTo>
                  <a:lnTo>
                    <a:pt x="1801" y="519"/>
                  </a:lnTo>
                  <a:lnTo>
                    <a:pt x="1823" y="522"/>
                  </a:lnTo>
                  <a:lnTo>
                    <a:pt x="1848" y="527"/>
                  </a:lnTo>
                  <a:lnTo>
                    <a:pt x="1869" y="534"/>
                  </a:lnTo>
                  <a:lnTo>
                    <a:pt x="1889" y="537"/>
                  </a:lnTo>
                  <a:lnTo>
                    <a:pt x="1903" y="540"/>
                  </a:lnTo>
                  <a:lnTo>
                    <a:pt x="1908" y="542"/>
                  </a:lnTo>
                  <a:lnTo>
                    <a:pt x="1926" y="604"/>
                  </a:lnTo>
                  <a:lnTo>
                    <a:pt x="2044" y="604"/>
                  </a:lnTo>
                  <a:lnTo>
                    <a:pt x="2064" y="689"/>
                  </a:lnTo>
                  <a:lnTo>
                    <a:pt x="2071" y="692"/>
                  </a:lnTo>
                  <a:lnTo>
                    <a:pt x="2083" y="704"/>
                  </a:lnTo>
                  <a:lnTo>
                    <a:pt x="2093" y="722"/>
                  </a:lnTo>
                  <a:lnTo>
                    <a:pt x="2093" y="746"/>
                  </a:lnTo>
                  <a:lnTo>
                    <a:pt x="2116" y="784"/>
                  </a:lnTo>
                  <a:lnTo>
                    <a:pt x="2154" y="769"/>
                  </a:lnTo>
                  <a:lnTo>
                    <a:pt x="2158" y="774"/>
                  </a:lnTo>
                  <a:lnTo>
                    <a:pt x="2164" y="786"/>
                  </a:lnTo>
                  <a:lnTo>
                    <a:pt x="2169" y="801"/>
                  </a:lnTo>
                  <a:lnTo>
                    <a:pt x="2173" y="812"/>
                  </a:lnTo>
                  <a:lnTo>
                    <a:pt x="2176" y="824"/>
                  </a:lnTo>
                  <a:lnTo>
                    <a:pt x="2183" y="834"/>
                  </a:lnTo>
                  <a:lnTo>
                    <a:pt x="2189" y="842"/>
                  </a:lnTo>
                  <a:lnTo>
                    <a:pt x="2193" y="846"/>
                  </a:lnTo>
                  <a:lnTo>
                    <a:pt x="2201" y="822"/>
                  </a:lnTo>
                  <a:lnTo>
                    <a:pt x="2226" y="869"/>
                  </a:lnTo>
                  <a:lnTo>
                    <a:pt x="2228" y="869"/>
                  </a:lnTo>
                  <a:lnTo>
                    <a:pt x="2234" y="871"/>
                  </a:lnTo>
                  <a:lnTo>
                    <a:pt x="2244" y="874"/>
                  </a:lnTo>
                  <a:lnTo>
                    <a:pt x="2254" y="877"/>
                  </a:lnTo>
                  <a:lnTo>
                    <a:pt x="2266" y="882"/>
                  </a:lnTo>
                  <a:lnTo>
                    <a:pt x="2276" y="887"/>
                  </a:lnTo>
                  <a:lnTo>
                    <a:pt x="2284" y="894"/>
                  </a:lnTo>
                  <a:lnTo>
                    <a:pt x="2288" y="902"/>
                  </a:lnTo>
                  <a:lnTo>
                    <a:pt x="2289" y="921"/>
                  </a:lnTo>
                  <a:lnTo>
                    <a:pt x="2293" y="937"/>
                  </a:lnTo>
                  <a:lnTo>
                    <a:pt x="2296" y="952"/>
                  </a:lnTo>
                  <a:lnTo>
                    <a:pt x="2306" y="964"/>
                  </a:lnTo>
                  <a:lnTo>
                    <a:pt x="2316" y="979"/>
                  </a:lnTo>
                  <a:lnTo>
                    <a:pt x="2321" y="996"/>
                  </a:lnTo>
                  <a:lnTo>
                    <a:pt x="2318" y="1011"/>
                  </a:lnTo>
                  <a:lnTo>
                    <a:pt x="2311" y="1017"/>
                  </a:lnTo>
                  <a:lnTo>
                    <a:pt x="2303" y="1019"/>
                  </a:lnTo>
                  <a:lnTo>
                    <a:pt x="2299" y="1024"/>
                  </a:lnTo>
                  <a:lnTo>
                    <a:pt x="2301" y="1032"/>
                  </a:lnTo>
                  <a:lnTo>
                    <a:pt x="2306" y="1046"/>
                  </a:lnTo>
                  <a:lnTo>
                    <a:pt x="2313" y="1061"/>
                  </a:lnTo>
                  <a:lnTo>
                    <a:pt x="2319" y="1076"/>
                  </a:lnTo>
                  <a:lnTo>
                    <a:pt x="2324" y="1092"/>
                  </a:lnTo>
                  <a:lnTo>
                    <a:pt x="2329" y="1107"/>
                  </a:lnTo>
                  <a:lnTo>
                    <a:pt x="2336" y="1117"/>
                  </a:lnTo>
                  <a:lnTo>
                    <a:pt x="2344" y="1121"/>
                  </a:lnTo>
                  <a:lnTo>
                    <a:pt x="2351" y="1121"/>
                  </a:lnTo>
                  <a:lnTo>
                    <a:pt x="2354" y="1121"/>
                  </a:lnTo>
                  <a:lnTo>
                    <a:pt x="2356" y="1129"/>
                  </a:lnTo>
                  <a:lnTo>
                    <a:pt x="2365" y="1149"/>
                  </a:lnTo>
                  <a:lnTo>
                    <a:pt x="2375" y="1174"/>
                  </a:lnTo>
                  <a:lnTo>
                    <a:pt x="2388" y="1192"/>
                  </a:lnTo>
                  <a:lnTo>
                    <a:pt x="2395" y="1201"/>
                  </a:lnTo>
                  <a:lnTo>
                    <a:pt x="2400" y="1209"/>
                  </a:lnTo>
                  <a:lnTo>
                    <a:pt x="2405" y="1217"/>
                  </a:lnTo>
                  <a:lnTo>
                    <a:pt x="2411" y="1227"/>
                  </a:lnTo>
                  <a:lnTo>
                    <a:pt x="2416" y="1236"/>
                  </a:lnTo>
                  <a:lnTo>
                    <a:pt x="2425" y="1244"/>
                  </a:lnTo>
                  <a:lnTo>
                    <a:pt x="2433" y="1253"/>
                  </a:lnTo>
                  <a:lnTo>
                    <a:pt x="2445" y="1259"/>
                  </a:lnTo>
                  <a:lnTo>
                    <a:pt x="2456" y="1263"/>
                  </a:lnTo>
                  <a:lnTo>
                    <a:pt x="2468" y="1263"/>
                  </a:lnTo>
                  <a:lnTo>
                    <a:pt x="2478" y="1263"/>
                  </a:lnTo>
                  <a:lnTo>
                    <a:pt x="2486" y="1259"/>
                  </a:lnTo>
                  <a:lnTo>
                    <a:pt x="2493" y="1256"/>
                  </a:lnTo>
                  <a:lnTo>
                    <a:pt x="2498" y="1253"/>
                  </a:lnTo>
                  <a:lnTo>
                    <a:pt x="2500" y="1251"/>
                  </a:lnTo>
                  <a:lnTo>
                    <a:pt x="2501" y="1249"/>
                  </a:lnTo>
                  <a:lnTo>
                    <a:pt x="2520" y="1259"/>
                  </a:lnTo>
                  <a:lnTo>
                    <a:pt x="2501" y="1293"/>
                  </a:lnTo>
                  <a:lnTo>
                    <a:pt x="2501" y="1294"/>
                  </a:lnTo>
                  <a:lnTo>
                    <a:pt x="2501" y="1299"/>
                  </a:lnTo>
                  <a:lnTo>
                    <a:pt x="2503" y="1304"/>
                  </a:lnTo>
                  <a:lnTo>
                    <a:pt x="2511" y="1306"/>
                  </a:lnTo>
                  <a:lnTo>
                    <a:pt x="2521" y="1314"/>
                  </a:lnTo>
                  <a:lnTo>
                    <a:pt x="2531" y="1329"/>
                  </a:lnTo>
                  <a:lnTo>
                    <a:pt x="2536" y="1346"/>
                  </a:lnTo>
                  <a:lnTo>
                    <a:pt x="2540" y="1354"/>
                  </a:lnTo>
                  <a:lnTo>
                    <a:pt x="2541" y="1356"/>
                  </a:lnTo>
                  <a:lnTo>
                    <a:pt x="2546" y="1361"/>
                  </a:lnTo>
                  <a:lnTo>
                    <a:pt x="2553" y="1368"/>
                  </a:lnTo>
                  <a:lnTo>
                    <a:pt x="2561" y="1378"/>
                  </a:lnTo>
                  <a:lnTo>
                    <a:pt x="2571" y="1388"/>
                  </a:lnTo>
                  <a:lnTo>
                    <a:pt x="2583" y="1401"/>
                  </a:lnTo>
                  <a:lnTo>
                    <a:pt x="2595" y="1414"/>
                  </a:lnTo>
                  <a:lnTo>
                    <a:pt x="2606" y="1428"/>
                  </a:lnTo>
                  <a:lnTo>
                    <a:pt x="2618" y="1443"/>
                  </a:lnTo>
                  <a:lnTo>
                    <a:pt x="2631" y="1458"/>
                  </a:lnTo>
                  <a:lnTo>
                    <a:pt x="2645" y="1473"/>
                  </a:lnTo>
                  <a:lnTo>
                    <a:pt x="2658" y="1488"/>
                  </a:lnTo>
                  <a:lnTo>
                    <a:pt x="2670" y="1501"/>
                  </a:lnTo>
                  <a:lnTo>
                    <a:pt x="2680" y="1511"/>
                  </a:lnTo>
                  <a:lnTo>
                    <a:pt x="2688" y="1521"/>
                  </a:lnTo>
                  <a:lnTo>
                    <a:pt x="2691" y="1528"/>
                  </a:lnTo>
                  <a:lnTo>
                    <a:pt x="2701" y="1533"/>
                  </a:lnTo>
                  <a:lnTo>
                    <a:pt x="2723" y="1538"/>
                  </a:lnTo>
                  <a:lnTo>
                    <a:pt x="2753" y="1543"/>
                  </a:lnTo>
                  <a:lnTo>
                    <a:pt x="2790" y="1546"/>
                  </a:lnTo>
                  <a:lnTo>
                    <a:pt x="2828" y="1549"/>
                  </a:lnTo>
                  <a:lnTo>
                    <a:pt x="2863" y="1551"/>
                  </a:lnTo>
                  <a:lnTo>
                    <a:pt x="2891" y="1554"/>
                  </a:lnTo>
                  <a:lnTo>
                    <a:pt x="2910" y="1556"/>
                  </a:lnTo>
                  <a:lnTo>
                    <a:pt x="2925" y="1558"/>
                  </a:lnTo>
                  <a:lnTo>
                    <a:pt x="2945" y="1559"/>
                  </a:lnTo>
                  <a:lnTo>
                    <a:pt x="2968" y="1561"/>
                  </a:lnTo>
                  <a:lnTo>
                    <a:pt x="2992" y="1563"/>
                  </a:lnTo>
                  <a:lnTo>
                    <a:pt x="3013" y="1566"/>
                  </a:lnTo>
                  <a:lnTo>
                    <a:pt x="3033" y="1568"/>
                  </a:lnTo>
                  <a:lnTo>
                    <a:pt x="3048" y="1569"/>
                  </a:lnTo>
                  <a:lnTo>
                    <a:pt x="3057" y="1571"/>
                  </a:lnTo>
                  <a:lnTo>
                    <a:pt x="3070" y="1569"/>
                  </a:lnTo>
                  <a:lnTo>
                    <a:pt x="3083" y="1563"/>
                  </a:lnTo>
                  <a:lnTo>
                    <a:pt x="3095" y="1554"/>
                  </a:lnTo>
                  <a:lnTo>
                    <a:pt x="3100" y="1551"/>
                  </a:lnTo>
                  <a:lnTo>
                    <a:pt x="3102" y="1553"/>
                  </a:lnTo>
                  <a:lnTo>
                    <a:pt x="3105" y="1556"/>
                  </a:lnTo>
                  <a:lnTo>
                    <a:pt x="3112" y="1561"/>
                  </a:lnTo>
                  <a:lnTo>
                    <a:pt x="3120" y="1568"/>
                  </a:lnTo>
                  <a:lnTo>
                    <a:pt x="3130" y="1576"/>
                  </a:lnTo>
                  <a:lnTo>
                    <a:pt x="3140" y="1586"/>
                  </a:lnTo>
                  <a:lnTo>
                    <a:pt x="3152" y="1598"/>
                  </a:lnTo>
                  <a:lnTo>
                    <a:pt x="3162" y="1609"/>
                  </a:lnTo>
                  <a:lnTo>
                    <a:pt x="3172" y="1624"/>
                  </a:lnTo>
                  <a:lnTo>
                    <a:pt x="3180" y="1638"/>
                  </a:lnTo>
                  <a:lnTo>
                    <a:pt x="3183" y="1653"/>
                  </a:lnTo>
                  <a:lnTo>
                    <a:pt x="3185" y="1668"/>
                  </a:lnTo>
                  <a:lnTo>
                    <a:pt x="3185" y="1678"/>
                  </a:lnTo>
                  <a:lnTo>
                    <a:pt x="3183" y="1688"/>
                  </a:lnTo>
                  <a:lnTo>
                    <a:pt x="3180" y="1696"/>
                  </a:lnTo>
                  <a:lnTo>
                    <a:pt x="3175" y="1704"/>
                  </a:lnTo>
                  <a:lnTo>
                    <a:pt x="3168" y="1724"/>
                  </a:lnTo>
                  <a:lnTo>
                    <a:pt x="3168" y="1748"/>
                  </a:lnTo>
                  <a:lnTo>
                    <a:pt x="3168" y="1771"/>
                  </a:lnTo>
                  <a:lnTo>
                    <a:pt x="3167" y="1795"/>
                  </a:lnTo>
                  <a:lnTo>
                    <a:pt x="3162" y="1815"/>
                  </a:lnTo>
                  <a:lnTo>
                    <a:pt x="3153" y="1835"/>
                  </a:lnTo>
                  <a:lnTo>
                    <a:pt x="3145" y="1851"/>
                  </a:lnTo>
                  <a:lnTo>
                    <a:pt x="3138" y="1870"/>
                  </a:lnTo>
                  <a:lnTo>
                    <a:pt x="3132" y="1890"/>
                  </a:lnTo>
                  <a:lnTo>
                    <a:pt x="3125" y="1913"/>
                  </a:lnTo>
                  <a:lnTo>
                    <a:pt x="3120" y="1933"/>
                  </a:lnTo>
                  <a:lnTo>
                    <a:pt x="3118" y="1951"/>
                  </a:lnTo>
                  <a:lnTo>
                    <a:pt x="3117" y="1965"/>
                  </a:lnTo>
                  <a:lnTo>
                    <a:pt x="3115" y="1976"/>
                  </a:lnTo>
                  <a:lnTo>
                    <a:pt x="3108" y="1986"/>
                  </a:lnTo>
                  <a:lnTo>
                    <a:pt x="3100" y="1993"/>
                  </a:lnTo>
                  <a:lnTo>
                    <a:pt x="3093" y="1996"/>
                  </a:lnTo>
                  <a:lnTo>
                    <a:pt x="3078" y="2003"/>
                  </a:lnTo>
                  <a:lnTo>
                    <a:pt x="3057" y="2013"/>
                  </a:lnTo>
                  <a:lnTo>
                    <a:pt x="3028" y="2026"/>
                  </a:lnTo>
                  <a:lnTo>
                    <a:pt x="2997" y="2040"/>
                  </a:lnTo>
                  <a:lnTo>
                    <a:pt x="2962" y="2056"/>
                  </a:lnTo>
                  <a:lnTo>
                    <a:pt x="2923" y="2073"/>
                  </a:lnTo>
                  <a:lnTo>
                    <a:pt x="2885" y="2090"/>
                  </a:lnTo>
                  <a:lnTo>
                    <a:pt x="2845" y="2108"/>
                  </a:lnTo>
                  <a:lnTo>
                    <a:pt x="2806" y="2125"/>
                  </a:lnTo>
                  <a:lnTo>
                    <a:pt x="2770" y="2141"/>
                  </a:lnTo>
                  <a:lnTo>
                    <a:pt x="2736" y="2155"/>
                  </a:lnTo>
                  <a:lnTo>
                    <a:pt x="2708" y="2168"/>
                  </a:lnTo>
                  <a:lnTo>
                    <a:pt x="2685" y="2180"/>
                  </a:lnTo>
                  <a:lnTo>
                    <a:pt x="2668" y="2188"/>
                  </a:lnTo>
                  <a:lnTo>
                    <a:pt x="2658" y="2193"/>
                  </a:lnTo>
                  <a:lnTo>
                    <a:pt x="2645" y="2200"/>
                  </a:lnTo>
                  <a:lnTo>
                    <a:pt x="2628" y="2205"/>
                  </a:lnTo>
                  <a:lnTo>
                    <a:pt x="2608" y="2208"/>
                  </a:lnTo>
                  <a:lnTo>
                    <a:pt x="2586" y="2211"/>
                  </a:lnTo>
                  <a:lnTo>
                    <a:pt x="2561" y="2215"/>
                  </a:lnTo>
                  <a:lnTo>
                    <a:pt x="2535" y="2220"/>
                  </a:lnTo>
                  <a:lnTo>
                    <a:pt x="2508" y="2225"/>
                  </a:lnTo>
                  <a:lnTo>
                    <a:pt x="2481" y="2231"/>
                  </a:lnTo>
                  <a:lnTo>
                    <a:pt x="2466" y="2235"/>
                  </a:lnTo>
                  <a:lnTo>
                    <a:pt x="2446" y="2240"/>
                  </a:lnTo>
                  <a:lnTo>
                    <a:pt x="2425" y="2245"/>
                  </a:lnTo>
                  <a:lnTo>
                    <a:pt x="2398" y="2252"/>
                  </a:lnTo>
                  <a:lnTo>
                    <a:pt x="2371" y="2258"/>
                  </a:lnTo>
                  <a:lnTo>
                    <a:pt x="2343" y="2265"/>
                  </a:lnTo>
                  <a:lnTo>
                    <a:pt x="2313" y="2272"/>
                  </a:lnTo>
                  <a:lnTo>
                    <a:pt x="2283" y="2278"/>
                  </a:lnTo>
                  <a:lnTo>
                    <a:pt x="2253" y="2285"/>
                  </a:lnTo>
                  <a:lnTo>
                    <a:pt x="2224" y="2293"/>
                  </a:lnTo>
                  <a:lnTo>
                    <a:pt x="2198" y="2300"/>
                  </a:lnTo>
                  <a:lnTo>
                    <a:pt x="2173" y="2307"/>
                  </a:lnTo>
                  <a:lnTo>
                    <a:pt x="2151" y="2312"/>
                  </a:lnTo>
                  <a:lnTo>
                    <a:pt x="2134" y="2318"/>
                  </a:lnTo>
                  <a:lnTo>
                    <a:pt x="2119" y="2323"/>
                  </a:lnTo>
                  <a:lnTo>
                    <a:pt x="2111" y="2327"/>
                  </a:lnTo>
                  <a:lnTo>
                    <a:pt x="2098" y="2333"/>
                  </a:lnTo>
                  <a:lnTo>
                    <a:pt x="2086" y="2338"/>
                  </a:lnTo>
                  <a:lnTo>
                    <a:pt x="2071" y="2347"/>
                  </a:lnTo>
                  <a:lnTo>
                    <a:pt x="2058" y="2353"/>
                  </a:lnTo>
                  <a:lnTo>
                    <a:pt x="2043" y="2365"/>
                  </a:lnTo>
                  <a:lnTo>
                    <a:pt x="2028" y="2378"/>
                  </a:lnTo>
                  <a:lnTo>
                    <a:pt x="2011" y="2398"/>
                  </a:lnTo>
                  <a:lnTo>
                    <a:pt x="1993" y="2422"/>
                  </a:lnTo>
                  <a:lnTo>
                    <a:pt x="1976" y="2447"/>
                  </a:lnTo>
                  <a:lnTo>
                    <a:pt x="1961" y="2470"/>
                  </a:lnTo>
                  <a:lnTo>
                    <a:pt x="1946" y="2492"/>
                  </a:lnTo>
                  <a:lnTo>
                    <a:pt x="1933" y="2512"/>
                  </a:lnTo>
                  <a:lnTo>
                    <a:pt x="1923" y="2528"/>
                  </a:lnTo>
                  <a:lnTo>
                    <a:pt x="1913" y="2542"/>
                  </a:lnTo>
                  <a:lnTo>
                    <a:pt x="1904" y="2552"/>
                  </a:lnTo>
                  <a:lnTo>
                    <a:pt x="1898" y="2558"/>
                  </a:lnTo>
                  <a:lnTo>
                    <a:pt x="1891" y="2563"/>
                  </a:lnTo>
                  <a:lnTo>
                    <a:pt x="1884" y="2568"/>
                  </a:lnTo>
                  <a:lnTo>
                    <a:pt x="1874" y="2573"/>
                  </a:lnTo>
                  <a:lnTo>
                    <a:pt x="1864" y="2575"/>
                  </a:lnTo>
                  <a:lnTo>
                    <a:pt x="1853" y="2577"/>
                  </a:lnTo>
                  <a:lnTo>
                    <a:pt x="1843" y="2577"/>
                  </a:lnTo>
                  <a:lnTo>
                    <a:pt x="1833" y="2573"/>
                  </a:lnTo>
                  <a:lnTo>
                    <a:pt x="1823" y="2568"/>
                  </a:lnTo>
                  <a:lnTo>
                    <a:pt x="1814" y="2562"/>
                  </a:lnTo>
                  <a:lnTo>
                    <a:pt x="1806" y="2553"/>
                  </a:lnTo>
                  <a:lnTo>
                    <a:pt x="1799" y="2547"/>
                  </a:lnTo>
                  <a:lnTo>
                    <a:pt x="1794" y="2538"/>
                  </a:lnTo>
                  <a:lnTo>
                    <a:pt x="1787" y="2533"/>
                  </a:lnTo>
                  <a:lnTo>
                    <a:pt x="1781" y="2530"/>
                  </a:lnTo>
                  <a:lnTo>
                    <a:pt x="1772" y="2528"/>
                  </a:lnTo>
                  <a:lnTo>
                    <a:pt x="1764" y="2530"/>
                  </a:lnTo>
                  <a:lnTo>
                    <a:pt x="1752" y="2533"/>
                  </a:lnTo>
                  <a:lnTo>
                    <a:pt x="1739" y="2535"/>
                  </a:lnTo>
                  <a:lnTo>
                    <a:pt x="1722" y="2535"/>
                  </a:lnTo>
                  <a:lnTo>
                    <a:pt x="1704" y="2535"/>
                  </a:lnTo>
                  <a:lnTo>
                    <a:pt x="1684" y="2535"/>
                  </a:lnTo>
                  <a:lnTo>
                    <a:pt x="1666" y="2533"/>
                  </a:lnTo>
                  <a:lnTo>
                    <a:pt x="1647" y="2532"/>
                  </a:lnTo>
                  <a:lnTo>
                    <a:pt x="1632" y="2530"/>
                  </a:lnTo>
                  <a:lnTo>
                    <a:pt x="1617" y="2528"/>
                  </a:lnTo>
                  <a:lnTo>
                    <a:pt x="1602" y="2525"/>
                  </a:lnTo>
                  <a:lnTo>
                    <a:pt x="1589" y="2520"/>
                  </a:lnTo>
                  <a:lnTo>
                    <a:pt x="1574" y="2517"/>
                  </a:lnTo>
                  <a:lnTo>
                    <a:pt x="1561" y="2513"/>
                  </a:lnTo>
                  <a:lnTo>
                    <a:pt x="1549" y="2510"/>
                  </a:lnTo>
                  <a:lnTo>
                    <a:pt x="1537" y="2507"/>
                  </a:lnTo>
                  <a:lnTo>
                    <a:pt x="1527" y="2507"/>
                  </a:lnTo>
                  <a:lnTo>
                    <a:pt x="1514" y="2507"/>
                  </a:lnTo>
                  <a:lnTo>
                    <a:pt x="1492" y="2507"/>
                  </a:lnTo>
                  <a:lnTo>
                    <a:pt x="1466" y="2508"/>
                  </a:lnTo>
                  <a:lnTo>
                    <a:pt x="1436" y="2508"/>
                  </a:lnTo>
                  <a:lnTo>
                    <a:pt x="1409" y="2510"/>
                  </a:lnTo>
                  <a:lnTo>
                    <a:pt x="1386" y="2512"/>
                  </a:lnTo>
                  <a:lnTo>
                    <a:pt x="1369" y="2512"/>
                  </a:lnTo>
                  <a:lnTo>
                    <a:pt x="1362" y="2512"/>
                  </a:lnTo>
                  <a:lnTo>
                    <a:pt x="1361" y="2513"/>
                  </a:lnTo>
                  <a:lnTo>
                    <a:pt x="1356" y="2515"/>
                  </a:lnTo>
                  <a:lnTo>
                    <a:pt x="1349" y="2518"/>
                  </a:lnTo>
                  <a:lnTo>
                    <a:pt x="1339" y="2520"/>
                  </a:lnTo>
                  <a:lnTo>
                    <a:pt x="1329" y="2522"/>
                  </a:lnTo>
                  <a:lnTo>
                    <a:pt x="1317" y="2522"/>
                  </a:lnTo>
                  <a:lnTo>
                    <a:pt x="1304" y="2518"/>
                  </a:lnTo>
                  <a:lnTo>
                    <a:pt x="1292" y="2512"/>
                  </a:lnTo>
                  <a:lnTo>
                    <a:pt x="1281" y="2503"/>
                  </a:lnTo>
                  <a:lnTo>
                    <a:pt x="1272" y="2497"/>
                  </a:lnTo>
                  <a:lnTo>
                    <a:pt x="1266" y="2490"/>
                  </a:lnTo>
                  <a:lnTo>
                    <a:pt x="1261" y="2485"/>
                  </a:lnTo>
                  <a:lnTo>
                    <a:pt x="1256" y="2482"/>
                  </a:lnTo>
                  <a:lnTo>
                    <a:pt x="1250" y="2480"/>
                  </a:lnTo>
                  <a:lnTo>
                    <a:pt x="1245" y="2480"/>
                  </a:lnTo>
                  <a:lnTo>
                    <a:pt x="1239" y="2483"/>
                  </a:lnTo>
                  <a:lnTo>
                    <a:pt x="1232" y="2490"/>
                  </a:lnTo>
                  <a:lnTo>
                    <a:pt x="1235" y="2498"/>
                  </a:lnTo>
                  <a:lnTo>
                    <a:pt x="1240" y="2510"/>
                  </a:lnTo>
                  <a:lnTo>
                    <a:pt x="1239" y="2525"/>
                  </a:lnTo>
                  <a:lnTo>
                    <a:pt x="1234" y="2545"/>
                  </a:lnTo>
                  <a:lnTo>
                    <a:pt x="1232" y="2567"/>
                  </a:lnTo>
                  <a:lnTo>
                    <a:pt x="1234" y="2587"/>
                  </a:lnTo>
                  <a:lnTo>
                    <a:pt x="1234" y="2602"/>
                  </a:lnTo>
                  <a:lnTo>
                    <a:pt x="1230" y="2615"/>
                  </a:lnTo>
                  <a:lnTo>
                    <a:pt x="1225" y="2630"/>
                  </a:lnTo>
                  <a:lnTo>
                    <a:pt x="1219" y="2643"/>
                  </a:lnTo>
                  <a:lnTo>
                    <a:pt x="1215" y="2648"/>
                  </a:lnTo>
                  <a:lnTo>
                    <a:pt x="1177" y="2678"/>
                  </a:lnTo>
                  <a:lnTo>
                    <a:pt x="1175" y="2672"/>
                  </a:lnTo>
                  <a:lnTo>
                    <a:pt x="1170" y="2657"/>
                  </a:lnTo>
                  <a:lnTo>
                    <a:pt x="1167" y="2640"/>
                  </a:lnTo>
                  <a:lnTo>
                    <a:pt x="1167" y="2625"/>
                  </a:lnTo>
                  <a:lnTo>
                    <a:pt x="1167" y="2613"/>
                  </a:lnTo>
                  <a:lnTo>
                    <a:pt x="1164" y="2598"/>
                  </a:lnTo>
                  <a:lnTo>
                    <a:pt x="1154" y="2583"/>
                  </a:lnTo>
                  <a:lnTo>
                    <a:pt x="1144" y="2568"/>
                  </a:lnTo>
                  <a:lnTo>
                    <a:pt x="1134" y="2555"/>
                  </a:lnTo>
                  <a:lnTo>
                    <a:pt x="1124" y="2543"/>
                  </a:lnTo>
                  <a:lnTo>
                    <a:pt x="1115" y="2532"/>
                  </a:lnTo>
                  <a:lnTo>
                    <a:pt x="1110" y="2522"/>
                  </a:lnTo>
                  <a:lnTo>
                    <a:pt x="1107" y="2508"/>
                  </a:lnTo>
                  <a:lnTo>
                    <a:pt x="1104" y="2492"/>
                  </a:lnTo>
                  <a:lnTo>
                    <a:pt x="1095" y="2475"/>
                  </a:lnTo>
                  <a:lnTo>
                    <a:pt x="1082" y="2458"/>
                  </a:lnTo>
                  <a:lnTo>
                    <a:pt x="1072" y="2450"/>
                  </a:lnTo>
                  <a:lnTo>
                    <a:pt x="1059" y="2437"/>
                  </a:lnTo>
                  <a:lnTo>
                    <a:pt x="1044" y="2423"/>
                  </a:lnTo>
                  <a:lnTo>
                    <a:pt x="1029" y="2405"/>
                  </a:lnTo>
                  <a:lnTo>
                    <a:pt x="1014" y="2387"/>
                  </a:lnTo>
                  <a:lnTo>
                    <a:pt x="999" y="2368"/>
                  </a:lnTo>
                  <a:lnTo>
                    <a:pt x="987" y="2350"/>
                  </a:lnTo>
                  <a:lnTo>
                    <a:pt x="979" y="2332"/>
                  </a:lnTo>
                  <a:lnTo>
                    <a:pt x="964" y="2302"/>
                  </a:lnTo>
                  <a:lnTo>
                    <a:pt x="949" y="2280"/>
                  </a:lnTo>
                  <a:lnTo>
                    <a:pt x="937" y="2263"/>
                  </a:lnTo>
                  <a:lnTo>
                    <a:pt x="930" y="2245"/>
                  </a:lnTo>
                  <a:lnTo>
                    <a:pt x="927" y="2231"/>
                  </a:lnTo>
                  <a:lnTo>
                    <a:pt x="920" y="2211"/>
                  </a:lnTo>
                  <a:lnTo>
                    <a:pt x="910" y="2190"/>
                  </a:lnTo>
                  <a:lnTo>
                    <a:pt x="900" y="2166"/>
                  </a:lnTo>
                  <a:lnTo>
                    <a:pt x="890" y="2143"/>
                  </a:lnTo>
                  <a:lnTo>
                    <a:pt x="880" y="2123"/>
                  </a:lnTo>
                  <a:lnTo>
                    <a:pt x="870" y="2108"/>
                  </a:lnTo>
                  <a:lnTo>
                    <a:pt x="864" y="2098"/>
                  </a:lnTo>
                  <a:lnTo>
                    <a:pt x="854" y="2085"/>
                  </a:lnTo>
                  <a:lnTo>
                    <a:pt x="845" y="2071"/>
                  </a:lnTo>
                  <a:lnTo>
                    <a:pt x="834" y="2056"/>
                  </a:lnTo>
                  <a:lnTo>
                    <a:pt x="822" y="2041"/>
                  </a:lnTo>
                  <a:lnTo>
                    <a:pt x="814" y="2033"/>
                  </a:lnTo>
                  <a:lnTo>
                    <a:pt x="802" y="2025"/>
                  </a:lnTo>
                  <a:lnTo>
                    <a:pt x="790" y="2018"/>
                  </a:lnTo>
                  <a:lnTo>
                    <a:pt x="779" y="2010"/>
                  </a:lnTo>
                  <a:lnTo>
                    <a:pt x="765" y="2003"/>
                  </a:lnTo>
                  <a:lnTo>
                    <a:pt x="752" y="1998"/>
                  </a:lnTo>
                  <a:lnTo>
                    <a:pt x="740" y="1995"/>
                  </a:lnTo>
                  <a:lnTo>
                    <a:pt x="730" y="1993"/>
                  </a:lnTo>
                  <a:lnTo>
                    <a:pt x="722" y="1991"/>
                  </a:lnTo>
                  <a:lnTo>
                    <a:pt x="717" y="1988"/>
                  </a:lnTo>
                  <a:lnTo>
                    <a:pt x="710" y="1983"/>
                  </a:lnTo>
                  <a:lnTo>
                    <a:pt x="705" y="1975"/>
                  </a:lnTo>
                  <a:lnTo>
                    <a:pt x="700" y="1966"/>
                  </a:lnTo>
                  <a:lnTo>
                    <a:pt x="693" y="1953"/>
                  </a:lnTo>
                  <a:lnTo>
                    <a:pt x="685" y="1940"/>
                  </a:lnTo>
                  <a:lnTo>
                    <a:pt x="673" y="1923"/>
                  </a:lnTo>
                  <a:lnTo>
                    <a:pt x="662" y="1905"/>
                  </a:lnTo>
                  <a:lnTo>
                    <a:pt x="652" y="1886"/>
                  </a:lnTo>
                  <a:lnTo>
                    <a:pt x="642" y="1868"/>
                  </a:lnTo>
                  <a:lnTo>
                    <a:pt x="635" y="1851"/>
                  </a:lnTo>
                  <a:lnTo>
                    <a:pt x="628" y="1833"/>
                  </a:lnTo>
                  <a:lnTo>
                    <a:pt x="623" y="1818"/>
                  </a:lnTo>
                  <a:lnTo>
                    <a:pt x="620" y="1803"/>
                  </a:lnTo>
                  <a:lnTo>
                    <a:pt x="617" y="1790"/>
                  </a:lnTo>
                  <a:lnTo>
                    <a:pt x="612" y="1765"/>
                  </a:lnTo>
                  <a:lnTo>
                    <a:pt x="603" y="1741"/>
                  </a:lnTo>
                  <a:lnTo>
                    <a:pt x="597" y="1724"/>
                  </a:lnTo>
                  <a:lnTo>
                    <a:pt x="593" y="1718"/>
                  </a:lnTo>
                  <a:lnTo>
                    <a:pt x="600" y="1706"/>
                  </a:lnTo>
                  <a:lnTo>
                    <a:pt x="610" y="1676"/>
                  </a:lnTo>
                  <a:lnTo>
                    <a:pt x="617" y="1636"/>
                  </a:lnTo>
                  <a:lnTo>
                    <a:pt x="607" y="1594"/>
                  </a:lnTo>
                  <a:lnTo>
                    <a:pt x="590" y="1559"/>
                  </a:lnTo>
                  <a:lnTo>
                    <a:pt x="582" y="1531"/>
                  </a:lnTo>
                  <a:lnTo>
                    <a:pt x="573" y="1503"/>
                  </a:lnTo>
                  <a:lnTo>
                    <a:pt x="560" y="1471"/>
                  </a:lnTo>
                  <a:lnTo>
                    <a:pt x="552" y="1454"/>
                  </a:lnTo>
                  <a:lnTo>
                    <a:pt x="547" y="1439"/>
                  </a:lnTo>
                  <a:lnTo>
                    <a:pt x="542" y="1426"/>
                  </a:lnTo>
                  <a:lnTo>
                    <a:pt x="537" y="1413"/>
                  </a:lnTo>
                  <a:lnTo>
                    <a:pt x="532" y="1401"/>
                  </a:lnTo>
                  <a:lnTo>
                    <a:pt x="525" y="1393"/>
                  </a:lnTo>
                  <a:lnTo>
                    <a:pt x="518" y="1383"/>
                  </a:lnTo>
                  <a:lnTo>
                    <a:pt x="508" y="1376"/>
                  </a:lnTo>
                  <a:lnTo>
                    <a:pt x="497" y="1369"/>
                  </a:lnTo>
                  <a:lnTo>
                    <a:pt x="487" y="1361"/>
                  </a:lnTo>
                  <a:lnTo>
                    <a:pt x="475" y="1354"/>
                  </a:lnTo>
                  <a:lnTo>
                    <a:pt x="463" y="1346"/>
                  </a:lnTo>
                  <a:lnTo>
                    <a:pt x="452" y="1338"/>
                  </a:lnTo>
                  <a:lnTo>
                    <a:pt x="440" y="1329"/>
                  </a:lnTo>
                  <a:lnTo>
                    <a:pt x="427" y="1323"/>
                  </a:lnTo>
                  <a:lnTo>
                    <a:pt x="413" y="1316"/>
                  </a:lnTo>
                  <a:lnTo>
                    <a:pt x="392" y="1303"/>
                  </a:lnTo>
                  <a:lnTo>
                    <a:pt x="382" y="1286"/>
                  </a:lnTo>
                  <a:lnTo>
                    <a:pt x="375" y="1268"/>
                  </a:lnTo>
                  <a:lnTo>
                    <a:pt x="365" y="1249"/>
                  </a:lnTo>
                  <a:lnTo>
                    <a:pt x="355" y="1232"/>
                  </a:lnTo>
                  <a:lnTo>
                    <a:pt x="348" y="1219"/>
                  </a:lnTo>
                  <a:lnTo>
                    <a:pt x="347" y="1209"/>
                  </a:lnTo>
                  <a:lnTo>
                    <a:pt x="347" y="1206"/>
                  </a:lnTo>
                  <a:lnTo>
                    <a:pt x="348" y="1206"/>
                  </a:lnTo>
                  <a:lnTo>
                    <a:pt x="353" y="1204"/>
                  </a:lnTo>
                  <a:lnTo>
                    <a:pt x="360" y="1201"/>
                  </a:lnTo>
                  <a:lnTo>
                    <a:pt x="367" y="1194"/>
                  </a:lnTo>
                  <a:lnTo>
                    <a:pt x="370" y="1187"/>
                  </a:lnTo>
                  <a:lnTo>
                    <a:pt x="370" y="1176"/>
                  </a:lnTo>
                  <a:lnTo>
                    <a:pt x="365" y="1162"/>
                  </a:lnTo>
                  <a:lnTo>
                    <a:pt x="352" y="1144"/>
                  </a:lnTo>
                  <a:lnTo>
                    <a:pt x="330" y="1122"/>
                  </a:lnTo>
                  <a:lnTo>
                    <a:pt x="327" y="1122"/>
                  </a:lnTo>
                  <a:lnTo>
                    <a:pt x="330" y="1126"/>
                  </a:lnTo>
                  <a:lnTo>
                    <a:pt x="327" y="1112"/>
                  </a:lnTo>
                  <a:lnTo>
                    <a:pt x="320" y="1091"/>
                  </a:lnTo>
                  <a:lnTo>
                    <a:pt x="315" y="1076"/>
                  </a:lnTo>
                  <a:lnTo>
                    <a:pt x="308" y="1066"/>
                  </a:lnTo>
                  <a:lnTo>
                    <a:pt x="293" y="1054"/>
                  </a:lnTo>
                  <a:lnTo>
                    <a:pt x="283" y="1039"/>
                  </a:lnTo>
                  <a:lnTo>
                    <a:pt x="285" y="1024"/>
                  </a:lnTo>
                  <a:lnTo>
                    <a:pt x="287" y="1011"/>
                  </a:lnTo>
                  <a:lnTo>
                    <a:pt x="275" y="997"/>
                  </a:lnTo>
                  <a:lnTo>
                    <a:pt x="257" y="986"/>
                  </a:lnTo>
                  <a:lnTo>
                    <a:pt x="243" y="971"/>
                  </a:lnTo>
                  <a:lnTo>
                    <a:pt x="235" y="954"/>
                  </a:lnTo>
                  <a:lnTo>
                    <a:pt x="232" y="936"/>
                  </a:lnTo>
                  <a:lnTo>
                    <a:pt x="228" y="916"/>
                  </a:lnTo>
                  <a:lnTo>
                    <a:pt x="218" y="889"/>
                  </a:lnTo>
                  <a:lnTo>
                    <a:pt x="205" y="862"/>
                  </a:lnTo>
                  <a:lnTo>
                    <a:pt x="185" y="836"/>
                  </a:lnTo>
                  <a:lnTo>
                    <a:pt x="172" y="814"/>
                  </a:lnTo>
                  <a:lnTo>
                    <a:pt x="168" y="796"/>
                  </a:lnTo>
                  <a:lnTo>
                    <a:pt x="167" y="782"/>
                  </a:lnTo>
                  <a:lnTo>
                    <a:pt x="157" y="774"/>
                  </a:lnTo>
                  <a:lnTo>
                    <a:pt x="145" y="766"/>
                  </a:lnTo>
                  <a:lnTo>
                    <a:pt x="140" y="754"/>
                  </a:lnTo>
                  <a:lnTo>
                    <a:pt x="133" y="739"/>
                  </a:lnTo>
                  <a:lnTo>
                    <a:pt x="118" y="722"/>
                  </a:lnTo>
                  <a:lnTo>
                    <a:pt x="100" y="700"/>
                  </a:lnTo>
                  <a:lnTo>
                    <a:pt x="86" y="674"/>
                  </a:lnTo>
                  <a:lnTo>
                    <a:pt x="78" y="652"/>
                  </a:lnTo>
                  <a:lnTo>
                    <a:pt x="75" y="642"/>
                  </a:lnTo>
                  <a:lnTo>
                    <a:pt x="70" y="642"/>
                  </a:lnTo>
                  <a:lnTo>
                    <a:pt x="60" y="642"/>
                  </a:lnTo>
                  <a:lnTo>
                    <a:pt x="45" y="642"/>
                  </a:lnTo>
                  <a:lnTo>
                    <a:pt x="33" y="642"/>
                  </a:lnTo>
                  <a:lnTo>
                    <a:pt x="21" y="642"/>
                  </a:lnTo>
                  <a:lnTo>
                    <a:pt x="11" y="644"/>
                  </a:lnTo>
                  <a:lnTo>
                    <a:pt x="3" y="645"/>
                  </a:lnTo>
                  <a:lnTo>
                    <a:pt x="0" y="645"/>
                  </a:lnTo>
                  <a:lnTo>
                    <a:pt x="1" y="642"/>
                  </a:lnTo>
                  <a:lnTo>
                    <a:pt x="5" y="632"/>
                  </a:lnTo>
                  <a:lnTo>
                    <a:pt x="8" y="620"/>
                  </a:lnTo>
                  <a:lnTo>
                    <a:pt x="13" y="609"/>
                  </a:lnTo>
                  <a:lnTo>
                    <a:pt x="20" y="592"/>
                  </a:lnTo>
                  <a:lnTo>
                    <a:pt x="28" y="569"/>
                  </a:lnTo>
                  <a:lnTo>
                    <a:pt x="35" y="542"/>
                  </a:lnTo>
                  <a:lnTo>
                    <a:pt x="38" y="517"/>
                  </a:lnTo>
                  <a:lnTo>
                    <a:pt x="40" y="500"/>
                  </a:lnTo>
                  <a:lnTo>
                    <a:pt x="43" y="489"/>
                  </a:lnTo>
                  <a:lnTo>
                    <a:pt x="50" y="480"/>
                  </a:lnTo>
                  <a:lnTo>
                    <a:pt x="56" y="470"/>
                  </a:lnTo>
                  <a:lnTo>
                    <a:pt x="61" y="457"/>
                  </a:lnTo>
                  <a:lnTo>
                    <a:pt x="65" y="442"/>
                  </a:lnTo>
                  <a:lnTo>
                    <a:pt x="66" y="429"/>
                  </a:lnTo>
                  <a:lnTo>
                    <a:pt x="66" y="424"/>
                  </a:lnTo>
                  <a:lnTo>
                    <a:pt x="232" y="465"/>
                  </a:lnTo>
                  <a:lnTo>
                    <a:pt x="235" y="464"/>
                  </a:lnTo>
                  <a:lnTo>
                    <a:pt x="243" y="457"/>
                  </a:lnTo>
                  <a:lnTo>
                    <a:pt x="257" y="450"/>
                  </a:lnTo>
                  <a:lnTo>
                    <a:pt x="270" y="439"/>
                  </a:lnTo>
                  <a:lnTo>
                    <a:pt x="285" y="429"/>
                  </a:lnTo>
                  <a:lnTo>
                    <a:pt x="298" y="417"/>
                  </a:lnTo>
                  <a:lnTo>
                    <a:pt x="308" y="407"/>
                  </a:lnTo>
                  <a:lnTo>
                    <a:pt x="313" y="399"/>
                  </a:lnTo>
                  <a:lnTo>
                    <a:pt x="318" y="384"/>
                  </a:lnTo>
                  <a:lnTo>
                    <a:pt x="325" y="369"/>
                  </a:lnTo>
                  <a:lnTo>
                    <a:pt x="330" y="357"/>
                  </a:lnTo>
                  <a:lnTo>
                    <a:pt x="332" y="352"/>
                  </a:lnTo>
                  <a:lnTo>
                    <a:pt x="335" y="352"/>
                  </a:lnTo>
                  <a:lnTo>
                    <a:pt x="342" y="352"/>
                  </a:lnTo>
                  <a:lnTo>
                    <a:pt x="353" y="352"/>
                  </a:lnTo>
                  <a:lnTo>
                    <a:pt x="367" y="350"/>
                  </a:lnTo>
                  <a:lnTo>
                    <a:pt x="382" y="350"/>
                  </a:lnTo>
                  <a:lnTo>
                    <a:pt x="398" y="347"/>
                  </a:lnTo>
                  <a:lnTo>
                    <a:pt x="413" y="345"/>
                  </a:lnTo>
                  <a:lnTo>
                    <a:pt x="427" y="342"/>
                  </a:lnTo>
                  <a:lnTo>
                    <a:pt x="438" y="337"/>
                  </a:lnTo>
                  <a:lnTo>
                    <a:pt x="447" y="329"/>
                  </a:lnTo>
                  <a:lnTo>
                    <a:pt x="455" y="319"/>
                  </a:lnTo>
                  <a:lnTo>
                    <a:pt x="462" y="309"/>
                  </a:lnTo>
                  <a:lnTo>
                    <a:pt x="468" y="299"/>
                  </a:lnTo>
                  <a:lnTo>
                    <a:pt x="475" y="290"/>
                  </a:lnTo>
                  <a:lnTo>
                    <a:pt x="483" y="284"/>
                  </a:lnTo>
                  <a:lnTo>
                    <a:pt x="493" y="280"/>
                  </a:lnTo>
                  <a:lnTo>
                    <a:pt x="508" y="275"/>
                  </a:lnTo>
                  <a:lnTo>
                    <a:pt x="513" y="269"/>
                  </a:lnTo>
                  <a:lnTo>
                    <a:pt x="513" y="264"/>
                  </a:lnTo>
                  <a:lnTo>
                    <a:pt x="512" y="262"/>
                  </a:lnTo>
                  <a:lnTo>
                    <a:pt x="380" y="90"/>
                  </a:lnTo>
                  <a:close/>
                </a:path>
              </a:pathLst>
            </a:custGeom>
            <a:solidFill>
              <a:srgbClr val="b2b2b2">
                <a:alpha val="30000"/>
              </a:srgbClr>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pic>
        <p:nvPicPr>
          <p:cNvPr id="413" name="" descr=""/>
          <p:cNvPicPr/>
          <p:nvPr/>
        </p:nvPicPr>
        <p:blipFill>
          <a:blip r:embed="rId4"/>
          <a:stretch/>
        </p:blipFill>
        <p:spPr>
          <a:xfrm>
            <a:off x="1380960" y="1238400"/>
            <a:ext cx="2733840" cy="5162400"/>
          </a:xfrm>
          <a:prstGeom prst="rect">
            <a:avLst/>
          </a:prstGeom>
          <a:ln w="0">
            <a:noFill/>
          </a:ln>
        </p:spPr>
      </p:pic>
      <p:sp>
        <p:nvSpPr>
          <p:cNvPr id="414" name=""/>
          <p:cNvSpPr/>
          <p:nvPr/>
        </p:nvSpPr>
        <p:spPr>
          <a:xfrm>
            <a:off x="4211640" y="1803240"/>
            <a:ext cx="446400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333399"/>
                </a:solidFill>
                <a:latin typeface="Albertus Medium"/>
              </a:rPr>
              <a:t>Soyabean oil Nanoemulsion at 400-600nm is able to kill many pathogen including bacteria (MRSA) and viruses due to their surface, on the other hand it might disrupt erythrocyte and spermatocyte membranes thus might not be safe for systemic use.</a:t>
            </a:r>
            <a:endParaRPr b="0" lang="en-US" sz="2400" spc="-1" strike="noStrike">
              <a:solidFill>
                <a:srgbClr val="000000"/>
              </a:solidFill>
              <a:latin typeface="Arial"/>
            </a:endParaRPr>
          </a:p>
        </p:txBody>
      </p:sp>
      <p:sp>
        <p:nvSpPr>
          <p:cNvPr id="415" name=""/>
          <p:cNvSpPr/>
          <p:nvPr/>
        </p:nvSpPr>
        <p:spPr>
          <a:xfrm>
            <a:off x="609480" y="6629400"/>
            <a:ext cx="8534520" cy="228600"/>
          </a:xfrm>
          <a:prstGeom prst="rect">
            <a:avLst/>
          </a:prstGeom>
          <a:solidFill>
            <a:srgbClr val="bbe0e3"/>
          </a:solidFill>
          <a:ln cap="sq"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99"/>
                </a:solidFill>
                <a:latin typeface="Albertus Medium"/>
              </a:rPr>
              <a:t>www.skinandallergy.org</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0" lang="en-US" sz="1000" spc="-1" strike="noStrike">
                <a:solidFill>
                  <a:srgbClr val="333399"/>
                </a:solidFill>
                <a:latin typeface="Albertus Medium"/>
              </a:rPr>
              <a:t>www.panarabderm.org</a:t>
            </a:r>
            <a:endParaRPr b="0" lang="en-US" sz="10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6" name="" descr=""/>
          <p:cNvPicPr/>
          <p:nvPr/>
        </p:nvPicPr>
        <p:blipFill>
          <a:blip r:embed="rId2"/>
          <a:stretch/>
        </p:blipFill>
        <p:spPr>
          <a:xfrm>
            <a:off x="8153280" y="74520"/>
            <a:ext cx="922320" cy="992160"/>
          </a:xfrm>
          <a:prstGeom prst="rect">
            <a:avLst/>
          </a:prstGeom>
          <a:ln w="0">
            <a:noFill/>
          </a:ln>
        </p:spPr>
      </p:pic>
      <p:sp>
        <p:nvSpPr>
          <p:cNvPr id="417" name=""/>
          <p:cNvSpPr/>
          <p:nvPr/>
        </p:nvSpPr>
        <p:spPr>
          <a:xfrm>
            <a:off x="1295280" y="1066680"/>
            <a:ext cx="6193080" cy="1800"/>
          </a:xfrm>
          <a:prstGeom prst="line">
            <a:avLst/>
          </a:prstGeom>
          <a:ln cap="sq" w="12600">
            <a:solidFill>
              <a:srgbClr val="b2b2b2"/>
            </a:solidFill>
            <a:miter/>
          </a:ln>
        </p:spPr>
        <p:style>
          <a:lnRef idx="0"/>
          <a:fillRef idx="0"/>
          <a:effectRef idx="0"/>
          <a:fontRef idx="minor"/>
        </p:style>
        <p:txBody>
          <a:bodyPr lIns="90000" rIns="90000" tIns="-45000" bIns="-45000" anchor="t">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418" name="" descr=""/>
          <p:cNvPicPr/>
          <p:nvPr/>
        </p:nvPicPr>
        <p:blipFill>
          <a:blip r:embed="rId3"/>
          <a:stretch/>
        </p:blipFill>
        <p:spPr>
          <a:xfrm>
            <a:off x="0" y="0"/>
            <a:ext cx="600120" cy="6858000"/>
          </a:xfrm>
          <a:prstGeom prst="rect">
            <a:avLst/>
          </a:prstGeom>
          <a:ln w="0">
            <a:noFill/>
          </a:ln>
        </p:spPr>
      </p:pic>
      <p:sp>
        <p:nvSpPr>
          <p:cNvPr id="419" name=""/>
          <p:cNvSpPr/>
          <p:nvPr/>
        </p:nvSpPr>
        <p:spPr>
          <a:xfrm>
            <a:off x="0" y="0"/>
            <a:ext cx="914400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400" spc="-1" strike="noStrike">
                <a:solidFill>
                  <a:srgbClr val="333399"/>
                </a:solidFill>
                <a:latin typeface="Albertus Medium"/>
              </a:rPr>
              <a:t>Nanotechnology in </a:t>
            </a:r>
            <a:br>
              <a:rPr sz="3400"/>
            </a:br>
            <a:r>
              <a:rPr b="1" lang="en-US" sz="3400" spc="-1" strike="noStrike">
                <a:solidFill>
                  <a:srgbClr val="333399"/>
                </a:solidFill>
                <a:latin typeface="Albertus Medium"/>
              </a:rPr>
              <a:t>Cosmetic &amp; Dermatology</a:t>
            </a:r>
            <a:endParaRPr b="0" lang="en-US" sz="3400" spc="-1" strike="noStrike">
              <a:solidFill>
                <a:srgbClr val="000000"/>
              </a:solidFill>
              <a:latin typeface="Arial"/>
            </a:endParaRPr>
          </a:p>
        </p:txBody>
      </p:sp>
      <p:grpSp>
        <p:nvGrpSpPr>
          <p:cNvPr id="420" name=""/>
          <p:cNvGrpSpPr/>
          <p:nvPr/>
        </p:nvGrpSpPr>
        <p:grpSpPr>
          <a:xfrm>
            <a:off x="2639880" y="1346040"/>
            <a:ext cx="4521240" cy="3986280"/>
            <a:chOff x="2639880" y="1346040"/>
            <a:chExt cx="4521240" cy="3986280"/>
          </a:xfrm>
        </p:grpSpPr>
        <p:sp>
          <p:nvSpPr>
            <p:cNvPr id="421" name=""/>
            <p:cNvSpPr/>
            <p:nvPr/>
          </p:nvSpPr>
          <p:spPr>
            <a:xfrm>
              <a:off x="2639880" y="2319480"/>
              <a:ext cx="1721160" cy="3012840"/>
            </a:xfrm>
            <a:custGeom>
              <a:avLst/>
              <a:gdLst/>
              <a:ahLst/>
              <a:rect l="l" t="t" r="r" b="b"/>
              <a:pathLst>
                <a:path w="1261" h="2255">
                  <a:moveTo>
                    <a:pt x="1257" y="2027"/>
                  </a:moveTo>
                  <a:lnTo>
                    <a:pt x="1257" y="2015"/>
                  </a:lnTo>
                  <a:lnTo>
                    <a:pt x="1252" y="2000"/>
                  </a:lnTo>
                  <a:lnTo>
                    <a:pt x="1244" y="1985"/>
                  </a:lnTo>
                  <a:lnTo>
                    <a:pt x="1232" y="1970"/>
                  </a:lnTo>
                  <a:lnTo>
                    <a:pt x="1222" y="1956"/>
                  </a:lnTo>
                  <a:lnTo>
                    <a:pt x="1212" y="1945"/>
                  </a:lnTo>
                  <a:lnTo>
                    <a:pt x="1204" y="1933"/>
                  </a:lnTo>
                  <a:lnTo>
                    <a:pt x="1199" y="1921"/>
                  </a:lnTo>
                  <a:lnTo>
                    <a:pt x="1197" y="1910"/>
                  </a:lnTo>
                  <a:lnTo>
                    <a:pt x="1192" y="1893"/>
                  </a:lnTo>
                  <a:lnTo>
                    <a:pt x="1186" y="1876"/>
                  </a:lnTo>
                  <a:lnTo>
                    <a:pt x="1171" y="1860"/>
                  </a:lnTo>
                  <a:lnTo>
                    <a:pt x="1161" y="1851"/>
                  </a:lnTo>
                  <a:lnTo>
                    <a:pt x="1147" y="1838"/>
                  </a:lnTo>
                  <a:lnTo>
                    <a:pt x="1132" y="1823"/>
                  </a:lnTo>
                  <a:lnTo>
                    <a:pt x="1117" y="1806"/>
                  </a:lnTo>
                  <a:lnTo>
                    <a:pt x="1102" y="1788"/>
                  </a:lnTo>
                  <a:lnTo>
                    <a:pt x="1087" y="1770"/>
                  </a:lnTo>
                  <a:lnTo>
                    <a:pt x="1076" y="1750"/>
                  </a:lnTo>
                  <a:lnTo>
                    <a:pt x="1067" y="1731"/>
                  </a:lnTo>
                  <a:lnTo>
                    <a:pt x="1052" y="1703"/>
                  </a:lnTo>
                  <a:lnTo>
                    <a:pt x="1037" y="1681"/>
                  </a:lnTo>
                  <a:lnTo>
                    <a:pt x="1026" y="1665"/>
                  </a:lnTo>
                  <a:lnTo>
                    <a:pt x="1019" y="1646"/>
                  </a:lnTo>
                  <a:lnTo>
                    <a:pt x="1016" y="1633"/>
                  </a:lnTo>
                  <a:lnTo>
                    <a:pt x="1009" y="1613"/>
                  </a:lnTo>
                  <a:lnTo>
                    <a:pt x="999" y="1591"/>
                  </a:lnTo>
                  <a:lnTo>
                    <a:pt x="989" y="1568"/>
                  </a:lnTo>
                  <a:lnTo>
                    <a:pt x="979" y="1545"/>
                  </a:lnTo>
                  <a:lnTo>
                    <a:pt x="969" y="1525"/>
                  </a:lnTo>
                  <a:lnTo>
                    <a:pt x="959" y="1508"/>
                  </a:lnTo>
                  <a:lnTo>
                    <a:pt x="952" y="1499"/>
                  </a:lnTo>
                  <a:lnTo>
                    <a:pt x="942" y="1486"/>
                  </a:lnTo>
                  <a:lnTo>
                    <a:pt x="934" y="1473"/>
                  </a:lnTo>
                  <a:lnTo>
                    <a:pt x="922" y="1458"/>
                  </a:lnTo>
                  <a:lnTo>
                    <a:pt x="911" y="1443"/>
                  </a:lnTo>
                  <a:lnTo>
                    <a:pt x="902" y="1434"/>
                  </a:lnTo>
                  <a:lnTo>
                    <a:pt x="891" y="1426"/>
                  </a:lnTo>
                  <a:lnTo>
                    <a:pt x="879" y="1419"/>
                  </a:lnTo>
                  <a:lnTo>
                    <a:pt x="867" y="1411"/>
                  </a:lnTo>
                  <a:lnTo>
                    <a:pt x="854" y="1404"/>
                  </a:lnTo>
                  <a:lnTo>
                    <a:pt x="842" y="1399"/>
                  </a:lnTo>
                  <a:lnTo>
                    <a:pt x="831" y="1396"/>
                  </a:lnTo>
                  <a:lnTo>
                    <a:pt x="820" y="1394"/>
                  </a:lnTo>
                  <a:lnTo>
                    <a:pt x="812" y="1393"/>
                  </a:lnTo>
                  <a:lnTo>
                    <a:pt x="805" y="1389"/>
                  </a:lnTo>
                  <a:lnTo>
                    <a:pt x="800" y="1384"/>
                  </a:lnTo>
                  <a:lnTo>
                    <a:pt x="794" y="1376"/>
                  </a:lnTo>
                  <a:lnTo>
                    <a:pt x="789" y="1368"/>
                  </a:lnTo>
                  <a:lnTo>
                    <a:pt x="782" y="1354"/>
                  </a:lnTo>
                  <a:lnTo>
                    <a:pt x="774" y="1341"/>
                  </a:lnTo>
                  <a:lnTo>
                    <a:pt x="762" y="1324"/>
                  </a:lnTo>
                  <a:lnTo>
                    <a:pt x="750" y="1306"/>
                  </a:lnTo>
                  <a:lnTo>
                    <a:pt x="740" y="1288"/>
                  </a:lnTo>
                  <a:lnTo>
                    <a:pt x="732" y="1269"/>
                  </a:lnTo>
                  <a:lnTo>
                    <a:pt x="724" y="1253"/>
                  </a:lnTo>
                  <a:lnTo>
                    <a:pt x="717" y="1234"/>
                  </a:lnTo>
                  <a:lnTo>
                    <a:pt x="712" y="1219"/>
                  </a:lnTo>
                  <a:lnTo>
                    <a:pt x="709" y="1204"/>
                  </a:lnTo>
                  <a:lnTo>
                    <a:pt x="705" y="1191"/>
                  </a:lnTo>
                  <a:lnTo>
                    <a:pt x="700" y="1166"/>
                  </a:lnTo>
                  <a:lnTo>
                    <a:pt x="692" y="1143"/>
                  </a:lnTo>
                  <a:lnTo>
                    <a:pt x="685" y="1126"/>
                  </a:lnTo>
                  <a:lnTo>
                    <a:pt x="682" y="1119"/>
                  </a:lnTo>
                  <a:lnTo>
                    <a:pt x="689" y="1108"/>
                  </a:lnTo>
                  <a:lnTo>
                    <a:pt x="700" y="1078"/>
                  </a:lnTo>
                  <a:lnTo>
                    <a:pt x="707" y="1038"/>
                  </a:lnTo>
                  <a:lnTo>
                    <a:pt x="697" y="996"/>
                  </a:lnTo>
                  <a:lnTo>
                    <a:pt x="680" y="961"/>
                  </a:lnTo>
                  <a:lnTo>
                    <a:pt x="670" y="932"/>
                  </a:lnTo>
                  <a:lnTo>
                    <a:pt x="662" y="904"/>
                  </a:lnTo>
                  <a:lnTo>
                    <a:pt x="649" y="872"/>
                  </a:lnTo>
                  <a:lnTo>
                    <a:pt x="640" y="856"/>
                  </a:lnTo>
                  <a:lnTo>
                    <a:pt x="635" y="839"/>
                  </a:lnTo>
                  <a:lnTo>
                    <a:pt x="630" y="826"/>
                  </a:lnTo>
                  <a:lnTo>
                    <a:pt x="625" y="814"/>
                  </a:lnTo>
                  <a:lnTo>
                    <a:pt x="620" y="802"/>
                  </a:lnTo>
                  <a:lnTo>
                    <a:pt x="614" y="792"/>
                  </a:lnTo>
                  <a:lnTo>
                    <a:pt x="607" y="784"/>
                  </a:lnTo>
                  <a:lnTo>
                    <a:pt x="597" y="777"/>
                  </a:lnTo>
                  <a:lnTo>
                    <a:pt x="587" y="771"/>
                  </a:lnTo>
                  <a:lnTo>
                    <a:pt x="575" y="762"/>
                  </a:lnTo>
                  <a:lnTo>
                    <a:pt x="565" y="754"/>
                  </a:lnTo>
                  <a:lnTo>
                    <a:pt x="554" y="744"/>
                  </a:lnTo>
                  <a:lnTo>
                    <a:pt x="542" y="736"/>
                  </a:lnTo>
                  <a:lnTo>
                    <a:pt x="529" y="729"/>
                  </a:lnTo>
                  <a:lnTo>
                    <a:pt x="515" y="721"/>
                  </a:lnTo>
                  <a:lnTo>
                    <a:pt x="502" y="716"/>
                  </a:lnTo>
                  <a:lnTo>
                    <a:pt x="480" y="702"/>
                  </a:lnTo>
                  <a:lnTo>
                    <a:pt x="470" y="686"/>
                  </a:lnTo>
                  <a:lnTo>
                    <a:pt x="464" y="667"/>
                  </a:lnTo>
                  <a:lnTo>
                    <a:pt x="454" y="649"/>
                  </a:lnTo>
                  <a:lnTo>
                    <a:pt x="444" y="634"/>
                  </a:lnTo>
                  <a:lnTo>
                    <a:pt x="437" y="621"/>
                  </a:lnTo>
                  <a:lnTo>
                    <a:pt x="435" y="611"/>
                  </a:lnTo>
                  <a:lnTo>
                    <a:pt x="435" y="607"/>
                  </a:lnTo>
                  <a:lnTo>
                    <a:pt x="437" y="607"/>
                  </a:lnTo>
                  <a:lnTo>
                    <a:pt x="442" y="606"/>
                  </a:lnTo>
                  <a:lnTo>
                    <a:pt x="449" y="602"/>
                  </a:lnTo>
                  <a:lnTo>
                    <a:pt x="455" y="596"/>
                  </a:lnTo>
                  <a:lnTo>
                    <a:pt x="459" y="589"/>
                  </a:lnTo>
                  <a:lnTo>
                    <a:pt x="459" y="577"/>
                  </a:lnTo>
                  <a:lnTo>
                    <a:pt x="454" y="564"/>
                  </a:lnTo>
                  <a:lnTo>
                    <a:pt x="440" y="546"/>
                  </a:lnTo>
                  <a:lnTo>
                    <a:pt x="434" y="539"/>
                  </a:lnTo>
                  <a:lnTo>
                    <a:pt x="429" y="532"/>
                  </a:lnTo>
                  <a:lnTo>
                    <a:pt x="424" y="529"/>
                  </a:lnTo>
                  <a:lnTo>
                    <a:pt x="420" y="526"/>
                  </a:lnTo>
                  <a:lnTo>
                    <a:pt x="419" y="527"/>
                  </a:lnTo>
                  <a:lnTo>
                    <a:pt x="415" y="526"/>
                  </a:lnTo>
                  <a:lnTo>
                    <a:pt x="415" y="522"/>
                  </a:lnTo>
                  <a:lnTo>
                    <a:pt x="420" y="526"/>
                  </a:lnTo>
                  <a:lnTo>
                    <a:pt x="420" y="524"/>
                  </a:lnTo>
                  <a:lnTo>
                    <a:pt x="419" y="521"/>
                  </a:lnTo>
                  <a:lnTo>
                    <a:pt x="419" y="517"/>
                  </a:lnTo>
                  <a:lnTo>
                    <a:pt x="417" y="512"/>
                  </a:lnTo>
                  <a:lnTo>
                    <a:pt x="409" y="490"/>
                  </a:lnTo>
                  <a:lnTo>
                    <a:pt x="405" y="477"/>
                  </a:lnTo>
                  <a:lnTo>
                    <a:pt x="399" y="467"/>
                  </a:lnTo>
                  <a:lnTo>
                    <a:pt x="384" y="455"/>
                  </a:lnTo>
                  <a:lnTo>
                    <a:pt x="372" y="440"/>
                  </a:lnTo>
                  <a:lnTo>
                    <a:pt x="374" y="425"/>
                  </a:lnTo>
                  <a:lnTo>
                    <a:pt x="375" y="412"/>
                  </a:lnTo>
                  <a:lnTo>
                    <a:pt x="364" y="399"/>
                  </a:lnTo>
                  <a:lnTo>
                    <a:pt x="345" y="387"/>
                  </a:lnTo>
                  <a:lnTo>
                    <a:pt x="332" y="372"/>
                  </a:lnTo>
                  <a:lnTo>
                    <a:pt x="325" y="355"/>
                  </a:lnTo>
                  <a:lnTo>
                    <a:pt x="322" y="337"/>
                  </a:lnTo>
                  <a:lnTo>
                    <a:pt x="319" y="317"/>
                  </a:lnTo>
                  <a:lnTo>
                    <a:pt x="309" y="290"/>
                  </a:lnTo>
                  <a:lnTo>
                    <a:pt x="294" y="264"/>
                  </a:lnTo>
                  <a:lnTo>
                    <a:pt x="273" y="237"/>
                  </a:lnTo>
                  <a:lnTo>
                    <a:pt x="260" y="215"/>
                  </a:lnTo>
                  <a:lnTo>
                    <a:pt x="257" y="197"/>
                  </a:lnTo>
                  <a:lnTo>
                    <a:pt x="255" y="184"/>
                  </a:lnTo>
                  <a:lnTo>
                    <a:pt x="245" y="175"/>
                  </a:lnTo>
                  <a:lnTo>
                    <a:pt x="233" y="167"/>
                  </a:lnTo>
                  <a:lnTo>
                    <a:pt x="228" y="154"/>
                  </a:lnTo>
                  <a:lnTo>
                    <a:pt x="222" y="140"/>
                  </a:lnTo>
                  <a:lnTo>
                    <a:pt x="207" y="124"/>
                  </a:lnTo>
                  <a:lnTo>
                    <a:pt x="188" y="100"/>
                  </a:lnTo>
                  <a:lnTo>
                    <a:pt x="175" y="74"/>
                  </a:lnTo>
                  <a:lnTo>
                    <a:pt x="168" y="52"/>
                  </a:lnTo>
                  <a:lnTo>
                    <a:pt x="165" y="42"/>
                  </a:lnTo>
                  <a:lnTo>
                    <a:pt x="160" y="42"/>
                  </a:lnTo>
                  <a:lnTo>
                    <a:pt x="148" y="42"/>
                  </a:lnTo>
                  <a:lnTo>
                    <a:pt x="133" y="42"/>
                  </a:lnTo>
                  <a:lnTo>
                    <a:pt x="122" y="42"/>
                  </a:lnTo>
                  <a:lnTo>
                    <a:pt x="110" y="42"/>
                  </a:lnTo>
                  <a:lnTo>
                    <a:pt x="100" y="44"/>
                  </a:lnTo>
                  <a:lnTo>
                    <a:pt x="92" y="47"/>
                  </a:lnTo>
                  <a:lnTo>
                    <a:pt x="88" y="47"/>
                  </a:lnTo>
                  <a:lnTo>
                    <a:pt x="90" y="44"/>
                  </a:lnTo>
                  <a:lnTo>
                    <a:pt x="93" y="34"/>
                  </a:lnTo>
                  <a:lnTo>
                    <a:pt x="98" y="20"/>
                  </a:lnTo>
                  <a:lnTo>
                    <a:pt x="103" y="8"/>
                  </a:lnTo>
                  <a:lnTo>
                    <a:pt x="103" y="8"/>
                  </a:lnTo>
                  <a:lnTo>
                    <a:pt x="103" y="8"/>
                  </a:lnTo>
                  <a:lnTo>
                    <a:pt x="103" y="8"/>
                  </a:lnTo>
                  <a:lnTo>
                    <a:pt x="103" y="8"/>
                  </a:lnTo>
                  <a:lnTo>
                    <a:pt x="67" y="0"/>
                  </a:lnTo>
                  <a:lnTo>
                    <a:pt x="67" y="5"/>
                  </a:lnTo>
                  <a:lnTo>
                    <a:pt x="65" y="19"/>
                  </a:lnTo>
                  <a:lnTo>
                    <a:pt x="62" y="34"/>
                  </a:lnTo>
                  <a:lnTo>
                    <a:pt x="57" y="47"/>
                  </a:lnTo>
                  <a:lnTo>
                    <a:pt x="50" y="57"/>
                  </a:lnTo>
                  <a:lnTo>
                    <a:pt x="45" y="65"/>
                  </a:lnTo>
                  <a:lnTo>
                    <a:pt x="40" y="79"/>
                  </a:lnTo>
                  <a:lnTo>
                    <a:pt x="38" y="95"/>
                  </a:lnTo>
                  <a:lnTo>
                    <a:pt x="35" y="119"/>
                  </a:lnTo>
                  <a:lnTo>
                    <a:pt x="28" y="145"/>
                  </a:lnTo>
                  <a:lnTo>
                    <a:pt x="20" y="169"/>
                  </a:lnTo>
                  <a:lnTo>
                    <a:pt x="15" y="185"/>
                  </a:lnTo>
                  <a:lnTo>
                    <a:pt x="10" y="197"/>
                  </a:lnTo>
                  <a:lnTo>
                    <a:pt x="5" y="209"/>
                  </a:lnTo>
                  <a:lnTo>
                    <a:pt x="2" y="220"/>
                  </a:lnTo>
                  <a:lnTo>
                    <a:pt x="0" y="224"/>
                  </a:lnTo>
                  <a:lnTo>
                    <a:pt x="3" y="224"/>
                  </a:lnTo>
                  <a:lnTo>
                    <a:pt x="12" y="220"/>
                  </a:lnTo>
                  <a:lnTo>
                    <a:pt x="23" y="219"/>
                  </a:lnTo>
                  <a:lnTo>
                    <a:pt x="33" y="219"/>
                  </a:lnTo>
                  <a:lnTo>
                    <a:pt x="47" y="219"/>
                  </a:lnTo>
                  <a:lnTo>
                    <a:pt x="60" y="219"/>
                  </a:lnTo>
                  <a:lnTo>
                    <a:pt x="72" y="219"/>
                  </a:lnTo>
                  <a:lnTo>
                    <a:pt x="77" y="219"/>
                  </a:lnTo>
                  <a:lnTo>
                    <a:pt x="80" y="229"/>
                  </a:lnTo>
                  <a:lnTo>
                    <a:pt x="87" y="250"/>
                  </a:lnTo>
                  <a:lnTo>
                    <a:pt x="100" y="277"/>
                  </a:lnTo>
                  <a:lnTo>
                    <a:pt x="118" y="299"/>
                  </a:lnTo>
                  <a:lnTo>
                    <a:pt x="133" y="315"/>
                  </a:lnTo>
                  <a:lnTo>
                    <a:pt x="140" y="330"/>
                  </a:lnTo>
                  <a:lnTo>
                    <a:pt x="145" y="342"/>
                  </a:lnTo>
                  <a:lnTo>
                    <a:pt x="157" y="352"/>
                  </a:lnTo>
                  <a:lnTo>
                    <a:pt x="167" y="360"/>
                  </a:lnTo>
                  <a:lnTo>
                    <a:pt x="168" y="374"/>
                  </a:lnTo>
                  <a:lnTo>
                    <a:pt x="172" y="390"/>
                  </a:lnTo>
                  <a:lnTo>
                    <a:pt x="185" y="414"/>
                  </a:lnTo>
                  <a:lnTo>
                    <a:pt x="205" y="440"/>
                  </a:lnTo>
                  <a:lnTo>
                    <a:pt x="220" y="467"/>
                  </a:lnTo>
                  <a:lnTo>
                    <a:pt x="230" y="492"/>
                  </a:lnTo>
                  <a:lnTo>
                    <a:pt x="233" y="512"/>
                  </a:lnTo>
                  <a:lnTo>
                    <a:pt x="237" y="531"/>
                  </a:lnTo>
                  <a:lnTo>
                    <a:pt x="243" y="547"/>
                  </a:lnTo>
                  <a:lnTo>
                    <a:pt x="257" y="562"/>
                  </a:lnTo>
                  <a:lnTo>
                    <a:pt x="275" y="574"/>
                  </a:lnTo>
                  <a:lnTo>
                    <a:pt x="287" y="587"/>
                  </a:lnTo>
                  <a:lnTo>
                    <a:pt x="285" y="601"/>
                  </a:lnTo>
                  <a:lnTo>
                    <a:pt x="284" y="617"/>
                  </a:lnTo>
                  <a:lnTo>
                    <a:pt x="295" y="632"/>
                  </a:lnTo>
                  <a:lnTo>
                    <a:pt x="310" y="642"/>
                  </a:lnTo>
                  <a:lnTo>
                    <a:pt x="317" y="652"/>
                  </a:lnTo>
                  <a:lnTo>
                    <a:pt x="320" y="666"/>
                  </a:lnTo>
                  <a:lnTo>
                    <a:pt x="329" y="687"/>
                  </a:lnTo>
                  <a:lnTo>
                    <a:pt x="330" y="692"/>
                  </a:lnTo>
                  <a:lnTo>
                    <a:pt x="330" y="696"/>
                  </a:lnTo>
                  <a:lnTo>
                    <a:pt x="332" y="697"/>
                  </a:lnTo>
                  <a:lnTo>
                    <a:pt x="332" y="699"/>
                  </a:lnTo>
                  <a:lnTo>
                    <a:pt x="335" y="702"/>
                  </a:lnTo>
                  <a:lnTo>
                    <a:pt x="340" y="707"/>
                  </a:lnTo>
                  <a:lnTo>
                    <a:pt x="345" y="712"/>
                  </a:lnTo>
                  <a:lnTo>
                    <a:pt x="352" y="721"/>
                  </a:lnTo>
                  <a:lnTo>
                    <a:pt x="365" y="737"/>
                  </a:lnTo>
                  <a:lnTo>
                    <a:pt x="370" y="752"/>
                  </a:lnTo>
                  <a:lnTo>
                    <a:pt x="370" y="762"/>
                  </a:lnTo>
                  <a:lnTo>
                    <a:pt x="367" y="771"/>
                  </a:lnTo>
                  <a:lnTo>
                    <a:pt x="360" y="776"/>
                  </a:lnTo>
                  <a:lnTo>
                    <a:pt x="354" y="781"/>
                  </a:lnTo>
                  <a:lnTo>
                    <a:pt x="349" y="782"/>
                  </a:lnTo>
                  <a:lnTo>
                    <a:pt x="347" y="782"/>
                  </a:lnTo>
                  <a:lnTo>
                    <a:pt x="347" y="786"/>
                  </a:lnTo>
                  <a:lnTo>
                    <a:pt x="350" y="794"/>
                  </a:lnTo>
                  <a:lnTo>
                    <a:pt x="355" y="807"/>
                  </a:lnTo>
                  <a:lnTo>
                    <a:pt x="367" y="824"/>
                  </a:lnTo>
                  <a:lnTo>
                    <a:pt x="377" y="842"/>
                  </a:lnTo>
                  <a:lnTo>
                    <a:pt x="384" y="862"/>
                  </a:lnTo>
                  <a:lnTo>
                    <a:pt x="392" y="877"/>
                  </a:lnTo>
                  <a:lnTo>
                    <a:pt x="414" y="891"/>
                  </a:lnTo>
                  <a:lnTo>
                    <a:pt x="427" y="897"/>
                  </a:lnTo>
                  <a:lnTo>
                    <a:pt x="440" y="904"/>
                  </a:lnTo>
                  <a:lnTo>
                    <a:pt x="454" y="912"/>
                  </a:lnTo>
                  <a:lnTo>
                    <a:pt x="465" y="921"/>
                  </a:lnTo>
                  <a:lnTo>
                    <a:pt x="477" y="929"/>
                  </a:lnTo>
                  <a:lnTo>
                    <a:pt x="487" y="937"/>
                  </a:lnTo>
                  <a:lnTo>
                    <a:pt x="499" y="946"/>
                  </a:lnTo>
                  <a:lnTo>
                    <a:pt x="509" y="952"/>
                  </a:lnTo>
                  <a:lnTo>
                    <a:pt x="519" y="961"/>
                  </a:lnTo>
                  <a:lnTo>
                    <a:pt x="525" y="969"/>
                  </a:lnTo>
                  <a:lnTo>
                    <a:pt x="532" y="979"/>
                  </a:lnTo>
                  <a:lnTo>
                    <a:pt x="537" y="989"/>
                  </a:lnTo>
                  <a:lnTo>
                    <a:pt x="542" y="1002"/>
                  </a:lnTo>
                  <a:lnTo>
                    <a:pt x="547" y="1016"/>
                  </a:lnTo>
                  <a:lnTo>
                    <a:pt x="552" y="1031"/>
                  </a:lnTo>
                  <a:lnTo>
                    <a:pt x="560" y="1048"/>
                  </a:lnTo>
                  <a:lnTo>
                    <a:pt x="574" y="1079"/>
                  </a:lnTo>
                  <a:lnTo>
                    <a:pt x="584" y="1108"/>
                  </a:lnTo>
                  <a:lnTo>
                    <a:pt x="592" y="1136"/>
                  </a:lnTo>
                  <a:lnTo>
                    <a:pt x="609" y="1171"/>
                  </a:lnTo>
                  <a:lnTo>
                    <a:pt x="619" y="1213"/>
                  </a:lnTo>
                  <a:lnTo>
                    <a:pt x="612" y="1253"/>
                  </a:lnTo>
                  <a:lnTo>
                    <a:pt x="600" y="1283"/>
                  </a:lnTo>
                  <a:lnTo>
                    <a:pt x="594" y="1294"/>
                  </a:lnTo>
                  <a:lnTo>
                    <a:pt x="597" y="1301"/>
                  </a:lnTo>
                  <a:lnTo>
                    <a:pt x="604" y="1318"/>
                  </a:lnTo>
                  <a:lnTo>
                    <a:pt x="612" y="1341"/>
                  </a:lnTo>
                  <a:lnTo>
                    <a:pt x="617" y="1366"/>
                  </a:lnTo>
                  <a:lnTo>
                    <a:pt x="620" y="1379"/>
                  </a:lnTo>
                  <a:lnTo>
                    <a:pt x="624" y="1394"/>
                  </a:lnTo>
                  <a:lnTo>
                    <a:pt x="629" y="1409"/>
                  </a:lnTo>
                  <a:lnTo>
                    <a:pt x="635" y="1428"/>
                  </a:lnTo>
                  <a:lnTo>
                    <a:pt x="644" y="1444"/>
                  </a:lnTo>
                  <a:lnTo>
                    <a:pt x="654" y="1463"/>
                  </a:lnTo>
                  <a:lnTo>
                    <a:pt x="664" y="1481"/>
                  </a:lnTo>
                  <a:lnTo>
                    <a:pt x="675" y="1499"/>
                  </a:lnTo>
                  <a:lnTo>
                    <a:pt x="687" y="1516"/>
                  </a:lnTo>
                  <a:lnTo>
                    <a:pt x="695" y="1531"/>
                  </a:lnTo>
                  <a:lnTo>
                    <a:pt x="702" y="1543"/>
                  </a:lnTo>
                  <a:lnTo>
                    <a:pt x="707" y="1553"/>
                  </a:lnTo>
                  <a:lnTo>
                    <a:pt x="712" y="1561"/>
                  </a:lnTo>
                  <a:lnTo>
                    <a:pt x="719" y="1566"/>
                  </a:lnTo>
                  <a:lnTo>
                    <a:pt x="724" y="1570"/>
                  </a:lnTo>
                  <a:lnTo>
                    <a:pt x="732" y="1571"/>
                  </a:lnTo>
                  <a:lnTo>
                    <a:pt x="742" y="1573"/>
                  </a:lnTo>
                  <a:lnTo>
                    <a:pt x="754" y="1576"/>
                  </a:lnTo>
                  <a:lnTo>
                    <a:pt x="765" y="1581"/>
                  </a:lnTo>
                  <a:lnTo>
                    <a:pt x="779" y="1588"/>
                  </a:lnTo>
                  <a:lnTo>
                    <a:pt x="792" y="1595"/>
                  </a:lnTo>
                  <a:lnTo>
                    <a:pt x="804" y="1603"/>
                  </a:lnTo>
                  <a:lnTo>
                    <a:pt x="814" y="1611"/>
                  </a:lnTo>
                  <a:lnTo>
                    <a:pt x="822" y="1618"/>
                  </a:lnTo>
                  <a:lnTo>
                    <a:pt x="834" y="1633"/>
                  </a:lnTo>
                  <a:lnTo>
                    <a:pt x="846" y="1648"/>
                  </a:lnTo>
                  <a:lnTo>
                    <a:pt x="856" y="1663"/>
                  </a:lnTo>
                  <a:lnTo>
                    <a:pt x="866" y="1675"/>
                  </a:lnTo>
                  <a:lnTo>
                    <a:pt x="872" y="1685"/>
                  </a:lnTo>
                  <a:lnTo>
                    <a:pt x="881" y="1700"/>
                  </a:lnTo>
                  <a:lnTo>
                    <a:pt x="891" y="1721"/>
                  </a:lnTo>
                  <a:lnTo>
                    <a:pt x="902" y="1743"/>
                  </a:lnTo>
                  <a:lnTo>
                    <a:pt x="912" y="1768"/>
                  </a:lnTo>
                  <a:lnTo>
                    <a:pt x="921" y="1790"/>
                  </a:lnTo>
                  <a:lnTo>
                    <a:pt x="927" y="1810"/>
                  </a:lnTo>
                  <a:lnTo>
                    <a:pt x="931" y="1823"/>
                  </a:lnTo>
                  <a:lnTo>
                    <a:pt x="937" y="1841"/>
                  </a:lnTo>
                  <a:lnTo>
                    <a:pt x="951" y="1858"/>
                  </a:lnTo>
                  <a:lnTo>
                    <a:pt x="964" y="1878"/>
                  </a:lnTo>
                  <a:lnTo>
                    <a:pt x="979" y="1908"/>
                  </a:lnTo>
                  <a:lnTo>
                    <a:pt x="987" y="1926"/>
                  </a:lnTo>
                  <a:lnTo>
                    <a:pt x="999" y="1945"/>
                  </a:lnTo>
                  <a:lnTo>
                    <a:pt x="1014" y="1965"/>
                  </a:lnTo>
                  <a:lnTo>
                    <a:pt x="1029" y="1981"/>
                  </a:lnTo>
                  <a:lnTo>
                    <a:pt x="1044" y="2000"/>
                  </a:lnTo>
                  <a:lnTo>
                    <a:pt x="1059" y="2015"/>
                  </a:lnTo>
                  <a:lnTo>
                    <a:pt x="1072" y="2027"/>
                  </a:lnTo>
                  <a:lnTo>
                    <a:pt x="1084" y="2037"/>
                  </a:lnTo>
                  <a:lnTo>
                    <a:pt x="1097" y="2052"/>
                  </a:lnTo>
                  <a:lnTo>
                    <a:pt x="1106" y="2068"/>
                  </a:lnTo>
                  <a:lnTo>
                    <a:pt x="1109" y="2085"/>
                  </a:lnTo>
                  <a:lnTo>
                    <a:pt x="1112" y="2098"/>
                  </a:lnTo>
                  <a:lnTo>
                    <a:pt x="1117" y="2108"/>
                  </a:lnTo>
                  <a:lnTo>
                    <a:pt x="1126" y="2120"/>
                  </a:lnTo>
                  <a:lnTo>
                    <a:pt x="1136" y="2132"/>
                  </a:lnTo>
                  <a:lnTo>
                    <a:pt x="1146" y="2145"/>
                  </a:lnTo>
                  <a:lnTo>
                    <a:pt x="1156" y="2160"/>
                  </a:lnTo>
                  <a:lnTo>
                    <a:pt x="1164" y="2175"/>
                  </a:lnTo>
                  <a:lnTo>
                    <a:pt x="1169" y="2190"/>
                  </a:lnTo>
                  <a:lnTo>
                    <a:pt x="1169" y="2202"/>
                  </a:lnTo>
                  <a:lnTo>
                    <a:pt x="1169" y="2217"/>
                  </a:lnTo>
                  <a:lnTo>
                    <a:pt x="1172" y="2233"/>
                  </a:lnTo>
                  <a:lnTo>
                    <a:pt x="1177" y="2248"/>
                  </a:lnTo>
                  <a:lnTo>
                    <a:pt x="1179" y="2255"/>
                  </a:lnTo>
                  <a:lnTo>
                    <a:pt x="1216" y="2227"/>
                  </a:lnTo>
                  <a:lnTo>
                    <a:pt x="1219" y="2222"/>
                  </a:lnTo>
                  <a:lnTo>
                    <a:pt x="1226" y="2208"/>
                  </a:lnTo>
                  <a:lnTo>
                    <a:pt x="1232" y="2192"/>
                  </a:lnTo>
                  <a:lnTo>
                    <a:pt x="1236" y="2178"/>
                  </a:lnTo>
                  <a:lnTo>
                    <a:pt x="1236" y="2165"/>
                  </a:lnTo>
                  <a:lnTo>
                    <a:pt x="1234" y="2145"/>
                  </a:lnTo>
                  <a:lnTo>
                    <a:pt x="1236" y="2123"/>
                  </a:lnTo>
                  <a:lnTo>
                    <a:pt x="1241" y="2103"/>
                  </a:lnTo>
                  <a:lnTo>
                    <a:pt x="1241" y="2087"/>
                  </a:lnTo>
                  <a:lnTo>
                    <a:pt x="1236" y="2077"/>
                  </a:lnTo>
                  <a:lnTo>
                    <a:pt x="1234" y="2067"/>
                  </a:lnTo>
                  <a:lnTo>
                    <a:pt x="1241" y="2060"/>
                  </a:lnTo>
                  <a:lnTo>
                    <a:pt x="1246" y="2057"/>
                  </a:lnTo>
                  <a:lnTo>
                    <a:pt x="1251" y="2057"/>
                  </a:lnTo>
                  <a:lnTo>
                    <a:pt x="1256" y="2058"/>
                  </a:lnTo>
                  <a:lnTo>
                    <a:pt x="1261" y="2062"/>
                  </a:lnTo>
                  <a:lnTo>
                    <a:pt x="1259" y="2052"/>
                  </a:lnTo>
                  <a:lnTo>
                    <a:pt x="1257" y="2043"/>
                  </a:lnTo>
                  <a:lnTo>
                    <a:pt x="1256" y="2033"/>
                  </a:lnTo>
                  <a:lnTo>
                    <a:pt x="1257" y="2027"/>
                  </a:lnTo>
                  <a:close/>
                </a:path>
              </a:pathLst>
            </a:custGeom>
            <a:solidFill>
              <a:srgbClr val="ffffff">
                <a:alpha val="10000"/>
              </a:srgbClr>
            </a:solidFill>
            <a:ln cap="sq" w="9360">
              <a:solidFill>
                <a:srgbClr val="ffffff"/>
              </a:solidFill>
              <a:round/>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2" name=""/>
            <p:cNvSpPr/>
            <p:nvPr/>
          </p:nvSpPr>
          <p:spPr>
            <a:xfrm>
              <a:off x="3086280" y="3249720"/>
              <a:ext cx="4680" cy="4680"/>
            </a:xfrm>
            <a:custGeom>
              <a:avLst/>
              <a:gdLst/>
              <a:ahLst/>
              <a:rect l="l" t="t" r="r" b="b"/>
              <a:pathLst>
                <a:path w="5" h="5">
                  <a:moveTo>
                    <a:pt x="5" y="3"/>
                  </a:moveTo>
                  <a:lnTo>
                    <a:pt x="0" y="0"/>
                  </a:lnTo>
                  <a:lnTo>
                    <a:pt x="2" y="3"/>
                  </a:lnTo>
                  <a:lnTo>
                    <a:pt x="3" y="5"/>
                  </a:lnTo>
                  <a:lnTo>
                    <a:pt x="5" y="3"/>
                  </a:lnTo>
                  <a:lnTo>
                    <a:pt x="5" y="3"/>
                  </a:lnTo>
                  <a:close/>
                </a:path>
              </a:pathLst>
            </a:custGeom>
            <a:solidFill>
              <a:srgbClr val="000000"/>
            </a:solidFill>
            <a:ln w="0">
              <a:noFill/>
            </a:ln>
          </p:spPr>
          <p:style>
            <a:lnRef idx="0"/>
            <a:fillRef idx="0"/>
            <a:effectRef idx="0"/>
            <a:fontRef idx="minor"/>
          </p:style>
          <p:txBody>
            <a:bodyPr wrap="none" lIns="90000" rIns="90000" tIns="-42120" bIns="-421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3" name=""/>
            <p:cNvSpPr/>
            <p:nvPr/>
          </p:nvSpPr>
          <p:spPr>
            <a:xfrm>
              <a:off x="4379760" y="4205160"/>
              <a:ext cx="2567160" cy="993960"/>
            </a:xfrm>
            <a:custGeom>
              <a:avLst/>
              <a:gdLst/>
              <a:ahLst/>
              <a:rect l="l" t="t" r="r" b="b"/>
              <a:pathLst>
                <a:path w="1881" h="744">
                  <a:moveTo>
                    <a:pt x="1298" y="222"/>
                  </a:moveTo>
                  <a:lnTo>
                    <a:pt x="1283" y="225"/>
                  </a:lnTo>
                  <a:lnTo>
                    <a:pt x="1263" y="230"/>
                  </a:lnTo>
                  <a:lnTo>
                    <a:pt x="1239" y="235"/>
                  </a:lnTo>
                  <a:lnTo>
                    <a:pt x="1214" y="242"/>
                  </a:lnTo>
                  <a:lnTo>
                    <a:pt x="1186" y="249"/>
                  </a:lnTo>
                  <a:lnTo>
                    <a:pt x="1157" y="255"/>
                  </a:lnTo>
                  <a:lnTo>
                    <a:pt x="1127" y="262"/>
                  </a:lnTo>
                  <a:lnTo>
                    <a:pt x="1097" y="269"/>
                  </a:lnTo>
                  <a:lnTo>
                    <a:pt x="1067" y="275"/>
                  </a:lnTo>
                  <a:lnTo>
                    <a:pt x="1039" y="284"/>
                  </a:lnTo>
                  <a:lnTo>
                    <a:pt x="1012" y="290"/>
                  </a:lnTo>
                  <a:lnTo>
                    <a:pt x="989" y="297"/>
                  </a:lnTo>
                  <a:lnTo>
                    <a:pt x="967" y="302"/>
                  </a:lnTo>
                  <a:lnTo>
                    <a:pt x="949" y="309"/>
                  </a:lnTo>
                  <a:lnTo>
                    <a:pt x="936" y="314"/>
                  </a:lnTo>
                  <a:lnTo>
                    <a:pt x="927" y="317"/>
                  </a:lnTo>
                  <a:lnTo>
                    <a:pt x="914" y="324"/>
                  </a:lnTo>
                  <a:lnTo>
                    <a:pt x="901" y="329"/>
                  </a:lnTo>
                  <a:lnTo>
                    <a:pt x="887" y="337"/>
                  </a:lnTo>
                  <a:lnTo>
                    <a:pt x="872" y="344"/>
                  </a:lnTo>
                  <a:lnTo>
                    <a:pt x="857" y="355"/>
                  </a:lnTo>
                  <a:lnTo>
                    <a:pt x="842" y="369"/>
                  </a:lnTo>
                  <a:lnTo>
                    <a:pt x="826" y="389"/>
                  </a:lnTo>
                  <a:lnTo>
                    <a:pt x="807" y="412"/>
                  </a:lnTo>
                  <a:lnTo>
                    <a:pt x="791" y="437"/>
                  </a:lnTo>
                  <a:lnTo>
                    <a:pt x="776" y="460"/>
                  </a:lnTo>
                  <a:lnTo>
                    <a:pt x="761" y="482"/>
                  </a:lnTo>
                  <a:lnTo>
                    <a:pt x="747" y="502"/>
                  </a:lnTo>
                  <a:lnTo>
                    <a:pt x="737" y="519"/>
                  </a:lnTo>
                  <a:lnTo>
                    <a:pt x="727" y="532"/>
                  </a:lnTo>
                  <a:lnTo>
                    <a:pt x="719" y="542"/>
                  </a:lnTo>
                  <a:lnTo>
                    <a:pt x="712" y="549"/>
                  </a:lnTo>
                  <a:lnTo>
                    <a:pt x="706" y="554"/>
                  </a:lnTo>
                  <a:lnTo>
                    <a:pt x="699" y="559"/>
                  </a:lnTo>
                  <a:lnTo>
                    <a:pt x="689" y="564"/>
                  </a:lnTo>
                  <a:lnTo>
                    <a:pt x="679" y="565"/>
                  </a:lnTo>
                  <a:lnTo>
                    <a:pt x="667" y="567"/>
                  </a:lnTo>
                  <a:lnTo>
                    <a:pt x="657" y="567"/>
                  </a:lnTo>
                  <a:lnTo>
                    <a:pt x="647" y="564"/>
                  </a:lnTo>
                  <a:lnTo>
                    <a:pt x="637" y="559"/>
                  </a:lnTo>
                  <a:lnTo>
                    <a:pt x="629" y="552"/>
                  </a:lnTo>
                  <a:lnTo>
                    <a:pt x="622" y="544"/>
                  </a:lnTo>
                  <a:lnTo>
                    <a:pt x="615" y="535"/>
                  </a:lnTo>
                  <a:lnTo>
                    <a:pt x="609" y="529"/>
                  </a:lnTo>
                  <a:lnTo>
                    <a:pt x="602" y="524"/>
                  </a:lnTo>
                  <a:lnTo>
                    <a:pt x="595" y="520"/>
                  </a:lnTo>
                  <a:lnTo>
                    <a:pt x="589" y="519"/>
                  </a:lnTo>
                  <a:lnTo>
                    <a:pt x="580" y="520"/>
                  </a:lnTo>
                  <a:lnTo>
                    <a:pt x="569" y="524"/>
                  </a:lnTo>
                  <a:lnTo>
                    <a:pt x="554" y="525"/>
                  </a:lnTo>
                  <a:lnTo>
                    <a:pt x="537" y="525"/>
                  </a:lnTo>
                  <a:lnTo>
                    <a:pt x="519" y="525"/>
                  </a:lnTo>
                  <a:lnTo>
                    <a:pt x="499" y="525"/>
                  </a:lnTo>
                  <a:lnTo>
                    <a:pt x="480" y="524"/>
                  </a:lnTo>
                  <a:lnTo>
                    <a:pt x="462" y="522"/>
                  </a:lnTo>
                  <a:lnTo>
                    <a:pt x="447" y="520"/>
                  </a:lnTo>
                  <a:lnTo>
                    <a:pt x="432" y="519"/>
                  </a:lnTo>
                  <a:lnTo>
                    <a:pt x="417" y="515"/>
                  </a:lnTo>
                  <a:lnTo>
                    <a:pt x="404" y="510"/>
                  </a:lnTo>
                  <a:lnTo>
                    <a:pt x="389" y="507"/>
                  </a:lnTo>
                  <a:lnTo>
                    <a:pt x="375" y="504"/>
                  </a:lnTo>
                  <a:lnTo>
                    <a:pt x="364" y="500"/>
                  </a:lnTo>
                  <a:lnTo>
                    <a:pt x="352" y="497"/>
                  </a:lnTo>
                  <a:lnTo>
                    <a:pt x="342" y="497"/>
                  </a:lnTo>
                  <a:lnTo>
                    <a:pt x="329" y="497"/>
                  </a:lnTo>
                  <a:lnTo>
                    <a:pt x="307" y="497"/>
                  </a:lnTo>
                  <a:lnTo>
                    <a:pt x="280" y="499"/>
                  </a:lnTo>
                  <a:lnTo>
                    <a:pt x="250" y="499"/>
                  </a:lnTo>
                  <a:lnTo>
                    <a:pt x="224" y="500"/>
                  </a:lnTo>
                  <a:lnTo>
                    <a:pt x="200" y="502"/>
                  </a:lnTo>
                  <a:lnTo>
                    <a:pt x="184" y="502"/>
                  </a:lnTo>
                  <a:lnTo>
                    <a:pt x="177" y="502"/>
                  </a:lnTo>
                  <a:lnTo>
                    <a:pt x="175" y="504"/>
                  </a:lnTo>
                  <a:lnTo>
                    <a:pt x="170" y="505"/>
                  </a:lnTo>
                  <a:lnTo>
                    <a:pt x="164" y="509"/>
                  </a:lnTo>
                  <a:lnTo>
                    <a:pt x="155" y="510"/>
                  </a:lnTo>
                  <a:lnTo>
                    <a:pt x="144" y="512"/>
                  </a:lnTo>
                  <a:lnTo>
                    <a:pt x="132" y="512"/>
                  </a:lnTo>
                  <a:lnTo>
                    <a:pt x="120" y="509"/>
                  </a:lnTo>
                  <a:lnTo>
                    <a:pt x="107" y="502"/>
                  </a:lnTo>
                  <a:lnTo>
                    <a:pt x="95" y="494"/>
                  </a:lnTo>
                  <a:lnTo>
                    <a:pt x="87" y="485"/>
                  </a:lnTo>
                  <a:lnTo>
                    <a:pt x="80" y="479"/>
                  </a:lnTo>
                  <a:lnTo>
                    <a:pt x="75" y="475"/>
                  </a:lnTo>
                  <a:lnTo>
                    <a:pt x="70" y="472"/>
                  </a:lnTo>
                  <a:lnTo>
                    <a:pt x="65" y="470"/>
                  </a:lnTo>
                  <a:lnTo>
                    <a:pt x="60" y="470"/>
                  </a:lnTo>
                  <a:lnTo>
                    <a:pt x="53" y="474"/>
                  </a:lnTo>
                  <a:lnTo>
                    <a:pt x="47" y="480"/>
                  </a:lnTo>
                  <a:lnTo>
                    <a:pt x="50" y="489"/>
                  </a:lnTo>
                  <a:lnTo>
                    <a:pt x="55" y="500"/>
                  </a:lnTo>
                  <a:lnTo>
                    <a:pt x="53" y="515"/>
                  </a:lnTo>
                  <a:lnTo>
                    <a:pt x="50" y="535"/>
                  </a:lnTo>
                  <a:lnTo>
                    <a:pt x="48" y="557"/>
                  </a:lnTo>
                  <a:lnTo>
                    <a:pt x="50" y="577"/>
                  </a:lnTo>
                  <a:lnTo>
                    <a:pt x="50" y="592"/>
                  </a:lnTo>
                  <a:lnTo>
                    <a:pt x="47" y="606"/>
                  </a:lnTo>
                  <a:lnTo>
                    <a:pt x="40" y="621"/>
                  </a:lnTo>
                  <a:lnTo>
                    <a:pt x="33" y="634"/>
                  </a:lnTo>
                  <a:lnTo>
                    <a:pt x="30" y="639"/>
                  </a:lnTo>
                  <a:lnTo>
                    <a:pt x="0" y="662"/>
                  </a:lnTo>
                  <a:lnTo>
                    <a:pt x="3" y="666"/>
                  </a:lnTo>
                  <a:lnTo>
                    <a:pt x="8" y="669"/>
                  </a:lnTo>
                  <a:lnTo>
                    <a:pt x="13" y="674"/>
                  </a:lnTo>
                  <a:lnTo>
                    <a:pt x="18" y="677"/>
                  </a:lnTo>
                  <a:lnTo>
                    <a:pt x="32" y="684"/>
                  </a:lnTo>
                  <a:lnTo>
                    <a:pt x="43" y="687"/>
                  </a:lnTo>
                  <a:lnTo>
                    <a:pt x="55" y="687"/>
                  </a:lnTo>
                  <a:lnTo>
                    <a:pt x="67" y="686"/>
                  </a:lnTo>
                  <a:lnTo>
                    <a:pt x="77" y="684"/>
                  </a:lnTo>
                  <a:lnTo>
                    <a:pt x="83" y="681"/>
                  </a:lnTo>
                  <a:lnTo>
                    <a:pt x="88" y="679"/>
                  </a:lnTo>
                  <a:lnTo>
                    <a:pt x="90" y="677"/>
                  </a:lnTo>
                  <a:lnTo>
                    <a:pt x="97" y="677"/>
                  </a:lnTo>
                  <a:lnTo>
                    <a:pt x="114" y="677"/>
                  </a:lnTo>
                  <a:lnTo>
                    <a:pt x="137" y="676"/>
                  </a:lnTo>
                  <a:lnTo>
                    <a:pt x="164" y="674"/>
                  </a:lnTo>
                  <a:lnTo>
                    <a:pt x="194" y="674"/>
                  </a:lnTo>
                  <a:lnTo>
                    <a:pt x="220" y="672"/>
                  </a:lnTo>
                  <a:lnTo>
                    <a:pt x="242" y="672"/>
                  </a:lnTo>
                  <a:lnTo>
                    <a:pt x="255" y="672"/>
                  </a:lnTo>
                  <a:lnTo>
                    <a:pt x="265" y="674"/>
                  </a:lnTo>
                  <a:lnTo>
                    <a:pt x="275" y="676"/>
                  </a:lnTo>
                  <a:lnTo>
                    <a:pt x="289" y="679"/>
                  </a:lnTo>
                  <a:lnTo>
                    <a:pt x="302" y="682"/>
                  </a:lnTo>
                  <a:lnTo>
                    <a:pt x="315" y="687"/>
                  </a:lnTo>
                  <a:lnTo>
                    <a:pt x="330" y="691"/>
                  </a:lnTo>
                  <a:lnTo>
                    <a:pt x="344" y="694"/>
                  </a:lnTo>
                  <a:lnTo>
                    <a:pt x="359" y="697"/>
                  </a:lnTo>
                  <a:lnTo>
                    <a:pt x="374" y="699"/>
                  </a:lnTo>
                  <a:lnTo>
                    <a:pt x="392" y="701"/>
                  </a:lnTo>
                  <a:lnTo>
                    <a:pt x="412" y="701"/>
                  </a:lnTo>
                  <a:lnTo>
                    <a:pt x="430" y="702"/>
                  </a:lnTo>
                  <a:lnTo>
                    <a:pt x="450" y="702"/>
                  </a:lnTo>
                  <a:lnTo>
                    <a:pt x="467" y="701"/>
                  </a:lnTo>
                  <a:lnTo>
                    <a:pt x="480" y="701"/>
                  </a:lnTo>
                  <a:lnTo>
                    <a:pt x="492" y="697"/>
                  </a:lnTo>
                  <a:lnTo>
                    <a:pt x="500" y="696"/>
                  </a:lnTo>
                  <a:lnTo>
                    <a:pt x="507" y="696"/>
                  </a:lnTo>
                  <a:lnTo>
                    <a:pt x="514" y="699"/>
                  </a:lnTo>
                  <a:lnTo>
                    <a:pt x="520" y="706"/>
                  </a:lnTo>
                  <a:lnTo>
                    <a:pt x="527" y="712"/>
                  </a:lnTo>
                  <a:lnTo>
                    <a:pt x="534" y="719"/>
                  </a:lnTo>
                  <a:lnTo>
                    <a:pt x="540" y="727"/>
                  </a:lnTo>
                  <a:lnTo>
                    <a:pt x="549" y="734"/>
                  </a:lnTo>
                  <a:lnTo>
                    <a:pt x="559" y="741"/>
                  </a:lnTo>
                  <a:lnTo>
                    <a:pt x="569" y="742"/>
                  </a:lnTo>
                  <a:lnTo>
                    <a:pt x="579" y="744"/>
                  </a:lnTo>
                  <a:lnTo>
                    <a:pt x="590" y="742"/>
                  </a:lnTo>
                  <a:lnTo>
                    <a:pt x="600" y="739"/>
                  </a:lnTo>
                  <a:lnTo>
                    <a:pt x="610" y="736"/>
                  </a:lnTo>
                  <a:lnTo>
                    <a:pt x="619" y="731"/>
                  </a:lnTo>
                  <a:lnTo>
                    <a:pt x="625" y="726"/>
                  </a:lnTo>
                  <a:lnTo>
                    <a:pt x="632" y="719"/>
                  </a:lnTo>
                  <a:lnTo>
                    <a:pt x="639" y="707"/>
                  </a:lnTo>
                  <a:lnTo>
                    <a:pt x="649" y="694"/>
                  </a:lnTo>
                  <a:lnTo>
                    <a:pt x="661" y="677"/>
                  </a:lnTo>
                  <a:lnTo>
                    <a:pt x="672" y="659"/>
                  </a:lnTo>
                  <a:lnTo>
                    <a:pt x="687" y="637"/>
                  </a:lnTo>
                  <a:lnTo>
                    <a:pt x="704" y="614"/>
                  </a:lnTo>
                  <a:lnTo>
                    <a:pt x="721" y="587"/>
                  </a:lnTo>
                  <a:lnTo>
                    <a:pt x="737" y="564"/>
                  </a:lnTo>
                  <a:lnTo>
                    <a:pt x="754" y="544"/>
                  </a:lnTo>
                  <a:lnTo>
                    <a:pt x="769" y="530"/>
                  </a:lnTo>
                  <a:lnTo>
                    <a:pt x="786" y="519"/>
                  </a:lnTo>
                  <a:lnTo>
                    <a:pt x="799" y="512"/>
                  </a:lnTo>
                  <a:lnTo>
                    <a:pt x="812" y="504"/>
                  </a:lnTo>
                  <a:lnTo>
                    <a:pt x="826" y="499"/>
                  </a:lnTo>
                  <a:lnTo>
                    <a:pt x="839" y="492"/>
                  </a:lnTo>
                  <a:lnTo>
                    <a:pt x="847" y="489"/>
                  </a:lnTo>
                  <a:lnTo>
                    <a:pt x="862" y="484"/>
                  </a:lnTo>
                  <a:lnTo>
                    <a:pt x="879" y="479"/>
                  </a:lnTo>
                  <a:lnTo>
                    <a:pt x="901" y="472"/>
                  </a:lnTo>
                  <a:lnTo>
                    <a:pt x="926" y="465"/>
                  </a:lnTo>
                  <a:lnTo>
                    <a:pt x="952" y="459"/>
                  </a:lnTo>
                  <a:lnTo>
                    <a:pt x="981" y="452"/>
                  </a:lnTo>
                  <a:lnTo>
                    <a:pt x="1009" y="444"/>
                  </a:lnTo>
                  <a:lnTo>
                    <a:pt x="1039" y="437"/>
                  </a:lnTo>
                  <a:lnTo>
                    <a:pt x="1069" y="430"/>
                  </a:lnTo>
                  <a:lnTo>
                    <a:pt x="1097" y="424"/>
                  </a:lnTo>
                  <a:lnTo>
                    <a:pt x="1126" y="417"/>
                  </a:lnTo>
                  <a:lnTo>
                    <a:pt x="1151" y="410"/>
                  </a:lnTo>
                  <a:lnTo>
                    <a:pt x="1174" y="405"/>
                  </a:lnTo>
                  <a:lnTo>
                    <a:pt x="1194" y="400"/>
                  </a:lnTo>
                  <a:lnTo>
                    <a:pt x="1209" y="397"/>
                  </a:lnTo>
                  <a:lnTo>
                    <a:pt x="1236" y="390"/>
                  </a:lnTo>
                  <a:lnTo>
                    <a:pt x="1263" y="385"/>
                  </a:lnTo>
                  <a:lnTo>
                    <a:pt x="1289" y="382"/>
                  </a:lnTo>
                  <a:lnTo>
                    <a:pt x="1313" y="379"/>
                  </a:lnTo>
                  <a:lnTo>
                    <a:pt x="1336" y="375"/>
                  </a:lnTo>
                  <a:lnTo>
                    <a:pt x="1354" y="370"/>
                  </a:lnTo>
                  <a:lnTo>
                    <a:pt x="1371" y="365"/>
                  </a:lnTo>
                  <a:lnTo>
                    <a:pt x="1384" y="359"/>
                  </a:lnTo>
                  <a:lnTo>
                    <a:pt x="1394" y="354"/>
                  </a:lnTo>
                  <a:lnTo>
                    <a:pt x="1411" y="345"/>
                  </a:lnTo>
                  <a:lnTo>
                    <a:pt x="1434" y="334"/>
                  </a:lnTo>
                  <a:lnTo>
                    <a:pt x="1463" y="320"/>
                  </a:lnTo>
                  <a:lnTo>
                    <a:pt x="1496" y="307"/>
                  </a:lnTo>
                  <a:lnTo>
                    <a:pt x="1533" y="290"/>
                  </a:lnTo>
                  <a:lnTo>
                    <a:pt x="1571" y="274"/>
                  </a:lnTo>
                  <a:lnTo>
                    <a:pt x="1611" y="255"/>
                  </a:lnTo>
                  <a:lnTo>
                    <a:pt x="1649" y="239"/>
                  </a:lnTo>
                  <a:lnTo>
                    <a:pt x="1688" y="222"/>
                  </a:lnTo>
                  <a:lnTo>
                    <a:pt x="1723" y="207"/>
                  </a:lnTo>
                  <a:lnTo>
                    <a:pt x="1756" y="192"/>
                  </a:lnTo>
                  <a:lnTo>
                    <a:pt x="1783" y="180"/>
                  </a:lnTo>
                  <a:lnTo>
                    <a:pt x="1805" y="170"/>
                  </a:lnTo>
                  <a:lnTo>
                    <a:pt x="1820" y="164"/>
                  </a:lnTo>
                  <a:lnTo>
                    <a:pt x="1826" y="160"/>
                  </a:lnTo>
                  <a:lnTo>
                    <a:pt x="1836" y="152"/>
                  </a:lnTo>
                  <a:lnTo>
                    <a:pt x="1841" y="142"/>
                  </a:lnTo>
                  <a:lnTo>
                    <a:pt x="1845" y="130"/>
                  </a:lnTo>
                  <a:lnTo>
                    <a:pt x="1846" y="117"/>
                  </a:lnTo>
                  <a:lnTo>
                    <a:pt x="1848" y="100"/>
                  </a:lnTo>
                  <a:lnTo>
                    <a:pt x="1851" y="78"/>
                  </a:lnTo>
                  <a:lnTo>
                    <a:pt x="1858" y="57"/>
                  </a:lnTo>
                  <a:lnTo>
                    <a:pt x="1865" y="37"/>
                  </a:lnTo>
                  <a:lnTo>
                    <a:pt x="1868" y="27"/>
                  </a:lnTo>
                  <a:lnTo>
                    <a:pt x="1873" y="18"/>
                  </a:lnTo>
                  <a:lnTo>
                    <a:pt x="1876" y="8"/>
                  </a:lnTo>
                  <a:lnTo>
                    <a:pt x="1881" y="0"/>
                  </a:lnTo>
                  <a:lnTo>
                    <a:pt x="1861" y="10"/>
                  </a:lnTo>
                  <a:lnTo>
                    <a:pt x="1836" y="20"/>
                  </a:lnTo>
                  <a:lnTo>
                    <a:pt x="1808" y="32"/>
                  </a:lnTo>
                  <a:lnTo>
                    <a:pt x="1778" y="45"/>
                  </a:lnTo>
                  <a:lnTo>
                    <a:pt x="1746" y="58"/>
                  </a:lnTo>
                  <a:lnTo>
                    <a:pt x="1714" y="73"/>
                  </a:lnTo>
                  <a:lnTo>
                    <a:pt x="1681" y="88"/>
                  </a:lnTo>
                  <a:lnTo>
                    <a:pt x="1648" y="102"/>
                  </a:lnTo>
                  <a:lnTo>
                    <a:pt x="1616" y="117"/>
                  </a:lnTo>
                  <a:lnTo>
                    <a:pt x="1586" y="130"/>
                  </a:lnTo>
                  <a:lnTo>
                    <a:pt x="1558" y="142"/>
                  </a:lnTo>
                  <a:lnTo>
                    <a:pt x="1533" y="154"/>
                  </a:lnTo>
                  <a:lnTo>
                    <a:pt x="1511" y="164"/>
                  </a:lnTo>
                  <a:lnTo>
                    <a:pt x="1493" y="174"/>
                  </a:lnTo>
                  <a:lnTo>
                    <a:pt x="1479" y="179"/>
                  </a:lnTo>
                  <a:lnTo>
                    <a:pt x="1473" y="184"/>
                  </a:lnTo>
                  <a:lnTo>
                    <a:pt x="1459" y="190"/>
                  </a:lnTo>
                  <a:lnTo>
                    <a:pt x="1443" y="195"/>
                  </a:lnTo>
                  <a:lnTo>
                    <a:pt x="1423" y="199"/>
                  </a:lnTo>
                  <a:lnTo>
                    <a:pt x="1401" y="202"/>
                  </a:lnTo>
                  <a:lnTo>
                    <a:pt x="1376" y="205"/>
                  </a:lnTo>
                  <a:lnTo>
                    <a:pt x="1351" y="210"/>
                  </a:lnTo>
                  <a:lnTo>
                    <a:pt x="1324" y="215"/>
                  </a:lnTo>
                  <a:lnTo>
                    <a:pt x="1298" y="222"/>
                  </a:lnTo>
                  <a:close/>
                </a:path>
              </a:pathLst>
            </a:custGeom>
            <a:solidFill>
              <a:srgbClr val="ffffff">
                <a:alpha val="20000"/>
              </a:srgbClr>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4" name=""/>
            <p:cNvSpPr/>
            <p:nvPr/>
          </p:nvSpPr>
          <p:spPr>
            <a:xfrm>
              <a:off x="2813040" y="1346040"/>
              <a:ext cx="4348080" cy="3579840"/>
            </a:xfrm>
            <a:custGeom>
              <a:avLst/>
              <a:gdLst/>
              <a:ahLst/>
              <a:rect l="l" t="t" r="r" b="b"/>
              <a:pathLst>
                <a:path w="3185" h="2678">
                  <a:moveTo>
                    <a:pt x="380" y="90"/>
                  </a:moveTo>
                  <a:lnTo>
                    <a:pt x="683" y="28"/>
                  </a:lnTo>
                  <a:lnTo>
                    <a:pt x="693" y="0"/>
                  </a:lnTo>
                  <a:lnTo>
                    <a:pt x="695" y="0"/>
                  </a:lnTo>
                  <a:lnTo>
                    <a:pt x="698" y="0"/>
                  </a:lnTo>
                  <a:lnTo>
                    <a:pt x="704" y="0"/>
                  </a:lnTo>
                  <a:lnTo>
                    <a:pt x="712" y="0"/>
                  </a:lnTo>
                  <a:lnTo>
                    <a:pt x="720" y="0"/>
                  </a:lnTo>
                  <a:lnTo>
                    <a:pt x="734" y="2"/>
                  </a:lnTo>
                  <a:lnTo>
                    <a:pt x="747" y="5"/>
                  </a:lnTo>
                  <a:lnTo>
                    <a:pt x="764" y="10"/>
                  </a:lnTo>
                  <a:lnTo>
                    <a:pt x="782" y="15"/>
                  </a:lnTo>
                  <a:lnTo>
                    <a:pt x="799" y="20"/>
                  </a:lnTo>
                  <a:lnTo>
                    <a:pt x="817" y="23"/>
                  </a:lnTo>
                  <a:lnTo>
                    <a:pt x="832" y="28"/>
                  </a:lnTo>
                  <a:lnTo>
                    <a:pt x="847" y="32"/>
                  </a:lnTo>
                  <a:lnTo>
                    <a:pt x="862" y="35"/>
                  </a:lnTo>
                  <a:lnTo>
                    <a:pt x="874" y="40"/>
                  </a:lnTo>
                  <a:lnTo>
                    <a:pt x="884" y="43"/>
                  </a:lnTo>
                  <a:lnTo>
                    <a:pt x="894" y="48"/>
                  </a:lnTo>
                  <a:lnTo>
                    <a:pt x="907" y="57"/>
                  </a:lnTo>
                  <a:lnTo>
                    <a:pt x="924" y="68"/>
                  </a:lnTo>
                  <a:lnTo>
                    <a:pt x="942" y="82"/>
                  </a:lnTo>
                  <a:lnTo>
                    <a:pt x="962" y="97"/>
                  </a:lnTo>
                  <a:lnTo>
                    <a:pt x="985" y="112"/>
                  </a:lnTo>
                  <a:lnTo>
                    <a:pt x="1009" y="127"/>
                  </a:lnTo>
                  <a:lnTo>
                    <a:pt x="1035" y="142"/>
                  </a:lnTo>
                  <a:lnTo>
                    <a:pt x="1060" y="155"/>
                  </a:lnTo>
                  <a:lnTo>
                    <a:pt x="1080" y="168"/>
                  </a:lnTo>
                  <a:lnTo>
                    <a:pt x="1099" y="180"/>
                  </a:lnTo>
                  <a:lnTo>
                    <a:pt x="1114" y="190"/>
                  </a:lnTo>
                  <a:lnTo>
                    <a:pt x="1124" y="197"/>
                  </a:lnTo>
                  <a:lnTo>
                    <a:pt x="1132" y="203"/>
                  </a:lnTo>
                  <a:lnTo>
                    <a:pt x="1137" y="207"/>
                  </a:lnTo>
                  <a:lnTo>
                    <a:pt x="1139" y="208"/>
                  </a:lnTo>
                  <a:lnTo>
                    <a:pt x="1142" y="210"/>
                  </a:lnTo>
                  <a:lnTo>
                    <a:pt x="1150" y="215"/>
                  </a:lnTo>
                  <a:lnTo>
                    <a:pt x="1162" y="223"/>
                  </a:lnTo>
                  <a:lnTo>
                    <a:pt x="1177" y="233"/>
                  </a:lnTo>
                  <a:lnTo>
                    <a:pt x="1192" y="243"/>
                  </a:lnTo>
                  <a:lnTo>
                    <a:pt x="1205" y="255"/>
                  </a:lnTo>
                  <a:lnTo>
                    <a:pt x="1217" y="265"/>
                  </a:lnTo>
                  <a:lnTo>
                    <a:pt x="1225" y="275"/>
                  </a:lnTo>
                  <a:lnTo>
                    <a:pt x="1234" y="285"/>
                  </a:lnTo>
                  <a:lnTo>
                    <a:pt x="1245" y="297"/>
                  </a:lnTo>
                  <a:lnTo>
                    <a:pt x="1259" y="310"/>
                  </a:lnTo>
                  <a:lnTo>
                    <a:pt x="1276" y="325"/>
                  </a:lnTo>
                  <a:lnTo>
                    <a:pt x="1292" y="340"/>
                  </a:lnTo>
                  <a:lnTo>
                    <a:pt x="1309" y="354"/>
                  </a:lnTo>
                  <a:lnTo>
                    <a:pt x="1324" y="365"/>
                  </a:lnTo>
                  <a:lnTo>
                    <a:pt x="1334" y="375"/>
                  </a:lnTo>
                  <a:lnTo>
                    <a:pt x="1346" y="385"/>
                  </a:lnTo>
                  <a:lnTo>
                    <a:pt x="1362" y="397"/>
                  </a:lnTo>
                  <a:lnTo>
                    <a:pt x="1381" y="410"/>
                  </a:lnTo>
                  <a:lnTo>
                    <a:pt x="1401" y="424"/>
                  </a:lnTo>
                  <a:lnTo>
                    <a:pt x="1421" y="437"/>
                  </a:lnTo>
                  <a:lnTo>
                    <a:pt x="1436" y="445"/>
                  </a:lnTo>
                  <a:lnTo>
                    <a:pt x="1447" y="454"/>
                  </a:lnTo>
                  <a:lnTo>
                    <a:pt x="1451" y="455"/>
                  </a:lnTo>
                  <a:lnTo>
                    <a:pt x="1489" y="509"/>
                  </a:lnTo>
                  <a:lnTo>
                    <a:pt x="1497" y="509"/>
                  </a:lnTo>
                  <a:lnTo>
                    <a:pt x="1517" y="509"/>
                  </a:lnTo>
                  <a:lnTo>
                    <a:pt x="1546" y="509"/>
                  </a:lnTo>
                  <a:lnTo>
                    <a:pt x="1581" y="509"/>
                  </a:lnTo>
                  <a:lnTo>
                    <a:pt x="1617" y="510"/>
                  </a:lnTo>
                  <a:lnTo>
                    <a:pt x="1651" y="514"/>
                  </a:lnTo>
                  <a:lnTo>
                    <a:pt x="1677" y="520"/>
                  </a:lnTo>
                  <a:lnTo>
                    <a:pt x="1694" y="527"/>
                  </a:lnTo>
                  <a:lnTo>
                    <a:pt x="1696" y="527"/>
                  </a:lnTo>
                  <a:lnTo>
                    <a:pt x="1702" y="525"/>
                  </a:lnTo>
                  <a:lnTo>
                    <a:pt x="1712" y="522"/>
                  </a:lnTo>
                  <a:lnTo>
                    <a:pt x="1722" y="520"/>
                  </a:lnTo>
                  <a:lnTo>
                    <a:pt x="1736" y="519"/>
                  </a:lnTo>
                  <a:lnTo>
                    <a:pt x="1747" y="515"/>
                  </a:lnTo>
                  <a:lnTo>
                    <a:pt x="1759" y="514"/>
                  </a:lnTo>
                  <a:lnTo>
                    <a:pt x="1769" y="514"/>
                  </a:lnTo>
                  <a:lnTo>
                    <a:pt x="1782" y="515"/>
                  </a:lnTo>
                  <a:lnTo>
                    <a:pt x="1801" y="519"/>
                  </a:lnTo>
                  <a:lnTo>
                    <a:pt x="1823" y="522"/>
                  </a:lnTo>
                  <a:lnTo>
                    <a:pt x="1848" y="527"/>
                  </a:lnTo>
                  <a:lnTo>
                    <a:pt x="1869" y="534"/>
                  </a:lnTo>
                  <a:lnTo>
                    <a:pt x="1889" y="537"/>
                  </a:lnTo>
                  <a:lnTo>
                    <a:pt x="1903" y="540"/>
                  </a:lnTo>
                  <a:lnTo>
                    <a:pt x="1908" y="542"/>
                  </a:lnTo>
                  <a:lnTo>
                    <a:pt x="1926" y="604"/>
                  </a:lnTo>
                  <a:lnTo>
                    <a:pt x="2044" y="604"/>
                  </a:lnTo>
                  <a:lnTo>
                    <a:pt x="2064" y="689"/>
                  </a:lnTo>
                  <a:lnTo>
                    <a:pt x="2071" y="692"/>
                  </a:lnTo>
                  <a:lnTo>
                    <a:pt x="2083" y="704"/>
                  </a:lnTo>
                  <a:lnTo>
                    <a:pt x="2093" y="722"/>
                  </a:lnTo>
                  <a:lnTo>
                    <a:pt x="2093" y="746"/>
                  </a:lnTo>
                  <a:lnTo>
                    <a:pt x="2116" y="784"/>
                  </a:lnTo>
                  <a:lnTo>
                    <a:pt x="2154" y="769"/>
                  </a:lnTo>
                  <a:lnTo>
                    <a:pt x="2158" y="774"/>
                  </a:lnTo>
                  <a:lnTo>
                    <a:pt x="2164" y="786"/>
                  </a:lnTo>
                  <a:lnTo>
                    <a:pt x="2169" y="801"/>
                  </a:lnTo>
                  <a:lnTo>
                    <a:pt x="2173" y="812"/>
                  </a:lnTo>
                  <a:lnTo>
                    <a:pt x="2176" y="824"/>
                  </a:lnTo>
                  <a:lnTo>
                    <a:pt x="2183" y="834"/>
                  </a:lnTo>
                  <a:lnTo>
                    <a:pt x="2189" y="842"/>
                  </a:lnTo>
                  <a:lnTo>
                    <a:pt x="2193" y="846"/>
                  </a:lnTo>
                  <a:lnTo>
                    <a:pt x="2201" y="822"/>
                  </a:lnTo>
                  <a:lnTo>
                    <a:pt x="2226" y="869"/>
                  </a:lnTo>
                  <a:lnTo>
                    <a:pt x="2228" y="869"/>
                  </a:lnTo>
                  <a:lnTo>
                    <a:pt x="2234" y="871"/>
                  </a:lnTo>
                  <a:lnTo>
                    <a:pt x="2244" y="874"/>
                  </a:lnTo>
                  <a:lnTo>
                    <a:pt x="2254" y="877"/>
                  </a:lnTo>
                  <a:lnTo>
                    <a:pt x="2266" y="882"/>
                  </a:lnTo>
                  <a:lnTo>
                    <a:pt x="2276" y="887"/>
                  </a:lnTo>
                  <a:lnTo>
                    <a:pt x="2284" y="894"/>
                  </a:lnTo>
                  <a:lnTo>
                    <a:pt x="2288" y="902"/>
                  </a:lnTo>
                  <a:lnTo>
                    <a:pt x="2289" y="921"/>
                  </a:lnTo>
                  <a:lnTo>
                    <a:pt x="2293" y="937"/>
                  </a:lnTo>
                  <a:lnTo>
                    <a:pt x="2296" y="952"/>
                  </a:lnTo>
                  <a:lnTo>
                    <a:pt x="2306" y="964"/>
                  </a:lnTo>
                  <a:lnTo>
                    <a:pt x="2316" y="979"/>
                  </a:lnTo>
                  <a:lnTo>
                    <a:pt x="2321" y="996"/>
                  </a:lnTo>
                  <a:lnTo>
                    <a:pt x="2318" y="1011"/>
                  </a:lnTo>
                  <a:lnTo>
                    <a:pt x="2311" y="1017"/>
                  </a:lnTo>
                  <a:lnTo>
                    <a:pt x="2303" y="1019"/>
                  </a:lnTo>
                  <a:lnTo>
                    <a:pt x="2299" y="1024"/>
                  </a:lnTo>
                  <a:lnTo>
                    <a:pt x="2301" y="1032"/>
                  </a:lnTo>
                  <a:lnTo>
                    <a:pt x="2306" y="1046"/>
                  </a:lnTo>
                  <a:lnTo>
                    <a:pt x="2313" y="1061"/>
                  </a:lnTo>
                  <a:lnTo>
                    <a:pt x="2319" y="1076"/>
                  </a:lnTo>
                  <a:lnTo>
                    <a:pt x="2324" y="1092"/>
                  </a:lnTo>
                  <a:lnTo>
                    <a:pt x="2329" y="1107"/>
                  </a:lnTo>
                  <a:lnTo>
                    <a:pt x="2336" y="1117"/>
                  </a:lnTo>
                  <a:lnTo>
                    <a:pt x="2344" y="1121"/>
                  </a:lnTo>
                  <a:lnTo>
                    <a:pt x="2351" y="1121"/>
                  </a:lnTo>
                  <a:lnTo>
                    <a:pt x="2354" y="1121"/>
                  </a:lnTo>
                  <a:lnTo>
                    <a:pt x="2356" y="1129"/>
                  </a:lnTo>
                  <a:lnTo>
                    <a:pt x="2365" y="1149"/>
                  </a:lnTo>
                  <a:lnTo>
                    <a:pt x="2375" y="1174"/>
                  </a:lnTo>
                  <a:lnTo>
                    <a:pt x="2388" y="1192"/>
                  </a:lnTo>
                  <a:lnTo>
                    <a:pt x="2395" y="1201"/>
                  </a:lnTo>
                  <a:lnTo>
                    <a:pt x="2400" y="1209"/>
                  </a:lnTo>
                  <a:lnTo>
                    <a:pt x="2405" y="1217"/>
                  </a:lnTo>
                  <a:lnTo>
                    <a:pt x="2411" y="1227"/>
                  </a:lnTo>
                  <a:lnTo>
                    <a:pt x="2416" y="1236"/>
                  </a:lnTo>
                  <a:lnTo>
                    <a:pt x="2425" y="1244"/>
                  </a:lnTo>
                  <a:lnTo>
                    <a:pt x="2433" y="1253"/>
                  </a:lnTo>
                  <a:lnTo>
                    <a:pt x="2445" y="1259"/>
                  </a:lnTo>
                  <a:lnTo>
                    <a:pt x="2456" y="1263"/>
                  </a:lnTo>
                  <a:lnTo>
                    <a:pt x="2468" y="1263"/>
                  </a:lnTo>
                  <a:lnTo>
                    <a:pt x="2478" y="1263"/>
                  </a:lnTo>
                  <a:lnTo>
                    <a:pt x="2486" y="1259"/>
                  </a:lnTo>
                  <a:lnTo>
                    <a:pt x="2493" y="1256"/>
                  </a:lnTo>
                  <a:lnTo>
                    <a:pt x="2498" y="1253"/>
                  </a:lnTo>
                  <a:lnTo>
                    <a:pt x="2500" y="1251"/>
                  </a:lnTo>
                  <a:lnTo>
                    <a:pt x="2501" y="1249"/>
                  </a:lnTo>
                  <a:lnTo>
                    <a:pt x="2520" y="1259"/>
                  </a:lnTo>
                  <a:lnTo>
                    <a:pt x="2501" y="1293"/>
                  </a:lnTo>
                  <a:lnTo>
                    <a:pt x="2501" y="1294"/>
                  </a:lnTo>
                  <a:lnTo>
                    <a:pt x="2501" y="1299"/>
                  </a:lnTo>
                  <a:lnTo>
                    <a:pt x="2503" y="1304"/>
                  </a:lnTo>
                  <a:lnTo>
                    <a:pt x="2511" y="1306"/>
                  </a:lnTo>
                  <a:lnTo>
                    <a:pt x="2521" y="1314"/>
                  </a:lnTo>
                  <a:lnTo>
                    <a:pt x="2531" y="1329"/>
                  </a:lnTo>
                  <a:lnTo>
                    <a:pt x="2536" y="1346"/>
                  </a:lnTo>
                  <a:lnTo>
                    <a:pt x="2540" y="1354"/>
                  </a:lnTo>
                  <a:lnTo>
                    <a:pt x="2541" y="1356"/>
                  </a:lnTo>
                  <a:lnTo>
                    <a:pt x="2546" y="1361"/>
                  </a:lnTo>
                  <a:lnTo>
                    <a:pt x="2553" y="1368"/>
                  </a:lnTo>
                  <a:lnTo>
                    <a:pt x="2561" y="1378"/>
                  </a:lnTo>
                  <a:lnTo>
                    <a:pt x="2571" y="1388"/>
                  </a:lnTo>
                  <a:lnTo>
                    <a:pt x="2583" y="1401"/>
                  </a:lnTo>
                  <a:lnTo>
                    <a:pt x="2595" y="1414"/>
                  </a:lnTo>
                  <a:lnTo>
                    <a:pt x="2606" y="1428"/>
                  </a:lnTo>
                  <a:lnTo>
                    <a:pt x="2618" y="1443"/>
                  </a:lnTo>
                  <a:lnTo>
                    <a:pt x="2631" y="1458"/>
                  </a:lnTo>
                  <a:lnTo>
                    <a:pt x="2645" y="1473"/>
                  </a:lnTo>
                  <a:lnTo>
                    <a:pt x="2658" y="1488"/>
                  </a:lnTo>
                  <a:lnTo>
                    <a:pt x="2670" y="1501"/>
                  </a:lnTo>
                  <a:lnTo>
                    <a:pt x="2680" y="1511"/>
                  </a:lnTo>
                  <a:lnTo>
                    <a:pt x="2688" y="1521"/>
                  </a:lnTo>
                  <a:lnTo>
                    <a:pt x="2691" y="1528"/>
                  </a:lnTo>
                  <a:lnTo>
                    <a:pt x="2701" y="1533"/>
                  </a:lnTo>
                  <a:lnTo>
                    <a:pt x="2723" y="1538"/>
                  </a:lnTo>
                  <a:lnTo>
                    <a:pt x="2753" y="1543"/>
                  </a:lnTo>
                  <a:lnTo>
                    <a:pt x="2790" y="1546"/>
                  </a:lnTo>
                  <a:lnTo>
                    <a:pt x="2828" y="1549"/>
                  </a:lnTo>
                  <a:lnTo>
                    <a:pt x="2863" y="1551"/>
                  </a:lnTo>
                  <a:lnTo>
                    <a:pt x="2891" y="1554"/>
                  </a:lnTo>
                  <a:lnTo>
                    <a:pt x="2910" y="1556"/>
                  </a:lnTo>
                  <a:lnTo>
                    <a:pt x="2925" y="1558"/>
                  </a:lnTo>
                  <a:lnTo>
                    <a:pt x="2945" y="1559"/>
                  </a:lnTo>
                  <a:lnTo>
                    <a:pt x="2968" y="1561"/>
                  </a:lnTo>
                  <a:lnTo>
                    <a:pt x="2992" y="1563"/>
                  </a:lnTo>
                  <a:lnTo>
                    <a:pt x="3013" y="1566"/>
                  </a:lnTo>
                  <a:lnTo>
                    <a:pt x="3033" y="1568"/>
                  </a:lnTo>
                  <a:lnTo>
                    <a:pt x="3048" y="1569"/>
                  </a:lnTo>
                  <a:lnTo>
                    <a:pt x="3057" y="1571"/>
                  </a:lnTo>
                  <a:lnTo>
                    <a:pt x="3070" y="1569"/>
                  </a:lnTo>
                  <a:lnTo>
                    <a:pt x="3083" y="1563"/>
                  </a:lnTo>
                  <a:lnTo>
                    <a:pt x="3095" y="1554"/>
                  </a:lnTo>
                  <a:lnTo>
                    <a:pt x="3100" y="1551"/>
                  </a:lnTo>
                  <a:lnTo>
                    <a:pt x="3102" y="1553"/>
                  </a:lnTo>
                  <a:lnTo>
                    <a:pt x="3105" y="1556"/>
                  </a:lnTo>
                  <a:lnTo>
                    <a:pt x="3112" y="1561"/>
                  </a:lnTo>
                  <a:lnTo>
                    <a:pt x="3120" y="1568"/>
                  </a:lnTo>
                  <a:lnTo>
                    <a:pt x="3130" y="1576"/>
                  </a:lnTo>
                  <a:lnTo>
                    <a:pt x="3140" y="1586"/>
                  </a:lnTo>
                  <a:lnTo>
                    <a:pt x="3152" y="1598"/>
                  </a:lnTo>
                  <a:lnTo>
                    <a:pt x="3162" y="1609"/>
                  </a:lnTo>
                  <a:lnTo>
                    <a:pt x="3172" y="1624"/>
                  </a:lnTo>
                  <a:lnTo>
                    <a:pt x="3180" y="1638"/>
                  </a:lnTo>
                  <a:lnTo>
                    <a:pt x="3183" y="1653"/>
                  </a:lnTo>
                  <a:lnTo>
                    <a:pt x="3185" y="1668"/>
                  </a:lnTo>
                  <a:lnTo>
                    <a:pt x="3185" y="1678"/>
                  </a:lnTo>
                  <a:lnTo>
                    <a:pt x="3183" y="1688"/>
                  </a:lnTo>
                  <a:lnTo>
                    <a:pt x="3180" y="1696"/>
                  </a:lnTo>
                  <a:lnTo>
                    <a:pt x="3175" y="1704"/>
                  </a:lnTo>
                  <a:lnTo>
                    <a:pt x="3168" y="1724"/>
                  </a:lnTo>
                  <a:lnTo>
                    <a:pt x="3168" y="1748"/>
                  </a:lnTo>
                  <a:lnTo>
                    <a:pt x="3168" y="1771"/>
                  </a:lnTo>
                  <a:lnTo>
                    <a:pt x="3167" y="1795"/>
                  </a:lnTo>
                  <a:lnTo>
                    <a:pt x="3162" y="1815"/>
                  </a:lnTo>
                  <a:lnTo>
                    <a:pt x="3153" y="1835"/>
                  </a:lnTo>
                  <a:lnTo>
                    <a:pt x="3145" y="1851"/>
                  </a:lnTo>
                  <a:lnTo>
                    <a:pt x="3138" y="1870"/>
                  </a:lnTo>
                  <a:lnTo>
                    <a:pt x="3132" y="1890"/>
                  </a:lnTo>
                  <a:lnTo>
                    <a:pt x="3125" y="1913"/>
                  </a:lnTo>
                  <a:lnTo>
                    <a:pt x="3120" y="1933"/>
                  </a:lnTo>
                  <a:lnTo>
                    <a:pt x="3118" y="1951"/>
                  </a:lnTo>
                  <a:lnTo>
                    <a:pt x="3117" y="1965"/>
                  </a:lnTo>
                  <a:lnTo>
                    <a:pt x="3115" y="1976"/>
                  </a:lnTo>
                  <a:lnTo>
                    <a:pt x="3108" y="1986"/>
                  </a:lnTo>
                  <a:lnTo>
                    <a:pt x="3100" y="1993"/>
                  </a:lnTo>
                  <a:lnTo>
                    <a:pt x="3093" y="1996"/>
                  </a:lnTo>
                  <a:lnTo>
                    <a:pt x="3078" y="2003"/>
                  </a:lnTo>
                  <a:lnTo>
                    <a:pt x="3057" y="2013"/>
                  </a:lnTo>
                  <a:lnTo>
                    <a:pt x="3028" y="2026"/>
                  </a:lnTo>
                  <a:lnTo>
                    <a:pt x="2997" y="2040"/>
                  </a:lnTo>
                  <a:lnTo>
                    <a:pt x="2962" y="2056"/>
                  </a:lnTo>
                  <a:lnTo>
                    <a:pt x="2923" y="2073"/>
                  </a:lnTo>
                  <a:lnTo>
                    <a:pt x="2885" y="2090"/>
                  </a:lnTo>
                  <a:lnTo>
                    <a:pt x="2845" y="2108"/>
                  </a:lnTo>
                  <a:lnTo>
                    <a:pt x="2806" y="2125"/>
                  </a:lnTo>
                  <a:lnTo>
                    <a:pt x="2770" y="2141"/>
                  </a:lnTo>
                  <a:lnTo>
                    <a:pt x="2736" y="2155"/>
                  </a:lnTo>
                  <a:lnTo>
                    <a:pt x="2708" y="2168"/>
                  </a:lnTo>
                  <a:lnTo>
                    <a:pt x="2685" y="2180"/>
                  </a:lnTo>
                  <a:lnTo>
                    <a:pt x="2668" y="2188"/>
                  </a:lnTo>
                  <a:lnTo>
                    <a:pt x="2658" y="2193"/>
                  </a:lnTo>
                  <a:lnTo>
                    <a:pt x="2645" y="2200"/>
                  </a:lnTo>
                  <a:lnTo>
                    <a:pt x="2628" y="2205"/>
                  </a:lnTo>
                  <a:lnTo>
                    <a:pt x="2608" y="2208"/>
                  </a:lnTo>
                  <a:lnTo>
                    <a:pt x="2586" y="2211"/>
                  </a:lnTo>
                  <a:lnTo>
                    <a:pt x="2561" y="2215"/>
                  </a:lnTo>
                  <a:lnTo>
                    <a:pt x="2535" y="2220"/>
                  </a:lnTo>
                  <a:lnTo>
                    <a:pt x="2508" y="2225"/>
                  </a:lnTo>
                  <a:lnTo>
                    <a:pt x="2481" y="2231"/>
                  </a:lnTo>
                  <a:lnTo>
                    <a:pt x="2466" y="2235"/>
                  </a:lnTo>
                  <a:lnTo>
                    <a:pt x="2446" y="2240"/>
                  </a:lnTo>
                  <a:lnTo>
                    <a:pt x="2425" y="2245"/>
                  </a:lnTo>
                  <a:lnTo>
                    <a:pt x="2398" y="2252"/>
                  </a:lnTo>
                  <a:lnTo>
                    <a:pt x="2371" y="2258"/>
                  </a:lnTo>
                  <a:lnTo>
                    <a:pt x="2343" y="2265"/>
                  </a:lnTo>
                  <a:lnTo>
                    <a:pt x="2313" y="2272"/>
                  </a:lnTo>
                  <a:lnTo>
                    <a:pt x="2283" y="2278"/>
                  </a:lnTo>
                  <a:lnTo>
                    <a:pt x="2253" y="2285"/>
                  </a:lnTo>
                  <a:lnTo>
                    <a:pt x="2224" y="2293"/>
                  </a:lnTo>
                  <a:lnTo>
                    <a:pt x="2198" y="2300"/>
                  </a:lnTo>
                  <a:lnTo>
                    <a:pt x="2173" y="2307"/>
                  </a:lnTo>
                  <a:lnTo>
                    <a:pt x="2151" y="2312"/>
                  </a:lnTo>
                  <a:lnTo>
                    <a:pt x="2134" y="2318"/>
                  </a:lnTo>
                  <a:lnTo>
                    <a:pt x="2119" y="2323"/>
                  </a:lnTo>
                  <a:lnTo>
                    <a:pt x="2111" y="2327"/>
                  </a:lnTo>
                  <a:lnTo>
                    <a:pt x="2098" y="2333"/>
                  </a:lnTo>
                  <a:lnTo>
                    <a:pt x="2086" y="2338"/>
                  </a:lnTo>
                  <a:lnTo>
                    <a:pt x="2071" y="2347"/>
                  </a:lnTo>
                  <a:lnTo>
                    <a:pt x="2058" y="2353"/>
                  </a:lnTo>
                  <a:lnTo>
                    <a:pt x="2043" y="2365"/>
                  </a:lnTo>
                  <a:lnTo>
                    <a:pt x="2028" y="2378"/>
                  </a:lnTo>
                  <a:lnTo>
                    <a:pt x="2011" y="2398"/>
                  </a:lnTo>
                  <a:lnTo>
                    <a:pt x="1993" y="2422"/>
                  </a:lnTo>
                  <a:lnTo>
                    <a:pt x="1976" y="2447"/>
                  </a:lnTo>
                  <a:lnTo>
                    <a:pt x="1961" y="2470"/>
                  </a:lnTo>
                  <a:lnTo>
                    <a:pt x="1946" y="2492"/>
                  </a:lnTo>
                  <a:lnTo>
                    <a:pt x="1933" y="2512"/>
                  </a:lnTo>
                  <a:lnTo>
                    <a:pt x="1923" y="2528"/>
                  </a:lnTo>
                  <a:lnTo>
                    <a:pt x="1913" y="2542"/>
                  </a:lnTo>
                  <a:lnTo>
                    <a:pt x="1904" y="2552"/>
                  </a:lnTo>
                  <a:lnTo>
                    <a:pt x="1898" y="2558"/>
                  </a:lnTo>
                  <a:lnTo>
                    <a:pt x="1891" y="2563"/>
                  </a:lnTo>
                  <a:lnTo>
                    <a:pt x="1884" y="2568"/>
                  </a:lnTo>
                  <a:lnTo>
                    <a:pt x="1874" y="2573"/>
                  </a:lnTo>
                  <a:lnTo>
                    <a:pt x="1864" y="2575"/>
                  </a:lnTo>
                  <a:lnTo>
                    <a:pt x="1853" y="2577"/>
                  </a:lnTo>
                  <a:lnTo>
                    <a:pt x="1843" y="2577"/>
                  </a:lnTo>
                  <a:lnTo>
                    <a:pt x="1833" y="2573"/>
                  </a:lnTo>
                  <a:lnTo>
                    <a:pt x="1823" y="2568"/>
                  </a:lnTo>
                  <a:lnTo>
                    <a:pt x="1814" y="2562"/>
                  </a:lnTo>
                  <a:lnTo>
                    <a:pt x="1806" y="2553"/>
                  </a:lnTo>
                  <a:lnTo>
                    <a:pt x="1799" y="2547"/>
                  </a:lnTo>
                  <a:lnTo>
                    <a:pt x="1794" y="2538"/>
                  </a:lnTo>
                  <a:lnTo>
                    <a:pt x="1787" y="2533"/>
                  </a:lnTo>
                  <a:lnTo>
                    <a:pt x="1781" y="2530"/>
                  </a:lnTo>
                  <a:lnTo>
                    <a:pt x="1772" y="2528"/>
                  </a:lnTo>
                  <a:lnTo>
                    <a:pt x="1764" y="2530"/>
                  </a:lnTo>
                  <a:lnTo>
                    <a:pt x="1752" y="2533"/>
                  </a:lnTo>
                  <a:lnTo>
                    <a:pt x="1739" y="2535"/>
                  </a:lnTo>
                  <a:lnTo>
                    <a:pt x="1722" y="2535"/>
                  </a:lnTo>
                  <a:lnTo>
                    <a:pt x="1704" y="2535"/>
                  </a:lnTo>
                  <a:lnTo>
                    <a:pt x="1684" y="2535"/>
                  </a:lnTo>
                  <a:lnTo>
                    <a:pt x="1666" y="2533"/>
                  </a:lnTo>
                  <a:lnTo>
                    <a:pt x="1647" y="2532"/>
                  </a:lnTo>
                  <a:lnTo>
                    <a:pt x="1632" y="2530"/>
                  </a:lnTo>
                  <a:lnTo>
                    <a:pt x="1617" y="2528"/>
                  </a:lnTo>
                  <a:lnTo>
                    <a:pt x="1602" y="2525"/>
                  </a:lnTo>
                  <a:lnTo>
                    <a:pt x="1589" y="2520"/>
                  </a:lnTo>
                  <a:lnTo>
                    <a:pt x="1574" y="2517"/>
                  </a:lnTo>
                  <a:lnTo>
                    <a:pt x="1561" y="2513"/>
                  </a:lnTo>
                  <a:lnTo>
                    <a:pt x="1549" y="2510"/>
                  </a:lnTo>
                  <a:lnTo>
                    <a:pt x="1537" y="2507"/>
                  </a:lnTo>
                  <a:lnTo>
                    <a:pt x="1527" y="2507"/>
                  </a:lnTo>
                  <a:lnTo>
                    <a:pt x="1514" y="2507"/>
                  </a:lnTo>
                  <a:lnTo>
                    <a:pt x="1492" y="2507"/>
                  </a:lnTo>
                  <a:lnTo>
                    <a:pt x="1466" y="2508"/>
                  </a:lnTo>
                  <a:lnTo>
                    <a:pt x="1436" y="2508"/>
                  </a:lnTo>
                  <a:lnTo>
                    <a:pt x="1409" y="2510"/>
                  </a:lnTo>
                  <a:lnTo>
                    <a:pt x="1386" y="2512"/>
                  </a:lnTo>
                  <a:lnTo>
                    <a:pt x="1369" y="2512"/>
                  </a:lnTo>
                  <a:lnTo>
                    <a:pt x="1362" y="2512"/>
                  </a:lnTo>
                  <a:lnTo>
                    <a:pt x="1361" y="2513"/>
                  </a:lnTo>
                  <a:lnTo>
                    <a:pt x="1356" y="2515"/>
                  </a:lnTo>
                  <a:lnTo>
                    <a:pt x="1349" y="2518"/>
                  </a:lnTo>
                  <a:lnTo>
                    <a:pt x="1339" y="2520"/>
                  </a:lnTo>
                  <a:lnTo>
                    <a:pt x="1329" y="2522"/>
                  </a:lnTo>
                  <a:lnTo>
                    <a:pt x="1317" y="2522"/>
                  </a:lnTo>
                  <a:lnTo>
                    <a:pt x="1304" y="2518"/>
                  </a:lnTo>
                  <a:lnTo>
                    <a:pt x="1292" y="2512"/>
                  </a:lnTo>
                  <a:lnTo>
                    <a:pt x="1281" y="2503"/>
                  </a:lnTo>
                  <a:lnTo>
                    <a:pt x="1272" y="2497"/>
                  </a:lnTo>
                  <a:lnTo>
                    <a:pt x="1266" y="2490"/>
                  </a:lnTo>
                  <a:lnTo>
                    <a:pt x="1261" y="2485"/>
                  </a:lnTo>
                  <a:lnTo>
                    <a:pt x="1256" y="2482"/>
                  </a:lnTo>
                  <a:lnTo>
                    <a:pt x="1250" y="2480"/>
                  </a:lnTo>
                  <a:lnTo>
                    <a:pt x="1245" y="2480"/>
                  </a:lnTo>
                  <a:lnTo>
                    <a:pt x="1239" y="2483"/>
                  </a:lnTo>
                  <a:lnTo>
                    <a:pt x="1232" y="2490"/>
                  </a:lnTo>
                  <a:lnTo>
                    <a:pt x="1235" y="2498"/>
                  </a:lnTo>
                  <a:lnTo>
                    <a:pt x="1240" y="2510"/>
                  </a:lnTo>
                  <a:lnTo>
                    <a:pt x="1239" y="2525"/>
                  </a:lnTo>
                  <a:lnTo>
                    <a:pt x="1234" y="2545"/>
                  </a:lnTo>
                  <a:lnTo>
                    <a:pt x="1232" y="2567"/>
                  </a:lnTo>
                  <a:lnTo>
                    <a:pt x="1234" y="2587"/>
                  </a:lnTo>
                  <a:lnTo>
                    <a:pt x="1234" y="2602"/>
                  </a:lnTo>
                  <a:lnTo>
                    <a:pt x="1230" y="2615"/>
                  </a:lnTo>
                  <a:lnTo>
                    <a:pt x="1225" y="2630"/>
                  </a:lnTo>
                  <a:lnTo>
                    <a:pt x="1219" y="2643"/>
                  </a:lnTo>
                  <a:lnTo>
                    <a:pt x="1215" y="2648"/>
                  </a:lnTo>
                  <a:lnTo>
                    <a:pt x="1177" y="2678"/>
                  </a:lnTo>
                  <a:lnTo>
                    <a:pt x="1175" y="2672"/>
                  </a:lnTo>
                  <a:lnTo>
                    <a:pt x="1170" y="2657"/>
                  </a:lnTo>
                  <a:lnTo>
                    <a:pt x="1167" y="2640"/>
                  </a:lnTo>
                  <a:lnTo>
                    <a:pt x="1167" y="2625"/>
                  </a:lnTo>
                  <a:lnTo>
                    <a:pt x="1167" y="2613"/>
                  </a:lnTo>
                  <a:lnTo>
                    <a:pt x="1164" y="2598"/>
                  </a:lnTo>
                  <a:lnTo>
                    <a:pt x="1154" y="2583"/>
                  </a:lnTo>
                  <a:lnTo>
                    <a:pt x="1144" y="2568"/>
                  </a:lnTo>
                  <a:lnTo>
                    <a:pt x="1134" y="2555"/>
                  </a:lnTo>
                  <a:lnTo>
                    <a:pt x="1124" y="2543"/>
                  </a:lnTo>
                  <a:lnTo>
                    <a:pt x="1115" y="2532"/>
                  </a:lnTo>
                  <a:lnTo>
                    <a:pt x="1110" y="2522"/>
                  </a:lnTo>
                  <a:lnTo>
                    <a:pt x="1107" y="2508"/>
                  </a:lnTo>
                  <a:lnTo>
                    <a:pt x="1104" y="2492"/>
                  </a:lnTo>
                  <a:lnTo>
                    <a:pt x="1095" y="2475"/>
                  </a:lnTo>
                  <a:lnTo>
                    <a:pt x="1082" y="2458"/>
                  </a:lnTo>
                  <a:lnTo>
                    <a:pt x="1072" y="2450"/>
                  </a:lnTo>
                  <a:lnTo>
                    <a:pt x="1059" y="2437"/>
                  </a:lnTo>
                  <a:lnTo>
                    <a:pt x="1044" y="2423"/>
                  </a:lnTo>
                  <a:lnTo>
                    <a:pt x="1029" y="2405"/>
                  </a:lnTo>
                  <a:lnTo>
                    <a:pt x="1014" y="2387"/>
                  </a:lnTo>
                  <a:lnTo>
                    <a:pt x="999" y="2368"/>
                  </a:lnTo>
                  <a:lnTo>
                    <a:pt x="987" y="2350"/>
                  </a:lnTo>
                  <a:lnTo>
                    <a:pt x="979" y="2332"/>
                  </a:lnTo>
                  <a:lnTo>
                    <a:pt x="964" y="2302"/>
                  </a:lnTo>
                  <a:lnTo>
                    <a:pt x="949" y="2280"/>
                  </a:lnTo>
                  <a:lnTo>
                    <a:pt x="937" y="2263"/>
                  </a:lnTo>
                  <a:lnTo>
                    <a:pt x="930" y="2245"/>
                  </a:lnTo>
                  <a:lnTo>
                    <a:pt x="927" y="2231"/>
                  </a:lnTo>
                  <a:lnTo>
                    <a:pt x="920" y="2211"/>
                  </a:lnTo>
                  <a:lnTo>
                    <a:pt x="910" y="2190"/>
                  </a:lnTo>
                  <a:lnTo>
                    <a:pt x="900" y="2166"/>
                  </a:lnTo>
                  <a:lnTo>
                    <a:pt x="890" y="2143"/>
                  </a:lnTo>
                  <a:lnTo>
                    <a:pt x="880" y="2123"/>
                  </a:lnTo>
                  <a:lnTo>
                    <a:pt x="870" y="2108"/>
                  </a:lnTo>
                  <a:lnTo>
                    <a:pt x="864" y="2098"/>
                  </a:lnTo>
                  <a:lnTo>
                    <a:pt x="854" y="2085"/>
                  </a:lnTo>
                  <a:lnTo>
                    <a:pt x="845" y="2071"/>
                  </a:lnTo>
                  <a:lnTo>
                    <a:pt x="834" y="2056"/>
                  </a:lnTo>
                  <a:lnTo>
                    <a:pt x="822" y="2041"/>
                  </a:lnTo>
                  <a:lnTo>
                    <a:pt x="814" y="2033"/>
                  </a:lnTo>
                  <a:lnTo>
                    <a:pt x="802" y="2025"/>
                  </a:lnTo>
                  <a:lnTo>
                    <a:pt x="790" y="2018"/>
                  </a:lnTo>
                  <a:lnTo>
                    <a:pt x="779" y="2010"/>
                  </a:lnTo>
                  <a:lnTo>
                    <a:pt x="765" y="2003"/>
                  </a:lnTo>
                  <a:lnTo>
                    <a:pt x="752" y="1998"/>
                  </a:lnTo>
                  <a:lnTo>
                    <a:pt x="740" y="1995"/>
                  </a:lnTo>
                  <a:lnTo>
                    <a:pt x="730" y="1993"/>
                  </a:lnTo>
                  <a:lnTo>
                    <a:pt x="722" y="1991"/>
                  </a:lnTo>
                  <a:lnTo>
                    <a:pt x="717" y="1988"/>
                  </a:lnTo>
                  <a:lnTo>
                    <a:pt x="710" y="1983"/>
                  </a:lnTo>
                  <a:lnTo>
                    <a:pt x="705" y="1975"/>
                  </a:lnTo>
                  <a:lnTo>
                    <a:pt x="700" y="1966"/>
                  </a:lnTo>
                  <a:lnTo>
                    <a:pt x="693" y="1953"/>
                  </a:lnTo>
                  <a:lnTo>
                    <a:pt x="685" y="1940"/>
                  </a:lnTo>
                  <a:lnTo>
                    <a:pt x="673" y="1923"/>
                  </a:lnTo>
                  <a:lnTo>
                    <a:pt x="662" y="1905"/>
                  </a:lnTo>
                  <a:lnTo>
                    <a:pt x="652" y="1886"/>
                  </a:lnTo>
                  <a:lnTo>
                    <a:pt x="642" y="1868"/>
                  </a:lnTo>
                  <a:lnTo>
                    <a:pt x="635" y="1851"/>
                  </a:lnTo>
                  <a:lnTo>
                    <a:pt x="628" y="1833"/>
                  </a:lnTo>
                  <a:lnTo>
                    <a:pt x="623" y="1818"/>
                  </a:lnTo>
                  <a:lnTo>
                    <a:pt x="620" y="1803"/>
                  </a:lnTo>
                  <a:lnTo>
                    <a:pt x="617" y="1790"/>
                  </a:lnTo>
                  <a:lnTo>
                    <a:pt x="612" y="1765"/>
                  </a:lnTo>
                  <a:lnTo>
                    <a:pt x="603" y="1741"/>
                  </a:lnTo>
                  <a:lnTo>
                    <a:pt x="597" y="1724"/>
                  </a:lnTo>
                  <a:lnTo>
                    <a:pt x="593" y="1718"/>
                  </a:lnTo>
                  <a:lnTo>
                    <a:pt x="600" y="1706"/>
                  </a:lnTo>
                  <a:lnTo>
                    <a:pt x="610" y="1676"/>
                  </a:lnTo>
                  <a:lnTo>
                    <a:pt x="617" y="1636"/>
                  </a:lnTo>
                  <a:lnTo>
                    <a:pt x="607" y="1594"/>
                  </a:lnTo>
                  <a:lnTo>
                    <a:pt x="590" y="1559"/>
                  </a:lnTo>
                  <a:lnTo>
                    <a:pt x="582" y="1531"/>
                  </a:lnTo>
                  <a:lnTo>
                    <a:pt x="573" y="1503"/>
                  </a:lnTo>
                  <a:lnTo>
                    <a:pt x="560" y="1471"/>
                  </a:lnTo>
                  <a:lnTo>
                    <a:pt x="552" y="1454"/>
                  </a:lnTo>
                  <a:lnTo>
                    <a:pt x="547" y="1439"/>
                  </a:lnTo>
                  <a:lnTo>
                    <a:pt x="542" y="1426"/>
                  </a:lnTo>
                  <a:lnTo>
                    <a:pt x="537" y="1413"/>
                  </a:lnTo>
                  <a:lnTo>
                    <a:pt x="532" y="1401"/>
                  </a:lnTo>
                  <a:lnTo>
                    <a:pt x="525" y="1393"/>
                  </a:lnTo>
                  <a:lnTo>
                    <a:pt x="518" y="1383"/>
                  </a:lnTo>
                  <a:lnTo>
                    <a:pt x="508" y="1376"/>
                  </a:lnTo>
                  <a:lnTo>
                    <a:pt x="497" y="1369"/>
                  </a:lnTo>
                  <a:lnTo>
                    <a:pt x="487" y="1361"/>
                  </a:lnTo>
                  <a:lnTo>
                    <a:pt x="475" y="1354"/>
                  </a:lnTo>
                  <a:lnTo>
                    <a:pt x="463" y="1346"/>
                  </a:lnTo>
                  <a:lnTo>
                    <a:pt x="452" y="1338"/>
                  </a:lnTo>
                  <a:lnTo>
                    <a:pt x="440" y="1329"/>
                  </a:lnTo>
                  <a:lnTo>
                    <a:pt x="427" y="1323"/>
                  </a:lnTo>
                  <a:lnTo>
                    <a:pt x="413" y="1316"/>
                  </a:lnTo>
                  <a:lnTo>
                    <a:pt x="392" y="1303"/>
                  </a:lnTo>
                  <a:lnTo>
                    <a:pt x="382" y="1286"/>
                  </a:lnTo>
                  <a:lnTo>
                    <a:pt x="375" y="1268"/>
                  </a:lnTo>
                  <a:lnTo>
                    <a:pt x="365" y="1249"/>
                  </a:lnTo>
                  <a:lnTo>
                    <a:pt x="355" y="1232"/>
                  </a:lnTo>
                  <a:lnTo>
                    <a:pt x="348" y="1219"/>
                  </a:lnTo>
                  <a:lnTo>
                    <a:pt x="347" y="1209"/>
                  </a:lnTo>
                  <a:lnTo>
                    <a:pt x="347" y="1206"/>
                  </a:lnTo>
                  <a:lnTo>
                    <a:pt x="348" y="1206"/>
                  </a:lnTo>
                  <a:lnTo>
                    <a:pt x="353" y="1204"/>
                  </a:lnTo>
                  <a:lnTo>
                    <a:pt x="360" y="1201"/>
                  </a:lnTo>
                  <a:lnTo>
                    <a:pt x="367" y="1194"/>
                  </a:lnTo>
                  <a:lnTo>
                    <a:pt x="370" y="1187"/>
                  </a:lnTo>
                  <a:lnTo>
                    <a:pt x="370" y="1176"/>
                  </a:lnTo>
                  <a:lnTo>
                    <a:pt x="365" y="1162"/>
                  </a:lnTo>
                  <a:lnTo>
                    <a:pt x="352" y="1144"/>
                  </a:lnTo>
                  <a:lnTo>
                    <a:pt x="330" y="1122"/>
                  </a:lnTo>
                  <a:lnTo>
                    <a:pt x="327" y="1122"/>
                  </a:lnTo>
                  <a:lnTo>
                    <a:pt x="330" y="1126"/>
                  </a:lnTo>
                  <a:lnTo>
                    <a:pt x="327" y="1112"/>
                  </a:lnTo>
                  <a:lnTo>
                    <a:pt x="320" y="1091"/>
                  </a:lnTo>
                  <a:lnTo>
                    <a:pt x="315" y="1076"/>
                  </a:lnTo>
                  <a:lnTo>
                    <a:pt x="308" y="1066"/>
                  </a:lnTo>
                  <a:lnTo>
                    <a:pt x="293" y="1054"/>
                  </a:lnTo>
                  <a:lnTo>
                    <a:pt x="283" y="1039"/>
                  </a:lnTo>
                  <a:lnTo>
                    <a:pt x="285" y="1024"/>
                  </a:lnTo>
                  <a:lnTo>
                    <a:pt x="287" y="1011"/>
                  </a:lnTo>
                  <a:lnTo>
                    <a:pt x="275" y="997"/>
                  </a:lnTo>
                  <a:lnTo>
                    <a:pt x="257" y="986"/>
                  </a:lnTo>
                  <a:lnTo>
                    <a:pt x="243" y="971"/>
                  </a:lnTo>
                  <a:lnTo>
                    <a:pt x="235" y="954"/>
                  </a:lnTo>
                  <a:lnTo>
                    <a:pt x="232" y="936"/>
                  </a:lnTo>
                  <a:lnTo>
                    <a:pt x="228" y="916"/>
                  </a:lnTo>
                  <a:lnTo>
                    <a:pt x="218" y="889"/>
                  </a:lnTo>
                  <a:lnTo>
                    <a:pt x="205" y="862"/>
                  </a:lnTo>
                  <a:lnTo>
                    <a:pt x="185" y="836"/>
                  </a:lnTo>
                  <a:lnTo>
                    <a:pt x="172" y="814"/>
                  </a:lnTo>
                  <a:lnTo>
                    <a:pt x="168" y="796"/>
                  </a:lnTo>
                  <a:lnTo>
                    <a:pt x="167" y="782"/>
                  </a:lnTo>
                  <a:lnTo>
                    <a:pt x="157" y="774"/>
                  </a:lnTo>
                  <a:lnTo>
                    <a:pt x="145" y="766"/>
                  </a:lnTo>
                  <a:lnTo>
                    <a:pt x="140" y="754"/>
                  </a:lnTo>
                  <a:lnTo>
                    <a:pt x="133" y="739"/>
                  </a:lnTo>
                  <a:lnTo>
                    <a:pt x="118" y="722"/>
                  </a:lnTo>
                  <a:lnTo>
                    <a:pt x="100" y="700"/>
                  </a:lnTo>
                  <a:lnTo>
                    <a:pt x="86" y="674"/>
                  </a:lnTo>
                  <a:lnTo>
                    <a:pt x="78" y="652"/>
                  </a:lnTo>
                  <a:lnTo>
                    <a:pt x="75" y="642"/>
                  </a:lnTo>
                  <a:lnTo>
                    <a:pt x="70" y="642"/>
                  </a:lnTo>
                  <a:lnTo>
                    <a:pt x="60" y="642"/>
                  </a:lnTo>
                  <a:lnTo>
                    <a:pt x="45" y="642"/>
                  </a:lnTo>
                  <a:lnTo>
                    <a:pt x="33" y="642"/>
                  </a:lnTo>
                  <a:lnTo>
                    <a:pt x="21" y="642"/>
                  </a:lnTo>
                  <a:lnTo>
                    <a:pt x="11" y="644"/>
                  </a:lnTo>
                  <a:lnTo>
                    <a:pt x="3" y="645"/>
                  </a:lnTo>
                  <a:lnTo>
                    <a:pt x="0" y="645"/>
                  </a:lnTo>
                  <a:lnTo>
                    <a:pt x="1" y="642"/>
                  </a:lnTo>
                  <a:lnTo>
                    <a:pt x="5" y="632"/>
                  </a:lnTo>
                  <a:lnTo>
                    <a:pt x="8" y="620"/>
                  </a:lnTo>
                  <a:lnTo>
                    <a:pt x="13" y="609"/>
                  </a:lnTo>
                  <a:lnTo>
                    <a:pt x="20" y="592"/>
                  </a:lnTo>
                  <a:lnTo>
                    <a:pt x="28" y="569"/>
                  </a:lnTo>
                  <a:lnTo>
                    <a:pt x="35" y="542"/>
                  </a:lnTo>
                  <a:lnTo>
                    <a:pt x="38" y="517"/>
                  </a:lnTo>
                  <a:lnTo>
                    <a:pt x="40" y="500"/>
                  </a:lnTo>
                  <a:lnTo>
                    <a:pt x="43" y="489"/>
                  </a:lnTo>
                  <a:lnTo>
                    <a:pt x="50" y="480"/>
                  </a:lnTo>
                  <a:lnTo>
                    <a:pt x="56" y="470"/>
                  </a:lnTo>
                  <a:lnTo>
                    <a:pt x="61" y="457"/>
                  </a:lnTo>
                  <a:lnTo>
                    <a:pt x="65" y="442"/>
                  </a:lnTo>
                  <a:lnTo>
                    <a:pt x="66" y="429"/>
                  </a:lnTo>
                  <a:lnTo>
                    <a:pt x="66" y="424"/>
                  </a:lnTo>
                  <a:lnTo>
                    <a:pt x="232" y="465"/>
                  </a:lnTo>
                  <a:lnTo>
                    <a:pt x="235" y="464"/>
                  </a:lnTo>
                  <a:lnTo>
                    <a:pt x="243" y="457"/>
                  </a:lnTo>
                  <a:lnTo>
                    <a:pt x="257" y="450"/>
                  </a:lnTo>
                  <a:lnTo>
                    <a:pt x="270" y="439"/>
                  </a:lnTo>
                  <a:lnTo>
                    <a:pt x="285" y="429"/>
                  </a:lnTo>
                  <a:lnTo>
                    <a:pt x="298" y="417"/>
                  </a:lnTo>
                  <a:lnTo>
                    <a:pt x="308" y="407"/>
                  </a:lnTo>
                  <a:lnTo>
                    <a:pt x="313" y="399"/>
                  </a:lnTo>
                  <a:lnTo>
                    <a:pt x="318" y="384"/>
                  </a:lnTo>
                  <a:lnTo>
                    <a:pt x="325" y="369"/>
                  </a:lnTo>
                  <a:lnTo>
                    <a:pt x="330" y="357"/>
                  </a:lnTo>
                  <a:lnTo>
                    <a:pt x="332" y="352"/>
                  </a:lnTo>
                  <a:lnTo>
                    <a:pt x="335" y="352"/>
                  </a:lnTo>
                  <a:lnTo>
                    <a:pt x="342" y="352"/>
                  </a:lnTo>
                  <a:lnTo>
                    <a:pt x="353" y="352"/>
                  </a:lnTo>
                  <a:lnTo>
                    <a:pt x="367" y="350"/>
                  </a:lnTo>
                  <a:lnTo>
                    <a:pt x="382" y="350"/>
                  </a:lnTo>
                  <a:lnTo>
                    <a:pt x="398" y="347"/>
                  </a:lnTo>
                  <a:lnTo>
                    <a:pt x="413" y="345"/>
                  </a:lnTo>
                  <a:lnTo>
                    <a:pt x="427" y="342"/>
                  </a:lnTo>
                  <a:lnTo>
                    <a:pt x="438" y="337"/>
                  </a:lnTo>
                  <a:lnTo>
                    <a:pt x="447" y="329"/>
                  </a:lnTo>
                  <a:lnTo>
                    <a:pt x="455" y="319"/>
                  </a:lnTo>
                  <a:lnTo>
                    <a:pt x="462" y="309"/>
                  </a:lnTo>
                  <a:lnTo>
                    <a:pt x="468" y="299"/>
                  </a:lnTo>
                  <a:lnTo>
                    <a:pt x="475" y="290"/>
                  </a:lnTo>
                  <a:lnTo>
                    <a:pt x="483" y="284"/>
                  </a:lnTo>
                  <a:lnTo>
                    <a:pt x="493" y="280"/>
                  </a:lnTo>
                  <a:lnTo>
                    <a:pt x="508" y="275"/>
                  </a:lnTo>
                  <a:lnTo>
                    <a:pt x="513" y="269"/>
                  </a:lnTo>
                  <a:lnTo>
                    <a:pt x="513" y="264"/>
                  </a:lnTo>
                  <a:lnTo>
                    <a:pt x="512" y="262"/>
                  </a:lnTo>
                  <a:lnTo>
                    <a:pt x="380" y="90"/>
                  </a:lnTo>
                  <a:close/>
                </a:path>
              </a:pathLst>
            </a:custGeom>
            <a:solidFill>
              <a:srgbClr val="b2b2b2">
                <a:alpha val="30000"/>
              </a:srgbClr>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425" name="PlaceHolder 1"/>
          <p:cNvSpPr>
            <a:spLocks noGrp="1"/>
          </p:cNvSpPr>
          <p:nvPr>
            <p:ph/>
          </p:nvPr>
        </p:nvSpPr>
        <p:spPr>
          <a:xfrm>
            <a:off x="1218960" y="1600200"/>
            <a:ext cx="7467480" cy="4525920"/>
          </a:xfrm>
          <a:prstGeom prst="rect">
            <a:avLst/>
          </a:prstGeom>
          <a:noFill/>
          <a:ln w="0">
            <a:noFill/>
          </a:ln>
        </p:spPr>
        <p:txBody>
          <a:bodyPr lIns="90000" rIns="90000" tIns="46800" bIns="46800" anchor="t">
            <a:normAutofit/>
          </a:bodyPr>
          <a:p>
            <a:pPr lvl="1" marL="741240" indent="-284040">
              <a:lnSpc>
                <a:spcPct val="100000"/>
              </a:lnSpc>
              <a:spcBef>
                <a:spcPts val="601"/>
              </a:spcBef>
              <a:buClr>
                <a:srgbClr val="333399"/>
              </a:buClr>
              <a:buFont typeface="Albertus Medium"/>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333399"/>
                </a:solidFill>
                <a:latin typeface="Albertus Medium"/>
              </a:rPr>
              <a:t>Is highly toxic to wide range of bacteria, its nanoparticles are more effective because of their high surface/volume ratio, which allows greater proportion of silver atoms to come into direct contact with a pathogen and at 10 nm size or less they can pass through bacterial outer cell wall. e.g.</a:t>
            </a:r>
            <a:endParaRPr b="0" lang="en-US" sz="2400" spc="-1" strike="noStrike">
              <a:solidFill>
                <a:srgbClr val="000000"/>
              </a:solidFill>
              <a:latin typeface="Arial"/>
            </a:endParaRPr>
          </a:p>
          <a:p>
            <a:pPr lvl="1" marL="741240" indent="-284040">
              <a:lnSpc>
                <a:spcPct val="100000"/>
              </a:lnSpc>
              <a:spcBef>
                <a:spcPts val="601"/>
              </a:spcBef>
              <a:buClr>
                <a:srgbClr val="333399"/>
              </a:buClr>
              <a:buFont typeface="Albertus Medium"/>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333399"/>
                </a:solidFill>
                <a:latin typeface="Albertus Medium"/>
              </a:rPr>
              <a:t>In treatment of MRSA</a:t>
            </a:r>
            <a:endParaRPr b="0" lang="en-US" sz="2400" spc="-1" strike="noStrike">
              <a:solidFill>
                <a:srgbClr val="000000"/>
              </a:solidFill>
              <a:latin typeface="Arial"/>
            </a:endParaRPr>
          </a:p>
          <a:p>
            <a:pPr lvl="1" marL="741240" indent="-284040">
              <a:lnSpc>
                <a:spcPct val="100000"/>
              </a:lnSpc>
              <a:spcBef>
                <a:spcPts val="601"/>
              </a:spcBef>
              <a:buClr>
                <a:srgbClr val="333399"/>
              </a:buClr>
              <a:buFont typeface="Albertus Medium"/>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333399"/>
                </a:solidFill>
                <a:latin typeface="Albertus Medium"/>
              </a:rPr>
              <a:t>Pseudomonas </a:t>
            </a:r>
            <a:r>
              <a:rPr b="0" i="1" lang="en-US" sz="2400" spc="-1" strike="noStrike">
                <a:solidFill>
                  <a:srgbClr val="333399"/>
                </a:solidFill>
                <a:latin typeface="Albertus Medium"/>
              </a:rPr>
              <a:t>aeroginosa</a:t>
            </a:r>
            <a:endParaRPr b="0" lang="en-US" sz="2400" spc="-1" strike="noStrike">
              <a:solidFill>
                <a:srgbClr val="000000"/>
              </a:solidFill>
              <a:latin typeface="Arial"/>
            </a:endParaRPr>
          </a:p>
          <a:p>
            <a:pPr lvl="1" marL="741240" indent="-284040">
              <a:lnSpc>
                <a:spcPct val="100000"/>
              </a:lnSpc>
              <a:spcBef>
                <a:spcPts val="601"/>
              </a:spcBef>
              <a:buClr>
                <a:srgbClr val="333399"/>
              </a:buClr>
              <a:buFont typeface="Albertus Medium"/>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333399"/>
                </a:solidFill>
                <a:latin typeface="Albertus Medium"/>
              </a:rPr>
              <a:t>Lately was found to prevent HIV from binding to host cell surface. </a:t>
            </a:r>
            <a:endParaRPr b="0" lang="en-US" sz="2400" spc="-1" strike="noStrike">
              <a:solidFill>
                <a:srgbClr val="000000"/>
              </a:solidFill>
              <a:latin typeface="Arial"/>
            </a:endParaRPr>
          </a:p>
          <a:p>
            <a:pPr marL="341280" indent="0">
              <a:lnSpc>
                <a:spcPct val="10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000000"/>
              </a:solidFill>
              <a:latin typeface="Arial"/>
            </a:endParaRPr>
          </a:p>
        </p:txBody>
      </p:sp>
      <p:sp>
        <p:nvSpPr>
          <p:cNvPr id="426" name=""/>
          <p:cNvSpPr/>
          <p:nvPr/>
        </p:nvSpPr>
        <p:spPr>
          <a:xfrm>
            <a:off x="1258920" y="1157400"/>
            <a:ext cx="6208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333399"/>
                </a:solidFill>
                <a:latin typeface="Albertus Medium"/>
              </a:rPr>
              <a:t>Silver</a:t>
            </a:r>
            <a:endParaRPr b="0" lang="en-US" sz="2400" spc="-1" strike="noStrike">
              <a:solidFill>
                <a:srgbClr val="000000"/>
              </a:solidFill>
              <a:latin typeface="Arial"/>
            </a:endParaRPr>
          </a:p>
        </p:txBody>
      </p:sp>
      <p:sp>
        <p:nvSpPr>
          <p:cNvPr id="427" name=""/>
          <p:cNvSpPr/>
          <p:nvPr/>
        </p:nvSpPr>
        <p:spPr>
          <a:xfrm>
            <a:off x="609480" y="6629400"/>
            <a:ext cx="8534520" cy="228600"/>
          </a:xfrm>
          <a:prstGeom prst="rect">
            <a:avLst/>
          </a:prstGeom>
          <a:solidFill>
            <a:srgbClr val="bbe0e3"/>
          </a:solidFill>
          <a:ln cap="sq"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99"/>
                </a:solidFill>
                <a:latin typeface="Albertus Medium"/>
              </a:rPr>
              <a:t>www.skinandallergy.org</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0" lang="en-US" sz="1000" spc="-1" strike="noStrike">
                <a:solidFill>
                  <a:srgbClr val="333399"/>
                </a:solidFill>
                <a:latin typeface="Albertus Medium"/>
              </a:rPr>
              <a:t>www.panarabderm.org</a:t>
            </a:r>
            <a:endParaRPr b="0" lang="en-US" sz="10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28" name="" descr=""/>
          <p:cNvPicPr/>
          <p:nvPr/>
        </p:nvPicPr>
        <p:blipFill>
          <a:blip r:embed="rId2"/>
          <a:stretch/>
        </p:blipFill>
        <p:spPr>
          <a:xfrm>
            <a:off x="8153280" y="74520"/>
            <a:ext cx="922320" cy="992160"/>
          </a:xfrm>
          <a:prstGeom prst="rect">
            <a:avLst/>
          </a:prstGeom>
          <a:ln w="0">
            <a:noFill/>
          </a:ln>
        </p:spPr>
      </p:pic>
      <p:sp>
        <p:nvSpPr>
          <p:cNvPr id="429" name=""/>
          <p:cNvSpPr/>
          <p:nvPr/>
        </p:nvSpPr>
        <p:spPr>
          <a:xfrm>
            <a:off x="1295280" y="1066680"/>
            <a:ext cx="6193080" cy="1800"/>
          </a:xfrm>
          <a:prstGeom prst="line">
            <a:avLst/>
          </a:prstGeom>
          <a:ln cap="sq" w="12600">
            <a:solidFill>
              <a:srgbClr val="b2b2b2"/>
            </a:solidFill>
            <a:miter/>
          </a:ln>
        </p:spPr>
        <p:style>
          <a:lnRef idx="0"/>
          <a:fillRef idx="0"/>
          <a:effectRef idx="0"/>
          <a:fontRef idx="minor"/>
        </p:style>
        <p:txBody>
          <a:bodyPr lIns="90000" rIns="90000" tIns="-45000" bIns="-45000" anchor="t">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430" name="" descr=""/>
          <p:cNvPicPr/>
          <p:nvPr/>
        </p:nvPicPr>
        <p:blipFill>
          <a:blip r:embed="rId3"/>
          <a:stretch/>
        </p:blipFill>
        <p:spPr>
          <a:xfrm>
            <a:off x="0" y="0"/>
            <a:ext cx="600120" cy="6858000"/>
          </a:xfrm>
          <a:prstGeom prst="rect">
            <a:avLst/>
          </a:prstGeom>
          <a:ln w="0">
            <a:noFill/>
          </a:ln>
        </p:spPr>
      </p:pic>
      <p:sp>
        <p:nvSpPr>
          <p:cNvPr id="431" name=""/>
          <p:cNvSpPr/>
          <p:nvPr/>
        </p:nvSpPr>
        <p:spPr>
          <a:xfrm>
            <a:off x="0" y="76320"/>
            <a:ext cx="914400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333399"/>
                </a:solidFill>
                <a:latin typeface="Albertus Medium"/>
              </a:rPr>
              <a:t>Proposed Research to Utilize </a:t>
            </a:r>
            <a:br>
              <a:rPr sz="2400"/>
            </a:br>
            <a:r>
              <a:rPr b="1" lang="en-US" sz="2000" spc="-1" strike="noStrike">
                <a:solidFill>
                  <a:srgbClr val="333399"/>
                </a:solidFill>
                <a:latin typeface="Albertus Medium"/>
              </a:rPr>
              <a:t>Nanotechnology at King Saud University (Dermatology Dept.)</a:t>
            </a:r>
            <a:endParaRPr b="0" lang="en-US" sz="2000" spc="-1" strike="noStrike">
              <a:solidFill>
                <a:srgbClr val="000000"/>
              </a:solidFill>
              <a:latin typeface="Arial"/>
            </a:endParaRPr>
          </a:p>
        </p:txBody>
      </p:sp>
      <p:grpSp>
        <p:nvGrpSpPr>
          <p:cNvPr id="432" name=""/>
          <p:cNvGrpSpPr/>
          <p:nvPr/>
        </p:nvGrpSpPr>
        <p:grpSpPr>
          <a:xfrm>
            <a:off x="2639880" y="1346040"/>
            <a:ext cx="4521240" cy="3986280"/>
            <a:chOff x="2639880" y="1346040"/>
            <a:chExt cx="4521240" cy="3986280"/>
          </a:xfrm>
        </p:grpSpPr>
        <p:sp>
          <p:nvSpPr>
            <p:cNvPr id="433" name=""/>
            <p:cNvSpPr/>
            <p:nvPr/>
          </p:nvSpPr>
          <p:spPr>
            <a:xfrm>
              <a:off x="2639880" y="2319480"/>
              <a:ext cx="1721160" cy="3012840"/>
            </a:xfrm>
            <a:custGeom>
              <a:avLst/>
              <a:gdLst/>
              <a:ahLst/>
              <a:rect l="l" t="t" r="r" b="b"/>
              <a:pathLst>
                <a:path w="1261" h="2255">
                  <a:moveTo>
                    <a:pt x="1257" y="2027"/>
                  </a:moveTo>
                  <a:lnTo>
                    <a:pt x="1257" y="2015"/>
                  </a:lnTo>
                  <a:lnTo>
                    <a:pt x="1252" y="2000"/>
                  </a:lnTo>
                  <a:lnTo>
                    <a:pt x="1244" y="1985"/>
                  </a:lnTo>
                  <a:lnTo>
                    <a:pt x="1232" y="1970"/>
                  </a:lnTo>
                  <a:lnTo>
                    <a:pt x="1222" y="1956"/>
                  </a:lnTo>
                  <a:lnTo>
                    <a:pt x="1212" y="1945"/>
                  </a:lnTo>
                  <a:lnTo>
                    <a:pt x="1204" y="1933"/>
                  </a:lnTo>
                  <a:lnTo>
                    <a:pt x="1199" y="1921"/>
                  </a:lnTo>
                  <a:lnTo>
                    <a:pt x="1197" y="1910"/>
                  </a:lnTo>
                  <a:lnTo>
                    <a:pt x="1192" y="1893"/>
                  </a:lnTo>
                  <a:lnTo>
                    <a:pt x="1186" y="1876"/>
                  </a:lnTo>
                  <a:lnTo>
                    <a:pt x="1171" y="1860"/>
                  </a:lnTo>
                  <a:lnTo>
                    <a:pt x="1161" y="1851"/>
                  </a:lnTo>
                  <a:lnTo>
                    <a:pt x="1147" y="1838"/>
                  </a:lnTo>
                  <a:lnTo>
                    <a:pt x="1132" y="1823"/>
                  </a:lnTo>
                  <a:lnTo>
                    <a:pt x="1117" y="1806"/>
                  </a:lnTo>
                  <a:lnTo>
                    <a:pt x="1102" y="1788"/>
                  </a:lnTo>
                  <a:lnTo>
                    <a:pt x="1087" y="1770"/>
                  </a:lnTo>
                  <a:lnTo>
                    <a:pt x="1076" y="1750"/>
                  </a:lnTo>
                  <a:lnTo>
                    <a:pt x="1067" y="1731"/>
                  </a:lnTo>
                  <a:lnTo>
                    <a:pt x="1052" y="1703"/>
                  </a:lnTo>
                  <a:lnTo>
                    <a:pt x="1037" y="1681"/>
                  </a:lnTo>
                  <a:lnTo>
                    <a:pt x="1026" y="1665"/>
                  </a:lnTo>
                  <a:lnTo>
                    <a:pt x="1019" y="1646"/>
                  </a:lnTo>
                  <a:lnTo>
                    <a:pt x="1016" y="1633"/>
                  </a:lnTo>
                  <a:lnTo>
                    <a:pt x="1009" y="1613"/>
                  </a:lnTo>
                  <a:lnTo>
                    <a:pt x="999" y="1591"/>
                  </a:lnTo>
                  <a:lnTo>
                    <a:pt x="989" y="1568"/>
                  </a:lnTo>
                  <a:lnTo>
                    <a:pt x="979" y="1545"/>
                  </a:lnTo>
                  <a:lnTo>
                    <a:pt x="969" y="1525"/>
                  </a:lnTo>
                  <a:lnTo>
                    <a:pt x="959" y="1508"/>
                  </a:lnTo>
                  <a:lnTo>
                    <a:pt x="952" y="1499"/>
                  </a:lnTo>
                  <a:lnTo>
                    <a:pt x="942" y="1486"/>
                  </a:lnTo>
                  <a:lnTo>
                    <a:pt x="934" y="1473"/>
                  </a:lnTo>
                  <a:lnTo>
                    <a:pt x="922" y="1458"/>
                  </a:lnTo>
                  <a:lnTo>
                    <a:pt x="911" y="1443"/>
                  </a:lnTo>
                  <a:lnTo>
                    <a:pt x="902" y="1434"/>
                  </a:lnTo>
                  <a:lnTo>
                    <a:pt x="891" y="1426"/>
                  </a:lnTo>
                  <a:lnTo>
                    <a:pt x="879" y="1419"/>
                  </a:lnTo>
                  <a:lnTo>
                    <a:pt x="867" y="1411"/>
                  </a:lnTo>
                  <a:lnTo>
                    <a:pt x="854" y="1404"/>
                  </a:lnTo>
                  <a:lnTo>
                    <a:pt x="842" y="1399"/>
                  </a:lnTo>
                  <a:lnTo>
                    <a:pt x="831" y="1396"/>
                  </a:lnTo>
                  <a:lnTo>
                    <a:pt x="820" y="1394"/>
                  </a:lnTo>
                  <a:lnTo>
                    <a:pt x="812" y="1393"/>
                  </a:lnTo>
                  <a:lnTo>
                    <a:pt x="805" y="1389"/>
                  </a:lnTo>
                  <a:lnTo>
                    <a:pt x="800" y="1384"/>
                  </a:lnTo>
                  <a:lnTo>
                    <a:pt x="794" y="1376"/>
                  </a:lnTo>
                  <a:lnTo>
                    <a:pt x="789" y="1368"/>
                  </a:lnTo>
                  <a:lnTo>
                    <a:pt x="782" y="1354"/>
                  </a:lnTo>
                  <a:lnTo>
                    <a:pt x="774" y="1341"/>
                  </a:lnTo>
                  <a:lnTo>
                    <a:pt x="762" y="1324"/>
                  </a:lnTo>
                  <a:lnTo>
                    <a:pt x="750" y="1306"/>
                  </a:lnTo>
                  <a:lnTo>
                    <a:pt x="740" y="1288"/>
                  </a:lnTo>
                  <a:lnTo>
                    <a:pt x="732" y="1269"/>
                  </a:lnTo>
                  <a:lnTo>
                    <a:pt x="724" y="1253"/>
                  </a:lnTo>
                  <a:lnTo>
                    <a:pt x="717" y="1234"/>
                  </a:lnTo>
                  <a:lnTo>
                    <a:pt x="712" y="1219"/>
                  </a:lnTo>
                  <a:lnTo>
                    <a:pt x="709" y="1204"/>
                  </a:lnTo>
                  <a:lnTo>
                    <a:pt x="705" y="1191"/>
                  </a:lnTo>
                  <a:lnTo>
                    <a:pt x="700" y="1166"/>
                  </a:lnTo>
                  <a:lnTo>
                    <a:pt x="692" y="1143"/>
                  </a:lnTo>
                  <a:lnTo>
                    <a:pt x="685" y="1126"/>
                  </a:lnTo>
                  <a:lnTo>
                    <a:pt x="682" y="1119"/>
                  </a:lnTo>
                  <a:lnTo>
                    <a:pt x="689" y="1108"/>
                  </a:lnTo>
                  <a:lnTo>
                    <a:pt x="700" y="1078"/>
                  </a:lnTo>
                  <a:lnTo>
                    <a:pt x="707" y="1038"/>
                  </a:lnTo>
                  <a:lnTo>
                    <a:pt x="697" y="996"/>
                  </a:lnTo>
                  <a:lnTo>
                    <a:pt x="680" y="961"/>
                  </a:lnTo>
                  <a:lnTo>
                    <a:pt x="670" y="932"/>
                  </a:lnTo>
                  <a:lnTo>
                    <a:pt x="662" y="904"/>
                  </a:lnTo>
                  <a:lnTo>
                    <a:pt x="649" y="872"/>
                  </a:lnTo>
                  <a:lnTo>
                    <a:pt x="640" y="856"/>
                  </a:lnTo>
                  <a:lnTo>
                    <a:pt x="635" y="839"/>
                  </a:lnTo>
                  <a:lnTo>
                    <a:pt x="630" y="826"/>
                  </a:lnTo>
                  <a:lnTo>
                    <a:pt x="625" y="814"/>
                  </a:lnTo>
                  <a:lnTo>
                    <a:pt x="620" y="802"/>
                  </a:lnTo>
                  <a:lnTo>
                    <a:pt x="614" y="792"/>
                  </a:lnTo>
                  <a:lnTo>
                    <a:pt x="607" y="784"/>
                  </a:lnTo>
                  <a:lnTo>
                    <a:pt x="597" y="777"/>
                  </a:lnTo>
                  <a:lnTo>
                    <a:pt x="587" y="771"/>
                  </a:lnTo>
                  <a:lnTo>
                    <a:pt x="575" y="762"/>
                  </a:lnTo>
                  <a:lnTo>
                    <a:pt x="565" y="754"/>
                  </a:lnTo>
                  <a:lnTo>
                    <a:pt x="554" y="744"/>
                  </a:lnTo>
                  <a:lnTo>
                    <a:pt x="542" y="736"/>
                  </a:lnTo>
                  <a:lnTo>
                    <a:pt x="529" y="729"/>
                  </a:lnTo>
                  <a:lnTo>
                    <a:pt x="515" y="721"/>
                  </a:lnTo>
                  <a:lnTo>
                    <a:pt x="502" y="716"/>
                  </a:lnTo>
                  <a:lnTo>
                    <a:pt x="480" y="702"/>
                  </a:lnTo>
                  <a:lnTo>
                    <a:pt x="470" y="686"/>
                  </a:lnTo>
                  <a:lnTo>
                    <a:pt x="464" y="667"/>
                  </a:lnTo>
                  <a:lnTo>
                    <a:pt x="454" y="649"/>
                  </a:lnTo>
                  <a:lnTo>
                    <a:pt x="444" y="634"/>
                  </a:lnTo>
                  <a:lnTo>
                    <a:pt x="437" y="621"/>
                  </a:lnTo>
                  <a:lnTo>
                    <a:pt x="435" y="611"/>
                  </a:lnTo>
                  <a:lnTo>
                    <a:pt x="435" y="607"/>
                  </a:lnTo>
                  <a:lnTo>
                    <a:pt x="437" y="607"/>
                  </a:lnTo>
                  <a:lnTo>
                    <a:pt x="442" y="606"/>
                  </a:lnTo>
                  <a:lnTo>
                    <a:pt x="449" y="602"/>
                  </a:lnTo>
                  <a:lnTo>
                    <a:pt x="455" y="596"/>
                  </a:lnTo>
                  <a:lnTo>
                    <a:pt x="459" y="589"/>
                  </a:lnTo>
                  <a:lnTo>
                    <a:pt x="459" y="577"/>
                  </a:lnTo>
                  <a:lnTo>
                    <a:pt x="454" y="564"/>
                  </a:lnTo>
                  <a:lnTo>
                    <a:pt x="440" y="546"/>
                  </a:lnTo>
                  <a:lnTo>
                    <a:pt x="434" y="539"/>
                  </a:lnTo>
                  <a:lnTo>
                    <a:pt x="429" y="532"/>
                  </a:lnTo>
                  <a:lnTo>
                    <a:pt x="424" y="529"/>
                  </a:lnTo>
                  <a:lnTo>
                    <a:pt x="420" y="526"/>
                  </a:lnTo>
                  <a:lnTo>
                    <a:pt x="419" y="527"/>
                  </a:lnTo>
                  <a:lnTo>
                    <a:pt x="415" y="526"/>
                  </a:lnTo>
                  <a:lnTo>
                    <a:pt x="415" y="522"/>
                  </a:lnTo>
                  <a:lnTo>
                    <a:pt x="420" y="526"/>
                  </a:lnTo>
                  <a:lnTo>
                    <a:pt x="420" y="524"/>
                  </a:lnTo>
                  <a:lnTo>
                    <a:pt x="419" y="521"/>
                  </a:lnTo>
                  <a:lnTo>
                    <a:pt x="419" y="517"/>
                  </a:lnTo>
                  <a:lnTo>
                    <a:pt x="417" y="512"/>
                  </a:lnTo>
                  <a:lnTo>
                    <a:pt x="409" y="490"/>
                  </a:lnTo>
                  <a:lnTo>
                    <a:pt x="405" y="477"/>
                  </a:lnTo>
                  <a:lnTo>
                    <a:pt x="399" y="467"/>
                  </a:lnTo>
                  <a:lnTo>
                    <a:pt x="384" y="455"/>
                  </a:lnTo>
                  <a:lnTo>
                    <a:pt x="372" y="440"/>
                  </a:lnTo>
                  <a:lnTo>
                    <a:pt x="374" y="425"/>
                  </a:lnTo>
                  <a:lnTo>
                    <a:pt x="375" y="412"/>
                  </a:lnTo>
                  <a:lnTo>
                    <a:pt x="364" y="399"/>
                  </a:lnTo>
                  <a:lnTo>
                    <a:pt x="345" y="387"/>
                  </a:lnTo>
                  <a:lnTo>
                    <a:pt x="332" y="372"/>
                  </a:lnTo>
                  <a:lnTo>
                    <a:pt x="325" y="355"/>
                  </a:lnTo>
                  <a:lnTo>
                    <a:pt x="322" y="337"/>
                  </a:lnTo>
                  <a:lnTo>
                    <a:pt x="319" y="317"/>
                  </a:lnTo>
                  <a:lnTo>
                    <a:pt x="309" y="290"/>
                  </a:lnTo>
                  <a:lnTo>
                    <a:pt x="294" y="264"/>
                  </a:lnTo>
                  <a:lnTo>
                    <a:pt x="273" y="237"/>
                  </a:lnTo>
                  <a:lnTo>
                    <a:pt x="260" y="215"/>
                  </a:lnTo>
                  <a:lnTo>
                    <a:pt x="257" y="197"/>
                  </a:lnTo>
                  <a:lnTo>
                    <a:pt x="255" y="184"/>
                  </a:lnTo>
                  <a:lnTo>
                    <a:pt x="245" y="175"/>
                  </a:lnTo>
                  <a:lnTo>
                    <a:pt x="233" y="167"/>
                  </a:lnTo>
                  <a:lnTo>
                    <a:pt x="228" y="154"/>
                  </a:lnTo>
                  <a:lnTo>
                    <a:pt x="222" y="140"/>
                  </a:lnTo>
                  <a:lnTo>
                    <a:pt x="207" y="124"/>
                  </a:lnTo>
                  <a:lnTo>
                    <a:pt x="188" y="100"/>
                  </a:lnTo>
                  <a:lnTo>
                    <a:pt x="175" y="74"/>
                  </a:lnTo>
                  <a:lnTo>
                    <a:pt x="168" y="52"/>
                  </a:lnTo>
                  <a:lnTo>
                    <a:pt x="165" y="42"/>
                  </a:lnTo>
                  <a:lnTo>
                    <a:pt x="160" y="42"/>
                  </a:lnTo>
                  <a:lnTo>
                    <a:pt x="148" y="42"/>
                  </a:lnTo>
                  <a:lnTo>
                    <a:pt x="133" y="42"/>
                  </a:lnTo>
                  <a:lnTo>
                    <a:pt x="122" y="42"/>
                  </a:lnTo>
                  <a:lnTo>
                    <a:pt x="110" y="42"/>
                  </a:lnTo>
                  <a:lnTo>
                    <a:pt x="100" y="44"/>
                  </a:lnTo>
                  <a:lnTo>
                    <a:pt x="92" y="47"/>
                  </a:lnTo>
                  <a:lnTo>
                    <a:pt x="88" y="47"/>
                  </a:lnTo>
                  <a:lnTo>
                    <a:pt x="90" y="44"/>
                  </a:lnTo>
                  <a:lnTo>
                    <a:pt x="93" y="34"/>
                  </a:lnTo>
                  <a:lnTo>
                    <a:pt x="98" y="20"/>
                  </a:lnTo>
                  <a:lnTo>
                    <a:pt x="103" y="8"/>
                  </a:lnTo>
                  <a:lnTo>
                    <a:pt x="103" y="8"/>
                  </a:lnTo>
                  <a:lnTo>
                    <a:pt x="103" y="8"/>
                  </a:lnTo>
                  <a:lnTo>
                    <a:pt x="103" y="8"/>
                  </a:lnTo>
                  <a:lnTo>
                    <a:pt x="103" y="8"/>
                  </a:lnTo>
                  <a:lnTo>
                    <a:pt x="67" y="0"/>
                  </a:lnTo>
                  <a:lnTo>
                    <a:pt x="67" y="5"/>
                  </a:lnTo>
                  <a:lnTo>
                    <a:pt x="65" y="19"/>
                  </a:lnTo>
                  <a:lnTo>
                    <a:pt x="62" y="34"/>
                  </a:lnTo>
                  <a:lnTo>
                    <a:pt x="57" y="47"/>
                  </a:lnTo>
                  <a:lnTo>
                    <a:pt x="50" y="57"/>
                  </a:lnTo>
                  <a:lnTo>
                    <a:pt x="45" y="65"/>
                  </a:lnTo>
                  <a:lnTo>
                    <a:pt x="40" y="79"/>
                  </a:lnTo>
                  <a:lnTo>
                    <a:pt x="38" y="95"/>
                  </a:lnTo>
                  <a:lnTo>
                    <a:pt x="35" y="119"/>
                  </a:lnTo>
                  <a:lnTo>
                    <a:pt x="28" y="145"/>
                  </a:lnTo>
                  <a:lnTo>
                    <a:pt x="20" y="169"/>
                  </a:lnTo>
                  <a:lnTo>
                    <a:pt x="15" y="185"/>
                  </a:lnTo>
                  <a:lnTo>
                    <a:pt x="10" y="197"/>
                  </a:lnTo>
                  <a:lnTo>
                    <a:pt x="5" y="209"/>
                  </a:lnTo>
                  <a:lnTo>
                    <a:pt x="2" y="220"/>
                  </a:lnTo>
                  <a:lnTo>
                    <a:pt x="0" y="224"/>
                  </a:lnTo>
                  <a:lnTo>
                    <a:pt x="3" y="224"/>
                  </a:lnTo>
                  <a:lnTo>
                    <a:pt x="12" y="220"/>
                  </a:lnTo>
                  <a:lnTo>
                    <a:pt x="23" y="219"/>
                  </a:lnTo>
                  <a:lnTo>
                    <a:pt x="33" y="219"/>
                  </a:lnTo>
                  <a:lnTo>
                    <a:pt x="47" y="219"/>
                  </a:lnTo>
                  <a:lnTo>
                    <a:pt x="60" y="219"/>
                  </a:lnTo>
                  <a:lnTo>
                    <a:pt x="72" y="219"/>
                  </a:lnTo>
                  <a:lnTo>
                    <a:pt x="77" y="219"/>
                  </a:lnTo>
                  <a:lnTo>
                    <a:pt x="80" y="229"/>
                  </a:lnTo>
                  <a:lnTo>
                    <a:pt x="87" y="250"/>
                  </a:lnTo>
                  <a:lnTo>
                    <a:pt x="100" y="277"/>
                  </a:lnTo>
                  <a:lnTo>
                    <a:pt x="118" y="299"/>
                  </a:lnTo>
                  <a:lnTo>
                    <a:pt x="133" y="315"/>
                  </a:lnTo>
                  <a:lnTo>
                    <a:pt x="140" y="330"/>
                  </a:lnTo>
                  <a:lnTo>
                    <a:pt x="145" y="342"/>
                  </a:lnTo>
                  <a:lnTo>
                    <a:pt x="157" y="352"/>
                  </a:lnTo>
                  <a:lnTo>
                    <a:pt x="167" y="360"/>
                  </a:lnTo>
                  <a:lnTo>
                    <a:pt x="168" y="374"/>
                  </a:lnTo>
                  <a:lnTo>
                    <a:pt x="172" y="390"/>
                  </a:lnTo>
                  <a:lnTo>
                    <a:pt x="185" y="414"/>
                  </a:lnTo>
                  <a:lnTo>
                    <a:pt x="205" y="440"/>
                  </a:lnTo>
                  <a:lnTo>
                    <a:pt x="220" y="467"/>
                  </a:lnTo>
                  <a:lnTo>
                    <a:pt x="230" y="492"/>
                  </a:lnTo>
                  <a:lnTo>
                    <a:pt x="233" y="512"/>
                  </a:lnTo>
                  <a:lnTo>
                    <a:pt x="237" y="531"/>
                  </a:lnTo>
                  <a:lnTo>
                    <a:pt x="243" y="547"/>
                  </a:lnTo>
                  <a:lnTo>
                    <a:pt x="257" y="562"/>
                  </a:lnTo>
                  <a:lnTo>
                    <a:pt x="275" y="574"/>
                  </a:lnTo>
                  <a:lnTo>
                    <a:pt x="287" y="587"/>
                  </a:lnTo>
                  <a:lnTo>
                    <a:pt x="285" y="601"/>
                  </a:lnTo>
                  <a:lnTo>
                    <a:pt x="284" y="617"/>
                  </a:lnTo>
                  <a:lnTo>
                    <a:pt x="295" y="632"/>
                  </a:lnTo>
                  <a:lnTo>
                    <a:pt x="310" y="642"/>
                  </a:lnTo>
                  <a:lnTo>
                    <a:pt x="317" y="652"/>
                  </a:lnTo>
                  <a:lnTo>
                    <a:pt x="320" y="666"/>
                  </a:lnTo>
                  <a:lnTo>
                    <a:pt x="329" y="687"/>
                  </a:lnTo>
                  <a:lnTo>
                    <a:pt x="330" y="692"/>
                  </a:lnTo>
                  <a:lnTo>
                    <a:pt x="330" y="696"/>
                  </a:lnTo>
                  <a:lnTo>
                    <a:pt x="332" y="697"/>
                  </a:lnTo>
                  <a:lnTo>
                    <a:pt x="332" y="699"/>
                  </a:lnTo>
                  <a:lnTo>
                    <a:pt x="335" y="702"/>
                  </a:lnTo>
                  <a:lnTo>
                    <a:pt x="340" y="707"/>
                  </a:lnTo>
                  <a:lnTo>
                    <a:pt x="345" y="712"/>
                  </a:lnTo>
                  <a:lnTo>
                    <a:pt x="352" y="721"/>
                  </a:lnTo>
                  <a:lnTo>
                    <a:pt x="365" y="737"/>
                  </a:lnTo>
                  <a:lnTo>
                    <a:pt x="370" y="752"/>
                  </a:lnTo>
                  <a:lnTo>
                    <a:pt x="370" y="762"/>
                  </a:lnTo>
                  <a:lnTo>
                    <a:pt x="367" y="771"/>
                  </a:lnTo>
                  <a:lnTo>
                    <a:pt x="360" y="776"/>
                  </a:lnTo>
                  <a:lnTo>
                    <a:pt x="354" y="781"/>
                  </a:lnTo>
                  <a:lnTo>
                    <a:pt x="349" y="782"/>
                  </a:lnTo>
                  <a:lnTo>
                    <a:pt x="347" y="782"/>
                  </a:lnTo>
                  <a:lnTo>
                    <a:pt x="347" y="786"/>
                  </a:lnTo>
                  <a:lnTo>
                    <a:pt x="350" y="794"/>
                  </a:lnTo>
                  <a:lnTo>
                    <a:pt x="355" y="807"/>
                  </a:lnTo>
                  <a:lnTo>
                    <a:pt x="367" y="824"/>
                  </a:lnTo>
                  <a:lnTo>
                    <a:pt x="377" y="842"/>
                  </a:lnTo>
                  <a:lnTo>
                    <a:pt x="384" y="862"/>
                  </a:lnTo>
                  <a:lnTo>
                    <a:pt x="392" y="877"/>
                  </a:lnTo>
                  <a:lnTo>
                    <a:pt x="414" y="891"/>
                  </a:lnTo>
                  <a:lnTo>
                    <a:pt x="427" y="897"/>
                  </a:lnTo>
                  <a:lnTo>
                    <a:pt x="440" y="904"/>
                  </a:lnTo>
                  <a:lnTo>
                    <a:pt x="454" y="912"/>
                  </a:lnTo>
                  <a:lnTo>
                    <a:pt x="465" y="921"/>
                  </a:lnTo>
                  <a:lnTo>
                    <a:pt x="477" y="929"/>
                  </a:lnTo>
                  <a:lnTo>
                    <a:pt x="487" y="937"/>
                  </a:lnTo>
                  <a:lnTo>
                    <a:pt x="499" y="946"/>
                  </a:lnTo>
                  <a:lnTo>
                    <a:pt x="509" y="952"/>
                  </a:lnTo>
                  <a:lnTo>
                    <a:pt x="519" y="961"/>
                  </a:lnTo>
                  <a:lnTo>
                    <a:pt x="525" y="969"/>
                  </a:lnTo>
                  <a:lnTo>
                    <a:pt x="532" y="979"/>
                  </a:lnTo>
                  <a:lnTo>
                    <a:pt x="537" y="989"/>
                  </a:lnTo>
                  <a:lnTo>
                    <a:pt x="542" y="1002"/>
                  </a:lnTo>
                  <a:lnTo>
                    <a:pt x="547" y="1016"/>
                  </a:lnTo>
                  <a:lnTo>
                    <a:pt x="552" y="1031"/>
                  </a:lnTo>
                  <a:lnTo>
                    <a:pt x="560" y="1048"/>
                  </a:lnTo>
                  <a:lnTo>
                    <a:pt x="574" y="1079"/>
                  </a:lnTo>
                  <a:lnTo>
                    <a:pt x="584" y="1108"/>
                  </a:lnTo>
                  <a:lnTo>
                    <a:pt x="592" y="1136"/>
                  </a:lnTo>
                  <a:lnTo>
                    <a:pt x="609" y="1171"/>
                  </a:lnTo>
                  <a:lnTo>
                    <a:pt x="619" y="1213"/>
                  </a:lnTo>
                  <a:lnTo>
                    <a:pt x="612" y="1253"/>
                  </a:lnTo>
                  <a:lnTo>
                    <a:pt x="600" y="1283"/>
                  </a:lnTo>
                  <a:lnTo>
                    <a:pt x="594" y="1294"/>
                  </a:lnTo>
                  <a:lnTo>
                    <a:pt x="597" y="1301"/>
                  </a:lnTo>
                  <a:lnTo>
                    <a:pt x="604" y="1318"/>
                  </a:lnTo>
                  <a:lnTo>
                    <a:pt x="612" y="1341"/>
                  </a:lnTo>
                  <a:lnTo>
                    <a:pt x="617" y="1366"/>
                  </a:lnTo>
                  <a:lnTo>
                    <a:pt x="620" y="1379"/>
                  </a:lnTo>
                  <a:lnTo>
                    <a:pt x="624" y="1394"/>
                  </a:lnTo>
                  <a:lnTo>
                    <a:pt x="629" y="1409"/>
                  </a:lnTo>
                  <a:lnTo>
                    <a:pt x="635" y="1428"/>
                  </a:lnTo>
                  <a:lnTo>
                    <a:pt x="644" y="1444"/>
                  </a:lnTo>
                  <a:lnTo>
                    <a:pt x="654" y="1463"/>
                  </a:lnTo>
                  <a:lnTo>
                    <a:pt x="664" y="1481"/>
                  </a:lnTo>
                  <a:lnTo>
                    <a:pt x="675" y="1499"/>
                  </a:lnTo>
                  <a:lnTo>
                    <a:pt x="687" y="1516"/>
                  </a:lnTo>
                  <a:lnTo>
                    <a:pt x="695" y="1531"/>
                  </a:lnTo>
                  <a:lnTo>
                    <a:pt x="702" y="1543"/>
                  </a:lnTo>
                  <a:lnTo>
                    <a:pt x="707" y="1553"/>
                  </a:lnTo>
                  <a:lnTo>
                    <a:pt x="712" y="1561"/>
                  </a:lnTo>
                  <a:lnTo>
                    <a:pt x="719" y="1566"/>
                  </a:lnTo>
                  <a:lnTo>
                    <a:pt x="724" y="1570"/>
                  </a:lnTo>
                  <a:lnTo>
                    <a:pt x="732" y="1571"/>
                  </a:lnTo>
                  <a:lnTo>
                    <a:pt x="742" y="1573"/>
                  </a:lnTo>
                  <a:lnTo>
                    <a:pt x="754" y="1576"/>
                  </a:lnTo>
                  <a:lnTo>
                    <a:pt x="765" y="1581"/>
                  </a:lnTo>
                  <a:lnTo>
                    <a:pt x="779" y="1588"/>
                  </a:lnTo>
                  <a:lnTo>
                    <a:pt x="792" y="1595"/>
                  </a:lnTo>
                  <a:lnTo>
                    <a:pt x="804" y="1603"/>
                  </a:lnTo>
                  <a:lnTo>
                    <a:pt x="814" y="1611"/>
                  </a:lnTo>
                  <a:lnTo>
                    <a:pt x="822" y="1618"/>
                  </a:lnTo>
                  <a:lnTo>
                    <a:pt x="834" y="1633"/>
                  </a:lnTo>
                  <a:lnTo>
                    <a:pt x="846" y="1648"/>
                  </a:lnTo>
                  <a:lnTo>
                    <a:pt x="856" y="1663"/>
                  </a:lnTo>
                  <a:lnTo>
                    <a:pt x="866" y="1675"/>
                  </a:lnTo>
                  <a:lnTo>
                    <a:pt x="872" y="1685"/>
                  </a:lnTo>
                  <a:lnTo>
                    <a:pt x="881" y="1700"/>
                  </a:lnTo>
                  <a:lnTo>
                    <a:pt x="891" y="1721"/>
                  </a:lnTo>
                  <a:lnTo>
                    <a:pt x="902" y="1743"/>
                  </a:lnTo>
                  <a:lnTo>
                    <a:pt x="912" y="1768"/>
                  </a:lnTo>
                  <a:lnTo>
                    <a:pt x="921" y="1790"/>
                  </a:lnTo>
                  <a:lnTo>
                    <a:pt x="927" y="1810"/>
                  </a:lnTo>
                  <a:lnTo>
                    <a:pt x="931" y="1823"/>
                  </a:lnTo>
                  <a:lnTo>
                    <a:pt x="937" y="1841"/>
                  </a:lnTo>
                  <a:lnTo>
                    <a:pt x="951" y="1858"/>
                  </a:lnTo>
                  <a:lnTo>
                    <a:pt x="964" y="1878"/>
                  </a:lnTo>
                  <a:lnTo>
                    <a:pt x="979" y="1908"/>
                  </a:lnTo>
                  <a:lnTo>
                    <a:pt x="987" y="1926"/>
                  </a:lnTo>
                  <a:lnTo>
                    <a:pt x="999" y="1945"/>
                  </a:lnTo>
                  <a:lnTo>
                    <a:pt x="1014" y="1965"/>
                  </a:lnTo>
                  <a:lnTo>
                    <a:pt x="1029" y="1981"/>
                  </a:lnTo>
                  <a:lnTo>
                    <a:pt x="1044" y="2000"/>
                  </a:lnTo>
                  <a:lnTo>
                    <a:pt x="1059" y="2015"/>
                  </a:lnTo>
                  <a:lnTo>
                    <a:pt x="1072" y="2027"/>
                  </a:lnTo>
                  <a:lnTo>
                    <a:pt x="1084" y="2037"/>
                  </a:lnTo>
                  <a:lnTo>
                    <a:pt x="1097" y="2052"/>
                  </a:lnTo>
                  <a:lnTo>
                    <a:pt x="1106" y="2068"/>
                  </a:lnTo>
                  <a:lnTo>
                    <a:pt x="1109" y="2085"/>
                  </a:lnTo>
                  <a:lnTo>
                    <a:pt x="1112" y="2098"/>
                  </a:lnTo>
                  <a:lnTo>
                    <a:pt x="1117" y="2108"/>
                  </a:lnTo>
                  <a:lnTo>
                    <a:pt x="1126" y="2120"/>
                  </a:lnTo>
                  <a:lnTo>
                    <a:pt x="1136" y="2132"/>
                  </a:lnTo>
                  <a:lnTo>
                    <a:pt x="1146" y="2145"/>
                  </a:lnTo>
                  <a:lnTo>
                    <a:pt x="1156" y="2160"/>
                  </a:lnTo>
                  <a:lnTo>
                    <a:pt x="1164" y="2175"/>
                  </a:lnTo>
                  <a:lnTo>
                    <a:pt x="1169" y="2190"/>
                  </a:lnTo>
                  <a:lnTo>
                    <a:pt x="1169" y="2202"/>
                  </a:lnTo>
                  <a:lnTo>
                    <a:pt x="1169" y="2217"/>
                  </a:lnTo>
                  <a:lnTo>
                    <a:pt x="1172" y="2233"/>
                  </a:lnTo>
                  <a:lnTo>
                    <a:pt x="1177" y="2248"/>
                  </a:lnTo>
                  <a:lnTo>
                    <a:pt x="1179" y="2255"/>
                  </a:lnTo>
                  <a:lnTo>
                    <a:pt x="1216" y="2227"/>
                  </a:lnTo>
                  <a:lnTo>
                    <a:pt x="1219" y="2222"/>
                  </a:lnTo>
                  <a:lnTo>
                    <a:pt x="1226" y="2208"/>
                  </a:lnTo>
                  <a:lnTo>
                    <a:pt x="1232" y="2192"/>
                  </a:lnTo>
                  <a:lnTo>
                    <a:pt x="1236" y="2178"/>
                  </a:lnTo>
                  <a:lnTo>
                    <a:pt x="1236" y="2165"/>
                  </a:lnTo>
                  <a:lnTo>
                    <a:pt x="1234" y="2145"/>
                  </a:lnTo>
                  <a:lnTo>
                    <a:pt x="1236" y="2123"/>
                  </a:lnTo>
                  <a:lnTo>
                    <a:pt x="1241" y="2103"/>
                  </a:lnTo>
                  <a:lnTo>
                    <a:pt x="1241" y="2087"/>
                  </a:lnTo>
                  <a:lnTo>
                    <a:pt x="1236" y="2077"/>
                  </a:lnTo>
                  <a:lnTo>
                    <a:pt x="1234" y="2067"/>
                  </a:lnTo>
                  <a:lnTo>
                    <a:pt x="1241" y="2060"/>
                  </a:lnTo>
                  <a:lnTo>
                    <a:pt x="1246" y="2057"/>
                  </a:lnTo>
                  <a:lnTo>
                    <a:pt x="1251" y="2057"/>
                  </a:lnTo>
                  <a:lnTo>
                    <a:pt x="1256" y="2058"/>
                  </a:lnTo>
                  <a:lnTo>
                    <a:pt x="1261" y="2062"/>
                  </a:lnTo>
                  <a:lnTo>
                    <a:pt x="1259" y="2052"/>
                  </a:lnTo>
                  <a:lnTo>
                    <a:pt x="1257" y="2043"/>
                  </a:lnTo>
                  <a:lnTo>
                    <a:pt x="1256" y="2033"/>
                  </a:lnTo>
                  <a:lnTo>
                    <a:pt x="1257" y="2027"/>
                  </a:lnTo>
                  <a:close/>
                </a:path>
              </a:pathLst>
            </a:custGeom>
            <a:solidFill>
              <a:srgbClr val="ffffff">
                <a:alpha val="10000"/>
              </a:srgbClr>
            </a:solidFill>
            <a:ln cap="sq" w="9360">
              <a:solidFill>
                <a:srgbClr val="ffffff"/>
              </a:solidFill>
              <a:round/>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4" name=""/>
            <p:cNvSpPr/>
            <p:nvPr/>
          </p:nvSpPr>
          <p:spPr>
            <a:xfrm>
              <a:off x="3086280" y="3249720"/>
              <a:ext cx="4680" cy="4680"/>
            </a:xfrm>
            <a:custGeom>
              <a:avLst/>
              <a:gdLst/>
              <a:ahLst/>
              <a:rect l="l" t="t" r="r" b="b"/>
              <a:pathLst>
                <a:path w="5" h="5">
                  <a:moveTo>
                    <a:pt x="5" y="3"/>
                  </a:moveTo>
                  <a:lnTo>
                    <a:pt x="0" y="0"/>
                  </a:lnTo>
                  <a:lnTo>
                    <a:pt x="2" y="3"/>
                  </a:lnTo>
                  <a:lnTo>
                    <a:pt x="3" y="5"/>
                  </a:lnTo>
                  <a:lnTo>
                    <a:pt x="5" y="3"/>
                  </a:lnTo>
                  <a:lnTo>
                    <a:pt x="5" y="3"/>
                  </a:lnTo>
                  <a:close/>
                </a:path>
              </a:pathLst>
            </a:custGeom>
            <a:solidFill>
              <a:srgbClr val="000000"/>
            </a:solidFill>
            <a:ln w="0">
              <a:noFill/>
            </a:ln>
          </p:spPr>
          <p:style>
            <a:lnRef idx="0"/>
            <a:fillRef idx="0"/>
            <a:effectRef idx="0"/>
            <a:fontRef idx="minor"/>
          </p:style>
          <p:txBody>
            <a:bodyPr wrap="none" lIns="90000" rIns="90000" tIns="-42120" bIns="-421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5" name=""/>
            <p:cNvSpPr/>
            <p:nvPr/>
          </p:nvSpPr>
          <p:spPr>
            <a:xfrm>
              <a:off x="4379760" y="4205160"/>
              <a:ext cx="2567160" cy="993960"/>
            </a:xfrm>
            <a:custGeom>
              <a:avLst/>
              <a:gdLst/>
              <a:ahLst/>
              <a:rect l="l" t="t" r="r" b="b"/>
              <a:pathLst>
                <a:path w="1881" h="744">
                  <a:moveTo>
                    <a:pt x="1298" y="222"/>
                  </a:moveTo>
                  <a:lnTo>
                    <a:pt x="1283" y="225"/>
                  </a:lnTo>
                  <a:lnTo>
                    <a:pt x="1263" y="230"/>
                  </a:lnTo>
                  <a:lnTo>
                    <a:pt x="1239" y="235"/>
                  </a:lnTo>
                  <a:lnTo>
                    <a:pt x="1214" y="242"/>
                  </a:lnTo>
                  <a:lnTo>
                    <a:pt x="1186" y="249"/>
                  </a:lnTo>
                  <a:lnTo>
                    <a:pt x="1157" y="255"/>
                  </a:lnTo>
                  <a:lnTo>
                    <a:pt x="1127" y="262"/>
                  </a:lnTo>
                  <a:lnTo>
                    <a:pt x="1097" y="269"/>
                  </a:lnTo>
                  <a:lnTo>
                    <a:pt x="1067" y="275"/>
                  </a:lnTo>
                  <a:lnTo>
                    <a:pt x="1039" y="284"/>
                  </a:lnTo>
                  <a:lnTo>
                    <a:pt x="1012" y="290"/>
                  </a:lnTo>
                  <a:lnTo>
                    <a:pt x="989" y="297"/>
                  </a:lnTo>
                  <a:lnTo>
                    <a:pt x="967" y="302"/>
                  </a:lnTo>
                  <a:lnTo>
                    <a:pt x="949" y="309"/>
                  </a:lnTo>
                  <a:lnTo>
                    <a:pt x="936" y="314"/>
                  </a:lnTo>
                  <a:lnTo>
                    <a:pt x="927" y="317"/>
                  </a:lnTo>
                  <a:lnTo>
                    <a:pt x="914" y="324"/>
                  </a:lnTo>
                  <a:lnTo>
                    <a:pt x="901" y="329"/>
                  </a:lnTo>
                  <a:lnTo>
                    <a:pt x="887" y="337"/>
                  </a:lnTo>
                  <a:lnTo>
                    <a:pt x="872" y="344"/>
                  </a:lnTo>
                  <a:lnTo>
                    <a:pt x="857" y="355"/>
                  </a:lnTo>
                  <a:lnTo>
                    <a:pt x="842" y="369"/>
                  </a:lnTo>
                  <a:lnTo>
                    <a:pt x="826" y="389"/>
                  </a:lnTo>
                  <a:lnTo>
                    <a:pt x="807" y="412"/>
                  </a:lnTo>
                  <a:lnTo>
                    <a:pt x="791" y="437"/>
                  </a:lnTo>
                  <a:lnTo>
                    <a:pt x="776" y="460"/>
                  </a:lnTo>
                  <a:lnTo>
                    <a:pt x="761" y="482"/>
                  </a:lnTo>
                  <a:lnTo>
                    <a:pt x="747" y="502"/>
                  </a:lnTo>
                  <a:lnTo>
                    <a:pt x="737" y="519"/>
                  </a:lnTo>
                  <a:lnTo>
                    <a:pt x="727" y="532"/>
                  </a:lnTo>
                  <a:lnTo>
                    <a:pt x="719" y="542"/>
                  </a:lnTo>
                  <a:lnTo>
                    <a:pt x="712" y="549"/>
                  </a:lnTo>
                  <a:lnTo>
                    <a:pt x="706" y="554"/>
                  </a:lnTo>
                  <a:lnTo>
                    <a:pt x="699" y="559"/>
                  </a:lnTo>
                  <a:lnTo>
                    <a:pt x="689" y="564"/>
                  </a:lnTo>
                  <a:lnTo>
                    <a:pt x="679" y="565"/>
                  </a:lnTo>
                  <a:lnTo>
                    <a:pt x="667" y="567"/>
                  </a:lnTo>
                  <a:lnTo>
                    <a:pt x="657" y="567"/>
                  </a:lnTo>
                  <a:lnTo>
                    <a:pt x="647" y="564"/>
                  </a:lnTo>
                  <a:lnTo>
                    <a:pt x="637" y="559"/>
                  </a:lnTo>
                  <a:lnTo>
                    <a:pt x="629" y="552"/>
                  </a:lnTo>
                  <a:lnTo>
                    <a:pt x="622" y="544"/>
                  </a:lnTo>
                  <a:lnTo>
                    <a:pt x="615" y="535"/>
                  </a:lnTo>
                  <a:lnTo>
                    <a:pt x="609" y="529"/>
                  </a:lnTo>
                  <a:lnTo>
                    <a:pt x="602" y="524"/>
                  </a:lnTo>
                  <a:lnTo>
                    <a:pt x="595" y="520"/>
                  </a:lnTo>
                  <a:lnTo>
                    <a:pt x="589" y="519"/>
                  </a:lnTo>
                  <a:lnTo>
                    <a:pt x="580" y="520"/>
                  </a:lnTo>
                  <a:lnTo>
                    <a:pt x="569" y="524"/>
                  </a:lnTo>
                  <a:lnTo>
                    <a:pt x="554" y="525"/>
                  </a:lnTo>
                  <a:lnTo>
                    <a:pt x="537" y="525"/>
                  </a:lnTo>
                  <a:lnTo>
                    <a:pt x="519" y="525"/>
                  </a:lnTo>
                  <a:lnTo>
                    <a:pt x="499" y="525"/>
                  </a:lnTo>
                  <a:lnTo>
                    <a:pt x="480" y="524"/>
                  </a:lnTo>
                  <a:lnTo>
                    <a:pt x="462" y="522"/>
                  </a:lnTo>
                  <a:lnTo>
                    <a:pt x="447" y="520"/>
                  </a:lnTo>
                  <a:lnTo>
                    <a:pt x="432" y="519"/>
                  </a:lnTo>
                  <a:lnTo>
                    <a:pt x="417" y="515"/>
                  </a:lnTo>
                  <a:lnTo>
                    <a:pt x="404" y="510"/>
                  </a:lnTo>
                  <a:lnTo>
                    <a:pt x="389" y="507"/>
                  </a:lnTo>
                  <a:lnTo>
                    <a:pt x="375" y="504"/>
                  </a:lnTo>
                  <a:lnTo>
                    <a:pt x="364" y="500"/>
                  </a:lnTo>
                  <a:lnTo>
                    <a:pt x="352" y="497"/>
                  </a:lnTo>
                  <a:lnTo>
                    <a:pt x="342" y="497"/>
                  </a:lnTo>
                  <a:lnTo>
                    <a:pt x="329" y="497"/>
                  </a:lnTo>
                  <a:lnTo>
                    <a:pt x="307" y="497"/>
                  </a:lnTo>
                  <a:lnTo>
                    <a:pt x="280" y="499"/>
                  </a:lnTo>
                  <a:lnTo>
                    <a:pt x="250" y="499"/>
                  </a:lnTo>
                  <a:lnTo>
                    <a:pt x="224" y="500"/>
                  </a:lnTo>
                  <a:lnTo>
                    <a:pt x="200" y="502"/>
                  </a:lnTo>
                  <a:lnTo>
                    <a:pt x="184" y="502"/>
                  </a:lnTo>
                  <a:lnTo>
                    <a:pt x="177" y="502"/>
                  </a:lnTo>
                  <a:lnTo>
                    <a:pt x="175" y="504"/>
                  </a:lnTo>
                  <a:lnTo>
                    <a:pt x="170" y="505"/>
                  </a:lnTo>
                  <a:lnTo>
                    <a:pt x="164" y="509"/>
                  </a:lnTo>
                  <a:lnTo>
                    <a:pt x="155" y="510"/>
                  </a:lnTo>
                  <a:lnTo>
                    <a:pt x="144" y="512"/>
                  </a:lnTo>
                  <a:lnTo>
                    <a:pt x="132" y="512"/>
                  </a:lnTo>
                  <a:lnTo>
                    <a:pt x="120" y="509"/>
                  </a:lnTo>
                  <a:lnTo>
                    <a:pt x="107" y="502"/>
                  </a:lnTo>
                  <a:lnTo>
                    <a:pt x="95" y="494"/>
                  </a:lnTo>
                  <a:lnTo>
                    <a:pt x="87" y="485"/>
                  </a:lnTo>
                  <a:lnTo>
                    <a:pt x="80" y="479"/>
                  </a:lnTo>
                  <a:lnTo>
                    <a:pt x="75" y="475"/>
                  </a:lnTo>
                  <a:lnTo>
                    <a:pt x="70" y="472"/>
                  </a:lnTo>
                  <a:lnTo>
                    <a:pt x="65" y="470"/>
                  </a:lnTo>
                  <a:lnTo>
                    <a:pt x="60" y="470"/>
                  </a:lnTo>
                  <a:lnTo>
                    <a:pt x="53" y="474"/>
                  </a:lnTo>
                  <a:lnTo>
                    <a:pt x="47" y="480"/>
                  </a:lnTo>
                  <a:lnTo>
                    <a:pt x="50" y="489"/>
                  </a:lnTo>
                  <a:lnTo>
                    <a:pt x="55" y="500"/>
                  </a:lnTo>
                  <a:lnTo>
                    <a:pt x="53" y="515"/>
                  </a:lnTo>
                  <a:lnTo>
                    <a:pt x="50" y="535"/>
                  </a:lnTo>
                  <a:lnTo>
                    <a:pt x="48" y="557"/>
                  </a:lnTo>
                  <a:lnTo>
                    <a:pt x="50" y="577"/>
                  </a:lnTo>
                  <a:lnTo>
                    <a:pt x="50" y="592"/>
                  </a:lnTo>
                  <a:lnTo>
                    <a:pt x="47" y="606"/>
                  </a:lnTo>
                  <a:lnTo>
                    <a:pt x="40" y="621"/>
                  </a:lnTo>
                  <a:lnTo>
                    <a:pt x="33" y="634"/>
                  </a:lnTo>
                  <a:lnTo>
                    <a:pt x="30" y="639"/>
                  </a:lnTo>
                  <a:lnTo>
                    <a:pt x="0" y="662"/>
                  </a:lnTo>
                  <a:lnTo>
                    <a:pt x="3" y="666"/>
                  </a:lnTo>
                  <a:lnTo>
                    <a:pt x="8" y="669"/>
                  </a:lnTo>
                  <a:lnTo>
                    <a:pt x="13" y="674"/>
                  </a:lnTo>
                  <a:lnTo>
                    <a:pt x="18" y="677"/>
                  </a:lnTo>
                  <a:lnTo>
                    <a:pt x="32" y="684"/>
                  </a:lnTo>
                  <a:lnTo>
                    <a:pt x="43" y="687"/>
                  </a:lnTo>
                  <a:lnTo>
                    <a:pt x="55" y="687"/>
                  </a:lnTo>
                  <a:lnTo>
                    <a:pt x="67" y="686"/>
                  </a:lnTo>
                  <a:lnTo>
                    <a:pt x="77" y="684"/>
                  </a:lnTo>
                  <a:lnTo>
                    <a:pt x="83" y="681"/>
                  </a:lnTo>
                  <a:lnTo>
                    <a:pt x="88" y="679"/>
                  </a:lnTo>
                  <a:lnTo>
                    <a:pt x="90" y="677"/>
                  </a:lnTo>
                  <a:lnTo>
                    <a:pt x="97" y="677"/>
                  </a:lnTo>
                  <a:lnTo>
                    <a:pt x="114" y="677"/>
                  </a:lnTo>
                  <a:lnTo>
                    <a:pt x="137" y="676"/>
                  </a:lnTo>
                  <a:lnTo>
                    <a:pt x="164" y="674"/>
                  </a:lnTo>
                  <a:lnTo>
                    <a:pt x="194" y="674"/>
                  </a:lnTo>
                  <a:lnTo>
                    <a:pt x="220" y="672"/>
                  </a:lnTo>
                  <a:lnTo>
                    <a:pt x="242" y="672"/>
                  </a:lnTo>
                  <a:lnTo>
                    <a:pt x="255" y="672"/>
                  </a:lnTo>
                  <a:lnTo>
                    <a:pt x="265" y="674"/>
                  </a:lnTo>
                  <a:lnTo>
                    <a:pt x="275" y="676"/>
                  </a:lnTo>
                  <a:lnTo>
                    <a:pt x="289" y="679"/>
                  </a:lnTo>
                  <a:lnTo>
                    <a:pt x="302" y="682"/>
                  </a:lnTo>
                  <a:lnTo>
                    <a:pt x="315" y="687"/>
                  </a:lnTo>
                  <a:lnTo>
                    <a:pt x="330" y="691"/>
                  </a:lnTo>
                  <a:lnTo>
                    <a:pt x="344" y="694"/>
                  </a:lnTo>
                  <a:lnTo>
                    <a:pt x="359" y="697"/>
                  </a:lnTo>
                  <a:lnTo>
                    <a:pt x="374" y="699"/>
                  </a:lnTo>
                  <a:lnTo>
                    <a:pt x="392" y="701"/>
                  </a:lnTo>
                  <a:lnTo>
                    <a:pt x="412" y="701"/>
                  </a:lnTo>
                  <a:lnTo>
                    <a:pt x="430" y="702"/>
                  </a:lnTo>
                  <a:lnTo>
                    <a:pt x="450" y="702"/>
                  </a:lnTo>
                  <a:lnTo>
                    <a:pt x="467" y="701"/>
                  </a:lnTo>
                  <a:lnTo>
                    <a:pt x="480" y="701"/>
                  </a:lnTo>
                  <a:lnTo>
                    <a:pt x="492" y="697"/>
                  </a:lnTo>
                  <a:lnTo>
                    <a:pt x="500" y="696"/>
                  </a:lnTo>
                  <a:lnTo>
                    <a:pt x="507" y="696"/>
                  </a:lnTo>
                  <a:lnTo>
                    <a:pt x="514" y="699"/>
                  </a:lnTo>
                  <a:lnTo>
                    <a:pt x="520" y="706"/>
                  </a:lnTo>
                  <a:lnTo>
                    <a:pt x="527" y="712"/>
                  </a:lnTo>
                  <a:lnTo>
                    <a:pt x="534" y="719"/>
                  </a:lnTo>
                  <a:lnTo>
                    <a:pt x="540" y="727"/>
                  </a:lnTo>
                  <a:lnTo>
                    <a:pt x="549" y="734"/>
                  </a:lnTo>
                  <a:lnTo>
                    <a:pt x="559" y="741"/>
                  </a:lnTo>
                  <a:lnTo>
                    <a:pt x="569" y="742"/>
                  </a:lnTo>
                  <a:lnTo>
                    <a:pt x="579" y="744"/>
                  </a:lnTo>
                  <a:lnTo>
                    <a:pt x="590" y="742"/>
                  </a:lnTo>
                  <a:lnTo>
                    <a:pt x="600" y="739"/>
                  </a:lnTo>
                  <a:lnTo>
                    <a:pt x="610" y="736"/>
                  </a:lnTo>
                  <a:lnTo>
                    <a:pt x="619" y="731"/>
                  </a:lnTo>
                  <a:lnTo>
                    <a:pt x="625" y="726"/>
                  </a:lnTo>
                  <a:lnTo>
                    <a:pt x="632" y="719"/>
                  </a:lnTo>
                  <a:lnTo>
                    <a:pt x="639" y="707"/>
                  </a:lnTo>
                  <a:lnTo>
                    <a:pt x="649" y="694"/>
                  </a:lnTo>
                  <a:lnTo>
                    <a:pt x="661" y="677"/>
                  </a:lnTo>
                  <a:lnTo>
                    <a:pt x="672" y="659"/>
                  </a:lnTo>
                  <a:lnTo>
                    <a:pt x="687" y="637"/>
                  </a:lnTo>
                  <a:lnTo>
                    <a:pt x="704" y="614"/>
                  </a:lnTo>
                  <a:lnTo>
                    <a:pt x="721" y="587"/>
                  </a:lnTo>
                  <a:lnTo>
                    <a:pt x="737" y="564"/>
                  </a:lnTo>
                  <a:lnTo>
                    <a:pt x="754" y="544"/>
                  </a:lnTo>
                  <a:lnTo>
                    <a:pt x="769" y="530"/>
                  </a:lnTo>
                  <a:lnTo>
                    <a:pt x="786" y="519"/>
                  </a:lnTo>
                  <a:lnTo>
                    <a:pt x="799" y="512"/>
                  </a:lnTo>
                  <a:lnTo>
                    <a:pt x="812" y="504"/>
                  </a:lnTo>
                  <a:lnTo>
                    <a:pt x="826" y="499"/>
                  </a:lnTo>
                  <a:lnTo>
                    <a:pt x="839" y="492"/>
                  </a:lnTo>
                  <a:lnTo>
                    <a:pt x="847" y="489"/>
                  </a:lnTo>
                  <a:lnTo>
                    <a:pt x="862" y="484"/>
                  </a:lnTo>
                  <a:lnTo>
                    <a:pt x="879" y="479"/>
                  </a:lnTo>
                  <a:lnTo>
                    <a:pt x="901" y="472"/>
                  </a:lnTo>
                  <a:lnTo>
                    <a:pt x="926" y="465"/>
                  </a:lnTo>
                  <a:lnTo>
                    <a:pt x="952" y="459"/>
                  </a:lnTo>
                  <a:lnTo>
                    <a:pt x="981" y="452"/>
                  </a:lnTo>
                  <a:lnTo>
                    <a:pt x="1009" y="444"/>
                  </a:lnTo>
                  <a:lnTo>
                    <a:pt x="1039" y="437"/>
                  </a:lnTo>
                  <a:lnTo>
                    <a:pt x="1069" y="430"/>
                  </a:lnTo>
                  <a:lnTo>
                    <a:pt x="1097" y="424"/>
                  </a:lnTo>
                  <a:lnTo>
                    <a:pt x="1126" y="417"/>
                  </a:lnTo>
                  <a:lnTo>
                    <a:pt x="1151" y="410"/>
                  </a:lnTo>
                  <a:lnTo>
                    <a:pt x="1174" y="405"/>
                  </a:lnTo>
                  <a:lnTo>
                    <a:pt x="1194" y="400"/>
                  </a:lnTo>
                  <a:lnTo>
                    <a:pt x="1209" y="397"/>
                  </a:lnTo>
                  <a:lnTo>
                    <a:pt x="1236" y="390"/>
                  </a:lnTo>
                  <a:lnTo>
                    <a:pt x="1263" y="385"/>
                  </a:lnTo>
                  <a:lnTo>
                    <a:pt x="1289" y="382"/>
                  </a:lnTo>
                  <a:lnTo>
                    <a:pt x="1313" y="379"/>
                  </a:lnTo>
                  <a:lnTo>
                    <a:pt x="1336" y="375"/>
                  </a:lnTo>
                  <a:lnTo>
                    <a:pt x="1354" y="370"/>
                  </a:lnTo>
                  <a:lnTo>
                    <a:pt x="1371" y="365"/>
                  </a:lnTo>
                  <a:lnTo>
                    <a:pt x="1384" y="359"/>
                  </a:lnTo>
                  <a:lnTo>
                    <a:pt x="1394" y="354"/>
                  </a:lnTo>
                  <a:lnTo>
                    <a:pt x="1411" y="345"/>
                  </a:lnTo>
                  <a:lnTo>
                    <a:pt x="1434" y="334"/>
                  </a:lnTo>
                  <a:lnTo>
                    <a:pt x="1463" y="320"/>
                  </a:lnTo>
                  <a:lnTo>
                    <a:pt x="1496" y="307"/>
                  </a:lnTo>
                  <a:lnTo>
                    <a:pt x="1533" y="290"/>
                  </a:lnTo>
                  <a:lnTo>
                    <a:pt x="1571" y="274"/>
                  </a:lnTo>
                  <a:lnTo>
                    <a:pt x="1611" y="255"/>
                  </a:lnTo>
                  <a:lnTo>
                    <a:pt x="1649" y="239"/>
                  </a:lnTo>
                  <a:lnTo>
                    <a:pt x="1688" y="222"/>
                  </a:lnTo>
                  <a:lnTo>
                    <a:pt x="1723" y="207"/>
                  </a:lnTo>
                  <a:lnTo>
                    <a:pt x="1756" y="192"/>
                  </a:lnTo>
                  <a:lnTo>
                    <a:pt x="1783" y="180"/>
                  </a:lnTo>
                  <a:lnTo>
                    <a:pt x="1805" y="170"/>
                  </a:lnTo>
                  <a:lnTo>
                    <a:pt x="1820" y="164"/>
                  </a:lnTo>
                  <a:lnTo>
                    <a:pt x="1826" y="160"/>
                  </a:lnTo>
                  <a:lnTo>
                    <a:pt x="1836" y="152"/>
                  </a:lnTo>
                  <a:lnTo>
                    <a:pt x="1841" y="142"/>
                  </a:lnTo>
                  <a:lnTo>
                    <a:pt x="1845" y="130"/>
                  </a:lnTo>
                  <a:lnTo>
                    <a:pt x="1846" y="117"/>
                  </a:lnTo>
                  <a:lnTo>
                    <a:pt x="1848" y="100"/>
                  </a:lnTo>
                  <a:lnTo>
                    <a:pt x="1851" y="78"/>
                  </a:lnTo>
                  <a:lnTo>
                    <a:pt x="1858" y="57"/>
                  </a:lnTo>
                  <a:lnTo>
                    <a:pt x="1865" y="37"/>
                  </a:lnTo>
                  <a:lnTo>
                    <a:pt x="1868" y="27"/>
                  </a:lnTo>
                  <a:lnTo>
                    <a:pt x="1873" y="18"/>
                  </a:lnTo>
                  <a:lnTo>
                    <a:pt x="1876" y="8"/>
                  </a:lnTo>
                  <a:lnTo>
                    <a:pt x="1881" y="0"/>
                  </a:lnTo>
                  <a:lnTo>
                    <a:pt x="1861" y="10"/>
                  </a:lnTo>
                  <a:lnTo>
                    <a:pt x="1836" y="20"/>
                  </a:lnTo>
                  <a:lnTo>
                    <a:pt x="1808" y="32"/>
                  </a:lnTo>
                  <a:lnTo>
                    <a:pt x="1778" y="45"/>
                  </a:lnTo>
                  <a:lnTo>
                    <a:pt x="1746" y="58"/>
                  </a:lnTo>
                  <a:lnTo>
                    <a:pt x="1714" y="73"/>
                  </a:lnTo>
                  <a:lnTo>
                    <a:pt x="1681" y="88"/>
                  </a:lnTo>
                  <a:lnTo>
                    <a:pt x="1648" y="102"/>
                  </a:lnTo>
                  <a:lnTo>
                    <a:pt x="1616" y="117"/>
                  </a:lnTo>
                  <a:lnTo>
                    <a:pt x="1586" y="130"/>
                  </a:lnTo>
                  <a:lnTo>
                    <a:pt x="1558" y="142"/>
                  </a:lnTo>
                  <a:lnTo>
                    <a:pt x="1533" y="154"/>
                  </a:lnTo>
                  <a:lnTo>
                    <a:pt x="1511" y="164"/>
                  </a:lnTo>
                  <a:lnTo>
                    <a:pt x="1493" y="174"/>
                  </a:lnTo>
                  <a:lnTo>
                    <a:pt x="1479" y="179"/>
                  </a:lnTo>
                  <a:lnTo>
                    <a:pt x="1473" y="184"/>
                  </a:lnTo>
                  <a:lnTo>
                    <a:pt x="1459" y="190"/>
                  </a:lnTo>
                  <a:lnTo>
                    <a:pt x="1443" y="195"/>
                  </a:lnTo>
                  <a:lnTo>
                    <a:pt x="1423" y="199"/>
                  </a:lnTo>
                  <a:lnTo>
                    <a:pt x="1401" y="202"/>
                  </a:lnTo>
                  <a:lnTo>
                    <a:pt x="1376" y="205"/>
                  </a:lnTo>
                  <a:lnTo>
                    <a:pt x="1351" y="210"/>
                  </a:lnTo>
                  <a:lnTo>
                    <a:pt x="1324" y="215"/>
                  </a:lnTo>
                  <a:lnTo>
                    <a:pt x="1298" y="222"/>
                  </a:lnTo>
                  <a:close/>
                </a:path>
              </a:pathLst>
            </a:custGeom>
            <a:solidFill>
              <a:srgbClr val="ffffff">
                <a:alpha val="20000"/>
              </a:srgbClr>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6" name=""/>
            <p:cNvSpPr/>
            <p:nvPr/>
          </p:nvSpPr>
          <p:spPr>
            <a:xfrm>
              <a:off x="2813040" y="1346040"/>
              <a:ext cx="4348080" cy="3579840"/>
            </a:xfrm>
            <a:custGeom>
              <a:avLst/>
              <a:gdLst/>
              <a:ahLst/>
              <a:rect l="l" t="t" r="r" b="b"/>
              <a:pathLst>
                <a:path w="3185" h="2678">
                  <a:moveTo>
                    <a:pt x="380" y="90"/>
                  </a:moveTo>
                  <a:lnTo>
                    <a:pt x="683" y="28"/>
                  </a:lnTo>
                  <a:lnTo>
                    <a:pt x="693" y="0"/>
                  </a:lnTo>
                  <a:lnTo>
                    <a:pt x="695" y="0"/>
                  </a:lnTo>
                  <a:lnTo>
                    <a:pt x="698" y="0"/>
                  </a:lnTo>
                  <a:lnTo>
                    <a:pt x="704" y="0"/>
                  </a:lnTo>
                  <a:lnTo>
                    <a:pt x="712" y="0"/>
                  </a:lnTo>
                  <a:lnTo>
                    <a:pt x="720" y="0"/>
                  </a:lnTo>
                  <a:lnTo>
                    <a:pt x="734" y="2"/>
                  </a:lnTo>
                  <a:lnTo>
                    <a:pt x="747" y="5"/>
                  </a:lnTo>
                  <a:lnTo>
                    <a:pt x="764" y="10"/>
                  </a:lnTo>
                  <a:lnTo>
                    <a:pt x="782" y="15"/>
                  </a:lnTo>
                  <a:lnTo>
                    <a:pt x="799" y="20"/>
                  </a:lnTo>
                  <a:lnTo>
                    <a:pt x="817" y="23"/>
                  </a:lnTo>
                  <a:lnTo>
                    <a:pt x="832" y="28"/>
                  </a:lnTo>
                  <a:lnTo>
                    <a:pt x="847" y="32"/>
                  </a:lnTo>
                  <a:lnTo>
                    <a:pt x="862" y="35"/>
                  </a:lnTo>
                  <a:lnTo>
                    <a:pt x="874" y="40"/>
                  </a:lnTo>
                  <a:lnTo>
                    <a:pt x="884" y="43"/>
                  </a:lnTo>
                  <a:lnTo>
                    <a:pt x="894" y="48"/>
                  </a:lnTo>
                  <a:lnTo>
                    <a:pt x="907" y="57"/>
                  </a:lnTo>
                  <a:lnTo>
                    <a:pt x="924" y="68"/>
                  </a:lnTo>
                  <a:lnTo>
                    <a:pt x="942" y="82"/>
                  </a:lnTo>
                  <a:lnTo>
                    <a:pt x="962" y="97"/>
                  </a:lnTo>
                  <a:lnTo>
                    <a:pt x="985" y="112"/>
                  </a:lnTo>
                  <a:lnTo>
                    <a:pt x="1009" y="127"/>
                  </a:lnTo>
                  <a:lnTo>
                    <a:pt x="1035" y="142"/>
                  </a:lnTo>
                  <a:lnTo>
                    <a:pt x="1060" y="155"/>
                  </a:lnTo>
                  <a:lnTo>
                    <a:pt x="1080" y="168"/>
                  </a:lnTo>
                  <a:lnTo>
                    <a:pt x="1099" y="180"/>
                  </a:lnTo>
                  <a:lnTo>
                    <a:pt x="1114" y="190"/>
                  </a:lnTo>
                  <a:lnTo>
                    <a:pt x="1124" y="197"/>
                  </a:lnTo>
                  <a:lnTo>
                    <a:pt x="1132" y="203"/>
                  </a:lnTo>
                  <a:lnTo>
                    <a:pt x="1137" y="207"/>
                  </a:lnTo>
                  <a:lnTo>
                    <a:pt x="1139" y="208"/>
                  </a:lnTo>
                  <a:lnTo>
                    <a:pt x="1142" y="210"/>
                  </a:lnTo>
                  <a:lnTo>
                    <a:pt x="1150" y="215"/>
                  </a:lnTo>
                  <a:lnTo>
                    <a:pt x="1162" y="223"/>
                  </a:lnTo>
                  <a:lnTo>
                    <a:pt x="1177" y="233"/>
                  </a:lnTo>
                  <a:lnTo>
                    <a:pt x="1192" y="243"/>
                  </a:lnTo>
                  <a:lnTo>
                    <a:pt x="1205" y="255"/>
                  </a:lnTo>
                  <a:lnTo>
                    <a:pt x="1217" y="265"/>
                  </a:lnTo>
                  <a:lnTo>
                    <a:pt x="1225" y="275"/>
                  </a:lnTo>
                  <a:lnTo>
                    <a:pt x="1234" y="285"/>
                  </a:lnTo>
                  <a:lnTo>
                    <a:pt x="1245" y="297"/>
                  </a:lnTo>
                  <a:lnTo>
                    <a:pt x="1259" y="310"/>
                  </a:lnTo>
                  <a:lnTo>
                    <a:pt x="1276" y="325"/>
                  </a:lnTo>
                  <a:lnTo>
                    <a:pt x="1292" y="340"/>
                  </a:lnTo>
                  <a:lnTo>
                    <a:pt x="1309" y="354"/>
                  </a:lnTo>
                  <a:lnTo>
                    <a:pt x="1324" y="365"/>
                  </a:lnTo>
                  <a:lnTo>
                    <a:pt x="1334" y="375"/>
                  </a:lnTo>
                  <a:lnTo>
                    <a:pt x="1346" y="385"/>
                  </a:lnTo>
                  <a:lnTo>
                    <a:pt x="1362" y="397"/>
                  </a:lnTo>
                  <a:lnTo>
                    <a:pt x="1381" y="410"/>
                  </a:lnTo>
                  <a:lnTo>
                    <a:pt x="1401" y="424"/>
                  </a:lnTo>
                  <a:lnTo>
                    <a:pt x="1421" y="437"/>
                  </a:lnTo>
                  <a:lnTo>
                    <a:pt x="1436" y="445"/>
                  </a:lnTo>
                  <a:lnTo>
                    <a:pt x="1447" y="454"/>
                  </a:lnTo>
                  <a:lnTo>
                    <a:pt x="1451" y="455"/>
                  </a:lnTo>
                  <a:lnTo>
                    <a:pt x="1489" y="509"/>
                  </a:lnTo>
                  <a:lnTo>
                    <a:pt x="1497" y="509"/>
                  </a:lnTo>
                  <a:lnTo>
                    <a:pt x="1517" y="509"/>
                  </a:lnTo>
                  <a:lnTo>
                    <a:pt x="1546" y="509"/>
                  </a:lnTo>
                  <a:lnTo>
                    <a:pt x="1581" y="509"/>
                  </a:lnTo>
                  <a:lnTo>
                    <a:pt x="1617" y="510"/>
                  </a:lnTo>
                  <a:lnTo>
                    <a:pt x="1651" y="514"/>
                  </a:lnTo>
                  <a:lnTo>
                    <a:pt x="1677" y="520"/>
                  </a:lnTo>
                  <a:lnTo>
                    <a:pt x="1694" y="527"/>
                  </a:lnTo>
                  <a:lnTo>
                    <a:pt x="1696" y="527"/>
                  </a:lnTo>
                  <a:lnTo>
                    <a:pt x="1702" y="525"/>
                  </a:lnTo>
                  <a:lnTo>
                    <a:pt x="1712" y="522"/>
                  </a:lnTo>
                  <a:lnTo>
                    <a:pt x="1722" y="520"/>
                  </a:lnTo>
                  <a:lnTo>
                    <a:pt x="1736" y="519"/>
                  </a:lnTo>
                  <a:lnTo>
                    <a:pt x="1747" y="515"/>
                  </a:lnTo>
                  <a:lnTo>
                    <a:pt x="1759" y="514"/>
                  </a:lnTo>
                  <a:lnTo>
                    <a:pt x="1769" y="514"/>
                  </a:lnTo>
                  <a:lnTo>
                    <a:pt x="1782" y="515"/>
                  </a:lnTo>
                  <a:lnTo>
                    <a:pt x="1801" y="519"/>
                  </a:lnTo>
                  <a:lnTo>
                    <a:pt x="1823" y="522"/>
                  </a:lnTo>
                  <a:lnTo>
                    <a:pt x="1848" y="527"/>
                  </a:lnTo>
                  <a:lnTo>
                    <a:pt x="1869" y="534"/>
                  </a:lnTo>
                  <a:lnTo>
                    <a:pt x="1889" y="537"/>
                  </a:lnTo>
                  <a:lnTo>
                    <a:pt x="1903" y="540"/>
                  </a:lnTo>
                  <a:lnTo>
                    <a:pt x="1908" y="542"/>
                  </a:lnTo>
                  <a:lnTo>
                    <a:pt x="1926" y="604"/>
                  </a:lnTo>
                  <a:lnTo>
                    <a:pt x="2044" y="604"/>
                  </a:lnTo>
                  <a:lnTo>
                    <a:pt x="2064" y="689"/>
                  </a:lnTo>
                  <a:lnTo>
                    <a:pt x="2071" y="692"/>
                  </a:lnTo>
                  <a:lnTo>
                    <a:pt x="2083" y="704"/>
                  </a:lnTo>
                  <a:lnTo>
                    <a:pt x="2093" y="722"/>
                  </a:lnTo>
                  <a:lnTo>
                    <a:pt x="2093" y="746"/>
                  </a:lnTo>
                  <a:lnTo>
                    <a:pt x="2116" y="784"/>
                  </a:lnTo>
                  <a:lnTo>
                    <a:pt x="2154" y="769"/>
                  </a:lnTo>
                  <a:lnTo>
                    <a:pt x="2158" y="774"/>
                  </a:lnTo>
                  <a:lnTo>
                    <a:pt x="2164" y="786"/>
                  </a:lnTo>
                  <a:lnTo>
                    <a:pt x="2169" y="801"/>
                  </a:lnTo>
                  <a:lnTo>
                    <a:pt x="2173" y="812"/>
                  </a:lnTo>
                  <a:lnTo>
                    <a:pt x="2176" y="824"/>
                  </a:lnTo>
                  <a:lnTo>
                    <a:pt x="2183" y="834"/>
                  </a:lnTo>
                  <a:lnTo>
                    <a:pt x="2189" y="842"/>
                  </a:lnTo>
                  <a:lnTo>
                    <a:pt x="2193" y="846"/>
                  </a:lnTo>
                  <a:lnTo>
                    <a:pt x="2201" y="822"/>
                  </a:lnTo>
                  <a:lnTo>
                    <a:pt x="2226" y="869"/>
                  </a:lnTo>
                  <a:lnTo>
                    <a:pt x="2228" y="869"/>
                  </a:lnTo>
                  <a:lnTo>
                    <a:pt x="2234" y="871"/>
                  </a:lnTo>
                  <a:lnTo>
                    <a:pt x="2244" y="874"/>
                  </a:lnTo>
                  <a:lnTo>
                    <a:pt x="2254" y="877"/>
                  </a:lnTo>
                  <a:lnTo>
                    <a:pt x="2266" y="882"/>
                  </a:lnTo>
                  <a:lnTo>
                    <a:pt x="2276" y="887"/>
                  </a:lnTo>
                  <a:lnTo>
                    <a:pt x="2284" y="894"/>
                  </a:lnTo>
                  <a:lnTo>
                    <a:pt x="2288" y="902"/>
                  </a:lnTo>
                  <a:lnTo>
                    <a:pt x="2289" y="921"/>
                  </a:lnTo>
                  <a:lnTo>
                    <a:pt x="2293" y="937"/>
                  </a:lnTo>
                  <a:lnTo>
                    <a:pt x="2296" y="952"/>
                  </a:lnTo>
                  <a:lnTo>
                    <a:pt x="2306" y="964"/>
                  </a:lnTo>
                  <a:lnTo>
                    <a:pt x="2316" y="979"/>
                  </a:lnTo>
                  <a:lnTo>
                    <a:pt x="2321" y="996"/>
                  </a:lnTo>
                  <a:lnTo>
                    <a:pt x="2318" y="1011"/>
                  </a:lnTo>
                  <a:lnTo>
                    <a:pt x="2311" y="1017"/>
                  </a:lnTo>
                  <a:lnTo>
                    <a:pt x="2303" y="1019"/>
                  </a:lnTo>
                  <a:lnTo>
                    <a:pt x="2299" y="1024"/>
                  </a:lnTo>
                  <a:lnTo>
                    <a:pt x="2301" y="1032"/>
                  </a:lnTo>
                  <a:lnTo>
                    <a:pt x="2306" y="1046"/>
                  </a:lnTo>
                  <a:lnTo>
                    <a:pt x="2313" y="1061"/>
                  </a:lnTo>
                  <a:lnTo>
                    <a:pt x="2319" y="1076"/>
                  </a:lnTo>
                  <a:lnTo>
                    <a:pt x="2324" y="1092"/>
                  </a:lnTo>
                  <a:lnTo>
                    <a:pt x="2329" y="1107"/>
                  </a:lnTo>
                  <a:lnTo>
                    <a:pt x="2336" y="1117"/>
                  </a:lnTo>
                  <a:lnTo>
                    <a:pt x="2344" y="1121"/>
                  </a:lnTo>
                  <a:lnTo>
                    <a:pt x="2351" y="1121"/>
                  </a:lnTo>
                  <a:lnTo>
                    <a:pt x="2354" y="1121"/>
                  </a:lnTo>
                  <a:lnTo>
                    <a:pt x="2356" y="1129"/>
                  </a:lnTo>
                  <a:lnTo>
                    <a:pt x="2365" y="1149"/>
                  </a:lnTo>
                  <a:lnTo>
                    <a:pt x="2375" y="1174"/>
                  </a:lnTo>
                  <a:lnTo>
                    <a:pt x="2388" y="1192"/>
                  </a:lnTo>
                  <a:lnTo>
                    <a:pt x="2395" y="1201"/>
                  </a:lnTo>
                  <a:lnTo>
                    <a:pt x="2400" y="1209"/>
                  </a:lnTo>
                  <a:lnTo>
                    <a:pt x="2405" y="1217"/>
                  </a:lnTo>
                  <a:lnTo>
                    <a:pt x="2411" y="1227"/>
                  </a:lnTo>
                  <a:lnTo>
                    <a:pt x="2416" y="1236"/>
                  </a:lnTo>
                  <a:lnTo>
                    <a:pt x="2425" y="1244"/>
                  </a:lnTo>
                  <a:lnTo>
                    <a:pt x="2433" y="1253"/>
                  </a:lnTo>
                  <a:lnTo>
                    <a:pt x="2445" y="1259"/>
                  </a:lnTo>
                  <a:lnTo>
                    <a:pt x="2456" y="1263"/>
                  </a:lnTo>
                  <a:lnTo>
                    <a:pt x="2468" y="1263"/>
                  </a:lnTo>
                  <a:lnTo>
                    <a:pt x="2478" y="1263"/>
                  </a:lnTo>
                  <a:lnTo>
                    <a:pt x="2486" y="1259"/>
                  </a:lnTo>
                  <a:lnTo>
                    <a:pt x="2493" y="1256"/>
                  </a:lnTo>
                  <a:lnTo>
                    <a:pt x="2498" y="1253"/>
                  </a:lnTo>
                  <a:lnTo>
                    <a:pt x="2500" y="1251"/>
                  </a:lnTo>
                  <a:lnTo>
                    <a:pt x="2501" y="1249"/>
                  </a:lnTo>
                  <a:lnTo>
                    <a:pt x="2520" y="1259"/>
                  </a:lnTo>
                  <a:lnTo>
                    <a:pt x="2501" y="1293"/>
                  </a:lnTo>
                  <a:lnTo>
                    <a:pt x="2501" y="1294"/>
                  </a:lnTo>
                  <a:lnTo>
                    <a:pt x="2501" y="1299"/>
                  </a:lnTo>
                  <a:lnTo>
                    <a:pt x="2503" y="1304"/>
                  </a:lnTo>
                  <a:lnTo>
                    <a:pt x="2511" y="1306"/>
                  </a:lnTo>
                  <a:lnTo>
                    <a:pt x="2521" y="1314"/>
                  </a:lnTo>
                  <a:lnTo>
                    <a:pt x="2531" y="1329"/>
                  </a:lnTo>
                  <a:lnTo>
                    <a:pt x="2536" y="1346"/>
                  </a:lnTo>
                  <a:lnTo>
                    <a:pt x="2540" y="1354"/>
                  </a:lnTo>
                  <a:lnTo>
                    <a:pt x="2541" y="1356"/>
                  </a:lnTo>
                  <a:lnTo>
                    <a:pt x="2546" y="1361"/>
                  </a:lnTo>
                  <a:lnTo>
                    <a:pt x="2553" y="1368"/>
                  </a:lnTo>
                  <a:lnTo>
                    <a:pt x="2561" y="1378"/>
                  </a:lnTo>
                  <a:lnTo>
                    <a:pt x="2571" y="1388"/>
                  </a:lnTo>
                  <a:lnTo>
                    <a:pt x="2583" y="1401"/>
                  </a:lnTo>
                  <a:lnTo>
                    <a:pt x="2595" y="1414"/>
                  </a:lnTo>
                  <a:lnTo>
                    <a:pt x="2606" y="1428"/>
                  </a:lnTo>
                  <a:lnTo>
                    <a:pt x="2618" y="1443"/>
                  </a:lnTo>
                  <a:lnTo>
                    <a:pt x="2631" y="1458"/>
                  </a:lnTo>
                  <a:lnTo>
                    <a:pt x="2645" y="1473"/>
                  </a:lnTo>
                  <a:lnTo>
                    <a:pt x="2658" y="1488"/>
                  </a:lnTo>
                  <a:lnTo>
                    <a:pt x="2670" y="1501"/>
                  </a:lnTo>
                  <a:lnTo>
                    <a:pt x="2680" y="1511"/>
                  </a:lnTo>
                  <a:lnTo>
                    <a:pt x="2688" y="1521"/>
                  </a:lnTo>
                  <a:lnTo>
                    <a:pt x="2691" y="1528"/>
                  </a:lnTo>
                  <a:lnTo>
                    <a:pt x="2701" y="1533"/>
                  </a:lnTo>
                  <a:lnTo>
                    <a:pt x="2723" y="1538"/>
                  </a:lnTo>
                  <a:lnTo>
                    <a:pt x="2753" y="1543"/>
                  </a:lnTo>
                  <a:lnTo>
                    <a:pt x="2790" y="1546"/>
                  </a:lnTo>
                  <a:lnTo>
                    <a:pt x="2828" y="1549"/>
                  </a:lnTo>
                  <a:lnTo>
                    <a:pt x="2863" y="1551"/>
                  </a:lnTo>
                  <a:lnTo>
                    <a:pt x="2891" y="1554"/>
                  </a:lnTo>
                  <a:lnTo>
                    <a:pt x="2910" y="1556"/>
                  </a:lnTo>
                  <a:lnTo>
                    <a:pt x="2925" y="1558"/>
                  </a:lnTo>
                  <a:lnTo>
                    <a:pt x="2945" y="1559"/>
                  </a:lnTo>
                  <a:lnTo>
                    <a:pt x="2968" y="1561"/>
                  </a:lnTo>
                  <a:lnTo>
                    <a:pt x="2992" y="1563"/>
                  </a:lnTo>
                  <a:lnTo>
                    <a:pt x="3013" y="1566"/>
                  </a:lnTo>
                  <a:lnTo>
                    <a:pt x="3033" y="1568"/>
                  </a:lnTo>
                  <a:lnTo>
                    <a:pt x="3048" y="1569"/>
                  </a:lnTo>
                  <a:lnTo>
                    <a:pt x="3057" y="1571"/>
                  </a:lnTo>
                  <a:lnTo>
                    <a:pt x="3070" y="1569"/>
                  </a:lnTo>
                  <a:lnTo>
                    <a:pt x="3083" y="1563"/>
                  </a:lnTo>
                  <a:lnTo>
                    <a:pt x="3095" y="1554"/>
                  </a:lnTo>
                  <a:lnTo>
                    <a:pt x="3100" y="1551"/>
                  </a:lnTo>
                  <a:lnTo>
                    <a:pt x="3102" y="1553"/>
                  </a:lnTo>
                  <a:lnTo>
                    <a:pt x="3105" y="1556"/>
                  </a:lnTo>
                  <a:lnTo>
                    <a:pt x="3112" y="1561"/>
                  </a:lnTo>
                  <a:lnTo>
                    <a:pt x="3120" y="1568"/>
                  </a:lnTo>
                  <a:lnTo>
                    <a:pt x="3130" y="1576"/>
                  </a:lnTo>
                  <a:lnTo>
                    <a:pt x="3140" y="1586"/>
                  </a:lnTo>
                  <a:lnTo>
                    <a:pt x="3152" y="1598"/>
                  </a:lnTo>
                  <a:lnTo>
                    <a:pt x="3162" y="1609"/>
                  </a:lnTo>
                  <a:lnTo>
                    <a:pt x="3172" y="1624"/>
                  </a:lnTo>
                  <a:lnTo>
                    <a:pt x="3180" y="1638"/>
                  </a:lnTo>
                  <a:lnTo>
                    <a:pt x="3183" y="1653"/>
                  </a:lnTo>
                  <a:lnTo>
                    <a:pt x="3185" y="1668"/>
                  </a:lnTo>
                  <a:lnTo>
                    <a:pt x="3185" y="1678"/>
                  </a:lnTo>
                  <a:lnTo>
                    <a:pt x="3183" y="1688"/>
                  </a:lnTo>
                  <a:lnTo>
                    <a:pt x="3180" y="1696"/>
                  </a:lnTo>
                  <a:lnTo>
                    <a:pt x="3175" y="1704"/>
                  </a:lnTo>
                  <a:lnTo>
                    <a:pt x="3168" y="1724"/>
                  </a:lnTo>
                  <a:lnTo>
                    <a:pt x="3168" y="1748"/>
                  </a:lnTo>
                  <a:lnTo>
                    <a:pt x="3168" y="1771"/>
                  </a:lnTo>
                  <a:lnTo>
                    <a:pt x="3167" y="1795"/>
                  </a:lnTo>
                  <a:lnTo>
                    <a:pt x="3162" y="1815"/>
                  </a:lnTo>
                  <a:lnTo>
                    <a:pt x="3153" y="1835"/>
                  </a:lnTo>
                  <a:lnTo>
                    <a:pt x="3145" y="1851"/>
                  </a:lnTo>
                  <a:lnTo>
                    <a:pt x="3138" y="1870"/>
                  </a:lnTo>
                  <a:lnTo>
                    <a:pt x="3132" y="1890"/>
                  </a:lnTo>
                  <a:lnTo>
                    <a:pt x="3125" y="1913"/>
                  </a:lnTo>
                  <a:lnTo>
                    <a:pt x="3120" y="1933"/>
                  </a:lnTo>
                  <a:lnTo>
                    <a:pt x="3118" y="1951"/>
                  </a:lnTo>
                  <a:lnTo>
                    <a:pt x="3117" y="1965"/>
                  </a:lnTo>
                  <a:lnTo>
                    <a:pt x="3115" y="1976"/>
                  </a:lnTo>
                  <a:lnTo>
                    <a:pt x="3108" y="1986"/>
                  </a:lnTo>
                  <a:lnTo>
                    <a:pt x="3100" y="1993"/>
                  </a:lnTo>
                  <a:lnTo>
                    <a:pt x="3093" y="1996"/>
                  </a:lnTo>
                  <a:lnTo>
                    <a:pt x="3078" y="2003"/>
                  </a:lnTo>
                  <a:lnTo>
                    <a:pt x="3057" y="2013"/>
                  </a:lnTo>
                  <a:lnTo>
                    <a:pt x="3028" y="2026"/>
                  </a:lnTo>
                  <a:lnTo>
                    <a:pt x="2997" y="2040"/>
                  </a:lnTo>
                  <a:lnTo>
                    <a:pt x="2962" y="2056"/>
                  </a:lnTo>
                  <a:lnTo>
                    <a:pt x="2923" y="2073"/>
                  </a:lnTo>
                  <a:lnTo>
                    <a:pt x="2885" y="2090"/>
                  </a:lnTo>
                  <a:lnTo>
                    <a:pt x="2845" y="2108"/>
                  </a:lnTo>
                  <a:lnTo>
                    <a:pt x="2806" y="2125"/>
                  </a:lnTo>
                  <a:lnTo>
                    <a:pt x="2770" y="2141"/>
                  </a:lnTo>
                  <a:lnTo>
                    <a:pt x="2736" y="2155"/>
                  </a:lnTo>
                  <a:lnTo>
                    <a:pt x="2708" y="2168"/>
                  </a:lnTo>
                  <a:lnTo>
                    <a:pt x="2685" y="2180"/>
                  </a:lnTo>
                  <a:lnTo>
                    <a:pt x="2668" y="2188"/>
                  </a:lnTo>
                  <a:lnTo>
                    <a:pt x="2658" y="2193"/>
                  </a:lnTo>
                  <a:lnTo>
                    <a:pt x="2645" y="2200"/>
                  </a:lnTo>
                  <a:lnTo>
                    <a:pt x="2628" y="2205"/>
                  </a:lnTo>
                  <a:lnTo>
                    <a:pt x="2608" y="2208"/>
                  </a:lnTo>
                  <a:lnTo>
                    <a:pt x="2586" y="2211"/>
                  </a:lnTo>
                  <a:lnTo>
                    <a:pt x="2561" y="2215"/>
                  </a:lnTo>
                  <a:lnTo>
                    <a:pt x="2535" y="2220"/>
                  </a:lnTo>
                  <a:lnTo>
                    <a:pt x="2508" y="2225"/>
                  </a:lnTo>
                  <a:lnTo>
                    <a:pt x="2481" y="2231"/>
                  </a:lnTo>
                  <a:lnTo>
                    <a:pt x="2466" y="2235"/>
                  </a:lnTo>
                  <a:lnTo>
                    <a:pt x="2446" y="2240"/>
                  </a:lnTo>
                  <a:lnTo>
                    <a:pt x="2425" y="2245"/>
                  </a:lnTo>
                  <a:lnTo>
                    <a:pt x="2398" y="2252"/>
                  </a:lnTo>
                  <a:lnTo>
                    <a:pt x="2371" y="2258"/>
                  </a:lnTo>
                  <a:lnTo>
                    <a:pt x="2343" y="2265"/>
                  </a:lnTo>
                  <a:lnTo>
                    <a:pt x="2313" y="2272"/>
                  </a:lnTo>
                  <a:lnTo>
                    <a:pt x="2283" y="2278"/>
                  </a:lnTo>
                  <a:lnTo>
                    <a:pt x="2253" y="2285"/>
                  </a:lnTo>
                  <a:lnTo>
                    <a:pt x="2224" y="2293"/>
                  </a:lnTo>
                  <a:lnTo>
                    <a:pt x="2198" y="2300"/>
                  </a:lnTo>
                  <a:lnTo>
                    <a:pt x="2173" y="2307"/>
                  </a:lnTo>
                  <a:lnTo>
                    <a:pt x="2151" y="2312"/>
                  </a:lnTo>
                  <a:lnTo>
                    <a:pt x="2134" y="2318"/>
                  </a:lnTo>
                  <a:lnTo>
                    <a:pt x="2119" y="2323"/>
                  </a:lnTo>
                  <a:lnTo>
                    <a:pt x="2111" y="2327"/>
                  </a:lnTo>
                  <a:lnTo>
                    <a:pt x="2098" y="2333"/>
                  </a:lnTo>
                  <a:lnTo>
                    <a:pt x="2086" y="2338"/>
                  </a:lnTo>
                  <a:lnTo>
                    <a:pt x="2071" y="2347"/>
                  </a:lnTo>
                  <a:lnTo>
                    <a:pt x="2058" y="2353"/>
                  </a:lnTo>
                  <a:lnTo>
                    <a:pt x="2043" y="2365"/>
                  </a:lnTo>
                  <a:lnTo>
                    <a:pt x="2028" y="2378"/>
                  </a:lnTo>
                  <a:lnTo>
                    <a:pt x="2011" y="2398"/>
                  </a:lnTo>
                  <a:lnTo>
                    <a:pt x="1993" y="2422"/>
                  </a:lnTo>
                  <a:lnTo>
                    <a:pt x="1976" y="2447"/>
                  </a:lnTo>
                  <a:lnTo>
                    <a:pt x="1961" y="2470"/>
                  </a:lnTo>
                  <a:lnTo>
                    <a:pt x="1946" y="2492"/>
                  </a:lnTo>
                  <a:lnTo>
                    <a:pt x="1933" y="2512"/>
                  </a:lnTo>
                  <a:lnTo>
                    <a:pt x="1923" y="2528"/>
                  </a:lnTo>
                  <a:lnTo>
                    <a:pt x="1913" y="2542"/>
                  </a:lnTo>
                  <a:lnTo>
                    <a:pt x="1904" y="2552"/>
                  </a:lnTo>
                  <a:lnTo>
                    <a:pt x="1898" y="2558"/>
                  </a:lnTo>
                  <a:lnTo>
                    <a:pt x="1891" y="2563"/>
                  </a:lnTo>
                  <a:lnTo>
                    <a:pt x="1884" y="2568"/>
                  </a:lnTo>
                  <a:lnTo>
                    <a:pt x="1874" y="2573"/>
                  </a:lnTo>
                  <a:lnTo>
                    <a:pt x="1864" y="2575"/>
                  </a:lnTo>
                  <a:lnTo>
                    <a:pt x="1853" y="2577"/>
                  </a:lnTo>
                  <a:lnTo>
                    <a:pt x="1843" y="2577"/>
                  </a:lnTo>
                  <a:lnTo>
                    <a:pt x="1833" y="2573"/>
                  </a:lnTo>
                  <a:lnTo>
                    <a:pt x="1823" y="2568"/>
                  </a:lnTo>
                  <a:lnTo>
                    <a:pt x="1814" y="2562"/>
                  </a:lnTo>
                  <a:lnTo>
                    <a:pt x="1806" y="2553"/>
                  </a:lnTo>
                  <a:lnTo>
                    <a:pt x="1799" y="2547"/>
                  </a:lnTo>
                  <a:lnTo>
                    <a:pt x="1794" y="2538"/>
                  </a:lnTo>
                  <a:lnTo>
                    <a:pt x="1787" y="2533"/>
                  </a:lnTo>
                  <a:lnTo>
                    <a:pt x="1781" y="2530"/>
                  </a:lnTo>
                  <a:lnTo>
                    <a:pt x="1772" y="2528"/>
                  </a:lnTo>
                  <a:lnTo>
                    <a:pt x="1764" y="2530"/>
                  </a:lnTo>
                  <a:lnTo>
                    <a:pt x="1752" y="2533"/>
                  </a:lnTo>
                  <a:lnTo>
                    <a:pt x="1739" y="2535"/>
                  </a:lnTo>
                  <a:lnTo>
                    <a:pt x="1722" y="2535"/>
                  </a:lnTo>
                  <a:lnTo>
                    <a:pt x="1704" y="2535"/>
                  </a:lnTo>
                  <a:lnTo>
                    <a:pt x="1684" y="2535"/>
                  </a:lnTo>
                  <a:lnTo>
                    <a:pt x="1666" y="2533"/>
                  </a:lnTo>
                  <a:lnTo>
                    <a:pt x="1647" y="2532"/>
                  </a:lnTo>
                  <a:lnTo>
                    <a:pt x="1632" y="2530"/>
                  </a:lnTo>
                  <a:lnTo>
                    <a:pt x="1617" y="2528"/>
                  </a:lnTo>
                  <a:lnTo>
                    <a:pt x="1602" y="2525"/>
                  </a:lnTo>
                  <a:lnTo>
                    <a:pt x="1589" y="2520"/>
                  </a:lnTo>
                  <a:lnTo>
                    <a:pt x="1574" y="2517"/>
                  </a:lnTo>
                  <a:lnTo>
                    <a:pt x="1561" y="2513"/>
                  </a:lnTo>
                  <a:lnTo>
                    <a:pt x="1549" y="2510"/>
                  </a:lnTo>
                  <a:lnTo>
                    <a:pt x="1537" y="2507"/>
                  </a:lnTo>
                  <a:lnTo>
                    <a:pt x="1527" y="2507"/>
                  </a:lnTo>
                  <a:lnTo>
                    <a:pt x="1514" y="2507"/>
                  </a:lnTo>
                  <a:lnTo>
                    <a:pt x="1492" y="2507"/>
                  </a:lnTo>
                  <a:lnTo>
                    <a:pt x="1466" y="2508"/>
                  </a:lnTo>
                  <a:lnTo>
                    <a:pt x="1436" y="2508"/>
                  </a:lnTo>
                  <a:lnTo>
                    <a:pt x="1409" y="2510"/>
                  </a:lnTo>
                  <a:lnTo>
                    <a:pt x="1386" y="2512"/>
                  </a:lnTo>
                  <a:lnTo>
                    <a:pt x="1369" y="2512"/>
                  </a:lnTo>
                  <a:lnTo>
                    <a:pt x="1362" y="2512"/>
                  </a:lnTo>
                  <a:lnTo>
                    <a:pt x="1361" y="2513"/>
                  </a:lnTo>
                  <a:lnTo>
                    <a:pt x="1356" y="2515"/>
                  </a:lnTo>
                  <a:lnTo>
                    <a:pt x="1349" y="2518"/>
                  </a:lnTo>
                  <a:lnTo>
                    <a:pt x="1339" y="2520"/>
                  </a:lnTo>
                  <a:lnTo>
                    <a:pt x="1329" y="2522"/>
                  </a:lnTo>
                  <a:lnTo>
                    <a:pt x="1317" y="2522"/>
                  </a:lnTo>
                  <a:lnTo>
                    <a:pt x="1304" y="2518"/>
                  </a:lnTo>
                  <a:lnTo>
                    <a:pt x="1292" y="2512"/>
                  </a:lnTo>
                  <a:lnTo>
                    <a:pt x="1281" y="2503"/>
                  </a:lnTo>
                  <a:lnTo>
                    <a:pt x="1272" y="2497"/>
                  </a:lnTo>
                  <a:lnTo>
                    <a:pt x="1266" y="2490"/>
                  </a:lnTo>
                  <a:lnTo>
                    <a:pt x="1261" y="2485"/>
                  </a:lnTo>
                  <a:lnTo>
                    <a:pt x="1256" y="2482"/>
                  </a:lnTo>
                  <a:lnTo>
                    <a:pt x="1250" y="2480"/>
                  </a:lnTo>
                  <a:lnTo>
                    <a:pt x="1245" y="2480"/>
                  </a:lnTo>
                  <a:lnTo>
                    <a:pt x="1239" y="2483"/>
                  </a:lnTo>
                  <a:lnTo>
                    <a:pt x="1232" y="2490"/>
                  </a:lnTo>
                  <a:lnTo>
                    <a:pt x="1235" y="2498"/>
                  </a:lnTo>
                  <a:lnTo>
                    <a:pt x="1240" y="2510"/>
                  </a:lnTo>
                  <a:lnTo>
                    <a:pt x="1239" y="2525"/>
                  </a:lnTo>
                  <a:lnTo>
                    <a:pt x="1234" y="2545"/>
                  </a:lnTo>
                  <a:lnTo>
                    <a:pt x="1232" y="2567"/>
                  </a:lnTo>
                  <a:lnTo>
                    <a:pt x="1234" y="2587"/>
                  </a:lnTo>
                  <a:lnTo>
                    <a:pt x="1234" y="2602"/>
                  </a:lnTo>
                  <a:lnTo>
                    <a:pt x="1230" y="2615"/>
                  </a:lnTo>
                  <a:lnTo>
                    <a:pt x="1225" y="2630"/>
                  </a:lnTo>
                  <a:lnTo>
                    <a:pt x="1219" y="2643"/>
                  </a:lnTo>
                  <a:lnTo>
                    <a:pt x="1215" y="2648"/>
                  </a:lnTo>
                  <a:lnTo>
                    <a:pt x="1177" y="2678"/>
                  </a:lnTo>
                  <a:lnTo>
                    <a:pt x="1175" y="2672"/>
                  </a:lnTo>
                  <a:lnTo>
                    <a:pt x="1170" y="2657"/>
                  </a:lnTo>
                  <a:lnTo>
                    <a:pt x="1167" y="2640"/>
                  </a:lnTo>
                  <a:lnTo>
                    <a:pt x="1167" y="2625"/>
                  </a:lnTo>
                  <a:lnTo>
                    <a:pt x="1167" y="2613"/>
                  </a:lnTo>
                  <a:lnTo>
                    <a:pt x="1164" y="2598"/>
                  </a:lnTo>
                  <a:lnTo>
                    <a:pt x="1154" y="2583"/>
                  </a:lnTo>
                  <a:lnTo>
                    <a:pt x="1144" y="2568"/>
                  </a:lnTo>
                  <a:lnTo>
                    <a:pt x="1134" y="2555"/>
                  </a:lnTo>
                  <a:lnTo>
                    <a:pt x="1124" y="2543"/>
                  </a:lnTo>
                  <a:lnTo>
                    <a:pt x="1115" y="2532"/>
                  </a:lnTo>
                  <a:lnTo>
                    <a:pt x="1110" y="2522"/>
                  </a:lnTo>
                  <a:lnTo>
                    <a:pt x="1107" y="2508"/>
                  </a:lnTo>
                  <a:lnTo>
                    <a:pt x="1104" y="2492"/>
                  </a:lnTo>
                  <a:lnTo>
                    <a:pt x="1095" y="2475"/>
                  </a:lnTo>
                  <a:lnTo>
                    <a:pt x="1082" y="2458"/>
                  </a:lnTo>
                  <a:lnTo>
                    <a:pt x="1072" y="2450"/>
                  </a:lnTo>
                  <a:lnTo>
                    <a:pt x="1059" y="2437"/>
                  </a:lnTo>
                  <a:lnTo>
                    <a:pt x="1044" y="2423"/>
                  </a:lnTo>
                  <a:lnTo>
                    <a:pt x="1029" y="2405"/>
                  </a:lnTo>
                  <a:lnTo>
                    <a:pt x="1014" y="2387"/>
                  </a:lnTo>
                  <a:lnTo>
                    <a:pt x="999" y="2368"/>
                  </a:lnTo>
                  <a:lnTo>
                    <a:pt x="987" y="2350"/>
                  </a:lnTo>
                  <a:lnTo>
                    <a:pt x="979" y="2332"/>
                  </a:lnTo>
                  <a:lnTo>
                    <a:pt x="964" y="2302"/>
                  </a:lnTo>
                  <a:lnTo>
                    <a:pt x="949" y="2280"/>
                  </a:lnTo>
                  <a:lnTo>
                    <a:pt x="937" y="2263"/>
                  </a:lnTo>
                  <a:lnTo>
                    <a:pt x="930" y="2245"/>
                  </a:lnTo>
                  <a:lnTo>
                    <a:pt x="927" y="2231"/>
                  </a:lnTo>
                  <a:lnTo>
                    <a:pt x="920" y="2211"/>
                  </a:lnTo>
                  <a:lnTo>
                    <a:pt x="910" y="2190"/>
                  </a:lnTo>
                  <a:lnTo>
                    <a:pt x="900" y="2166"/>
                  </a:lnTo>
                  <a:lnTo>
                    <a:pt x="890" y="2143"/>
                  </a:lnTo>
                  <a:lnTo>
                    <a:pt x="880" y="2123"/>
                  </a:lnTo>
                  <a:lnTo>
                    <a:pt x="870" y="2108"/>
                  </a:lnTo>
                  <a:lnTo>
                    <a:pt x="864" y="2098"/>
                  </a:lnTo>
                  <a:lnTo>
                    <a:pt x="854" y="2085"/>
                  </a:lnTo>
                  <a:lnTo>
                    <a:pt x="845" y="2071"/>
                  </a:lnTo>
                  <a:lnTo>
                    <a:pt x="834" y="2056"/>
                  </a:lnTo>
                  <a:lnTo>
                    <a:pt x="822" y="2041"/>
                  </a:lnTo>
                  <a:lnTo>
                    <a:pt x="814" y="2033"/>
                  </a:lnTo>
                  <a:lnTo>
                    <a:pt x="802" y="2025"/>
                  </a:lnTo>
                  <a:lnTo>
                    <a:pt x="790" y="2018"/>
                  </a:lnTo>
                  <a:lnTo>
                    <a:pt x="779" y="2010"/>
                  </a:lnTo>
                  <a:lnTo>
                    <a:pt x="765" y="2003"/>
                  </a:lnTo>
                  <a:lnTo>
                    <a:pt x="752" y="1998"/>
                  </a:lnTo>
                  <a:lnTo>
                    <a:pt x="740" y="1995"/>
                  </a:lnTo>
                  <a:lnTo>
                    <a:pt x="730" y="1993"/>
                  </a:lnTo>
                  <a:lnTo>
                    <a:pt x="722" y="1991"/>
                  </a:lnTo>
                  <a:lnTo>
                    <a:pt x="717" y="1988"/>
                  </a:lnTo>
                  <a:lnTo>
                    <a:pt x="710" y="1983"/>
                  </a:lnTo>
                  <a:lnTo>
                    <a:pt x="705" y="1975"/>
                  </a:lnTo>
                  <a:lnTo>
                    <a:pt x="700" y="1966"/>
                  </a:lnTo>
                  <a:lnTo>
                    <a:pt x="693" y="1953"/>
                  </a:lnTo>
                  <a:lnTo>
                    <a:pt x="685" y="1940"/>
                  </a:lnTo>
                  <a:lnTo>
                    <a:pt x="673" y="1923"/>
                  </a:lnTo>
                  <a:lnTo>
                    <a:pt x="662" y="1905"/>
                  </a:lnTo>
                  <a:lnTo>
                    <a:pt x="652" y="1886"/>
                  </a:lnTo>
                  <a:lnTo>
                    <a:pt x="642" y="1868"/>
                  </a:lnTo>
                  <a:lnTo>
                    <a:pt x="635" y="1851"/>
                  </a:lnTo>
                  <a:lnTo>
                    <a:pt x="628" y="1833"/>
                  </a:lnTo>
                  <a:lnTo>
                    <a:pt x="623" y="1818"/>
                  </a:lnTo>
                  <a:lnTo>
                    <a:pt x="620" y="1803"/>
                  </a:lnTo>
                  <a:lnTo>
                    <a:pt x="617" y="1790"/>
                  </a:lnTo>
                  <a:lnTo>
                    <a:pt x="612" y="1765"/>
                  </a:lnTo>
                  <a:lnTo>
                    <a:pt x="603" y="1741"/>
                  </a:lnTo>
                  <a:lnTo>
                    <a:pt x="597" y="1724"/>
                  </a:lnTo>
                  <a:lnTo>
                    <a:pt x="593" y="1718"/>
                  </a:lnTo>
                  <a:lnTo>
                    <a:pt x="600" y="1706"/>
                  </a:lnTo>
                  <a:lnTo>
                    <a:pt x="610" y="1676"/>
                  </a:lnTo>
                  <a:lnTo>
                    <a:pt x="617" y="1636"/>
                  </a:lnTo>
                  <a:lnTo>
                    <a:pt x="607" y="1594"/>
                  </a:lnTo>
                  <a:lnTo>
                    <a:pt x="590" y="1559"/>
                  </a:lnTo>
                  <a:lnTo>
                    <a:pt x="582" y="1531"/>
                  </a:lnTo>
                  <a:lnTo>
                    <a:pt x="573" y="1503"/>
                  </a:lnTo>
                  <a:lnTo>
                    <a:pt x="560" y="1471"/>
                  </a:lnTo>
                  <a:lnTo>
                    <a:pt x="552" y="1454"/>
                  </a:lnTo>
                  <a:lnTo>
                    <a:pt x="547" y="1439"/>
                  </a:lnTo>
                  <a:lnTo>
                    <a:pt x="542" y="1426"/>
                  </a:lnTo>
                  <a:lnTo>
                    <a:pt x="537" y="1413"/>
                  </a:lnTo>
                  <a:lnTo>
                    <a:pt x="532" y="1401"/>
                  </a:lnTo>
                  <a:lnTo>
                    <a:pt x="525" y="1393"/>
                  </a:lnTo>
                  <a:lnTo>
                    <a:pt x="518" y="1383"/>
                  </a:lnTo>
                  <a:lnTo>
                    <a:pt x="508" y="1376"/>
                  </a:lnTo>
                  <a:lnTo>
                    <a:pt x="497" y="1369"/>
                  </a:lnTo>
                  <a:lnTo>
                    <a:pt x="487" y="1361"/>
                  </a:lnTo>
                  <a:lnTo>
                    <a:pt x="475" y="1354"/>
                  </a:lnTo>
                  <a:lnTo>
                    <a:pt x="463" y="1346"/>
                  </a:lnTo>
                  <a:lnTo>
                    <a:pt x="452" y="1338"/>
                  </a:lnTo>
                  <a:lnTo>
                    <a:pt x="440" y="1329"/>
                  </a:lnTo>
                  <a:lnTo>
                    <a:pt x="427" y="1323"/>
                  </a:lnTo>
                  <a:lnTo>
                    <a:pt x="413" y="1316"/>
                  </a:lnTo>
                  <a:lnTo>
                    <a:pt x="392" y="1303"/>
                  </a:lnTo>
                  <a:lnTo>
                    <a:pt x="382" y="1286"/>
                  </a:lnTo>
                  <a:lnTo>
                    <a:pt x="375" y="1268"/>
                  </a:lnTo>
                  <a:lnTo>
                    <a:pt x="365" y="1249"/>
                  </a:lnTo>
                  <a:lnTo>
                    <a:pt x="355" y="1232"/>
                  </a:lnTo>
                  <a:lnTo>
                    <a:pt x="348" y="1219"/>
                  </a:lnTo>
                  <a:lnTo>
                    <a:pt x="347" y="1209"/>
                  </a:lnTo>
                  <a:lnTo>
                    <a:pt x="347" y="1206"/>
                  </a:lnTo>
                  <a:lnTo>
                    <a:pt x="348" y="1206"/>
                  </a:lnTo>
                  <a:lnTo>
                    <a:pt x="353" y="1204"/>
                  </a:lnTo>
                  <a:lnTo>
                    <a:pt x="360" y="1201"/>
                  </a:lnTo>
                  <a:lnTo>
                    <a:pt x="367" y="1194"/>
                  </a:lnTo>
                  <a:lnTo>
                    <a:pt x="370" y="1187"/>
                  </a:lnTo>
                  <a:lnTo>
                    <a:pt x="370" y="1176"/>
                  </a:lnTo>
                  <a:lnTo>
                    <a:pt x="365" y="1162"/>
                  </a:lnTo>
                  <a:lnTo>
                    <a:pt x="352" y="1144"/>
                  </a:lnTo>
                  <a:lnTo>
                    <a:pt x="330" y="1122"/>
                  </a:lnTo>
                  <a:lnTo>
                    <a:pt x="327" y="1122"/>
                  </a:lnTo>
                  <a:lnTo>
                    <a:pt x="330" y="1126"/>
                  </a:lnTo>
                  <a:lnTo>
                    <a:pt x="327" y="1112"/>
                  </a:lnTo>
                  <a:lnTo>
                    <a:pt x="320" y="1091"/>
                  </a:lnTo>
                  <a:lnTo>
                    <a:pt x="315" y="1076"/>
                  </a:lnTo>
                  <a:lnTo>
                    <a:pt x="308" y="1066"/>
                  </a:lnTo>
                  <a:lnTo>
                    <a:pt x="293" y="1054"/>
                  </a:lnTo>
                  <a:lnTo>
                    <a:pt x="283" y="1039"/>
                  </a:lnTo>
                  <a:lnTo>
                    <a:pt x="285" y="1024"/>
                  </a:lnTo>
                  <a:lnTo>
                    <a:pt x="287" y="1011"/>
                  </a:lnTo>
                  <a:lnTo>
                    <a:pt x="275" y="997"/>
                  </a:lnTo>
                  <a:lnTo>
                    <a:pt x="257" y="986"/>
                  </a:lnTo>
                  <a:lnTo>
                    <a:pt x="243" y="971"/>
                  </a:lnTo>
                  <a:lnTo>
                    <a:pt x="235" y="954"/>
                  </a:lnTo>
                  <a:lnTo>
                    <a:pt x="232" y="936"/>
                  </a:lnTo>
                  <a:lnTo>
                    <a:pt x="228" y="916"/>
                  </a:lnTo>
                  <a:lnTo>
                    <a:pt x="218" y="889"/>
                  </a:lnTo>
                  <a:lnTo>
                    <a:pt x="205" y="862"/>
                  </a:lnTo>
                  <a:lnTo>
                    <a:pt x="185" y="836"/>
                  </a:lnTo>
                  <a:lnTo>
                    <a:pt x="172" y="814"/>
                  </a:lnTo>
                  <a:lnTo>
                    <a:pt x="168" y="796"/>
                  </a:lnTo>
                  <a:lnTo>
                    <a:pt x="167" y="782"/>
                  </a:lnTo>
                  <a:lnTo>
                    <a:pt x="157" y="774"/>
                  </a:lnTo>
                  <a:lnTo>
                    <a:pt x="145" y="766"/>
                  </a:lnTo>
                  <a:lnTo>
                    <a:pt x="140" y="754"/>
                  </a:lnTo>
                  <a:lnTo>
                    <a:pt x="133" y="739"/>
                  </a:lnTo>
                  <a:lnTo>
                    <a:pt x="118" y="722"/>
                  </a:lnTo>
                  <a:lnTo>
                    <a:pt x="100" y="700"/>
                  </a:lnTo>
                  <a:lnTo>
                    <a:pt x="86" y="674"/>
                  </a:lnTo>
                  <a:lnTo>
                    <a:pt x="78" y="652"/>
                  </a:lnTo>
                  <a:lnTo>
                    <a:pt x="75" y="642"/>
                  </a:lnTo>
                  <a:lnTo>
                    <a:pt x="70" y="642"/>
                  </a:lnTo>
                  <a:lnTo>
                    <a:pt x="60" y="642"/>
                  </a:lnTo>
                  <a:lnTo>
                    <a:pt x="45" y="642"/>
                  </a:lnTo>
                  <a:lnTo>
                    <a:pt x="33" y="642"/>
                  </a:lnTo>
                  <a:lnTo>
                    <a:pt x="21" y="642"/>
                  </a:lnTo>
                  <a:lnTo>
                    <a:pt x="11" y="644"/>
                  </a:lnTo>
                  <a:lnTo>
                    <a:pt x="3" y="645"/>
                  </a:lnTo>
                  <a:lnTo>
                    <a:pt x="0" y="645"/>
                  </a:lnTo>
                  <a:lnTo>
                    <a:pt x="1" y="642"/>
                  </a:lnTo>
                  <a:lnTo>
                    <a:pt x="5" y="632"/>
                  </a:lnTo>
                  <a:lnTo>
                    <a:pt x="8" y="620"/>
                  </a:lnTo>
                  <a:lnTo>
                    <a:pt x="13" y="609"/>
                  </a:lnTo>
                  <a:lnTo>
                    <a:pt x="20" y="592"/>
                  </a:lnTo>
                  <a:lnTo>
                    <a:pt x="28" y="569"/>
                  </a:lnTo>
                  <a:lnTo>
                    <a:pt x="35" y="542"/>
                  </a:lnTo>
                  <a:lnTo>
                    <a:pt x="38" y="517"/>
                  </a:lnTo>
                  <a:lnTo>
                    <a:pt x="40" y="500"/>
                  </a:lnTo>
                  <a:lnTo>
                    <a:pt x="43" y="489"/>
                  </a:lnTo>
                  <a:lnTo>
                    <a:pt x="50" y="480"/>
                  </a:lnTo>
                  <a:lnTo>
                    <a:pt x="56" y="470"/>
                  </a:lnTo>
                  <a:lnTo>
                    <a:pt x="61" y="457"/>
                  </a:lnTo>
                  <a:lnTo>
                    <a:pt x="65" y="442"/>
                  </a:lnTo>
                  <a:lnTo>
                    <a:pt x="66" y="429"/>
                  </a:lnTo>
                  <a:lnTo>
                    <a:pt x="66" y="424"/>
                  </a:lnTo>
                  <a:lnTo>
                    <a:pt x="232" y="465"/>
                  </a:lnTo>
                  <a:lnTo>
                    <a:pt x="235" y="464"/>
                  </a:lnTo>
                  <a:lnTo>
                    <a:pt x="243" y="457"/>
                  </a:lnTo>
                  <a:lnTo>
                    <a:pt x="257" y="450"/>
                  </a:lnTo>
                  <a:lnTo>
                    <a:pt x="270" y="439"/>
                  </a:lnTo>
                  <a:lnTo>
                    <a:pt x="285" y="429"/>
                  </a:lnTo>
                  <a:lnTo>
                    <a:pt x="298" y="417"/>
                  </a:lnTo>
                  <a:lnTo>
                    <a:pt x="308" y="407"/>
                  </a:lnTo>
                  <a:lnTo>
                    <a:pt x="313" y="399"/>
                  </a:lnTo>
                  <a:lnTo>
                    <a:pt x="318" y="384"/>
                  </a:lnTo>
                  <a:lnTo>
                    <a:pt x="325" y="369"/>
                  </a:lnTo>
                  <a:lnTo>
                    <a:pt x="330" y="357"/>
                  </a:lnTo>
                  <a:lnTo>
                    <a:pt x="332" y="352"/>
                  </a:lnTo>
                  <a:lnTo>
                    <a:pt x="335" y="352"/>
                  </a:lnTo>
                  <a:lnTo>
                    <a:pt x="342" y="352"/>
                  </a:lnTo>
                  <a:lnTo>
                    <a:pt x="353" y="352"/>
                  </a:lnTo>
                  <a:lnTo>
                    <a:pt x="367" y="350"/>
                  </a:lnTo>
                  <a:lnTo>
                    <a:pt x="382" y="350"/>
                  </a:lnTo>
                  <a:lnTo>
                    <a:pt x="398" y="347"/>
                  </a:lnTo>
                  <a:lnTo>
                    <a:pt x="413" y="345"/>
                  </a:lnTo>
                  <a:lnTo>
                    <a:pt x="427" y="342"/>
                  </a:lnTo>
                  <a:lnTo>
                    <a:pt x="438" y="337"/>
                  </a:lnTo>
                  <a:lnTo>
                    <a:pt x="447" y="329"/>
                  </a:lnTo>
                  <a:lnTo>
                    <a:pt x="455" y="319"/>
                  </a:lnTo>
                  <a:lnTo>
                    <a:pt x="462" y="309"/>
                  </a:lnTo>
                  <a:lnTo>
                    <a:pt x="468" y="299"/>
                  </a:lnTo>
                  <a:lnTo>
                    <a:pt x="475" y="290"/>
                  </a:lnTo>
                  <a:lnTo>
                    <a:pt x="483" y="284"/>
                  </a:lnTo>
                  <a:lnTo>
                    <a:pt x="493" y="280"/>
                  </a:lnTo>
                  <a:lnTo>
                    <a:pt x="508" y="275"/>
                  </a:lnTo>
                  <a:lnTo>
                    <a:pt x="513" y="269"/>
                  </a:lnTo>
                  <a:lnTo>
                    <a:pt x="513" y="264"/>
                  </a:lnTo>
                  <a:lnTo>
                    <a:pt x="512" y="262"/>
                  </a:lnTo>
                  <a:lnTo>
                    <a:pt x="380" y="90"/>
                  </a:lnTo>
                  <a:close/>
                </a:path>
              </a:pathLst>
            </a:custGeom>
            <a:solidFill>
              <a:srgbClr val="b2b2b2">
                <a:alpha val="30000"/>
              </a:srgbClr>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437" name="PlaceHolder 1"/>
          <p:cNvSpPr>
            <a:spLocks noGrp="1"/>
          </p:cNvSpPr>
          <p:nvPr>
            <p:ph/>
          </p:nvPr>
        </p:nvSpPr>
        <p:spPr>
          <a:xfrm>
            <a:off x="609480" y="1143000"/>
            <a:ext cx="7848720" cy="5410080"/>
          </a:xfrm>
          <a:prstGeom prst="rect">
            <a:avLst/>
          </a:prstGeom>
          <a:noFill/>
          <a:ln w="0">
            <a:noFill/>
          </a:ln>
        </p:spPr>
        <p:txBody>
          <a:bodyPr lIns="90000" rIns="90000" tIns="46800" bIns="46800" anchor="t">
            <a:normAutofit/>
          </a:bodyPr>
          <a:p>
            <a:pPr lvl="1" marL="988920" indent="-531720">
              <a:lnSpc>
                <a:spcPct val="80000"/>
              </a:lnSpc>
              <a:spcBef>
                <a:spcPts val="499"/>
              </a:spcBef>
              <a:buClr>
                <a:srgbClr val="333399"/>
              </a:buClr>
              <a:buFont typeface="Albertus Medium"/>
              <a:buChar char="•"/>
              <a:tabLst>
                <a:tab algn="l" pos="1158840"/>
                <a:tab algn="l" pos="2073240"/>
                <a:tab algn="l" pos="2987640"/>
                <a:tab algn="l" pos="3902040"/>
                <a:tab algn="l" pos="4816440"/>
                <a:tab algn="l" pos="5730840"/>
                <a:tab algn="l" pos="6645240"/>
                <a:tab algn="l" pos="7559640"/>
                <a:tab algn="l" pos="8474040"/>
                <a:tab algn="l" pos="9388440"/>
                <a:tab algn="l" pos="10302840"/>
                <a:tab algn="l" pos="10515600"/>
              </a:tabLst>
            </a:pPr>
            <a:r>
              <a:rPr b="0" lang="en-US" sz="2000" spc="-1" strike="noStrike">
                <a:solidFill>
                  <a:srgbClr val="333399"/>
                </a:solidFill>
                <a:latin typeface="Albertus Medium"/>
              </a:rPr>
              <a:t>Research studies submitted by Dermatology research group in the field of Nano-biotechnology includes:</a:t>
            </a:r>
            <a:endParaRPr b="0" lang="en-US" sz="2000" spc="-1" strike="noStrike">
              <a:solidFill>
                <a:srgbClr val="000000"/>
              </a:solidFill>
              <a:latin typeface="Arial"/>
            </a:endParaRPr>
          </a:p>
          <a:p>
            <a:pPr lvl="1" marL="988920" indent="0">
              <a:lnSpc>
                <a:spcPct val="80000"/>
              </a:lnSpc>
              <a:spcBef>
                <a:spcPts val="201"/>
              </a:spcBef>
              <a:buNone/>
              <a:tabLst>
                <a:tab algn="l" pos="0"/>
                <a:tab algn="l" pos="1158840"/>
                <a:tab algn="l" pos="2073240"/>
                <a:tab algn="l" pos="2987640"/>
                <a:tab algn="l" pos="3902040"/>
                <a:tab algn="l" pos="4816440"/>
                <a:tab algn="l" pos="5730840"/>
                <a:tab algn="l" pos="6645240"/>
                <a:tab algn="l" pos="7559640"/>
                <a:tab algn="l" pos="8474040"/>
                <a:tab algn="l" pos="9388440"/>
                <a:tab algn="l" pos="10302840"/>
                <a:tab algn="l" pos="10515600"/>
              </a:tabLst>
            </a:pPr>
            <a:endParaRPr b="0" lang="en-US" sz="800" spc="-1" strike="noStrike">
              <a:solidFill>
                <a:srgbClr val="000000"/>
              </a:solidFill>
              <a:latin typeface="Arial"/>
            </a:endParaRPr>
          </a:p>
          <a:p>
            <a:pPr lvl="2" marL="1371600" indent="-457200">
              <a:lnSpc>
                <a:spcPct val="80000"/>
              </a:lnSpc>
              <a:spcBef>
                <a:spcPts val="499"/>
              </a:spcBef>
              <a:buClr>
                <a:srgbClr val="333399"/>
              </a:buClr>
              <a:buFont typeface="Albertus Medium"/>
              <a:buAutoNum type="arabicPeriod"/>
              <a:tabLst>
                <a:tab algn="l" pos="1158840"/>
                <a:tab algn="l" pos="2073240"/>
                <a:tab algn="l" pos="2987640"/>
                <a:tab algn="l" pos="3902040"/>
                <a:tab algn="l" pos="4816440"/>
                <a:tab algn="l" pos="5730840"/>
                <a:tab algn="l" pos="6645240"/>
                <a:tab algn="l" pos="7559640"/>
                <a:tab algn="l" pos="8474040"/>
                <a:tab algn="l" pos="9388440"/>
                <a:tab algn="l" pos="10302840"/>
                <a:tab algn="l" pos="10515600"/>
              </a:tabLst>
            </a:pPr>
            <a:r>
              <a:rPr b="0" lang="en-US" sz="2000" spc="-1" strike="noStrike">
                <a:solidFill>
                  <a:srgbClr val="333399"/>
                </a:solidFill>
                <a:latin typeface="Albertus Medium"/>
              </a:rPr>
              <a:t>Development of Self-cleaning surface.</a:t>
            </a:r>
            <a:endParaRPr b="0" lang="en-US" sz="2000" spc="-1" strike="noStrike">
              <a:solidFill>
                <a:srgbClr val="000000"/>
              </a:solidFill>
              <a:latin typeface="Arial"/>
            </a:endParaRPr>
          </a:p>
          <a:p>
            <a:pPr lvl="2" marL="1371600" indent="0">
              <a:lnSpc>
                <a:spcPct val="80000"/>
              </a:lnSpc>
              <a:spcBef>
                <a:spcPts val="499"/>
              </a:spcBef>
              <a:buNone/>
              <a:tabLst>
                <a:tab algn="l" pos="0"/>
                <a:tab algn="l" pos="1158840"/>
                <a:tab algn="l" pos="2073240"/>
                <a:tab algn="l" pos="2987640"/>
                <a:tab algn="l" pos="3902040"/>
                <a:tab algn="l" pos="4816440"/>
                <a:tab algn="l" pos="5730840"/>
                <a:tab algn="l" pos="6645240"/>
                <a:tab algn="l" pos="7559640"/>
                <a:tab algn="l" pos="8474040"/>
                <a:tab algn="l" pos="9388440"/>
                <a:tab algn="l" pos="10302840"/>
                <a:tab algn="l" pos="10515600"/>
              </a:tabLst>
            </a:pPr>
            <a:r>
              <a:rPr b="0" lang="en-US" sz="2000" spc="-1" strike="noStrike">
                <a:solidFill>
                  <a:srgbClr val="333399"/>
                </a:solidFill>
                <a:latin typeface="Albertus Medium"/>
              </a:rPr>
              <a:t>	</a:t>
            </a:r>
            <a:r>
              <a:rPr b="0" lang="en-US" sz="2000" spc="-1" strike="noStrike">
                <a:solidFill>
                  <a:srgbClr val="333399"/>
                </a:solidFill>
                <a:latin typeface="Albertus Medium"/>
              </a:rPr>
              <a:t>This aim to initialize Nano-Engineering to develop surface that prevent adherence and accumulation of dust, dirt and microbes</a:t>
            </a:r>
            <a:endParaRPr b="0" lang="en-US" sz="2000" spc="-1" strike="noStrike">
              <a:solidFill>
                <a:srgbClr val="000000"/>
              </a:solidFill>
              <a:latin typeface="Arial"/>
            </a:endParaRPr>
          </a:p>
          <a:p>
            <a:pPr lvl="2" marL="1371600" indent="0">
              <a:lnSpc>
                <a:spcPct val="80000"/>
              </a:lnSpc>
              <a:spcBef>
                <a:spcPts val="349"/>
              </a:spcBef>
              <a:buNone/>
              <a:tabLst>
                <a:tab algn="l" pos="0"/>
                <a:tab algn="l" pos="1158840"/>
                <a:tab algn="l" pos="2073240"/>
                <a:tab algn="l" pos="2987640"/>
                <a:tab algn="l" pos="3902040"/>
                <a:tab algn="l" pos="4816440"/>
                <a:tab algn="l" pos="5730840"/>
                <a:tab algn="l" pos="6645240"/>
                <a:tab algn="l" pos="7559640"/>
                <a:tab algn="l" pos="8474040"/>
                <a:tab algn="l" pos="9388440"/>
                <a:tab algn="l" pos="10302840"/>
                <a:tab algn="l" pos="10515600"/>
              </a:tabLst>
            </a:pPr>
            <a:endParaRPr b="0" lang="en-US" sz="1400" spc="-1" strike="noStrike">
              <a:solidFill>
                <a:srgbClr val="000000"/>
              </a:solidFill>
              <a:latin typeface="Arial"/>
            </a:endParaRPr>
          </a:p>
          <a:p>
            <a:pPr lvl="1" marL="988920" indent="-531720">
              <a:lnSpc>
                <a:spcPct val="80000"/>
              </a:lnSpc>
              <a:spcBef>
                <a:spcPts val="499"/>
              </a:spcBef>
              <a:buClr>
                <a:srgbClr val="333399"/>
              </a:buClr>
              <a:buFont typeface="Albertus Medium"/>
              <a:buChar char="•"/>
              <a:tabLst>
                <a:tab algn="l" pos="1158840"/>
                <a:tab algn="l" pos="2073240"/>
                <a:tab algn="l" pos="2987640"/>
                <a:tab algn="l" pos="3902040"/>
                <a:tab algn="l" pos="4816440"/>
                <a:tab algn="l" pos="5730840"/>
                <a:tab algn="l" pos="6645240"/>
                <a:tab algn="l" pos="7559640"/>
                <a:tab algn="l" pos="8474040"/>
                <a:tab algn="l" pos="9388440"/>
                <a:tab algn="l" pos="10302840"/>
                <a:tab algn="l" pos="10515600"/>
              </a:tabLst>
            </a:pPr>
            <a:r>
              <a:rPr b="0" lang="en-US" sz="2000" spc="-1" strike="noStrike">
                <a:solidFill>
                  <a:srgbClr val="333399"/>
                </a:solidFill>
                <a:latin typeface="Albertus Medium"/>
              </a:rPr>
              <a:t>In the field of Allergy Diagnosis</a:t>
            </a:r>
            <a:endParaRPr b="0" lang="en-US" sz="2000" spc="-1" strike="noStrike">
              <a:solidFill>
                <a:srgbClr val="000000"/>
              </a:solidFill>
              <a:latin typeface="Arial"/>
            </a:endParaRPr>
          </a:p>
          <a:p>
            <a:pPr lvl="1" marL="988920" indent="0">
              <a:lnSpc>
                <a:spcPct val="80000"/>
              </a:lnSpc>
              <a:spcBef>
                <a:spcPts val="224"/>
              </a:spcBef>
              <a:buNone/>
              <a:tabLst>
                <a:tab algn="l" pos="0"/>
                <a:tab algn="l" pos="1158840"/>
                <a:tab algn="l" pos="2073240"/>
                <a:tab algn="l" pos="2987640"/>
                <a:tab algn="l" pos="3902040"/>
                <a:tab algn="l" pos="4816440"/>
                <a:tab algn="l" pos="5730840"/>
                <a:tab algn="l" pos="6645240"/>
                <a:tab algn="l" pos="7559640"/>
                <a:tab algn="l" pos="8474040"/>
                <a:tab algn="l" pos="9388440"/>
                <a:tab algn="l" pos="10302840"/>
                <a:tab algn="l" pos="10515600"/>
              </a:tabLst>
            </a:pPr>
            <a:endParaRPr b="0" lang="en-US" sz="900" spc="-1" strike="noStrike">
              <a:solidFill>
                <a:srgbClr val="000000"/>
              </a:solidFill>
              <a:latin typeface="Arial"/>
            </a:endParaRPr>
          </a:p>
          <a:p>
            <a:pPr lvl="2" marL="1371600" indent="-457200">
              <a:lnSpc>
                <a:spcPct val="80000"/>
              </a:lnSpc>
              <a:spcBef>
                <a:spcPts val="499"/>
              </a:spcBef>
              <a:buClr>
                <a:srgbClr val="333399"/>
              </a:buClr>
              <a:buFont typeface="Albertus Medium"/>
              <a:buAutoNum type="arabicPeriod" startAt="2"/>
              <a:tabLst>
                <a:tab algn="l" pos="1158840"/>
                <a:tab algn="l" pos="2073240"/>
                <a:tab algn="l" pos="2987640"/>
                <a:tab algn="l" pos="3902040"/>
                <a:tab algn="l" pos="4816440"/>
                <a:tab algn="l" pos="5730840"/>
                <a:tab algn="l" pos="6645240"/>
                <a:tab algn="l" pos="7559640"/>
                <a:tab algn="l" pos="8474040"/>
                <a:tab algn="l" pos="9388440"/>
                <a:tab algn="l" pos="10302840"/>
                <a:tab algn="l" pos="10515600"/>
              </a:tabLst>
            </a:pPr>
            <a:r>
              <a:rPr b="0" lang="en-US" sz="2000" spc="-1" strike="noStrike">
                <a:solidFill>
                  <a:srgbClr val="333399"/>
                </a:solidFill>
                <a:latin typeface="Albertus Medium"/>
              </a:rPr>
              <a:t>Comparison of Nano-prepared allergen extracts with conventional extracts in diagnosis of type I allergy by the skin prick test.</a:t>
            </a:r>
            <a:endParaRPr b="0" lang="en-US" sz="2000" spc="-1" strike="noStrike">
              <a:solidFill>
                <a:srgbClr val="000000"/>
              </a:solidFill>
              <a:latin typeface="Arial"/>
            </a:endParaRPr>
          </a:p>
          <a:p>
            <a:pPr lvl="2" marL="1371600" indent="0">
              <a:lnSpc>
                <a:spcPct val="80000"/>
              </a:lnSpc>
              <a:spcBef>
                <a:spcPts val="499"/>
              </a:spcBef>
              <a:buNone/>
              <a:tabLst>
                <a:tab algn="l" pos="0"/>
                <a:tab algn="l" pos="1158840"/>
                <a:tab algn="l" pos="2073240"/>
                <a:tab algn="l" pos="2987640"/>
                <a:tab algn="l" pos="3902040"/>
                <a:tab algn="l" pos="4816440"/>
                <a:tab algn="l" pos="5730840"/>
                <a:tab algn="l" pos="6645240"/>
                <a:tab algn="l" pos="7559640"/>
                <a:tab algn="l" pos="8474040"/>
                <a:tab algn="l" pos="9388440"/>
                <a:tab algn="l" pos="10302840"/>
                <a:tab algn="l" pos="10515600"/>
              </a:tabLst>
            </a:pPr>
            <a:r>
              <a:rPr b="0" lang="en-US" sz="2000" spc="-1" strike="noStrike">
                <a:solidFill>
                  <a:srgbClr val="333399"/>
                </a:solidFill>
                <a:latin typeface="Albertus Medium"/>
              </a:rPr>
              <a:t>	</a:t>
            </a:r>
            <a:r>
              <a:rPr b="0" lang="en-US" sz="2000" spc="-1" strike="noStrike">
                <a:solidFill>
                  <a:srgbClr val="333399"/>
                </a:solidFill>
                <a:latin typeface="Albertus Medium"/>
              </a:rPr>
              <a:t>This aim to utilize the high specification and penetration of nano-prepared extracts. </a:t>
            </a:r>
            <a:endParaRPr b="0" lang="en-US" sz="2000" spc="-1" strike="noStrike">
              <a:solidFill>
                <a:srgbClr val="000000"/>
              </a:solidFill>
              <a:latin typeface="Arial"/>
            </a:endParaRPr>
          </a:p>
          <a:p>
            <a:pPr lvl="2" marL="1371600" indent="0">
              <a:lnSpc>
                <a:spcPct val="80000"/>
              </a:lnSpc>
              <a:spcBef>
                <a:spcPts val="499"/>
              </a:spcBef>
              <a:buNone/>
              <a:tabLst>
                <a:tab algn="l" pos="0"/>
                <a:tab algn="l" pos="1158840"/>
                <a:tab algn="l" pos="2073240"/>
                <a:tab algn="l" pos="2987640"/>
                <a:tab algn="l" pos="3902040"/>
                <a:tab algn="l" pos="4816440"/>
                <a:tab algn="l" pos="5730840"/>
                <a:tab algn="l" pos="6645240"/>
                <a:tab algn="l" pos="7559640"/>
                <a:tab algn="l" pos="8474040"/>
                <a:tab algn="l" pos="9388440"/>
                <a:tab algn="l" pos="10302840"/>
                <a:tab algn="l" pos="10515600"/>
              </a:tabLst>
            </a:pPr>
            <a:r>
              <a:rPr b="0" lang="en-US" sz="2000" spc="-1" strike="noStrike">
                <a:solidFill>
                  <a:srgbClr val="333399"/>
                </a:solidFill>
                <a:latin typeface="Albertus Medium"/>
              </a:rPr>
              <a:t>	</a:t>
            </a:r>
            <a:r>
              <a:rPr b="1" lang="en-US" sz="2000" spc="-1" strike="noStrike" u="sng">
                <a:solidFill>
                  <a:srgbClr val="333399"/>
                </a:solidFill>
                <a:uFillTx/>
                <a:latin typeface="Albertus Medium"/>
              </a:rPr>
              <a:t>In preparation:</a:t>
            </a:r>
            <a:r>
              <a:rPr b="0" lang="en-US" sz="2000" spc="-1" strike="noStrike">
                <a:solidFill>
                  <a:srgbClr val="333399"/>
                </a:solidFill>
                <a:latin typeface="Albertus Medium"/>
              </a:rPr>
              <a:t> </a:t>
            </a:r>
            <a:endParaRPr b="0" lang="en-US" sz="2000" spc="-1" strike="noStrike">
              <a:solidFill>
                <a:srgbClr val="000000"/>
              </a:solidFill>
              <a:latin typeface="Arial"/>
            </a:endParaRPr>
          </a:p>
          <a:p>
            <a:pPr lvl="2" marL="1371600" indent="0">
              <a:lnSpc>
                <a:spcPct val="80000"/>
              </a:lnSpc>
              <a:spcBef>
                <a:spcPts val="499"/>
              </a:spcBef>
              <a:buNone/>
              <a:tabLst>
                <a:tab algn="l" pos="0"/>
                <a:tab algn="l" pos="1158840"/>
                <a:tab algn="l" pos="2073240"/>
                <a:tab algn="l" pos="2987640"/>
                <a:tab algn="l" pos="3902040"/>
                <a:tab algn="l" pos="4816440"/>
                <a:tab algn="l" pos="5730840"/>
                <a:tab algn="l" pos="6645240"/>
                <a:tab algn="l" pos="7559640"/>
                <a:tab algn="l" pos="8474040"/>
                <a:tab algn="l" pos="9388440"/>
                <a:tab algn="l" pos="10302840"/>
                <a:tab algn="l" pos="10515600"/>
              </a:tabLst>
            </a:pPr>
            <a:r>
              <a:rPr b="0" lang="en-US" sz="2000" spc="-1" strike="noStrike">
                <a:solidFill>
                  <a:srgbClr val="000000"/>
                </a:solidFill>
                <a:latin typeface="Arial"/>
              </a:rPr>
              <a:t>	</a:t>
            </a:r>
            <a:r>
              <a:rPr b="0" lang="en-US" sz="2000" spc="-1" strike="noStrike">
                <a:solidFill>
                  <a:srgbClr val="333399"/>
                </a:solidFill>
                <a:latin typeface="Albertus Medium"/>
              </a:rPr>
              <a:t>Prof. Mohamed Osman Gad El Rab </a:t>
            </a:r>
            <a:endParaRPr b="0" lang="en-US" sz="2000" spc="-1" strike="noStrike">
              <a:solidFill>
                <a:srgbClr val="000000"/>
              </a:solidFill>
              <a:latin typeface="Arial"/>
            </a:endParaRPr>
          </a:p>
          <a:p>
            <a:pPr lvl="2" marL="1371600" indent="0">
              <a:lnSpc>
                <a:spcPct val="80000"/>
              </a:lnSpc>
              <a:spcBef>
                <a:spcPts val="499"/>
              </a:spcBef>
              <a:buNone/>
              <a:tabLst>
                <a:tab algn="l" pos="0"/>
                <a:tab algn="l" pos="1158840"/>
                <a:tab algn="l" pos="2073240"/>
                <a:tab algn="l" pos="2987640"/>
                <a:tab algn="l" pos="3902040"/>
                <a:tab algn="l" pos="4816440"/>
                <a:tab algn="l" pos="5730840"/>
                <a:tab algn="l" pos="6645240"/>
                <a:tab algn="l" pos="7559640"/>
                <a:tab algn="l" pos="8474040"/>
                <a:tab algn="l" pos="9388440"/>
                <a:tab algn="l" pos="10302840"/>
                <a:tab algn="l" pos="10515600"/>
              </a:tabLst>
            </a:pPr>
            <a:r>
              <a:rPr b="0" lang="en-US" sz="2000" spc="-1" strike="noStrike">
                <a:solidFill>
                  <a:srgbClr val="333399"/>
                </a:solidFill>
                <a:latin typeface="Albertus Medium"/>
              </a:rPr>
              <a:t>	</a:t>
            </a:r>
            <a:r>
              <a:rPr b="0" lang="en-US" sz="2000" spc="-1" strike="noStrike">
                <a:solidFill>
                  <a:srgbClr val="333399"/>
                </a:solidFill>
                <a:latin typeface="Albertus Medium"/>
              </a:rPr>
              <a:t>Omar Abdulaziz Al-Sheikh, MD</a:t>
            </a:r>
            <a:endParaRPr b="0" lang="en-US" sz="2000" spc="-1" strike="noStrike">
              <a:solidFill>
                <a:srgbClr val="000000"/>
              </a:solidFill>
              <a:latin typeface="Arial"/>
            </a:endParaRPr>
          </a:p>
          <a:p>
            <a:pPr lvl="2" marL="1371600" indent="0">
              <a:lnSpc>
                <a:spcPct val="80000"/>
              </a:lnSpc>
              <a:spcBef>
                <a:spcPts val="499"/>
              </a:spcBef>
              <a:buNone/>
              <a:tabLst>
                <a:tab algn="l" pos="0"/>
                <a:tab algn="l" pos="1158840"/>
                <a:tab algn="l" pos="2073240"/>
                <a:tab algn="l" pos="2987640"/>
                <a:tab algn="l" pos="3902040"/>
                <a:tab algn="l" pos="4816440"/>
                <a:tab algn="l" pos="5730840"/>
                <a:tab algn="l" pos="6645240"/>
                <a:tab algn="l" pos="7559640"/>
                <a:tab algn="l" pos="8474040"/>
                <a:tab algn="l" pos="9388440"/>
                <a:tab algn="l" pos="10302840"/>
                <a:tab algn="l" pos="10515600"/>
              </a:tabLst>
            </a:pPr>
            <a:r>
              <a:rPr b="0" lang="en-US" sz="2000" spc="-1" strike="noStrike">
                <a:solidFill>
                  <a:srgbClr val="333399"/>
                </a:solidFill>
                <a:latin typeface="Albertus Medium"/>
              </a:rPr>
              <a:t>	</a:t>
            </a:r>
            <a:r>
              <a:rPr b="0" lang="en-US" sz="2000" spc="-1" strike="noStrike">
                <a:solidFill>
                  <a:srgbClr val="333399"/>
                </a:solidFill>
                <a:latin typeface="Albertus Medium"/>
              </a:rPr>
              <a:t>Dr. Sohaib Mukhtar Agouba </a:t>
            </a:r>
            <a:endParaRPr b="0" lang="en-US" sz="2000" spc="-1" strike="noStrike">
              <a:solidFill>
                <a:srgbClr val="000000"/>
              </a:solidFill>
              <a:latin typeface="Arial"/>
            </a:endParaRPr>
          </a:p>
          <a:p>
            <a:pPr lvl="2" marL="1371600" indent="0">
              <a:lnSpc>
                <a:spcPct val="80000"/>
              </a:lnSpc>
              <a:spcBef>
                <a:spcPts val="499"/>
              </a:spcBef>
              <a:buNone/>
              <a:tabLst>
                <a:tab algn="l" pos="0"/>
                <a:tab algn="l" pos="1158840"/>
                <a:tab algn="l" pos="2073240"/>
                <a:tab algn="l" pos="2987640"/>
                <a:tab algn="l" pos="3902040"/>
                <a:tab algn="l" pos="4816440"/>
                <a:tab algn="l" pos="5730840"/>
                <a:tab algn="l" pos="6645240"/>
                <a:tab algn="l" pos="7559640"/>
                <a:tab algn="l" pos="8474040"/>
                <a:tab algn="l" pos="9388440"/>
                <a:tab algn="l" pos="10302840"/>
                <a:tab algn="l" pos="10515600"/>
              </a:tabLst>
            </a:pPr>
            <a:r>
              <a:rPr b="0" lang="en-US" sz="2000" spc="-1" strike="noStrike">
                <a:solidFill>
                  <a:srgbClr val="333399"/>
                </a:solidFill>
                <a:latin typeface="Albertus Medium"/>
              </a:rPr>
              <a:t>	</a:t>
            </a:r>
            <a:r>
              <a:rPr b="0" lang="en-US" sz="2000" spc="-1" strike="noStrike">
                <a:solidFill>
                  <a:srgbClr val="333399"/>
                </a:solidFill>
                <a:latin typeface="Albertus Medium"/>
              </a:rPr>
              <a:t>Dr. Hind Al Otaibi</a:t>
            </a:r>
            <a:r>
              <a:rPr b="0" lang="en-US" sz="2000" spc="-1" strike="noStrike">
                <a:solidFill>
                  <a:srgbClr val="333399"/>
                </a:solidFill>
                <a:latin typeface="Albertus Medium"/>
              </a:rPr>
              <a:t>	</a:t>
            </a:r>
            <a:endParaRPr b="0" lang="en-US" sz="2000" spc="-1" strike="noStrike">
              <a:solidFill>
                <a:srgbClr val="000000"/>
              </a:solidFill>
              <a:latin typeface="Arial"/>
            </a:endParaRPr>
          </a:p>
          <a:p>
            <a:pPr lvl="2" marL="1371600" indent="0">
              <a:lnSpc>
                <a:spcPct val="80000"/>
              </a:lnSpc>
              <a:spcBef>
                <a:spcPts val="499"/>
              </a:spcBef>
              <a:buNone/>
              <a:tabLst>
                <a:tab algn="l" pos="0"/>
                <a:tab algn="l" pos="1158840"/>
                <a:tab algn="l" pos="2073240"/>
                <a:tab algn="l" pos="2987640"/>
                <a:tab algn="l" pos="3902040"/>
                <a:tab algn="l" pos="4816440"/>
                <a:tab algn="l" pos="5730840"/>
                <a:tab algn="l" pos="6645240"/>
                <a:tab algn="l" pos="7559640"/>
                <a:tab algn="l" pos="8474040"/>
                <a:tab algn="l" pos="9388440"/>
                <a:tab algn="l" pos="10302840"/>
                <a:tab algn="l" pos="10515600"/>
              </a:tabLst>
            </a:pPr>
            <a:endParaRPr b="0" lang="en-US" sz="2000" spc="-1" strike="noStrike">
              <a:solidFill>
                <a:srgbClr val="000000"/>
              </a:solidFill>
              <a:latin typeface="Arial"/>
            </a:endParaRPr>
          </a:p>
        </p:txBody>
      </p:sp>
      <p:sp>
        <p:nvSpPr>
          <p:cNvPr id="438" name=""/>
          <p:cNvSpPr/>
          <p:nvPr/>
        </p:nvSpPr>
        <p:spPr>
          <a:xfrm>
            <a:off x="609480" y="6629400"/>
            <a:ext cx="8534520" cy="228600"/>
          </a:xfrm>
          <a:prstGeom prst="rect">
            <a:avLst/>
          </a:prstGeom>
          <a:solidFill>
            <a:srgbClr val="bbe0e3"/>
          </a:solidFill>
          <a:ln cap="sq"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99"/>
                </a:solidFill>
                <a:latin typeface="Albertus Medium"/>
              </a:rPr>
              <a:t>www.skinandallergy.org</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0" lang="en-US" sz="1000" spc="-1" strike="noStrike">
                <a:solidFill>
                  <a:srgbClr val="333399"/>
                </a:solidFill>
                <a:latin typeface="Albertus Medium"/>
              </a:rPr>
              <a:t>www.panarabderm.org</a:t>
            </a:r>
            <a:endParaRPr b="0" lang="en-US" sz="1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2" name="" descr=""/>
          <p:cNvPicPr/>
          <p:nvPr/>
        </p:nvPicPr>
        <p:blipFill>
          <a:blip r:embed="rId2"/>
          <a:stretch/>
        </p:blipFill>
        <p:spPr>
          <a:xfrm>
            <a:off x="8153280" y="74520"/>
            <a:ext cx="922320" cy="992160"/>
          </a:xfrm>
          <a:prstGeom prst="rect">
            <a:avLst/>
          </a:prstGeom>
          <a:ln w="0">
            <a:noFill/>
          </a:ln>
        </p:spPr>
      </p:pic>
      <p:sp>
        <p:nvSpPr>
          <p:cNvPr id="73" name=""/>
          <p:cNvSpPr/>
          <p:nvPr/>
        </p:nvSpPr>
        <p:spPr>
          <a:xfrm>
            <a:off x="1295280" y="1066680"/>
            <a:ext cx="6193080" cy="1800"/>
          </a:xfrm>
          <a:prstGeom prst="line">
            <a:avLst/>
          </a:prstGeom>
          <a:ln cap="sq" w="12600">
            <a:solidFill>
              <a:srgbClr val="b2b2b2"/>
            </a:solidFill>
            <a:miter/>
          </a:ln>
        </p:spPr>
        <p:style>
          <a:lnRef idx="0"/>
          <a:fillRef idx="0"/>
          <a:effectRef idx="0"/>
          <a:fontRef idx="minor"/>
        </p:style>
        <p:txBody>
          <a:bodyPr lIns="90000" rIns="90000" tIns="-45000" bIns="-45000" anchor="t">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74" name="" descr=""/>
          <p:cNvPicPr/>
          <p:nvPr/>
        </p:nvPicPr>
        <p:blipFill>
          <a:blip r:embed="rId3"/>
          <a:stretch/>
        </p:blipFill>
        <p:spPr>
          <a:xfrm>
            <a:off x="0" y="0"/>
            <a:ext cx="600120" cy="6858000"/>
          </a:xfrm>
          <a:prstGeom prst="rect">
            <a:avLst/>
          </a:prstGeom>
          <a:ln w="0">
            <a:noFill/>
          </a:ln>
        </p:spPr>
      </p:pic>
      <p:grpSp>
        <p:nvGrpSpPr>
          <p:cNvPr id="75" name=""/>
          <p:cNvGrpSpPr/>
          <p:nvPr/>
        </p:nvGrpSpPr>
        <p:grpSpPr>
          <a:xfrm>
            <a:off x="2639880" y="1803240"/>
            <a:ext cx="4521240" cy="3986280"/>
            <a:chOff x="2639880" y="1803240"/>
            <a:chExt cx="4521240" cy="3986280"/>
          </a:xfrm>
        </p:grpSpPr>
        <p:sp>
          <p:nvSpPr>
            <p:cNvPr id="76" name=""/>
            <p:cNvSpPr/>
            <p:nvPr/>
          </p:nvSpPr>
          <p:spPr>
            <a:xfrm>
              <a:off x="2639880" y="2776680"/>
              <a:ext cx="1721160" cy="3012840"/>
            </a:xfrm>
            <a:custGeom>
              <a:avLst/>
              <a:gdLst/>
              <a:ahLst/>
              <a:rect l="l" t="t" r="r" b="b"/>
              <a:pathLst>
                <a:path w="1261" h="2255">
                  <a:moveTo>
                    <a:pt x="1257" y="2027"/>
                  </a:moveTo>
                  <a:lnTo>
                    <a:pt x="1257" y="2015"/>
                  </a:lnTo>
                  <a:lnTo>
                    <a:pt x="1252" y="2000"/>
                  </a:lnTo>
                  <a:lnTo>
                    <a:pt x="1244" y="1985"/>
                  </a:lnTo>
                  <a:lnTo>
                    <a:pt x="1232" y="1970"/>
                  </a:lnTo>
                  <a:lnTo>
                    <a:pt x="1222" y="1956"/>
                  </a:lnTo>
                  <a:lnTo>
                    <a:pt x="1212" y="1945"/>
                  </a:lnTo>
                  <a:lnTo>
                    <a:pt x="1204" y="1933"/>
                  </a:lnTo>
                  <a:lnTo>
                    <a:pt x="1199" y="1921"/>
                  </a:lnTo>
                  <a:lnTo>
                    <a:pt x="1197" y="1910"/>
                  </a:lnTo>
                  <a:lnTo>
                    <a:pt x="1192" y="1893"/>
                  </a:lnTo>
                  <a:lnTo>
                    <a:pt x="1186" y="1876"/>
                  </a:lnTo>
                  <a:lnTo>
                    <a:pt x="1171" y="1860"/>
                  </a:lnTo>
                  <a:lnTo>
                    <a:pt x="1161" y="1851"/>
                  </a:lnTo>
                  <a:lnTo>
                    <a:pt x="1147" y="1838"/>
                  </a:lnTo>
                  <a:lnTo>
                    <a:pt x="1132" y="1823"/>
                  </a:lnTo>
                  <a:lnTo>
                    <a:pt x="1117" y="1806"/>
                  </a:lnTo>
                  <a:lnTo>
                    <a:pt x="1102" y="1788"/>
                  </a:lnTo>
                  <a:lnTo>
                    <a:pt x="1087" y="1770"/>
                  </a:lnTo>
                  <a:lnTo>
                    <a:pt x="1076" y="1750"/>
                  </a:lnTo>
                  <a:lnTo>
                    <a:pt x="1067" y="1731"/>
                  </a:lnTo>
                  <a:lnTo>
                    <a:pt x="1052" y="1703"/>
                  </a:lnTo>
                  <a:lnTo>
                    <a:pt x="1037" y="1681"/>
                  </a:lnTo>
                  <a:lnTo>
                    <a:pt x="1026" y="1665"/>
                  </a:lnTo>
                  <a:lnTo>
                    <a:pt x="1019" y="1646"/>
                  </a:lnTo>
                  <a:lnTo>
                    <a:pt x="1016" y="1633"/>
                  </a:lnTo>
                  <a:lnTo>
                    <a:pt x="1009" y="1613"/>
                  </a:lnTo>
                  <a:lnTo>
                    <a:pt x="999" y="1591"/>
                  </a:lnTo>
                  <a:lnTo>
                    <a:pt x="989" y="1568"/>
                  </a:lnTo>
                  <a:lnTo>
                    <a:pt x="979" y="1545"/>
                  </a:lnTo>
                  <a:lnTo>
                    <a:pt x="969" y="1525"/>
                  </a:lnTo>
                  <a:lnTo>
                    <a:pt x="959" y="1508"/>
                  </a:lnTo>
                  <a:lnTo>
                    <a:pt x="952" y="1499"/>
                  </a:lnTo>
                  <a:lnTo>
                    <a:pt x="942" y="1486"/>
                  </a:lnTo>
                  <a:lnTo>
                    <a:pt x="934" y="1473"/>
                  </a:lnTo>
                  <a:lnTo>
                    <a:pt x="922" y="1458"/>
                  </a:lnTo>
                  <a:lnTo>
                    <a:pt x="911" y="1443"/>
                  </a:lnTo>
                  <a:lnTo>
                    <a:pt x="902" y="1434"/>
                  </a:lnTo>
                  <a:lnTo>
                    <a:pt x="891" y="1426"/>
                  </a:lnTo>
                  <a:lnTo>
                    <a:pt x="879" y="1419"/>
                  </a:lnTo>
                  <a:lnTo>
                    <a:pt x="867" y="1411"/>
                  </a:lnTo>
                  <a:lnTo>
                    <a:pt x="854" y="1404"/>
                  </a:lnTo>
                  <a:lnTo>
                    <a:pt x="842" y="1399"/>
                  </a:lnTo>
                  <a:lnTo>
                    <a:pt x="831" y="1396"/>
                  </a:lnTo>
                  <a:lnTo>
                    <a:pt x="820" y="1394"/>
                  </a:lnTo>
                  <a:lnTo>
                    <a:pt x="812" y="1393"/>
                  </a:lnTo>
                  <a:lnTo>
                    <a:pt x="805" y="1389"/>
                  </a:lnTo>
                  <a:lnTo>
                    <a:pt x="800" y="1384"/>
                  </a:lnTo>
                  <a:lnTo>
                    <a:pt x="794" y="1376"/>
                  </a:lnTo>
                  <a:lnTo>
                    <a:pt x="789" y="1368"/>
                  </a:lnTo>
                  <a:lnTo>
                    <a:pt x="782" y="1354"/>
                  </a:lnTo>
                  <a:lnTo>
                    <a:pt x="774" y="1341"/>
                  </a:lnTo>
                  <a:lnTo>
                    <a:pt x="762" y="1324"/>
                  </a:lnTo>
                  <a:lnTo>
                    <a:pt x="750" y="1306"/>
                  </a:lnTo>
                  <a:lnTo>
                    <a:pt x="740" y="1288"/>
                  </a:lnTo>
                  <a:lnTo>
                    <a:pt x="732" y="1269"/>
                  </a:lnTo>
                  <a:lnTo>
                    <a:pt x="724" y="1253"/>
                  </a:lnTo>
                  <a:lnTo>
                    <a:pt x="717" y="1234"/>
                  </a:lnTo>
                  <a:lnTo>
                    <a:pt x="712" y="1219"/>
                  </a:lnTo>
                  <a:lnTo>
                    <a:pt x="709" y="1204"/>
                  </a:lnTo>
                  <a:lnTo>
                    <a:pt x="705" y="1191"/>
                  </a:lnTo>
                  <a:lnTo>
                    <a:pt x="700" y="1166"/>
                  </a:lnTo>
                  <a:lnTo>
                    <a:pt x="692" y="1143"/>
                  </a:lnTo>
                  <a:lnTo>
                    <a:pt x="685" y="1126"/>
                  </a:lnTo>
                  <a:lnTo>
                    <a:pt x="682" y="1119"/>
                  </a:lnTo>
                  <a:lnTo>
                    <a:pt x="689" y="1108"/>
                  </a:lnTo>
                  <a:lnTo>
                    <a:pt x="700" y="1078"/>
                  </a:lnTo>
                  <a:lnTo>
                    <a:pt x="707" y="1038"/>
                  </a:lnTo>
                  <a:lnTo>
                    <a:pt x="697" y="996"/>
                  </a:lnTo>
                  <a:lnTo>
                    <a:pt x="680" y="961"/>
                  </a:lnTo>
                  <a:lnTo>
                    <a:pt x="670" y="932"/>
                  </a:lnTo>
                  <a:lnTo>
                    <a:pt x="662" y="904"/>
                  </a:lnTo>
                  <a:lnTo>
                    <a:pt x="649" y="872"/>
                  </a:lnTo>
                  <a:lnTo>
                    <a:pt x="640" y="856"/>
                  </a:lnTo>
                  <a:lnTo>
                    <a:pt x="635" y="839"/>
                  </a:lnTo>
                  <a:lnTo>
                    <a:pt x="630" y="826"/>
                  </a:lnTo>
                  <a:lnTo>
                    <a:pt x="625" y="814"/>
                  </a:lnTo>
                  <a:lnTo>
                    <a:pt x="620" y="802"/>
                  </a:lnTo>
                  <a:lnTo>
                    <a:pt x="614" y="792"/>
                  </a:lnTo>
                  <a:lnTo>
                    <a:pt x="607" y="784"/>
                  </a:lnTo>
                  <a:lnTo>
                    <a:pt x="597" y="777"/>
                  </a:lnTo>
                  <a:lnTo>
                    <a:pt x="587" y="771"/>
                  </a:lnTo>
                  <a:lnTo>
                    <a:pt x="575" y="762"/>
                  </a:lnTo>
                  <a:lnTo>
                    <a:pt x="565" y="754"/>
                  </a:lnTo>
                  <a:lnTo>
                    <a:pt x="554" y="744"/>
                  </a:lnTo>
                  <a:lnTo>
                    <a:pt x="542" y="736"/>
                  </a:lnTo>
                  <a:lnTo>
                    <a:pt x="529" y="729"/>
                  </a:lnTo>
                  <a:lnTo>
                    <a:pt x="515" y="721"/>
                  </a:lnTo>
                  <a:lnTo>
                    <a:pt x="502" y="716"/>
                  </a:lnTo>
                  <a:lnTo>
                    <a:pt x="480" y="702"/>
                  </a:lnTo>
                  <a:lnTo>
                    <a:pt x="470" y="686"/>
                  </a:lnTo>
                  <a:lnTo>
                    <a:pt x="464" y="667"/>
                  </a:lnTo>
                  <a:lnTo>
                    <a:pt x="454" y="649"/>
                  </a:lnTo>
                  <a:lnTo>
                    <a:pt x="444" y="634"/>
                  </a:lnTo>
                  <a:lnTo>
                    <a:pt x="437" y="621"/>
                  </a:lnTo>
                  <a:lnTo>
                    <a:pt x="435" y="611"/>
                  </a:lnTo>
                  <a:lnTo>
                    <a:pt x="435" y="607"/>
                  </a:lnTo>
                  <a:lnTo>
                    <a:pt x="437" y="607"/>
                  </a:lnTo>
                  <a:lnTo>
                    <a:pt x="442" y="606"/>
                  </a:lnTo>
                  <a:lnTo>
                    <a:pt x="449" y="602"/>
                  </a:lnTo>
                  <a:lnTo>
                    <a:pt x="455" y="596"/>
                  </a:lnTo>
                  <a:lnTo>
                    <a:pt x="459" y="589"/>
                  </a:lnTo>
                  <a:lnTo>
                    <a:pt x="459" y="577"/>
                  </a:lnTo>
                  <a:lnTo>
                    <a:pt x="454" y="564"/>
                  </a:lnTo>
                  <a:lnTo>
                    <a:pt x="440" y="546"/>
                  </a:lnTo>
                  <a:lnTo>
                    <a:pt x="434" y="539"/>
                  </a:lnTo>
                  <a:lnTo>
                    <a:pt x="429" y="532"/>
                  </a:lnTo>
                  <a:lnTo>
                    <a:pt x="424" y="529"/>
                  </a:lnTo>
                  <a:lnTo>
                    <a:pt x="420" y="526"/>
                  </a:lnTo>
                  <a:lnTo>
                    <a:pt x="419" y="527"/>
                  </a:lnTo>
                  <a:lnTo>
                    <a:pt x="415" y="526"/>
                  </a:lnTo>
                  <a:lnTo>
                    <a:pt x="415" y="522"/>
                  </a:lnTo>
                  <a:lnTo>
                    <a:pt x="420" y="526"/>
                  </a:lnTo>
                  <a:lnTo>
                    <a:pt x="420" y="524"/>
                  </a:lnTo>
                  <a:lnTo>
                    <a:pt x="419" y="521"/>
                  </a:lnTo>
                  <a:lnTo>
                    <a:pt x="419" y="517"/>
                  </a:lnTo>
                  <a:lnTo>
                    <a:pt x="417" y="512"/>
                  </a:lnTo>
                  <a:lnTo>
                    <a:pt x="409" y="490"/>
                  </a:lnTo>
                  <a:lnTo>
                    <a:pt x="405" y="477"/>
                  </a:lnTo>
                  <a:lnTo>
                    <a:pt x="399" y="467"/>
                  </a:lnTo>
                  <a:lnTo>
                    <a:pt x="384" y="455"/>
                  </a:lnTo>
                  <a:lnTo>
                    <a:pt x="372" y="440"/>
                  </a:lnTo>
                  <a:lnTo>
                    <a:pt x="374" y="425"/>
                  </a:lnTo>
                  <a:lnTo>
                    <a:pt x="375" y="412"/>
                  </a:lnTo>
                  <a:lnTo>
                    <a:pt x="364" y="399"/>
                  </a:lnTo>
                  <a:lnTo>
                    <a:pt x="345" y="387"/>
                  </a:lnTo>
                  <a:lnTo>
                    <a:pt x="332" y="372"/>
                  </a:lnTo>
                  <a:lnTo>
                    <a:pt x="325" y="355"/>
                  </a:lnTo>
                  <a:lnTo>
                    <a:pt x="322" y="337"/>
                  </a:lnTo>
                  <a:lnTo>
                    <a:pt x="319" y="317"/>
                  </a:lnTo>
                  <a:lnTo>
                    <a:pt x="309" y="290"/>
                  </a:lnTo>
                  <a:lnTo>
                    <a:pt x="294" y="264"/>
                  </a:lnTo>
                  <a:lnTo>
                    <a:pt x="273" y="237"/>
                  </a:lnTo>
                  <a:lnTo>
                    <a:pt x="260" y="215"/>
                  </a:lnTo>
                  <a:lnTo>
                    <a:pt x="257" y="197"/>
                  </a:lnTo>
                  <a:lnTo>
                    <a:pt x="255" y="184"/>
                  </a:lnTo>
                  <a:lnTo>
                    <a:pt x="245" y="175"/>
                  </a:lnTo>
                  <a:lnTo>
                    <a:pt x="233" y="167"/>
                  </a:lnTo>
                  <a:lnTo>
                    <a:pt x="228" y="154"/>
                  </a:lnTo>
                  <a:lnTo>
                    <a:pt x="222" y="140"/>
                  </a:lnTo>
                  <a:lnTo>
                    <a:pt x="207" y="124"/>
                  </a:lnTo>
                  <a:lnTo>
                    <a:pt x="188" y="100"/>
                  </a:lnTo>
                  <a:lnTo>
                    <a:pt x="175" y="74"/>
                  </a:lnTo>
                  <a:lnTo>
                    <a:pt x="168" y="52"/>
                  </a:lnTo>
                  <a:lnTo>
                    <a:pt x="165" y="42"/>
                  </a:lnTo>
                  <a:lnTo>
                    <a:pt x="160" y="42"/>
                  </a:lnTo>
                  <a:lnTo>
                    <a:pt x="148" y="42"/>
                  </a:lnTo>
                  <a:lnTo>
                    <a:pt x="133" y="42"/>
                  </a:lnTo>
                  <a:lnTo>
                    <a:pt x="122" y="42"/>
                  </a:lnTo>
                  <a:lnTo>
                    <a:pt x="110" y="42"/>
                  </a:lnTo>
                  <a:lnTo>
                    <a:pt x="100" y="44"/>
                  </a:lnTo>
                  <a:lnTo>
                    <a:pt x="92" y="47"/>
                  </a:lnTo>
                  <a:lnTo>
                    <a:pt x="88" y="47"/>
                  </a:lnTo>
                  <a:lnTo>
                    <a:pt x="90" y="44"/>
                  </a:lnTo>
                  <a:lnTo>
                    <a:pt x="93" y="34"/>
                  </a:lnTo>
                  <a:lnTo>
                    <a:pt x="98" y="20"/>
                  </a:lnTo>
                  <a:lnTo>
                    <a:pt x="103" y="8"/>
                  </a:lnTo>
                  <a:lnTo>
                    <a:pt x="103" y="8"/>
                  </a:lnTo>
                  <a:lnTo>
                    <a:pt x="103" y="8"/>
                  </a:lnTo>
                  <a:lnTo>
                    <a:pt x="103" y="8"/>
                  </a:lnTo>
                  <a:lnTo>
                    <a:pt x="103" y="8"/>
                  </a:lnTo>
                  <a:lnTo>
                    <a:pt x="67" y="0"/>
                  </a:lnTo>
                  <a:lnTo>
                    <a:pt x="67" y="5"/>
                  </a:lnTo>
                  <a:lnTo>
                    <a:pt x="65" y="19"/>
                  </a:lnTo>
                  <a:lnTo>
                    <a:pt x="62" y="34"/>
                  </a:lnTo>
                  <a:lnTo>
                    <a:pt x="57" y="47"/>
                  </a:lnTo>
                  <a:lnTo>
                    <a:pt x="50" y="57"/>
                  </a:lnTo>
                  <a:lnTo>
                    <a:pt x="45" y="65"/>
                  </a:lnTo>
                  <a:lnTo>
                    <a:pt x="40" y="79"/>
                  </a:lnTo>
                  <a:lnTo>
                    <a:pt x="38" y="95"/>
                  </a:lnTo>
                  <a:lnTo>
                    <a:pt x="35" y="119"/>
                  </a:lnTo>
                  <a:lnTo>
                    <a:pt x="28" y="145"/>
                  </a:lnTo>
                  <a:lnTo>
                    <a:pt x="20" y="169"/>
                  </a:lnTo>
                  <a:lnTo>
                    <a:pt x="15" y="185"/>
                  </a:lnTo>
                  <a:lnTo>
                    <a:pt x="10" y="197"/>
                  </a:lnTo>
                  <a:lnTo>
                    <a:pt x="5" y="209"/>
                  </a:lnTo>
                  <a:lnTo>
                    <a:pt x="2" y="220"/>
                  </a:lnTo>
                  <a:lnTo>
                    <a:pt x="0" y="224"/>
                  </a:lnTo>
                  <a:lnTo>
                    <a:pt x="3" y="224"/>
                  </a:lnTo>
                  <a:lnTo>
                    <a:pt x="12" y="220"/>
                  </a:lnTo>
                  <a:lnTo>
                    <a:pt x="23" y="219"/>
                  </a:lnTo>
                  <a:lnTo>
                    <a:pt x="33" y="219"/>
                  </a:lnTo>
                  <a:lnTo>
                    <a:pt x="47" y="219"/>
                  </a:lnTo>
                  <a:lnTo>
                    <a:pt x="60" y="219"/>
                  </a:lnTo>
                  <a:lnTo>
                    <a:pt x="72" y="219"/>
                  </a:lnTo>
                  <a:lnTo>
                    <a:pt x="77" y="219"/>
                  </a:lnTo>
                  <a:lnTo>
                    <a:pt x="80" y="229"/>
                  </a:lnTo>
                  <a:lnTo>
                    <a:pt x="87" y="250"/>
                  </a:lnTo>
                  <a:lnTo>
                    <a:pt x="100" y="277"/>
                  </a:lnTo>
                  <a:lnTo>
                    <a:pt x="118" y="299"/>
                  </a:lnTo>
                  <a:lnTo>
                    <a:pt x="133" y="315"/>
                  </a:lnTo>
                  <a:lnTo>
                    <a:pt x="140" y="330"/>
                  </a:lnTo>
                  <a:lnTo>
                    <a:pt x="145" y="342"/>
                  </a:lnTo>
                  <a:lnTo>
                    <a:pt x="157" y="352"/>
                  </a:lnTo>
                  <a:lnTo>
                    <a:pt x="167" y="360"/>
                  </a:lnTo>
                  <a:lnTo>
                    <a:pt x="168" y="374"/>
                  </a:lnTo>
                  <a:lnTo>
                    <a:pt x="172" y="390"/>
                  </a:lnTo>
                  <a:lnTo>
                    <a:pt x="185" y="414"/>
                  </a:lnTo>
                  <a:lnTo>
                    <a:pt x="205" y="440"/>
                  </a:lnTo>
                  <a:lnTo>
                    <a:pt x="220" y="467"/>
                  </a:lnTo>
                  <a:lnTo>
                    <a:pt x="230" y="492"/>
                  </a:lnTo>
                  <a:lnTo>
                    <a:pt x="233" y="512"/>
                  </a:lnTo>
                  <a:lnTo>
                    <a:pt x="237" y="531"/>
                  </a:lnTo>
                  <a:lnTo>
                    <a:pt x="243" y="547"/>
                  </a:lnTo>
                  <a:lnTo>
                    <a:pt x="257" y="562"/>
                  </a:lnTo>
                  <a:lnTo>
                    <a:pt x="275" y="574"/>
                  </a:lnTo>
                  <a:lnTo>
                    <a:pt x="287" y="587"/>
                  </a:lnTo>
                  <a:lnTo>
                    <a:pt x="285" y="601"/>
                  </a:lnTo>
                  <a:lnTo>
                    <a:pt x="284" y="617"/>
                  </a:lnTo>
                  <a:lnTo>
                    <a:pt x="295" y="632"/>
                  </a:lnTo>
                  <a:lnTo>
                    <a:pt x="310" y="642"/>
                  </a:lnTo>
                  <a:lnTo>
                    <a:pt x="317" y="652"/>
                  </a:lnTo>
                  <a:lnTo>
                    <a:pt x="320" y="666"/>
                  </a:lnTo>
                  <a:lnTo>
                    <a:pt x="329" y="687"/>
                  </a:lnTo>
                  <a:lnTo>
                    <a:pt x="330" y="692"/>
                  </a:lnTo>
                  <a:lnTo>
                    <a:pt x="330" y="696"/>
                  </a:lnTo>
                  <a:lnTo>
                    <a:pt x="332" y="697"/>
                  </a:lnTo>
                  <a:lnTo>
                    <a:pt x="332" y="699"/>
                  </a:lnTo>
                  <a:lnTo>
                    <a:pt x="335" y="702"/>
                  </a:lnTo>
                  <a:lnTo>
                    <a:pt x="340" y="707"/>
                  </a:lnTo>
                  <a:lnTo>
                    <a:pt x="345" y="712"/>
                  </a:lnTo>
                  <a:lnTo>
                    <a:pt x="352" y="721"/>
                  </a:lnTo>
                  <a:lnTo>
                    <a:pt x="365" y="737"/>
                  </a:lnTo>
                  <a:lnTo>
                    <a:pt x="370" y="752"/>
                  </a:lnTo>
                  <a:lnTo>
                    <a:pt x="370" y="762"/>
                  </a:lnTo>
                  <a:lnTo>
                    <a:pt x="367" y="771"/>
                  </a:lnTo>
                  <a:lnTo>
                    <a:pt x="360" y="776"/>
                  </a:lnTo>
                  <a:lnTo>
                    <a:pt x="354" y="781"/>
                  </a:lnTo>
                  <a:lnTo>
                    <a:pt x="349" y="782"/>
                  </a:lnTo>
                  <a:lnTo>
                    <a:pt x="347" y="782"/>
                  </a:lnTo>
                  <a:lnTo>
                    <a:pt x="347" y="786"/>
                  </a:lnTo>
                  <a:lnTo>
                    <a:pt x="350" y="794"/>
                  </a:lnTo>
                  <a:lnTo>
                    <a:pt x="355" y="807"/>
                  </a:lnTo>
                  <a:lnTo>
                    <a:pt x="367" y="824"/>
                  </a:lnTo>
                  <a:lnTo>
                    <a:pt x="377" y="842"/>
                  </a:lnTo>
                  <a:lnTo>
                    <a:pt x="384" y="862"/>
                  </a:lnTo>
                  <a:lnTo>
                    <a:pt x="392" y="877"/>
                  </a:lnTo>
                  <a:lnTo>
                    <a:pt x="414" y="891"/>
                  </a:lnTo>
                  <a:lnTo>
                    <a:pt x="427" y="897"/>
                  </a:lnTo>
                  <a:lnTo>
                    <a:pt x="440" y="904"/>
                  </a:lnTo>
                  <a:lnTo>
                    <a:pt x="454" y="912"/>
                  </a:lnTo>
                  <a:lnTo>
                    <a:pt x="465" y="921"/>
                  </a:lnTo>
                  <a:lnTo>
                    <a:pt x="477" y="929"/>
                  </a:lnTo>
                  <a:lnTo>
                    <a:pt x="487" y="937"/>
                  </a:lnTo>
                  <a:lnTo>
                    <a:pt x="499" y="946"/>
                  </a:lnTo>
                  <a:lnTo>
                    <a:pt x="509" y="952"/>
                  </a:lnTo>
                  <a:lnTo>
                    <a:pt x="519" y="961"/>
                  </a:lnTo>
                  <a:lnTo>
                    <a:pt x="525" y="969"/>
                  </a:lnTo>
                  <a:lnTo>
                    <a:pt x="532" y="979"/>
                  </a:lnTo>
                  <a:lnTo>
                    <a:pt x="537" y="989"/>
                  </a:lnTo>
                  <a:lnTo>
                    <a:pt x="542" y="1002"/>
                  </a:lnTo>
                  <a:lnTo>
                    <a:pt x="547" y="1016"/>
                  </a:lnTo>
                  <a:lnTo>
                    <a:pt x="552" y="1031"/>
                  </a:lnTo>
                  <a:lnTo>
                    <a:pt x="560" y="1048"/>
                  </a:lnTo>
                  <a:lnTo>
                    <a:pt x="574" y="1079"/>
                  </a:lnTo>
                  <a:lnTo>
                    <a:pt x="584" y="1108"/>
                  </a:lnTo>
                  <a:lnTo>
                    <a:pt x="592" y="1136"/>
                  </a:lnTo>
                  <a:lnTo>
                    <a:pt x="609" y="1171"/>
                  </a:lnTo>
                  <a:lnTo>
                    <a:pt x="619" y="1213"/>
                  </a:lnTo>
                  <a:lnTo>
                    <a:pt x="612" y="1253"/>
                  </a:lnTo>
                  <a:lnTo>
                    <a:pt x="600" y="1283"/>
                  </a:lnTo>
                  <a:lnTo>
                    <a:pt x="594" y="1294"/>
                  </a:lnTo>
                  <a:lnTo>
                    <a:pt x="597" y="1301"/>
                  </a:lnTo>
                  <a:lnTo>
                    <a:pt x="604" y="1318"/>
                  </a:lnTo>
                  <a:lnTo>
                    <a:pt x="612" y="1341"/>
                  </a:lnTo>
                  <a:lnTo>
                    <a:pt x="617" y="1366"/>
                  </a:lnTo>
                  <a:lnTo>
                    <a:pt x="620" y="1379"/>
                  </a:lnTo>
                  <a:lnTo>
                    <a:pt x="624" y="1394"/>
                  </a:lnTo>
                  <a:lnTo>
                    <a:pt x="629" y="1409"/>
                  </a:lnTo>
                  <a:lnTo>
                    <a:pt x="635" y="1428"/>
                  </a:lnTo>
                  <a:lnTo>
                    <a:pt x="644" y="1444"/>
                  </a:lnTo>
                  <a:lnTo>
                    <a:pt x="654" y="1463"/>
                  </a:lnTo>
                  <a:lnTo>
                    <a:pt x="664" y="1481"/>
                  </a:lnTo>
                  <a:lnTo>
                    <a:pt x="675" y="1499"/>
                  </a:lnTo>
                  <a:lnTo>
                    <a:pt x="687" y="1516"/>
                  </a:lnTo>
                  <a:lnTo>
                    <a:pt x="695" y="1531"/>
                  </a:lnTo>
                  <a:lnTo>
                    <a:pt x="702" y="1543"/>
                  </a:lnTo>
                  <a:lnTo>
                    <a:pt x="707" y="1553"/>
                  </a:lnTo>
                  <a:lnTo>
                    <a:pt x="712" y="1561"/>
                  </a:lnTo>
                  <a:lnTo>
                    <a:pt x="719" y="1566"/>
                  </a:lnTo>
                  <a:lnTo>
                    <a:pt x="724" y="1570"/>
                  </a:lnTo>
                  <a:lnTo>
                    <a:pt x="732" y="1571"/>
                  </a:lnTo>
                  <a:lnTo>
                    <a:pt x="742" y="1573"/>
                  </a:lnTo>
                  <a:lnTo>
                    <a:pt x="754" y="1576"/>
                  </a:lnTo>
                  <a:lnTo>
                    <a:pt x="765" y="1581"/>
                  </a:lnTo>
                  <a:lnTo>
                    <a:pt x="779" y="1588"/>
                  </a:lnTo>
                  <a:lnTo>
                    <a:pt x="792" y="1595"/>
                  </a:lnTo>
                  <a:lnTo>
                    <a:pt x="804" y="1603"/>
                  </a:lnTo>
                  <a:lnTo>
                    <a:pt x="814" y="1611"/>
                  </a:lnTo>
                  <a:lnTo>
                    <a:pt x="822" y="1618"/>
                  </a:lnTo>
                  <a:lnTo>
                    <a:pt x="834" y="1633"/>
                  </a:lnTo>
                  <a:lnTo>
                    <a:pt x="846" y="1648"/>
                  </a:lnTo>
                  <a:lnTo>
                    <a:pt x="856" y="1663"/>
                  </a:lnTo>
                  <a:lnTo>
                    <a:pt x="866" y="1675"/>
                  </a:lnTo>
                  <a:lnTo>
                    <a:pt x="872" y="1685"/>
                  </a:lnTo>
                  <a:lnTo>
                    <a:pt x="881" y="1700"/>
                  </a:lnTo>
                  <a:lnTo>
                    <a:pt x="891" y="1721"/>
                  </a:lnTo>
                  <a:lnTo>
                    <a:pt x="902" y="1743"/>
                  </a:lnTo>
                  <a:lnTo>
                    <a:pt x="912" y="1768"/>
                  </a:lnTo>
                  <a:lnTo>
                    <a:pt x="921" y="1790"/>
                  </a:lnTo>
                  <a:lnTo>
                    <a:pt x="927" y="1810"/>
                  </a:lnTo>
                  <a:lnTo>
                    <a:pt x="931" y="1823"/>
                  </a:lnTo>
                  <a:lnTo>
                    <a:pt x="937" y="1841"/>
                  </a:lnTo>
                  <a:lnTo>
                    <a:pt x="951" y="1858"/>
                  </a:lnTo>
                  <a:lnTo>
                    <a:pt x="964" y="1878"/>
                  </a:lnTo>
                  <a:lnTo>
                    <a:pt x="979" y="1908"/>
                  </a:lnTo>
                  <a:lnTo>
                    <a:pt x="987" y="1926"/>
                  </a:lnTo>
                  <a:lnTo>
                    <a:pt x="999" y="1945"/>
                  </a:lnTo>
                  <a:lnTo>
                    <a:pt x="1014" y="1965"/>
                  </a:lnTo>
                  <a:lnTo>
                    <a:pt x="1029" y="1981"/>
                  </a:lnTo>
                  <a:lnTo>
                    <a:pt x="1044" y="2000"/>
                  </a:lnTo>
                  <a:lnTo>
                    <a:pt x="1059" y="2015"/>
                  </a:lnTo>
                  <a:lnTo>
                    <a:pt x="1072" y="2027"/>
                  </a:lnTo>
                  <a:lnTo>
                    <a:pt x="1084" y="2037"/>
                  </a:lnTo>
                  <a:lnTo>
                    <a:pt x="1097" y="2052"/>
                  </a:lnTo>
                  <a:lnTo>
                    <a:pt x="1106" y="2068"/>
                  </a:lnTo>
                  <a:lnTo>
                    <a:pt x="1109" y="2085"/>
                  </a:lnTo>
                  <a:lnTo>
                    <a:pt x="1112" y="2098"/>
                  </a:lnTo>
                  <a:lnTo>
                    <a:pt x="1117" y="2108"/>
                  </a:lnTo>
                  <a:lnTo>
                    <a:pt x="1126" y="2120"/>
                  </a:lnTo>
                  <a:lnTo>
                    <a:pt x="1136" y="2132"/>
                  </a:lnTo>
                  <a:lnTo>
                    <a:pt x="1146" y="2145"/>
                  </a:lnTo>
                  <a:lnTo>
                    <a:pt x="1156" y="2160"/>
                  </a:lnTo>
                  <a:lnTo>
                    <a:pt x="1164" y="2175"/>
                  </a:lnTo>
                  <a:lnTo>
                    <a:pt x="1169" y="2190"/>
                  </a:lnTo>
                  <a:lnTo>
                    <a:pt x="1169" y="2202"/>
                  </a:lnTo>
                  <a:lnTo>
                    <a:pt x="1169" y="2217"/>
                  </a:lnTo>
                  <a:lnTo>
                    <a:pt x="1172" y="2233"/>
                  </a:lnTo>
                  <a:lnTo>
                    <a:pt x="1177" y="2248"/>
                  </a:lnTo>
                  <a:lnTo>
                    <a:pt x="1179" y="2255"/>
                  </a:lnTo>
                  <a:lnTo>
                    <a:pt x="1216" y="2227"/>
                  </a:lnTo>
                  <a:lnTo>
                    <a:pt x="1219" y="2222"/>
                  </a:lnTo>
                  <a:lnTo>
                    <a:pt x="1226" y="2208"/>
                  </a:lnTo>
                  <a:lnTo>
                    <a:pt x="1232" y="2192"/>
                  </a:lnTo>
                  <a:lnTo>
                    <a:pt x="1236" y="2178"/>
                  </a:lnTo>
                  <a:lnTo>
                    <a:pt x="1236" y="2165"/>
                  </a:lnTo>
                  <a:lnTo>
                    <a:pt x="1234" y="2145"/>
                  </a:lnTo>
                  <a:lnTo>
                    <a:pt x="1236" y="2123"/>
                  </a:lnTo>
                  <a:lnTo>
                    <a:pt x="1241" y="2103"/>
                  </a:lnTo>
                  <a:lnTo>
                    <a:pt x="1241" y="2087"/>
                  </a:lnTo>
                  <a:lnTo>
                    <a:pt x="1236" y="2077"/>
                  </a:lnTo>
                  <a:lnTo>
                    <a:pt x="1234" y="2067"/>
                  </a:lnTo>
                  <a:lnTo>
                    <a:pt x="1241" y="2060"/>
                  </a:lnTo>
                  <a:lnTo>
                    <a:pt x="1246" y="2057"/>
                  </a:lnTo>
                  <a:lnTo>
                    <a:pt x="1251" y="2057"/>
                  </a:lnTo>
                  <a:lnTo>
                    <a:pt x="1256" y="2058"/>
                  </a:lnTo>
                  <a:lnTo>
                    <a:pt x="1261" y="2062"/>
                  </a:lnTo>
                  <a:lnTo>
                    <a:pt x="1259" y="2052"/>
                  </a:lnTo>
                  <a:lnTo>
                    <a:pt x="1257" y="2043"/>
                  </a:lnTo>
                  <a:lnTo>
                    <a:pt x="1256" y="2033"/>
                  </a:lnTo>
                  <a:lnTo>
                    <a:pt x="1257" y="2027"/>
                  </a:lnTo>
                  <a:close/>
                </a:path>
              </a:pathLst>
            </a:custGeom>
            <a:solidFill>
              <a:srgbClr val="ffffff">
                <a:alpha val="10000"/>
              </a:srgbClr>
            </a:solidFill>
            <a:ln cap="sq" w="9360">
              <a:solidFill>
                <a:srgbClr val="ffffff"/>
              </a:solidFill>
              <a:round/>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086280" y="3706920"/>
              <a:ext cx="4680" cy="4680"/>
            </a:xfrm>
            <a:custGeom>
              <a:avLst/>
              <a:gdLst/>
              <a:ahLst/>
              <a:rect l="l" t="t" r="r" b="b"/>
              <a:pathLst>
                <a:path w="5" h="5">
                  <a:moveTo>
                    <a:pt x="5" y="3"/>
                  </a:moveTo>
                  <a:lnTo>
                    <a:pt x="0" y="0"/>
                  </a:lnTo>
                  <a:lnTo>
                    <a:pt x="2" y="3"/>
                  </a:lnTo>
                  <a:lnTo>
                    <a:pt x="3" y="5"/>
                  </a:lnTo>
                  <a:lnTo>
                    <a:pt x="5" y="3"/>
                  </a:lnTo>
                  <a:lnTo>
                    <a:pt x="5" y="3"/>
                  </a:lnTo>
                  <a:close/>
                </a:path>
              </a:pathLst>
            </a:custGeom>
            <a:solidFill>
              <a:srgbClr val="000000"/>
            </a:solidFill>
            <a:ln w="0">
              <a:noFill/>
            </a:ln>
          </p:spPr>
          <p:style>
            <a:lnRef idx="0"/>
            <a:fillRef idx="0"/>
            <a:effectRef idx="0"/>
            <a:fontRef idx="minor"/>
          </p:style>
          <p:txBody>
            <a:bodyPr wrap="none" lIns="90000" rIns="90000" tIns="-42120" bIns="-421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8" name=""/>
            <p:cNvSpPr/>
            <p:nvPr/>
          </p:nvSpPr>
          <p:spPr>
            <a:xfrm>
              <a:off x="4379760" y="4662360"/>
              <a:ext cx="2567160" cy="993960"/>
            </a:xfrm>
            <a:custGeom>
              <a:avLst/>
              <a:gdLst/>
              <a:ahLst/>
              <a:rect l="l" t="t" r="r" b="b"/>
              <a:pathLst>
                <a:path w="1881" h="744">
                  <a:moveTo>
                    <a:pt x="1298" y="222"/>
                  </a:moveTo>
                  <a:lnTo>
                    <a:pt x="1283" y="225"/>
                  </a:lnTo>
                  <a:lnTo>
                    <a:pt x="1263" y="230"/>
                  </a:lnTo>
                  <a:lnTo>
                    <a:pt x="1239" y="235"/>
                  </a:lnTo>
                  <a:lnTo>
                    <a:pt x="1214" y="242"/>
                  </a:lnTo>
                  <a:lnTo>
                    <a:pt x="1186" y="249"/>
                  </a:lnTo>
                  <a:lnTo>
                    <a:pt x="1157" y="255"/>
                  </a:lnTo>
                  <a:lnTo>
                    <a:pt x="1127" y="262"/>
                  </a:lnTo>
                  <a:lnTo>
                    <a:pt x="1097" y="269"/>
                  </a:lnTo>
                  <a:lnTo>
                    <a:pt x="1067" y="275"/>
                  </a:lnTo>
                  <a:lnTo>
                    <a:pt x="1039" y="284"/>
                  </a:lnTo>
                  <a:lnTo>
                    <a:pt x="1012" y="290"/>
                  </a:lnTo>
                  <a:lnTo>
                    <a:pt x="989" y="297"/>
                  </a:lnTo>
                  <a:lnTo>
                    <a:pt x="967" y="302"/>
                  </a:lnTo>
                  <a:lnTo>
                    <a:pt x="949" y="309"/>
                  </a:lnTo>
                  <a:lnTo>
                    <a:pt x="936" y="314"/>
                  </a:lnTo>
                  <a:lnTo>
                    <a:pt x="927" y="317"/>
                  </a:lnTo>
                  <a:lnTo>
                    <a:pt x="914" y="324"/>
                  </a:lnTo>
                  <a:lnTo>
                    <a:pt x="901" y="329"/>
                  </a:lnTo>
                  <a:lnTo>
                    <a:pt x="887" y="337"/>
                  </a:lnTo>
                  <a:lnTo>
                    <a:pt x="872" y="344"/>
                  </a:lnTo>
                  <a:lnTo>
                    <a:pt x="857" y="355"/>
                  </a:lnTo>
                  <a:lnTo>
                    <a:pt x="842" y="369"/>
                  </a:lnTo>
                  <a:lnTo>
                    <a:pt x="826" y="389"/>
                  </a:lnTo>
                  <a:lnTo>
                    <a:pt x="807" y="412"/>
                  </a:lnTo>
                  <a:lnTo>
                    <a:pt x="791" y="437"/>
                  </a:lnTo>
                  <a:lnTo>
                    <a:pt x="776" y="460"/>
                  </a:lnTo>
                  <a:lnTo>
                    <a:pt x="761" y="482"/>
                  </a:lnTo>
                  <a:lnTo>
                    <a:pt x="747" y="502"/>
                  </a:lnTo>
                  <a:lnTo>
                    <a:pt x="737" y="519"/>
                  </a:lnTo>
                  <a:lnTo>
                    <a:pt x="727" y="532"/>
                  </a:lnTo>
                  <a:lnTo>
                    <a:pt x="719" y="542"/>
                  </a:lnTo>
                  <a:lnTo>
                    <a:pt x="712" y="549"/>
                  </a:lnTo>
                  <a:lnTo>
                    <a:pt x="706" y="554"/>
                  </a:lnTo>
                  <a:lnTo>
                    <a:pt x="699" y="559"/>
                  </a:lnTo>
                  <a:lnTo>
                    <a:pt x="689" y="564"/>
                  </a:lnTo>
                  <a:lnTo>
                    <a:pt x="679" y="565"/>
                  </a:lnTo>
                  <a:lnTo>
                    <a:pt x="667" y="567"/>
                  </a:lnTo>
                  <a:lnTo>
                    <a:pt x="657" y="567"/>
                  </a:lnTo>
                  <a:lnTo>
                    <a:pt x="647" y="564"/>
                  </a:lnTo>
                  <a:lnTo>
                    <a:pt x="637" y="559"/>
                  </a:lnTo>
                  <a:lnTo>
                    <a:pt x="629" y="552"/>
                  </a:lnTo>
                  <a:lnTo>
                    <a:pt x="622" y="544"/>
                  </a:lnTo>
                  <a:lnTo>
                    <a:pt x="615" y="535"/>
                  </a:lnTo>
                  <a:lnTo>
                    <a:pt x="609" y="529"/>
                  </a:lnTo>
                  <a:lnTo>
                    <a:pt x="602" y="524"/>
                  </a:lnTo>
                  <a:lnTo>
                    <a:pt x="595" y="520"/>
                  </a:lnTo>
                  <a:lnTo>
                    <a:pt x="589" y="519"/>
                  </a:lnTo>
                  <a:lnTo>
                    <a:pt x="580" y="520"/>
                  </a:lnTo>
                  <a:lnTo>
                    <a:pt x="569" y="524"/>
                  </a:lnTo>
                  <a:lnTo>
                    <a:pt x="554" y="525"/>
                  </a:lnTo>
                  <a:lnTo>
                    <a:pt x="537" y="525"/>
                  </a:lnTo>
                  <a:lnTo>
                    <a:pt x="519" y="525"/>
                  </a:lnTo>
                  <a:lnTo>
                    <a:pt x="499" y="525"/>
                  </a:lnTo>
                  <a:lnTo>
                    <a:pt x="480" y="524"/>
                  </a:lnTo>
                  <a:lnTo>
                    <a:pt x="462" y="522"/>
                  </a:lnTo>
                  <a:lnTo>
                    <a:pt x="447" y="520"/>
                  </a:lnTo>
                  <a:lnTo>
                    <a:pt x="432" y="519"/>
                  </a:lnTo>
                  <a:lnTo>
                    <a:pt x="417" y="515"/>
                  </a:lnTo>
                  <a:lnTo>
                    <a:pt x="404" y="510"/>
                  </a:lnTo>
                  <a:lnTo>
                    <a:pt x="389" y="507"/>
                  </a:lnTo>
                  <a:lnTo>
                    <a:pt x="375" y="504"/>
                  </a:lnTo>
                  <a:lnTo>
                    <a:pt x="364" y="500"/>
                  </a:lnTo>
                  <a:lnTo>
                    <a:pt x="352" y="497"/>
                  </a:lnTo>
                  <a:lnTo>
                    <a:pt x="342" y="497"/>
                  </a:lnTo>
                  <a:lnTo>
                    <a:pt x="329" y="497"/>
                  </a:lnTo>
                  <a:lnTo>
                    <a:pt x="307" y="497"/>
                  </a:lnTo>
                  <a:lnTo>
                    <a:pt x="280" y="499"/>
                  </a:lnTo>
                  <a:lnTo>
                    <a:pt x="250" y="499"/>
                  </a:lnTo>
                  <a:lnTo>
                    <a:pt x="224" y="500"/>
                  </a:lnTo>
                  <a:lnTo>
                    <a:pt x="200" y="502"/>
                  </a:lnTo>
                  <a:lnTo>
                    <a:pt x="184" y="502"/>
                  </a:lnTo>
                  <a:lnTo>
                    <a:pt x="177" y="502"/>
                  </a:lnTo>
                  <a:lnTo>
                    <a:pt x="175" y="504"/>
                  </a:lnTo>
                  <a:lnTo>
                    <a:pt x="170" y="505"/>
                  </a:lnTo>
                  <a:lnTo>
                    <a:pt x="164" y="509"/>
                  </a:lnTo>
                  <a:lnTo>
                    <a:pt x="155" y="510"/>
                  </a:lnTo>
                  <a:lnTo>
                    <a:pt x="144" y="512"/>
                  </a:lnTo>
                  <a:lnTo>
                    <a:pt x="132" y="512"/>
                  </a:lnTo>
                  <a:lnTo>
                    <a:pt x="120" y="509"/>
                  </a:lnTo>
                  <a:lnTo>
                    <a:pt x="107" y="502"/>
                  </a:lnTo>
                  <a:lnTo>
                    <a:pt x="95" y="494"/>
                  </a:lnTo>
                  <a:lnTo>
                    <a:pt x="87" y="485"/>
                  </a:lnTo>
                  <a:lnTo>
                    <a:pt x="80" y="479"/>
                  </a:lnTo>
                  <a:lnTo>
                    <a:pt x="75" y="475"/>
                  </a:lnTo>
                  <a:lnTo>
                    <a:pt x="70" y="472"/>
                  </a:lnTo>
                  <a:lnTo>
                    <a:pt x="65" y="470"/>
                  </a:lnTo>
                  <a:lnTo>
                    <a:pt x="60" y="470"/>
                  </a:lnTo>
                  <a:lnTo>
                    <a:pt x="53" y="474"/>
                  </a:lnTo>
                  <a:lnTo>
                    <a:pt x="47" y="480"/>
                  </a:lnTo>
                  <a:lnTo>
                    <a:pt x="50" y="489"/>
                  </a:lnTo>
                  <a:lnTo>
                    <a:pt x="55" y="500"/>
                  </a:lnTo>
                  <a:lnTo>
                    <a:pt x="53" y="515"/>
                  </a:lnTo>
                  <a:lnTo>
                    <a:pt x="50" y="535"/>
                  </a:lnTo>
                  <a:lnTo>
                    <a:pt x="48" y="557"/>
                  </a:lnTo>
                  <a:lnTo>
                    <a:pt x="50" y="577"/>
                  </a:lnTo>
                  <a:lnTo>
                    <a:pt x="50" y="592"/>
                  </a:lnTo>
                  <a:lnTo>
                    <a:pt x="47" y="606"/>
                  </a:lnTo>
                  <a:lnTo>
                    <a:pt x="40" y="621"/>
                  </a:lnTo>
                  <a:lnTo>
                    <a:pt x="33" y="634"/>
                  </a:lnTo>
                  <a:lnTo>
                    <a:pt x="30" y="639"/>
                  </a:lnTo>
                  <a:lnTo>
                    <a:pt x="0" y="662"/>
                  </a:lnTo>
                  <a:lnTo>
                    <a:pt x="3" y="666"/>
                  </a:lnTo>
                  <a:lnTo>
                    <a:pt x="8" y="669"/>
                  </a:lnTo>
                  <a:lnTo>
                    <a:pt x="13" y="674"/>
                  </a:lnTo>
                  <a:lnTo>
                    <a:pt x="18" y="677"/>
                  </a:lnTo>
                  <a:lnTo>
                    <a:pt x="32" y="684"/>
                  </a:lnTo>
                  <a:lnTo>
                    <a:pt x="43" y="687"/>
                  </a:lnTo>
                  <a:lnTo>
                    <a:pt x="55" y="687"/>
                  </a:lnTo>
                  <a:lnTo>
                    <a:pt x="67" y="686"/>
                  </a:lnTo>
                  <a:lnTo>
                    <a:pt x="77" y="684"/>
                  </a:lnTo>
                  <a:lnTo>
                    <a:pt x="83" y="681"/>
                  </a:lnTo>
                  <a:lnTo>
                    <a:pt x="88" y="679"/>
                  </a:lnTo>
                  <a:lnTo>
                    <a:pt x="90" y="677"/>
                  </a:lnTo>
                  <a:lnTo>
                    <a:pt x="97" y="677"/>
                  </a:lnTo>
                  <a:lnTo>
                    <a:pt x="114" y="677"/>
                  </a:lnTo>
                  <a:lnTo>
                    <a:pt x="137" y="676"/>
                  </a:lnTo>
                  <a:lnTo>
                    <a:pt x="164" y="674"/>
                  </a:lnTo>
                  <a:lnTo>
                    <a:pt x="194" y="674"/>
                  </a:lnTo>
                  <a:lnTo>
                    <a:pt x="220" y="672"/>
                  </a:lnTo>
                  <a:lnTo>
                    <a:pt x="242" y="672"/>
                  </a:lnTo>
                  <a:lnTo>
                    <a:pt x="255" y="672"/>
                  </a:lnTo>
                  <a:lnTo>
                    <a:pt x="265" y="674"/>
                  </a:lnTo>
                  <a:lnTo>
                    <a:pt x="275" y="676"/>
                  </a:lnTo>
                  <a:lnTo>
                    <a:pt x="289" y="679"/>
                  </a:lnTo>
                  <a:lnTo>
                    <a:pt x="302" y="682"/>
                  </a:lnTo>
                  <a:lnTo>
                    <a:pt x="315" y="687"/>
                  </a:lnTo>
                  <a:lnTo>
                    <a:pt x="330" y="691"/>
                  </a:lnTo>
                  <a:lnTo>
                    <a:pt x="344" y="694"/>
                  </a:lnTo>
                  <a:lnTo>
                    <a:pt x="359" y="697"/>
                  </a:lnTo>
                  <a:lnTo>
                    <a:pt x="374" y="699"/>
                  </a:lnTo>
                  <a:lnTo>
                    <a:pt x="392" y="701"/>
                  </a:lnTo>
                  <a:lnTo>
                    <a:pt x="412" y="701"/>
                  </a:lnTo>
                  <a:lnTo>
                    <a:pt x="430" y="702"/>
                  </a:lnTo>
                  <a:lnTo>
                    <a:pt x="450" y="702"/>
                  </a:lnTo>
                  <a:lnTo>
                    <a:pt x="467" y="701"/>
                  </a:lnTo>
                  <a:lnTo>
                    <a:pt x="480" y="701"/>
                  </a:lnTo>
                  <a:lnTo>
                    <a:pt x="492" y="697"/>
                  </a:lnTo>
                  <a:lnTo>
                    <a:pt x="500" y="696"/>
                  </a:lnTo>
                  <a:lnTo>
                    <a:pt x="507" y="696"/>
                  </a:lnTo>
                  <a:lnTo>
                    <a:pt x="514" y="699"/>
                  </a:lnTo>
                  <a:lnTo>
                    <a:pt x="520" y="706"/>
                  </a:lnTo>
                  <a:lnTo>
                    <a:pt x="527" y="712"/>
                  </a:lnTo>
                  <a:lnTo>
                    <a:pt x="534" y="719"/>
                  </a:lnTo>
                  <a:lnTo>
                    <a:pt x="540" y="727"/>
                  </a:lnTo>
                  <a:lnTo>
                    <a:pt x="549" y="734"/>
                  </a:lnTo>
                  <a:lnTo>
                    <a:pt x="559" y="741"/>
                  </a:lnTo>
                  <a:lnTo>
                    <a:pt x="569" y="742"/>
                  </a:lnTo>
                  <a:lnTo>
                    <a:pt x="579" y="744"/>
                  </a:lnTo>
                  <a:lnTo>
                    <a:pt x="590" y="742"/>
                  </a:lnTo>
                  <a:lnTo>
                    <a:pt x="600" y="739"/>
                  </a:lnTo>
                  <a:lnTo>
                    <a:pt x="610" y="736"/>
                  </a:lnTo>
                  <a:lnTo>
                    <a:pt x="619" y="731"/>
                  </a:lnTo>
                  <a:lnTo>
                    <a:pt x="625" y="726"/>
                  </a:lnTo>
                  <a:lnTo>
                    <a:pt x="632" y="719"/>
                  </a:lnTo>
                  <a:lnTo>
                    <a:pt x="639" y="707"/>
                  </a:lnTo>
                  <a:lnTo>
                    <a:pt x="649" y="694"/>
                  </a:lnTo>
                  <a:lnTo>
                    <a:pt x="661" y="677"/>
                  </a:lnTo>
                  <a:lnTo>
                    <a:pt x="672" y="659"/>
                  </a:lnTo>
                  <a:lnTo>
                    <a:pt x="687" y="637"/>
                  </a:lnTo>
                  <a:lnTo>
                    <a:pt x="704" y="614"/>
                  </a:lnTo>
                  <a:lnTo>
                    <a:pt x="721" y="587"/>
                  </a:lnTo>
                  <a:lnTo>
                    <a:pt x="737" y="564"/>
                  </a:lnTo>
                  <a:lnTo>
                    <a:pt x="754" y="544"/>
                  </a:lnTo>
                  <a:lnTo>
                    <a:pt x="769" y="530"/>
                  </a:lnTo>
                  <a:lnTo>
                    <a:pt x="786" y="519"/>
                  </a:lnTo>
                  <a:lnTo>
                    <a:pt x="799" y="512"/>
                  </a:lnTo>
                  <a:lnTo>
                    <a:pt x="812" y="504"/>
                  </a:lnTo>
                  <a:lnTo>
                    <a:pt x="826" y="499"/>
                  </a:lnTo>
                  <a:lnTo>
                    <a:pt x="839" y="492"/>
                  </a:lnTo>
                  <a:lnTo>
                    <a:pt x="847" y="489"/>
                  </a:lnTo>
                  <a:lnTo>
                    <a:pt x="862" y="484"/>
                  </a:lnTo>
                  <a:lnTo>
                    <a:pt x="879" y="479"/>
                  </a:lnTo>
                  <a:lnTo>
                    <a:pt x="901" y="472"/>
                  </a:lnTo>
                  <a:lnTo>
                    <a:pt x="926" y="465"/>
                  </a:lnTo>
                  <a:lnTo>
                    <a:pt x="952" y="459"/>
                  </a:lnTo>
                  <a:lnTo>
                    <a:pt x="981" y="452"/>
                  </a:lnTo>
                  <a:lnTo>
                    <a:pt x="1009" y="444"/>
                  </a:lnTo>
                  <a:lnTo>
                    <a:pt x="1039" y="437"/>
                  </a:lnTo>
                  <a:lnTo>
                    <a:pt x="1069" y="430"/>
                  </a:lnTo>
                  <a:lnTo>
                    <a:pt x="1097" y="424"/>
                  </a:lnTo>
                  <a:lnTo>
                    <a:pt x="1126" y="417"/>
                  </a:lnTo>
                  <a:lnTo>
                    <a:pt x="1151" y="410"/>
                  </a:lnTo>
                  <a:lnTo>
                    <a:pt x="1174" y="405"/>
                  </a:lnTo>
                  <a:lnTo>
                    <a:pt x="1194" y="400"/>
                  </a:lnTo>
                  <a:lnTo>
                    <a:pt x="1209" y="397"/>
                  </a:lnTo>
                  <a:lnTo>
                    <a:pt x="1236" y="390"/>
                  </a:lnTo>
                  <a:lnTo>
                    <a:pt x="1263" y="385"/>
                  </a:lnTo>
                  <a:lnTo>
                    <a:pt x="1289" y="382"/>
                  </a:lnTo>
                  <a:lnTo>
                    <a:pt x="1313" y="379"/>
                  </a:lnTo>
                  <a:lnTo>
                    <a:pt x="1336" y="375"/>
                  </a:lnTo>
                  <a:lnTo>
                    <a:pt x="1354" y="370"/>
                  </a:lnTo>
                  <a:lnTo>
                    <a:pt x="1371" y="365"/>
                  </a:lnTo>
                  <a:lnTo>
                    <a:pt x="1384" y="359"/>
                  </a:lnTo>
                  <a:lnTo>
                    <a:pt x="1394" y="354"/>
                  </a:lnTo>
                  <a:lnTo>
                    <a:pt x="1411" y="345"/>
                  </a:lnTo>
                  <a:lnTo>
                    <a:pt x="1434" y="334"/>
                  </a:lnTo>
                  <a:lnTo>
                    <a:pt x="1463" y="320"/>
                  </a:lnTo>
                  <a:lnTo>
                    <a:pt x="1496" y="307"/>
                  </a:lnTo>
                  <a:lnTo>
                    <a:pt x="1533" y="290"/>
                  </a:lnTo>
                  <a:lnTo>
                    <a:pt x="1571" y="274"/>
                  </a:lnTo>
                  <a:lnTo>
                    <a:pt x="1611" y="255"/>
                  </a:lnTo>
                  <a:lnTo>
                    <a:pt x="1649" y="239"/>
                  </a:lnTo>
                  <a:lnTo>
                    <a:pt x="1688" y="222"/>
                  </a:lnTo>
                  <a:lnTo>
                    <a:pt x="1723" y="207"/>
                  </a:lnTo>
                  <a:lnTo>
                    <a:pt x="1756" y="192"/>
                  </a:lnTo>
                  <a:lnTo>
                    <a:pt x="1783" y="180"/>
                  </a:lnTo>
                  <a:lnTo>
                    <a:pt x="1805" y="170"/>
                  </a:lnTo>
                  <a:lnTo>
                    <a:pt x="1820" y="164"/>
                  </a:lnTo>
                  <a:lnTo>
                    <a:pt x="1826" y="160"/>
                  </a:lnTo>
                  <a:lnTo>
                    <a:pt x="1836" y="152"/>
                  </a:lnTo>
                  <a:lnTo>
                    <a:pt x="1841" y="142"/>
                  </a:lnTo>
                  <a:lnTo>
                    <a:pt x="1845" y="130"/>
                  </a:lnTo>
                  <a:lnTo>
                    <a:pt x="1846" y="117"/>
                  </a:lnTo>
                  <a:lnTo>
                    <a:pt x="1848" y="100"/>
                  </a:lnTo>
                  <a:lnTo>
                    <a:pt x="1851" y="78"/>
                  </a:lnTo>
                  <a:lnTo>
                    <a:pt x="1858" y="57"/>
                  </a:lnTo>
                  <a:lnTo>
                    <a:pt x="1865" y="37"/>
                  </a:lnTo>
                  <a:lnTo>
                    <a:pt x="1868" y="27"/>
                  </a:lnTo>
                  <a:lnTo>
                    <a:pt x="1873" y="18"/>
                  </a:lnTo>
                  <a:lnTo>
                    <a:pt x="1876" y="8"/>
                  </a:lnTo>
                  <a:lnTo>
                    <a:pt x="1881" y="0"/>
                  </a:lnTo>
                  <a:lnTo>
                    <a:pt x="1861" y="10"/>
                  </a:lnTo>
                  <a:lnTo>
                    <a:pt x="1836" y="20"/>
                  </a:lnTo>
                  <a:lnTo>
                    <a:pt x="1808" y="32"/>
                  </a:lnTo>
                  <a:lnTo>
                    <a:pt x="1778" y="45"/>
                  </a:lnTo>
                  <a:lnTo>
                    <a:pt x="1746" y="58"/>
                  </a:lnTo>
                  <a:lnTo>
                    <a:pt x="1714" y="73"/>
                  </a:lnTo>
                  <a:lnTo>
                    <a:pt x="1681" y="88"/>
                  </a:lnTo>
                  <a:lnTo>
                    <a:pt x="1648" y="102"/>
                  </a:lnTo>
                  <a:lnTo>
                    <a:pt x="1616" y="117"/>
                  </a:lnTo>
                  <a:lnTo>
                    <a:pt x="1586" y="130"/>
                  </a:lnTo>
                  <a:lnTo>
                    <a:pt x="1558" y="142"/>
                  </a:lnTo>
                  <a:lnTo>
                    <a:pt x="1533" y="154"/>
                  </a:lnTo>
                  <a:lnTo>
                    <a:pt x="1511" y="164"/>
                  </a:lnTo>
                  <a:lnTo>
                    <a:pt x="1493" y="174"/>
                  </a:lnTo>
                  <a:lnTo>
                    <a:pt x="1479" y="179"/>
                  </a:lnTo>
                  <a:lnTo>
                    <a:pt x="1473" y="184"/>
                  </a:lnTo>
                  <a:lnTo>
                    <a:pt x="1459" y="190"/>
                  </a:lnTo>
                  <a:lnTo>
                    <a:pt x="1443" y="195"/>
                  </a:lnTo>
                  <a:lnTo>
                    <a:pt x="1423" y="199"/>
                  </a:lnTo>
                  <a:lnTo>
                    <a:pt x="1401" y="202"/>
                  </a:lnTo>
                  <a:lnTo>
                    <a:pt x="1376" y="205"/>
                  </a:lnTo>
                  <a:lnTo>
                    <a:pt x="1351" y="210"/>
                  </a:lnTo>
                  <a:lnTo>
                    <a:pt x="1324" y="215"/>
                  </a:lnTo>
                  <a:lnTo>
                    <a:pt x="1298" y="222"/>
                  </a:lnTo>
                  <a:close/>
                </a:path>
              </a:pathLst>
            </a:custGeom>
            <a:solidFill>
              <a:srgbClr val="ffffff">
                <a:alpha val="20000"/>
              </a:srgbClr>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a:off x="2813040" y="1803240"/>
              <a:ext cx="4348080" cy="3579840"/>
            </a:xfrm>
            <a:custGeom>
              <a:avLst/>
              <a:gdLst/>
              <a:ahLst/>
              <a:rect l="l" t="t" r="r" b="b"/>
              <a:pathLst>
                <a:path w="3185" h="2678">
                  <a:moveTo>
                    <a:pt x="380" y="90"/>
                  </a:moveTo>
                  <a:lnTo>
                    <a:pt x="683" y="28"/>
                  </a:lnTo>
                  <a:lnTo>
                    <a:pt x="693" y="0"/>
                  </a:lnTo>
                  <a:lnTo>
                    <a:pt x="695" y="0"/>
                  </a:lnTo>
                  <a:lnTo>
                    <a:pt x="698" y="0"/>
                  </a:lnTo>
                  <a:lnTo>
                    <a:pt x="704" y="0"/>
                  </a:lnTo>
                  <a:lnTo>
                    <a:pt x="712" y="0"/>
                  </a:lnTo>
                  <a:lnTo>
                    <a:pt x="720" y="0"/>
                  </a:lnTo>
                  <a:lnTo>
                    <a:pt x="734" y="2"/>
                  </a:lnTo>
                  <a:lnTo>
                    <a:pt x="747" y="5"/>
                  </a:lnTo>
                  <a:lnTo>
                    <a:pt x="764" y="10"/>
                  </a:lnTo>
                  <a:lnTo>
                    <a:pt x="782" y="15"/>
                  </a:lnTo>
                  <a:lnTo>
                    <a:pt x="799" y="20"/>
                  </a:lnTo>
                  <a:lnTo>
                    <a:pt x="817" y="23"/>
                  </a:lnTo>
                  <a:lnTo>
                    <a:pt x="832" y="28"/>
                  </a:lnTo>
                  <a:lnTo>
                    <a:pt x="847" y="32"/>
                  </a:lnTo>
                  <a:lnTo>
                    <a:pt x="862" y="35"/>
                  </a:lnTo>
                  <a:lnTo>
                    <a:pt x="874" y="40"/>
                  </a:lnTo>
                  <a:lnTo>
                    <a:pt x="884" y="43"/>
                  </a:lnTo>
                  <a:lnTo>
                    <a:pt x="894" y="48"/>
                  </a:lnTo>
                  <a:lnTo>
                    <a:pt x="907" y="57"/>
                  </a:lnTo>
                  <a:lnTo>
                    <a:pt x="924" y="68"/>
                  </a:lnTo>
                  <a:lnTo>
                    <a:pt x="942" y="82"/>
                  </a:lnTo>
                  <a:lnTo>
                    <a:pt x="962" y="97"/>
                  </a:lnTo>
                  <a:lnTo>
                    <a:pt x="985" y="112"/>
                  </a:lnTo>
                  <a:lnTo>
                    <a:pt x="1009" y="127"/>
                  </a:lnTo>
                  <a:lnTo>
                    <a:pt x="1035" y="142"/>
                  </a:lnTo>
                  <a:lnTo>
                    <a:pt x="1060" y="155"/>
                  </a:lnTo>
                  <a:lnTo>
                    <a:pt x="1080" y="168"/>
                  </a:lnTo>
                  <a:lnTo>
                    <a:pt x="1099" y="180"/>
                  </a:lnTo>
                  <a:lnTo>
                    <a:pt x="1114" y="190"/>
                  </a:lnTo>
                  <a:lnTo>
                    <a:pt x="1124" y="197"/>
                  </a:lnTo>
                  <a:lnTo>
                    <a:pt x="1132" y="203"/>
                  </a:lnTo>
                  <a:lnTo>
                    <a:pt x="1137" y="207"/>
                  </a:lnTo>
                  <a:lnTo>
                    <a:pt x="1139" y="208"/>
                  </a:lnTo>
                  <a:lnTo>
                    <a:pt x="1142" y="210"/>
                  </a:lnTo>
                  <a:lnTo>
                    <a:pt x="1150" y="215"/>
                  </a:lnTo>
                  <a:lnTo>
                    <a:pt x="1162" y="223"/>
                  </a:lnTo>
                  <a:lnTo>
                    <a:pt x="1177" y="233"/>
                  </a:lnTo>
                  <a:lnTo>
                    <a:pt x="1192" y="243"/>
                  </a:lnTo>
                  <a:lnTo>
                    <a:pt x="1205" y="255"/>
                  </a:lnTo>
                  <a:lnTo>
                    <a:pt x="1217" y="265"/>
                  </a:lnTo>
                  <a:lnTo>
                    <a:pt x="1225" y="275"/>
                  </a:lnTo>
                  <a:lnTo>
                    <a:pt x="1234" y="285"/>
                  </a:lnTo>
                  <a:lnTo>
                    <a:pt x="1245" y="297"/>
                  </a:lnTo>
                  <a:lnTo>
                    <a:pt x="1259" y="310"/>
                  </a:lnTo>
                  <a:lnTo>
                    <a:pt x="1276" y="325"/>
                  </a:lnTo>
                  <a:lnTo>
                    <a:pt x="1292" y="340"/>
                  </a:lnTo>
                  <a:lnTo>
                    <a:pt x="1309" y="354"/>
                  </a:lnTo>
                  <a:lnTo>
                    <a:pt x="1324" y="365"/>
                  </a:lnTo>
                  <a:lnTo>
                    <a:pt x="1334" y="375"/>
                  </a:lnTo>
                  <a:lnTo>
                    <a:pt x="1346" y="385"/>
                  </a:lnTo>
                  <a:lnTo>
                    <a:pt x="1362" y="397"/>
                  </a:lnTo>
                  <a:lnTo>
                    <a:pt x="1381" y="410"/>
                  </a:lnTo>
                  <a:lnTo>
                    <a:pt x="1401" y="424"/>
                  </a:lnTo>
                  <a:lnTo>
                    <a:pt x="1421" y="437"/>
                  </a:lnTo>
                  <a:lnTo>
                    <a:pt x="1436" y="445"/>
                  </a:lnTo>
                  <a:lnTo>
                    <a:pt x="1447" y="454"/>
                  </a:lnTo>
                  <a:lnTo>
                    <a:pt x="1451" y="455"/>
                  </a:lnTo>
                  <a:lnTo>
                    <a:pt x="1489" y="509"/>
                  </a:lnTo>
                  <a:lnTo>
                    <a:pt x="1497" y="509"/>
                  </a:lnTo>
                  <a:lnTo>
                    <a:pt x="1517" y="509"/>
                  </a:lnTo>
                  <a:lnTo>
                    <a:pt x="1546" y="509"/>
                  </a:lnTo>
                  <a:lnTo>
                    <a:pt x="1581" y="509"/>
                  </a:lnTo>
                  <a:lnTo>
                    <a:pt x="1617" y="510"/>
                  </a:lnTo>
                  <a:lnTo>
                    <a:pt x="1651" y="514"/>
                  </a:lnTo>
                  <a:lnTo>
                    <a:pt x="1677" y="520"/>
                  </a:lnTo>
                  <a:lnTo>
                    <a:pt x="1694" y="527"/>
                  </a:lnTo>
                  <a:lnTo>
                    <a:pt x="1696" y="527"/>
                  </a:lnTo>
                  <a:lnTo>
                    <a:pt x="1702" y="525"/>
                  </a:lnTo>
                  <a:lnTo>
                    <a:pt x="1712" y="522"/>
                  </a:lnTo>
                  <a:lnTo>
                    <a:pt x="1722" y="520"/>
                  </a:lnTo>
                  <a:lnTo>
                    <a:pt x="1736" y="519"/>
                  </a:lnTo>
                  <a:lnTo>
                    <a:pt x="1747" y="515"/>
                  </a:lnTo>
                  <a:lnTo>
                    <a:pt x="1759" y="514"/>
                  </a:lnTo>
                  <a:lnTo>
                    <a:pt x="1769" y="514"/>
                  </a:lnTo>
                  <a:lnTo>
                    <a:pt x="1782" y="515"/>
                  </a:lnTo>
                  <a:lnTo>
                    <a:pt x="1801" y="519"/>
                  </a:lnTo>
                  <a:lnTo>
                    <a:pt x="1823" y="522"/>
                  </a:lnTo>
                  <a:lnTo>
                    <a:pt x="1848" y="527"/>
                  </a:lnTo>
                  <a:lnTo>
                    <a:pt x="1869" y="534"/>
                  </a:lnTo>
                  <a:lnTo>
                    <a:pt x="1889" y="537"/>
                  </a:lnTo>
                  <a:lnTo>
                    <a:pt x="1903" y="540"/>
                  </a:lnTo>
                  <a:lnTo>
                    <a:pt x="1908" y="542"/>
                  </a:lnTo>
                  <a:lnTo>
                    <a:pt x="1926" y="604"/>
                  </a:lnTo>
                  <a:lnTo>
                    <a:pt x="2044" y="604"/>
                  </a:lnTo>
                  <a:lnTo>
                    <a:pt x="2064" y="689"/>
                  </a:lnTo>
                  <a:lnTo>
                    <a:pt x="2071" y="692"/>
                  </a:lnTo>
                  <a:lnTo>
                    <a:pt x="2083" y="704"/>
                  </a:lnTo>
                  <a:lnTo>
                    <a:pt x="2093" y="722"/>
                  </a:lnTo>
                  <a:lnTo>
                    <a:pt x="2093" y="746"/>
                  </a:lnTo>
                  <a:lnTo>
                    <a:pt x="2116" y="784"/>
                  </a:lnTo>
                  <a:lnTo>
                    <a:pt x="2154" y="769"/>
                  </a:lnTo>
                  <a:lnTo>
                    <a:pt x="2158" y="774"/>
                  </a:lnTo>
                  <a:lnTo>
                    <a:pt x="2164" y="786"/>
                  </a:lnTo>
                  <a:lnTo>
                    <a:pt x="2169" y="801"/>
                  </a:lnTo>
                  <a:lnTo>
                    <a:pt x="2173" y="812"/>
                  </a:lnTo>
                  <a:lnTo>
                    <a:pt x="2176" y="824"/>
                  </a:lnTo>
                  <a:lnTo>
                    <a:pt x="2183" y="834"/>
                  </a:lnTo>
                  <a:lnTo>
                    <a:pt x="2189" y="842"/>
                  </a:lnTo>
                  <a:lnTo>
                    <a:pt x="2193" y="846"/>
                  </a:lnTo>
                  <a:lnTo>
                    <a:pt x="2201" y="822"/>
                  </a:lnTo>
                  <a:lnTo>
                    <a:pt x="2226" y="869"/>
                  </a:lnTo>
                  <a:lnTo>
                    <a:pt x="2228" y="869"/>
                  </a:lnTo>
                  <a:lnTo>
                    <a:pt x="2234" y="871"/>
                  </a:lnTo>
                  <a:lnTo>
                    <a:pt x="2244" y="874"/>
                  </a:lnTo>
                  <a:lnTo>
                    <a:pt x="2254" y="877"/>
                  </a:lnTo>
                  <a:lnTo>
                    <a:pt x="2266" y="882"/>
                  </a:lnTo>
                  <a:lnTo>
                    <a:pt x="2276" y="887"/>
                  </a:lnTo>
                  <a:lnTo>
                    <a:pt x="2284" y="894"/>
                  </a:lnTo>
                  <a:lnTo>
                    <a:pt x="2288" y="902"/>
                  </a:lnTo>
                  <a:lnTo>
                    <a:pt x="2289" y="921"/>
                  </a:lnTo>
                  <a:lnTo>
                    <a:pt x="2293" y="937"/>
                  </a:lnTo>
                  <a:lnTo>
                    <a:pt x="2296" y="952"/>
                  </a:lnTo>
                  <a:lnTo>
                    <a:pt x="2306" y="964"/>
                  </a:lnTo>
                  <a:lnTo>
                    <a:pt x="2316" y="979"/>
                  </a:lnTo>
                  <a:lnTo>
                    <a:pt x="2321" y="996"/>
                  </a:lnTo>
                  <a:lnTo>
                    <a:pt x="2318" y="1011"/>
                  </a:lnTo>
                  <a:lnTo>
                    <a:pt x="2311" y="1017"/>
                  </a:lnTo>
                  <a:lnTo>
                    <a:pt x="2303" y="1019"/>
                  </a:lnTo>
                  <a:lnTo>
                    <a:pt x="2299" y="1024"/>
                  </a:lnTo>
                  <a:lnTo>
                    <a:pt x="2301" y="1032"/>
                  </a:lnTo>
                  <a:lnTo>
                    <a:pt x="2306" y="1046"/>
                  </a:lnTo>
                  <a:lnTo>
                    <a:pt x="2313" y="1061"/>
                  </a:lnTo>
                  <a:lnTo>
                    <a:pt x="2319" y="1076"/>
                  </a:lnTo>
                  <a:lnTo>
                    <a:pt x="2324" y="1092"/>
                  </a:lnTo>
                  <a:lnTo>
                    <a:pt x="2329" y="1107"/>
                  </a:lnTo>
                  <a:lnTo>
                    <a:pt x="2336" y="1117"/>
                  </a:lnTo>
                  <a:lnTo>
                    <a:pt x="2344" y="1121"/>
                  </a:lnTo>
                  <a:lnTo>
                    <a:pt x="2351" y="1121"/>
                  </a:lnTo>
                  <a:lnTo>
                    <a:pt x="2354" y="1121"/>
                  </a:lnTo>
                  <a:lnTo>
                    <a:pt x="2356" y="1129"/>
                  </a:lnTo>
                  <a:lnTo>
                    <a:pt x="2365" y="1149"/>
                  </a:lnTo>
                  <a:lnTo>
                    <a:pt x="2375" y="1174"/>
                  </a:lnTo>
                  <a:lnTo>
                    <a:pt x="2388" y="1192"/>
                  </a:lnTo>
                  <a:lnTo>
                    <a:pt x="2395" y="1201"/>
                  </a:lnTo>
                  <a:lnTo>
                    <a:pt x="2400" y="1209"/>
                  </a:lnTo>
                  <a:lnTo>
                    <a:pt x="2405" y="1217"/>
                  </a:lnTo>
                  <a:lnTo>
                    <a:pt x="2411" y="1227"/>
                  </a:lnTo>
                  <a:lnTo>
                    <a:pt x="2416" y="1236"/>
                  </a:lnTo>
                  <a:lnTo>
                    <a:pt x="2425" y="1244"/>
                  </a:lnTo>
                  <a:lnTo>
                    <a:pt x="2433" y="1253"/>
                  </a:lnTo>
                  <a:lnTo>
                    <a:pt x="2445" y="1259"/>
                  </a:lnTo>
                  <a:lnTo>
                    <a:pt x="2456" y="1263"/>
                  </a:lnTo>
                  <a:lnTo>
                    <a:pt x="2468" y="1263"/>
                  </a:lnTo>
                  <a:lnTo>
                    <a:pt x="2478" y="1263"/>
                  </a:lnTo>
                  <a:lnTo>
                    <a:pt x="2486" y="1259"/>
                  </a:lnTo>
                  <a:lnTo>
                    <a:pt x="2493" y="1256"/>
                  </a:lnTo>
                  <a:lnTo>
                    <a:pt x="2498" y="1253"/>
                  </a:lnTo>
                  <a:lnTo>
                    <a:pt x="2500" y="1251"/>
                  </a:lnTo>
                  <a:lnTo>
                    <a:pt x="2501" y="1249"/>
                  </a:lnTo>
                  <a:lnTo>
                    <a:pt x="2520" y="1259"/>
                  </a:lnTo>
                  <a:lnTo>
                    <a:pt x="2501" y="1293"/>
                  </a:lnTo>
                  <a:lnTo>
                    <a:pt x="2501" y="1294"/>
                  </a:lnTo>
                  <a:lnTo>
                    <a:pt x="2501" y="1299"/>
                  </a:lnTo>
                  <a:lnTo>
                    <a:pt x="2503" y="1304"/>
                  </a:lnTo>
                  <a:lnTo>
                    <a:pt x="2511" y="1306"/>
                  </a:lnTo>
                  <a:lnTo>
                    <a:pt x="2521" y="1314"/>
                  </a:lnTo>
                  <a:lnTo>
                    <a:pt x="2531" y="1329"/>
                  </a:lnTo>
                  <a:lnTo>
                    <a:pt x="2536" y="1346"/>
                  </a:lnTo>
                  <a:lnTo>
                    <a:pt x="2540" y="1354"/>
                  </a:lnTo>
                  <a:lnTo>
                    <a:pt x="2541" y="1356"/>
                  </a:lnTo>
                  <a:lnTo>
                    <a:pt x="2546" y="1361"/>
                  </a:lnTo>
                  <a:lnTo>
                    <a:pt x="2553" y="1368"/>
                  </a:lnTo>
                  <a:lnTo>
                    <a:pt x="2561" y="1378"/>
                  </a:lnTo>
                  <a:lnTo>
                    <a:pt x="2571" y="1388"/>
                  </a:lnTo>
                  <a:lnTo>
                    <a:pt x="2583" y="1401"/>
                  </a:lnTo>
                  <a:lnTo>
                    <a:pt x="2595" y="1414"/>
                  </a:lnTo>
                  <a:lnTo>
                    <a:pt x="2606" y="1428"/>
                  </a:lnTo>
                  <a:lnTo>
                    <a:pt x="2618" y="1443"/>
                  </a:lnTo>
                  <a:lnTo>
                    <a:pt x="2631" y="1458"/>
                  </a:lnTo>
                  <a:lnTo>
                    <a:pt x="2645" y="1473"/>
                  </a:lnTo>
                  <a:lnTo>
                    <a:pt x="2658" y="1488"/>
                  </a:lnTo>
                  <a:lnTo>
                    <a:pt x="2670" y="1501"/>
                  </a:lnTo>
                  <a:lnTo>
                    <a:pt x="2680" y="1511"/>
                  </a:lnTo>
                  <a:lnTo>
                    <a:pt x="2688" y="1521"/>
                  </a:lnTo>
                  <a:lnTo>
                    <a:pt x="2691" y="1528"/>
                  </a:lnTo>
                  <a:lnTo>
                    <a:pt x="2701" y="1533"/>
                  </a:lnTo>
                  <a:lnTo>
                    <a:pt x="2723" y="1538"/>
                  </a:lnTo>
                  <a:lnTo>
                    <a:pt x="2753" y="1543"/>
                  </a:lnTo>
                  <a:lnTo>
                    <a:pt x="2790" y="1546"/>
                  </a:lnTo>
                  <a:lnTo>
                    <a:pt x="2828" y="1549"/>
                  </a:lnTo>
                  <a:lnTo>
                    <a:pt x="2863" y="1551"/>
                  </a:lnTo>
                  <a:lnTo>
                    <a:pt x="2891" y="1554"/>
                  </a:lnTo>
                  <a:lnTo>
                    <a:pt x="2910" y="1556"/>
                  </a:lnTo>
                  <a:lnTo>
                    <a:pt x="2925" y="1558"/>
                  </a:lnTo>
                  <a:lnTo>
                    <a:pt x="2945" y="1559"/>
                  </a:lnTo>
                  <a:lnTo>
                    <a:pt x="2968" y="1561"/>
                  </a:lnTo>
                  <a:lnTo>
                    <a:pt x="2992" y="1563"/>
                  </a:lnTo>
                  <a:lnTo>
                    <a:pt x="3013" y="1566"/>
                  </a:lnTo>
                  <a:lnTo>
                    <a:pt x="3033" y="1568"/>
                  </a:lnTo>
                  <a:lnTo>
                    <a:pt x="3048" y="1569"/>
                  </a:lnTo>
                  <a:lnTo>
                    <a:pt x="3057" y="1571"/>
                  </a:lnTo>
                  <a:lnTo>
                    <a:pt x="3070" y="1569"/>
                  </a:lnTo>
                  <a:lnTo>
                    <a:pt x="3083" y="1563"/>
                  </a:lnTo>
                  <a:lnTo>
                    <a:pt x="3095" y="1554"/>
                  </a:lnTo>
                  <a:lnTo>
                    <a:pt x="3100" y="1551"/>
                  </a:lnTo>
                  <a:lnTo>
                    <a:pt x="3102" y="1553"/>
                  </a:lnTo>
                  <a:lnTo>
                    <a:pt x="3105" y="1556"/>
                  </a:lnTo>
                  <a:lnTo>
                    <a:pt x="3112" y="1561"/>
                  </a:lnTo>
                  <a:lnTo>
                    <a:pt x="3120" y="1568"/>
                  </a:lnTo>
                  <a:lnTo>
                    <a:pt x="3130" y="1576"/>
                  </a:lnTo>
                  <a:lnTo>
                    <a:pt x="3140" y="1586"/>
                  </a:lnTo>
                  <a:lnTo>
                    <a:pt x="3152" y="1598"/>
                  </a:lnTo>
                  <a:lnTo>
                    <a:pt x="3162" y="1609"/>
                  </a:lnTo>
                  <a:lnTo>
                    <a:pt x="3172" y="1624"/>
                  </a:lnTo>
                  <a:lnTo>
                    <a:pt x="3180" y="1638"/>
                  </a:lnTo>
                  <a:lnTo>
                    <a:pt x="3183" y="1653"/>
                  </a:lnTo>
                  <a:lnTo>
                    <a:pt x="3185" y="1668"/>
                  </a:lnTo>
                  <a:lnTo>
                    <a:pt x="3185" y="1678"/>
                  </a:lnTo>
                  <a:lnTo>
                    <a:pt x="3183" y="1688"/>
                  </a:lnTo>
                  <a:lnTo>
                    <a:pt x="3180" y="1696"/>
                  </a:lnTo>
                  <a:lnTo>
                    <a:pt x="3175" y="1704"/>
                  </a:lnTo>
                  <a:lnTo>
                    <a:pt x="3168" y="1724"/>
                  </a:lnTo>
                  <a:lnTo>
                    <a:pt x="3168" y="1748"/>
                  </a:lnTo>
                  <a:lnTo>
                    <a:pt x="3168" y="1771"/>
                  </a:lnTo>
                  <a:lnTo>
                    <a:pt x="3167" y="1795"/>
                  </a:lnTo>
                  <a:lnTo>
                    <a:pt x="3162" y="1815"/>
                  </a:lnTo>
                  <a:lnTo>
                    <a:pt x="3153" y="1835"/>
                  </a:lnTo>
                  <a:lnTo>
                    <a:pt x="3145" y="1851"/>
                  </a:lnTo>
                  <a:lnTo>
                    <a:pt x="3138" y="1870"/>
                  </a:lnTo>
                  <a:lnTo>
                    <a:pt x="3132" y="1890"/>
                  </a:lnTo>
                  <a:lnTo>
                    <a:pt x="3125" y="1913"/>
                  </a:lnTo>
                  <a:lnTo>
                    <a:pt x="3120" y="1933"/>
                  </a:lnTo>
                  <a:lnTo>
                    <a:pt x="3118" y="1951"/>
                  </a:lnTo>
                  <a:lnTo>
                    <a:pt x="3117" y="1965"/>
                  </a:lnTo>
                  <a:lnTo>
                    <a:pt x="3115" y="1976"/>
                  </a:lnTo>
                  <a:lnTo>
                    <a:pt x="3108" y="1986"/>
                  </a:lnTo>
                  <a:lnTo>
                    <a:pt x="3100" y="1993"/>
                  </a:lnTo>
                  <a:lnTo>
                    <a:pt x="3093" y="1996"/>
                  </a:lnTo>
                  <a:lnTo>
                    <a:pt x="3078" y="2003"/>
                  </a:lnTo>
                  <a:lnTo>
                    <a:pt x="3057" y="2013"/>
                  </a:lnTo>
                  <a:lnTo>
                    <a:pt x="3028" y="2026"/>
                  </a:lnTo>
                  <a:lnTo>
                    <a:pt x="2997" y="2040"/>
                  </a:lnTo>
                  <a:lnTo>
                    <a:pt x="2962" y="2056"/>
                  </a:lnTo>
                  <a:lnTo>
                    <a:pt x="2923" y="2073"/>
                  </a:lnTo>
                  <a:lnTo>
                    <a:pt x="2885" y="2090"/>
                  </a:lnTo>
                  <a:lnTo>
                    <a:pt x="2845" y="2108"/>
                  </a:lnTo>
                  <a:lnTo>
                    <a:pt x="2806" y="2125"/>
                  </a:lnTo>
                  <a:lnTo>
                    <a:pt x="2770" y="2141"/>
                  </a:lnTo>
                  <a:lnTo>
                    <a:pt x="2736" y="2155"/>
                  </a:lnTo>
                  <a:lnTo>
                    <a:pt x="2708" y="2168"/>
                  </a:lnTo>
                  <a:lnTo>
                    <a:pt x="2685" y="2180"/>
                  </a:lnTo>
                  <a:lnTo>
                    <a:pt x="2668" y="2188"/>
                  </a:lnTo>
                  <a:lnTo>
                    <a:pt x="2658" y="2193"/>
                  </a:lnTo>
                  <a:lnTo>
                    <a:pt x="2645" y="2200"/>
                  </a:lnTo>
                  <a:lnTo>
                    <a:pt x="2628" y="2205"/>
                  </a:lnTo>
                  <a:lnTo>
                    <a:pt x="2608" y="2208"/>
                  </a:lnTo>
                  <a:lnTo>
                    <a:pt x="2586" y="2211"/>
                  </a:lnTo>
                  <a:lnTo>
                    <a:pt x="2561" y="2215"/>
                  </a:lnTo>
                  <a:lnTo>
                    <a:pt x="2535" y="2220"/>
                  </a:lnTo>
                  <a:lnTo>
                    <a:pt x="2508" y="2225"/>
                  </a:lnTo>
                  <a:lnTo>
                    <a:pt x="2481" y="2231"/>
                  </a:lnTo>
                  <a:lnTo>
                    <a:pt x="2466" y="2235"/>
                  </a:lnTo>
                  <a:lnTo>
                    <a:pt x="2446" y="2240"/>
                  </a:lnTo>
                  <a:lnTo>
                    <a:pt x="2425" y="2245"/>
                  </a:lnTo>
                  <a:lnTo>
                    <a:pt x="2398" y="2252"/>
                  </a:lnTo>
                  <a:lnTo>
                    <a:pt x="2371" y="2258"/>
                  </a:lnTo>
                  <a:lnTo>
                    <a:pt x="2343" y="2265"/>
                  </a:lnTo>
                  <a:lnTo>
                    <a:pt x="2313" y="2272"/>
                  </a:lnTo>
                  <a:lnTo>
                    <a:pt x="2283" y="2278"/>
                  </a:lnTo>
                  <a:lnTo>
                    <a:pt x="2253" y="2285"/>
                  </a:lnTo>
                  <a:lnTo>
                    <a:pt x="2224" y="2293"/>
                  </a:lnTo>
                  <a:lnTo>
                    <a:pt x="2198" y="2300"/>
                  </a:lnTo>
                  <a:lnTo>
                    <a:pt x="2173" y="2307"/>
                  </a:lnTo>
                  <a:lnTo>
                    <a:pt x="2151" y="2312"/>
                  </a:lnTo>
                  <a:lnTo>
                    <a:pt x="2134" y="2318"/>
                  </a:lnTo>
                  <a:lnTo>
                    <a:pt x="2119" y="2323"/>
                  </a:lnTo>
                  <a:lnTo>
                    <a:pt x="2111" y="2327"/>
                  </a:lnTo>
                  <a:lnTo>
                    <a:pt x="2098" y="2333"/>
                  </a:lnTo>
                  <a:lnTo>
                    <a:pt x="2086" y="2338"/>
                  </a:lnTo>
                  <a:lnTo>
                    <a:pt x="2071" y="2347"/>
                  </a:lnTo>
                  <a:lnTo>
                    <a:pt x="2058" y="2353"/>
                  </a:lnTo>
                  <a:lnTo>
                    <a:pt x="2043" y="2365"/>
                  </a:lnTo>
                  <a:lnTo>
                    <a:pt x="2028" y="2378"/>
                  </a:lnTo>
                  <a:lnTo>
                    <a:pt x="2011" y="2398"/>
                  </a:lnTo>
                  <a:lnTo>
                    <a:pt x="1993" y="2422"/>
                  </a:lnTo>
                  <a:lnTo>
                    <a:pt x="1976" y="2447"/>
                  </a:lnTo>
                  <a:lnTo>
                    <a:pt x="1961" y="2470"/>
                  </a:lnTo>
                  <a:lnTo>
                    <a:pt x="1946" y="2492"/>
                  </a:lnTo>
                  <a:lnTo>
                    <a:pt x="1933" y="2512"/>
                  </a:lnTo>
                  <a:lnTo>
                    <a:pt x="1923" y="2528"/>
                  </a:lnTo>
                  <a:lnTo>
                    <a:pt x="1913" y="2542"/>
                  </a:lnTo>
                  <a:lnTo>
                    <a:pt x="1904" y="2552"/>
                  </a:lnTo>
                  <a:lnTo>
                    <a:pt x="1898" y="2558"/>
                  </a:lnTo>
                  <a:lnTo>
                    <a:pt x="1891" y="2563"/>
                  </a:lnTo>
                  <a:lnTo>
                    <a:pt x="1884" y="2568"/>
                  </a:lnTo>
                  <a:lnTo>
                    <a:pt x="1874" y="2573"/>
                  </a:lnTo>
                  <a:lnTo>
                    <a:pt x="1864" y="2575"/>
                  </a:lnTo>
                  <a:lnTo>
                    <a:pt x="1853" y="2577"/>
                  </a:lnTo>
                  <a:lnTo>
                    <a:pt x="1843" y="2577"/>
                  </a:lnTo>
                  <a:lnTo>
                    <a:pt x="1833" y="2573"/>
                  </a:lnTo>
                  <a:lnTo>
                    <a:pt x="1823" y="2568"/>
                  </a:lnTo>
                  <a:lnTo>
                    <a:pt x="1814" y="2562"/>
                  </a:lnTo>
                  <a:lnTo>
                    <a:pt x="1806" y="2553"/>
                  </a:lnTo>
                  <a:lnTo>
                    <a:pt x="1799" y="2547"/>
                  </a:lnTo>
                  <a:lnTo>
                    <a:pt x="1794" y="2538"/>
                  </a:lnTo>
                  <a:lnTo>
                    <a:pt x="1787" y="2533"/>
                  </a:lnTo>
                  <a:lnTo>
                    <a:pt x="1781" y="2530"/>
                  </a:lnTo>
                  <a:lnTo>
                    <a:pt x="1772" y="2528"/>
                  </a:lnTo>
                  <a:lnTo>
                    <a:pt x="1764" y="2530"/>
                  </a:lnTo>
                  <a:lnTo>
                    <a:pt x="1752" y="2533"/>
                  </a:lnTo>
                  <a:lnTo>
                    <a:pt x="1739" y="2535"/>
                  </a:lnTo>
                  <a:lnTo>
                    <a:pt x="1722" y="2535"/>
                  </a:lnTo>
                  <a:lnTo>
                    <a:pt x="1704" y="2535"/>
                  </a:lnTo>
                  <a:lnTo>
                    <a:pt x="1684" y="2535"/>
                  </a:lnTo>
                  <a:lnTo>
                    <a:pt x="1666" y="2533"/>
                  </a:lnTo>
                  <a:lnTo>
                    <a:pt x="1647" y="2532"/>
                  </a:lnTo>
                  <a:lnTo>
                    <a:pt x="1632" y="2530"/>
                  </a:lnTo>
                  <a:lnTo>
                    <a:pt x="1617" y="2528"/>
                  </a:lnTo>
                  <a:lnTo>
                    <a:pt x="1602" y="2525"/>
                  </a:lnTo>
                  <a:lnTo>
                    <a:pt x="1589" y="2520"/>
                  </a:lnTo>
                  <a:lnTo>
                    <a:pt x="1574" y="2517"/>
                  </a:lnTo>
                  <a:lnTo>
                    <a:pt x="1561" y="2513"/>
                  </a:lnTo>
                  <a:lnTo>
                    <a:pt x="1549" y="2510"/>
                  </a:lnTo>
                  <a:lnTo>
                    <a:pt x="1537" y="2507"/>
                  </a:lnTo>
                  <a:lnTo>
                    <a:pt x="1527" y="2507"/>
                  </a:lnTo>
                  <a:lnTo>
                    <a:pt x="1514" y="2507"/>
                  </a:lnTo>
                  <a:lnTo>
                    <a:pt x="1492" y="2507"/>
                  </a:lnTo>
                  <a:lnTo>
                    <a:pt x="1466" y="2508"/>
                  </a:lnTo>
                  <a:lnTo>
                    <a:pt x="1436" y="2508"/>
                  </a:lnTo>
                  <a:lnTo>
                    <a:pt x="1409" y="2510"/>
                  </a:lnTo>
                  <a:lnTo>
                    <a:pt x="1386" y="2512"/>
                  </a:lnTo>
                  <a:lnTo>
                    <a:pt x="1369" y="2512"/>
                  </a:lnTo>
                  <a:lnTo>
                    <a:pt x="1362" y="2512"/>
                  </a:lnTo>
                  <a:lnTo>
                    <a:pt x="1361" y="2513"/>
                  </a:lnTo>
                  <a:lnTo>
                    <a:pt x="1356" y="2515"/>
                  </a:lnTo>
                  <a:lnTo>
                    <a:pt x="1349" y="2518"/>
                  </a:lnTo>
                  <a:lnTo>
                    <a:pt x="1339" y="2520"/>
                  </a:lnTo>
                  <a:lnTo>
                    <a:pt x="1329" y="2522"/>
                  </a:lnTo>
                  <a:lnTo>
                    <a:pt x="1317" y="2522"/>
                  </a:lnTo>
                  <a:lnTo>
                    <a:pt x="1304" y="2518"/>
                  </a:lnTo>
                  <a:lnTo>
                    <a:pt x="1292" y="2512"/>
                  </a:lnTo>
                  <a:lnTo>
                    <a:pt x="1281" y="2503"/>
                  </a:lnTo>
                  <a:lnTo>
                    <a:pt x="1272" y="2497"/>
                  </a:lnTo>
                  <a:lnTo>
                    <a:pt x="1266" y="2490"/>
                  </a:lnTo>
                  <a:lnTo>
                    <a:pt x="1261" y="2485"/>
                  </a:lnTo>
                  <a:lnTo>
                    <a:pt x="1256" y="2482"/>
                  </a:lnTo>
                  <a:lnTo>
                    <a:pt x="1250" y="2480"/>
                  </a:lnTo>
                  <a:lnTo>
                    <a:pt x="1245" y="2480"/>
                  </a:lnTo>
                  <a:lnTo>
                    <a:pt x="1239" y="2483"/>
                  </a:lnTo>
                  <a:lnTo>
                    <a:pt x="1232" y="2490"/>
                  </a:lnTo>
                  <a:lnTo>
                    <a:pt x="1235" y="2498"/>
                  </a:lnTo>
                  <a:lnTo>
                    <a:pt x="1240" y="2510"/>
                  </a:lnTo>
                  <a:lnTo>
                    <a:pt x="1239" y="2525"/>
                  </a:lnTo>
                  <a:lnTo>
                    <a:pt x="1234" y="2545"/>
                  </a:lnTo>
                  <a:lnTo>
                    <a:pt x="1232" y="2567"/>
                  </a:lnTo>
                  <a:lnTo>
                    <a:pt x="1234" y="2587"/>
                  </a:lnTo>
                  <a:lnTo>
                    <a:pt x="1234" y="2602"/>
                  </a:lnTo>
                  <a:lnTo>
                    <a:pt x="1230" y="2615"/>
                  </a:lnTo>
                  <a:lnTo>
                    <a:pt x="1225" y="2630"/>
                  </a:lnTo>
                  <a:lnTo>
                    <a:pt x="1219" y="2643"/>
                  </a:lnTo>
                  <a:lnTo>
                    <a:pt x="1215" y="2648"/>
                  </a:lnTo>
                  <a:lnTo>
                    <a:pt x="1177" y="2678"/>
                  </a:lnTo>
                  <a:lnTo>
                    <a:pt x="1175" y="2672"/>
                  </a:lnTo>
                  <a:lnTo>
                    <a:pt x="1170" y="2657"/>
                  </a:lnTo>
                  <a:lnTo>
                    <a:pt x="1167" y="2640"/>
                  </a:lnTo>
                  <a:lnTo>
                    <a:pt x="1167" y="2625"/>
                  </a:lnTo>
                  <a:lnTo>
                    <a:pt x="1167" y="2613"/>
                  </a:lnTo>
                  <a:lnTo>
                    <a:pt x="1164" y="2598"/>
                  </a:lnTo>
                  <a:lnTo>
                    <a:pt x="1154" y="2583"/>
                  </a:lnTo>
                  <a:lnTo>
                    <a:pt x="1144" y="2568"/>
                  </a:lnTo>
                  <a:lnTo>
                    <a:pt x="1134" y="2555"/>
                  </a:lnTo>
                  <a:lnTo>
                    <a:pt x="1124" y="2543"/>
                  </a:lnTo>
                  <a:lnTo>
                    <a:pt x="1115" y="2532"/>
                  </a:lnTo>
                  <a:lnTo>
                    <a:pt x="1110" y="2522"/>
                  </a:lnTo>
                  <a:lnTo>
                    <a:pt x="1107" y="2508"/>
                  </a:lnTo>
                  <a:lnTo>
                    <a:pt x="1104" y="2492"/>
                  </a:lnTo>
                  <a:lnTo>
                    <a:pt x="1095" y="2475"/>
                  </a:lnTo>
                  <a:lnTo>
                    <a:pt x="1082" y="2458"/>
                  </a:lnTo>
                  <a:lnTo>
                    <a:pt x="1072" y="2450"/>
                  </a:lnTo>
                  <a:lnTo>
                    <a:pt x="1059" y="2437"/>
                  </a:lnTo>
                  <a:lnTo>
                    <a:pt x="1044" y="2423"/>
                  </a:lnTo>
                  <a:lnTo>
                    <a:pt x="1029" y="2405"/>
                  </a:lnTo>
                  <a:lnTo>
                    <a:pt x="1014" y="2387"/>
                  </a:lnTo>
                  <a:lnTo>
                    <a:pt x="999" y="2368"/>
                  </a:lnTo>
                  <a:lnTo>
                    <a:pt x="987" y="2350"/>
                  </a:lnTo>
                  <a:lnTo>
                    <a:pt x="979" y="2332"/>
                  </a:lnTo>
                  <a:lnTo>
                    <a:pt x="964" y="2302"/>
                  </a:lnTo>
                  <a:lnTo>
                    <a:pt x="949" y="2280"/>
                  </a:lnTo>
                  <a:lnTo>
                    <a:pt x="937" y="2263"/>
                  </a:lnTo>
                  <a:lnTo>
                    <a:pt x="930" y="2245"/>
                  </a:lnTo>
                  <a:lnTo>
                    <a:pt x="927" y="2231"/>
                  </a:lnTo>
                  <a:lnTo>
                    <a:pt x="920" y="2211"/>
                  </a:lnTo>
                  <a:lnTo>
                    <a:pt x="910" y="2190"/>
                  </a:lnTo>
                  <a:lnTo>
                    <a:pt x="900" y="2166"/>
                  </a:lnTo>
                  <a:lnTo>
                    <a:pt x="890" y="2143"/>
                  </a:lnTo>
                  <a:lnTo>
                    <a:pt x="880" y="2123"/>
                  </a:lnTo>
                  <a:lnTo>
                    <a:pt x="870" y="2108"/>
                  </a:lnTo>
                  <a:lnTo>
                    <a:pt x="864" y="2098"/>
                  </a:lnTo>
                  <a:lnTo>
                    <a:pt x="854" y="2085"/>
                  </a:lnTo>
                  <a:lnTo>
                    <a:pt x="845" y="2071"/>
                  </a:lnTo>
                  <a:lnTo>
                    <a:pt x="834" y="2056"/>
                  </a:lnTo>
                  <a:lnTo>
                    <a:pt x="822" y="2041"/>
                  </a:lnTo>
                  <a:lnTo>
                    <a:pt x="814" y="2033"/>
                  </a:lnTo>
                  <a:lnTo>
                    <a:pt x="802" y="2025"/>
                  </a:lnTo>
                  <a:lnTo>
                    <a:pt x="790" y="2018"/>
                  </a:lnTo>
                  <a:lnTo>
                    <a:pt x="779" y="2010"/>
                  </a:lnTo>
                  <a:lnTo>
                    <a:pt x="765" y="2003"/>
                  </a:lnTo>
                  <a:lnTo>
                    <a:pt x="752" y="1998"/>
                  </a:lnTo>
                  <a:lnTo>
                    <a:pt x="740" y="1995"/>
                  </a:lnTo>
                  <a:lnTo>
                    <a:pt x="730" y="1993"/>
                  </a:lnTo>
                  <a:lnTo>
                    <a:pt x="722" y="1991"/>
                  </a:lnTo>
                  <a:lnTo>
                    <a:pt x="717" y="1988"/>
                  </a:lnTo>
                  <a:lnTo>
                    <a:pt x="710" y="1983"/>
                  </a:lnTo>
                  <a:lnTo>
                    <a:pt x="705" y="1975"/>
                  </a:lnTo>
                  <a:lnTo>
                    <a:pt x="700" y="1966"/>
                  </a:lnTo>
                  <a:lnTo>
                    <a:pt x="693" y="1953"/>
                  </a:lnTo>
                  <a:lnTo>
                    <a:pt x="685" y="1940"/>
                  </a:lnTo>
                  <a:lnTo>
                    <a:pt x="673" y="1923"/>
                  </a:lnTo>
                  <a:lnTo>
                    <a:pt x="662" y="1905"/>
                  </a:lnTo>
                  <a:lnTo>
                    <a:pt x="652" y="1886"/>
                  </a:lnTo>
                  <a:lnTo>
                    <a:pt x="642" y="1868"/>
                  </a:lnTo>
                  <a:lnTo>
                    <a:pt x="635" y="1851"/>
                  </a:lnTo>
                  <a:lnTo>
                    <a:pt x="628" y="1833"/>
                  </a:lnTo>
                  <a:lnTo>
                    <a:pt x="623" y="1818"/>
                  </a:lnTo>
                  <a:lnTo>
                    <a:pt x="620" y="1803"/>
                  </a:lnTo>
                  <a:lnTo>
                    <a:pt x="617" y="1790"/>
                  </a:lnTo>
                  <a:lnTo>
                    <a:pt x="612" y="1765"/>
                  </a:lnTo>
                  <a:lnTo>
                    <a:pt x="603" y="1741"/>
                  </a:lnTo>
                  <a:lnTo>
                    <a:pt x="597" y="1724"/>
                  </a:lnTo>
                  <a:lnTo>
                    <a:pt x="593" y="1718"/>
                  </a:lnTo>
                  <a:lnTo>
                    <a:pt x="600" y="1706"/>
                  </a:lnTo>
                  <a:lnTo>
                    <a:pt x="610" y="1676"/>
                  </a:lnTo>
                  <a:lnTo>
                    <a:pt x="617" y="1636"/>
                  </a:lnTo>
                  <a:lnTo>
                    <a:pt x="607" y="1594"/>
                  </a:lnTo>
                  <a:lnTo>
                    <a:pt x="590" y="1559"/>
                  </a:lnTo>
                  <a:lnTo>
                    <a:pt x="582" y="1531"/>
                  </a:lnTo>
                  <a:lnTo>
                    <a:pt x="573" y="1503"/>
                  </a:lnTo>
                  <a:lnTo>
                    <a:pt x="560" y="1471"/>
                  </a:lnTo>
                  <a:lnTo>
                    <a:pt x="552" y="1454"/>
                  </a:lnTo>
                  <a:lnTo>
                    <a:pt x="547" y="1439"/>
                  </a:lnTo>
                  <a:lnTo>
                    <a:pt x="542" y="1426"/>
                  </a:lnTo>
                  <a:lnTo>
                    <a:pt x="537" y="1413"/>
                  </a:lnTo>
                  <a:lnTo>
                    <a:pt x="532" y="1401"/>
                  </a:lnTo>
                  <a:lnTo>
                    <a:pt x="525" y="1393"/>
                  </a:lnTo>
                  <a:lnTo>
                    <a:pt x="518" y="1383"/>
                  </a:lnTo>
                  <a:lnTo>
                    <a:pt x="508" y="1376"/>
                  </a:lnTo>
                  <a:lnTo>
                    <a:pt x="497" y="1369"/>
                  </a:lnTo>
                  <a:lnTo>
                    <a:pt x="487" y="1361"/>
                  </a:lnTo>
                  <a:lnTo>
                    <a:pt x="475" y="1354"/>
                  </a:lnTo>
                  <a:lnTo>
                    <a:pt x="463" y="1346"/>
                  </a:lnTo>
                  <a:lnTo>
                    <a:pt x="452" y="1338"/>
                  </a:lnTo>
                  <a:lnTo>
                    <a:pt x="440" y="1329"/>
                  </a:lnTo>
                  <a:lnTo>
                    <a:pt x="427" y="1323"/>
                  </a:lnTo>
                  <a:lnTo>
                    <a:pt x="413" y="1316"/>
                  </a:lnTo>
                  <a:lnTo>
                    <a:pt x="392" y="1303"/>
                  </a:lnTo>
                  <a:lnTo>
                    <a:pt x="382" y="1286"/>
                  </a:lnTo>
                  <a:lnTo>
                    <a:pt x="375" y="1268"/>
                  </a:lnTo>
                  <a:lnTo>
                    <a:pt x="365" y="1249"/>
                  </a:lnTo>
                  <a:lnTo>
                    <a:pt x="355" y="1232"/>
                  </a:lnTo>
                  <a:lnTo>
                    <a:pt x="348" y="1219"/>
                  </a:lnTo>
                  <a:lnTo>
                    <a:pt x="347" y="1209"/>
                  </a:lnTo>
                  <a:lnTo>
                    <a:pt x="347" y="1206"/>
                  </a:lnTo>
                  <a:lnTo>
                    <a:pt x="348" y="1206"/>
                  </a:lnTo>
                  <a:lnTo>
                    <a:pt x="353" y="1204"/>
                  </a:lnTo>
                  <a:lnTo>
                    <a:pt x="360" y="1201"/>
                  </a:lnTo>
                  <a:lnTo>
                    <a:pt x="367" y="1194"/>
                  </a:lnTo>
                  <a:lnTo>
                    <a:pt x="370" y="1187"/>
                  </a:lnTo>
                  <a:lnTo>
                    <a:pt x="370" y="1176"/>
                  </a:lnTo>
                  <a:lnTo>
                    <a:pt x="365" y="1162"/>
                  </a:lnTo>
                  <a:lnTo>
                    <a:pt x="352" y="1144"/>
                  </a:lnTo>
                  <a:lnTo>
                    <a:pt x="330" y="1122"/>
                  </a:lnTo>
                  <a:lnTo>
                    <a:pt x="327" y="1122"/>
                  </a:lnTo>
                  <a:lnTo>
                    <a:pt x="330" y="1126"/>
                  </a:lnTo>
                  <a:lnTo>
                    <a:pt x="327" y="1112"/>
                  </a:lnTo>
                  <a:lnTo>
                    <a:pt x="320" y="1091"/>
                  </a:lnTo>
                  <a:lnTo>
                    <a:pt x="315" y="1076"/>
                  </a:lnTo>
                  <a:lnTo>
                    <a:pt x="308" y="1066"/>
                  </a:lnTo>
                  <a:lnTo>
                    <a:pt x="293" y="1054"/>
                  </a:lnTo>
                  <a:lnTo>
                    <a:pt x="283" y="1039"/>
                  </a:lnTo>
                  <a:lnTo>
                    <a:pt x="285" y="1024"/>
                  </a:lnTo>
                  <a:lnTo>
                    <a:pt x="287" y="1011"/>
                  </a:lnTo>
                  <a:lnTo>
                    <a:pt x="275" y="997"/>
                  </a:lnTo>
                  <a:lnTo>
                    <a:pt x="257" y="986"/>
                  </a:lnTo>
                  <a:lnTo>
                    <a:pt x="243" y="971"/>
                  </a:lnTo>
                  <a:lnTo>
                    <a:pt x="235" y="954"/>
                  </a:lnTo>
                  <a:lnTo>
                    <a:pt x="232" y="936"/>
                  </a:lnTo>
                  <a:lnTo>
                    <a:pt x="228" y="916"/>
                  </a:lnTo>
                  <a:lnTo>
                    <a:pt x="218" y="889"/>
                  </a:lnTo>
                  <a:lnTo>
                    <a:pt x="205" y="862"/>
                  </a:lnTo>
                  <a:lnTo>
                    <a:pt x="185" y="836"/>
                  </a:lnTo>
                  <a:lnTo>
                    <a:pt x="172" y="814"/>
                  </a:lnTo>
                  <a:lnTo>
                    <a:pt x="168" y="796"/>
                  </a:lnTo>
                  <a:lnTo>
                    <a:pt x="167" y="782"/>
                  </a:lnTo>
                  <a:lnTo>
                    <a:pt x="157" y="774"/>
                  </a:lnTo>
                  <a:lnTo>
                    <a:pt x="145" y="766"/>
                  </a:lnTo>
                  <a:lnTo>
                    <a:pt x="140" y="754"/>
                  </a:lnTo>
                  <a:lnTo>
                    <a:pt x="133" y="739"/>
                  </a:lnTo>
                  <a:lnTo>
                    <a:pt x="118" y="722"/>
                  </a:lnTo>
                  <a:lnTo>
                    <a:pt x="100" y="700"/>
                  </a:lnTo>
                  <a:lnTo>
                    <a:pt x="86" y="674"/>
                  </a:lnTo>
                  <a:lnTo>
                    <a:pt x="78" y="652"/>
                  </a:lnTo>
                  <a:lnTo>
                    <a:pt x="75" y="642"/>
                  </a:lnTo>
                  <a:lnTo>
                    <a:pt x="70" y="642"/>
                  </a:lnTo>
                  <a:lnTo>
                    <a:pt x="60" y="642"/>
                  </a:lnTo>
                  <a:lnTo>
                    <a:pt x="45" y="642"/>
                  </a:lnTo>
                  <a:lnTo>
                    <a:pt x="33" y="642"/>
                  </a:lnTo>
                  <a:lnTo>
                    <a:pt x="21" y="642"/>
                  </a:lnTo>
                  <a:lnTo>
                    <a:pt x="11" y="644"/>
                  </a:lnTo>
                  <a:lnTo>
                    <a:pt x="3" y="645"/>
                  </a:lnTo>
                  <a:lnTo>
                    <a:pt x="0" y="645"/>
                  </a:lnTo>
                  <a:lnTo>
                    <a:pt x="1" y="642"/>
                  </a:lnTo>
                  <a:lnTo>
                    <a:pt x="5" y="632"/>
                  </a:lnTo>
                  <a:lnTo>
                    <a:pt x="8" y="620"/>
                  </a:lnTo>
                  <a:lnTo>
                    <a:pt x="13" y="609"/>
                  </a:lnTo>
                  <a:lnTo>
                    <a:pt x="20" y="592"/>
                  </a:lnTo>
                  <a:lnTo>
                    <a:pt x="28" y="569"/>
                  </a:lnTo>
                  <a:lnTo>
                    <a:pt x="35" y="542"/>
                  </a:lnTo>
                  <a:lnTo>
                    <a:pt x="38" y="517"/>
                  </a:lnTo>
                  <a:lnTo>
                    <a:pt x="40" y="500"/>
                  </a:lnTo>
                  <a:lnTo>
                    <a:pt x="43" y="489"/>
                  </a:lnTo>
                  <a:lnTo>
                    <a:pt x="50" y="480"/>
                  </a:lnTo>
                  <a:lnTo>
                    <a:pt x="56" y="470"/>
                  </a:lnTo>
                  <a:lnTo>
                    <a:pt x="61" y="457"/>
                  </a:lnTo>
                  <a:lnTo>
                    <a:pt x="65" y="442"/>
                  </a:lnTo>
                  <a:lnTo>
                    <a:pt x="66" y="429"/>
                  </a:lnTo>
                  <a:lnTo>
                    <a:pt x="66" y="424"/>
                  </a:lnTo>
                  <a:lnTo>
                    <a:pt x="232" y="465"/>
                  </a:lnTo>
                  <a:lnTo>
                    <a:pt x="235" y="464"/>
                  </a:lnTo>
                  <a:lnTo>
                    <a:pt x="243" y="457"/>
                  </a:lnTo>
                  <a:lnTo>
                    <a:pt x="257" y="450"/>
                  </a:lnTo>
                  <a:lnTo>
                    <a:pt x="270" y="439"/>
                  </a:lnTo>
                  <a:lnTo>
                    <a:pt x="285" y="429"/>
                  </a:lnTo>
                  <a:lnTo>
                    <a:pt x="298" y="417"/>
                  </a:lnTo>
                  <a:lnTo>
                    <a:pt x="308" y="407"/>
                  </a:lnTo>
                  <a:lnTo>
                    <a:pt x="313" y="399"/>
                  </a:lnTo>
                  <a:lnTo>
                    <a:pt x="318" y="384"/>
                  </a:lnTo>
                  <a:lnTo>
                    <a:pt x="325" y="369"/>
                  </a:lnTo>
                  <a:lnTo>
                    <a:pt x="330" y="357"/>
                  </a:lnTo>
                  <a:lnTo>
                    <a:pt x="332" y="352"/>
                  </a:lnTo>
                  <a:lnTo>
                    <a:pt x="335" y="352"/>
                  </a:lnTo>
                  <a:lnTo>
                    <a:pt x="342" y="352"/>
                  </a:lnTo>
                  <a:lnTo>
                    <a:pt x="353" y="352"/>
                  </a:lnTo>
                  <a:lnTo>
                    <a:pt x="367" y="350"/>
                  </a:lnTo>
                  <a:lnTo>
                    <a:pt x="382" y="350"/>
                  </a:lnTo>
                  <a:lnTo>
                    <a:pt x="398" y="347"/>
                  </a:lnTo>
                  <a:lnTo>
                    <a:pt x="413" y="345"/>
                  </a:lnTo>
                  <a:lnTo>
                    <a:pt x="427" y="342"/>
                  </a:lnTo>
                  <a:lnTo>
                    <a:pt x="438" y="337"/>
                  </a:lnTo>
                  <a:lnTo>
                    <a:pt x="447" y="329"/>
                  </a:lnTo>
                  <a:lnTo>
                    <a:pt x="455" y="319"/>
                  </a:lnTo>
                  <a:lnTo>
                    <a:pt x="462" y="309"/>
                  </a:lnTo>
                  <a:lnTo>
                    <a:pt x="468" y="299"/>
                  </a:lnTo>
                  <a:lnTo>
                    <a:pt x="475" y="290"/>
                  </a:lnTo>
                  <a:lnTo>
                    <a:pt x="483" y="284"/>
                  </a:lnTo>
                  <a:lnTo>
                    <a:pt x="493" y="280"/>
                  </a:lnTo>
                  <a:lnTo>
                    <a:pt x="508" y="275"/>
                  </a:lnTo>
                  <a:lnTo>
                    <a:pt x="513" y="269"/>
                  </a:lnTo>
                  <a:lnTo>
                    <a:pt x="513" y="264"/>
                  </a:lnTo>
                  <a:lnTo>
                    <a:pt x="512" y="262"/>
                  </a:lnTo>
                  <a:lnTo>
                    <a:pt x="380" y="90"/>
                  </a:lnTo>
                  <a:close/>
                </a:path>
              </a:pathLst>
            </a:custGeom>
            <a:solidFill>
              <a:srgbClr val="b2b2b2">
                <a:alpha val="30000"/>
              </a:srgbClr>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80" name=""/>
          <p:cNvSpPr/>
          <p:nvPr/>
        </p:nvSpPr>
        <p:spPr>
          <a:xfrm>
            <a:off x="0" y="457200"/>
            <a:ext cx="914400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333399"/>
                </a:solidFill>
                <a:latin typeface="Albertus Medium"/>
              </a:rPr>
              <a:t>Nanotechnology</a:t>
            </a:r>
            <a:endParaRPr b="0" lang="en-US" sz="3600" spc="-1" strike="noStrike">
              <a:solidFill>
                <a:srgbClr val="000000"/>
              </a:solidFill>
              <a:latin typeface="Arial"/>
            </a:endParaRPr>
          </a:p>
        </p:txBody>
      </p:sp>
      <p:sp>
        <p:nvSpPr>
          <p:cNvPr id="81" name="PlaceHolder 1"/>
          <p:cNvSpPr>
            <a:spLocks noGrp="1"/>
          </p:cNvSpPr>
          <p:nvPr>
            <p:ph/>
          </p:nvPr>
        </p:nvSpPr>
        <p:spPr>
          <a:xfrm>
            <a:off x="1066680" y="1447920"/>
            <a:ext cx="7315200" cy="4525920"/>
          </a:xfrm>
          <a:prstGeom prst="rect">
            <a:avLst/>
          </a:prstGeom>
          <a:noFill/>
          <a:ln w="0">
            <a:noFill/>
          </a:ln>
        </p:spPr>
        <p:txBody>
          <a:bodyPr anchor="t">
            <a:normAutofit/>
          </a:bodyPr>
          <a:p>
            <a:pPr marL="341280" indent="-341280">
              <a:lnSpc>
                <a:spcPct val="90000"/>
              </a:lnSpc>
              <a:spcBef>
                <a:spcPts val="601"/>
              </a:spcBef>
              <a:buClr>
                <a:srgbClr val="333399"/>
              </a:buClr>
              <a:buFont typeface="Albertus Medium"/>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333399"/>
                </a:solidFill>
                <a:latin typeface="Albertus Medium"/>
              </a:rPr>
              <a:t>Shortened to "</a:t>
            </a:r>
            <a:r>
              <a:rPr b="1" lang="en-US" sz="2400" spc="-1" strike="noStrike">
                <a:solidFill>
                  <a:srgbClr val="333399"/>
                </a:solidFill>
                <a:latin typeface="Albertus Medium"/>
              </a:rPr>
              <a:t>Nanotech</a:t>
            </a:r>
            <a:r>
              <a:rPr b="0" lang="en-US" sz="2400" spc="-1" strike="noStrike">
                <a:solidFill>
                  <a:srgbClr val="333399"/>
                </a:solidFill>
                <a:latin typeface="Albertus Medium"/>
              </a:rPr>
              <a:t>", is the study of the control of matter on </a:t>
            </a:r>
            <a:r>
              <a:rPr b="0" lang="en-US" sz="2400" spc="-1" strike="noStrike" u="sng">
                <a:solidFill>
                  <a:srgbClr val="ccccff"/>
                </a:solidFill>
                <a:uFillTx/>
                <a:latin typeface="Albertus Medium"/>
                <a:hlinkClick r:id="rId4"/>
              </a:rPr>
              <a:t>atomic</a:t>
            </a:r>
            <a:r>
              <a:rPr b="0" lang="en-US" sz="2400" spc="-1" strike="noStrike">
                <a:solidFill>
                  <a:srgbClr val="333399"/>
                </a:solidFill>
                <a:latin typeface="Albertus Medium"/>
              </a:rPr>
              <a:t> and </a:t>
            </a:r>
            <a:r>
              <a:rPr b="0" lang="en-US" sz="2400" spc="-1" strike="noStrike" u="sng">
                <a:solidFill>
                  <a:srgbClr val="ccccff"/>
                </a:solidFill>
                <a:uFillTx/>
                <a:latin typeface="Albertus Medium"/>
                <a:hlinkClick r:id="rId5"/>
              </a:rPr>
              <a:t>molecular</a:t>
            </a:r>
            <a:r>
              <a:rPr b="0" lang="en-US" sz="2400" spc="-1" strike="noStrike">
                <a:solidFill>
                  <a:srgbClr val="333399"/>
                </a:solidFill>
                <a:latin typeface="Albertus Medium"/>
              </a:rPr>
              <a:t> scale. </a:t>
            </a:r>
            <a:endParaRPr b="0" lang="en-US" sz="2400" spc="-1" strike="noStrike">
              <a:solidFill>
                <a:srgbClr val="000000"/>
              </a:solidFill>
              <a:latin typeface="Arial"/>
            </a:endParaRPr>
          </a:p>
          <a:p>
            <a:pPr marL="341280" indent="0">
              <a:lnSpc>
                <a:spcPct val="9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000000"/>
              </a:solidFill>
              <a:latin typeface="Arial"/>
            </a:endParaRPr>
          </a:p>
          <a:p>
            <a:pPr marL="341280" indent="-341280">
              <a:lnSpc>
                <a:spcPct val="90000"/>
              </a:lnSpc>
              <a:spcBef>
                <a:spcPts val="601"/>
              </a:spcBef>
              <a:buClr>
                <a:srgbClr val="333399"/>
              </a:buClr>
              <a:buFont typeface="Albertus Medium"/>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333399"/>
                </a:solidFill>
                <a:latin typeface="Albertus Medium"/>
              </a:rPr>
              <a:t>A sophisticated field that requires a well established Institutes</a:t>
            </a:r>
            <a:endParaRPr b="0" lang="en-US" sz="2400" spc="-1" strike="noStrike">
              <a:solidFill>
                <a:srgbClr val="000000"/>
              </a:solidFill>
              <a:latin typeface="Arial"/>
            </a:endParaRPr>
          </a:p>
          <a:p>
            <a:pPr marL="341280" indent="0">
              <a:lnSpc>
                <a:spcPct val="9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000000"/>
              </a:solidFill>
              <a:latin typeface="Arial"/>
            </a:endParaRPr>
          </a:p>
          <a:p>
            <a:pPr marL="341280" indent="-341280">
              <a:lnSpc>
                <a:spcPct val="90000"/>
              </a:lnSpc>
              <a:spcBef>
                <a:spcPts val="601"/>
              </a:spcBef>
              <a:buClr>
                <a:srgbClr val="333399"/>
              </a:buClr>
              <a:buFont typeface="Albertus Medium"/>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333399"/>
                </a:solidFill>
                <a:latin typeface="Albertus Medium"/>
              </a:rPr>
              <a:t>Nanoscience is the study of phenomena and manipulation of materials at atomic, molecular and macromolecular scales, where the properties differ significantly from those at a larger scale </a:t>
            </a:r>
            <a:endParaRPr b="0" lang="en-US" sz="2400" spc="-1" strike="noStrike">
              <a:solidFill>
                <a:srgbClr val="000000"/>
              </a:solidFill>
              <a:latin typeface="Arial"/>
            </a:endParaRPr>
          </a:p>
          <a:p>
            <a:pPr marL="341280" indent="0">
              <a:lnSpc>
                <a:spcPct val="9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000000"/>
              </a:solidFill>
              <a:latin typeface="Arial"/>
            </a:endParaRPr>
          </a:p>
          <a:p>
            <a:pPr marL="343080" indent="0">
              <a:lnSpc>
                <a:spcPct val="90000"/>
              </a:lnSpc>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000000"/>
              </a:solidFill>
              <a:latin typeface="Arial"/>
            </a:endParaRPr>
          </a:p>
        </p:txBody>
      </p:sp>
      <p:sp>
        <p:nvSpPr>
          <p:cNvPr id="82" name=""/>
          <p:cNvSpPr/>
          <p:nvPr/>
        </p:nvSpPr>
        <p:spPr>
          <a:xfrm>
            <a:off x="609480" y="6629400"/>
            <a:ext cx="8534520" cy="228600"/>
          </a:xfrm>
          <a:prstGeom prst="rect">
            <a:avLst/>
          </a:prstGeom>
          <a:solidFill>
            <a:srgbClr val="bbe0e3"/>
          </a:solidFill>
          <a:ln cap="sq"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99"/>
                </a:solidFill>
                <a:latin typeface="Albertus Medium"/>
              </a:rPr>
              <a:t>www.skinandallergy.org</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0" lang="en-US" sz="1000" spc="-1" strike="noStrike">
                <a:solidFill>
                  <a:srgbClr val="333399"/>
                </a:solidFill>
                <a:latin typeface="Albertus Medium"/>
              </a:rPr>
              <a:t>www.panarabderm.org</a:t>
            </a:r>
            <a:endParaRPr b="0" lang="en-US" sz="10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39" name="" descr=""/>
          <p:cNvPicPr/>
          <p:nvPr/>
        </p:nvPicPr>
        <p:blipFill>
          <a:blip r:embed="rId2"/>
          <a:stretch/>
        </p:blipFill>
        <p:spPr>
          <a:xfrm>
            <a:off x="8153280" y="74520"/>
            <a:ext cx="922320" cy="992160"/>
          </a:xfrm>
          <a:prstGeom prst="rect">
            <a:avLst/>
          </a:prstGeom>
          <a:ln w="0">
            <a:noFill/>
          </a:ln>
        </p:spPr>
      </p:pic>
      <p:sp>
        <p:nvSpPr>
          <p:cNvPr id="440" name=""/>
          <p:cNvSpPr/>
          <p:nvPr/>
        </p:nvSpPr>
        <p:spPr>
          <a:xfrm>
            <a:off x="1295280" y="1066680"/>
            <a:ext cx="6193080" cy="1800"/>
          </a:xfrm>
          <a:prstGeom prst="line">
            <a:avLst/>
          </a:prstGeom>
          <a:ln cap="sq" w="12600">
            <a:solidFill>
              <a:srgbClr val="b2b2b2"/>
            </a:solidFill>
            <a:miter/>
          </a:ln>
        </p:spPr>
        <p:style>
          <a:lnRef idx="0"/>
          <a:fillRef idx="0"/>
          <a:effectRef idx="0"/>
          <a:fontRef idx="minor"/>
        </p:style>
        <p:txBody>
          <a:bodyPr lIns="90000" rIns="90000" tIns="-45000" bIns="-45000" anchor="t">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441" name="" descr=""/>
          <p:cNvPicPr/>
          <p:nvPr/>
        </p:nvPicPr>
        <p:blipFill>
          <a:blip r:embed="rId3"/>
          <a:stretch/>
        </p:blipFill>
        <p:spPr>
          <a:xfrm>
            <a:off x="0" y="0"/>
            <a:ext cx="600120" cy="6858000"/>
          </a:xfrm>
          <a:prstGeom prst="rect">
            <a:avLst/>
          </a:prstGeom>
          <a:ln w="0">
            <a:noFill/>
          </a:ln>
        </p:spPr>
      </p:pic>
      <p:grpSp>
        <p:nvGrpSpPr>
          <p:cNvPr id="442" name=""/>
          <p:cNvGrpSpPr/>
          <p:nvPr/>
        </p:nvGrpSpPr>
        <p:grpSpPr>
          <a:xfrm>
            <a:off x="2639880" y="1346040"/>
            <a:ext cx="4521240" cy="3986280"/>
            <a:chOff x="2639880" y="1346040"/>
            <a:chExt cx="4521240" cy="3986280"/>
          </a:xfrm>
        </p:grpSpPr>
        <p:sp>
          <p:nvSpPr>
            <p:cNvPr id="443" name=""/>
            <p:cNvSpPr/>
            <p:nvPr/>
          </p:nvSpPr>
          <p:spPr>
            <a:xfrm>
              <a:off x="2639880" y="2319480"/>
              <a:ext cx="1721160" cy="3012840"/>
            </a:xfrm>
            <a:custGeom>
              <a:avLst/>
              <a:gdLst/>
              <a:ahLst/>
              <a:rect l="l" t="t" r="r" b="b"/>
              <a:pathLst>
                <a:path w="1261" h="2255">
                  <a:moveTo>
                    <a:pt x="1257" y="2027"/>
                  </a:moveTo>
                  <a:lnTo>
                    <a:pt x="1257" y="2015"/>
                  </a:lnTo>
                  <a:lnTo>
                    <a:pt x="1252" y="2000"/>
                  </a:lnTo>
                  <a:lnTo>
                    <a:pt x="1244" y="1985"/>
                  </a:lnTo>
                  <a:lnTo>
                    <a:pt x="1232" y="1970"/>
                  </a:lnTo>
                  <a:lnTo>
                    <a:pt x="1222" y="1956"/>
                  </a:lnTo>
                  <a:lnTo>
                    <a:pt x="1212" y="1945"/>
                  </a:lnTo>
                  <a:lnTo>
                    <a:pt x="1204" y="1933"/>
                  </a:lnTo>
                  <a:lnTo>
                    <a:pt x="1199" y="1921"/>
                  </a:lnTo>
                  <a:lnTo>
                    <a:pt x="1197" y="1910"/>
                  </a:lnTo>
                  <a:lnTo>
                    <a:pt x="1192" y="1893"/>
                  </a:lnTo>
                  <a:lnTo>
                    <a:pt x="1186" y="1876"/>
                  </a:lnTo>
                  <a:lnTo>
                    <a:pt x="1171" y="1860"/>
                  </a:lnTo>
                  <a:lnTo>
                    <a:pt x="1161" y="1851"/>
                  </a:lnTo>
                  <a:lnTo>
                    <a:pt x="1147" y="1838"/>
                  </a:lnTo>
                  <a:lnTo>
                    <a:pt x="1132" y="1823"/>
                  </a:lnTo>
                  <a:lnTo>
                    <a:pt x="1117" y="1806"/>
                  </a:lnTo>
                  <a:lnTo>
                    <a:pt x="1102" y="1788"/>
                  </a:lnTo>
                  <a:lnTo>
                    <a:pt x="1087" y="1770"/>
                  </a:lnTo>
                  <a:lnTo>
                    <a:pt x="1076" y="1750"/>
                  </a:lnTo>
                  <a:lnTo>
                    <a:pt x="1067" y="1731"/>
                  </a:lnTo>
                  <a:lnTo>
                    <a:pt x="1052" y="1703"/>
                  </a:lnTo>
                  <a:lnTo>
                    <a:pt x="1037" y="1681"/>
                  </a:lnTo>
                  <a:lnTo>
                    <a:pt x="1026" y="1665"/>
                  </a:lnTo>
                  <a:lnTo>
                    <a:pt x="1019" y="1646"/>
                  </a:lnTo>
                  <a:lnTo>
                    <a:pt x="1016" y="1633"/>
                  </a:lnTo>
                  <a:lnTo>
                    <a:pt x="1009" y="1613"/>
                  </a:lnTo>
                  <a:lnTo>
                    <a:pt x="999" y="1591"/>
                  </a:lnTo>
                  <a:lnTo>
                    <a:pt x="989" y="1568"/>
                  </a:lnTo>
                  <a:lnTo>
                    <a:pt x="979" y="1545"/>
                  </a:lnTo>
                  <a:lnTo>
                    <a:pt x="969" y="1525"/>
                  </a:lnTo>
                  <a:lnTo>
                    <a:pt x="959" y="1508"/>
                  </a:lnTo>
                  <a:lnTo>
                    <a:pt x="952" y="1499"/>
                  </a:lnTo>
                  <a:lnTo>
                    <a:pt x="942" y="1486"/>
                  </a:lnTo>
                  <a:lnTo>
                    <a:pt x="934" y="1473"/>
                  </a:lnTo>
                  <a:lnTo>
                    <a:pt x="922" y="1458"/>
                  </a:lnTo>
                  <a:lnTo>
                    <a:pt x="911" y="1443"/>
                  </a:lnTo>
                  <a:lnTo>
                    <a:pt x="902" y="1434"/>
                  </a:lnTo>
                  <a:lnTo>
                    <a:pt x="891" y="1426"/>
                  </a:lnTo>
                  <a:lnTo>
                    <a:pt x="879" y="1419"/>
                  </a:lnTo>
                  <a:lnTo>
                    <a:pt x="867" y="1411"/>
                  </a:lnTo>
                  <a:lnTo>
                    <a:pt x="854" y="1404"/>
                  </a:lnTo>
                  <a:lnTo>
                    <a:pt x="842" y="1399"/>
                  </a:lnTo>
                  <a:lnTo>
                    <a:pt x="831" y="1396"/>
                  </a:lnTo>
                  <a:lnTo>
                    <a:pt x="820" y="1394"/>
                  </a:lnTo>
                  <a:lnTo>
                    <a:pt x="812" y="1393"/>
                  </a:lnTo>
                  <a:lnTo>
                    <a:pt x="805" y="1389"/>
                  </a:lnTo>
                  <a:lnTo>
                    <a:pt x="800" y="1384"/>
                  </a:lnTo>
                  <a:lnTo>
                    <a:pt x="794" y="1376"/>
                  </a:lnTo>
                  <a:lnTo>
                    <a:pt x="789" y="1368"/>
                  </a:lnTo>
                  <a:lnTo>
                    <a:pt x="782" y="1354"/>
                  </a:lnTo>
                  <a:lnTo>
                    <a:pt x="774" y="1341"/>
                  </a:lnTo>
                  <a:lnTo>
                    <a:pt x="762" y="1324"/>
                  </a:lnTo>
                  <a:lnTo>
                    <a:pt x="750" y="1306"/>
                  </a:lnTo>
                  <a:lnTo>
                    <a:pt x="740" y="1288"/>
                  </a:lnTo>
                  <a:lnTo>
                    <a:pt x="732" y="1269"/>
                  </a:lnTo>
                  <a:lnTo>
                    <a:pt x="724" y="1253"/>
                  </a:lnTo>
                  <a:lnTo>
                    <a:pt x="717" y="1234"/>
                  </a:lnTo>
                  <a:lnTo>
                    <a:pt x="712" y="1219"/>
                  </a:lnTo>
                  <a:lnTo>
                    <a:pt x="709" y="1204"/>
                  </a:lnTo>
                  <a:lnTo>
                    <a:pt x="705" y="1191"/>
                  </a:lnTo>
                  <a:lnTo>
                    <a:pt x="700" y="1166"/>
                  </a:lnTo>
                  <a:lnTo>
                    <a:pt x="692" y="1143"/>
                  </a:lnTo>
                  <a:lnTo>
                    <a:pt x="685" y="1126"/>
                  </a:lnTo>
                  <a:lnTo>
                    <a:pt x="682" y="1119"/>
                  </a:lnTo>
                  <a:lnTo>
                    <a:pt x="689" y="1108"/>
                  </a:lnTo>
                  <a:lnTo>
                    <a:pt x="700" y="1078"/>
                  </a:lnTo>
                  <a:lnTo>
                    <a:pt x="707" y="1038"/>
                  </a:lnTo>
                  <a:lnTo>
                    <a:pt x="697" y="996"/>
                  </a:lnTo>
                  <a:lnTo>
                    <a:pt x="680" y="961"/>
                  </a:lnTo>
                  <a:lnTo>
                    <a:pt x="670" y="932"/>
                  </a:lnTo>
                  <a:lnTo>
                    <a:pt x="662" y="904"/>
                  </a:lnTo>
                  <a:lnTo>
                    <a:pt x="649" y="872"/>
                  </a:lnTo>
                  <a:lnTo>
                    <a:pt x="640" y="856"/>
                  </a:lnTo>
                  <a:lnTo>
                    <a:pt x="635" y="839"/>
                  </a:lnTo>
                  <a:lnTo>
                    <a:pt x="630" y="826"/>
                  </a:lnTo>
                  <a:lnTo>
                    <a:pt x="625" y="814"/>
                  </a:lnTo>
                  <a:lnTo>
                    <a:pt x="620" y="802"/>
                  </a:lnTo>
                  <a:lnTo>
                    <a:pt x="614" y="792"/>
                  </a:lnTo>
                  <a:lnTo>
                    <a:pt x="607" y="784"/>
                  </a:lnTo>
                  <a:lnTo>
                    <a:pt x="597" y="777"/>
                  </a:lnTo>
                  <a:lnTo>
                    <a:pt x="587" y="771"/>
                  </a:lnTo>
                  <a:lnTo>
                    <a:pt x="575" y="762"/>
                  </a:lnTo>
                  <a:lnTo>
                    <a:pt x="565" y="754"/>
                  </a:lnTo>
                  <a:lnTo>
                    <a:pt x="554" y="744"/>
                  </a:lnTo>
                  <a:lnTo>
                    <a:pt x="542" y="736"/>
                  </a:lnTo>
                  <a:lnTo>
                    <a:pt x="529" y="729"/>
                  </a:lnTo>
                  <a:lnTo>
                    <a:pt x="515" y="721"/>
                  </a:lnTo>
                  <a:lnTo>
                    <a:pt x="502" y="716"/>
                  </a:lnTo>
                  <a:lnTo>
                    <a:pt x="480" y="702"/>
                  </a:lnTo>
                  <a:lnTo>
                    <a:pt x="470" y="686"/>
                  </a:lnTo>
                  <a:lnTo>
                    <a:pt x="464" y="667"/>
                  </a:lnTo>
                  <a:lnTo>
                    <a:pt x="454" y="649"/>
                  </a:lnTo>
                  <a:lnTo>
                    <a:pt x="444" y="634"/>
                  </a:lnTo>
                  <a:lnTo>
                    <a:pt x="437" y="621"/>
                  </a:lnTo>
                  <a:lnTo>
                    <a:pt x="435" y="611"/>
                  </a:lnTo>
                  <a:lnTo>
                    <a:pt x="435" y="607"/>
                  </a:lnTo>
                  <a:lnTo>
                    <a:pt x="437" y="607"/>
                  </a:lnTo>
                  <a:lnTo>
                    <a:pt x="442" y="606"/>
                  </a:lnTo>
                  <a:lnTo>
                    <a:pt x="449" y="602"/>
                  </a:lnTo>
                  <a:lnTo>
                    <a:pt x="455" y="596"/>
                  </a:lnTo>
                  <a:lnTo>
                    <a:pt x="459" y="589"/>
                  </a:lnTo>
                  <a:lnTo>
                    <a:pt x="459" y="577"/>
                  </a:lnTo>
                  <a:lnTo>
                    <a:pt x="454" y="564"/>
                  </a:lnTo>
                  <a:lnTo>
                    <a:pt x="440" y="546"/>
                  </a:lnTo>
                  <a:lnTo>
                    <a:pt x="434" y="539"/>
                  </a:lnTo>
                  <a:lnTo>
                    <a:pt x="429" y="532"/>
                  </a:lnTo>
                  <a:lnTo>
                    <a:pt x="424" y="529"/>
                  </a:lnTo>
                  <a:lnTo>
                    <a:pt x="420" y="526"/>
                  </a:lnTo>
                  <a:lnTo>
                    <a:pt x="419" y="527"/>
                  </a:lnTo>
                  <a:lnTo>
                    <a:pt x="415" y="526"/>
                  </a:lnTo>
                  <a:lnTo>
                    <a:pt x="415" y="522"/>
                  </a:lnTo>
                  <a:lnTo>
                    <a:pt x="420" y="526"/>
                  </a:lnTo>
                  <a:lnTo>
                    <a:pt x="420" y="524"/>
                  </a:lnTo>
                  <a:lnTo>
                    <a:pt x="419" y="521"/>
                  </a:lnTo>
                  <a:lnTo>
                    <a:pt x="419" y="517"/>
                  </a:lnTo>
                  <a:lnTo>
                    <a:pt x="417" y="512"/>
                  </a:lnTo>
                  <a:lnTo>
                    <a:pt x="409" y="490"/>
                  </a:lnTo>
                  <a:lnTo>
                    <a:pt x="405" y="477"/>
                  </a:lnTo>
                  <a:lnTo>
                    <a:pt x="399" y="467"/>
                  </a:lnTo>
                  <a:lnTo>
                    <a:pt x="384" y="455"/>
                  </a:lnTo>
                  <a:lnTo>
                    <a:pt x="372" y="440"/>
                  </a:lnTo>
                  <a:lnTo>
                    <a:pt x="374" y="425"/>
                  </a:lnTo>
                  <a:lnTo>
                    <a:pt x="375" y="412"/>
                  </a:lnTo>
                  <a:lnTo>
                    <a:pt x="364" y="399"/>
                  </a:lnTo>
                  <a:lnTo>
                    <a:pt x="345" y="387"/>
                  </a:lnTo>
                  <a:lnTo>
                    <a:pt x="332" y="372"/>
                  </a:lnTo>
                  <a:lnTo>
                    <a:pt x="325" y="355"/>
                  </a:lnTo>
                  <a:lnTo>
                    <a:pt x="322" y="337"/>
                  </a:lnTo>
                  <a:lnTo>
                    <a:pt x="319" y="317"/>
                  </a:lnTo>
                  <a:lnTo>
                    <a:pt x="309" y="290"/>
                  </a:lnTo>
                  <a:lnTo>
                    <a:pt x="294" y="264"/>
                  </a:lnTo>
                  <a:lnTo>
                    <a:pt x="273" y="237"/>
                  </a:lnTo>
                  <a:lnTo>
                    <a:pt x="260" y="215"/>
                  </a:lnTo>
                  <a:lnTo>
                    <a:pt x="257" y="197"/>
                  </a:lnTo>
                  <a:lnTo>
                    <a:pt x="255" y="184"/>
                  </a:lnTo>
                  <a:lnTo>
                    <a:pt x="245" y="175"/>
                  </a:lnTo>
                  <a:lnTo>
                    <a:pt x="233" y="167"/>
                  </a:lnTo>
                  <a:lnTo>
                    <a:pt x="228" y="154"/>
                  </a:lnTo>
                  <a:lnTo>
                    <a:pt x="222" y="140"/>
                  </a:lnTo>
                  <a:lnTo>
                    <a:pt x="207" y="124"/>
                  </a:lnTo>
                  <a:lnTo>
                    <a:pt x="188" y="100"/>
                  </a:lnTo>
                  <a:lnTo>
                    <a:pt x="175" y="74"/>
                  </a:lnTo>
                  <a:lnTo>
                    <a:pt x="168" y="52"/>
                  </a:lnTo>
                  <a:lnTo>
                    <a:pt x="165" y="42"/>
                  </a:lnTo>
                  <a:lnTo>
                    <a:pt x="160" y="42"/>
                  </a:lnTo>
                  <a:lnTo>
                    <a:pt x="148" y="42"/>
                  </a:lnTo>
                  <a:lnTo>
                    <a:pt x="133" y="42"/>
                  </a:lnTo>
                  <a:lnTo>
                    <a:pt x="122" y="42"/>
                  </a:lnTo>
                  <a:lnTo>
                    <a:pt x="110" y="42"/>
                  </a:lnTo>
                  <a:lnTo>
                    <a:pt x="100" y="44"/>
                  </a:lnTo>
                  <a:lnTo>
                    <a:pt x="92" y="47"/>
                  </a:lnTo>
                  <a:lnTo>
                    <a:pt x="88" y="47"/>
                  </a:lnTo>
                  <a:lnTo>
                    <a:pt x="90" y="44"/>
                  </a:lnTo>
                  <a:lnTo>
                    <a:pt x="93" y="34"/>
                  </a:lnTo>
                  <a:lnTo>
                    <a:pt x="98" y="20"/>
                  </a:lnTo>
                  <a:lnTo>
                    <a:pt x="103" y="8"/>
                  </a:lnTo>
                  <a:lnTo>
                    <a:pt x="103" y="8"/>
                  </a:lnTo>
                  <a:lnTo>
                    <a:pt x="103" y="8"/>
                  </a:lnTo>
                  <a:lnTo>
                    <a:pt x="103" y="8"/>
                  </a:lnTo>
                  <a:lnTo>
                    <a:pt x="103" y="8"/>
                  </a:lnTo>
                  <a:lnTo>
                    <a:pt x="67" y="0"/>
                  </a:lnTo>
                  <a:lnTo>
                    <a:pt x="67" y="5"/>
                  </a:lnTo>
                  <a:lnTo>
                    <a:pt x="65" y="19"/>
                  </a:lnTo>
                  <a:lnTo>
                    <a:pt x="62" y="34"/>
                  </a:lnTo>
                  <a:lnTo>
                    <a:pt x="57" y="47"/>
                  </a:lnTo>
                  <a:lnTo>
                    <a:pt x="50" y="57"/>
                  </a:lnTo>
                  <a:lnTo>
                    <a:pt x="45" y="65"/>
                  </a:lnTo>
                  <a:lnTo>
                    <a:pt x="40" y="79"/>
                  </a:lnTo>
                  <a:lnTo>
                    <a:pt x="38" y="95"/>
                  </a:lnTo>
                  <a:lnTo>
                    <a:pt x="35" y="119"/>
                  </a:lnTo>
                  <a:lnTo>
                    <a:pt x="28" y="145"/>
                  </a:lnTo>
                  <a:lnTo>
                    <a:pt x="20" y="169"/>
                  </a:lnTo>
                  <a:lnTo>
                    <a:pt x="15" y="185"/>
                  </a:lnTo>
                  <a:lnTo>
                    <a:pt x="10" y="197"/>
                  </a:lnTo>
                  <a:lnTo>
                    <a:pt x="5" y="209"/>
                  </a:lnTo>
                  <a:lnTo>
                    <a:pt x="2" y="220"/>
                  </a:lnTo>
                  <a:lnTo>
                    <a:pt x="0" y="224"/>
                  </a:lnTo>
                  <a:lnTo>
                    <a:pt x="3" y="224"/>
                  </a:lnTo>
                  <a:lnTo>
                    <a:pt x="12" y="220"/>
                  </a:lnTo>
                  <a:lnTo>
                    <a:pt x="23" y="219"/>
                  </a:lnTo>
                  <a:lnTo>
                    <a:pt x="33" y="219"/>
                  </a:lnTo>
                  <a:lnTo>
                    <a:pt x="47" y="219"/>
                  </a:lnTo>
                  <a:lnTo>
                    <a:pt x="60" y="219"/>
                  </a:lnTo>
                  <a:lnTo>
                    <a:pt x="72" y="219"/>
                  </a:lnTo>
                  <a:lnTo>
                    <a:pt x="77" y="219"/>
                  </a:lnTo>
                  <a:lnTo>
                    <a:pt x="80" y="229"/>
                  </a:lnTo>
                  <a:lnTo>
                    <a:pt x="87" y="250"/>
                  </a:lnTo>
                  <a:lnTo>
                    <a:pt x="100" y="277"/>
                  </a:lnTo>
                  <a:lnTo>
                    <a:pt x="118" y="299"/>
                  </a:lnTo>
                  <a:lnTo>
                    <a:pt x="133" y="315"/>
                  </a:lnTo>
                  <a:lnTo>
                    <a:pt x="140" y="330"/>
                  </a:lnTo>
                  <a:lnTo>
                    <a:pt x="145" y="342"/>
                  </a:lnTo>
                  <a:lnTo>
                    <a:pt x="157" y="352"/>
                  </a:lnTo>
                  <a:lnTo>
                    <a:pt x="167" y="360"/>
                  </a:lnTo>
                  <a:lnTo>
                    <a:pt x="168" y="374"/>
                  </a:lnTo>
                  <a:lnTo>
                    <a:pt x="172" y="390"/>
                  </a:lnTo>
                  <a:lnTo>
                    <a:pt x="185" y="414"/>
                  </a:lnTo>
                  <a:lnTo>
                    <a:pt x="205" y="440"/>
                  </a:lnTo>
                  <a:lnTo>
                    <a:pt x="220" y="467"/>
                  </a:lnTo>
                  <a:lnTo>
                    <a:pt x="230" y="492"/>
                  </a:lnTo>
                  <a:lnTo>
                    <a:pt x="233" y="512"/>
                  </a:lnTo>
                  <a:lnTo>
                    <a:pt x="237" y="531"/>
                  </a:lnTo>
                  <a:lnTo>
                    <a:pt x="243" y="547"/>
                  </a:lnTo>
                  <a:lnTo>
                    <a:pt x="257" y="562"/>
                  </a:lnTo>
                  <a:lnTo>
                    <a:pt x="275" y="574"/>
                  </a:lnTo>
                  <a:lnTo>
                    <a:pt x="287" y="587"/>
                  </a:lnTo>
                  <a:lnTo>
                    <a:pt x="285" y="601"/>
                  </a:lnTo>
                  <a:lnTo>
                    <a:pt x="284" y="617"/>
                  </a:lnTo>
                  <a:lnTo>
                    <a:pt x="295" y="632"/>
                  </a:lnTo>
                  <a:lnTo>
                    <a:pt x="310" y="642"/>
                  </a:lnTo>
                  <a:lnTo>
                    <a:pt x="317" y="652"/>
                  </a:lnTo>
                  <a:lnTo>
                    <a:pt x="320" y="666"/>
                  </a:lnTo>
                  <a:lnTo>
                    <a:pt x="329" y="687"/>
                  </a:lnTo>
                  <a:lnTo>
                    <a:pt x="330" y="692"/>
                  </a:lnTo>
                  <a:lnTo>
                    <a:pt x="330" y="696"/>
                  </a:lnTo>
                  <a:lnTo>
                    <a:pt x="332" y="697"/>
                  </a:lnTo>
                  <a:lnTo>
                    <a:pt x="332" y="699"/>
                  </a:lnTo>
                  <a:lnTo>
                    <a:pt x="335" y="702"/>
                  </a:lnTo>
                  <a:lnTo>
                    <a:pt x="340" y="707"/>
                  </a:lnTo>
                  <a:lnTo>
                    <a:pt x="345" y="712"/>
                  </a:lnTo>
                  <a:lnTo>
                    <a:pt x="352" y="721"/>
                  </a:lnTo>
                  <a:lnTo>
                    <a:pt x="365" y="737"/>
                  </a:lnTo>
                  <a:lnTo>
                    <a:pt x="370" y="752"/>
                  </a:lnTo>
                  <a:lnTo>
                    <a:pt x="370" y="762"/>
                  </a:lnTo>
                  <a:lnTo>
                    <a:pt x="367" y="771"/>
                  </a:lnTo>
                  <a:lnTo>
                    <a:pt x="360" y="776"/>
                  </a:lnTo>
                  <a:lnTo>
                    <a:pt x="354" y="781"/>
                  </a:lnTo>
                  <a:lnTo>
                    <a:pt x="349" y="782"/>
                  </a:lnTo>
                  <a:lnTo>
                    <a:pt x="347" y="782"/>
                  </a:lnTo>
                  <a:lnTo>
                    <a:pt x="347" y="786"/>
                  </a:lnTo>
                  <a:lnTo>
                    <a:pt x="350" y="794"/>
                  </a:lnTo>
                  <a:lnTo>
                    <a:pt x="355" y="807"/>
                  </a:lnTo>
                  <a:lnTo>
                    <a:pt x="367" y="824"/>
                  </a:lnTo>
                  <a:lnTo>
                    <a:pt x="377" y="842"/>
                  </a:lnTo>
                  <a:lnTo>
                    <a:pt x="384" y="862"/>
                  </a:lnTo>
                  <a:lnTo>
                    <a:pt x="392" y="877"/>
                  </a:lnTo>
                  <a:lnTo>
                    <a:pt x="414" y="891"/>
                  </a:lnTo>
                  <a:lnTo>
                    <a:pt x="427" y="897"/>
                  </a:lnTo>
                  <a:lnTo>
                    <a:pt x="440" y="904"/>
                  </a:lnTo>
                  <a:lnTo>
                    <a:pt x="454" y="912"/>
                  </a:lnTo>
                  <a:lnTo>
                    <a:pt x="465" y="921"/>
                  </a:lnTo>
                  <a:lnTo>
                    <a:pt x="477" y="929"/>
                  </a:lnTo>
                  <a:lnTo>
                    <a:pt x="487" y="937"/>
                  </a:lnTo>
                  <a:lnTo>
                    <a:pt x="499" y="946"/>
                  </a:lnTo>
                  <a:lnTo>
                    <a:pt x="509" y="952"/>
                  </a:lnTo>
                  <a:lnTo>
                    <a:pt x="519" y="961"/>
                  </a:lnTo>
                  <a:lnTo>
                    <a:pt x="525" y="969"/>
                  </a:lnTo>
                  <a:lnTo>
                    <a:pt x="532" y="979"/>
                  </a:lnTo>
                  <a:lnTo>
                    <a:pt x="537" y="989"/>
                  </a:lnTo>
                  <a:lnTo>
                    <a:pt x="542" y="1002"/>
                  </a:lnTo>
                  <a:lnTo>
                    <a:pt x="547" y="1016"/>
                  </a:lnTo>
                  <a:lnTo>
                    <a:pt x="552" y="1031"/>
                  </a:lnTo>
                  <a:lnTo>
                    <a:pt x="560" y="1048"/>
                  </a:lnTo>
                  <a:lnTo>
                    <a:pt x="574" y="1079"/>
                  </a:lnTo>
                  <a:lnTo>
                    <a:pt x="584" y="1108"/>
                  </a:lnTo>
                  <a:lnTo>
                    <a:pt x="592" y="1136"/>
                  </a:lnTo>
                  <a:lnTo>
                    <a:pt x="609" y="1171"/>
                  </a:lnTo>
                  <a:lnTo>
                    <a:pt x="619" y="1213"/>
                  </a:lnTo>
                  <a:lnTo>
                    <a:pt x="612" y="1253"/>
                  </a:lnTo>
                  <a:lnTo>
                    <a:pt x="600" y="1283"/>
                  </a:lnTo>
                  <a:lnTo>
                    <a:pt x="594" y="1294"/>
                  </a:lnTo>
                  <a:lnTo>
                    <a:pt x="597" y="1301"/>
                  </a:lnTo>
                  <a:lnTo>
                    <a:pt x="604" y="1318"/>
                  </a:lnTo>
                  <a:lnTo>
                    <a:pt x="612" y="1341"/>
                  </a:lnTo>
                  <a:lnTo>
                    <a:pt x="617" y="1366"/>
                  </a:lnTo>
                  <a:lnTo>
                    <a:pt x="620" y="1379"/>
                  </a:lnTo>
                  <a:lnTo>
                    <a:pt x="624" y="1394"/>
                  </a:lnTo>
                  <a:lnTo>
                    <a:pt x="629" y="1409"/>
                  </a:lnTo>
                  <a:lnTo>
                    <a:pt x="635" y="1428"/>
                  </a:lnTo>
                  <a:lnTo>
                    <a:pt x="644" y="1444"/>
                  </a:lnTo>
                  <a:lnTo>
                    <a:pt x="654" y="1463"/>
                  </a:lnTo>
                  <a:lnTo>
                    <a:pt x="664" y="1481"/>
                  </a:lnTo>
                  <a:lnTo>
                    <a:pt x="675" y="1499"/>
                  </a:lnTo>
                  <a:lnTo>
                    <a:pt x="687" y="1516"/>
                  </a:lnTo>
                  <a:lnTo>
                    <a:pt x="695" y="1531"/>
                  </a:lnTo>
                  <a:lnTo>
                    <a:pt x="702" y="1543"/>
                  </a:lnTo>
                  <a:lnTo>
                    <a:pt x="707" y="1553"/>
                  </a:lnTo>
                  <a:lnTo>
                    <a:pt x="712" y="1561"/>
                  </a:lnTo>
                  <a:lnTo>
                    <a:pt x="719" y="1566"/>
                  </a:lnTo>
                  <a:lnTo>
                    <a:pt x="724" y="1570"/>
                  </a:lnTo>
                  <a:lnTo>
                    <a:pt x="732" y="1571"/>
                  </a:lnTo>
                  <a:lnTo>
                    <a:pt x="742" y="1573"/>
                  </a:lnTo>
                  <a:lnTo>
                    <a:pt x="754" y="1576"/>
                  </a:lnTo>
                  <a:lnTo>
                    <a:pt x="765" y="1581"/>
                  </a:lnTo>
                  <a:lnTo>
                    <a:pt x="779" y="1588"/>
                  </a:lnTo>
                  <a:lnTo>
                    <a:pt x="792" y="1595"/>
                  </a:lnTo>
                  <a:lnTo>
                    <a:pt x="804" y="1603"/>
                  </a:lnTo>
                  <a:lnTo>
                    <a:pt x="814" y="1611"/>
                  </a:lnTo>
                  <a:lnTo>
                    <a:pt x="822" y="1618"/>
                  </a:lnTo>
                  <a:lnTo>
                    <a:pt x="834" y="1633"/>
                  </a:lnTo>
                  <a:lnTo>
                    <a:pt x="846" y="1648"/>
                  </a:lnTo>
                  <a:lnTo>
                    <a:pt x="856" y="1663"/>
                  </a:lnTo>
                  <a:lnTo>
                    <a:pt x="866" y="1675"/>
                  </a:lnTo>
                  <a:lnTo>
                    <a:pt x="872" y="1685"/>
                  </a:lnTo>
                  <a:lnTo>
                    <a:pt x="881" y="1700"/>
                  </a:lnTo>
                  <a:lnTo>
                    <a:pt x="891" y="1721"/>
                  </a:lnTo>
                  <a:lnTo>
                    <a:pt x="902" y="1743"/>
                  </a:lnTo>
                  <a:lnTo>
                    <a:pt x="912" y="1768"/>
                  </a:lnTo>
                  <a:lnTo>
                    <a:pt x="921" y="1790"/>
                  </a:lnTo>
                  <a:lnTo>
                    <a:pt x="927" y="1810"/>
                  </a:lnTo>
                  <a:lnTo>
                    <a:pt x="931" y="1823"/>
                  </a:lnTo>
                  <a:lnTo>
                    <a:pt x="937" y="1841"/>
                  </a:lnTo>
                  <a:lnTo>
                    <a:pt x="951" y="1858"/>
                  </a:lnTo>
                  <a:lnTo>
                    <a:pt x="964" y="1878"/>
                  </a:lnTo>
                  <a:lnTo>
                    <a:pt x="979" y="1908"/>
                  </a:lnTo>
                  <a:lnTo>
                    <a:pt x="987" y="1926"/>
                  </a:lnTo>
                  <a:lnTo>
                    <a:pt x="999" y="1945"/>
                  </a:lnTo>
                  <a:lnTo>
                    <a:pt x="1014" y="1965"/>
                  </a:lnTo>
                  <a:lnTo>
                    <a:pt x="1029" y="1981"/>
                  </a:lnTo>
                  <a:lnTo>
                    <a:pt x="1044" y="2000"/>
                  </a:lnTo>
                  <a:lnTo>
                    <a:pt x="1059" y="2015"/>
                  </a:lnTo>
                  <a:lnTo>
                    <a:pt x="1072" y="2027"/>
                  </a:lnTo>
                  <a:lnTo>
                    <a:pt x="1084" y="2037"/>
                  </a:lnTo>
                  <a:lnTo>
                    <a:pt x="1097" y="2052"/>
                  </a:lnTo>
                  <a:lnTo>
                    <a:pt x="1106" y="2068"/>
                  </a:lnTo>
                  <a:lnTo>
                    <a:pt x="1109" y="2085"/>
                  </a:lnTo>
                  <a:lnTo>
                    <a:pt x="1112" y="2098"/>
                  </a:lnTo>
                  <a:lnTo>
                    <a:pt x="1117" y="2108"/>
                  </a:lnTo>
                  <a:lnTo>
                    <a:pt x="1126" y="2120"/>
                  </a:lnTo>
                  <a:lnTo>
                    <a:pt x="1136" y="2132"/>
                  </a:lnTo>
                  <a:lnTo>
                    <a:pt x="1146" y="2145"/>
                  </a:lnTo>
                  <a:lnTo>
                    <a:pt x="1156" y="2160"/>
                  </a:lnTo>
                  <a:lnTo>
                    <a:pt x="1164" y="2175"/>
                  </a:lnTo>
                  <a:lnTo>
                    <a:pt x="1169" y="2190"/>
                  </a:lnTo>
                  <a:lnTo>
                    <a:pt x="1169" y="2202"/>
                  </a:lnTo>
                  <a:lnTo>
                    <a:pt x="1169" y="2217"/>
                  </a:lnTo>
                  <a:lnTo>
                    <a:pt x="1172" y="2233"/>
                  </a:lnTo>
                  <a:lnTo>
                    <a:pt x="1177" y="2248"/>
                  </a:lnTo>
                  <a:lnTo>
                    <a:pt x="1179" y="2255"/>
                  </a:lnTo>
                  <a:lnTo>
                    <a:pt x="1216" y="2227"/>
                  </a:lnTo>
                  <a:lnTo>
                    <a:pt x="1219" y="2222"/>
                  </a:lnTo>
                  <a:lnTo>
                    <a:pt x="1226" y="2208"/>
                  </a:lnTo>
                  <a:lnTo>
                    <a:pt x="1232" y="2192"/>
                  </a:lnTo>
                  <a:lnTo>
                    <a:pt x="1236" y="2178"/>
                  </a:lnTo>
                  <a:lnTo>
                    <a:pt x="1236" y="2165"/>
                  </a:lnTo>
                  <a:lnTo>
                    <a:pt x="1234" y="2145"/>
                  </a:lnTo>
                  <a:lnTo>
                    <a:pt x="1236" y="2123"/>
                  </a:lnTo>
                  <a:lnTo>
                    <a:pt x="1241" y="2103"/>
                  </a:lnTo>
                  <a:lnTo>
                    <a:pt x="1241" y="2087"/>
                  </a:lnTo>
                  <a:lnTo>
                    <a:pt x="1236" y="2077"/>
                  </a:lnTo>
                  <a:lnTo>
                    <a:pt x="1234" y="2067"/>
                  </a:lnTo>
                  <a:lnTo>
                    <a:pt x="1241" y="2060"/>
                  </a:lnTo>
                  <a:lnTo>
                    <a:pt x="1246" y="2057"/>
                  </a:lnTo>
                  <a:lnTo>
                    <a:pt x="1251" y="2057"/>
                  </a:lnTo>
                  <a:lnTo>
                    <a:pt x="1256" y="2058"/>
                  </a:lnTo>
                  <a:lnTo>
                    <a:pt x="1261" y="2062"/>
                  </a:lnTo>
                  <a:lnTo>
                    <a:pt x="1259" y="2052"/>
                  </a:lnTo>
                  <a:lnTo>
                    <a:pt x="1257" y="2043"/>
                  </a:lnTo>
                  <a:lnTo>
                    <a:pt x="1256" y="2033"/>
                  </a:lnTo>
                  <a:lnTo>
                    <a:pt x="1257" y="2027"/>
                  </a:lnTo>
                  <a:close/>
                </a:path>
              </a:pathLst>
            </a:custGeom>
            <a:solidFill>
              <a:srgbClr val="ffffff">
                <a:alpha val="10000"/>
              </a:srgbClr>
            </a:solidFill>
            <a:ln cap="sq" w="9360">
              <a:solidFill>
                <a:srgbClr val="ffffff"/>
              </a:solidFill>
              <a:round/>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44" name=""/>
            <p:cNvSpPr/>
            <p:nvPr/>
          </p:nvSpPr>
          <p:spPr>
            <a:xfrm>
              <a:off x="3086280" y="3249720"/>
              <a:ext cx="4680" cy="4680"/>
            </a:xfrm>
            <a:custGeom>
              <a:avLst/>
              <a:gdLst/>
              <a:ahLst/>
              <a:rect l="l" t="t" r="r" b="b"/>
              <a:pathLst>
                <a:path w="5" h="5">
                  <a:moveTo>
                    <a:pt x="5" y="3"/>
                  </a:moveTo>
                  <a:lnTo>
                    <a:pt x="0" y="0"/>
                  </a:lnTo>
                  <a:lnTo>
                    <a:pt x="2" y="3"/>
                  </a:lnTo>
                  <a:lnTo>
                    <a:pt x="3" y="5"/>
                  </a:lnTo>
                  <a:lnTo>
                    <a:pt x="5" y="3"/>
                  </a:lnTo>
                  <a:lnTo>
                    <a:pt x="5" y="3"/>
                  </a:lnTo>
                  <a:close/>
                </a:path>
              </a:pathLst>
            </a:custGeom>
            <a:solidFill>
              <a:srgbClr val="000000"/>
            </a:solidFill>
            <a:ln w="0">
              <a:noFill/>
            </a:ln>
          </p:spPr>
          <p:style>
            <a:lnRef idx="0"/>
            <a:fillRef idx="0"/>
            <a:effectRef idx="0"/>
            <a:fontRef idx="minor"/>
          </p:style>
          <p:txBody>
            <a:bodyPr wrap="none" lIns="90000" rIns="90000" tIns="-42120" bIns="-421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45" name=""/>
            <p:cNvSpPr/>
            <p:nvPr/>
          </p:nvSpPr>
          <p:spPr>
            <a:xfrm>
              <a:off x="4379760" y="4205160"/>
              <a:ext cx="2567160" cy="993960"/>
            </a:xfrm>
            <a:custGeom>
              <a:avLst/>
              <a:gdLst/>
              <a:ahLst/>
              <a:rect l="l" t="t" r="r" b="b"/>
              <a:pathLst>
                <a:path w="1881" h="744">
                  <a:moveTo>
                    <a:pt x="1298" y="222"/>
                  </a:moveTo>
                  <a:lnTo>
                    <a:pt x="1283" y="225"/>
                  </a:lnTo>
                  <a:lnTo>
                    <a:pt x="1263" y="230"/>
                  </a:lnTo>
                  <a:lnTo>
                    <a:pt x="1239" y="235"/>
                  </a:lnTo>
                  <a:lnTo>
                    <a:pt x="1214" y="242"/>
                  </a:lnTo>
                  <a:lnTo>
                    <a:pt x="1186" y="249"/>
                  </a:lnTo>
                  <a:lnTo>
                    <a:pt x="1157" y="255"/>
                  </a:lnTo>
                  <a:lnTo>
                    <a:pt x="1127" y="262"/>
                  </a:lnTo>
                  <a:lnTo>
                    <a:pt x="1097" y="269"/>
                  </a:lnTo>
                  <a:lnTo>
                    <a:pt x="1067" y="275"/>
                  </a:lnTo>
                  <a:lnTo>
                    <a:pt x="1039" y="284"/>
                  </a:lnTo>
                  <a:lnTo>
                    <a:pt x="1012" y="290"/>
                  </a:lnTo>
                  <a:lnTo>
                    <a:pt x="989" y="297"/>
                  </a:lnTo>
                  <a:lnTo>
                    <a:pt x="967" y="302"/>
                  </a:lnTo>
                  <a:lnTo>
                    <a:pt x="949" y="309"/>
                  </a:lnTo>
                  <a:lnTo>
                    <a:pt x="936" y="314"/>
                  </a:lnTo>
                  <a:lnTo>
                    <a:pt x="927" y="317"/>
                  </a:lnTo>
                  <a:lnTo>
                    <a:pt x="914" y="324"/>
                  </a:lnTo>
                  <a:lnTo>
                    <a:pt x="901" y="329"/>
                  </a:lnTo>
                  <a:lnTo>
                    <a:pt x="887" y="337"/>
                  </a:lnTo>
                  <a:lnTo>
                    <a:pt x="872" y="344"/>
                  </a:lnTo>
                  <a:lnTo>
                    <a:pt x="857" y="355"/>
                  </a:lnTo>
                  <a:lnTo>
                    <a:pt x="842" y="369"/>
                  </a:lnTo>
                  <a:lnTo>
                    <a:pt x="826" y="389"/>
                  </a:lnTo>
                  <a:lnTo>
                    <a:pt x="807" y="412"/>
                  </a:lnTo>
                  <a:lnTo>
                    <a:pt x="791" y="437"/>
                  </a:lnTo>
                  <a:lnTo>
                    <a:pt x="776" y="460"/>
                  </a:lnTo>
                  <a:lnTo>
                    <a:pt x="761" y="482"/>
                  </a:lnTo>
                  <a:lnTo>
                    <a:pt x="747" y="502"/>
                  </a:lnTo>
                  <a:lnTo>
                    <a:pt x="737" y="519"/>
                  </a:lnTo>
                  <a:lnTo>
                    <a:pt x="727" y="532"/>
                  </a:lnTo>
                  <a:lnTo>
                    <a:pt x="719" y="542"/>
                  </a:lnTo>
                  <a:lnTo>
                    <a:pt x="712" y="549"/>
                  </a:lnTo>
                  <a:lnTo>
                    <a:pt x="706" y="554"/>
                  </a:lnTo>
                  <a:lnTo>
                    <a:pt x="699" y="559"/>
                  </a:lnTo>
                  <a:lnTo>
                    <a:pt x="689" y="564"/>
                  </a:lnTo>
                  <a:lnTo>
                    <a:pt x="679" y="565"/>
                  </a:lnTo>
                  <a:lnTo>
                    <a:pt x="667" y="567"/>
                  </a:lnTo>
                  <a:lnTo>
                    <a:pt x="657" y="567"/>
                  </a:lnTo>
                  <a:lnTo>
                    <a:pt x="647" y="564"/>
                  </a:lnTo>
                  <a:lnTo>
                    <a:pt x="637" y="559"/>
                  </a:lnTo>
                  <a:lnTo>
                    <a:pt x="629" y="552"/>
                  </a:lnTo>
                  <a:lnTo>
                    <a:pt x="622" y="544"/>
                  </a:lnTo>
                  <a:lnTo>
                    <a:pt x="615" y="535"/>
                  </a:lnTo>
                  <a:lnTo>
                    <a:pt x="609" y="529"/>
                  </a:lnTo>
                  <a:lnTo>
                    <a:pt x="602" y="524"/>
                  </a:lnTo>
                  <a:lnTo>
                    <a:pt x="595" y="520"/>
                  </a:lnTo>
                  <a:lnTo>
                    <a:pt x="589" y="519"/>
                  </a:lnTo>
                  <a:lnTo>
                    <a:pt x="580" y="520"/>
                  </a:lnTo>
                  <a:lnTo>
                    <a:pt x="569" y="524"/>
                  </a:lnTo>
                  <a:lnTo>
                    <a:pt x="554" y="525"/>
                  </a:lnTo>
                  <a:lnTo>
                    <a:pt x="537" y="525"/>
                  </a:lnTo>
                  <a:lnTo>
                    <a:pt x="519" y="525"/>
                  </a:lnTo>
                  <a:lnTo>
                    <a:pt x="499" y="525"/>
                  </a:lnTo>
                  <a:lnTo>
                    <a:pt x="480" y="524"/>
                  </a:lnTo>
                  <a:lnTo>
                    <a:pt x="462" y="522"/>
                  </a:lnTo>
                  <a:lnTo>
                    <a:pt x="447" y="520"/>
                  </a:lnTo>
                  <a:lnTo>
                    <a:pt x="432" y="519"/>
                  </a:lnTo>
                  <a:lnTo>
                    <a:pt x="417" y="515"/>
                  </a:lnTo>
                  <a:lnTo>
                    <a:pt x="404" y="510"/>
                  </a:lnTo>
                  <a:lnTo>
                    <a:pt x="389" y="507"/>
                  </a:lnTo>
                  <a:lnTo>
                    <a:pt x="375" y="504"/>
                  </a:lnTo>
                  <a:lnTo>
                    <a:pt x="364" y="500"/>
                  </a:lnTo>
                  <a:lnTo>
                    <a:pt x="352" y="497"/>
                  </a:lnTo>
                  <a:lnTo>
                    <a:pt x="342" y="497"/>
                  </a:lnTo>
                  <a:lnTo>
                    <a:pt x="329" y="497"/>
                  </a:lnTo>
                  <a:lnTo>
                    <a:pt x="307" y="497"/>
                  </a:lnTo>
                  <a:lnTo>
                    <a:pt x="280" y="499"/>
                  </a:lnTo>
                  <a:lnTo>
                    <a:pt x="250" y="499"/>
                  </a:lnTo>
                  <a:lnTo>
                    <a:pt x="224" y="500"/>
                  </a:lnTo>
                  <a:lnTo>
                    <a:pt x="200" y="502"/>
                  </a:lnTo>
                  <a:lnTo>
                    <a:pt x="184" y="502"/>
                  </a:lnTo>
                  <a:lnTo>
                    <a:pt x="177" y="502"/>
                  </a:lnTo>
                  <a:lnTo>
                    <a:pt x="175" y="504"/>
                  </a:lnTo>
                  <a:lnTo>
                    <a:pt x="170" y="505"/>
                  </a:lnTo>
                  <a:lnTo>
                    <a:pt x="164" y="509"/>
                  </a:lnTo>
                  <a:lnTo>
                    <a:pt x="155" y="510"/>
                  </a:lnTo>
                  <a:lnTo>
                    <a:pt x="144" y="512"/>
                  </a:lnTo>
                  <a:lnTo>
                    <a:pt x="132" y="512"/>
                  </a:lnTo>
                  <a:lnTo>
                    <a:pt x="120" y="509"/>
                  </a:lnTo>
                  <a:lnTo>
                    <a:pt x="107" y="502"/>
                  </a:lnTo>
                  <a:lnTo>
                    <a:pt x="95" y="494"/>
                  </a:lnTo>
                  <a:lnTo>
                    <a:pt x="87" y="485"/>
                  </a:lnTo>
                  <a:lnTo>
                    <a:pt x="80" y="479"/>
                  </a:lnTo>
                  <a:lnTo>
                    <a:pt x="75" y="475"/>
                  </a:lnTo>
                  <a:lnTo>
                    <a:pt x="70" y="472"/>
                  </a:lnTo>
                  <a:lnTo>
                    <a:pt x="65" y="470"/>
                  </a:lnTo>
                  <a:lnTo>
                    <a:pt x="60" y="470"/>
                  </a:lnTo>
                  <a:lnTo>
                    <a:pt x="53" y="474"/>
                  </a:lnTo>
                  <a:lnTo>
                    <a:pt x="47" y="480"/>
                  </a:lnTo>
                  <a:lnTo>
                    <a:pt x="50" y="489"/>
                  </a:lnTo>
                  <a:lnTo>
                    <a:pt x="55" y="500"/>
                  </a:lnTo>
                  <a:lnTo>
                    <a:pt x="53" y="515"/>
                  </a:lnTo>
                  <a:lnTo>
                    <a:pt x="50" y="535"/>
                  </a:lnTo>
                  <a:lnTo>
                    <a:pt x="48" y="557"/>
                  </a:lnTo>
                  <a:lnTo>
                    <a:pt x="50" y="577"/>
                  </a:lnTo>
                  <a:lnTo>
                    <a:pt x="50" y="592"/>
                  </a:lnTo>
                  <a:lnTo>
                    <a:pt x="47" y="606"/>
                  </a:lnTo>
                  <a:lnTo>
                    <a:pt x="40" y="621"/>
                  </a:lnTo>
                  <a:lnTo>
                    <a:pt x="33" y="634"/>
                  </a:lnTo>
                  <a:lnTo>
                    <a:pt x="30" y="639"/>
                  </a:lnTo>
                  <a:lnTo>
                    <a:pt x="0" y="662"/>
                  </a:lnTo>
                  <a:lnTo>
                    <a:pt x="3" y="666"/>
                  </a:lnTo>
                  <a:lnTo>
                    <a:pt x="8" y="669"/>
                  </a:lnTo>
                  <a:lnTo>
                    <a:pt x="13" y="674"/>
                  </a:lnTo>
                  <a:lnTo>
                    <a:pt x="18" y="677"/>
                  </a:lnTo>
                  <a:lnTo>
                    <a:pt x="32" y="684"/>
                  </a:lnTo>
                  <a:lnTo>
                    <a:pt x="43" y="687"/>
                  </a:lnTo>
                  <a:lnTo>
                    <a:pt x="55" y="687"/>
                  </a:lnTo>
                  <a:lnTo>
                    <a:pt x="67" y="686"/>
                  </a:lnTo>
                  <a:lnTo>
                    <a:pt x="77" y="684"/>
                  </a:lnTo>
                  <a:lnTo>
                    <a:pt x="83" y="681"/>
                  </a:lnTo>
                  <a:lnTo>
                    <a:pt x="88" y="679"/>
                  </a:lnTo>
                  <a:lnTo>
                    <a:pt x="90" y="677"/>
                  </a:lnTo>
                  <a:lnTo>
                    <a:pt x="97" y="677"/>
                  </a:lnTo>
                  <a:lnTo>
                    <a:pt x="114" y="677"/>
                  </a:lnTo>
                  <a:lnTo>
                    <a:pt x="137" y="676"/>
                  </a:lnTo>
                  <a:lnTo>
                    <a:pt x="164" y="674"/>
                  </a:lnTo>
                  <a:lnTo>
                    <a:pt x="194" y="674"/>
                  </a:lnTo>
                  <a:lnTo>
                    <a:pt x="220" y="672"/>
                  </a:lnTo>
                  <a:lnTo>
                    <a:pt x="242" y="672"/>
                  </a:lnTo>
                  <a:lnTo>
                    <a:pt x="255" y="672"/>
                  </a:lnTo>
                  <a:lnTo>
                    <a:pt x="265" y="674"/>
                  </a:lnTo>
                  <a:lnTo>
                    <a:pt x="275" y="676"/>
                  </a:lnTo>
                  <a:lnTo>
                    <a:pt x="289" y="679"/>
                  </a:lnTo>
                  <a:lnTo>
                    <a:pt x="302" y="682"/>
                  </a:lnTo>
                  <a:lnTo>
                    <a:pt x="315" y="687"/>
                  </a:lnTo>
                  <a:lnTo>
                    <a:pt x="330" y="691"/>
                  </a:lnTo>
                  <a:lnTo>
                    <a:pt x="344" y="694"/>
                  </a:lnTo>
                  <a:lnTo>
                    <a:pt x="359" y="697"/>
                  </a:lnTo>
                  <a:lnTo>
                    <a:pt x="374" y="699"/>
                  </a:lnTo>
                  <a:lnTo>
                    <a:pt x="392" y="701"/>
                  </a:lnTo>
                  <a:lnTo>
                    <a:pt x="412" y="701"/>
                  </a:lnTo>
                  <a:lnTo>
                    <a:pt x="430" y="702"/>
                  </a:lnTo>
                  <a:lnTo>
                    <a:pt x="450" y="702"/>
                  </a:lnTo>
                  <a:lnTo>
                    <a:pt x="467" y="701"/>
                  </a:lnTo>
                  <a:lnTo>
                    <a:pt x="480" y="701"/>
                  </a:lnTo>
                  <a:lnTo>
                    <a:pt x="492" y="697"/>
                  </a:lnTo>
                  <a:lnTo>
                    <a:pt x="500" y="696"/>
                  </a:lnTo>
                  <a:lnTo>
                    <a:pt x="507" y="696"/>
                  </a:lnTo>
                  <a:lnTo>
                    <a:pt x="514" y="699"/>
                  </a:lnTo>
                  <a:lnTo>
                    <a:pt x="520" y="706"/>
                  </a:lnTo>
                  <a:lnTo>
                    <a:pt x="527" y="712"/>
                  </a:lnTo>
                  <a:lnTo>
                    <a:pt x="534" y="719"/>
                  </a:lnTo>
                  <a:lnTo>
                    <a:pt x="540" y="727"/>
                  </a:lnTo>
                  <a:lnTo>
                    <a:pt x="549" y="734"/>
                  </a:lnTo>
                  <a:lnTo>
                    <a:pt x="559" y="741"/>
                  </a:lnTo>
                  <a:lnTo>
                    <a:pt x="569" y="742"/>
                  </a:lnTo>
                  <a:lnTo>
                    <a:pt x="579" y="744"/>
                  </a:lnTo>
                  <a:lnTo>
                    <a:pt x="590" y="742"/>
                  </a:lnTo>
                  <a:lnTo>
                    <a:pt x="600" y="739"/>
                  </a:lnTo>
                  <a:lnTo>
                    <a:pt x="610" y="736"/>
                  </a:lnTo>
                  <a:lnTo>
                    <a:pt x="619" y="731"/>
                  </a:lnTo>
                  <a:lnTo>
                    <a:pt x="625" y="726"/>
                  </a:lnTo>
                  <a:lnTo>
                    <a:pt x="632" y="719"/>
                  </a:lnTo>
                  <a:lnTo>
                    <a:pt x="639" y="707"/>
                  </a:lnTo>
                  <a:lnTo>
                    <a:pt x="649" y="694"/>
                  </a:lnTo>
                  <a:lnTo>
                    <a:pt x="661" y="677"/>
                  </a:lnTo>
                  <a:lnTo>
                    <a:pt x="672" y="659"/>
                  </a:lnTo>
                  <a:lnTo>
                    <a:pt x="687" y="637"/>
                  </a:lnTo>
                  <a:lnTo>
                    <a:pt x="704" y="614"/>
                  </a:lnTo>
                  <a:lnTo>
                    <a:pt x="721" y="587"/>
                  </a:lnTo>
                  <a:lnTo>
                    <a:pt x="737" y="564"/>
                  </a:lnTo>
                  <a:lnTo>
                    <a:pt x="754" y="544"/>
                  </a:lnTo>
                  <a:lnTo>
                    <a:pt x="769" y="530"/>
                  </a:lnTo>
                  <a:lnTo>
                    <a:pt x="786" y="519"/>
                  </a:lnTo>
                  <a:lnTo>
                    <a:pt x="799" y="512"/>
                  </a:lnTo>
                  <a:lnTo>
                    <a:pt x="812" y="504"/>
                  </a:lnTo>
                  <a:lnTo>
                    <a:pt x="826" y="499"/>
                  </a:lnTo>
                  <a:lnTo>
                    <a:pt x="839" y="492"/>
                  </a:lnTo>
                  <a:lnTo>
                    <a:pt x="847" y="489"/>
                  </a:lnTo>
                  <a:lnTo>
                    <a:pt x="862" y="484"/>
                  </a:lnTo>
                  <a:lnTo>
                    <a:pt x="879" y="479"/>
                  </a:lnTo>
                  <a:lnTo>
                    <a:pt x="901" y="472"/>
                  </a:lnTo>
                  <a:lnTo>
                    <a:pt x="926" y="465"/>
                  </a:lnTo>
                  <a:lnTo>
                    <a:pt x="952" y="459"/>
                  </a:lnTo>
                  <a:lnTo>
                    <a:pt x="981" y="452"/>
                  </a:lnTo>
                  <a:lnTo>
                    <a:pt x="1009" y="444"/>
                  </a:lnTo>
                  <a:lnTo>
                    <a:pt x="1039" y="437"/>
                  </a:lnTo>
                  <a:lnTo>
                    <a:pt x="1069" y="430"/>
                  </a:lnTo>
                  <a:lnTo>
                    <a:pt x="1097" y="424"/>
                  </a:lnTo>
                  <a:lnTo>
                    <a:pt x="1126" y="417"/>
                  </a:lnTo>
                  <a:lnTo>
                    <a:pt x="1151" y="410"/>
                  </a:lnTo>
                  <a:lnTo>
                    <a:pt x="1174" y="405"/>
                  </a:lnTo>
                  <a:lnTo>
                    <a:pt x="1194" y="400"/>
                  </a:lnTo>
                  <a:lnTo>
                    <a:pt x="1209" y="397"/>
                  </a:lnTo>
                  <a:lnTo>
                    <a:pt x="1236" y="390"/>
                  </a:lnTo>
                  <a:lnTo>
                    <a:pt x="1263" y="385"/>
                  </a:lnTo>
                  <a:lnTo>
                    <a:pt x="1289" y="382"/>
                  </a:lnTo>
                  <a:lnTo>
                    <a:pt x="1313" y="379"/>
                  </a:lnTo>
                  <a:lnTo>
                    <a:pt x="1336" y="375"/>
                  </a:lnTo>
                  <a:lnTo>
                    <a:pt x="1354" y="370"/>
                  </a:lnTo>
                  <a:lnTo>
                    <a:pt x="1371" y="365"/>
                  </a:lnTo>
                  <a:lnTo>
                    <a:pt x="1384" y="359"/>
                  </a:lnTo>
                  <a:lnTo>
                    <a:pt x="1394" y="354"/>
                  </a:lnTo>
                  <a:lnTo>
                    <a:pt x="1411" y="345"/>
                  </a:lnTo>
                  <a:lnTo>
                    <a:pt x="1434" y="334"/>
                  </a:lnTo>
                  <a:lnTo>
                    <a:pt x="1463" y="320"/>
                  </a:lnTo>
                  <a:lnTo>
                    <a:pt x="1496" y="307"/>
                  </a:lnTo>
                  <a:lnTo>
                    <a:pt x="1533" y="290"/>
                  </a:lnTo>
                  <a:lnTo>
                    <a:pt x="1571" y="274"/>
                  </a:lnTo>
                  <a:lnTo>
                    <a:pt x="1611" y="255"/>
                  </a:lnTo>
                  <a:lnTo>
                    <a:pt x="1649" y="239"/>
                  </a:lnTo>
                  <a:lnTo>
                    <a:pt x="1688" y="222"/>
                  </a:lnTo>
                  <a:lnTo>
                    <a:pt x="1723" y="207"/>
                  </a:lnTo>
                  <a:lnTo>
                    <a:pt x="1756" y="192"/>
                  </a:lnTo>
                  <a:lnTo>
                    <a:pt x="1783" y="180"/>
                  </a:lnTo>
                  <a:lnTo>
                    <a:pt x="1805" y="170"/>
                  </a:lnTo>
                  <a:lnTo>
                    <a:pt x="1820" y="164"/>
                  </a:lnTo>
                  <a:lnTo>
                    <a:pt x="1826" y="160"/>
                  </a:lnTo>
                  <a:lnTo>
                    <a:pt x="1836" y="152"/>
                  </a:lnTo>
                  <a:lnTo>
                    <a:pt x="1841" y="142"/>
                  </a:lnTo>
                  <a:lnTo>
                    <a:pt x="1845" y="130"/>
                  </a:lnTo>
                  <a:lnTo>
                    <a:pt x="1846" y="117"/>
                  </a:lnTo>
                  <a:lnTo>
                    <a:pt x="1848" y="100"/>
                  </a:lnTo>
                  <a:lnTo>
                    <a:pt x="1851" y="78"/>
                  </a:lnTo>
                  <a:lnTo>
                    <a:pt x="1858" y="57"/>
                  </a:lnTo>
                  <a:lnTo>
                    <a:pt x="1865" y="37"/>
                  </a:lnTo>
                  <a:lnTo>
                    <a:pt x="1868" y="27"/>
                  </a:lnTo>
                  <a:lnTo>
                    <a:pt x="1873" y="18"/>
                  </a:lnTo>
                  <a:lnTo>
                    <a:pt x="1876" y="8"/>
                  </a:lnTo>
                  <a:lnTo>
                    <a:pt x="1881" y="0"/>
                  </a:lnTo>
                  <a:lnTo>
                    <a:pt x="1861" y="10"/>
                  </a:lnTo>
                  <a:lnTo>
                    <a:pt x="1836" y="20"/>
                  </a:lnTo>
                  <a:lnTo>
                    <a:pt x="1808" y="32"/>
                  </a:lnTo>
                  <a:lnTo>
                    <a:pt x="1778" y="45"/>
                  </a:lnTo>
                  <a:lnTo>
                    <a:pt x="1746" y="58"/>
                  </a:lnTo>
                  <a:lnTo>
                    <a:pt x="1714" y="73"/>
                  </a:lnTo>
                  <a:lnTo>
                    <a:pt x="1681" y="88"/>
                  </a:lnTo>
                  <a:lnTo>
                    <a:pt x="1648" y="102"/>
                  </a:lnTo>
                  <a:lnTo>
                    <a:pt x="1616" y="117"/>
                  </a:lnTo>
                  <a:lnTo>
                    <a:pt x="1586" y="130"/>
                  </a:lnTo>
                  <a:lnTo>
                    <a:pt x="1558" y="142"/>
                  </a:lnTo>
                  <a:lnTo>
                    <a:pt x="1533" y="154"/>
                  </a:lnTo>
                  <a:lnTo>
                    <a:pt x="1511" y="164"/>
                  </a:lnTo>
                  <a:lnTo>
                    <a:pt x="1493" y="174"/>
                  </a:lnTo>
                  <a:lnTo>
                    <a:pt x="1479" y="179"/>
                  </a:lnTo>
                  <a:lnTo>
                    <a:pt x="1473" y="184"/>
                  </a:lnTo>
                  <a:lnTo>
                    <a:pt x="1459" y="190"/>
                  </a:lnTo>
                  <a:lnTo>
                    <a:pt x="1443" y="195"/>
                  </a:lnTo>
                  <a:lnTo>
                    <a:pt x="1423" y="199"/>
                  </a:lnTo>
                  <a:lnTo>
                    <a:pt x="1401" y="202"/>
                  </a:lnTo>
                  <a:lnTo>
                    <a:pt x="1376" y="205"/>
                  </a:lnTo>
                  <a:lnTo>
                    <a:pt x="1351" y="210"/>
                  </a:lnTo>
                  <a:lnTo>
                    <a:pt x="1324" y="215"/>
                  </a:lnTo>
                  <a:lnTo>
                    <a:pt x="1298" y="222"/>
                  </a:lnTo>
                  <a:close/>
                </a:path>
              </a:pathLst>
            </a:custGeom>
            <a:solidFill>
              <a:srgbClr val="ffffff">
                <a:alpha val="20000"/>
              </a:srgbClr>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46" name=""/>
            <p:cNvSpPr/>
            <p:nvPr/>
          </p:nvSpPr>
          <p:spPr>
            <a:xfrm>
              <a:off x="2813040" y="1346040"/>
              <a:ext cx="4348080" cy="3579840"/>
            </a:xfrm>
            <a:custGeom>
              <a:avLst/>
              <a:gdLst/>
              <a:ahLst/>
              <a:rect l="l" t="t" r="r" b="b"/>
              <a:pathLst>
                <a:path w="3185" h="2678">
                  <a:moveTo>
                    <a:pt x="380" y="90"/>
                  </a:moveTo>
                  <a:lnTo>
                    <a:pt x="683" y="28"/>
                  </a:lnTo>
                  <a:lnTo>
                    <a:pt x="693" y="0"/>
                  </a:lnTo>
                  <a:lnTo>
                    <a:pt x="695" y="0"/>
                  </a:lnTo>
                  <a:lnTo>
                    <a:pt x="698" y="0"/>
                  </a:lnTo>
                  <a:lnTo>
                    <a:pt x="704" y="0"/>
                  </a:lnTo>
                  <a:lnTo>
                    <a:pt x="712" y="0"/>
                  </a:lnTo>
                  <a:lnTo>
                    <a:pt x="720" y="0"/>
                  </a:lnTo>
                  <a:lnTo>
                    <a:pt x="734" y="2"/>
                  </a:lnTo>
                  <a:lnTo>
                    <a:pt x="747" y="5"/>
                  </a:lnTo>
                  <a:lnTo>
                    <a:pt x="764" y="10"/>
                  </a:lnTo>
                  <a:lnTo>
                    <a:pt x="782" y="15"/>
                  </a:lnTo>
                  <a:lnTo>
                    <a:pt x="799" y="20"/>
                  </a:lnTo>
                  <a:lnTo>
                    <a:pt x="817" y="23"/>
                  </a:lnTo>
                  <a:lnTo>
                    <a:pt x="832" y="28"/>
                  </a:lnTo>
                  <a:lnTo>
                    <a:pt x="847" y="32"/>
                  </a:lnTo>
                  <a:lnTo>
                    <a:pt x="862" y="35"/>
                  </a:lnTo>
                  <a:lnTo>
                    <a:pt x="874" y="40"/>
                  </a:lnTo>
                  <a:lnTo>
                    <a:pt x="884" y="43"/>
                  </a:lnTo>
                  <a:lnTo>
                    <a:pt x="894" y="48"/>
                  </a:lnTo>
                  <a:lnTo>
                    <a:pt x="907" y="57"/>
                  </a:lnTo>
                  <a:lnTo>
                    <a:pt x="924" y="68"/>
                  </a:lnTo>
                  <a:lnTo>
                    <a:pt x="942" y="82"/>
                  </a:lnTo>
                  <a:lnTo>
                    <a:pt x="962" y="97"/>
                  </a:lnTo>
                  <a:lnTo>
                    <a:pt x="985" y="112"/>
                  </a:lnTo>
                  <a:lnTo>
                    <a:pt x="1009" y="127"/>
                  </a:lnTo>
                  <a:lnTo>
                    <a:pt x="1035" y="142"/>
                  </a:lnTo>
                  <a:lnTo>
                    <a:pt x="1060" y="155"/>
                  </a:lnTo>
                  <a:lnTo>
                    <a:pt x="1080" y="168"/>
                  </a:lnTo>
                  <a:lnTo>
                    <a:pt x="1099" y="180"/>
                  </a:lnTo>
                  <a:lnTo>
                    <a:pt x="1114" y="190"/>
                  </a:lnTo>
                  <a:lnTo>
                    <a:pt x="1124" y="197"/>
                  </a:lnTo>
                  <a:lnTo>
                    <a:pt x="1132" y="203"/>
                  </a:lnTo>
                  <a:lnTo>
                    <a:pt x="1137" y="207"/>
                  </a:lnTo>
                  <a:lnTo>
                    <a:pt x="1139" y="208"/>
                  </a:lnTo>
                  <a:lnTo>
                    <a:pt x="1142" y="210"/>
                  </a:lnTo>
                  <a:lnTo>
                    <a:pt x="1150" y="215"/>
                  </a:lnTo>
                  <a:lnTo>
                    <a:pt x="1162" y="223"/>
                  </a:lnTo>
                  <a:lnTo>
                    <a:pt x="1177" y="233"/>
                  </a:lnTo>
                  <a:lnTo>
                    <a:pt x="1192" y="243"/>
                  </a:lnTo>
                  <a:lnTo>
                    <a:pt x="1205" y="255"/>
                  </a:lnTo>
                  <a:lnTo>
                    <a:pt x="1217" y="265"/>
                  </a:lnTo>
                  <a:lnTo>
                    <a:pt x="1225" y="275"/>
                  </a:lnTo>
                  <a:lnTo>
                    <a:pt x="1234" y="285"/>
                  </a:lnTo>
                  <a:lnTo>
                    <a:pt x="1245" y="297"/>
                  </a:lnTo>
                  <a:lnTo>
                    <a:pt x="1259" y="310"/>
                  </a:lnTo>
                  <a:lnTo>
                    <a:pt x="1276" y="325"/>
                  </a:lnTo>
                  <a:lnTo>
                    <a:pt x="1292" y="340"/>
                  </a:lnTo>
                  <a:lnTo>
                    <a:pt x="1309" y="354"/>
                  </a:lnTo>
                  <a:lnTo>
                    <a:pt x="1324" y="365"/>
                  </a:lnTo>
                  <a:lnTo>
                    <a:pt x="1334" y="375"/>
                  </a:lnTo>
                  <a:lnTo>
                    <a:pt x="1346" y="385"/>
                  </a:lnTo>
                  <a:lnTo>
                    <a:pt x="1362" y="397"/>
                  </a:lnTo>
                  <a:lnTo>
                    <a:pt x="1381" y="410"/>
                  </a:lnTo>
                  <a:lnTo>
                    <a:pt x="1401" y="424"/>
                  </a:lnTo>
                  <a:lnTo>
                    <a:pt x="1421" y="437"/>
                  </a:lnTo>
                  <a:lnTo>
                    <a:pt x="1436" y="445"/>
                  </a:lnTo>
                  <a:lnTo>
                    <a:pt x="1447" y="454"/>
                  </a:lnTo>
                  <a:lnTo>
                    <a:pt x="1451" y="455"/>
                  </a:lnTo>
                  <a:lnTo>
                    <a:pt x="1489" y="509"/>
                  </a:lnTo>
                  <a:lnTo>
                    <a:pt x="1497" y="509"/>
                  </a:lnTo>
                  <a:lnTo>
                    <a:pt x="1517" y="509"/>
                  </a:lnTo>
                  <a:lnTo>
                    <a:pt x="1546" y="509"/>
                  </a:lnTo>
                  <a:lnTo>
                    <a:pt x="1581" y="509"/>
                  </a:lnTo>
                  <a:lnTo>
                    <a:pt x="1617" y="510"/>
                  </a:lnTo>
                  <a:lnTo>
                    <a:pt x="1651" y="514"/>
                  </a:lnTo>
                  <a:lnTo>
                    <a:pt x="1677" y="520"/>
                  </a:lnTo>
                  <a:lnTo>
                    <a:pt x="1694" y="527"/>
                  </a:lnTo>
                  <a:lnTo>
                    <a:pt x="1696" y="527"/>
                  </a:lnTo>
                  <a:lnTo>
                    <a:pt x="1702" y="525"/>
                  </a:lnTo>
                  <a:lnTo>
                    <a:pt x="1712" y="522"/>
                  </a:lnTo>
                  <a:lnTo>
                    <a:pt x="1722" y="520"/>
                  </a:lnTo>
                  <a:lnTo>
                    <a:pt x="1736" y="519"/>
                  </a:lnTo>
                  <a:lnTo>
                    <a:pt x="1747" y="515"/>
                  </a:lnTo>
                  <a:lnTo>
                    <a:pt x="1759" y="514"/>
                  </a:lnTo>
                  <a:lnTo>
                    <a:pt x="1769" y="514"/>
                  </a:lnTo>
                  <a:lnTo>
                    <a:pt x="1782" y="515"/>
                  </a:lnTo>
                  <a:lnTo>
                    <a:pt x="1801" y="519"/>
                  </a:lnTo>
                  <a:lnTo>
                    <a:pt x="1823" y="522"/>
                  </a:lnTo>
                  <a:lnTo>
                    <a:pt x="1848" y="527"/>
                  </a:lnTo>
                  <a:lnTo>
                    <a:pt x="1869" y="534"/>
                  </a:lnTo>
                  <a:lnTo>
                    <a:pt x="1889" y="537"/>
                  </a:lnTo>
                  <a:lnTo>
                    <a:pt x="1903" y="540"/>
                  </a:lnTo>
                  <a:lnTo>
                    <a:pt x="1908" y="542"/>
                  </a:lnTo>
                  <a:lnTo>
                    <a:pt x="1926" y="604"/>
                  </a:lnTo>
                  <a:lnTo>
                    <a:pt x="2044" y="604"/>
                  </a:lnTo>
                  <a:lnTo>
                    <a:pt x="2064" y="689"/>
                  </a:lnTo>
                  <a:lnTo>
                    <a:pt x="2071" y="692"/>
                  </a:lnTo>
                  <a:lnTo>
                    <a:pt x="2083" y="704"/>
                  </a:lnTo>
                  <a:lnTo>
                    <a:pt x="2093" y="722"/>
                  </a:lnTo>
                  <a:lnTo>
                    <a:pt x="2093" y="746"/>
                  </a:lnTo>
                  <a:lnTo>
                    <a:pt x="2116" y="784"/>
                  </a:lnTo>
                  <a:lnTo>
                    <a:pt x="2154" y="769"/>
                  </a:lnTo>
                  <a:lnTo>
                    <a:pt x="2158" y="774"/>
                  </a:lnTo>
                  <a:lnTo>
                    <a:pt x="2164" y="786"/>
                  </a:lnTo>
                  <a:lnTo>
                    <a:pt x="2169" y="801"/>
                  </a:lnTo>
                  <a:lnTo>
                    <a:pt x="2173" y="812"/>
                  </a:lnTo>
                  <a:lnTo>
                    <a:pt x="2176" y="824"/>
                  </a:lnTo>
                  <a:lnTo>
                    <a:pt x="2183" y="834"/>
                  </a:lnTo>
                  <a:lnTo>
                    <a:pt x="2189" y="842"/>
                  </a:lnTo>
                  <a:lnTo>
                    <a:pt x="2193" y="846"/>
                  </a:lnTo>
                  <a:lnTo>
                    <a:pt x="2201" y="822"/>
                  </a:lnTo>
                  <a:lnTo>
                    <a:pt x="2226" y="869"/>
                  </a:lnTo>
                  <a:lnTo>
                    <a:pt x="2228" y="869"/>
                  </a:lnTo>
                  <a:lnTo>
                    <a:pt x="2234" y="871"/>
                  </a:lnTo>
                  <a:lnTo>
                    <a:pt x="2244" y="874"/>
                  </a:lnTo>
                  <a:lnTo>
                    <a:pt x="2254" y="877"/>
                  </a:lnTo>
                  <a:lnTo>
                    <a:pt x="2266" y="882"/>
                  </a:lnTo>
                  <a:lnTo>
                    <a:pt x="2276" y="887"/>
                  </a:lnTo>
                  <a:lnTo>
                    <a:pt x="2284" y="894"/>
                  </a:lnTo>
                  <a:lnTo>
                    <a:pt x="2288" y="902"/>
                  </a:lnTo>
                  <a:lnTo>
                    <a:pt x="2289" y="921"/>
                  </a:lnTo>
                  <a:lnTo>
                    <a:pt x="2293" y="937"/>
                  </a:lnTo>
                  <a:lnTo>
                    <a:pt x="2296" y="952"/>
                  </a:lnTo>
                  <a:lnTo>
                    <a:pt x="2306" y="964"/>
                  </a:lnTo>
                  <a:lnTo>
                    <a:pt x="2316" y="979"/>
                  </a:lnTo>
                  <a:lnTo>
                    <a:pt x="2321" y="996"/>
                  </a:lnTo>
                  <a:lnTo>
                    <a:pt x="2318" y="1011"/>
                  </a:lnTo>
                  <a:lnTo>
                    <a:pt x="2311" y="1017"/>
                  </a:lnTo>
                  <a:lnTo>
                    <a:pt x="2303" y="1019"/>
                  </a:lnTo>
                  <a:lnTo>
                    <a:pt x="2299" y="1024"/>
                  </a:lnTo>
                  <a:lnTo>
                    <a:pt x="2301" y="1032"/>
                  </a:lnTo>
                  <a:lnTo>
                    <a:pt x="2306" y="1046"/>
                  </a:lnTo>
                  <a:lnTo>
                    <a:pt x="2313" y="1061"/>
                  </a:lnTo>
                  <a:lnTo>
                    <a:pt x="2319" y="1076"/>
                  </a:lnTo>
                  <a:lnTo>
                    <a:pt x="2324" y="1092"/>
                  </a:lnTo>
                  <a:lnTo>
                    <a:pt x="2329" y="1107"/>
                  </a:lnTo>
                  <a:lnTo>
                    <a:pt x="2336" y="1117"/>
                  </a:lnTo>
                  <a:lnTo>
                    <a:pt x="2344" y="1121"/>
                  </a:lnTo>
                  <a:lnTo>
                    <a:pt x="2351" y="1121"/>
                  </a:lnTo>
                  <a:lnTo>
                    <a:pt x="2354" y="1121"/>
                  </a:lnTo>
                  <a:lnTo>
                    <a:pt x="2356" y="1129"/>
                  </a:lnTo>
                  <a:lnTo>
                    <a:pt x="2365" y="1149"/>
                  </a:lnTo>
                  <a:lnTo>
                    <a:pt x="2375" y="1174"/>
                  </a:lnTo>
                  <a:lnTo>
                    <a:pt x="2388" y="1192"/>
                  </a:lnTo>
                  <a:lnTo>
                    <a:pt x="2395" y="1201"/>
                  </a:lnTo>
                  <a:lnTo>
                    <a:pt x="2400" y="1209"/>
                  </a:lnTo>
                  <a:lnTo>
                    <a:pt x="2405" y="1217"/>
                  </a:lnTo>
                  <a:lnTo>
                    <a:pt x="2411" y="1227"/>
                  </a:lnTo>
                  <a:lnTo>
                    <a:pt x="2416" y="1236"/>
                  </a:lnTo>
                  <a:lnTo>
                    <a:pt x="2425" y="1244"/>
                  </a:lnTo>
                  <a:lnTo>
                    <a:pt x="2433" y="1253"/>
                  </a:lnTo>
                  <a:lnTo>
                    <a:pt x="2445" y="1259"/>
                  </a:lnTo>
                  <a:lnTo>
                    <a:pt x="2456" y="1263"/>
                  </a:lnTo>
                  <a:lnTo>
                    <a:pt x="2468" y="1263"/>
                  </a:lnTo>
                  <a:lnTo>
                    <a:pt x="2478" y="1263"/>
                  </a:lnTo>
                  <a:lnTo>
                    <a:pt x="2486" y="1259"/>
                  </a:lnTo>
                  <a:lnTo>
                    <a:pt x="2493" y="1256"/>
                  </a:lnTo>
                  <a:lnTo>
                    <a:pt x="2498" y="1253"/>
                  </a:lnTo>
                  <a:lnTo>
                    <a:pt x="2500" y="1251"/>
                  </a:lnTo>
                  <a:lnTo>
                    <a:pt x="2501" y="1249"/>
                  </a:lnTo>
                  <a:lnTo>
                    <a:pt x="2520" y="1259"/>
                  </a:lnTo>
                  <a:lnTo>
                    <a:pt x="2501" y="1293"/>
                  </a:lnTo>
                  <a:lnTo>
                    <a:pt x="2501" y="1294"/>
                  </a:lnTo>
                  <a:lnTo>
                    <a:pt x="2501" y="1299"/>
                  </a:lnTo>
                  <a:lnTo>
                    <a:pt x="2503" y="1304"/>
                  </a:lnTo>
                  <a:lnTo>
                    <a:pt x="2511" y="1306"/>
                  </a:lnTo>
                  <a:lnTo>
                    <a:pt x="2521" y="1314"/>
                  </a:lnTo>
                  <a:lnTo>
                    <a:pt x="2531" y="1329"/>
                  </a:lnTo>
                  <a:lnTo>
                    <a:pt x="2536" y="1346"/>
                  </a:lnTo>
                  <a:lnTo>
                    <a:pt x="2540" y="1354"/>
                  </a:lnTo>
                  <a:lnTo>
                    <a:pt x="2541" y="1356"/>
                  </a:lnTo>
                  <a:lnTo>
                    <a:pt x="2546" y="1361"/>
                  </a:lnTo>
                  <a:lnTo>
                    <a:pt x="2553" y="1368"/>
                  </a:lnTo>
                  <a:lnTo>
                    <a:pt x="2561" y="1378"/>
                  </a:lnTo>
                  <a:lnTo>
                    <a:pt x="2571" y="1388"/>
                  </a:lnTo>
                  <a:lnTo>
                    <a:pt x="2583" y="1401"/>
                  </a:lnTo>
                  <a:lnTo>
                    <a:pt x="2595" y="1414"/>
                  </a:lnTo>
                  <a:lnTo>
                    <a:pt x="2606" y="1428"/>
                  </a:lnTo>
                  <a:lnTo>
                    <a:pt x="2618" y="1443"/>
                  </a:lnTo>
                  <a:lnTo>
                    <a:pt x="2631" y="1458"/>
                  </a:lnTo>
                  <a:lnTo>
                    <a:pt x="2645" y="1473"/>
                  </a:lnTo>
                  <a:lnTo>
                    <a:pt x="2658" y="1488"/>
                  </a:lnTo>
                  <a:lnTo>
                    <a:pt x="2670" y="1501"/>
                  </a:lnTo>
                  <a:lnTo>
                    <a:pt x="2680" y="1511"/>
                  </a:lnTo>
                  <a:lnTo>
                    <a:pt x="2688" y="1521"/>
                  </a:lnTo>
                  <a:lnTo>
                    <a:pt x="2691" y="1528"/>
                  </a:lnTo>
                  <a:lnTo>
                    <a:pt x="2701" y="1533"/>
                  </a:lnTo>
                  <a:lnTo>
                    <a:pt x="2723" y="1538"/>
                  </a:lnTo>
                  <a:lnTo>
                    <a:pt x="2753" y="1543"/>
                  </a:lnTo>
                  <a:lnTo>
                    <a:pt x="2790" y="1546"/>
                  </a:lnTo>
                  <a:lnTo>
                    <a:pt x="2828" y="1549"/>
                  </a:lnTo>
                  <a:lnTo>
                    <a:pt x="2863" y="1551"/>
                  </a:lnTo>
                  <a:lnTo>
                    <a:pt x="2891" y="1554"/>
                  </a:lnTo>
                  <a:lnTo>
                    <a:pt x="2910" y="1556"/>
                  </a:lnTo>
                  <a:lnTo>
                    <a:pt x="2925" y="1558"/>
                  </a:lnTo>
                  <a:lnTo>
                    <a:pt x="2945" y="1559"/>
                  </a:lnTo>
                  <a:lnTo>
                    <a:pt x="2968" y="1561"/>
                  </a:lnTo>
                  <a:lnTo>
                    <a:pt x="2992" y="1563"/>
                  </a:lnTo>
                  <a:lnTo>
                    <a:pt x="3013" y="1566"/>
                  </a:lnTo>
                  <a:lnTo>
                    <a:pt x="3033" y="1568"/>
                  </a:lnTo>
                  <a:lnTo>
                    <a:pt x="3048" y="1569"/>
                  </a:lnTo>
                  <a:lnTo>
                    <a:pt x="3057" y="1571"/>
                  </a:lnTo>
                  <a:lnTo>
                    <a:pt x="3070" y="1569"/>
                  </a:lnTo>
                  <a:lnTo>
                    <a:pt x="3083" y="1563"/>
                  </a:lnTo>
                  <a:lnTo>
                    <a:pt x="3095" y="1554"/>
                  </a:lnTo>
                  <a:lnTo>
                    <a:pt x="3100" y="1551"/>
                  </a:lnTo>
                  <a:lnTo>
                    <a:pt x="3102" y="1553"/>
                  </a:lnTo>
                  <a:lnTo>
                    <a:pt x="3105" y="1556"/>
                  </a:lnTo>
                  <a:lnTo>
                    <a:pt x="3112" y="1561"/>
                  </a:lnTo>
                  <a:lnTo>
                    <a:pt x="3120" y="1568"/>
                  </a:lnTo>
                  <a:lnTo>
                    <a:pt x="3130" y="1576"/>
                  </a:lnTo>
                  <a:lnTo>
                    <a:pt x="3140" y="1586"/>
                  </a:lnTo>
                  <a:lnTo>
                    <a:pt x="3152" y="1598"/>
                  </a:lnTo>
                  <a:lnTo>
                    <a:pt x="3162" y="1609"/>
                  </a:lnTo>
                  <a:lnTo>
                    <a:pt x="3172" y="1624"/>
                  </a:lnTo>
                  <a:lnTo>
                    <a:pt x="3180" y="1638"/>
                  </a:lnTo>
                  <a:lnTo>
                    <a:pt x="3183" y="1653"/>
                  </a:lnTo>
                  <a:lnTo>
                    <a:pt x="3185" y="1668"/>
                  </a:lnTo>
                  <a:lnTo>
                    <a:pt x="3185" y="1678"/>
                  </a:lnTo>
                  <a:lnTo>
                    <a:pt x="3183" y="1688"/>
                  </a:lnTo>
                  <a:lnTo>
                    <a:pt x="3180" y="1696"/>
                  </a:lnTo>
                  <a:lnTo>
                    <a:pt x="3175" y="1704"/>
                  </a:lnTo>
                  <a:lnTo>
                    <a:pt x="3168" y="1724"/>
                  </a:lnTo>
                  <a:lnTo>
                    <a:pt x="3168" y="1748"/>
                  </a:lnTo>
                  <a:lnTo>
                    <a:pt x="3168" y="1771"/>
                  </a:lnTo>
                  <a:lnTo>
                    <a:pt x="3167" y="1795"/>
                  </a:lnTo>
                  <a:lnTo>
                    <a:pt x="3162" y="1815"/>
                  </a:lnTo>
                  <a:lnTo>
                    <a:pt x="3153" y="1835"/>
                  </a:lnTo>
                  <a:lnTo>
                    <a:pt x="3145" y="1851"/>
                  </a:lnTo>
                  <a:lnTo>
                    <a:pt x="3138" y="1870"/>
                  </a:lnTo>
                  <a:lnTo>
                    <a:pt x="3132" y="1890"/>
                  </a:lnTo>
                  <a:lnTo>
                    <a:pt x="3125" y="1913"/>
                  </a:lnTo>
                  <a:lnTo>
                    <a:pt x="3120" y="1933"/>
                  </a:lnTo>
                  <a:lnTo>
                    <a:pt x="3118" y="1951"/>
                  </a:lnTo>
                  <a:lnTo>
                    <a:pt x="3117" y="1965"/>
                  </a:lnTo>
                  <a:lnTo>
                    <a:pt x="3115" y="1976"/>
                  </a:lnTo>
                  <a:lnTo>
                    <a:pt x="3108" y="1986"/>
                  </a:lnTo>
                  <a:lnTo>
                    <a:pt x="3100" y="1993"/>
                  </a:lnTo>
                  <a:lnTo>
                    <a:pt x="3093" y="1996"/>
                  </a:lnTo>
                  <a:lnTo>
                    <a:pt x="3078" y="2003"/>
                  </a:lnTo>
                  <a:lnTo>
                    <a:pt x="3057" y="2013"/>
                  </a:lnTo>
                  <a:lnTo>
                    <a:pt x="3028" y="2026"/>
                  </a:lnTo>
                  <a:lnTo>
                    <a:pt x="2997" y="2040"/>
                  </a:lnTo>
                  <a:lnTo>
                    <a:pt x="2962" y="2056"/>
                  </a:lnTo>
                  <a:lnTo>
                    <a:pt x="2923" y="2073"/>
                  </a:lnTo>
                  <a:lnTo>
                    <a:pt x="2885" y="2090"/>
                  </a:lnTo>
                  <a:lnTo>
                    <a:pt x="2845" y="2108"/>
                  </a:lnTo>
                  <a:lnTo>
                    <a:pt x="2806" y="2125"/>
                  </a:lnTo>
                  <a:lnTo>
                    <a:pt x="2770" y="2141"/>
                  </a:lnTo>
                  <a:lnTo>
                    <a:pt x="2736" y="2155"/>
                  </a:lnTo>
                  <a:lnTo>
                    <a:pt x="2708" y="2168"/>
                  </a:lnTo>
                  <a:lnTo>
                    <a:pt x="2685" y="2180"/>
                  </a:lnTo>
                  <a:lnTo>
                    <a:pt x="2668" y="2188"/>
                  </a:lnTo>
                  <a:lnTo>
                    <a:pt x="2658" y="2193"/>
                  </a:lnTo>
                  <a:lnTo>
                    <a:pt x="2645" y="2200"/>
                  </a:lnTo>
                  <a:lnTo>
                    <a:pt x="2628" y="2205"/>
                  </a:lnTo>
                  <a:lnTo>
                    <a:pt x="2608" y="2208"/>
                  </a:lnTo>
                  <a:lnTo>
                    <a:pt x="2586" y="2211"/>
                  </a:lnTo>
                  <a:lnTo>
                    <a:pt x="2561" y="2215"/>
                  </a:lnTo>
                  <a:lnTo>
                    <a:pt x="2535" y="2220"/>
                  </a:lnTo>
                  <a:lnTo>
                    <a:pt x="2508" y="2225"/>
                  </a:lnTo>
                  <a:lnTo>
                    <a:pt x="2481" y="2231"/>
                  </a:lnTo>
                  <a:lnTo>
                    <a:pt x="2466" y="2235"/>
                  </a:lnTo>
                  <a:lnTo>
                    <a:pt x="2446" y="2240"/>
                  </a:lnTo>
                  <a:lnTo>
                    <a:pt x="2425" y="2245"/>
                  </a:lnTo>
                  <a:lnTo>
                    <a:pt x="2398" y="2252"/>
                  </a:lnTo>
                  <a:lnTo>
                    <a:pt x="2371" y="2258"/>
                  </a:lnTo>
                  <a:lnTo>
                    <a:pt x="2343" y="2265"/>
                  </a:lnTo>
                  <a:lnTo>
                    <a:pt x="2313" y="2272"/>
                  </a:lnTo>
                  <a:lnTo>
                    <a:pt x="2283" y="2278"/>
                  </a:lnTo>
                  <a:lnTo>
                    <a:pt x="2253" y="2285"/>
                  </a:lnTo>
                  <a:lnTo>
                    <a:pt x="2224" y="2293"/>
                  </a:lnTo>
                  <a:lnTo>
                    <a:pt x="2198" y="2300"/>
                  </a:lnTo>
                  <a:lnTo>
                    <a:pt x="2173" y="2307"/>
                  </a:lnTo>
                  <a:lnTo>
                    <a:pt x="2151" y="2312"/>
                  </a:lnTo>
                  <a:lnTo>
                    <a:pt x="2134" y="2318"/>
                  </a:lnTo>
                  <a:lnTo>
                    <a:pt x="2119" y="2323"/>
                  </a:lnTo>
                  <a:lnTo>
                    <a:pt x="2111" y="2327"/>
                  </a:lnTo>
                  <a:lnTo>
                    <a:pt x="2098" y="2333"/>
                  </a:lnTo>
                  <a:lnTo>
                    <a:pt x="2086" y="2338"/>
                  </a:lnTo>
                  <a:lnTo>
                    <a:pt x="2071" y="2347"/>
                  </a:lnTo>
                  <a:lnTo>
                    <a:pt x="2058" y="2353"/>
                  </a:lnTo>
                  <a:lnTo>
                    <a:pt x="2043" y="2365"/>
                  </a:lnTo>
                  <a:lnTo>
                    <a:pt x="2028" y="2378"/>
                  </a:lnTo>
                  <a:lnTo>
                    <a:pt x="2011" y="2398"/>
                  </a:lnTo>
                  <a:lnTo>
                    <a:pt x="1993" y="2422"/>
                  </a:lnTo>
                  <a:lnTo>
                    <a:pt x="1976" y="2447"/>
                  </a:lnTo>
                  <a:lnTo>
                    <a:pt x="1961" y="2470"/>
                  </a:lnTo>
                  <a:lnTo>
                    <a:pt x="1946" y="2492"/>
                  </a:lnTo>
                  <a:lnTo>
                    <a:pt x="1933" y="2512"/>
                  </a:lnTo>
                  <a:lnTo>
                    <a:pt x="1923" y="2528"/>
                  </a:lnTo>
                  <a:lnTo>
                    <a:pt x="1913" y="2542"/>
                  </a:lnTo>
                  <a:lnTo>
                    <a:pt x="1904" y="2552"/>
                  </a:lnTo>
                  <a:lnTo>
                    <a:pt x="1898" y="2558"/>
                  </a:lnTo>
                  <a:lnTo>
                    <a:pt x="1891" y="2563"/>
                  </a:lnTo>
                  <a:lnTo>
                    <a:pt x="1884" y="2568"/>
                  </a:lnTo>
                  <a:lnTo>
                    <a:pt x="1874" y="2573"/>
                  </a:lnTo>
                  <a:lnTo>
                    <a:pt x="1864" y="2575"/>
                  </a:lnTo>
                  <a:lnTo>
                    <a:pt x="1853" y="2577"/>
                  </a:lnTo>
                  <a:lnTo>
                    <a:pt x="1843" y="2577"/>
                  </a:lnTo>
                  <a:lnTo>
                    <a:pt x="1833" y="2573"/>
                  </a:lnTo>
                  <a:lnTo>
                    <a:pt x="1823" y="2568"/>
                  </a:lnTo>
                  <a:lnTo>
                    <a:pt x="1814" y="2562"/>
                  </a:lnTo>
                  <a:lnTo>
                    <a:pt x="1806" y="2553"/>
                  </a:lnTo>
                  <a:lnTo>
                    <a:pt x="1799" y="2547"/>
                  </a:lnTo>
                  <a:lnTo>
                    <a:pt x="1794" y="2538"/>
                  </a:lnTo>
                  <a:lnTo>
                    <a:pt x="1787" y="2533"/>
                  </a:lnTo>
                  <a:lnTo>
                    <a:pt x="1781" y="2530"/>
                  </a:lnTo>
                  <a:lnTo>
                    <a:pt x="1772" y="2528"/>
                  </a:lnTo>
                  <a:lnTo>
                    <a:pt x="1764" y="2530"/>
                  </a:lnTo>
                  <a:lnTo>
                    <a:pt x="1752" y="2533"/>
                  </a:lnTo>
                  <a:lnTo>
                    <a:pt x="1739" y="2535"/>
                  </a:lnTo>
                  <a:lnTo>
                    <a:pt x="1722" y="2535"/>
                  </a:lnTo>
                  <a:lnTo>
                    <a:pt x="1704" y="2535"/>
                  </a:lnTo>
                  <a:lnTo>
                    <a:pt x="1684" y="2535"/>
                  </a:lnTo>
                  <a:lnTo>
                    <a:pt x="1666" y="2533"/>
                  </a:lnTo>
                  <a:lnTo>
                    <a:pt x="1647" y="2532"/>
                  </a:lnTo>
                  <a:lnTo>
                    <a:pt x="1632" y="2530"/>
                  </a:lnTo>
                  <a:lnTo>
                    <a:pt x="1617" y="2528"/>
                  </a:lnTo>
                  <a:lnTo>
                    <a:pt x="1602" y="2525"/>
                  </a:lnTo>
                  <a:lnTo>
                    <a:pt x="1589" y="2520"/>
                  </a:lnTo>
                  <a:lnTo>
                    <a:pt x="1574" y="2517"/>
                  </a:lnTo>
                  <a:lnTo>
                    <a:pt x="1561" y="2513"/>
                  </a:lnTo>
                  <a:lnTo>
                    <a:pt x="1549" y="2510"/>
                  </a:lnTo>
                  <a:lnTo>
                    <a:pt x="1537" y="2507"/>
                  </a:lnTo>
                  <a:lnTo>
                    <a:pt x="1527" y="2507"/>
                  </a:lnTo>
                  <a:lnTo>
                    <a:pt x="1514" y="2507"/>
                  </a:lnTo>
                  <a:lnTo>
                    <a:pt x="1492" y="2507"/>
                  </a:lnTo>
                  <a:lnTo>
                    <a:pt x="1466" y="2508"/>
                  </a:lnTo>
                  <a:lnTo>
                    <a:pt x="1436" y="2508"/>
                  </a:lnTo>
                  <a:lnTo>
                    <a:pt x="1409" y="2510"/>
                  </a:lnTo>
                  <a:lnTo>
                    <a:pt x="1386" y="2512"/>
                  </a:lnTo>
                  <a:lnTo>
                    <a:pt x="1369" y="2512"/>
                  </a:lnTo>
                  <a:lnTo>
                    <a:pt x="1362" y="2512"/>
                  </a:lnTo>
                  <a:lnTo>
                    <a:pt x="1361" y="2513"/>
                  </a:lnTo>
                  <a:lnTo>
                    <a:pt x="1356" y="2515"/>
                  </a:lnTo>
                  <a:lnTo>
                    <a:pt x="1349" y="2518"/>
                  </a:lnTo>
                  <a:lnTo>
                    <a:pt x="1339" y="2520"/>
                  </a:lnTo>
                  <a:lnTo>
                    <a:pt x="1329" y="2522"/>
                  </a:lnTo>
                  <a:lnTo>
                    <a:pt x="1317" y="2522"/>
                  </a:lnTo>
                  <a:lnTo>
                    <a:pt x="1304" y="2518"/>
                  </a:lnTo>
                  <a:lnTo>
                    <a:pt x="1292" y="2512"/>
                  </a:lnTo>
                  <a:lnTo>
                    <a:pt x="1281" y="2503"/>
                  </a:lnTo>
                  <a:lnTo>
                    <a:pt x="1272" y="2497"/>
                  </a:lnTo>
                  <a:lnTo>
                    <a:pt x="1266" y="2490"/>
                  </a:lnTo>
                  <a:lnTo>
                    <a:pt x="1261" y="2485"/>
                  </a:lnTo>
                  <a:lnTo>
                    <a:pt x="1256" y="2482"/>
                  </a:lnTo>
                  <a:lnTo>
                    <a:pt x="1250" y="2480"/>
                  </a:lnTo>
                  <a:lnTo>
                    <a:pt x="1245" y="2480"/>
                  </a:lnTo>
                  <a:lnTo>
                    <a:pt x="1239" y="2483"/>
                  </a:lnTo>
                  <a:lnTo>
                    <a:pt x="1232" y="2490"/>
                  </a:lnTo>
                  <a:lnTo>
                    <a:pt x="1235" y="2498"/>
                  </a:lnTo>
                  <a:lnTo>
                    <a:pt x="1240" y="2510"/>
                  </a:lnTo>
                  <a:lnTo>
                    <a:pt x="1239" y="2525"/>
                  </a:lnTo>
                  <a:lnTo>
                    <a:pt x="1234" y="2545"/>
                  </a:lnTo>
                  <a:lnTo>
                    <a:pt x="1232" y="2567"/>
                  </a:lnTo>
                  <a:lnTo>
                    <a:pt x="1234" y="2587"/>
                  </a:lnTo>
                  <a:lnTo>
                    <a:pt x="1234" y="2602"/>
                  </a:lnTo>
                  <a:lnTo>
                    <a:pt x="1230" y="2615"/>
                  </a:lnTo>
                  <a:lnTo>
                    <a:pt x="1225" y="2630"/>
                  </a:lnTo>
                  <a:lnTo>
                    <a:pt x="1219" y="2643"/>
                  </a:lnTo>
                  <a:lnTo>
                    <a:pt x="1215" y="2648"/>
                  </a:lnTo>
                  <a:lnTo>
                    <a:pt x="1177" y="2678"/>
                  </a:lnTo>
                  <a:lnTo>
                    <a:pt x="1175" y="2672"/>
                  </a:lnTo>
                  <a:lnTo>
                    <a:pt x="1170" y="2657"/>
                  </a:lnTo>
                  <a:lnTo>
                    <a:pt x="1167" y="2640"/>
                  </a:lnTo>
                  <a:lnTo>
                    <a:pt x="1167" y="2625"/>
                  </a:lnTo>
                  <a:lnTo>
                    <a:pt x="1167" y="2613"/>
                  </a:lnTo>
                  <a:lnTo>
                    <a:pt x="1164" y="2598"/>
                  </a:lnTo>
                  <a:lnTo>
                    <a:pt x="1154" y="2583"/>
                  </a:lnTo>
                  <a:lnTo>
                    <a:pt x="1144" y="2568"/>
                  </a:lnTo>
                  <a:lnTo>
                    <a:pt x="1134" y="2555"/>
                  </a:lnTo>
                  <a:lnTo>
                    <a:pt x="1124" y="2543"/>
                  </a:lnTo>
                  <a:lnTo>
                    <a:pt x="1115" y="2532"/>
                  </a:lnTo>
                  <a:lnTo>
                    <a:pt x="1110" y="2522"/>
                  </a:lnTo>
                  <a:lnTo>
                    <a:pt x="1107" y="2508"/>
                  </a:lnTo>
                  <a:lnTo>
                    <a:pt x="1104" y="2492"/>
                  </a:lnTo>
                  <a:lnTo>
                    <a:pt x="1095" y="2475"/>
                  </a:lnTo>
                  <a:lnTo>
                    <a:pt x="1082" y="2458"/>
                  </a:lnTo>
                  <a:lnTo>
                    <a:pt x="1072" y="2450"/>
                  </a:lnTo>
                  <a:lnTo>
                    <a:pt x="1059" y="2437"/>
                  </a:lnTo>
                  <a:lnTo>
                    <a:pt x="1044" y="2423"/>
                  </a:lnTo>
                  <a:lnTo>
                    <a:pt x="1029" y="2405"/>
                  </a:lnTo>
                  <a:lnTo>
                    <a:pt x="1014" y="2387"/>
                  </a:lnTo>
                  <a:lnTo>
                    <a:pt x="999" y="2368"/>
                  </a:lnTo>
                  <a:lnTo>
                    <a:pt x="987" y="2350"/>
                  </a:lnTo>
                  <a:lnTo>
                    <a:pt x="979" y="2332"/>
                  </a:lnTo>
                  <a:lnTo>
                    <a:pt x="964" y="2302"/>
                  </a:lnTo>
                  <a:lnTo>
                    <a:pt x="949" y="2280"/>
                  </a:lnTo>
                  <a:lnTo>
                    <a:pt x="937" y="2263"/>
                  </a:lnTo>
                  <a:lnTo>
                    <a:pt x="930" y="2245"/>
                  </a:lnTo>
                  <a:lnTo>
                    <a:pt x="927" y="2231"/>
                  </a:lnTo>
                  <a:lnTo>
                    <a:pt x="920" y="2211"/>
                  </a:lnTo>
                  <a:lnTo>
                    <a:pt x="910" y="2190"/>
                  </a:lnTo>
                  <a:lnTo>
                    <a:pt x="900" y="2166"/>
                  </a:lnTo>
                  <a:lnTo>
                    <a:pt x="890" y="2143"/>
                  </a:lnTo>
                  <a:lnTo>
                    <a:pt x="880" y="2123"/>
                  </a:lnTo>
                  <a:lnTo>
                    <a:pt x="870" y="2108"/>
                  </a:lnTo>
                  <a:lnTo>
                    <a:pt x="864" y="2098"/>
                  </a:lnTo>
                  <a:lnTo>
                    <a:pt x="854" y="2085"/>
                  </a:lnTo>
                  <a:lnTo>
                    <a:pt x="845" y="2071"/>
                  </a:lnTo>
                  <a:lnTo>
                    <a:pt x="834" y="2056"/>
                  </a:lnTo>
                  <a:lnTo>
                    <a:pt x="822" y="2041"/>
                  </a:lnTo>
                  <a:lnTo>
                    <a:pt x="814" y="2033"/>
                  </a:lnTo>
                  <a:lnTo>
                    <a:pt x="802" y="2025"/>
                  </a:lnTo>
                  <a:lnTo>
                    <a:pt x="790" y="2018"/>
                  </a:lnTo>
                  <a:lnTo>
                    <a:pt x="779" y="2010"/>
                  </a:lnTo>
                  <a:lnTo>
                    <a:pt x="765" y="2003"/>
                  </a:lnTo>
                  <a:lnTo>
                    <a:pt x="752" y="1998"/>
                  </a:lnTo>
                  <a:lnTo>
                    <a:pt x="740" y="1995"/>
                  </a:lnTo>
                  <a:lnTo>
                    <a:pt x="730" y="1993"/>
                  </a:lnTo>
                  <a:lnTo>
                    <a:pt x="722" y="1991"/>
                  </a:lnTo>
                  <a:lnTo>
                    <a:pt x="717" y="1988"/>
                  </a:lnTo>
                  <a:lnTo>
                    <a:pt x="710" y="1983"/>
                  </a:lnTo>
                  <a:lnTo>
                    <a:pt x="705" y="1975"/>
                  </a:lnTo>
                  <a:lnTo>
                    <a:pt x="700" y="1966"/>
                  </a:lnTo>
                  <a:lnTo>
                    <a:pt x="693" y="1953"/>
                  </a:lnTo>
                  <a:lnTo>
                    <a:pt x="685" y="1940"/>
                  </a:lnTo>
                  <a:lnTo>
                    <a:pt x="673" y="1923"/>
                  </a:lnTo>
                  <a:lnTo>
                    <a:pt x="662" y="1905"/>
                  </a:lnTo>
                  <a:lnTo>
                    <a:pt x="652" y="1886"/>
                  </a:lnTo>
                  <a:lnTo>
                    <a:pt x="642" y="1868"/>
                  </a:lnTo>
                  <a:lnTo>
                    <a:pt x="635" y="1851"/>
                  </a:lnTo>
                  <a:lnTo>
                    <a:pt x="628" y="1833"/>
                  </a:lnTo>
                  <a:lnTo>
                    <a:pt x="623" y="1818"/>
                  </a:lnTo>
                  <a:lnTo>
                    <a:pt x="620" y="1803"/>
                  </a:lnTo>
                  <a:lnTo>
                    <a:pt x="617" y="1790"/>
                  </a:lnTo>
                  <a:lnTo>
                    <a:pt x="612" y="1765"/>
                  </a:lnTo>
                  <a:lnTo>
                    <a:pt x="603" y="1741"/>
                  </a:lnTo>
                  <a:lnTo>
                    <a:pt x="597" y="1724"/>
                  </a:lnTo>
                  <a:lnTo>
                    <a:pt x="593" y="1718"/>
                  </a:lnTo>
                  <a:lnTo>
                    <a:pt x="600" y="1706"/>
                  </a:lnTo>
                  <a:lnTo>
                    <a:pt x="610" y="1676"/>
                  </a:lnTo>
                  <a:lnTo>
                    <a:pt x="617" y="1636"/>
                  </a:lnTo>
                  <a:lnTo>
                    <a:pt x="607" y="1594"/>
                  </a:lnTo>
                  <a:lnTo>
                    <a:pt x="590" y="1559"/>
                  </a:lnTo>
                  <a:lnTo>
                    <a:pt x="582" y="1531"/>
                  </a:lnTo>
                  <a:lnTo>
                    <a:pt x="573" y="1503"/>
                  </a:lnTo>
                  <a:lnTo>
                    <a:pt x="560" y="1471"/>
                  </a:lnTo>
                  <a:lnTo>
                    <a:pt x="552" y="1454"/>
                  </a:lnTo>
                  <a:lnTo>
                    <a:pt x="547" y="1439"/>
                  </a:lnTo>
                  <a:lnTo>
                    <a:pt x="542" y="1426"/>
                  </a:lnTo>
                  <a:lnTo>
                    <a:pt x="537" y="1413"/>
                  </a:lnTo>
                  <a:lnTo>
                    <a:pt x="532" y="1401"/>
                  </a:lnTo>
                  <a:lnTo>
                    <a:pt x="525" y="1393"/>
                  </a:lnTo>
                  <a:lnTo>
                    <a:pt x="518" y="1383"/>
                  </a:lnTo>
                  <a:lnTo>
                    <a:pt x="508" y="1376"/>
                  </a:lnTo>
                  <a:lnTo>
                    <a:pt x="497" y="1369"/>
                  </a:lnTo>
                  <a:lnTo>
                    <a:pt x="487" y="1361"/>
                  </a:lnTo>
                  <a:lnTo>
                    <a:pt x="475" y="1354"/>
                  </a:lnTo>
                  <a:lnTo>
                    <a:pt x="463" y="1346"/>
                  </a:lnTo>
                  <a:lnTo>
                    <a:pt x="452" y="1338"/>
                  </a:lnTo>
                  <a:lnTo>
                    <a:pt x="440" y="1329"/>
                  </a:lnTo>
                  <a:lnTo>
                    <a:pt x="427" y="1323"/>
                  </a:lnTo>
                  <a:lnTo>
                    <a:pt x="413" y="1316"/>
                  </a:lnTo>
                  <a:lnTo>
                    <a:pt x="392" y="1303"/>
                  </a:lnTo>
                  <a:lnTo>
                    <a:pt x="382" y="1286"/>
                  </a:lnTo>
                  <a:lnTo>
                    <a:pt x="375" y="1268"/>
                  </a:lnTo>
                  <a:lnTo>
                    <a:pt x="365" y="1249"/>
                  </a:lnTo>
                  <a:lnTo>
                    <a:pt x="355" y="1232"/>
                  </a:lnTo>
                  <a:lnTo>
                    <a:pt x="348" y="1219"/>
                  </a:lnTo>
                  <a:lnTo>
                    <a:pt x="347" y="1209"/>
                  </a:lnTo>
                  <a:lnTo>
                    <a:pt x="347" y="1206"/>
                  </a:lnTo>
                  <a:lnTo>
                    <a:pt x="348" y="1206"/>
                  </a:lnTo>
                  <a:lnTo>
                    <a:pt x="353" y="1204"/>
                  </a:lnTo>
                  <a:lnTo>
                    <a:pt x="360" y="1201"/>
                  </a:lnTo>
                  <a:lnTo>
                    <a:pt x="367" y="1194"/>
                  </a:lnTo>
                  <a:lnTo>
                    <a:pt x="370" y="1187"/>
                  </a:lnTo>
                  <a:lnTo>
                    <a:pt x="370" y="1176"/>
                  </a:lnTo>
                  <a:lnTo>
                    <a:pt x="365" y="1162"/>
                  </a:lnTo>
                  <a:lnTo>
                    <a:pt x="352" y="1144"/>
                  </a:lnTo>
                  <a:lnTo>
                    <a:pt x="330" y="1122"/>
                  </a:lnTo>
                  <a:lnTo>
                    <a:pt x="327" y="1122"/>
                  </a:lnTo>
                  <a:lnTo>
                    <a:pt x="330" y="1126"/>
                  </a:lnTo>
                  <a:lnTo>
                    <a:pt x="327" y="1112"/>
                  </a:lnTo>
                  <a:lnTo>
                    <a:pt x="320" y="1091"/>
                  </a:lnTo>
                  <a:lnTo>
                    <a:pt x="315" y="1076"/>
                  </a:lnTo>
                  <a:lnTo>
                    <a:pt x="308" y="1066"/>
                  </a:lnTo>
                  <a:lnTo>
                    <a:pt x="293" y="1054"/>
                  </a:lnTo>
                  <a:lnTo>
                    <a:pt x="283" y="1039"/>
                  </a:lnTo>
                  <a:lnTo>
                    <a:pt x="285" y="1024"/>
                  </a:lnTo>
                  <a:lnTo>
                    <a:pt x="287" y="1011"/>
                  </a:lnTo>
                  <a:lnTo>
                    <a:pt x="275" y="997"/>
                  </a:lnTo>
                  <a:lnTo>
                    <a:pt x="257" y="986"/>
                  </a:lnTo>
                  <a:lnTo>
                    <a:pt x="243" y="971"/>
                  </a:lnTo>
                  <a:lnTo>
                    <a:pt x="235" y="954"/>
                  </a:lnTo>
                  <a:lnTo>
                    <a:pt x="232" y="936"/>
                  </a:lnTo>
                  <a:lnTo>
                    <a:pt x="228" y="916"/>
                  </a:lnTo>
                  <a:lnTo>
                    <a:pt x="218" y="889"/>
                  </a:lnTo>
                  <a:lnTo>
                    <a:pt x="205" y="862"/>
                  </a:lnTo>
                  <a:lnTo>
                    <a:pt x="185" y="836"/>
                  </a:lnTo>
                  <a:lnTo>
                    <a:pt x="172" y="814"/>
                  </a:lnTo>
                  <a:lnTo>
                    <a:pt x="168" y="796"/>
                  </a:lnTo>
                  <a:lnTo>
                    <a:pt x="167" y="782"/>
                  </a:lnTo>
                  <a:lnTo>
                    <a:pt x="157" y="774"/>
                  </a:lnTo>
                  <a:lnTo>
                    <a:pt x="145" y="766"/>
                  </a:lnTo>
                  <a:lnTo>
                    <a:pt x="140" y="754"/>
                  </a:lnTo>
                  <a:lnTo>
                    <a:pt x="133" y="739"/>
                  </a:lnTo>
                  <a:lnTo>
                    <a:pt x="118" y="722"/>
                  </a:lnTo>
                  <a:lnTo>
                    <a:pt x="100" y="700"/>
                  </a:lnTo>
                  <a:lnTo>
                    <a:pt x="86" y="674"/>
                  </a:lnTo>
                  <a:lnTo>
                    <a:pt x="78" y="652"/>
                  </a:lnTo>
                  <a:lnTo>
                    <a:pt x="75" y="642"/>
                  </a:lnTo>
                  <a:lnTo>
                    <a:pt x="70" y="642"/>
                  </a:lnTo>
                  <a:lnTo>
                    <a:pt x="60" y="642"/>
                  </a:lnTo>
                  <a:lnTo>
                    <a:pt x="45" y="642"/>
                  </a:lnTo>
                  <a:lnTo>
                    <a:pt x="33" y="642"/>
                  </a:lnTo>
                  <a:lnTo>
                    <a:pt x="21" y="642"/>
                  </a:lnTo>
                  <a:lnTo>
                    <a:pt x="11" y="644"/>
                  </a:lnTo>
                  <a:lnTo>
                    <a:pt x="3" y="645"/>
                  </a:lnTo>
                  <a:lnTo>
                    <a:pt x="0" y="645"/>
                  </a:lnTo>
                  <a:lnTo>
                    <a:pt x="1" y="642"/>
                  </a:lnTo>
                  <a:lnTo>
                    <a:pt x="5" y="632"/>
                  </a:lnTo>
                  <a:lnTo>
                    <a:pt x="8" y="620"/>
                  </a:lnTo>
                  <a:lnTo>
                    <a:pt x="13" y="609"/>
                  </a:lnTo>
                  <a:lnTo>
                    <a:pt x="20" y="592"/>
                  </a:lnTo>
                  <a:lnTo>
                    <a:pt x="28" y="569"/>
                  </a:lnTo>
                  <a:lnTo>
                    <a:pt x="35" y="542"/>
                  </a:lnTo>
                  <a:lnTo>
                    <a:pt x="38" y="517"/>
                  </a:lnTo>
                  <a:lnTo>
                    <a:pt x="40" y="500"/>
                  </a:lnTo>
                  <a:lnTo>
                    <a:pt x="43" y="489"/>
                  </a:lnTo>
                  <a:lnTo>
                    <a:pt x="50" y="480"/>
                  </a:lnTo>
                  <a:lnTo>
                    <a:pt x="56" y="470"/>
                  </a:lnTo>
                  <a:lnTo>
                    <a:pt x="61" y="457"/>
                  </a:lnTo>
                  <a:lnTo>
                    <a:pt x="65" y="442"/>
                  </a:lnTo>
                  <a:lnTo>
                    <a:pt x="66" y="429"/>
                  </a:lnTo>
                  <a:lnTo>
                    <a:pt x="66" y="424"/>
                  </a:lnTo>
                  <a:lnTo>
                    <a:pt x="232" y="465"/>
                  </a:lnTo>
                  <a:lnTo>
                    <a:pt x="235" y="464"/>
                  </a:lnTo>
                  <a:lnTo>
                    <a:pt x="243" y="457"/>
                  </a:lnTo>
                  <a:lnTo>
                    <a:pt x="257" y="450"/>
                  </a:lnTo>
                  <a:lnTo>
                    <a:pt x="270" y="439"/>
                  </a:lnTo>
                  <a:lnTo>
                    <a:pt x="285" y="429"/>
                  </a:lnTo>
                  <a:lnTo>
                    <a:pt x="298" y="417"/>
                  </a:lnTo>
                  <a:lnTo>
                    <a:pt x="308" y="407"/>
                  </a:lnTo>
                  <a:lnTo>
                    <a:pt x="313" y="399"/>
                  </a:lnTo>
                  <a:lnTo>
                    <a:pt x="318" y="384"/>
                  </a:lnTo>
                  <a:lnTo>
                    <a:pt x="325" y="369"/>
                  </a:lnTo>
                  <a:lnTo>
                    <a:pt x="330" y="357"/>
                  </a:lnTo>
                  <a:lnTo>
                    <a:pt x="332" y="352"/>
                  </a:lnTo>
                  <a:lnTo>
                    <a:pt x="335" y="352"/>
                  </a:lnTo>
                  <a:lnTo>
                    <a:pt x="342" y="352"/>
                  </a:lnTo>
                  <a:lnTo>
                    <a:pt x="353" y="352"/>
                  </a:lnTo>
                  <a:lnTo>
                    <a:pt x="367" y="350"/>
                  </a:lnTo>
                  <a:lnTo>
                    <a:pt x="382" y="350"/>
                  </a:lnTo>
                  <a:lnTo>
                    <a:pt x="398" y="347"/>
                  </a:lnTo>
                  <a:lnTo>
                    <a:pt x="413" y="345"/>
                  </a:lnTo>
                  <a:lnTo>
                    <a:pt x="427" y="342"/>
                  </a:lnTo>
                  <a:lnTo>
                    <a:pt x="438" y="337"/>
                  </a:lnTo>
                  <a:lnTo>
                    <a:pt x="447" y="329"/>
                  </a:lnTo>
                  <a:lnTo>
                    <a:pt x="455" y="319"/>
                  </a:lnTo>
                  <a:lnTo>
                    <a:pt x="462" y="309"/>
                  </a:lnTo>
                  <a:lnTo>
                    <a:pt x="468" y="299"/>
                  </a:lnTo>
                  <a:lnTo>
                    <a:pt x="475" y="290"/>
                  </a:lnTo>
                  <a:lnTo>
                    <a:pt x="483" y="284"/>
                  </a:lnTo>
                  <a:lnTo>
                    <a:pt x="493" y="280"/>
                  </a:lnTo>
                  <a:lnTo>
                    <a:pt x="508" y="275"/>
                  </a:lnTo>
                  <a:lnTo>
                    <a:pt x="513" y="269"/>
                  </a:lnTo>
                  <a:lnTo>
                    <a:pt x="513" y="264"/>
                  </a:lnTo>
                  <a:lnTo>
                    <a:pt x="512" y="262"/>
                  </a:lnTo>
                  <a:lnTo>
                    <a:pt x="380" y="90"/>
                  </a:lnTo>
                  <a:close/>
                </a:path>
              </a:pathLst>
            </a:custGeom>
            <a:solidFill>
              <a:srgbClr val="b2b2b2">
                <a:alpha val="30000"/>
              </a:srgbClr>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447" name=""/>
          <p:cNvSpPr/>
          <p:nvPr/>
        </p:nvSpPr>
        <p:spPr>
          <a:xfrm>
            <a:off x="0" y="457200"/>
            <a:ext cx="914400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333399"/>
                </a:solidFill>
                <a:latin typeface="Albertus Medium"/>
              </a:rPr>
              <a:t>The Risks of Nanotechnology</a:t>
            </a:r>
            <a:endParaRPr b="0" lang="en-US" sz="3600" spc="-1" strike="noStrike">
              <a:solidFill>
                <a:srgbClr val="000000"/>
              </a:solidFill>
              <a:latin typeface="Arial"/>
            </a:endParaRPr>
          </a:p>
        </p:txBody>
      </p:sp>
      <p:sp>
        <p:nvSpPr>
          <p:cNvPr id="448" name="PlaceHolder 1"/>
          <p:cNvSpPr>
            <a:spLocks noGrp="1"/>
          </p:cNvSpPr>
          <p:nvPr>
            <p:ph/>
          </p:nvPr>
        </p:nvSpPr>
        <p:spPr>
          <a:xfrm>
            <a:off x="1218960" y="1722600"/>
            <a:ext cx="7467480" cy="4906800"/>
          </a:xfrm>
          <a:prstGeom prst="rect">
            <a:avLst/>
          </a:prstGeom>
          <a:noFill/>
          <a:ln w="0">
            <a:noFill/>
          </a:ln>
        </p:spPr>
        <p:txBody>
          <a:bodyPr lIns="90000" rIns="90000" tIns="46800" bIns="46800" anchor="t">
            <a:normAutofit/>
          </a:bodyPr>
          <a:p>
            <a:pPr marL="343080" indent="0">
              <a:lnSpc>
                <a:spcPct val="100000"/>
              </a:lnSpc>
              <a:spcBef>
                <a:spcPts val="24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endParaRPr b="0" lang="en-US" sz="1000" spc="-1" strike="noStrike">
              <a:solidFill>
                <a:srgbClr val="000000"/>
              </a:solidFill>
              <a:latin typeface="Arial"/>
            </a:endParaRPr>
          </a:p>
          <a:p>
            <a:pPr lvl="1" marL="741240" indent="-284040">
              <a:lnSpc>
                <a:spcPct val="100000"/>
              </a:lnSpc>
              <a:spcBef>
                <a:spcPts val="601"/>
              </a:spcBef>
              <a:buClr>
                <a:srgbClr val="333399"/>
              </a:buClr>
              <a:buFont typeface="Albertus Medium"/>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400" spc="-1" strike="noStrike">
                <a:solidFill>
                  <a:srgbClr val="333399"/>
                </a:solidFill>
                <a:latin typeface="Albertus Medium"/>
              </a:rPr>
              <a:t>The adverse effect of engineered nanoparticles cannot be predicted or derived from the known toxicity of the bulk material. </a:t>
            </a:r>
            <a:endParaRPr b="0" lang="en-US" sz="2400" spc="-1" strike="noStrike">
              <a:solidFill>
                <a:srgbClr val="000000"/>
              </a:solidFill>
              <a:latin typeface="Arial"/>
            </a:endParaRPr>
          </a:p>
          <a:p>
            <a:pPr lvl="1" marL="741240" indent="0">
              <a:lnSpc>
                <a:spcPct val="100000"/>
              </a:lnSpc>
              <a:spcBef>
                <a:spcPts val="34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endParaRPr b="0" lang="en-US" sz="1400" spc="-1" strike="noStrike">
              <a:solidFill>
                <a:srgbClr val="000000"/>
              </a:solidFill>
              <a:latin typeface="Arial"/>
            </a:endParaRPr>
          </a:p>
          <a:p>
            <a:pPr lvl="1" marL="741240" indent="-284040">
              <a:lnSpc>
                <a:spcPct val="100000"/>
              </a:lnSpc>
              <a:spcBef>
                <a:spcPts val="601"/>
              </a:spcBef>
              <a:buClr>
                <a:srgbClr val="333399"/>
              </a:buClr>
              <a:buFont typeface="Albertus Medium"/>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400" spc="-1" strike="noStrike">
                <a:solidFill>
                  <a:srgbClr val="333399"/>
                </a:solidFill>
                <a:latin typeface="Albertus Medium"/>
              </a:rPr>
              <a:t>Larger nanoparticles might have different properties than smaller ones, nanoparticles have tendency to aggregate due to their atomic force, such aggregate often behave differently from individual nanoparticles.</a:t>
            </a:r>
            <a:endParaRPr b="0" lang="en-US" sz="2400" spc="-1" strike="noStrike">
              <a:solidFill>
                <a:srgbClr val="000000"/>
              </a:solidFill>
              <a:latin typeface="Arial"/>
            </a:endParaRPr>
          </a:p>
          <a:p>
            <a:pPr lvl="1" marL="74124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endParaRPr b="0" lang="en-US" sz="2400" spc="-1" strike="noStrike">
              <a:solidFill>
                <a:srgbClr val="000000"/>
              </a:solidFill>
              <a:latin typeface="Arial"/>
            </a:endParaRPr>
          </a:p>
          <a:p>
            <a:pPr lvl="1" marL="74124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endParaRPr b="0" lang="en-US" sz="2400" spc="-1" strike="noStrike">
              <a:solidFill>
                <a:srgbClr val="000000"/>
              </a:solidFill>
              <a:latin typeface="Arial"/>
            </a:endParaRPr>
          </a:p>
        </p:txBody>
      </p:sp>
      <p:sp>
        <p:nvSpPr>
          <p:cNvPr id="449" name=""/>
          <p:cNvSpPr/>
          <p:nvPr/>
        </p:nvSpPr>
        <p:spPr>
          <a:xfrm>
            <a:off x="1258920" y="1157400"/>
            <a:ext cx="6208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333399"/>
                </a:solidFill>
                <a:latin typeface="Albertus Medium"/>
              </a:rPr>
              <a:t>Some Facts to remember;</a:t>
            </a:r>
            <a:endParaRPr b="0" lang="en-US" sz="2400" spc="-1" strike="noStrike">
              <a:solidFill>
                <a:srgbClr val="000000"/>
              </a:solidFill>
              <a:latin typeface="Arial"/>
            </a:endParaRPr>
          </a:p>
        </p:txBody>
      </p:sp>
      <p:sp>
        <p:nvSpPr>
          <p:cNvPr id="450" name=""/>
          <p:cNvSpPr/>
          <p:nvPr/>
        </p:nvSpPr>
        <p:spPr>
          <a:xfrm>
            <a:off x="609480" y="6629400"/>
            <a:ext cx="8534520" cy="228600"/>
          </a:xfrm>
          <a:prstGeom prst="rect">
            <a:avLst/>
          </a:prstGeom>
          <a:solidFill>
            <a:srgbClr val="bbe0e3"/>
          </a:solidFill>
          <a:ln cap="sq"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99"/>
                </a:solidFill>
                <a:latin typeface="Albertus Medium"/>
              </a:rPr>
              <a:t>www.skinandallergy.org</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0" lang="en-US" sz="1000" spc="-1" strike="noStrike">
                <a:solidFill>
                  <a:srgbClr val="333399"/>
                </a:solidFill>
                <a:latin typeface="Albertus Medium"/>
              </a:rPr>
              <a:t>www.panarabderm.org</a:t>
            </a:r>
            <a:endParaRPr b="0" lang="en-US" sz="10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51" name="" descr=""/>
          <p:cNvPicPr/>
          <p:nvPr/>
        </p:nvPicPr>
        <p:blipFill>
          <a:blip r:embed="rId2"/>
          <a:stretch/>
        </p:blipFill>
        <p:spPr>
          <a:xfrm>
            <a:off x="8153280" y="74520"/>
            <a:ext cx="922320" cy="992160"/>
          </a:xfrm>
          <a:prstGeom prst="rect">
            <a:avLst/>
          </a:prstGeom>
          <a:ln w="0">
            <a:noFill/>
          </a:ln>
        </p:spPr>
      </p:pic>
      <p:sp>
        <p:nvSpPr>
          <p:cNvPr id="452" name=""/>
          <p:cNvSpPr/>
          <p:nvPr/>
        </p:nvSpPr>
        <p:spPr>
          <a:xfrm>
            <a:off x="1295280" y="1066680"/>
            <a:ext cx="6193080" cy="1800"/>
          </a:xfrm>
          <a:prstGeom prst="line">
            <a:avLst/>
          </a:prstGeom>
          <a:ln cap="sq" w="12600">
            <a:solidFill>
              <a:srgbClr val="b2b2b2"/>
            </a:solidFill>
            <a:miter/>
          </a:ln>
        </p:spPr>
        <p:style>
          <a:lnRef idx="0"/>
          <a:fillRef idx="0"/>
          <a:effectRef idx="0"/>
          <a:fontRef idx="minor"/>
        </p:style>
        <p:txBody>
          <a:bodyPr lIns="90000" rIns="90000" tIns="-45000" bIns="-45000" anchor="t">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453" name="" descr=""/>
          <p:cNvPicPr/>
          <p:nvPr/>
        </p:nvPicPr>
        <p:blipFill>
          <a:blip r:embed="rId3"/>
          <a:stretch/>
        </p:blipFill>
        <p:spPr>
          <a:xfrm>
            <a:off x="0" y="0"/>
            <a:ext cx="600120" cy="6858000"/>
          </a:xfrm>
          <a:prstGeom prst="rect">
            <a:avLst/>
          </a:prstGeom>
          <a:ln w="0">
            <a:noFill/>
          </a:ln>
        </p:spPr>
      </p:pic>
      <p:sp>
        <p:nvSpPr>
          <p:cNvPr id="454" name=""/>
          <p:cNvSpPr/>
          <p:nvPr/>
        </p:nvSpPr>
        <p:spPr>
          <a:xfrm>
            <a:off x="0" y="457200"/>
            <a:ext cx="914400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333399"/>
                </a:solidFill>
                <a:latin typeface="Albertus Medium"/>
              </a:rPr>
              <a:t>The Risks of Nanotechnology</a:t>
            </a:r>
            <a:endParaRPr b="0" lang="en-US" sz="3600" spc="-1" strike="noStrike">
              <a:solidFill>
                <a:srgbClr val="000000"/>
              </a:solidFill>
              <a:latin typeface="Arial"/>
            </a:endParaRPr>
          </a:p>
        </p:txBody>
      </p:sp>
      <p:grpSp>
        <p:nvGrpSpPr>
          <p:cNvPr id="455" name=""/>
          <p:cNvGrpSpPr/>
          <p:nvPr/>
        </p:nvGrpSpPr>
        <p:grpSpPr>
          <a:xfrm>
            <a:off x="2639880" y="1346040"/>
            <a:ext cx="4521240" cy="3986280"/>
            <a:chOff x="2639880" y="1346040"/>
            <a:chExt cx="4521240" cy="3986280"/>
          </a:xfrm>
        </p:grpSpPr>
        <p:sp>
          <p:nvSpPr>
            <p:cNvPr id="456" name=""/>
            <p:cNvSpPr/>
            <p:nvPr/>
          </p:nvSpPr>
          <p:spPr>
            <a:xfrm>
              <a:off x="2639880" y="2319480"/>
              <a:ext cx="1721160" cy="3012840"/>
            </a:xfrm>
            <a:custGeom>
              <a:avLst/>
              <a:gdLst/>
              <a:ahLst/>
              <a:rect l="l" t="t" r="r" b="b"/>
              <a:pathLst>
                <a:path w="1261" h="2255">
                  <a:moveTo>
                    <a:pt x="1257" y="2027"/>
                  </a:moveTo>
                  <a:lnTo>
                    <a:pt x="1257" y="2015"/>
                  </a:lnTo>
                  <a:lnTo>
                    <a:pt x="1252" y="2000"/>
                  </a:lnTo>
                  <a:lnTo>
                    <a:pt x="1244" y="1985"/>
                  </a:lnTo>
                  <a:lnTo>
                    <a:pt x="1232" y="1970"/>
                  </a:lnTo>
                  <a:lnTo>
                    <a:pt x="1222" y="1956"/>
                  </a:lnTo>
                  <a:lnTo>
                    <a:pt x="1212" y="1945"/>
                  </a:lnTo>
                  <a:lnTo>
                    <a:pt x="1204" y="1933"/>
                  </a:lnTo>
                  <a:lnTo>
                    <a:pt x="1199" y="1921"/>
                  </a:lnTo>
                  <a:lnTo>
                    <a:pt x="1197" y="1910"/>
                  </a:lnTo>
                  <a:lnTo>
                    <a:pt x="1192" y="1893"/>
                  </a:lnTo>
                  <a:lnTo>
                    <a:pt x="1186" y="1876"/>
                  </a:lnTo>
                  <a:lnTo>
                    <a:pt x="1171" y="1860"/>
                  </a:lnTo>
                  <a:lnTo>
                    <a:pt x="1161" y="1851"/>
                  </a:lnTo>
                  <a:lnTo>
                    <a:pt x="1147" y="1838"/>
                  </a:lnTo>
                  <a:lnTo>
                    <a:pt x="1132" y="1823"/>
                  </a:lnTo>
                  <a:lnTo>
                    <a:pt x="1117" y="1806"/>
                  </a:lnTo>
                  <a:lnTo>
                    <a:pt x="1102" y="1788"/>
                  </a:lnTo>
                  <a:lnTo>
                    <a:pt x="1087" y="1770"/>
                  </a:lnTo>
                  <a:lnTo>
                    <a:pt x="1076" y="1750"/>
                  </a:lnTo>
                  <a:lnTo>
                    <a:pt x="1067" y="1731"/>
                  </a:lnTo>
                  <a:lnTo>
                    <a:pt x="1052" y="1703"/>
                  </a:lnTo>
                  <a:lnTo>
                    <a:pt x="1037" y="1681"/>
                  </a:lnTo>
                  <a:lnTo>
                    <a:pt x="1026" y="1665"/>
                  </a:lnTo>
                  <a:lnTo>
                    <a:pt x="1019" y="1646"/>
                  </a:lnTo>
                  <a:lnTo>
                    <a:pt x="1016" y="1633"/>
                  </a:lnTo>
                  <a:lnTo>
                    <a:pt x="1009" y="1613"/>
                  </a:lnTo>
                  <a:lnTo>
                    <a:pt x="999" y="1591"/>
                  </a:lnTo>
                  <a:lnTo>
                    <a:pt x="989" y="1568"/>
                  </a:lnTo>
                  <a:lnTo>
                    <a:pt x="979" y="1545"/>
                  </a:lnTo>
                  <a:lnTo>
                    <a:pt x="969" y="1525"/>
                  </a:lnTo>
                  <a:lnTo>
                    <a:pt x="959" y="1508"/>
                  </a:lnTo>
                  <a:lnTo>
                    <a:pt x="952" y="1499"/>
                  </a:lnTo>
                  <a:lnTo>
                    <a:pt x="942" y="1486"/>
                  </a:lnTo>
                  <a:lnTo>
                    <a:pt x="934" y="1473"/>
                  </a:lnTo>
                  <a:lnTo>
                    <a:pt x="922" y="1458"/>
                  </a:lnTo>
                  <a:lnTo>
                    <a:pt x="911" y="1443"/>
                  </a:lnTo>
                  <a:lnTo>
                    <a:pt x="902" y="1434"/>
                  </a:lnTo>
                  <a:lnTo>
                    <a:pt x="891" y="1426"/>
                  </a:lnTo>
                  <a:lnTo>
                    <a:pt x="879" y="1419"/>
                  </a:lnTo>
                  <a:lnTo>
                    <a:pt x="867" y="1411"/>
                  </a:lnTo>
                  <a:lnTo>
                    <a:pt x="854" y="1404"/>
                  </a:lnTo>
                  <a:lnTo>
                    <a:pt x="842" y="1399"/>
                  </a:lnTo>
                  <a:lnTo>
                    <a:pt x="831" y="1396"/>
                  </a:lnTo>
                  <a:lnTo>
                    <a:pt x="820" y="1394"/>
                  </a:lnTo>
                  <a:lnTo>
                    <a:pt x="812" y="1393"/>
                  </a:lnTo>
                  <a:lnTo>
                    <a:pt x="805" y="1389"/>
                  </a:lnTo>
                  <a:lnTo>
                    <a:pt x="800" y="1384"/>
                  </a:lnTo>
                  <a:lnTo>
                    <a:pt x="794" y="1376"/>
                  </a:lnTo>
                  <a:lnTo>
                    <a:pt x="789" y="1368"/>
                  </a:lnTo>
                  <a:lnTo>
                    <a:pt x="782" y="1354"/>
                  </a:lnTo>
                  <a:lnTo>
                    <a:pt x="774" y="1341"/>
                  </a:lnTo>
                  <a:lnTo>
                    <a:pt x="762" y="1324"/>
                  </a:lnTo>
                  <a:lnTo>
                    <a:pt x="750" y="1306"/>
                  </a:lnTo>
                  <a:lnTo>
                    <a:pt x="740" y="1288"/>
                  </a:lnTo>
                  <a:lnTo>
                    <a:pt x="732" y="1269"/>
                  </a:lnTo>
                  <a:lnTo>
                    <a:pt x="724" y="1253"/>
                  </a:lnTo>
                  <a:lnTo>
                    <a:pt x="717" y="1234"/>
                  </a:lnTo>
                  <a:lnTo>
                    <a:pt x="712" y="1219"/>
                  </a:lnTo>
                  <a:lnTo>
                    <a:pt x="709" y="1204"/>
                  </a:lnTo>
                  <a:lnTo>
                    <a:pt x="705" y="1191"/>
                  </a:lnTo>
                  <a:lnTo>
                    <a:pt x="700" y="1166"/>
                  </a:lnTo>
                  <a:lnTo>
                    <a:pt x="692" y="1143"/>
                  </a:lnTo>
                  <a:lnTo>
                    <a:pt x="685" y="1126"/>
                  </a:lnTo>
                  <a:lnTo>
                    <a:pt x="682" y="1119"/>
                  </a:lnTo>
                  <a:lnTo>
                    <a:pt x="689" y="1108"/>
                  </a:lnTo>
                  <a:lnTo>
                    <a:pt x="700" y="1078"/>
                  </a:lnTo>
                  <a:lnTo>
                    <a:pt x="707" y="1038"/>
                  </a:lnTo>
                  <a:lnTo>
                    <a:pt x="697" y="996"/>
                  </a:lnTo>
                  <a:lnTo>
                    <a:pt x="680" y="961"/>
                  </a:lnTo>
                  <a:lnTo>
                    <a:pt x="670" y="932"/>
                  </a:lnTo>
                  <a:lnTo>
                    <a:pt x="662" y="904"/>
                  </a:lnTo>
                  <a:lnTo>
                    <a:pt x="649" y="872"/>
                  </a:lnTo>
                  <a:lnTo>
                    <a:pt x="640" y="856"/>
                  </a:lnTo>
                  <a:lnTo>
                    <a:pt x="635" y="839"/>
                  </a:lnTo>
                  <a:lnTo>
                    <a:pt x="630" y="826"/>
                  </a:lnTo>
                  <a:lnTo>
                    <a:pt x="625" y="814"/>
                  </a:lnTo>
                  <a:lnTo>
                    <a:pt x="620" y="802"/>
                  </a:lnTo>
                  <a:lnTo>
                    <a:pt x="614" y="792"/>
                  </a:lnTo>
                  <a:lnTo>
                    <a:pt x="607" y="784"/>
                  </a:lnTo>
                  <a:lnTo>
                    <a:pt x="597" y="777"/>
                  </a:lnTo>
                  <a:lnTo>
                    <a:pt x="587" y="771"/>
                  </a:lnTo>
                  <a:lnTo>
                    <a:pt x="575" y="762"/>
                  </a:lnTo>
                  <a:lnTo>
                    <a:pt x="565" y="754"/>
                  </a:lnTo>
                  <a:lnTo>
                    <a:pt x="554" y="744"/>
                  </a:lnTo>
                  <a:lnTo>
                    <a:pt x="542" y="736"/>
                  </a:lnTo>
                  <a:lnTo>
                    <a:pt x="529" y="729"/>
                  </a:lnTo>
                  <a:lnTo>
                    <a:pt x="515" y="721"/>
                  </a:lnTo>
                  <a:lnTo>
                    <a:pt x="502" y="716"/>
                  </a:lnTo>
                  <a:lnTo>
                    <a:pt x="480" y="702"/>
                  </a:lnTo>
                  <a:lnTo>
                    <a:pt x="470" y="686"/>
                  </a:lnTo>
                  <a:lnTo>
                    <a:pt x="464" y="667"/>
                  </a:lnTo>
                  <a:lnTo>
                    <a:pt x="454" y="649"/>
                  </a:lnTo>
                  <a:lnTo>
                    <a:pt x="444" y="634"/>
                  </a:lnTo>
                  <a:lnTo>
                    <a:pt x="437" y="621"/>
                  </a:lnTo>
                  <a:lnTo>
                    <a:pt x="435" y="611"/>
                  </a:lnTo>
                  <a:lnTo>
                    <a:pt x="435" y="607"/>
                  </a:lnTo>
                  <a:lnTo>
                    <a:pt x="437" y="607"/>
                  </a:lnTo>
                  <a:lnTo>
                    <a:pt x="442" y="606"/>
                  </a:lnTo>
                  <a:lnTo>
                    <a:pt x="449" y="602"/>
                  </a:lnTo>
                  <a:lnTo>
                    <a:pt x="455" y="596"/>
                  </a:lnTo>
                  <a:lnTo>
                    <a:pt x="459" y="589"/>
                  </a:lnTo>
                  <a:lnTo>
                    <a:pt x="459" y="577"/>
                  </a:lnTo>
                  <a:lnTo>
                    <a:pt x="454" y="564"/>
                  </a:lnTo>
                  <a:lnTo>
                    <a:pt x="440" y="546"/>
                  </a:lnTo>
                  <a:lnTo>
                    <a:pt x="434" y="539"/>
                  </a:lnTo>
                  <a:lnTo>
                    <a:pt x="429" y="532"/>
                  </a:lnTo>
                  <a:lnTo>
                    <a:pt x="424" y="529"/>
                  </a:lnTo>
                  <a:lnTo>
                    <a:pt x="420" y="526"/>
                  </a:lnTo>
                  <a:lnTo>
                    <a:pt x="419" y="527"/>
                  </a:lnTo>
                  <a:lnTo>
                    <a:pt x="415" y="526"/>
                  </a:lnTo>
                  <a:lnTo>
                    <a:pt x="415" y="522"/>
                  </a:lnTo>
                  <a:lnTo>
                    <a:pt x="420" y="526"/>
                  </a:lnTo>
                  <a:lnTo>
                    <a:pt x="420" y="524"/>
                  </a:lnTo>
                  <a:lnTo>
                    <a:pt x="419" y="521"/>
                  </a:lnTo>
                  <a:lnTo>
                    <a:pt x="419" y="517"/>
                  </a:lnTo>
                  <a:lnTo>
                    <a:pt x="417" y="512"/>
                  </a:lnTo>
                  <a:lnTo>
                    <a:pt x="409" y="490"/>
                  </a:lnTo>
                  <a:lnTo>
                    <a:pt x="405" y="477"/>
                  </a:lnTo>
                  <a:lnTo>
                    <a:pt x="399" y="467"/>
                  </a:lnTo>
                  <a:lnTo>
                    <a:pt x="384" y="455"/>
                  </a:lnTo>
                  <a:lnTo>
                    <a:pt x="372" y="440"/>
                  </a:lnTo>
                  <a:lnTo>
                    <a:pt x="374" y="425"/>
                  </a:lnTo>
                  <a:lnTo>
                    <a:pt x="375" y="412"/>
                  </a:lnTo>
                  <a:lnTo>
                    <a:pt x="364" y="399"/>
                  </a:lnTo>
                  <a:lnTo>
                    <a:pt x="345" y="387"/>
                  </a:lnTo>
                  <a:lnTo>
                    <a:pt x="332" y="372"/>
                  </a:lnTo>
                  <a:lnTo>
                    <a:pt x="325" y="355"/>
                  </a:lnTo>
                  <a:lnTo>
                    <a:pt x="322" y="337"/>
                  </a:lnTo>
                  <a:lnTo>
                    <a:pt x="319" y="317"/>
                  </a:lnTo>
                  <a:lnTo>
                    <a:pt x="309" y="290"/>
                  </a:lnTo>
                  <a:lnTo>
                    <a:pt x="294" y="264"/>
                  </a:lnTo>
                  <a:lnTo>
                    <a:pt x="273" y="237"/>
                  </a:lnTo>
                  <a:lnTo>
                    <a:pt x="260" y="215"/>
                  </a:lnTo>
                  <a:lnTo>
                    <a:pt x="257" y="197"/>
                  </a:lnTo>
                  <a:lnTo>
                    <a:pt x="255" y="184"/>
                  </a:lnTo>
                  <a:lnTo>
                    <a:pt x="245" y="175"/>
                  </a:lnTo>
                  <a:lnTo>
                    <a:pt x="233" y="167"/>
                  </a:lnTo>
                  <a:lnTo>
                    <a:pt x="228" y="154"/>
                  </a:lnTo>
                  <a:lnTo>
                    <a:pt x="222" y="140"/>
                  </a:lnTo>
                  <a:lnTo>
                    <a:pt x="207" y="124"/>
                  </a:lnTo>
                  <a:lnTo>
                    <a:pt x="188" y="100"/>
                  </a:lnTo>
                  <a:lnTo>
                    <a:pt x="175" y="74"/>
                  </a:lnTo>
                  <a:lnTo>
                    <a:pt x="168" y="52"/>
                  </a:lnTo>
                  <a:lnTo>
                    <a:pt x="165" y="42"/>
                  </a:lnTo>
                  <a:lnTo>
                    <a:pt x="160" y="42"/>
                  </a:lnTo>
                  <a:lnTo>
                    <a:pt x="148" y="42"/>
                  </a:lnTo>
                  <a:lnTo>
                    <a:pt x="133" y="42"/>
                  </a:lnTo>
                  <a:lnTo>
                    <a:pt x="122" y="42"/>
                  </a:lnTo>
                  <a:lnTo>
                    <a:pt x="110" y="42"/>
                  </a:lnTo>
                  <a:lnTo>
                    <a:pt x="100" y="44"/>
                  </a:lnTo>
                  <a:lnTo>
                    <a:pt x="92" y="47"/>
                  </a:lnTo>
                  <a:lnTo>
                    <a:pt x="88" y="47"/>
                  </a:lnTo>
                  <a:lnTo>
                    <a:pt x="90" y="44"/>
                  </a:lnTo>
                  <a:lnTo>
                    <a:pt x="93" y="34"/>
                  </a:lnTo>
                  <a:lnTo>
                    <a:pt x="98" y="20"/>
                  </a:lnTo>
                  <a:lnTo>
                    <a:pt x="103" y="8"/>
                  </a:lnTo>
                  <a:lnTo>
                    <a:pt x="103" y="8"/>
                  </a:lnTo>
                  <a:lnTo>
                    <a:pt x="103" y="8"/>
                  </a:lnTo>
                  <a:lnTo>
                    <a:pt x="103" y="8"/>
                  </a:lnTo>
                  <a:lnTo>
                    <a:pt x="103" y="8"/>
                  </a:lnTo>
                  <a:lnTo>
                    <a:pt x="67" y="0"/>
                  </a:lnTo>
                  <a:lnTo>
                    <a:pt x="67" y="5"/>
                  </a:lnTo>
                  <a:lnTo>
                    <a:pt x="65" y="19"/>
                  </a:lnTo>
                  <a:lnTo>
                    <a:pt x="62" y="34"/>
                  </a:lnTo>
                  <a:lnTo>
                    <a:pt x="57" y="47"/>
                  </a:lnTo>
                  <a:lnTo>
                    <a:pt x="50" y="57"/>
                  </a:lnTo>
                  <a:lnTo>
                    <a:pt x="45" y="65"/>
                  </a:lnTo>
                  <a:lnTo>
                    <a:pt x="40" y="79"/>
                  </a:lnTo>
                  <a:lnTo>
                    <a:pt x="38" y="95"/>
                  </a:lnTo>
                  <a:lnTo>
                    <a:pt x="35" y="119"/>
                  </a:lnTo>
                  <a:lnTo>
                    <a:pt x="28" y="145"/>
                  </a:lnTo>
                  <a:lnTo>
                    <a:pt x="20" y="169"/>
                  </a:lnTo>
                  <a:lnTo>
                    <a:pt x="15" y="185"/>
                  </a:lnTo>
                  <a:lnTo>
                    <a:pt x="10" y="197"/>
                  </a:lnTo>
                  <a:lnTo>
                    <a:pt x="5" y="209"/>
                  </a:lnTo>
                  <a:lnTo>
                    <a:pt x="2" y="220"/>
                  </a:lnTo>
                  <a:lnTo>
                    <a:pt x="0" y="224"/>
                  </a:lnTo>
                  <a:lnTo>
                    <a:pt x="3" y="224"/>
                  </a:lnTo>
                  <a:lnTo>
                    <a:pt x="12" y="220"/>
                  </a:lnTo>
                  <a:lnTo>
                    <a:pt x="23" y="219"/>
                  </a:lnTo>
                  <a:lnTo>
                    <a:pt x="33" y="219"/>
                  </a:lnTo>
                  <a:lnTo>
                    <a:pt x="47" y="219"/>
                  </a:lnTo>
                  <a:lnTo>
                    <a:pt x="60" y="219"/>
                  </a:lnTo>
                  <a:lnTo>
                    <a:pt x="72" y="219"/>
                  </a:lnTo>
                  <a:lnTo>
                    <a:pt x="77" y="219"/>
                  </a:lnTo>
                  <a:lnTo>
                    <a:pt x="80" y="229"/>
                  </a:lnTo>
                  <a:lnTo>
                    <a:pt x="87" y="250"/>
                  </a:lnTo>
                  <a:lnTo>
                    <a:pt x="100" y="277"/>
                  </a:lnTo>
                  <a:lnTo>
                    <a:pt x="118" y="299"/>
                  </a:lnTo>
                  <a:lnTo>
                    <a:pt x="133" y="315"/>
                  </a:lnTo>
                  <a:lnTo>
                    <a:pt x="140" y="330"/>
                  </a:lnTo>
                  <a:lnTo>
                    <a:pt x="145" y="342"/>
                  </a:lnTo>
                  <a:lnTo>
                    <a:pt x="157" y="352"/>
                  </a:lnTo>
                  <a:lnTo>
                    <a:pt x="167" y="360"/>
                  </a:lnTo>
                  <a:lnTo>
                    <a:pt x="168" y="374"/>
                  </a:lnTo>
                  <a:lnTo>
                    <a:pt x="172" y="390"/>
                  </a:lnTo>
                  <a:lnTo>
                    <a:pt x="185" y="414"/>
                  </a:lnTo>
                  <a:lnTo>
                    <a:pt x="205" y="440"/>
                  </a:lnTo>
                  <a:lnTo>
                    <a:pt x="220" y="467"/>
                  </a:lnTo>
                  <a:lnTo>
                    <a:pt x="230" y="492"/>
                  </a:lnTo>
                  <a:lnTo>
                    <a:pt x="233" y="512"/>
                  </a:lnTo>
                  <a:lnTo>
                    <a:pt x="237" y="531"/>
                  </a:lnTo>
                  <a:lnTo>
                    <a:pt x="243" y="547"/>
                  </a:lnTo>
                  <a:lnTo>
                    <a:pt x="257" y="562"/>
                  </a:lnTo>
                  <a:lnTo>
                    <a:pt x="275" y="574"/>
                  </a:lnTo>
                  <a:lnTo>
                    <a:pt x="287" y="587"/>
                  </a:lnTo>
                  <a:lnTo>
                    <a:pt x="285" y="601"/>
                  </a:lnTo>
                  <a:lnTo>
                    <a:pt x="284" y="617"/>
                  </a:lnTo>
                  <a:lnTo>
                    <a:pt x="295" y="632"/>
                  </a:lnTo>
                  <a:lnTo>
                    <a:pt x="310" y="642"/>
                  </a:lnTo>
                  <a:lnTo>
                    <a:pt x="317" y="652"/>
                  </a:lnTo>
                  <a:lnTo>
                    <a:pt x="320" y="666"/>
                  </a:lnTo>
                  <a:lnTo>
                    <a:pt x="329" y="687"/>
                  </a:lnTo>
                  <a:lnTo>
                    <a:pt x="330" y="692"/>
                  </a:lnTo>
                  <a:lnTo>
                    <a:pt x="330" y="696"/>
                  </a:lnTo>
                  <a:lnTo>
                    <a:pt x="332" y="697"/>
                  </a:lnTo>
                  <a:lnTo>
                    <a:pt x="332" y="699"/>
                  </a:lnTo>
                  <a:lnTo>
                    <a:pt x="335" y="702"/>
                  </a:lnTo>
                  <a:lnTo>
                    <a:pt x="340" y="707"/>
                  </a:lnTo>
                  <a:lnTo>
                    <a:pt x="345" y="712"/>
                  </a:lnTo>
                  <a:lnTo>
                    <a:pt x="352" y="721"/>
                  </a:lnTo>
                  <a:lnTo>
                    <a:pt x="365" y="737"/>
                  </a:lnTo>
                  <a:lnTo>
                    <a:pt x="370" y="752"/>
                  </a:lnTo>
                  <a:lnTo>
                    <a:pt x="370" y="762"/>
                  </a:lnTo>
                  <a:lnTo>
                    <a:pt x="367" y="771"/>
                  </a:lnTo>
                  <a:lnTo>
                    <a:pt x="360" y="776"/>
                  </a:lnTo>
                  <a:lnTo>
                    <a:pt x="354" y="781"/>
                  </a:lnTo>
                  <a:lnTo>
                    <a:pt x="349" y="782"/>
                  </a:lnTo>
                  <a:lnTo>
                    <a:pt x="347" y="782"/>
                  </a:lnTo>
                  <a:lnTo>
                    <a:pt x="347" y="786"/>
                  </a:lnTo>
                  <a:lnTo>
                    <a:pt x="350" y="794"/>
                  </a:lnTo>
                  <a:lnTo>
                    <a:pt x="355" y="807"/>
                  </a:lnTo>
                  <a:lnTo>
                    <a:pt x="367" y="824"/>
                  </a:lnTo>
                  <a:lnTo>
                    <a:pt x="377" y="842"/>
                  </a:lnTo>
                  <a:lnTo>
                    <a:pt x="384" y="862"/>
                  </a:lnTo>
                  <a:lnTo>
                    <a:pt x="392" y="877"/>
                  </a:lnTo>
                  <a:lnTo>
                    <a:pt x="414" y="891"/>
                  </a:lnTo>
                  <a:lnTo>
                    <a:pt x="427" y="897"/>
                  </a:lnTo>
                  <a:lnTo>
                    <a:pt x="440" y="904"/>
                  </a:lnTo>
                  <a:lnTo>
                    <a:pt x="454" y="912"/>
                  </a:lnTo>
                  <a:lnTo>
                    <a:pt x="465" y="921"/>
                  </a:lnTo>
                  <a:lnTo>
                    <a:pt x="477" y="929"/>
                  </a:lnTo>
                  <a:lnTo>
                    <a:pt x="487" y="937"/>
                  </a:lnTo>
                  <a:lnTo>
                    <a:pt x="499" y="946"/>
                  </a:lnTo>
                  <a:lnTo>
                    <a:pt x="509" y="952"/>
                  </a:lnTo>
                  <a:lnTo>
                    <a:pt x="519" y="961"/>
                  </a:lnTo>
                  <a:lnTo>
                    <a:pt x="525" y="969"/>
                  </a:lnTo>
                  <a:lnTo>
                    <a:pt x="532" y="979"/>
                  </a:lnTo>
                  <a:lnTo>
                    <a:pt x="537" y="989"/>
                  </a:lnTo>
                  <a:lnTo>
                    <a:pt x="542" y="1002"/>
                  </a:lnTo>
                  <a:lnTo>
                    <a:pt x="547" y="1016"/>
                  </a:lnTo>
                  <a:lnTo>
                    <a:pt x="552" y="1031"/>
                  </a:lnTo>
                  <a:lnTo>
                    <a:pt x="560" y="1048"/>
                  </a:lnTo>
                  <a:lnTo>
                    <a:pt x="574" y="1079"/>
                  </a:lnTo>
                  <a:lnTo>
                    <a:pt x="584" y="1108"/>
                  </a:lnTo>
                  <a:lnTo>
                    <a:pt x="592" y="1136"/>
                  </a:lnTo>
                  <a:lnTo>
                    <a:pt x="609" y="1171"/>
                  </a:lnTo>
                  <a:lnTo>
                    <a:pt x="619" y="1213"/>
                  </a:lnTo>
                  <a:lnTo>
                    <a:pt x="612" y="1253"/>
                  </a:lnTo>
                  <a:lnTo>
                    <a:pt x="600" y="1283"/>
                  </a:lnTo>
                  <a:lnTo>
                    <a:pt x="594" y="1294"/>
                  </a:lnTo>
                  <a:lnTo>
                    <a:pt x="597" y="1301"/>
                  </a:lnTo>
                  <a:lnTo>
                    <a:pt x="604" y="1318"/>
                  </a:lnTo>
                  <a:lnTo>
                    <a:pt x="612" y="1341"/>
                  </a:lnTo>
                  <a:lnTo>
                    <a:pt x="617" y="1366"/>
                  </a:lnTo>
                  <a:lnTo>
                    <a:pt x="620" y="1379"/>
                  </a:lnTo>
                  <a:lnTo>
                    <a:pt x="624" y="1394"/>
                  </a:lnTo>
                  <a:lnTo>
                    <a:pt x="629" y="1409"/>
                  </a:lnTo>
                  <a:lnTo>
                    <a:pt x="635" y="1428"/>
                  </a:lnTo>
                  <a:lnTo>
                    <a:pt x="644" y="1444"/>
                  </a:lnTo>
                  <a:lnTo>
                    <a:pt x="654" y="1463"/>
                  </a:lnTo>
                  <a:lnTo>
                    <a:pt x="664" y="1481"/>
                  </a:lnTo>
                  <a:lnTo>
                    <a:pt x="675" y="1499"/>
                  </a:lnTo>
                  <a:lnTo>
                    <a:pt x="687" y="1516"/>
                  </a:lnTo>
                  <a:lnTo>
                    <a:pt x="695" y="1531"/>
                  </a:lnTo>
                  <a:lnTo>
                    <a:pt x="702" y="1543"/>
                  </a:lnTo>
                  <a:lnTo>
                    <a:pt x="707" y="1553"/>
                  </a:lnTo>
                  <a:lnTo>
                    <a:pt x="712" y="1561"/>
                  </a:lnTo>
                  <a:lnTo>
                    <a:pt x="719" y="1566"/>
                  </a:lnTo>
                  <a:lnTo>
                    <a:pt x="724" y="1570"/>
                  </a:lnTo>
                  <a:lnTo>
                    <a:pt x="732" y="1571"/>
                  </a:lnTo>
                  <a:lnTo>
                    <a:pt x="742" y="1573"/>
                  </a:lnTo>
                  <a:lnTo>
                    <a:pt x="754" y="1576"/>
                  </a:lnTo>
                  <a:lnTo>
                    <a:pt x="765" y="1581"/>
                  </a:lnTo>
                  <a:lnTo>
                    <a:pt x="779" y="1588"/>
                  </a:lnTo>
                  <a:lnTo>
                    <a:pt x="792" y="1595"/>
                  </a:lnTo>
                  <a:lnTo>
                    <a:pt x="804" y="1603"/>
                  </a:lnTo>
                  <a:lnTo>
                    <a:pt x="814" y="1611"/>
                  </a:lnTo>
                  <a:lnTo>
                    <a:pt x="822" y="1618"/>
                  </a:lnTo>
                  <a:lnTo>
                    <a:pt x="834" y="1633"/>
                  </a:lnTo>
                  <a:lnTo>
                    <a:pt x="846" y="1648"/>
                  </a:lnTo>
                  <a:lnTo>
                    <a:pt x="856" y="1663"/>
                  </a:lnTo>
                  <a:lnTo>
                    <a:pt x="866" y="1675"/>
                  </a:lnTo>
                  <a:lnTo>
                    <a:pt x="872" y="1685"/>
                  </a:lnTo>
                  <a:lnTo>
                    <a:pt x="881" y="1700"/>
                  </a:lnTo>
                  <a:lnTo>
                    <a:pt x="891" y="1721"/>
                  </a:lnTo>
                  <a:lnTo>
                    <a:pt x="902" y="1743"/>
                  </a:lnTo>
                  <a:lnTo>
                    <a:pt x="912" y="1768"/>
                  </a:lnTo>
                  <a:lnTo>
                    <a:pt x="921" y="1790"/>
                  </a:lnTo>
                  <a:lnTo>
                    <a:pt x="927" y="1810"/>
                  </a:lnTo>
                  <a:lnTo>
                    <a:pt x="931" y="1823"/>
                  </a:lnTo>
                  <a:lnTo>
                    <a:pt x="937" y="1841"/>
                  </a:lnTo>
                  <a:lnTo>
                    <a:pt x="951" y="1858"/>
                  </a:lnTo>
                  <a:lnTo>
                    <a:pt x="964" y="1878"/>
                  </a:lnTo>
                  <a:lnTo>
                    <a:pt x="979" y="1908"/>
                  </a:lnTo>
                  <a:lnTo>
                    <a:pt x="987" y="1926"/>
                  </a:lnTo>
                  <a:lnTo>
                    <a:pt x="999" y="1945"/>
                  </a:lnTo>
                  <a:lnTo>
                    <a:pt x="1014" y="1965"/>
                  </a:lnTo>
                  <a:lnTo>
                    <a:pt x="1029" y="1981"/>
                  </a:lnTo>
                  <a:lnTo>
                    <a:pt x="1044" y="2000"/>
                  </a:lnTo>
                  <a:lnTo>
                    <a:pt x="1059" y="2015"/>
                  </a:lnTo>
                  <a:lnTo>
                    <a:pt x="1072" y="2027"/>
                  </a:lnTo>
                  <a:lnTo>
                    <a:pt x="1084" y="2037"/>
                  </a:lnTo>
                  <a:lnTo>
                    <a:pt x="1097" y="2052"/>
                  </a:lnTo>
                  <a:lnTo>
                    <a:pt x="1106" y="2068"/>
                  </a:lnTo>
                  <a:lnTo>
                    <a:pt x="1109" y="2085"/>
                  </a:lnTo>
                  <a:lnTo>
                    <a:pt x="1112" y="2098"/>
                  </a:lnTo>
                  <a:lnTo>
                    <a:pt x="1117" y="2108"/>
                  </a:lnTo>
                  <a:lnTo>
                    <a:pt x="1126" y="2120"/>
                  </a:lnTo>
                  <a:lnTo>
                    <a:pt x="1136" y="2132"/>
                  </a:lnTo>
                  <a:lnTo>
                    <a:pt x="1146" y="2145"/>
                  </a:lnTo>
                  <a:lnTo>
                    <a:pt x="1156" y="2160"/>
                  </a:lnTo>
                  <a:lnTo>
                    <a:pt x="1164" y="2175"/>
                  </a:lnTo>
                  <a:lnTo>
                    <a:pt x="1169" y="2190"/>
                  </a:lnTo>
                  <a:lnTo>
                    <a:pt x="1169" y="2202"/>
                  </a:lnTo>
                  <a:lnTo>
                    <a:pt x="1169" y="2217"/>
                  </a:lnTo>
                  <a:lnTo>
                    <a:pt x="1172" y="2233"/>
                  </a:lnTo>
                  <a:lnTo>
                    <a:pt x="1177" y="2248"/>
                  </a:lnTo>
                  <a:lnTo>
                    <a:pt x="1179" y="2255"/>
                  </a:lnTo>
                  <a:lnTo>
                    <a:pt x="1216" y="2227"/>
                  </a:lnTo>
                  <a:lnTo>
                    <a:pt x="1219" y="2222"/>
                  </a:lnTo>
                  <a:lnTo>
                    <a:pt x="1226" y="2208"/>
                  </a:lnTo>
                  <a:lnTo>
                    <a:pt x="1232" y="2192"/>
                  </a:lnTo>
                  <a:lnTo>
                    <a:pt x="1236" y="2178"/>
                  </a:lnTo>
                  <a:lnTo>
                    <a:pt x="1236" y="2165"/>
                  </a:lnTo>
                  <a:lnTo>
                    <a:pt x="1234" y="2145"/>
                  </a:lnTo>
                  <a:lnTo>
                    <a:pt x="1236" y="2123"/>
                  </a:lnTo>
                  <a:lnTo>
                    <a:pt x="1241" y="2103"/>
                  </a:lnTo>
                  <a:lnTo>
                    <a:pt x="1241" y="2087"/>
                  </a:lnTo>
                  <a:lnTo>
                    <a:pt x="1236" y="2077"/>
                  </a:lnTo>
                  <a:lnTo>
                    <a:pt x="1234" y="2067"/>
                  </a:lnTo>
                  <a:lnTo>
                    <a:pt x="1241" y="2060"/>
                  </a:lnTo>
                  <a:lnTo>
                    <a:pt x="1246" y="2057"/>
                  </a:lnTo>
                  <a:lnTo>
                    <a:pt x="1251" y="2057"/>
                  </a:lnTo>
                  <a:lnTo>
                    <a:pt x="1256" y="2058"/>
                  </a:lnTo>
                  <a:lnTo>
                    <a:pt x="1261" y="2062"/>
                  </a:lnTo>
                  <a:lnTo>
                    <a:pt x="1259" y="2052"/>
                  </a:lnTo>
                  <a:lnTo>
                    <a:pt x="1257" y="2043"/>
                  </a:lnTo>
                  <a:lnTo>
                    <a:pt x="1256" y="2033"/>
                  </a:lnTo>
                  <a:lnTo>
                    <a:pt x="1257" y="2027"/>
                  </a:lnTo>
                  <a:close/>
                </a:path>
              </a:pathLst>
            </a:custGeom>
            <a:solidFill>
              <a:srgbClr val="ffffff">
                <a:alpha val="10000"/>
              </a:srgbClr>
            </a:solidFill>
            <a:ln cap="sq" w="9360">
              <a:solidFill>
                <a:srgbClr val="ffffff"/>
              </a:solidFill>
              <a:round/>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7" name=""/>
            <p:cNvSpPr/>
            <p:nvPr/>
          </p:nvSpPr>
          <p:spPr>
            <a:xfrm>
              <a:off x="3086280" y="3249720"/>
              <a:ext cx="4680" cy="4680"/>
            </a:xfrm>
            <a:custGeom>
              <a:avLst/>
              <a:gdLst/>
              <a:ahLst/>
              <a:rect l="l" t="t" r="r" b="b"/>
              <a:pathLst>
                <a:path w="5" h="5">
                  <a:moveTo>
                    <a:pt x="5" y="3"/>
                  </a:moveTo>
                  <a:lnTo>
                    <a:pt x="0" y="0"/>
                  </a:lnTo>
                  <a:lnTo>
                    <a:pt x="2" y="3"/>
                  </a:lnTo>
                  <a:lnTo>
                    <a:pt x="3" y="5"/>
                  </a:lnTo>
                  <a:lnTo>
                    <a:pt x="5" y="3"/>
                  </a:lnTo>
                  <a:lnTo>
                    <a:pt x="5" y="3"/>
                  </a:lnTo>
                  <a:close/>
                </a:path>
              </a:pathLst>
            </a:custGeom>
            <a:solidFill>
              <a:srgbClr val="000000"/>
            </a:solidFill>
            <a:ln w="0">
              <a:noFill/>
            </a:ln>
          </p:spPr>
          <p:style>
            <a:lnRef idx="0"/>
            <a:fillRef idx="0"/>
            <a:effectRef idx="0"/>
            <a:fontRef idx="minor"/>
          </p:style>
          <p:txBody>
            <a:bodyPr wrap="none" lIns="90000" rIns="90000" tIns="-42120" bIns="-421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8" name=""/>
            <p:cNvSpPr/>
            <p:nvPr/>
          </p:nvSpPr>
          <p:spPr>
            <a:xfrm>
              <a:off x="4379760" y="4205160"/>
              <a:ext cx="2567160" cy="993960"/>
            </a:xfrm>
            <a:custGeom>
              <a:avLst/>
              <a:gdLst/>
              <a:ahLst/>
              <a:rect l="l" t="t" r="r" b="b"/>
              <a:pathLst>
                <a:path w="1881" h="744">
                  <a:moveTo>
                    <a:pt x="1298" y="222"/>
                  </a:moveTo>
                  <a:lnTo>
                    <a:pt x="1283" y="225"/>
                  </a:lnTo>
                  <a:lnTo>
                    <a:pt x="1263" y="230"/>
                  </a:lnTo>
                  <a:lnTo>
                    <a:pt x="1239" y="235"/>
                  </a:lnTo>
                  <a:lnTo>
                    <a:pt x="1214" y="242"/>
                  </a:lnTo>
                  <a:lnTo>
                    <a:pt x="1186" y="249"/>
                  </a:lnTo>
                  <a:lnTo>
                    <a:pt x="1157" y="255"/>
                  </a:lnTo>
                  <a:lnTo>
                    <a:pt x="1127" y="262"/>
                  </a:lnTo>
                  <a:lnTo>
                    <a:pt x="1097" y="269"/>
                  </a:lnTo>
                  <a:lnTo>
                    <a:pt x="1067" y="275"/>
                  </a:lnTo>
                  <a:lnTo>
                    <a:pt x="1039" y="284"/>
                  </a:lnTo>
                  <a:lnTo>
                    <a:pt x="1012" y="290"/>
                  </a:lnTo>
                  <a:lnTo>
                    <a:pt x="989" y="297"/>
                  </a:lnTo>
                  <a:lnTo>
                    <a:pt x="967" y="302"/>
                  </a:lnTo>
                  <a:lnTo>
                    <a:pt x="949" y="309"/>
                  </a:lnTo>
                  <a:lnTo>
                    <a:pt x="936" y="314"/>
                  </a:lnTo>
                  <a:lnTo>
                    <a:pt x="927" y="317"/>
                  </a:lnTo>
                  <a:lnTo>
                    <a:pt x="914" y="324"/>
                  </a:lnTo>
                  <a:lnTo>
                    <a:pt x="901" y="329"/>
                  </a:lnTo>
                  <a:lnTo>
                    <a:pt x="887" y="337"/>
                  </a:lnTo>
                  <a:lnTo>
                    <a:pt x="872" y="344"/>
                  </a:lnTo>
                  <a:lnTo>
                    <a:pt x="857" y="355"/>
                  </a:lnTo>
                  <a:lnTo>
                    <a:pt x="842" y="369"/>
                  </a:lnTo>
                  <a:lnTo>
                    <a:pt x="826" y="389"/>
                  </a:lnTo>
                  <a:lnTo>
                    <a:pt x="807" y="412"/>
                  </a:lnTo>
                  <a:lnTo>
                    <a:pt x="791" y="437"/>
                  </a:lnTo>
                  <a:lnTo>
                    <a:pt x="776" y="460"/>
                  </a:lnTo>
                  <a:lnTo>
                    <a:pt x="761" y="482"/>
                  </a:lnTo>
                  <a:lnTo>
                    <a:pt x="747" y="502"/>
                  </a:lnTo>
                  <a:lnTo>
                    <a:pt x="737" y="519"/>
                  </a:lnTo>
                  <a:lnTo>
                    <a:pt x="727" y="532"/>
                  </a:lnTo>
                  <a:lnTo>
                    <a:pt x="719" y="542"/>
                  </a:lnTo>
                  <a:lnTo>
                    <a:pt x="712" y="549"/>
                  </a:lnTo>
                  <a:lnTo>
                    <a:pt x="706" y="554"/>
                  </a:lnTo>
                  <a:lnTo>
                    <a:pt x="699" y="559"/>
                  </a:lnTo>
                  <a:lnTo>
                    <a:pt x="689" y="564"/>
                  </a:lnTo>
                  <a:lnTo>
                    <a:pt x="679" y="565"/>
                  </a:lnTo>
                  <a:lnTo>
                    <a:pt x="667" y="567"/>
                  </a:lnTo>
                  <a:lnTo>
                    <a:pt x="657" y="567"/>
                  </a:lnTo>
                  <a:lnTo>
                    <a:pt x="647" y="564"/>
                  </a:lnTo>
                  <a:lnTo>
                    <a:pt x="637" y="559"/>
                  </a:lnTo>
                  <a:lnTo>
                    <a:pt x="629" y="552"/>
                  </a:lnTo>
                  <a:lnTo>
                    <a:pt x="622" y="544"/>
                  </a:lnTo>
                  <a:lnTo>
                    <a:pt x="615" y="535"/>
                  </a:lnTo>
                  <a:lnTo>
                    <a:pt x="609" y="529"/>
                  </a:lnTo>
                  <a:lnTo>
                    <a:pt x="602" y="524"/>
                  </a:lnTo>
                  <a:lnTo>
                    <a:pt x="595" y="520"/>
                  </a:lnTo>
                  <a:lnTo>
                    <a:pt x="589" y="519"/>
                  </a:lnTo>
                  <a:lnTo>
                    <a:pt x="580" y="520"/>
                  </a:lnTo>
                  <a:lnTo>
                    <a:pt x="569" y="524"/>
                  </a:lnTo>
                  <a:lnTo>
                    <a:pt x="554" y="525"/>
                  </a:lnTo>
                  <a:lnTo>
                    <a:pt x="537" y="525"/>
                  </a:lnTo>
                  <a:lnTo>
                    <a:pt x="519" y="525"/>
                  </a:lnTo>
                  <a:lnTo>
                    <a:pt x="499" y="525"/>
                  </a:lnTo>
                  <a:lnTo>
                    <a:pt x="480" y="524"/>
                  </a:lnTo>
                  <a:lnTo>
                    <a:pt x="462" y="522"/>
                  </a:lnTo>
                  <a:lnTo>
                    <a:pt x="447" y="520"/>
                  </a:lnTo>
                  <a:lnTo>
                    <a:pt x="432" y="519"/>
                  </a:lnTo>
                  <a:lnTo>
                    <a:pt x="417" y="515"/>
                  </a:lnTo>
                  <a:lnTo>
                    <a:pt x="404" y="510"/>
                  </a:lnTo>
                  <a:lnTo>
                    <a:pt x="389" y="507"/>
                  </a:lnTo>
                  <a:lnTo>
                    <a:pt x="375" y="504"/>
                  </a:lnTo>
                  <a:lnTo>
                    <a:pt x="364" y="500"/>
                  </a:lnTo>
                  <a:lnTo>
                    <a:pt x="352" y="497"/>
                  </a:lnTo>
                  <a:lnTo>
                    <a:pt x="342" y="497"/>
                  </a:lnTo>
                  <a:lnTo>
                    <a:pt x="329" y="497"/>
                  </a:lnTo>
                  <a:lnTo>
                    <a:pt x="307" y="497"/>
                  </a:lnTo>
                  <a:lnTo>
                    <a:pt x="280" y="499"/>
                  </a:lnTo>
                  <a:lnTo>
                    <a:pt x="250" y="499"/>
                  </a:lnTo>
                  <a:lnTo>
                    <a:pt x="224" y="500"/>
                  </a:lnTo>
                  <a:lnTo>
                    <a:pt x="200" y="502"/>
                  </a:lnTo>
                  <a:lnTo>
                    <a:pt x="184" y="502"/>
                  </a:lnTo>
                  <a:lnTo>
                    <a:pt x="177" y="502"/>
                  </a:lnTo>
                  <a:lnTo>
                    <a:pt x="175" y="504"/>
                  </a:lnTo>
                  <a:lnTo>
                    <a:pt x="170" y="505"/>
                  </a:lnTo>
                  <a:lnTo>
                    <a:pt x="164" y="509"/>
                  </a:lnTo>
                  <a:lnTo>
                    <a:pt x="155" y="510"/>
                  </a:lnTo>
                  <a:lnTo>
                    <a:pt x="144" y="512"/>
                  </a:lnTo>
                  <a:lnTo>
                    <a:pt x="132" y="512"/>
                  </a:lnTo>
                  <a:lnTo>
                    <a:pt x="120" y="509"/>
                  </a:lnTo>
                  <a:lnTo>
                    <a:pt x="107" y="502"/>
                  </a:lnTo>
                  <a:lnTo>
                    <a:pt x="95" y="494"/>
                  </a:lnTo>
                  <a:lnTo>
                    <a:pt x="87" y="485"/>
                  </a:lnTo>
                  <a:lnTo>
                    <a:pt x="80" y="479"/>
                  </a:lnTo>
                  <a:lnTo>
                    <a:pt x="75" y="475"/>
                  </a:lnTo>
                  <a:lnTo>
                    <a:pt x="70" y="472"/>
                  </a:lnTo>
                  <a:lnTo>
                    <a:pt x="65" y="470"/>
                  </a:lnTo>
                  <a:lnTo>
                    <a:pt x="60" y="470"/>
                  </a:lnTo>
                  <a:lnTo>
                    <a:pt x="53" y="474"/>
                  </a:lnTo>
                  <a:lnTo>
                    <a:pt x="47" y="480"/>
                  </a:lnTo>
                  <a:lnTo>
                    <a:pt x="50" y="489"/>
                  </a:lnTo>
                  <a:lnTo>
                    <a:pt x="55" y="500"/>
                  </a:lnTo>
                  <a:lnTo>
                    <a:pt x="53" y="515"/>
                  </a:lnTo>
                  <a:lnTo>
                    <a:pt x="50" y="535"/>
                  </a:lnTo>
                  <a:lnTo>
                    <a:pt x="48" y="557"/>
                  </a:lnTo>
                  <a:lnTo>
                    <a:pt x="50" y="577"/>
                  </a:lnTo>
                  <a:lnTo>
                    <a:pt x="50" y="592"/>
                  </a:lnTo>
                  <a:lnTo>
                    <a:pt x="47" y="606"/>
                  </a:lnTo>
                  <a:lnTo>
                    <a:pt x="40" y="621"/>
                  </a:lnTo>
                  <a:lnTo>
                    <a:pt x="33" y="634"/>
                  </a:lnTo>
                  <a:lnTo>
                    <a:pt x="30" y="639"/>
                  </a:lnTo>
                  <a:lnTo>
                    <a:pt x="0" y="662"/>
                  </a:lnTo>
                  <a:lnTo>
                    <a:pt x="3" y="666"/>
                  </a:lnTo>
                  <a:lnTo>
                    <a:pt x="8" y="669"/>
                  </a:lnTo>
                  <a:lnTo>
                    <a:pt x="13" y="674"/>
                  </a:lnTo>
                  <a:lnTo>
                    <a:pt x="18" y="677"/>
                  </a:lnTo>
                  <a:lnTo>
                    <a:pt x="32" y="684"/>
                  </a:lnTo>
                  <a:lnTo>
                    <a:pt x="43" y="687"/>
                  </a:lnTo>
                  <a:lnTo>
                    <a:pt x="55" y="687"/>
                  </a:lnTo>
                  <a:lnTo>
                    <a:pt x="67" y="686"/>
                  </a:lnTo>
                  <a:lnTo>
                    <a:pt x="77" y="684"/>
                  </a:lnTo>
                  <a:lnTo>
                    <a:pt x="83" y="681"/>
                  </a:lnTo>
                  <a:lnTo>
                    <a:pt x="88" y="679"/>
                  </a:lnTo>
                  <a:lnTo>
                    <a:pt x="90" y="677"/>
                  </a:lnTo>
                  <a:lnTo>
                    <a:pt x="97" y="677"/>
                  </a:lnTo>
                  <a:lnTo>
                    <a:pt x="114" y="677"/>
                  </a:lnTo>
                  <a:lnTo>
                    <a:pt x="137" y="676"/>
                  </a:lnTo>
                  <a:lnTo>
                    <a:pt x="164" y="674"/>
                  </a:lnTo>
                  <a:lnTo>
                    <a:pt x="194" y="674"/>
                  </a:lnTo>
                  <a:lnTo>
                    <a:pt x="220" y="672"/>
                  </a:lnTo>
                  <a:lnTo>
                    <a:pt x="242" y="672"/>
                  </a:lnTo>
                  <a:lnTo>
                    <a:pt x="255" y="672"/>
                  </a:lnTo>
                  <a:lnTo>
                    <a:pt x="265" y="674"/>
                  </a:lnTo>
                  <a:lnTo>
                    <a:pt x="275" y="676"/>
                  </a:lnTo>
                  <a:lnTo>
                    <a:pt x="289" y="679"/>
                  </a:lnTo>
                  <a:lnTo>
                    <a:pt x="302" y="682"/>
                  </a:lnTo>
                  <a:lnTo>
                    <a:pt x="315" y="687"/>
                  </a:lnTo>
                  <a:lnTo>
                    <a:pt x="330" y="691"/>
                  </a:lnTo>
                  <a:lnTo>
                    <a:pt x="344" y="694"/>
                  </a:lnTo>
                  <a:lnTo>
                    <a:pt x="359" y="697"/>
                  </a:lnTo>
                  <a:lnTo>
                    <a:pt x="374" y="699"/>
                  </a:lnTo>
                  <a:lnTo>
                    <a:pt x="392" y="701"/>
                  </a:lnTo>
                  <a:lnTo>
                    <a:pt x="412" y="701"/>
                  </a:lnTo>
                  <a:lnTo>
                    <a:pt x="430" y="702"/>
                  </a:lnTo>
                  <a:lnTo>
                    <a:pt x="450" y="702"/>
                  </a:lnTo>
                  <a:lnTo>
                    <a:pt x="467" y="701"/>
                  </a:lnTo>
                  <a:lnTo>
                    <a:pt x="480" y="701"/>
                  </a:lnTo>
                  <a:lnTo>
                    <a:pt x="492" y="697"/>
                  </a:lnTo>
                  <a:lnTo>
                    <a:pt x="500" y="696"/>
                  </a:lnTo>
                  <a:lnTo>
                    <a:pt x="507" y="696"/>
                  </a:lnTo>
                  <a:lnTo>
                    <a:pt x="514" y="699"/>
                  </a:lnTo>
                  <a:lnTo>
                    <a:pt x="520" y="706"/>
                  </a:lnTo>
                  <a:lnTo>
                    <a:pt x="527" y="712"/>
                  </a:lnTo>
                  <a:lnTo>
                    <a:pt x="534" y="719"/>
                  </a:lnTo>
                  <a:lnTo>
                    <a:pt x="540" y="727"/>
                  </a:lnTo>
                  <a:lnTo>
                    <a:pt x="549" y="734"/>
                  </a:lnTo>
                  <a:lnTo>
                    <a:pt x="559" y="741"/>
                  </a:lnTo>
                  <a:lnTo>
                    <a:pt x="569" y="742"/>
                  </a:lnTo>
                  <a:lnTo>
                    <a:pt x="579" y="744"/>
                  </a:lnTo>
                  <a:lnTo>
                    <a:pt x="590" y="742"/>
                  </a:lnTo>
                  <a:lnTo>
                    <a:pt x="600" y="739"/>
                  </a:lnTo>
                  <a:lnTo>
                    <a:pt x="610" y="736"/>
                  </a:lnTo>
                  <a:lnTo>
                    <a:pt x="619" y="731"/>
                  </a:lnTo>
                  <a:lnTo>
                    <a:pt x="625" y="726"/>
                  </a:lnTo>
                  <a:lnTo>
                    <a:pt x="632" y="719"/>
                  </a:lnTo>
                  <a:lnTo>
                    <a:pt x="639" y="707"/>
                  </a:lnTo>
                  <a:lnTo>
                    <a:pt x="649" y="694"/>
                  </a:lnTo>
                  <a:lnTo>
                    <a:pt x="661" y="677"/>
                  </a:lnTo>
                  <a:lnTo>
                    <a:pt x="672" y="659"/>
                  </a:lnTo>
                  <a:lnTo>
                    <a:pt x="687" y="637"/>
                  </a:lnTo>
                  <a:lnTo>
                    <a:pt x="704" y="614"/>
                  </a:lnTo>
                  <a:lnTo>
                    <a:pt x="721" y="587"/>
                  </a:lnTo>
                  <a:lnTo>
                    <a:pt x="737" y="564"/>
                  </a:lnTo>
                  <a:lnTo>
                    <a:pt x="754" y="544"/>
                  </a:lnTo>
                  <a:lnTo>
                    <a:pt x="769" y="530"/>
                  </a:lnTo>
                  <a:lnTo>
                    <a:pt x="786" y="519"/>
                  </a:lnTo>
                  <a:lnTo>
                    <a:pt x="799" y="512"/>
                  </a:lnTo>
                  <a:lnTo>
                    <a:pt x="812" y="504"/>
                  </a:lnTo>
                  <a:lnTo>
                    <a:pt x="826" y="499"/>
                  </a:lnTo>
                  <a:lnTo>
                    <a:pt x="839" y="492"/>
                  </a:lnTo>
                  <a:lnTo>
                    <a:pt x="847" y="489"/>
                  </a:lnTo>
                  <a:lnTo>
                    <a:pt x="862" y="484"/>
                  </a:lnTo>
                  <a:lnTo>
                    <a:pt x="879" y="479"/>
                  </a:lnTo>
                  <a:lnTo>
                    <a:pt x="901" y="472"/>
                  </a:lnTo>
                  <a:lnTo>
                    <a:pt x="926" y="465"/>
                  </a:lnTo>
                  <a:lnTo>
                    <a:pt x="952" y="459"/>
                  </a:lnTo>
                  <a:lnTo>
                    <a:pt x="981" y="452"/>
                  </a:lnTo>
                  <a:lnTo>
                    <a:pt x="1009" y="444"/>
                  </a:lnTo>
                  <a:lnTo>
                    <a:pt x="1039" y="437"/>
                  </a:lnTo>
                  <a:lnTo>
                    <a:pt x="1069" y="430"/>
                  </a:lnTo>
                  <a:lnTo>
                    <a:pt x="1097" y="424"/>
                  </a:lnTo>
                  <a:lnTo>
                    <a:pt x="1126" y="417"/>
                  </a:lnTo>
                  <a:lnTo>
                    <a:pt x="1151" y="410"/>
                  </a:lnTo>
                  <a:lnTo>
                    <a:pt x="1174" y="405"/>
                  </a:lnTo>
                  <a:lnTo>
                    <a:pt x="1194" y="400"/>
                  </a:lnTo>
                  <a:lnTo>
                    <a:pt x="1209" y="397"/>
                  </a:lnTo>
                  <a:lnTo>
                    <a:pt x="1236" y="390"/>
                  </a:lnTo>
                  <a:lnTo>
                    <a:pt x="1263" y="385"/>
                  </a:lnTo>
                  <a:lnTo>
                    <a:pt x="1289" y="382"/>
                  </a:lnTo>
                  <a:lnTo>
                    <a:pt x="1313" y="379"/>
                  </a:lnTo>
                  <a:lnTo>
                    <a:pt x="1336" y="375"/>
                  </a:lnTo>
                  <a:lnTo>
                    <a:pt x="1354" y="370"/>
                  </a:lnTo>
                  <a:lnTo>
                    <a:pt x="1371" y="365"/>
                  </a:lnTo>
                  <a:lnTo>
                    <a:pt x="1384" y="359"/>
                  </a:lnTo>
                  <a:lnTo>
                    <a:pt x="1394" y="354"/>
                  </a:lnTo>
                  <a:lnTo>
                    <a:pt x="1411" y="345"/>
                  </a:lnTo>
                  <a:lnTo>
                    <a:pt x="1434" y="334"/>
                  </a:lnTo>
                  <a:lnTo>
                    <a:pt x="1463" y="320"/>
                  </a:lnTo>
                  <a:lnTo>
                    <a:pt x="1496" y="307"/>
                  </a:lnTo>
                  <a:lnTo>
                    <a:pt x="1533" y="290"/>
                  </a:lnTo>
                  <a:lnTo>
                    <a:pt x="1571" y="274"/>
                  </a:lnTo>
                  <a:lnTo>
                    <a:pt x="1611" y="255"/>
                  </a:lnTo>
                  <a:lnTo>
                    <a:pt x="1649" y="239"/>
                  </a:lnTo>
                  <a:lnTo>
                    <a:pt x="1688" y="222"/>
                  </a:lnTo>
                  <a:lnTo>
                    <a:pt x="1723" y="207"/>
                  </a:lnTo>
                  <a:lnTo>
                    <a:pt x="1756" y="192"/>
                  </a:lnTo>
                  <a:lnTo>
                    <a:pt x="1783" y="180"/>
                  </a:lnTo>
                  <a:lnTo>
                    <a:pt x="1805" y="170"/>
                  </a:lnTo>
                  <a:lnTo>
                    <a:pt x="1820" y="164"/>
                  </a:lnTo>
                  <a:lnTo>
                    <a:pt x="1826" y="160"/>
                  </a:lnTo>
                  <a:lnTo>
                    <a:pt x="1836" y="152"/>
                  </a:lnTo>
                  <a:lnTo>
                    <a:pt x="1841" y="142"/>
                  </a:lnTo>
                  <a:lnTo>
                    <a:pt x="1845" y="130"/>
                  </a:lnTo>
                  <a:lnTo>
                    <a:pt x="1846" y="117"/>
                  </a:lnTo>
                  <a:lnTo>
                    <a:pt x="1848" y="100"/>
                  </a:lnTo>
                  <a:lnTo>
                    <a:pt x="1851" y="78"/>
                  </a:lnTo>
                  <a:lnTo>
                    <a:pt x="1858" y="57"/>
                  </a:lnTo>
                  <a:lnTo>
                    <a:pt x="1865" y="37"/>
                  </a:lnTo>
                  <a:lnTo>
                    <a:pt x="1868" y="27"/>
                  </a:lnTo>
                  <a:lnTo>
                    <a:pt x="1873" y="18"/>
                  </a:lnTo>
                  <a:lnTo>
                    <a:pt x="1876" y="8"/>
                  </a:lnTo>
                  <a:lnTo>
                    <a:pt x="1881" y="0"/>
                  </a:lnTo>
                  <a:lnTo>
                    <a:pt x="1861" y="10"/>
                  </a:lnTo>
                  <a:lnTo>
                    <a:pt x="1836" y="20"/>
                  </a:lnTo>
                  <a:lnTo>
                    <a:pt x="1808" y="32"/>
                  </a:lnTo>
                  <a:lnTo>
                    <a:pt x="1778" y="45"/>
                  </a:lnTo>
                  <a:lnTo>
                    <a:pt x="1746" y="58"/>
                  </a:lnTo>
                  <a:lnTo>
                    <a:pt x="1714" y="73"/>
                  </a:lnTo>
                  <a:lnTo>
                    <a:pt x="1681" y="88"/>
                  </a:lnTo>
                  <a:lnTo>
                    <a:pt x="1648" y="102"/>
                  </a:lnTo>
                  <a:lnTo>
                    <a:pt x="1616" y="117"/>
                  </a:lnTo>
                  <a:lnTo>
                    <a:pt x="1586" y="130"/>
                  </a:lnTo>
                  <a:lnTo>
                    <a:pt x="1558" y="142"/>
                  </a:lnTo>
                  <a:lnTo>
                    <a:pt x="1533" y="154"/>
                  </a:lnTo>
                  <a:lnTo>
                    <a:pt x="1511" y="164"/>
                  </a:lnTo>
                  <a:lnTo>
                    <a:pt x="1493" y="174"/>
                  </a:lnTo>
                  <a:lnTo>
                    <a:pt x="1479" y="179"/>
                  </a:lnTo>
                  <a:lnTo>
                    <a:pt x="1473" y="184"/>
                  </a:lnTo>
                  <a:lnTo>
                    <a:pt x="1459" y="190"/>
                  </a:lnTo>
                  <a:lnTo>
                    <a:pt x="1443" y="195"/>
                  </a:lnTo>
                  <a:lnTo>
                    <a:pt x="1423" y="199"/>
                  </a:lnTo>
                  <a:lnTo>
                    <a:pt x="1401" y="202"/>
                  </a:lnTo>
                  <a:lnTo>
                    <a:pt x="1376" y="205"/>
                  </a:lnTo>
                  <a:lnTo>
                    <a:pt x="1351" y="210"/>
                  </a:lnTo>
                  <a:lnTo>
                    <a:pt x="1324" y="215"/>
                  </a:lnTo>
                  <a:lnTo>
                    <a:pt x="1298" y="222"/>
                  </a:lnTo>
                  <a:close/>
                </a:path>
              </a:pathLst>
            </a:custGeom>
            <a:solidFill>
              <a:srgbClr val="ffffff">
                <a:alpha val="20000"/>
              </a:srgbClr>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9" name=""/>
            <p:cNvSpPr/>
            <p:nvPr/>
          </p:nvSpPr>
          <p:spPr>
            <a:xfrm>
              <a:off x="2813040" y="1346040"/>
              <a:ext cx="4348080" cy="3579840"/>
            </a:xfrm>
            <a:custGeom>
              <a:avLst/>
              <a:gdLst/>
              <a:ahLst/>
              <a:rect l="l" t="t" r="r" b="b"/>
              <a:pathLst>
                <a:path w="3185" h="2678">
                  <a:moveTo>
                    <a:pt x="380" y="90"/>
                  </a:moveTo>
                  <a:lnTo>
                    <a:pt x="683" y="28"/>
                  </a:lnTo>
                  <a:lnTo>
                    <a:pt x="693" y="0"/>
                  </a:lnTo>
                  <a:lnTo>
                    <a:pt x="695" y="0"/>
                  </a:lnTo>
                  <a:lnTo>
                    <a:pt x="698" y="0"/>
                  </a:lnTo>
                  <a:lnTo>
                    <a:pt x="704" y="0"/>
                  </a:lnTo>
                  <a:lnTo>
                    <a:pt x="712" y="0"/>
                  </a:lnTo>
                  <a:lnTo>
                    <a:pt x="720" y="0"/>
                  </a:lnTo>
                  <a:lnTo>
                    <a:pt x="734" y="2"/>
                  </a:lnTo>
                  <a:lnTo>
                    <a:pt x="747" y="5"/>
                  </a:lnTo>
                  <a:lnTo>
                    <a:pt x="764" y="10"/>
                  </a:lnTo>
                  <a:lnTo>
                    <a:pt x="782" y="15"/>
                  </a:lnTo>
                  <a:lnTo>
                    <a:pt x="799" y="20"/>
                  </a:lnTo>
                  <a:lnTo>
                    <a:pt x="817" y="23"/>
                  </a:lnTo>
                  <a:lnTo>
                    <a:pt x="832" y="28"/>
                  </a:lnTo>
                  <a:lnTo>
                    <a:pt x="847" y="32"/>
                  </a:lnTo>
                  <a:lnTo>
                    <a:pt x="862" y="35"/>
                  </a:lnTo>
                  <a:lnTo>
                    <a:pt x="874" y="40"/>
                  </a:lnTo>
                  <a:lnTo>
                    <a:pt x="884" y="43"/>
                  </a:lnTo>
                  <a:lnTo>
                    <a:pt x="894" y="48"/>
                  </a:lnTo>
                  <a:lnTo>
                    <a:pt x="907" y="57"/>
                  </a:lnTo>
                  <a:lnTo>
                    <a:pt x="924" y="68"/>
                  </a:lnTo>
                  <a:lnTo>
                    <a:pt x="942" y="82"/>
                  </a:lnTo>
                  <a:lnTo>
                    <a:pt x="962" y="97"/>
                  </a:lnTo>
                  <a:lnTo>
                    <a:pt x="985" y="112"/>
                  </a:lnTo>
                  <a:lnTo>
                    <a:pt x="1009" y="127"/>
                  </a:lnTo>
                  <a:lnTo>
                    <a:pt x="1035" y="142"/>
                  </a:lnTo>
                  <a:lnTo>
                    <a:pt x="1060" y="155"/>
                  </a:lnTo>
                  <a:lnTo>
                    <a:pt x="1080" y="168"/>
                  </a:lnTo>
                  <a:lnTo>
                    <a:pt x="1099" y="180"/>
                  </a:lnTo>
                  <a:lnTo>
                    <a:pt x="1114" y="190"/>
                  </a:lnTo>
                  <a:lnTo>
                    <a:pt x="1124" y="197"/>
                  </a:lnTo>
                  <a:lnTo>
                    <a:pt x="1132" y="203"/>
                  </a:lnTo>
                  <a:lnTo>
                    <a:pt x="1137" y="207"/>
                  </a:lnTo>
                  <a:lnTo>
                    <a:pt x="1139" y="208"/>
                  </a:lnTo>
                  <a:lnTo>
                    <a:pt x="1142" y="210"/>
                  </a:lnTo>
                  <a:lnTo>
                    <a:pt x="1150" y="215"/>
                  </a:lnTo>
                  <a:lnTo>
                    <a:pt x="1162" y="223"/>
                  </a:lnTo>
                  <a:lnTo>
                    <a:pt x="1177" y="233"/>
                  </a:lnTo>
                  <a:lnTo>
                    <a:pt x="1192" y="243"/>
                  </a:lnTo>
                  <a:lnTo>
                    <a:pt x="1205" y="255"/>
                  </a:lnTo>
                  <a:lnTo>
                    <a:pt x="1217" y="265"/>
                  </a:lnTo>
                  <a:lnTo>
                    <a:pt x="1225" y="275"/>
                  </a:lnTo>
                  <a:lnTo>
                    <a:pt x="1234" y="285"/>
                  </a:lnTo>
                  <a:lnTo>
                    <a:pt x="1245" y="297"/>
                  </a:lnTo>
                  <a:lnTo>
                    <a:pt x="1259" y="310"/>
                  </a:lnTo>
                  <a:lnTo>
                    <a:pt x="1276" y="325"/>
                  </a:lnTo>
                  <a:lnTo>
                    <a:pt x="1292" y="340"/>
                  </a:lnTo>
                  <a:lnTo>
                    <a:pt x="1309" y="354"/>
                  </a:lnTo>
                  <a:lnTo>
                    <a:pt x="1324" y="365"/>
                  </a:lnTo>
                  <a:lnTo>
                    <a:pt x="1334" y="375"/>
                  </a:lnTo>
                  <a:lnTo>
                    <a:pt x="1346" y="385"/>
                  </a:lnTo>
                  <a:lnTo>
                    <a:pt x="1362" y="397"/>
                  </a:lnTo>
                  <a:lnTo>
                    <a:pt x="1381" y="410"/>
                  </a:lnTo>
                  <a:lnTo>
                    <a:pt x="1401" y="424"/>
                  </a:lnTo>
                  <a:lnTo>
                    <a:pt x="1421" y="437"/>
                  </a:lnTo>
                  <a:lnTo>
                    <a:pt x="1436" y="445"/>
                  </a:lnTo>
                  <a:lnTo>
                    <a:pt x="1447" y="454"/>
                  </a:lnTo>
                  <a:lnTo>
                    <a:pt x="1451" y="455"/>
                  </a:lnTo>
                  <a:lnTo>
                    <a:pt x="1489" y="509"/>
                  </a:lnTo>
                  <a:lnTo>
                    <a:pt x="1497" y="509"/>
                  </a:lnTo>
                  <a:lnTo>
                    <a:pt x="1517" y="509"/>
                  </a:lnTo>
                  <a:lnTo>
                    <a:pt x="1546" y="509"/>
                  </a:lnTo>
                  <a:lnTo>
                    <a:pt x="1581" y="509"/>
                  </a:lnTo>
                  <a:lnTo>
                    <a:pt x="1617" y="510"/>
                  </a:lnTo>
                  <a:lnTo>
                    <a:pt x="1651" y="514"/>
                  </a:lnTo>
                  <a:lnTo>
                    <a:pt x="1677" y="520"/>
                  </a:lnTo>
                  <a:lnTo>
                    <a:pt x="1694" y="527"/>
                  </a:lnTo>
                  <a:lnTo>
                    <a:pt x="1696" y="527"/>
                  </a:lnTo>
                  <a:lnTo>
                    <a:pt x="1702" y="525"/>
                  </a:lnTo>
                  <a:lnTo>
                    <a:pt x="1712" y="522"/>
                  </a:lnTo>
                  <a:lnTo>
                    <a:pt x="1722" y="520"/>
                  </a:lnTo>
                  <a:lnTo>
                    <a:pt x="1736" y="519"/>
                  </a:lnTo>
                  <a:lnTo>
                    <a:pt x="1747" y="515"/>
                  </a:lnTo>
                  <a:lnTo>
                    <a:pt x="1759" y="514"/>
                  </a:lnTo>
                  <a:lnTo>
                    <a:pt x="1769" y="514"/>
                  </a:lnTo>
                  <a:lnTo>
                    <a:pt x="1782" y="515"/>
                  </a:lnTo>
                  <a:lnTo>
                    <a:pt x="1801" y="519"/>
                  </a:lnTo>
                  <a:lnTo>
                    <a:pt x="1823" y="522"/>
                  </a:lnTo>
                  <a:lnTo>
                    <a:pt x="1848" y="527"/>
                  </a:lnTo>
                  <a:lnTo>
                    <a:pt x="1869" y="534"/>
                  </a:lnTo>
                  <a:lnTo>
                    <a:pt x="1889" y="537"/>
                  </a:lnTo>
                  <a:lnTo>
                    <a:pt x="1903" y="540"/>
                  </a:lnTo>
                  <a:lnTo>
                    <a:pt x="1908" y="542"/>
                  </a:lnTo>
                  <a:lnTo>
                    <a:pt x="1926" y="604"/>
                  </a:lnTo>
                  <a:lnTo>
                    <a:pt x="2044" y="604"/>
                  </a:lnTo>
                  <a:lnTo>
                    <a:pt x="2064" y="689"/>
                  </a:lnTo>
                  <a:lnTo>
                    <a:pt x="2071" y="692"/>
                  </a:lnTo>
                  <a:lnTo>
                    <a:pt x="2083" y="704"/>
                  </a:lnTo>
                  <a:lnTo>
                    <a:pt x="2093" y="722"/>
                  </a:lnTo>
                  <a:lnTo>
                    <a:pt x="2093" y="746"/>
                  </a:lnTo>
                  <a:lnTo>
                    <a:pt x="2116" y="784"/>
                  </a:lnTo>
                  <a:lnTo>
                    <a:pt x="2154" y="769"/>
                  </a:lnTo>
                  <a:lnTo>
                    <a:pt x="2158" y="774"/>
                  </a:lnTo>
                  <a:lnTo>
                    <a:pt x="2164" y="786"/>
                  </a:lnTo>
                  <a:lnTo>
                    <a:pt x="2169" y="801"/>
                  </a:lnTo>
                  <a:lnTo>
                    <a:pt x="2173" y="812"/>
                  </a:lnTo>
                  <a:lnTo>
                    <a:pt x="2176" y="824"/>
                  </a:lnTo>
                  <a:lnTo>
                    <a:pt x="2183" y="834"/>
                  </a:lnTo>
                  <a:lnTo>
                    <a:pt x="2189" y="842"/>
                  </a:lnTo>
                  <a:lnTo>
                    <a:pt x="2193" y="846"/>
                  </a:lnTo>
                  <a:lnTo>
                    <a:pt x="2201" y="822"/>
                  </a:lnTo>
                  <a:lnTo>
                    <a:pt x="2226" y="869"/>
                  </a:lnTo>
                  <a:lnTo>
                    <a:pt x="2228" y="869"/>
                  </a:lnTo>
                  <a:lnTo>
                    <a:pt x="2234" y="871"/>
                  </a:lnTo>
                  <a:lnTo>
                    <a:pt x="2244" y="874"/>
                  </a:lnTo>
                  <a:lnTo>
                    <a:pt x="2254" y="877"/>
                  </a:lnTo>
                  <a:lnTo>
                    <a:pt x="2266" y="882"/>
                  </a:lnTo>
                  <a:lnTo>
                    <a:pt x="2276" y="887"/>
                  </a:lnTo>
                  <a:lnTo>
                    <a:pt x="2284" y="894"/>
                  </a:lnTo>
                  <a:lnTo>
                    <a:pt x="2288" y="902"/>
                  </a:lnTo>
                  <a:lnTo>
                    <a:pt x="2289" y="921"/>
                  </a:lnTo>
                  <a:lnTo>
                    <a:pt x="2293" y="937"/>
                  </a:lnTo>
                  <a:lnTo>
                    <a:pt x="2296" y="952"/>
                  </a:lnTo>
                  <a:lnTo>
                    <a:pt x="2306" y="964"/>
                  </a:lnTo>
                  <a:lnTo>
                    <a:pt x="2316" y="979"/>
                  </a:lnTo>
                  <a:lnTo>
                    <a:pt x="2321" y="996"/>
                  </a:lnTo>
                  <a:lnTo>
                    <a:pt x="2318" y="1011"/>
                  </a:lnTo>
                  <a:lnTo>
                    <a:pt x="2311" y="1017"/>
                  </a:lnTo>
                  <a:lnTo>
                    <a:pt x="2303" y="1019"/>
                  </a:lnTo>
                  <a:lnTo>
                    <a:pt x="2299" y="1024"/>
                  </a:lnTo>
                  <a:lnTo>
                    <a:pt x="2301" y="1032"/>
                  </a:lnTo>
                  <a:lnTo>
                    <a:pt x="2306" y="1046"/>
                  </a:lnTo>
                  <a:lnTo>
                    <a:pt x="2313" y="1061"/>
                  </a:lnTo>
                  <a:lnTo>
                    <a:pt x="2319" y="1076"/>
                  </a:lnTo>
                  <a:lnTo>
                    <a:pt x="2324" y="1092"/>
                  </a:lnTo>
                  <a:lnTo>
                    <a:pt x="2329" y="1107"/>
                  </a:lnTo>
                  <a:lnTo>
                    <a:pt x="2336" y="1117"/>
                  </a:lnTo>
                  <a:lnTo>
                    <a:pt x="2344" y="1121"/>
                  </a:lnTo>
                  <a:lnTo>
                    <a:pt x="2351" y="1121"/>
                  </a:lnTo>
                  <a:lnTo>
                    <a:pt x="2354" y="1121"/>
                  </a:lnTo>
                  <a:lnTo>
                    <a:pt x="2356" y="1129"/>
                  </a:lnTo>
                  <a:lnTo>
                    <a:pt x="2365" y="1149"/>
                  </a:lnTo>
                  <a:lnTo>
                    <a:pt x="2375" y="1174"/>
                  </a:lnTo>
                  <a:lnTo>
                    <a:pt x="2388" y="1192"/>
                  </a:lnTo>
                  <a:lnTo>
                    <a:pt x="2395" y="1201"/>
                  </a:lnTo>
                  <a:lnTo>
                    <a:pt x="2400" y="1209"/>
                  </a:lnTo>
                  <a:lnTo>
                    <a:pt x="2405" y="1217"/>
                  </a:lnTo>
                  <a:lnTo>
                    <a:pt x="2411" y="1227"/>
                  </a:lnTo>
                  <a:lnTo>
                    <a:pt x="2416" y="1236"/>
                  </a:lnTo>
                  <a:lnTo>
                    <a:pt x="2425" y="1244"/>
                  </a:lnTo>
                  <a:lnTo>
                    <a:pt x="2433" y="1253"/>
                  </a:lnTo>
                  <a:lnTo>
                    <a:pt x="2445" y="1259"/>
                  </a:lnTo>
                  <a:lnTo>
                    <a:pt x="2456" y="1263"/>
                  </a:lnTo>
                  <a:lnTo>
                    <a:pt x="2468" y="1263"/>
                  </a:lnTo>
                  <a:lnTo>
                    <a:pt x="2478" y="1263"/>
                  </a:lnTo>
                  <a:lnTo>
                    <a:pt x="2486" y="1259"/>
                  </a:lnTo>
                  <a:lnTo>
                    <a:pt x="2493" y="1256"/>
                  </a:lnTo>
                  <a:lnTo>
                    <a:pt x="2498" y="1253"/>
                  </a:lnTo>
                  <a:lnTo>
                    <a:pt x="2500" y="1251"/>
                  </a:lnTo>
                  <a:lnTo>
                    <a:pt x="2501" y="1249"/>
                  </a:lnTo>
                  <a:lnTo>
                    <a:pt x="2520" y="1259"/>
                  </a:lnTo>
                  <a:lnTo>
                    <a:pt x="2501" y="1293"/>
                  </a:lnTo>
                  <a:lnTo>
                    <a:pt x="2501" y="1294"/>
                  </a:lnTo>
                  <a:lnTo>
                    <a:pt x="2501" y="1299"/>
                  </a:lnTo>
                  <a:lnTo>
                    <a:pt x="2503" y="1304"/>
                  </a:lnTo>
                  <a:lnTo>
                    <a:pt x="2511" y="1306"/>
                  </a:lnTo>
                  <a:lnTo>
                    <a:pt x="2521" y="1314"/>
                  </a:lnTo>
                  <a:lnTo>
                    <a:pt x="2531" y="1329"/>
                  </a:lnTo>
                  <a:lnTo>
                    <a:pt x="2536" y="1346"/>
                  </a:lnTo>
                  <a:lnTo>
                    <a:pt x="2540" y="1354"/>
                  </a:lnTo>
                  <a:lnTo>
                    <a:pt x="2541" y="1356"/>
                  </a:lnTo>
                  <a:lnTo>
                    <a:pt x="2546" y="1361"/>
                  </a:lnTo>
                  <a:lnTo>
                    <a:pt x="2553" y="1368"/>
                  </a:lnTo>
                  <a:lnTo>
                    <a:pt x="2561" y="1378"/>
                  </a:lnTo>
                  <a:lnTo>
                    <a:pt x="2571" y="1388"/>
                  </a:lnTo>
                  <a:lnTo>
                    <a:pt x="2583" y="1401"/>
                  </a:lnTo>
                  <a:lnTo>
                    <a:pt x="2595" y="1414"/>
                  </a:lnTo>
                  <a:lnTo>
                    <a:pt x="2606" y="1428"/>
                  </a:lnTo>
                  <a:lnTo>
                    <a:pt x="2618" y="1443"/>
                  </a:lnTo>
                  <a:lnTo>
                    <a:pt x="2631" y="1458"/>
                  </a:lnTo>
                  <a:lnTo>
                    <a:pt x="2645" y="1473"/>
                  </a:lnTo>
                  <a:lnTo>
                    <a:pt x="2658" y="1488"/>
                  </a:lnTo>
                  <a:lnTo>
                    <a:pt x="2670" y="1501"/>
                  </a:lnTo>
                  <a:lnTo>
                    <a:pt x="2680" y="1511"/>
                  </a:lnTo>
                  <a:lnTo>
                    <a:pt x="2688" y="1521"/>
                  </a:lnTo>
                  <a:lnTo>
                    <a:pt x="2691" y="1528"/>
                  </a:lnTo>
                  <a:lnTo>
                    <a:pt x="2701" y="1533"/>
                  </a:lnTo>
                  <a:lnTo>
                    <a:pt x="2723" y="1538"/>
                  </a:lnTo>
                  <a:lnTo>
                    <a:pt x="2753" y="1543"/>
                  </a:lnTo>
                  <a:lnTo>
                    <a:pt x="2790" y="1546"/>
                  </a:lnTo>
                  <a:lnTo>
                    <a:pt x="2828" y="1549"/>
                  </a:lnTo>
                  <a:lnTo>
                    <a:pt x="2863" y="1551"/>
                  </a:lnTo>
                  <a:lnTo>
                    <a:pt x="2891" y="1554"/>
                  </a:lnTo>
                  <a:lnTo>
                    <a:pt x="2910" y="1556"/>
                  </a:lnTo>
                  <a:lnTo>
                    <a:pt x="2925" y="1558"/>
                  </a:lnTo>
                  <a:lnTo>
                    <a:pt x="2945" y="1559"/>
                  </a:lnTo>
                  <a:lnTo>
                    <a:pt x="2968" y="1561"/>
                  </a:lnTo>
                  <a:lnTo>
                    <a:pt x="2992" y="1563"/>
                  </a:lnTo>
                  <a:lnTo>
                    <a:pt x="3013" y="1566"/>
                  </a:lnTo>
                  <a:lnTo>
                    <a:pt x="3033" y="1568"/>
                  </a:lnTo>
                  <a:lnTo>
                    <a:pt x="3048" y="1569"/>
                  </a:lnTo>
                  <a:lnTo>
                    <a:pt x="3057" y="1571"/>
                  </a:lnTo>
                  <a:lnTo>
                    <a:pt x="3070" y="1569"/>
                  </a:lnTo>
                  <a:lnTo>
                    <a:pt x="3083" y="1563"/>
                  </a:lnTo>
                  <a:lnTo>
                    <a:pt x="3095" y="1554"/>
                  </a:lnTo>
                  <a:lnTo>
                    <a:pt x="3100" y="1551"/>
                  </a:lnTo>
                  <a:lnTo>
                    <a:pt x="3102" y="1553"/>
                  </a:lnTo>
                  <a:lnTo>
                    <a:pt x="3105" y="1556"/>
                  </a:lnTo>
                  <a:lnTo>
                    <a:pt x="3112" y="1561"/>
                  </a:lnTo>
                  <a:lnTo>
                    <a:pt x="3120" y="1568"/>
                  </a:lnTo>
                  <a:lnTo>
                    <a:pt x="3130" y="1576"/>
                  </a:lnTo>
                  <a:lnTo>
                    <a:pt x="3140" y="1586"/>
                  </a:lnTo>
                  <a:lnTo>
                    <a:pt x="3152" y="1598"/>
                  </a:lnTo>
                  <a:lnTo>
                    <a:pt x="3162" y="1609"/>
                  </a:lnTo>
                  <a:lnTo>
                    <a:pt x="3172" y="1624"/>
                  </a:lnTo>
                  <a:lnTo>
                    <a:pt x="3180" y="1638"/>
                  </a:lnTo>
                  <a:lnTo>
                    <a:pt x="3183" y="1653"/>
                  </a:lnTo>
                  <a:lnTo>
                    <a:pt x="3185" y="1668"/>
                  </a:lnTo>
                  <a:lnTo>
                    <a:pt x="3185" y="1678"/>
                  </a:lnTo>
                  <a:lnTo>
                    <a:pt x="3183" y="1688"/>
                  </a:lnTo>
                  <a:lnTo>
                    <a:pt x="3180" y="1696"/>
                  </a:lnTo>
                  <a:lnTo>
                    <a:pt x="3175" y="1704"/>
                  </a:lnTo>
                  <a:lnTo>
                    <a:pt x="3168" y="1724"/>
                  </a:lnTo>
                  <a:lnTo>
                    <a:pt x="3168" y="1748"/>
                  </a:lnTo>
                  <a:lnTo>
                    <a:pt x="3168" y="1771"/>
                  </a:lnTo>
                  <a:lnTo>
                    <a:pt x="3167" y="1795"/>
                  </a:lnTo>
                  <a:lnTo>
                    <a:pt x="3162" y="1815"/>
                  </a:lnTo>
                  <a:lnTo>
                    <a:pt x="3153" y="1835"/>
                  </a:lnTo>
                  <a:lnTo>
                    <a:pt x="3145" y="1851"/>
                  </a:lnTo>
                  <a:lnTo>
                    <a:pt x="3138" y="1870"/>
                  </a:lnTo>
                  <a:lnTo>
                    <a:pt x="3132" y="1890"/>
                  </a:lnTo>
                  <a:lnTo>
                    <a:pt x="3125" y="1913"/>
                  </a:lnTo>
                  <a:lnTo>
                    <a:pt x="3120" y="1933"/>
                  </a:lnTo>
                  <a:lnTo>
                    <a:pt x="3118" y="1951"/>
                  </a:lnTo>
                  <a:lnTo>
                    <a:pt x="3117" y="1965"/>
                  </a:lnTo>
                  <a:lnTo>
                    <a:pt x="3115" y="1976"/>
                  </a:lnTo>
                  <a:lnTo>
                    <a:pt x="3108" y="1986"/>
                  </a:lnTo>
                  <a:lnTo>
                    <a:pt x="3100" y="1993"/>
                  </a:lnTo>
                  <a:lnTo>
                    <a:pt x="3093" y="1996"/>
                  </a:lnTo>
                  <a:lnTo>
                    <a:pt x="3078" y="2003"/>
                  </a:lnTo>
                  <a:lnTo>
                    <a:pt x="3057" y="2013"/>
                  </a:lnTo>
                  <a:lnTo>
                    <a:pt x="3028" y="2026"/>
                  </a:lnTo>
                  <a:lnTo>
                    <a:pt x="2997" y="2040"/>
                  </a:lnTo>
                  <a:lnTo>
                    <a:pt x="2962" y="2056"/>
                  </a:lnTo>
                  <a:lnTo>
                    <a:pt x="2923" y="2073"/>
                  </a:lnTo>
                  <a:lnTo>
                    <a:pt x="2885" y="2090"/>
                  </a:lnTo>
                  <a:lnTo>
                    <a:pt x="2845" y="2108"/>
                  </a:lnTo>
                  <a:lnTo>
                    <a:pt x="2806" y="2125"/>
                  </a:lnTo>
                  <a:lnTo>
                    <a:pt x="2770" y="2141"/>
                  </a:lnTo>
                  <a:lnTo>
                    <a:pt x="2736" y="2155"/>
                  </a:lnTo>
                  <a:lnTo>
                    <a:pt x="2708" y="2168"/>
                  </a:lnTo>
                  <a:lnTo>
                    <a:pt x="2685" y="2180"/>
                  </a:lnTo>
                  <a:lnTo>
                    <a:pt x="2668" y="2188"/>
                  </a:lnTo>
                  <a:lnTo>
                    <a:pt x="2658" y="2193"/>
                  </a:lnTo>
                  <a:lnTo>
                    <a:pt x="2645" y="2200"/>
                  </a:lnTo>
                  <a:lnTo>
                    <a:pt x="2628" y="2205"/>
                  </a:lnTo>
                  <a:lnTo>
                    <a:pt x="2608" y="2208"/>
                  </a:lnTo>
                  <a:lnTo>
                    <a:pt x="2586" y="2211"/>
                  </a:lnTo>
                  <a:lnTo>
                    <a:pt x="2561" y="2215"/>
                  </a:lnTo>
                  <a:lnTo>
                    <a:pt x="2535" y="2220"/>
                  </a:lnTo>
                  <a:lnTo>
                    <a:pt x="2508" y="2225"/>
                  </a:lnTo>
                  <a:lnTo>
                    <a:pt x="2481" y="2231"/>
                  </a:lnTo>
                  <a:lnTo>
                    <a:pt x="2466" y="2235"/>
                  </a:lnTo>
                  <a:lnTo>
                    <a:pt x="2446" y="2240"/>
                  </a:lnTo>
                  <a:lnTo>
                    <a:pt x="2425" y="2245"/>
                  </a:lnTo>
                  <a:lnTo>
                    <a:pt x="2398" y="2252"/>
                  </a:lnTo>
                  <a:lnTo>
                    <a:pt x="2371" y="2258"/>
                  </a:lnTo>
                  <a:lnTo>
                    <a:pt x="2343" y="2265"/>
                  </a:lnTo>
                  <a:lnTo>
                    <a:pt x="2313" y="2272"/>
                  </a:lnTo>
                  <a:lnTo>
                    <a:pt x="2283" y="2278"/>
                  </a:lnTo>
                  <a:lnTo>
                    <a:pt x="2253" y="2285"/>
                  </a:lnTo>
                  <a:lnTo>
                    <a:pt x="2224" y="2293"/>
                  </a:lnTo>
                  <a:lnTo>
                    <a:pt x="2198" y="2300"/>
                  </a:lnTo>
                  <a:lnTo>
                    <a:pt x="2173" y="2307"/>
                  </a:lnTo>
                  <a:lnTo>
                    <a:pt x="2151" y="2312"/>
                  </a:lnTo>
                  <a:lnTo>
                    <a:pt x="2134" y="2318"/>
                  </a:lnTo>
                  <a:lnTo>
                    <a:pt x="2119" y="2323"/>
                  </a:lnTo>
                  <a:lnTo>
                    <a:pt x="2111" y="2327"/>
                  </a:lnTo>
                  <a:lnTo>
                    <a:pt x="2098" y="2333"/>
                  </a:lnTo>
                  <a:lnTo>
                    <a:pt x="2086" y="2338"/>
                  </a:lnTo>
                  <a:lnTo>
                    <a:pt x="2071" y="2347"/>
                  </a:lnTo>
                  <a:lnTo>
                    <a:pt x="2058" y="2353"/>
                  </a:lnTo>
                  <a:lnTo>
                    <a:pt x="2043" y="2365"/>
                  </a:lnTo>
                  <a:lnTo>
                    <a:pt x="2028" y="2378"/>
                  </a:lnTo>
                  <a:lnTo>
                    <a:pt x="2011" y="2398"/>
                  </a:lnTo>
                  <a:lnTo>
                    <a:pt x="1993" y="2422"/>
                  </a:lnTo>
                  <a:lnTo>
                    <a:pt x="1976" y="2447"/>
                  </a:lnTo>
                  <a:lnTo>
                    <a:pt x="1961" y="2470"/>
                  </a:lnTo>
                  <a:lnTo>
                    <a:pt x="1946" y="2492"/>
                  </a:lnTo>
                  <a:lnTo>
                    <a:pt x="1933" y="2512"/>
                  </a:lnTo>
                  <a:lnTo>
                    <a:pt x="1923" y="2528"/>
                  </a:lnTo>
                  <a:lnTo>
                    <a:pt x="1913" y="2542"/>
                  </a:lnTo>
                  <a:lnTo>
                    <a:pt x="1904" y="2552"/>
                  </a:lnTo>
                  <a:lnTo>
                    <a:pt x="1898" y="2558"/>
                  </a:lnTo>
                  <a:lnTo>
                    <a:pt x="1891" y="2563"/>
                  </a:lnTo>
                  <a:lnTo>
                    <a:pt x="1884" y="2568"/>
                  </a:lnTo>
                  <a:lnTo>
                    <a:pt x="1874" y="2573"/>
                  </a:lnTo>
                  <a:lnTo>
                    <a:pt x="1864" y="2575"/>
                  </a:lnTo>
                  <a:lnTo>
                    <a:pt x="1853" y="2577"/>
                  </a:lnTo>
                  <a:lnTo>
                    <a:pt x="1843" y="2577"/>
                  </a:lnTo>
                  <a:lnTo>
                    <a:pt x="1833" y="2573"/>
                  </a:lnTo>
                  <a:lnTo>
                    <a:pt x="1823" y="2568"/>
                  </a:lnTo>
                  <a:lnTo>
                    <a:pt x="1814" y="2562"/>
                  </a:lnTo>
                  <a:lnTo>
                    <a:pt x="1806" y="2553"/>
                  </a:lnTo>
                  <a:lnTo>
                    <a:pt x="1799" y="2547"/>
                  </a:lnTo>
                  <a:lnTo>
                    <a:pt x="1794" y="2538"/>
                  </a:lnTo>
                  <a:lnTo>
                    <a:pt x="1787" y="2533"/>
                  </a:lnTo>
                  <a:lnTo>
                    <a:pt x="1781" y="2530"/>
                  </a:lnTo>
                  <a:lnTo>
                    <a:pt x="1772" y="2528"/>
                  </a:lnTo>
                  <a:lnTo>
                    <a:pt x="1764" y="2530"/>
                  </a:lnTo>
                  <a:lnTo>
                    <a:pt x="1752" y="2533"/>
                  </a:lnTo>
                  <a:lnTo>
                    <a:pt x="1739" y="2535"/>
                  </a:lnTo>
                  <a:lnTo>
                    <a:pt x="1722" y="2535"/>
                  </a:lnTo>
                  <a:lnTo>
                    <a:pt x="1704" y="2535"/>
                  </a:lnTo>
                  <a:lnTo>
                    <a:pt x="1684" y="2535"/>
                  </a:lnTo>
                  <a:lnTo>
                    <a:pt x="1666" y="2533"/>
                  </a:lnTo>
                  <a:lnTo>
                    <a:pt x="1647" y="2532"/>
                  </a:lnTo>
                  <a:lnTo>
                    <a:pt x="1632" y="2530"/>
                  </a:lnTo>
                  <a:lnTo>
                    <a:pt x="1617" y="2528"/>
                  </a:lnTo>
                  <a:lnTo>
                    <a:pt x="1602" y="2525"/>
                  </a:lnTo>
                  <a:lnTo>
                    <a:pt x="1589" y="2520"/>
                  </a:lnTo>
                  <a:lnTo>
                    <a:pt x="1574" y="2517"/>
                  </a:lnTo>
                  <a:lnTo>
                    <a:pt x="1561" y="2513"/>
                  </a:lnTo>
                  <a:lnTo>
                    <a:pt x="1549" y="2510"/>
                  </a:lnTo>
                  <a:lnTo>
                    <a:pt x="1537" y="2507"/>
                  </a:lnTo>
                  <a:lnTo>
                    <a:pt x="1527" y="2507"/>
                  </a:lnTo>
                  <a:lnTo>
                    <a:pt x="1514" y="2507"/>
                  </a:lnTo>
                  <a:lnTo>
                    <a:pt x="1492" y="2507"/>
                  </a:lnTo>
                  <a:lnTo>
                    <a:pt x="1466" y="2508"/>
                  </a:lnTo>
                  <a:lnTo>
                    <a:pt x="1436" y="2508"/>
                  </a:lnTo>
                  <a:lnTo>
                    <a:pt x="1409" y="2510"/>
                  </a:lnTo>
                  <a:lnTo>
                    <a:pt x="1386" y="2512"/>
                  </a:lnTo>
                  <a:lnTo>
                    <a:pt x="1369" y="2512"/>
                  </a:lnTo>
                  <a:lnTo>
                    <a:pt x="1362" y="2512"/>
                  </a:lnTo>
                  <a:lnTo>
                    <a:pt x="1361" y="2513"/>
                  </a:lnTo>
                  <a:lnTo>
                    <a:pt x="1356" y="2515"/>
                  </a:lnTo>
                  <a:lnTo>
                    <a:pt x="1349" y="2518"/>
                  </a:lnTo>
                  <a:lnTo>
                    <a:pt x="1339" y="2520"/>
                  </a:lnTo>
                  <a:lnTo>
                    <a:pt x="1329" y="2522"/>
                  </a:lnTo>
                  <a:lnTo>
                    <a:pt x="1317" y="2522"/>
                  </a:lnTo>
                  <a:lnTo>
                    <a:pt x="1304" y="2518"/>
                  </a:lnTo>
                  <a:lnTo>
                    <a:pt x="1292" y="2512"/>
                  </a:lnTo>
                  <a:lnTo>
                    <a:pt x="1281" y="2503"/>
                  </a:lnTo>
                  <a:lnTo>
                    <a:pt x="1272" y="2497"/>
                  </a:lnTo>
                  <a:lnTo>
                    <a:pt x="1266" y="2490"/>
                  </a:lnTo>
                  <a:lnTo>
                    <a:pt x="1261" y="2485"/>
                  </a:lnTo>
                  <a:lnTo>
                    <a:pt x="1256" y="2482"/>
                  </a:lnTo>
                  <a:lnTo>
                    <a:pt x="1250" y="2480"/>
                  </a:lnTo>
                  <a:lnTo>
                    <a:pt x="1245" y="2480"/>
                  </a:lnTo>
                  <a:lnTo>
                    <a:pt x="1239" y="2483"/>
                  </a:lnTo>
                  <a:lnTo>
                    <a:pt x="1232" y="2490"/>
                  </a:lnTo>
                  <a:lnTo>
                    <a:pt x="1235" y="2498"/>
                  </a:lnTo>
                  <a:lnTo>
                    <a:pt x="1240" y="2510"/>
                  </a:lnTo>
                  <a:lnTo>
                    <a:pt x="1239" y="2525"/>
                  </a:lnTo>
                  <a:lnTo>
                    <a:pt x="1234" y="2545"/>
                  </a:lnTo>
                  <a:lnTo>
                    <a:pt x="1232" y="2567"/>
                  </a:lnTo>
                  <a:lnTo>
                    <a:pt x="1234" y="2587"/>
                  </a:lnTo>
                  <a:lnTo>
                    <a:pt x="1234" y="2602"/>
                  </a:lnTo>
                  <a:lnTo>
                    <a:pt x="1230" y="2615"/>
                  </a:lnTo>
                  <a:lnTo>
                    <a:pt x="1225" y="2630"/>
                  </a:lnTo>
                  <a:lnTo>
                    <a:pt x="1219" y="2643"/>
                  </a:lnTo>
                  <a:lnTo>
                    <a:pt x="1215" y="2648"/>
                  </a:lnTo>
                  <a:lnTo>
                    <a:pt x="1177" y="2678"/>
                  </a:lnTo>
                  <a:lnTo>
                    <a:pt x="1175" y="2672"/>
                  </a:lnTo>
                  <a:lnTo>
                    <a:pt x="1170" y="2657"/>
                  </a:lnTo>
                  <a:lnTo>
                    <a:pt x="1167" y="2640"/>
                  </a:lnTo>
                  <a:lnTo>
                    <a:pt x="1167" y="2625"/>
                  </a:lnTo>
                  <a:lnTo>
                    <a:pt x="1167" y="2613"/>
                  </a:lnTo>
                  <a:lnTo>
                    <a:pt x="1164" y="2598"/>
                  </a:lnTo>
                  <a:lnTo>
                    <a:pt x="1154" y="2583"/>
                  </a:lnTo>
                  <a:lnTo>
                    <a:pt x="1144" y="2568"/>
                  </a:lnTo>
                  <a:lnTo>
                    <a:pt x="1134" y="2555"/>
                  </a:lnTo>
                  <a:lnTo>
                    <a:pt x="1124" y="2543"/>
                  </a:lnTo>
                  <a:lnTo>
                    <a:pt x="1115" y="2532"/>
                  </a:lnTo>
                  <a:lnTo>
                    <a:pt x="1110" y="2522"/>
                  </a:lnTo>
                  <a:lnTo>
                    <a:pt x="1107" y="2508"/>
                  </a:lnTo>
                  <a:lnTo>
                    <a:pt x="1104" y="2492"/>
                  </a:lnTo>
                  <a:lnTo>
                    <a:pt x="1095" y="2475"/>
                  </a:lnTo>
                  <a:lnTo>
                    <a:pt x="1082" y="2458"/>
                  </a:lnTo>
                  <a:lnTo>
                    <a:pt x="1072" y="2450"/>
                  </a:lnTo>
                  <a:lnTo>
                    <a:pt x="1059" y="2437"/>
                  </a:lnTo>
                  <a:lnTo>
                    <a:pt x="1044" y="2423"/>
                  </a:lnTo>
                  <a:lnTo>
                    <a:pt x="1029" y="2405"/>
                  </a:lnTo>
                  <a:lnTo>
                    <a:pt x="1014" y="2387"/>
                  </a:lnTo>
                  <a:lnTo>
                    <a:pt x="999" y="2368"/>
                  </a:lnTo>
                  <a:lnTo>
                    <a:pt x="987" y="2350"/>
                  </a:lnTo>
                  <a:lnTo>
                    <a:pt x="979" y="2332"/>
                  </a:lnTo>
                  <a:lnTo>
                    <a:pt x="964" y="2302"/>
                  </a:lnTo>
                  <a:lnTo>
                    <a:pt x="949" y="2280"/>
                  </a:lnTo>
                  <a:lnTo>
                    <a:pt x="937" y="2263"/>
                  </a:lnTo>
                  <a:lnTo>
                    <a:pt x="930" y="2245"/>
                  </a:lnTo>
                  <a:lnTo>
                    <a:pt x="927" y="2231"/>
                  </a:lnTo>
                  <a:lnTo>
                    <a:pt x="920" y="2211"/>
                  </a:lnTo>
                  <a:lnTo>
                    <a:pt x="910" y="2190"/>
                  </a:lnTo>
                  <a:lnTo>
                    <a:pt x="900" y="2166"/>
                  </a:lnTo>
                  <a:lnTo>
                    <a:pt x="890" y="2143"/>
                  </a:lnTo>
                  <a:lnTo>
                    <a:pt x="880" y="2123"/>
                  </a:lnTo>
                  <a:lnTo>
                    <a:pt x="870" y="2108"/>
                  </a:lnTo>
                  <a:lnTo>
                    <a:pt x="864" y="2098"/>
                  </a:lnTo>
                  <a:lnTo>
                    <a:pt x="854" y="2085"/>
                  </a:lnTo>
                  <a:lnTo>
                    <a:pt x="845" y="2071"/>
                  </a:lnTo>
                  <a:lnTo>
                    <a:pt x="834" y="2056"/>
                  </a:lnTo>
                  <a:lnTo>
                    <a:pt x="822" y="2041"/>
                  </a:lnTo>
                  <a:lnTo>
                    <a:pt x="814" y="2033"/>
                  </a:lnTo>
                  <a:lnTo>
                    <a:pt x="802" y="2025"/>
                  </a:lnTo>
                  <a:lnTo>
                    <a:pt x="790" y="2018"/>
                  </a:lnTo>
                  <a:lnTo>
                    <a:pt x="779" y="2010"/>
                  </a:lnTo>
                  <a:lnTo>
                    <a:pt x="765" y="2003"/>
                  </a:lnTo>
                  <a:lnTo>
                    <a:pt x="752" y="1998"/>
                  </a:lnTo>
                  <a:lnTo>
                    <a:pt x="740" y="1995"/>
                  </a:lnTo>
                  <a:lnTo>
                    <a:pt x="730" y="1993"/>
                  </a:lnTo>
                  <a:lnTo>
                    <a:pt x="722" y="1991"/>
                  </a:lnTo>
                  <a:lnTo>
                    <a:pt x="717" y="1988"/>
                  </a:lnTo>
                  <a:lnTo>
                    <a:pt x="710" y="1983"/>
                  </a:lnTo>
                  <a:lnTo>
                    <a:pt x="705" y="1975"/>
                  </a:lnTo>
                  <a:lnTo>
                    <a:pt x="700" y="1966"/>
                  </a:lnTo>
                  <a:lnTo>
                    <a:pt x="693" y="1953"/>
                  </a:lnTo>
                  <a:lnTo>
                    <a:pt x="685" y="1940"/>
                  </a:lnTo>
                  <a:lnTo>
                    <a:pt x="673" y="1923"/>
                  </a:lnTo>
                  <a:lnTo>
                    <a:pt x="662" y="1905"/>
                  </a:lnTo>
                  <a:lnTo>
                    <a:pt x="652" y="1886"/>
                  </a:lnTo>
                  <a:lnTo>
                    <a:pt x="642" y="1868"/>
                  </a:lnTo>
                  <a:lnTo>
                    <a:pt x="635" y="1851"/>
                  </a:lnTo>
                  <a:lnTo>
                    <a:pt x="628" y="1833"/>
                  </a:lnTo>
                  <a:lnTo>
                    <a:pt x="623" y="1818"/>
                  </a:lnTo>
                  <a:lnTo>
                    <a:pt x="620" y="1803"/>
                  </a:lnTo>
                  <a:lnTo>
                    <a:pt x="617" y="1790"/>
                  </a:lnTo>
                  <a:lnTo>
                    <a:pt x="612" y="1765"/>
                  </a:lnTo>
                  <a:lnTo>
                    <a:pt x="603" y="1741"/>
                  </a:lnTo>
                  <a:lnTo>
                    <a:pt x="597" y="1724"/>
                  </a:lnTo>
                  <a:lnTo>
                    <a:pt x="593" y="1718"/>
                  </a:lnTo>
                  <a:lnTo>
                    <a:pt x="600" y="1706"/>
                  </a:lnTo>
                  <a:lnTo>
                    <a:pt x="610" y="1676"/>
                  </a:lnTo>
                  <a:lnTo>
                    <a:pt x="617" y="1636"/>
                  </a:lnTo>
                  <a:lnTo>
                    <a:pt x="607" y="1594"/>
                  </a:lnTo>
                  <a:lnTo>
                    <a:pt x="590" y="1559"/>
                  </a:lnTo>
                  <a:lnTo>
                    <a:pt x="582" y="1531"/>
                  </a:lnTo>
                  <a:lnTo>
                    <a:pt x="573" y="1503"/>
                  </a:lnTo>
                  <a:lnTo>
                    <a:pt x="560" y="1471"/>
                  </a:lnTo>
                  <a:lnTo>
                    <a:pt x="552" y="1454"/>
                  </a:lnTo>
                  <a:lnTo>
                    <a:pt x="547" y="1439"/>
                  </a:lnTo>
                  <a:lnTo>
                    <a:pt x="542" y="1426"/>
                  </a:lnTo>
                  <a:lnTo>
                    <a:pt x="537" y="1413"/>
                  </a:lnTo>
                  <a:lnTo>
                    <a:pt x="532" y="1401"/>
                  </a:lnTo>
                  <a:lnTo>
                    <a:pt x="525" y="1393"/>
                  </a:lnTo>
                  <a:lnTo>
                    <a:pt x="518" y="1383"/>
                  </a:lnTo>
                  <a:lnTo>
                    <a:pt x="508" y="1376"/>
                  </a:lnTo>
                  <a:lnTo>
                    <a:pt x="497" y="1369"/>
                  </a:lnTo>
                  <a:lnTo>
                    <a:pt x="487" y="1361"/>
                  </a:lnTo>
                  <a:lnTo>
                    <a:pt x="475" y="1354"/>
                  </a:lnTo>
                  <a:lnTo>
                    <a:pt x="463" y="1346"/>
                  </a:lnTo>
                  <a:lnTo>
                    <a:pt x="452" y="1338"/>
                  </a:lnTo>
                  <a:lnTo>
                    <a:pt x="440" y="1329"/>
                  </a:lnTo>
                  <a:lnTo>
                    <a:pt x="427" y="1323"/>
                  </a:lnTo>
                  <a:lnTo>
                    <a:pt x="413" y="1316"/>
                  </a:lnTo>
                  <a:lnTo>
                    <a:pt x="392" y="1303"/>
                  </a:lnTo>
                  <a:lnTo>
                    <a:pt x="382" y="1286"/>
                  </a:lnTo>
                  <a:lnTo>
                    <a:pt x="375" y="1268"/>
                  </a:lnTo>
                  <a:lnTo>
                    <a:pt x="365" y="1249"/>
                  </a:lnTo>
                  <a:lnTo>
                    <a:pt x="355" y="1232"/>
                  </a:lnTo>
                  <a:lnTo>
                    <a:pt x="348" y="1219"/>
                  </a:lnTo>
                  <a:lnTo>
                    <a:pt x="347" y="1209"/>
                  </a:lnTo>
                  <a:lnTo>
                    <a:pt x="347" y="1206"/>
                  </a:lnTo>
                  <a:lnTo>
                    <a:pt x="348" y="1206"/>
                  </a:lnTo>
                  <a:lnTo>
                    <a:pt x="353" y="1204"/>
                  </a:lnTo>
                  <a:lnTo>
                    <a:pt x="360" y="1201"/>
                  </a:lnTo>
                  <a:lnTo>
                    <a:pt x="367" y="1194"/>
                  </a:lnTo>
                  <a:lnTo>
                    <a:pt x="370" y="1187"/>
                  </a:lnTo>
                  <a:lnTo>
                    <a:pt x="370" y="1176"/>
                  </a:lnTo>
                  <a:lnTo>
                    <a:pt x="365" y="1162"/>
                  </a:lnTo>
                  <a:lnTo>
                    <a:pt x="352" y="1144"/>
                  </a:lnTo>
                  <a:lnTo>
                    <a:pt x="330" y="1122"/>
                  </a:lnTo>
                  <a:lnTo>
                    <a:pt x="327" y="1122"/>
                  </a:lnTo>
                  <a:lnTo>
                    <a:pt x="330" y="1126"/>
                  </a:lnTo>
                  <a:lnTo>
                    <a:pt x="327" y="1112"/>
                  </a:lnTo>
                  <a:lnTo>
                    <a:pt x="320" y="1091"/>
                  </a:lnTo>
                  <a:lnTo>
                    <a:pt x="315" y="1076"/>
                  </a:lnTo>
                  <a:lnTo>
                    <a:pt x="308" y="1066"/>
                  </a:lnTo>
                  <a:lnTo>
                    <a:pt x="293" y="1054"/>
                  </a:lnTo>
                  <a:lnTo>
                    <a:pt x="283" y="1039"/>
                  </a:lnTo>
                  <a:lnTo>
                    <a:pt x="285" y="1024"/>
                  </a:lnTo>
                  <a:lnTo>
                    <a:pt x="287" y="1011"/>
                  </a:lnTo>
                  <a:lnTo>
                    <a:pt x="275" y="997"/>
                  </a:lnTo>
                  <a:lnTo>
                    <a:pt x="257" y="986"/>
                  </a:lnTo>
                  <a:lnTo>
                    <a:pt x="243" y="971"/>
                  </a:lnTo>
                  <a:lnTo>
                    <a:pt x="235" y="954"/>
                  </a:lnTo>
                  <a:lnTo>
                    <a:pt x="232" y="936"/>
                  </a:lnTo>
                  <a:lnTo>
                    <a:pt x="228" y="916"/>
                  </a:lnTo>
                  <a:lnTo>
                    <a:pt x="218" y="889"/>
                  </a:lnTo>
                  <a:lnTo>
                    <a:pt x="205" y="862"/>
                  </a:lnTo>
                  <a:lnTo>
                    <a:pt x="185" y="836"/>
                  </a:lnTo>
                  <a:lnTo>
                    <a:pt x="172" y="814"/>
                  </a:lnTo>
                  <a:lnTo>
                    <a:pt x="168" y="796"/>
                  </a:lnTo>
                  <a:lnTo>
                    <a:pt x="167" y="782"/>
                  </a:lnTo>
                  <a:lnTo>
                    <a:pt x="157" y="774"/>
                  </a:lnTo>
                  <a:lnTo>
                    <a:pt x="145" y="766"/>
                  </a:lnTo>
                  <a:lnTo>
                    <a:pt x="140" y="754"/>
                  </a:lnTo>
                  <a:lnTo>
                    <a:pt x="133" y="739"/>
                  </a:lnTo>
                  <a:lnTo>
                    <a:pt x="118" y="722"/>
                  </a:lnTo>
                  <a:lnTo>
                    <a:pt x="100" y="700"/>
                  </a:lnTo>
                  <a:lnTo>
                    <a:pt x="86" y="674"/>
                  </a:lnTo>
                  <a:lnTo>
                    <a:pt x="78" y="652"/>
                  </a:lnTo>
                  <a:lnTo>
                    <a:pt x="75" y="642"/>
                  </a:lnTo>
                  <a:lnTo>
                    <a:pt x="70" y="642"/>
                  </a:lnTo>
                  <a:lnTo>
                    <a:pt x="60" y="642"/>
                  </a:lnTo>
                  <a:lnTo>
                    <a:pt x="45" y="642"/>
                  </a:lnTo>
                  <a:lnTo>
                    <a:pt x="33" y="642"/>
                  </a:lnTo>
                  <a:lnTo>
                    <a:pt x="21" y="642"/>
                  </a:lnTo>
                  <a:lnTo>
                    <a:pt x="11" y="644"/>
                  </a:lnTo>
                  <a:lnTo>
                    <a:pt x="3" y="645"/>
                  </a:lnTo>
                  <a:lnTo>
                    <a:pt x="0" y="645"/>
                  </a:lnTo>
                  <a:lnTo>
                    <a:pt x="1" y="642"/>
                  </a:lnTo>
                  <a:lnTo>
                    <a:pt x="5" y="632"/>
                  </a:lnTo>
                  <a:lnTo>
                    <a:pt x="8" y="620"/>
                  </a:lnTo>
                  <a:lnTo>
                    <a:pt x="13" y="609"/>
                  </a:lnTo>
                  <a:lnTo>
                    <a:pt x="20" y="592"/>
                  </a:lnTo>
                  <a:lnTo>
                    <a:pt x="28" y="569"/>
                  </a:lnTo>
                  <a:lnTo>
                    <a:pt x="35" y="542"/>
                  </a:lnTo>
                  <a:lnTo>
                    <a:pt x="38" y="517"/>
                  </a:lnTo>
                  <a:lnTo>
                    <a:pt x="40" y="500"/>
                  </a:lnTo>
                  <a:lnTo>
                    <a:pt x="43" y="489"/>
                  </a:lnTo>
                  <a:lnTo>
                    <a:pt x="50" y="480"/>
                  </a:lnTo>
                  <a:lnTo>
                    <a:pt x="56" y="470"/>
                  </a:lnTo>
                  <a:lnTo>
                    <a:pt x="61" y="457"/>
                  </a:lnTo>
                  <a:lnTo>
                    <a:pt x="65" y="442"/>
                  </a:lnTo>
                  <a:lnTo>
                    <a:pt x="66" y="429"/>
                  </a:lnTo>
                  <a:lnTo>
                    <a:pt x="66" y="424"/>
                  </a:lnTo>
                  <a:lnTo>
                    <a:pt x="232" y="465"/>
                  </a:lnTo>
                  <a:lnTo>
                    <a:pt x="235" y="464"/>
                  </a:lnTo>
                  <a:lnTo>
                    <a:pt x="243" y="457"/>
                  </a:lnTo>
                  <a:lnTo>
                    <a:pt x="257" y="450"/>
                  </a:lnTo>
                  <a:lnTo>
                    <a:pt x="270" y="439"/>
                  </a:lnTo>
                  <a:lnTo>
                    <a:pt x="285" y="429"/>
                  </a:lnTo>
                  <a:lnTo>
                    <a:pt x="298" y="417"/>
                  </a:lnTo>
                  <a:lnTo>
                    <a:pt x="308" y="407"/>
                  </a:lnTo>
                  <a:lnTo>
                    <a:pt x="313" y="399"/>
                  </a:lnTo>
                  <a:lnTo>
                    <a:pt x="318" y="384"/>
                  </a:lnTo>
                  <a:lnTo>
                    <a:pt x="325" y="369"/>
                  </a:lnTo>
                  <a:lnTo>
                    <a:pt x="330" y="357"/>
                  </a:lnTo>
                  <a:lnTo>
                    <a:pt x="332" y="352"/>
                  </a:lnTo>
                  <a:lnTo>
                    <a:pt x="335" y="352"/>
                  </a:lnTo>
                  <a:lnTo>
                    <a:pt x="342" y="352"/>
                  </a:lnTo>
                  <a:lnTo>
                    <a:pt x="353" y="352"/>
                  </a:lnTo>
                  <a:lnTo>
                    <a:pt x="367" y="350"/>
                  </a:lnTo>
                  <a:lnTo>
                    <a:pt x="382" y="350"/>
                  </a:lnTo>
                  <a:lnTo>
                    <a:pt x="398" y="347"/>
                  </a:lnTo>
                  <a:lnTo>
                    <a:pt x="413" y="345"/>
                  </a:lnTo>
                  <a:lnTo>
                    <a:pt x="427" y="342"/>
                  </a:lnTo>
                  <a:lnTo>
                    <a:pt x="438" y="337"/>
                  </a:lnTo>
                  <a:lnTo>
                    <a:pt x="447" y="329"/>
                  </a:lnTo>
                  <a:lnTo>
                    <a:pt x="455" y="319"/>
                  </a:lnTo>
                  <a:lnTo>
                    <a:pt x="462" y="309"/>
                  </a:lnTo>
                  <a:lnTo>
                    <a:pt x="468" y="299"/>
                  </a:lnTo>
                  <a:lnTo>
                    <a:pt x="475" y="290"/>
                  </a:lnTo>
                  <a:lnTo>
                    <a:pt x="483" y="284"/>
                  </a:lnTo>
                  <a:lnTo>
                    <a:pt x="493" y="280"/>
                  </a:lnTo>
                  <a:lnTo>
                    <a:pt x="508" y="275"/>
                  </a:lnTo>
                  <a:lnTo>
                    <a:pt x="513" y="269"/>
                  </a:lnTo>
                  <a:lnTo>
                    <a:pt x="513" y="264"/>
                  </a:lnTo>
                  <a:lnTo>
                    <a:pt x="512" y="262"/>
                  </a:lnTo>
                  <a:lnTo>
                    <a:pt x="380" y="90"/>
                  </a:lnTo>
                  <a:close/>
                </a:path>
              </a:pathLst>
            </a:custGeom>
            <a:solidFill>
              <a:srgbClr val="b2b2b2">
                <a:alpha val="30000"/>
              </a:srgbClr>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460" name="PlaceHolder 1"/>
          <p:cNvSpPr>
            <a:spLocks noGrp="1"/>
          </p:cNvSpPr>
          <p:nvPr>
            <p:ph/>
          </p:nvPr>
        </p:nvSpPr>
        <p:spPr>
          <a:xfrm>
            <a:off x="1447920" y="1722600"/>
            <a:ext cx="7162560" cy="4525920"/>
          </a:xfrm>
          <a:prstGeom prst="rect">
            <a:avLst/>
          </a:prstGeom>
          <a:noFill/>
          <a:ln w="0">
            <a:noFill/>
          </a:ln>
        </p:spPr>
        <p:txBody>
          <a:bodyPr lIns="90000" rIns="90000" tIns="46800" bIns="46800" anchor="t">
            <a:normAutofit/>
          </a:bodyPr>
          <a:p>
            <a:pPr marL="341280" indent="-341280">
              <a:lnSpc>
                <a:spcPct val="80000"/>
              </a:lnSpc>
              <a:spcBef>
                <a:spcPts val="1500"/>
              </a:spcBef>
              <a:buClr>
                <a:srgbClr val="333399"/>
              </a:buClr>
              <a:buFont typeface="Albertus Medium"/>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333399"/>
                </a:solidFill>
                <a:latin typeface="Albertus Medium"/>
              </a:rPr>
              <a:t>In nanotechnology nothing much is known about the risk of a rather relatively new technology.</a:t>
            </a:r>
            <a:endParaRPr b="0" lang="en-US" sz="2400" spc="-1" strike="noStrike">
              <a:solidFill>
                <a:srgbClr val="000000"/>
              </a:solidFill>
              <a:latin typeface="Arial"/>
            </a:endParaRPr>
          </a:p>
          <a:p>
            <a:pPr marL="341280" indent="-341280">
              <a:lnSpc>
                <a:spcPct val="80000"/>
              </a:lnSpc>
              <a:spcBef>
                <a:spcPts val="1500"/>
              </a:spcBef>
              <a:buClr>
                <a:srgbClr val="333399"/>
              </a:buClr>
              <a:buFont typeface="Albertus Medium"/>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333399"/>
                </a:solidFill>
                <a:latin typeface="Albertus Medium"/>
              </a:rPr>
              <a:t> </a:t>
            </a:r>
            <a:r>
              <a:rPr b="0" lang="en-US" sz="2400" spc="-1" strike="noStrike">
                <a:solidFill>
                  <a:srgbClr val="333399"/>
                </a:solidFill>
                <a:latin typeface="Albertus Medium"/>
              </a:rPr>
              <a:t>Anticipation is of that; we are going to be faced by a boom of Nanoproducts,</a:t>
            </a:r>
            <a:endParaRPr b="0" lang="en-US" sz="2400" spc="-1" strike="noStrike">
              <a:solidFill>
                <a:srgbClr val="000000"/>
              </a:solidFill>
              <a:latin typeface="Arial"/>
            </a:endParaRPr>
          </a:p>
          <a:p>
            <a:pPr marL="341280" indent="-341280">
              <a:lnSpc>
                <a:spcPct val="80000"/>
              </a:lnSpc>
              <a:spcBef>
                <a:spcPts val="1500"/>
              </a:spcBef>
              <a:buClr>
                <a:srgbClr val="333399"/>
              </a:buClr>
              <a:buFont typeface="Albertus Medium"/>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333399"/>
                </a:solidFill>
                <a:latin typeface="Albertus Medium"/>
              </a:rPr>
              <a:t>To date studies of nanotechnology toxicity have produced conflicting results.</a:t>
            </a:r>
            <a:endParaRPr b="0" lang="en-US" sz="2400" spc="-1" strike="noStrike">
              <a:solidFill>
                <a:srgbClr val="000000"/>
              </a:solidFill>
              <a:latin typeface="Arial"/>
            </a:endParaRPr>
          </a:p>
          <a:p>
            <a:pPr marL="341280" indent="-341280">
              <a:lnSpc>
                <a:spcPct val="80000"/>
              </a:lnSpc>
              <a:spcBef>
                <a:spcPts val="1500"/>
              </a:spcBef>
              <a:buClr>
                <a:srgbClr val="333399"/>
              </a:buClr>
              <a:buFont typeface="Albertus Medium"/>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333399"/>
                </a:solidFill>
                <a:latin typeface="Albertus Medium"/>
              </a:rPr>
              <a:t>Reporting of side effects should be the responsibility of all professionals handling this technology including dermatologist.</a:t>
            </a:r>
            <a:endParaRPr b="0" lang="en-US" sz="2400" spc="-1" strike="noStrike">
              <a:solidFill>
                <a:srgbClr val="000000"/>
              </a:solidFill>
              <a:latin typeface="Arial"/>
            </a:endParaRPr>
          </a:p>
        </p:txBody>
      </p:sp>
      <p:sp>
        <p:nvSpPr>
          <p:cNvPr id="461" name=""/>
          <p:cNvSpPr/>
          <p:nvPr/>
        </p:nvSpPr>
        <p:spPr>
          <a:xfrm>
            <a:off x="1258920" y="1157400"/>
            <a:ext cx="6208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333399"/>
                </a:solidFill>
                <a:latin typeface="Albertus Medium"/>
              </a:rPr>
              <a:t>Facts</a:t>
            </a:r>
            <a:endParaRPr b="0" lang="en-US" sz="2400" spc="-1" strike="noStrike">
              <a:solidFill>
                <a:srgbClr val="000000"/>
              </a:solidFill>
              <a:latin typeface="Arial"/>
            </a:endParaRPr>
          </a:p>
        </p:txBody>
      </p:sp>
      <p:sp>
        <p:nvSpPr>
          <p:cNvPr id="462" name=""/>
          <p:cNvSpPr/>
          <p:nvPr/>
        </p:nvSpPr>
        <p:spPr>
          <a:xfrm>
            <a:off x="609480" y="6629400"/>
            <a:ext cx="8534520" cy="228600"/>
          </a:xfrm>
          <a:prstGeom prst="rect">
            <a:avLst/>
          </a:prstGeom>
          <a:solidFill>
            <a:srgbClr val="bbe0e3"/>
          </a:solidFill>
          <a:ln cap="sq"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99"/>
                </a:solidFill>
                <a:latin typeface="Albertus Medium"/>
              </a:rPr>
              <a:t>www.skinandallergy.org</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0" lang="en-US" sz="1000" spc="-1" strike="noStrike">
                <a:solidFill>
                  <a:srgbClr val="333399"/>
                </a:solidFill>
                <a:latin typeface="Albertus Medium"/>
              </a:rPr>
              <a:t>www.panarabderm.org</a:t>
            </a:r>
            <a:endParaRPr b="0" lang="en-US" sz="10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63" name="" descr=""/>
          <p:cNvPicPr/>
          <p:nvPr/>
        </p:nvPicPr>
        <p:blipFill>
          <a:blip r:embed="rId2"/>
          <a:stretch/>
        </p:blipFill>
        <p:spPr>
          <a:xfrm>
            <a:off x="8153280" y="74520"/>
            <a:ext cx="922320" cy="992160"/>
          </a:xfrm>
          <a:prstGeom prst="rect">
            <a:avLst/>
          </a:prstGeom>
          <a:ln w="0">
            <a:noFill/>
          </a:ln>
        </p:spPr>
      </p:pic>
      <p:sp>
        <p:nvSpPr>
          <p:cNvPr id="464" name=""/>
          <p:cNvSpPr/>
          <p:nvPr/>
        </p:nvSpPr>
        <p:spPr>
          <a:xfrm>
            <a:off x="1295280" y="1066680"/>
            <a:ext cx="6193080" cy="1800"/>
          </a:xfrm>
          <a:prstGeom prst="line">
            <a:avLst/>
          </a:prstGeom>
          <a:ln cap="sq" w="12600">
            <a:solidFill>
              <a:srgbClr val="b2b2b2"/>
            </a:solidFill>
            <a:miter/>
          </a:ln>
        </p:spPr>
        <p:style>
          <a:lnRef idx="0"/>
          <a:fillRef idx="0"/>
          <a:effectRef idx="0"/>
          <a:fontRef idx="minor"/>
        </p:style>
        <p:txBody>
          <a:bodyPr lIns="90000" rIns="90000" tIns="-45000" bIns="-45000" anchor="t">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465" name="" descr=""/>
          <p:cNvPicPr/>
          <p:nvPr/>
        </p:nvPicPr>
        <p:blipFill>
          <a:blip r:embed="rId3"/>
          <a:stretch/>
        </p:blipFill>
        <p:spPr>
          <a:xfrm>
            <a:off x="0" y="0"/>
            <a:ext cx="600120" cy="6858000"/>
          </a:xfrm>
          <a:prstGeom prst="rect">
            <a:avLst/>
          </a:prstGeom>
          <a:ln w="0">
            <a:noFill/>
          </a:ln>
        </p:spPr>
      </p:pic>
      <p:sp>
        <p:nvSpPr>
          <p:cNvPr id="466" name=""/>
          <p:cNvSpPr/>
          <p:nvPr/>
        </p:nvSpPr>
        <p:spPr>
          <a:xfrm>
            <a:off x="0" y="457200"/>
            <a:ext cx="914400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333399"/>
                </a:solidFill>
                <a:latin typeface="Albertus Medium"/>
              </a:rPr>
              <a:t>The Risks of Nanotechnology</a:t>
            </a:r>
            <a:endParaRPr b="0" lang="en-US" sz="3600" spc="-1" strike="noStrike">
              <a:solidFill>
                <a:srgbClr val="000000"/>
              </a:solidFill>
              <a:latin typeface="Arial"/>
            </a:endParaRPr>
          </a:p>
        </p:txBody>
      </p:sp>
      <p:grpSp>
        <p:nvGrpSpPr>
          <p:cNvPr id="467" name=""/>
          <p:cNvGrpSpPr/>
          <p:nvPr/>
        </p:nvGrpSpPr>
        <p:grpSpPr>
          <a:xfrm>
            <a:off x="2639880" y="1346040"/>
            <a:ext cx="4521240" cy="3986280"/>
            <a:chOff x="2639880" y="1346040"/>
            <a:chExt cx="4521240" cy="3986280"/>
          </a:xfrm>
        </p:grpSpPr>
        <p:sp>
          <p:nvSpPr>
            <p:cNvPr id="468" name=""/>
            <p:cNvSpPr/>
            <p:nvPr/>
          </p:nvSpPr>
          <p:spPr>
            <a:xfrm>
              <a:off x="2639880" y="2319480"/>
              <a:ext cx="1721160" cy="3012840"/>
            </a:xfrm>
            <a:custGeom>
              <a:avLst/>
              <a:gdLst/>
              <a:ahLst/>
              <a:rect l="l" t="t" r="r" b="b"/>
              <a:pathLst>
                <a:path w="1261" h="2255">
                  <a:moveTo>
                    <a:pt x="1257" y="2027"/>
                  </a:moveTo>
                  <a:lnTo>
                    <a:pt x="1257" y="2015"/>
                  </a:lnTo>
                  <a:lnTo>
                    <a:pt x="1252" y="2000"/>
                  </a:lnTo>
                  <a:lnTo>
                    <a:pt x="1244" y="1985"/>
                  </a:lnTo>
                  <a:lnTo>
                    <a:pt x="1232" y="1970"/>
                  </a:lnTo>
                  <a:lnTo>
                    <a:pt x="1222" y="1956"/>
                  </a:lnTo>
                  <a:lnTo>
                    <a:pt x="1212" y="1945"/>
                  </a:lnTo>
                  <a:lnTo>
                    <a:pt x="1204" y="1933"/>
                  </a:lnTo>
                  <a:lnTo>
                    <a:pt x="1199" y="1921"/>
                  </a:lnTo>
                  <a:lnTo>
                    <a:pt x="1197" y="1910"/>
                  </a:lnTo>
                  <a:lnTo>
                    <a:pt x="1192" y="1893"/>
                  </a:lnTo>
                  <a:lnTo>
                    <a:pt x="1186" y="1876"/>
                  </a:lnTo>
                  <a:lnTo>
                    <a:pt x="1171" y="1860"/>
                  </a:lnTo>
                  <a:lnTo>
                    <a:pt x="1161" y="1851"/>
                  </a:lnTo>
                  <a:lnTo>
                    <a:pt x="1147" y="1838"/>
                  </a:lnTo>
                  <a:lnTo>
                    <a:pt x="1132" y="1823"/>
                  </a:lnTo>
                  <a:lnTo>
                    <a:pt x="1117" y="1806"/>
                  </a:lnTo>
                  <a:lnTo>
                    <a:pt x="1102" y="1788"/>
                  </a:lnTo>
                  <a:lnTo>
                    <a:pt x="1087" y="1770"/>
                  </a:lnTo>
                  <a:lnTo>
                    <a:pt x="1076" y="1750"/>
                  </a:lnTo>
                  <a:lnTo>
                    <a:pt x="1067" y="1731"/>
                  </a:lnTo>
                  <a:lnTo>
                    <a:pt x="1052" y="1703"/>
                  </a:lnTo>
                  <a:lnTo>
                    <a:pt x="1037" y="1681"/>
                  </a:lnTo>
                  <a:lnTo>
                    <a:pt x="1026" y="1665"/>
                  </a:lnTo>
                  <a:lnTo>
                    <a:pt x="1019" y="1646"/>
                  </a:lnTo>
                  <a:lnTo>
                    <a:pt x="1016" y="1633"/>
                  </a:lnTo>
                  <a:lnTo>
                    <a:pt x="1009" y="1613"/>
                  </a:lnTo>
                  <a:lnTo>
                    <a:pt x="999" y="1591"/>
                  </a:lnTo>
                  <a:lnTo>
                    <a:pt x="989" y="1568"/>
                  </a:lnTo>
                  <a:lnTo>
                    <a:pt x="979" y="1545"/>
                  </a:lnTo>
                  <a:lnTo>
                    <a:pt x="969" y="1525"/>
                  </a:lnTo>
                  <a:lnTo>
                    <a:pt x="959" y="1508"/>
                  </a:lnTo>
                  <a:lnTo>
                    <a:pt x="952" y="1499"/>
                  </a:lnTo>
                  <a:lnTo>
                    <a:pt x="942" y="1486"/>
                  </a:lnTo>
                  <a:lnTo>
                    <a:pt x="934" y="1473"/>
                  </a:lnTo>
                  <a:lnTo>
                    <a:pt x="922" y="1458"/>
                  </a:lnTo>
                  <a:lnTo>
                    <a:pt x="911" y="1443"/>
                  </a:lnTo>
                  <a:lnTo>
                    <a:pt x="902" y="1434"/>
                  </a:lnTo>
                  <a:lnTo>
                    <a:pt x="891" y="1426"/>
                  </a:lnTo>
                  <a:lnTo>
                    <a:pt x="879" y="1419"/>
                  </a:lnTo>
                  <a:lnTo>
                    <a:pt x="867" y="1411"/>
                  </a:lnTo>
                  <a:lnTo>
                    <a:pt x="854" y="1404"/>
                  </a:lnTo>
                  <a:lnTo>
                    <a:pt x="842" y="1399"/>
                  </a:lnTo>
                  <a:lnTo>
                    <a:pt x="831" y="1396"/>
                  </a:lnTo>
                  <a:lnTo>
                    <a:pt x="820" y="1394"/>
                  </a:lnTo>
                  <a:lnTo>
                    <a:pt x="812" y="1393"/>
                  </a:lnTo>
                  <a:lnTo>
                    <a:pt x="805" y="1389"/>
                  </a:lnTo>
                  <a:lnTo>
                    <a:pt x="800" y="1384"/>
                  </a:lnTo>
                  <a:lnTo>
                    <a:pt x="794" y="1376"/>
                  </a:lnTo>
                  <a:lnTo>
                    <a:pt x="789" y="1368"/>
                  </a:lnTo>
                  <a:lnTo>
                    <a:pt x="782" y="1354"/>
                  </a:lnTo>
                  <a:lnTo>
                    <a:pt x="774" y="1341"/>
                  </a:lnTo>
                  <a:lnTo>
                    <a:pt x="762" y="1324"/>
                  </a:lnTo>
                  <a:lnTo>
                    <a:pt x="750" y="1306"/>
                  </a:lnTo>
                  <a:lnTo>
                    <a:pt x="740" y="1288"/>
                  </a:lnTo>
                  <a:lnTo>
                    <a:pt x="732" y="1269"/>
                  </a:lnTo>
                  <a:lnTo>
                    <a:pt x="724" y="1253"/>
                  </a:lnTo>
                  <a:lnTo>
                    <a:pt x="717" y="1234"/>
                  </a:lnTo>
                  <a:lnTo>
                    <a:pt x="712" y="1219"/>
                  </a:lnTo>
                  <a:lnTo>
                    <a:pt x="709" y="1204"/>
                  </a:lnTo>
                  <a:lnTo>
                    <a:pt x="705" y="1191"/>
                  </a:lnTo>
                  <a:lnTo>
                    <a:pt x="700" y="1166"/>
                  </a:lnTo>
                  <a:lnTo>
                    <a:pt x="692" y="1143"/>
                  </a:lnTo>
                  <a:lnTo>
                    <a:pt x="685" y="1126"/>
                  </a:lnTo>
                  <a:lnTo>
                    <a:pt x="682" y="1119"/>
                  </a:lnTo>
                  <a:lnTo>
                    <a:pt x="689" y="1108"/>
                  </a:lnTo>
                  <a:lnTo>
                    <a:pt x="700" y="1078"/>
                  </a:lnTo>
                  <a:lnTo>
                    <a:pt x="707" y="1038"/>
                  </a:lnTo>
                  <a:lnTo>
                    <a:pt x="697" y="996"/>
                  </a:lnTo>
                  <a:lnTo>
                    <a:pt x="680" y="961"/>
                  </a:lnTo>
                  <a:lnTo>
                    <a:pt x="670" y="932"/>
                  </a:lnTo>
                  <a:lnTo>
                    <a:pt x="662" y="904"/>
                  </a:lnTo>
                  <a:lnTo>
                    <a:pt x="649" y="872"/>
                  </a:lnTo>
                  <a:lnTo>
                    <a:pt x="640" y="856"/>
                  </a:lnTo>
                  <a:lnTo>
                    <a:pt x="635" y="839"/>
                  </a:lnTo>
                  <a:lnTo>
                    <a:pt x="630" y="826"/>
                  </a:lnTo>
                  <a:lnTo>
                    <a:pt x="625" y="814"/>
                  </a:lnTo>
                  <a:lnTo>
                    <a:pt x="620" y="802"/>
                  </a:lnTo>
                  <a:lnTo>
                    <a:pt x="614" y="792"/>
                  </a:lnTo>
                  <a:lnTo>
                    <a:pt x="607" y="784"/>
                  </a:lnTo>
                  <a:lnTo>
                    <a:pt x="597" y="777"/>
                  </a:lnTo>
                  <a:lnTo>
                    <a:pt x="587" y="771"/>
                  </a:lnTo>
                  <a:lnTo>
                    <a:pt x="575" y="762"/>
                  </a:lnTo>
                  <a:lnTo>
                    <a:pt x="565" y="754"/>
                  </a:lnTo>
                  <a:lnTo>
                    <a:pt x="554" y="744"/>
                  </a:lnTo>
                  <a:lnTo>
                    <a:pt x="542" y="736"/>
                  </a:lnTo>
                  <a:lnTo>
                    <a:pt x="529" y="729"/>
                  </a:lnTo>
                  <a:lnTo>
                    <a:pt x="515" y="721"/>
                  </a:lnTo>
                  <a:lnTo>
                    <a:pt x="502" y="716"/>
                  </a:lnTo>
                  <a:lnTo>
                    <a:pt x="480" y="702"/>
                  </a:lnTo>
                  <a:lnTo>
                    <a:pt x="470" y="686"/>
                  </a:lnTo>
                  <a:lnTo>
                    <a:pt x="464" y="667"/>
                  </a:lnTo>
                  <a:lnTo>
                    <a:pt x="454" y="649"/>
                  </a:lnTo>
                  <a:lnTo>
                    <a:pt x="444" y="634"/>
                  </a:lnTo>
                  <a:lnTo>
                    <a:pt x="437" y="621"/>
                  </a:lnTo>
                  <a:lnTo>
                    <a:pt x="435" y="611"/>
                  </a:lnTo>
                  <a:lnTo>
                    <a:pt x="435" y="607"/>
                  </a:lnTo>
                  <a:lnTo>
                    <a:pt x="437" y="607"/>
                  </a:lnTo>
                  <a:lnTo>
                    <a:pt x="442" y="606"/>
                  </a:lnTo>
                  <a:lnTo>
                    <a:pt x="449" y="602"/>
                  </a:lnTo>
                  <a:lnTo>
                    <a:pt x="455" y="596"/>
                  </a:lnTo>
                  <a:lnTo>
                    <a:pt x="459" y="589"/>
                  </a:lnTo>
                  <a:lnTo>
                    <a:pt x="459" y="577"/>
                  </a:lnTo>
                  <a:lnTo>
                    <a:pt x="454" y="564"/>
                  </a:lnTo>
                  <a:lnTo>
                    <a:pt x="440" y="546"/>
                  </a:lnTo>
                  <a:lnTo>
                    <a:pt x="434" y="539"/>
                  </a:lnTo>
                  <a:lnTo>
                    <a:pt x="429" y="532"/>
                  </a:lnTo>
                  <a:lnTo>
                    <a:pt x="424" y="529"/>
                  </a:lnTo>
                  <a:lnTo>
                    <a:pt x="420" y="526"/>
                  </a:lnTo>
                  <a:lnTo>
                    <a:pt x="419" y="527"/>
                  </a:lnTo>
                  <a:lnTo>
                    <a:pt x="415" y="526"/>
                  </a:lnTo>
                  <a:lnTo>
                    <a:pt x="415" y="522"/>
                  </a:lnTo>
                  <a:lnTo>
                    <a:pt x="420" y="526"/>
                  </a:lnTo>
                  <a:lnTo>
                    <a:pt x="420" y="524"/>
                  </a:lnTo>
                  <a:lnTo>
                    <a:pt x="419" y="521"/>
                  </a:lnTo>
                  <a:lnTo>
                    <a:pt x="419" y="517"/>
                  </a:lnTo>
                  <a:lnTo>
                    <a:pt x="417" y="512"/>
                  </a:lnTo>
                  <a:lnTo>
                    <a:pt x="409" y="490"/>
                  </a:lnTo>
                  <a:lnTo>
                    <a:pt x="405" y="477"/>
                  </a:lnTo>
                  <a:lnTo>
                    <a:pt x="399" y="467"/>
                  </a:lnTo>
                  <a:lnTo>
                    <a:pt x="384" y="455"/>
                  </a:lnTo>
                  <a:lnTo>
                    <a:pt x="372" y="440"/>
                  </a:lnTo>
                  <a:lnTo>
                    <a:pt x="374" y="425"/>
                  </a:lnTo>
                  <a:lnTo>
                    <a:pt x="375" y="412"/>
                  </a:lnTo>
                  <a:lnTo>
                    <a:pt x="364" y="399"/>
                  </a:lnTo>
                  <a:lnTo>
                    <a:pt x="345" y="387"/>
                  </a:lnTo>
                  <a:lnTo>
                    <a:pt x="332" y="372"/>
                  </a:lnTo>
                  <a:lnTo>
                    <a:pt x="325" y="355"/>
                  </a:lnTo>
                  <a:lnTo>
                    <a:pt x="322" y="337"/>
                  </a:lnTo>
                  <a:lnTo>
                    <a:pt x="319" y="317"/>
                  </a:lnTo>
                  <a:lnTo>
                    <a:pt x="309" y="290"/>
                  </a:lnTo>
                  <a:lnTo>
                    <a:pt x="294" y="264"/>
                  </a:lnTo>
                  <a:lnTo>
                    <a:pt x="273" y="237"/>
                  </a:lnTo>
                  <a:lnTo>
                    <a:pt x="260" y="215"/>
                  </a:lnTo>
                  <a:lnTo>
                    <a:pt x="257" y="197"/>
                  </a:lnTo>
                  <a:lnTo>
                    <a:pt x="255" y="184"/>
                  </a:lnTo>
                  <a:lnTo>
                    <a:pt x="245" y="175"/>
                  </a:lnTo>
                  <a:lnTo>
                    <a:pt x="233" y="167"/>
                  </a:lnTo>
                  <a:lnTo>
                    <a:pt x="228" y="154"/>
                  </a:lnTo>
                  <a:lnTo>
                    <a:pt x="222" y="140"/>
                  </a:lnTo>
                  <a:lnTo>
                    <a:pt x="207" y="124"/>
                  </a:lnTo>
                  <a:lnTo>
                    <a:pt x="188" y="100"/>
                  </a:lnTo>
                  <a:lnTo>
                    <a:pt x="175" y="74"/>
                  </a:lnTo>
                  <a:lnTo>
                    <a:pt x="168" y="52"/>
                  </a:lnTo>
                  <a:lnTo>
                    <a:pt x="165" y="42"/>
                  </a:lnTo>
                  <a:lnTo>
                    <a:pt x="160" y="42"/>
                  </a:lnTo>
                  <a:lnTo>
                    <a:pt x="148" y="42"/>
                  </a:lnTo>
                  <a:lnTo>
                    <a:pt x="133" y="42"/>
                  </a:lnTo>
                  <a:lnTo>
                    <a:pt x="122" y="42"/>
                  </a:lnTo>
                  <a:lnTo>
                    <a:pt x="110" y="42"/>
                  </a:lnTo>
                  <a:lnTo>
                    <a:pt x="100" y="44"/>
                  </a:lnTo>
                  <a:lnTo>
                    <a:pt x="92" y="47"/>
                  </a:lnTo>
                  <a:lnTo>
                    <a:pt x="88" y="47"/>
                  </a:lnTo>
                  <a:lnTo>
                    <a:pt x="90" y="44"/>
                  </a:lnTo>
                  <a:lnTo>
                    <a:pt x="93" y="34"/>
                  </a:lnTo>
                  <a:lnTo>
                    <a:pt x="98" y="20"/>
                  </a:lnTo>
                  <a:lnTo>
                    <a:pt x="103" y="8"/>
                  </a:lnTo>
                  <a:lnTo>
                    <a:pt x="103" y="8"/>
                  </a:lnTo>
                  <a:lnTo>
                    <a:pt x="103" y="8"/>
                  </a:lnTo>
                  <a:lnTo>
                    <a:pt x="103" y="8"/>
                  </a:lnTo>
                  <a:lnTo>
                    <a:pt x="103" y="8"/>
                  </a:lnTo>
                  <a:lnTo>
                    <a:pt x="67" y="0"/>
                  </a:lnTo>
                  <a:lnTo>
                    <a:pt x="67" y="5"/>
                  </a:lnTo>
                  <a:lnTo>
                    <a:pt x="65" y="19"/>
                  </a:lnTo>
                  <a:lnTo>
                    <a:pt x="62" y="34"/>
                  </a:lnTo>
                  <a:lnTo>
                    <a:pt x="57" y="47"/>
                  </a:lnTo>
                  <a:lnTo>
                    <a:pt x="50" y="57"/>
                  </a:lnTo>
                  <a:lnTo>
                    <a:pt x="45" y="65"/>
                  </a:lnTo>
                  <a:lnTo>
                    <a:pt x="40" y="79"/>
                  </a:lnTo>
                  <a:lnTo>
                    <a:pt x="38" y="95"/>
                  </a:lnTo>
                  <a:lnTo>
                    <a:pt x="35" y="119"/>
                  </a:lnTo>
                  <a:lnTo>
                    <a:pt x="28" y="145"/>
                  </a:lnTo>
                  <a:lnTo>
                    <a:pt x="20" y="169"/>
                  </a:lnTo>
                  <a:lnTo>
                    <a:pt x="15" y="185"/>
                  </a:lnTo>
                  <a:lnTo>
                    <a:pt x="10" y="197"/>
                  </a:lnTo>
                  <a:lnTo>
                    <a:pt x="5" y="209"/>
                  </a:lnTo>
                  <a:lnTo>
                    <a:pt x="2" y="220"/>
                  </a:lnTo>
                  <a:lnTo>
                    <a:pt x="0" y="224"/>
                  </a:lnTo>
                  <a:lnTo>
                    <a:pt x="3" y="224"/>
                  </a:lnTo>
                  <a:lnTo>
                    <a:pt x="12" y="220"/>
                  </a:lnTo>
                  <a:lnTo>
                    <a:pt x="23" y="219"/>
                  </a:lnTo>
                  <a:lnTo>
                    <a:pt x="33" y="219"/>
                  </a:lnTo>
                  <a:lnTo>
                    <a:pt x="47" y="219"/>
                  </a:lnTo>
                  <a:lnTo>
                    <a:pt x="60" y="219"/>
                  </a:lnTo>
                  <a:lnTo>
                    <a:pt x="72" y="219"/>
                  </a:lnTo>
                  <a:lnTo>
                    <a:pt x="77" y="219"/>
                  </a:lnTo>
                  <a:lnTo>
                    <a:pt x="80" y="229"/>
                  </a:lnTo>
                  <a:lnTo>
                    <a:pt x="87" y="250"/>
                  </a:lnTo>
                  <a:lnTo>
                    <a:pt x="100" y="277"/>
                  </a:lnTo>
                  <a:lnTo>
                    <a:pt x="118" y="299"/>
                  </a:lnTo>
                  <a:lnTo>
                    <a:pt x="133" y="315"/>
                  </a:lnTo>
                  <a:lnTo>
                    <a:pt x="140" y="330"/>
                  </a:lnTo>
                  <a:lnTo>
                    <a:pt x="145" y="342"/>
                  </a:lnTo>
                  <a:lnTo>
                    <a:pt x="157" y="352"/>
                  </a:lnTo>
                  <a:lnTo>
                    <a:pt x="167" y="360"/>
                  </a:lnTo>
                  <a:lnTo>
                    <a:pt x="168" y="374"/>
                  </a:lnTo>
                  <a:lnTo>
                    <a:pt x="172" y="390"/>
                  </a:lnTo>
                  <a:lnTo>
                    <a:pt x="185" y="414"/>
                  </a:lnTo>
                  <a:lnTo>
                    <a:pt x="205" y="440"/>
                  </a:lnTo>
                  <a:lnTo>
                    <a:pt x="220" y="467"/>
                  </a:lnTo>
                  <a:lnTo>
                    <a:pt x="230" y="492"/>
                  </a:lnTo>
                  <a:lnTo>
                    <a:pt x="233" y="512"/>
                  </a:lnTo>
                  <a:lnTo>
                    <a:pt x="237" y="531"/>
                  </a:lnTo>
                  <a:lnTo>
                    <a:pt x="243" y="547"/>
                  </a:lnTo>
                  <a:lnTo>
                    <a:pt x="257" y="562"/>
                  </a:lnTo>
                  <a:lnTo>
                    <a:pt x="275" y="574"/>
                  </a:lnTo>
                  <a:lnTo>
                    <a:pt x="287" y="587"/>
                  </a:lnTo>
                  <a:lnTo>
                    <a:pt x="285" y="601"/>
                  </a:lnTo>
                  <a:lnTo>
                    <a:pt x="284" y="617"/>
                  </a:lnTo>
                  <a:lnTo>
                    <a:pt x="295" y="632"/>
                  </a:lnTo>
                  <a:lnTo>
                    <a:pt x="310" y="642"/>
                  </a:lnTo>
                  <a:lnTo>
                    <a:pt x="317" y="652"/>
                  </a:lnTo>
                  <a:lnTo>
                    <a:pt x="320" y="666"/>
                  </a:lnTo>
                  <a:lnTo>
                    <a:pt x="329" y="687"/>
                  </a:lnTo>
                  <a:lnTo>
                    <a:pt x="330" y="692"/>
                  </a:lnTo>
                  <a:lnTo>
                    <a:pt x="330" y="696"/>
                  </a:lnTo>
                  <a:lnTo>
                    <a:pt x="332" y="697"/>
                  </a:lnTo>
                  <a:lnTo>
                    <a:pt x="332" y="699"/>
                  </a:lnTo>
                  <a:lnTo>
                    <a:pt x="335" y="702"/>
                  </a:lnTo>
                  <a:lnTo>
                    <a:pt x="340" y="707"/>
                  </a:lnTo>
                  <a:lnTo>
                    <a:pt x="345" y="712"/>
                  </a:lnTo>
                  <a:lnTo>
                    <a:pt x="352" y="721"/>
                  </a:lnTo>
                  <a:lnTo>
                    <a:pt x="365" y="737"/>
                  </a:lnTo>
                  <a:lnTo>
                    <a:pt x="370" y="752"/>
                  </a:lnTo>
                  <a:lnTo>
                    <a:pt x="370" y="762"/>
                  </a:lnTo>
                  <a:lnTo>
                    <a:pt x="367" y="771"/>
                  </a:lnTo>
                  <a:lnTo>
                    <a:pt x="360" y="776"/>
                  </a:lnTo>
                  <a:lnTo>
                    <a:pt x="354" y="781"/>
                  </a:lnTo>
                  <a:lnTo>
                    <a:pt x="349" y="782"/>
                  </a:lnTo>
                  <a:lnTo>
                    <a:pt x="347" y="782"/>
                  </a:lnTo>
                  <a:lnTo>
                    <a:pt x="347" y="786"/>
                  </a:lnTo>
                  <a:lnTo>
                    <a:pt x="350" y="794"/>
                  </a:lnTo>
                  <a:lnTo>
                    <a:pt x="355" y="807"/>
                  </a:lnTo>
                  <a:lnTo>
                    <a:pt x="367" y="824"/>
                  </a:lnTo>
                  <a:lnTo>
                    <a:pt x="377" y="842"/>
                  </a:lnTo>
                  <a:lnTo>
                    <a:pt x="384" y="862"/>
                  </a:lnTo>
                  <a:lnTo>
                    <a:pt x="392" y="877"/>
                  </a:lnTo>
                  <a:lnTo>
                    <a:pt x="414" y="891"/>
                  </a:lnTo>
                  <a:lnTo>
                    <a:pt x="427" y="897"/>
                  </a:lnTo>
                  <a:lnTo>
                    <a:pt x="440" y="904"/>
                  </a:lnTo>
                  <a:lnTo>
                    <a:pt x="454" y="912"/>
                  </a:lnTo>
                  <a:lnTo>
                    <a:pt x="465" y="921"/>
                  </a:lnTo>
                  <a:lnTo>
                    <a:pt x="477" y="929"/>
                  </a:lnTo>
                  <a:lnTo>
                    <a:pt x="487" y="937"/>
                  </a:lnTo>
                  <a:lnTo>
                    <a:pt x="499" y="946"/>
                  </a:lnTo>
                  <a:lnTo>
                    <a:pt x="509" y="952"/>
                  </a:lnTo>
                  <a:lnTo>
                    <a:pt x="519" y="961"/>
                  </a:lnTo>
                  <a:lnTo>
                    <a:pt x="525" y="969"/>
                  </a:lnTo>
                  <a:lnTo>
                    <a:pt x="532" y="979"/>
                  </a:lnTo>
                  <a:lnTo>
                    <a:pt x="537" y="989"/>
                  </a:lnTo>
                  <a:lnTo>
                    <a:pt x="542" y="1002"/>
                  </a:lnTo>
                  <a:lnTo>
                    <a:pt x="547" y="1016"/>
                  </a:lnTo>
                  <a:lnTo>
                    <a:pt x="552" y="1031"/>
                  </a:lnTo>
                  <a:lnTo>
                    <a:pt x="560" y="1048"/>
                  </a:lnTo>
                  <a:lnTo>
                    <a:pt x="574" y="1079"/>
                  </a:lnTo>
                  <a:lnTo>
                    <a:pt x="584" y="1108"/>
                  </a:lnTo>
                  <a:lnTo>
                    <a:pt x="592" y="1136"/>
                  </a:lnTo>
                  <a:lnTo>
                    <a:pt x="609" y="1171"/>
                  </a:lnTo>
                  <a:lnTo>
                    <a:pt x="619" y="1213"/>
                  </a:lnTo>
                  <a:lnTo>
                    <a:pt x="612" y="1253"/>
                  </a:lnTo>
                  <a:lnTo>
                    <a:pt x="600" y="1283"/>
                  </a:lnTo>
                  <a:lnTo>
                    <a:pt x="594" y="1294"/>
                  </a:lnTo>
                  <a:lnTo>
                    <a:pt x="597" y="1301"/>
                  </a:lnTo>
                  <a:lnTo>
                    <a:pt x="604" y="1318"/>
                  </a:lnTo>
                  <a:lnTo>
                    <a:pt x="612" y="1341"/>
                  </a:lnTo>
                  <a:lnTo>
                    <a:pt x="617" y="1366"/>
                  </a:lnTo>
                  <a:lnTo>
                    <a:pt x="620" y="1379"/>
                  </a:lnTo>
                  <a:lnTo>
                    <a:pt x="624" y="1394"/>
                  </a:lnTo>
                  <a:lnTo>
                    <a:pt x="629" y="1409"/>
                  </a:lnTo>
                  <a:lnTo>
                    <a:pt x="635" y="1428"/>
                  </a:lnTo>
                  <a:lnTo>
                    <a:pt x="644" y="1444"/>
                  </a:lnTo>
                  <a:lnTo>
                    <a:pt x="654" y="1463"/>
                  </a:lnTo>
                  <a:lnTo>
                    <a:pt x="664" y="1481"/>
                  </a:lnTo>
                  <a:lnTo>
                    <a:pt x="675" y="1499"/>
                  </a:lnTo>
                  <a:lnTo>
                    <a:pt x="687" y="1516"/>
                  </a:lnTo>
                  <a:lnTo>
                    <a:pt x="695" y="1531"/>
                  </a:lnTo>
                  <a:lnTo>
                    <a:pt x="702" y="1543"/>
                  </a:lnTo>
                  <a:lnTo>
                    <a:pt x="707" y="1553"/>
                  </a:lnTo>
                  <a:lnTo>
                    <a:pt x="712" y="1561"/>
                  </a:lnTo>
                  <a:lnTo>
                    <a:pt x="719" y="1566"/>
                  </a:lnTo>
                  <a:lnTo>
                    <a:pt x="724" y="1570"/>
                  </a:lnTo>
                  <a:lnTo>
                    <a:pt x="732" y="1571"/>
                  </a:lnTo>
                  <a:lnTo>
                    <a:pt x="742" y="1573"/>
                  </a:lnTo>
                  <a:lnTo>
                    <a:pt x="754" y="1576"/>
                  </a:lnTo>
                  <a:lnTo>
                    <a:pt x="765" y="1581"/>
                  </a:lnTo>
                  <a:lnTo>
                    <a:pt x="779" y="1588"/>
                  </a:lnTo>
                  <a:lnTo>
                    <a:pt x="792" y="1595"/>
                  </a:lnTo>
                  <a:lnTo>
                    <a:pt x="804" y="1603"/>
                  </a:lnTo>
                  <a:lnTo>
                    <a:pt x="814" y="1611"/>
                  </a:lnTo>
                  <a:lnTo>
                    <a:pt x="822" y="1618"/>
                  </a:lnTo>
                  <a:lnTo>
                    <a:pt x="834" y="1633"/>
                  </a:lnTo>
                  <a:lnTo>
                    <a:pt x="846" y="1648"/>
                  </a:lnTo>
                  <a:lnTo>
                    <a:pt x="856" y="1663"/>
                  </a:lnTo>
                  <a:lnTo>
                    <a:pt x="866" y="1675"/>
                  </a:lnTo>
                  <a:lnTo>
                    <a:pt x="872" y="1685"/>
                  </a:lnTo>
                  <a:lnTo>
                    <a:pt x="881" y="1700"/>
                  </a:lnTo>
                  <a:lnTo>
                    <a:pt x="891" y="1721"/>
                  </a:lnTo>
                  <a:lnTo>
                    <a:pt x="902" y="1743"/>
                  </a:lnTo>
                  <a:lnTo>
                    <a:pt x="912" y="1768"/>
                  </a:lnTo>
                  <a:lnTo>
                    <a:pt x="921" y="1790"/>
                  </a:lnTo>
                  <a:lnTo>
                    <a:pt x="927" y="1810"/>
                  </a:lnTo>
                  <a:lnTo>
                    <a:pt x="931" y="1823"/>
                  </a:lnTo>
                  <a:lnTo>
                    <a:pt x="937" y="1841"/>
                  </a:lnTo>
                  <a:lnTo>
                    <a:pt x="951" y="1858"/>
                  </a:lnTo>
                  <a:lnTo>
                    <a:pt x="964" y="1878"/>
                  </a:lnTo>
                  <a:lnTo>
                    <a:pt x="979" y="1908"/>
                  </a:lnTo>
                  <a:lnTo>
                    <a:pt x="987" y="1926"/>
                  </a:lnTo>
                  <a:lnTo>
                    <a:pt x="999" y="1945"/>
                  </a:lnTo>
                  <a:lnTo>
                    <a:pt x="1014" y="1965"/>
                  </a:lnTo>
                  <a:lnTo>
                    <a:pt x="1029" y="1981"/>
                  </a:lnTo>
                  <a:lnTo>
                    <a:pt x="1044" y="2000"/>
                  </a:lnTo>
                  <a:lnTo>
                    <a:pt x="1059" y="2015"/>
                  </a:lnTo>
                  <a:lnTo>
                    <a:pt x="1072" y="2027"/>
                  </a:lnTo>
                  <a:lnTo>
                    <a:pt x="1084" y="2037"/>
                  </a:lnTo>
                  <a:lnTo>
                    <a:pt x="1097" y="2052"/>
                  </a:lnTo>
                  <a:lnTo>
                    <a:pt x="1106" y="2068"/>
                  </a:lnTo>
                  <a:lnTo>
                    <a:pt x="1109" y="2085"/>
                  </a:lnTo>
                  <a:lnTo>
                    <a:pt x="1112" y="2098"/>
                  </a:lnTo>
                  <a:lnTo>
                    <a:pt x="1117" y="2108"/>
                  </a:lnTo>
                  <a:lnTo>
                    <a:pt x="1126" y="2120"/>
                  </a:lnTo>
                  <a:lnTo>
                    <a:pt x="1136" y="2132"/>
                  </a:lnTo>
                  <a:lnTo>
                    <a:pt x="1146" y="2145"/>
                  </a:lnTo>
                  <a:lnTo>
                    <a:pt x="1156" y="2160"/>
                  </a:lnTo>
                  <a:lnTo>
                    <a:pt x="1164" y="2175"/>
                  </a:lnTo>
                  <a:lnTo>
                    <a:pt x="1169" y="2190"/>
                  </a:lnTo>
                  <a:lnTo>
                    <a:pt x="1169" y="2202"/>
                  </a:lnTo>
                  <a:lnTo>
                    <a:pt x="1169" y="2217"/>
                  </a:lnTo>
                  <a:lnTo>
                    <a:pt x="1172" y="2233"/>
                  </a:lnTo>
                  <a:lnTo>
                    <a:pt x="1177" y="2248"/>
                  </a:lnTo>
                  <a:lnTo>
                    <a:pt x="1179" y="2255"/>
                  </a:lnTo>
                  <a:lnTo>
                    <a:pt x="1216" y="2227"/>
                  </a:lnTo>
                  <a:lnTo>
                    <a:pt x="1219" y="2222"/>
                  </a:lnTo>
                  <a:lnTo>
                    <a:pt x="1226" y="2208"/>
                  </a:lnTo>
                  <a:lnTo>
                    <a:pt x="1232" y="2192"/>
                  </a:lnTo>
                  <a:lnTo>
                    <a:pt x="1236" y="2178"/>
                  </a:lnTo>
                  <a:lnTo>
                    <a:pt x="1236" y="2165"/>
                  </a:lnTo>
                  <a:lnTo>
                    <a:pt x="1234" y="2145"/>
                  </a:lnTo>
                  <a:lnTo>
                    <a:pt x="1236" y="2123"/>
                  </a:lnTo>
                  <a:lnTo>
                    <a:pt x="1241" y="2103"/>
                  </a:lnTo>
                  <a:lnTo>
                    <a:pt x="1241" y="2087"/>
                  </a:lnTo>
                  <a:lnTo>
                    <a:pt x="1236" y="2077"/>
                  </a:lnTo>
                  <a:lnTo>
                    <a:pt x="1234" y="2067"/>
                  </a:lnTo>
                  <a:lnTo>
                    <a:pt x="1241" y="2060"/>
                  </a:lnTo>
                  <a:lnTo>
                    <a:pt x="1246" y="2057"/>
                  </a:lnTo>
                  <a:lnTo>
                    <a:pt x="1251" y="2057"/>
                  </a:lnTo>
                  <a:lnTo>
                    <a:pt x="1256" y="2058"/>
                  </a:lnTo>
                  <a:lnTo>
                    <a:pt x="1261" y="2062"/>
                  </a:lnTo>
                  <a:lnTo>
                    <a:pt x="1259" y="2052"/>
                  </a:lnTo>
                  <a:lnTo>
                    <a:pt x="1257" y="2043"/>
                  </a:lnTo>
                  <a:lnTo>
                    <a:pt x="1256" y="2033"/>
                  </a:lnTo>
                  <a:lnTo>
                    <a:pt x="1257" y="2027"/>
                  </a:lnTo>
                  <a:close/>
                </a:path>
              </a:pathLst>
            </a:custGeom>
            <a:solidFill>
              <a:srgbClr val="ffffff">
                <a:alpha val="10000"/>
              </a:srgbClr>
            </a:solidFill>
            <a:ln cap="sq" w="9360">
              <a:solidFill>
                <a:srgbClr val="ffffff"/>
              </a:solidFill>
              <a:round/>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9" name=""/>
            <p:cNvSpPr/>
            <p:nvPr/>
          </p:nvSpPr>
          <p:spPr>
            <a:xfrm>
              <a:off x="3086280" y="3249720"/>
              <a:ext cx="4680" cy="4680"/>
            </a:xfrm>
            <a:custGeom>
              <a:avLst/>
              <a:gdLst/>
              <a:ahLst/>
              <a:rect l="l" t="t" r="r" b="b"/>
              <a:pathLst>
                <a:path w="5" h="5">
                  <a:moveTo>
                    <a:pt x="5" y="3"/>
                  </a:moveTo>
                  <a:lnTo>
                    <a:pt x="0" y="0"/>
                  </a:lnTo>
                  <a:lnTo>
                    <a:pt x="2" y="3"/>
                  </a:lnTo>
                  <a:lnTo>
                    <a:pt x="3" y="5"/>
                  </a:lnTo>
                  <a:lnTo>
                    <a:pt x="5" y="3"/>
                  </a:lnTo>
                  <a:lnTo>
                    <a:pt x="5" y="3"/>
                  </a:lnTo>
                  <a:close/>
                </a:path>
              </a:pathLst>
            </a:custGeom>
            <a:solidFill>
              <a:srgbClr val="000000"/>
            </a:solidFill>
            <a:ln w="0">
              <a:noFill/>
            </a:ln>
          </p:spPr>
          <p:style>
            <a:lnRef idx="0"/>
            <a:fillRef idx="0"/>
            <a:effectRef idx="0"/>
            <a:fontRef idx="minor"/>
          </p:style>
          <p:txBody>
            <a:bodyPr wrap="none" lIns="90000" rIns="90000" tIns="-42120" bIns="-421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0" name=""/>
            <p:cNvSpPr/>
            <p:nvPr/>
          </p:nvSpPr>
          <p:spPr>
            <a:xfrm>
              <a:off x="4379760" y="4205160"/>
              <a:ext cx="2567160" cy="993960"/>
            </a:xfrm>
            <a:custGeom>
              <a:avLst/>
              <a:gdLst/>
              <a:ahLst/>
              <a:rect l="l" t="t" r="r" b="b"/>
              <a:pathLst>
                <a:path w="1881" h="744">
                  <a:moveTo>
                    <a:pt x="1298" y="222"/>
                  </a:moveTo>
                  <a:lnTo>
                    <a:pt x="1283" y="225"/>
                  </a:lnTo>
                  <a:lnTo>
                    <a:pt x="1263" y="230"/>
                  </a:lnTo>
                  <a:lnTo>
                    <a:pt x="1239" y="235"/>
                  </a:lnTo>
                  <a:lnTo>
                    <a:pt x="1214" y="242"/>
                  </a:lnTo>
                  <a:lnTo>
                    <a:pt x="1186" y="249"/>
                  </a:lnTo>
                  <a:lnTo>
                    <a:pt x="1157" y="255"/>
                  </a:lnTo>
                  <a:lnTo>
                    <a:pt x="1127" y="262"/>
                  </a:lnTo>
                  <a:lnTo>
                    <a:pt x="1097" y="269"/>
                  </a:lnTo>
                  <a:lnTo>
                    <a:pt x="1067" y="275"/>
                  </a:lnTo>
                  <a:lnTo>
                    <a:pt x="1039" y="284"/>
                  </a:lnTo>
                  <a:lnTo>
                    <a:pt x="1012" y="290"/>
                  </a:lnTo>
                  <a:lnTo>
                    <a:pt x="989" y="297"/>
                  </a:lnTo>
                  <a:lnTo>
                    <a:pt x="967" y="302"/>
                  </a:lnTo>
                  <a:lnTo>
                    <a:pt x="949" y="309"/>
                  </a:lnTo>
                  <a:lnTo>
                    <a:pt x="936" y="314"/>
                  </a:lnTo>
                  <a:lnTo>
                    <a:pt x="927" y="317"/>
                  </a:lnTo>
                  <a:lnTo>
                    <a:pt x="914" y="324"/>
                  </a:lnTo>
                  <a:lnTo>
                    <a:pt x="901" y="329"/>
                  </a:lnTo>
                  <a:lnTo>
                    <a:pt x="887" y="337"/>
                  </a:lnTo>
                  <a:lnTo>
                    <a:pt x="872" y="344"/>
                  </a:lnTo>
                  <a:lnTo>
                    <a:pt x="857" y="355"/>
                  </a:lnTo>
                  <a:lnTo>
                    <a:pt x="842" y="369"/>
                  </a:lnTo>
                  <a:lnTo>
                    <a:pt x="826" y="389"/>
                  </a:lnTo>
                  <a:lnTo>
                    <a:pt x="807" y="412"/>
                  </a:lnTo>
                  <a:lnTo>
                    <a:pt x="791" y="437"/>
                  </a:lnTo>
                  <a:lnTo>
                    <a:pt x="776" y="460"/>
                  </a:lnTo>
                  <a:lnTo>
                    <a:pt x="761" y="482"/>
                  </a:lnTo>
                  <a:lnTo>
                    <a:pt x="747" y="502"/>
                  </a:lnTo>
                  <a:lnTo>
                    <a:pt x="737" y="519"/>
                  </a:lnTo>
                  <a:lnTo>
                    <a:pt x="727" y="532"/>
                  </a:lnTo>
                  <a:lnTo>
                    <a:pt x="719" y="542"/>
                  </a:lnTo>
                  <a:lnTo>
                    <a:pt x="712" y="549"/>
                  </a:lnTo>
                  <a:lnTo>
                    <a:pt x="706" y="554"/>
                  </a:lnTo>
                  <a:lnTo>
                    <a:pt x="699" y="559"/>
                  </a:lnTo>
                  <a:lnTo>
                    <a:pt x="689" y="564"/>
                  </a:lnTo>
                  <a:lnTo>
                    <a:pt x="679" y="565"/>
                  </a:lnTo>
                  <a:lnTo>
                    <a:pt x="667" y="567"/>
                  </a:lnTo>
                  <a:lnTo>
                    <a:pt x="657" y="567"/>
                  </a:lnTo>
                  <a:lnTo>
                    <a:pt x="647" y="564"/>
                  </a:lnTo>
                  <a:lnTo>
                    <a:pt x="637" y="559"/>
                  </a:lnTo>
                  <a:lnTo>
                    <a:pt x="629" y="552"/>
                  </a:lnTo>
                  <a:lnTo>
                    <a:pt x="622" y="544"/>
                  </a:lnTo>
                  <a:lnTo>
                    <a:pt x="615" y="535"/>
                  </a:lnTo>
                  <a:lnTo>
                    <a:pt x="609" y="529"/>
                  </a:lnTo>
                  <a:lnTo>
                    <a:pt x="602" y="524"/>
                  </a:lnTo>
                  <a:lnTo>
                    <a:pt x="595" y="520"/>
                  </a:lnTo>
                  <a:lnTo>
                    <a:pt x="589" y="519"/>
                  </a:lnTo>
                  <a:lnTo>
                    <a:pt x="580" y="520"/>
                  </a:lnTo>
                  <a:lnTo>
                    <a:pt x="569" y="524"/>
                  </a:lnTo>
                  <a:lnTo>
                    <a:pt x="554" y="525"/>
                  </a:lnTo>
                  <a:lnTo>
                    <a:pt x="537" y="525"/>
                  </a:lnTo>
                  <a:lnTo>
                    <a:pt x="519" y="525"/>
                  </a:lnTo>
                  <a:lnTo>
                    <a:pt x="499" y="525"/>
                  </a:lnTo>
                  <a:lnTo>
                    <a:pt x="480" y="524"/>
                  </a:lnTo>
                  <a:lnTo>
                    <a:pt x="462" y="522"/>
                  </a:lnTo>
                  <a:lnTo>
                    <a:pt x="447" y="520"/>
                  </a:lnTo>
                  <a:lnTo>
                    <a:pt x="432" y="519"/>
                  </a:lnTo>
                  <a:lnTo>
                    <a:pt x="417" y="515"/>
                  </a:lnTo>
                  <a:lnTo>
                    <a:pt x="404" y="510"/>
                  </a:lnTo>
                  <a:lnTo>
                    <a:pt x="389" y="507"/>
                  </a:lnTo>
                  <a:lnTo>
                    <a:pt x="375" y="504"/>
                  </a:lnTo>
                  <a:lnTo>
                    <a:pt x="364" y="500"/>
                  </a:lnTo>
                  <a:lnTo>
                    <a:pt x="352" y="497"/>
                  </a:lnTo>
                  <a:lnTo>
                    <a:pt x="342" y="497"/>
                  </a:lnTo>
                  <a:lnTo>
                    <a:pt x="329" y="497"/>
                  </a:lnTo>
                  <a:lnTo>
                    <a:pt x="307" y="497"/>
                  </a:lnTo>
                  <a:lnTo>
                    <a:pt x="280" y="499"/>
                  </a:lnTo>
                  <a:lnTo>
                    <a:pt x="250" y="499"/>
                  </a:lnTo>
                  <a:lnTo>
                    <a:pt x="224" y="500"/>
                  </a:lnTo>
                  <a:lnTo>
                    <a:pt x="200" y="502"/>
                  </a:lnTo>
                  <a:lnTo>
                    <a:pt x="184" y="502"/>
                  </a:lnTo>
                  <a:lnTo>
                    <a:pt x="177" y="502"/>
                  </a:lnTo>
                  <a:lnTo>
                    <a:pt x="175" y="504"/>
                  </a:lnTo>
                  <a:lnTo>
                    <a:pt x="170" y="505"/>
                  </a:lnTo>
                  <a:lnTo>
                    <a:pt x="164" y="509"/>
                  </a:lnTo>
                  <a:lnTo>
                    <a:pt x="155" y="510"/>
                  </a:lnTo>
                  <a:lnTo>
                    <a:pt x="144" y="512"/>
                  </a:lnTo>
                  <a:lnTo>
                    <a:pt x="132" y="512"/>
                  </a:lnTo>
                  <a:lnTo>
                    <a:pt x="120" y="509"/>
                  </a:lnTo>
                  <a:lnTo>
                    <a:pt x="107" y="502"/>
                  </a:lnTo>
                  <a:lnTo>
                    <a:pt x="95" y="494"/>
                  </a:lnTo>
                  <a:lnTo>
                    <a:pt x="87" y="485"/>
                  </a:lnTo>
                  <a:lnTo>
                    <a:pt x="80" y="479"/>
                  </a:lnTo>
                  <a:lnTo>
                    <a:pt x="75" y="475"/>
                  </a:lnTo>
                  <a:lnTo>
                    <a:pt x="70" y="472"/>
                  </a:lnTo>
                  <a:lnTo>
                    <a:pt x="65" y="470"/>
                  </a:lnTo>
                  <a:lnTo>
                    <a:pt x="60" y="470"/>
                  </a:lnTo>
                  <a:lnTo>
                    <a:pt x="53" y="474"/>
                  </a:lnTo>
                  <a:lnTo>
                    <a:pt x="47" y="480"/>
                  </a:lnTo>
                  <a:lnTo>
                    <a:pt x="50" y="489"/>
                  </a:lnTo>
                  <a:lnTo>
                    <a:pt x="55" y="500"/>
                  </a:lnTo>
                  <a:lnTo>
                    <a:pt x="53" y="515"/>
                  </a:lnTo>
                  <a:lnTo>
                    <a:pt x="50" y="535"/>
                  </a:lnTo>
                  <a:lnTo>
                    <a:pt x="48" y="557"/>
                  </a:lnTo>
                  <a:lnTo>
                    <a:pt x="50" y="577"/>
                  </a:lnTo>
                  <a:lnTo>
                    <a:pt x="50" y="592"/>
                  </a:lnTo>
                  <a:lnTo>
                    <a:pt x="47" y="606"/>
                  </a:lnTo>
                  <a:lnTo>
                    <a:pt x="40" y="621"/>
                  </a:lnTo>
                  <a:lnTo>
                    <a:pt x="33" y="634"/>
                  </a:lnTo>
                  <a:lnTo>
                    <a:pt x="30" y="639"/>
                  </a:lnTo>
                  <a:lnTo>
                    <a:pt x="0" y="662"/>
                  </a:lnTo>
                  <a:lnTo>
                    <a:pt x="3" y="666"/>
                  </a:lnTo>
                  <a:lnTo>
                    <a:pt x="8" y="669"/>
                  </a:lnTo>
                  <a:lnTo>
                    <a:pt x="13" y="674"/>
                  </a:lnTo>
                  <a:lnTo>
                    <a:pt x="18" y="677"/>
                  </a:lnTo>
                  <a:lnTo>
                    <a:pt x="32" y="684"/>
                  </a:lnTo>
                  <a:lnTo>
                    <a:pt x="43" y="687"/>
                  </a:lnTo>
                  <a:lnTo>
                    <a:pt x="55" y="687"/>
                  </a:lnTo>
                  <a:lnTo>
                    <a:pt x="67" y="686"/>
                  </a:lnTo>
                  <a:lnTo>
                    <a:pt x="77" y="684"/>
                  </a:lnTo>
                  <a:lnTo>
                    <a:pt x="83" y="681"/>
                  </a:lnTo>
                  <a:lnTo>
                    <a:pt x="88" y="679"/>
                  </a:lnTo>
                  <a:lnTo>
                    <a:pt x="90" y="677"/>
                  </a:lnTo>
                  <a:lnTo>
                    <a:pt x="97" y="677"/>
                  </a:lnTo>
                  <a:lnTo>
                    <a:pt x="114" y="677"/>
                  </a:lnTo>
                  <a:lnTo>
                    <a:pt x="137" y="676"/>
                  </a:lnTo>
                  <a:lnTo>
                    <a:pt x="164" y="674"/>
                  </a:lnTo>
                  <a:lnTo>
                    <a:pt x="194" y="674"/>
                  </a:lnTo>
                  <a:lnTo>
                    <a:pt x="220" y="672"/>
                  </a:lnTo>
                  <a:lnTo>
                    <a:pt x="242" y="672"/>
                  </a:lnTo>
                  <a:lnTo>
                    <a:pt x="255" y="672"/>
                  </a:lnTo>
                  <a:lnTo>
                    <a:pt x="265" y="674"/>
                  </a:lnTo>
                  <a:lnTo>
                    <a:pt x="275" y="676"/>
                  </a:lnTo>
                  <a:lnTo>
                    <a:pt x="289" y="679"/>
                  </a:lnTo>
                  <a:lnTo>
                    <a:pt x="302" y="682"/>
                  </a:lnTo>
                  <a:lnTo>
                    <a:pt x="315" y="687"/>
                  </a:lnTo>
                  <a:lnTo>
                    <a:pt x="330" y="691"/>
                  </a:lnTo>
                  <a:lnTo>
                    <a:pt x="344" y="694"/>
                  </a:lnTo>
                  <a:lnTo>
                    <a:pt x="359" y="697"/>
                  </a:lnTo>
                  <a:lnTo>
                    <a:pt x="374" y="699"/>
                  </a:lnTo>
                  <a:lnTo>
                    <a:pt x="392" y="701"/>
                  </a:lnTo>
                  <a:lnTo>
                    <a:pt x="412" y="701"/>
                  </a:lnTo>
                  <a:lnTo>
                    <a:pt x="430" y="702"/>
                  </a:lnTo>
                  <a:lnTo>
                    <a:pt x="450" y="702"/>
                  </a:lnTo>
                  <a:lnTo>
                    <a:pt x="467" y="701"/>
                  </a:lnTo>
                  <a:lnTo>
                    <a:pt x="480" y="701"/>
                  </a:lnTo>
                  <a:lnTo>
                    <a:pt x="492" y="697"/>
                  </a:lnTo>
                  <a:lnTo>
                    <a:pt x="500" y="696"/>
                  </a:lnTo>
                  <a:lnTo>
                    <a:pt x="507" y="696"/>
                  </a:lnTo>
                  <a:lnTo>
                    <a:pt x="514" y="699"/>
                  </a:lnTo>
                  <a:lnTo>
                    <a:pt x="520" y="706"/>
                  </a:lnTo>
                  <a:lnTo>
                    <a:pt x="527" y="712"/>
                  </a:lnTo>
                  <a:lnTo>
                    <a:pt x="534" y="719"/>
                  </a:lnTo>
                  <a:lnTo>
                    <a:pt x="540" y="727"/>
                  </a:lnTo>
                  <a:lnTo>
                    <a:pt x="549" y="734"/>
                  </a:lnTo>
                  <a:lnTo>
                    <a:pt x="559" y="741"/>
                  </a:lnTo>
                  <a:lnTo>
                    <a:pt x="569" y="742"/>
                  </a:lnTo>
                  <a:lnTo>
                    <a:pt x="579" y="744"/>
                  </a:lnTo>
                  <a:lnTo>
                    <a:pt x="590" y="742"/>
                  </a:lnTo>
                  <a:lnTo>
                    <a:pt x="600" y="739"/>
                  </a:lnTo>
                  <a:lnTo>
                    <a:pt x="610" y="736"/>
                  </a:lnTo>
                  <a:lnTo>
                    <a:pt x="619" y="731"/>
                  </a:lnTo>
                  <a:lnTo>
                    <a:pt x="625" y="726"/>
                  </a:lnTo>
                  <a:lnTo>
                    <a:pt x="632" y="719"/>
                  </a:lnTo>
                  <a:lnTo>
                    <a:pt x="639" y="707"/>
                  </a:lnTo>
                  <a:lnTo>
                    <a:pt x="649" y="694"/>
                  </a:lnTo>
                  <a:lnTo>
                    <a:pt x="661" y="677"/>
                  </a:lnTo>
                  <a:lnTo>
                    <a:pt x="672" y="659"/>
                  </a:lnTo>
                  <a:lnTo>
                    <a:pt x="687" y="637"/>
                  </a:lnTo>
                  <a:lnTo>
                    <a:pt x="704" y="614"/>
                  </a:lnTo>
                  <a:lnTo>
                    <a:pt x="721" y="587"/>
                  </a:lnTo>
                  <a:lnTo>
                    <a:pt x="737" y="564"/>
                  </a:lnTo>
                  <a:lnTo>
                    <a:pt x="754" y="544"/>
                  </a:lnTo>
                  <a:lnTo>
                    <a:pt x="769" y="530"/>
                  </a:lnTo>
                  <a:lnTo>
                    <a:pt x="786" y="519"/>
                  </a:lnTo>
                  <a:lnTo>
                    <a:pt x="799" y="512"/>
                  </a:lnTo>
                  <a:lnTo>
                    <a:pt x="812" y="504"/>
                  </a:lnTo>
                  <a:lnTo>
                    <a:pt x="826" y="499"/>
                  </a:lnTo>
                  <a:lnTo>
                    <a:pt x="839" y="492"/>
                  </a:lnTo>
                  <a:lnTo>
                    <a:pt x="847" y="489"/>
                  </a:lnTo>
                  <a:lnTo>
                    <a:pt x="862" y="484"/>
                  </a:lnTo>
                  <a:lnTo>
                    <a:pt x="879" y="479"/>
                  </a:lnTo>
                  <a:lnTo>
                    <a:pt x="901" y="472"/>
                  </a:lnTo>
                  <a:lnTo>
                    <a:pt x="926" y="465"/>
                  </a:lnTo>
                  <a:lnTo>
                    <a:pt x="952" y="459"/>
                  </a:lnTo>
                  <a:lnTo>
                    <a:pt x="981" y="452"/>
                  </a:lnTo>
                  <a:lnTo>
                    <a:pt x="1009" y="444"/>
                  </a:lnTo>
                  <a:lnTo>
                    <a:pt x="1039" y="437"/>
                  </a:lnTo>
                  <a:lnTo>
                    <a:pt x="1069" y="430"/>
                  </a:lnTo>
                  <a:lnTo>
                    <a:pt x="1097" y="424"/>
                  </a:lnTo>
                  <a:lnTo>
                    <a:pt x="1126" y="417"/>
                  </a:lnTo>
                  <a:lnTo>
                    <a:pt x="1151" y="410"/>
                  </a:lnTo>
                  <a:lnTo>
                    <a:pt x="1174" y="405"/>
                  </a:lnTo>
                  <a:lnTo>
                    <a:pt x="1194" y="400"/>
                  </a:lnTo>
                  <a:lnTo>
                    <a:pt x="1209" y="397"/>
                  </a:lnTo>
                  <a:lnTo>
                    <a:pt x="1236" y="390"/>
                  </a:lnTo>
                  <a:lnTo>
                    <a:pt x="1263" y="385"/>
                  </a:lnTo>
                  <a:lnTo>
                    <a:pt x="1289" y="382"/>
                  </a:lnTo>
                  <a:lnTo>
                    <a:pt x="1313" y="379"/>
                  </a:lnTo>
                  <a:lnTo>
                    <a:pt x="1336" y="375"/>
                  </a:lnTo>
                  <a:lnTo>
                    <a:pt x="1354" y="370"/>
                  </a:lnTo>
                  <a:lnTo>
                    <a:pt x="1371" y="365"/>
                  </a:lnTo>
                  <a:lnTo>
                    <a:pt x="1384" y="359"/>
                  </a:lnTo>
                  <a:lnTo>
                    <a:pt x="1394" y="354"/>
                  </a:lnTo>
                  <a:lnTo>
                    <a:pt x="1411" y="345"/>
                  </a:lnTo>
                  <a:lnTo>
                    <a:pt x="1434" y="334"/>
                  </a:lnTo>
                  <a:lnTo>
                    <a:pt x="1463" y="320"/>
                  </a:lnTo>
                  <a:lnTo>
                    <a:pt x="1496" y="307"/>
                  </a:lnTo>
                  <a:lnTo>
                    <a:pt x="1533" y="290"/>
                  </a:lnTo>
                  <a:lnTo>
                    <a:pt x="1571" y="274"/>
                  </a:lnTo>
                  <a:lnTo>
                    <a:pt x="1611" y="255"/>
                  </a:lnTo>
                  <a:lnTo>
                    <a:pt x="1649" y="239"/>
                  </a:lnTo>
                  <a:lnTo>
                    <a:pt x="1688" y="222"/>
                  </a:lnTo>
                  <a:lnTo>
                    <a:pt x="1723" y="207"/>
                  </a:lnTo>
                  <a:lnTo>
                    <a:pt x="1756" y="192"/>
                  </a:lnTo>
                  <a:lnTo>
                    <a:pt x="1783" y="180"/>
                  </a:lnTo>
                  <a:lnTo>
                    <a:pt x="1805" y="170"/>
                  </a:lnTo>
                  <a:lnTo>
                    <a:pt x="1820" y="164"/>
                  </a:lnTo>
                  <a:lnTo>
                    <a:pt x="1826" y="160"/>
                  </a:lnTo>
                  <a:lnTo>
                    <a:pt x="1836" y="152"/>
                  </a:lnTo>
                  <a:lnTo>
                    <a:pt x="1841" y="142"/>
                  </a:lnTo>
                  <a:lnTo>
                    <a:pt x="1845" y="130"/>
                  </a:lnTo>
                  <a:lnTo>
                    <a:pt x="1846" y="117"/>
                  </a:lnTo>
                  <a:lnTo>
                    <a:pt x="1848" y="100"/>
                  </a:lnTo>
                  <a:lnTo>
                    <a:pt x="1851" y="78"/>
                  </a:lnTo>
                  <a:lnTo>
                    <a:pt x="1858" y="57"/>
                  </a:lnTo>
                  <a:lnTo>
                    <a:pt x="1865" y="37"/>
                  </a:lnTo>
                  <a:lnTo>
                    <a:pt x="1868" y="27"/>
                  </a:lnTo>
                  <a:lnTo>
                    <a:pt x="1873" y="18"/>
                  </a:lnTo>
                  <a:lnTo>
                    <a:pt x="1876" y="8"/>
                  </a:lnTo>
                  <a:lnTo>
                    <a:pt x="1881" y="0"/>
                  </a:lnTo>
                  <a:lnTo>
                    <a:pt x="1861" y="10"/>
                  </a:lnTo>
                  <a:lnTo>
                    <a:pt x="1836" y="20"/>
                  </a:lnTo>
                  <a:lnTo>
                    <a:pt x="1808" y="32"/>
                  </a:lnTo>
                  <a:lnTo>
                    <a:pt x="1778" y="45"/>
                  </a:lnTo>
                  <a:lnTo>
                    <a:pt x="1746" y="58"/>
                  </a:lnTo>
                  <a:lnTo>
                    <a:pt x="1714" y="73"/>
                  </a:lnTo>
                  <a:lnTo>
                    <a:pt x="1681" y="88"/>
                  </a:lnTo>
                  <a:lnTo>
                    <a:pt x="1648" y="102"/>
                  </a:lnTo>
                  <a:lnTo>
                    <a:pt x="1616" y="117"/>
                  </a:lnTo>
                  <a:lnTo>
                    <a:pt x="1586" y="130"/>
                  </a:lnTo>
                  <a:lnTo>
                    <a:pt x="1558" y="142"/>
                  </a:lnTo>
                  <a:lnTo>
                    <a:pt x="1533" y="154"/>
                  </a:lnTo>
                  <a:lnTo>
                    <a:pt x="1511" y="164"/>
                  </a:lnTo>
                  <a:lnTo>
                    <a:pt x="1493" y="174"/>
                  </a:lnTo>
                  <a:lnTo>
                    <a:pt x="1479" y="179"/>
                  </a:lnTo>
                  <a:lnTo>
                    <a:pt x="1473" y="184"/>
                  </a:lnTo>
                  <a:lnTo>
                    <a:pt x="1459" y="190"/>
                  </a:lnTo>
                  <a:lnTo>
                    <a:pt x="1443" y="195"/>
                  </a:lnTo>
                  <a:lnTo>
                    <a:pt x="1423" y="199"/>
                  </a:lnTo>
                  <a:lnTo>
                    <a:pt x="1401" y="202"/>
                  </a:lnTo>
                  <a:lnTo>
                    <a:pt x="1376" y="205"/>
                  </a:lnTo>
                  <a:lnTo>
                    <a:pt x="1351" y="210"/>
                  </a:lnTo>
                  <a:lnTo>
                    <a:pt x="1324" y="215"/>
                  </a:lnTo>
                  <a:lnTo>
                    <a:pt x="1298" y="222"/>
                  </a:lnTo>
                  <a:close/>
                </a:path>
              </a:pathLst>
            </a:custGeom>
            <a:solidFill>
              <a:srgbClr val="ffffff">
                <a:alpha val="20000"/>
              </a:srgbClr>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1" name=""/>
            <p:cNvSpPr/>
            <p:nvPr/>
          </p:nvSpPr>
          <p:spPr>
            <a:xfrm>
              <a:off x="2813040" y="1346040"/>
              <a:ext cx="4348080" cy="3579840"/>
            </a:xfrm>
            <a:custGeom>
              <a:avLst/>
              <a:gdLst/>
              <a:ahLst/>
              <a:rect l="l" t="t" r="r" b="b"/>
              <a:pathLst>
                <a:path w="3185" h="2678">
                  <a:moveTo>
                    <a:pt x="380" y="90"/>
                  </a:moveTo>
                  <a:lnTo>
                    <a:pt x="683" y="28"/>
                  </a:lnTo>
                  <a:lnTo>
                    <a:pt x="693" y="0"/>
                  </a:lnTo>
                  <a:lnTo>
                    <a:pt x="695" y="0"/>
                  </a:lnTo>
                  <a:lnTo>
                    <a:pt x="698" y="0"/>
                  </a:lnTo>
                  <a:lnTo>
                    <a:pt x="704" y="0"/>
                  </a:lnTo>
                  <a:lnTo>
                    <a:pt x="712" y="0"/>
                  </a:lnTo>
                  <a:lnTo>
                    <a:pt x="720" y="0"/>
                  </a:lnTo>
                  <a:lnTo>
                    <a:pt x="734" y="2"/>
                  </a:lnTo>
                  <a:lnTo>
                    <a:pt x="747" y="5"/>
                  </a:lnTo>
                  <a:lnTo>
                    <a:pt x="764" y="10"/>
                  </a:lnTo>
                  <a:lnTo>
                    <a:pt x="782" y="15"/>
                  </a:lnTo>
                  <a:lnTo>
                    <a:pt x="799" y="20"/>
                  </a:lnTo>
                  <a:lnTo>
                    <a:pt x="817" y="23"/>
                  </a:lnTo>
                  <a:lnTo>
                    <a:pt x="832" y="28"/>
                  </a:lnTo>
                  <a:lnTo>
                    <a:pt x="847" y="32"/>
                  </a:lnTo>
                  <a:lnTo>
                    <a:pt x="862" y="35"/>
                  </a:lnTo>
                  <a:lnTo>
                    <a:pt x="874" y="40"/>
                  </a:lnTo>
                  <a:lnTo>
                    <a:pt x="884" y="43"/>
                  </a:lnTo>
                  <a:lnTo>
                    <a:pt x="894" y="48"/>
                  </a:lnTo>
                  <a:lnTo>
                    <a:pt x="907" y="57"/>
                  </a:lnTo>
                  <a:lnTo>
                    <a:pt x="924" y="68"/>
                  </a:lnTo>
                  <a:lnTo>
                    <a:pt x="942" y="82"/>
                  </a:lnTo>
                  <a:lnTo>
                    <a:pt x="962" y="97"/>
                  </a:lnTo>
                  <a:lnTo>
                    <a:pt x="985" y="112"/>
                  </a:lnTo>
                  <a:lnTo>
                    <a:pt x="1009" y="127"/>
                  </a:lnTo>
                  <a:lnTo>
                    <a:pt x="1035" y="142"/>
                  </a:lnTo>
                  <a:lnTo>
                    <a:pt x="1060" y="155"/>
                  </a:lnTo>
                  <a:lnTo>
                    <a:pt x="1080" y="168"/>
                  </a:lnTo>
                  <a:lnTo>
                    <a:pt x="1099" y="180"/>
                  </a:lnTo>
                  <a:lnTo>
                    <a:pt x="1114" y="190"/>
                  </a:lnTo>
                  <a:lnTo>
                    <a:pt x="1124" y="197"/>
                  </a:lnTo>
                  <a:lnTo>
                    <a:pt x="1132" y="203"/>
                  </a:lnTo>
                  <a:lnTo>
                    <a:pt x="1137" y="207"/>
                  </a:lnTo>
                  <a:lnTo>
                    <a:pt x="1139" y="208"/>
                  </a:lnTo>
                  <a:lnTo>
                    <a:pt x="1142" y="210"/>
                  </a:lnTo>
                  <a:lnTo>
                    <a:pt x="1150" y="215"/>
                  </a:lnTo>
                  <a:lnTo>
                    <a:pt x="1162" y="223"/>
                  </a:lnTo>
                  <a:lnTo>
                    <a:pt x="1177" y="233"/>
                  </a:lnTo>
                  <a:lnTo>
                    <a:pt x="1192" y="243"/>
                  </a:lnTo>
                  <a:lnTo>
                    <a:pt x="1205" y="255"/>
                  </a:lnTo>
                  <a:lnTo>
                    <a:pt x="1217" y="265"/>
                  </a:lnTo>
                  <a:lnTo>
                    <a:pt x="1225" y="275"/>
                  </a:lnTo>
                  <a:lnTo>
                    <a:pt x="1234" y="285"/>
                  </a:lnTo>
                  <a:lnTo>
                    <a:pt x="1245" y="297"/>
                  </a:lnTo>
                  <a:lnTo>
                    <a:pt x="1259" y="310"/>
                  </a:lnTo>
                  <a:lnTo>
                    <a:pt x="1276" y="325"/>
                  </a:lnTo>
                  <a:lnTo>
                    <a:pt x="1292" y="340"/>
                  </a:lnTo>
                  <a:lnTo>
                    <a:pt x="1309" y="354"/>
                  </a:lnTo>
                  <a:lnTo>
                    <a:pt x="1324" y="365"/>
                  </a:lnTo>
                  <a:lnTo>
                    <a:pt x="1334" y="375"/>
                  </a:lnTo>
                  <a:lnTo>
                    <a:pt x="1346" y="385"/>
                  </a:lnTo>
                  <a:lnTo>
                    <a:pt x="1362" y="397"/>
                  </a:lnTo>
                  <a:lnTo>
                    <a:pt x="1381" y="410"/>
                  </a:lnTo>
                  <a:lnTo>
                    <a:pt x="1401" y="424"/>
                  </a:lnTo>
                  <a:lnTo>
                    <a:pt x="1421" y="437"/>
                  </a:lnTo>
                  <a:lnTo>
                    <a:pt x="1436" y="445"/>
                  </a:lnTo>
                  <a:lnTo>
                    <a:pt x="1447" y="454"/>
                  </a:lnTo>
                  <a:lnTo>
                    <a:pt x="1451" y="455"/>
                  </a:lnTo>
                  <a:lnTo>
                    <a:pt x="1489" y="509"/>
                  </a:lnTo>
                  <a:lnTo>
                    <a:pt x="1497" y="509"/>
                  </a:lnTo>
                  <a:lnTo>
                    <a:pt x="1517" y="509"/>
                  </a:lnTo>
                  <a:lnTo>
                    <a:pt x="1546" y="509"/>
                  </a:lnTo>
                  <a:lnTo>
                    <a:pt x="1581" y="509"/>
                  </a:lnTo>
                  <a:lnTo>
                    <a:pt x="1617" y="510"/>
                  </a:lnTo>
                  <a:lnTo>
                    <a:pt x="1651" y="514"/>
                  </a:lnTo>
                  <a:lnTo>
                    <a:pt x="1677" y="520"/>
                  </a:lnTo>
                  <a:lnTo>
                    <a:pt x="1694" y="527"/>
                  </a:lnTo>
                  <a:lnTo>
                    <a:pt x="1696" y="527"/>
                  </a:lnTo>
                  <a:lnTo>
                    <a:pt x="1702" y="525"/>
                  </a:lnTo>
                  <a:lnTo>
                    <a:pt x="1712" y="522"/>
                  </a:lnTo>
                  <a:lnTo>
                    <a:pt x="1722" y="520"/>
                  </a:lnTo>
                  <a:lnTo>
                    <a:pt x="1736" y="519"/>
                  </a:lnTo>
                  <a:lnTo>
                    <a:pt x="1747" y="515"/>
                  </a:lnTo>
                  <a:lnTo>
                    <a:pt x="1759" y="514"/>
                  </a:lnTo>
                  <a:lnTo>
                    <a:pt x="1769" y="514"/>
                  </a:lnTo>
                  <a:lnTo>
                    <a:pt x="1782" y="515"/>
                  </a:lnTo>
                  <a:lnTo>
                    <a:pt x="1801" y="519"/>
                  </a:lnTo>
                  <a:lnTo>
                    <a:pt x="1823" y="522"/>
                  </a:lnTo>
                  <a:lnTo>
                    <a:pt x="1848" y="527"/>
                  </a:lnTo>
                  <a:lnTo>
                    <a:pt x="1869" y="534"/>
                  </a:lnTo>
                  <a:lnTo>
                    <a:pt x="1889" y="537"/>
                  </a:lnTo>
                  <a:lnTo>
                    <a:pt x="1903" y="540"/>
                  </a:lnTo>
                  <a:lnTo>
                    <a:pt x="1908" y="542"/>
                  </a:lnTo>
                  <a:lnTo>
                    <a:pt x="1926" y="604"/>
                  </a:lnTo>
                  <a:lnTo>
                    <a:pt x="2044" y="604"/>
                  </a:lnTo>
                  <a:lnTo>
                    <a:pt x="2064" y="689"/>
                  </a:lnTo>
                  <a:lnTo>
                    <a:pt x="2071" y="692"/>
                  </a:lnTo>
                  <a:lnTo>
                    <a:pt x="2083" y="704"/>
                  </a:lnTo>
                  <a:lnTo>
                    <a:pt x="2093" y="722"/>
                  </a:lnTo>
                  <a:lnTo>
                    <a:pt x="2093" y="746"/>
                  </a:lnTo>
                  <a:lnTo>
                    <a:pt x="2116" y="784"/>
                  </a:lnTo>
                  <a:lnTo>
                    <a:pt x="2154" y="769"/>
                  </a:lnTo>
                  <a:lnTo>
                    <a:pt x="2158" y="774"/>
                  </a:lnTo>
                  <a:lnTo>
                    <a:pt x="2164" y="786"/>
                  </a:lnTo>
                  <a:lnTo>
                    <a:pt x="2169" y="801"/>
                  </a:lnTo>
                  <a:lnTo>
                    <a:pt x="2173" y="812"/>
                  </a:lnTo>
                  <a:lnTo>
                    <a:pt x="2176" y="824"/>
                  </a:lnTo>
                  <a:lnTo>
                    <a:pt x="2183" y="834"/>
                  </a:lnTo>
                  <a:lnTo>
                    <a:pt x="2189" y="842"/>
                  </a:lnTo>
                  <a:lnTo>
                    <a:pt x="2193" y="846"/>
                  </a:lnTo>
                  <a:lnTo>
                    <a:pt x="2201" y="822"/>
                  </a:lnTo>
                  <a:lnTo>
                    <a:pt x="2226" y="869"/>
                  </a:lnTo>
                  <a:lnTo>
                    <a:pt x="2228" y="869"/>
                  </a:lnTo>
                  <a:lnTo>
                    <a:pt x="2234" y="871"/>
                  </a:lnTo>
                  <a:lnTo>
                    <a:pt x="2244" y="874"/>
                  </a:lnTo>
                  <a:lnTo>
                    <a:pt x="2254" y="877"/>
                  </a:lnTo>
                  <a:lnTo>
                    <a:pt x="2266" y="882"/>
                  </a:lnTo>
                  <a:lnTo>
                    <a:pt x="2276" y="887"/>
                  </a:lnTo>
                  <a:lnTo>
                    <a:pt x="2284" y="894"/>
                  </a:lnTo>
                  <a:lnTo>
                    <a:pt x="2288" y="902"/>
                  </a:lnTo>
                  <a:lnTo>
                    <a:pt x="2289" y="921"/>
                  </a:lnTo>
                  <a:lnTo>
                    <a:pt x="2293" y="937"/>
                  </a:lnTo>
                  <a:lnTo>
                    <a:pt x="2296" y="952"/>
                  </a:lnTo>
                  <a:lnTo>
                    <a:pt x="2306" y="964"/>
                  </a:lnTo>
                  <a:lnTo>
                    <a:pt x="2316" y="979"/>
                  </a:lnTo>
                  <a:lnTo>
                    <a:pt x="2321" y="996"/>
                  </a:lnTo>
                  <a:lnTo>
                    <a:pt x="2318" y="1011"/>
                  </a:lnTo>
                  <a:lnTo>
                    <a:pt x="2311" y="1017"/>
                  </a:lnTo>
                  <a:lnTo>
                    <a:pt x="2303" y="1019"/>
                  </a:lnTo>
                  <a:lnTo>
                    <a:pt x="2299" y="1024"/>
                  </a:lnTo>
                  <a:lnTo>
                    <a:pt x="2301" y="1032"/>
                  </a:lnTo>
                  <a:lnTo>
                    <a:pt x="2306" y="1046"/>
                  </a:lnTo>
                  <a:lnTo>
                    <a:pt x="2313" y="1061"/>
                  </a:lnTo>
                  <a:lnTo>
                    <a:pt x="2319" y="1076"/>
                  </a:lnTo>
                  <a:lnTo>
                    <a:pt x="2324" y="1092"/>
                  </a:lnTo>
                  <a:lnTo>
                    <a:pt x="2329" y="1107"/>
                  </a:lnTo>
                  <a:lnTo>
                    <a:pt x="2336" y="1117"/>
                  </a:lnTo>
                  <a:lnTo>
                    <a:pt x="2344" y="1121"/>
                  </a:lnTo>
                  <a:lnTo>
                    <a:pt x="2351" y="1121"/>
                  </a:lnTo>
                  <a:lnTo>
                    <a:pt x="2354" y="1121"/>
                  </a:lnTo>
                  <a:lnTo>
                    <a:pt x="2356" y="1129"/>
                  </a:lnTo>
                  <a:lnTo>
                    <a:pt x="2365" y="1149"/>
                  </a:lnTo>
                  <a:lnTo>
                    <a:pt x="2375" y="1174"/>
                  </a:lnTo>
                  <a:lnTo>
                    <a:pt x="2388" y="1192"/>
                  </a:lnTo>
                  <a:lnTo>
                    <a:pt x="2395" y="1201"/>
                  </a:lnTo>
                  <a:lnTo>
                    <a:pt x="2400" y="1209"/>
                  </a:lnTo>
                  <a:lnTo>
                    <a:pt x="2405" y="1217"/>
                  </a:lnTo>
                  <a:lnTo>
                    <a:pt x="2411" y="1227"/>
                  </a:lnTo>
                  <a:lnTo>
                    <a:pt x="2416" y="1236"/>
                  </a:lnTo>
                  <a:lnTo>
                    <a:pt x="2425" y="1244"/>
                  </a:lnTo>
                  <a:lnTo>
                    <a:pt x="2433" y="1253"/>
                  </a:lnTo>
                  <a:lnTo>
                    <a:pt x="2445" y="1259"/>
                  </a:lnTo>
                  <a:lnTo>
                    <a:pt x="2456" y="1263"/>
                  </a:lnTo>
                  <a:lnTo>
                    <a:pt x="2468" y="1263"/>
                  </a:lnTo>
                  <a:lnTo>
                    <a:pt x="2478" y="1263"/>
                  </a:lnTo>
                  <a:lnTo>
                    <a:pt x="2486" y="1259"/>
                  </a:lnTo>
                  <a:lnTo>
                    <a:pt x="2493" y="1256"/>
                  </a:lnTo>
                  <a:lnTo>
                    <a:pt x="2498" y="1253"/>
                  </a:lnTo>
                  <a:lnTo>
                    <a:pt x="2500" y="1251"/>
                  </a:lnTo>
                  <a:lnTo>
                    <a:pt x="2501" y="1249"/>
                  </a:lnTo>
                  <a:lnTo>
                    <a:pt x="2520" y="1259"/>
                  </a:lnTo>
                  <a:lnTo>
                    <a:pt x="2501" y="1293"/>
                  </a:lnTo>
                  <a:lnTo>
                    <a:pt x="2501" y="1294"/>
                  </a:lnTo>
                  <a:lnTo>
                    <a:pt x="2501" y="1299"/>
                  </a:lnTo>
                  <a:lnTo>
                    <a:pt x="2503" y="1304"/>
                  </a:lnTo>
                  <a:lnTo>
                    <a:pt x="2511" y="1306"/>
                  </a:lnTo>
                  <a:lnTo>
                    <a:pt x="2521" y="1314"/>
                  </a:lnTo>
                  <a:lnTo>
                    <a:pt x="2531" y="1329"/>
                  </a:lnTo>
                  <a:lnTo>
                    <a:pt x="2536" y="1346"/>
                  </a:lnTo>
                  <a:lnTo>
                    <a:pt x="2540" y="1354"/>
                  </a:lnTo>
                  <a:lnTo>
                    <a:pt x="2541" y="1356"/>
                  </a:lnTo>
                  <a:lnTo>
                    <a:pt x="2546" y="1361"/>
                  </a:lnTo>
                  <a:lnTo>
                    <a:pt x="2553" y="1368"/>
                  </a:lnTo>
                  <a:lnTo>
                    <a:pt x="2561" y="1378"/>
                  </a:lnTo>
                  <a:lnTo>
                    <a:pt x="2571" y="1388"/>
                  </a:lnTo>
                  <a:lnTo>
                    <a:pt x="2583" y="1401"/>
                  </a:lnTo>
                  <a:lnTo>
                    <a:pt x="2595" y="1414"/>
                  </a:lnTo>
                  <a:lnTo>
                    <a:pt x="2606" y="1428"/>
                  </a:lnTo>
                  <a:lnTo>
                    <a:pt x="2618" y="1443"/>
                  </a:lnTo>
                  <a:lnTo>
                    <a:pt x="2631" y="1458"/>
                  </a:lnTo>
                  <a:lnTo>
                    <a:pt x="2645" y="1473"/>
                  </a:lnTo>
                  <a:lnTo>
                    <a:pt x="2658" y="1488"/>
                  </a:lnTo>
                  <a:lnTo>
                    <a:pt x="2670" y="1501"/>
                  </a:lnTo>
                  <a:lnTo>
                    <a:pt x="2680" y="1511"/>
                  </a:lnTo>
                  <a:lnTo>
                    <a:pt x="2688" y="1521"/>
                  </a:lnTo>
                  <a:lnTo>
                    <a:pt x="2691" y="1528"/>
                  </a:lnTo>
                  <a:lnTo>
                    <a:pt x="2701" y="1533"/>
                  </a:lnTo>
                  <a:lnTo>
                    <a:pt x="2723" y="1538"/>
                  </a:lnTo>
                  <a:lnTo>
                    <a:pt x="2753" y="1543"/>
                  </a:lnTo>
                  <a:lnTo>
                    <a:pt x="2790" y="1546"/>
                  </a:lnTo>
                  <a:lnTo>
                    <a:pt x="2828" y="1549"/>
                  </a:lnTo>
                  <a:lnTo>
                    <a:pt x="2863" y="1551"/>
                  </a:lnTo>
                  <a:lnTo>
                    <a:pt x="2891" y="1554"/>
                  </a:lnTo>
                  <a:lnTo>
                    <a:pt x="2910" y="1556"/>
                  </a:lnTo>
                  <a:lnTo>
                    <a:pt x="2925" y="1558"/>
                  </a:lnTo>
                  <a:lnTo>
                    <a:pt x="2945" y="1559"/>
                  </a:lnTo>
                  <a:lnTo>
                    <a:pt x="2968" y="1561"/>
                  </a:lnTo>
                  <a:lnTo>
                    <a:pt x="2992" y="1563"/>
                  </a:lnTo>
                  <a:lnTo>
                    <a:pt x="3013" y="1566"/>
                  </a:lnTo>
                  <a:lnTo>
                    <a:pt x="3033" y="1568"/>
                  </a:lnTo>
                  <a:lnTo>
                    <a:pt x="3048" y="1569"/>
                  </a:lnTo>
                  <a:lnTo>
                    <a:pt x="3057" y="1571"/>
                  </a:lnTo>
                  <a:lnTo>
                    <a:pt x="3070" y="1569"/>
                  </a:lnTo>
                  <a:lnTo>
                    <a:pt x="3083" y="1563"/>
                  </a:lnTo>
                  <a:lnTo>
                    <a:pt x="3095" y="1554"/>
                  </a:lnTo>
                  <a:lnTo>
                    <a:pt x="3100" y="1551"/>
                  </a:lnTo>
                  <a:lnTo>
                    <a:pt x="3102" y="1553"/>
                  </a:lnTo>
                  <a:lnTo>
                    <a:pt x="3105" y="1556"/>
                  </a:lnTo>
                  <a:lnTo>
                    <a:pt x="3112" y="1561"/>
                  </a:lnTo>
                  <a:lnTo>
                    <a:pt x="3120" y="1568"/>
                  </a:lnTo>
                  <a:lnTo>
                    <a:pt x="3130" y="1576"/>
                  </a:lnTo>
                  <a:lnTo>
                    <a:pt x="3140" y="1586"/>
                  </a:lnTo>
                  <a:lnTo>
                    <a:pt x="3152" y="1598"/>
                  </a:lnTo>
                  <a:lnTo>
                    <a:pt x="3162" y="1609"/>
                  </a:lnTo>
                  <a:lnTo>
                    <a:pt x="3172" y="1624"/>
                  </a:lnTo>
                  <a:lnTo>
                    <a:pt x="3180" y="1638"/>
                  </a:lnTo>
                  <a:lnTo>
                    <a:pt x="3183" y="1653"/>
                  </a:lnTo>
                  <a:lnTo>
                    <a:pt x="3185" y="1668"/>
                  </a:lnTo>
                  <a:lnTo>
                    <a:pt x="3185" y="1678"/>
                  </a:lnTo>
                  <a:lnTo>
                    <a:pt x="3183" y="1688"/>
                  </a:lnTo>
                  <a:lnTo>
                    <a:pt x="3180" y="1696"/>
                  </a:lnTo>
                  <a:lnTo>
                    <a:pt x="3175" y="1704"/>
                  </a:lnTo>
                  <a:lnTo>
                    <a:pt x="3168" y="1724"/>
                  </a:lnTo>
                  <a:lnTo>
                    <a:pt x="3168" y="1748"/>
                  </a:lnTo>
                  <a:lnTo>
                    <a:pt x="3168" y="1771"/>
                  </a:lnTo>
                  <a:lnTo>
                    <a:pt x="3167" y="1795"/>
                  </a:lnTo>
                  <a:lnTo>
                    <a:pt x="3162" y="1815"/>
                  </a:lnTo>
                  <a:lnTo>
                    <a:pt x="3153" y="1835"/>
                  </a:lnTo>
                  <a:lnTo>
                    <a:pt x="3145" y="1851"/>
                  </a:lnTo>
                  <a:lnTo>
                    <a:pt x="3138" y="1870"/>
                  </a:lnTo>
                  <a:lnTo>
                    <a:pt x="3132" y="1890"/>
                  </a:lnTo>
                  <a:lnTo>
                    <a:pt x="3125" y="1913"/>
                  </a:lnTo>
                  <a:lnTo>
                    <a:pt x="3120" y="1933"/>
                  </a:lnTo>
                  <a:lnTo>
                    <a:pt x="3118" y="1951"/>
                  </a:lnTo>
                  <a:lnTo>
                    <a:pt x="3117" y="1965"/>
                  </a:lnTo>
                  <a:lnTo>
                    <a:pt x="3115" y="1976"/>
                  </a:lnTo>
                  <a:lnTo>
                    <a:pt x="3108" y="1986"/>
                  </a:lnTo>
                  <a:lnTo>
                    <a:pt x="3100" y="1993"/>
                  </a:lnTo>
                  <a:lnTo>
                    <a:pt x="3093" y="1996"/>
                  </a:lnTo>
                  <a:lnTo>
                    <a:pt x="3078" y="2003"/>
                  </a:lnTo>
                  <a:lnTo>
                    <a:pt x="3057" y="2013"/>
                  </a:lnTo>
                  <a:lnTo>
                    <a:pt x="3028" y="2026"/>
                  </a:lnTo>
                  <a:lnTo>
                    <a:pt x="2997" y="2040"/>
                  </a:lnTo>
                  <a:lnTo>
                    <a:pt x="2962" y="2056"/>
                  </a:lnTo>
                  <a:lnTo>
                    <a:pt x="2923" y="2073"/>
                  </a:lnTo>
                  <a:lnTo>
                    <a:pt x="2885" y="2090"/>
                  </a:lnTo>
                  <a:lnTo>
                    <a:pt x="2845" y="2108"/>
                  </a:lnTo>
                  <a:lnTo>
                    <a:pt x="2806" y="2125"/>
                  </a:lnTo>
                  <a:lnTo>
                    <a:pt x="2770" y="2141"/>
                  </a:lnTo>
                  <a:lnTo>
                    <a:pt x="2736" y="2155"/>
                  </a:lnTo>
                  <a:lnTo>
                    <a:pt x="2708" y="2168"/>
                  </a:lnTo>
                  <a:lnTo>
                    <a:pt x="2685" y="2180"/>
                  </a:lnTo>
                  <a:lnTo>
                    <a:pt x="2668" y="2188"/>
                  </a:lnTo>
                  <a:lnTo>
                    <a:pt x="2658" y="2193"/>
                  </a:lnTo>
                  <a:lnTo>
                    <a:pt x="2645" y="2200"/>
                  </a:lnTo>
                  <a:lnTo>
                    <a:pt x="2628" y="2205"/>
                  </a:lnTo>
                  <a:lnTo>
                    <a:pt x="2608" y="2208"/>
                  </a:lnTo>
                  <a:lnTo>
                    <a:pt x="2586" y="2211"/>
                  </a:lnTo>
                  <a:lnTo>
                    <a:pt x="2561" y="2215"/>
                  </a:lnTo>
                  <a:lnTo>
                    <a:pt x="2535" y="2220"/>
                  </a:lnTo>
                  <a:lnTo>
                    <a:pt x="2508" y="2225"/>
                  </a:lnTo>
                  <a:lnTo>
                    <a:pt x="2481" y="2231"/>
                  </a:lnTo>
                  <a:lnTo>
                    <a:pt x="2466" y="2235"/>
                  </a:lnTo>
                  <a:lnTo>
                    <a:pt x="2446" y="2240"/>
                  </a:lnTo>
                  <a:lnTo>
                    <a:pt x="2425" y="2245"/>
                  </a:lnTo>
                  <a:lnTo>
                    <a:pt x="2398" y="2252"/>
                  </a:lnTo>
                  <a:lnTo>
                    <a:pt x="2371" y="2258"/>
                  </a:lnTo>
                  <a:lnTo>
                    <a:pt x="2343" y="2265"/>
                  </a:lnTo>
                  <a:lnTo>
                    <a:pt x="2313" y="2272"/>
                  </a:lnTo>
                  <a:lnTo>
                    <a:pt x="2283" y="2278"/>
                  </a:lnTo>
                  <a:lnTo>
                    <a:pt x="2253" y="2285"/>
                  </a:lnTo>
                  <a:lnTo>
                    <a:pt x="2224" y="2293"/>
                  </a:lnTo>
                  <a:lnTo>
                    <a:pt x="2198" y="2300"/>
                  </a:lnTo>
                  <a:lnTo>
                    <a:pt x="2173" y="2307"/>
                  </a:lnTo>
                  <a:lnTo>
                    <a:pt x="2151" y="2312"/>
                  </a:lnTo>
                  <a:lnTo>
                    <a:pt x="2134" y="2318"/>
                  </a:lnTo>
                  <a:lnTo>
                    <a:pt x="2119" y="2323"/>
                  </a:lnTo>
                  <a:lnTo>
                    <a:pt x="2111" y="2327"/>
                  </a:lnTo>
                  <a:lnTo>
                    <a:pt x="2098" y="2333"/>
                  </a:lnTo>
                  <a:lnTo>
                    <a:pt x="2086" y="2338"/>
                  </a:lnTo>
                  <a:lnTo>
                    <a:pt x="2071" y="2347"/>
                  </a:lnTo>
                  <a:lnTo>
                    <a:pt x="2058" y="2353"/>
                  </a:lnTo>
                  <a:lnTo>
                    <a:pt x="2043" y="2365"/>
                  </a:lnTo>
                  <a:lnTo>
                    <a:pt x="2028" y="2378"/>
                  </a:lnTo>
                  <a:lnTo>
                    <a:pt x="2011" y="2398"/>
                  </a:lnTo>
                  <a:lnTo>
                    <a:pt x="1993" y="2422"/>
                  </a:lnTo>
                  <a:lnTo>
                    <a:pt x="1976" y="2447"/>
                  </a:lnTo>
                  <a:lnTo>
                    <a:pt x="1961" y="2470"/>
                  </a:lnTo>
                  <a:lnTo>
                    <a:pt x="1946" y="2492"/>
                  </a:lnTo>
                  <a:lnTo>
                    <a:pt x="1933" y="2512"/>
                  </a:lnTo>
                  <a:lnTo>
                    <a:pt x="1923" y="2528"/>
                  </a:lnTo>
                  <a:lnTo>
                    <a:pt x="1913" y="2542"/>
                  </a:lnTo>
                  <a:lnTo>
                    <a:pt x="1904" y="2552"/>
                  </a:lnTo>
                  <a:lnTo>
                    <a:pt x="1898" y="2558"/>
                  </a:lnTo>
                  <a:lnTo>
                    <a:pt x="1891" y="2563"/>
                  </a:lnTo>
                  <a:lnTo>
                    <a:pt x="1884" y="2568"/>
                  </a:lnTo>
                  <a:lnTo>
                    <a:pt x="1874" y="2573"/>
                  </a:lnTo>
                  <a:lnTo>
                    <a:pt x="1864" y="2575"/>
                  </a:lnTo>
                  <a:lnTo>
                    <a:pt x="1853" y="2577"/>
                  </a:lnTo>
                  <a:lnTo>
                    <a:pt x="1843" y="2577"/>
                  </a:lnTo>
                  <a:lnTo>
                    <a:pt x="1833" y="2573"/>
                  </a:lnTo>
                  <a:lnTo>
                    <a:pt x="1823" y="2568"/>
                  </a:lnTo>
                  <a:lnTo>
                    <a:pt x="1814" y="2562"/>
                  </a:lnTo>
                  <a:lnTo>
                    <a:pt x="1806" y="2553"/>
                  </a:lnTo>
                  <a:lnTo>
                    <a:pt x="1799" y="2547"/>
                  </a:lnTo>
                  <a:lnTo>
                    <a:pt x="1794" y="2538"/>
                  </a:lnTo>
                  <a:lnTo>
                    <a:pt x="1787" y="2533"/>
                  </a:lnTo>
                  <a:lnTo>
                    <a:pt x="1781" y="2530"/>
                  </a:lnTo>
                  <a:lnTo>
                    <a:pt x="1772" y="2528"/>
                  </a:lnTo>
                  <a:lnTo>
                    <a:pt x="1764" y="2530"/>
                  </a:lnTo>
                  <a:lnTo>
                    <a:pt x="1752" y="2533"/>
                  </a:lnTo>
                  <a:lnTo>
                    <a:pt x="1739" y="2535"/>
                  </a:lnTo>
                  <a:lnTo>
                    <a:pt x="1722" y="2535"/>
                  </a:lnTo>
                  <a:lnTo>
                    <a:pt x="1704" y="2535"/>
                  </a:lnTo>
                  <a:lnTo>
                    <a:pt x="1684" y="2535"/>
                  </a:lnTo>
                  <a:lnTo>
                    <a:pt x="1666" y="2533"/>
                  </a:lnTo>
                  <a:lnTo>
                    <a:pt x="1647" y="2532"/>
                  </a:lnTo>
                  <a:lnTo>
                    <a:pt x="1632" y="2530"/>
                  </a:lnTo>
                  <a:lnTo>
                    <a:pt x="1617" y="2528"/>
                  </a:lnTo>
                  <a:lnTo>
                    <a:pt x="1602" y="2525"/>
                  </a:lnTo>
                  <a:lnTo>
                    <a:pt x="1589" y="2520"/>
                  </a:lnTo>
                  <a:lnTo>
                    <a:pt x="1574" y="2517"/>
                  </a:lnTo>
                  <a:lnTo>
                    <a:pt x="1561" y="2513"/>
                  </a:lnTo>
                  <a:lnTo>
                    <a:pt x="1549" y="2510"/>
                  </a:lnTo>
                  <a:lnTo>
                    <a:pt x="1537" y="2507"/>
                  </a:lnTo>
                  <a:lnTo>
                    <a:pt x="1527" y="2507"/>
                  </a:lnTo>
                  <a:lnTo>
                    <a:pt x="1514" y="2507"/>
                  </a:lnTo>
                  <a:lnTo>
                    <a:pt x="1492" y="2507"/>
                  </a:lnTo>
                  <a:lnTo>
                    <a:pt x="1466" y="2508"/>
                  </a:lnTo>
                  <a:lnTo>
                    <a:pt x="1436" y="2508"/>
                  </a:lnTo>
                  <a:lnTo>
                    <a:pt x="1409" y="2510"/>
                  </a:lnTo>
                  <a:lnTo>
                    <a:pt x="1386" y="2512"/>
                  </a:lnTo>
                  <a:lnTo>
                    <a:pt x="1369" y="2512"/>
                  </a:lnTo>
                  <a:lnTo>
                    <a:pt x="1362" y="2512"/>
                  </a:lnTo>
                  <a:lnTo>
                    <a:pt x="1361" y="2513"/>
                  </a:lnTo>
                  <a:lnTo>
                    <a:pt x="1356" y="2515"/>
                  </a:lnTo>
                  <a:lnTo>
                    <a:pt x="1349" y="2518"/>
                  </a:lnTo>
                  <a:lnTo>
                    <a:pt x="1339" y="2520"/>
                  </a:lnTo>
                  <a:lnTo>
                    <a:pt x="1329" y="2522"/>
                  </a:lnTo>
                  <a:lnTo>
                    <a:pt x="1317" y="2522"/>
                  </a:lnTo>
                  <a:lnTo>
                    <a:pt x="1304" y="2518"/>
                  </a:lnTo>
                  <a:lnTo>
                    <a:pt x="1292" y="2512"/>
                  </a:lnTo>
                  <a:lnTo>
                    <a:pt x="1281" y="2503"/>
                  </a:lnTo>
                  <a:lnTo>
                    <a:pt x="1272" y="2497"/>
                  </a:lnTo>
                  <a:lnTo>
                    <a:pt x="1266" y="2490"/>
                  </a:lnTo>
                  <a:lnTo>
                    <a:pt x="1261" y="2485"/>
                  </a:lnTo>
                  <a:lnTo>
                    <a:pt x="1256" y="2482"/>
                  </a:lnTo>
                  <a:lnTo>
                    <a:pt x="1250" y="2480"/>
                  </a:lnTo>
                  <a:lnTo>
                    <a:pt x="1245" y="2480"/>
                  </a:lnTo>
                  <a:lnTo>
                    <a:pt x="1239" y="2483"/>
                  </a:lnTo>
                  <a:lnTo>
                    <a:pt x="1232" y="2490"/>
                  </a:lnTo>
                  <a:lnTo>
                    <a:pt x="1235" y="2498"/>
                  </a:lnTo>
                  <a:lnTo>
                    <a:pt x="1240" y="2510"/>
                  </a:lnTo>
                  <a:lnTo>
                    <a:pt x="1239" y="2525"/>
                  </a:lnTo>
                  <a:lnTo>
                    <a:pt x="1234" y="2545"/>
                  </a:lnTo>
                  <a:lnTo>
                    <a:pt x="1232" y="2567"/>
                  </a:lnTo>
                  <a:lnTo>
                    <a:pt x="1234" y="2587"/>
                  </a:lnTo>
                  <a:lnTo>
                    <a:pt x="1234" y="2602"/>
                  </a:lnTo>
                  <a:lnTo>
                    <a:pt x="1230" y="2615"/>
                  </a:lnTo>
                  <a:lnTo>
                    <a:pt x="1225" y="2630"/>
                  </a:lnTo>
                  <a:lnTo>
                    <a:pt x="1219" y="2643"/>
                  </a:lnTo>
                  <a:lnTo>
                    <a:pt x="1215" y="2648"/>
                  </a:lnTo>
                  <a:lnTo>
                    <a:pt x="1177" y="2678"/>
                  </a:lnTo>
                  <a:lnTo>
                    <a:pt x="1175" y="2672"/>
                  </a:lnTo>
                  <a:lnTo>
                    <a:pt x="1170" y="2657"/>
                  </a:lnTo>
                  <a:lnTo>
                    <a:pt x="1167" y="2640"/>
                  </a:lnTo>
                  <a:lnTo>
                    <a:pt x="1167" y="2625"/>
                  </a:lnTo>
                  <a:lnTo>
                    <a:pt x="1167" y="2613"/>
                  </a:lnTo>
                  <a:lnTo>
                    <a:pt x="1164" y="2598"/>
                  </a:lnTo>
                  <a:lnTo>
                    <a:pt x="1154" y="2583"/>
                  </a:lnTo>
                  <a:lnTo>
                    <a:pt x="1144" y="2568"/>
                  </a:lnTo>
                  <a:lnTo>
                    <a:pt x="1134" y="2555"/>
                  </a:lnTo>
                  <a:lnTo>
                    <a:pt x="1124" y="2543"/>
                  </a:lnTo>
                  <a:lnTo>
                    <a:pt x="1115" y="2532"/>
                  </a:lnTo>
                  <a:lnTo>
                    <a:pt x="1110" y="2522"/>
                  </a:lnTo>
                  <a:lnTo>
                    <a:pt x="1107" y="2508"/>
                  </a:lnTo>
                  <a:lnTo>
                    <a:pt x="1104" y="2492"/>
                  </a:lnTo>
                  <a:lnTo>
                    <a:pt x="1095" y="2475"/>
                  </a:lnTo>
                  <a:lnTo>
                    <a:pt x="1082" y="2458"/>
                  </a:lnTo>
                  <a:lnTo>
                    <a:pt x="1072" y="2450"/>
                  </a:lnTo>
                  <a:lnTo>
                    <a:pt x="1059" y="2437"/>
                  </a:lnTo>
                  <a:lnTo>
                    <a:pt x="1044" y="2423"/>
                  </a:lnTo>
                  <a:lnTo>
                    <a:pt x="1029" y="2405"/>
                  </a:lnTo>
                  <a:lnTo>
                    <a:pt x="1014" y="2387"/>
                  </a:lnTo>
                  <a:lnTo>
                    <a:pt x="999" y="2368"/>
                  </a:lnTo>
                  <a:lnTo>
                    <a:pt x="987" y="2350"/>
                  </a:lnTo>
                  <a:lnTo>
                    <a:pt x="979" y="2332"/>
                  </a:lnTo>
                  <a:lnTo>
                    <a:pt x="964" y="2302"/>
                  </a:lnTo>
                  <a:lnTo>
                    <a:pt x="949" y="2280"/>
                  </a:lnTo>
                  <a:lnTo>
                    <a:pt x="937" y="2263"/>
                  </a:lnTo>
                  <a:lnTo>
                    <a:pt x="930" y="2245"/>
                  </a:lnTo>
                  <a:lnTo>
                    <a:pt x="927" y="2231"/>
                  </a:lnTo>
                  <a:lnTo>
                    <a:pt x="920" y="2211"/>
                  </a:lnTo>
                  <a:lnTo>
                    <a:pt x="910" y="2190"/>
                  </a:lnTo>
                  <a:lnTo>
                    <a:pt x="900" y="2166"/>
                  </a:lnTo>
                  <a:lnTo>
                    <a:pt x="890" y="2143"/>
                  </a:lnTo>
                  <a:lnTo>
                    <a:pt x="880" y="2123"/>
                  </a:lnTo>
                  <a:lnTo>
                    <a:pt x="870" y="2108"/>
                  </a:lnTo>
                  <a:lnTo>
                    <a:pt x="864" y="2098"/>
                  </a:lnTo>
                  <a:lnTo>
                    <a:pt x="854" y="2085"/>
                  </a:lnTo>
                  <a:lnTo>
                    <a:pt x="845" y="2071"/>
                  </a:lnTo>
                  <a:lnTo>
                    <a:pt x="834" y="2056"/>
                  </a:lnTo>
                  <a:lnTo>
                    <a:pt x="822" y="2041"/>
                  </a:lnTo>
                  <a:lnTo>
                    <a:pt x="814" y="2033"/>
                  </a:lnTo>
                  <a:lnTo>
                    <a:pt x="802" y="2025"/>
                  </a:lnTo>
                  <a:lnTo>
                    <a:pt x="790" y="2018"/>
                  </a:lnTo>
                  <a:lnTo>
                    <a:pt x="779" y="2010"/>
                  </a:lnTo>
                  <a:lnTo>
                    <a:pt x="765" y="2003"/>
                  </a:lnTo>
                  <a:lnTo>
                    <a:pt x="752" y="1998"/>
                  </a:lnTo>
                  <a:lnTo>
                    <a:pt x="740" y="1995"/>
                  </a:lnTo>
                  <a:lnTo>
                    <a:pt x="730" y="1993"/>
                  </a:lnTo>
                  <a:lnTo>
                    <a:pt x="722" y="1991"/>
                  </a:lnTo>
                  <a:lnTo>
                    <a:pt x="717" y="1988"/>
                  </a:lnTo>
                  <a:lnTo>
                    <a:pt x="710" y="1983"/>
                  </a:lnTo>
                  <a:lnTo>
                    <a:pt x="705" y="1975"/>
                  </a:lnTo>
                  <a:lnTo>
                    <a:pt x="700" y="1966"/>
                  </a:lnTo>
                  <a:lnTo>
                    <a:pt x="693" y="1953"/>
                  </a:lnTo>
                  <a:lnTo>
                    <a:pt x="685" y="1940"/>
                  </a:lnTo>
                  <a:lnTo>
                    <a:pt x="673" y="1923"/>
                  </a:lnTo>
                  <a:lnTo>
                    <a:pt x="662" y="1905"/>
                  </a:lnTo>
                  <a:lnTo>
                    <a:pt x="652" y="1886"/>
                  </a:lnTo>
                  <a:lnTo>
                    <a:pt x="642" y="1868"/>
                  </a:lnTo>
                  <a:lnTo>
                    <a:pt x="635" y="1851"/>
                  </a:lnTo>
                  <a:lnTo>
                    <a:pt x="628" y="1833"/>
                  </a:lnTo>
                  <a:lnTo>
                    <a:pt x="623" y="1818"/>
                  </a:lnTo>
                  <a:lnTo>
                    <a:pt x="620" y="1803"/>
                  </a:lnTo>
                  <a:lnTo>
                    <a:pt x="617" y="1790"/>
                  </a:lnTo>
                  <a:lnTo>
                    <a:pt x="612" y="1765"/>
                  </a:lnTo>
                  <a:lnTo>
                    <a:pt x="603" y="1741"/>
                  </a:lnTo>
                  <a:lnTo>
                    <a:pt x="597" y="1724"/>
                  </a:lnTo>
                  <a:lnTo>
                    <a:pt x="593" y="1718"/>
                  </a:lnTo>
                  <a:lnTo>
                    <a:pt x="600" y="1706"/>
                  </a:lnTo>
                  <a:lnTo>
                    <a:pt x="610" y="1676"/>
                  </a:lnTo>
                  <a:lnTo>
                    <a:pt x="617" y="1636"/>
                  </a:lnTo>
                  <a:lnTo>
                    <a:pt x="607" y="1594"/>
                  </a:lnTo>
                  <a:lnTo>
                    <a:pt x="590" y="1559"/>
                  </a:lnTo>
                  <a:lnTo>
                    <a:pt x="582" y="1531"/>
                  </a:lnTo>
                  <a:lnTo>
                    <a:pt x="573" y="1503"/>
                  </a:lnTo>
                  <a:lnTo>
                    <a:pt x="560" y="1471"/>
                  </a:lnTo>
                  <a:lnTo>
                    <a:pt x="552" y="1454"/>
                  </a:lnTo>
                  <a:lnTo>
                    <a:pt x="547" y="1439"/>
                  </a:lnTo>
                  <a:lnTo>
                    <a:pt x="542" y="1426"/>
                  </a:lnTo>
                  <a:lnTo>
                    <a:pt x="537" y="1413"/>
                  </a:lnTo>
                  <a:lnTo>
                    <a:pt x="532" y="1401"/>
                  </a:lnTo>
                  <a:lnTo>
                    <a:pt x="525" y="1393"/>
                  </a:lnTo>
                  <a:lnTo>
                    <a:pt x="518" y="1383"/>
                  </a:lnTo>
                  <a:lnTo>
                    <a:pt x="508" y="1376"/>
                  </a:lnTo>
                  <a:lnTo>
                    <a:pt x="497" y="1369"/>
                  </a:lnTo>
                  <a:lnTo>
                    <a:pt x="487" y="1361"/>
                  </a:lnTo>
                  <a:lnTo>
                    <a:pt x="475" y="1354"/>
                  </a:lnTo>
                  <a:lnTo>
                    <a:pt x="463" y="1346"/>
                  </a:lnTo>
                  <a:lnTo>
                    <a:pt x="452" y="1338"/>
                  </a:lnTo>
                  <a:lnTo>
                    <a:pt x="440" y="1329"/>
                  </a:lnTo>
                  <a:lnTo>
                    <a:pt x="427" y="1323"/>
                  </a:lnTo>
                  <a:lnTo>
                    <a:pt x="413" y="1316"/>
                  </a:lnTo>
                  <a:lnTo>
                    <a:pt x="392" y="1303"/>
                  </a:lnTo>
                  <a:lnTo>
                    <a:pt x="382" y="1286"/>
                  </a:lnTo>
                  <a:lnTo>
                    <a:pt x="375" y="1268"/>
                  </a:lnTo>
                  <a:lnTo>
                    <a:pt x="365" y="1249"/>
                  </a:lnTo>
                  <a:lnTo>
                    <a:pt x="355" y="1232"/>
                  </a:lnTo>
                  <a:lnTo>
                    <a:pt x="348" y="1219"/>
                  </a:lnTo>
                  <a:lnTo>
                    <a:pt x="347" y="1209"/>
                  </a:lnTo>
                  <a:lnTo>
                    <a:pt x="347" y="1206"/>
                  </a:lnTo>
                  <a:lnTo>
                    <a:pt x="348" y="1206"/>
                  </a:lnTo>
                  <a:lnTo>
                    <a:pt x="353" y="1204"/>
                  </a:lnTo>
                  <a:lnTo>
                    <a:pt x="360" y="1201"/>
                  </a:lnTo>
                  <a:lnTo>
                    <a:pt x="367" y="1194"/>
                  </a:lnTo>
                  <a:lnTo>
                    <a:pt x="370" y="1187"/>
                  </a:lnTo>
                  <a:lnTo>
                    <a:pt x="370" y="1176"/>
                  </a:lnTo>
                  <a:lnTo>
                    <a:pt x="365" y="1162"/>
                  </a:lnTo>
                  <a:lnTo>
                    <a:pt x="352" y="1144"/>
                  </a:lnTo>
                  <a:lnTo>
                    <a:pt x="330" y="1122"/>
                  </a:lnTo>
                  <a:lnTo>
                    <a:pt x="327" y="1122"/>
                  </a:lnTo>
                  <a:lnTo>
                    <a:pt x="330" y="1126"/>
                  </a:lnTo>
                  <a:lnTo>
                    <a:pt x="327" y="1112"/>
                  </a:lnTo>
                  <a:lnTo>
                    <a:pt x="320" y="1091"/>
                  </a:lnTo>
                  <a:lnTo>
                    <a:pt x="315" y="1076"/>
                  </a:lnTo>
                  <a:lnTo>
                    <a:pt x="308" y="1066"/>
                  </a:lnTo>
                  <a:lnTo>
                    <a:pt x="293" y="1054"/>
                  </a:lnTo>
                  <a:lnTo>
                    <a:pt x="283" y="1039"/>
                  </a:lnTo>
                  <a:lnTo>
                    <a:pt x="285" y="1024"/>
                  </a:lnTo>
                  <a:lnTo>
                    <a:pt x="287" y="1011"/>
                  </a:lnTo>
                  <a:lnTo>
                    <a:pt x="275" y="997"/>
                  </a:lnTo>
                  <a:lnTo>
                    <a:pt x="257" y="986"/>
                  </a:lnTo>
                  <a:lnTo>
                    <a:pt x="243" y="971"/>
                  </a:lnTo>
                  <a:lnTo>
                    <a:pt x="235" y="954"/>
                  </a:lnTo>
                  <a:lnTo>
                    <a:pt x="232" y="936"/>
                  </a:lnTo>
                  <a:lnTo>
                    <a:pt x="228" y="916"/>
                  </a:lnTo>
                  <a:lnTo>
                    <a:pt x="218" y="889"/>
                  </a:lnTo>
                  <a:lnTo>
                    <a:pt x="205" y="862"/>
                  </a:lnTo>
                  <a:lnTo>
                    <a:pt x="185" y="836"/>
                  </a:lnTo>
                  <a:lnTo>
                    <a:pt x="172" y="814"/>
                  </a:lnTo>
                  <a:lnTo>
                    <a:pt x="168" y="796"/>
                  </a:lnTo>
                  <a:lnTo>
                    <a:pt x="167" y="782"/>
                  </a:lnTo>
                  <a:lnTo>
                    <a:pt x="157" y="774"/>
                  </a:lnTo>
                  <a:lnTo>
                    <a:pt x="145" y="766"/>
                  </a:lnTo>
                  <a:lnTo>
                    <a:pt x="140" y="754"/>
                  </a:lnTo>
                  <a:lnTo>
                    <a:pt x="133" y="739"/>
                  </a:lnTo>
                  <a:lnTo>
                    <a:pt x="118" y="722"/>
                  </a:lnTo>
                  <a:lnTo>
                    <a:pt x="100" y="700"/>
                  </a:lnTo>
                  <a:lnTo>
                    <a:pt x="86" y="674"/>
                  </a:lnTo>
                  <a:lnTo>
                    <a:pt x="78" y="652"/>
                  </a:lnTo>
                  <a:lnTo>
                    <a:pt x="75" y="642"/>
                  </a:lnTo>
                  <a:lnTo>
                    <a:pt x="70" y="642"/>
                  </a:lnTo>
                  <a:lnTo>
                    <a:pt x="60" y="642"/>
                  </a:lnTo>
                  <a:lnTo>
                    <a:pt x="45" y="642"/>
                  </a:lnTo>
                  <a:lnTo>
                    <a:pt x="33" y="642"/>
                  </a:lnTo>
                  <a:lnTo>
                    <a:pt x="21" y="642"/>
                  </a:lnTo>
                  <a:lnTo>
                    <a:pt x="11" y="644"/>
                  </a:lnTo>
                  <a:lnTo>
                    <a:pt x="3" y="645"/>
                  </a:lnTo>
                  <a:lnTo>
                    <a:pt x="0" y="645"/>
                  </a:lnTo>
                  <a:lnTo>
                    <a:pt x="1" y="642"/>
                  </a:lnTo>
                  <a:lnTo>
                    <a:pt x="5" y="632"/>
                  </a:lnTo>
                  <a:lnTo>
                    <a:pt x="8" y="620"/>
                  </a:lnTo>
                  <a:lnTo>
                    <a:pt x="13" y="609"/>
                  </a:lnTo>
                  <a:lnTo>
                    <a:pt x="20" y="592"/>
                  </a:lnTo>
                  <a:lnTo>
                    <a:pt x="28" y="569"/>
                  </a:lnTo>
                  <a:lnTo>
                    <a:pt x="35" y="542"/>
                  </a:lnTo>
                  <a:lnTo>
                    <a:pt x="38" y="517"/>
                  </a:lnTo>
                  <a:lnTo>
                    <a:pt x="40" y="500"/>
                  </a:lnTo>
                  <a:lnTo>
                    <a:pt x="43" y="489"/>
                  </a:lnTo>
                  <a:lnTo>
                    <a:pt x="50" y="480"/>
                  </a:lnTo>
                  <a:lnTo>
                    <a:pt x="56" y="470"/>
                  </a:lnTo>
                  <a:lnTo>
                    <a:pt x="61" y="457"/>
                  </a:lnTo>
                  <a:lnTo>
                    <a:pt x="65" y="442"/>
                  </a:lnTo>
                  <a:lnTo>
                    <a:pt x="66" y="429"/>
                  </a:lnTo>
                  <a:lnTo>
                    <a:pt x="66" y="424"/>
                  </a:lnTo>
                  <a:lnTo>
                    <a:pt x="232" y="465"/>
                  </a:lnTo>
                  <a:lnTo>
                    <a:pt x="235" y="464"/>
                  </a:lnTo>
                  <a:lnTo>
                    <a:pt x="243" y="457"/>
                  </a:lnTo>
                  <a:lnTo>
                    <a:pt x="257" y="450"/>
                  </a:lnTo>
                  <a:lnTo>
                    <a:pt x="270" y="439"/>
                  </a:lnTo>
                  <a:lnTo>
                    <a:pt x="285" y="429"/>
                  </a:lnTo>
                  <a:lnTo>
                    <a:pt x="298" y="417"/>
                  </a:lnTo>
                  <a:lnTo>
                    <a:pt x="308" y="407"/>
                  </a:lnTo>
                  <a:lnTo>
                    <a:pt x="313" y="399"/>
                  </a:lnTo>
                  <a:lnTo>
                    <a:pt x="318" y="384"/>
                  </a:lnTo>
                  <a:lnTo>
                    <a:pt x="325" y="369"/>
                  </a:lnTo>
                  <a:lnTo>
                    <a:pt x="330" y="357"/>
                  </a:lnTo>
                  <a:lnTo>
                    <a:pt x="332" y="352"/>
                  </a:lnTo>
                  <a:lnTo>
                    <a:pt x="335" y="352"/>
                  </a:lnTo>
                  <a:lnTo>
                    <a:pt x="342" y="352"/>
                  </a:lnTo>
                  <a:lnTo>
                    <a:pt x="353" y="352"/>
                  </a:lnTo>
                  <a:lnTo>
                    <a:pt x="367" y="350"/>
                  </a:lnTo>
                  <a:lnTo>
                    <a:pt x="382" y="350"/>
                  </a:lnTo>
                  <a:lnTo>
                    <a:pt x="398" y="347"/>
                  </a:lnTo>
                  <a:lnTo>
                    <a:pt x="413" y="345"/>
                  </a:lnTo>
                  <a:lnTo>
                    <a:pt x="427" y="342"/>
                  </a:lnTo>
                  <a:lnTo>
                    <a:pt x="438" y="337"/>
                  </a:lnTo>
                  <a:lnTo>
                    <a:pt x="447" y="329"/>
                  </a:lnTo>
                  <a:lnTo>
                    <a:pt x="455" y="319"/>
                  </a:lnTo>
                  <a:lnTo>
                    <a:pt x="462" y="309"/>
                  </a:lnTo>
                  <a:lnTo>
                    <a:pt x="468" y="299"/>
                  </a:lnTo>
                  <a:lnTo>
                    <a:pt x="475" y="290"/>
                  </a:lnTo>
                  <a:lnTo>
                    <a:pt x="483" y="284"/>
                  </a:lnTo>
                  <a:lnTo>
                    <a:pt x="493" y="280"/>
                  </a:lnTo>
                  <a:lnTo>
                    <a:pt x="508" y="275"/>
                  </a:lnTo>
                  <a:lnTo>
                    <a:pt x="513" y="269"/>
                  </a:lnTo>
                  <a:lnTo>
                    <a:pt x="513" y="264"/>
                  </a:lnTo>
                  <a:lnTo>
                    <a:pt x="512" y="262"/>
                  </a:lnTo>
                  <a:lnTo>
                    <a:pt x="380" y="90"/>
                  </a:lnTo>
                  <a:close/>
                </a:path>
              </a:pathLst>
            </a:custGeom>
            <a:solidFill>
              <a:srgbClr val="b2b2b2">
                <a:alpha val="30000"/>
              </a:srgbClr>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472" name=""/>
          <p:cNvSpPr/>
          <p:nvPr/>
        </p:nvSpPr>
        <p:spPr>
          <a:xfrm>
            <a:off x="1295280" y="2133720"/>
            <a:ext cx="6934320" cy="396216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601"/>
              </a:spcBef>
              <a:buClr>
                <a:srgbClr val="333399"/>
              </a:buClr>
              <a:buFont typeface="Albertus Medium"/>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US" sz="2400" spc="-1" strike="noStrike">
                <a:solidFill>
                  <a:srgbClr val="333399"/>
                </a:solidFill>
                <a:latin typeface="Albertus Medium"/>
              </a:rPr>
              <a:t>Measure/Calculate exposure of the skin to Nanomaterials and especially NP for workers handling powder like Nanomaterials such as Carbon Black or Titanium dioxide.</a:t>
            </a:r>
            <a:endParaRPr b="0" lang="en-US" sz="2400" spc="-1" strike="noStrike">
              <a:solidFill>
                <a:srgbClr val="000000"/>
              </a:solidFill>
              <a:latin typeface="Arial"/>
            </a:endParaRPr>
          </a:p>
          <a:p>
            <a:pPr marL="341280" indent="-341280">
              <a:lnSpc>
                <a:spcPct val="100000"/>
              </a:lnSpc>
              <a:spcBef>
                <a:spcPts val="349"/>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400" spc="-1" strike="noStrike">
              <a:solidFill>
                <a:srgbClr val="000000"/>
              </a:solidFill>
              <a:latin typeface="Arial"/>
            </a:endParaRPr>
          </a:p>
          <a:p>
            <a:pPr marL="341280" indent="-341280">
              <a:lnSpc>
                <a:spcPct val="100000"/>
              </a:lnSpc>
              <a:spcBef>
                <a:spcPts val="601"/>
              </a:spcBef>
              <a:buClr>
                <a:srgbClr val="333399"/>
              </a:buClr>
              <a:buFont typeface="Albertus Medium"/>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US" sz="2400" spc="-1" strike="noStrike">
                <a:solidFill>
                  <a:srgbClr val="333399"/>
                </a:solidFill>
                <a:latin typeface="Albertus Medium"/>
              </a:rPr>
              <a:t>Develop a method to reproducibly assess personal exposure to NP and their agglomerates.</a:t>
            </a:r>
            <a:endParaRPr b="0" lang="en-US" sz="2400" spc="-1" strike="noStrike">
              <a:solidFill>
                <a:srgbClr val="000000"/>
              </a:solidFill>
              <a:latin typeface="Arial"/>
            </a:endParaRPr>
          </a:p>
          <a:p>
            <a:pPr marL="341280" indent="-341280">
              <a:lnSpc>
                <a:spcPct val="100000"/>
              </a:lnSpc>
              <a:spcBef>
                <a:spcPts val="349"/>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400" spc="-1" strike="noStrike">
              <a:solidFill>
                <a:srgbClr val="000000"/>
              </a:solidFill>
              <a:latin typeface="Arial"/>
            </a:endParaRPr>
          </a:p>
          <a:p>
            <a:pPr marL="341280" indent="-341280">
              <a:lnSpc>
                <a:spcPct val="100000"/>
              </a:lnSpc>
              <a:spcBef>
                <a:spcPts val="601"/>
              </a:spcBef>
              <a:buClr>
                <a:srgbClr val="333399"/>
              </a:buClr>
              <a:buFont typeface="Albertus Medium"/>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US" sz="2400" spc="-1" strike="noStrike">
                <a:solidFill>
                  <a:srgbClr val="333399"/>
                </a:solidFill>
                <a:latin typeface="Albertus Medium"/>
              </a:rPr>
              <a:t>measurements in working areas and estimate personal exposure levels to derive an overview on possible exposure levels.</a:t>
            </a:r>
            <a:endParaRPr b="0" lang="en-US" sz="2400" spc="-1" strike="noStrike">
              <a:solidFill>
                <a:srgbClr val="000000"/>
              </a:solidFill>
              <a:latin typeface="Arial"/>
            </a:endParaRPr>
          </a:p>
          <a:p>
            <a:pPr marL="341280" indent="-341280">
              <a:lnSpc>
                <a:spcPct val="100000"/>
              </a:lnSpc>
              <a:spcBef>
                <a:spcPts val="201"/>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800" spc="-1" strike="noStrike">
              <a:solidFill>
                <a:srgbClr val="000000"/>
              </a:solidFill>
              <a:latin typeface="Arial"/>
            </a:endParaRPr>
          </a:p>
          <a:p>
            <a:pPr marL="343080" indent="-341640">
              <a:lnSpc>
                <a:spcPct val="100000"/>
              </a:lnSpc>
              <a:spcBef>
                <a:spcPts val="201"/>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800" spc="-1" strike="noStrike">
              <a:solidFill>
                <a:srgbClr val="000000"/>
              </a:solidFill>
              <a:latin typeface="Arial"/>
            </a:endParaRPr>
          </a:p>
        </p:txBody>
      </p:sp>
      <p:sp>
        <p:nvSpPr>
          <p:cNvPr id="473" name=""/>
          <p:cNvSpPr/>
          <p:nvPr/>
        </p:nvSpPr>
        <p:spPr>
          <a:xfrm>
            <a:off x="914400" y="1157400"/>
            <a:ext cx="7732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333399"/>
                </a:solidFill>
                <a:latin typeface="Albertus Medium"/>
              </a:rPr>
              <a:t>Some Recommendations given to European Centre for Ecotoxicology and Toxicology of Chemicals (ECETOC) :</a:t>
            </a:r>
            <a:endParaRPr b="0" lang="en-US" sz="2400" spc="-1" strike="noStrike">
              <a:solidFill>
                <a:srgbClr val="000000"/>
              </a:solidFill>
              <a:latin typeface="Arial"/>
            </a:endParaRPr>
          </a:p>
        </p:txBody>
      </p:sp>
      <p:sp>
        <p:nvSpPr>
          <p:cNvPr id="474" name=""/>
          <p:cNvSpPr/>
          <p:nvPr/>
        </p:nvSpPr>
        <p:spPr>
          <a:xfrm>
            <a:off x="609480" y="6629400"/>
            <a:ext cx="8534520" cy="228600"/>
          </a:xfrm>
          <a:prstGeom prst="rect">
            <a:avLst/>
          </a:prstGeom>
          <a:solidFill>
            <a:srgbClr val="bbe0e3"/>
          </a:solidFill>
          <a:ln cap="sq"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99"/>
                </a:solidFill>
                <a:latin typeface="Albertus Medium"/>
              </a:rPr>
              <a:t>www.skinandallergy.org</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0" lang="en-US" sz="1000" spc="-1" strike="noStrike">
                <a:solidFill>
                  <a:srgbClr val="333399"/>
                </a:solidFill>
                <a:latin typeface="Albertus Medium"/>
              </a:rPr>
              <a:t>www.panarabderm.org</a:t>
            </a:r>
            <a:endParaRPr b="0" lang="en-US" sz="10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75" name="" descr=""/>
          <p:cNvPicPr/>
          <p:nvPr/>
        </p:nvPicPr>
        <p:blipFill>
          <a:blip r:embed="rId2"/>
          <a:stretch/>
        </p:blipFill>
        <p:spPr>
          <a:xfrm>
            <a:off x="8153280" y="74520"/>
            <a:ext cx="922320" cy="992160"/>
          </a:xfrm>
          <a:prstGeom prst="rect">
            <a:avLst/>
          </a:prstGeom>
          <a:ln w="0">
            <a:noFill/>
          </a:ln>
        </p:spPr>
      </p:pic>
      <p:sp>
        <p:nvSpPr>
          <p:cNvPr id="476" name=""/>
          <p:cNvSpPr/>
          <p:nvPr/>
        </p:nvSpPr>
        <p:spPr>
          <a:xfrm>
            <a:off x="1295280" y="1066680"/>
            <a:ext cx="6193080" cy="1800"/>
          </a:xfrm>
          <a:prstGeom prst="line">
            <a:avLst/>
          </a:prstGeom>
          <a:ln cap="sq" w="12600">
            <a:solidFill>
              <a:srgbClr val="b2b2b2"/>
            </a:solidFill>
            <a:miter/>
          </a:ln>
        </p:spPr>
        <p:style>
          <a:lnRef idx="0"/>
          <a:fillRef idx="0"/>
          <a:effectRef idx="0"/>
          <a:fontRef idx="minor"/>
        </p:style>
        <p:txBody>
          <a:bodyPr lIns="90000" rIns="90000" tIns="-45000" bIns="-45000" anchor="t">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477" name="" descr=""/>
          <p:cNvPicPr/>
          <p:nvPr/>
        </p:nvPicPr>
        <p:blipFill>
          <a:blip r:embed="rId3"/>
          <a:stretch/>
        </p:blipFill>
        <p:spPr>
          <a:xfrm>
            <a:off x="0" y="0"/>
            <a:ext cx="600120" cy="6858000"/>
          </a:xfrm>
          <a:prstGeom prst="rect">
            <a:avLst/>
          </a:prstGeom>
          <a:ln w="0">
            <a:noFill/>
          </a:ln>
        </p:spPr>
      </p:pic>
      <p:sp>
        <p:nvSpPr>
          <p:cNvPr id="478" name=""/>
          <p:cNvSpPr/>
          <p:nvPr/>
        </p:nvSpPr>
        <p:spPr>
          <a:xfrm>
            <a:off x="0" y="457200"/>
            <a:ext cx="914400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333399"/>
                </a:solidFill>
                <a:latin typeface="Albertus Medium"/>
              </a:rPr>
              <a:t>The Risks of Nanotechnology</a:t>
            </a:r>
            <a:endParaRPr b="0" lang="en-US" sz="3600" spc="-1" strike="noStrike">
              <a:solidFill>
                <a:srgbClr val="000000"/>
              </a:solidFill>
              <a:latin typeface="Arial"/>
            </a:endParaRPr>
          </a:p>
        </p:txBody>
      </p:sp>
      <p:grpSp>
        <p:nvGrpSpPr>
          <p:cNvPr id="479" name=""/>
          <p:cNvGrpSpPr/>
          <p:nvPr/>
        </p:nvGrpSpPr>
        <p:grpSpPr>
          <a:xfrm>
            <a:off x="2639880" y="1346040"/>
            <a:ext cx="4521240" cy="3986280"/>
            <a:chOff x="2639880" y="1346040"/>
            <a:chExt cx="4521240" cy="3986280"/>
          </a:xfrm>
        </p:grpSpPr>
        <p:sp>
          <p:nvSpPr>
            <p:cNvPr id="480" name=""/>
            <p:cNvSpPr/>
            <p:nvPr/>
          </p:nvSpPr>
          <p:spPr>
            <a:xfrm>
              <a:off x="2639880" y="2319480"/>
              <a:ext cx="1721160" cy="3012840"/>
            </a:xfrm>
            <a:custGeom>
              <a:avLst/>
              <a:gdLst/>
              <a:ahLst/>
              <a:rect l="l" t="t" r="r" b="b"/>
              <a:pathLst>
                <a:path w="1261" h="2255">
                  <a:moveTo>
                    <a:pt x="1257" y="2027"/>
                  </a:moveTo>
                  <a:lnTo>
                    <a:pt x="1257" y="2015"/>
                  </a:lnTo>
                  <a:lnTo>
                    <a:pt x="1252" y="2000"/>
                  </a:lnTo>
                  <a:lnTo>
                    <a:pt x="1244" y="1985"/>
                  </a:lnTo>
                  <a:lnTo>
                    <a:pt x="1232" y="1970"/>
                  </a:lnTo>
                  <a:lnTo>
                    <a:pt x="1222" y="1956"/>
                  </a:lnTo>
                  <a:lnTo>
                    <a:pt x="1212" y="1945"/>
                  </a:lnTo>
                  <a:lnTo>
                    <a:pt x="1204" y="1933"/>
                  </a:lnTo>
                  <a:lnTo>
                    <a:pt x="1199" y="1921"/>
                  </a:lnTo>
                  <a:lnTo>
                    <a:pt x="1197" y="1910"/>
                  </a:lnTo>
                  <a:lnTo>
                    <a:pt x="1192" y="1893"/>
                  </a:lnTo>
                  <a:lnTo>
                    <a:pt x="1186" y="1876"/>
                  </a:lnTo>
                  <a:lnTo>
                    <a:pt x="1171" y="1860"/>
                  </a:lnTo>
                  <a:lnTo>
                    <a:pt x="1161" y="1851"/>
                  </a:lnTo>
                  <a:lnTo>
                    <a:pt x="1147" y="1838"/>
                  </a:lnTo>
                  <a:lnTo>
                    <a:pt x="1132" y="1823"/>
                  </a:lnTo>
                  <a:lnTo>
                    <a:pt x="1117" y="1806"/>
                  </a:lnTo>
                  <a:lnTo>
                    <a:pt x="1102" y="1788"/>
                  </a:lnTo>
                  <a:lnTo>
                    <a:pt x="1087" y="1770"/>
                  </a:lnTo>
                  <a:lnTo>
                    <a:pt x="1076" y="1750"/>
                  </a:lnTo>
                  <a:lnTo>
                    <a:pt x="1067" y="1731"/>
                  </a:lnTo>
                  <a:lnTo>
                    <a:pt x="1052" y="1703"/>
                  </a:lnTo>
                  <a:lnTo>
                    <a:pt x="1037" y="1681"/>
                  </a:lnTo>
                  <a:lnTo>
                    <a:pt x="1026" y="1665"/>
                  </a:lnTo>
                  <a:lnTo>
                    <a:pt x="1019" y="1646"/>
                  </a:lnTo>
                  <a:lnTo>
                    <a:pt x="1016" y="1633"/>
                  </a:lnTo>
                  <a:lnTo>
                    <a:pt x="1009" y="1613"/>
                  </a:lnTo>
                  <a:lnTo>
                    <a:pt x="999" y="1591"/>
                  </a:lnTo>
                  <a:lnTo>
                    <a:pt x="989" y="1568"/>
                  </a:lnTo>
                  <a:lnTo>
                    <a:pt x="979" y="1545"/>
                  </a:lnTo>
                  <a:lnTo>
                    <a:pt x="969" y="1525"/>
                  </a:lnTo>
                  <a:lnTo>
                    <a:pt x="959" y="1508"/>
                  </a:lnTo>
                  <a:lnTo>
                    <a:pt x="952" y="1499"/>
                  </a:lnTo>
                  <a:lnTo>
                    <a:pt x="942" y="1486"/>
                  </a:lnTo>
                  <a:lnTo>
                    <a:pt x="934" y="1473"/>
                  </a:lnTo>
                  <a:lnTo>
                    <a:pt x="922" y="1458"/>
                  </a:lnTo>
                  <a:lnTo>
                    <a:pt x="911" y="1443"/>
                  </a:lnTo>
                  <a:lnTo>
                    <a:pt x="902" y="1434"/>
                  </a:lnTo>
                  <a:lnTo>
                    <a:pt x="891" y="1426"/>
                  </a:lnTo>
                  <a:lnTo>
                    <a:pt x="879" y="1419"/>
                  </a:lnTo>
                  <a:lnTo>
                    <a:pt x="867" y="1411"/>
                  </a:lnTo>
                  <a:lnTo>
                    <a:pt x="854" y="1404"/>
                  </a:lnTo>
                  <a:lnTo>
                    <a:pt x="842" y="1399"/>
                  </a:lnTo>
                  <a:lnTo>
                    <a:pt x="831" y="1396"/>
                  </a:lnTo>
                  <a:lnTo>
                    <a:pt x="820" y="1394"/>
                  </a:lnTo>
                  <a:lnTo>
                    <a:pt x="812" y="1393"/>
                  </a:lnTo>
                  <a:lnTo>
                    <a:pt x="805" y="1389"/>
                  </a:lnTo>
                  <a:lnTo>
                    <a:pt x="800" y="1384"/>
                  </a:lnTo>
                  <a:lnTo>
                    <a:pt x="794" y="1376"/>
                  </a:lnTo>
                  <a:lnTo>
                    <a:pt x="789" y="1368"/>
                  </a:lnTo>
                  <a:lnTo>
                    <a:pt x="782" y="1354"/>
                  </a:lnTo>
                  <a:lnTo>
                    <a:pt x="774" y="1341"/>
                  </a:lnTo>
                  <a:lnTo>
                    <a:pt x="762" y="1324"/>
                  </a:lnTo>
                  <a:lnTo>
                    <a:pt x="750" y="1306"/>
                  </a:lnTo>
                  <a:lnTo>
                    <a:pt x="740" y="1288"/>
                  </a:lnTo>
                  <a:lnTo>
                    <a:pt x="732" y="1269"/>
                  </a:lnTo>
                  <a:lnTo>
                    <a:pt x="724" y="1253"/>
                  </a:lnTo>
                  <a:lnTo>
                    <a:pt x="717" y="1234"/>
                  </a:lnTo>
                  <a:lnTo>
                    <a:pt x="712" y="1219"/>
                  </a:lnTo>
                  <a:lnTo>
                    <a:pt x="709" y="1204"/>
                  </a:lnTo>
                  <a:lnTo>
                    <a:pt x="705" y="1191"/>
                  </a:lnTo>
                  <a:lnTo>
                    <a:pt x="700" y="1166"/>
                  </a:lnTo>
                  <a:lnTo>
                    <a:pt x="692" y="1143"/>
                  </a:lnTo>
                  <a:lnTo>
                    <a:pt x="685" y="1126"/>
                  </a:lnTo>
                  <a:lnTo>
                    <a:pt x="682" y="1119"/>
                  </a:lnTo>
                  <a:lnTo>
                    <a:pt x="689" y="1108"/>
                  </a:lnTo>
                  <a:lnTo>
                    <a:pt x="700" y="1078"/>
                  </a:lnTo>
                  <a:lnTo>
                    <a:pt x="707" y="1038"/>
                  </a:lnTo>
                  <a:lnTo>
                    <a:pt x="697" y="996"/>
                  </a:lnTo>
                  <a:lnTo>
                    <a:pt x="680" y="961"/>
                  </a:lnTo>
                  <a:lnTo>
                    <a:pt x="670" y="932"/>
                  </a:lnTo>
                  <a:lnTo>
                    <a:pt x="662" y="904"/>
                  </a:lnTo>
                  <a:lnTo>
                    <a:pt x="649" y="872"/>
                  </a:lnTo>
                  <a:lnTo>
                    <a:pt x="640" y="856"/>
                  </a:lnTo>
                  <a:lnTo>
                    <a:pt x="635" y="839"/>
                  </a:lnTo>
                  <a:lnTo>
                    <a:pt x="630" y="826"/>
                  </a:lnTo>
                  <a:lnTo>
                    <a:pt x="625" y="814"/>
                  </a:lnTo>
                  <a:lnTo>
                    <a:pt x="620" y="802"/>
                  </a:lnTo>
                  <a:lnTo>
                    <a:pt x="614" y="792"/>
                  </a:lnTo>
                  <a:lnTo>
                    <a:pt x="607" y="784"/>
                  </a:lnTo>
                  <a:lnTo>
                    <a:pt x="597" y="777"/>
                  </a:lnTo>
                  <a:lnTo>
                    <a:pt x="587" y="771"/>
                  </a:lnTo>
                  <a:lnTo>
                    <a:pt x="575" y="762"/>
                  </a:lnTo>
                  <a:lnTo>
                    <a:pt x="565" y="754"/>
                  </a:lnTo>
                  <a:lnTo>
                    <a:pt x="554" y="744"/>
                  </a:lnTo>
                  <a:lnTo>
                    <a:pt x="542" y="736"/>
                  </a:lnTo>
                  <a:lnTo>
                    <a:pt x="529" y="729"/>
                  </a:lnTo>
                  <a:lnTo>
                    <a:pt x="515" y="721"/>
                  </a:lnTo>
                  <a:lnTo>
                    <a:pt x="502" y="716"/>
                  </a:lnTo>
                  <a:lnTo>
                    <a:pt x="480" y="702"/>
                  </a:lnTo>
                  <a:lnTo>
                    <a:pt x="470" y="686"/>
                  </a:lnTo>
                  <a:lnTo>
                    <a:pt x="464" y="667"/>
                  </a:lnTo>
                  <a:lnTo>
                    <a:pt x="454" y="649"/>
                  </a:lnTo>
                  <a:lnTo>
                    <a:pt x="444" y="634"/>
                  </a:lnTo>
                  <a:lnTo>
                    <a:pt x="437" y="621"/>
                  </a:lnTo>
                  <a:lnTo>
                    <a:pt x="435" y="611"/>
                  </a:lnTo>
                  <a:lnTo>
                    <a:pt x="435" y="607"/>
                  </a:lnTo>
                  <a:lnTo>
                    <a:pt x="437" y="607"/>
                  </a:lnTo>
                  <a:lnTo>
                    <a:pt x="442" y="606"/>
                  </a:lnTo>
                  <a:lnTo>
                    <a:pt x="449" y="602"/>
                  </a:lnTo>
                  <a:lnTo>
                    <a:pt x="455" y="596"/>
                  </a:lnTo>
                  <a:lnTo>
                    <a:pt x="459" y="589"/>
                  </a:lnTo>
                  <a:lnTo>
                    <a:pt x="459" y="577"/>
                  </a:lnTo>
                  <a:lnTo>
                    <a:pt x="454" y="564"/>
                  </a:lnTo>
                  <a:lnTo>
                    <a:pt x="440" y="546"/>
                  </a:lnTo>
                  <a:lnTo>
                    <a:pt x="434" y="539"/>
                  </a:lnTo>
                  <a:lnTo>
                    <a:pt x="429" y="532"/>
                  </a:lnTo>
                  <a:lnTo>
                    <a:pt x="424" y="529"/>
                  </a:lnTo>
                  <a:lnTo>
                    <a:pt x="420" y="526"/>
                  </a:lnTo>
                  <a:lnTo>
                    <a:pt x="419" y="527"/>
                  </a:lnTo>
                  <a:lnTo>
                    <a:pt x="415" y="526"/>
                  </a:lnTo>
                  <a:lnTo>
                    <a:pt x="415" y="522"/>
                  </a:lnTo>
                  <a:lnTo>
                    <a:pt x="420" y="526"/>
                  </a:lnTo>
                  <a:lnTo>
                    <a:pt x="420" y="524"/>
                  </a:lnTo>
                  <a:lnTo>
                    <a:pt x="419" y="521"/>
                  </a:lnTo>
                  <a:lnTo>
                    <a:pt x="419" y="517"/>
                  </a:lnTo>
                  <a:lnTo>
                    <a:pt x="417" y="512"/>
                  </a:lnTo>
                  <a:lnTo>
                    <a:pt x="409" y="490"/>
                  </a:lnTo>
                  <a:lnTo>
                    <a:pt x="405" y="477"/>
                  </a:lnTo>
                  <a:lnTo>
                    <a:pt x="399" y="467"/>
                  </a:lnTo>
                  <a:lnTo>
                    <a:pt x="384" y="455"/>
                  </a:lnTo>
                  <a:lnTo>
                    <a:pt x="372" y="440"/>
                  </a:lnTo>
                  <a:lnTo>
                    <a:pt x="374" y="425"/>
                  </a:lnTo>
                  <a:lnTo>
                    <a:pt x="375" y="412"/>
                  </a:lnTo>
                  <a:lnTo>
                    <a:pt x="364" y="399"/>
                  </a:lnTo>
                  <a:lnTo>
                    <a:pt x="345" y="387"/>
                  </a:lnTo>
                  <a:lnTo>
                    <a:pt x="332" y="372"/>
                  </a:lnTo>
                  <a:lnTo>
                    <a:pt x="325" y="355"/>
                  </a:lnTo>
                  <a:lnTo>
                    <a:pt x="322" y="337"/>
                  </a:lnTo>
                  <a:lnTo>
                    <a:pt x="319" y="317"/>
                  </a:lnTo>
                  <a:lnTo>
                    <a:pt x="309" y="290"/>
                  </a:lnTo>
                  <a:lnTo>
                    <a:pt x="294" y="264"/>
                  </a:lnTo>
                  <a:lnTo>
                    <a:pt x="273" y="237"/>
                  </a:lnTo>
                  <a:lnTo>
                    <a:pt x="260" y="215"/>
                  </a:lnTo>
                  <a:lnTo>
                    <a:pt x="257" y="197"/>
                  </a:lnTo>
                  <a:lnTo>
                    <a:pt x="255" y="184"/>
                  </a:lnTo>
                  <a:lnTo>
                    <a:pt x="245" y="175"/>
                  </a:lnTo>
                  <a:lnTo>
                    <a:pt x="233" y="167"/>
                  </a:lnTo>
                  <a:lnTo>
                    <a:pt x="228" y="154"/>
                  </a:lnTo>
                  <a:lnTo>
                    <a:pt x="222" y="140"/>
                  </a:lnTo>
                  <a:lnTo>
                    <a:pt x="207" y="124"/>
                  </a:lnTo>
                  <a:lnTo>
                    <a:pt x="188" y="100"/>
                  </a:lnTo>
                  <a:lnTo>
                    <a:pt x="175" y="74"/>
                  </a:lnTo>
                  <a:lnTo>
                    <a:pt x="168" y="52"/>
                  </a:lnTo>
                  <a:lnTo>
                    <a:pt x="165" y="42"/>
                  </a:lnTo>
                  <a:lnTo>
                    <a:pt x="160" y="42"/>
                  </a:lnTo>
                  <a:lnTo>
                    <a:pt x="148" y="42"/>
                  </a:lnTo>
                  <a:lnTo>
                    <a:pt x="133" y="42"/>
                  </a:lnTo>
                  <a:lnTo>
                    <a:pt x="122" y="42"/>
                  </a:lnTo>
                  <a:lnTo>
                    <a:pt x="110" y="42"/>
                  </a:lnTo>
                  <a:lnTo>
                    <a:pt x="100" y="44"/>
                  </a:lnTo>
                  <a:lnTo>
                    <a:pt x="92" y="47"/>
                  </a:lnTo>
                  <a:lnTo>
                    <a:pt x="88" y="47"/>
                  </a:lnTo>
                  <a:lnTo>
                    <a:pt x="90" y="44"/>
                  </a:lnTo>
                  <a:lnTo>
                    <a:pt x="93" y="34"/>
                  </a:lnTo>
                  <a:lnTo>
                    <a:pt x="98" y="20"/>
                  </a:lnTo>
                  <a:lnTo>
                    <a:pt x="103" y="8"/>
                  </a:lnTo>
                  <a:lnTo>
                    <a:pt x="103" y="8"/>
                  </a:lnTo>
                  <a:lnTo>
                    <a:pt x="103" y="8"/>
                  </a:lnTo>
                  <a:lnTo>
                    <a:pt x="103" y="8"/>
                  </a:lnTo>
                  <a:lnTo>
                    <a:pt x="103" y="8"/>
                  </a:lnTo>
                  <a:lnTo>
                    <a:pt x="67" y="0"/>
                  </a:lnTo>
                  <a:lnTo>
                    <a:pt x="67" y="5"/>
                  </a:lnTo>
                  <a:lnTo>
                    <a:pt x="65" y="19"/>
                  </a:lnTo>
                  <a:lnTo>
                    <a:pt x="62" y="34"/>
                  </a:lnTo>
                  <a:lnTo>
                    <a:pt x="57" y="47"/>
                  </a:lnTo>
                  <a:lnTo>
                    <a:pt x="50" y="57"/>
                  </a:lnTo>
                  <a:lnTo>
                    <a:pt x="45" y="65"/>
                  </a:lnTo>
                  <a:lnTo>
                    <a:pt x="40" y="79"/>
                  </a:lnTo>
                  <a:lnTo>
                    <a:pt x="38" y="95"/>
                  </a:lnTo>
                  <a:lnTo>
                    <a:pt x="35" y="119"/>
                  </a:lnTo>
                  <a:lnTo>
                    <a:pt x="28" y="145"/>
                  </a:lnTo>
                  <a:lnTo>
                    <a:pt x="20" y="169"/>
                  </a:lnTo>
                  <a:lnTo>
                    <a:pt x="15" y="185"/>
                  </a:lnTo>
                  <a:lnTo>
                    <a:pt x="10" y="197"/>
                  </a:lnTo>
                  <a:lnTo>
                    <a:pt x="5" y="209"/>
                  </a:lnTo>
                  <a:lnTo>
                    <a:pt x="2" y="220"/>
                  </a:lnTo>
                  <a:lnTo>
                    <a:pt x="0" y="224"/>
                  </a:lnTo>
                  <a:lnTo>
                    <a:pt x="3" y="224"/>
                  </a:lnTo>
                  <a:lnTo>
                    <a:pt x="12" y="220"/>
                  </a:lnTo>
                  <a:lnTo>
                    <a:pt x="23" y="219"/>
                  </a:lnTo>
                  <a:lnTo>
                    <a:pt x="33" y="219"/>
                  </a:lnTo>
                  <a:lnTo>
                    <a:pt x="47" y="219"/>
                  </a:lnTo>
                  <a:lnTo>
                    <a:pt x="60" y="219"/>
                  </a:lnTo>
                  <a:lnTo>
                    <a:pt x="72" y="219"/>
                  </a:lnTo>
                  <a:lnTo>
                    <a:pt x="77" y="219"/>
                  </a:lnTo>
                  <a:lnTo>
                    <a:pt x="80" y="229"/>
                  </a:lnTo>
                  <a:lnTo>
                    <a:pt x="87" y="250"/>
                  </a:lnTo>
                  <a:lnTo>
                    <a:pt x="100" y="277"/>
                  </a:lnTo>
                  <a:lnTo>
                    <a:pt x="118" y="299"/>
                  </a:lnTo>
                  <a:lnTo>
                    <a:pt x="133" y="315"/>
                  </a:lnTo>
                  <a:lnTo>
                    <a:pt x="140" y="330"/>
                  </a:lnTo>
                  <a:lnTo>
                    <a:pt x="145" y="342"/>
                  </a:lnTo>
                  <a:lnTo>
                    <a:pt x="157" y="352"/>
                  </a:lnTo>
                  <a:lnTo>
                    <a:pt x="167" y="360"/>
                  </a:lnTo>
                  <a:lnTo>
                    <a:pt x="168" y="374"/>
                  </a:lnTo>
                  <a:lnTo>
                    <a:pt x="172" y="390"/>
                  </a:lnTo>
                  <a:lnTo>
                    <a:pt x="185" y="414"/>
                  </a:lnTo>
                  <a:lnTo>
                    <a:pt x="205" y="440"/>
                  </a:lnTo>
                  <a:lnTo>
                    <a:pt x="220" y="467"/>
                  </a:lnTo>
                  <a:lnTo>
                    <a:pt x="230" y="492"/>
                  </a:lnTo>
                  <a:lnTo>
                    <a:pt x="233" y="512"/>
                  </a:lnTo>
                  <a:lnTo>
                    <a:pt x="237" y="531"/>
                  </a:lnTo>
                  <a:lnTo>
                    <a:pt x="243" y="547"/>
                  </a:lnTo>
                  <a:lnTo>
                    <a:pt x="257" y="562"/>
                  </a:lnTo>
                  <a:lnTo>
                    <a:pt x="275" y="574"/>
                  </a:lnTo>
                  <a:lnTo>
                    <a:pt x="287" y="587"/>
                  </a:lnTo>
                  <a:lnTo>
                    <a:pt x="285" y="601"/>
                  </a:lnTo>
                  <a:lnTo>
                    <a:pt x="284" y="617"/>
                  </a:lnTo>
                  <a:lnTo>
                    <a:pt x="295" y="632"/>
                  </a:lnTo>
                  <a:lnTo>
                    <a:pt x="310" y="642"/>
                  </a:lnTo>
                  <a:lnTo>
                    <a:pt x="317" y="652"/>
                  </a:lnTo>
                  <a:lnTo>
                    <a:pt x="320" y="666"/>
                  </a:lnTo>
                  <a:lnTo>
                    <a:pt x="329" y="687"/>
                  </a:lnTo>
                  <a:lnTo>
                    <a:pt x="330" y="692"/>
                  </a:lnTo>
                  <a:lnTo>
                    <a:pt x="330" y="696"/>
                  </a:lnTo>
                  <a:lnTo>
                    <a:pt x="332" y="697"/>
                  </a:lnTo>
                  <a:lnTo>
                    <a:pt x="332" y="699"/>
                  </a:lnTo>
                  <a:lnTo>
                    <a:pt x="335" y="702"/>
                  </a:lnTo>
                  <a:lnTo>
                    <a:pt x="340" y="707"/>
                  </a:lnTo>
                  <a:lnTo>
                    <a:pt x="345" y="712"/>
                  </a:lnTo>
                  <a:lnTo>
                    <a:pt x="352" y="721"/>
                  </a:lnTo>
                  <a:lnTo>
                    <a:pt x="365" y="737"/>
                  </a:lnTo>
                  <a:lnTo>
                    <a:pt x="370" y="752"/>
                  </a:lnTo>
                  <a:lnTo>
                    <a:pt x="370" y="762"/>
                  </a:lnTo>
                  <a:lnTo>
                    <a:pt x="367" y="771"/>
                  </a:lnTo>
                  <a:lnTo>
                    <a:pt x="360" y="776"/>
                  </a:lnTo>
                  <a:lnTo>
                    <a:pt x="354" y="781"/>
                  </a:lnTo>
                  <a:lnTo>
                    <a:pt x="349" y="782"/>
                  </a:lnTo>
                  <a:lnTo>
                    <a:pt x="347" y="782"/>
                  </a:lnTo>
                  <a:lnTo>
                    <a:pt x="347" y="786"/>
                  </a:lnTo>
                  <a:lnTo>
                    <a:pt x="350" y="794"/>
                  </a:lnTo>
                  <a:lnTo>
                    <a:pt x="355" y="807"/>
                  </a:lnTo>
                  <a:lnTo>
                    <a:pt x="367" y="824"/>
                  </a:lnTo>
                  <a:lnTo>
                    <a:pt x="377" y="842"/>
                  </a:lnTo>
                  <a:lnTo>
                    <a:pt x="384" y="862"/>
                  </a:lnTo>
                  <a:lnTo>
                    <a:pt x="392" y="877"/>
                  </a:lnTo>
                  <a:lnTo>
                    <a:pt x="414" y="891"/>
                  </a:lnTo>
                  <a:lnTo>
                    <a:pt x="427" y="897"/>
                  </a:lnTo>
                  <a:lnTo>
                    <a:pt x="440" y="904"/>
                  </a:lnTo>
                  <a:lnTo>
                    <a:pt x="454" y="912"/>
                  </a:lnTo>
                  <a:lnTo>
                    <a:pt x="465" y="921"/>
                  </a:lnTo>
                  <a:lnTo>
                    <a:pt x="477" y="929"/>
                  </a:lnTo>
                  <a:lnTo>
                    <a:pt x="487" y="937"/>
                  </a:lnTo>
                  <a:lnTo>
                    <a:pt x="499" y="946"/>
                  </a:lnTo>
                  <a:lnTo>
                    <a:pt x="509" y="952"/>
                  </a:lnTo>
                  <a:lnTo>
                    <a:pt x="519" y="961"/>
                  </a:lnTo>
                  <a:lnTo>
                    <a:pt x="525" y="969"/>
                  </a:lnTo>
                  <a:lnTo>
                    <a:pt x="532" y="979"/>
                  </a:lnTo>
                  <a:lnTo>
                    <a:pt x="537" y="989"/>
                  </a:lnTo>
                  <a:lnTo>
                    <a:pt x="542" y="1002"/>
                  </a:lnTo>
                  <a:lnTo>
                    <a:pt x="547" y="1016"/>
                  </a:lnTo>
                  <a:lnTo>
                    <a:pt x="552" y="1031"/>
                  </a:lnTo>
                  <a:lnTo>
                    <a:pt x="560" y="1048"/>
                  </a:lnTo>
                  <a:lnTo>
                    <a:pt x="574" y="1079"/>
                  </a:lnTo>
                  <a:lnTo>
                    <a:pt x="584" y="1108"/>
                  </a:lnTo>
                  <a:lnTo>
                    <a:pt x="592" y="1136"/>
                  </a:lnTo>
                  <a:lnTo>
                    <a:pt x="609" y="1171"/>
                  </a:lnTo>
                  <a:lnTo>
                    <a:pt x="619" y="1213"/>
                  </a:lnTo>
                  <a:lnTo>
                    <a:pt x="612" y="1253"/>
                  </a:lnTo>
                  <a:lnTo>
                    <a:pt x="600" y="1283"/>
                  </a:lnTo>
                  <a:lnTo>
                    <a:pt x="594" y="1294"/>
                  </a:lnTo>
                  <a:lnTo>
                    <a:pt x="597" y="1301"/>
                  </a:lnTo>
                  <a:lnTo>
                    <a:pt x="604" y="1318"/>
                  </a:lnTo>
                  <a:lnTo>
                    <a:pt x="612" y="1341"/>
                  </a:lnTo>
                  <a:lnTo>
                    <a:pt x="617" y="1366"/>
                  </a:lnTo>
                  <a:lnTo>
                    <a:pt x="620" y="1379"/>
                  </a:lnTo>
                  <a:lnTo>
                    <a:pt x="624" y="1394"/>
                  </a:lnTo>
                  <a:lnTo>
                    <a:pt x="629" y="1409"/>
                  </a:lnTo>
                  <a:lnTo>
                    <a:pt x="635" y="1428"/>
                  </a:lnTo>
                  <a:lnTo>
                    <a:pt x="644" y="1444"/>
                  </a:lnTo>
                  <a:lnTo>
                    <a:pt x="654" y="1463"/>
                  </a:lnTo>
                  <a:lnTo>
                    <a:pt x="664" y="1481"/>
                  </a:lnTo>
                  <a:lnTo>
                    <a:pt x="675" y="1499"/>
                  </a:lnTo>
                  <a:lnTo>
                    <a:pt x="687" y="1516"/>
                  </a:lnTo>
                  <a:lnTo>
                    <a:pt x="695" y="1531"/>
                  </a:lnTo>
                  <a:lnTo>
                    <a:pt x="702" y="1543"/>
                  </a:lnTo>
                  <a:lnTo>
                    <a:pt x="707" y="1553"/>
                  </a:lnTo>
                  <a:lnTo>
                    <a:pt x="712" y="1561"/>
                  </a:lnTo>
                  <a:lnTo>
                    <a:pt x="719" y="1566"/>
                  </a:lnTo>
                  <a:lnTo>
                    <a:pt x="724" y="1570"/>
                  </a:lnTo>
                  <a:lnTo>
                    <a:pt x="732" y="1571"/>
                  </a:lnTo>
                  <a:lnTo>
                    <a:pt x="742" y="1573"/>
                  </a:lnTo>
                  <a:lnTo>
                    <a:pt x="754" y="1576"/>
                  </a:lnTo>
                  <a:lnTo>
                    <a:pt x="765" y="1581"/>
                  </a:lnTo>
                  <a:lnTo>
                    <a:pt x="779" y="1588"/>
                  </a:lnTo>
                  <a:lnTo>
                    <a:pt x="792" y="1595"/>
                  </a:lnTo>
                  <a:lnTo>
                    <a:pt x="804" y="1603"/>
                  </a:lnTo>
                  <a:lnTo>
                    <a:pt x="814" y="1611"/>
                  </a:lnTo>
                  <a:lnTo>
                    <a:pt x="822" y="1618"/>
                  </a:lnTo>
                  <a:lnTo>
                    <a:pt x="834" y="1633"/>
                  </a:lnTo>
                  <a:lnTo>
                    <a:pt x="846" y="1648"/>
                  </a:lnTo>
                  <a:lnTo>
                    <a:pt x="856" y="1663"/>
                  </a:lnTo>
                  <a:lnTo>
                    <a:pt x="866" y="1675"/>
                  </a:lnTo>
                  <a:lnTo>
                    <a:pt x="872" y="1685"/>
                  </a:lnTo>
                  <a:lnTo>
                    <a:pt x="881" y="1700"/>
                  </a:lnTo>
                  <a:lnTo>
                    <a:pt x="891" y="1721"/>
                  </a:lnTo>
                  <a:lnTo>
                    <a:pt x="902" y="1743"/>
                  </a:lnTo>
                  <a:lnTo>
                    <a:pt x="912" y="1768"/>
                  </a:lnTo>
                  <a:lnTo>
                    <a:pt x="921" y="1790"/>
                  </a:lnTo>
                  <a:lnTo>
                    <a:pt x="927" y="1810"/>
                  </a:lnTo>
                  <a:lnTo>
                    <a:pt x="931" y="1823"/>
                  </a:lnTo>
                  <a:lnTo>
                    <a:pt x="937" y="1841"/>
                  </a:lnTo>
                  <a:lnTo>
                    <a:pt x="951" y="1858"/>
                  </a:lnTo>
                  <a:lnTo>
                    <a:pt x="964" y="1878"/>
                  </a:lnTo>
                  <a:lnTo>
                    <a:pt x="979" y="1908"/>
                  </a:lnTo>
                  <a:lnTo>
                    <a:pt x="987" y="1926"/>
                  </a:lnTo>
                  <a:lnTo>
                    <a:pt x="999" y="1945"/>
                  </a:lnTo>
                  <a:lnTo>
                    <a:pt x="1014" y="1965"/>
                  </a:lnTo>
                  <a:lnTo>
                    <a:pt x="1029" y="1981"/>
                  </a:lnTo>
                  <a:lnTo>
                    <a:pt x="1044" y="2000"/>
                  </a:lnTo>
                  <a:lnTo>
                    <a:pt x="1059" y="2015"/>
                  </a:lnTo>
                  <a:lnTo>
                    <a:pt x="1072" y="2027"/>
                  </a:lnTo>
                  <a:lnTo>
                    <a:pt x="1084" y="2037"/>
                  </a:lnTo>
                  <a:lnTo>
                    <a:pt x="1097" y="2052"/>
                  </a:lnTo>
                  <a:lnTo>
                    <a:pt x="1106" y="2068"/>
                  </a:lnTo>
                  <a:lnTo>
                    <a:pt x="1109" y="2085"/>
                  </a:lnTo>
                  <a:lnTo>
                    <a:pt x="1112" y="2098"/>
                  </a:lnTo>
                  <a:lnTo>
                    <a:pt x="1117" y="2108"/>
                  </a:lnTo>
                  <a:lnTo>
                    <a:pt x="1126" y="2120"/>
                  </a:lnTo>
                  <a:lnTo>
                    <a:pt x="1136" y="2132"/>
                  </a:lnTo>
                  <a:lnTo>
                    <a:pt x="1146" y="2145"/>
                  </a:lnTo>
                  <a:lnTo>
                    <a:pt x="1156" y="2160"/>
                  </a:lnTo>
                  <a:lnTo>
                    <a:pt x="1164" y="2175"/>
                  </a:lnTo>
                  <a:lnTo>
                    <a:pt x="1169" y="2190"/>
                  </a:lnTo>
                  <a:lnTo>
                    <a:pt x="1169" y="2202"/>
                  </a:lnTo>
                  <a:lnTo>
                    <a:pt x="1169" y="2217"/>
                  </a:lnTo>
                  <a:lnTo>
                    <a:pt x="1172" y="2233"/>
                  </a:lnTo>
                  <a:lnTo>
                    <a:pt x="1177" y="2248"/>
                  </a:lnTo>
                  <a:lnTo>
                    <a:pt x="1179" y="2255"/>
                  </a:lnTo>
                  <a:lnTo>
                    <a:pt x="1216" y="2227"/>
                  </a:lnTo>
                  <a:lnTo>
                    <a:pt x="1219" y="2222"/>
                  </a:lnTo>
                  <a:lnTo>
                    <a:pt x="1226" y="2208"/>
                  </a:lnTo>
                  <a:lnTo>
                    <a:pt x="1232" y="2192"/>
                  </a:lnTo>
                  <a:lnTo>
                    <a:pt x="1236" y="2178"/>
                  </a:lnTo>
                  <a:lnTo>
                    <a:pt x="1236" y="2165"/>
                  </a:lnTo>
                  <a:lnTo>
                    <a:pt x="1234" y="2145"/>
                  </a:lnTo>
                  <a:lnTo>
                    <a:pt x="1236" y="2123"/>
                  </a:lnTo>
                  <a:lnTo>
                    <a:pt x="1241" y="2103"/>
                  </a:lnTo>
                  <a:lnTo>
                    <a:pt x="1241" y="2087"/>
                  </a:lnTo>
                  <a:lnTo>
                    <a:pt x="1236" y="2077"/>
                  </a:lnTo>
                  <a:lnTo>
                    <a:pt x="1234" y="2067"/>
                  </a:lnTo>
                  <a:lnTo>
                    <a:pt x="1241" y="2060"/>
                  </a:lnTo>
                  <a:lnTo>
                    <a:pt x="1246" y="2057"/>
                  </a:lnTo>
                  <a:lnTo>
                    <a:pt x="1251" y="2057"/>
                  </a:lnTo>
                  <a:lnTo>
                    <a:pt x="1256" y="2058"/>
                  </a:lnTo>
                  <a:lnTo>
                    <a:pt x="1261" y="2062"/>
                  </a:lnTo>
                  <a:lnTo>
                    <a:pt x="1259" y="2052"/>
                  </a:lnTo>
                  <a:lnTo>
                    <a:pt x="1257" y="2043"/>
                  </a:lnTo>
                  <a:lnTo>
                    <a:pt x="1256" y="2033"/>
                  </a:lnTo>
                  <a:lnTo>
                    <a:pt x="1257" y="2027"/>
                  </a:lnTo>
                  <a:close/>
                </a:path>
              </a:pathLst>
            </a:custGeom>
            <a:solidFill>
              <a:srgbClr val="ffffff">
                <a:alpha val="10000"/>
              </a:srgbClr>
            </a:solidFill>
            <a:ln cap="sq" w="9360">
              <a:solidFill>
                <a:srgbClr val="ffffff"/>
              </a:solidFill>
              <a:round/>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1" name=""/>
            <p:cNvSpPr/>
            <p:nvPr/>
          </p:nvSpPr>
          <p:spPr>
            <a:xfrm>
              <a:off x="3086280" y="3249720"/>
              <a:ext cx="4680" cy="4680"/>
            </a:xfrm>
            <a:custGeom>
              <a:avLst/>
              <a:gdLst/>
              <a:ahLst/>
              <a:rect l="l" t="t" r="r" b="b"/>
              <a:pathLst>
                <a:path w="5" h="5">
                  <a:moveTo>
                    <a:pt x="5" y="3"/>
                  </a:moveTo>
                  <a:lnTo>
                    <a:pt x="0" y="0"/>
                  </a:lnTo>
                  <a:lnTo>
                    <a:pt x="2" y="3"/>
                  </a:lnTo>
                  <a:lnTo>
                    <a:pt x="3" y="5"/>
                  </a:lnTo>
                  <a:lnTo>
                    <a:pt x="5" y="3"/>
                  </a:lnTo>
                  <a:lnTo>
                    <a:pt x="5" y="3"/>
                  </a:lnTo>
                  <a:close/>
                </a:path>
              </a:pathLst>
            </a:custGeom>
            <a:solidFill>
              <a:srgbClr val="000000"/>
            </a:solidFill>
            <a:ln w="0">
              <a:noFill/>
            </a:ln>
          </p:spPr>
          <p:style>
            <a:lnRef idx="0"/>
            <a:fillRef idx="0"/>
            <a:effectRef idx="0"/>
            <a:fontRef idx="minor"/>
          </p:style>
          <p:txBody>
            <a:bodyPr wrap="none" lIns="90000" rIns="90000" tIns="-42120" bIns="-421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2" name=""/>
            <p:cNvSpPr/>
            <p:nvPr/>
          </p:nvSpPr>
          <p:spPr>
            <a:xfrm>
              <a:off x="4379760" y="4205160"/>
              <a:ext cx="2567160" cy="993960"/>
            </a:xfrm>
            <a:custGeom>
              <a:avLst/>
              <a:gdLst/>
              <a:ahLst/>
              <a:rect l="l" t="t" r="r" b="b"/>
              <a:pathLst>
                <a:path w="1881" h="744">
                  <a:moveTo>
                    <a:pt x="1298" y="222"/>
                  </a:moveTo>
                  <a:lnTo>
                    <a:pt x="1283" y="225"/>
                  </a:lnTo>
                  <a:lnTo>
                    <a:pt x="1263" y="230"/>
                  </a:lnTo>
                  <a:lnTo>
                    <a:pt x="1239" y="235"/>
                  </a:lnTo>
                  <a:lnTo>
                    <a:pt x="1214" y="242"/>
                  </a:lnTo>
                  <a:lnTo>
                    <a:pt x="1186" y="249"/>
                  </a:lnTo>
                  <a:lnTo>
                    <a:pt x="1157" y="255"/>
                  </a:lnTo>
                  <a:lnTo>
                    <a:pt x="1127" y="262"/>
                  </a:lnTo>
                  <a:lnTo>
                    <a:pt x="1097" y="269"/>
                  </a:lnTo>
                  <a:lnTo>
                    <a:pt x="1067" y="275"/>
                  </a:lnTo>
                  <a:lnTo>
                    <a:pt x="1039" y="284"/>
                  </a:lnTo>
                  <a:lnTo>
                    <a:pt x="1012" y="290"/>
                  </a:lnTo>
                  <a:lnTo>
                    <a:pt x="989" y="297"/>
                  </a:lnTo>
                  <a:lnTo>
                    <a:pt x="967" y="302"/>
                  </a:lnTo>
                  <a:lnTo>
                    <a:pt x="949" y="309"/>
                  </a:lnTo>
                  <a:lnTo>
                    <a:pt x="936" y="314"/>
                  </a:lnTo>
                  <a:lnTo>
                    <a:pt x="927" y="317"/>
                  </a:lnTo>
                  <a:lnTo>
                    <a:pt x="914" y="324"/>
                  </a:lnTo>
                  <a:lnTo>
                    <a:pt x="901" y="329"/>
                  </a:lnTo>
                  <a:lnTo>
                    <a:pt x="887" y="337"/>
                  </a:lnTo>
                  <a:lnTo>
                    <a:pt x="872" y="344"/>
                  </a:lnTo>
                  <a:lnTo>
                    <a:pt x="857" y="355"/>
                  </a:lnTo>
                  <a:lnTo>
                    <a:pt x="842" y="369"/>
                  </a:lnTo>
                  <a:lnTo>
                    <a:pt x="826" y="389"/>
                  </a:lnTo>
                  <a:lnTo>
                    <a:pt x="807" y="412"/>
                  </a:lnTo>
                  <a:lnTo>
                    <a:pt x="791" y="437"/>
                  </a:lnTo>
                  <a:lnTo>
                    <a:pt x="776" y="460"/>
                  </a:lnTo>
                  <a:lnTo>
                    <a:pt x="761" y="482"/>
                  </a:lnTo>
                  <a:lnTo>
                    <a:pt x="747" y="502"/>
                  </a:lnTo>
                  <a:lnTo>
                    <a:pt x="737" y="519"/>
                  </a:lnTo>
                  <a:lnTo>
                    <a:pt x="727" y="532"/>
                  </a:lnTo>
                  <a:lnTo>
                    <a:pt x="719" y="542"/>
                  </a:lnTo>
                  <a:lnTo>
                    <a:pt x="712" y="549"/>
                  </a:lnTo>
                  <a:lnTo>
                    <a:pt x="706" y="554"/>
                  </a:lnTo>
                  <a:lnTo>
                    <a:pt x="699" y="559"/>
                  </a:lnTo>
                  <a:lnTo>
                    <a:pt x="689" y="564"/>
                  </a:lnTo>
                  <a:lnTo>
                    <a:pt x="679" y="565"/>
                  </a:lnTo>
                  <a:lnTo>
                    <a:pt x="667" y="567"/>
                  </a:lnTo>
                  <a:lnTo>
                    <a:pt x="657" y="567"/>
                  </a:lnTo>
                  <a:lnTo>
                    <a:pt x="647" y="564"/>
                  </a:lnTo>
                  <a:lnTo>
                    <a:pt x="637" y="559"/>
                  </a:lnTo>
                  <a:lnTo>
                    <a:pt x="629" y="552"/>
                  </a:lnTo>
                  <a:lnTo>
                    <a:pt x="622" y="544"/>
                  </a:lnTo>
                  <a:lnTo>
                    <a:pt x="615" y="535"/>
                  </a:lnTo>
                  <a:lnTo>
                    <a:pt x="609" y="529"/>
                  </a:lnTo>
                  <a:lnTo>
                    <a:pt x="602" y="524"/>
                  </a:lnTo>
                  <a:lnTo>
                    <a:pt x="595" y="520"/>
                  </a:lnTo>
                  <a:lnTo>
                    <a:pt x="589" y="519"/>
                  </a:lnTo>
                  <a:lnTo>
                    <a:pt x="580" y="520"/>
                  </a:lnTo>
                  <a:lnTo>
                    <a:pt x="569" y="524"/>
                  </a:lnTo>
                  <a:lnTo>
                    <a:pt x="554" y="525"/>
                  </a:lnTo>
                  <a:lnTo>
                    <a:pt x="537" y="525"/>
                  </a:lnTo>
                  <a:lnTo>
                    <a:pt x="519" y="525"/>
                  </a:lnTo>
                  <a:lnTo>
                    <a:pt x="499" y="525"/>
                  </a:lnTo>
                  <a:lnTo>
                    <a:pt x="480" y="524"/>
                  </a:lnTo>
                  <a:lnTo>
                    <a:pt x="462" y="522"/>
                  </a:lnTo>
                  <a:lnTo>
                    <a:pt x="447" y="520"/>
                  </a:lnTo>
                  <a:lnTo>
                    <a:pt x="432" y="519"/>
                  </a:lnTo>
                  <a:lnTo>
                    <a:pt x="417" y="515"/>
                  </a:lnTo>
                  <a:lnTo>
                    <a:pt x="404" y="510"/>
                  </a:lnTo>
                  <a:lnTo>
                    <a:pt x="389" y="507"/>
                  </a:lnTo>
                  <a:lnTo>
                    <a:pt x="375" y="504"/>
                  </a:lnTo>
                  <a:lnTo>
                    <a:pt x="364" y="500"/>
                  </a:lnTo>
                  <a:lnTo>
                    <a:pt x="352" y="497"/>
                  </a:lnTo>
                  <a:lnTo>
                    <a:pt x="342" y="497"/>
                  </a:lnTo>
                  <a:lnTo>
                    <a:pt x="329" y="497"/>
                  </a:lnTo>
                  <a:lnTo>
                    <a:pt x="307" y="497"/>
                  </a:lnTo>
                  <a:lnTo>
                    <a:pt x="280" y="499"/>
                  </a:lnTo>
                  <a:lnTo>
                    <a:pt x="250" y="499"/>
                  </a:lnTo>
                  <a:lnTo>
                    <a:pt x="224" y="500"/>
                  </a:lnTo>
                  <a:lnTo>
                    <a:pt x="200" y="502"/>
                  </a:lnTo>
                  <a:lnTo>
                    <a:pt x="184" y="502"/>
                  </a:lnTo>
                  <a:lnTo>
                    <a:pt x="177" y="502"/>
                  </a:lnTo>
                  <a:lnTo>
                    <a:pt x="175" y="504"/>
                  </a:lnTo>
                  <a:lnTo>
                    <a:pt x="170" y="505"/>
                  </a:lnTo>
                  <a:lnTo>
                    <a:pt x="164" y="509"/>
                  </a:lnTo>
                  <a:lnTo>
                    <a:pt x="155" y="510"/>
                  </a:lnTo>
                  <a:lnTo>
                    <a:pt x="144" y="512"/>
                  </a:lnTo>
                  <a:lnTo>
                    <a:pt x="132" y="512"/>
                  </a:lnTo>
                  <a:lnTo>
                    <a:pt x="120" y="509"/>
                  </a:lnTo>
                  <a:lnTo>
                    <a:pt x="107" y="502"/>
                  </a:lnTo>
                  <a:lnTo>
                    <a:pt x="95" y="494"/>
                  </a:lnTo>
                  <a:lnTo>
                    <a:pt x="87" y="485"/>
                  </a:lnTo>
                  <a:lnTo>
                    <a:pt x="80" y="479"/>
                  </a:lnTo>
                  <a:lnTo>
                    <a:pt x="75" y="475"/>
                  </a:lnTo>
                  <a:lnTo>
                    <a:pt x="70" y="472"/>
                  </a:lnTo>
                  <a:lnTo>
                    <a:pt x="65" y="470"/>
                  </a:lnTo>
                  <a:lnTo>
                    <a:pt x="60" y="470"/>
                  </a:lnTo>
                  <a:lnTo>
                    <a:pt x="53" y="474"/>
                  </a:lnTo>
                  <a:lnTo>
                    <a:pt x="47" y="480"/>
                  </a:lnTo>
                  <a:lnTo>
                    <a:pt x="50" y="489"/>
                  </a:lnTo>
                  <a:lnTo>
                    <a:pt x="55" y="500"/>
                  </a:lnTo>
                  <a:lnTo>
                    <a:pt x="53" y="515"/>
                  </a:lnTo>
                  <a:lnTo>
                    <a:pt x="50" y="535"/>
                  </a:lnTo>
                  <a:lnTo>
                    <a:pt x="48" y="557"/>
                  </a:lnTo>
                  <a:lnTo>
                    <a:pt x="50" y="577"/>
                  </a:lnTo>
                  <a:lnTo>
                    <a:pt x="50" y="592"/>
                  </a:lnTo>
                  <a:lnTo>
                    <a:pt x="47" y="606"/>
                  </a:lnTo>
                  <a:lnTo>
                    <a:pt x="40" y="621"/>
                  </a:lnTo>
                  <a:lnTo>
                    <a:pt x="33" y="634"/>
                  </a:lnTo>
                  <a:lnTo>
                    <a:pt x="30" y="639"/>
                  </a:lnTo>
                  <a:lnTo>
                    <a:pt x="0" y="662"/>
                  </a:lnTo>
                  <a:lnTo>
                    <a:pt x="3" y="666"/>
                  </a:lnTo>
                  <a:lnTo>
                    <a:pt x="8" y="669"/>
                  </a:lnTo>
                  <a:lnTo>
                    <a:pt x="13" y="674"/>
                  </a:lnTo>
                  <a:lnTo>
                    <a:pt x="18" y="677"/>
                  </a:lnTo>
                  <a:lnTo>
                    <a:pt x="32" y="684"/>
                  </a:lnTo>
                  <a:lnTo>
                    <a:pt x="43" y="687"/>
                  </a:lnTo>
                  <a:lnTo>
                    <a:pt x="55" y="687"/>
                  </a:lnTo>
                  <a:lnTo>
                    <a:pt x="67" y="686"/>
                  </a:lnTo>
                  <a:lnTo>
                    <a:pt x="77" y="684"/>
                  </a:lnTo>
                  <a:lnTo>
                    <a:pt x="83" y="681"/>
                  </a:lnTo>
                  <a:lnTo>
                    <a:pt x="88" y="679"/>
                  </a:lnTo>
                  <a:lnTo>
                    <a:pt x="90" y="677"/>
                  </a:lnTo>
                  <a:lnTo>
                    <a:pt x="97" y="677"/>
                  </a:lnTo>
                  <a:lnTo>
                    <a:pt x="114" y="677"/>
                  </a:lnTo>
                  <a:lnTo>
                    <a:pt x="137" y="676"/>
                  </a:lnTo>
                  <a:lnTo>
                    <a:pt x="164" y="674"/>
                  </a:lnTo>
                  <a:lnTo>
                    <a:pt x="194" y="674"/>
                  </a:lnTo>
                  <a:lnTo>
                    <a:pt x="220" y="672"/>
                  </a:lnTo>
                  <a:lnTo>
                    <a:pt x="242" y="672"/>
                  </a:lnTo>
                  <a:lnTo>
                    <a:pt x="255" y="672"/>
                  </a:lnTo>
                  <a:lnTo>
                    <a:pt x="265" y="674"/>
                  </a:lnTo>
                  <a:lnTo>
                    <a:pt x="275" y="676"/>
                  </a:lnTo>
                  <a:lnTo>
                    <a:pt x="289" y="679"/>
                  </a:lnTo>
                  <a:lnTo>
                    <a:pt x="302" y="682"/>
                  </a:lnTo>
                  <a:lnTo>
                    <a:pt x="315" y="687"/>
                  </a:lnTo>
                  <a:lnTo>
                    <a:pt x="330" y="691"/>
                  </a:lnTo>
                  <a:lnTo>
                    <a:pt x="344" y="694"/>
                  </a:lnTo>
                  <a:lnTo>
                    <a:pt x="359" y="697"/>
                  </a:lnTo>
                  <a:lnTo>
                    <a:pt x="374" y="699"/>
                  </a:lnTo>
                  <a:lnTo>
                    <a:pt x="392" y="701"/>
                  </a:lnTo>
                  <a:lnTo>
                    <a:pt x="412" y="701"/>
                  </a:lnTo>
                  <a:lnTo>
                    <a:pt x="430" y="702"/>
                  </a:lnTo>
                  <a:lnTo>
                    <a:pt x="450" y="702"/>
                  </a:lnTo>
                  <a:lnTo>
                    <a:pt x="467" y="701"/>
                  </a:lnTo>
                  <a:lnTo>
                    <a:pt x="480" y="701"/>
                  </a:lnTo>
                  <a:lnTo>
                    <a:pt x="492" y="697"/>
                  </a:lnTo>
                  <a:lnTo>
                    <a:pt x="500" y="696"/>
                  </a:lnTo>
                  <a:lnTo>
                    <a:pt x="507" y="696"/>
                  </a:lnTo>
                  <a:lnTo>
                    <a:pt x="514" y="699"/>
                  </a:lnTo>
                  <a:lnTo>
                    <a:pt x="520" y="706"/>
                  </a:lnTo>
                  <a:lnTo>
                    <a:pt x="527" y="712"/>
                  </a:lnTo>
                  <a:lnTo>
                    <a:pt x="534" y="719"/>
                  </a:lnTo>
                  <a:lnTo>
                    <a:pt x="540" y="727"/>
                  </a:lnTo>
                  <a:lnTo>
                    <a:pt x="549" y="734"/>
                  </a:lnTo>
                  <a:lnTo>
                    <a:pt x="559" y="741"/>
                  </a:lnTo>
                  <a:lnTo>
                    <a:pt x="569" y="742"/>
                  </a:lnTo>
                  <a:lnTo>
                    <a:pt x="579" y="744"/>
                  </a:lnTo>
                  <a:lnTo>
                    <a:pt x="590" y="742"/>
                  </a:lnTo>
                  <a:lnTo>
                    <a:pt x="600" y="739"/>
                  </a:lnTo>
                  <a:lnTo>
                    <a:pt x="610" y="736"/>
                  </a:lnTo>
                  <a:lnTo>
                    <a:pt x="619" y="731"/>
                  </a:lnTo>
                  <a:lnTo>
                    <a:pt x="625" y="726"/>
                  </a:lnTo>
                  <a:lnTo>
                    <a:pt x="632" y="719"/>
                  </a:lnTo>
                  <a:lnTo>
                    <a:pt x="639" y="707"/>
                  </a:lnTo>
                  <a:lnTo>
                    <a:pt x="649" y="694"/>
                  </a:lnTo>
                  <a:lnTo>
                    <a:pt x="661" y="677"/>
                  </a:lnTo>
                  <a:lnTo>
                    <a:pt x="672" y="659"/>
                  </a:lnTo>
                  <a:lnTo>
                    <a:pt x="687" y="637"/>
                  </a:lnTo>
                  <a:lnTo>
                    <a:pt x="704" y="614"/>
                  </a:lnTo>
                  <a:lnTo>
                    <a:pt x="721" y="587"/>
                  </a:lnTo>
                  <a:lnTo>
                    <a:pt x="737" y="564"/>
                  </a:lnTo>
                  <a:lnTo>
                    <a:pt x="754" y="544"/>
                  </a:lnTo>
                  <a:lnTo>
                    <a:pt x="769" y="530"/>
                  </a:lnTo>
                  <a:lnTo>
                    <a:pt x="786" y="519"/>
                  </a:lnTo>
                  <a:lnTo>
                    <a:pt x="799" y="512"/>
                  </a:lnTo>
                  <a:lnTo>
                    <a:pt x="812" y="504"/>
                  </a:lnTo>
                  <a:lnTo>
                    <a:pt x="826" y="499"/>
                  </a:lnTo>
                  <a:lnTo>
                    <a:pt x="839" y="492"/>
                  </a:lnTo>
                  <a:lnTo>
                    <a:pt x="847" y="489"/>
                  </a:lnTo>
                  <a:lnTo>
                    <a:pt x="862" y="484"/>
                  </a:lnTo>
                  <a:lnTo>
                    <a:pt x="879" y="479"/>
                  </a:lnTo>
                  <a:lnTo>
                    <a:pt x="901" y="472"/>
                  </a:lnTo>
                  <a:lnTo>
                    <a:pt x="926" y="465"/>
                  </a:lnTo>
                  <a:lnTo>
                    <a:pt x="952" y="459"/>
                  </a:lnTo>
                  <a:lnTo>
                    <a:pt x="981" y="452"/>
                  </a:lnTo>
                  <a:lnTo>
                    <a:pt x="1009" y="444"/>
                  </a:lnTo>
                  <a:lnTo>
                    <a:pt x="1039" y="437"/>
                  </a:lnTo>
                  <a:lnTo>
                    <a:pt x="1069" y="430"/>
                  </a:lnTo>
                  <a:lnTo>
                    <a:pt x="1097" y="424"/>
                  </a:lnTo>
                  <a:lnTo>
                    <a:pt x="1126" y="417"/>
                  </a:lnTo>
                  <a:lnTo>
                    <a:pt x="1151" y="410"/>
                  </a:lnTo>
                  <a:lnTo>
                    <a:pt x="1174" y="405"/>
                  </a:lnTo>
                  <a:lnTo>
                    <a:pt x="1194" y="400"/>
                  </a:lnTo>
                  <a:lnTo>
                    <a:pt x="1209" y="397"/>
                  </a:lnTo>
                  <a:lnTo>
                    <a:pt x="1236" y="390"/>
                  </a:lnTo>
                  <a:lnTo>
                    <a:pt x="1263" y="385"/>
                  </a:lnTo>
                  <a:lnTo>
                    <a:pt x="1289" y="382"/>
                  </a:lnTo>
                  <a:lnTo>
                    <a:pt x="1313" y="379"/>
                  </a:lnTo>
                  <a:lnTo>
                    <a:pt x="1336" y="375"/>
                  </a:lnTo>
                  <a:lnTo>
                    <a:pt x="1354" y="370"/>
                  </a:lnTo>
                  <a:lnTo>
                    <a:pt x="1371" y="365"/>
                  </a:lnTo>
                  <a:lnTo>
                    <a:pt x="1384" y="359"/>
                  </a:lnTo>
                  <a:lnTo>
                    <a:pt x="1394" y="354"/>
                  </a:lnTo>
                  <a:lnTo>
                    <a:pt x="1411" y="345"/>
                  </a:lnTo>
                  <a:lnTo>
                    <a:pt x="1434" y="334"/>
                  </a:lnTo>
                  <a:lnTo>
                    <a:pt x="1463" y="320"/>
                  </a:lnTo>
                  <a:lnTo>
                    <a:pt x="1496" y="307"/>
                  </a:lnTo>
                  <a:lnTo>
                    <a:pt x="1533" y="290"/>
                  </a:lnTo>
                  <a:lnTo>
                    <a:pt x="1571" y="274"/>
                  </a:lnTo>
                  <a:lnTo>
                    <a:pt x="1611" y="255"/>
                  </a:lnTo>
                  <a:lnTo>
                    <a:pt x="1649" y="239"/>
                  </a:lnTo>
                  <a:lnTo>
                    <a:pt x="1688" y="222"/>
                  </a:lnTo>
                  <a:lnTo>
                    <a:pt x="1723" y="207"/>
                  </a:lnTo>
                  <a:lnTo>
                    <a:pt x="1756" y="192"/>
                  </a:lnTo>
                  <a:lnTo>
                    <a:pt x="1783" y="180"/>
                  </a:lnTo>
                  <a:lnTo>
                    <a:pt x="1805" y="170"/>
                  </a:lnTo>
                  <a:lnTo>
                    <a:pt x="1820" y="164"/>
                  </a:lnTo>
                  <a:lnTo>
                    <a:pt x="1826" y="160"/>
                  </a:lnTo>
                  <a:lnTo>
                    <a:pt x="1836" y="152"/>
                  </a:lnTo>
                  <a:lnTo>
                    <a:pt x="1841" y="142"/>
                  </a:lnTo>
                  <a:lnTo>
                    <a:pt x="1845" y="130"/>
                  </a:lnTo>
                  <a:lnTo>
                    <a:pt x="1846" y="117"/>
                  </a:lnTo>
                  <a:lnTo>
                    <a:pt x="1848" y="100"/>
                  </a:lnTo>
                  <a:lnTo>
                    <a:pt x="1851" y="78"/>
                  </a:lnTo>
                  <a:lnTo>
                    <a:pt x="1858" y="57"/>
                  </a:lnTo>
                  <a:lnTo>
                    <a:pt x="1865" y="37"/>
                  </a:lnTo>
                  <a:lnTo>
                    <a:pt x="1868" y="27"/>
                  </a:lnTo>
                  <a:lnTo>
                    <a:pt x="1873" y="18"/>
                  </a:lnTo>
                  <a:lnTo>
                    <a:pt x="1876" y="8"/>
                  </a:lnTo>
                  <a:lnTo>
                    <a:pt x="1881" y="0"/>
                  </a:lnTo>
                  <a:lnTo>
                    <a:pt x="1861" y="10"/>
                  </a:lnTo>
                  <a:lnTo>
                    <a:pt x="1836" y="20"/>
                  </a:lnTo>
                  <a:lnTo>
                    <a:pt x="1808" y="32"/>
                  </a:lnTo>
                  <a:lnTo>
                    <a:pt x="1778" y="45"/>
                  </a:lnTo>
                  <a:lnTo>
                    <a:pt x="1746" y="58"/>
                  </a:lnTo>
                  <a:lnTo>
                    <a:pt x="1714" y="73"/>
                  </a:lnTo>
                  <a:lnTo>
                    <a:pt x="1681" y="88"/>
                  </a:lnTo>
                  <a:lnTo>
                    <a:pt x="1648" y="102"/>
                  </a:lnTo>
                  <a:lnTo>
                    <a:pt x="1616" y="117"/>
                  </a:lnTo>
                  <a:lnTo>
                    <a:pt x="1586" y="130"/>
                  </a:lnTo>
                  <a:lnTo>
                    <a:pt x="1558" y="142"/>
                  </a:lnTo>
                  <a:lnTo>
                    <a:pt x="1533" y="154"/>
                  </a:lnTo>
                  <a:lnTo>
                    <a:pt x="1511" y="164"/>
                  </a:lnTo>
                  <a:lnTo>
                    <a:pt x="1493" y="174"/>
                  </a:lnTo>
                  <a:lnTo>
                    <a:pt x="1479" y="179"/>
                  </a:lnTo>
                  <a:lnTo>
                    <a:pt x="1473" y="184"/>
                  </a:lnTo>
                  <a:lnTo>
                    <a:pt x="1459" y="190"/>
                  </a:lnTo>
                  <a:lnTo>
                    <a:pt x="1443" y="195"/>
                  </a:lnTo>
                  <a:lnTo>
                    <a:pt x="1423" y="199"/>
                  </a:lnTo>
                  <a:lnTo>
                    <a:pt x="1401" y="202"/>
                  </a:lnTo>
                  <a:lnTo>
                    <a:pt x="1376" y="205"/>
                  </a:lnTo>
                  <a:lnTo>
                    <a:pt x="1351" y="210"/>
                  </a:lnTo>
                  <a:lnTo>
                    <a:pt x="1324" y="215"/>
                  </a:lnTo>
                  <a:lnTo>
                    <a:pt x="1298" y="222"/>
                  </a:lnTo>
                  <a:close/>
                </a:path>
              </a:pathLst>
            </a:custGeom>
            <a:solidFill>
              <a:srgbClr val="ffffff">
                <a:alpha val="20000"/>
              </a:srgbClr>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3" name=""/>
            <p:cNvSpPr/>
            <p:nvPr/>
          </p:nvSpPr>
          <p:spPr>
            <a:xfrm>
              <a:off x="2813040" y="1346040"/>
              <a:ext cx="4348080" cy="3579840"/>
            </a:xfrm>
            <a:custGeom>
              <a:avLst/>
              <a:gdLst/>
              <a:ahLst/>
              <a:rect l="l" t="t" r="r" b="b"/>
              <a:pathLst>
                <a:path w="3185" h="2678">
                  <a:moveTo>
                    <a:pt x="380" y="90"/>
                  </a:moveTo>
                  <a:lnTo>
                    <a:pt x="683" y="28"/>
                  </a:lnTo>
                  <a:lnTo>
                    <a:pt x="693" y="0"/>
                  </a:lnTo>
                  <a:lnTo>
                    <a:pt x="695" y="0"/>
                  </a:lnTo>
                  <a:lnTo>
                    <a:pt x="698" y="0"/>
                  </a:lnTo>
                  <a:lnTo>
                    <a:pt x="704" y="0"/>
                  </a:lnTo>
                  <a:lnTo>
                    <a:pt x="712" y="0"/>
                  </a:lnTo>
                  <a:lnTo>
                    <a:pt x="720" y="0"/>
                  </a:lnTo>
                  <a:lnTo>
                    <a:pt x="734" y="2"/>
                  </a:lnTo>
                  <a:lnTo>
                    <a:pt x="747" y="5"/>
                  </a:lnTo>
                  <a:lnTo>
                    <a:pt x="764" y="10"/>
                  </a:lnTo>
                  <a:lnTo>
                    <a:pt x="782" y="15"/>
                  </a:lnTo>
                  <a:lnTo>
                    <a:pt x="799" y="20"/>
                  </a:lnTo>
                  <a:lnTo>
                    <a:pt x="817" y="23"/>
                  </a:lnTo>
                  <a:lnTo>
                    <a:pt x="832" y="28"/>
                  </a:lnTo>
                  <a:lnTo>
                    <a:pt x="847" y="32"/>
                  </a:lnTo>
                  <a:lnTo>
                    <a:pt x="862" y="35"/>
                  </a:lnTo>
                  <a:lnTo>
                    <a:pt x="874" y="40"/>
                  </a:lnTo>
                  <a:lnTo>
                    <a:pt x="884" y="43"/>
                  </a:lnTo>
                  <a:lnTo>
                    <a:pt x="894" y="48"/>
                  </a:lnTo>
                  <a:lnTo>
                    <a:pt x="907" y="57"/>
                  </a:lnTo>
                  <a:lnTo>
                    <a:pt x="924" y="68"/>
                  </a:lnTo>
                  <a:lnTo>
                    <a:pt x="942" y="82"/>
                  </a:lnTo>
                  <a:lnTo>
                    <a:pt x="962" y="97"/>
                  </a:lnTo>
                  <a:lnTo>
                    <a:pt x="985" y="112"/>
                  </a:lnTo>
                  <a:lnTo>
                    <a:pt x="1009" y="127"/>
                  </a:lnTo>
                  <a:lnTo>
                    <a:pt x="1035" y="142"/>
                  </a:lnTo>
                  <a:lnTo>
                    <a:pt x="1060" y="155"/>
                  </a:lnTo>
                  <a:lnTo>
                    <a:pt x="1080" y="168"/>
                  </a:lnTo>
                  <a:lnTo>
                    <a:pt x="1099" y="180"/>
                  </a:lnTo>
                  <a:lnTo>
                    <a:pt x="1114" y="190"/>
                  </a:lnTo>
                  <a:lnTo>
                    <a:pt x="1124" y="197"/>
                  </a:lnTo>
                  <a:lnTo>
                    <a:pt x="1132" y="203"/>
                  </a:lnTo>
                  <a:lnTo>
                    <a:pt x="1137" y="207"/>
                  </a:lnTo>
                  <a:lnTo>
                    <a:pt x="1139" y="208"/>
                  </a:lnTo>
                  <a:lnTo>
                    <a:pt x="1142" y="210"/>
                  </a:lnTo>
                  <a:lnTo>
                    <a:pt x="1150" y="215"/>
                  </a:lnTo>
                  <a:lnTo>
                    <a:pt x="1162" y="223"/>
                  </a:lnTo>
                  <a:lnTo>
                    <a:pt x="1177" y="233"/>
                  </a:lnTo>
                  <a:lnTo>
                    <a:pt x="1192" y="243"/>
                  </a:lnTo>
                  <a:lnTo>
                    <a:pt x="1205" y="255"/>
                  </a:lnTo>
                  <a:lnTo>
                    <a:pt x="1217" y="265"/>
                  </a:lnTo>
                  <a:lnTo>
                    <a:pt x="1225" y="275"/>
                  </a:lnTo>
                  <a:lnTo>
                    <a:pt x="1234" y="285"/>
                  </a:lnTo>
                  <a:lnTo>
                    <a:pt x="1245" y="297"/>
                  </a:lnTo>
                  <a:lnTo>
                    <a:pt x="1259" y="310"/>
                  </a:lnTo>
                  <a:lnTo>
                    <a:pt x="1276" y="325"/>
                  </a:lnTo>
                  <a:lnTo>
                    <a:pt x="1292" y="340"/>
                  </a:lnTo>
                  <a:lnTo>
                    <a:pt x="1309" y="354"/>
                  </a:lnTo>
                  <a:lnTo>
                    <a:pt x="1324" y="365"/>
                  </a:lnTo>
                  <a:lnTo>
                    <a:pt x="1334" y="375"/>
                  </a:lnTo>
                  <a:lnTo>
                    <a:pt x="1346" y="385"/>
                  </a:lnTo>
                  <a:lnTo>
                    <a:pt x="1362" y="397"/>
                  </a:lnTo>
                  <a:lnTo>
                    <a:pt x="1381" y="410"/>
                  </a:lnTo>
                  <a:lnTo>
                    <a:pt x="1401" y="424"/>
                  </a:lnTo>
                  <a:lnTo>
                    <a:pt x="1421" y="437"/>
                  </a:lnTo>
                  <a:lnTo>
                    <a:pt x="1436" y="445"/>
                  </a:lnTo>
                  <a:lnTo>
                    <a:pt x="1447" y="454"/>
                  </a:lnTo>
                  <a:lnTo>
                    <a:pt x="1451" y="455"/>
                  </a:lnTo>
                  <a:lnTo>
                    <a:pt x="1489" y="509"/>
                  </a:lnTo>
                  <a:lnTo>
                    <a:pt x="1497" y="509"/>
                  </a:lnTo>
                  <a:lnTo>
                    <a:pt x="1517" y="509"/>
                  </a:lnTo>
                  <a:lnTo>
                    <a:pt x="1546" y="509"/>
                  </a:lnTo>
                  <a:lnTo>
                    <a:pt x="1581" y="509"/>
                  </a:lnTo>
                  <a:lnTo>
                    <a:pt x="1617" y="510"/>
                  </a:lnTo>
                  <a:lnTo>
                    <a:pt x="1651" y="514"/>
                  </a:lnTo>
                  <a:lnTo>
                    <a:pt x="1677" y="520"/>
                  </a:lnTo>
                  <a:lnTo>
                    <a:pt x="1694" y="527"/>
                  </a:lnTo>
                  <a:lnTo>
                    <a:pt x="1696" y="527"/>
                  </a:lnTo>
                  <a:lnTo>
                    <a:pt x="1702" y="525"/>
                  </a:lnTo>
                  <a:lnTo>
                    <a:pt x="1712" y="522"/>
                  </a:lnTo>
                  <a:lnTo>
                    <a:pt x="1722" y="520"/>
                  </a:lnTo>
                  <a:lnTo>
                    <a:pt x="1736" y="519"/>
                  </a:lnTo>
                  <a:lnTo>
                    <a:pt x="1747" y="515"/>
                  </a:lnTo>
                  <a:lnTo>
                    <a:pt x="1759" y="514"/>
                  </a:lnTo>
                  <a:lnTo>
                    <a:pt x="1769" y="514"/>
                  </a:lnTo>
                  <a:lnTo>
                    <a:pt x="1782" y="515"/>
                  </a:lnTo>
                  <a:lnTo>
                    <a:pt x="1801" y="519"/>
                  </a:lnTo>
                  <a:lnTo>
                    <a:pt x="1823" y="522"/>
                  </a:lnTo>
                  <a:lnTo>
                    <a:pt x="1848" y="527"/>
                  </a:lnTo>
                  <a:lnTo>
                    <a:pt x="1869" y="534"/>
                  </a:lnTo>
                  <a:lnTo>
                    <a:pt x="1889" y="537"/>
                  </a:lnTo>
                  <a:lnTo>
                    <a:pt x="1903" y="540"/>
                  </a:lnTo>
                  <a:lnTo>
                    <a:pt x="1908" y="542"/>
                  </a:lnTo>
                  <a:lnTo>
                    <a:pt x="1926" y="604"/>
                  </a:lnTo>
                  <a:lnTo>
                    <a:pt x="2044" y="604"/>
                  </a:lnTo>
                  <a:lnTo>
                    <a:pt x="2064" y="689"/>
                  </a:lnTo>
                  <a:lnTo>
                    <a:pt x="2071" y="692"/>
                  </a:lnTo>
                  <a:lnTo>
                    <a:pt x="2083" y="704"/>
                  </a:lnTo>
                  <a:lnTo>
                    <a:pt x="2093" y="722"/>
                  </a:lnTo>
                  <a:lnTo>
                    <a:pt x="2093" y="746"/>
                  </a:lnTo>
                  <a:lnTo>
                    <a:pt x="2116" y="784"/>
                  </a:lnTo>
                  <a:lnTo>
                    <a:pt x="2154" y="769"/>
                  </a:lnTo>
                  <a:lnTo>
                    <a:pt x="2158" y="774"/>
                  </a:lnTo>
                  <a:lnTo>
                    <a:pt x="2164" y="786"/>
                  </a:lnTo>
                  <a:lnTo>
                    <a:pt x="2169" y="801"/>
                  </a:lnTo>
                  <a:lnTo>
                    <a:pt x="2173" y="812"/>
                  </a:lnTo>
                  <a:lnTo>
                    <a:pt x="2176" y="824"/>
                  </a:lnTo>
                  <a:lnTo>
                    <a:pt x="2183" y="834"/>
                  </a:lnTo>
                  <a:lnTo>
                    <a:pt x="2189" y="842"/>
                  </a:lnTo>
                  <a:lnTo>
                    <a:pt x="2193" y="846"/>
                  </a:lnTo>
                  <a:lnTo>
                    <a:pt x="2201" y="822"/>
                  </a:lnTo>
                  <a:lnTo>
                    <a:pt x="2226" y="869"/>
                  </a:lnTo>
                  <a:lnTo>
                    <a:pt x="2228" y="869"/>
                  </a:lnTo>
                  <a:lnTo>
                    <a:pt x="2234" y="871"/>
                  </a:lnTo>
                  <a:lnTo>
                    <a:pt x="2244" y="874"/>
                  </a:lnTo>
                  <a:lnTo>
                    <a:pt x="2254" y="877"/>
                  </a:lnTo>
                  <a:lnTo>
                    <a:pt x="2266" y="882"/>
                  </a:lnTo>
                  <a:lnTo>
                    <a:pt x="2276" y="887"/>
                  </a:lnTo>
                  <a:lnTo>
                    <a:pt x="2284" y="894"/>
                  </a:lnTo>
                  <a:lnTo>
                    <a:pt x="2288" y="902"/>
                  </a:lnTo>
                  <a:lnTo>
                    <a:pt x="2289" y="921"/>
                  </a:lnTo>
                  <a:lnTo>
                    <a:pt x="2293" y="937"/>
                  </a:lnTo>
                  <a:lnTo>
                    <a:pt x="2296" y="952"/>
                  </a:lnTo>
                  <a:lnTo>
                    <a:pt x="2306" y="964"/>
                  </a:lnTo>
                  <a:lnTo>
                    <a:pt x="2316" y="979"/>
                  </a:lnTo>
                  <a:lnTo>
                    <a:pt x="2321" y="996"/>
                  </a:lnTo>
                  <a:lnTo>
                    <a:pt x="2318" y="1011"/>
                  </a:lnTo>
                  <a:lnTo>
                    <a:pt x="2311" y="1017"/>
                  </a:lnTo>
                  <a:lnTo>
                    <a:pt x="2303" y="1019"/>
                  </a:lnTo>
                  <a:lnTo>
                    <a:pt x="2299" y="1024"/>
                  </a:lnTo>
                  <a:lnTo>
                    <a:pt x="2301" y="1032"/>
                  </a:lnTo>
                  <a:lnTo>
                    <a:pt x="2306" y="1046"/>
                  </a:lnTo>
                  <a:lnTo>
                    <a:pt x="2313" y="1061"/>
                  </a:lnTo>
                  <a:lnTo>
                    <a:pt x="2319" y="1076"/>
                  </a:lnTo>
                  <a:lnTo>
                    <a:pt x="2324" y="1092"/>
                  </a:lnTo>
                  <a:lnTo>
                    <a:pt x="2329" y="1107"/>
                  </a:lnTo>
                  <a:lnTo>
                    <a:pt x="2336" y="1117"/>
                  </a:lnTo>
                  <a:lnTo>
                    <a:pt x="2344" y="1121"/>
                  </a:lnTo>
                  <a:lnTo>
                    <a:pt x="2351" y="1121"/>
                  </a:lnTo>
                  <a:lnTo>
                    <a:pt x="2354" y="1121"/>
                  </a:lnTo>
                  <a:lnTo>
                    <a:pt x="2356" y="1129"/>
                  </a:lnTo>
                  <a:lnTo>
                    <a:pt x="2365" y="1149"/>
                  </a:lnTo>
                  <a:lnTo>
                    <a:pt x="2375" y="1174"/>
                  </a:lnTo>
                  <a:lnTo>
                    <a:pt x="2388" y="1192"/>
                  </a:lnTo>
                  <a:lnTo>
                    <a:pt x="2395" y="1201"/>
                  </a:lnTo>
                  <a:lnTo>
                    <a:pt x="2400" y="1209"/>
                  </a:lnTo>
                  <a:lnTo>
                    <a:pt x="2405" y="1217"/>
                  </a:lnTo>
                  <a:lnTo>
                    <a:pt x="2411" y="1227"/>
                  </a:lnTo>
                  <a:lnTo>
                    <a:pt x="2416" y="1236"/>
                  </a:lnTo>
                  <a:lnTo>
                    <a:pt x="2425" y="1244"/>
                  </a:lnTo>
                  <a:lnTo>
                    <a:pt x="2433" y="1253"/>
                  </a:lnTo>
                  <a:lnTo>
                    <a:pt x="2445" y="1259"/>
                  </a:lnTo>
                  <a:lnTo>
                    <a:pt x="2456" y="1263"/>
                  </a:lnTo>
                  <a:lnTo>
                    <a:pt x="2468" y="1263"/>
                  </a:lnTo>
                  <a:lnTo>
                    <a:pt x="2478" y="1263"/>
                  </a:lnTo>
                  <a:lnTo>
                    <a:pt x="2486" y="1259"/>
                  </a:lnTo>
                  <a:lnTo>
                    <a:pt x="2493" y="1256"/>
                  </a:lnTo>
                  <a:lnTo>
                    <a:pt x="2498" y="1253"/>
                  </a:lnTo>
                  <a:lnTo>
                    <a:pt x="2500" y="1251"/>
                  </a:lnTo>
                  <a:lnTo>
                    <a:pt x="2501" y="1249"/>
                  </a:lnTo>
                  <a:lnTo>
                    <a:pt x="2520" y="1259"/>
                  </a:lnTo>
                  <a:lnTo>
                    <a:pt x="2501" y="1293"/>
                  </a:lnTo>
                  <a:lnTo>
                    <a:pt x="2501" y="1294"/>
                  </a:lnTo>
                  <a:lnTo>
                    <a:pt x="2501" y="1299"/>
                  </a:lnTo>
                  <a:lnTo>
                    <a:pt x="2503" y="1304"/>
                  </a:lnTo>
                  <a:lnTo>
                    <a:pt x="2511" y="1306"/>
                  </a:lnTo>
                  <a:lnTo>
                    <a:pt x="2521" y="1314"/>
                  </a:lnTo>
                  <a:lnTo>
                    <a:pt x="2531" y="1329"/>
                  </a:lnTo>
                  <a:lnTo>
                    <a:pt x="2536" y="1346"/>
                  </a:lnTo>
                  <a:lnTo>
                    <a:pt x="2540" y="1354"/>
                  </a:lnTo>
                  <a:lnTo>
                    <a:pt x="2541" y="1356"/>
                  </a:lnTo>
                  <a:lnTo>
                    <a:pt x="2546" y="1361"/>
                  </a:lnTo>
                  <a:lnTo>
                    <a:pt x="2553" y="1368"/>
                  </a:lnTo>
                  <a:lnTo>
                    <a:pt x="2561" y="1378"/>
                  </a:lnTo>
                  <a:lnTo>
                    <a:pt x="2571" y="1388"/>
                  </a:lnTo>
                  <a:lnTo>
                    <a:pt x="2583" y="1401"/>
                  </a:lnTo>
                  <a:lnTo>
                    <a:pt x="2595" y="1414"/>
                  </a:lnTo>
                  <a:lnTo>
                    <a:pt x="2606" y="1428"/>
                  </a:lnTo>
                  <a:lnTo>
                    <a:pt x="2618" y="1443"/>
                  </a:lnTo>
                  <a:lnTo>
                    <a:pt x="2631" y="1458"/>
                  </a:lnTo>
                  <a:lnTo>
                    <a:pt x="2645" y="1473"/>
                  </a:lnTo>
                  <a:lnTo>
                    <a:pt x="2658" y="1488"/>
                  </a:lnTo>
                  <a:lnTo>
                    <a:pt x="2670" y="1501"/>
                  </a:lnTo>
                  <a:lnTo>
                    <a:pt x="2680" y="1511"/>
                  </a:lnTo>
                  <a:lnTo>
                    <a:pt x="2688" y="1521"/>
                  </a:lnTo>
                  <a:lnTo>
                    <a:pt x="2691" y="1528"/>
                  </a:lnTo>
                  <a:lnTo>
                    <a:pt x="2701" y="1533"/>
                  </a:lnTo>
                  <a:lnTo>
                    <a:pt x="2723" y="1538"/>
                  </a:lnTo>
                  <a:lnTo>
                    <a:pt x="2753" y="1543"/>
                  </a:lnTo>
                  <a:lnTo>
                    <a:pt x="2790" y="1546"/>
                  </a:lnTo>
                  <a:lnTo>
                    <a:pt x="2828" y="1549"/>
                  </a:lnTo>
                  <a:lnTo>
                    <a:pt x="2863" y="1551"/>
                  </a:lnTo>
                  <a:lnTo>
                    <a:pt x="2891" y="1554"/>
                  </a:lnTo>
                  <a:lnTo>
                    <a:pt x="2910" y="1556"/>
                  </a:lnTo>
                  <a:lnTo>
                    <a:pt x="2925" y="1558"/>
                  </a:lnTo>
                  <a:lnTo>
                    <a:pt x="2945" y="1559"/>
                  </a:lnTo>
                  <a:lnTo>
                    <a:pt x="2968" y="1561"/>
                  </a:lnTo>
                  <a:lnTo>
                    <a:pt x="2992" y="1563"/>
                  </a:lnTo>
                  <a:lnTo>
                    <a:pt x="3013" y="1566"/>
                  </a:lnTo>
                  <a:lnTo>
                    <a:pt x="3033" y="1568"/>
                  </a:lnTo>
                  <a:lnTo>
                    <a:pt x="3048" y="1569"/>
                  </a:lnTo>
                  <a:lnTo>
                    <a:pt x="3057" y="1571"/>
                  </a:lnTo>
                  <a:lnTo>
                    <a:pt x="3070" y="1569"/>
                  </a:lnTo>
                  <a:lnTo>
                    <a:pt x="3083" y="1563"/>
                  </a:lnTo>
                  <a:lnTo>
                    <a:pt x="3095" y="1554"/>
                  </a:lnTo>
                  <a:lnTo>
                    <a:pt x="3100" y="1551"/>
                  </a:lnTo>
                  <a:lnTo>
                    <a:pt x="3102" y="1553"/>
                  </a:lnTo>
                  <a:lnTo>
                    <a:pt x="3105" y="1556"/>
                  </a:lnTo>
                  <a:lnTo>
                    <a:pt x="3112" y="1561"/>
                  </a:lnTo>
                  <a:lnTo>
                    <a:pt x="3120" y="1568"/>
                  </a:lnTo>
                  <a:lnTo>
                    <a:pt x="3130" y="1576"/>
                  </a:lnTo>
                  <a:lnTo>
                    <a:pt x="3140" y="1586"/>
                  </a:lnTo>
                  <a:lnTo>
                    <a:pt x="3152" y="1598"/>
                  </a:lnTo>
                  <a:lnTo>
                    <a:pt x="3162" y="1609"/>
                  </a:lnTo>
                  <a:lnTo>
                    <a:pt x="3172" y="1624"/>
                  </a:lnTo>
                  <a:lnTo>
                    <a:pt x="3180" y="1638"/>
                  </a:lnTo>
                  <a:lnTo>
                    <a:pt x="3183" y="1653"/>
                  </a:lnTo>
                  <a:lnTo>
                    <a:pt x="3185" y="1668"/>
                  </a:lnTo>
                  <a:lnTo>
                    <a:pt x="3185" y="1678"/>
                  </a:lnTo>
                  <a:lnTo>
                    <a:pt x="3183" y="1688"/>
                  </a:lnTo>
                  <a:lnTo>
                    <a:pt x="3180" y="1696"/>
                  </a:lnTo>
                  <a:lnTo>
                    <a:pt x="3175" y="1704"/>
                  </a:lnTo>
                  <a:lnTo>
                    <a:pt x="3168" y="1724"/>
                  </a:lnTo>
                  <a:lnTo>
                    <a:pt x="3168" y="1748"/>
                  </a:lnTo>
                  <a:lnTo>
                    <a:pt x="3168" y="1771"/>
                  </a:lnTo>
                  <a:lnTo>
                    <a:pt x="3167" y="1795"/>
                  </a:lnTo>
                  <a:lnTo>
                    <a:pt x="3162" y="1815"/>
                  </a:lnTo>
                  <a:lnTo>
                    <a:pt x="3153" y="1835"/>
                  </a:lnTo>
                  <a:lnTo>
                    <a:pt x="3145" y="1851"/>
                  </a:lnTo>
                  <a:lnTo>
                    <a:pt x="3138" y="1870"/>
                  </a:lnTo>
                  <a:lnTo>
                    <a:pt x="3132" y="1890"/>
                  </a:lnTo>
                  <a:lnTo>
                    <a:pt x="3125" y="1913"/>
                  </a:lnTo>
                  <a:lnTo>
                    <a:pt x="3120" y="1933"/>
                  </a:lnTo>
                  <a:lnTo>
                    <a:pt x="3118" y="1951"/>
                  </a:lnTo>
                  <a:lnTo>
                    <a:pt x="3117" y="1965"/>
                  </a:lnTo>
                  <a:lnTo>
                    <a:pt x="3115" y="1976"/>
                  </a:lnTo>
                  <a:lnTo>
                    <a:pt x="3108" y="1986"/>
                  </a:lnTo>
                  <a:lnTo>
                    <a:pt x="3100" y="1993"/>
                  </a:lnTo>
                  <a:lnTo>
                    <a:pt x="3093" y="1996"/>
                  </a:lnTo>
                  <a:lnTo>
                    <a:pt x="3078" y="2003"/>
                  </a:lnTo>
                  <a:lnTo>
                    <a:pt x="3057" y="2013"/>
                  </a:lnTo>
                  <a:lnTo>
                    <a:pt x="3028" y="2026"/>
                  </a:lnTo>
                  <a:lnTo>
                    <a:pt x="2997" y="2040"/>
                  </a:lnTo>
                  <a:lnTo>
                    <a:pt x="2962" y="2056"/>
                  </a:lnTo>
                  <a:lnTo>
                    <a:pt x="2923" y="2073"/>
                  </a:lnTo>
                  <a:lnTo>
                    <a:pt x="2885" y="2090"/>
                  </a:lnTo>
                  <a:lnTo>
                    <a:pt x="2845" y="2108"/>
                  </a:lnTo>
                  <a:lnTo>
                    <a:pt x="2806" y="2125"/>
                  </a:lnTo>
                  <a:lnTo>
                    <a:pt x="2770" y="2141"/>
                  </a:lnTo>
                  <a:lnTo>
                    <a:pt x="2736" y="2155"/>
                  </a:lnTo>
                  <a:lnTo>
                    <a:pt x="2708" y="2168"/>
                  </a:lnTo>
                  <a:lnTo>
                    <a:pt x="2685" y="2180"/>
                  </a:lnTo>
                  <a:lnTo>
                    <a:pt x="2668" y="2188"/>
                  </a:lnTo>
                  <a:lnTo>
                    <a:pt x="2658" y="2193"/>
                  </a:lnTo>
                  <a:lnTo>
                    <a:pt x="2645" y="2200"/>
                  </a:lnTo>
                  <a:lnTo>
                    <a:pt x="2628" y="2205"/>
                  </a:lnTo>
                  <a:lnTo>
                    <a:pt x="2608" y="2208"/>
                  </a:lnTo>
                  <a:lnTo>
                    <a:pt x="2586" y="2211"/>
                  </a:lnTo>
                  <a:lnTo>
                    <a:pt x="2561" y="2215"/>
                  </a:lnTo>
                  <a:lnTo>
                    <a:pt x="2535" y="2220"/>
                  </a:lnTo>
                  <a:lnTo>
                    <a:pt x="2508" y="2225"/>
                  </a:lnTo>
                  <a:lnTo>
                    <a:pt x="2481" y="2231"/>
                  </a:lnTo>
                  <a:lnTo>
                    <a:pt x="2466" y="2235"/>
                  </a:lnTo>
                  <a:lnTo>
                    <a:pt x="2446" y="2240"/>
                  </a:lnTo>
                  <a:lnTo>
                    <a:pt x="2425" y="2245"/>
                  </a:lnTo>
                  <a:lnTo>
                    <a:pt x="2398" y="2252"/>
                  </a:lnTo>
                  <a:lnTo>
                    <a:pt x="2371" y="2258"/>
                  </a:lnTo>
                  <a:lnTo>
                    <a:pt x="2343" y="2265"/>
                  </a:lnTo>
                  <a:lnTo>
                    <a:pt x="2313" y="2272"/>
                  </a:lnTo>
                  <a:lnTo>
                    <a:pt x="2283" y="2278"/>
                  </a:lnTo>
                  <a:lnTo>
                    <a:pt x="2253" y="2285"/>
                  </a:lnTo>
                  <a:lnTo>
                    <a:pt x="2224" y="2293"/>
                  </a:lnTo>
                  <a:lnTo>
                    <a:pt x="2198" y="2300"/>
                  </a:lnTo>
                  <a:lnTo>
                    <a:pt x="2173" y="2307"/>
                  </a:lnTo>
                  <a:lnTo>
                    <a:pt x="2151" y="2312"/>
                  </a:lnTo>
                  <a:lnTo>
                    <a:pt x="2134" y="2318"/>
                  </a:lnTo>
                  <a:lnTo>
                    <a:pt x="2119" y="2323"/>
                  </a:lnTo>
                  <a:lnTo>
                    <a:pt x="2111" y="2327"/>
                  </a:lnTo>
                  <a:lnTo>
                    <a:pt x="2098" y="2333"/>
                  </a:lnTo>
                  <a:lnTo>
                    <a:pt x="2086" y="2338"/>
                  </a:lnTo>
                  <a:lnTo>
                    <a:pt x="2071" y="2347"/>
                  </a:lnTo>
                  <a:lnTo>
                    <a:pt x="2058" y="2353"/>
                  </a:lnTo>
                  <a:lnTo>
                    <a:pt x="2043" y="2365"/>
                  </a:lnTo>
                  <a:lnTo>
                    <a:pt x="2028" y="2378"/>
                  </a:lnTo>
                  <a:lnTo>
                    <a:pt x="2011" y="2398"/>
                  </a:lnTo>
                  <a:lnTo>
                    <a:pt x="1993" y="2422"/>
                  </a:lnTo>
                  <a:lnTo>
                    <a:pt x="1976" y="2447"/>
                  </a:lnTo>
                  <a:lnTo>
                    <a:pt x="1961" y="2470"/>
                  </a:lnTo>
                  <a:lnTo>
                    <a:pt x="1946" y="2492"/>
                  </a:lnTo>
                  <a:lnTo>
                    <a:pt x="1933" y="2512"/>
                  </a:lnTo>
                  <a:lnTo>
                    <a:pt x="1923" y="2528"/>
                  </a:lnTo>
                  <a:lnTo>
                    <a:pt x="1913" y="2542"/>
                  </a:lnTo>
                  <a:lnTo>
                    <a:pt x="1904" y="2552"/>
                  </a:lnTo>
                  <a:lnTo>
                    <a:pt x="1898" y="2558"/>
                  </a:lnTo>
                  <a:lnTo>
                    <a:pt x="1891" y="2563"/>
                  </a:lnTo>
                  <a:lnTo>
                    <a:pt x="1884" y="2568"/>
                  </a:lnTo>
                  <a:lnTo>
                    <a:pt x="1874" y="2573"/>
                  </a:lnTo>
                  <a:lnTo>
                    <a:pt x="1864" y="2575"/>
                  </a:lnTo>
                  <a:lnTo>
                    <a:pt x="1853" y="2577"/>
                  </a:lnTo>
                  <a:lnTo>
                    <a:pt x="1843" y="2577"/>
                  </a:lnTo>
                  <a:lnTo>
                    <a:pt x="1833" y="2573"/>
                  </a:lnTo>
                  <a:lnTo>
                    <a:pt x="1823" y="2568"/>
                  </a:lnTo>
                  <a:lnTo>
                    <a:pt x="1814" y="2562"/>
                  </a:lnTo>
                  <a:lnTo>
                    <a:pt x="1806" y="2553"/>
                  </a:lnTo>
                  <a:lnTo>
                    <a:pt x="1799" y="2547"/>
                  </a:lnTo>
                  <a:lnTo>
                    <a:pt x="1794" y="2538"/>
                  </a:lnTo>
                  <a:lnTo>
                    <a:pt x="1787" y="2533"/>
                  </a:lnTo>
                  <a:lnTo>
                    <a:pt x="1781" y="2530"/>
                  </a:lnTo>
                  <a:lnTo>
                    <a:pt x="1772" y="2528"/>
                  </a:lnTo>
                  <a:lnTo>
                    <a:pt x="1764" y="2530"/>
                  </a:lnTo>
                  <a:lnTo>
                    <a:pt x="1752" y="2533"/>
                  </a:lnTo>
                  <a:lnTo>
                    <a:pt x="1739" y="2535"/>
                  </a:lnTo>
                  <a:lnTo>
                    <a:pt x="1722" y="2535"/>
                  </a:lnTo>
                  <a:lnTo>
                    <a:pt x="1704" y="2535"/>
                  </a:lnTo>
                  <a:lnTo>
                    <a:pt x="1684" y="2535"/>
                  </a:lnTo>
                  <a:lnTo>
                    <a:pt x="1666" y="2533"/>
                  </a:lnTo>
                  <a:lnTo>
                    <a:pt x="1647" y="2532"/>
                  </a:lnTo>
                  <a:lnTo>
                    <a:pt x="1632" y="2530"/>
                  </a:lnTo>
                  <a:lnTo>
                    <a:pt x="1617" y="2528"/>
                  </a:lnTo>
                  <a:lnTo>
                    <a:pt x="1602" y="2525"/>
                  </a:lnTo>
                  <a:lnTo>
                    <a:pt x="1589" y="2520"/>
                  </a:lnTo>
                  <a:lnTo>
                    <a:pt x="1574" y="2517"/>
                  </a:lnTo>
                  <a:lnTo>
                    <a:pt x="1561" y="2513"/>
                  </a:lnTo>
                  <a:lnTo>
                    <a:pt x="1549" y="2510"/>
                  </a:lnTo>
                  <a:lnTo>
                    <a:pt x="1537" y="2507"/>
                  </a:lnTo>
                  <a:lnTo>
                    <a:pt x="1527" y="2507"/>
                  </a:lnTo>
                  <a:lnTo>
                    <a:pt x="1514" y="2507"/>
                  </a:lnTo>
                  <a:lnTo>
                    <a:pt x="1492" y="2507"/>
                  </a:lnTo>
                  <a:lnTo>
                    <a:pt x="1466" y="2508"/>
                  </a:lnTo>
                  <a:lnTo>
                    <a:pt x="1436" y="2508"/>
                  </a:lnTo>
                  <a:lnTo>
                    <a:pt x="1409" y="2510"/>
                  </a:lnTo>
                  <a:lnTo>
                    <a:pt x="1386" y="2512"/>
                  </a:lnTo>
                  <a:lnTo>
                    <a:pt x="1369" y="2512"/>
                  </a:lnTo>
                  <a:lnTo>
                    <a:pt x="1362" y="2512"/>
                  </a:lnTo>
                  <a:lnTo>
                    <a:pt x="1361" y="2513"/>
                  </a:lnTo>
                  <a:lnTo>
                    <a:pt x="1356" y="2515"/>
                  </a:lnTo>
                  <a:lnTo>
                    <a:pt x="1349" y="2518"/>
                  </a:lnTo>
                  <a:lnTo>
                    <a:pt x="1339" y="2520"/>
                  </a:lnTo>
                  <a:lnTo>
                    <a:pt x="1329" y="2522"/>
                  </a:lnTo>
                  <a:lnTo>
                    <a:pt x="1317" y="2522"/>
                  </a:lnTo>
                  <a:lnTo>
                    <a:pt x="1304" y="2518"/>
                  </a:lnTo>
                  <a:lnTo>
                    <a:pt x="1292" y="2512"/>
                  </a:lnTo>
                  <a:lnTo>
                    <a:pt x="1281" y="2503"/>
                  </a:lnTo>
                  <a:lnTo>
                    <a:pt x="1272" y="2497"/>
                  </a:lnTo>
                  <a:lnTo>
                    <a:pt x="1266" y="2490"/>
                  </a:lnTo>
                  <a:lnTo>
                    <a:pt x="1261" y="2485"/>
                  </a:lnTo>
                  <a:lnTo>
                    <a:pt x="1256" y="2482"/>
                  </a:lnTo>
                  <a:lnTo>
                    <a:pt x="1250" y="2480"/>
                  </a:lnTo>
                  <a:lnTo>
                    <a:pt x="1245" y="2480"/>
                  </a:lnTo>
                  <a:lnTo>
                    <a:pt x="1239" y="2483"/>
                  </a:lnTo>
                  <a:lnTo>
                    <a:pt x="1232" y="2490"/>
                  </a:lnTo>
                  <a:lnTo>
                    <a:pt x="1235" y="2498"/>
                  </a:lnTo>
                  <a:lnTo>
                    <a:pt x="1240" y="2510"/>
                  </a:lnTo>
                  <a:lnTo>
                    <a:pt x="1239" y="2525"/>
                  </a:lnTo>
                  <a:lnTo>
                    <a:pt x="1234" y="2545"/>
                  </a:lnTo>
                  <a:lnTo>
                    <a:pt x="1232" y="2567"/>
                  </a:lnTo>
                  <a:lnTo>
                    <a:pt x="1234" y="2587"/>
                  </a:lnTo>
                  <a:lnTo>
                    <a:pt x="1234" y="2602"/>
                  </a:lnTo>
                  <a:lnTo>
                    <a:pt x="1230" y="2615"/>
                  </a:lnTo>
                  <a:lnTo>
                    <a:pt x="1225" y="2630"/>
                  </a:lnTo>
                  <a:lnTo>
                    <a:pt x="1219" y="2643"/>
                  </a:lnTo>
                  <a:lnTo>
                    <a:pt x="1215" y="2648"/>
                  </a:lnTo>
                  <a:lnTo>
                    <a:pt x="1177" y="2678"/>
                  </a:lnTo>
                  <a:lnTo>
                    <a:pt x="1175" y="2672"/>
                  </a:lnTo>
                  <a:lnTo>
                    <a:pt x="1170" y="2657"/>
                  </a:lnTo>
                  <a:lnTo>
                    <a:pt x="1167" y="2640"/>
                  </a:lnTo>
                  <a:lnTo>
                    <a:pt x="1167" y="2625"/>
                  </a:lnTo>
                  <a:lnTo>
                    <a:pt x="1167" y="2613"/>
                  </a:lnTo>
                  <a:lnTo>
                    <a:pt x="1164" y="2598"/>
                  </a:lnTo>
                  <a:lnTo>
                    <a:pt x="1154" y="2583"/>
                  </a:lnTo>
                  <a:lnTo>
                    <a:pt x="1144" y="2568"/>
                  </a:lnTo>
                  <a:lnTo>
                    <a:pt x="1134" y="2555"/>
                  </a:lnTo>
                  <a:lnTo>
                    <a:pt x="1124" y="2543"/>
                  </a:lnTo>
                  <a:lnTo>
                    <a:pt x="1115" y="2532"/>
                  </a:lnTo>
                  <a:lnTo>
                    <a:pt x="1110" y="2522"/>
                  </a:lnTo>
                  <a:lnTo>
                    <a:pt x="1107" y="2508"/>
                  </a:lnTo>
                  <a:lnTo>
                    <a:pt x="1104" y="2492"/>
                  </a:lnTo>
                  <a:lnTo>
                    <a:pt x="1095" y="2475"/>
                  </a:lnTo>
                  <a:lnTo>
                    <a:pt x="1082" y="2458"/>
                  </a:lnTo>
                  <a:lnTo>
                    <a:pt x="1072" y="2450"/>
                  </a:lnTo>
                  <a:lnTo>
                    <a:pt x="1059" y="2437"/>
                  </a:lnTo>
                  <a:lnTo>
                    <a:pt x="1044" y="2423"/>
                  </a:lnTo>
                  <a:lnTo>
                    <a:pt x="1029" y="2405"/>
                  </a:lnTo>
                  <a:lnTo>
                    <a:pt x="1014" y="2387"/>
                  </a:lnTo>
                  <a:lnTo>
                    <a:pt x="999" y="2368"/>
                  </a:lnTo>
                  <a:lnTo>
                    <a:pt x="987" y="2350"/>
                  </a:lnTo>
                  <a:lnTo>
                    <a:pt x="979" y="2332"/>
                  </a:lnTo>
                  <a:lnTo>
                    <a:pt x="964" y="2302"/>
                  </a:lnTo>
                  <a:lnTo>
                    <a:pt x="949" y="2280"/>
                  </a:lnTo>
                  <a:lnTo>
                    <a:pt x="937" y="2263"/>
                  </a:lnTo>
                  <a:lnTo>
                    <a:pt x="930" y="2245"/>
                  </a:lnTo>
                  <a:lnTo>
                    <a:pt x="927" y="2231"/>
                  </a:lnTo>
                  <a:lnTo>
                    <a:pt x="920" y="2211"/>
                  </a:lnTo>
                  <a:lnTo>
                    <a:pt x="910" y="2190"/>
                  </a:lnTo>
                  <a:lnTo>
                    <a:pt x="900" y="2166"/>
                  </a:lnTo>
                  <a:lnTo>
                    <a:pt x="890" y="2143"/>
                  </a:lnTo>
                  <a:lnTo>
                    <a:pt x="880" y="2123"/>
                  </a:lnTo>
                  <a:lnTo>
                    <a:pt x="870" y="2108"/>
                  </a:lnTo>
                  <a:lnTo>
                    <a:pt x="864" y="2098"/>
                  </a:lnTo>
                  <a:lnTo>
                    <a:pt x="854" y="2085"/>
                  </a:lnTo>
                  <a:lnTo>
                    <a:pt x="845" y="2071"/>
                  </a:lnTo>
                  <a:lnTo>
                    <a:pt x="834" y="2056"/>
                  </a:lnTo>
                  <a:lnTo>
                    <a:pt x="822" y="2041"/>
                  </a:lnTo>
                  <a:lnTo>
                    <a:pt x="814" y="2033"/>
                  </a:lnTo>
                  <a:lnTo>
                    <a:pt x="802" y="2025"/>
                  </a:lnTo>
                  <a:lnTo>
                    <a:pt x="790" y="2018"/>
                  </a:lnTo>
                  <a:lnTo>
                    <a:pt x="779" y="2010"/>
                  </a:lnTo>
                  <a:lnTo>
                    <a:pt x="765" y="2003"/>
                  </a:lnTo>
                  <a:lnTo>
                    <a:pt x="752" y="1998"/>
                  </a:lnTo>
                  <a:lnTo>
                    <a:pt x="740" y="1995"/>
                  </a:lnTo>
                  <a:lnTo>
                    <a:pt x="730" y="1993"/>
                  </a:lnTo>
                  <a:lnTo>
                    <a:pt x="722" y="1991"/>
                  </a:lnTo>
                  <a:lnTo>
                    <a:pt x="717" y="1988"/>
                  </a:lnTo>
                  <a:lnTo>
                    <a:pt x="710" y="1983"/>
                  </a:lnTo>
                  <a:lnTo>
                    <a:pt x="705" y="1975"/>
                  </a:lnTo>
                  <a:lnTo>
                    <a:pt x="700" y="1966"/>
                  </a:lnTo>
                  <a:lnTo>
                    <a:pt x="693" y="1953"/>
                  </a:lnTo>
                  <a:lnTo>
                    <a:pt x="685" y="1940"/>
                  </a:lnTo>
                  <a:lnTo>
                    <a:pt x="673" y="1923"/>
                  </a:lnTo>
                  <a:lnTo>
                    <a:pt x="662" y="1905"/>
                  </a:lnTo>
                  <a:lnTo>
                    <a:pt x="652" y="1886"/>
                  </a:lnTo>
                  <a:lnTo>
                    <a:pt x="642" y="1868"/>
                  </a:lnTo>
                  <a:lnTo>
                    <a:pt x="635" y="1851"/>
                  </a:lnTo>
                  <a:lnTo>
                    <a:pt x="628" y="1833"/>
                  </a:lnTo>
                  <a:lnTo>
                    <a:pt x="623" y="1818"/>
                  </a:lnTo>
                  <a:lnTo>
                    <a:pt x="620" y="1803"/>
                  </a:lnTo>
                  <a:lnTo>
                    <a:pt x="617" y="1790"/>
                  </a:lnTo>
                  <a:lnTo>
                    <a:pt x="612" y="1765"/>
                  </a:lnTo>
                  <a:lnTo>
                    <a:pt x="603" y="1741"/>
                  </a:lnTo>
                  <a:lnTo>
                    <a:pt x="597" y="1724"/>
                  </a:lnTo>
                  <a:lnTo>
                    <a:pt x="593" y="1718"/>
                  </a:lnTo>
                  <a:lnTo>
                    <a:pt x="600" y="1706"/>
                  </a:lnTo>
                  <a:lnTo>
                    <a:pt x="610" y="1676"/>
                  </a:lnTo>
                  <a:lnTo>
                    <a:pt x="617" y="1636"/>
                  </a:lnTo>
                  <a:lnTo>
                    <a:pt x="607" y="1594"/>
                  </a:lnTo>
                  <a:lnTo>
                    <a:pt x="590" y="1559"/>
                  </a:lnTo>
                  <a:lnTo>
                    <a:pt x="582" y="1531"/>
                  </a:lnTo>
                  <a:lnTo>
                    <a:pt x="573" y="1503"/>
                  </a:lnTo>
                  <a:lnTo>
                    <a:pt x="560" y="1471"/>
                  </a:lnTo>
                  <a:lnTo>
                    <a:pt x="552" y="1454"/>
                  </a:lnTo>
                  <a:lnTo>
                    <a:pt x="547" y="1439"/>
                  </a:lnTo>
                  <a:lnTo>
                    <a:pt x="542" y="1426"/>
                  </a:lnTo>
                  <a:lnTo>
                    <a:pt x="537" y="1413"/>
                  </a:lnTo>
                  <a:lnTo>
                    <a:pt x="532" y="1401"/>
                  </a:lnTo>
                  <a:lnTo>
                    <a:pt x="525" y="1393"/>
                  </a:lnTo>
                  <a:lnTo>
                    <a:pt x="518" y="1383"/>
                  </a:lnTo>
                  <a:lnTo>
                    <a:pt x="508" y="1376"/>
                  </a:lnTo>
                  <a:lnTo>
                    <a:pt x="497" y="1369"/>
                  </a:lnTo>
                  <a:lnTo>
                    <a:pt x="487" y="1361"/>
                  </a:lnTo>
                  <a:lnTo>
                    <a:pt x="475" y="1354"/>
                  </a:lnTo>
                  <a:lnTo>
                    <a:pt x="463" y="1346"/>
                  </a:lnTo>
                  <a:lnTo>
                    <a:pt x="452" y="1338"/>
                  </a:lnTo>
                  <a:lnTo>
                    <a:pt x="440" y="1329"/>
                  </a:lnTo>
                  <a:lnTo>
                    <a:pt x="427" y="1323"/>
                  </a:lnTo>
                  <a:lnTo>
                    <a:pt x="413" y="1316"/>
                  </a:lnTo>
                  <a:lnTo>
                    <a:pt x="392" y="1303"/>
                  </a:lnTo>
                  <a:lnTo>
                    <a:pt x="382" y="1286"/>
                  </a:lnTo>
                  <a:lnTo>
                    <a:pt x="375" y="1268"/>
                  </a:lnTo>
                  <a:lnTo>
                    <a:pt x="365" y="1249"/>
                  </a:lnTo>
                  <a:lnTo>
                    <a:pt x="355" y="1232"/>
                  </a:lnTo>
                  <a:lnTo>
                    <a:pt x="348" y="1219"/>
                  </a:lnTo>
                  <a:lnTo>
                    <a:pt x="347" y="1209"/>
                  </a:lnTo>
                  <a:lnTo>
                    <a:pt x="347" y="1206"/>
                  </a:lnTo>
                  <a:lnTo>
                    <a:pt x="348" y="1206"/>
                  </a:lnTo>
                  <a:lnTo>
                    <a:pt x="353" y="1204"/>
                  </a:lnTo>
                  <a:lnTo>
                    <a:pt x="360" y="1201"/>
                  </a:lnTo>
                  <a:lnTo>
                    <a:pt x="367" y="1194"/>
                  </a:lnTo>
                  <a:lnTo>
                    <a:pt x="370" y="1187"/>
                  </a:lnTo>
                  <a:lnTo>
                    <a:pt x="370" y="1176"/>
                  </a:lnTo>
                  <a:lnTo>
                    <a:pt x="365" y="1162"/>
                  </a:lnTo>
                  <a:lnTo>
                    <a:pt x="352" y="1144"/>
                  </a:lnTo>
                  <a:lnTo>
                    <a:pt x="330" y="1122"/>
                  </a:lnTo>
                  <a:lnTo>
                    <a:pt x="327" y="1122"/>
                  </a:lnTo>
                  <a:lnTo>
                    <a:pt x="330" y="1126"/>
                  </a:lnTo>
                  <a:lnTo>
                    <a:pt x="327" y="1112"/>
                  </a:lnTo>
                  <a:lnTo>
                    <a:pt x="320" y="1091"/>
                  </a:lnTo>
                  <a:lnTo>
                    <a:pt x="315" y="1076"/>
                  </a:lnTo>
                  <a:lnTo>
                    <a:pt x="308" y="1066"/>
                  </a:lnTo>
                  <a:lnTo>
                    <a:pt x="293" y="1054"/>
                  </a:lnTo>
                  <a:lnTo>
                    <a:pt x="283" y="1039"/>
                  </a:lnTo>
                  <a:lnTo>
                    <a:pt x="285" y="1024"/>
                  </a:lnTo>
                  <a:lnTo>
                    <a:pt x="287" y="1011"/>
                  </a:lnTo>
                  <a:lnTo>
                    <a:pt x="275" y="997"/>
                  </a:lnTo>
                  <a:lnTo>
                    <a:pt x="257" y="986"/>
                  </a:lnTo>
                  <a:lnTo>
                    <a:pt x="243" y="971"/>
                  </a:lnTo>
                  <a:lnTo>
                    <a:pt x="235" y="954"/>
                  </a:lnTo>
                  <a:lnTo>
                    <a:pt x="232" y="936"/>
                  </a:lnTo>
                  <a:lnTo>
                    <a:pt x="228" y="916"/>
                  </a:lnTo>
                  <a:lnTo>
                    <a:pt x="218" y="889"/>
                  </a:lnTo>
                  <a:lnTo>
                    <a:pt x="205" y="862"/>
                  </a:lnTo>
                  <a:lnTo>
                    <a:pt x="185" y="836"/>
                  </a:lnTo>
                  <a:lnTo>
                    <a:pt x="172" y="814"/>
                  </a:lnTo>
                  <a:lnTo>
                    <a:pt x="168" y="796"/>
                  </a:lnTo>
                  <a:lnTo>
                    <a:pt x="167" y="782"/>
                  </a:lnTo>
                  <a:lnTo>
                    <a:pt x="157" y="774"/>
                  </a:lnTo>
                  <a:lnTo>
                    <a:pt x="145" y="766"/>
                  </a:lnTo>
                  <a:lnTo>
                    <a:pt x="140" y="754"/>
                  </a:lnTo>
                  <a:lnTo>
                    <a:pt x="133" y="739"/>
                  </a:lnTo>
                  <a:lnTo>
                    <a:pt x="118" y="722"/>
                  </a:lnTo>
                  <a:lnTo>
                    <a:pt x="100" y="700"/>
                  </a:lnTo>
                  <a:lnTo>
                    <a:pt x="86" y="674"/>
                  </a:lnTo>
                  <a:lnTo>
                    <a:pt x="78" y="652"/>
                  </a:lnTo>
                  <a:lnTo>
                    <a:pt x="75" y="642"/>
                  </a:lnTo>
                  <a:lnTo>
                    <a:pt x="70" y="642"/>
                  </a:lnTo>
                  <a:lnTo>
                    <a:pt x="60" y="642"/>
                  </a:lnTo>
                  <a:lnTo>
                    <a:pt x="45" y="642"/>
                  </a:lnTo>
                  <a:lnTo>
                    <a:pt x="33" y="642"/>
                  </a:lnTo>
                  <a:lnTo>
                    <a:pt x="21" y="642"/>
                  </a:lnTo>
                  <a:lnTo>
                    <a:pt x="11" y="644"/>
                  </a:lnTo>
                  <a:lnTo>
                    <a:pt x="3" y="645"/>
                  </a:lnTo>
                  <a:lnTo>
                    <a:pt x="0" y="645"/>
                  </a:lnTo>
                  <a:lnTo>
                    <a:pt x="1" y="642"/>
                  </a:lnTo>
                  <a:lnTo>
                    <a:pt x="5" y="632"/>
                  </a:lnTo>
                  <a:lnTo>
                    <a:pt x="8" y="620"/>
                  </a:lnTo>
                  <a:lnTo>
                    <a:pt x="13" y="609"/>
                  </a:lnTo>
                  <a:lnTo>
                    <a:pt x="20" y="592"/>
                  </a:lnTo>
                  <a:lnTo>
                    <a:pt x="28" y="569"/>
                  </a:lnTo>
                  <a:lnTo>
                    <a:pt x="35" y="542"/>
                  </a:lnTo>
                  <a:lnTo>
                    <a:pt x="38" y="517"/>
                  </a:lnTo>
                  <a:lnTo>
                    <a:pt x="40" y="500"/>
                  </a:lnTo>
                  <a:lnTo>
                    <a:pt x="43" y="489"/>
                  </a:lnTo>
                  <a:lnTo>
                    <a:pt x="50" y="480"/>
                  </a:lnTo>
                  <a:lnTo>
                    <a:pt x="56" y="470"/>
                  </a:lnTo>
                  <a:lnTo>
                    <a:pt x="61" y="457"/>
                  </a:lnTo>
                  <a:lnTo>
                    <a:pt x="65" y="442"/>
                  </a:lnTo>
                  <a:lnTo>
                    <a:pt x="66" y="429"/>
                  </a:lnTo>
                  <a:lnTo>
                    <a:pt x="66" y="424"/>
                  </a:lnTo>
                  <a:lnTo>
                    <a:pt x="232" y="465"/>
                  </a:lnTo>
                  <a:lnTo>
                    <a:pt x="235" y="464"/>
                  </a:lnTo>
                  <a:lnTo>
                    <a:pt x="243" y="457"/>
                  </a:lnTo>
                  <a:lnTo>
                    <a:pt x="257" y="450"/>
                  </a:lnTo>
                  <a:lnTo>
                    <a:pt x="270" y="439"/>
                  </a:lnTo>
                  <a:lnTo>
                    <a:pt x="285" y="429"/>
                  </a:lnTo>
                  <a:lnTo>
                    <a:pt x="298" y="417"/>
                  </a:lnTo>
                  <a:lnTo>
                    <a:pt x="308" y="407"/>
                  </a:lnTo>
                  <a:lnTo>
                    <a:pt x="313" y="399"/>
                  </a:lnTo>
                  <a:lnTo>
                    <a:pt x="318" y="384"/>
                  </a:lnTo>
                  <a:lnTo>
                    <a:pt x="325" y="369"/>
                  </a:lnTo>
                  <a:lnTo>
                    <a:pt x="330" y="357"/>
                  </a:lnTo>
                  <a:lnTo>
                    <a:pt x="332" y="352"/>
                  </a:lnTo>
                  <a:lnTo>
                    <a:pt x="335" y="352"/>
                  </a:lnTo>
                  <a:lnTo>
                    <a:pt x="342" y="352"/>
                  </a:lnTo>
                  <a:lnTo>
                    <a:pt x="353" y="352"/>
                  </a:lnTo>
                  <a:lnTo>
                    <a:pt x="367" y="350"/>
                  </a:lnTo>
                  <a:lnTo>
                    <a:pt x="382" y="350"/>
                  </a:lnTo>
                  <a:lnTo>
                    <a:pt x="398" y="347"/>
                  </a:lnTo>
                  <a:lnTo>
                    <a:pt x="413" y="345"/>
                  </a:lnTo>
                  <a:lnTo>
                    <a:pt x="427" y="342"/>
                  </a:lnTo>
                  <a:lnTo>
                    <a:pt x="438" y="337"/>
                  </a:lnTo>
                  <a:lnTo>
                    <a:pt x="447" y="329"/>
                  </a:lnTo>
                  <a:lnTo>
                    <a:pt x="455" y="319"/>
                  </a:lnTo>
                  <a:lnTo>
                    <a:pt x="462" y="309"/>
                  </a:lnTo>
                  <a:lnTo>
                    <a:pt x="468" y="299"/>
                  </a:lnTo>
                  <a:lnTo>
                    <a:pt x="475" y="290"/>
                  </a:lnTo>
                  <a:lnTo>
                    <a:pt x="483" y="284"/>
                  </a:lnTo>
                  <a:lnTo>
                    <a:pt x="493" y="280"/>
                  </a:lnTo>
                  <a:lnTo>
                    <a:pt x="508" y="275"/>
                  </a:lnTo>
                  <a:lnTo>
                    <a:pt x="513" y="269"/>
                  </a:lnTo>
                  <a:lnTo>
                    <a:pt x="513" y="264"/>
                  </a:lnTo>
                  <a:lnTo>
                    <a:pt x="512" y="262"/>
                  </a:lnTo>
                  <a:lnTo>
                    <a:pt x="380" y="90"/>
                  </a:lnTo>
                  <a:close/>
                </a:path>
              </a:pathLst>
            </a:custGeom>
            <a:solidFill>
              <a:srgbClr val="b2b2b2">
                <a:alpha val="30000"/>
              </a:srgbClr>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484" name=""/>
          <p:cNvSpPr/>
          <p:nvPr/>
        </p:nvSpPr>
        <p:spPr>
          <a:xfrm>
            <a:off x="1258920" y="1157400"/>
            <a:ext cx="6208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333399"/>
                </a:solidFill>
                <a:latin typeface="Albertus Medium"/>
              </a:rPr>
              <a:t>Dermatologists are at the front line</a:t>
            </a:r>
            <a:endParaRPr b="0" lang="en-US" sz="2400" spc="-1" strike="noStrike">
              <a:solidFill>
                <a:srgbClr val="000000"/>
              </a:solidFill>
              <a:latin typeface="Arial"/>
            </a:endParaRPr>
          </a:p>
        </p:txBody>
      </p:sp>
      <p:sp>
        <p:nvSpPr>
          <p:cNvPr id="485" name="PlaceHolder 1"/>
          <p:cNvSpPr>
            <a:spLocks noGrp="1"/>
          </p:cNvSpPr>
          <p:nvPr>
            <p:ph/>
          </p:nvPr>
        </p:nvSpPr>
        <p:spPr>
          <a:xfrm>
            <a:off x="1523520" y="1828800"/>
            <a:ext cx="7162920" cy="4525920"/>
          </a:xfrm>
          <a:prstGeom prst="rect">
            <a:avLst/>
          </a:prstGeom>
          <a:noFill/>
          <a:ln w="0">
            <a:noFill/>
          </a:ln>
        </p:spPr>
        <p:txBody>
          <a:bodyPr lIns="90000" rIns="90000" tIns="46800" bIns="46800" anchor="t">
            <a:normAutofit/>
          </a:bodyPr>
          <a:p>
            <a:pPr marL="341280" indent="-341280">
              <a:lnSpc>
                <a:spcPct val="80000"/>
              </a:lnSpc>
              <a:spcBef>
                <a:spcPts val="601"/>
              </a:spcBef>
              <a:buClr>
                <a:srgbClr val="333399"/>
              </a:buClr>
              <a:buFont typeface="Albertus Medium"/>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333399"/>
                </a:solidFill>
                <a:latin typeface="Albertus Medium"/>
              </a:rPr>
              <a:t>The skin is at the front line, Nanoparticle can penetrate the skin, and the smaller a particle the further it can travel through tissue, along airways or in blood vessels and might threaten organs</a:t>
            </a:r>
            <a:endParaRPr b="0" lang="en-US" sz="2400" spc="-1" strike="noStrike">
              <a:solidFill>
                <a:srgbClr val="000000"/>
              </a:solidFill>
              <a:latin typeface="Arial"/>
            </a:endParaRPr>
          </a:p>
          <a:p>
            <a:pPr marL="341280" indent="0">
              <a:lnSpc>
                <a:spcPct val="8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400" spc="-1" strike="noStrike">
              <a:solidFill>
                <a:srgbClr val="000000"/>
              </a:solidFill>
              <a:latin typeface="Arial"/>
            </a:endParaRPr>
          </a:p>
          <a:p>
            <a:pPr marL="341280" indent="-341280">
              <a:lnSpc>
                <a:spcPct val="80000"/>
              </a:lnSpc>
              <a:spcBef>
                <a:spcPts val="601"/>
              </a:spcBef>
              <a:buClr>
                <a:srgbClr val="333399"/>
              </a:buClr>
              <a:buFont typeface="Albertus Medium"/>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333399"/>
                </a:solidFill>
                <a:latin typeface="Albertus Medium"/>
              </a:rPr>
              <a:t>(If nanoparticle are indestructible, they can accumulate and cause end organ damage, or might cause biochemical disturbances, penetrate cell membrane causing cell death. Lodge in DNA, generate O2 free radicals, inflammation or allergic reactions, granuloma or even cancer).</a:t>
            </a:r>
            <a:endParaRPr b="0" lang="en-US" sz="2400" spc="-1" strike="noStrike">
              <a:solidFill>
                <a:srgbClr val="000000"/>
              </a:solidFill>
              <a:latin typeface="Arial"/>
            </a:endParaRPr>
          </a:p>
        </p:txBody>
      </p:sp>
      <p:sp>
        <p:nvSpPr>
          <p:cNvPr id="486" name=""/>
          <p:cNvSpPr/>
          <p:nvPr/>
        </p:nvSpPr>
        <p:spPr>
          <a:xfrm>
            <a:off x="609480" y="6629400"/>
            <a:ext cx="8534520" cy="228600"/>
          </a:xfrm>
          <a:prstGeom prst="rect">
            <a:avLst/>
          </a:prstGeom>
          <a:solidFill>
            <a:srgbClr val="bbe0e3"/>
          </a:solidFill>
          <a:ln cap="sq"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99"/>
                </a:solidFill>
                <a:latin typeface="Albertus Medium"/>
              </a:rPr>
              <a:t>www.skinandallergy.org</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0" lang="en-US" sz="1000" spc="-1" strike="noStrike">
                <a:solidFill>
                  <a:srgbClr val="333399"/>
                </a:solidFill>
                <a:latin typeface="Albertus Medium"/>
              </a:rPr>
              <a:t>www.panarabderm.org</a:t>
            </a:r>
            <a:endParaRPr b="0" lang="en-US" sz="10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7" name="" descr=""/>
          <p:cNvPicPr/>
          <p:nvPr/>
        </p:nvPicPr>
        <p:blipFill>
          <a:blip r:embed="rId2"/>
          <a:stretch/>
        </p:blipFill>
        <p:spPr>
          <a:xfrm>
            <a:off x="8153280" y="74520"/>
            <a:ext cx="922320" cy="992160"/>
          </a:xfrm>
          <a:prstGeom prst="rect">
            <a:avLst/>
          </a:prstGeom>
          <a:ln w="0">
            <a:noFill/>
          </a:ln>
        </p:spPr>
      </p:pic>
      <p:sp>
        <p:nvSpPr>
          <p:cNvPr id="488" name=""/>
          <p:cNvSpPr/>
          <p:nvPr/>
        </p:nvSpPr>
        <p:spPr>
          <a:xfrm>
            <a:off x="1295280" y="1066680"/>
            <a:ext cx="6193080" cy="1800"/>
          </a:xfrm>
          <a:prstGeom prst="line">
            <a:avLst/>
          </a:prstGeom>
          <a:ln cap="sq" w="12600">
            <a:solidFill>
              <a:srgbClr val="b2b2b2"/>
            </a:solidFill>
            <a:miter/>
          </a:ln>
        </p:spPr>
        <p:style>
          <a:lnRef idx="0"/>
          <a:fillRef idx="0"/>
          <a:effectRef idx="0"/>
          <a:fontRef idx="minor"/>
        </p:style>
        <p:txBody>
          <a:bodyPr lIns="90000" rIns="90000" tIns="-45000" bIns="-45000" anchor="t">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489" name="" descr=""/>
          <p:cNvPicPr/>
          <p:nvPr/>
        </p:nvPicPr>
        <p:blipFill>
          <a:blip r:embed="rId3"/>
          <a:stretch/>
        </p:blipFill>
        <p:spPr>
          <a:xfrm>
            <a:off x="0" y="0"/>
            <a:ext cx="600120" cy="6858000"/>
          </a:xfrm>
          <a:prstGeom prst="rect">
            <a:avLst/>
          </a:prstGeom>
          <a:ln w="0">
            <a:noFill/>
          </a:ln>
        </p:spPr>
      </p:pic>
      <p:sp>
        <p:nvSpPr>
          <p:cNvPr id="490" name=""/>
          <p:cNvSpPr/>
          <p:nvPr/>
        </p:nvSpPr>
        <p:spPr>
          <a:xfrm>
            <a:off x="0" y="457200"/>
            <a:ext cx="914400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333399"/>
                </a:solidFill>
                <a:latin typeface="Albertus Medium"/>
              </a:rPr>
              <a:t>The Risks of Nanotechnology</a:t>
            </a:r>
            <a:endParaRPr b="0" lang="en-US" sz="3600" spc="-1" strike="noStrike">
              <a:solidFill>
                <a:srgbClr val="000000"/>
              </a:solidFill>
              <a:latin typeface="Arial"/>
            </a:endParaRPr>
          </a:p>
        </p:txBody>
      </p:sp>
      <p:grpSp>
        <p:nvGrpSpPr>
          <p:cNvPr id="491" name=""/>
          <p:cNvGrpSpPr/>
          <p:nvPr/>
        </p:nvGrpSpPr>
        <p:grpSpPr>
          <a:xfrm>
            <a:off x="2639880" y="1346040"/>
            <a:ext cx="4521240" cy="3986280"/>
            <a:chOff x="2639880" y="1346040"/>
            <a:chExt cx="4521240" cy="3986280"/>
          </a:xfrm>
        </p:grpSpPr>
        <p:sp>
          <p:nvSpPr>
            <p:cNvPr id="492" name=""/>
            <p:cNvSpPr/>
            <p:nvPr/>
          </p:nvSpPr>
          <p:spPr>
            <a:xfrm>
              <a:off x="2639880" y="2319480"/>
              <a:ext cx="1721160" cy="3012840"/>
            </a:xfrm>
            <a:custGeom>
              <a:avLst/>
              <a:gdLst/>
              <a:ahLst/>
              <a:rect l="l" t="t" r="r" b="b"/>
              <a:pathLst>
                <a:path w="1261" h="2255">
                  <a:moveTo>
                    <a:pt x="1257" y="2027"/>
                  </a:moveTo>
                  <a:lnTo>
                    <a:pt x="1257" y="2015"/>
                  </a:lnTo>
                  <a:lnTo>
                    <a:pt x="1252" y="2000"/>
                  </a:lnTo>
                  <a:lnTo>
                    <a:pt x="1244" y="1985"/>
                  </a:lnTo>
                  <a:lnTo>
                    <a:pt x="1232" y="1970"/>
                  </a:lnTo>
                  <a:lnTo>
                    <a:pt x="1222" y="1956"/>
                  </a:lnTo>
                  <a:lnTo>
                    <a:pt x="1212" y="1945"/>
                  </a:lnTo>
                  <a:lnTo>
                    <a:pt x="1204" y="1933"/>
                  </a:lnTo>
                  <a:lnTo>
                    <a:pt x="1199" y="1921"/>
                  </a:lnTo>
                  <a:lnTo>
                    <a:pt x="1197" y="1910"/>
                  </a:lnTo>
                  <a:lnTo>
                    <a:pt x="1192" y="1893"/>
                  </a:lnTo>
                  <a:lnTo>
                    <a:pt x="1186" y="1876"/>
                  </a:lnTo>
                  <a:lnTo>
                    <a:pt x="1171" y="1860"/>
                  </a:lnTo>
                  <a:lnTo>
                    <a:pt x="1161" y="1851"/>
                  </a:lnTo>
                  <a:lnTo>
                    <a:pt x="1147" y="1838"/>
                  </a:lnTo>
                  <a:lnTo>
                    <a:pt x="1132" y="1823"/>
                  </a:lnTo>
                  <a:lnTo>
                    <a:pt x="1117" y="1806"/>
                  </a:lnTo>
                  <a:lnTo>
                    <a:pt x="1102" y="1788"/>
                  </a:lnTo>
                  <a:lnTo>
                    <a:pt x="1087" y="1770"/>
                  </a:lnTo>
                  <a:lnTo>
                    <a:pt x="1076" y="1750"/>
                  </a:lnTo>
                  <a:lnTo>
                    <a:pt x="1067" y="1731"/>
                  </a:lnTo>
                  <a:lnTo>
                    <a:pt x="1052" y="1703"/>
                  </a:lnTo>
                  <a:lnTo>
                    <a:pt x="1037" y="1681"/>
                  </a:lnTo>
                  <a:lnTo>
                    <a:pt x="1026" y="1665"/>
                  </a:lnTo>
                  <a:lnTo>
                    <a:pt x="1019" y="1646"/>
                  </a:lnTo>
                  <a:lnTo>
                    <a:pt x="1016" y="1633"/>
                  </a:lnTo>
                  <a:lnTo>
                    <a:pt x="1009" y="1613"/>
                  </a:lnTo>
                  <a:lnTo>
                    <a:pt x="999" y="1591"/>
                  </a:lnTo>
                  <a:lnTo>
                    <a:pt x="989" y="1568"/>
                  </a:lnTo>
                  <a:lnTo>
                    <a:pt x="979" y="1545"/>
                  </a:lnTo>
                  <a:lnTo>
                    <a:pt x="969" y="1525"/>
                  </a:lnTo>
                  <a:lnTo>
                    <a:pt x="959" y="1508"/>
                  </a:lnTo>
                  <a:lnTo>
                    <a:pt x="952" y="1499"/>
                  </a:lnTo>
                  <a:lnTo>
                    <a:pt x="942" y="1486"/>
                  </a:lnTo>
                  <a:lnTo>
                    <a:pt x="934" y="1473"/>
                  </a:lnTo>
                  <a:lnTo>
                    <a:pt x="922" y="1458"/>
                  </a:lnTo>
                  <a:lnTo>
                    <a:pt x="911" y="1443"/>
                  </a:lnTo>
                  <a:lnTo>
                    <a:pt x="902" y="1434"/>
                  </a:lnTo>
                  <a:lnTo>
                    <a:pt x="891" y="1426"/>
                  </a:lnTo>
                  <a:lnTo>
                    <a:pt x="879" y="1419"/>
                  </a:lnTo>
                  <a:lnTo>
                    <a:pt x="867" y="1411"/>
                  </a:lnTo>
                  <a:lnTo>
                    <a:pt x="854" y="1404"/>
                  </a:lnTo>
                  <a:lnTo>
                    <a:pt x="842" y="1399"/>
                  </a:lnTo>
                  <a:lnTo>
                    <a:pt x="831" y="1396"/>
                  </a:lnTo>
                  <a:lnTo>
                    <a:pt x="820" y="1394"/>
                  </a:lnTo>
                  <a:lnTo>
                    <a:pt x="812" y="1393"/>
                  </a:lnTo>
                  <a:lnTo>
                    <a:pt x="805" y="1389"/>
                  </a:lnTo>
                  <a:lnTo>
                    <a:pt x="800" y="1384"/>
                  </a:lnTo>
                  <a:lnTo>
                    <a:pt x="794" y="1376"/>
                  </a:lnTo>
                  <a:lnTo>
                    <a:pt x="789" y="1368"/>
                  </a:lnTo>
                  <a:lnTo>
                    <a:pt x="782" y="1354"/>
                  </a:lnTo>
                  <a:lnTo>
                    <a:pt x="774" y="1341"/>
                  </a:lnTo>
                  <a:lnTo>
                    <a:pt x="762" y="1324"/>
                  </a:lnTo>
                  <a:lnTo>
                    <a:pt x="750" y="1306"/>
                  </a:lnTo>
                  <a:lnTo>
                    <a:pt x="740" y="1288"/>
                  </a:lnTo>
                  <a:lnTo>
                    <a:pt x="732" y="1269"/>
                  </a:lnTo>
                  <a:lnTo>
                    <a:pt x="724" y="1253"/>
                  </a:lnTo>
                  <a:lnTo>
                    <a:pt x="717" y="1234"/>
                  </a:lnTo>
                  <a:lnTo>
                    <a:pt x="712" y="1219"/>
                  </a:lnTo>
                  <a:lnTo>
                    <a:pt x="709" y="1204"/>
                  </a:lnTo>
                  <a:lnTo>
                    <a:pt x="705" y="1191"/>
                  </a:lnTo>
                  <a:lnTo>
                    <a:pt x="700" y="1166"/>
                  </a:lnTo>
                  <a:lnTo>
                    <a:pt x="692" y="1143"/>
                  </a:lnTo>
                  <a:lnTo>
                    <a:pt x="685" y="1126"/>
                  </a:lnTo>
                  <a:lnTo>
                    <a:pt x="682" y="1119"/>
                  </a:lnTo>
                  <a:lnTo>
                    <a:pt x="689" y="1108"/>
                  </a:lnTo>
                  <a:lnTo>
                    <a:pt x="700" y="1078"/>
                  </a:lnTo>
                  <a:lnTo>
                    <a:pt x="707" y="1038"/>
                  </a:lnTo>
                  <a:lnTo>
                    <a:pt x="697" y="996"/>
                  </a:lnTo>
                  <a:lnTo>
                    <a:pt x="680" y="961"/>
                  </a:lnTo>
                  <a:lnTo>
                    <a:pt x="670" y="932"/>
                  </a:lnTo>
                  <a:lnTo>
                    <a:pt x="662" y="904"/>
                  </a:lnTo>
                  <a:lnTo>
                    <a:pt x="649" y="872"/>
                  </a:lnTo>
                  <a:lnTo>
                    <a:pt x="640" y="856"/>
                  </a:lnTo>
                  <a:lnTo>
                    <a:pt x="635" y="839"/>
                  </a:lnTo>
                  <a:lnTo>
                    <a:pt x="630" y="826"/>
                  </a:lnTo>
                  <a:lnTo>
                    <a:pt x="625" y="814"/>
                  </a:lnTo>
                  <a:lnTo>
                    <a:pt x="620" y="802"/>
                  </a:lnTo>
                  <a:lnTo>
                    <a:pt x="614" y="792"/>
                  </a:lnTo>
                  <a:lnTo>
                    <a:pt x="607" y="784"/>
                  </a:lnTo>
                  <a:lnTo>
                    <a:pt x="597" y="777"/>
                  </a:lnTo>
                  <a:lnTo>
                    <a:pt x="587" y="771"/>
                  </a:lnTo>
                  <a:lnTo>
                    <a:pt x="575" y="762"/>
                  </a:lnTo>
                  <a:lnTo>
                    <a:pt x="565" y="754"/>
                  </a:lnTo>
                  <a:lnTo>
                    <a:pt x="554" y="744"/>
                  </a:lnTo>
                  <a:lnTo>
                    <a:pt x="542" y="736"/>
                  </a:lnTo>
                  <a:lnTo>
                    <a:pt x="529" y="729"/>
                  </a:lnTo>
                  <a:lnTo>
                    <a:pt x="515" y="721"/>
                  </a:lnTo>
                  <a:lnTo>
                    <a:pt x="502" y="716"/>
                  </a:lnTo>
                  <a:lnTo>
                    <a:pt x="480" y="702"/>
                  </a:lnTo>
                  <a:lnTo>
                    <a:pt x="470" y="686"/>
                  </a:lnTo>
                  <a:lnTo>
                    <a:pt x="464" y="667"/>
                  </a:lnTo>
                  <a:lnTo>
                    <a:pt x="454" y="649"/>
                  </a:lnTo>
                  <a:lnTo>
                    <a:pt x="444" y="634"/>
                  </a:lnTo>
                  <a:lnTo>
                    <a:pt x="437" y="621"/>
                  </a:lnTo>
                  <a:lnTo>
                    <a:pt x="435" y="611"/>
                  </a:lnTo>
                  <a:lnTo>
                    <a:pt x="435" y="607"/>
                  </a:lnTo>
                  <a:lnTo>
                    <a:pt x="437" y="607"/>
                  </a:lnTo>
                  <a:lnTo>
                    <a:pt x="442" y="606"/>
                  </a:lnTo>
                  <a:lnTo>
                    <a:pt x="449" y="602"/>
                  </a:lnTo>
                  <a:lnTo>
                    <a:pt x="455" y="596"/>
                  </a:lnTo>
                  <a:lnTo>
                    <a:pt x="459" y="589"/>
                  </a:lnTo>
                  <a:lnTo>
                    <a:pt x="459" y="577"/>
                  </a:lnTo>
                  <a:lnTo>
                    <a:pt x="454" y="564"/>
                  </a:lnTo>
                  <a:lnTo>
                    <a:pt x="440" y="546"/>
                  </a:lnTo>
                  <a:lnTo>
                    <a:pt x="434" y="539"/>
                  </a:lnTo>
                  <a:lnTo>
                    <a:pt x="429" y="532"/>
                  </a:lnTo>
                  <a:lnTo>
                    <a:pt x="424" y="529"/>
                  </a:lnTo>
                  <a:lnTo>
                    <a:pt x="420" y="526"/>
                  </a:lnTo>
                  <a:lnTo>
                    <a:pt x="419" y="527"/>
                  </a:lnTo>
                  <a:lnTo>
                    <a:pt x="415" y="526"/>
                  </a:lnTo>
                  <a:lnTo>
                    <a:pt x="415" y="522"/>
                  </a:lnTo>
                  <a:lnTo>
                    <a:pt x="420" y="526"/>
                  </a:lnTo>
                  <a:lnTo>
                    <a:pt x="420" y="524"/>
                  </a:lnTo>
                  <a:lnTo>
                    <a:pt x="419" y="521"/>
                  </a:lnTo>
                  <a:lnTo>
                    <a:pt x="419" y="517"/>
                  </a:lnTo>
                  <a:lnTo>
                    <a:pt x="417" y="512"/>
                  </a:lnTo>
                  <a:lnTo>
                    <a:pt x="409" y="490"/>
                  </a:lnTo>
                  <a:lnTo>
                    <a:pt x="405" y="477"/>
                  </a:lnTo>
                  <a:lnTo>
                    <a:pt x="399" y="467"/>
                  </a:lnTo>
                  <a:lnTo>
                    <a:pt x="384" y="455"/>
                  </a:lnTo>
                  <a:lnTo>
                    <a:pt x="372" y="440"/>
                  </a:lnTo>
                  <a:lnTo>
                    <a:pt x="374" y="425"/>
                  </a:lnTo>
                  <a:lnTo>
                    <a:pt x="375" y="412"/>
                  </a:lnTo>
                  <a:lnTo>
                    <a:pt x="364" y="399"/>
                  </a:lnTo>
                  <a:lnTo>
                    <a:pt x="345" y="387"/>
                  </a:lnTo>
                  <a:lnTo>
                    <a:pt x="332" y="372"/>
                  </a:lnTo>
                  <a:lnTo>
                    <a:pt x="325" y="355"/>
                  </a:lnTo>
                  <a:lnTo>
                    <a:pt x="322" y="337"/>
                  </a:lnTo>
                  <a:lnTo>
                    <a:pt x="319" y="317"/>
                  </a:lnTo>
                  <a:lnTo>
                    <a:pt x="309" y="290"/>
                  </a:lnTo>
                  <a:lnTo>
                    <a:pt x="294" y="264"/>
                  </a:lnTo>
                  <a:lnTo>
                    <a:pt x="273" y="237"/>
                  </a:lnTo>
                  <a:lnTo>
                    <a:pt x="260" y="215"/>
                  </a:lnTo>
                  <a:lnTo>
                    <a:pt x="257" y="197"/>
                  </a:lnTo>
                  <a:lnTo>
                    <a:pt x="255" y="184"/>
                  </a:lnTo>
                  <a:lnTo>
                    <a:pt x="245" y="175"/>
                  </a:lnTo>
                  <a:lnTo>
                    <a:pt x="233" y="167"/>
                  </a:lnTo>
                  <a:lnTo>
                    <a:pt x="228" y="154"/>
                  </a:lnTo>
                  <a:lnTo>
                    <a:pt x="222" y="140"/>
                  </a:lnTo>
                  <a:lnTo>
                    <a:pt x="207" y="124"/>
                  </a:lnTo>
                  <a:lnTo>
                    <a:pt x="188" y="100"/>
                  </a:lnTo>
                  <a:lnTo>
                    <a:pt x="175" y="74"/>
                  </a:lnTo>
                  <a:lnTo>
                    <a:pt x="168" y="52"/>
                  </a:lnTo>
                  <a:lnTo>
                    <a:pt x="165" y="42"/>
                  </a:lnTo>
                  <a:lnTo>
                    <a:pt x="160" y="42"/>
                  </a:lnTo>
                  <a:lnTo>
                    <a:pt x="148" y="42"/>
                  </a:lnTo>
                  <a:lnTo>
                    <a:pt x="133" y="42"/>
                  </a:lnTo>
                  <a:lnTo>
                    <a:pt x="122" y="42"/>
                  </a:lnTo>
                  <a:lnTo>
                    <a:pt x="110" y="42"/>
                  </a:lnTo>
                  <a:lnTo>
                    <a:pt x="100" y="44"/>
                  </a:lnTo>
                  <a:lnTo>
                    <a:pt x="92" y="47"/>
                  </a:lnTo>
                  <a:lnTo>
                    <a:pt x="88" y="47"/>
                  </a:lnTo>
                  <a:lnTo>
                    <a:pt x="90" y="44"/>
                  </a:lnTo>
                  <a:lnTo>
                    <a:pt x="93" y="34"/>
                  </a:lnTo>
                  <a:lnTo>
                    <a:pt x="98" y="20"/>
                  </a:lnTo>
                  <a:lnTo>
                    <a:pt x="103" y="8"/>
                  </a:lnTo>
                  <a:lnTo>
                    <a:pt x="103" y="8"/>
                  </a:lnTo>
                  <a:lnTo>
                    <a:pt x="103" y="8"/>
                  </a:lnTo>
                  <a:lnTo>
                    <a:pt x="103" y="8"/>
                  </a:lnTo>
                  <a:lnTo>
                    <a:pt x="103" y="8"/>
                  </a:lnTo>
                  <a:lnTo>
                    <a:pt x="67" y="0"/>
                  </a:lnTo>
                  <a:lnTo>
                    <a:pt x="67" y="5"/>
                  </a:lnTo>
                  <a:lnTo>
                    <a:pt x="65" y="19"/>
                  </a:lnTo>
                  <a:lnTo>
                    <a:pt x="62" y="34"/>
                  </a:lnTo>
                  <a:lnTo>
                    <a:pt x="57" y="47"/>
                  </a:lnTo>
                  <a:lnTo>
                    <a:pt x="50" y="57"/>
                  </a:lnTo>
                  <a:lnTo>
                    <a:pt x="45" y="65"/>
                  </a:lnTo>
                  <a:lnTo>
                    <a:pt x="40" y="79"/>
                  </a:lnTo>
                  <a:lnTo>
                    <a:pt x="38" y="95"/>
                  </a:lnTo>
                  <a:lnTo>
                    <a:pt x="35" y="119"/>
                  </a:lnTo>
                  <a:lnTo>
                    <a:pt x="28" y="145"/>
                  </a:lnTo>
                  <a:lnTo>
                    <a:pt x="20" y="169"/>
                  </a:lnTo>
                  <a:lnTo>
                    <a:pt x="15" y="185"/>
                  </a:lnTo>
                  <a:lnTo>
                    <a:pt x="10" y="197"/>
                  </a:lnTo>
                  <a:lnTo>
                    <a:pt x="5" y="209"/>
                  </a:lnTo>
                  <a:lnTo>
                    <a:pt x="2" y="220"/>
                  </a:lnTo>
                  <a:lnTo>
                    <a:pt x="0" y="224"/>
                  </a:lnTo>
                  <a:lnTo>
                    <a:pt x="3" y="224"/>
                  </a:lnTo>
                  <a:lnTo>
                    <a:pt x="12" y="220"/>
                  </a:lnTo>
                  <a:lnTo>
                    <a:pt x="23" y="219"/>
                  </a:lnTo>
                  <a:lnTo>
                    <a:pt x="33" y="219"/>
                  </a:lnTo>
                  <a:lnTo>
                    <a:pt x="47" y="219"/>
                  </a:lnTo>
                  <a:lnTo>
                    <a:pt x="60" y="219"/>
                  </a:lnTo>
                  <a:lnTo>
                    <a:pt x="72" y="219"/>
                  </a:lnTo>
                  <a:lnTo>
                    <a:pt x="77" y="219"/>
                  </a:lnTo>
                  <a:lnTo>
                    <a:pt x="80" y="229"/>
                  </a:lnTo>
                  <a:lnTo>
                    <a:pt x="87" y="250"/>
                  </a:lnTo>
                  <a:lnTo>
                    <a:pt x="100" y="277"/>
                  </a:lnTo>
                  <a:lnTo>
                    <a:pt x="118" y="299"/>
                  </a:lnTo>
                  <a:lnTo>
                    <a:pt x="133" y="315"/>
                  </a:lnTo>
                  <a:lnTo>
                    <a:pt x="140" y="330"/>
                  </a:lnTo>
                  <a:lnTo>
                    <a:pt x="145" y="342"/>
                  </a:lnTo>
                  <a:lnTo>
                    <a:pt x="157" y="352"/>
                  </a:lnTo>
                  <a:lnTo>
                    <a:pt x="167" y="360"/>
                  </a:lnTo>
                  <a:lnTo>
                    <a:pt x="168" y="374"/>
                  </a:lnTo>
                  <a:lnTo>
                    <a:pt x="172" y="390"/>
                  </a:lnTo>
                  <a:lnTo>
                    <a:pt x="185" y="414"/>
                  </a:lnTo>
                  <a:lnTo>
                    <a:pt x="205" y="440"/>
                  </a:lnTo>
                  <a:lnTo>
                    <a:pt x="220" y="467"/>
                  </a:lnTo>
                  <a:lnTo>
                    <a:pt x="230" y="492"/>
                  </a:lnTo>
                  <a:lnTo>
                    <a:pt x="233" y="512"/>
                  </a:lnTo>
                  <a:lnTo>
                    <a:pt x="237" y="531"/>
                  </a:lnTo>
                  <a:lnTo>
                    <a:pt x="243" y="547"/>
                  </a:lnTo>
                  <a:lnTo>
                    <a:pt x="257" y="562"/>
                  </a:lnTo>
                  <a:lnTo>
                    <a:pt x="275" y="574"/>
                  </a:lnTo>
                  <a:lnTo>
                    <a:pt x="287" y="587"/>
                  </a:lnTo>
                  <a:lnTo>
                    <a:pt x="285" y="601"/>
                  </a:lnTo>
                  <a:lnTo>
                    <a:pt x="284" y="617"/>
                  </a:lnTo>
                  <a:lnTo>
                    <a:pt x="295" y="632"/>
                  </a:lnTo>
                  <a:lnTo>
                    <a:pt x="310" y="642"/>
                  </a:lnTo>
                  <a:lnTo>
                    <a:pt x="317" y="652"/>
                  </a:lnTo>
                  <a:lnTo>
                    <a:pt x="320" y="666"/>
                  </a:lnTo>
                  <a:lnTo>
                    <a:pt x="329" y="687"/>
                  </a:lnTo>
                  <a:lnTo>
                    <a:pt x="330" y="692"/>
                  </a:lnTo>
                  <a:lnTo>
                    <a:pt x="330" y="696"/>
                  </a:lnTo>
                  <a:lnTo>
                    <a:pt x="332" y="697"/>
                  </a:lnTo>
                  <a:lnTo>
                    <a:pt x="332" y="699"/>
                  </a:lnTo>
                  <a:lnTo>
                    <a:pt x="335" y="702"/>
                  </a:lnTo>
                  <a:lnTo>
                    <a:pt x="340" y="707"/>
                  </a:lnTo>
                  <a:lnTo>
                    <a:pt x="345" y="712"/>
                  </a:lnTo>
                  <a:lnTo>
                    <a:pt x="352" y="721"/>
                  </a:lnTo>
                  <a:lnTo>
                    <a:pt x="365" y="737"/>
                  </a:lnTo>
                  <a:lnTo>
                    <a:pt x="370" y="752"/>
                  </a:lnTo>
                  <a:lnTo>
                    <a:pt x="370" y="762"/>
                  </a:lnTo>
                  <a:lnTo>
                    <a:pt x="367" y="771"/>
                  </a:lnTo>
                  <a:lnTo>
                    <a:pt x="360" y="776"/>
                  </a:lnTo>
                  <a:lnTo>
                    <a:pt x="354" y="781"/>
                  </a:lnTo>
                  <a:lnTo>
                    <a:pt x="349" y="782"/>
                  </a:lnTo>
                  <a:lnTo>
                    <a:pt x="347" y="782"/>
                  </a:lnTo>
                  <a:lnTo>
                    <a:pt x="347" y="786"/>
                  </a:lnTo>
                  <a:lnTo>
                    <a:pt x="350" y="794"/>
                  </a:lnTo>
                  <a:lnTo>
                    <a:pt x="355" y="807"/>
                  </a:lnTo>
                  <a:lnTo>
                    <a:pt x="367" y="824"/>
                  </a:lnTo>
                  <a:lnTo>
                    <a:pt x="377" y="842"/>
                  </a:lnTo>
                  <a:lnTo>
                    <a:pt x="384" y="862"/>
                  </a:lnTo>
                  <a:lnTo>
                    <a:pt x="392" y="877"/>
                  </a:lnTo>
                  <a:lnTo>
                    <a:pt x="414" y="891"/>
                  </a:lnTo>
                  <a:lnTo>
                    <a:pt x="427" y="897"/>
                  </a:lnTo>
                  <a:lnTo>
                    <a:pt x="440" y="904"/>
                  </a:lnTo>
                  <a:lnTo>
                    <a:pt x="454" y="912"/>
                  </a:lnTo>
                  <a:lnTo>
                    <a:pt x="465" y="921"/>
                  </a:lnTo>
                  <a:lnTo>
                    <a:pt x="477" y="929"/>
                  </a:lnTo>
                  <a:lnTo>
                    <a:pt x="487" y="937"/>
                  </a:lnTo>
                  <a:lnTo>
                    <a:pt x="499" y="946"/>
                  </a:lnTo>
                  <a:lnTo>
                    <a:pt x="509" y="952"/>
                  </a:lnTo>
                  <a:lnTo>
                    <a:pt x="519" y="961"/>
                  </a:lnTo>
                  <a:lnTo>
                    <a:pt x="525" y="969"/>
                  </a:lnTo>
                  <a:lnTo>
                    <a:pt x="532" y="979"/>
                  </a:lnTo>
                  <a:lnTo>
                    <a:pt x="537" y="989"/>
                  </a:lnTo>
                  <a:lnTo>
                    <a:pt x="542" y="1002"/>
                  </a:lnTo>
                  <a:lnTo>
                    <a:pt x="547" y="1016"/>
                  </a:lnTo>
                  <a:lnTo>
                    <a:pt x="552" y="1031"/>
                  </a:lnTo>
                  <a:lnTo>
                    <a:pt x="560" y="1048"/>
                  </a:lnTo>
                  <a:lnTo>
                    <a:pt x="574" y="1079"/>
                  </a:lnTo>
                  <a:lnTo>
                    <a:pt x="584" y="1108"/>
                  </a:lnTo>
                  <a:lnTo>
                    <a:pt x="592" y="1136"/>
                  </a:lnTo>
                  <a:lnTo>
                    <a:pt x="609" y="1171"/>
                  </a:lnTo>
                  <a:lnTo>
                    <a:pt x="619" y="1213"/>
                  </a:lnTo>
                  <a:lnTo>
                    <a:pt x="612" y="1253"/>
                  </a:lnTo>
                  <a:lnTo>
                    <a:pt x="600" y="1283"/>
                  </a:lnTo>
                  <a:lnTo>
                    <a:pt x="594" y="1294"/>
                  </a:lnTo>
                  <a:lnTo>
                    <a:pt x="597" y="1301"/>
                  </a:lnTo>
                  <a:lnTo>
                    <a:pt x="604" y="1318"/>
                  </a:lnTo>
                  <a:lnTo>
                    <a:pt x="612" y="1341"/>
                  </a:lnTo>
                  <a:lnTo>
                    <a:pt x="617" y="1366"/>
                  </a:lnTo>
                  <a:lnTo>
                    <a:pt x="620" y="1379"/>
                  </a:lnTo>
                  <a:lnTo>
                    <a:pt x="624" y="1394"/>
                  </a:lnTo>
                  <a:lnTo>
                    <a:pt x="629" y="1409"/>
                  </a:lnTo>
                  <a:lnTo>
                    <a:pt x="635" y="1428"/>
                  </a:lnTo>
                  <a:lnTo>
                    <a:pt x="644" y="1444"/>
                  </a:lnTo>
                  <a:lnTo>
                    <a:pt x="654" y="1463"/>
                  </a:lnTo>
                  <a:lnTo>
                    <a:pt x="664" y="1481"/>
                  </a:lnTo>
                  <a:lnTo>
                    <a:pt x="675" y="1499"/>
                  </a:lnTo>
                  <a:lnTo>
                    <a:pt x="687" y="1516"/>
                  </a:lnTo>
                  <a:lnTo>
                    <a:pt x="695" y="1531"/>
                  </a:lnTo>
                  <a:lnTo>
                    <a:pt x="702" y="1543"/>
                  </a:lnTo>
                  <a:lnTo>
                    <a:pt x="707" y="1553"/>
                  </a:lnTo>
                  <a:lnTo>
                    <a:pt x="712" y="1561"/>
                  </a:lnTo>
                  <a:lnTo>
                    <a:pt x="719" y="1566"/>
                  </a:lnTo>
                  <a:lnTo>
                    <a:pt x="724" y="1570"/>
                  </a:lnTo>
                  <a:lnTo>
                    <a:pt x="732" y="1571"/>
                  </a:lnTo>
                  <a:lnTo>
                    <a:pt x="742" y="1573"/>
                  </a:lnTo>
                  <a:lnTo>
                    <a:pt x="754" y="1576"/>
                  </a:lnTo>
                  <a:lnTo>
                    <a:pt x="765" y="1581"/>
                  </a:lnTo>
                  <a:lnTo>
                    <a:pt x="779" y="1588"/>
                  </a:lnTo>
                  <a:lnTo>
                    <a:pt x="792" y="1595"/>
                  </a:lnTo>
                  <a:lnTo>
                    <a:pt x="804" y="1603"/>
                  </a:lnTo>
                  <a:lnTo>
                    <a:pt x="814" y="1611"/>
                  </a:lnTo>
                  <a:lnTo>
                    <a:pt x="822" y="1618"/>
                  </a:lnTo>
                  <a:lnTo>
                    <a:pt x="834" y="1633"/>
                  </a:lnTo>
                  <a:lnTo>
                    <a:pt x="846" y="1648"/>
                  </a:lnTo>
                  <a:lnTo>
                    <a:pt x="856" y="1663"/>
                  </a:lnTo>
                  <a:lnTo>
                    <a:pt x="866" y="1675"/>
                  </a:lnTo>
                  <a:lnTo>
                    <a:pt x="872" y="1685"/>
                  </a:lnTo>
                  <a:lnTo>
                    <a:pt x="881" y="1700"/>
                  </a:lnTo>
                  <a:lnTo>
                    <a:pt x="891" y="1721"/>
                  </a:lnTo>
                  <a:lnTo>
                    <a:pt x="902" y="1743"/>
                  </a:lnTo>
                  <a:lnTo>
                    <a:pt x="912" y="1768"/>
                  </a:lnTo>
                  <a:lnTo>
                    <a:pt x="921" y="1790"/>
                  </a:lnTo>
                  <a:lnTo>
                    <a:pt x="927" y="1810"/>
                  </a:lnTo>
                  <a:lnTo>
                    <a:pt x="931" y="1823"/>
                  </a:lnTo>
                  <a:lnTo>
                    <a:pt x="937" y="1841"/>
                  </a:lnTo>
                  <a:lnTo>
                    <a:pt x="951" y="1858"/>
                  </a:lnTo>
                  <a:lnTo>
                    <a:pt x="964" y="1878"/>
                  </a:lnTo>
                  <a:lnTo>
                    <a:pt x="979" y="1908"/>
                  </a:lnTo>
                  <a:lnTo>
                    <a:pt x="987" y="1926"/>
                  </a:lnTo>
                  <a:lnTo>
                    <a:pt x="999" y="1945"/>
                  </a:lnTo>
                  <a:lnTo>
                    <a:pt x="1014" y="1965"/>
                  </a:lnTo>
                  <a:lnTo>
                    <a:pt x="1029" y="1981"/>
                  </a:lnTo>
                  <a:lnTo>
                    <a:pt x="1044" y="2000"/>
                  </a:lnTo>
                  <a:lnTo>
                    <a:pt x="1059" y="2015"/>
                  </a:lnTo>
                  <a:lnTo>
                    <a:pt x="1072" y="2027"/>
                  </a:lnTo>
                  <a:lnTo>
                    <a:pt x="1084" y="2037"/>
                  </a:lnTo>
                  <a:lnTo>
                    <a:pt x="1097" y="2052"/>
                  </a:lnTo>
                  <a:lnTo>
                    <a:pt x="1106" y="2068"/>
                  </a:lnTo>
                  <a:lnTo>
                    <a:pt x="1109" y="2085"/>
                  </a:lnTo>
                  <a:lnTo>
                    <a:pt x="1112" y="2098"/>
                  </a:lnTo>
                  <a:lnTo>
                    <a:pt x="1117" y="2108"/>
                  </a:lnTo>
                  <a:lnTo>
                    <a:pt x="1126" y="2120"/>
                  </a:lnTo>
                  <a:lnTo>
                    <a:pt x="1136" y="2132"/>
                  </a:lnTo>
                  <a:lnTo>
                    <a:pt x="1146" y="2145"/>
                  </a:lnTo>
                  <a:lnTo>
                    <a:pt x="1156" y="2160"/>
                  </a:lnTo>
                  <a:lnTo>
                    <a:pt x="1164" y="2175"/>
                  </a:lnTo>
                  <a:lnTo>
                    <a:pt x="1169" y="2190"/>
                  </a:lnTo>
                  <a:lnTo>
                    <a:pt x="1169" y="2202"/>
                  </a:lnTo>
                  <a:lnTo>
                    <a:pt x="1169" y="2217"/>
                  </a:lnTo>
                  <a:lnTo>
                    <a:pt x="1172" y="2233"/>
                  </a:lnTo>
                  <a:lnTo>
                    <a:pt x="1177" y="2248"/>
                  </a:lnTo>
                  <a:lnTo>
                    <a:pt x="1179" y="2255"/>
                  </a:lnTo>
                  <a:lnTo>
                    <a:pt x="1216" y="2227"/>
                  </a:lnTo>
                  <a:lnTo>
                    <a:pt x="1219" y="2222"/>
                  </a:lnTo>
                  <a:lnTo>
                    <a:pt x="1226" y="2208"/>
                  </a:lnTo>
                  <a:lnTo>
                    <a:pt x="1232" y="2192"/>
                  </a:lnTo>
                  <a:lnTo>
                    <a:pt x="1236" y="2178"/>
                  </a:lnTo>
                  <a:lnTo>
                    <a:pt x="1236" y="2165"/>
                  </a:lnTo>
                  <a:lnTo>
                    <a:pt x="1234" y="2145"/>
                  </a:lnTo>
                  <a:lnTo>
                    <a:pt x="1236" y="2123"/>
                  </a:lnTo>
                  <a:lnTo>
                    <a:pt x="1241" y="2103"/>
                  </a:lnTo>
                  <a:lnTo>
                    <a:pt x="1241" y="2087"/>
                  </a:lnTo>
                  <a:lnTo>
                    <a:pt x="1236" y="2077"/>
                  </a:lnTo>
                  <a:lnTo>
                    <a:pt x="1234" y="2067"/>
                  </a:lnTo>
                  <a:lnTo>
                    <a:pt x="1241" y="2060"/>
                  </a:lnTo>
                  <a:lnTo>
                    <a:pt x="1246" y="2057"/>
                  </a:lnTo>
                  <a:lnTo>
                    <a:pt x="1251" y="2057"/>
                  </a:lnTo>
                  <a:lnTo>
                    <a:pt x="1256" y="2058"/>
                  </a:lnTo>
                  <a:lnTo>
                    <a:pt x="1261" y="2062"/>
                  </a:lnTo>
                  <a:lnTo>
                    <a:pt x="1259" y="2052"/>
                  </a:lnTo>
                  <a:lnTo>
                    <a:pt x="1257" y="2043"/>
                  </a:lnTo>
                  <a:lnTo>
                    <a:pt x="1256" y="2033"/>
                  </a:lnTo>
                  <a:lnTo>
                    <a:pt x="1257" y="2027"/>
                  </a:lnTo>
                  <a:close/>
                </a:path>
              </a:pathLst>
            </a:custGeom>
            <a:solidFill>
              <a:srgbClr val="ffffff">
                <a:alpha val="10000"/>
              </a:srgbClr>
            </a:solidFill>
            <a:ln cap="sq" w="9360">
              <a:solidFill>
                <a:srgbClr val="ffffff"/>
              </a:solidFill>
              <a:round/>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3" name=""/>
            <p:cNvSpPr/>
            <p:nvPr/>
          </p:nvSpPr>
          <p:spPr>
            <a:xfrm>
              <a:off x="3086280" y="3249720"/>
              <a:ext cx="4680" cy="4680"/>
            </a:xfrm>
            <a:custGeom>
              <a:avLst/>
              <a:gdLst/>
              <a:ahLst/>
              <a:rect l="l" t="t" r="r" b="b"/>
              <a:pathLst>
                <a:path w="5" h="5">
                  <a:moveTo>
                    <a:pt x="5" y="3"/>
                  </a:moveTo>
                  <a:lnTo>
                    <a:pt x="0" y="0"/>
                  </a:lnTo>
                  <a:lnTo>
                    <a:pt x="2" y="3"/>
                  </a:lnTo>
                  <a:lnTo>
                    <a:pt x="3" y="5"/>
                  </a:lnTo>
                  <a:lnTo>
                    <a:pt x="5" y="3"/>
                  </a:lnTo>
                  <a:lnTo>
                    <a:pt x="5" y="3"/>
                  </a:lnTo>
                  <a:close/>
                </a:path>
              </a:pathLst>
            </a:custGeom>
            <a:solidFill>
              <a:srgbClr val="000000"/>
            </a:solidFill>
            <a:ln w="0">
              <a:noFill/>
            </a:ln>
          </p:spPr>
          <p:style>
            <a:lnRef idx="0"/>
            <a:fillRef idx="0"/>
            <a:effectRef idx="0"/>
            <a:fontRef idx="minor"/>
          </p:style>
          <p:txBody>
            <a:bodyPr wrap="none" lIns="90000" rIns="90000" tIns="-42120" bIns="-421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4" name=""/>
            <p:cNvSpPr/>
            <p:nvPr/>
          </p:nvSpPr>
          <p:spPr>
            <a:xfrm>
              <a:off x="4379760" y="4205160"/>
              <a:ext cx="2567160" cy="993960"/>
            </a:xfrm>
            <a:custGeom>
              <a:avLst/>
              <a:gdLst/>
              <a:ahLst/>
              <a:rect l="l" t="t" r="r" b="b"/>
              <a:pathLst>
                <a:path w="1881" h="744">
                  <a:moveTo>
                    <a:pt x="1298" y="222"/>
                  </a:moveTo>
                  <a:lnTo>
                    <a:pt x="1283" y="225"/>
                  </a:lnTo>
                  <a:lnTo>
                    <a:pt x="1263" y="230"/>
                  </a:lnTo>
                  <a:lnTo>
                    <a:pt x="1239" y="235"/>
                  </a:lnTo>
                  <a:lnTo>
                    <a:pt x="1214" y="242"/>
                  </a:lnTo>
                  <a:lnTo>
                    <a:pt x="1186" y="249"/>
                  </a:lnTo>
                  <a:lnTo>
                    <a:pt x="1157" y="255"/>
                  </a:lnTo>
                  <a:lnTo>
                    <a:pt x="1127" y="262"/>
                  </a:lnTo>
                  <a:lnTo>
                    <a:pt x="1097" y="269"/>
                  </a:lnTo>
                  <a:lnTo>
                    <a:pt x="1067" y="275"/>
                  </a:lnTo>
                  <a:lnTo>
                    <a:pt x="1039" y="284"/>
                  </a:lnTo>
                  <a:lnTo>
                    <a:pt x="1012" y="290"/>
                  </a:lnTo>
                  <a:lnTo>
                    <a:pt x="989" y="297"/>
                  </a:lnTo>
                  <a:lnTo>
                    <a:pt x="967" y="302"/>
                  </a:lnTo>
                  <a:lnTo>
                    <a:pt x="949" y="309"/>
                  </a:lnTo>
                  <a:lnTo>
                    <a:pt x="936" y="314"/>
                  </a:lnTo>
                  <a:lnTo>
                    <a:pt x="927" y="317"/>
                  </a:lnTo>
                  <a:lnTo>
                    <a:pt x="914" y="324"/>
                  </a:lnTo>
                  <a:lnTo>
                    <a:pt x="901" y="329"/>
                  </a:lnTo>
                  <a:lnTo>
                    <a:pt x="887" y="337"/>
                  </a:lnTo>
                  <a:lnTo>
                    <a:pt x="872" y="344"/>
                  </a:lnTo>
                  <a:lnTo>
                    <a:pt x="857" y="355"/>
                  </a:lnTo>
                  <a:lnTo>
                    <a:pt x="842" y="369"/>
                  </a:lnTo>
                  <a:lnTo>
                    <a:pt x="826" y="389"/>
                  </a:lnTo>
                  <a:lnTo>
                    <a:pt x="807" y="412"/>
                  </a:lnTo>
                  <a:lnTo>
                    <a:pt x="791" y="437"/>
                  </a:lnTo>
                  <a:lnTo>
                    <a:pt x="776" y="460"/>
                  </a:lnTo>
                  <a:lnTo>
                    <a:pt x="761" y="482"/>
                  </a:lnTo>
                  <a:lnTo>
                    <a:pt x="747" y="502"/>
                  </a:lnTo>
                  <a:lnTo>
                    <a:pt x="737" y="519"/>
                  </a:lnTo>
                  <a:lnTo>
                    <a:pt x="727" y="532"/>
                  </a:lnTo>
                  <a:lnTo>
                    <a:pt x="719" y="542"/>
                  </a:lnTo>
                  <a:lnTo>
                    <a:pt x="712" y="549"/>
                  </a:lnTo>
                  <a:lnTo>
                    <a:pt x="706" y="554"/>
                  </a:lnTo>
                  <a:lnTo>
                    <a:pt x="699" y="559"/>
                  </a:lnTo>
                  <a:lnTo>
                    <a:pt x="689" y="564"/>
                  </a:lnTo>
                  <a:lnTo>
                    <a:pt x="679" y="565"/>
                  </a:lnTo>
                  <a:lnTo>
                    <a:pt x="667" y="567"/>
                  </a:lnTo>
                  <a:lnTo>
                    <a:pt x="657" y="567"/>
                  </a:lnTo>
                  <a:lnTo>
                    <a:pt x="647" y="564"/>
                  </a:lnTo>
                  <a:lnTo>
                    <a:pt x="637" y="559"/>
                  </a:lnTo>
                  <a:lnTo>
                    <a:pt x="629" y="552"/>
                  </a:lnTo>
                  <a:lnTo>
                    <a:pt x="622" y="544"/>
                  </a:lnTo>
                  <a:lnTo>
                    <a:pt x="615" y="535"/>
                  </a:lnTo>
                  <a:lnTo>
                    <a:pt x="609" y="529"/>
                  </a:lnTo>
                  <a:lnTo>
                    <a:pt x="602" y="524"/>
                  </a:lnTo>
                  <a:lnTo>
                    <a:pt x="595" y="520"/>
                  </a:lnTo>
                  <a:lnTo>
                    <a:pt x="589" y="519"/>
                  </a:lnTo>
                  <a:lnTo>
                    <a:pt x="580" y="520"/>
                  </a:lnTo>
                  <a:lnTo>
                    <a:pt x="569" y="524"/>
                  </a:lnTo>
                  <a:lnTo>
                    <a:pt x="554" y="525"/>
                  </a:lnTo>
                  <a:lnTo>
                    <a:pt x="537" y="525"/>
                  </a:lnTo>
                  <a:lnTo>
                    <a:pt x="519" y="525"/>
                  </a:lnTo>
                  <a:lnTo>
                    <a:pt x="499" y="525"/>
                  </a:lnTo>
                  <a:lnTo>
                    <a:pt x="480" y="524"/>
                  </a:lnTo>
                  <a:lnTo>
                    <a:pt x="462" y="522"/>
                  </a:lnTo>
                  <a:lnTo>
                    <a:pt x="447" y="520"/>
                  </a:lnTo>
                  <a:lnTo>
                    <a:pt x="432" y="519"/>
                  </a:lnTo>
                  <a:lnTo>
                    <a:pt x="417" y="515"/>
                  </a:lnTo>
                  <a:lnTo>
                    <a:pt x="404" y="510"/>
                  </a:lnTo>
                  <a:lnTo>
                    <a:pt x="389" y="507"/>
                  </a:lnTo>
                  <a:lnTo>
                    <a:pt x="375" y="504"/>
                  </a:lnTo>
                  <a:lnTo>
                    <a:pt x="364" y="500"/>
                  </a:lnTo>
                  <a:lnTo>
                    <a:pt x="352" y="497"/>
                  </a:lnTo>
                  <a:lnTo>
                    <a:pt x="342" y="497"/>
                  </a:lnTo>
                  <a:lnTo>
                    <a:pt x="329" y="497"/>
                  </a:lnTo>
                  <a:lnTo>
                    <a:pt x="307" y="497"/>
                  </a:lnTo>
                  <a:lnTo>
                    <a:pt x="280" y="499"/>
                  </a:lnTo>
                  <a:lnTo>
                    <a:pt x="250" y="499"/>
                  </a:lnTo>
                  <a:lnTo>
                    <a:pt x="224" y="500"/>
                  </a:lnTo>
                  <a:lnTo>
                    <a:pt x="200" y="502"/>
                  </a:lnTo>
                  <a:lnTo>
                    <a:pt x="184" y="502"/>
                  </a:lnTo>
                  <a:lnTo>
                    <a:pt x="177" y="502"/>
                  </a:lnTo>
                  <a:lnTo>
                    <a:pt x="175" y="504"/>
                  </a:lnTo>
                  <a:lnTo>
                    <a:pt x="170" y="505"/>
                  </a:lnTo>
                  <a:lnTo>
                    <a:pt x="164" y="509"/>
                  </a:lnTo>
                  <a:lnTo>
                    <a:pt x="155" y="510"/>
                  </a:lnTo>
                  <a:lnTo>
                    <a:pt x="144" y="512"/>
                  </a:lnTo>
                  <a:lnTo>
                    <a:pt x="132" y="512"/>
                  </a:lnTo>
                  <a:lnTo>
                    <a:pt x="120" y="509"/>
                  </a:lnTo>
                  <a:lnTo>
                    <a:pt x="107" y="502"/>
                  </a:lnTo>
                  <a:lnTo>
                    <a:pt x="95" y="494"/>
                  </a:lnTo>
                  <a:lnTo>
                    <a:pt x="87" y="485"/>
                  </a:lnTo>
                  <a:lnTo>
                    <a:pt x="80" y="479"/>
                  </a:lnTo>
                  <a:lnTo>
                    <a:pt x="75" y="475"/>
                  </a:lnTo>
                  <a:lnTo>
                    <a:pt x="70" y="472"/>
                  </a:lnTo>
                  <a:lnTo>
                    <a:pt x="65" y="470"/>
                  </a:lnTo>
                  <a:lnTo>
                    <a:pt x="60" y="470"/>
                  </a:lnTo>
                  <a:lnTo>
                    <a:pt x="53" y="474"/>
                  </a:lnTo>
                  <a:lnTo>
                    <a:pt x="47" y="480"/>
                  </a:lnTo>
                  <a:lnTo>
                    <a:pt x="50" y="489"/>
                  </a:lnTo>
                  <a:lnTo>
                    <a:pt x="55" y="500"/>
                  </a:lnTo>
                  <a:lnTo>
                    <a:pt x="53" y="515"/>
                  </a:lnTo>
                  <a:lnTo>
                    <a:pt x="50" y="535"/>
                  </a:lnTo>
                  <a:lnTo>
                    <a:pt x="48" y="557"/>
                  </a:lnTo>
                  <a:lnTo>
                    <a:pt x="50" y="577"/>
                  </a:lnTo>
                  <a:lnTo>
                    <a:pt x="50" y="592"/>
                  </a:lnTo>
                  <a:lnTo>
                    <a:pt x="47" y="606"/>
                  </a:lnTo>
                  <a:lnTo>
                    <a:pt x="40" y="621"/>
                  </a:lnTo>
                  <a:lnTo>
                    <a:pt x="33" y="634"/>
                  </a:lnTo>
                  <a:lnTo>
                    <a:pt x="30" y="639"/>
                  </a:lnTo>
                  <a:lnTo>
                    <a:pt x="0" y="662"/>
                  </a:lnTo>
                  <a:lnTo>
                    <a:pt x="3" y="666"/>
                  </a:lnTo>
                  <a:lnTo>
                    <a:pt x="8" y="669"/>
                  </a:lnTo>
                  <a:lnTo>
                    <a:pt x="13" y="674"/>
                  </a:lnTo>
                  <a:lnTo>
                    <a:pt x="18" y="677"/>
                  </a:lnTo>
                  <a:lnTo>
                    <a:pt x="32" y="684"/>
                  </a:lnTo>
                  <a:lnTo>
                    <a:pt x="43" y="687"/>
                  </a:lnTo>
                  <a:lnTo>
                    <a:pt x="55" y="687"/>
                  </a:lnTo>
                  <a:lnTo>
                    <a:pt x="67" y="686"/>
                  </a:lnTo>
                  <a:lnTo>
                    <a:pt x="77" y="684"/>
                  </a:lnTo>
                  <a:lnTo>
                    <a:pt x="83" y="681"/>
                  </a:lnTo>
                  <a:lnTo>
                    <a:pt x="88" y="679"/>
                  </a:lnTo>
                  <a:lnTo>
                    <a:pt x="90" y="677"/>
                  </a:lnTo>
                  <a:lnTo>
                    <a:pt x="97" y="677"/>
                  </a:lnTo>
                  <a:lnTo>
                    <a:pt x="114" y="677"/>
                  </a:lnTo>
                  <a:lnTo>
                    <a:pt x="137" y="676"/>
                  </a:lnTo>
                  <a:lnTo>
                    <a:pt x="164" y="674"/>
                  </a:lnTo>
                  <a:lnTo>
                    <a:pt x="194" y="674"/>
                  </a:lnTo>
                  <a:lnTo>
                    <a:pt x="220" y="672"/>
                  </a:lnTo>
                  <a:lnTo>
                    <a:pt x="242" y="672"/>
                  </a:lnTo>
                  <a:lnTo>
                    <a:pt x="255" y="672"/>
                  </a:lnTo>
                  <a:lnTo>
                    <a:pt x="265" y="674"/>
                  </a:lnTo>
                  <a:lnTo>
                    <a:pt x="275" y="676"/>
                  </a:lnTo>
                  <a:lnTo>
                    <a:pt x="289" y="679"/>
                  </a:lnTo>
                  <a:lnTo>
                    <a:pt x="302" y="682"/>
                  </a:lnTo>
                  <a:lnTo>
                    <a:pt x="315" y="687"/>
                  </a:lnTo>
                  <a:lnTo>
                    <a:pt x="330" y="691"/>
                  </a:lnTo>
                  <a:lnTo>
                    <a:pt x="344" y="694"/>
                  </a:lnTo>
                  <a:lnTo>
                    <a:pt x="359" y="697"/>
                  </a:lnTo>
                  <a:lnTo>
                    <a:pt x="374" y="699"/>
                  </a:lnTo>
                  <a:lnTo>
                    <a:pt x="392" y="701"/>
                  </a:lnTo>
                  <a:lnTo>
                    <a:pt x="412" y="701"/>
                  </a:lnTo>
                  <a:lnTo>
                    <a:pt x="430" y="702"/>
                  </a:lnTo>
                  <a:lnTo>
                    <a:pt x="450" y="702"/>
                  </a:lnTo>
                  <a:lnTo>
                    <a:pt x="467" y="701"/>
                  </a:lnTo>
                  <a:lnTo>
                    <a:pt x="480" y="701"/>
                  </a:lnTo>
                  <a:lnTo>
                    <a:pt x="492" y="697"/>
                  </a:lnTo>
                  <a:lnTo>
                    <a:pt x="500" y="696"/>
                  </a:lnTo>
                  <a:lnTo>
                    <a:pt x="507" y="696"/>
                  </a:lnTo>
                  <a:lnTo>
                    <a:pt x="514" y="699"/>
                  </a:lnTo>
                  <a:lnTo>
                    <a:pt x="520" y="706"/>
                  </a:lnTo>
                  <a:lnTo>
                    <a:pt x="527" y="712"/>
                  </a:lnTo>
                  <a:lnTo>
                    <a:pt x="534" y="719"/>
                  </a:lnTo>
                  <a:lnTo>
                    <a:pt x="540" y="727"/>
                  </a:lnTo>
                  <a:lnTo>
                    <a:pt x="549" y="734"/>
                  </a:lnTo>
                  <a:lnTo>
                    <a:pt x="559" y="741"/>
                  </a:lnTo>
                  <a:lnTo>
                    <a:pt x="569" y="742"/>
                  </a:lnTo>
                  <a:lnTo>
                    <a:pt x="579" y="744"/>
                  </a:lnTo>
                  <a:lnTo>
                    <a:pt x="590" y="742"/>
                  </a:lnTo>
                  <a:lnTo>
                    <a:pt x="600" y="739"/>
                  </a:lnTo>
                  <a:lnTo>
                    <a:pt x="610" y="736"/>
                  </a:lnTo>
                  <a:lnTo>
                    <a:pt x="619" y="731"/>
                  </a:lnTo>
                  <a:lnTo>
                    <a:pt x="625" y="726"/>
                  </a:lnTo>
                  <a:lnTo>
                    <a:pt x="632" y="719"/>
                  </a:lnTo>
                  <a:lnTo>
                    <a:pt x="639" y="707"/>
                  </a:lnTo>
                  <a:lnTo>
                    <a:pt x="649" y="694"/>
                  </a:lnTo>
                  <a:lnTo>
                    <a:pt x="661" y="677"/>
                  </a:lnTo>
                  <a:lnTo>
                    <a:pt x="672" y="659"/>
                  </a:lnTo>
                  <a:lnTo>
                    <a:pt x="687" y="637"/>
                  </a:lnTo>
                  <a:lnTo>
                    <a:pt x="704" y="614"/>
                  </a:lnTo>
                  <a:lnTo>
                    <a:pt x="721" y="587"/>
                  </a:lnTo>
                  <a:lnTo>
                    <a:pt x="737" y="564"/>
                  </a:lnTo>
                  <a:lnTo>
                    <a:pt x="754" y="544"/>
                  </a:lnTo>
                  <a:lnTo>
                    <a:pt x="769" y="530"/>
                  </a:lnTo>
                  <a:lnTo>
                    <a:pt x="786" y="519"/>
                  </a:lnTo>
                  <a:lnTo>
                    <a:pt x="799" y="512"/>
                  </a:lnTo>
                  <a:lnTo>
                    <a:pt x="812" y="504"/>
                  </a:lnTo>
                  <a:lnTo>
                    <a:pt x="826" y="499"/>
                  </a:lnTo>
                  <a:lnTo>
                    <a:pt x="839" y="492"/>
                  </a:lnTo>
                  <a:lnTo>
                    <a:pt x="847" y="489"/>
                  </a:lnTo>
                  <a:lnTo>
                    <a:pt x="862" y="484"/>
                  </a:lnTo>
                  <a:lnTo>
                    <a:pt x="879" y="479"/>
                  </a:lnTo>
                  <a:lnTo>
                    <a:pt x="901" y="472"/>
                  </a:lnTo>
                  <a:lnTo>
                    <a:pt x="926" y="465"/>
                  </a:lnTo>
                  <a:lnTo>
                    <a:pt x="952" y="459"/>
                  </a:lnTo>
                  <a:lnTo>
                    <a:pt x="981" y="452"/>
                  </a:lnTo>
                  <a:lnTo>
                    <a:pt x="1009" y="444"/>
                  </a:lnTo>
                  <a:lnTo>
                    <a:pt x="1039" y="437"/>
                  </a:lnTo>
                  <a:lnTo>
                    <a:pt x="1069" y="430"/>
                  </a:lnTo>
                  <a:lnTo>
                    <a:pt x="1097" y="424"/>
                  </a:lnTo>
                  <a:lnTo>
                    <a:pt x="1126" y="417"/>
                  </a:lnTo>
                  <a:lnTo>
                    <a:pt x="1151" y="410"/>
                  </a:lnTo>
                  <a:lnTo>
                    <a:pt x="1174" y="405"/>
                  </a:lnTo>
                  <a:lnTo>
                    <a:pt x="1194" y="400"/>
                  </a:lnTo>
                  <a:lnTo>
                    <a:pt x="1209" y="397"/>
                  </a:lnTo>
                  <a:lnTo>
                    <a:pt x="1236" y="390"/>
                  </a:lnTo>
                  <a:lnTo>
                    <a:pt x="1263" y="385"/>
                  </a:lnTo>
                  <a:lnTo>
                    <a:pt x="1289" y="382"/>
                  </a:lnTo>
                  <a:lnTo>
                    <a:pt x="1313" y="379"/>
                  </a:lnTo>
                  <a:lnTo>
                    <a:pt x="1336" y="375"/>
                  </a:lnTo>
                  <a:lnTo>
                    <a:pt x="1354" y="370"/>
                  </a:lnTo>
                  <a:lnTo>
                    <a:pt x="1371" y="365"/>
                  </a:lnTo>
                  <a:lnTo>
                    <a:pt x="1384" y="359"/>
                  </a:lnTo>
                  <a:lnTo>
                    <a:pt x="1394" y="354"/>
                  </a:lnTo>
                  <a:lnTo>
                    <a:pt x="1411" y="345"/>
                  </a:lnTo>
                  <a:lnTo>
                    <a:pt x="1434" y="334"/>
                  </a:lnTo>
                  <a:lnTo>
                    <a:pt x="1463" y="320"/>
                  </a:lnTo>
                  <a:lnTo>
                    <a:pt x="1496" y="307"/>
                  </a:lnTo>
                  <a:lnTo>
                    <a:pt x="1533" y="290"/>
                  </a:lnTo>
                  <a:lnTo>
                    <a:pt x="1571" y="274"/>
                  </a:lnTo>
                  <a:lnTo>
                    <a:pt x="1611" y="255"/>
                  </a:lnTo>
                  <a:lnTo>
                    <a:pt x="1649" y="239"/>
                  </a:lnTo>
                  <a:lnTo>
                    <a:pt x="1688" y="222"/>
                  </a:lnTo>
                  <a:lnTo>
                    <a:pt x="1723" y="207"/>
                  </a:lnTo>
                  <a:lnTo>
                    <a:pt x="1756" y="192"/>
                  </a:lnTo>
                  <a:lnTo>
                    <a:pt x="1783" y="180"/>
                  </a:lnTo>
                  <a:lnTo>
                    <a:pt x="1805" y="170"/>
                  </a:lnTo>
                  <a:lnTo>
                    <a:pt x="1820" y="164"/>
                  </a:lnTo>
                  <a:lnTo>
                    <a:pt x="1826" y="160"/>
                  </a:lnTo>
                  <a:lnTo>
                    <a:pt x="1836" y="152"/>
                  </a:lnTo>
                  <a:lnTo>
                    <a:pt x="1841" y="142"/>
                  </a:lnTo>
                  <a:lnTo>
                    <a:pt x="1845" y="130"/>
                  </a:lnTo>
                  <a:lnTo>
                    <a:pt x="1846" y="117"/>
                  </a:lnTo>
                  <a:lnTo>
                    <a:pt x="1848" y="100"/>
                  </a:lnTo>
                  <a:lnTo>
                    <a:pt x="1851" y="78"/>
                  </a:lnTo>
                  <a:lnTo>
                    <a:pt x="1858" y="57"/>
                  </a:lnTo>
                  <a:lnTo>
                    <a:pt x="1865" y="37"/>
                  </a:lnTo>
                  <a:lnTo>
                    <a:pt x="1868" y="27"/>
                  </a:lnTo>
                  <a:lnTo>
                    <a:pt x="1873" y="18"/>
                  </a:lnTo>
                  <a:lnTo>
                    <a:pt x="1876" y="8"/>
                  </a:lnTo>
                  <a:lnTo>
                    <a:pt x="1881" y="0"/>
                  </a:lnTo>
                  <a:lnTo>
                    <a:pt x="1861" y="10"/>
                  </a:lnTo>
                  <a:lnTo>
                    <a:pt x="1836" y="20"/>
                  </a:lnTo>
                  <a:lnTo>
                    <a:pt x="1808" y="32"/>
                  </a:lnTo>
                  <a:lnTo>
                    <a:pt x="1778" y="45"/>
                  </a:lnTo>
                  <a:lnTo>
                    <a:pt x="1746" y="58"/>
                  </a:lnTo>
                  <a:lnTo>
                    <a:pt x="1714" y="73"/>
                  </a:lnTo>
                  <a:lnTo>
                    <a:pt x="1681" y="88"/>
                  </a:lnTo>
                  <a:lnTo>
                    <a:pt x="1648" y="102"/>
                  </a:lnTo>
                  <a:lnTo>
                    <a:pt x="1616" y="117"/>
                  </a:lnTo>
                  <a:lnTo>
                    <a:pt x="1586" y="130"/>
                  </a:lnTo>
                  <a:lnTo>
                    <a:pt x="1558" y="142"/>
                  </a:lnTo>
                  <a:lnTo>
                    <a:pt x="1533" y="154"/>
                  </a:lnTo>
                  <a:lnTo>
                    <a:pt x="1511" y="164"/>
                  </a:lnTo>
                  <a:lnTo>
                    <a:pt x="1493" y="174"/>
                  </a:lnTo>
                  <a:lnTo>
                    <a:pt x="1479" y="179"/>
                  </a:lnTo>
                  <a:lnTo>
                    <a:pt x="1473" y="184"/>
                  </a:lnTo>
                  <a:lnTo>
                    <a:pt x="1459" y="190"/>
                  </a:lnTo>
                  <a:lnTo>
                    <a:pt x="1443" y="195"/>
                  </a:lnTo>
                  <a:lnTo>
                    <a:pt x="1423" y="199"/>
                  </a:lnTo>
                  <a:lnTo>
                    <a:pt x="1401" y="202"/>
                  </a:lnTo>
                  <a:lnTo>
                    <a:pt x="1376" y="205"/>
                  </a:lnTo>
                  <a:lnTo>
                    <a:pt x="1351" y="210"/>
                  </a:lnTo>
                  <a:lnTo>
                    <a:pt x="1324" y="215"/>
                  </a:lnTo>
                  <a:lnTo>
                    <a:pt x="1298" y="222"/>
                  </a:lnTo>
                  <a:close/>
                </a:path>
              </a:pathLst>
            </a:custGeom>
            <a:solidFill>
              <a:srgbClr val="ffffff">
                <a:alpha val="20000"/>
              </a:srgbClr>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5" name=""/>
            <p:cNvSpPr/>
            <p:nvPr/>
          </p:nvSpPr>
          <p:spPr>
            <a:xfrm>
              <a:off x="2813040" y="1346040"/>
              <a:ext cx="4348080" cy="3579840"/>
            </a:xfrm>
            <a:custGeom>
              <a:avLst/>
              <a:gdLst/>
              <a:ahLst/>
              <a:rect l="l" t="t" r="r" b="b"/>
              <a:pathLst>
                <a:path w="3185" h="2678">
                  <a:moveTo>
                    <a:pt x="380" y="90"/>
                  </a:moveTo>
                  <a:lnTo>
                    <a:pt x="683" y="28"/>
                  </a:lnTo>
                  <a:lnTo>
                    <a:pt x="693" y="0"/>
                  </a:lnTo>
                  <a:lnTo>
                    <a:pt x="695" y="0"/>
                  </a:lnTo>
                  <a:lnTo>
                    <a:pt x="698" y="0"/>
                  </a:lnTo>
                  <a:lnTo>
                    <a:pt x="704" y="0"/>
                  </a:lnTo>
                  <a:lnTo>
                    <a:pt x="712" y="0"/>
                  </a:lnTo>
                  <a:lnTo>
                    <a:pt x="720" y="0"/>
                  </a:lnTo>
                  <a:lnTo>
                    <a:pt x="734" y="2"/>
                  </a:lnTo>
                  <a:lnTo>
                    <a:pt x="747" y="5"/>
                  </a:lnTo>
                  <a:lnTo>
                    <a:pt x="764" y="10"/>
                  </a:lnTo>
                  <a:lnTo>
                    <a:pt x="782" y="15"/>
                  </a:lnTo>
                  <a:lnTo>
                    <a:pt x="799" y="20"/>
                  </a:lnTo>
                  <a:lnTo>
                    <a:pt x="817" y="23"/>
                  </a:lnTo>
                  <a:lnTo>
                    <a:pt x="832" y="28"/>
                  </a:lnTo>
                  <a:lnTo>
                    <a:pt x="847" y="32"/>
                  </a:lnTo>
                  <a:lnTo>
                    <a:pt x="862" y="35"/>
                  </a:lnTo>
                  <a:lnTo>
                    <a:pt x="874" y="40"/>
                  </a:lnTo>
                  <a:lnTo>
                    <a:pt x="884" y="43"/>
                  </a:lnTo>
                  <a:lnTo>
                    <a:pt x="894" y="48"/>
                  </a:lnTo>
                  <a:lnTo>
                    <a:pt x="907" y="57"/>
                  </a:lnTo>
                  <a:lnTo>
                    <a:pt x="924" y="68"/>
                  </a:lnTo>
                  <a:lnTo>
                    <a:pt x="942" y="82"/>
                  </a:lnTo>
                  <a:lnTo>
                    <a:pt x="962" y="97"/>
                  </a:lnTo>
                  <a:lnTo>
                    <a:pt x="985" y="112"/>
                  </a:lnTo>
                  <a:lnTo>
                    <a:pt x="1009" y="127"/>
                  </a:lnTo>
                  <a:lnTo>
                    <a:pt x="1035" y="142"/>
                  </a:lnTo>
                  <a:lnTo>
                    <a:pt x="1060" y="155"/>
                  </a:lnTo>
                  <a:lnTo>
                    <a:pt x="1080" y="168"/>
                  </a:lnTo>
                  <a:lnTo>
                    <a:pt x="1099" y="180"/>
                  </a:lnTo>
                  <a:lnTo>
                    <a:pt x="1114" y="190"/>
                  </a:lnTo>
                  <a:lnTo>
                    <a:pt x="1124" y="197"/>
                  </a:lnTo>
                  <a:lnTo>
                    <a:pt x="1132" y="203"/>
                  </a:lnTo>
                  <a:lnTo>
                    <a:pt x="1137" y="207"/>
                  </a:lnTo>
                  <a:lnTo>
                    <a:pt x="1139" y="208"/>
                  </a:lnTo>
                  <a:lnTo>
                    <a:pt x="1142" y="210"/>
                  </a:lnTo>
                  <a:lnTo>
                    <a:pt x="1150" y="215"/>
                  </a:lnTo>
                  <a:lnTo>
                    <a:pt x="1162" y="223"/>
                  </a:lnTo>
                  <a:lnTo>
                    <a:pt x="1177" y="233"/>
                  </a:lnTo>
                  <a:lnTo>
                    <a:pt x="1192" y="243"/>
                  </a:lnTo>
                  <a:lnTo>
                    <a:pt x="1205" y="255"/>
                  </a:lnTo>
                  <a:lnTo>
                    <a:pt x="1217" y="265"/>
                  </a:lnTo>
                  <a:lnTo>
                    <a:pt x="1225" y="275"/>
                  </a:lnTo>
                  <a:lnTo>
                    <a:pt x="1234" y="285"/>
                  </a:lnTo>
                  <a:lnTo>
                    <a:pt x="1245" y="297"/>
                  </a:lnTo>
                  <a:lnTo>
                    <a:pt x="1259" y="310"/>
                  </a:lnTo>
                  <a:lnTo>
                    <a:pt x="1276" y="325"/>
                  </a:lnTo>
                  <a:lnTo>
                    <a:pt x="1292" y="340"/>
                  </a:lnTo>
                  <a:lnTo>
                    <a:pt x="1309" y="354"/>
                  </a:lnTo>
                  <a:lnTo>
                    <a:pt x="1324" y="365"/>
                  </a:lnTo>
                  <a:lnTo>
                    <a:pt x="1334" y="375"/>
                  </a:lnTo>
                  <a:lnTo>
                    <a:pt x="1346" y="385"/>
                  </a:lnTo>
                  <a:lnTo>
                    <a:pt x="1362" y="397"/>
                  </a:lnTo>
                  <a:lnTo>
                    <a:pt x="1381" y="410"/>
                  </a:lnTo>
                  <a:lnTo>
                    <a:pt x="1401" y="424"/>
                  </a:lnTo>
                  <a:lnTo>
                    <a:pt x="1421" y="437"/>
                  </a:lnTo>
                  <a:lnTo>
                    <a:pt x="1436" y="445"/>
                  </a:lnTo>
                  <a:lnTo>
                    <a:pt x="1447" y="454"/>
                  </a:lnTo>
                  <a:lnTo>
                    <a:pt x="1451" y="455"/>
                  </a:lnTo>
                  <a:lnTo>
                    <a:pt x="1489" y="509"/>
                  </a:lnTo>
                  <a:lnTo>
                    <a:pt x="1497" y="509"/>
                  </a:lnTo>
                  <a:lnTo>
                    <a:pt x="1517" y="509"/>
                  </a:lnTo>
                  <a:lnTo>
                    <a:pt x="1546" y="509"/>
                  </a:lnTo>
                  <a:lnTo>
                    <a:pt x="1581" y="509"/>
                  </a:lnTo>
                  <a:lnTo>
                    <a:pt x="1617" y="510"/>
                  </a:lnTo>
                  <a:lnTo>
                    <a:pt x="1651" y="514"/>
                  </a:lnTo>
                  <a:lnTo>
                    <a:pt x="1677" y="520"/>
                  </a:lnTo>
                  <a:lnTo>
                    <a:pt x="1694" y="527"/>
                  </a:lnTo>
                  <a:lnTo>
                    <a:pt x="1696" y="527"/>
                  </a:lnTo>
                  <a:lnTo>
                    <a:pt x="1702" y="525"/>
                  </a:lnTo>
                  <a:lnTo>
                    <a:pt x="1712" y="522"/>
                  </a:lnTo>
                  <a:lnTo>
                    <a:pt x="1722" y="520"/>
                  </a:lnTo>
                  <a:lnTo>
                    <a:pt x="1736" y="519"/>
                  </a:lnTo>
                  <a:lnTo>
                    <a:pt x="1747" y="515"/>
                  </a:lnTo>
                  <a:lnTo>
                    <a:pt x="1759" y="514"/>
                  </a:lnTo>
                  <a:lnTo>
                    <a:pt x="1769" y="514"/>
                  </a:lnTo>
                  <a:lnTo>
                    <a:pt x="1782" y="515"/>
                  </a:lnTo>
                  <a:lnTo>
                    <a:pt x="1801" y="519"/>
                  </a:lnTo>
                  <a:lnTo>
                    <a:pt x="1823" y="522"/>
                  </a:lnTo>
                  <a:lnTo>
                    <a:pt x="1848" y="527"/>
                  </a:lnTo>
                  <a:lnTo>
                    <a:pt x="1869" y="534"/>
                  </a:lnTo>
                  <a:lnTo>
                    <a:pt x="1889" y="537"/>
                  </a:lnTo>
                  <a:lnTo>
                    <a:pt x="1903" y="540"/>
                  </a:lnTo>
                  <a:lnTo>
                    <a:pt x="1908" y="542"/>
                  </a:lnTo>
                  <a:lnTo>
                    <a:pt x="1926" y="604"/>
                  </a:lnTo>
                  <a:lnTo>
                    <a:pt x="2044" y="604"/>
                  </a:lnTo>
                  <a:lnTo>
                    <a:pt x="2064" y="689"/>
                  </a:lnTo>
                  <a:lnTo>
                    <a:pt x="2071" y="692"/>
                  </a:lnTo>
                  <a:lnTo>
                    <a:pt x="2083" y="704"/>
                  </a:lnTo>
                  <a:lnTo>
                    <a:pt x="2093" y="722"/>
                  </a:lnTo>
                  <a:lnTo>
                    <a:pt x="2093" y="746"/>
                  </a:lnTo>
                  <a:lnTo>
                    <a:pt x="2116" y="784"/>
                  </a:lnTo>
                  <a:lnTo>
                    <a:pt x="2154" y="769"/>
                  </a:lnTo>
                  <a:lnTo>
                    <a:pt x="2158" y="774"/>
                  </a:lnTo>
                  <a:lnTo>
                    <a:pt x="2164" y="786"/>
                  </a:lnTo>
                  <a:lnTo>
                    <a:pt x="2169" y="801"/>
                  </a:lnTo>
                  <a:lnTo>
                    <a:pt x="2173" y="812"/>
                  </a:lnTo>
                  <a:lnTo>
                    <a:pt x="2176" y="824"/>
                  </a:lnTo>
                  <a:lnTo>
                    <a:pt x="2183" y="834"/>
                  </a:lnTo>
                  <a:lnTo>
                    <a:pt x="2189" y="842"/>
                  </a:lnTo>
                  <a:lnTo>
                    <a:pt x="2193" y="846"/>
                  </a:lnTo>
                  <a:lnTo>
                    <a:pt x="2201" y="822"/>
                  </a:lnTo>
                  <a:lnTo>
                    <a:pt x="2226" y="869"/>
                  </a:lnTo>
                  <a:lnTo>
                    <a:pt x="2228" y="869"/>
                  </a:lnTo>
                  <a:lnTo>
                    <a:pt x="2234" y="871"/>
                  </a:lnTo>
                  <a:lnTo>
                    <a:pt x="2244" y="874"/>
                  </a:lnTo>
                  <a:lnTo>
                    <a:pt x="2254" y="877"/>
                  </a:lnTo>
                  <a:lnTo>
                    <a:pt x="2266" y="882"/>
                  </a:lnTo>
                  <a:lnTo>
                    <a:pt x="2276" y="887"/>
                  </a:lnTo>
                  <a:lnTo>
                    <a:pt x="2284" y="894"/>
                  </a:lnTo>
                  <a:lnTo>
                    <a:pt x="2288" y="902"/>
                  </a:lnTo>
                  <a:lnTo>
                    <a:pt x="2289" y="921"/>
                  </a:lnTo>
                  <a:lnTo>
                    <a:pt x="2293" y="937"/>
                  </a:lnTo>
                  <a:lnTo>
                    <a:pt x="2296" y="952"/>
                  </a:lnTo>
                  <a:lnTo>
                    <a:pt x="2306" y="964"/>
                  </a:lnTo>
                  <a:lnTo>
                    <a:pt x="2316" y="979"/>
                  </a:lnTo>
                  <a:lnTo>
                    <a:pt x="2321" y="996"/>
                  </a:lnTo>
                  <a:lnTo>
                    <a:pt x="2318" y="1011"/>
                  </a:lnTo>
                  <a:lnTo>
                    <a:pt x="2311" y="1017"/>
                  </a:lnTo>
                  <a:lnTo>
                    <a:pt x="2303" y="1019"/>
                  </a:lnTo>
                  <a:lnTo>
                    <a:pt x="2299" y="1024"/>
                  </a:lnTo>
                  <a:lnTo>
                    <a:pt x="2301" y="1032"/>
                  </a:lnTo>
                  <a:lnTo>
                    <a:pt x="2306" y="1046"/>
                  </a:lnTo>
                  <a:lnTo>
                    <a:pt x="2313" y="1061"/>
                  </a:lnTo>
                  <a:lnTo>
                    <a:pt x="2319" y="1076"/>
                  </a:lnTo>
                  <a:lnTo>
                    <a:pt x="2324" y="1092"/>
                  </a:lnTo>
                  <a:lnTo>
                    <a:pt x="2329" y="1107"/>
                  </a:lnTo>
                  <a:lnTo>
                    <a:pt x="2336" y="1117"/>
                  </a:lnTo>
                  <a:lnTo>
                    <a:pt x="2344" y="1121"/>
                  </a:lnTo>
                  <a:lnTo>
                    <a:pt x="2351" y="1121"/>
                  </a:lnTo>
                  <a:lnTo>
                    <a:pt x="2354" y="1121"/>
                  </a:lnTo>
                  <a:lnTo>
                    <a:pt x="2356" y="1129"/>
                  </a:lnTo>
                  <a:lnTo>
                    <a:pt x="2365" y="1149"/>
                  </a:lnTo>
                  <a:lnTo>
                    <a:pt x="2375" y="1174"/>
                  </a:lnTo>
                  <a:lnTo>
                    <a:pt x="2388" y="1192"/>
                  </a:lnTo>
                  <a:lnTo>
                    <a:pt x="2395" y="1201"/>
                  </a:lnTo>
                  <a:lnTo>
                    <a:pt x="2400" y="1209"/>
                  </a:lnTo>
                  <a:lnTo>
                    <a:pt x="2405" y="1217"/>
                  </a:lnTo>
                  <a:lnTo>
                    <a:pt x="2411" y="1227"/>
                  </a:lnTo>
                  <a:lnTo>
                    <a:pt x="2416" y="1236"/>
                  </a:lnTo>
                  <a:lnTo>
                    <a:pt x="2425" y="1244"/>
                  </a:lnTo>
                  <a:lnTo>
                    <a:pt x="2433" y="1253"/>
                  </a:lnTo>
                  <a:lnTo>
                    <a:pt x="2445" y="1259"/>
                  </a:lnTo>
                  <a:lnTo>
                    <a:pt x="2456" y="1263"/>
                  </a:lnTo>
                  <a:lnTo>
                    <a:pt x="2468" y="1263"/>
                  </a:lnTo>
                  <a:lnTo>
                    <a:pt x="2478" y="1263"/>
                  </a:lnTo>
                  <a:lnTo>
                    <a:pt x="2486" y="1259"/>
                  </a:lnTo>
                  <a:lnTo>
                    <a:pt x="2493" y="1256"/>
                  </a:lnTo>
                  <a:lnTo>
                    <a:pt x="2498" y="1253"/>
                  </a:lnTo>
                  <a:lnTo>
                    <a:pt x="2500" y="1251"/>
                  </a:lnTo>
                  <a:lnTo>
                    <a:pt x="2501" y="1249"/>
                  </a:lnTo>
                  <a:lnTo>
                    <a:pt x="2520" y="1259"/>
                  </a:lnTo>
                  <a:lnTo>
                    <a:pt x="2501" y="1293"/>
                  </a:lnTo>
                  <a:lnTo>
                    <a:pt x="2501" y="1294"/>
                  </a:lnTo>
                  <a:lnTo>
                    <a:pt x="2501" y="1299"/>
                  </a:lnTo>
                  <a:lnTo>
                    <a:pt x="2503" y="1304"/>
                  </a:lnTo>
                  <a:lnTo>
                    <a:pt x="2511" y="1306"/>
                  </a:lnTo>
                  <a:lnTo>
                    <a:pt x="2521" y="1314"/>
                  </a:lnTo>
                  <a:lnTo>
                    <a:pt x="2531" y="1329"/>
                  </a:lnTo>
                  <a:lnTo>
                    <a:pt x="2536" y="1346"/>
                  </a:lnTo>
                  <a:lnTo>
                    <a:pt x="2540" y="1354"/>
                  </a:lnTo>
                  <a:lnTo>
                    <a:pt x="2541" y="1356"/>
                  </a:lnTo>
                  <a:lnTo>
                    <a:pt x="2546" y="1361"/>
                  </a:lnTo>
                  <a:lnTo>
                    <a:pt x="2553" y="1368"/>
                  </a:lnTo>
                  <a:lnTo>
                    <a:pt x="2561" y="1378"/>
                  </a:lnTo>
                  <a:lnTo>
                    <a:pt x="2571" y="1388"/>
                  </a:lnTo>
                  <a:lnTo>
                    <a:pt x="2583" y="1401"/>
                  </a:lnTo>
                  <a:lnTo>
                    <a:pt x="2595" y="1414"/>
                  </a:lnTo>
                  <a:lnTo>
                    <a:pt x="2606" y="1428"/>
                  </a:lnTo>
                  <a:lnTo>
                    <a:pt x="2618" y="1443"/>
                  </a:lnTo>
                  <a:lnTo>
                    <a:pt x="2631" y="1458"/>
                  </a:lnTo>
                  <a:lnTo>
                    <a:pt x="2645" y="1473"/>
                  </a:lnTo>
                  <a:lnTo>
                    <a:pt x="2658" y="1488"/>
                  </a:lnTo>
                  <a:lnTo>
                    <a:pt x="2670" y="1501"/>
                  </a:lnTo>
                  <a:lnTo>
                    <a:pt x="2680" y="1511"/>
                  </a:lnTo>
                  <a:lnTo>
                    <a:pt x="2688" y="1521"/>
                  </a:lnTo>
                  <a:lnTo>
                    <a:pt x="2691" y="1528"/>
                  </a:lnTo>
                  <a:lnTo>
                    <a:pt x="2701" y="1533"/>
                  </a:lnTo>
                  <a:lnTo>
                    <a:pt x="2723" y="1538"/>
                  </a:lnTo>
                  <a:lnTo>
                    <a:pt x="2753" y="1543"/>
                  </a:lnTo>
                  <a:lnTo>
                    <a:pt x="2790" y="1546"/>
                  </a:lnTo>
                  <a:lnTo>
                    <a:pt x="2828" y="1549"/>
                  </a:lnTo>
                  <a:lnTo>
                    <a:pt x="2863" y="1551"/>
                  </a:lnTo>
                  <a:lnTo>
                    <a:pt x="2891" y="1554"/>
                  </a:lnTo>
                  <a:lnTo>
                    <a:pt x="2910" y="1556"/>
                  </a:lnTo>
                  <a:lnTo>
                    <a:pt x="2925" y="1558"/>
                  </a:lnTo>
                  <a:lnTo>
                    <a:pt x="2945" y="1559"/>
                  </a:lnTo>
                  <a:lnTo>
                    <a:pt x="2968" y="1561"/>
                  </a:lnTo>
                  <a:lnTo>
                    <a:pt x="2992" y="1563"/>
                  </a:lnTo>
                  <a:lnTo>
                    <a:pt x="3013" y="1566"/>
                  </a:lnTo>
                  <a:lnTo>
                    <a:pt x="3033" y="1568"/>
                  </a:lnTo>
                  <a:lnTo>
                    <a:pt x="3048" y="1569"/>
                  </a:lnTo>
                  <a:lnTo>
                    <a:pt x="3057" y="1571"/>
                  </a:lnTo>
                  <a:lnTo>
                    <a:pt x="3070" y="1569"/>
                  </a:lnTo>
                  <a:lnTo>
                    <a:pt x="3083" y="1563"/>
                  </a:lnTo>
                  <a:lnTo>
                    <a:pt x="3095" y="1554"/>
                  </a:lnTo>
                  <a:lnTo>
                    <a:pt x="3100" y="1551"/>
                  </a:lnTo>
                  <a:lnTo>
                    <a:pt x="3102" y="1553"/>
                  </a:lnTo>
                  <a:lnTo>
                    <a:pt x="3105" y="1556"/>
                  </a:lnTo>
                  <a:lnTo>
                    <a:pt x="3112" y="1561"/>
                  </a:lnTo>
                  <a:lnTo>
                    <a:pt x="3120" y="1568"/>
                  </a:lnTo>
                  <a:lnTo>
                    <a:pt x="3130" y="1576"/>
                  </a:lnTo>
                  <a:lnTo>
                    <a:pt x="3140" y="1586"/>
                  </a:lnTo>
                  <a:lnTo>
                    <a:pt x="3152" y="1598"/>
                  </a:lnTo>
                  <a:lnTo>
                    <a:pt x="3162" y="1609"/>
                  </a:lnTo>
                  <a:lnTo>
                    <a:pt x="3172" y="1624"/>
                  </a:lnTo>
                  <a:lnTo>
                    <a:pt x="3180" y="1638"/>
                  </a:lnTo>
                  <a:lnTo>
                    <a:pt x="3183" y="1653"/>
                  </a:lnTo>
                  <a:lnTo>
                    <a:pt x="3185" y="1668"/>
                  </a:lnTo>
                  <a:lnTo>
                    <a:pt x="3185" y="1678"/>
                  </a:lnTo>
                  <a:lnTo>
                    <a:pt x="3183" y="1688"/>
                  </a:lnTo>
                  <a:lnTo>
                    <a:pt x="3180" y="1696"/>
                  </a:lnTo>
                  <a:lnTo>
                    <a:pt x="3175" y="1704"/>
                  </a:lnTo>
                  <a:lnTo>
                    <a:pt x="3168" y="1724"/>
                  </a:lnTo>
                  <a:lnTo>
                    <a:pt x="3168" y="1748"/>
                  </a:lnTo>
                  <a:lnTo>
                    <a:pt x="3168" y="1771"/>
                  </a:lnTo>
                  <a:lnTo>
                    <a:pt x="3167" y="1795"/>
                  </a:lnTo>
                  <a:lnTo>
                    <a:pt x="3162" y="1815"/>
                  </a:lnTo>
                  <a:lnTo>
                    <a:pt x="3153" y="1835"/>
                  </a:lnTo>
                  <a:lnTo>
                    <a:pt x="3145" y="1851"/>
                  </a:lnTo>
                  <a:lnTo>
                    <a:pt x="3138" y="1870"/>
                  </a:lnTo>
                  <a:lnTo>
                    <a:pt x="3132" y="1890"/>
                  </a:lnTo>
                  <a:lnTo>
                    <a:pt x="3125" y="1913"/>
                  </a:lnTo>
                  <a:lnTo>
                    <a:pt x="3120" y="1933"/>
                  </a:lnTo>
                  <a:lnTo>
                    <a:pt x="3118" y="1951"/>
                  </a:lnTo>
                  <a:lnTo>
                    <a:pt x="3117" y="1965"/>
                  </a:lnTo>
                  <a:lnTo>
                    <a:pt x="3115" y="1976"/>
                  </a:lnTo>
                  <a:lnTo>
                    <a:pt x="3108" y="1986"/>
                  </a:lnTo>
                  <a:lnTo>
                    <a:pt x="3100" y="1993"/>
                  </a:lnTo>
                  <a:lnTo>
                    <a:pt x="3093" y="1996"/>
                  </a:lnTo>
                  <a:lnTo>
                    <a:pt x="3078" y="2003"/>
                  </a:lnTo>
                  <a:lnTo>
                    <a:pt x="3057" y="2013"/>
                  </a:lnTo>
                  <a:lnTo>
                    <a:pt x="3028" y="2026"/>
                  </a:lnTo>
                  <a:lnTo>
                    <a:pt x="2997" y="2040"/>
                  </a:lnTo>
                  <a:lnTo>
                    <a:pt x="2962" y="2056"/>
                  </a:lnTo>
                  <a:lnTo>
                    <a:pt x="2923" y="2073"/>
                  </a:lnTo>
                  <a:lnTo>
                    <a:pt x="2885" y="2090"/>
                  </a:lnTo>
                  <a:lnTo>
                    <a:pt x="2845" y="2108"/>
                  </a:lnTo>
                  <a:lnTo>
                    <a:pt x="2806" y="2125"/>
                  </a:lnTo>
                  <a:lnTo>
                    <a:pt x="2770" y="2141"/>
                  </a:lnTo>
                  <a:lnTo>
                    <a:pt x="2736" y="2155"/>
                  </a:lnTo>
                  <a:lnTo>
                    <a:pt x="2708" y="2168"/>
                  </a:lnTo>
                  <a:lnTo>
                    <a:pt x="2685" y="2180"/>
                  </a:lnTo>
                  <a:lnTo>
                    <a:pt x="2668" y="2188"/>
                  </a:lnTo>
                  <a:lnTo>
                    <a:pt x="2658" y="2193"/>
                  </a:lnTo>
                  <a:lnTo>
                    <a:pt x="2645" y="2200"/>
                  </a:lnTo>
                  <a:lnTo>
                    <a:pt x="2628" y="2205"/>
                  </a:lnTo>
                  <a:lnTo>
                    <a:pt x="2608" y="2208"/>
                  </a:lnTo>
                  <a:lnTo>
                    <a:pt x="2586" y="2211"/>
                  </a:lnTo>
                  <a:lnTo>
                    <a:pt x="2561" y="2215"/>
                  </a:lnTo>
                  <a:lnTo>
                    <a:pt x="2535" y="2220"/>
                  </a:lnTo>
                  <a:lnTo>
                    <a:pt x="2508" y="2225"/>
                  </a:lnTo>
                  <a:lnTo>
                    <a:pt x="2481" y="2231"/>
                  </a:lnTo>
                  <a:lnTo>
                    <a:pt x="2466" y="2235"/>
                  </a:lnTo>
                  <a:lnTo>
                    <a:pt x="2446" y="2240"/>
                  </a:lnTo>
                  <a:lnTo>
                    <a:pt x="2425" y="2245"/>
                  </a:lnTo>
                  <a:lnTo>
                    <a:pt x="2398" y="2252"/>
                  </a:lnTo>
                  <a:lnTo>
                    <a:pt x="2371" y="2258"/>
                  </a:lnTo>
                  <a:lnTo>
                    <a:pt x="2343" y="2265"/>
                  </a:lnTo>
                  <a:lnTo>
                    <a:pt x="2313" y="2272"/>
                  </a:lnTo>
                  <a:lnTo>
                    <a:pt x="2283" y="2278"/>
                  </a:lnTo>
                  <a:lnTo>
                    <a:pt x="2253" y="2285"/>
                  </a:lnTo>
                  <a:lnTo>
                    <a:pt x="2224" y="2293"/>
                  </a:lnTo>
                  <a:lnTo>
                    <a:pt x="2198" y="2300"/>
                  </a:lnTo>
                  <a:lnTo>
                    <a:pt x="2173" y="2307"/>
                  </a:lnTo>
                  <a:lnTo>
                    <a:pt x="2151" y="2312"/>
                  </a:lnTo>
                  <a:lnTo>
                    <a:pt x="2134" y="2318"/>
                  </a:lnTo>
                  <a:lnTo>
                    <a:pt x="2119" y="2323"/>
                  </a:lnTo>
                  <a:lnTo>
                    <a:pt x="2111" y="2327"/>
                  </a:lnTo>
                  <a:lnTo>
                    <a:pt x="2098" y="2333"/>
                  </a:lnTo>
                  <a:lnTo>
                    <a:pt x="2086" y="2338"/>
                  </a:lnTo>
                  <a:lnTo>
                    <a:pt x="2071" y="2347"/>
                  </a:lnTo>
                  <a:lnTo>
                    <a:pt x="2058" y="2353"/>
                  </a:lnTo>
                  <a:lnTo>
                    <a:pt x="2043" y="2365"/>
                  </a:lnTo>
                  <a:lnTo>
                    <a:pt x="2028" y="2378"/>
                  </a:lnTo>
                  <a:lnTo>
                    <a:pt x="2011" y="2398"/>
                  </a:lnTo>
                  <a:lnTo>
                    <a:pt x="1993" y="2422"/>
                  </a:lnTo>
                  <a:lnTo>
                    <a:pt x="1976" y="2447"/>
                  </a:lnTo>
                  <a:lnTo>
                    <a:pt x="1961" y="2470"/>
                  </a:lnTo>
                  <a:lnTo>
                    <a:pt x="1946" y="2492"/>
                  </a:lnTo>
                  <a:lnTo>
                    <a:pt x="1933" y="2512"/>
                  </a:lnTo>
                  <a:lnTo>
                    <a:pt x="1923" y="2528"/>
                  </a:lnTo>
                  <a:lnTo>
                    <a:pt x="1913" y="2542"/>
                  </a:lnTo>
                  <a:lnTo>
                    <a:pt x="1904" y="2552"/>
                  </a:lnTo>
                  <a:lnTo>
                    <a:pt x="1898" y="2558"/>
                  </a:lnTo>
                  <a:lnTo>
                    <a:pt x="1891" y="2563"/>
                  </a:lnTo>
                  <a:lnTo>
                    <a:pt x="1884" y="2568"/>
                  </a:lnTo>
                  <a:lnTo>
                    <a:pt x="1874" y="2573"/>
                  </a:lnTo>
                  <a:lnTo>
                    <a:pt x="1864" y="2575"/>
                  </a:lnTo>
                  <a:lnTo>
                    <a:pt x="1853" y="2577"/>
                  </a:lnTo>
                  <a:lnTo>
                    <a:pt x="1843" y="2577"/>
                  </a:lnTo>
                  <a:lnTo>
                    <a:pt x="1833" y="2573"/>
                  </a:lnTo>
                  <a:lnTo>
                    <a:pt x="1823" y="2568"/>
                  </a:lnTo>
                  <a:lnTo>
                    <a:pt x="1814" y="2562"/>
                  </a:lnTo>
                  <a:lnTo>
                    <a:pt x="1806" y="2553"/>
                  </a:lnTo>
                  <a:lnTo>
                    <a:pt x="1799" y="2547"/>
                  </a:lnTo>
                  <a:lnTo>
                    <a:pt x="1794" y="2538"/>
                  </a:lnTo>
                  <a:lnTo>
                    <a:pt x="1787" y="2533"/>
                  </a:lnTo>
                  <a:lnTo>
                    <a:pt x="1781" y="2530"/>
                  </a:lnTo>
                  <a:lnTo>
                    <a:pt x="1772" y="2528"/>
                  </a:lnTo>
                  <a:lnTo>
                    <a:pt x="1764" y="2530"/>
                  </a:lnTo>
                  <a:lnTo>
                    <a:pt x="1752" y="2533"/>
                  </a:lnTo>
                  <a:lnTo>
                    <a:pt x="1739" y="2535"/>
                  </a:lnTo>
                  <a:lnTo>
                    <a:pt x="1722" y="2535"/>
                  </a:lnTo>
                  <a:lnTo>
                    <a:pt x="1704" y="2535"/>
                  </a:lnTo>
                  <a:lnTo>
                    <a:pt x="1684" y="2535"/>
                  </a:lnTo>
                  <a:lnTo>
                    <a:pt x="1666" y="2533"/>
                  </a:lnTo>
                  <a:lnTo>
                    <a:pt x="1647" y="2532"/>
                  </a:lnTo>
                  <a:lnTo>
                    <a:pt x="1632" y="2530"/>
                  </a:lnTo>
                  <a:lnTo>
                    <a:pt x="1617" y="2528"/>
                  </a:lnTo>
                  <a:lnTo>
                    <a:pt x="1602" y="2525"/>
                  </a:lnTo>
                  <a:lnTo>
                    <a:pt x="1589" y="2520"/>
                  </a:lnTo>
                  <a:lnTo>
                    <a:pt x="1574" y="2517"/>
                  </a:lnTo>
                  <a:lnTo>
                    <a:pt x="1561" y="2513"/>
                  </a:lnTo>
                  <a:lnTo>
                    <a:pt x="1549" y="2510"/>
                  </a:lnTo>
                  <a:lnTo>
                    <a:pt x="1537" y="2507"/>
                  </a:lnTo>
                  <a:lnTo>
                    <a:pt x="1527" y="2507"/>
                  </a:lnTo>
                  <a:lnTo>
                    <a:pt x="1514" y="2507"/>
                  </a:lnTo>
                  <a:lnTo>
                    <a:pt x="1492" y="2507"/>
                  </a:lnTo>
                  <a:lnTo>
                    <a:pt x="1466" y="2508"/>
                  </a:lnTo>
                  <a:lnTo>
                    <a:pt x="1436" y="2508"/>
                  </a:lnTo>
                  <a:lnTo>
                    <a:pt x="1409" y="2510"/>
                  </a:lnTo>
                  <a:lnTo>
                    <a:pt x="1386" y="2512"/>
                  </a:lnTo>
                  <a:lnTo>
                    <a:pt x="1369" y="2512"/>
                  </a:lnTo>
                  <a:lnTo>
                    <a:pt x="1362" y="2512"/>
                  </a:lnTo>
                  <a:lnTo>
                    <a:pt x="1361" y="2513"/>
                  </a:lnTo>
                  <a:lnTo>
                    <a:pt x="1356" y="2515"/>
                  </a:lnTo>
                  <a:lnTo>
                    <a:pt x="1349" y="2518"/>
                  </a:lnTo>
                  <a:lnTo>
                    <a:pt x="1339" y="2520"/>
                  </a:lnTo>
                  <a:lnTo>
                    <a:pt x="1329" y="2522"/>
                  </a:lnTo>
                  <a:lnTo>
                    <a:pt x="1317" y="2522"/>
                  </a:lnTo>
                  <a:lnTo>
                    <a:pt x="1304" y="2518"/>
                  </a:lnTo>
                  <a:lnTo>
                    <a:pt x="1292" y="2512"/>
                  </a:lnTo>
                  <a:lnTo>
                    <a:pt x="1281" y="2503"/>
                  </a:lnTo>
                  <a:lnTo>
                    <a:pt x="1272" y="2497"/>
                  </a:lnTo>
                  <a:lnTo>
                    <a:pt x="1266" y="2490"/>
                  </a:lnTo>
                  <a:lnTo>
                    <a:pt x="1261" y="2485"/>
                  </a:lnTo>
                  <a:lnTo>
                    <a:pt x="1256" y="2482"/>
                  </a:lnTo>
                  <a:lnTo>
                    <a:pt x="1250" y="2480"/>
                  </a:lnTo>
                  <a:lnTo>
                    <a:pt x="1245" y="2480"/>
                  </a:lnTo>
                  <a:lnTo>
                    <a:pt x="1239" y="2483"/>
                  </a:lnTo>
                  <a:lnTo>
                    <a:pt x="1232" y="2490"/>
                  </a:lnTo>
                  <a:lnTo>
                    <a:pt x="1235" y="2498"/>
                  </a:lnTo>
                  <a:lnTo>
                    <a:pt x="1240" y="2510"/>
                  </a:lnTo>
                  <a:lnTo>
                    <a:pt x="1239" y="2525"/>
                  </a:lnTo>
                  <a:lnTo>
                    <a:pt x="1234" y="2545"/>
                  </a:lnTo>
                  <a:lnTo>
                    <a:pt x="1232" y="2567"/>
                  </a:lnTo>
                  <a:lnTo>
                    <a:pt x="1234" y="2587"/>
                  </a:lnTo>
                  <a:lnTo>
                    <a:pt x="1234" y="2602"/>
                  </a:lnTo>
                  <a:lnTo>
                    <a:pt x="1230" y="2615"/>
                  </a:lnTo>
                  <a:lnTo>
                    <a:pt x="1225" y="2630"/>
                  </a:lnTo>
                  <a:lnTo>
                    <a:pt x="1219" y="2643"/>
                  </a:lnTo>
                  <a:lnTo>
                    <a:pt x="1215" y="2648"/>
                  </a:lnTo>
                  <a:lnTo>
                    <a:pt x="1177" y="2678"/>
                  </a:lnTo>
                  <a:lnTo>
                    <a:pt x="1175" y="2672"/>
                  </a:lnTo>
                  <a:lnTo>
                    <a:pt x="1170" y="2657"/>
                  </a:lnTo>
                  <a:lnTo>
                    <a:pt x="1167" y="2640"/>
                  </a:lnTo>
                  <a:lnTo>
                    <a:pt x="1167" y="2625"/>
                  </a:lnTo>
                  <a:lnTo>
                    <a:pt x="1167" y="2613"/>
                  </a:lnTo>
                  <a:lnTo>
                    <a:pt x="1164" y="2598"/>
                  </a:lnTo>
                  <a:lnTo>
                    <a:pt x="1154" y="2583"/>
                  </a:lnTo>
                  <a:lnTo>
                    <a:pt x="1144" y="2568"/>
                  </a:lnTo>
                  <a:lnTo>
                    <a:pt x="1134" y="2555"/>
                  </a:lnTo>
                  <a:lnTo>
                    <a:pt x="1124" y="2543"/>
                  </a:lnTo>
                  <a:lnTo>
                    <a:pt x="1115" y="2532"/>
                  </a:lnTo>
                  <a:lnTo>
                    <a:pt x="1110" y="2522"/>
                  </a:lnTo>
                  <a:lnTo>
                    <a:pt x="1107" y="2508"/>
                  </a:lnTo>
                  <a:lnTo>
                    <a:pt x="1104" y="2492"/>
                  </a:lnTo>
                  <a:lnTo>
                    <a:pt x="1095" y="2475"/>
                  </a:lnTo>
                  <a:lnTo>
                    <a:pt x="1082" y="2458"/>
                  </a:lnTo>
                  <a:lnTo>
                    <a:pt x="1072" y="2450"/>
                  </a:lnTo>
                  <a:lnTo>
                    <a:pt x="1059" y="2437"/>
                  </a:lnTo>
                  <a:lnTo>
                    <a:pt x="1044" y="2423"/>
                  </a:lnTo>
                  <a:lnTo>
                    <a:pt x="1029" y="2405"/>
                  </a:lnTo>
                  <a:lnTo>
                    <a:pt x="1014" y="2387"/>
                  </a:lnTo>
                  <a:lnTo>
                    <a:pt x="999" y="2368"/>
                  </a:lnTo>
                  <a:lnTo>
                    <a:pt x="987" y="2350"/>
                  </a:lnTo>
                  <a:lnTo>
                    <a:pt x="979" y="2332"/>
                  </a:lnTo>
                  <a:lnTo>
                    <a:pt x="964" y="2302"/>
                  </a:lnTo>
                  <a:lnTo>
                    <a:pt x="949" y="2280"/>
                  </a:lnTo>
                  <a:lnTo>
                    <a:pt x="937" y="2263"/>
                  </a:lnTo>
                  <a:lnTo>
                    <a:pt x="930" y="2245"/>
                  </a:lnTo>
                  <a:lnTo>
                    <a:pt x="927" y="2231"/>
                  </a:lnTo>
                  <a:lnTo>
                    <a:pt x="920" y="2211"/>
                  </a:lnTo>
                  <a:lnTo>
                    <a:pt x="910" y="2190"/>
                  </a:lnTo>
                  <a:lnTo>
                    <a:pt x="900" y="2166"/>
                  </a:lnTo>
                  <a:lnTo>
                    <a:pt x="890" y="2143"/>
                  </a:lnTo>
                  <a:lnTo>
                    <a:pt x="880" y="2123"/>
                  </a:lnTo>
                  <a:lnTo>
                    <a:pt x="870" y="2108"/>
                  </a:lnTo>
                  <a:lnTo>
                    <a:pt x="864" y="2098"/>
                  </a:lnTo>
                  <a:lnTo>
                    <a:pt x="854" y="2085"/>
                  </a:lnTo>
                  <a:lnTo>
                    <a:pt x="845" y="2071"/>
                  </a:lnTo>
                  <a:lnTo>
                    <a:pt x="834" y="2056"/>
                  </a:lnTo>
                  <a:lnTo>
                    <a:pt x="822" y="2041"/>
                  </a:lnTo>
                  <a:lnTo>
                    <a:pt x="814" y="2033"/>
                  </a:lnTo>
                  <a:lnTo>
                    <a:pt x="802" y="2025"/>
                  </a:lnTo>
                  <a:lnTo>
                    <a:pt x="790" y="2018"/>
                  </a:lnTo>
                  <a:lnTo>
                    <a:pt x="779" y="2010"/>
                  </a:lnTo>
                  <a:lnTo>
                    <a:pt x="765" y="2003"/>
                  </a:lnTo>
                  <a:lnTo>
                    <a:pt x="752" y="1998"/>
                  </a:lnTo>
                  <a:lnTo>
                    <a:pt x="740" y="1995"/>
                  </a:lnTo>
                  <a:lnTo>
                    <a:pt x="730" y="1993"/>
                  </a:lnTo>
                  <a:lnTo>
                    <a:pt x="722" y="1991"/>
                  </a:lnTo>
                  <a:lnTo>
                    <a:pt x="717" y="1988"/>
                  </a:lnTo>
                  <a:lnTo>
                    <a:pt x="710" y="1983"/>
                  </a:lnTo>
                  <a:lnTo>
                    <a:pt x="705" y="1975"/>
                  </a:lnTo>
                  <a:lnTo>
                    <a:pt x="700" y="1966"/>
                  </a:lnTo>
                  <a:lnTo>
                    <a:pt x="693" y="1953"/>
                  </a:lnTo>
                  <a:lnTo>
                    <a:pt x="685" y="1940"/>
                  </a:lnTo>
                  <a:lnTo>
                    <a:pt x="673" y="1923"/>
                  </a:lnTo>
                  <a:lnTo>
                    <a:pt x="662" y="1905"/>
                  </a:lnTo>
                  <a:lnTo>
                    <a:pt x="652" y="1886"/>
                  </a:lnTo>
                  <a:lnTo>
                    <a:pt x="642" y="1868"/>
                  </a:lnTo>
                  <a:lnTo>
                    <a:pt x="635" y="1851"/>
                  </a:lnTo>
                  <a:lnTo>
                    <a:pt x="628" y="1833"/>
                  </a:lnTo>
                  <a:lnTo>
                    <a:pt x="623" y="1818"/>
                  </a:lnTo>
                  <a:lnTo>
                    <a:pt x="620" y="1803"/>
                  </a:lnTo>
                  <a:lnTo>
                    <a:pt x="617" y="1790"/>
                  </a:lnTo>
                  <a:lnTo>
                    <a:pt x="612" y="1765"/>
                  </a:lnTo>
                  <a:lnTo>
                    <a:pt x="603" y="1741"/>
                  </a:lnTo>
                  <a:lnTo>
                    <a:pt x="597" y="1724"/>
                  </a:lnTo>
                  <a:lnTo>
                    <a:pt x="593" y="1718"/>
                  </a:lnTo>
                  <a:lnTo>
                    <a:pt x="600" y="1706"/>
                  </a:lnTo>
                  <a:lnTo>
                    <a:pt x="610" y="1676"/>
                  </a:lnTo>
                  <a:lnTo>
                    <a:pt x="617" y="1636"/>
                  </a:lnTo>
                  <a:lnTo>
                    <a:pt x="607" y="1594"/>
                  </a:lnTo>
                  <a:lnTo>
                    <a:pt x="590" y="1559"/>
                  </a:lnTo>
                  <a:lnTo>
                    <a:pt x="582" y="1531"/>
                  </a:lnTo>
                  <a:lnTo>
                    <a:pt x="573" y="1503"/>
                  </a:lnTo>
                  <a:lnTo>
                    <a:pt x="560" y="1471"/>
                  </a:lnTo>
                  <a:lnTo>
                    <a:pt x="552" y="1454"/>
                  </a:lnTo>
                  <a:lnTo>
                    <a:pt x="547" y="1439"/>
                  </a:lnTo>
                  <a:lnTo>
                    <a:pt x="542" y="1426"/>
                  </a:lnTo>
                  <a:lnTo>
                    <a:pt x="537" y="1413"/>
                  </a:lnTo>
                  <a:lnTo>
                    <a:pt x="532" y="1401"/>
                  </a:lnTo>
                  <a:lnTo>
                    <a:pt x="525" y="1393"/>
                  </a:lnTo>
                  <a:lnTo>
                    <a:pt x="518" y="1383"/>
                  </a:lnTo>
                  <a:lnTo>
                    <a:pt x="508" y="1376"/>
                  </a:lnTo>
                  <a:lnTo>
                    <a:pt x="497" y="1369"/>
                  </a:lnTo>
                  <a:lnTo>
                    <a:pt x="487" y="1361"/>
                  </a:lnTo>
                  <a:lnTo>
                    <a:pt x="475" y="1354"/>
                  </a:lnTo>
                  <a:lnTo>
                    <a:pt x="463" y="1346"/>
                  </a:lnTo>
                  <a:lnTo>
                    <a:pt x="452" y="1338"/>
                  </a:lnTo>
                  <a:lnTo>
                    <a:pt x="440" y="1329"/>
                  </a:lnTo>
                  <a:lnTo>
                    <a:pt x="427" y="1323"/>
                  </a:lnTo>
                  <a:lnTo>
                    <a:pt x="413" y="1316"/>
                  </a:lnTo>
                  <a:lnTo>
                    <a:pt x="392" y="1303"/>
                  </a:lnTo>
                  <a:lnTo>
                    <a:pt x="382" y="1286"/>
                  </a:lnTo>
                  <a:lnTo>
                    <a:pt x="375" y="1268"/>
                  </a:lnTo>
                  <a:lnTo>
                    <a:pt x="365" y="1249"/>
                  </a:lnTo>
                  <a:lnTo>
                    <a:pt x="355" y="1232"/>
                  </a:lnTo>
                  <a:lnTo>
                    <a:pt x="348" y="1219"/>
                  </a:lnTo>
                  <a:lnTo>
                    <a:pt x="347" y="1209"/>
                  </a:lnTo>
                  <a:lnTo>
                    <a:pt x="347" y="1206"/>
                  </a:lnTo>
                  <a:lnTo>
                    <a:pt x="348" y="1206"/>
                  </a:lnTo>
                  <a:lnTo>
                    <a:pt x="353" y="1204"/>
                  </a:lnTo>
                  <a:lnTo>
                    <a:pt x="360" y="1201"/>
                  </a:lnTo>
                  <a:lnTo>
                    <a:pt x="367" y="1194"/>
                  </a:lnTo>
                  <a:lnTo>
                    <a:pt x="370" y="1187"/>
                  </a:lnTo>
                  <a:lnTo>
                    <a:pt x="370" y="1176"/>
                  </a:lnTo>
                  <a:lnTo>
                    <a:pt x="365" y="1162"/>
                  </a:lnTo>
                  <a:lnTo>
                    <a:pt x="352" y="1144"/>
                  </a:lnTo>
                  <a:lnTo>
                    <a:pt x="330" y="1122"/>
                  </a:lnTo>
                  <a:lnTo>
                    <a:pt x="327" y="1122"/>
                  </a:lnTo>
                  <a:lnTo>
                    <a:pt x="330" y="1126"/>
                  </a:lnTo>
                  <a:lnTo>
                    <a:pt x="327" y="1112"/>
                  </a:lnTo>
                  <a:lnTo>
                    <a:pt x="320" y="1091"/>
                  </a:lnTo>
                  <a:lnTo>
                    <a:pt x="315" y="1076"/>
                  </a:lnTo>
                  <a:lnTo>
                    <a:pt x="308" y="1066"/>
                  </a:lnTo>
                  <a:lnTo>
                    <a:pt x="293" y="1054"/>
                  </a:lnTo>
                  <a:lnTo>
                    <a:pt x="283" y="1039"/>
                  </a:lnTo>
                  <a:lnTo>
                    <a:pt x="285" y="1024"/>
                  </a:lnTo>
                  <a:lnTo>
                    <a:pt x="287" y="1011"/>
                  </a:lnTo>
                  <a:lnTo>
                    <a:pt x="275" y="997"/>
                  </a:lnTo>
                  <a:lnTo>
                    <a:pt x="257" y="986"/>
                  </a:lnTo>
                  <a:lnTo>
                    <a:pt x="243" y="971"/>
                  </a:lnTo>
                  <a:lnTo>
                    <a:pt x="235" y="954"/>
                  </a:lnTo>
                  <a:lnTo>
                    <a:pt x="232" y="936"/>
                  </a:lnTo>
                  <a:lnTo>
                    <a:pt x="228" y="916"/>
                  </a:lnTo>
                  <a:lnTo>
                    <a:pt x="218" y="889"/>
                  </a:lnTo>
                  <a:lnTo>
                    <a:pt x="205" y="862"/>
                  </a:lnTo>
                  <a:lnTo>
                    <a:pt x="185" y="836"/>
                  </a:lnTo>
                  <a:lnTo>
                    <a:pt x="172" y="814"/>
                  </a:lnTo>
                  <a:lnTo>
                    <a:pt x="168" y="796"/>
                  </a:lnTo>
                  <a:lnTo>
                    <a:pt x="167" y="782"/>
                  </a:lnTo>
                  <a:lnTo>
                    <a:pt x="157" y="774"/>
                  </a:lnTo>
                  <a:lnTo>
                    <a:pt x="145" y="766"/>
                  </a:lnTo>
                  <a:lnTo>
                    <a:pt x="140" y="754"/>
                  </a:lnTo>
                  <a:lnTo>
                    <a:pt x="133" y="739"/>
                  </a:lnTo>
                  <a:lnTo>
                    <a:pt x="118" y="722"/>
                  </a:lnTo>
                  <a:lnTo>
                    <a:pt x="100" y="700"/>
                  </a:lnTo>
                  <a:lnTo>
                    <a:pt x="86" y="674"/>
                  </a:lnTo>
                  <a:lnTo>
                    <a:pt x="78" y="652"/>
                  </a:lnTo>
                  <a:lnTo>
                    <a:pt x="75" y="642"/>
                  </a:lnTo>
                  <a:lnTo>
                    <a:pt x="70" y="642"/>
                  </a:lnTo>
                  <a:lnTo>
                    <a:pt x="60" y="642"/>
                  </a:lnTo>
                  <a:lnTo>
                    <a:pt x="45" y="642"/>
                  </a:lnTo>
                  <a:lnTo>
                    <a:pt x="33" y="642"/>
                  </a:lnTo>
                  <a:lnTo>
                    <a:pt x="21" y="642"/>
                  </a:lnTo>
                  <a:lnTo>
                    <a:pt x="11" y="644"/>
                  </a:lnTo>
                  <a:lnTo>
                    <a:pt x="3" y="645"/>
                  </a:lnTo>
                  <a:lnTo>
                    <a:pt x="0" y="645"/>
                  </a:lnTo>
                  <a:lnTo>
                    <a:pt x="1" y="642"/>
                  </a:lnTo>
                  <a:lnTo>
                    <a:pt x="5" y="632"/>
                  </a:lnTo>
                  <a:lnTo>
                    <a:pt x="8" y="620"/>
                  </a:lnTo>
                  <a:lnTo>
                    <a:pt x="13" y="609"/>
                  </a:lnTo>
                  <a:lnTo>
                    <a:pt x="20" y="592"/>
                  </a:lnTo>
                  <a:lnTo>
                    <a:pt x="28" y="569"/>
                  </a:lnTo>
                  <a:lnTo>
                    <a:pt x="35" y="542"/>
                  </a:lnTo>
                  <a:lnTo>
                    <a:pt x="38" y="517"/>
                  </a:lnTo>
                  <a:lnTo>
                    <a:pt x="40" y="500"/>
                  </a:lnTo>
                  <a:lnTo>
                    <a:pt x="43" y="489"/>
                  </a:lnTo>
                  <a:lnTo>
                    <a:pt x="50" y="480"/>
                  </a:lnTo>
                  <a:lnTo>
                    <a:pt x="56" y="470"/>
                  </a:lnTo>
                  <a:lnTo>
                    <a:pt x="61" y="457"/>
                  </a:lnTo>
                  <a:lnTo>
                    <a:pt x="65" y="442"/>
                  </a:lnTo>
                  <a:lnTo>
                    <a:pt x="66" y="429"/>
                  </a:lnTo>
                  <a:lnTo>
                    <a:pt x="66" y="424"/>
                  </a:lnTo>
                  <a:lnTo>
                    <a:pt x="232" y="465"/>
                  </a:lnTo>
                  <a:lnTo>
                    <a:pt x="235" y="464"/>
                  </a:lnTo>
                  <a:lnTo>
                    <a:pt x="243" y="457"/>
                  </a:lnTo>
                  <a:lnTo>
                    <a:pt x="257" y="450"/>
                  </a:lnTo>
                  <a:lnTo>
                    <a:pt x="270" y="439"/>
                  </a:lnTo>
                  <a:lnTo>
                    <a:pt x="285" y="429"/>
                  </a:lnTo>
                  <a:lnTo>
                    <a:pt x="298" y="417"/>
                  </a:lnTo>
                  <a:lnTo>
                    <a:pt x="308" y="407"/>
                  </a:lnTo>
                  <a:lnTo>
                    <a:pt x="313" y="399"/>
                  </a:lnTo>
                  <a:lnTo>
                    <a:pt x="318" y="384"/>
                  </a:lnTo>
                  <a:lnTo>
                    <a:pt x="325" y="369"/>
                  </a:lnTo>
                  <a:lnTo>
                    <a:pt x="330" y="357"/>
                  </a:lnTo>
                  <a:lnTo>
                    <a:pt x="332" y="352"/>
                  </a:lnTo>
                  <a:lnTo>
                    <a:pt x="335" y="352"/>
                  </a:lnTo>
                  <a:lnTo>
                    <a:pt x="342" y="352"/>
                  </a:lnTo>
                  <a:lnTo>
                    <a:pt x="353" y="352"/>
                  </a:lnTo>
                  <a:lnTo>
                    <a:pt x="367" y="350"/>
                  </a:lnTo>
                  <a:lnTo>
                    <a:pt x="382" y="350"/>
                  </a:lnTo>
                  <a:lnTo>
                    <a:pt x="398" y="347"/>
                  </a:lnTo>
                  <a:lnTo>
                    <a:pt x="413" y="345"/>
                  </a:lnTo>
                  <a:lnTo>
                    <a:pt x="427" y="342"/>
                  </a:lnTo>
                  <a:lnTo>
                    <a:pt x="438" y="337"/>
                  </a:lnTo>
                  <a:lnTo>
                    <a:pt x="447" y="329"/>
                  </a:lnTo>
                  <a:lnTo>
                    <a:pt x="455" y="319"/>
                  </a:lnTo>
                  <a:lnTo>
                    <a:pt x="462" y="309"/>
                  </a:lnTo>
                  <a:lnTo>
                    <a:pt x="468" y="299"/>
                  </a:lnTo>
                  <a:lnTo>
                    <a:pt x="475" y="290"/>
                  </a:lnTo>
                  <a:lnTo>
                    <a:pt x="483" y="284"/>
                  </a:lnTo>
                  <a:lnTo>
                    <a:pt x="493" y="280"/>
                  </a:lnTo>
                  <a:lnTo>
                    <a:pt x="508" y="275"/>
                  </a:lnTo>
                  <a:lnTo>
                    <a:pt x="513" y="269"/>
                  </a:lnTo>
                  <a:lnTo>
                    <a:pt x="513" y="264"/>
                  </a:lnTo>
                  <a:lnTo>
                    <a:pt x="512" y="262"/>
                  </a:lnTo>
                  <a:lnTo>
                    <a:pt x="380" y="90"/>
                  </a:lnTo>
                  <a:close/>
                </a:path>
              </a:pathLst>
            </a:custGeom>
            <a:solidFill>
              <a:srgbClr val="b2b2b2">
                <a:alpha val="30000"/>
              </a:srgbClr>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496" name="PlaceHolder 1"/>
          <p:cNvSpPr>
            <a:spLocks noGrp="1"/>
          </p:cNvSpPr>
          <p:nvPr>
            <p:ph/>
          </p:nvPr>
        </p:nvSpPr>
        <p:spPr>
          <a:xfrm>
            <a:off x="1218960" y="1752480"/>
            <a:ext cx="746748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400" spc="-1" strike="noStrike">
                <a:solidFill>
                  <a:srgbClr val="333399"/>
                </a:solidFill>
                <a:latin typeface="Albertus Medium"/>
              </a:rPr>
              <a:t>	</a:t>
            </a:r>
            <a:r>
              <a:rPr b="0" lang="en-US" sz="2400" spc="-1" strike="noStrike">
                <a:solidFill>
                  <a:srgbClr val="333399"/>
                </a:solidFill>
                <a:latin typeface="Albertus Medium"/>
              </a:rPr>
              <a:t>Nanoparticle can enter the body through many routs, respiratory (the most important route) Cutaneous, GIT Parenteral or reproductive, and toxicity can be determined by: </a:t>
            </a:r>
            <a:endParaRPr b="0" lang="en-US" sz="2400" spc="-1" strike="noStrike">
              <a:solidFill>
                <a:srgbClr val="000000"/>
              </a:solidFill>
              <a:latin typeface="Arial"/>
            </a:endParaRPr>
          </a:p>
          <a:p>
            <a:pPr marL="341280" indent="0">
              <a:lnSpc>
                <a:spcPct val="80000"/>
              </a:lnSpc>
              <a:spcBef>
                <a:spcPts val="349"/>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endParaRPr b="0" lang="en-US" sz="1400" spc="-1" strike="noStrike">
              <a:solidFill>
                <a:srgbClr val="000000"/>
              </a:solidFill>
              <a:latin typeface="Arial"/>
            </a:endParaRPr>
          </a:p>
          <a:p>
            <a:pPr lvl="1" marL="741240" indent="-284040">
              <a:lnSpc>
                <a:spcPct val="80000"/>
              </a:lnSpc>
              <a:spcBef>
                <a:spcPts val="601"/>
              </a:spcBef>
              <a:buClr>
                <a:srgbClr val="333399"/>
              </a:buClr>
              <a:buFont typeface="Albertus Medium"/>
              <a:buChar char="•"/>
              <a:tabLst>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400" spc="-1" strike="noStrike">
                <a:solidFill>
                  <a:srgbClr val="333399"/>
                </a:solidFill>
                <a:latin typeface="Albertus Medium"/>
              </a:rPr>
              <a:t>Small size (in skin which is diseased larger nanoparticles might penetrate 7000nm)</a:t>
            </a:r>
            <a:endParaRPr b="0" lang="en-US" sz="2400" spc="-1" strike="noStrike">
              <a:solidFill>
                <a:srgbClr val="000000"/>
              </a:solidFill>
              <a:latin typeface="Arial"/>
            </a:endParaRPr>
          </a:p>
          <a:p>
            <a:pPr lvl="1" marL="741240" indent="-284040">
              <a:lnSpc>
                <a:spcPct val="80000"/>
              </a:lnSpc>
              <a:spcBef>
                <a:spcPts val="601"/>
              </a:spcBef>
              <a:buClr>
                <a:srgbClr val="333399"/>
              </a:buClr>
              <a:buFont typeface="Albertus Medium"/>
              <a:buChar char="•"/>
              <a:tabLst>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400" spc="-1" strike="noStrike">
                <a:solidFill>
                  <a:srgbClr val="333399"/>
                </a:solidFill>
                <a:latin typeface="Albertus Medium"/>
              </a:rPr>
              <a:t>Size distribution</a:t>
            </a:r>
            <a:endParaRPr b="0" lang="en-US" sz="2400" spc="-1" strike="noStrike">
              <a:solidFill>
                <a:srgbClr val="000000"/>
              </a:solidFill>
              <a:latin typeface="Arial"/>
            </a:endParaRPr>
          </a:p>
          <a:p>
            <a:pPr lvl="1" marL="741240" indent="-284040">
              <a:lnSpc>
                <a:spcPct val="80000"/>
              </a:lnSpc>
              <a:spcBef>
                <a:spcPts val="601"/>
              </a:spcBef>
              <a:buClr>
                <a:srgbClr val="333399"/>
              </a:buClr>
              <a:buFont typeface="Albertus Medium"/>
              <a:buChar char="•"/>
              <a:tabLst>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400" spc="-1" strike="noStrike">
                <a:solidFill>
                  <a:srgbClr val="333399"/>
                </a:solidFill>
                <a:latin typeface="Albertus Medium"/>
              </a:rPr>
              <a:t>Chemical composition</a:t>
            </a:r>
            <a:endParaRPr b="0" lang="en-US" sz="2400" spc="-1" strike="noStrike">
              <a:solidFill>
                <a:srgbClr val="000000"/>
              </a:solidFill>
              <a:latin typeface="Arial"/>
            </a:endParaRPr>
          </a:p>
          <a:p>
            <a:pPr lvl="1" marL="741240" indent="-284040">
              <a:lnSpc>
                <a:spcPct val="80000"/>
              </a:lnSpc>
              <a:spcBef>
                <a:spcPts val="601"/>
              </a:spcBef>
              <a:buClr>
                <a:srgbClr val="333399"/>
              </a:buClr>
              <a:buFont typeface="Albertus Medium"/>
              <a:buChar char="•"/>
              <a:tabLst>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400" spc="-1" strike="noStrike">
                <a:solidFill>
                  <a:srgbClr val="333399"/>
                </a:solidFill>
                <a:latin typeface="Albertus Medium"/>
              </a:rPr>
              <a:t>Surface structure </a:t>
            </a:r>
            <a:endParaRPr b="0" lang="en-US" sz="2400" spc="-1" strike="noStrike">
              <a:solidFill>
                <a:srgbClr val="000000"/>
              </a:solidFill>
              <a:latin typeface="Arial"/>
            </a:endParaRPr>
          </a:p>
          <a:p>
            <a:pPr lvl="1" marL="741240" indent="-284040">
              <a:lnSpc>
                <a:spcPct val="80000"/>
              </a:lnSpc>
              <a:spcBef>
                <a:spcPts val="601"/>
              </a:spcBef>
              <a:buClr>
                <a:srgbClr val="333399"/>
              </a:buClr>
              <a:buFont typeface="Albertus Medium"/>
              <a:buChar char="•"/>
              <a:tabLst>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400" spc="-1" strike="noStrike">
                <a:solidFill>
                  <a:srgbClr val="333399"/>
                </a:solidFill>
                <a:latin typeface="Albertus Medium"/>
              </a:rPr>
              <a:t>Shape</a:t>
            </a:r>
            <a:endParaRPr b="0" lang="en-US" sz="2400" spc="-1" strike="noStrike">
              <a:solidFill>
                <a:srgbClr val="000000"/>
              </a:solidFill>
              <a:latin typeface="Arial"/>
            </a:endParaRPr>
          </a:p>
          <a:p>
            <a:pPr lvl="1" marL="741240" indent="-284040">
              <a:lnSpc>
                <a:spcPct val="80000"/>
              </a:lnSpc>
              <a:spcBef>
                <a:spcPts val="601"/>
              </a:spcBef>
              <a:buClr>
                <a:srgbClr val="333399"/>
              </a:buClr>
              <a:buFont typeface="Albertus Medium"/>
              <a:buChar char="•"/>
              <a:tabLst>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400" spc="-1" strike="noStrike">
                <a:solidFill>
                  <a:srgbClr val="333399"/>
                </a:solidFill>
                <a:latin typeface="Albertus Medium"/>
              </a:rPr>
              <a:t>Aggregation</a:t>
            </a:r>
            <a:endParaRPr b="0" lang="en-US" sz="2400" spc="-1" strike="noStrike">
              <a:solidFill>
                <a:srgbClr val="000000"/>
              </a:solidFill>
              <a:latin typeface="Arial"/>
            </a:endParaRPr>
          </a:p>
          <a:p>
            <a:pPr lvl="1" marL="741240" indent="-284040">
              <a:lnSpc>
                <a:spcPct val="80000"/>
              </a:lnSpc>
              <a:spcBef>
                <a:spcPts val="601"/>
              </a:spcBef>
              <a:buClr>
                <a:srgbClr val="333399"/>
              </a:buClr>
              <a:buFont typeface="Albertus Medium"/>
              <a:buChar char="•"/>
              <a:tabLst>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400" spc="-1" strike="noStrike">
                <a:solidFill>
                  <a:srgbClr val="333399"/>
                </a:solidFill>
                <a:latin typeface="Albertus Medium"/>
              </a:rPr>
              <a:t>dispersal</a:t>
            </a:r>
            <a:endParaRPr b="0" lang="en-US" sz="2400" spc="-1" strike="noStrike">
              <a:solidFill>
                <a:srgbClr val="000000"/>
              </a:solidFill>
              <a:latin typeface="Arial"/>
            </a:endParaRPr>
          </a:p>
          <a:p>
            <a:pPr marL="341280" indent="0">
              <a:lnSpc>
                <a:spcPct val="80000"/>
              </a:lnSpc>
              <a:spcBef>
                <a:spcPts val="60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endParaRPr b="0" lang="en-US" sz="2400" spc="-1" strike="noStrike">
              <a:solidFill>
                <a:srgbClr val="000000"/>
              </a:solidFill>
              <a:latin typeface="Arial"/>
            </a:endParaRPr>
          </a:p>
        </p:txBody>
      </p:sp>
      <p:sp>
        <p:nvSpPr>
          <p:cNvPr id="497" name=""/>
          <p:cNvSpPr/>
          <p:nvPr/>
        </p:nvSpPr>
        <p:spPr>
          <a:xfrm>
            <a:off x="1258920" y="1143000"/>
            <a:ext cx="6742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000" spc="-1" strike="noStrike">
                <a:solidFill>
                  <a:srgbClr val="333399"/>
                </a:solidFill>
                <a:latin typeface="Albertus Medium"/>
              </a:rPr>
              <a:t>Nanoparticles Parameters that determine toxicity.</a:t>
            </a:r>
            <a:endParaRPr b="0" lang="en-US" sz="2000" spc="-1" strike="noStrike">
              <a:solidFill>
                <a:srgbClr val="000000"/>
              </a:solidFill>
              <a:latin typeface="Arial"/>
            </a:endParaRPr>
          </a:p>
        </p:txBody>
      </p:sp>
      <p:sp>
        <p:nvSpPr>
          <p:cNvPr id="498" name=""/>
          <p:cNvSpPr/>
          <p:nvPr/>
        </p:nvSpPr>
        <p:spPr>
          <a:xfrm>
            <a:off x="609480" y="6629400"/>
            <a:ext cx="8534520" cy="228600"/>
          </a:xfrm>
          <a:prstGeom prst="rect">
            <a:avLst/>
          </a:prstGeom>
          <a:solidFill>
            <a:srgbClr val="bbe0e3"/>
          </a:solidFill>
          <a:ln cap="sq"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99"/>
                </a:solidFill>
                <a:latin typeface="Albertus Medium"/>
              </a:rPr>
              <a:t>www.skinandallergy.org</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0" lang="en-US" sz="1000" spc="-1" strike="noStrike">
                <a:solidFill>
                  <a:srgbClr val="333399"/>
                </a:solidFill>
                <a:latin typeface="Albertus Medium"/>
              </a:rPr>
              <a:t>www.panarabderm.org</a:t>
            </a:r>
            <a:endParaRPr b="0" lang="en-US" sz="10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99" name="" descr=""/>
          <p:cNvPicPr/>
          <p:nvPr/>
        </p:nvPicPr>
        <p:blipFill>
          <a:blip r:embed="rId2"/>
          <a:stretch/>
        </p:blipFill>
        <p:spPr>
          <a:xfrm>
            <a:off x="8153280" y="74520"/>
            <a:ext cx="922320" cy="992160"/>
          </a:xfrm>
          <a:prstGeom prst="rect">
            <a:avLst/>
          </a:prstGeom>
          <a:ln w="0">
            <a:noFill/>
          </a:ln>
        </p:spPr>
      </p:pic>
      <p:sp>
        <p:nvSpPr>
          <p:cNvPr id="500" name=""/>
          <p:cNvSpPr/>
          <p:nvPr/>
        </p:nvSpPr>
        <p:spPr>
          <a:xfrm>
            <a:off x="1295280" y="1066680"/>
            <a:ext cx="6193080" cy="1800"/>
          </a:xfrm>
          <a:prstGeom prst="line">
            <a:avLst/>
          </a:prstGeom>
          <a:ln cap="sq" w="12600">
            <a:solidFill>
              <a:srgbClr val="b2b2b2"/>
            </a:solidFill>
            <a:miter/>
          </a:ln>
        </p:spPr>
        <p:style>
          <a:lnRef idx="0"/>
          <a:fillRef idx="0"/>
          <a:effectRef idx="0"/>
          <a:fontRef idx="minor"/>
        </p:style>
        <p:txBody>
          <a:bodyPr lIns="90000" rIns="90000" tIns="-45000" bIns="-45000" anchor="t">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501" name="" descr=""/>
          <p:cNvPicPr/>
          <p:nvPr/>
        </p:nvPicPr>
        <p:blipFill>
          <a:blip r:embed="rId3"/>
          <a:stretch/>
        </p:blipFill>
        <p:spPr>
          <a:xfrm>
            <a:off x="0" y="0"/>
            <a:ext cx="600120" cy="6858000"/>
          </a:xfrm>
          <a:prstGeom prst="rect">
            <a:avLst/>
          </a:prstGeom>
          <a:ln w="0">
            <a:noFill/>
          </a:ln>
        </p:spPr>
      </p:pic>
      <p:sp>
        <p:nvSpPr>
          <p:cNvPr id="502" name=""/>
          <p:cNvSpPr/>
          <p:nvPr/>
        </p:nvSpPr>
        <p:spPr>
          <a:xfrm>
            <a:off x="0" y="457200"/>
            <a:ext cx="914400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333399"/>
                </a:solidFill>
                <a:latin typeface="Albertus Medium"/>
              </a:rPr>
              <a:t>The Risks of Nanotechnology</a:t>
            </a:r>
            <a:endParaRPr b="0" lang="en-US" sz="3600" spc="-1" strike="noStrike">
              <a:solidFill>
                <a:srgbClr val="000000"/>
              </a:solidFill>
              <a:latin typeface="Arial"/>
            </a:endParaRPr>
          </a:p>
        </p:txBody>
      </p:sp>
      <p:grpSp>
        <p:nvGrpSpPr>
          <p:cNvPr id="503" name=""/>
          <p:cNvGrpSpPr/>
          <p:nvPr/>
        </p:nvGrpSpPr>
        <p:grpSpPr>
          <a:xfrm>
            <a:off x="2639880" y="1346040"/>
            <a:ext cx="4521240" cy="3986280"/>
            <a:chOff x="2639880" y="1346040"/>
            <a:chExt cx="4521240" cy="3986280"/>
          </a:xfrm>
        </p:grpSpPr>
        <p:sp>
          <p:nvSpPr>
            <p:cNvPr id="504" name=""/>
            <p:cNvSpPr/>
            <p:nvPr/>
          </p:nvSpPr>
          <p:spPr>
            <a:xfrm>
              <a:off x="2639880" y="2319480"/>
              <a:ext cx="1721160" cy="3012840"/>
            </a:xfrm>
            <a:custGeom>
              <a:avLst/>
              <a:gdLst/>
              <a:ahLst/>
              <a:rect l="l" t="t" r="r" b="b"/>
              <a:pathLst>
                <a:path w="1261" h="2255">
                  <a:moveTo>
                    <a:pt x="1257" y="2027"/>
                  </a:moveTo>
                  <a:lnTo>
                    <a:pt x="1257" y="2015"/>
                  </a:lnTo>
                  <a:lnTo>
                    <a:pt x="1252" y="2000"/>
                  </a:lnTo>
                  <a:lnTo>
                    <a:pt x="1244" y="1985"/>
                  </a:lnTo>
                  <a:lnTo>
                    <a:pt x="1232" y="1970"/>
                  </a:lnTo>
                  <a:lnTo>
                    <a:pt x="1222" y="1956"/>
                  </a:lnTo>
                  <a:lnTo>
                    <a:pt x="1212" y="1945"/>
                  </a:lnTo>
                  <a:lnTo>
                    <a:pt x="1204" y="1933"/>
                  </a:lnTo>
                  <a:lnTo>
                    <a:pt x="1199" y="1921"/>
                  </a:lnTo>
                  <a:lnTo>
                    <a:pt x="1197" y="1910"/>
                  </a:lnTo>
                  <a:lnTo>
                    <a:pt x="1192" y="1893"/>
                  </a:lnTo>
                  <a:lnTo>
                    <a:pt x="1186" y="1876"/>
                  </a:lnTo>
                  <a:lnTo>
                    <a:pt x="1171" y="1860"/>
                  </a:lnTo>
                  <a:lnTo>
                    <a:pt x="1161" y="1851"/>
                  </a:lnTo>
                  <a:lnTo>
                    <a:pt x="1147" y="1838"/>
                  </a:lnTo>
                  <a:lnTo>
                    <a:pt x="1132" y="1823"/>
                  </a:lnTo>
                  <a:lnTo>
                    <a:pt x="1117" y="1806"/>
                  </a:lnTo>
                  <a:lnTo>
                    <a:pt x="1102" y="1788"/>
                  </a:lnTo>
                  <a:lnTo>
                    <a:pt x="1087" y="1770"/>
                  </a:lnTo>
                  <a:lnTo>
                    <a:pt x="1076" y="1750"/>
                  </a:lnTo>
                  <a:lnTo>
                    <a:pt x="1067" y="1731"/>
                  </a:lnTo>
                  <a:lnTo>
                    <a:pt x="1052" y="1703"/>
                  </a:lnTo>
                  <a:lnTo>
                    <a:pt x="1037" y="1681"/>
                  </a:lnTo>
                  <a:lnTo>
                    <a:pt x="1026" y="1665"/>
                  </a:lnTo>
                  <a:lnTo>
                    <a:pt x="1019" y="1646"/>
                  </a:lnTo>
                  <a:lnTo>
                    <a:pt x="1016" y="1633"/>
                  </a:lnTo>
                  <a:lnTo>
                    <a:pt x="1009" y="1613"/>
                  </a:lnTo>
                  <a:lnTo>
                    <a:pt x="999" y="1591"/>
                  </a:lnTo>
                  <a:lnTo>
                    <a:pt x="989" y="1568"/>
                  </a:lnTo>
                  <a:lnTo>
                    <a:pt x="979" y="1545"/>
                  </a:lnTo>
                  <a:lnTo>
                    <a:pt x="969" y="1525"/>
                  </a:lnTo>
                  <a:lnTo>
                    <a:pt x="959" y="1508"/>
                  </a:lnTo>
                  <a:lnTo>
                    <a:pt x="952" y="1499"/>
                  </a:lnTo>
                  <a:lnTo>
                    <a:pt x="942" y="1486"/>
                  </a:lnTo>
                  <a:lnTo>
                    <a:pt x="934" y="1473"/>
                  </a:lnTo>
                  <a:lnTo>
                    <a:pt x="922" y="1458"/>
                  </a:lnTo>
                  <a:lnTo>
                    <a:pt x="911" y="1443"/>
                  </a:lnTo>
                  <a:lnTo>
                    <a:pt x="902" y="1434"/>
                  </a:lnTo>
                  <a:lnTo>
                    <a:pt x="891" y="1426"/>
                  </a:lnTo>
                  <a:lnTo>
                    <a:pt x="879" y="1419"/>
                  </a:lnTo>
                  <a:lnTo>
                    <a:pt x="867" y="1411"/>
                  </a:lnTo>
                  <a:lnTo>
                    <a:pt x="854" y="1404"/>
                  </a:lnTo>
                  <a:lnTo>
                    <a:pt x="842" y="1399"/>
                  </a:lnTo>
                  <a:lnTo>
                    <a:pt x="831" y="1396"/>
                  </a:lnTo>
                  <a:lnTo>
                    <a:pt x="820" y="1394"/>
                  </a:lnTo>
                  <a:lnTo>
                    <a:pt x="812" y="1393"/>
                  </a:lnTo>
                  <a:lnTo>
                    <a:pt x="805" y="1389"/>
                  </a:lnTo>
                  <a:lnTo>
                    <a:pt x="800" y="1384"/>
                  </a:lnTo>
                  <a:lnTo>
                    <a:pt x="794" y="1376"/>
                  </a:lnTo>
                  <a:lnTo>
                    <a:pt x="789" y="1368"/>
                  </a:lnTo>
                  <a:lnTo>
                    <a:pt x="782" y="1354"/>
                  </a:lnTo>
                  <a:lnTo>
                    <a:pt x="774" y="1341"/>
                  </a:lnTo>
                  <a:lnTo>
                    <a:pt x="762" y="1324"/>
                  </a:lnTo>
                  <a:lnTo>
                    <a:pt x="750" y="1306"/>
                  </a:lnTo>
                  <a:lnTo>
                    <a:pt x="740" y="1288"/>
                  </a:lnTo>
                  <a:lnTo>
                    <a:pt x="732" y="1269"/>
                  </a:lnTo>
                  <a:lnTo>
                    <a:pt x="724" y="1253"/>
                  </a:lnTo>
                  <a:lnTo>
                    <a:pt x="717" y="1234"/>
                  </a:lnTo>
                  <a:lnTo>
                    <a:pt x="712" y="1219"/>
                  </a:lnTo>
                  <a:lnTo>
                    <a:pt x="709" y="1204"/>
                  </a:lnTo>
                  <a:lnTo>
                    <a:pt x="705" y="1191"/>
                  </a:lnTo>
                  <a:lnTo>
                    <a:pt x="700" y="1166"/>
                  </a:lnTo>
                  <a:lnTo>
                    <a:pt x="692" y="1143"/>
                  </a:lnTo>
                  <a:lnTo>
                    <a:pt x="685" y="1126"/>
                  </a:lnTo>
                  <a:lnTo>
                    <a:pt x="682" y="1119"/>
                  </a:lnTo>
                  <a:lnTo>
                    <a:pt x="689" y="1108"/>
                  </a:lnTo>
                  <a:lnTo>
                    <a:pt x="700" y="1078"/>
                  </a:lnTo>
                  <a:lnTo>
                    <a:pt x="707" y="1038"/>
                  </a:lnTo>
                  <a:lnTo>
                    <a:pt x="697" y="996"/>
                  </a:lnTo>
                  <a:lnTo>
                    <a:pt x="680" y="961"/>
                  </a:lnTo>
                  <a:lnTo>
                    <a:pt x="670" y="932"/>
                  </a:lnTo>
                  <a:lnTo>
                    <a:pt x="662" y="904"/>
                  </a:lnTo>
                  <a:lnTo>
                    <a:pt x="649" y="872"/>
                  </a:lnTo>
                  <a:lnTo>
                    <a:pt x="640" y="856"/>
                  </a:lnTo>
                  <a:lnTo>
                    <a:pt x="635" y="839"/>
                  </a:lnTo>
                  <a:lnTo>
                    <a:pt x="630" y="826"/>
                  </a:lnTo>
                  <a:lnTo>
                    <a:pt x="625" y="814"/>
                  </a:lnTo>
                  <a:lnTo>
                    <a:pt x="620" y="802"/>
                  </a:lnTo>
                  <a:lnTo>
                    <a:pt x="614" y="792"/>
                  </a:lnTo>
                  <a:lnTo>
                    <a:pt x="607" y="784"/>
                  </a:lnTo>
                  <a:lnTo>
                    <a:pt x="597" y="777"/>
                  </a:lnTo>
                  <a:lnTo>
                    <a:pt x="587" y="771"/>
                  </a:lnTo>
                  <a:lnTo>
                    <a:pt x="575" y="762"/>
                  </a:lnTo>
                  <a:lnTo>
                    <a:pt x="565" y="754"/>
                  </a:lnTo>
                  <a:lnTo>
                    <a:pt x="554" y="744"/>
                  </a:lnTo>
                  <a:lnTo>
                    <a:pt x="542" y="736"/>
                  </a:lnTo>
                  <a:lnTo>
                    <a:pt x="529" y="729"/>
                  </a:lnTo>
                  <a:lnTo>
                    <a:pt x="515" y="721"/>
                  </a:lnTo>
                  <a:lnTo>
                    <a:pt x="502" y="716"/>
                  </a:lnTo>
                  <a:lnTo>
                    <a:pt x="480" y="702"/>
                  </a:lnTo>
                  <a:lnTo>
                    <a:pt x="470" y="686"/>
                  </a:lnTo>
                  <a:lnTo>
                    <a:pt x="464" y="667"/>
                  </a:lnTo>
                  <a:lnTo>
                    <a:pt x="454" y="649"/>
                  </a:lnTo>
                  <a:lnTo>
                    <a:pt x="444" y="634"/>
                  </a:lnTo>
                  <a:lnTo>
                    <a:pt x="437" y="621"/>
                  </a:lnTo>
                  <a:lnTo>
                    <a:pt x="435" y="611"/>
                  </a:lnTo>
                  <a:lnTo>
                    <a:pt x="435" y="607"/>
                  </a:lnTo>
                  <a:lnTo>
                    <a:pt x="437" y="607"/>
                  </a:lnTo>
                  <a:lnTo>
                    <a:pt x="442" y="606"/>
                  </a:lnTo>
                  <a:lnTo>
                    <a:pt x="449" y="602"/>
                  </a:lnTo>
                  <a:lnTo>
                    <a:pt x="455" y="596"/>
                  </a:lnTo>
                  <a:lnTo>
                    <a:pt x="459" y="589"/>
                  </a:lnTo>
                  <a:lnTo>
                    <a:pt x="459" y="577"/>
                  </a:lnTo>
                  <a:lnTo>
                    <a:pt x="454" y="564"/>
                  </a:lnTo>
                  <a:lnTo>
                    <a:pt x="440" y="546"/>
                  </a:lnTo>
                  <a:lnTo>
                    <a:pt x="434" y="539"/>
                  </a:lnTo>
                  <a:lnTo>
                    <a:pt x="429" y="532"/>
                  </a:lnTo>
                  <a:lnTo>
                    <a:pt x="424" y="529"/>
                  </a:lnTo>
                  <a:lnTo>
                    <a:pt x="420" y="526"/>
                  </a:lnTo>
                  <a:lnTo>
                    <a:pt x="419" y="527"/>
                  </a:lnTo>
                  <a:lnTo>
                    <a:pt x="415" y="526"/>
                  </a:lnTo>
                  <a:lnTo>
                    <a:pt x="415" y="522"/>
                  </a:lnTo>
                  <a:lnTo>
                    <a:pt x="420" y="526"/>
                  </a:lnTo>
                  <a:lnTo>
                    <a:pt x="420" y="524"/>
                  </a:lnTo>
                  <a:lnTo>
                    <a:pt x="419" y="521"/>
                  </a:lnTo>
                  <a:lnTo>
                    <a:pt x="419" y="517"/>
                  </a:lnTo>
                  <a:lnTo>
                    <a:pt x="417" y="512"/>
                  </a:lnTo>
                  <a:lnTo>
                    <a:pt x="409" y="490"/>
                  </a:lnTo>
                  <a:lnTo>
                    <a:pt x="405" y="477"/>
                  </a:lnTo>
                  <a:lnTo>
                    <a:pt x="399" y="467"/>
                  </a:lnTo>
                  <a:lnTo>
                    <a:pt x="384" y="455"/>
                  </a:lnTo>
                  <a:lnTo>
                    <a:pt x="372" y="440"/>
                  </a:lnTo>
                  <a:lnTo>
                    <a:pt x="374" y="425"/>
                  </a:lnTo>
                  <a:lnTo>
                    <a:pt x="375" y="412"/>
                  </a:lnTo>
                  <a:lnTo>
                    <a:pt x="364" y="399"/>
                  </a:lnTo>
                  <a:lnTo>
                    <a:pt x="345" y="387"/>
                  </a:lnTo>
                  <a:lnTo>
                    <a:pt x="332" y="372"/>
                  </a:lnTo>
                  <a:lnTo>
                    <a:pt x="325" y="355"/>
                  </a:lnTo>
                  <a:lnTo>
                    <a:pt x="322" y="337"/>
                  </a:lnTo>
                  <a:lnTo>
                    <a:pt x="319" y="317"/>
                  </a:lnTo>
                  <a:lnTo>
                    <a:pt x="309" y="290"/>
                  </a:lnTo>
                  <a:lnTo>
                    <a:pt x="294" y="264"/>
                  </a:lnTo>
                  <a:lnTo>
                    <a:pt x="273" y="237"/>
                  </a:lnTo>
                  <a:lnTo>
                    <a:pt x="260" y="215"/>
                  </a:lnTo>
                  <a:lnTo>
                    <a:pt x="257" y="197"/>
                  </a:lnTo>
                  <a:lnTo>
                    <a:pt x="255" y="184"/>
                  </a:lnTo>
                  <a:lnTo>
                    <a:pt x="245" y="175"/>
                  </a:lnTo>
                  <a:lnTo>
                    <a:pt x="233" y="167"/>
                  </a:lnTo>
                  <a:lnTo>
                    <a:pt x="228" y="154"/>
                  </a:lnTo>
                  <a:lnTo>
                    <a:pt x="222" y="140"/>
                  </a:lnTo>
                  <a:lnTo>
                    <a:pt x="207" y="124"/>
                  </a:lnTo>
                  <a:lnTo>
                    <a:pt x="188" y="100"/>
                  </a:lnTo>
                  <a:lnTo>
                    <a:pt x="175" y="74"/>
                  </a:lnTo>
                  <a:lnTo>
                    <a:pt x="168" y="52"/>
                  </a:lnTo>
                  <a:lnTo>
                    <a:pt x="165" y="42"/>
                  </a:lnTo>
                  <a:lnTo>
                    <a:pt x="160" y="42"/>
                  </a:lnTo>
                  <a:lnTo>
                    <a:pt x="148" y="42"/>
                  </a:lnTo>
                  <a:lnTo>
                    <a:pt x="133" y="42"/>
                  </a:lnTo>
                  <a:lnTo>
                    <a:pt x="122" y="42"/>
                  </a:lnTo>
                  <a:lnTo>
                    <a:pt x="110" y="42"/>
                  </a:lnTo>
                  <a:lnTo>
                    <a:pt x="100" y="44"/>
                  </a:lnTo>
                  <a:lnTo>
                    <a:pt x="92" y="47"/>
                  </a:lnTo>
                  <a:lnTo>
                    <a:pt x="88" y="47"/>
                  </a:lnTo>
                  <a:lnTo>
                    <a:pt x="90" y="44"/>
                  </a:lnTo>
                  <a:lnTo>
                    <a:pt x="93" y="34"/>
                  </a:lnTo>
                  <a:lnTo>
                    <a:pt x="98" y="20"/>
                  </a:lnTo>
                  <a:lnTo>
                    <a:pt x="103" y="8"/>
                  </a:lnTo>
                  <a:lnTo>
                    <a:pt x="103" y="8"/>
                  </a:lnTo>
                  <a:lnTo>
                    <a:pt x="103" y="8"/>
                  </a:lnTo>
                  <a:lnTo>
                    <a:pt x="103" y="8"/>
                  </a:lnTo>
                  <a:lnTo>
                    <a:pt x="103" y="8"/>
                  </a:lnTo>
                  <a:lnTo>
                    <a:pt x="67" y="0"/>
                  </a:lnTo>
                  <a:lnTo>
                    <a:pt x="67" y="5"/>
                  </a:lnTo>
                  <a:lnTo>
                    <a:pt x="65" y="19"/>
                  </a:lnTo>
                  <a:lnTo>
                    <a:pt x="62" y="34"/>
                  </a:lnTo>
                  <a:lnTo>
                    <a:pt x="57" y="47"/>
                  </a:lnTo>
                  <a:lnTo>
                    <a:pt x="50" y="57"/>
                  </a:lnTo>
                  <a:lnTo>
                    <a:pt x="45" y="65"/>
                  </a:lnTo>
                  <a:lnTo>
                    <a:pt x="40" y="79"/>
                  </a:lnTo>
                  <a:lnTo>
                    <a:pt x="38" y="95"/>
                  </a:lnTo>
                  <a:lnTo>
                    <a:pt x="35" y="119"/>
                  </a:lnTo>
                  <a:lnTo>
                    <a:pt x="28" y="145"/>
                  </a:lnTo>
                  <a:lnTo>
                    <a:pt x="20" y="169"/>
                  </a:lnTo>
                  <a:lnTo>
                    <a:pt x="15" y="185"/>
                  </a:lnTo>
                  <a:lnTo>
                    <a:pt x="10" y="197"/>
                  </a:lnTo>
                  <a:lnTo>
                    <a:pt x="5" y="209"/>
                  </a:lnTo>
                  <a:lnTo>
                    <a:pt x="2" y="220"/>
                  </a:lnTo>
                  <a:lnTo>
                    <a:pt x="0" y="224"/>
                  </a:lnTo>
                  <a:lnTo>
                    <a:pt x="3" y="224"/>
                  </a:lnTo>
                  <a:lnTo>
                    <a:pt x="12" y="220"/>
                  </a:lnTo>
                  <a:lnTo>
                    <a:pt x="23" y="219"/>
                  </a:lnTo>
                  <a:lnTo>
                    <a:pt x="33" y="219"/>
                  </a:lnTo>
                  <a:lnTo>
                    <a:pt x="47" y="219"/>
                  </a:lnTo>
                  <a:lnTo>
                    <a:pt x="60" y="219"/>
                  </a:lnTo>
                  <a:lnTo>
                    <a:pt x="72" y="219"/>
                  </a:lnTo>
                  <a:lnTo>
                    <a:pt x="77" y="219"/>
                  </a:lnTo>
                  <a:lnTo>
                    <a:pt x="80" y="229"/>
                  </a:lnTo>
                  <a:lnTo>
                    <a:pt x="87" y="250"/>
                  </a:lnTo>
                  <a:lnTo>
                    <a:pt x="100" y="277"/>
                  </a:lnTo>
                  <a:lnTo>
                    <a:pt x="118" y="299"/>
                  </a:lnTo>
                  <a:lnTo>
                    <a:pt x="133" y="315"/>
                  </a:lnTo>
                  <a:lnTo>
                    <a:pt x="140" y="330"/>
                  </a:lnTo>
                  <a:lnTo>
                    <a:pt x="145" y="342"/>
                  </a:lnTo>
                  <a:lnTo>
                    <a:pt x="157" y="352"/>
                  </a:lnTo>
                  <a:lnTo>
                    <a:pt x="167" y="360"/>
                  </a:lnTo>
                  <a:lnTo>
                    <a:pt x="168" y="374"/>
                  </a:lnTo>
                  <a:lnTo>
                    <a:pt x="172" y="390"/>
                  </a:lnTo>
                  <a:lnTo>
                    <a:pt x="185" y="414"/>
                  </a:lnTo>
                  <a:lnTo>
                    <a:pt x="205" y="440"/>
                  </a:lnTo>
                  <a:lnTo>
                    <a:pt x="220" y="467"/>
                  </a:lnTo>
                  <a:lnTo>
                    <a:pt x="230" y="492"/>
                  </a:lnTo>
                  <a:lnTo>
                    <a:pt x="233" y="512"/>
                  </a:lnTo>
                  <a:lnTo>
                    <a:pt x="237" y="531"/>
                  </a:lnTo>
                  <a:lnTo>
                    <a:pt x="243" y="547"/>
                  </a:lnTo>
                  <a:lnTo>
                    <a:pt x="257" y="562"/>
                  </a:lnTo>
                  <a:lnTo>
                    <a:pt x="275" y="574"/>
                  </a:lnTo>
                  <a:lnTo>
                    <a:pt x="287" y="587"/>
                  </a:lnTo>
                  <a:lnTo>
                    <a:pt x="285" y="601"/>
                  </a:lnTo>
                  <a:lnTo>
                    <a:pt x="284" y="617"/>
                  </a:lnTo>
                  <a:lnTo>
                    <a:pt x="295" y="632"/>
                  </a:lnTo>
                  <a:lnTo>
                    <a:pt x="310" y="642"/>
                  </a:lnTo>
                  <a:lnTo>
                    <a:pt x="317" y="652"/>
                  </a:lnTo>
                  <a:lnTo>
                    <a:pt x="320" y="666"/>
                  </a:lnTo>
                  <a:lnTo>
                    <a:pt x="329" y="687"/>
                  </a:lnTo>
                  <a:lnTo>
                    <a:pt x="330" y="692"/>
                  </a:lnTo>
                  <a:lnTo>
                    <a:pt x="330" y="696"/>
                  </a:lnTo>
                  <a:lnTo>
                    <a:pt x="332" y="697"/>
                  </a:lnTo>
                  <a:lnTo>
                    <a:pt x="332" y="699"/>
                  </a:lnTo>
                  <a:lnTo>
                    <a:pt x="335" y="702"/>
                  </a:lnTo>
                  <a:lnTo>
                    <a:pt x="340" y="707"/>
                  </a:lnTo>
                  <a:lnTo>
                    <a:pt x="345" y="712"/>
                  </a:lnTo>
                  <a:lnTo>
                    <a:pt x="352" y="721"/>
                  </a:lnTo>
                  <a:lnTo>
                    <a:pt x="365" y="737"/>
                  </a:lnTo>
                  <a:lnTo>
                    <a:pt x="370" y="752"/>
                  </a:lnTo>
                  <a:lnTo>
                    <a:pt x="370" y="762"/>
                  </a:lnTo>
                  <a:lnTo>
                    <a:pt x="367" y="771"/>
                  </a:lnTo>
                  <a:lnTo>
                    <a:pt x="360" y="776"/>
                  </a:lnTo>
                  <a:lnTo>
                    <a:pt x="354" y="781"/>
                  </a:lnTo>
                  <a:lnTo>
                    <a:pt x="349" y="782"/>
                  </a:lnTo>
                  <a:lnTo>
                    <a:pt x="347" y="782"/>
                  </a:lnTo>
                  <a:lnTo>
                    <a:pt x="347" y="786"/>
                  </a:lnTo>
                  <a:lnTo>
                    <a:pt x="350" y="794"/>
                  </a:lnTo>
                  <a:lnTo>
                    <a:pt x="355" y="807"/>
                  </a:lnTo>
                  <a:lnTo>
                    <a:pt x="367" y="824"/>
                  </a:lnTo>
                  <a:lnTo>
                    <a:pt x="377" y="842"/>
                  </a:lnTo>
                  <a:lnTo>
                    <a:pt x="384" y="862"/>
                  </a:lnTo>
                  <a:lnTo>
                    <a:pt x="392" y="877"/>
                  </a:lnTo>
                  <a:lnTo>
                    <a:pt x="414" y="891"/>
                  </a:lnTo>
                  <a:lnTo>
                    <a:pt x="427" y="897"/>
                  </a:lnTo>
                  <a:lnTo>
                    <a:pt x="440" y="904"/>
                  </a:lnTo>
                  <a:lnTo>
                    <a:pt x="454" y="912"/>
                  </a:lnTo>
                  <a:lnTo>
                    <a:pt x="465" y="921"/>
                  </a:lnTo>
                  <a:lnTo>
                    <a:pt x="477" y="929"/>
                  </a:lnTo>
                  <a:lnTo>
                    <a:pt x="487" y="937"/>
                  </a:lnTo>
                  <a:lnTo>
                    <a:pt x="499" y="946"/>
                  </a:lnTo>
                  <a:lnTo>
                    <a:pt x="509" y="952"/>
                  </a:lnTo>
                  <a:lnTo>
                    <a:pt x="519" y="961"/>
                  </a:lnTo>
                  <a:lnTo>
                    <a:pt x="525" y="969"/>
                  </a:lnTo>
                  <a:lnTo>
                    <a:pt x="532" y="979"/>
                  </a:lnTo>
                  <a:lnTo>
                    <a:pt x="537" y="989"/>
                  </a:lnTo>
                  <a:lnTo>
                    <a:pt x="542" y="1002"/>
                  </a:lnTo>
                  <a:lnTo>
                    <a:pt x="547" y="1016"/>
                  </a:lnTo>
                  <a:lnTo>
                    <a:pt x="552" y="1031"/>
                  </a:lnTo>
                  <a:lnTo>
                    <a:pt x="560" y="1048"/>
                  </a:lnTo>
                  <a:lnTo>
                    <a:pt x="574" y="1079"/>
                  </a:lnTo>
                  <a:lnTo>
                    <a:pt x="584" y="1108"/>
                  </a:lnTo>
                  <a:lnTo>
                    <a:pt x="592" y="1136"/>
                  </a:lnTo>
                  <a:lnTo>
                    <a:pt x="609" y="1171"/>
                  </a:lnTo>
                  <a:lnTo>
                    <a:pt x="619" y="1213"/>
                  </a:lnTo>
                  <a:lnTo>
                    <a:pt x="612" y="1253"/>
                  </a:lnTo>
                  <a:lnTo>
                    <a:pt x="600" y="1283"/>
                  </a:lnTo>
                  <a:lnTo>
                    <a:pt x="594" y="1294"/>
                  </a:lnTo>
                  <a:lnTo>
                    <a:pt x="597" y="1301"/>
                  </a:lnTo>
                  <a:lnTo>
                    <a:pt x="604" y="1318"/>
                  </a:lnTo>
                  <a:lnTo>
                    <a:pt x="612" y="1341"/>
                  </a:lnTo>
                  <a:lnTo>
                    <a:pt x="617" y="1366"/>
                  </a:lnTo>
                  <a:lnTo>
                    <a:pt x="620" y="1379"/>
                  </a:lnTo>
                  <a:lnTo>
                    <a:pt x="624" y="1394"/>
                  </a:lnTo>
                  <a:lnTo>
                    <a:pt x="629" y="1409"/>
                  </a:lnTo>
                  <a:lnTo>
                    <a:pt x="635" y="1428"/>
                  </a:lnTo>
                  <a:lnTo>
                    <a:pt x="644" y="1444"/>
                  </a:lnTo>
                  <a:lnTo>
                    <a:pt x="654" y="1463"/>
                  </a:lnTo>
                  <a:lnTo>
                    <a:pt x="664" y="1481"/>
                  </a:lnTo>
                  <a:lnTo>
                    <a:pt x="675" y="1499"/>
                  </a:lnTo>
                  <a:lnTo>
                    <a:pt x="687" y="1516"/>
                  </a:lnTo>
                  <a:lnTo>
                    <a:pt x="695" y="1531"/>
                  </a:lnTo>
                  <a:lnTo>
                    <a:pt x="702" y="1543"/>
                  </a:lnTo>
                  <a:lnTo>
                    <a:pt x="707" y="1553"/>
                  </a:lnTo>
                  <a:lnTo>
                    <a:pt x="712" y="1561"/>
                  </a:lnTo>
                  <a:lnTo>
                    <a:pt x="719" y="1566"/>
                  </a:lnTo>
                  <a:lnTo>
                    <a:pt x="724" y="1570"/>
                  </a:lnTo>
                  <a:lnTo>
                    <a:pt x="732" y="1571"/>
                  </a:lnTo>
                  <a:lnTo>
                    <a:pt x="742" y="1573"/>
                  </a:lnTo>
                  <a:lnTo>
                    <a:pt x="754" y="1576"/>
                  </a:lnTo>
                  <a:lnTo>
                    <a:pt x="765" y="1581"/>
                  </a:lnTo>
                  <a:lnTo>
                    <a:pt x="779" y="1588"/>
                  </a:lnTo>
                  <a:lnTo>
                    <a:pt x="792" y="1595"/>
                  </a:lnTo>
                  <a:lnTo>
                    <a:pt x="804" y="1603"/>
                  </a:lnTo>
                  <a:lnTo>
                    <a:pt x="814" y="1611"/>
                  </a:lnTo>
                  <a:lnTo>
                    <a:pt x="822" y="1618"/>
                  </a:lnTo>
                  <a:lnTo>
                    <a:pt x="834" y="1633"/>
                  </a:lnTo>
                  <a:lnTo>
                    <a:pt x="846" y="1648"/>
                  </a:lnTo>
                  <a:lnTo>
                    <a:pt x="856" y="1663"/>
                  </a:lnTo>
                  <a:lnTo>
                    <a:pt x="866" y="1675"/>
                  </a:lnTo>
                  <a:lnTo>
                    <a:pt x="872" y="1685"/>
                  </a:lnTo>
                  <a:lnTo>
                    <a:pt x="881" y="1700"/>
                  </a:lnTo>
                  <a:lnTo>
                    <a:pt x="891" y="1721"/>
                  </a:lnTo>
                  <a:lnTo>
                    <a:pt x="902" y="1743"/>
                  </a:lnTo>
                  <a:lnTo>
                    <a:pt x="912" y="1768"/>
                  </a:lnTo>
                  <a:lnTo>
                    <a:pt x="921" y="1790"/>
                  </a:lnTo>
                  <a:lnTo>
                    <a:pt x="927" y="1810"/>
                  </a:lnTo>
                  <a:lnTo>
                    <a:pt x="931" y="1823"/>
                  </a:lnTo>
                  <a:lnTo>
                    <a:pt x="937" y="1841"/>
                  </a:lnTo>
                  <a:lnTo>
                    <a:pt x="951" y="1858"/>
                  </a:lnTo>
                  <a:lnTo>
                    <a:pt x="964" y="1878"/>
                  </a:lnTo>
                  <a:lnTo>
                    <a:pt x="979" y="1908"/>
                  </a:lnTo>
                  <a:lnTo>
                    <a:pt x="987" y="1926"/>
                  </a:lnTo>
                  <a:lnTo>
                    <a:pt x="999" y="1945"/>
                  </a:lnTo>
                  <a:lnTo>
                    <a:pt x="1014" y="1965"/>
                  </a:lnTo>
                  <a:lnTo>
                    <a:pt x="1029" y="1981"/>
                  </a:lnTo>
                  <a:lnTo>
                    <a:pt x="1044" y="2000"/>
                  </a:lnTo>
                  <a:lnTo>
                    <a:pt x="1059" y="2015"/>
                  </a:lnTo>
                  <a:lnTo>
                    <a:pt x="1072" y="2027"/>
                  </a:lnTo>
                  <a:lnTo>
                    <a:pt x="1084" y="2037"/>
                  </a:lnTo>
                  <a:lnTo>
                    <a:pt x="1097" y="2052"/>
                  </a:lnTo>
                  <a:lnTo>
                    <a:pt x="1106" y="2068"/>
                  </a:lnTo>
                  <a:lnTo>
                    <a:pt x="1109" y="2085"/>
                  </a:lnTo>
                  <a:lnTo>
                    <a:pt x="1112" y="2098"/>
                  </a:lnTo>
                  <a:lnTo>
                    <a:pt x="1117" y="2108"/>
                  </a:lnTo>
                  <a:lnTo>
                    <a:pt x="1126" y="2120"/>
                  </a:lnTo>
                  <a:lnTo>
                    <a:pt x="1136" y="2132"/>
                  </a:lnTo>
                  <a:lnTo>
                    <a:pt x="1146" y="2145"/>
                  </a:lnTo>
                  <a:lnTo>
                    <a:pt x="1156" y="2160"/>
                  </a:lnTo>
                  <a:lnTo>
                    <a:pt x="1164" y="2175"/>
                  </a:lnTo>
                  <a:lnTo>
                    <a:pt x="1169" y="2190"/>
                  </a:lnTo>
                  <a:lnTo>
                    <a:pt x="1169" y="2202"/>
                  </a:lnTo>
                  <a:lnTo>
                    <a:pt x="1169" y="2217"/>
                  </a:lnTo>
                  <a:lnTo>
                    <a:pt x="1172" y="2233"/>
                  </a:lnTo>
                  <a:lnTo>
                    <a:pt x="1177" y="2248"/>
                  </a:lnTo>
                  <a:lnTo>
                    <a:pt x="1179" y="2255"/>
                  </a:lnTo>
                  <a:lnTo>
                    <a:pt x="1216" y="2227"/>
                  </a:lnTo>
                  <a:lnTo>
                    <a:pt x="1219" y="2222"/>
                  </a:lnTo>
                  <a:lnTo>
                    <a:pt x="1226" y="2208"/>
                  </a:lnTo>
                  <a:lnTo>
                    <a:pt x="1232" y="2192"/>
                  </a:lnTo>
                  <a:lnTo>
                    <a:pt x="1236" y="2178"/>
                  </a:lnTo>
                  <a:lnTo>
                    <a:pt x="1236" y="2165"/>
                  </a:lnTo>
                  <a:lnTo>
                    <a:pt x="1234" y="2145"/>
                  </a:lnTo>
                  <a:lnTo>
                    <a:pt x="1236" y="2123"/>
                  </a:lnTo>
                  <a:lnTo>
                    <a:pt x="1241" y="2103"/>
                  </a:lnTo>
                  <a:lnTo>
                    <a:pt x="1241" y="2087"/>
                  </a:lnTo>
                  <a:lnTo>
                    <a:pt x="1236" y="2077"/>
                  </a:lnTo>
                  <a:lnTo>
                    <a:pt x="1234" y="2067"/>
                  </a:lnTo>
                  <a:lnTo>
                    <a:pt x="1241" y="2060"/>
                  </a:lnTo>
                  <a:lnTo>
                    <a:pt x="1246" y="2057"/>
                  </a:lnTo>
                  <a:lnTo>
                    <a:pt x="1251" y="2057"/>
                  </a:lnTo>
                  <a:lnTo>
                    <a:pt x="1256" y="2058"/>
                  </a:lnTo>
                  <a:lnTo>
                    <a:pt x="1261" y="2062"/>
                  </a:lnTo>
                  <a:lnTo>
                    <a:pt x="1259" y="2052"/>
                  </a:lnTo>
                  <a:lnTo>
                    <a:pt x="1257" y="2043"/>
                  </a:lnTo>
                  <a:lnTo>
                    <a:pt x="1256" y="2033"/>
                  </a:lnTo>
                  <a:lnTo>
                    <a:pt x="1257" y="2027"/>
                  </a:lnTo>
                  <a:close/>
                </a:path>
              </a:pathLst>
            </a:custGeom>
            <a:solidFill>
              <a:srgbClr val="ffffff">
                <a:alpha val="10000"/>
              </a:srgbClr>
            </a:solidFill>
            <a:ln cap="sq" w="9360">
              <a:solidFill>
                <a:srgbClr val="ffffff"/>
              </a:solidFill>
              <a:round/>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05" name=""/>
            <p:cNvSpPr/>
            <p:nvPr/>
          </p:nvSpPr>
          <p:spPr>
            <a:xfrm>
              <a:off x="3086280" y="3249720"/>
              <a:ext cx="4680" cy="4680"/>
            </a:xfrm>
            <a:custGeom>
              <a:avLst/>
              <a:gdLst/>
              <a:ahLst/>
              <a:rect l="l" t="t" r="r" b="b"/>
              <a:pathLst>
                <a:path w="5" h="5">
                  <a:moveTo>
                    <a:pt x="5" y="3"/>
                  </a:moveTo>
                  <a:lnTo>
                    <a:pt x="0" y="0"/>
                  </a:lnTo>
                  <a:lnTo>
                    <a:pt x="2" y="3"/>
                  </a:lnTo>
                  <a:lnTo>
                    <a:pt x="3" y="5"/>
                  </a:lnTo>
                  <a:lnTo>
                    <a:pt x="5" y="3"/>
                  </a:lnTo>
                  <a:lnTo>
                    <a:pt x="5" y="3"/>
                  </a:lnTo>
                  <a:close/>
                </a:path>
              </a:pathLst>
            </a:custGeom>
            <a:solidFill>
              <a:srgbClr val="000000"/>
            </a:solidFill>
            <a:ln w="0">
              <a:noFill/>
            </a:ln>
          </p:spPr>
          <p:style>
            <a:lnRef idx="0"/>
            <a:fillRef idx="0"/>
            <a:effectRef idx="0"/>
            <a:fontRef idx="minor"/>
          </p:style>
          <p:txBody>
            <a:bodyPr wrap="none" lIns="90000" rIns="90000" tIns="-42120" bIns="-421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06" name=""/>
            <p:cNvSpPr/>
            <p:nvPr/>
          </p:nvSpPr>
          <p:spPr>
            <a:xfrm>
              <a:off x="4379760" y="4205160"/>
              <a:ext cx="2567160" cy="993960"/>
            </a:xfrm>
            <a:custGeom>
              <a:avLst/>
              <a:gdLst/>
              <a:ahLst/>
              <a:rect l="l" t="t" r="r" b="b"/>
              <a:pathLst>
                <a:path w="1881" h="744">
                  <a:moveTo>
                    <a:pt x="1298" y="222"/>
                  </a:moveTo>
                  <a:lnTo>
                    <a:pt x="1283" y="225"/>
                  </a:lnTo>
                  <a:lnTo>
                    <a:pt x="1263" y="230"/>
                  </a:lnTo>
                  <a:lnTo>
                    <a:pt x="1239" y="235"/>
                  </a:lnTo>
                  <a:lnTo>
                    <a:pt x="1214" y="242"/>
                  </a:lnTo>
                  <a:lnTo>
                    <a:pt x="1186" y="249"/>
                  </a:lnTo>
                  <a:lnTo>
                    <a:pt x="1157" y="255"/>
                  </a:lnTo>
                  <a:lnTo>
                    <a:pt x="1127" y="262"/>
                  </a:lnTo>
                  <a:lnTo>
                    <a:pt x="1097" y="269"/>
                  </a:lnTo>
                  <a:lnTo>
                    <a:pt x="1067" y="275"/>
                  </a:lnTo>
                  <a:lnTo>
                    <a:pt x="1039" y="284"/>
                  </a:lnTo>
                  <a:lnTo>
                    <a:pt x="1012" y="290"/>
                  </a:lnTo>
                  <a:lnTo>
                    <a:pt x="989" y="297"/>
                  </a:lnTo>
                  <a:lnTo>
                    <a:pt x="967" y="302"/>
                  </a:lnTo>
                  <a:lnTo>
                    <a:pt x="949" y="309"/>
                  </a:lnTo>
                  <a:lnTo>
                    <a:pt x="936" y="314"/>
                  </a:lnTo>
                  <a:lnTo>
                    <a:pt x="927" y="317"/>
                  </a:lnTo>
                  <a:lnTo>
                    <a:pt x="914" y="324"/>
                  </a:lnTo>
                  <a:lnTo>
                    <a:pt x="901" y="329"/>
                  </a:lnTo>
                  <a:lnTo>
                    <a:pt x="887" y="337"/>
                  </a:lnTo>
                  <a:lnTo>
                    <a:pt x="872" y="344"/>
                  </a:lnTo>
                  <a:lnTo>
                    <a:pt x="857" y="355"/>
                  </a:lnTo>
                  <a:lnTo>
                    <a:pt x="842" y="369"/>
                  </a:lnTo>
                  <a:lnTo>
                    <a:pt x="826" y="389"/>
                  </a:lnTo>
                  <a:lnTo>
                    <a:pt x="807" y="412"/>
                  </a:lnTo>
                  <a:lnTo>
                    <a:pt x="791" y="437"/>
                  </a:lnTo>
                  <a:lnTo>
                    <a:pt x="776" y="460"/>
                  </a:lnTo>
                  <a:lnTo>
                    <a:pt x="761" y="482"/>
                  </a:lnTo>
                  <a:lnTo>
                    <a:pt x="747" y="502"/>
                  </a:lnTo>
                  <a:lnTo>
                    <a:pt x="737" y="519"/>
                  </a:lnTo>
                  <a:lnTo>
                    <a:pt x="727" y="532"/>
                  </a:lnTo>
                  <a:lnTo>
                    <a:pt x="719" y="542"/>
                  </a:lnTo>
                  <a:lnTo>
                    <a:pt x="712" y="549"/>
                  </a:lnTo>
                  <a:lnTo>
                    <a:pt x="706" y="554"/>
                  </a:lnTo>
                  <a:lnTo>
                    <a:pt x="699" y="559"/>
                  </a:lnTo>
                  <a:lnTo>
                    <a:pt x="689" y="564"/>
                  </a:lnTo>
                  <a:lnTo>
                    <a:pt x="679" y="565"/>
                  </a:lnTo>
                  <a:lnTo>
                    <a:pt x="667" y="567"/>
                  </a:lnTo>
                  <a:lnTo>
                    <a:pt x="657" y="567"/>
                  </a:lnTo>
                  <a:lnTo>
                    <a:pt x="647" y="564"/>
                  </a:lnTo>
                  <a:lnTo>
                    <a:pt x="637" y="559"/>
                  </a:lnTo>
                  <a:lnTo>
                    <a:pt x="629" y="552"/>
                  </a:lnTo>
                  <a:lnTo>
                    <a:pt x="622" y="544"/>
                  </a:lnTo>
                  <a:lnTo>
                    <a:pt x="615" y="535"/>
                  </a:lnTo>
                  <a:lnTo>
                    <a:pt x="609" y="529"/>
                  </a:lnTo>
                  <a:lnTo>
                    <a:pt x="602" y="524"/>
                  </a:lnTo>
                  <a:lnTo>
                    <a:pt x="595" y="520"/>
                  </a:lnTo>
                  <a:lnTo>
                    <a:pt x="589" y="519"/>
                  </a:lnTo>
                  <a:lnTo>
                    <a:pt x="580" y="520"/>
                  </a:lnTo>
                  <a:lnTo>
                    <a:pt x="569" y="524"/>
                  </a:lnTo>
                  <a:lnTo>
                    <a:pt x="554" y="525"/>
                  </a:lnTo>
                  <a:lnTo>
                    <a:pt x="537" y="525"/>
                  </a:lnTo>
                  <a:lnTo>
                    <a:pt x="519" y="525"/>
                  </a:lnTo>
                  <a:lnTo>
                    <a:pt x="499" y="525"/>
                  </a:lnTo>
                  <a:lnTo>
                    <a:pt x="480" y="524"/>
                  </a:lnTo>
                  <a:lnTo>
                    <a:pt x="462" y="522"/>
                  </a:lnTo>
                  <a:lnTo>
                    <a:pt x="447" y="520"/>
                  </a:lnTo>
                  <a:lnTo>
                    <a:pt x="432" y="519"/>
                  </a:lnTo>
                  <a:lnTo>
                    <a:pt x="417" y="515"/>
                  </a:lnTo>
                  <a:lnTo>
                    <a:pt x="404" y="510"/>
                  </a:lnTo>
                  <a:lnTo>
                    <a:pt x="389" y="507"/>
                  </a:lnTo>
                  <a:lnTo>
                    <a:pt x="375" y="504"/>
                  </a:lnTo>
                  <a:lnTo>
                    <a:pt x="364" y="500"/>
                  </a:lnTo>
                  <a:lnTo>
                    <a:pt x="352" y="497"/>
                  </a:lnTo>
                  <a:lnTo>
                    <a:pt x="342" y="497"/>
                  </a:lnTo>
                  <a:lnTo>
                    <a:pt x="329" y="497"/>
                  </a:lnTo>
                  <a:lnTo>
                    <a:pt x="307" y="497"/>
                  </a:lnTo>
                  <a:lnTo>
                    <a:pt x="280" y="499"/>
                  </a:lnTo>
                  <a:lnTo>
                    <a:pt x="250" y="499"/>
                  </a:lnTo>
                  <a:lnTo>
                    <a:pt x="224" y="500"/>
                  </a:lnTo>
                  <a:lnTo>
                    <a:pt x="200" y="502"/>
                  </a:lnTo>
                  <a:lnTo>
                    <a:pt x="184" y="502"/>
                  </a:lnTo>
                  <a:lnTo>
                    <a:pt x="177" y="502"/>
                  </a:lnTo>
                  <a:lnTo>
                    <a:pt x="175" y="504"/>
                  </a:lnTo>
                  <a:lnTo>
                    <a:pt x="170" y="505"/>
                  </a:lnTo>
                  <a:lnTo>
                    <a:pt x="164" y="509"/>
                  </a:lnTo>
                  <a:lnTo>
                    <a:pt x="155" y="510"/>
                  </a:lnTo>
                  <a:lnTo>
                    <a:pt x="144" y="512"/>
                  </a:lnTo>
                  <a:lnTo>
                    <a:pt x="132" y="512"/>
                  </a:lnTo>
                  <a:lnTo>
                    <a:pt x="120" y="509"/>
                  </a:lnTo>
                  <a:lnTo>
                    <a:pt x="107" y="502"/>
                  </a:lnTo>
                  <a:lnTo>
                    <a:pt x="95" y="494"/>
                  </a:lnTo>
                  <a:lnTo>
                    <a:pt x="87" y="485"/>
                  </a:lnTo>
                  <a:lnTo>
                    <a:pt x="80" y="479"/>
                  </a:lnTo>
                  <a:lnTo>
                    <a:pt x="75" y="475"/>
                  </a:lnTo>
                  <a:lnTo>
                    <a:pt x="70" y="472"/>
                  </a:lnTo>
                  <a:lnTo>
                    <a:pt x="65" y="470"/>
                  </a:lnTo>
                  <a:lnTo>
                    <a:pt x="60" y="470"/>
                  </a:lnTo>
                  <a:lnTo>
                    <a:pt x="53" y="474"/>
                  </a:lnTo>
                  <a:lnTo>
                    <a:pt x="47" y="480"/>
                  </a:lnTo>
                  <a:lnTo>
                    <a:pt x="50" y="489"/>
                  </a:lnTo>
                  <a:lnTo>
                    <a:pt x="55" y="500"/>
                  </a:lnTo>
                  <a:lnTo>
                    <a:pt x="53" y="515"/>
                  </a:lnTo>
                  <a:lnTo>
                    <a:pt x="50" y="535"/>
                  </a:lnTo>
                  <a:lnTo>
                    <a:pt x="48" y="557"/>
                  </a:lnTo>
                  <a:lnTo>
                    <a:pt x="50" y="577"/>
                  </a:lnTo>
                  <a:lnTo>
                    <a:pt x="50" y="592"/>
                  </a:lnTo>
                  <a:lnTo>
                    <a:pt x="47" y="606"/>
                  </a:lnTo>
                  <a:lnTo>
                    <a:pt x="40" y="621"/>
                  </a:lnTo>
                  <a:lnTo>
                    <a:pt x="33" y="634"/>
                  </a:lnTo>
                  <a:lnTo>
                    <a:pt x="30" y="639"/>
                  </a:lnTo>
                  <a:lnTo>
                    <a:pt x="0" y="662"/>
                  </a:lnTo>
                  <a:lnTo>
                    <a:pt x="3" y="666"/>
                  </a:lnTo>
                  <a:lnTo>
                    <a:pt x="8" y="669"/>
                  </a:lnTo>
                  <a:lnTo>
                    <a:pt x="13" y="674"/>
                  </a:lnTo>
                  <a:lnTo>
                    <a:pt x="18" y="677"/>
                  </a:lnTo>
                  <a:lnTo>
                    <a:pt x="32" y="684"/>
                  </a:lnTo>
                  <a:lnTo>
                    <a:pt x="43" y="687"/>
                  </a:lnTo>
                  <a:lnTo>
                    <a:pt x="55" y="687"/>
                  </a:lnTo>
                  <a:lnTo>
                    <a:pt x="67" y="686"/>
                  </a:lnTo>
                  <a:lnTo>
                    <a:pt x="77" y="684"/>
                  </a:lnTo>
                  <a:lnTo>
                    <a:pt x="83" y="681"/>
                  </a:lnTo>
                  <a:lnTo>
                    <a:pt x="88" y="679"/>
                  </a:lnTo>
                  <a:lnTo>
                    <a:pt x="90" y="677"/>
                  </a:lnTo>
                  <a:lnTo>
                    <a:pt x="97" y="677"/>
                  </a:lnTo>
                  <a:lnTo>
                    <a:pt x="114" y="677"/>
                  </a:lnTo>
                  <a:lnTo>
                    <a:pt x="137" y="676"/>
                  </a:lnTo>
                  <a:lnTo>
                    <a:pt x="164" y="674"/>
                  </a:lnTo>
                  <a:lnTo>
                    <a:pt x="194" y="674"/>
                  </a:lnTo>
                  <a:lnTo>
                    <a:pt x="220" y="672"/>
                  </a:lnTo>
                  <a:lnTo>
                    <a:pt x="242" y="672"/>
                  </a:lnTo>
                  <a:lnTo>
                    <a:pt x="255" y="672"/>
                  </a:lnTo>
                  <a:lnTo>
                    <a:pt x="265" y="674"/>
                  </a:lnTo>
                  <a:lnTo>
                    <a:pt x="275" y="676"/>
                  </a:lnTo>
                  <a:lnTo>
                    <a:pt x="289" y="679"/>
                  </a:lnTo>
                  <a:lnTo>
                    <a:pt x="302" y="682"/>
                  </a:lnTo>
                  <a:lnTo>
                    <a:pt x="315" y="687"/>
                  </a:lnTo>
                  <a:lnTo>
                    <a:pt x="330" y="691"/>
                  </a:lnTo>
                  <a:lnTo>
                    <a:pt x="344" y="694"/>
                  </a:lnTo>
                  <a:lnTo>
                    <a:pt x="359" y="697"/>
                  </a:lnTo>
                  <a:lnTo>
                    <a:pt x="374" y="699"/>
                  </a:lnTo>
                  <a:lnTo>
                    <a:pt x="392" y="701"/>
                  </a:lnTo>
                  <a:lnTo>
                    <a:pt x="412" y="701"/>
                  </a:lnTo>
                  <a:lnTo>
                    <a:pt x="430" y="702"/>
                  </a:lnTo>
                  <a:lnTo>
                    <a:pt x="450" y="702"/>
                  </a:lnTo>
                  <a:lnTo>
                    <a:pt x="467" y="701"/>
                  </a:lnTo>
                  <a:lnTo>
                    <a:pt x="480" y="701"/>
                  </a:lnTo>
                  <a:lnTo>
                    <a:pt x="492" y="697"/>
                  </a:lnTo>
                  <a:lnTo>
                    <a:pt x="500" y="696"/>
                  </a:lnTo>
                  <a:lnTo>
                    <a:pt x="507" y="696"/>
                  </a:lnTo>
                  <a:lnTo>
                    <a:pt x="514" y="699"/>
                  </a:lnTo>
                  <a:lnTo>
                    <a:pt x="520" y="706"/>
                  </a:lnTo>
                  <a:lnTo>
                    <a:pt x="527" y="712"/>
                  </a:lnTo>
                  <a:lnTo>
                    <a:pt x="534" y="719"/>
                  </a:lnTo>
                  <a:lnTo>
                    <a:pt x="540" y="727"/>
                  </a:lnTo>
                  <a:lnTo>
                    <a:pt x="549" y="734"/>
                  </a:lnTo>
                  <a:lnTo>
                    <a:pt x="559" y="741"/>
                  </a:lnTo>
                  <a:lnTo>
                    <a:pt x="569" y="742"/>
                  </a:lnTo>
                  <a:lnTo>
                    <a:pt x="579" y="744"/>
                  </a:lnTo>
                  <a:lnTo>
                    <a:pt x="590" y="742"/>
                  </a:lnTo>
                  <a:lnTo>
                    <a:pt x="600" y="739"/>
                  </a:lnTo>
                  <a:lnTo>
                    <a:pt x="610" y="736"/>
                  </a:lnTo>
                  <a:lnTo>
                    <a:pt x="619" y="731"/>
                  </a:lnTo>
                  <a:lnTo>
                    <a:pt x="625" y="726"/>
                  </a:lnTo>
                  <a:lnTo>
                    <a:pt x="632" y="719"/>
                  </a:lnTo>
                  <a:lnTo>
                    <a:pt x="639" y="707"/>
                  </a:lnTo>
                  <a:lnTo>
                    <a:pt x="649" y="694"/>
                  </a:lnTo>
                  <a:lnTo>
                    <a:pt x="661" y="677"/>
                  </a:lnTo>
                  <a:lnTo>
                    <a:pt x="672" y="659"/>
                  </a:lnTo>
                  <a:lnTo>
                    <a:pt x="687" y="637"/>
                  </a:lnTo>
                  <a:lnTo>
                    <a:pt x="704" y="614"/>
                  </a:lnTo>
                  <a:lnTo>
                    <a:pt x="721" y="587"/>
                  </a:lnTo>
                  <a:lnTo>
                    <a:pt x="737" y="564"/>
                  </a:lnTo>
                  <a:lnTo>
                    <a:pt x="754" y="544"/>
                  </a:lnTo>
                  <a:lnTo>
                    <a:pt x="769" y="530"/>
                  </a:lnTo>
                  <a:lnTo>
                    <a:pt x="786" y="519"/>
                  </a:lnTo>
                  <a:lnTo>
                    <a:pt x="799" y="512"/>
                  </a:lnTo>
                  <a:lnTo>
                    <a:pt x="812" y="504"/>
                  </a:lnTo>
                  <a:lnTo>
                    <a:pt x="826" y="499"/>
                  </a:lnTo>
                  <a:lnTo>
                    <a:pt x="839" y="492"/>
                  </a:lnTo>
                  <a:lnTo>
                    <a:pt x="847" y="489"/>
                  </a:lnTo>
                  <a:lnTo>
                    <a:pt x="862" y="484"/>
                  </a:lnTo>
                  <a:lnTo>
                    <a:pt x="879" y="479"/>
                  </a:lnTo>
                  <a:lnTo>
                    <a:pt x="901" y="472"/>
                  </a:lnTo>
                  <a:lnTo>
                    <a:pt x="926" y="465"/>
                  </a:lnTo>
                  <a:lnTo>
                    <a:pt x="952" y="459"/>
                  </a:lnTo>
                  <a:lnTo>
                    <a:pt x="981" y="452"/>
                  </a:lnTo>
                  <a:lnTo>
                    <a:pt x="1009" y="444"/>
                  </a:lnTo>
                  <a:lnTo>
                    <a:pt x="1039" y="437"/>
                  </a:lnTo>
                  <a:lnTo>
                    <a:pt x="1069" y="430"/>
                  </a:lnTo>
                  <a:lnTo>
                    <a:pt x="1097" y="424"/>
                  </a:lnTo>
                  <a:lnTo>
                    <a:pt x="1126" y="417"/>
                  </a:lnTo>
                  <a:lnTo>
                    <a:pt x="1151" y="410"/>
                  </a:lnTo>
                  <a:lnTo>
                    <a:pt x="1174" y="405"/>
                  </a:lnTo>
                  <a:lnTo>
                    <a:pt x="1194" y="400"/>
                  </a:lnTo>
                  <a:lnTo>
                    <a:pt x="1209" y="397"/>
                  </a:lnTo>
                  <a:lnTo>
                    <a:pt x="1236" y="390"/>
                  </a:lnTo>
                  <a:lnTo>
                    <a:pt x="1263" y="385"/>
                  </a:lnTo>
                  <a:lnTo>
                    <a:pt x="1289" y="382"/>
                  </a:lnTo>
                  <a:lnTo>
                    <a:pt x="1313" y="379"/>
                  </a:lnTo>
                  <a:lnTo>
                    <a:pt x="1336" y="375"/>
                  </a:lnTo>
                  <a:lnTo>
                    <a:pt x="1354" y="370"/>
                  </a:lnTo>
                  <a:lnTo>
                    <a:pt x="1371" y="365"/>
                  </a:lnTo>
                  <a:lnTo>
                    <a:pt x="1384" y="359"/>
                  </a:lnTo>
                  <a:lnTo>
                    <a:pt x="1394" y="354"/>
                  </a:lnTo>
                  <a:lnTo>
                    <a:pt x="1411" y="345"/>
                  </a:lnTo>
                  <a:lnTo>
                    <a:pt x="1434" y="334"/>
                  </a:lnTo>
                  <a:lnTo>
                    <a:pt x="1463" y="320"/>
                  </a:lnTo>
                  <a:lnTo>
                    <a:pt x="1496" y="307"/>
                  </a:lnTo>
                  <a:lnTo>
                    <a:pt x="1533" y="290"/>
                  </a:lnTo>
                  <a:lnTo>
                    <a:pt x="1571" y="274"/>
                  </a:lnTo>
                  <a:lnTo>
                    <a:pt x="1611" y="255"/>
                  </a:lnTo>
                  <a:lnTo>
                    <a:pt x="1649" y="239"/>
                  </a:lnTo>
                  <a:lnTo>
                    <a:pt x="1688" y="222"/>
                  </a:lnTo>
                  <a:lnTo>
                    <a:pt x="1723" y="207"/>
                  </a:lnTo>
                  <a:lnTo>
                    <a:pt x="1756" y="192"/>
                  </a:lnTo>
                  <a:lnTo>
                    <a:pt x="1783" y="180"/>
                  </a:lnTo>
                  <a:lnTo>
                    <a:pt x="1805" y="170"/>
                  </a:lnTo>
                  <a:lnTo>
                    <a:pt x="1820" y="164"/>
                  </a:lnTo>
                  <a:lnTo>
                    <a:pt x="1826" y="160"/>
                  </a:lnTo>
                  <a:lnTo>
                    <a:pt x="1836" y="152"/>
                  </a:lnTo>
                  <a:lnTo>
                    <a:pt x="1841" y="142"/>
                  </a:lnTo>
                  <a:lnTo>
                    <a:pt x="1845" y="130"/>
                  </a:lnTo>
                  <a:lnTo>
                    <a:pt x="1846" y="117"/>
                  </a:lnTo>
                  <a:lnTo>
                    <a:pt x="1848" y="100"/>
                  </a:lnTo>
                  <a:lnTo>
                    <a:pt x="1851" y="78"/>
                  </a:lnTo>
                  <a:lnTo>
                    <a:pt x="1858" y="57"/>
                  </a:lnTo>
                  <a:lnTo>
                    <a:pt x="1865" y="37"/>
                  </a:lnTo>
                  <a:lnTo>
                    <a:pt x="1868" y="27"/>
                  </a:lnTo>
                  <a:lnTo>
                    <a:pt x="1873" y="18"/>
                  </a:lnTo>
                  <a:lnTo>
                    <a:pt x="1876" y="8"/>
                  </a:lnTo>
                  <a:lnTo>
                    <a:pt x="1881" y="0"/>
                  </a:lnTo>
                  <a:lnTo>
                    <a:pt x="1861" y="10"/>
                  </a:lnTo>
                  <a:lnTo>
                    <a:pt x="1836" y="20"/>
                  </a:lnTo>
                  <a:lnTo>
                    <a:pt x="1808" y="32"/>
                  </a:lnTo>
                  <a:lnTo>
                    <a:pt x="1778" y="45"/>
                  </a:lnTo>
                  <a:lnTo>
                    <a:pt x="1746" y="58"/>
                  </a:lnTo>
                  <a:lnTo>
                    <a:pt x="1714" y="73"/>
                  </a:lnTo>
                  <a:lnTo>
                    <a:pt x="1681" y="88"/>
                  </a:lnTo>
                  <a:lnTo>
                    <a:pt x="1648" y="102"/>
                  </a:lnTo>
                  <a:lnTo>
                    <a:pt x="1616" y="117"/>
                  </a:lnTo>
                  <a:lnTo>
                    <a:pt x="1586" y="130"/>
                  </a:lnTo>
                  <a:lnTo>
                    <a:pt x="1558" y="142"/>
                  </a:lnTo>
                  <a:lnTo>
                    <a:pt x="1533" y="154"/>
                  </a:lnTo>
                  <a:lnTo>
                    <a:pt x="1511" y="164"/>
                  </a:lnTo>
                  <a:lnTo>
                    <a:pt x="1493" y="174"/>
                  </a:lnTo>
                  <a:lnTo>
                    <a:pt x="1479" y="179"/>
                  </a:lnTo>
                  <a:lnTo>
                    <a:pt x="1473" y="184"/>
                  </a:lnTo>
                  <a:lnTo>
                    <a:pt x="1459" y="190"/>
                  </a:lnTo>
                  <a:lnTo>
                    <a:pt x="1443" y="195"/>
                  </a:lnTo>
                  <a:lnTo>
                    <a:pt x="1423" y="199"/>
                  </a:lnTo>
                  <a:lnTo>
                    <a:pt x="1401" y="202"/>
                  </a:lnTo>
                  <a:lnTo>
                    <a:pt x="1376" y="205"/>
                  </a:lnTo>
                  <a:lnTo>
                    <a:pt x="1351" y="210"/>
                  </a:lnTo>
                  <a:lnTo>
                    <a:pt x="1324" y="215"/>
                  </a:lnTo>
                  <a:lnTo>
                    <a:pt x="1298" y="222"/>
                  </a:lnTo>
                  <a:close/>
                </a:path>
              </a:pathLst>
            </a:custGeom>
            <a:solidFill>
              <a:srgbClr val="ffffff">
                <a:alpha val="20000"/>
              </a:srgbClr>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07" name=""/>
            <p:cNvSpPr/>
            <p:nvPr/>
          </p:nvSpPr>
          <p:spPr>
            <a:xfrm>
              <a:off x="2813040" y="1346040"/>
              <a:ext cx="4348080" cy="3579840"/>
            </a:xfrm>
            <a:custGeom>
              <a:avLst/>
              <a:gdLst/>
              <a:ahLst/>
              <a:rect l="l" t="t" r="r" b="b"/>
              <a:pathLst>
                <a:path w="3185" h="2678">
                  <a:moveTo>
                    <a:pt x="380" y="90"/>
                  </a:moveTo>
                  <a:lnTo>
                    <a:pt x="683" y="28"/>
                  </a:lnTo>
                  <a:lnTo>
                    <a:pt x="693" y="0"/>
                  </a:lnTo>
                  <a:lnTo>
                    <a:pt x="695" y="0"/>
                  </a:lnTo>
                  <a:lnTo>
                    <a:pt x="698" y="0"/>
                  </a:lnTo>
                  <a:lnTo>
                    <a:pt x="704" y="0"/>
                  </a:lnTo>
                  <a:lnTo>
                    <a:pt x="712" y="0"/>
                  </a:lnTo>
                  <a:lnTo>
                    <a:pt x="720" y="0"/>
                  </a:lnTo>
                  <a:lnTo>
                    <a:pt x="734" y="2"/>
                  </a:lnTo>
                  <a:lnTo>
                    <a:pt x="747" y="5"/>
                  </a:lnTo>
                  <a:lnTo>
                    <a:pt x="764" y="10"/>
                  </a:lnTo>
                  <a:lnTo>
                    <a:pt x="782" y="15"/>
                  </a:lnTo>
                  <a:lnTo>
                    <a:pt x="799" y="20"/>
                  </a:lnTo>
                  <a:lnTo>
                    <a:pt x="817" y="23"/>
                  </a:lnTo>
                  <a:lnTo>
                    <a:pt x="832" y="28"/>
                  </a:lnTo>
                  <a:lnTo>
                    <a:pt x="847" y="32"/>
                  </a:lnTo>
                  <a:lnTo>
                    <a:pt x="862" y="35"/>
                  </a:lnTo>
                  <a:lnTo>
                    <a:pt x="874" y="40"/>
                  </a:lnTo>
                  <a:lnTo>
                    <a:pt x="884" y="43"/>
                  </a:lnTo>
                  <a:lnTo>
                    <a:pt x="894" y="48"/>
                  </a:lnTo>
                  <a:lnTo>
                    <a:pt x="907" y="57"/>
                  </a:lnTo>
                  <a:lnTo>
                    <a:pt x="924" y="68"/>
                  </a:lnTo>
                  <a:lnTo>
                    <a:pt x="942" y="82"/>
                  </a:lnTo>
                  <a:lnTo>
                    <a:pt x="962" y="97"/>
                  </a:lnTo>
                  <a:lnTo>
                    <a:pt x="985" y="112"/>
                  </a:lnTo>
                  <a:lnTo>
                    <a:pt x="1009" y="127"/>
                  </a:lnTo>
                  <a:lnTo>
                    <a:pt x="1035" y="142"/>
                  </a:lnTo>
                  <a:lnTo>
                    <a:pt x="1060" y="155"/>
                  </a:lnTo>
                  <a:lnTo>
                    <a:pt x="1080" y="168"/>
                  </a:lnTo>
                  <a:lnTo>
                    <a:pt x="1099" y="180"/>
                  </a:lnTo>
                  <a:lnTo>
                    <a:pt x="1114" y="190"/>
                  </a:lnTo>
                  <a:lnTo>
                    <a:pt x="1124" y="197"/>
                  </a:lnTo>
                  <a:lnTo>
                    <a:pt x="1132" y="203"/>
                  </a:lnTo>
                  <a:lnTo>
                    <a:pt x="1137" y="207"/>
                  </a:lnTo>
                  <a:lnTo>
                    <a:pt x="1139" y="208"/>
                  </a:lnTo>
                  <a:lnTo>
                    <a:pt x="1142" y="210"/>
                  </a:lnTo>
                  <a:lnTo>
                    <a:pt x="1150" y="215"/>
                  </a:lnTo>
                  <a:lnTo>
                    <a:pt x="1162" y="223"/>
                  </a:lnTo>
                  <a:lnTo>
                    <a:pt x="1177" y="233"/>
                  </a:lnTo>
                  <a:lnTo>
                    <a:pt x="1192" y="243"/>
                  </a:lnTo>
                  <a:lnTo>
                    <a:pt x="1205" y="255"/>
                  </a:lnTo>
                  <a:lnTo>
                    <a:pt x="1217" y="265"/>
                  </a:lnTo>
                  <a:lnTo>
                    <a:pt x="1225" y="275"/>
                  </a:lnTo>
                  <a:lnTo>
                    <a:pt x="1234" y="285"/>
                  </a:lnTo>
                  <a:lnTo>
                    <a:pt x="1245" y="297"/>
                  </a:lnTo>
                  <a:lnTo>
                    <a:pt x="1259" y="310"/>
                  </a:lnTo>
                  <a:lnTo>
                    <a:pt x="1276" y="325"/>
                  </a:lnTo>
                  <a:lnTo>
                    <a:pt x="1292" y="340"/>
                  </a:lnTo>
                  <a:lnTo>
                    <a:pt x="1309" y="354"/>
                  </a:lnTo>
                  <a:lnTo>
                    <a:pt x="1324" y="365"/>
                  </a:lnTo>
                  <a:lnTo>
                    <a:pt x="1334" y="375"/>
                  </a:lnTo>
                  <a:lnTo>
                    <a:pt x="1346" y="385"/>
                  </a:lnTo>
                  <a:lnTo>
                    <a:pt x="1362" y="397"/>
                  </a:lnTo>
                  <a:lnTo>
                    <a:pt x="1381" y="410"/>
                  </a:lnTo>
                  <a:lnTo>
                    <a:pt x="1401" y="424"/>
                  </a:lnTo>
                  <a:lnTo>
                    <a:pt x="1421" y="437"/>
                  </a:lnTo>
                  <a:lnTo>
                    <a:pt x="1436" y="445"/>
                  </a:lnTo>
                  <a:lnTo>
                    <a:pt x="1447" y="454"/>
                  </a:lnTo>
                  <a:lnTo>
                    <a:pt x="1451" y="455"/>
                  </a:lnTo>
                  <a:lnTo>
                    <a:pt x="1489" y="509"/>
                  </a:lnTo>
                  <a:lnTo>
                    <a:pt x="1497" y="509"/>
                  </a:lnTo>
                  <a:lnTo>
                    <a:pt x="1517" y="509"/>
                  </a:lnTo>
                  <a:lnTo>
                    <a:pt x="1546" y="509"/>
                  </a:lnTo>
                  <a:lnTo>
                    <a:pt x="1581" y="509"/>
                  </a:lnTo>
                  <a:lnTo>
                    <a:pt x="1617" y="510"/>
                  </a:lnTo>
                  <a:lnTo>
                    <a:pt x="1651" y="514"/>
                  </a:lnTo>
                  <a:lnTo>
                    <a:pt x="1677" y="520"/>
                  </a:lnTo>
                  <a:lnTo>
                    <a:pt x="1694" y="527"/>
                  </a:lnTo>
                  <a:lnTo>
                    <a:pt x="1696" y="527"/>
                  </a:lnTo>
                  <a:lnTo>
                    <a:pt x="1702" y="525"/>
                  </a:lnTo>
                  <a:lnTo>
                    <a:pt x="1712" y="522"/>
                  </a:lnTo>
                  <a:lnTo>
                    <a:pt x="1722" y="520"/>
                  </a:lnTo>
                  <a:lnTo>
                    <a:pt x="1736" y="519"/>
                  </a:lnTo>
                  <a:lnTo>
                    <a:pt x="1747" y="515"/>
                  </a:lnTo>
                  <a:lnTo>
                    <a:pt x="1759" y="514"/>
                  </a:lnTo>
                  <a:lnTo>
                    <a:pt x="1769" y="514"/>
                  </a:lnTo>
                  <a:lnTo>
                    <a:pt x="1782" y="515"/>
                  </a:lnTo>
                  <a:lnTo>
                    <a:pt x="1801" y="519"/>
                  </a:lnTo>
                  <a:lnTo>
                    <a:pt x="1823" y="522"/>
                  </a:lnTo>
                  <a:lnTo>
                    <a:pt x="1848" y="527"/>
                  </a:lnTo>
                  <a:lnTo>
                    <a:pt x="1869" y="534"/>
                  </a:lnTo>
                  <a:lnTo>
                    <a:pt x="1889" y="537"/>
                  </a:lnTo>
                  <a:lnTo>
                    <a:pt x="1903" y="540"/>
                  </a:lnTo>
                  <a:lnTo>
                    <a:pt x="1908" y="542"/>
                  </a:lnTo>
                  <a:lnTo>
                    <a:pt x="1926" y="604"/>
                  </a:lnTo>
                  <a:lnTo>
                    <a:pt x="2044" y="604"/>
                  </a:lnTo>
                  <a:lnTo>
                    <a:pt x="2064" y="689"/>
                  </a:lnTo>
                  <a:lnTo>
                    <a:pt x="2071" y="692"/>
                  </a:lnTo>
                  <a:lnTo>
                    <a:pt x="2083" y="704"/>
                  </a:lnTo>
                  <a:lnTo>
                    <a:pt x="2093" y="722"/>
                  </a:lnTo>
                  <a:lnTo>
                    <a:pt x="2093" y="746"/>
                  </a:lnTo>
                  <a:lnTo>
                    <a:pt x="2116" y="784"/>
                  </a:lnTo>
                  <a:lnTo>
                    <a:pt x="2154" y="769"/>
                  </a:lnTo>
                  <a:lnTo>
                    <a:pt x="2158" y="774"/>
                  </a:lnTo>
                  <a:lnTo>
                    <a:pt x="2164" y="786"/>
                  </a:lnTo>
                  <a:lnTo>
                    <a:pt x="2169" y="801"/>
                  </a:lnTo>
                  <a:lnTo>
                    <a:pt x="2173" y="812"/>
                  </a:lnTo>
                  <a:lnTo>
                    <a:pt x="2176" y="824"/>
                  </a:lnTo>
                  <a:lnTo>
                    <a:pt x="2183" y="834"/>
                  </a:lnTo>
                  <a:lnTo>
                    <a:pt x="2189" y="842"/>
                  </a:lnTo>
                  <a:lnTo>
                    <a:pt x="2193" y="846"/>
                  </a:lnTo>
                  <a:lnTo>
                    <a:pt x="2201" y="822"/>
                  </a:lnTo>
                  <a:lnTo>
                    <a:pt x="2226" y="869"/>
                  </a:lnTo>
                  <a:lnTo>
                    <a:pt x="2228" y="869"/>
                  </a:lnTo>
                  <a:lnTo>
                    <a:pt x="2234" y="871"/>
                  </a:lnTo>
                  <a:lnTo>
                    <a:pt x="2244" y="874"/>
                  </a:lnTo>
                  <a:lnTo>
                    <a:pt x="2254" y="877"/>
                  </a:lnTo>
                  <a:lnTo>
                    <a:pt x="2266" y="882"/>
                  </a:lnTo>
                  <a:lnTo>
                    <a:pt x="2276" y="887"/>
                  </a:lnTo>
                  <a:lnTo>
                    <a:pt x="2284" y="894"/>
                  </a:lnTo>
                  <a:lnTo>
                    <a:pt x="2288" y="902"/>
                  </a:lnTo>
                  <a:lnTo>
                    <a:pt x="2289" y="921"/>
                  </a:lnTo>
                  <a:lnTo>
                    <a:pt x="2293" y="937"/>
                  </a:lnTo>
                  <a:lnTo>
                    <a:pt x="2296" y="952"/>
                  </a:lnTo>
                  <a:lnTo>
                    <a:pt x="2306" y="964"/>
                  </a:lnTo>
                  <a:lnTo>
                    <a:pt x="2316" y="979"/>
                  </a:lnTo>
                  <a:lnTo>
                    <a:pt x="2321" y="996"/>
                  </a:lnTo>
                  <a:lnTo>
                    <a:pt x="2318" y="1011"/>
                  </a:lnTo>
                  <a:lnTo>
                    <a:pt x="2311" y="1017"/>
                  </a:lnTo>
                  <a:lnTo>
                    <a:pt x="2303" y="1019"/>
                  </a:lnTo>
                  <a:lnTo>
                    <a:pt x="2299" y="1024"/>
                  </a:lnTo>
                  <a:lnTo>
                    <a:pt x="2301" y="1032"/>
                  </a:lnTo>
                  <a:lnTo>
                    <a:pt x="2306" y="1046"/>
                  </a:lnTo>
                  <a:lnTo>
                    <a:pt x="2313" y="1061"/>
                  </a:lnTo>
                  <a:lnTo>
                    <a:pt x="2319" y="1076"/>
                  </a:lnTo>
                  <a:lnTo>
                    <a:pt x="2324" y="1092"/>
                  </a:lnTo>
                  <a:lnTo>
                    <a:pt x="2329" y="1107"/>
                  </a:lnTo>
                  <a:lnTo>
                    <a:pt x="2336" y="1117"/>
                  </a:lnTo>
                  <a:lnTo>
                    <a:pt x="2344" y="1121"/>
                  </a:lnTo>
                  <a:lnTo>
                    <a:pt x="2351" y="1121"/>
                  </a:lnTo>
                  <a:lnTo>
                    <a:pt x="2354" y="1121"/>
                  </a:lnTo>
                  <a:lnTo>
                    <a:pt x="2356" y="1129"/>
                  </a:lnTo>
                  <a:lnTo>
                    <a:pt x="2365" y="1149"/>
                  </a:lnTo>
                  <a:lnTo>
                    <a:pt x="2375" y="1174"/>
                  </a:lnTo>
                  <a:lnTo>
                    <a:pt x="2388" y="1192"/>
                  </a:lnTo>
                  <a:lnTo>
                    <a:pt x="2395" y="1201"/>
                  </a:lnTo>
                  <a:lnTo>
                    <a:pt x="2400" y="1209"/>
                  </a:lnTo>
                  <a:lnTo>
                    <a:pt x="2405" y="1217"/>
                  </a:lnTo>
                  <a:lnTo>
                    <a:pt x="2411" y="1227"/>
                  </a:lnTo>
                  <a:lnTo>
                    <a:pt x="2416" y="1236"/>
                  </a:lnTo>
                  <a:lnTo>
                    <a:pt x="2425" y="1244"/>
                  </a:lnTo>
                  <a:lnTo>
                    <a:pt x="2433" y="1253"/>
                  </a:lnTo>
                  <a:lnTo>
                    <a:pt x="2445" y="1259"/>
                  </a:lnTo>
                  <a:lnTo>
                    <a:pt x="2456" y="1263"/>
                  </a:lnTo>
                  <a:lnTo>
                    <a:pt x="2468" y="1263"/>
                  </a:lnTo>
                  <a:lnTo>
                    <a:pt x="2478" y="1263"/>
                  </a:lnTo>
                  <a:lnTo>
                    <a:pt x="2486" y="1259"/>
                  </a:lnTo>
                  <a:lnTo>
                    <a:pt x="2493" y="1256"/>
                  </a:lnTo>
                  <a:lnTo>
                    <a:pt x="2498" y="1253"/>
                  </a:lnTo>
                  <a:lnTo>
                    <a:pt x="2500" y="1251"/>
                  </a:lnTo>
                  <a:lnTo>
                    <a:pt x="2501" y="1249"/>
                  </a:lnTo>
                  <a:lnTo>
                    <a:pt x="2520" y="1259"/>
                  </a:lnTo>
                  <a:lnTo>
                    <a:pt x="2501" y="1293"/>
                  </a:lnTo>
                  <a:lnTo>
                    <a:pt x="2501" y="1294"/>
                  </a:lnTo>
                  <a:lnTo>
                    <a:pt x="2501" y="1299"/>
                  </a:lnTo>
                  <a:lnTo>
                    <a:pt x="2503" y="1304"/>
                  </a:lnTo>
                  <a:lnTo>
                    <a:pt x="2511" y="1306"/>
                  </a:lnTo>
                  <a:lnTo>
                    <a:pt x="2521" y="1314"/>
                  </a:lnTo>
                  <a:lnTo>
                    <a:pt x="2531" y="1329"/>
                  </a:lnTo>
                  <a:lnTo>
                    <a:pt x="2536" y="1346"/>
                  </a:lnTo>
                  <a:lnTo>
                    <a:pt x="2540" y="1354"/>
                  </a:lnTo>
                  <a:lnTo>
                    <a:pt x="2541" y="1356"/>
                  </a:lnTo>
                  <a:lnTo>
                    <a:pt x="2546" y="1361"/>
                  </a:lnTo>
                  <a:lnTo>
                    <a:pt x="2553" y="1368"/>
                  </a:lnTo>
                  <a:lnTo>
                    <a:pt x="2561" y="1378"/>
                  </a:lnTo>
                  <a:lnTo>
                    <a:pt x="2571" y="1388"/>
                  </a:lnTo>
                  <a:lnTo>
                    <a:pt x="2583" y="1401"/>
                  </a:lnTo>
                  <a:lnTo>
                    <a:pt x="2595" y="1414"/>
                  </a:lnTo>
                  <a:lnTo>
                    <a:pt x="2606" y="1428"/>
                  </a:lnTo>
                  <a:lnTo>
                    <a:pt x="2618" y="1443"/>
                  </a:lnTo>
                  <a:lnTo>
                    <a:pt x="2631" y="1458"/>
                  </a:lnTo>
                  <a:lnTo>
                    <a:pt x="2645" y="1473"/>
                  </a:lnTo>
                  <a:lnTo>
                    <a:pt x="2658" y="1488"/>
                  </a:lnTo>
                  <a:lnTo>
                    <a:pt x="2670" y="1501"/>
                  </a:lnTo>
                  <a:lnTo>
                    <a:pt x="2680" y="1511"/>
                  </a:lnTo>
                  <a:lnTo>
                    <a:pt x="2688" y="1521"/>
                  </a:lnTo>
                  <a:lnTo>
                    <a:pt x="2691" y="1528"/>
                  </a:lnTo>
                  <a:lnTo>
                    <a:pt x="2701" y="1533"/>
                  </a:lnTo>
                  <a:lnTo>
                    <a:pt x="2723" y="1538"/>
                  </a:lnTo>
                  <a:lnTo>
                    <a:pt x="2753" y="1543"/>
                  </a:lnTo>
                  <a:lnTo>
                    <a:pt x="2790" y="1546"/>
                  </a:lnTo>
                  <a:lnTo>
                    <a:pt x="2828" y="1549"/>
                  </a:lnTo>
                  <a:lnTo>
                    <a:pt x="2863" y="1551"/>
                  </a:lnTo>
                  <a:lnTo>
                    <a:pt x="2891" y="1554"/>
                  </a:lnTo>
                  <a:lnTo>
                    <a:pt x="2910" y="1556"/>
                  </a:lnTo>
                  <a:lnTo>
                    <a:pt x="2925" y="1558"/>
                  </a:lnTo>
                  <a:lnTo>
                    <a:pt x="2945" y="1559"/>
                  </a:lnTo>
                  <a:lnTo>
                    <a:pt x="2968" y="1561"/>
                  </a:lnTo>
                  <a:lnTo>
                    <a:pt x="2992" y="1563"/>
                  </a:lnTo>
                  <a:lnTo>
                    <a:pt x="3013" y="1566"/>
                  </a:lnTo>
                  <a:lnTo>
                    <a:pt x="3033" y="1568"/>
                  </a:lnTo>
                  <a:lnTo>
                    <a:pt x="3048" y="1569"/>
                  </a:lnTo>
                  <a:lnTo>
                    <a:pt x="3057" y="1571"/>
                  </a:lnTo>
                  <a:lnTo>
                    <a:pt x="3070" y="1569"/>
                  </a:lnTo>
                  <a:lnTo>
                    <a:pt x="3083" y="1563"/>
                  </a:lnTo>
                  <a:lnTo>
                    <a:pt x="3095" y="1554"/>
                  </a:lnTo>
                  <a:lnTo>
                    <a:pt x="3100" y="1551"/>
                  </a:lnTo>
                  <a:lnTo>
                    <a:pt x="3102" y="1553"/>
                  </a:lnTo>
                  <a:lnTo>
                    <a:pt x="3105" y="1556"/>
                  </a:lnTo>
                  <a:lnTo>
                    <a:pt x="3112" y="1561"/>
                  </a:lnTo>
                  <a:lnTo>
                    <a:pt x="3120" y="1568"/>
                  </a:lnTo>
                  <a:lnTo>
                    <a:pt x="3130" y="1576"/>
                  </a:lnTo>
                  <a:lnTo>
                    <a:pt x="3140" y="1586"/>
                  </a:lnTo>
                  <a:lnTo>
                    <a:pt x="3152" y="1598"/>
                  </a:lnTo>
                  <a:lnTo>
                    <a:pt x="3162" y="1609"/>
                  </a:lnTo>
                  <a:lnTo>
                    <a:pt x="3172" y="1624"/>
                  </a:lnTo>
                  <a:lnTo>
                    <a:pt x="3180" y="1638"/>
                  </a:lnTo>
                  <a:lnTo>
                    <a:pt x="3183" y="1653"/>
                  </a:lnTo>
                  <a:lnTo>
                    <a:pt x="3185" y="1668"/>
                  </a:lnTo>
                  <a:lnTo>
                    <a:pt x="3185" y="1678"/>
                  </a:lnTo>
                  <a:lnTo>
                    <a:pt x="3183" y="1688"/>
                  </a:lnTo>
                  <a:lnTo>
                    <a:pt x="3180" y="1696"/>
                  </a:lnTo>
                  <a:lnTo>
                    <a:pt x="3175" y="1704"/>
                  </a:lnTo>
                  <a:lnTo>
                    <a:pt x="3168" y="1724"/>
                  </a:lnTo>
                  <a:lnTo>
                    <a:pt x="3168" y="1748"/>
                  </a:lnTo>
                  <a:lnTo>
                    <a:pt x="3168" y="1771"/>
                  </a:lnTo>
                  <a:lnTo>
                    <a:pt x="3167" y="1795"/>
                  </a:lnTo>
                  <a:lnTo>
                    <a:pt x="3162" y="1815"/>
                  </a:lnTo>
                  <a:lnTo>
                    <a:pt x="3153" y="1835"/>
                  </a:lnTo>
                  <a:lnTo>
                    <a:pt x="3145" y="1851"/>
                  </a:lnTo>
                  <a:lnTo>
                    <a:pt x="3138" y="1870"/>
                  </a:lnTo>
                  <a:lnTo>
                    <a:pt x="3132" y="1890"/>
                  </a:lnTo>
                  <a:lnTo>
                    <a:pt x="3125" y="1913"/>
                  </a:lnTo>
                  <a:lnTo>
                    <a:pt x="3120" y="1933"/>
                  </a:lnTo>
                  <a:lnTo>
                    <a:pt x="3118" y="1951"/>
                  </a:lnTo>
                  <a:lnTo>
                    <a:pt x="3117" y="1965"/>
                  </a:lnTo>
                  <a:lnTo>
                    <a:pt x="3115" y="1976"/>
                  </a:lnTo>
                  <a:lnTo>
                    <a:pt x="3108" y="1986"/>
                  </a:lnTo>
                  <a:lnTo>
                    <a:pt x="3100" y="1993"/>
                  </a:lnTo>
                  <a:lnTo>
                    <a:pt x="3093" y="1996"/>
                  </a:lnTo>
                  <a:lnTo>
                    <a:pt x="3078" y="2003"/>
                  </a:lnTo>
                  <a:lnTo>
                    <a:pt x="3057" y="2013"/>
                  </a:lnTo>
                  <a:lnTo>
                    <a:pt x="3028" y="2026"/>
                  </a:lnTo>
                  <a:lnTo>
                    <a:pt x="2997" y="2040"/>
                  </a:lnTo>
                  <a:lnTo>
                    <a:pt x="2962" y="2056"/>
                  </a:lnTo>
                  <a:lnTo>
                    <a:pt x="2923" y="2073"/>
                  </a:lnTo>
                  <a:lnTo>
                    <a:pt x="2885" y="2090"/>
                  </a:lnTo>
                  <a:lnTo>
                    <a:pt x="2845" y="2108"/>
                  </a:lnTo>
                  <a:lnTo>
                    <a:pt x="2806" y="2125"/>
                  </a:lnTo>
                  <a:lnTo>
                    <a:pt x="2770" y="2141"/>
                  </a:lnTo>
                  <a:lnTo>
                    <a:pt x="2736" y="2155"/>
                  </a:lnTo>
                  <a:lnTo>
                    <a:pt x="2708" y="2168"/>
                  </a:lnTo>
                  <a:lnTo>
                    <a:pt x="2685" y="2180"/>
                  </a:lnTo>
                  <a:lnTo>
                    <a:pt x="2668" y="2188"/>
                  </a:lnTo>
                  <a:lnTo>
                    <a:pt x="2658" y="2193"/>
                  </a:lnTo>
                  <a:lnTo>
                    <a:pt x="2645" y="2200"/>
                  </a:lnTo>
                  <a:lnTo>
                    <a:pt x="2628" y="2205"/>
                  </a:lnTo>
                  <a:lnTo>
                    <a:pt x="2608" y="2208"/>
                  </a:lnTo>
                  <a:lnTo>
                    <a:pt x="2586" y="2211"/>
                  </a:lnTo>
                  <a:lnTo>
                    <a:pt x="2561" y="2215"/>
                  </a:lnTo>
                  <a:lnTo>
                    <a:pt x="2535" y="2220"/>
                  </a:lnTo>
                  <a:lnTo>
                    <a:pt x="2508" y="2225"/>
                  </a:lnTo>
                  <a:lnTo>
                    <a:pt x="2481" y="2231"/>
                  </a:lnTo>
                  <a:lnTo>
                    <a:pt x="2466" y="2235"/>
                  </a:lnTo>
                  <a:lnTo>
                    <a:pt x="2446" y="2240"/>
                  </a:lnTo>
                  <a:lnTo>
                    <a:pt x="2425" y="2245"/>
                  </a:lnTo>
                  <a:lnTo>
                    <a:pt x="2398" y="2252"/>
                  </a:lnTo>
                  <a:lnTo>
                    <a:pt x="2371" y="2258"/>
                  </a:lnTo>
                  <a:lnTo>
                    <a:pt x="2343" y="2265"/>
                  </a:lnTo>
                  <a:lnTo>
                    <a:pt x="2313" y="2272"/>
                  </a:lnTo>
                  <a:lnTo>
                    <a:pt x="2283" y="2278"/>
                  </a:lnTo>
                  <a:lnTo>
                    <a:pt x="2253" y="2285"/>
                  </a:lnTo>
                  <a:lnTo>
                    <a:pt x="2224" y="2293"/>
                  </a:lnTo>
                  <a:lnTo>
                    <a:pt x="2198" y="2300"/>
                  </a:lnTo>
                  <a:lnTo>
                    <a:pt x="2173" y="2307"/>
                  </a:lnTo>
                  <a:lnTo>
                    <a:pt x="2151" y="2312"/>
                  </a:lnTo>
                  <a:lnTo>
                    <a:pt x="2134" y="2318"/>
                  </a:lnTo>
                  <a:lnTo>
                    <a:pt x="2119" y="2323"/>
                  </a:lnTo>
                  <a:lnTo>
                    <a:pt x="2111" y="2327"/>
                  </a:lnTo>
                  <a:lnTo>
                    <a:pt x="2098" y="2333"/>
                  </a:lnTo>
                  <a:lnTo>
                    <a:pt x="2086" y="2338"/>
                  </a:lnTo>
                  <a:lnTo>
                    <a:pt x="2071" y="2347"/>
                  </a:lnTo>
                  <a:lnTo>
                    <a:pt x="2058" y="2353"/>
                  </a:lnTo>
                  <a:lnTo>
                    <a:pt x="2043" y="2365"/>
                  </a:lnTo>
                  <a:lnTo>
                    <a:pt x="2028" y="2378"/>
                  </a:lnTo>
                  <a:lnTo>
                    <a:pt x="2011" y="2398"/>
                  </a:lnTo>
                  <a:lnTo>
                    <a:pt x="1993" y="2422"/>
                  </a:lnTo>
                  <a:lnTo>
                    <a:pt x="1976" y="2447"/>
                  </a:lnTo>
                  <a:lnTo>
                    <a:pt x="1961" y="2470"/>
                  </a:lnTo>
                  <a:lnTo>
                    <a:pt x="1946" y="2492"/>
                  </a:lnTo>
                  <a:lnTo>
                    <a:pt x="1933" y="2512"/>
                  </a:lnTo>
                  <a:lnTo>
                    <a:pt x="1923" y="2528"/>
                  </a:lnTo>
                  <a:lnTo>
                    <a:pt x="1913" y="2542"/>
                  </a:lnTo>
                  <a:lnTo>
                    <a:pt x="1904" y="2552"/>
                  </a:lnTo>
                  <a:lnTo>
                    <a:pt x="1898" y="2558"/>
                  </a:lnTo>
                  <a:lnTo>
                    <a:pt x="1891" y="2563"/>
                  </a:lnTo>
                  <a:lnTo>
                    <a:pt x="1884" y="2568"/>
                  </a:lnTo>
                  <a:lnTo>
                    <a:pt x="1874" y="2573"/>
                  </a:lnTo>
                  <a:lnTo>
                    <a:pt x="1864" y="2575"/>
                  </a:lnTo>
                  <a:lnTo>
                    <a:pt x="1853" y="2577"/>
                  </a:lnTo>
                  <a:lnTo>
                    <a:pt x="1843" y="2577"/>
                  </a:lnTo>
                  <a:lnTo>
                    <a:pt x="1833" y="2573"/>
                  </a:lnTo>
                  <a:lnTo>
                    <a:pt x="1823" y="2568"/>
                  </a:lnTo>
                  <a:lnTo>
                    <a:pt x="1814" y="2562"/>
                  </a:lnTo>
                  <a:lnTo>
                    <a:pt x="1806" y="2553"/>
                  </a:lnTo>
                  <a:lnTo>
                    <a:pt x="1799" y="2547"/>
                  </a:lnTo>
                  <a:lnTo>
                    <a:pt x="1794" y="2538"/>
                  </a:lnTo>
                  <a:lnTo>
                    <a:pt x="1787" y="2533"/>
                  </a:lnTo>
                  <a:lnTo>
                    <a:pt x="1781" y="2530"/>
                  </a:lnTo>
                  <a:lnTo>
                    <a:pt x="1772" y="2528"/>
                  </a:lnTo>
                  <a:lnTo>
                    <a:pt x="1764" y="2530"/>
                  </a:lnTo>
                  <a:lnTo>
                    <a:pt x="1752" y="2533"/>
                  </a:lnTo>
                  <a:lnTo>
                    <a:pt x="1739" y="2535"/>
                  </a:lnTo>
                  <a:lnTo>
                    <a:pt x="1722" y="2535"/>
                  </a:lnTo>
                  <a:lnTo>
                    <a:pt x="1704" y="2535"/>
                  </a:lnTo>
                  <a:lnTo>
                    <a:pt x="1684" y="2535"/>
                  </a:lnTo>
                  <a:lnTo>
                    <a:pt x="1666" y="2533"/>
                  </a:lnTo>
                  <a:lnTo>
                    <a:pt x="1647" y="2532"/>
                  </a:lnTo>
                  <a:lnTo>
                    <a:pt x="1632" y="2530"/>
                  </a:lnTo>
                  <a:lnTo>
                    <a:pt x="1617" y="2528"/>
                  </a:lnTo>
                  <a:lnTo>
                    <a:pt x="1602" y="2525"/>
                  </a:lnTo>
                  <a:lnTo>
                    <a:pt x="1589" y="2520"/>
                  </a:lnTo>
                  <a:lnTo>
                    <a:pt x="1574" y="2517"/>
                  </a:lnTo>
                  <a:lnTo>
                    <a:pt x="1561" y="2513"/>
                  </a:lnTo>
                  <a:lnTo>
                    <a:pt x="1549" y="2510"/>
                  </a:lnTo>
                  <a:lnTo>
                    <a:pt x="1537" y="2507"/>
                  </a:lnTo>
                  <a:lnTo>
                    <a:pt x="1527" y="2507"/>
                  </a:lnTo>
                  <a:lnTo>
                    <a:pt x="1514" y="2507"/>
                  </a:lnTo>
                  <a:lnTo>
                    <a:pt x="1492" y="2507"/>
                  </a:lnTo>
                  <a:lnTo>
                    <a:pt x="1466" y="2508"/>
                  </a:lnTo>
                  <a:lnTo>
                    <a:pt x="1436" y="2508"/>
                  </a:lnTo>
                  <a:lnTo>
                    <a:pt x="1409" y="2510"/>
                  </a:lnTo>
                  <a:lnTo>
                    <a:pt x="1386" y="2512"/>
                  </a:lnTo>
                  <a:lnTo>
                    <a:pt x="1369" y="2512"/>
                  </a:lnTo>
                  <a:lnTo>
                    <a:pt x="1362" y="2512"/>
                  </a:lnTo>
                  <a:lnTo>
                    <a:pt x="1361" y="2513"/>
                  </a:lnTo>
                  <a:lnTo>
                    <a:pt x="1356" y="2515"/>
                  </a:lnTo>
                  <a:lnTo>
                    <a:pt x="1349" y="2518"/>
                  </a:lnTo>
                  <a:lnTo>
                    <a:pt x="1339" y="2520"/>
                  </a:lnTo>
                  <a:lnTo>
                    <a:pt x="1329" y="2522"/>
                  </a:lnTo>
                  <a:lnTo>
                    <a:pt x="1317" y="2522"/>
                  </a:lnTo>
                  <a:lnTo>
                    <a:pt x="1304" y="2518"/>
                  </a:lnTo>
                  <a:lnTo>
                    <a:pt x="1292" y="2512"/>
                  </a:lnTo>
                  <a:lnTo>
                    <a:pt x="1281" y="2503"/>
                  </a:lnTo>
                  <a:lnTo>
                    <a:pt x="1272" y="2497"/>
                  </a:lnTo>
                  <a:lnTo>
                    <a:pt x="1266" y="2490"/>
                  </a:lnTo>
                  <a:lnTo>
                    <a:pt x="1261" y="2485"/>
                  </a:lnTo>
                  <a:lnTo>
                    <a:pt x="1256" y="2482"/>
                  </a:lnTo>
                  <a:lnTo>
                    <a:pt x="1250" y="2480"/>
                  </a:lnTo>
                  <a:lnTo>
                    <a:pt x="1245" y="2480"/>
                  </a:lnTo>
                  <a:lnTo>
                    <a:pt x="1239" y="2483"/>
                  </a:lnTo>
                  <a:lnTo>
                    <a:pt x="1232" y="2490"/>
                  </a:lnTo>
                  <a:lnTo>
                    <a:pt x="1235" y="2498"/>
                  </a:lnTo>
                  <a:lnTo>
                    <a:pt x="1240" y="2510"/>
                  </a:lnTo>
                  <a:lnTo>
                    <a:pt x="1239" y="2525"/>
                  </a:lnTo>
                  <a:lnTo>
                    <a:pt x="1234" y="2545"/>
                  </a:lnTo>
                  <a:lnTo>
                    <a:pt x="1232" y="2567"/>
                  </a:lnTo>
                  <a:lnTo>
                    <a:pt x="1234" y="2587"/>
                  </a:lnTo>
                  <a:lnTo>
                    <a:pt x="1234" y="2602"/>
                  </a:lnTo>
                  <a:lnTo>
                    <a:pt x="1230" y="2615"/>
                  </a:lnTo>
                  <a:lnTo>
                    <a:pt x="1225" y="2630"/>
                  </a:lnTo>
                  <a:lnTo>
                    <a:pt x="1219" y="2643"/>
                  </a:lnTo>
                  <a:lnTo>
                    <a:pt x="1215" y="2648"/>
                  </a:lnTo>
                  <a:lnTo>
                    <a:pt x="1177" y="2678"/>
                  </a:lnTo>
                  <a:lnTo>
                    <a:pt x="1175" y="2672"/>
                  </a:lnTo>
                  <a:lnTo>
                    <a:pt x="1170" y="2657"/>
                  </a:lnTo>
                  <a:lnTo>
                    <a:pt x="1167" y="2640"/>
                  </a:lnTo>
                  <a:lnTo>
                    <a:pt x="1167" y="2625"/>
                  </a:lnTo>
                  <a:lnTo>
                    <a:pt x="1167" y="2613"/>
                  </a:lnTo>
                  <a:lnTo>
                    <a:pt x="1164" y="2598"/>
                  </a:lnTo>
                  <a:lnTo>
                    <a:pt x="1154" y="2583"/>
                  </a:lnTo>
                  <a:lnTo>
                    <a:pt x="1144" y="2568"/>
                  </a:lnTo>
                  <a:lnTo>
                    <a:pt x="1134" y="2555"/>
                  </a:lnTo>
                  <a:lnTo>
                    <a:pt x="1124" y="2543"/>
                  </a:lnTo>
                  <a:lnTo>
                    <a:pt x="1115" y="2532"/>
                  </a:lnTo>
                  <a:lnTo>
                    <a:pt x="1110" y="2522"/>
                  </a:lnTo>
                  <a:lnTo>
                    <a:pt x="1107" y="2508"/>
                  </a:lnTo>
                  <a:lnTo>
                    <a:pt x="1104" y="2492"/>
                  </a:lnTo>
                  <a:lnTo>
                    <a:pt x="1095" y="2475"/>
                  </a:lnTo>
                  <a:lnTo>
                    <a:pt x="1082" y="2458"/>
                  </a:lnTo>
                  <a:lnTo>
                    <a:pt x="1072" y="2450"/>
                  </a:lnTo>
                  <a:lnTo>
                    <a:pt x="1059" y="2437"/>
                  </a:lnTo>
                  <a:lnTo>
                    <a:pt x="1044" y="2423"/>
                  </a:lnTo>
                  <a:lnTo>
                    <a:pt x="1029" y="2405"/>
                  </a:lnTo>
                  <a:lnTo>
                    <a:pt x="1014" y="2387"/>
                  </a:lnTo>
                  <a:lnTo>
                    <a:pt x="999" y="2368"/>
                  </a:lnTo>
                  <a:lnTo>
                    <a:pt x="987" y="2350"/>
                  </a:lnTo>
                  <a:lnTo>
                    <a:pt x="979" y="2332"/>
                  </a:lnTo>
                  <a:lnTo>
                    <a:pt x="964" y="2302"/>
                  </a:lnTo>
                  <a:lnTo>
                    <a:pt x="949" y="2280"/>
                  </a:lnTo>
                  <a:lnTo>
                    <a:pt x="937" y="2263"/>
                  </a:lnTo>
                  <a:lnTo>
                    <a:pt x="930" y="2245"/>
                  </a:lnTo>
                  <a:lnTo>
                    <a:pt x="927" y="2231"/>
                  </a:lnTo>
                  <a:lnTo>
                    <a:pt x="920" y="2211"/>
                  </a:lnTo>
                  <a:lnTo>
                    <a:pt x="910" y="2190"/>
                  </a:lnTo>
                  <a:lnTo>
                    <a:pt x="900" y="2166"/>
                  </a:lnTo>
                  <a:lnTo>
                    <a:pt x="890" y="2143"/>
                  </a:lnTo>
                  <a:lnTo>
                    <a:pt x="880" y="2123"/>
                  </a:lnTo>
                  <a:lnTo>
                    <a:pt x="870" y="2108"/>
                  </a:lnTo>
                  <a:lnTo>
                    <a:pt x="864" y="2098"/>
                  </a:lnTo>
                  <a:lnTo>
                    <a:pt x="854" y="2085"/>
                  </a:lnTo>
                  <a:lnTo>
                    <a:pt x="845" y="2071"/>
                  </a:lnTo>
                  <a:lnTo>
                    <a:pt x="834" y="2056"/>
                  </a:lnTo>
                  <a:lnTo>
                    <a:pt x="822" y="2041"/>
                  </a:lnTo>
                  <a:lnTo>
                    <a:pt x="814" y="2033"/>
                  </a:lnTo>
                  <a:lnTo>
                    <a:pt x="802" y="2025"/>
                  </a:lnTo>
                  <a:lnTo>
                    <a:pt x="790" y="2018"/>
                  </a:lnTo>
                  <a:lnTo>
                    <a:pt x="779" y="2010"/>
                  </a:lnTo>
                  <a:lnTo>
                    <a:pt x="765" y="2003"/>
                  </a:lnTo>
                  <a:lnTo>
                    <a:pt x="752" y="1998"/>
                  </a:lnTo>
                  <a:lnTo>
                    <a:pt x="740" y="1995"/>
                  </a:lnTo>
                  <a:lnTo>
                    <a:pt x="730" y="1993"/>
                  </a:lnTo>
                  <a:lnTo>
                    <a:pt x="722" y="1991"/>
                  </a:lnTo>
                  <a:lnTo>
                    <a:pt x="717" y="1988"/>
                  </a:lnTo>
                  <a:lnTo>
                    <a:pt x="710" y="1983"/>
                  </a:lnTo>
                  <a:lnTo>
                    <a:pt x="705" y="1975"/>
                  </a:lnTo>
                  <a:lnTo>
                    <a:pt x="700" y="1966"/>
                  </a:lnTo>
                  <a:lnTo>
                    <a:pt x="693" y="1953"/>
                  </a:lnTo>
                  <a:lnTo>
                    <a:pt x="685" y="1940"/>
                  </a:lnTo>
                  <a:lnTo>
                    <a:pt x="673" y="1923"/>
                  </a:lnTo>
                  <a:lnTo>
                    <a:pt x="662" y="1905"/>
                  </a:lnTo>
                  <a:lnTo>
                    <a:pt x="652" y="1886"/>
                  </a:lnTo>
                  <a:lnTo>
                    <a:pt x="642" y="1868"/>
                  </a:lnTo>
                  <a:lnTo>
                    <a:pt x="635" y="1851"/>
                  </a:lnTo>
                  <a:lnTo>
                    <a:pt x="628" y="1833"/>
                  </a:lnTo>
                  <a:lnTo>
                    <a:pt x="623" y="1818"/>
                  </a:lnTo>
                  <a:lnTo>
                    <a:pt x="620" y="1803"/>
                  </a:lnTo>
                  <a:lnTo>
                    <a:pt x="617" y="1790"/>
                  </a:lnTo>
                  <a:lnTo>
                    <a:pt x="612" y="1765"/>
                  </a:lnTo>
                  <a:lnTo>
                    <a:pt x="603" y="1741"/>
                  </a:lnTo>
                  <a:lnTo>
                    <a:pt x="597" y="1724"/>
                  </a:lnTo>
                  <a:lnTo>
                    <a:pt x="593" y="1718"/>
                  </a:lnTo>
                  <a:lnTo>
                    <a:pt x="600" y="1706"/>
                  </a:lnTo>
                  <a:lnTo>
                    <a:pt x="610" y="1676"/>
                  </a:lnTo>
                  <a:lnTo>
                    <a:pt x="617" y="1636"/>
                  </a:lnTo>
                  <a:lnTo>
                    <a:pt x="607" y="1594"/>
                  </a:lnTo>
                  <a:lnTo>
                    <a:pt x="590" y="1559"/>
                  </a:lnTo>
                  <a:lnTo>
                    <a:pt x="582" y="1531"/>
                  </a:lnTo>
                  <a:lnTo>
                    <a:pt x="573" y="1503"/>
                  </a:lnTo>
                  <a:lnTo>
                    <a:pt x="560" y="1471"/>
                  </a:lnTo>
                  <a:lnTo>
                    <a:pt x="552" y="1454"/>
                  </a:lnTo>
                  <a:lnTo>
                    <a:pt x="547" y="1439"/>
                  </a:lnTo>
                  <a:lnTo>
                    <a:pt x="542" y="1426"/>
                  </a:lnTo>
                  <a:lnTo>
                    <a:pt x="537" y="1413"/>
                  </a:lnTo>
                  <a:lnTo>
                    <a:pt x="532" y="1401"/>
                  </a:lnTo>
                  <a:lnTo>
                    <a:pt x="525" y="1393"/>
                  </a:lnTo>
                  <a:lnTo>
                    <a:pt x="518" y="1383"/>
                  </a:lnTo>
                  <a:lnTo>
                    <a:pt x="508" y="1376"/>
                  </a:lnTo>
                  <a:lnTo>
                    <a:pt x="497" y="1369"/>
                  </a:lnTo>
                  <a:lnTo>
                    <a:pt x="487" y="1361"/>
                  </a:lnTo>
                  <a:lnTo>
                    <a:pt x="475" y="1354"/>
                  </a:lnTo>
                  <a:lnTo>
                    <a:pt x="463" y="1346"/>
                  </a:lnTo>
                  <a:lnTo>
                    <a:pt x="452" y="1338"/>
                  </a:lnTo>
                  <a:lnTo>
                    <a:pt x="440" y="1329"/>
                  </a:lnTo>
                  <a:lnTo>
                    <a:pt x="427" y="1323"/>
                  </a:lnTo>
                  <a:lnTo>
                    <a:pt x="413" y="1316"/>
                  </a:lnTo>
                  <a:lnTo>
                    <a:pt x="392" y="1303"/>
                  </a:lnTo>
                  <a:lnTo>
                    <a:pt x="382" y="1286"/>
                  </a:lnTo>
                  <a:lnTo>
                    <a:pt x="375" y="1268"/>
                  </a:lnTo>
                  <a:lnTo>
                    <a:pt x="365" y="1249"/>
                  </a:lnTo>
                  <a:lnTo>
                    <a:pt x="355" y="1232"/>
                  </a:lnTo>
                  <a:lnTo>
                    <a:pt x="348" y="1219"/>
                  </a:lnTo>
                  <a:lnTo>
                    <a:pt x="347" y="1209"/>
                  </a:lnTo>
                  <a:lnTo>
                    <a:pt x="347" y="1206"/>
                  </a:lnTo>
                  <a:lnTo>
                    <a:pt x="348" y="1206"/>
                  </a:lnTo>
                  <a:lnTo>
                    <a:pt x="353" y="1204"/>
                  </a:lnTo>
                  <a:lnTo>
                    <a:pt x="360" y="1201"/>
                  </a:lnTo>
                  <a:lnTo>
                    <a:pt x="367" y="1194"/>
                  </a:lnTo>
                  <a:lnTo>
                    <a:pt x="370" y="1187"/>
                  </a:lnTo>
                  <a:lnTo>
                    <a:pt x="370" y="1176"/>
                  </a:lnTo>
                  <a:lnTo>
                    <a:pt x="365" y="1162"/>
                  </a:lnTo>
                  <a:lnTo>
                    <a:pt x="352" y="1144"/>
                  </a:lnTo>
                  <a:lnTo>
                    <a:pt x="330" y="1122"/>
                  </a:lnTo>
                  <a:lnTo>
                    <a:pt x="327" y="1122"/>
                  </a:lnTo>
                  <a:lnTo>
                    <a:pt x="330" y="1126"/>
                  </a:lnTo>
                  <a:lnTo>
                    <a:pt x="327" y="1112"/>
                  </a:lnTo>
                  <a:lnTo>
                    <a:pt x="320" y="1091"/>
                  </a:lnTo>
                  <a:lnTo>
                    <a:pt x="315" y="1076"/>
                  </a:lnTo>
                  <a:lnTo>
                    <a:pt x="308" y="1066"/>
                  </a:lnTo>
                  <a:lnTo>
                    <a:pt x="293" y="1054"/>
                  </a:lnTo>
                  <a:lnTo>
                    <a:pt x="283" y="1039"/>
                  </a:lnTo>
                  <a:lnTo>
                    <a:pt x="285" y="1024"/>
                  </a:lnTo>
                  <a:lnTo>
                    <a:pt x="287" y="1011"/>
                  </a:lnTo>
                  <a:lnTo>
                    <a:pt x="275" y="997"/>
                  </a:lnTo>
                  <a:lnTo>
                    <a:pt x="257" y="986"/>
                  </a:lnTo>
                  <a:lnTo>
                    <a:pt x="243" y="971"/>
                  </a:lnTo>
                  <a:lnTo>
                    <a:pt x="235" y="954"/>
                  </a:lnTo>
                  <a:lnTo>
                    <a:pt x="232" y="936"/>
                  </a:lnTo>
                  <a:lnTo>
                    <a:pt x="228" y="916"/>
                  </a:lnTo>
                  <a:lnTo>
                    <a:pt x="218" y="889"/>
                  </a:lnTo>
                  <a:lnTo>
                    <a:pt x="205" y="862"/>
                  </a:lnTo>
                  <a:lnTo>
                    <a:pt x="185" y="836"/>
                  </a:lnTo>
                  <a:lnTo>
                    <a:pt x="172" y="814"/>
                  </a:lnTo>
                  <a:lnTo>
                    <a:pt x="168" y="796"/>
                  </a:lnTo>
                  <a:lnTo>
                    <a:pt x="167" y="782"/>
                  </a:lnTo>
                  <a:lnTo>
                    <a:pt x="157" y="774"/>
                  </a:lnTo>
                  <a:lnTo>
                    <a:pt x="145" y="766"/>
                  </a:lnTo>
                  <a:lnTo>
                    <a:pt x="140" y="754"/>
                  </a:lnTo>
                  <a:lnTo>
                    <a:pt x="133" y="739"/>
                  </a:lnTo>
                  <a:lnTo>
                    <a:pt x="118" y="722"/>
                  </a:lnTo>
                  <a:lnTo>
                    <a:pt x="100" y="700"/>
                  </a:lnTo>
                  <a:lnTo>
                    <a:pt x="86" y="674"/>
                  </a:lnTo>
                  <a:lnTo>
                    <a:pt x="78" y="652"/>
                  </a:lnTo>
                  <a:lnTo>
                    <a:pt x="75" y="642"/>
                  </a:lnTo>
                  <a:lnTo>
                    <a:pt x="70" y="642"/>
                  </a:lnTo>
                  <a:lnTo>
                    <a:pt x="60" y="642"/>
                  </a:lnTo>
                  <a:lnTo>
                    <a:pt x="45" y="642"/>
                  </a:lnTo>
                  <a:lnTo>
                    <a:pt x="33" y="642"/>
                  </a:lnTo>
                  <a:lnTo>
                    <a:pt x="21" y="642"/>
                  </a:lnTo>
                  <a:lnTo>
                    <a:pt x="11" y="644"/>
                  </a:lnTo>
                  <a:lnTo>
                    <a:pt x="3" y="645"/>
                  </a:lnTo>
                  <a:lnTo>
                    <a:pt x="0" y="645"/>
                  </a:lnTo>
                  <a:lnTo>
                    <a:pt x="1" y="642"/>
                  </a:lnTo>
                  <a:lnTo>
                    <a:pt x="5" y="632"/>
                  </a:lnTo>
                  <a:lnTo>
                    <a:pt x="8" y="620"/>
                  </a:lnTo>
                  <a:lnTo>
                    <a:pt x="13" y="609"/>
                  </a:lnTo>
                  <a:lnTo>
                    <a:pt x="20" y="592"/>
                  </a:lnTo>
                  <a:lnTo>
                    <a:pt x="28" y="569"/>
                  </a:lnTo>
                  <a:lnTo>
                    <a:pt x="35" y="542"/>
                  </a:lnTo>
                  <a:lnTo>
                    <a:pt x="38" y="517"/>
                  </a:lnTo>
                  <a:lnTo>
                    <a:pt x="40" y="500"/>
                  </a:lnTo>
                  <a:lnTo>
                    <a:pt x="43" y="489"/>
                  </a:lnTo>
                  <a:lnTo>
                    <a:pt x="50" y="480"/>
                  </a:lnTo>
                  <a:lnTo>
                    <a:pt x="56" y="470"/>
                  </a:lnTo>
                  <a:lnTo>
                    <a:pt x="61" y="457"/>
                  </a:lnTo>
                  <a:lnTo>
                    <a:pt x="65" y="442"/>
                  </a:lnTo>
                  <a:lnTo>
                    <a:pt x="66" y="429"/>
                  </a:lnTo>
                  <a:lnTo>
                    <a:pt x="66" y="424"/>
                  </a:lnTo>
                  <a:lnTo>
                    <a:pt x="232" y="465"/>
                  </a:lnTo>
                  <a:lnTo>
                    <a:pt x="235" y="464"/>
                  </a:lnTo>
                  <a:lnTo>
                    <a:pt x="243" y="457"/>
                  </a:lnTo>
                  <a:lnTo>
                    <a:pt x="257" y="450"/>
                  </a:lnTo>
                  <a:lnTo>
                    <a:pt x="270" y="439"/>
                  </a:lnTo>
                  <a:lnTo>
                    <a:pt x="285" y="429"/>
                  </a:lnTo>
                  <a:lnTo>
                    <a:pt x="298" y="417"/>
                  </a:lnTo>
                  <a:lnTo>
                    <a:pt x="308" y="407"/>
                  </a:lnTo>
                  <a:lnTo>
                    <a:pt x="313" y="399"/>
                  </a:lnTo>
                  <a:lnTo>
                    <a:pt x="318" y="384"/>
                  </a:lnTo>
                  <a:lnTo>
                    <a:pt x="325" y="369"/>
                  </a:lnTo>
                  <a:lnTo>
                    <a:pt x="330" y="357"/>
                  </a:lnTo>
                  <a:lnTo>
                    <a:pt x="332" y="352"/>
                  </a:lnTo>
                  <a:lnTo>
                    <a:pt x="335" y="352"/>
                  </a:lnTo>
                  <a:lnTo>
                    <a:pt x="342" y="352"/>
                  </a:lnTo>
                  <a:lnTo>
                    <a:pt x="353" y="352"/>
                  </a:lnTo>
                  <a:lnTo>
                    <a:pt x="367" y="350"/>
                  </a:lnTo>
                  <a:lnTo>
                    <a:pt x="382" y="350"/>
                  </a:lnTo>
                  <a:lnTo>
                    <a:pt x="398" y="347"/>
                  </a:lnTo>
                  <a:lnTo>
                    <a:pt x="413" y="345"/>
                  </a:lnTo>
                  <a:lnTo>
                    <a:pt x="427" y="342"/>
                  </a:lnTo>
                  <a:lnTo>
                    <a:pt x="438" y="337"/>
                  </a:lnTo>
                  <a:lnTo>
                    <a:pt x="447" y="329"/>
                  </a:lnTo>
                  <a:lnTo>
                    <a:pt x="455" y="319"/>
                  </a:lnTo>
                  <a:lnTo>
                    <a:pt x="462" y="309"/>
                  </a:lnTo>
                  <a:lnTo>
                    <a:pt x="468" y="299"/>
                  </a:lnTo>
                  <a:lnTo>
                    <a:pt x="475" y="290"/>
                  </a:lnTo>
                  <a:lnTo>
                    <a:pt x="483" y="284"/>
                  </a:lnTo>
                  <a:lnTo>
                    <a:pt x="493" y="280"/>
                  </a:lnTo>
                  <a:lnTo>
                    <a:pt x="508" y="275"/>
                  </a:lnTo>
                  <a:lnTo>
                    <a:pt x="513" y="269"/>
                  </a:lnTo>
                  <a:lnTo>
                    <a:pt x="513" y="264"/>
                  </a:lnTo>
                  <a:lnTo>
                    <a:pt x="512" y="262"/>
                  </a:lnTo>
                  <a:lnTo>
                    <a:pt x="380" y="90"/>
                  </a:lnTo>
                  <a:close/>
                </a:path>
              </a:pathLst>
            </a:custGeom>
            <a:solidFill>
              <a:srgbClr val="b2b2b2">
                <a:alpha val="30000"/>
              </a:srgbClr>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508" name=""/>
          <p:cNvSpPr/>
          <p:nvPr/>
        </p:nvSpPr>
        <p:spPr>
          <a:xfrm>
            <a:off x="1258920" y="1157400"/>
            <a:ext cx="6208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333399"/>
                </a:solidFill>
                <a:latin typeface="Albertus Medium"/>
              </a:rPr>
              <a:t>Reporting Has Began</a:t>
            </a:r>
            <a:endParaRPr b="0" lang="en-US" sz="2400" spc="-1" strike="noStrike">
              <a:solidFill>
                <a:srgbClr val="000000"/>
              </a:solidFill>
              <a:latin typeface="Arial"/>
            </a:endParaRPr>
          </a:p>
        </p:txBody>
      </p:sp>
      <p:sp>
        <p:nvSpPr>
          <p:cNvPr id="509" name="PlaceHolder 1"/>
          <p:cNvSpPr>
            <a:spLocks noGrp="1"/>
          </p:cNvSpPr>
          <p:nvPr>
            <p:ph/>
          </p:nvPr>
        </p:nvSpPr>
        <p:spPr>
          <a:xfrm>
            <a:off x="1447920" y="1722600"/>
            <a:ext cx="7238880" cy="4525920"/>
          </a:xfrm>
          <a:prstGeom prst="rect">
            <a:avLst/>
          </a:prstGeom>
          <a:noFill/>
          <a:ln w="0">
            <a:noFill/>
          </a:ln>
        </p:spPr>
        <p:txBody>
          <a:bodyPr lIns="90000" rIns="90000" tIns="46800" bIns="46800" anchor="t">
            <a:normAutofit/>
          </a:bodyPr>
          <a:p>
            <a:pPr marL="341280" indent="-341280">
              <a:lnSpc>
                <a:spcPct val="90000"/>
              </a:lnSpc>
              <a:spcBef>
                <a:spcPts val="601"/>
              </a:spcBef>
              <a:buClr>
                <a:srgbClr val="333399"/>
              </a:buClr>
              <a:buFont typeface="Albertus Medium"/>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333399"/>
                </a:solidFill>
                <a:latin typeface="Albertus Medium"/>
              </a:rPr>
              <a:t>Nanoparticles can damage DNA, increase cancer risk April 17th, 2007 </a:t>
            </a:r>
            <a:r>
              <a:rPr b="0" lang="en-US" sz="2400" spc="-1" strike="noStrike" u="sng">
                <a:solidFill>
                  <a:srgbClr val="ccccff"/>
                </a:solidFill>
                <a:uFillTx/>
                <a:latin typeface="Albertus Medium"/>
                <a:hlinkClick r:id="rId4"/>
              </a:rPr>
              <a:t>www.Physiorg.com</a:t>
            </a:r>
            <a:endParaRPr b="0" lang="en-US" sz="24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600" spc="-1" strike="noStrike">
              <a:solidFill>
                <a:srgbClr val="000000"/>
              </a:solidFill>
              <a:latin typeface="Arial"/>
            </a:endParaRPr>
          </a:p>
          <a:p>
            <a:pPr marL="341280" indent="-341280">
              <a:lnSpc>
                <a:spcPct val="90000"/>
              </a:lnSpc>
              <a:spcBef>
                <a:spcPts val="601"/>
              </a:spcBef>
              <a:buClr>
                <a:srgbClr val="333399"/>
              </a:buClr>
              <a:buFont typeface="Albertus Medium"/>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333399"/>
                </a:solidFill>
                <a:latin typeface="Albertus Medium"/>
              </a:rPr>
              <a:t>Craig A. Poland</a:t>
            </a:r>
            <a:r>
              <a:rPr b="0" lang="en-US" sz="2400" spc="-1" strike="noStrike" u="sng">
                <a:solidFill>
                  <a:srgbClr val="ccccff"/>
                </a:solidFill>
                <a:uFillTx/>
                <a:latin typeface="Albertus Medium"/>
              </a:rPr>
              <a:t>1</a:t>
            </a:r>
            <a:r>
              <a:rPr b="0" lang="en-US" sz="2400" spc="-1" strike="noStrike">
                <a:solidFill>
                  <a:srgbClr val="333399"/>
                </a:solidFill>
                <a:latin typeface="Albertus Medium"/>
              </a:rPr>
              <a:t>, Rodger Duffin</a:t>
            </a:r>
            <a:r>
              <a:rPr b="0" lang="en-US" sz="2400" spc="-1" strike="noStrike" u="sng">
                <a:solidFill>
                  <a:srgbClr val="ccccff"/>
                </a:solidFill>
                <a:uFillTx/>
                <a:latin typeface="Albertus Medium"/>
              </a:rPr>
              <a:t>1</a:t>
            </a:r>
            <a:r>
              <a:rPr b="0" lang="en-US" sz="2400" spc="-1" strike="noStrike">
                <a:solidFill>
                  <a:srgbClr val="333399"/>
                </a:solidFill>
                <a:latin typeface="Albertus Medium"/>
              </a:rPr>
              <a:t>, Ian Kinloch</a:t>
            </a:r>
            <a:r>
              <a:rPr b="0" lang="en-US" sz="2400" spc="-1" strike="noStrike" u="sng">
                <a:solidFill>
                  <a:srgbClr val="ccccff"/>
                </a:solidFill>
                <a:uFillTx/>
                <a:latin typeface="Albertus Medium"/>
              </a:rPr>
              <a:t>2</a:t>
            </a:r>
            <a:r>
              <a:rPr b="0" lang="en-US" sz="2400" spc="-1" strike="noStrike">
                <a:solidFill>
                  <a:srgbClr val="333399"/>
                </a:solidFill>
                <a:latin typeface="Albertus Medium"/>
              </a:rPr>
              <a:t>, Andrew Maynard</a:t>
            </a:r>
            <a:r>
              <a:rPr b="0" lang="en-US" sz="2400" spc="-1" strike="noStrike" u="sng">
                <a:solidFill>
                  <a:srgbClr val="ccccff"/>
                </a:solidFill>
                <a:uFillTx/>
                <a:latin typeface="Albertus Medium"/>
              </a:rPr>
              <a:t>3</a:t>
            </a:r>
            <a:r>
              <a:rPr b="0" lang="en-US" sz="2400" spc="-1" strike="noStrike">
                <a:solidFill>
                  <a:srgbClr val="333399"/>
                </a:solidFill>
                <a:latin typeface="Albertus Medium"/>
              </a:rPr>
              <a:t>, William A. H. Wallace</a:t>
            </a:r>
            <a:r>
              <a:rPr b="0" lang="en-US" sz="2400" spc="-1" strike="noStrike" u="sng">
                <a:solidFill>
                  <a:srgbClr val="ccccff"/>
                </a:solidFill>
                <a:uFillTx/>
                <a:latin typeface="Albertus Medium"/>
              </a:rPr>
              <a:t>1</a:t>
            </a:r>
            <a:r>
              <a:rPr b="0" lang="en-US" sz="2400" spc="-1" strike="noStrike">
                <a:solidFill>
                  <a:srgbClr val="333399"/>
                </a:solidFill>
                <a:latin typeface="Albertus Medium"/>
              </a:rPr>
              <a:t>, Anthony Seaton</a:t>
            </a:r>
            <a:r>
              <a:rPr b="0" lang="en-US" sz="2400" spc="-1" strike="noStrike" u="sng">
                <a:solidFill>
                  <a:srgbClr val="ccccff"/>
                </a:solidFill>
                <a:uFillTx/>
                <a:latin typeface="Albertus Medium"/>
              </a:rPr>
              <a:t>4</a:t>
            </a:r>
            <a:r>
              <a:rPr b="0" lang="en-US" sz="2400" spc="-1" strike="noStrike">
                <a:solidFill>
                  <a:srgbClr val="333399"/>
                </a:solidFill>
                <a:latin typeface="Albertus Medium"/>
              </a:rPr>
              <a:t>, Vicki Stone</a:t>
            </a:r>
            <a:r>
              <a:rPr b="0" lang="en-US" sz="2400" spc="-1" strike="noStrike" u="sng">
                <a:solidFill>
                  <a:srgbClr val="ccccff"/>
                </a:solidFill>
                <a:uFillTx/>
                <a:latin typeface="Albertus Medium"/>
              </a:rPr>
              <a:t>5</a:t>
            </a:r>
            <a:r>
              <a:rPr b="0" lang="en-US" sz="2400" spc="-1" strike="noStrike">
                <a:solidFill>
                  <a:srgbClr val="333399"/>
                </a:solidFill>
                <a:latin typeface="Albertus Medium"/>
              </a:rPr>
              <a:t>, Simon Brown</a:t>
            </a:r>
            <a:r>
              <a:rPr b="0" lang="en-US" sz="2400" spc="-1" strike="noStrike" u="sng">
                <a:solidFill>
                  <a:srgbClr val="ccccff"/>
                </a:solidFill>
                <a:uFillTx/>
                <a:latin typeface="Albertus Medium"/>
              </a:rPr>
              <a:t>1</a:t>
            </a:r>
            <a:r>
              <a:rPr b="0" lang="en-US" sz="2400" spc="-1" strike="noStrike">
                <a:solidFill>
                  <a:srgbClr val="333399"/>
                </a:solidFill>
                <a:latin typeface="Albertus Medium"/>
              </a:rPr>
              <a:t>, William MacNee</a:t>
            </a:r>
            <a:r>
              <a:rPr b="0" lang="en-US" sz="2400" spc="-1" strike="noStrike" u="sng">
                <a:solidFill>
                  <a:srgbClr val="ccccff"/>
                </a:solidFill>
                <a:uFillTx/>
                <a:latin typeface="Albertus Medium"/>
              </a:rPr>
              <a:t>1</a:t>
            </a:r>
            <a:r>
              <a:rPr b="0" lang="en-US" sz="2400" spc="-1" strike="noStrike">
                <a:solidFill>
                  <a:srgbClr val="333399"/>
                </a:solidFill>
                <a:latin typeface="Albertus Medium"/>
              </a:rPr>
              <a:t> &amp; Ken Donaldson</a:t>
            </a:r>
            <a:r>
              <a:rPr b="0" lang="en-US" sz="2400" spc="-1" strike="noStrike" u="sng">
                <a:solidFill>
                  <a:srgbClr val="ccccff"/>
                </a:solidFill>
                <a:uFillTx/>
                <a:latin typeface="Albertus Medium"/>
              </a:rPr>
              <a:t>1</a:t>
            </a:r>
            <a:r>
              <a:rPr b="0" lang="en-US" sz="2400" spc="-1" strike="noStrike">
                <a:solidFill>
                  <a:srgbClr val="333399"/>
                </a:solidFill>
                <a:latin typeface="Albertus Medium"/>
              </a:rPr>
              <a:t> Carbon nanotubes introduced into the abdominal cavity of mice show asbestos-like pathogenicity in a pilot study </a:t>
            </a:r>
            <a:r>
              <a:rPr b="0" i="1" lang="en-US" sz="2400" spc="-1" strike="noStrike">
                <a:solidFill>
                  <a:srgbClr val="333399"/>
                </a:solidFill>
                <a:latin typeface="Albertus Medium"/>
              </a:rPr>
              <a:t>Nature Nanotechnology 3</a:t>
            </a:r>
            <a:r>
              <a:rPr b="0" lang="en-US" sz="2400" spc="-1" strike="noStrike">
                <a:solidFill>
                  <a:srgbClr val="333399"/>
                </a:solidFill>
                <a:latin typeface="Albertus Medium"/>
              </a:rPr>
              <a:t>, 423 - 428 (2008) </a:t>
            </a:r>
            <a:endParaRPr b="0" lang="en-US" sz="2400" spc="-1" strike="noStrike">
              <a:solidFill>
                <a:srgbClr val="000000"/>
              </a:solidFill>
              <a:latin typeface="Arial"/>
            </a:endParaRPr>
          </a:p>
        </p:txBody>
      </p:sp>
      <p:sp>
        <p:nvSpPr>
          <p:cNvPr id="510" name=""/>
          <p:cNvSpPr/>
          <p:nvPr/>
        </p:nvSpPr>
        <p:spPr>
          <a:xfrm>
            <a:off x="609480" y="6629400"/>
            <a:ext cx="8534520" cy="228600"/>
          </a:xfrm>
          <a:prstGeom prst="rect">
            <a:avLst/>
          </a:prstGeom>
          <a:solidFill>
            <a:srgbClr val="bbe0e3"/>
          </a:solidFill>
          <a:ln cap="sq"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99"/>
                </a:solidFill>
                <a:latin typeface="Albertus Medium"/>
              </a:rPr>
              <a:t>www.skinandallergy.org</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0" lang="en-US" sz="1000" spc="-1" strike="noStrike">
                <a:solidFill>
                  <a:srgbClr val="333399"/>
                </a:solidFill>
                <a:latin typeface="Albertus Medium"/>
              </a:rPr>
              <a:t>www.panarabderm.org</a:t>
            </a:r>
            <a:endParaRPr b="0" lang="en-US" sz="10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11" name="" descr=""/>
          <p:cNvPicPr/>
          <p:nvPr/>
        </p:nvPicPr>
        <p:blipFill>
          <a:blip r:embed="rId2"/>
          <a:stretch/>
        </p:blipFill>
        <p:spPr>
          <a:xfrm>
            <a:off x="8153280" y="74520"/>
            <a:ext cx="922320" cy="992160"/>
          </a:xfrm>
          <a:prstGeom prst="rect">
            <a:avLst/>
          </a:prstGeom>
          <a:ln w="0">
            <a:noFill/>
          </a:ln>
        </p:spPr>
      </p:pic>
      <p:sp>
        <p:nvSpPr>
          <p:cNvPr id="512" name=""/>
          <p:cNvSpPr/>
          <p:nvPr/>
        </p:nvSpPr>
        <p:spPr>
          <a:xfrm>
            <a:off x="1295280" y="1066680"/>
            <a:ext cx="6193080" cy="1800"/>
          </a:xfrm>
          <a:prstGeom prst="line">
            <a:avLst/>
          </a:prstGeom>
          <a:ln cap="sq" w="12600">
            <a:solidFill>
              <a:srgbClr val="b2b2b2"/>
            </a:solidFill>
            <a:miter/>
          </a:ln>
        </p:spPr>
        <p:style>
          <a:lnRef idx="0"/>
          <a:fillRef idx="0"/>
          <a:effectRef idx="0"/>
          <a:fontRef idx="minor"/>
        </p:style>
        <p:txBody>
          <a:bodyPr lIns="90000" rIns="90000" tIns="-45000" bIns="-45000" anchor="t">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513" name="" descr=""/>
          <p:cNvPicPr/>
          <p:nvPr/>
        </p:nvPicPr>
        <p:blipFill>
          <a:blip r:embed="rId3"/>
          <a:stretch/>
        </p:blipFill>
        <p:spPr>
          <a:xfrm>
            <a:off x="0" y="0"/>
            <a:ext cx="600120" cy="6858000"/>
          </a:xfrm>
          <a:prstGeom prst="rect">
            <a:avLst/>
          </a:prstGeom>
          <a:ln w="0">
            <a:noFill/>
          </a:ln>
        </p:spPr>
      </p:pic>
      <p:sp>
        <p:nvSpPr>
          <p:cNvPr id="514" name=""/>
          <p:cNvSpPr/>
          <p:nvPr/>
        </p:nvSpPr>
        <p:spPr>
          <a:xfrm>
            <a:off x="0" y="457200"/>
            <a:ext cx="914400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333399"/>
                </a:solidFill>
                <a:latin typeface="Albertus Medium"/>
              </a:rPr>
              <a:t>Conclusion </a:t>
            </a:r>
            <a:endParaRPr b="0" lang="en-US" sz="3600" spc="-1" strike="noStrike">
              <a:solidFill>
                <a:srgbClr val="000000"/>
              </a:solidFill>
              <a:latin typeface="Arial"/>
            </a:endParaRPr>
          </a:p>
        </p:txBody>
      </p:sp>
      <p:grpSp>
        <p:nvGrpSpPr>
          <p:cNvPr id="515" name=""/>
          <p:cNvGrpSpPr/>
          <p:nvPr/>
        </p:nvGrpSpPr>
        <p:grpSpPr>
          <a:xfrm>
            <a:off x="2639880" y="1346040"/>
            <a:ext cx="4521240" cy="3986280"/>
            <a:chOff x="2639880" y="1346040"/>
            <a:chExt cx="4521240" cy="3986280"/>
          </a:xfrm>
        </p:grpSpPr>
        <p:sp>
          <p:nvSpPr>
            <p:cNvPr id="516" name=""/>
            <p:cNvSpPr/>
            <p:nvPr/>
          </p:nvSpPr>
          <p:spPr>
            <a:xfrm>
              <a:off x="2639880" y="2319480"/>
              <a:ext cx="1721160" cy="3012840"/>
            </a:xfrm>
            <a:custGeom>
              <a:avLst/>
              <a:gdLst/>
              <a:ahLst/>
              <a:rect l="l" t="t" r="r" b="b"/>
              <a:pathLst>
                <a:path w="1261" h="2255">
                  <a:moveTo>
                    <a:pt x="1257" y="2027"/>
                  </a:moveTo>
                  <a:lnTo>
                    <a:pt x="1257" y="2015"/>
                  </a:lnTo>
                  <a:lnTo>
                    <a:pt x="1252" y="2000"/>
                  </a:lnTo>
                  <a:lnTo>
                    <a:pt x="1244" y="1985"/>
                  </a:lnTo>
                  <a:lnTo>
                    <a:pt x="1232" y="1970"/>
                  </a:lnTo>
                  <a:lnTo>
                    <a:pt x="1222" y="1956"/>
                  </a:lnTo>
                  <a:lnTo>
                    <a:pt x="1212" y="1945"/>
                  </a:lnTo>
                  <a:lnTo>
                    <a:pt x="1204" y="1933"/>
                  </a:lnTo>
                  <a:lnTo>
                    <a:pt x="1199" y="1921"/>
                  </a:lnTo>
                  <a:lnTo>
                    <a:pt x="1197" y="1910"/>
                  </a:lnTo>
                  <a:lnTo>
                    <a:pt x="1192" y="1893"/>
                  </a:lnTo>
                  <a:lnTo>
                    <a:pt x="1186" y="1876"/>
                  </a:lnTo>
                  <a:lnTo>
                    <a:pt x="1171" y="1860"/>
                  </a:lnTo>
                  <a:lnTo>
                    <a:pt x="1161" y="1851"/>
                  </a:lnTo>
                  <a:lnTo>
                    <a:pt x="1147" y="1838"/>
                  </a:lnTo>
                  <a:lnTo>
                    <a:pt x="1132" y="1823"/>
                  </a:lnTo>
                  <a:lnTo>
                    <a:pt x="1117" y="1806"/>
                  </a:lnTo>
                  <a:lnTo>
                    <a:pt x="1102" y="1788"/>
                  </a:lnTo>
                  <a:lnTo>
                    <a:pt x="1087" y="1770"/>
                  </a:lnTo>
                  <a:lnTo>
                    <a:pt x="1076" y="1750"/>
                  </a:lnTo>
                  <a:lnTo>
                    <a:pt x="1067" y="1731"/>
                  </a:lnTo>
                  <a:lnTo>
                    <a:pt x="1052" y="1703"/>
                  </a:lnTo>
                  <a:lnTo>
                    <a:pt x="1037" y="1681"/>
                  </a:lnTo>
                  <a:lnTo>
                    <a:pt x="1026" y="1665"/>
                  </a:lnTo>
                  <a:lnTo>
                    <a:pt x="1019" y="1646"/>
                  </a:lnTo>
                  <a:lnTo>
                    <a:pt x="1016" y="1633"/>
                  </a:lnTo>
                  <a:lnTo>
                    <a:pt x="1009" y="1613"/>
                  </a:lnTo>
                  <a:lnTo>
                    <a:pt x="999" y="1591"/>
                  </a:lnTo>
                  <a:lnTo>
                    <a:pt x="989" y="1568"/>
                  </a:lnTo>
                  <a:lnTo>
                    <a:pt x="979" y="1545"/>
                  </a:lnTo>
                  <a:lnTo>
                    <a:pt x="969" y="1525"/>
                  </a:lnTo>
                  <a:lnTo>
                    <a:pt x="959" y="1508"/>
                  </a:lnTo>
                  <a:lnTo>
                    <a:pt x="952" y="1499"/>
                  </a:lnTo>
                  <a:lnTo>
                    <a:pt x="942" y="1486"/>
                  </a:lnTo>
                  <a:lnTo>
                    <a:pt x="934" y="1473"/>
                  </a:lnTo>
                  <a:lnTo>
                    <a:pt x="922" y="1458"/>
                  </a:lnTo>
                  <a:lnTo>
                    <a:pt x="911" y="1443"/>
                  </a:lnTo>
                  <a:lnTo>
                    <a:pt x="902" y="1434"/>
                  </a:lnTo>
                  <a:lnTo>
                    <a:pt x="891" y="1426"/>
                  </a:lnTo>
                  <a:lnTo>
                    <a:pt x="879" y="1419"/>
                  </a:lnTo>
                  <a:lnTo>
                    <a:pt x="867" y="1411"/>
                  </a:lnTo>
                  <a:lnTo>
                    <a:pt x="854" y="1404"/>
                  </a:lnTo>
                  <a:lnTo>
                    <a:pt x="842" y="1399"/>
                  </a:lnTo>
                  <a:lnTo>
                    <a:pt x="831" y="1396"/>
                  </a:lnTo>
                  <a:lnTo>
                    <a:pt x="820" y="1394"/>
                  </a:lnTo>
                  <a:lnTo>
                    <a:pt x="812" y="1393"/>
                  </a:lnTo>
                  <a:lnTo>
                    <a:pt x="805" y="1389"/>
                  </a:lnTo>
                  <a:lnTo>
                    <a:pt x="800" y="1384"/>
                  </a:lnTo>
                  <a:lnTo>
                    <a:pt x="794" y="1376"/>
                  </a:lnTo>
                  <a:lnTo>
                    <a:pt x="789" y="1368"/>
                  </a:lnTo>
                  <a:lnTo>
                    <a:pt x="782" y="1354"/>
                  </a:lnTo>
                  <a:lnTo>
                    <a:pt x="774" y="1341"/>
                  </a:lnTo>
                  <a:lnTo>
                    <a:pt x="762" y="1324"/>
                  </a:lnTo>
                  <a:lnTo>
                    <a:pt x="750" y="1306"/>
                  </a:lnTo>
                  <a:lnTo>
                    <a:pt x="740" y="1288"/>
                  </a:lnTo>
                  <a:lnTo>
                    <a:pt x="732" y="1269"/>
                  </a:lnTo>
                  <a:lnTo>
                    <a:pt x="724" y="1253"/>
                  </a:lnTo>
                  <a:lnTo>
                    <a:pt x="717" y="1234"/>
                  </a:lnTo>
                  <a:lnTo>
                    <a:pt x="712" y="1219"/>
                  </a:lnTo>
                  <a:lnTo>
                    <a:pt x="709" y="1204"/>
                  </a:lnTo>
                  <a:lnTo>
                    <a:pt x="705" y="1191"/>
                  </a:lnTo>
                  <a:lnTo>
                    <a:pt x="700" y="1166"/>
                  </a:lnTo>
                  <a:lnTo>
                    <a:pt x="692" y="1143"/>
                  </a:lnTo>
                  <a:lnTo>
                    <a:pt x="685" y="1126"/>
                  </a:lnTo>
                  <a:lnTo>
                    <a:pt x="682" y="1119"/>
                  </a:lnTo>
                  <a:lnTo>
                    <a:pt x="689" y="1108"/>
                  </a:lnTo>
                  <a:lnTo>
                    <a:pt x="700" y="1078"/>
                  </a:lnTo>
                  <a:lnTo>
                    <a:pt x="707" y="1038"/>
                  </a:lnTo>
                  <a:lnTo>
                    <a:pt x="697" y="996"/>
                  </a:lnTo>
                  <a:lnTo>
                    <a:pt x="680" y="961"/>
                  </a:lnTo>
                  <a:lnTo>
                    <a:pt x="670" y="932"/>
                  </a:lnTo>
                  <a:lnTo>
                    <a:pt x="662" y="904"/>
                  </a:lnTo>
                  <a:lnTo>
                    <a:pt x="649" y="872"/>
                  </a:lnTo>
                  <a:lnTo>
                    <a:pt x="640" y="856"/>
                  </a:lnTo>
                  <a:lnTo>
                    <a:pt x="635" y="839"/>
                  </a:lnTo>
                  <a:lnTo>
                    <a:pt x="630" y="826"/>
                  </a:lnTo>
                  <a:lnTo>
                    <a:pt x="625" y="814"/>
                  </a:lnTo>
                  <a:lnTo>
                    <a:pt x="620" y="802"/>
                  </a:lnTo>
                  <a:lnTo>
                    <a:pt x="614" y="792"/>
                  </a:lnTo>
                  <a:lnTo>
                    <a:pt x="607" y="784"/>
                  </a:lnTo>
                  <a:lnTo>
                    <a:pt x="597" y="777"/>
                  </a:lnTo>
                  <a:lnTo>
                    <a:pt x="587" y="771"/>
                  </a:lnTo>
                  <a:lnTo>
                    <a:pt x="575" y="762"/>
                  </a:lnTo>
                  <a:lnTo>
                    <a:pt x="565" y="754"/>
                  </a:lnTo>
                  <a:lnTo>
                    <a:pt x="554" y="744"/>
                  </a:lnTo>
                  <a:lnTo>
                    <a:pt x="542" y="736"/>
                  </a:lnTo>
                  <a:lnTo>
                    <a:pt x="529" y="729"/>
                  </a:lnTo>
                  <a:lnTo>
                    <a:pt x="515" y="721"/>
                  </a:lnTo>
                  <a:lnTo>
                    <a:pt x="502" y="716"/>
                  </a:lnTo>
                  <a:lnTo>
                    <a:pt x="480" y="702"/>
                  </a:lnTo>
                  <a:lnTo>
                    <a:pt x="470" y="686"/>
                  </a:lnTo>
                  <a:lnTo>
                    <a:pt x="464" y="667"/>
                  </a:lnTo>
                  <a:lnTo>
                    <a:pt x="454" y="649"/>
                  </a:lnTo>
                  <a:lnTo>
                    <a:pt x="444" y="634"/>
                  </a:lnTo>
                  <a:lnTo>
                    <a:pt x="437" y="621"/>
                  </a:lnTo>
                  <a:lnTo>
                    <a:pt x="435" y="611"/>
                  </a:lnTo>
                  <a:lnTo>
                    <a:pt x="435" y="607"/>
                  </a:lnTo>
                  <a:lnTo>
                    <a:pt x="437" y="607"/>
                  </a:lnTo>
                  <a:lnTo>
                    <a:pt x="442" y="606"/>
                  </a:lnTo>
                  <a:lnTo>
                    <a:pt x="449" y="602"/>
                  </a:lnTo>
                  <a:lnTo>
                    <a:pt x="455" y="596"/>
                  </a:lnTo>
                  <a:lnTo>
                    <a:pt x="459" y="589"/>
                  </a:lnTo>
                  <a:lnTo>
                    <a:pt x="459" y="577"/>
                  </a:lnTo>
                  <a:lnTo>
                    <a:pt x="454" y="564"/>
                  </a:lnTo>
                  <a:lnTo>
                    <a:pt x="440" y="546"/>
                  </a:lnTo>
                  <a:lnTo>
                    <a:pt x="434" y="539"/>
                  </a:lnTo>
                  <a:lnTo>
                    <a:pt x="429" y="532"/>
                  </a:lnTo>
                  <a:lnTo>
                    <a:pt x="424" y="529"/>
                  </a:lnTo>
                  <a:lnTo>
                    <a:pt x="420" y="526"/>
                  </a:lnTo>
                  <a:lnTo>
                    <a:pt x="419" y="527"/>
                  </a:lnTo>
                  <a:lnTo>
                    <a:pt x="415" y="526"/>
                  </a:lnTo>
                  <a:lnTo>
                    <a:pt x="415" y="522"/>
                  </a:lnTo>
                  <a:lnTo>
                    <a:pt x="420" y="526"/>
                  </a:lnTo>
                  <a:lnTo>
                    <a:pt x="420" y="524"/>
                  </a:lnTo>
                  <a:lnTo>
                    <a:pt x="419" y="521"/>
                  </a:lnTo>
                  <a:lnTo>
                    <a:pt x="419" y="517"/>
                  </a:lnTo>
                  <a:lnTo>
                    <a:pt x="417" y="512"/>
                  </a:lnTo>
                  <a:lnTo>
                    <a:pt x="409" y="490"/>
                  </a:lnTo>
                  <a:lnTo>
                    <a:pt x="405" y="477"/>
                  </a:lnTo>
                  <a:lnTo>
                    <a:pt x="399" y="467"/>
                  </a:lnTo>
                  <a:lnTo>
                    <a:pt x="384" y="455"/>
                  </a:lnTo>
                  <a:lnTo>
                    <a:pt x="372" y="440"/>
                  </a:lnTo>
                  <a:lnTo>
                    <a:pt x="374" y="425"/>
                  </a:lnTo>
                  <a:lnTo>
                    <a:pt x="375" y="412"/>
                  </a:lnTo>
                  <a:lnTo>
                    <a:pt x="364" y="399"/>
                  </a:lnTo>
                  <a:lnTo>
                    <a:pt x="345" y="387"/>
                  </a:lnTo>
                  <a:lnTo>
                    <a:pt x="332" y="372"/>
                  </a:lnTo>
                  <a:lnTo>
                    <a:pt x="325" y="355"/>
                  </a:lnTo>
                  <a:lnTo>
                    <a:pt x="322" y="337"/>
                  </a:lnTo>
                  <a:lnTo>
                    <a:pt x="319" y="317"/>
                  </a:lnTo>
                  <a:lnTo>
                    <a:pt x="309" y="290"/>
                  </a:lnTo>
                  <a:lnTo>
                    <a:pt x="294" y="264"/>
                  </a:lnTo>
                  <a:lnTo>
                    <a:pt x="273" y="237"/>
                  </a:lnTo>
                  <a:lnTo>
                    <a:pt x="260" y="215"/>
                  </a:lnTo>
                  <a:lnTo>
                    <a:pt x="257" y="197"/>
                  </a:lnTo>
                  <a:lnTo>
                    <a:pt x="255" y="184"/>
                  </a:lnTo>
                  <a:lnTo>
                    <a:pt x="245" y="175"/>
                  </a:lnTo>
                  <a:lnTo>
                    <a:pt x="233" y="167"/>
                  </a:lnTo>
                  <a:lnTo>
                    <a:pt x="228" y="154"/>
                  </a:lnTo>
                  <a:lnTo>
                    <a:pt x="222" y="140"/>
                  </a:lnTo>
                  <a:lnTo>
                    <a:pt x="207" y="124"/>
                  </a:lnTo>
                  <a:lnTo>
                    <a:pt x="188" y="100"/>
                  </a:lnTo>
                  <a:lnTo>
                    <a:pt x="175" y="74"/>
                  </a:lnTo>
                  <a:lnTo>
                    <a:pt x="168" y="52"/>
                  </a:lnTo>
                  <a:lnTo>
                    <a:pt x="165" y="42"/>
                  </a:lnTo>
                  <a:lnTo>
                    <a:pt x="160" y="42"/>
                  </a:lnTo>
                  <a:lnTo>
                    <a:pt x="148" y="42"/>
                  </a:lnTo>
                  <a:lnTo>
                    <a:pt x="133" y="42"/>
                  </a:lnTo>
                  <a:lnTo>
                    <a:pt x="122" y="42"/>
                  </a:lnTo>
                  <a:lnTo>
                    <a:pt x="110" y="42"/>
                  </a:lnTo>
                  <a:lnTo>
                    <a:pt x="100" y="44"/>
                  </a:lnTo>
                  <a:lnTo>
                    <a:pt x="92" y="47"/>
                  </a:lnTo>
                  <a:lnTo>
                    <a:pt x="88" y="47"/>
                  </a:lnTo>
                  <a:lnTo>
                    <a:pt x="90" y="44"/>
                  </a:lnTo>
                  <a:lnTo>
                    <a:pt x="93" y="34"/>
                  </a:lnTo>
                  <a:lnTo>
                    <a:pt x="98" y="20"/>
                  </a:lnTo>
                  <a:lnTo>
                    <a:pt x="103" y="8"/>
                  </a:lnTo>
                  <a:lnTo>
                    <a:pt x="103" y="8"/>
                  </a:lnTo>
                  <a:lnTo>
                    <a:pt x="103" y="8"/>
                  </a:lnTo>
                  <a:lnTo>
                    <a:pt x="103" y="8"/>
                  </a:lnTo>
                  <a:lnTo>
                    <a:pt x="103" y="8"/>
                  </a:lnTo>
                  <a:lnTo>
                    <a:pt x="67" y="0"/>
                  </a:lnTo>
                  <a:lnTo>
                    <a:pt x="67" y="5"/>
                  </a:lnTo>
                  <a:lnTo>
                    <a:pt x="65" y="19"/>
                  </a:lnTo>
                  <a:lnTo>
                    <a:pt x="62" y="34"/>
                  </a:lnTo>
                  <a:lnTo>
                    <a:pt x="57" y="47"/>
                  </a:lnTo>
                  <a:lnTo>
                    <a:pt x="50" y="57"/>
                  </a:lnTo>
                  <a:lnTo>
                    <a:pt x="45" y="65"/>
                  </a:lnTo>
                  <a:lnTo>
                    <a:pt x="40" y="79"/>
                  </a:lnTo>
                  <a:lnTo>
                    <a:pt x="38" y="95"/>
                  </a:lnTo>
                  <a:lnTo>
                    <a:pt x="35" y="119"/>
                  </a:lnTo>
                  <a:lnTo>
                    <a:pt x="28" y="145"/>
                  </a:lnTo>
                  <a:lnTo>
                    <a:pt x="20" y="169"/>
                  </a:lnTo>
                  <a:lnTo>
                    <a:pt x="15" y="185"/>
                  </a:lnTo>
                  <a:lnTo>
                    <a:pt x="10" y="197"/>
                  </a:lnTo>
                  <a:lnTo>
                    <a:pt x="5" y="209"/>
                  </a:lnTo>
                  <a:lnTo>
                    <a:pt x="2" y="220"/>
                  </a:lnTo>
                  <a:lnTo>
                    <a:pt x="0" y="224"/>
                  </a:lnTo>
                  <a:lnTo>
                    <a:pt x="3" y="224"/>
                  </a:lnTo>
                  <a:lnTo>
                    <a:pt x="12" y="220"/>
                  </a:lnTo>
                  <a:lnTo>
                    <a:pt x="23" y="219"/>
                  </a:lnTo>
                  <a:lnTo>
                    <a:pt x="33" y="219"/>
                  </a:lnTo>
                  <a:lnTo>
                    <a:pt x="47" y="219"/>
                  </a:lnTo>
                  <a:lnTo>
                    <a:pt x="60" y="219"/>
                  </a:lnTo>
                  <a:lnTo>
                    <a:pt x="72" y="219"/>
                  </a:lnTo>
                  <a:lnTo>
                    <a:pt x="77" y="219"/>
                  </a:lnTo>
                  <a:lnTo>
                    <a:pt x="80" y="229"/>
                  </a:lnTo>
                  <a:lnTo>
                    <a:pt x="87" y="250"/>
                  </a:lnTo>
                  <a:lnTo>
                    <a:pt x="100" y="277"/>
                  </a:lnTo>
                  <a:lnTo>
                    <a:pt x="118" y="299"/>
                  </a:lnTo>
                  <a:lnTo>
                    <a:pt x="133" y="315"/>
                  </a:lnTo>
                  <a:lnTo>
                    <a:pt x="140" y="330"/>
                  </a:lnTo>
                  <a:lnTo>
                    <a:pt x="145" y="342"/>
                  </a:lnTo>
                  <a:lnTo>
                    <a:pt x="157" y="352"/>
                  </a:lnTo>
                  <a:lnTo>
                    <a:pt x="167" y="360"/>
                  </a:lnTo>
                  <a:lnTo>
                    <a:pt x="168" y="374"/>
                  </a:lnTo>
                  <a:lnTo>
                    <a:pt x="172" y="390"/>
                  </a:lnTo>
                  <a:lnTo>
                    <a:pt x="185" y="414"/>
                  </a:lnTo>
                  <a:lnTo>
                    <a:pt x="205" y="440"/>
                  </a:lnTo>
                  <a:lnTo>
                    <a:pt x="220" y="467"/>
                  </a:lnTo>
                  <a:lnTo>
                    <a:pt x="230" y="492"/>
                  </a:lnTo>
                  <a:lnTo>
                    <a:pt x="233" y="512"/>
                  </a:lnTo>
                  <a:lnTo>
                    <a:pt x="237" y="531"/>
                  </a:lnTo>
                  <a:lnTo>
                    <a:pt x="243" y="547"/>
                  </a:lnTo>
                  <a:lnTo>
                    <a:pt x="257" y="562"/>
                  </a:lnTo>
                  <a:lnTo>
                    <a:pt x="275" y="574"/>
                  </a:lnTo>
                  <a:lnTo>
                    <a:pt x="287" y="587"/>
                  </a:lnTo>
                  <a:lnTo>
                    <a:pt x="285" y="601"/>
                  </a:lnTo>
                  <a:lnTo>
                    <a:pt x="284" y="617"/>
                  </a:lnTo>
                  <a:lnTo>
                    <a:pt x="295" y="632"/>
                  </a:lnTo>
                  <a:lnTo>
                    <a:pt x="310" y="642"/>
                  </a:lnTo>
                  <a:lnTo>
                    <a:pt x="317" y="652"/>
                  </a:lnTo>
                  <a:lnTo>
                    <a:pt x="320" y="666"/>
                  </a:lnTo>
                  <a:lnTo>
                    <a:pt x="329" y="687"/>
                  </a:lnTo>
                  <a:lnTo>
                    <a:pt x="330" y="692"/>
                  </a:lnTo>
                  <a:lnTo>
                    <a:pt x="330" y="696"/>
                  </a:lnTo>
                  <a:lnTo>
                    <a:pt x="332" y="697"/>
                  </a:lnTo>
                  <a:lnTo>
                    <a:pt x="332" y="699"/>
                  </a:lnTo>
                  <a:lnTo>
                    <a:pt x="335" y="702"/>
                  </a:lnTo>
                  <a:lnTo>
                    <a:pt x="340" y="707"/>
                  </a:lnTo>
                  <a:lnTo>
                    <a:pt x="345" y="712"/>
                  </a:lnTo>
                  <a:lnTo>
                    <a:pt x="352" y="721"/>
                  </a:lnTo>
                  <a:lnTo>
                    <a:pt x="365" y="737"/>
                  </a:lnTo>
                  <a:lnTo>
                    <a:pt x="370" y="752"/>
                  </a:lnTo>
                  <a:lnTo>
                    <a:pt x="370" y="762"/>
                  </a:lnTo>
                  <a:lnTo>
                    <a:pt x="367" y="771"/>
                  </a:lnTo>
                  <a:lnTo>
                    <a:pt x="360" y="776"/>
                  </a:lnTo>
                  <a:lnTo>
                    <a:pt x="354" y="781"/>
                  </a:lnTo>
                  <a:lnTo>
                    <a:pt x="349" y="782"/>
                  </a:lnTo>
                  <a:lnTo>
                    <a:pt x="347" y="782"/>
                  </a:lnTo>
                  <a:lnTo>
                    <a:pt x="347" y="786"/>
                  </a:lnTo>
                  <a:lnTo>
                    <a:pt x="350" y="794"/>
                  </a:lnTo>
                  <a:lnTo>
                    <a:pt x="355" y="807"/>
                  </a:lnTo>
                  <a:lnTo>
                    <a:pt x="367" y="824"/>
                  </a:lnTo>
                  <a:lnTo>
                    <a:pt x="377" y="842"/>
                  </a:lnTo>
                  <a:lnTo>
                    <a:pt x="384" y="862"/>
                  </a:lnTo>
                  <a:lnTo>
                    <a:pt x="392" y="877"/>
                  </a:lnTo>
                  <a:lnTo>
                    <a:pt x="414" y="891"/>
                  </a:lnTo>
                  <a:lnTo>
                    <a:pt x="427" y="897"/>
                  </a:lnTo>
                  <a:lnTo>
                    <a:pt x="440" y="904"/>
                  </a:lnTo>
                  <a:lnTo>
                    <a:pt x="454" y="912"/>
                  </a:lnTo>
                  <a:lnTo>
                    <a:pt x="465" y="921"/>
                  </a:lnTo>
                  <a:lnTo>
                    <a:pt x="477" y="929"/>
                  </a:lnTo>
                  <a:lnTo>
                    <a:pt x="487" y="937"/>
                  </a:lnTo>
                  <a:lnTo>
                    <a:pt x="499" y="946"/>
                  </a:lnTo>
                  <a:lnTo>
                    <a:pt x="509" y="952"/>
                  </a:lnTo>
                  <a:lnTo>
                    <a:pt x="519" y="961"/>
                  </a:lnTo>
                  <a:lnTo>
                    <a:pt x="525" y="969"/>
                  </a:lnTo>
                  <a:lnTo>
                    <a:pt x="532" y="979"/>
                  </a:lnTo>
                  <a:lnTo>
                    <a:pt x="537" y="989"/>
                  </a:lnTo>
                  <a:lnTo>
                    <a:pt x="542" y="1002"/>
                  </a:lnTo>
                  <a:lnTo>
                    <a:pt x="547" y="1016"/>
                  </a:lnTo>
                  <a:lnTo>
                    <a:pt x="552" y="1031"/>
                  </a:lnTo>
                  <a:lnTo>
                    <a:pt x="560" y="1048"/>
                  </a:lnTo>
                  <a:lnTo>
                    <a:pt x="574" y="1079"/>
                  </a:lnTo>
                  <a:lnTo>
                    <a:pt x="584" y="1108"/>
                  </a:lnTo>
                  <a:lnTo>
                    <a:pt x="592" y="1136"/>
                  </a:lnTo>
                  <a:lnTo>
                    <a:pt x="609" y="1171"/>
                  </a:lnTo>
                  <a:lnTo>
                    <a:pt x="619" y="1213"/>
                  </a:lnTo>
                  <a:lnTo>
                    <a:pt x="612" y="1253"/>
                  </a:lnTo>
                  <a:lnTo>
                    <a:pt x="600" y="1283"/>
                  </a:lnTo>
                  <a:lnTo>
                    <a:pt x="594" y="1294"/>
                  </a:lnTo>
                  <a:lnTo>
                    <a:pt x="597" y="1301"/>
                  </a:lnTo>
                  <a:lnTo>
                    <a:pt x="604" y="1318"/>
                  </a:lnTo>
                  <a:lnTo>
                    <a:pt x="612" y="1341"/>
                  </a:lnTo>
                  <a:lnTo>
                    <a:pt x="617" y="1366"/>
                  </a:lnTo>
                  <a:lnTo>
                    <a:pt x="620" y="1379"/>
                  </a:lnTo>
                  <a:lnTo>
                    <a:pt x="624" y="1394"/>
                  </a:lnTo>
                  <a:lnTo>
                    <a:pt x="629" y="1409"/>
                  </a:lnTo>
                  <a:lnTo>
                    <a:pt x="635" y="1428"/>
                  </a:lnTo>
                  <a:lnTo>
                    <a:pt x="644" y="1444"/>
                  </a:lnTo>
                  <a:lnTo>
                    <a:pt x="654" y="1463"/>
                  </a:lnTo>
                  <a:lnTo>
                    <a:pt x="664" y="1481"/>
                  </a:lnTo>
                  <a:lnTo>
                    <a:pt x="675" y="1499"/>
                  </a:lnTo>
                  <a:lnTo>
                    <a:pt x="687" y="1516"/>
                  </a:lnTo>
                  <a:lnTo>
                    <a:pt x="695" y="1531"/>
                  </a:lnTo>
                  <a:lnTo>
                    <a:pt x="702" y="1543"/>
                  </a:lnTo>
                  <a:lnTo>
                    <a:pt x="707" y="1553"/>
                  </a:lnTo>
                  <a:lnTo>
                    <a:pt x="712" y="1561"/>
                  </a:lnTo>
                  <a:lnTo>
                    <a:pt x="719" y="1566"/>
                  </a:lnTo>
                  <a:lnTo>
                    <a:pt x="724" y="1570"/>
                  </a:lnTo>
                  <a:lnTo>
                    <a:pt x="732" y="1571"/>
                  </a:lnTo>
                  <a:lnTo>
                    <a:pt x="742" y="1573"/>
                  </a:lnTo>
                  <a:lnTo>
                    <a:pt x="754" y="1576"/>
                  </a:lnTo>
                  <a:lnTo>
                    <a:pt x="765" y="1581"/>
                  </a:lnTo>
                  <a:lnTo>
                    <a:pt x="779" y="1588"/>
                  </a:lnTo>
                  <a:lnTo>
                    <a:pt x="792" y="1595"/>
                  </a:lnTo>
                  <a:lnTo>
                    <a:pt x="804" y="1603"/>
                  </a:lnTo>
                  <a:lnTo>
                    <a:pt x="814" y="1611"/>
                  </a:lnTo>
                  <a:lnTo>
                    <a:pt x="822" y="1618"/>
                  </a:lnTo>
                  <a:lnTo>
                    <a:pt x="834" y="1633"/>
                  </a:lnTo>
                  <a:lnTo>
                    <a:pt x="846" y="1648"/>
                  </a:lnTo>
                  <a:lnTo>
                    <a:pt x="856" y="1663"/>
                  </a:lnTo>
                  <a:lnTo>
                    <a:pt x="866" y="1675"/>
                  </a:lnTo>
                  <a:lnTo>
                    <a:pt x="872" y="1685"/>
                  </a:lnTo>
                  <a:lnTo>
                    <a:pt x="881" y="1700"/>
                  </a:lnTo>
                  <a:lnTo>
                    <a:pt x="891" y="1721"/>
                  </a:lnTo>
                  <a:lnTo>
                    <a:pt x="902" y="1743"/>
                  </a:lnTo>
                  <a:lnTo>
                    <a:pt x="912" y="1768"/>
                  </a:lnTo>
                  <a:lnTo>
                    <a:pt x="921" y="1790"/>
                  </a:lnTo>
                  <a:lnTo>
                    <a:pt x="927" y="1810"/>
                  </a:lnTo>
                  <a:lnTo>
                    <a:pt x="931" y="1823"/>
                  </a:lnTo>
                  <a:lnTo>
                    <a:pt x="937" y="1841"/>
                  </a:lnTo>
                  <a:lnTo>
                    <a:pt x="951" y="1858"/>
                  </a:lnTo>
                  <a:lnTo>
                    <a:pt x="964" y="1878"/>
                  </a:lnTo>
                  <a:lnTo>
                    <a:pt x="979" y="1908"/>
                  </a:lnTo>
                  <a:lnTo>
                    <a:pt x="987" y="1926"/>
                  </a:lnTo>
                  <a:lnTo>
                    <a:pt x="999" y="1945"/>
                  </a:lnTo>
                  <a:lnTo>
                    <a:pt x="1014" y="1965"/>
                  </a:lnTo>
                  <a:lnTo>
                    <a:pt x="1029" y="1981"/>
                  </a:lnTo>
                  <a:lnTo>
                    <a:pt x="1044" y="2000"/>
                  </a:lnTo>
                  <a:lnTo>
                    <a:pt x="1059" y="2015"/>
                  </a:lnTo>
                  <a:lnTo>
                    <a:pt x="1072" y="2027"/>
                  </a:lnTo>
                  <a:lnTo>
                    <a:pt x="1084" y="2037"/>
                  </a:lnTo>
                  <a:lnTo>
                    <a:pt x="1097" y="2052"/>
                  </a:lnTo>
                  <a:lnTo>
                    <a:pt x="1106" y="2068"/>
                  </a:lnTo>
                  <a:lnTo>
                    <a:pt x="1109" y="2085"/>
                  </a:lnTo>
                  <a:lnTo>
                    <a:pt x="1112" y="2098"/>
                  </a:lnTo>
                  <a:lnTo>
                    <a:pt x="1117" y="2108"/>
                  </a:lnTo>
                  <a:lnTo>
                    <a:pt x="1126" y="2120"/>
                  </a:lnTo>
                  <a:lnTo>
                    <a:pt x="1136" y="2132"/>
                  </a:lnTo>
                  <a:lnTo>
                    <a:pt x="1146" y="2145"/>
                  </a:lnTo>
                  <a:lnTo>
                    <a:pt x="1156" y="2160"/>
                  </a:lnTo>
                  <a:lnTo>
                    <a:pt x="1164" y="2175"/>
                  </a:lnTo>
                  <a:lnTo>
                    <a:pt x="1169" y="2190"/>
                  </a:lnTo>
                  <a:lnTo>
                    <a:pt x="1169" y="2202"/>
                  </a:lnTo>
                  <a:lnTo>
                    <a:pt x="1169" y="2217"/>
                  </a:lnTo>
                  <a:lnTo>
                    <a:pt x="1172" y="2233"/>
                  </a:lnTo>
                  <a:lnTo>
                    <a:pt x="1177" y="2248"/>
                  </a:lnTo>
                  <a:lnTo>
                    <a:pt x="1179" y="2255"/>
                  </a:lnTo>
                  <a:lnTo>
                    <a:pt x="1216" y="2227"/>
                  </a:lnTo>
                  <a:lnTo>
                    <a:pt x="1219" y="2222"/>
                  </a:lnTo>
                  <a:lnTo>
                    <a:pt x="1226" y="2208"/>
                  </a:lnTo>
                  <a:lnTo>
                    <a:pt x="1232" y="2192"/>
                  </a:lnTo>
                  <a:lnTo>
                    <a:pt x="1236" y="2178"/>
                  </a:lnTo>
                  <a:lnTo>
                    <a:pt x="1236" y="2165"/>
                  </a:lnTo>
                  <a:lnTo>
                    <a:pt x="1234" y="2145"/>
                  </a:lnTo>
                  <a:lnTo>
                    <a:pt x="1236" y="2123"/>
                  </a:lnTo>
                  <a:lnTo>
                    <a:pt x="1241" y="2103"/>
                  </a:lnTo>
                  <a:lnTo>
                    <a:pt x="1241" y="2087"/>
                  </a:lnTo>
                  <a:lnTo>
                    <a:pt x="1236" y="2077"/>
                  </a:lnTo>
                  <a:lnTo>
                    <a:pt x="1234" y="2067"/>
                  </a:lnTo>
                  <a:lnTo>
                    <a:pt x="1241" y="2060"/>
                  </a:lnTo>
                  <a:lnTo>
                    <a:pt x="1246" y="2057"/>
                  </a:lnTo>
                  <a:lnTo>
                    <a:pt x="1251" y="2057"/>
                  </a:lnTo>
                  <a:lnTo>
                    <a:pt x="1256" y="2058"/>
                  </a:lnTo>
                  <a:lnTo>
                    <a:pt x="1261" y="2062"/>
                  </a:lnTo>
                  <a:lnTo>
                    <a:pt x="1259" y="2052"/>
                  </a:lnTo>
                  <a:lnTo>
                    <a:pt x="1257" y="2043"/>
                  </a:lnTo>
                  <a:lnTo>
                    <a:pt x="1256" y="2033"/>
                  </a:lnTo>
                  <a:lnTo>
                    <a:pt x="1257" y="2027"/>
                  </a:lnTo>
                  <a:close/>
                </a:path>
              </a:pathLst>
            </a:custGeom>
            <a:solidFill>
              <a:srgbClr val="ffffff">
                <a:alpha val="10000"/>
              </a:srgbClr>
            </a:solidFill>
            <a:ln cap="sq" w="9360">
              <a:solidFill>
                <a:srgbClr val="ffffff"/>
              </a:solidFill>
              <a:round/>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17" name=""/>
            <p:cNvSpPr/>
            <p:nvPr/>
          </p:nvSpPr>
          <p:spPr>
            <a:xfrm>
              <a:off x="3086280" y="3249720"/>
              <a:ext cx="4680" cy="4680"/>
            </a:xfrm>
            <a:custGeom>
              <a:avLst/>
              <a:gdLst/>
              <a:ahLst/>
              <a:rect l="l" t="t" r="r" b="b"/>
              <a:pathLst>
                <a:path w="5" h="5">
                  <a:moveTo>
                    <a:pt x="5" y="3"/>
                  </a:moveTo>
                  <a:lnTo>
                    <a:pt x="0" y="0"/>
                  </a:lnTo>
                  <a:lnTo>
                    <a:pt x="2" y="3"/>
                  </a:lnTo>
                  <a:lnTo>
                    <a:pt x="3" y="5"/>
                  </a:lnTo>
                  <a:lnTo>
                    <a:pt x="5" y="3"/>
                  </a:lnTo>
                  <a:lnTo>
                    <a:pt x="5" y="3"/>
                  </a:lnTo>
                  <a:close/>
                </a:path>
              </a:pathLst>
            </a:custGeom>
            <a:solidFill>
              <a:srgbClr val="000000"/>
            </a:solidFill>
            <a:ln w="0">
              <a:noFill/>
            </a:ln>
          </p:spPr>
          <p:style>
            <a:lnRef idx="0"/>
            <a:fillRef idx="0"/>
            <a:effectRef idx="0"/>
            <a:fontRef idx="minor"/>
          </p:style>
          <p:txBody>
            <a:bodyPr wrap="none" lIns="90000" rIns="90000" tIns="-42120" bIns="-421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18" name=""/>
            <p:cNvSpPr/>
            <p:nvPr/>
          </p:nvSpPr>
          <p:spPr>
            <a:xfrm>
              <a:off x="4379760" y="4205160"/>
              <a:ext cx="2567160" cy="993960"/>
            </a:xfrm>
            <a:custGeom>
              <a:avLst/>
              <a:gdLst/>
              <a:ahLst/>
              <a:rect l="l" t="t" r="r" b="b"/>
              <a:pathLst>
                <a:path w="1881" h="744">
                  <a:moveTo>
                    <a:pt x="1298" y="222"/>
                  </a:moveTo>
                  <a:lnTo>
                    <a:pt x="1283" y="225"/>
                  </a:lnTo>
                  <a:lnTo>
                    <a:pt x="1263" y="230"/>
                  </a:lnTo>
                  <a:lnTo>
                    <a:pt x="1239" y="235"/>
                  </a:lnTo>
                  <a:lnTo>
                    <a:pt x="1214" y="242"/>
                  </a:lnTo>
                  <a:lnTo>
                    <a:pt x="1186" y="249"/>
                  </a:lnTo>
                  <a:lnTo>
                    <a:pt x="1157" y="255"/>
                  </a:lnTo>
                  <a:lnTo>
                    <a:pt x="1127" y="262"/>
                  </a:lnTo>
                  <a:lnTo>
                    <a:pt x="1097" y="269"/>
                  </a:lnTo>
                  <a:lnTo>
                    <a:pt x="1067" y="275"/>
                  </a:lnTo>
                  <a:lnTo>
                    <a:pt x="1039" y="284"/>
                  </a:lnTo>
                  <a:lnTo>
                    <a:pt x="1012" y="290"/>
                  </a:lnTo>
                  <a:lnTo>
                    <a:pt x="989" y="297"/>
                  </a:lnTo>
                  <a:lnTo>
                    <a:pt x="967" y="302"/>
                  </a:lnTo>
                  <a:lnTo>
                    <a:pt x="949" y="309"/>
                  </a:lnTo>
                  <a:lnTo>
                    <a:pt x="936" y="314"/>
                  </a:lnTo>
                  <a:lnTo>
                    <a:pt x="927" y="317"/>
                  </a:lnTo>
                  <a:lnTo>
                    <a:pt x="914" y="324"/>
                  </a:lnTo>
                  <a:lnTo>
                    <a:pt x="901" y="329"/>
                  </a:lnTo>
                  <a:lnTo>
                    <a:pt x="887" y="337"/>
                  </a:lnTo>
                  <a:lnTo>
                    <a:pt x="872" y="344"/>
                  </a:lnTo>
                  <a:lnTo>
                    <a:pt x="857" y="355"/>
                  </a:lnTo>
                  <a:lnTo>
                    <a:pt x="842" y="369"/>
                  </a:lnTo>
                  <a:lnTo>
                    <a:pt x="826" y="389"/>
                  </a:lnTo>
                  <a:lnTo>
                    <a:pt x="807" y="412"/>
                  </a:lnTo>
                  <a:lnTo>
                    <a:pt x="791" y="437"/>
                  </a:lnTo>
                  <a:lnTo>
                    <a:pt x="776" y="460"/>
                  </a:lnTo>
                  <a:lnTo>
                    <a:pt x="761" y="482"/>
                  </a:lnTo>
                  <a:lnTo>
                    <a:pt x="747" y="502"/>
                  </a:lnTo>
                  <a:lnTo>
                    <a:pt x="737" y="519"/>
                  </a:lnTo>
                  <a:lnTo>
                    <a:pt x="727" y="532"/>
                  </a:lnTo>
                  <a:lnTo>
                    <a:pt x="719" y="542"/>
                  </a:lnTo>
                  <a:lnTo>
                    <a:pt x="712" y="549"/>
                  </a:lnTo>
                  <a:lnTo>
                    <a:pt x="706" y="554"/>
                  </a:lnTo>
                  <a:lnTo>
                    <a:pt x="699" y="559"/>
                  </a:lnTo>
                  <a:lnTo>
                    <a:pt x="689" y="564"/>
                  </a:lnTo>
                  <a:lnTo>
                    <a:pt x="679" y="565"/>
                  </a:lnTo>
                  <a:lnTo>
                    <a:pt x="667" y="567"/>
                  </a:lnTo>
                  <a:lnTo>
                    <a:pt x="657" y="567"/>
                  </a:lnTo>
                  <a:lnTo>
                    <a:pt x="647" y="564"/>
                  </a:lnTo>
                  <a:lnTo>
                    <a:pt x="637" y="559"/>
                  </a:lnTo>
                  <a:lnTo>
                    <a:pt x="629" y="552"/>
                  </a:lnTo>
                  <a:lnTo>
                    <a:pt x="622" y="544"/>
                  </a:lnTo>
                  <a:lnTo>
                    <a:pt x="615" y="535"/>
                  </a:lnTo>
                  <a:lnTo>
                    <a:pt x="609" y="529"/>
                  </a:lnTo>
                  <a:lnTo>
                    <a:pt x="602" y="524"/>
                  </a:lnTo>
                  <a:lnTo>
                    <a:pt x="595" y="520"/>
                  </a:lnTo>
                  <a:lnTo>
                    <a:pt x="589" y="519"/>
                  </a:lnTo>
                  <a:lnTo>
                    <a:pt x="580" y="520"/>
                  </a:lnTo>
                  <a:lnTo>
                    <a:pt x="569" y="524"/>
                  </a:lnTo>
                  <a:lnTo>
                    <a:pt x="554" y="525"/>
                  </a:lnTo>
                  <a:lnTo>
                    <a:pt x="537" y="525"/>
                  </a:lnTo>
                  <a:lnTo>
                    <a:pt x="519" y="525"/>
                  </a:lnTo>
                  <a:lnTo>
                    <a:pt x="499" y="525"/>
                  </a:lnTo>
                  <a:lnTo>
                    <a:pt x="480" y="524"/>
                  </a:lnTo>
                  <a:lnTo>
                    <a:pt x="462" y="522"/>
                  </a:lnTo>
                  <a:lnTo>
                    <a:pt x="447" y="520"/>
                  </a:lnTo>
                  <a:lnTo>
                    <a:pt x="432" y="519"/>
                  </a:lnTo>
                  <a:lnTo>
                    <a:pt x="417" y="515"/>
                  </a:lnTo>
                  <a:lnTo>
                    <a:pt x="404" y="510"/>
                  </a:lnTo>
                  <a:lnTo>
                    <a:pt x="389" y="507"/>
                  </a:lnTo>
                  <a:lnTo>
                    <a:pt x="375" y="504"/>
                  </a:lnTo>
                  <a:lnTo>
                    <a:pt x="364" y="500"/>
                  </a:lnTo>
                  <a:lnTo>
                    <a:pt x="352" y="497"/>
                  </a:lnTo>
                  <a:lnTo>
                    <a:pt x="342" y="497"/>
                  </a:lnTo>
                  <a:lnTo>
                    <a:pt x="329" y="497"/>
                  </a:lnTo>
                  <a:lnTo>
                    <a:pt x="307" y="497"/>
                  </a:lnTo>
                  <a:lnTo>
                    <a:pt x="280" y="499"/>
                  </a:lnTo>
                  <a:lnTo>
                    <a:pt x="250" y="499"/>
                  </a:lnTo>
                  <a:lnTo>
                    <a:pt x="224" y="500"/>
                  </a:lnTo>
                  <a:lnTo>
                    <a:pt x="200" y="502"/>
                  </a:lnTo>
                  <a:lnTo>
                    <a:pt x="184" y="502"/>
                  </a:lnTo>
                  <a:lnTo>
                    <a:pt x="177" y="502"/>
                  </a:lnTo>
                  <a:lnTo>
                    <a:pt x="175" y="504"/>
                  </a:lnTo>
                  <a:lnTo>
                    <a:pt x="170" y="505"/>
                  </a:lnTo>
                  <a:lnTo>
                    <a:pt x="164" y="509"/>
                  </a:lnTo>
                  <a:lnTo>
                    <a:pt x="155" y="510"/>
                  </a:lnTo>
                  <a:lnTo>
                    <a:pt x="144" y="512"/>
                  </a:lnTo>
                  <a:lnTo>
                    <a:pt x="132" y="512"/>
                  </a:lnTo>
                  <a:lnTo>
                    <a:pt x="120" y="509"/>
                  </a:lnTo>
                  <a:lnTo>
                    <a:pt x="107" y="502"/>
                  </a:lnTo>
                  <a:lnTo>
                    <a:pt x="95" y="494"/>
                  </a:lnTo>
                  <a:lnTo>
                    <a:pt x="87" y="485"/>
                  </a:lnTo>
                  <a:lnTo>
                    <a:pt x="80" y="479"/>
                  </a:lnTo>
                  <a:lnTo>
                    <a:pt x="75" y="475"/>
                  </a:lnTo>
                  <a:lnTo>
                    <a:pt x="70" y="472"/>
                  </a:lnTo>
                  <a:lnTo>
                    <a:pt x="65" y="470"/>
                  </a:lnTo>
                  <a:lnTo>
                    <a:pt x="60" y="470"/>
                  </a:lnTo>
                  <a:lnTo>
                    <a:pt x="53" y="474"/>
                  </a:lnTo>
                  <a:lnTo>
                    <a:pt x="47" y="480"/>
                  </a:lnTo>
                  <a:lnTo>
                    <a:pt x="50" y="489"/>
                  </a:lnTo>
                  <a:lnTo>
                    <a:pt x="55" y="500"/>
                  </a:lnTo>
                  <a:lnTo>
                    <a:pt x="53" y="515"/>
                  </a:lnTo>
                  <a:lnTo>
                    <a:pt x="50" y="535"/>
                  </a:lnTo>
                  <a:lnTo>
                    <a:pt x="48" y="557"/>
                  </a:lnTo>
                  <a:lnTo>
                    <a:pt x="50" y="577"/>
                  </a:lnTo>
                  <a:lnTo>
                    <a:pt x="50" y="592"/>
                  </a:lnTo>
                  <a:lnTo>
                    <a:pt x="47" y="606"/>
                  </a:lnTo>
                  <a:lnTo>
                    <a:pt x="40" y="621"/>
                  </a:lnTo>
                  <a:lnTo>
                    <a:pt x="33" y="634"/>
                  </a:lnTo>
                  <a:lnTo>
                    <a:pt x="30" y="639"/>
                  </a:lnTo>
                  <a:lnTo>
                    <a:pt x="0" y="662"/>
                  </a:lnTo>
                  <a:lnTo>
                    <a:pt x="3" y="666"/>
                  </a:lnTo>
                  <a:lnTo>
                    <a:pt x="8" y="669"/>
                  </a:lnTo>
                  <a:lnTo>
                    <a:pt x="13" y="674"/>
                  </a:lnTo>
                  <a:lnTo>
                    <a:pt x="18" y="677"/>
                  </a:lnTo>
                  <a:lnTo>
                    <a:pt x="32" y="684"/>
                  </a:lnTo>
                  <a:lnTo>
                    <a:pt x="43" y="687"/>
                  </a:lnTo>
                  <a:lnTo>
                    <a:pt x="55" y="687"/>
                  </a:lnTo>
                  <a:lnTo>
                    <a:pt x="67" y="686"/>
                  </a:lnTo>
                  <a:lnTo>
                    <a:pt x="77" y="684"/>
                  </a:lnTo>
                  <a:lnTo>
                    <a:pt x="83" y="681"/>
                  </a:lnTo>
                  <a:lnTo>
                    <a:pt x="88" y="679"/>
                  </a:lnTo>
                  <a:lnTo>
                    <a:pt x="90" y="677"/>
                  </a:lnTo>
                  <a:lnTo>
                    <a:pt x="97" y="677"/>
                  </a:lnTo>
                  <a:lnTo>
                    <a:pt x="114" y="677"/>
                  </a:lnTo>
                  <a:lnTo>
                    <a:pt x="137" y="676"/>
                  </a:lnTo>
                  <a:lnTo>
                    <a:pt x="164" y="674"/>
                  </a:lnTo>
                  <a:lnTo>
                    <a:pt x="194" y="674"/>
                  </a:lnTo>
                  <a:lnTo>
                    <a:pt x="220" y="672"/>
                  </a:lnTo>
                  <a:lnTo>
                    <a:pt x="242" y="672"/>
                  </a:lnTo>
                  <a:lnTo>
                    <a:pt x="255" y="672"/>
                  </a:lnTo>
                  <a:lnTo>
                    <a:pt x="265" y="674"/>
                  </a:lnTo>
                  <a:lnTo>
                    <a:pt x="275" y="676"/>
                  </a:lnTo>
                  <a:lnTo>
                    <a:pt x="289" y="679"/>
                  </a:lnTo>
                  <a:lnTo>
                    <a:pt x="302" y="682"/>
                  </a:lnTo>
                  <a:lnTo>
                    <a:pt x="315" y="687"/>
                  </a:lnTo>
                  <a:lnTo>
                    <a:pt x="330" y="691"/>
                  </a:lnTo>
                  <a:lnTo>
                    <a:pt x="344" y="694"/>
                  </a:lnTo>
                  <a:lnTo>
                    <a:pt x="359" y="697"/>
                  </a:lnTo>
                  <a:lnTo>
                    <a:pt x="374" y="699"/>
                  </a:lnTo>
                  <a:lnTo>
                    <a:pt x="392" y="701"/>
                  </a:lnTo>
                  <a:lnTo>
                    <a:pt x="412" y="701"/>
                  </a:lnTo>
                  <a:lnTo>
                    <a:pt x="430" y="702"/>
                  </a:lnTo>
                  <a:lnTo>
                    <a:pt x="450" y="702"/>
                  </a:lnTo>
                  <a:lnTo>
                    <a:pt x="467" y="701"/>
                  </a:lnTo>
                  <a:lnTo>
                    <a:pt x="480" y="701"/>
                  </a:lnTo>
                  <a:lnTo>
                    <a:pt x="492" y="697"/>
                  </a:lnTo>
                  <a:lnTo>
                    <a:pt x="500" y="696"/>
                  </a:lnTo>
                  <a:lnTo>
                    <a:pt x="507" y="696"/>
                  </a:lnTo>
                  <a:lnTo>
                    <a:pt x="514" y="699"/>
                  </a:lnTo>
                  <a:lnTo>
                    <a:pt x="520" y="706"/>
                  </a:lnTo>
                  <a:lnTo>
                    <a:pt x="527" y="712"/>
                  </a:lnTo>
                  <a:lnTo>
                    <a:pt x="534" y="719"/>
                  </a:lnTo>
                  <a:lnTo>
                    <a:pt x="540" y="727"/>
                  </a:lnTo>
                  <a:lnTo>
                    <a:pt x="549" y="734"/>
                  </a:lnTo>
                  <a:lnTo>
                    <a:pt x="559" y="741"/>
                  </a:lnTo>
                  <a:lnTo>
                    <a:pt x="569" y="742"/>
                  </a:lnTo>
                  <a:lnTo>
                    <a:pt x="579" y="744"/>
                  </a:lnTo>
                  <a:lnTo>
                    <a:pt x="590" y="742"/>
                  </a:lnTo>
                  <a:lnTo>
                    <a:pt x="600" y="739"/>
                  </a:lnTo>
                  <a:lnTo>
                    <a:pt x="610" y="736"/>
                  </a:lnTo>
                  <a:lnTo>
                    <a:pt x="619" y="731"/>
                  </a:lnTo>
                  <a:lnTo>
                    <a:pt x="625" y="726"/>
                  </a:lnTo>
                  <a:lnTo>
                    <a:pt x="632" y="719"/>
                  </a:lnTo>
                  <a:lnTo>
                    <a:pt x="639" y="707"/>
                  </a:lnTo>
                  <a:lnTo>
                    <a:pt x="649" y="694"/>
                  </a:lnTo>
                  <a:lnTo>
                    <a:pt x="661" y="677"/>
                  </a:lnTo>
                  <a:lnTo>
                    <a:pt x="672" y="659"/>
                  </a:lnTo>
                  <a:lnTo>
                    <a:pt x="687" y="637"/>
                  </a:lnTo>
                  <a:lnTo>
                    <a:pt x="704" y="614"/>
                  </a:lnTo>
                  <a:lnTo>
                    <a:pt x="721" y="587"/>
                  </a:lnTo>
                  <a:lnTo>
                    <a:pt x="737" y="564"/>
                  </a:lnTo>
                  <a:lnTo>
                    <a:pt x="754" y="544"/>
                  </a:lnTo>
                  <a:lnTo>
                    <a:pt x="769" y="530"/>
                  </a:lnTo>
                  <a:lnTo>
                    <a:pt x="786" y="519"/>
                  </a:lnTo>
                  <a:lnTo>
                    <a:pt x="799" y="512"/>
                  </a:lnTo>
                  <a:lnTo>
                    <a:pt x="812" y="504"/>
                  </a:lnTo>
                  <a:lnTo>
                    <a:pt x="826" y="499"/>
                  </a:lnTo>
                  <a:lnTo>
                    <a:pt x="839" y="492"/>
                  </a:lnTo>
                  <a:lnTo>
                    <a:pt x="847" y="489"/>
                  </a:lnTo>
                  <a:lnTo>
                    <a:pt x="862" y="484"/>
                  </a:lnTo>
                  <a:lnTo>
                    <a:pt x="879" y="479"/>
                  </a:lnTo>
                  <a:lnTo>
                    <a:pt x="901" y="472"/>
                  </a:lnTo>
                  <a:lnTo>
                    <a:pt x="926" y="465"/>
                  </a:lnTo>
                  <a:lnTo>
                    <a:pt x="952" y="459"/>
                  </a:lnTo>
                  <a:lnTo>
                    <a:pt x="981" y="452"/>
                  </a:lnTo>
                  <a:lnTo>
                    <a:pt x="1009" y="444"/>
                  </a:lnTo>
                  <a:lnTo>
                    <a:pt x="1039" y="437"/>
                  </a:lnTo>
                  <a:lnTo>
                    <a:pt x="1069" y="430"/>
                  </a:lnTo>
                  <a:lnTo>
                    <a:pt x="1097" y="424"/>
                  </a:lnTo>
                  <a:lnTo>
                    <a:pt x="1126" y="417"/>
                  </a:lnTo>
                  <a:lnTo>
                    <a:pt x="1151" y="410"/>
                  </a:lnTo>
                  <a:lnTo>
                    <a:pt x="1174" y="405"/>
                  </a:lnTo>
                  <a:lnTo>
                    <a:pt x="1194" y="400"/>
                  </a:lnTo>
                  <a:lnTo>
                    <a:pt x="1209" y="397"/>
                  </a:lnTo>
                  <a:lnTo>
                    <a:pt x="1236" y="390"/>
                  </a:lnTo>
                  <a:lnTo>
                    <a:pt x="1263" y="385"/>
                  </a:lnTo>
                  <a:lnTo>
                    <a:pt x="1289" y="382"/>
                  </a:lnTo>
                  <a:lnTo>
                    <a:pt x="1313" y="379"/>
                  </a:lnTo>
                  <a:lnTo>
                    <a:pt x="1336" y="375"/>
                  </a:lnTo>
                  <a:lnTo>
                    <a:pt x="1354" y="370"/>
                  </a:lnTo>
                  <a:lnTo>
                    <a:pt x="1371" y="365"/>
                  </a:lnTo>
                  <a:lnTo>
                    <a:pt x="1384" y="359"/>
                  </a:lnTo>
                  <a:lnTo>
                    <a:pt x="1394" y="354"/>
                  </a:lnTo>
                  <a:lnTo>
                    <a:pt x="1411" y="345"/>
                  </a:lnTo>
                  <a:lnTo>
                    <a:pt x="1434" y="334"/>
                  </a:lnTo>
                  <a:lnTo>
                    <a:pt x="1463" y="320"/>
                  </a:lnTo>
                  <a:lnTo>
                    <a:pt x="1496" y="307"/>
                  </a:lnTo>
                  <a:lnTo>
                    <a:pt x="1533" y="290"/>
                  </a:lnTo>
                  <a:lnTo>
                    <a:pt x="1571" y="274"/>
                  </a:lnTo>
                  <a:lnTo>
                    <a:pt x="1611" y="255"/>
                  </a:lnTo>
                  <a:lnTo>
                    <a:pt x="1649" y="239"/>
                  </a:lnTo>
                  <a:lnTo>
                    <a:pt x="1688" y="222"/>
                  </a:lnTo>
                  <a:lnTo>
                    <a:pt x="1723" y="207"/>
                  </a:lnTo>
                  <a:lnTo>
                    <a:pt x="1756" y="192"/>
                  </a:lnTo>
                  <a:lnTo>
                    <a:pt x="1783" y="180"/>
                  </a:lnTo>
                  <a:lnTo>
                    <a:pt x="1805" y="170"/>
                  </a:lnTo>
                  <a:lnTo>
                    <a:pt x="1820" y="164"/>
                  </a:lnTo>
                  <a:lnTo>
                    <a:pt x="1826" y="160"/>
                  </a:lnTo>
                  <a:lnTo>
                    <a:pt x="1836" y="152"/>
                  </a:lnTo>
                  <a:lnTo>
                    <a:pt x="1841" y="142"/>
                  </a:lnTo>
                  <a:lnTo>
                    <a:pt x="1845" y="130"/>
                  </a:lnTo>
                  <a:lnTo>
                    <a:pt x="1846" y="117"/>
                  </a:lnTo>
                  <a:lnTo>
                    <a:pt x="1848" y="100"/>
                  </a:lnTo>
                  <a:lnTo>
                    <a:pt x="1851" y="78"/>
                  </a:lnTo>
                  <a:lnTo>
                    <a:pt x="1858" y="57"/>
                  </a:lnTo>
                  <a:lnTo>
                    <a:pt x="1865" y="37"/>
                  </a:lnTo>
                  <a:lnTo>
                    <a:pt x="1868" y="27"/>
                  </a:lnTo>
                  <a:lnTo>
                    <a:pt x="1873" y="18"/>
                  </a:lnTo>
                  <a:lnTo>
                    <a:pt x="1876" y="8"/>
                  </a:lnTo>
                  <a:lnTo>
                    <a:pt x="1881" y="0"/>
                  </a:lnTo>
                  <a:lnTo>
                    <a:pt x="1861" y="10"/>
                  </a:lnTo>
                  <a:lnTo>
                    <a:pt x="1836" y="20"/>
                  </a:lnTo>
                  <a:lnTo>
                    <a:pt x="1808" y="32"/>
                  </a:lnTo>
                  <a:lnTo>
                    <a:pt x="1778" y="45"/>
                  </a:lnTo>
                  <a:lnTo>
                    <a:pt x="1746" y="58"/>
                  </a:lnTo>
                  <a:lnTo>
                    <a:pt x="1714" y="73"/>
                  </a:lnTo>
                  <a:lnTo>
                    <a:pt x="1681" y="88"/>
                  </a:lnTo>
                  <a:lnTo>
                    <a:pt x="1648" y="102"/>
                  </a:lnTo>
                  <a:lnTo>
                    <a:pt x="1616" y="117"/>
                  </a:lnTo>
                  <a:lnTo>
                    <a:pt x="1586" y="130"/>
                  </a:lnTo>
                  <a:lnTo>
                    <a:pt x="1558" y="142"/>
                  </a:lnTo>
                  <a:lnTo>
                    <a:pt x="1533" y="154"/>
                  </a:lnTo>
                  <a:lnTo>
                    <a:pt x="1511" y="164"/>
                  </a:lnTo>
                  <a:lnTo>
                    <a:pt x="1493" y="174"/>
                  </a:lnTo>
                  <a:lnTo>
                    <a:pt x="1479" y="179"/>
                  </a:lnTo>
                  <a:lnTo>
                    <a:pt x="1473" y="184"/>
                  </a:lnTo>
                  <a:lnTo>
                    <a:pt x="1459" y="190"/>
                  </a:lnTo>
                  <a:lnTo>
                    <a:pt x="1443" y="195"/>
                  </a:lnTo>
                  <a:lnTo>
                    <a:pt x="1423" y="199"/>
                  </a:lnTo>
                  <a:lnTo>
                    <a:pt x="1401" y="202"/>
                  </a:lnTo>
                  <a:lnTo>
                    <a:pt x="1376" y="205"/>
                  </a:lnTo>
                  <a:lnTo>
                    <a:pt x="1351" y="210"/>
                  </a:lnTo>
                  <a:lnTo>
                    <a:pt x="1324" y="215"/>
                  </a:lnTo>
                  <a:lnTo>
                    <a:pt x="1298" y="222"/>
                  </a:lnTo>
                  <a:close/>
                </a:path>
              </a:pathLst>
            </a:custGeom>
            <a:solidFill>
              <a:srgbClr val="ffffff">
                <a:alpha val="20000"/>
              </a:srgbClr>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19" name=""/>
            <p:cNvSpPr/>
            <p:nvPr/>
          </p:nvSpPr>
          <p:spPr>
            <a:xfrm>
              <a:off x="2813040" y="1346040"/>
              <a:ext cx="4348080" cy="3579840"/>
            </a:xfrm>
            <a:custGeom>
              <a:avLst/>
              <a:gdLst/>
              <a:ahLst/>
              <a:rect l="l" t="t" r="r" b="b"/>
              <a:pathLst>
                <a:path w="3185" h="2678">
                  <a:moveTo>
                    <a:pt x="380" y="90"/>
                  </a:moveTo>
                  <a:lnTo>
                    <a:pt x="683" y="28"/>
                  </a:lnTo>
                  <a:lnTo>
                    <a:pt x="693" y="0"/>
                  </a:lnTo>
                  <a:lnTo>
                    <a:pt x="695" y="0"/>
                  </a:lnTo>
                  <a:lnTo>
                    <a:pt x="698" y="0"/>
                  </a:lnTo>
                  <a:lnTo>
                    <a:pt x="704" y="0"/>
                  </a:lnTo>
                  <a:lnTo>
                    <a:pt x="712" y="0"/>
                  </a:lnTo>
                  <a:lnTo>
                    <a:pt x="720" y="0"/>
                  </a:lnTo>
                  <a:lnTo>
                    <a:pt x="734" y="2"/>
                  </a:lnTo>
                  <a:lnTo>
                    <a:pt x="747" y="5"/>
                  </a:lnTo>
                  <a:lnTo>
                    <a:pt x="764" y="10"/>
                  </a:lnTo>
                  <a:lnTo>
                    <a:pt x="782" y="15"/>
                  </a:lnTo>
                  <a:lnTo>
                    <a:pt x="799" y="20"/>
                  </a:lnTo>
                  <a:lnTo>
                    <a:pt x="817" y="23"/>
                  </a:lnTo>
                  <a:lnTo>
                    <a:pt x="832" y="28"/>
                  </a:lnTo>
                  <a:lnTo>
                    <a:pt x="847" y="32"/>
                  </a:lnTo>
                  <a:lnTo>
                    <a:pt x="862" y="35"/>
                  </a:lnTo>
                  <a:lnTo>
                    <a:pt x="874" y="40"/>
                  </a:lnTo>
                  <a:lnTo>
                    <a:pt x="884" y="43"/>
                  </a:lnTo>
                  <a:lnTo>
                    <a:pt x="894" y="48"/>
                  </a:lnTo>
                  <a:lnTo>
                    <a:pt x="907" y="57"/>
                  </a:lnTo>
                  <a:lnTo>
                    <a:pt x="924" y="68"/>
                  </a:lnTo>
                  <a:lnTo>
                    <a:pt x="942" y="82"/>
                  </a:lnTo>
                  <a:lnTo>
                    <a:pt x="962" y="97"/>
                  </a:lnTo>
                  <a:lnTo>
                    <a:pt x="985" y="112"/>
                  </a:lnTo>
                  <a:lnTo>
                    <a:pt x="1009" y="127"/>
                  </a:lnTo>
                  <a:lnTo>
                    <a:pt x="1035" y="142"/>
                  </a:lnTo>
                  <a:lnTo>
                    <a:pt x="1060" y="155"/>
                  </a:lnTo>
                  <a:lnTo>
                    <a:pt x="1080" y="168"/>
                  </a:lnTo>
                  <a:lnTo>
                    <a:pt x="1099" y="180"/>
                  </a:lnTo>
                  <a:lnTo>
                    <a:pt x="1114" y="190"/>
                  </a:lnTo>
                  <a:lnTo>
                    <a:pt x="1124" y="197"/>
                  </a:lnTo>
                  <a:lnTo>
                    <a:pt x="1132" y="203"/>
                  </a:lnTo>
                  <a:lnTo>
                    <a:pt x="1137" y="207"/>
                  </a:lnTo>
                  <a:lnTo>
                    <a:pt x="1139" y="208"/>
                  </a:lnTo>
                  <a:lnTo>
                    <a:pt x="1142" y="210"/>
                  </a:lnTo>
                  <a:lnTo>
                    <a:pt x="1150" y="215"/>
                  </a:lnTo>
                  <a:lnTo>
                    <a:pt x="1162" y="223"/>
                  </a:lnTo>
                  <a:lnTo>
                    <a:pt x="1177" y="233"/>
                  </a:lnTo>
                  <a:lnTo>
                    <a:pt x="1192" y="243"/>
                  </a:lnTo>
                  <a:lnTo>
                    <a:pt x="1205" y="255"/>
                  </a:lnTo>
                  <a:lnTo>
                    <a:pt x="1217" y="265"/>
                  </a:lnTo>
                  <a:lnTo>
                    <a:pt x="1225" y="275"/>
                  </a:lnTo>
                  <a:lnTo>
                    <a:pt x="1234" y="285"/>
                  </a:lnTo>
                  <a:lnTo>
                    <a:pt x="1245" y="297"/>
                  </a:lnTo>
                  <a:lnTo>
                    <a:pt x="1259" y="310"/>
                  </a:lnTo>
                  <a:lnTo>
                    <a:pt x="1276" y="325"/>
                  </a:lnTo>
                  <a:lnTo>
                    <a:pt x="1292" y="340"/>
                  </a:lnTo>
                  <a:lnTo>
                    <a:pt x="1309" y="354"/>
                  </a:lnTo>
                  <a:lnTo>
                    <a:pt x="1324" y="365"/>
                  </a:lnTo>
                  <a:lnTo>
                    <a:pt x="1334" y="375"/>
                  </a:lnTo>
                  <a:lnTo>
                    <a:pt x="1346" y="385"/>
                  </a:lnTo>
                  <a:lnTo>
                    <a:pt x="1362" y="397"/>
                  </a:lnTo>
                  <a:lnTo>
                    <a:pt x="1381" y="410"/>
                  </a:lnTo>
                  <a:lnTo>
                    <a:pt x="1401" y="424"/>
                  </a:lnTo>
                  <a:lnTo>
                    <a:pt x="1421" y="437"/>
                  </a:lnTo>
                  <a:lnTo>
                    <a:pt x="1436" y="445"/>
                  </a:lnTo>
                  <a:lnTo>
                    <a:pt x="1447" y="454"/>
                  </a:lnTo>
                  <a:lnTo>
                    <a:pt x="1451" y="455"/>
                  </a:lnTo>
                  <a:lnTo>
                    <a:pt x="1489" y="509"/>
                  </a:lnTo>
                  <a:lnTo>
                    <a:pt x="1497" y="509"/>
                  </a:lnTo>
                  <a:lnTo>
                    <a:pt x="1517" y="509"/>
                  </a:lnTo>
                  <a:lnTo>
                    <a:pt x="1546" y="509"/>
                  </a:lnTo>
                  <a:lnTo>
                    <a:pt x="1581" y="509"/>
                  </a:lnTo>
                  <a:lnTo>
                    <a:pt x="1617" y="510"/>
                  </a:lnTo>
                  <a:lnTo>
                    <a:pt x="1651" y="514"/>
                  </a:lnTo>
                  <a:lnTo>
                    <a:pt x="1677" y="520"/>
                  </a:lnTo>
                  <a:lnTo>
                    <a:pt x="1694" y="527"/>
                  </a:lnTo>
                  <a:lnTo>
                    <a:pt x="1696" y="527"/>
                  </a:lnTo>
                  <a:lnTo>
                    <a:pt x="1702" y="525"/>
                  </a:lnTo>
                  <a:lnTo>
                    <a:pt x="1712" y="522"/>
                  </a:lnTo>
                  <a:lnTo>
                    <a:pt x="1722" y="520"/>
                  </a:lnTo>
                  <a:lnTo>
                    <a:pt x="1736" y="519"/>
                  </a:lnTo>
                  <a:lnTo>
                    <a:pt x="1747" y="515"/>
                  </a:lnTo>
                  <a:lnTo>
                    <a:pt x="1759" y="514"/>
                  </a:lnTo>
                  <a:lnTo>
                    <a:pt x="1769" y="514"/>
                  </a:lnTo>
                  <a:lnTo>
                    <a:pt x="1782" y="515"/>
                  </a:lnTo>
                  <a:lnTo>
                    <a:pt x="1801" y="519"/>
                  </a:lnTo>
                  <a:lnTo>
                    <a:pt x="1823" y="522"/>
                  </a:lnTo>
                  <a:lnTo>
                    <a:pt x="1848" y="527"/>
                  </a:lnTo>
                  <a:lnTo>
                    <a:pt x="1869" y="534"/>
                  </a:lnTo>
                  <a:lnTo>
                    <a:pt x="1889" y="537"/>
                  </a:lnTo>
                  <a:lnTo>
                    <a:pt x="1903" y="540"/>
                  </a:lnTo>
                  <a:lnTo>
                    <a:pt x="1908" y="542"/>
                  </a:lnTo>
                  <a:lnTo>
                    <a:pt x="1926" y="604"/>
                  </a:lnTo>
                  <a:lnTo>
                    <a:pt x="2044" y="604"/>
                  </a:lnTo>
                  <a:lnTo>
                    <a:pt x="2064" y="689"/>
                  </a:lnTo>
                  <a:lnTo>
                    <a:pt x="2071" y="692"/>
                  </a:lnTo>
                  <a:lnTo>
                    <a:pt x="2083" y="704"/>
                  </a:lnTo>
                  <a:lnTo>
                    <a:pt x="2093" y="722"/>
                  </a:lnTo>
                  <a:lnTo>
                    <a:pt x="2093" y="746"/>
                  </a:lnTo>
                  <a:lnTo>
                    <a:pt x="2116" y="784"/>
                  </a:lnTo>
                  <a:lnTo>
                    <a:pt x="2154" y="769"/>
                  </a:lnTo>
                  <a:lnTo>
                    <a:pt x="2158" y="774"/>
                  </a:lnTo>
                  <a:lnTo>
                    <a:pt x="2164" y="786"/>
                  </a:lnTo>
                  <a:lnTo>
                    <a:pt x="2169" y="801"/>
                  </a:lnTo>
                  <a:lnTo>
                    <a:pt x="2173" y="812"/>
                  </a:lnTo>
                  <a:lnTo>
                    <a:pt x="2176" y="824"/>
                  </a:lnTo>
                  <a:lnTo>
                    <a:pt x="2183" y="834"/>
                  </a:lnTo>
                  <a:lnTo>
                    <a:pt x="2189" y="842"/>
                  </a:lnTo>
                  <a:lnTo>
                    <a:pt x="2193" y="846"/>
                  </a:lnTo>
                  <a:lnTo>
                    <a:pt x="2201" y="822"/>
                  </a:lnTo>
                  <a:lnTo>
                    <a:pt x="2226" y="869"/>
                  </a:lnTo>
                  <a:lnTo>
                    <a:pt x="2228" y="869"/>
                  </a:lnTo>
                  <a:lnTo>
                    <a:pt x="2234" y="871"/>
                  </a:lnTo>
                  <a:lnTo>
                    <a:pt x="2244" y="874"/>
                  </a:lnTo>
                  <a:lnTo>
                    <a:pt x="2254" y="877"/>
                  </a:lnTo>
                  <a:lnTo>
                    <a:pt x="2266" y="882"/>
                  </a:lnTo>
                  <a:lnTo>
                    <a:pt x="2276" y="887"/>
                  </a:lnTo>
                  <a:lnTo>
                    <a:pt x="2284" y="894"/>
                  </a:lnTo>
                  <a:lnTo>
                    <a:pt x="2288" y="902"/>
                  </a:lnTo>
                  <a:lnTo>
                    <a:pt x="2289" y="921"/>
                  </a:lnTo>
                  <a:lnTo>
                    <a:pt x="2293" y="937"/>
                  </a:lnTo>
                  <a:lnTo>
                    <a:pt x="2296" y="952"/>
                  </a:lnTo>
                  <a:lnTo>
                    <a:pt x="2306" y="964"/>
                  </a:lnTo>
                  <a:lnTo>
                    <a:pt x="2316" y="979"/>
                  </a:lnTo>
                  <a:lnTo>
                    <a:pt x="2321" y="996"/>
                  </a:lnTo>
                  <a:lnTo>
                    <a:pt x="2318" y="1011"/>
                  </a:lnTo>
                  <a:lnTo>
                    <a:pt x="2311" y="1017"/>
                  </a:lnTo>
                  <a:lnTo>
                    <a:pt x="2303" y="1019"/>
                  </a:lnTo>
                  <a:lnTo>
                    <a:pt x="2299" y="1024"/>
                  </a:lnTo>
                  <a:lnTo>
                    <a:pt x="2301" y="1032"/>
                  </a:lnTo>
                  <a:lnTo>
                    <a:pt x="2306" y="1046"/>
                  </a:lnTo>
                  <a:lnTo>
                    <a:pt x="2313" y="1061"/>
                  </a:lnTo>
                  <a:lnTo>
                    <a:pt x="2319" y="1076"/>
                  </a:lnTo>
                  <a:lnTo>
                    <a:pt x="2324" y="1092"/>
                  </a:lnTo>
                  <a:lnTo>
                    <a:pt x="2329" y="1107"/>
                  </a:lnTo>
                  <a:lnTo>
                    <a:pt x="2336" y="1117"/>
                  </a:lnTo>
                  <a:lnTo>
                    <a:pt x="2344" y="1121"/>
                  </a:lnTo>
                  <a:lnTo>
                    <a:pt x="2351" y="1121"/>
                  </a:lnTo>
                  <a:lnTo>
                    <a:pt x="2354" y="1121"/>
                  </a:lnTo>
                  <a:lnTo>
                    <a:pt x="2356" y="1129"/>
                  </a:lnTo>
                  <a:lnTo>
                    <a:pt x="2365" y="1149"/>
                  </a:lnTo>
                  <a:lnTo>
                    <a:pt x="2375" y="1174"/>
                  </a:lnTo>
                  <a:lnTo>
                    <a:pt x="2388" y="1192"/>
                  </a:lnTo>
                  <a:lnTo>
                    <a:pt x="2395" y="1201"/>
                  </a:lnTo>
                  <a:lnTo>
                    <a:pt x="2400" y="1209"/>
                  </a:lnTo>
                  <a:lnTo>
                    <a:pt x="2405" y="1217"/>
                  </a:lnTo>
                  <a:lnTo>
                    <a:pt x="2411" y="1227"/>
                  </a:lnTo>
                  <a:lnTo>
                    <a:pt x="2416" y="1236"/>
                  </a:lnTo>
                  <a:lnTo>
                    <a:pt x="2425" y="1244"/>
                  </a:lnTo>
                  <a:lnTo>
                    <a:pt x="2433" y="1253"/>
                  </a:lnTo>
                  <a:lnTo>
                    <a:pt x="2445" y="1259"/>
                  </a:lnTo>
                  <a:lnTo>
                    <a:pt x="2456" y="1263"/>
                  </a:lnTo>
                  <a:lnTo>
                    <a:pt x="2468" y="1263"/>
                  </a:lnTo>
                  <a:lnTo>
                    <a:pt x="2478" y="1263"/>
                  </a:lnTo>
                  <a:lnTo>
                    <a:pt x="2486" y="1259"/>
                  </a:lnTo>
                  <a:lnTo>
                    <a:pt x="2493" y="1256"/>
                  </a:lnTo>
                  <a:lnTo>
                    <a:pt x="2498" y="1253"/>
                  </a:lnTo>
                  <a:lnTo>
                    <a:pt x="2500" y="1251"/>
                  </a:lnTo>
                  <a:lnTo>
                    <a:pt x="2501" y="1249"/>
                  </a:lnTo>
                  <a:lnTo>
                    <a:pt x="2520" y="1259"/>
                  </a:lnTo>
                  <a:lnTo>
                    <a:pt x="2501" y="1293"/>
                  </a:lnTo>
                  <a:lnTo>
                    <a:pt x="2501" y="1294"/>
                  </a:lnTo>
                  <a:lnTo>
                    <a:pt x="2501" y="1299"/>
                  </a:lnTo>
                  <a:lnTo>
                    <a:pt x="2503" y="1304"/>
                  </a:lnTo>
                  <a:lnTo>
                    <a:pt x="2511" y="1306"/>
                  </a:lnTo>
                  <a:lnTo>
                    <a:pt x="2521" y="1314"/>
                  </a:lnTo>
                  <a:lnTo>
                    <a:pt x="2531" y="1329"/>
                  </a:lnTo>
                  <a:lnTo>
                    <a:pt x="2536" y="1346"/>
                  </a:lnTo>
                  <a:lnTo>
                    <a:pt x="2540" y="1354"/>
                  </a:lnTo>
                  <a:lnTo>
                    <a:pt x="2541" y="1356"/>
                  </a:lnTo>
                  <a:lnTo>
                    <a:pt x="2546" y="1361"/>
                  </a:lnTo>
                  <a:lnTo>
                    <a:pt x="2553" y="1368"/>
                  </a:lnTo>
                  <a:lnTo>
                    <a:pt x="2561" y="1378"/>
                  </a:lnTo>
                  <a:lnTo>
                    <a:pt x="2571" y="1388"/>
                  </a:lnTo>
                  <a:lnTo>
                    <a:pt x="2583" y="1401"/>
                  </a:lnTo>
                  <a:lnTo>
                    <a:pt x="2595" y="1414"/>
                  </a:lnTo>
                  <a:lnTo>
                    <a:pt x="2606" y="1428"/>
                  </a:lnTo>
                  <a:lnTo>
                    <a:pt x="2618" y="1443"/>
                  </a:lnTo>
                  <a:lnTo>
                    <a:pt x="2631" y="1458"/>
                  </a:lnTo>
                  <a:lnTo>
                    <a:pt x="2645" y="1473"/>
                  </a:lnTo>
                  <a:lnTo>
                    <a:pt x="2658" y="1488"/>
                  </a:lnTo>
                  <a:lnTo>
                    <a:pt x="2670" y="1501"/>
                  </a:lnTo>
                  <a:lnTo>
                    <a:pt x="2680" y="1511"/>
                  </a:lnTo>
                  <a:lnTo>
                    <a:pt x="2688" y="1521"/>
                  </a:lnTo>
                  <a:lnTo>
                    <a:pt x="2691" y="1528"/>
                  </a:lnTo>
                  <a:lnTo>
                    <a:pt x="2701" y="1533"/>
                  </a:lnTo>
                  <a:lnTo>
                    <a:pt x="2723" y="1538"/>
                  </a:lnTo>
                  <a:lnTo>
                    <a:pt x="2753" y="1543"/>
                  </a:lnTo>
                  <a:lnTo>
                    <a:pt x="2790" y="1546"/>
                  </a:lnTo>
                  <a:lnTo>
                    <a:pt x="2828" y="1549"/>
                  </a:lnTo>
                  <a:lnTo>
                    <a:pt x="2863" y="1551"/>
                  </a:lnTo>
                  <a:lnTo>
                    <a:pt x="2891" y="1554"/>
                  </a:lnTo>
                  <a:lnTo>
                    <a:pt x="2910" y="1556"/>
                  </a:lnTo>
                  <a:lnTo>
                    <a:pt x="2925" y="1558"/>
                  </a:lnTo>
                  <a:lnTo>
                    <a:pt x="2945" y="1559"/>
                  </a:lnTo>
                  <a:lnTo>
                    <a:pt x="2968" y="1561"/>
                  </a:lnTo>
                  <a:lnTo>
                    <a:pt x="2992" y="1563"/>
                  </a:lnTo>
                  <a:lnTo>
                    <a:pt x="3013" y="1566"/>
                  </a:lnTo>
                  <a:lnTo>
                    <a:pt x="3033" y="1568"/>
                  </a:lnTo>
                  <a:lnTo>
                    <a:pt x="3048" y="1569"/>
                  </a:lnTo>
                  <a:lnTo>
                    <a:pt x="3057" y="1571"/>
                  </a:lnTo>
                  <a:lnTo>
                    <a:pt x="3070" y="1569"/>
                  </a:lnTo>
                  <a:lnTo>
                    <a:pt x="3083" y="1563"/>
                  </a:lnTo>
                  <a:lnTo>
                    <a:pt x="3095" y="1554"/>
                  </a:lnTo>
                  <a:lnTo>
                    <a:pt x="3100" y="1551"/>
                  </a:lnTo>
                  <a:lnTo>
                    <a:pt x="3102" y="1553"/>
                  </a:lnTo>
                  <a:lnTo>
                    <a:pt x="3105" y="1556"/>
                  </a:lnTo>
                  <a:lnTo>
                    <a:pt x="3112" y="1561"/>
                  </a:lnTo>
                  <a:lnTo>
                    <a:pt x="3120" y="1568"/>
                  </a:lnTo>
                  <a:lnTo>
                    <a:pt x="3130" y="1576"/>
                  </a:lnTo>
                  <a:lnTo>
                    <a:pt x="3140" y="1586"/>
                  </a:lnTo>
                  <a:lnTo>
                    <a:pt x="3152" y="1598"/>
                  </a:lnTo>
                  <a:lnTo>
                    <a:pt x="3162" y="1609"/>
                  </a:lnTo>
                  <a:lnTo>
                    <a:pt x="3172" y="1624"/>
                  </a:lnTo>
                  <a:lnTo>
                    <a:pt x="3180" y="1638"/>
                  </a:lnTo>
                  <a:lnTo>
                    <a:pt x="3183" y="1653"/>
                  </a:lnTo>
                  <a:lnTo>
                    <a:pt x="3185" y="1668"/>
                  </a:lnTo>
                  <a:lnTo>
                    <a:pt x="3185" y="1678"/>
                  </a:lnTo>
                  <a:lnTo>
                    <a:pt x="3183" y="1688"/>
                  </a:lnTo>
                  <a:lnTo>
                    <a:pt x="3180" y="1696"/>
                  </a:lnTo>
                  <a:lnTo>
                    <a:pt x="3175" y="1704"/>
                  </a:lnTo>
                  <a:lnTo>
                    <a:pt x="3168" y="1724"/>
                  </a:lnTo>
                  <a:lnTo>
                    <a:pt x="3168" y="1748"/>
                  </a:lnTo>
                  <a:lnTo>
                    <a:pt x="3168" y="1771"/>
                  </a:lnTo>
                  <a:lnTo>
                    <a:pt x="3167" y="1795"/>
                  </a:lnTo>
                  <a:lnTo>
                    <a:pt x="3162" y="1815"/>
                  </a:lnTo>
                  <a:lnTo>
                    <a:pt x="3153" y="1835"/>
                  </a:lnTo>
                  <a:lnTo>
                    <a:pt x="3145" y="1851"/>
                  </a:lnTo>
                  <a:lnTo>
                    <a:pt x="3138" y="1870"/>
                  </a:lnTo>
                  <a:lnTo>
                    <a:pt x="3132" y="1890"/>
                  </a:lnTo>
                  <a:lnTo>
                    <a:pt x="3125" y="1913"/>
                  </a:lnTo>
                  <a:lnTo>
                    <a:pt x="3120" y="1933"/>
                  </a:lnTo>
                  <a:lnTo>
                    <a:pt x="3118" y="1951"/>
                  </a:lnTo>
                  <a:lnTo>
                    <a:pt x="3117" y="1965"/>
                  </a:lnTo>
                  <a:lnTo>
                    <a:pt x="3115" y="1976"/>
                  </a:lnTo>
                  <a:lnTo>
                    <a:pt x="3108" y="1986"/>
                  </a:lnTo>
                  <a:lnTo>
                    <a:pt x="3100" y="1993"/>
                  </a:lnTo>
                  <a:lnTo>
                    <a:pt x="3093" y="1996"/>
                  </a:lnTo>
                  <a:lnTo>
                    <a:pt x="3078" y="2003"/>
                  </a:lnTo>
                  <a:lnTo>
                    <a:pt x="3057" y="2013"/>
                  </a:lnTo>
                  <a:lnTo>
                    <a:pt x="3028" y="2026"/>
                  </a:lnTo>
                  <a:lnTo>
                    <a:pt x="2997" y="2040"/>
                  </a:lnTo>
                  <a:lnTo>
                    <a:pt x="2962" y="2056"/>
                  </a:lnTo>
                  <a:lnTo>
                    <a:pt x="2923" y="2073"/>
                  </a:lnTo>
                  <a:lnTo>
                    <a:pt x="2885" y="2090"/>
                  </a:lnTo>
                  <a:lnTo>
                    <a:pt x="2845" y="2108"/>
                  </a:lnTo>
                  <a:lnTo>
                    <a:pt x="2806" y="2125"/>
                  </a:lnTo>
                  <a:lnTo>
                    <a:pt x="2770" y="2141"/>
                  </a:lnTo>
                  <a:lnTo>
                    <a:pt x="2736" y="2155"/>
                  </a:lnTo>
                  <a:lnTo>
                    <a:pt x="2708" y="2168"/>
                  </a:lnTo>
                  <a:lnTo>
                    <a:pt x="2685" y="2180"/>
                  </a:lnTo>
                  <a:lnTo>
                    <a:pt x="2668" y="2188"/>
                  </a:lnTo>
                  <a:lnTo>
                    <a:pt x="2658" y="2193"/>
                  </a:lnTo>
                  <a:lnTo>
                    <a:pt x="2645" y="2200"/>
                  </a:lnTo>
                  <a:lnTo>
                    <a:pt x="2628" y="2205"/>
                  </a:lnTo>
                  <a:lnTo>
                    <a:pt x="2608" y="2208"/>
                  </a:lnTo>
                  <a:lnTo>
                    <a:pt x="2586" y="2211"/>
                  </a:lnTo>
                  <a:lnTo>
                    <a:pt x="2561" y="2215"/>
                  </a:lnTo>
                  <a:lnTo>
                    <a:pt x="2535" y="2220"/>
                  </a:lnTo>
                  <a:lnTo>
                    <a:pt x="2508" y="2225"/>
                  </a:lnTo>
                  <a:lnTo>
                    <a:pt x="2481" y="2231"/>
                  </a:lnTo>
                  <a:lnTo>
                    <a:pt x="2466" y="2235"/>
                  </a:lnTo>
                  <a:lnTo>
                    <a:pt x="2446" y="2240"/>
                  </a:lnTo>
                  <a:lnTo>
                    <a:pt x="2425" y="2245"/>
                  </a:lnTo>
                  <a:lnTo>
                    <a:pt x="2398" y="2252"/>
                  </a:lnTo>
                  <a:lnTo>
                    <a:pt x="2371" y="2258"/>
                  </a:lnTo>
                  <a:lnTo>
                    <a:pt x="2343" y="2265"/>
                  </a:lnTo>
                  <a:lnTo>
                    <a:pt x="2313" y="2272"/>
                  </a:lnTo>
                  <a:lnTo>
                    <a:pt x="2283" y="2278"/>
                  </a:lnTo>
                  <a:lnTo>
                    <a:pt x="2253" y="2285"/>
                  </a:lnTo>
                  <a:lnTo>
                    <a:pt x="2224" y="2293"/>
                  </a:lnTo>
                  <a:lnTo>
                    <a:pt x="2198" y="2300"/>
                  </a:lnTo>
                  <a:lnTo>
                    <a:pt x="2173" y="2307"/>
                  </a:lnTo>
                  <a:lnTo>
                    <a:pt x="2151" y="2312"/>
                  </a:lnTo>
                  <a:lnTo>
                    <a:pt x="2134" y="2318"/>
                  </a:lnTo>
                  <a:lnTo>
                    <a:pt x="2119" y="2323"/>
                  </a:lnTo>
                  <a:lnTo>
                    <a:pt x="2111" y="2327"/>
                  </a:lnTo>
                  <a:lnTo>
                    <a:pt x="2098" y="2333"/>
                  </a:lnTo>
                  <a:lnTo>
                    <a:pt x="2086" y="2338"/>
                  </a:lnTo>
                  <a:lnTo>
                    <a:pt x="2071" y="2347"/>
                  </a:lnTo>
                  <a:lnTo>
                    <a:pt x="2058" y="2353"/>
                  </a:lnTo>
                  <a:lnTo>
                    <a:pt x="2043" y="2365"/>
                  </a:lnTo>
                  <a:lnTo>
                    <a:pt x="2028" y="2378"/>
                  </a:lnTo>
                  <a:lnTo>
                    <a:pt x="2011" y="2398"/>
                  </a:lnTo>
                  <a:lnTo>
                    <a:pt x="1993" y="2422"/>
                  </a:lnTo>
                  <a:lnTo>
                    <a:pt x="1976" y="2447"/>
                  </a:lnTo>
                  <a:lnTo>
                    <a:pt x="1961" y="2470"/>
                  </a:lnTo>
                  <a:lnTo>
                    <a:pt x="1946" y="2492"/>
                  </a:lnTo>
                  <a:lnTo>
                    <a:pt x="1933" y="2512"/>
                  </a:lnTo>
                  <a:lnTo>
                    <a:pt x="1923" y="2528"/>
                  </a:lnTo>
                  <a:lnTo>
                    <a:pt x="1913" y="2542"/>
                  </a:lnTo>
                  <a:lnTo>
                    <a:pt x="1904" y="2552"/>
                  </a:lnTo>
                  <a:lnTo>
                    <a:pt x="1898" y="2558"/>
                  </a:lnTo>
                  <a:lnTo>
                    <a:pt x="1891" y="2563"/>
                  </a:lnTo>
                  <a:lnTo>
                    <a:pt x="1884" y="2568"/>
                  </a:lnTo>
                  <a:lnTo>
                    <a:pt x="1874" y="2573"/>
                  </a:lnTo>
                  <a:lnTo>
                    <a:pt x="1864" y="2575"/>
                  </a:lnTo>
                  <a:lnTo>
                    <a:pt x="1853" y="2577"/>
                  </a:lnTo>
                  <a:lnTo>
                    <a:pt x="1843" y="2577"/>
                  </a:lnTo>
                  <a:lnTo>
                    <a:pt x="1833" y="2573"/>
                  </a:lnTo>
                  <a:lnTo>
                    <a:pt x="1823" y="2568"/>
                  </a:lnTo>
                  <a:lnTo>
                    <a:pt x="1814" y="2562"/>
                  </a:lnTo>
                  <a:lnTo>
                    <a:pt x="1806" y="2553"/>
                  </a:lnTo>
                  <a:lnTo>
                    <a:pt x="1799" y="2547"/>
                  </a:lnTo>
                  <a:lnTo>
                    <a:pt x="1794" y="2538"/>
                  </a:lnTo>
                  <a:lnTo>
                    <a:pt x="1787" y="2533"/>
                  </a:lnTo>
                  <a:lnTo>
                    <a:pt x="1781" y="2530"/>
                  </a:lnTo>
                  <a:lnTo>
                    <a:pt x="1772" y="2528"/>
                  </a:lnTo>
                  <a:lnTo>
                    <a:pt x="1764" y="2530"/>
                  </a:lnTo>
                  <a:lnTo>
                    <a:pt x="1752" y="2533"/>
                  </a:lnTo>
                  <a:lnTo>
                    <a:pt x="1739" y="2535"/>
                  </a:lnTo>
                  <a:lnTo>
                    <a:pt x="1722" y="2535"/>
                  </a:lnTo>
                  <a:lnTo>
                    <a:pt x="1704" y="2535"/>
                  </a:lnTo>
                  <a:lnTo>
                    <a:pt x="1684" y="2535"/>
                  </a:lnTo>
                  <a:lnTo>
                    <a:pt x="1666" y="2533"/>
                  </a:lnTo>
                  <a:lnTo>
                    <a:pt x="1647" y="2532"/>
                  </a:lnTo>
                  <a:lnTo>
                    <a:pt x="1632" y="2530"/>
                  </a:lnTo>
                  <a:lnTo>
                    <a:pt x="1617" y="2528"/>
                  </a:lnTo>
                  <a:lnTo>
                    <a:pt x="1602" y="2525"/>
                  </a:lnTo>
                  <a:lnTo>
                    <a:pt x="1589" y="2520"/>
                  </a:lnTo>
                  <a:lnTo>
                    <a:pt x="1574" y="2517"/>
                  </a:lnTo>
                  <a:lnTo>
                    <a:pt x="1561" y="2513"/>
                  </a:lnTo>
                  <a:lnTo>
                    <a:pt x="1549" y="2510"/>
                  </a:lnTo>
                  <a:lnTo>
                    <a:pt x="1537" y="2507"/>
                  </a:lnTo>
                  <a:lnTo>
                    <a:pt x="1527" y="2507"/>
                  </a:lnTo>
                  <a:lnTo>
                    <a:pt x="1514" y="2507"/>
                  </a:lnTo>
                  <a:lnTo>
                    <a:pt x="1492" y="2507"/>
                  </a:lnTo>
                  <a:lnTo>
                    <a:pt x="1466" y="2508"/>
                  </a:lnTo>
                  <a:lnTo>
                    <a:pt x="1436" y="2508"/>
                  </a:lnTo>
                  <a:lnTo>
                    <a:pt x="1409" y="2510"/>
                  </a:lnTo>
                  <a:lnTo>
                    <a:pt x="1386" y="2512"/>
                  </a:lnTo>
                  <a:lnTo>
                    <a:pt x="1369" y="2512"/>
                  </a:lnTo>
                  <a:lnTo>
                    <a:pt x="1362" y="2512"/>
                  </a:lnTo>
                  <a:lnTo>
                    <a:pt x="1361" y="2513"/>
                  </a:lnTo>
                  <a:lnTo>
                    <a:pt x="1356" y="2515"/>
                  </a:lnTo>
                  <a:lnTo>
                    <a:pt x="1349" y="2518"/>
                  </a:lnTo>
                  <a:lnTo>
                    <a:pt x="1339" y="2520"/>
                  </a:lnTo>
                  <a:lnTo>
                    <a:pt x="1329" y="2522"/>
                  </a:lnTo>
                  <a:lnTo>
                    <a:pt x="1317" y="2522"/>
                  </a:lnTo>
                  <a:lnTo>
                    <a:pt x="1304" y="2518"/>
                  </a:lnTo>
                  <a:lnTo>
                    <a:pt x="1292" y="2512"/>
                  </a:lnTo>
                  <a:lnTo>
                    <a:pt x="1281" y="2503"/>
                  </a:lnTo>
                  <a:lnTo>
                    <a:pt x="1272" y="2497"/>
                  </a:lnTo>
                  <a:lnTo>
                    <a:pt x="1266" y="2490"/>
                  </a:lnTo>
                  <a:lnTo>
                    <a:pt x="1261" y="2485"/>
                  </a:lnTo>
                  <a:lnTo>
                    <a:pt x="1256" y="2482"/>
                  </a:lnTo>
                  <a:lnTo>
                    <a:pt x="1250" y="2480"/>
                  </a:lnTo>
                  <a:lnTo>
                    <a:pt x="1245" y="2480"/>
                  </a:lnTo>
                  <a:lnTo>
                    <a:pt x="1239" y="2483"/>
                  </a:lnTo>
                  <a:lnTo>
                    <a:pt x="1232" y="2490"/>
                  </a:lnTo>
                  <a:lnTo>
                    <a:pt x="1235" y="2498"/>
                  </a:lnTo>
                  <a:lnTo>
                    <a:pt x="1240" y="2510"/>
                  </a:lnTo>
                  <a:lnTo>
                    <a:pt x="1239" y="2525"/>
                  </a:lnTo>
                  <a:lnTo>
                    <a:pt x="1234" y="2545"/>
                  </a:lnTo>
                  <a:lnTo>
                    <a:pt x="1232" y="2567"/>
                  </a:lnTo>
                  <a:lnTo>
                    <a:pt x="1234" y="2587"/>
                  </a:lnTo>
                  <a:lnTo>
                    <a:pt x="1234" y="2602"/>
                  </a:lnTo>
                  <a:lnTo>
                    <a:pt x="1230" y="2615"/>
                  </a:lnTo>
                  <a:lnTo>
                    <a:pt x="1225" y="2630"/>
                  </a:lnTo>
                  <a:lnTo>
                    <a:pt x="1219" y="2643"/>
                  </a:lnTo>
                  <a:lnTo>
                    <a:pt x="1215" y="2648"/>
                  </a:lnTo>
                  <a:lnTo>
                    <a:pt x="1177" y="2678"/>
                  </a:lnTo>
                  <a:lnTo>
                    <a:pt x="1175" y="2672"/>
                  </a:lnTo>
                  <a:lnTo>
                    <a:pt x="1170" y="2657"/>
                  </a:lnTo>
                  <a:lnTo>
                    <a:pt x="1167" y="2640"/>
                  </a:lnTo>
                  <a:lnTo>
                    <a:pt x="1167" y="2625"/>
                  </a:lnTo>
                  <a:lnTo>
                    <a:pt x="1167" y="2613"/>
                  </a:lnTo>
                  <a:lnTo>
                    <a:pt x="1164" y="2598"/>
                  </a:lnTo>
                  <a:lnTo>
                    <a:pt x="1154" y="2583"/>
                  </a:lnTo>
                  <a:lnTo>
                    <a:pt x="1144" y="2568"/>
                  </a:lnTo>
                  <a:lnTo>
                    <a:pt x="1134" y="2555"/>
                  </a:lnTo>
                  <a:lnTo>
                    <a:pt x="1124" y="2543"/>
                  </a:lnTo>
                  <a:lnTo>
                    <a:pt x="1115" y="2532"/>
                  </a:lnTo>
                  <a:lnTo>
                    <a:pt x="1110" y="2522"/>
                  </a:lnTo>
                  <a:lnTo>
                    <a:pt x="1107" y="2508"/>
                  </a:lnTo>
                  <a:lnTo>
                    <a:pt x="1104" y="2492"/>
                  </a:lnTo>
                  <a:lnTo>
                    <a:pt x="1095" y="2475"/>
                  </a:lnTo>
                  <a:lnTo>
                    <a:pt x="1082" y="2458"/>
                  </a:lnTo>
                  <a:lnTo>
                    <a:pt x="1072" y="2450"/>
                  </a:lnTo>
                  <a:lnTo>
                    <a:pt x="1059" y="2437"/>
                  </a:lnTo>
                  <a:lnTo>
                    <a:pt x="1044" y="2423"/>
                  </a:lnTo>
                  <a:lnTo>
                    <a:pt x="1029" y="2405"/>
                  </a:lnTo>
                  <a:lnTo>
                    <a:pt x="1014" y="2387"/>
                  </a:lnTo>
                  <a:lnTo>
                    <a:pt x="999" y="2368"/>
                  </a:lnTo>
                  <a:lnTo>
                    <a:pt x="987" y="2350"/>
                  </a:lnTo>
                  <a:lnTo>
                    <a:pt x="979" y="2332"/>
                  </a:lnTo>
                  <a:lnTo>
                    <a:pt x="964" y="2302"/>
                  </a:lnTo>
                  <a:lnTo>
                    <a:pt x="949" y="2280"/>
                  </a:lnTo>
                  <a:lnTo>
                    <a:pt x="937" y="2263"/>
                  </a:lnTo>
                  <a:lnTo>
                    <a:pt x="930" y="2245"/>
                  </a:lnTo>
                  <a:lnTo>
                    <a:pt x="927" y="2231"/>
                  </a:lnTo>
                  <a:lnTo>
                    <a:pt x="920" y="2211"/>
                  </a:lnTo>
                  <a:lnTo>
                    <a:pt x="910" y="2190"/>
                  </a:lnTo>
                  <a:lnTo>
                    <a:pt x="900" y="2166"/>
                  </a:lnTo>
                  <a:lnTo>
                    <a:pt x="890" y="2143"/>
                  </a:lnTo>
                  <a:lnTo>
                    <a:pt x="880" y="2123"/>
                  </a:lnTo>
                  <a:lnTo>
                    <a:pt x="870" y="2108"/>
                  </a:lnTo>
                  <a:lnTo>
                    <a:pt x="864" y="2098"/>
                  </a:lnTo>
                  <a:lnTo>
                    <a:pt x="854" y="2085"/>
                  </a:lnTo>
                  <a:lnTo>
                    <a:pt x="845" y="2071"/>
                  </a:lnTo>
                  <a:lnTo>
                    <a:pt x="834" y="2056"/>
                  </a:lnTo>
                  <a:lnTo>
                    <a:pt x="822" y="2041"/>
                  </a:lnTo>
                  <a:lnTo>
                    <a:pt x="814" y="2033"/>
                  </a:lnTo>
                  <a:lnTo>
                    <a:pt x="802" y="2025"/>
                  </a:lnTo>
                  <a:lnTo>
                    <a:pt x="790" y="2018"/>
                  </a:lnTo>
                  <a:lnTo>
                    <a:pt x="779" y="2010"/>
                  </a:lnTo>
                  <a:lnTo>
                    <a:pt x="765" y="2003"/>
                  </a:lnTo>
                  <a:lnTo>
                    <a:pt x="752" y="1998"/>
                  </a:lnTo>
                  <a:lnTo>
                    <a:pt x="740" y="1995"/>
                  </a:lnTo>
                  <a:lnTo>
                    <a:pt x="730" y="1993"/>
                  </a:lnTo>
                  <a:lnTo>
                    <a:pt x="722" y="1991"/>
                  </a:lnTo>
                  <a:lnTo>
                    <a:pt x="717" y="1988"/>
                  </a:lnTo>
                  <a:lnTo>
                    <a:pt x="710" y="1983"/>
                  </a:lnTo>
                  <a:lnTo>
                    <a:pt x="705" y="1975"/>
                  </a:lnTo>
                  <a:lnTo>
                    <a:pt x="700" y="1966"/>
                  </a:lnTo>
                  <a:lnTo>
                    <a:pt x="693" y="1953"/>
                  </a:lnTo>
                  <a:lnTo>
                    <a:pt x="685" y="1940"/>
                  </a:lnTo>
                  <a:lnTo>
                    <a:pt x="673" y="1923"/>
                  </a:lnTo>
                  <a:lnTo>
                    <a:pt x="662" y="1905"/>
                  </a:lnTo>
                  <a:lnTo>
                    <a:pt x="652" y="1886"/>
                  </a:lnTo>
                  <a:lnTo>
                    <a:pt x="642" y="1868"/>
                  </a:lnTo>
                  <a:lnTo>
                    <a:pt x="635" y="1851"/>
                  </a:lnTo>
                  <a:lnTo>
                    <a:pt x="628" y="1833"/>
                  </a:lnTo>
                  <a:lnTo>
                    <a:pt x="623" y="1818"/>
                  </a:lnTo>
                  <a:lnTo>
                    <a:pt x="620" y="1803"/>
                  </a:lnTo>
                  <a:lnTo>
                    <a:pt x="617" y="1790"/>
                  </a:lnTo>
                  <a:lnTo>
                    <a:pt x="612" y="1765"/>
                  </a:lnTo>
                  <a:lnTo>
                    <a:pt x="603" y="1741"/>
                  </a:lnTo>
                  <a:lnTo>
                    <a:pt x="597" y="1724"/>
                  </a:lnTo>
                  <a:lnTo>
                    <a:pt x="593" y="1718"/>
                  </a:lnTo>
                  <a:lnTo>
                    <a:pt x="600" y="1706"/>
                  </a:lnTo>
                  <a:lnTo>
                    <a:pt x="610" y="1676"/>
                  </a:lnTo>
                  <a:lnTo>
                    <a:pt x="617" y="1636"/>
                  </a:lnTo>
                  <a:lnTo>
                    <a:pt x="607" y="1594"/>
                  </a:lnTo>
                  <a:lnTo>
                    <a:pt x="590" y="1559"/>
                  </a:lnTo>
                  <a:lnTo>
                    <a:pt x="582" y="1531"/>
                  </a:lnTo>
                  <a:lnTo>
                    <a:pt x="573" y="1503"/>
                  </a:lnTo>
                  <a:lnTo>
                    <a:pt x="560" y="1471"/>
                  </a:lnTo>
                  <a:lnTo>
                    <a:pt x="552" y="1454"/>
                  </a:lnTo>
                  <a:lnTo>
                    <a:pt x="547" y="1439"/>
                  </a:lnTo>
                  <a:lnTo>
                    <a:pt x="542" y="1426"/>
                  </a:lnTo>
                  <a:lnTo>
                    <a:pt x="537" y="1413"/>
                  </a:lnTo>
                  <a:lnTo>
                    <a:pt x="532" y="1401"/>
                  </a:lnTo>
                  <a:lnTo>
                    <a:pt x="525" y="1393"/>
                  </a:lnTo>
                  <a:lnTo>
                    <a:pt x="518" y="1383"/>
                  </a:lnTo>
                  <a:lnTo>
                    <a:pt x="508" y="1376"/>
                  </a:lnTo>
                  <a:lnTo>
                    <a:pt x="497" y="1369"/>
                  </a:lnTo>
                  <a:lnTo>
                    <a:pt x="487" y="1361"/>
                  </a:lnTo>
                  <a:lnTo>
                    <a:pt x="475" y="1354"/>
                  </a:lnTo>
                  <a:lnTo>
                    <a:pt x="463" y="1346"/>
                  </a:lnTo>
                  <a:lnTo>
                    <a:pt x="452" y="1338"/>
                  </a:lnTo>
                  <a:lnTo>
                    <a:pt x="440" y="1329"/>
                  </a:lnTo>
                  <a:lnTo>
                    <a:pt x="427" y="1323"/>
                  </a:lnTo>
                  <a:lnTo>
                    <a:pt x="413" y="1316"/>
                  </a:lnTo>
                  <a:lnTo>
                    <a:pt x="392" y="1303"/>
                  </a:lnTo>
                  <a:lnTo>
                    <a:pt x="382" y="1286"/>
                  </a:lnTo>
                  <a:lnTo>
                    <a:pt x="375" y="1268"/>
                  </a:lnTo>
                  <a:lnTo>
                    <a:pt x="365" y="1249"/>
                  </a:lnTo>
                  <a:lnTo>
                    <a:pt x="355" y="1232"/>
                  </a:lnTo>
                  <a:lnTo>
                    <a:pt x="348" y="1219"/>
                  </a:lnTo>
                  <a:lnTo>
                    <a:pt x="347" y="1209"/>
                  </a:lnTo>
                  <a:lnTo>
                    <a:pt x="347" y="1206"/>
                  </a:lnTo>
                  <a:lnTo>
                    <a:pt x="348" y="1206"/>
                  </a:lnTo>
                  <a:lnTo>
                    <a:pt x="353" y="1204"/>
                  </a:lnTo>
                  <a:lnTo>
                    <a:pt x="360" y="1201"/>
                  </a:lnTo>
                  <a:lnTo>
                    <a:pt x="367" y="1194"/>
                  </a:lnTo>
                  <a:lnTo>
                    <a:pt x="370" y="1187"/>
                  </a:lnTo>
                  <a:lnTo>
                    <a:pt x="370" y="1176"/>
                  </a:lnTo>
                  <a:lnTo>
                    <a:pt x="365" y="1162"/>
                  </a:lnTo>
                  <a:lnTo>
                    <a:pt x="352" y="1144"/>
                  </a:lnTo>
                  <a:lnTo>
                    <a:pt x="330" y="1122"/>
                  </a:lnTo>
                  <a:lnTo>
                    <a:pt x="327" y="1122"/>
                  </a:lnTo>
                  <a:lnTo>
                    <a:pt x="330" y="1126"/>
                  </a:lnTo>
                  <a:lnTo>
                    <a:pt x="327" y="1112"/>
                  </a:lnTo>
                  <a:lnTo>
                    <a:pt x="320" y="1091"/>
                  </a:lnTo>
                  <a:lnTo>
                    <a:pt x="315" y="1076"/>
                  </a:lnTo>
                  <a:lnTo>
                    <a:pt x="308" y="1066"/>
                  </a:lnTo>
                  <a:lnTo>
                    <a:pt x="293" y="1054"/>
                  </a:lnTo>
                  <a:lnTo>
                    <a:pt x="283" y="1039"/>
                  </a:lnTo>
                  <a:lnTo>
                    <a:pt x="285" y="1024"/>
                  </a:lnTo>
                  <a:lnTo>
                    <a:pt x="287" y="1011"/>
                  </a:lnTo>
                  <a:lnTo>
                    <a:pt x="275" y="997"/>
                  </a:lnTo>
                  <a:lnTo>
                    <a:pt x="257" y="986"/>
                  </a:lnTo>
                  <a:lnTo>
                    <a:pt x="243" y="971"/>
                  </a:lnTo>
                  <a:lnTo>
                    <a:pt x="235" y="954"/>
                  </a:lnTo>
                  <a:lnTo>
                    <a:pt x="232" y="936"/>
                  </a:lnTo>
                  <a:lnTo>
                    <a:pt x="228" y="916"/>
                  </a:lnTo>
                  <a:lnTo>
                    <a:pt x="218" y="889"/>
                  </a:lnTo>
                  <a:lnTo>
                    <a:pt x="205" y="862"/>
                  </a:lnTo>
                  <a:lnTo>
                    <a:pt x="185" y="836"/>
                  </a:lnTo>
                  <a:lnTo>
                    <a:pt x="172" y="814"/>
                  </a:lnTo>
                  <a:lnTo>
                    <a:pt x="168" y="796"/>
                  </a:lnTo>
                  <a:lnTo>
                    <a:pt x="167" y="782"/>
                  </a:lnTo>
                  <a:lnTo>
                    <a:pt x="157" y="774"/>
                  </a:lnTo>
                  <a:lnTo>
                    <a:pt x="145" y="766"/>
                  </a:lnTo>
                  <a:lnTo>
                    <a:pt x="140" y="754"/>
                  </a:lnTo>
                  <a:lnTo>
                    <a:pt x="133" y="739"/>
                  </a:lnTo>
                  <a:lnTo>
                    <a:pt x="118" y="722"/>
                  </a:lnTo>
                  <a:lnTo>
                    <a:pt x="100" y="700"/>
                  </a:lnTo>
                  <a:lnTo>
                    <a:pt x="86" y="674"/>
                  </a:lnTo>
                  <a:lnTo>
                    <a:pt x="78" y="652"/>
                  </a:lnTo>
                  <a:lnTo>
                    <a:pt x="75" y="642"/>
                  </a:lnTo>
                  <a:lnTo>
                    <a:pt x="70" y="642"/>
                  </a:lnTo>
                  <a:lnTo>
                    <a:pt x="60" y="642"/>
                  </a:lnTo>
                  <a:lnTo>
                    <a:pt x="45" y="642"/>
                  </a:lnTo>
                  <a:lnTo>
                    <a:pt x="33" y="642"/>
                  </a:lnTo>
                  <a:lnTo>
                    <a:pt x="21" y="642"/>
                  </a:lnTo>
                  <a:lnTo>
                    <a:pt x="11" y="644"/>
                  </a:lnTo>
                  <a:lnTo>
                    <a:pt x="3" y="645"/>
                  </a:lnTo>
                  <a:lnTo>
                    <a:pt x="0" y="645"/>
                  </a:lnTo>
                  <a:lnTo>
                    <a:pt x="1" y="642"/>
                  </a:lnTo>
                  <a:lnTo>
                    <a:pt x="5" y="632"/>
                  </a:lnTo>
                  <a:lnTo>
                    <a:pt x="8" y="620"/>
                  </a:lnTo>
                  <a:lnTo>
                    <a:pt x="13" y="609"/>
                  </a:lnTo>
                  <a:lnTo>
                    <a:pt x="20" y="592"/>
                  </a:lnTo>
                  <a:lnTo>
                    <a:pt x="28" y="569"/>
                  </a:lnTo>
                  <a:lnTo>
                    <a:pt x="35" y="542"/>
                  </a:lnTo>
                  <a:lnTo>
                    <a:pt x="38" y="517"/>
                  </a:lnTo>
                  <a:lnTo>
                    <a:pt x="40" y="500"/>
                  </a:lnTo>
                  <a:lnTo>
                    <a:pt x="43" y="489"/>
                  </a:lnTo>
                  <a:lnTo>
                    <a:pt x="50" y="480"/>
                  </a:lnTo>
                  <a:lnTo>
                    <a:pt x="56" y="470"/>
                  </a:lnTo>
                  <a:lnTo>
                    <a:pt x="61" y="457"/>
                  </a:lnTo>
                  <a:lnTo>
                    <a:pt x="65" y="442"/>
                  </a:lnTo>
                  <a:lnTo>
                    <a:pt x="66" y="429"/>
                  </a:lnTo>
                  <a:lnTo>
                    <a:pt x="66" y="424"/>
                  </a:lnTo>
                  <a:lnTo>
                    <a:pt x="232" y="465"/>
                  </a:lnTo>
                  <a:lnTo>
                    <a:pt x="235" y="464"/>
                  </a:lnTo>
                  <a:lnTo>
                    <a:pt x="243" y="457"/>
                  </a:lnTo>
                  <a:lnTo>
                    <a:pt x="257" y="450"/>
                  </a:lnTo>
                  <a:lnTo>
                    <a:pt x="270" y="439"/>
                  </a:lnTo>
                  <a:lnTo>
                    <a:pt x="285" y="429"/>
                  </a:lnTo>
                  <a:lnTo>
                    <a:pt x="298" y="417"/>
                  </a:lnTo>
                  <a:lnTo>
                    <a:pt x="308" y="407"/>
                  </a:lnTo>
                  <a:lnTo>
                    <a:pt x="313" y="399"/>
                  </a:lnTo>
                  <a:lnTo>
                    <a:pt x="318" y="384"/>
                  </a:lnTo>
                  <a:lnTo>
                    <a:pt x="325" y="369"/>
                  </a:lnTo>
                  <a:lnTo>
                    <a:pt x="330" y="357"/>
                  </a:lnTo>
                  <a:lnTo>
                    <a:pt x="332" y="352"/>
                  </a:lnTo>
                  <a:lnTo>
                    <a:pt x="335" y="352"/>
                  </a:lnTo>
                  <a:lnTo>
                    <a:pt x="342" y="352"/>
                  </a:lnTo>
                  <a:lnTo>
                    <a:pt x="353" y="352"/>
                  </a:lnTo>
                  <a:lnTo>
                    <a:pt x="367" y="350"/>
                  </a:lnTo>
                  <a:lnTo>
                    <a:pt x="382" y="350"/>
                  </a:lnTo>
                  <a:lnTo>
                    <a:pt x="398" y="347"/>
                  </a:lnTo>
                  <a:lnTo>
                    <a:pt x="413" y="345"/>
                  </a:lnTo>
                  <a:lnTo>
                    <a:pt x="427" y="342"/>
                  </a:lnTo>
                  <a:lnTo>
                    <a:pt x="438" y="337"/>
                  </a:lnTo>
                  <a:lnTo>
                    <a:pt x="447" y="329"/>
                  </a:lnTo>
                  <a:lnTo>
                    <a:pt x="455" y="319"/>
                  </a:lnTo>
                  <a:lnTo>
                    <a:pt x="462" y="309"/>
                  </a:lnTo>
                  <a:lnTo>
                    <a:pt x="468" y="299"/>
                  </a:lnTo>
                  <a:lnTo>
                    <a:pt x="475" y="290"/>
                  </a:lnTo>
                  <a:lnTo>
                    <a:pt x="483" y="284"/>
                  </a:lnTo>
                  <a:lnTo>
                    <a:pt x="493" y="280"/>
                  </a:lnTo>
                  <a:lnTo>
                    <a:pt x="508" y="275"/>
                  </a:lnTo>
                  <a:lnTo>
                    <a:pt x="513" y="269"/>
                  </a:lnTo>
                  <a:lnTo>
                    <a:pt x="513" y="264"/>
                  </a:lnTo>
                  <a:lnTo>
                    <a:pt x="512" y="262"/>
                  </a:lnTo>
                  <a:lnTo>
                    <a:pt x="380" y="90"/>
                  </a:lnTo>
                  <a:close/>
                </a:path>
              </a:pathLst>
            </a:custGeom>
            <a:solidFill>
              <a:srgbClr val="b2b2b2">
                <a:alpha val="30000"/>
              </a:srgbClr>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520" name="PlaceHolder 1"/>
          <p:cNvSpPr>
            <a:spLocks noGrp="1"/>
          </p:cNvSpPr>
          <p:nvPr>
            <p:ph/>
          </p:nvPr>
        </p:nvSpPr>
        <p:spPr>
          <a:xfrm>
            <a:off x="1295280" y="1219320"/>
            <a:ext cx="7010640" cy="5333760"/>
          </a:xfrm>
          <a:prstGeom prst="rect">
            <a:avLst/>
          </a:prstGeom>
          <a:noFill/>
          <a:ln w="0">
            <a:noFill/>
          </a:ln>
        </p:spPr>
        <p:txBody>
          <a:bodyPr lIns="90000" rIns="90000" tIns="46800" bIns="46800" anchor="t">
            <a:normAutofit fontScale="99000"/>
          </a:bodyPr>
          <a:p>
            <a:pPr marL="337680" indent="-337680">
              <a:lnSpc>
                <a:spcPct val="80000"/>
              </a:lnSpc>
              <a:spcBef>
                <a:spcPts val="601"/>
              </a:spcBef>
              <a:buClr>
                <a:srgbClr val="333399"/>
              </a:buClr>
              <a:buFont typeface="Albertus Medium"/>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333399"/>
                </a:solidFill>
                <a:latin typeface="Albertus Medium"/>
              </a:rPr>
              <a:t>Our young generation should learn about Nanotechnology in early school years.</a:t>
            </a:r>
            <a:endParaRPr b="0" lang="en-US" sz="2400" spc="-1" strike="noStrike">
              <a:solidFill>
                <a:srgbClr val="000000"/>
              </a:solidFill>
              <a:latin typeface="Arial"/>
            </a:endParaRPr>
          </a:p>
          <a:p>
            <a:pPr marL="339480" indent="0">
              <a:lnSpc>
                <a:spcPct val="8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400" spc="-1" strike="noStrike">
              <a:solidFill>
                <a:srgbClr val="000000"/>
              </a:solidFill>
              <a:latin typeface="Arial"/>
            </a:endParaRPr>
          </a:p>
          <a:p>
            <a:pPr marL="337680" indent="-337680">
              <a:lnSpc>
                <a:spcPct val="80000"/>
              </a:lnSpc>
              <a:spcBef>
                <a:spcPts val="601"/>
              </a:spcBef>
              <a:buClr>
                <a:srgbClr val="333399"/>
              </a:buClr>
              <a:buFont typeface="Albertus Medium"/>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333399"/>
                </a:solidFill>
                <a:latin typeface="Albertus Medium"/>
              </a:rPr>
              <a:t>We should increase our scientific research on Nanotechnology and it’s applications (Medicine, Agriculture, Engineering, etc.)</a:t>
            </a:r>
            <a:endParaRPr b="0" lang="en-US" sz="2400" spc="-1" strike="noStrike">
              <a:solidFill>
                <a:srgbClr val="000000"/>
              </a:solidFill>
              <a:latin typeface="Arial"/>
            </a:endParaRPr>
          </a:p>
          <a:p>
            <a:pPr marL="337680" indent="0">
              <a:lnSpc>
                <a:spcPct val="8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400" spc="-1" strike="noStrike">
              <a:solidFill>
                <a:srgbClr val="000000"/>
              </a:solidFill>
              <a:latin typeface="Arial"/>
            </a:endParaRPr>
          </a:p>
          <a:p>
            <a:pPr marL="337680" indent="-337680">
              <a:lnSpc>
                <a:spcPct val="80000"/>
              </a:lnSpc>
              <a:spcBef>
                <a:spcPts val="601"/>
              </a:spcBef>
              <a:buClr>
                <a:srgbClr val="333399"/>
              </a:buClr>
              <a:buFont typeface="Albertus Medium"/>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333399"/>
                </a:solidFill>
                <a:latin typeface="Albertus Medium"/>
              </a:rPr>
              <a:t>Build sophisticated infrastructure and Institutes for Nanotechnology</a:t>
            </a:r>
            <a:endParaRPr b="0" lang="en-US" sz="2400" spc="-1" strike="noStrike">
              <a:solidFill>
                <a:srgbClr val="000000"/>
              </a:solidFill>
              <a:latin typeface="Arial"/>
            </a:endParaRPr>
          </a:p>
          <a:p>
            <a:pPr marL="337680" indent="0">
              <a:lnSpc>
                <a:spcPct val="8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400" spc="-1" strike="noStrike">
              <a:solidFill>
                <a:srgbClr val="000000"/>
              </a:solidFill>
              <a:latin typeface="Arial"/>
            </a:endParaRPr>
          </a:p>
          <a:p>
            <a:pPr marL="337680" indent="-337680">
              <a:lnSpc>
                <a:spcPct val="80000"/>
              </a:lnSpc>
              <a:spcBef>
                <a:spcPts val="601"/>
              </a:spcBef>
              <a:buClr>
                <a:srgbClr val="333399"/>
              </a:buClr>
              <a:buFont typeface="Albertus Medium"/>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333399"/>
                </a:solidFill>
                <a:latin typeface="Albertus Medium"/>
              </a:rPr>
              <a:t>Despite the evident and appealing qualities of Nano-engineered products, and the numerous Nano materials manufactured over the past few years, very little is known about the safety aspects of such materials, thus caution and reporting of side effects should be the responsibility of all professionals handling Nanotechnology.</a:t>
            </a:r>
            <a:endParaRPr b="0" lang="en-US" sz="2400" spc="-1" strike="noStrike">
              <a:solidFill>
                <a:srgbClr val="000000"/>
              </a:solidFill>
              <a:latin typeface="Arial"/>
            </a:endParaRPr>
          </a:p>
        </p:txBody>
      </p:sp>
      <p:sp>
        <p:nvSpPr>
          <p:cNvPr id="521" name=""/>
          <p:cNvSpPr/>
          <p:nvPr/>
        </p:nvSpPr>
        <p:spPr>
          <a:xfrm>
            <a:off x="609480" y="6629400"/>
            <a:ext cx="8534520" cy="228600"/>
          </a:xfrm>
          <a:prstGeom prst="rect">
            <a:avLst/>
          </a:prstGeom>
          <a:solidFill>
            <a:srgbClr val="bbe0e3"/>
          </a:solidFill>
          <a:ln cap="sq"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99"/>
                </a:solidFill>
                <a:latin typeface="Albertus Medium"/>
              </a:rPr>
              <a:t>www.skinandallergy.org</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0" lang="en-US" sz="1000" spc="-1" strike="noStrike">
                <a:solidFill>
                  <a:srgbClr val="333399"/>
                </a:solidFill>
                <a:latin typeface="Albertus Medium"/>
              </a:rPr>
              <a:t>www.panarabderm.org</a:t>
            </a:r>
            <a:endParaRPr b="0" lang="en-US" sz="10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22" name="" descr=""/>
          <p:cNvPicPr/>
          <p:nvPr/>
        </p:nvPicPr>
        <p:blipFill>
          <a:blip r:embed="rId2"/>
          <a:stretch/>
        </p:blipFill>
        <p:spPr>
          <a:xfrm>
            <a:off x="8153280" y="74520"/>
            <a:ext cx="922320" cy="992160"/>
          </a:xfrm>
          <a:prstGeom prst="rect">
            <a:avLst/>
          </a:prstGeom>
          <a:ln w="0">
            <a:noFill/>
          </a:ln>
        </p:spPr>
      </p:pic>
      <p:sp>
        <p:nvSpPr>
          <p:cNvPr id="523" name=""/>
          <p:cNvSpPr/>
          <p:nvPr/>
        </p:nvSpPr>
        <p:spPr>
          <a:xfrm>
            <a:off x="1295280" y="1066680"/>
            <a:ext cx="6193080" cy="1800"/>
          </a:xfrm>
          <a:prstGeom prst="line">
            <a:avLst/>
          </a:prstGeom>
          <a:ln cap="sq" w="12600">
            <a:solidFill>
              <a:srgbClr val="b2b2b2"/>
            </a:solidFill>
            <a:miter/>
          </a:ln>
        </p:spPr>
        <p:style>
          <a:lnRef idx="0"/>
          <a:fillRef idx="0"/>
          <a:effectRef idx="0"/>
          <a:fontRef idx="minor"/>
        </p:style>
        <p:txBody>
          <a:bodyPr lIns="90000" rIns="90000" tIns="-45000" bIns="-45000" anchor="t">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524" name="" descr=""/>
          <p:cNvPicPr/>
          <p:nvPr/>
        </p:nvPicPr>
        <p:blipFill>
          <a:blip r:embed="rId3"/>
          <a:stretch/>
        </p:blipFill>
        <p:spPr>
          <a:xfrm>
            <a:off x="0" y="0"/>
            <a:ext cx="600120" cy="6858000"/>
          </a:xfrm>
          <a:prstGeom prst="rect">
            <a:avLst/>
          </a:prstGeom>
          <a:ln w="0">
            <a:noFill/>
          </a:ln>
        </p:spPr>
      </p:pic>
      <p:sp>
        <p:nvSpPr>
          <p:cNvPr id="525" name=""/>
          <p:cNvSpPr/>
          <p:nvPr/>
        </p:nvSpPr>
        <p:spPr>
          <a:xfrm>
            <a:off x="0" y="457200"/>
            <a:ext cx="914400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ar-SA" sz="3600" spc="-1" strike="noStrike">
                <a:solidFill>
                  <a:srgbClr val="333399"/>
                </a:solidFill>
                <a:latin typeface="Albertus Medium"/>
              </a:rPr>
              <a:t>الخلاصة</a:t>
            </a:r>
            <a:endParaRPr b="0" lang="en-US" sz="3600" spc="-1" strike="noStrike">
              <a:solidFill>
                <a:srgbClr val="000000"/>
              </a:solidFill>
              <a:latin typeface="Arial"/>
            </a:endParaRPr>
          </a:p>
        </p:txBody>
      </p:sp>
      <p:grpSp>
        <p:nvGrpSpPr>
          <p:cNvPr id="526" name=""/>
          <p:cNvGrpSpPr/>
          <p:nvPr/>
        </p:nvGrpSpPr>
        <p:grpSpPr>
          <a:xfrm>
            <a:off x="2639880" y="1346040"/>
            <a:ext cx="4521240" cy="3986280"/>
            <a:chOff x="2639880" y="1346040"/>
            <a:chExt cx="4521240" cy="3986280"/>
          </a:xfrm>
        </p:grpSpPr>
        <p:sp>
          <p:nvSpPr>
            <p:cNvPr id="527" name=""/>
            <p:cNvSpPr/>
            <p:nvPr/>
          </p:nvSpPr>
          <p:spPr>
            <a:xfrm>
              <a:off x="2639880" y="2319480"/>
              <a:ext cx="1721160" cy="3012840"/>
            </a:xfrm>
            <a:custGeom>
              <a:avLst/>
              <a:gdLst/>
              <a:ahLst/>
              <a:rect l="l" t="t" r="r" b="b"/>
              <a:pathLst>
                <a:path w="1261" h="2255">
                  <a:moveTo>
                    <a:pt x="1257" y="2027"/>
                  </a:moveTo>
                  <a:lnTo>
                    <a:pt x="1257" y="2015"/>
                  </a:lnTo>
                  <a:lnTo>
                    <a:pt x="1252" y="2000"/>
                  </a:lnTo>
                  <a:lnTo>
                    <a:pt x="1244" y="1985"/>
                  </a:lnTo>
                  <a:lnTo>
                    <a:pt x="1232" y="1970"/>
                  </a:lnTo>
                  <a:lnTo>
                    <a:pt x="1222" y="1956"/>
                  </a:lnTo>
                  <a:lnTo>
                    <a:pt x="1212" y="1945"/>
                  </a:lnTo>
                  <a:lnTo>
                    <a:pt x="1204" y="1933"/>
                  </a:lnTo>
                  <a:lnTo>
                    <a:pt x="1199" y="1921"/>
                  </a:lnTo>
                  <a:lnTo>
                    <a:pt x="1197" y="1910"/>
                  </a:lnTo>
                  <a:lnTo>
                    <a:pt x="1192" y="1893"/>
                  </a:lnTo>
                  <a:lnTo>
                    <a:pt x="1186" y="1876"/>
                  </a:lnTo>
                  <a:lnTo>
                    <a:pt x="1171" y="1860"/>
                  </a:lnTo>
                  <a:lnTo>
                    <a:pt x="1161" y="1851"/>
                  </a:lnTo>
                  <a:lnTo>
                    <a:pt x="1147" y="1838"/>
                  </a:lnTo>
                  <a:lnTo>
                    <a:pt x="1132" y="1823"/>
                  </a:lnTo>
                  <a:lnTo>
                    <a:pt x="1117" y="1806"/>
                  </a:lnTo>
                  <a:lnTo>
                    <a:pt x="1102" y="1788"/>
                  </a:lnTo>
                  <a:lnTo>
                    <a:pt x="1087" y="1770"/>
                  </a:lnTo>
                  <a:lnTo>
                    <a:pt x="1076" y="1750"/>
                  </a:lnTo>
                  <a:lnTo>
                    <a:pt x="1067" y="1731"/>
                  </a:lnTo>
                  <a:lnTo>
                    <a:pt x="1052" y="1703"/>
                  </a:lnTo>
                  <a:lnTo>
                    <a:pt x="1037" y="1681"/>
                  </a:lnTo>
                  <a:lnTo>
                    <a:pt x="1026" y="1665"/>
                  </a:lnTo>
                  <a:lnTo>
                    <a:pt x="1019" y="1646"/>
                  </a:lnTo>
                  <a:lnTo>
                    <a:pt x="1016" y="1633"/>
                  </a:lnTo>
                  <a:lnTo>
                    <a:pt x="1009" y="1613"/>
                  </a:lnTo>
                  <a:lnTo>
                    <a:pt x="999" y="1591"/>
                  </a:lnTo>
                  <a:lnTo>
                    <a:pt x="989" y="1568"/>
                  </a:lnTo>
                  <a:lnTo>
                    <a:pt x="979" y="1545"/>
                  </a:lnTo>
                  <a:lnTo>
                    <a:pt x="969" y="1525"/>
                  </a:lnTo>
                  <a:lnTo>
                    <a:pt x="959" y="1508"/>
                  </a:lnTo>
                  <a:lnTo>
                    <a:pt x="952" y="1499"/>
                  </a:lnTo>
                  <a:lnTo>
                    <a:pt x="942" y="1486"/>
                  </a:lnTo>
                  <a:lnTo>
                    <a:pt x="934" y="1473"/>
                  </a:lnTo>
                  <a:lnTo>
                    <a:pt x="922" y="1458"/>
                  </a:lnTo>
                  <a:lnTo>
                    <a:pt x="911" y="1443"/>
                  </a:lnTo>
                  <a:lnTo>
                    <a:pt x="902" y="1434"/>
                  </a:lnTo>
                  <a:lnTo>
                    <a:pt x="891" y="1426"/>
                  </a:lnTo>
                  <a:lnTo>
                    <a:pt x="879" y="1419"/>
                  </a:lnTo>
                  <a:lnTo>
                    <a:pt x="867" y="1411"/>
                  </a:lnTo>
                  <a:lnTo>
                    <a:pt x="854" y="1404"/>
                  </a:lnTo>
                  <a:lnTo>
                    <a:pt x="842" y="1399"/>
                  </a:lnTo>
                  <a:lnTo>
                    <a:pt x="831" y="1396"/>
                  </a:lnTo>
                  <a:lnTo>
                    <a:pt x="820" y="1394"/>
                  </a:lnTo>
                  <a:lnTo>
                    <a:pt x="812" y="1393"/>
                  </a:lnTo>
                  <a:lnTo>
                    <a:pt x="805" y="1389"/>
                  </a:lnTo>
                  <a:lnTo>
                    <a:pt x="800" y="1384"/>
                  </a:lnTo>
                  <a:lnTo>
                    <a:pt x="794" y="1376"/>
                  </a:lnTo>
                  <a:lnTo>
                    <a:pt x="789" y="1368"/>
                  </a:lnTo>
                  <a:lnTo>
                    <a:pt x="782" y="1354"/>
                  </a:lnTo>
                  <a:lnTo>
                    <a:pt x="774" y="1341"/>
                  </a:lnTo>
                  <a:lnTo>
                    <a:pt x="762" y="1324"/>
                  </a:lnTo>
                  <a:lnTo>
                    <a:pt x="750" y="1306"/>
                  </a:lnTo>
                  <a:lnTo>
                    <a:pt x="740" y="1288"/>
                  </a:lnTo>
                  <a:lnTo>
                    <a:pt x="732" y="1269"/>
                  </a:lnTo>
                  <a:lnTo>
                    <a:pt x="724" y="1253"/>
                  </a:lnTo>
                  <a:lnTo>
                    <a:pt x="717" y="1234"/>
                  </a:lnTo>
                  <a:lnTo>
                    <a:pt x="712" y="1219"/>
                  </a:lnTo>
                  <a:lnTo>
                    <a:pt x="709" y="1204"/>
                  </a:lnTo>
                  <a:lnTo>
                    <a:pt x="705" y="1191"/>
                  </a:lnTo>
                  <a:lnTo>
                    <a:pt x="700" y="1166"/>
                  </a:lnTo>
                  <a:lnTo>
                    <a:pt x="692" y="1143"/>
                  </a:lnTo>
                  <a:lnTo>
                    <a:pt x="685" y="1126"/>
                  </a:lnTo>
                  <a:lnTo>
                    <a:pt x="682" y="1119"/>
                  </a:lnTo>
                  <a:lnTo>
                    <a:pt x="689" y="1108"/>
                  </a:lnTo>
                  <a:lnTo>
                    <a:pt x="700" y="1078"/>
                  </a:lnTo>
                  <a:lnTo>
                    <a:pt x="707" y="1038"/>
                  </a:lnTo>
                  <a:lnTo>
                    <a:pt x="697" y="996"/>
                  </a:lnTo>
                  <a:lnTo>
                    <a:pt x="680" y="961"/>
                  </a:lnTo>
                  <a:lnTo>
                    <a:pt x="670" y="932"/>
                  </a:lnTo>
                  <a:lnTo>
                    <a:pt x="662" y="904"/>
                  </a:lnTo>
                  <a:lnTo>
                    <a:pt x="649" y="872"/>
                  </a:lnTo>
                  <a:lnTo>
                    <a:pt x="640" y="856"/>
                  </a:lnTo>
                  <a:lnTo>
                    <a:pt x="635" y="839"/>
                  </a:lnTo>
                  <a:lnTo>
                    <a:pt x="630" y="826"/>
                  </a:lnTo>
                  <a:lnTo>
                    <a:pt x="625" y="814"/>
                  </a:lnTo>
                  <a:lnTo>
                    <a:pt x="620" y="802"/>
                  </a:lnTo>
                  <a:lnTo>
                    <a:pt x="614" y="792"/>
                  </a:lnTo>
                  <a:lnTo>
                    <a:pt x="607" y="784"/>
                  </a:lnTo>
                  <a:lnTo>
                    <a:pt x="597" y="777"/>
                  </a:lnTo>
                  <a:lnTo>
                    <a:pt x="587" y="771"/>
                  </a:lnTo>
                  <a:lnTo>
                    <a:pt x="575" y="762"/>
                  </a:lnTo>
                  <a:lnTo>
                    <a:pt x="565" y="754"/>
                  </a:lnTo>
                  <a:lnTo>
                    <a:pt x="554" y="744"/>
                  </a:lnTo>
                  <a:lnTo>
                    <a:pt x="542" y="736"/>
                  </a:lnTo>
                  <a:lnTo>
                    <a:pt x="529" y="729"/>
                  </a:lnTo>
                  <a:lnTo>
                    <a:pt x="515" y="721"/>
                  </a:lnTo>
                  <a:lnTo>
                    <a:pt x="502" y="716"/>
                  </a:lnTo>
                  <a:lnTo>
                    <a:pt x="480" y="702"/>
                  </a:lnTo>
                  <a:lnTo>
                    <a:pt x="470" y="686"/>
                  </a:lnTo>
                  <a:lnTo>
                    <a:pt x="464" y="667"/>
                  </a:lnTo>
                  <a:lnTo>
                    <a:pt x="454" y="649"/>
                  </a:lnTo>
                  <a:lnTo>
                    <a:pt x="444" y="634"/>
                  </a:lnTo>
                  <a:lnTo>
                    <a:pt x="437" y="621"/>
                  </a:lnTo>
                  <a:lnTo>
                    <a:pt x="435" y="611"/>
                  </a:lnTo>
                  <a:lnTo>
                    <a:pt x="435" y="607"/>
                  </a:lnTo>
                  <a:lnTo>
                    <a:pt x="437" y="607"/>
                  </a:lnTo>
                  <a:lnTo>
                    <a:pt x="442" y="606"/>
                  </a:lnTo>
                  <a:lnTo>
                    <a:pt x="449" y="602"/>
                  </a:lnTo>
                  <a:lnTo>
                    <a:pt x="455" y="596"/>
                  </a:lnTo>
                  <a:lnTo>
                    <a:pt x="459" y="589"/>
                  </a:lnTo>
                  <a:lnTo>
                    <a:pt x="459" y="577"/>
                  </a:lnTo>
                  <a:lnTo>
                    <a:pt x="454" y="564"/>
                  </a:lnTo>
                  <a:lnTo>
                    <a:pt x="440" y="546"/>
                  </a:lnTo>
                  <a:lnTo>
                    <a:pt x="434" y="539"/>
                  </a:lnTo>
                  <a:lnTo>
                    <a:pt x="429" y="532"/>
                  </a:lnTo>
                  <a:lnTo>
                    <a:pt x="424" y="529"/>
                  </a:lnTo>
                  <a:lnTo>
                    <a:pt x="420" y="526"/>
                  </a:lnTo>
                  <a:lnTo>
                    <a:pt x="419" y="527"/>
                  </a:lnTo>
                  <a:lnTo>
                    <a:pt x="415" y="526"/>
                  </a:lnTo>
                  <a:lnTo>
                    <a:pt x="415" y="522"/>
                  </a:lnTo>
                  <a:lnTo>
                    <a:pt x="420" y="526"/>
                  </a:lnTo>
                  <a:lnTo>
                    <a:pt x="420" y="524"/>
                  </a:lnTo>
                  <a:lnTo>
                    <a:pt x="419" y="521"/>
                  </a:lnTo>
                  <a:lnTo>
                    <a:pt x="419" y="517"/>
                  </a:lnTo>
                  <a:lnTo>
                    <a:pt x="417" y="512"/>
                  </a:lnTo>
                  <a:lnTo>
                    <a:pt x="409" y="490"/>
                  </a:lnTo>
                  <a:lnTo>
                    <a:pt x="405" y="477"/>
                  </a:lnTo>
                  <a:lnTo>
                    <a:pt x="399" y="467"/>
                  </a:lnTo>
                  <a:lnTo>
                    <a:pt x="384" y="455"/>
                  </a:lnTo>
                  <a:lnTo>
                    <a:pt x="372" y="440"/>
                  </a:lnTo>
                  <a:lnTo>
                    <a:pt x="374" y="425"/>
                  </a:lnTo>
                  <a:lnTo>
                    <a:pt x="375" y="412"/>
                  </a:lnTo>
                  <a:lnTo>
                    <a:pt x="364" y="399"/>
                  </a:lnTo>
                  <a:lnTo>
                    <a:pt x="345" y="387"/>
                  </a:lnTo>
                  <a:lnTo>
                    <a:pt x="332" y="372"/>
                  </a:lnTo>
                  <a:lnTo>
                    <a:pt x="325" y="355"/>
                  </a:lnTo>
                  <a:lnTo>
                    <a:pt x="322" y="337"/>
                  </a:lnTo>
                  <a:lnTo>
                    <a:pt x="319" y="317"/>
                  </a:lnTo>
                  <a:lnTo>
                    <a:pt x="309" y="290"/>
                  </a:lnTo>
                  <a:lnTo>
                    <a:pt x="294" y="264"/>
                  </a:lnTo>
                  <a:lnTo>
                    <a:pt x="273" y="237"/>
                  </a:lnTo>
                  <a:lnTo>
                    <a:pt x="260" y="215"/>
                  </a:lnTo>
                  <a:lnTo>
                    <a:pt x="257" y="197"/>
                  </a:lnTo>
                  <a:lnTo>
                    <a:pt x="255" y="184"/>
                  </a:lnTo>
                  <a:lnTo>
                    <a:pt x="245" y="175"/>
                  </a:lnTo>
                  <a:lnTo>
                    <a:pt x="233" y="167"/>
                  </a:lnTo>
                  <a:lnTo>
                    <a:pt x="228" y="154"/>
                  </a:lnTo>
                  <a:lnTo>
                    <a:pt x="222" y="140"/>
                  </a:lnTo>
                  <a:lnTo>
                    <a:pt x="207" y="124"/>
                  </a:lnTo>
                  <a:lnTo>
                    <a:pt x="188" y="100"/>
                  </a:lnTo>
                  <a:lnTo>
                    <a:pt x="175" y="74"/>
                  </a:lnTo>
                  <a:lnTo>
                    <a:pt x="168" y="52"/>
                  </a:lnTo>
                  <a:lnTo>
                    <a:pt x="165" y="42"/>
                  </a:lnTo>
                  <a:lnTo>
                    <a:pt x="160" y="42"/>
                  </a:lnTo>
                  <a:lnTo>
                    <a:pt x="148" y="42"/>
                  </a:lnTo>
                  <a:lnTo>
                    <a:pt x="133" y="42"/>
                  </a:lnTo>
                  <a:lnTo>
                    <a:pt x="122" y="42"/>
                  </a:lnTo>
                  <a:lnTo>
                    <a:pt x="110" y="42"/>
                  </a:lnTo>
                  <a:lnTo>
                    <a:pt x="100" y="44"/>
                  </a:lnTo>
                  <a:lnTo>
                    <a:pt x="92" y="47"/>
                  </a:lnTo>
                  <a:lnTo>
                    <a:pt x="88" y="47"/>
                  </a:lnTo>
                  <a:lnTo>
                    <a:pt x="90" y="44"/>
                  </a:lnTo>
                  <a:lnTo>
                    <a:pt x="93" y="34"/>
                  </a:lnTo>
                  <a:lnTo>
                    <a:pt x="98" y="20"/>
                  </a:lnTo>
                  <a:lnTo>
                    <a:pt x="103" y="8"/>
                  </a:lnTo>
                  <a:lnTo>
                    <a:pt x="103" y="8"/>
                  </a:lnTo>
                  <a:lnTo>
                    <a:pt x="103" y="8"/>
                  </a:lnTo>
                  <a:lnTo>
                    <a:pt x="103" y="8"/>
                  </a:lnTo>
                  <a:lnTo>
                    <a:pt x="103" y="8"/>
                  </a:lnTo>
                  <a:lnTo>
                    <a:pt x="67" y="0"/>
                  </a:lnTo>
                  <a:lnTo>
                    <a:pt x="67" y="5"/>
                  </a:lnTo>
                  <a:lnTo>
                    <a:pt x="65" y="19"/>
                  </a:lnTo>
                  <a:lnTo>
                    <a:pt x="62" y="34"/>
                  </a:lnTo>
                  <a:lnTo>
                    <a:pt x="57" y="47"/>
                  </a:lnTo>
                  <a:lnTo>
                    <a:pt x="50" y="57"/>
                  </a:lnTo>
                  <a:lnTo>
                    <a:pt x="45" y="65"/>
                  </a:lnTo>
                  <a:lnTo>
                    <a:pt x="40" y="79"/>
                  </a:lnTo>
                  <a:lnTo>
                    <a:pt x="38" y="95"/>
                  </a:lnTo>
                  <a:lnTo>
                    <a:pt x="35" y="119"/>
                  </a:lnTo>
                  <a:lnTo>
                    <a:pt x="28" y="145"/>
                  </a:lnTo>
                  <a:lnTo>
                    <a:pt x="20" y="169"/>
                  </a:lnTo>
                  <a:lnTo>
                    <a:pt x="15" y="185"/>
                  </a:lnTo>
                  <a:lnTo>
                    <a:pt x="10" y="197"/>
                  </a:lnTo>
                  <a:lnTo>
                    <a:pt x="5" y="209"/>
                  </a:lnTo>
                  <a:lnTo>
                    <a:pt x="2" y="220"/>
                  </a:lnTo>
                  <a:lnTo>
                    <a:pt x="0" y="224"/>
                  </a:lnTo>
                  <a:lnTo>
                    <a:pt x="3" y="224"/>
                  </a:lnTo>
                  <a:lnTo>
                    <a:pt x="12" y="220"/>
                  </a:lnTo>
                  <a:lnTo>
                    <a:pt x="23" y="219"/>
                  </a:lnTo>
                  <a:lnTo>
                    <a:pt x="33" y="219"/>
                  </a:lnTo>
                  <a:lnTo>
                    <a:pt x="47" y="219"/>
                  </a:lnTo>
                  <a:lnTo>
                    <a:pt x="60" y="219"/>
                  </a:lnTo>
                  <a:lnTo>
                    <a:pt x="72" y="219"/>
                  </a:lnTo>
                  <a:lnTo>
                    <a:pt x="77" y="219"/>
                  </a:lnTo>
                  <a:lnTo>
                    <a:pt x="80" y="229"/>
                  </a:lnTo>
                  <a:lnTo>
                    <a:pt x="87" y="250"/>
                  </a:lnTo>
                  <a:lnTo>
                    <a:pt x="100" y="277"/>
                  </a:lnTo>
                  <a:lnTo>
                    <a:pt x="118" y="299"/>
                  </a:lnTo>
                  <a:lnTo>
                    <a:pt x="133" y="315"/>
                  </a:lnTo>
                  <a:lnTo>
                    <a:pt x="140" y="330"/>
                  </a:lnTo>
                  <a:lnTo>
                    <a:pt x="145" y="342"/>
                  </a:lnTo>
                  <a:lnTo>
                    <a:pt x="157" y="352"/>
                  </a:lnTo>
                  <a:lnTo>
                    <a:pt x="167" y="360"/>
                  </a:lnTo>
                  <a:lnTo>
                    <a:pt x="168" y="374"/>
                  </a:lnTo>
                  <a:lnTo>
                    <a:pt x="172" y="390"/>
                  </a:lnTo>
                  <a:lnTo>
                    <a:pt x="185" y="414"/>
                  </a:lnTo>
                  <a:lnTo>
                    <a:pt x="205" y="440"/>
                  </a:lnTo>
                  <a:lnTo>
                    <a:pt x="220" y="467"/>
                  </a:lnTo>
                  <a:lnTo>
                    <a:pt x="230" y="492"/>
                  </a:lnTo>
                  <a:lnTo>
                    <a:pt x="233" y="512"/>
                  </a:lnTo>
                  <a:lnTo>
                    <a:pt x="237" y="531"/>
                  </a:lnTo>
                  <a:lnTo>
                    <a:pt x="243" y="547"/>
                  </a:lnTo>
                  <a:lnTo>
                    <a:pt x="257" y="562"/>
                  </a:lnTo>
                  <a:lnTo>
                    <a:pt x="275" y="574"/>
                  </a:lnTo>
                  <a:lnTo>
                    <a:pt x="287" y="587"/>
                  </a:lnTo>
                  <a:lnTo>
                    <a:pt x="285" y="601"/>
                  </a:lnTo>
                  <a:lnTo>
                    <a:pt x="284" y="617"/>
                  </a:lnTo>
                  <a:lnTo>
                    <a:pt x="295" y="632"/>
                  </a:lnTo>
                  <a:lnTo>
                    <a:pt x="310" y="642"/>
                  </a:lnTo>
                  <a:lnTo>
                    <a:pt x="317" y="652"/>
                  </a:lnTo>
                  <a:lnTo>
                    <a:pt x="320" y="666"/>
                  </a:lnTo>
                  <a:lnTo>
                    <a:pt x="329" y="687"/>
                  </a:lnTo>
                  <a:lnTo>
                    <a:pt x="330" y="692"/>
                  </a:lnTo>
                  <a:lnTo>
                    <a:pt x="330" y="696"/>
                  </a:lnTo>
                  <a:lnTo>
                    <a:pt x="332" y="697"/>
                  </a:lnTo>
                  <a:lnTo>
                    <a:pt x="332" y="699"/>
                  </a:lnTo>
                  <a:lnTo>
                    <a:pt x="335" y="702"/>
                  </a:lnTo>
                  <a:lnTo>
                    <a:pt x="340" y="707"/>
                  </a:lnTo>
                  <a:lnTo>
                    <a:pt x="345" y="712"/>
                  </a:lnTo>
                  <a:lnTo>
                    <a:pt x="352" y="721"/>
                  </a:lnTo>
                  <a:lnTo>
                    <a:pt x="365" y="737"/>
                  </a:lnTo>
                  <a:lnTo>
                    <a:pt x="370" y="752"/>
                  </a:lnTo>
                  <a:lnTo>
                    <a:pt x="370" y="762"/>
                  </a:lnTo>
                  <a:lnTo>
                    <a:pt x="367" y="771"/>
                  </a:lnTo>
                  <a:lnTo>
                    <a:pt x="360" y="776"/>
                  </a:lnTo>
                  <a:lnTo>
                    <a:pt x="354" y="781"/>
                  </a:lnTo>
                  <a:lnTo>
                    <a:pt x="349" y="782"/>
                  </a:lnTo>
                  <a:lnTo>
                    <a:pt x="347" y="782"/>
                  </a:lnTo>
                  <a:lnTo>
                    <a:pt x="347" y="786"/>
                  </a:lnTo>
                  <a:lnTo>
                    <a:pt x="350" y="794"/>
                  </a:lnTo>
                  <a:lnTo>
                    <a:pt x="355" y="807"/>
                  </a:lnTo>
                  <a:lnTo>
                    <a:pt x="367" y="824"/>
                  </a:lnTo>
                  <a:lnTo>
                    <a:pt x="377" y="842"/>
                  </a:lnTo>
                  <a:lnTo>
                    <a:pt x="384" y="862"/>
                  </a:lnTo>
                  <a:lnTo>
                    <a:pt x="392" y="877"/>
                  </a:lnTo>
                  <a:lnTo>
                    <a:pt x="414" y="891"/>
                  </a:lnTo>
                  <a:lnTo>
                    <a:pt x="427" y="897"/>
                  </a:lnTo>
                  <a:lnTo>
                    <a:pt x="440" y="904"/>
                  </a:lnTo>
                  <a:lnTo>
                    <a:pt x="454" y="912"/>
                  </a:lnTo>
                  <a:lnTo>
                    <a:pt x="465" y="921"/>
                  </a:lnTo>
                  <a:lnTo>
                    <a:pt x="477" y="929"/>
                  </a:lnTo>
                  <a:lnTo>
                    <a:pt x="487" y="937"/>
                  </a:lnTo>
                  <a:lnTo>
                    <a:pt x="499" y="946"/>
                  </a:lnTo>
                  <a:lnTo>
                    <a:pt x="509" y="952"/>
                  </a:lnTo>
                  <a:lnTo>
                    <a:pt x="519" y="961"/>
                  </a:lnTo>
                  <a:lnTo>
                    <a:pt x="525" y="969"/>
                  </a:lnTo>
                  <a:lnTo>
                    <a:pt x="532" y="979"/>
                  </a:lnTo>
                  <a:lnTo>
                    <a:pt x="537" y="989"/>
                  </a:lnTo>
                  <a:lnTo>
                    <a:pt x="542" y="1002"/>
                  </a:lnTo>
                  <a:lnTo>
                    <a:pt x="547" y="1016"/>
                  </a:lnTo>
                  <a:lnTo>
                    <a:pt x="552" y="1031"/>
                  </a:lnTo>
                  <a:lnTo>
                    <a:pt x="560" y="1048"/>
                  </a:lnTo>
                  <a:lnTo>
                    <a:pt x="574" y="1079"/>
                  </a:lnTo>
                  <a:lnTo>
                    <a:pt x="584" y="1108"/>
                  </a:lnTo>
                  <a:lnTo>
                    <a:pt x="592" y="1136"/>
                  </a:lnTo>
                  <a:lnTo>
                    <a:pt x="609" y="1171"/>
                  </a:lnTo>
                  <a:lnTo>
                    <a:pt x="619" y="1213"/>
                  </a:lnTo>
                  <a:lnTo>
                    <a:pt x="612" y="1253"/>
                  </a:lnTo>
                  <a:lnTo>
                    <a:pt x="600" y="1283"/>
                  </a:lnTo>
                  <a:lnTo>
                    <a:pt x="594" y="1294"/>
                  </a:lnTo>
                  <a:lnTo>
                    <a:pt x="597" y="1301"/>
                  </a:lnTo>
                  <a:lnTo>
                    <a:pt x="604" y="1318"/>
                  </a:lnTo>
                  <a:lnTo>
                    <a:pt x="612" y="1341"/>
                  </a:lnTo>
                  <a:lnTo>
                    <a:pt x="617" y="1366"/>
                  </a:lnTo>
                  <a:lnTo>
                    <a:pt x="620" y="1379"/>
                  </a:lnTo>
                  <a:lnTo>
                    <a:pt x="624" y="1394"/>
                  </a:lnTo>
                  <a:lnTo>
                    <a:pt x="629" y="1409"/>
                  </a:lnTo>
                  <a:lnTo>
                    <a:pt x="635" y="1428"/>
                  </a:lnTo>
                  <a:lnTo>
                    <a:pt x="644" y="1444"/>
                  </a:lnTo>
                  <a:lnTo>
                    <a:pt x="654" y="1463"/>
                  </a:lnTo>
                  <a:lnTo>
                    <a:pt x="664" y="1481"/>
                  </a:lnTo>
                  <a:lnTo>
                    <a:pt x="675" y="1499"/>
                  </a:lnTo>
                  <a:lnTo>
                    <a:pt x="687" y="1516"/>
                  </a:lnTo>
                  <a:lnTo>
                    <a:pt x="695" y="1531"/>
                  </a:lnTo>
                  <a:lnTo>
                    <a:pt x="702" y="1543"/>
                  </a:lnTo>
                  <a:lnTo>
                    <a:pt x="707" y="1553"/>
                  </a:lnTo>
                  <a:lnTo>
                    <a:pt x="712" y="1561"/>
                  </a:lnTo>
                  <a:lnTo>
                    <a:pt x="719" y="1566"/>
                  </a:lnTo>
                  <a:lnTo>
                    <a:pt x="724" y="1570"/>
                  </a:lnTo>
                  <a:lnTo>
                    <a:pt x="732" y="1571"/>
                  </a:lnTo>
                  <a:lnTo>
                    <a:pt x="742" y="1573"/>
                  </a:lnTo>
                  <a:lnTo>
                    <a:pt x="754" y="1576"/>
                  </a:lnTo>
                  <a:lnTo>
                    <a:pt x="765" y="1581"/>
                  </a:lnTo>
                  <a:lnTo>
                    <a:pt x="779" y="1588"/>
                  </a:lnTo>
                  <a:lnTo>
                    <a:pt x="792" y="1595"/>
                  </a:lnTo>
                  <a:lnTo>
                    <a:pt x="804" y="1603"/>
                  </a:lnTo>
                  <a:lnTo>
                    <a:pt x="814" y="1611"/>
                  </a:lnTo>
                  <a:lnTo>
                    <a:pt x="822" y="1618"/>
                  </a:lnTo>
                  <a:lnTo>
                    <a:pt x="834" y="1633"/>
                  </a:lnTo>
                  <a:lnTo>
                    <a:pt x="846" y="1648"/>
                  </a:lnTo>
                  <a:lnTo>
                    <a:pt x="856" y="1663"/>
                  </a:lnTo>
                  <a:lnTo>
                    <a:pt x="866" y="1675"/>
                  </a:lnTo>
                  <a:lnTo>
                    <a:pt x="872" y="1685"/>
                  </a:lnTo>
                  <a:lnTo>
                    <a:pt x="881" y="1700"/>
                  </a:lnTo>
                  <a:lnTo>
                    <a:pt x="891" y="1721"/>
                  </a:lnTo>
                  <a:lnTo>
                    <a:pt x="902" y="1743"/>
                  </a:lnTo>
                  <a:lnTo>
                    <a:pt x="912" y="1768"/>
                  </a:lnTo>
                  <a:lnTo>
                    <a:pt x="921" y="1790"/>
                  </a:lnTo>
                  <a:lnTo>
                    <a:pt x="927" y="1810"/>
                  </a:lnTo>
                  <a:lnTo>
                    <a:pt x="931" y="1823"/>
                  </a:lnTo>
                  <a:lnTo>
                    <a:pt x="937" y="1841"/>
                  </a:lnTo>
                  <a:lnTo>
                    <a:pt x="951" y="1858"/>
                  </a:lnTo>
                  <a:lnTo>
                    <a:pt x="964" y="1878"/>
                  </a:lnTo>
                  <a:lnTo>
                    <a:pt x="979" y="1908"/>
                  </a:lnTo>
                  <a:lnTo>
                    <a:pt x="987" y="1926"/>
                  </a:lnTo>
                  <a:lnTo>
                    <a:pt x="999" y="1945"/>
                  </a:lnTo>
                  <a:lnTo>
                    <a:pt x="1014" y="1965"/>
                  </a:lnTo>
                  <a:lnTo>
                    <a:pt x="1029" y="1981"/>
                  </a:lnTo>
                  <a:lnTo>
                    <a:pt x="1044" y="2000"/>
                  </a:lnTo>
                  <a:lnTo>
                    <a:pt x="1059" y="2015"/>
                  </a:lnTo>
                  <a:lnTo>
                    <a:pt x="1072" y="2027"/>
                  </a:lnTo>
                  <a:lnTo>
                    <a:pt x="1084" y="2037"/>
                  </a:lnTo>
                  <a:lnTo>
                    <a:pt x="1097" y="2052"/>
                  </a:lnTo>
                  <a:lnTo>
                    <a:pt x="1106" y="2068"/>
                  </a:lnTo>
                  <a:lnTo>
                    <a:pt x="1109" y="2085"/>
                  </a:lnTo>
                  <a:lnTo>
                    <a:pt x="1112" y="2098"/>
                  </a:lnTo>
                  <a:lnTo>
                    <a:pt x="1117" y="2108"/>
                  </a:lnTo>
                  <a:lnTo>
                    <a:pt x="1126" y="2120"/>
                  </a:lnTo>
                  <a:lnTo>
                    <a:pt x="1136" y="2132"/>
                  </a:lnTo>
                  <a:lnTo>
                    <a:pt x="1146" y="2145"/>
                  </a:lnTo>
                  <a:lnTo>
                    <a:pt x="1156" y="2160"/>
                  </a:lnTo>
                  <a:lnTo>
                    <a:pt x="1164" y="2175"/>
                  </a:lnTo>
                  <a:lnTo>
                    <a:pt x="1169" y="2190"/>
                  </a:lnTo>
                  <a:lnTo>
                    <a:pt x="1169" y="2202"/>
                  </a:lnTo>
                  <a:lnTo>
                    <a:pt x="1169" y="2217"/>
                  </a:lnTo>
                  <a:lnTo>
                    <a:pt x="1172" y="2233"/>
                  </a:lnTo>
                  <a:lnTo>
                    <a:pt x="1177" y="2248"/>
                  </a:lnTo>
                  <a:lnTo>
                    <a:pt x="1179" y="2255"/>
                  </a:lnTo>
                  <a:lnTo>
                    <a:pt x="1216" y="2227"/>
                  </a:lnTo>
                  <a:lnTo>
                    <a:pt x="1219" y="2222"/>
                  </a:lnTo>
                  <a:lnTo>
                    <a:pt x="1226" y="2208"/>
                  </a:lnTo>
                  <a:lnTo>
                    <a:pt x="1232" y="2192"/>
                  </a:lnTo>
                  <a:lnTo>
                    <a:pt x="1236" y="2178"/>
                  </a:lnTo>
                  <a:lnTo>
                    <a:pt x="1236" y="2165"/>
                  </a:lnTo>
                  <a:lnTo>
                    <a:pt x="1234" y="2145"/>
                  </a:lnTo>
                  <a:lnTo>
                    <a:pt x="1236" y="2123"/>
                  </a:lnTo>
                  <a:lnTo>
                    <a:pt x="1241" y="2103"/>
                  </a:lnTo>
                  <a:lnTo>
                    <a:pt x="1241" y="2087"/>
                  </a:lnTo>
                  <a:lnTo>
                    <a:pt x="1236" y="2077"/>
                  </a:lnTo>
                  <a:lnTo>
                    <a:pt x="1234" y="2067"/>
                  </a:lnTo>
                  <a:lnTo>
                    <a:pt x="1241" y="2060"/>
                  </a:lnTo>
                  <a:lnTo>
                    <a:pt x="1246" y="2057"/>
                  </a:lnTo>
                  <a:lnTo>
                    <a:pt x="1251" y="2057"/>
                  </a:lnTo>
                  <a:lnTo>
                    <a:pt x="1256" y="2058"/>
                  </a:lnTo>
                  <a:lnTo>
                    <a:pt x="1261" y="2062"/>
                  </a:lnTo>
                  <a:lnTo>
                    <a:pt x="1259" y="2052"/>
                  </a:lnTo>
                  <a:lnTo>
                    <a:pt x="1257" y="2043"/>
                  </a:lnTo>
                  <a:lnTo>
                    <a:pt x="1256" y="2033"/>
                  </a:lnTo>
                  <a:lnTo>
                    <a:pt x="1257" y="2027"/>
                  </a:lnTo>
                  <a:close/>
                </a:path>
              </a:pathLst>
            </a:custGeom>
            <a:solidFill>
              <a:srgbClr val="ffffff">
                <a:alpha val="10000"/>
              </a:srgbClr>
            </a:solidFill>
            <a:ln cap="sq" w="9360">
              <a:solidFill>
                <a:srgbClr val="ffffff"/>
              </a:solidFill>
              <a:round/>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28" name=""/>
            <p:cNvSpPr/>
            <p:nvPr/>
          </p:nvSpPr>
          <p:spPr>
            <a:xfrm>
              <a:off x="3086280" y="3249720"/>
              <a:ext cx="4680" cy="4680"/>
            </a:xfrm>
            <a:custGeom>
              <a:avLst/>
              <a:gdLst/>
              <a:ahLst/>
              <a:rect l="l" t="t" r="r" b="b"/>
              <a:pathLst>
                <a:path w="5" h="5">
                  <a:moveTo>
                    <a:pt x="5" y="3"/>
                  </a:moveTo>
                  <a:lnTo>
                    <a:pt x="0" y="0"/>
                  </a:lnTo>
                  <a:lnTo>
                    <a:pt x="2" y="3"/>
                  </a:lnTo>
                  <a:lnTo>
                    <a:pt x="3" y="5"/>
                  </a:lnTo>
                  <a:lnTo>
                    <a:pt x="5" y="3"/>
                  </a:lnTo>
                  <a:lnTo>
                    <a:pt x="5" y="3"/>
                  </a:lnTo>
                  <a:close/>
                </a:path>
              </a:pathLst>
            </a:custGeom>
            <a:solidFill>
              <a:srgbClr val="000000"/>
            </a:solidFill>
            <a:ln w="0">
              <a:noFill/>
            </a:ln>
          </p:spPr>
          <p:style>
            <a:lnRef idx="0"/>
            <a:fillRef idx="0"/>
            <a:effectRef idx="0"/>
            <a:fontRef idx="minor"/>
          </p:style>
          <p:txBody>
            <a:bodyPr wrap="none" lIns="90000" rIns="90000" tIns="-42120" bIns="-421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29" name=""/>
            <p:cNvSpPr/>
            <p:nvPr/>
          </p:nvSpPr>
          <p:spPr>
            <a:xfrm>
              <a:off x="4379760" y="4205160"/>
              <a:ext cx="2567160" cy="993960"/>
            </a:xfrm>
            <a:custGeom>
              <a:avLst/>
              <a:gdLst/>
              <a:ahLst/>
              <a:rect l="l" t="t" r="r" b="b"/>
              <a:pathLst>
                <a:path w="1881" h="744">
                  <a:moveTo>
                    <a:pt x="1298" y="222"/>
                  </a:moveTo>
                  <a:lnTo>
                    <a:pt x="1283" y="225"/>
                  </a:lnTo>
                  <a:lnTo>
                    <a:pt x="1263" y="230"/>
                  </a:lnTo>
                  <a:lnTo>
                    <a:pt x="1239" y="235"/>
                  </a:lnTo>
                  <a:lnTo>
                    <a:pt x="1214" y="242"/>
                  </a:lnTo>
                  <a:lnTo>
                    <a:pt x="1186" y="249"/>
                  </a:lnTo>
                  <a:lnTo>
                    <a:pt x="1157" y="255"/>
                  </a:lnTo>
                  <a:lnTo>
                    <a:pt x="1127" y="262"/>
                  </a:lnTo>
                  <a:lnTo>
                    <a:pt x="1097" y="269"/>
                  </a:lnTo>
                  <a:lnTo>
                    <a:pt x="1067" y="275"/>
                  </a:lnTo>
                  <a:lnTo>
                    <a:pt x="1039" y="284"/>
                  </a:lnTo>
                  <a:lnTo>
                    <a:pt x="1012" y="290"/>
                  </a:lnTo>
                  <a:lnTo>
                    <a:pt x="989" y="297"/>
                  </a:lnTo>
                  <a:lnTo>
                    <a:pt x="967" y="302"/>
                  </a:lnTo>
                  <a:lnTo>
                    <a:pt x="949" y="309"/>
                  </a:lnTo>
                  <a:lnTo>
                    <a:pt x="936" y="314"/>
                  </a:lnTo>
                  <a:lnTo>
                    <a:pt x="927" y="317"/>
                  </a:lnTo>
                  <a:lnTo>
                    <a:pt x="914" y="324"/>
                  </a:lnTo>
                  <a:lnTo>
                    <a:pt x="901" y="329"/>
                  </a:lnTo>
                  <a:lnTo>
                    <a:pt x="887" y="337"/>
                  </a:lnTo>
                  <a:lnTo>
                    <a:pt x="872" y="344"/>
                  </a:lnTo>
                  <a:lnTo>
                    <a:pt x="857" y="355"/>
                  </a:lnTo>
                  <a:lnTo>
                    <a:pt x="842" y="369"/>
                  </a:lnTo>
                  <a:lnTo>
                    <a:pt x="826" y="389"/>
                  </a:lnTo>
                  <a:lnTo>
                    <a:pt x="807" y="412"/>
                  </a:lnTo>
                  <a:lnTo>
                    <a:pt x="791" y="437"/>
                  </a:lnTo>
                  <a:lnTo>
                    <a:pt x="776" y="460"/>
                  </a:lnTo>
                  <a:lnTo>
                    <a:pt x="761" y="482"/>
                  </a:lnTo>
                  <a:lnTo>
                    <a:pt x="747" y="502"/>
                  </a:lnTo>
                  <a:lnTo>
                    <a:pt x="737" y="519"/>
                  </a:lnTo>
                  <a:lnTo>
                    <a:pt x="727" y="532"/>
                  </a:lnTo>
                  <a:lnTo>
                    <a:pt x="719" y="542"/>
                  </a:lnTo>
                  <a:lnTo>
                    <a:pt x="712" y="549"/>
                  </a:lnTo>
                  <a:lnTo>
                    <a:pt x="706" y="554"/>
                  </a:lnTo>
                  <a:lnTo>
                    <a:pt x="699" y="559"/>
                  </a:lnTo>
                  <a:lnTo>
                    <a:pt x="689" y="564"/>
                  </a:lnTo>
                  <a:lnTo>
                    <a:pt x="679" y="565"/>
                  </a:lnTo>
                  <a:lnTo>
                    <a:pt x="667" y="567"/>
                  </a:lnTo>
                  <a:lnTo>
                    <a:pt x="657" y="567"/>
                  </a:lnTo>
                  <a:lnTo>
                    <a:pt x="647" y="564"/>
                  </a:lnTo>
                  <a:lnTo>
                    <a:pt x="637" y="559"/>
                  </a:lnTo>
                  <a:lnTo>
                    <a:pt x="629" y="552"/>
                  </a:lnTo>
                  <a:lnTo>
                    <a:pt x="622" y="544"/>
                  </a:lnTo>
                  <a:lnTo>
                    <a:pt x="615" y="535"/>
                  </a:lnTo>
                  <a:lnTo>
                    <a:pt x="609" y="529"/>
                  </a:lnTo>
                  <a:lnTo>
                    <a:pt x="602" y="524"/>
                  </a:lnTo>
                  <a:lnTo>
                    <a:pt x="595" y="520"/>
                  </a:lnTo>
                  <a:lnTo>
                    <a:pt x="589" y="519"/>
                  </a:lnTo>
                  <a:lnTo>
                    <a:pt x="580" y="520"/>
                  </a:lnTo>
                  <a:lnTo>
                    <a:pt x="569" y="524"/>
                  </a:lnTo>
                  <a:lnTo>
                    <a:pt x="554" y="525"/>
                  </a:lnTo>
                  <a:lnTo>
                    <a:pt x="537" y="525"/>
                  </a:lnTo>
                  <a:lnTo>
                    <a:pt x="519" y="525"/>
                  </a:lnTo>
                  <a:lnTo>
                    <a:pt x="499" y="525"/>
                  </a:lnTo>
                  <a:lnTo>
                    <a:pt x="480" y="524"/>
                  </a:lnTo>
                  <a:lnTo>
                    <a:pt x="462" y="522"/>
                  </a:lnTo>
                  <a:lnTo>
                    <a:pt x="447" y="520"/>
                  </a:lnTo>
                  <a:lnTo>
                    <a:pt x="432" y="519"/>
                  </a:lnTo>
                  <a:lnTo>
                    <a:pt x="417" y="515"/>
                  </a:lnTo>
                  <a:lnTo>
                    <a:pt x="404" y="510"/>
                  </a:lnTo>
                  <a:lnTo>
                    <a:pt x="389" y="507"/>
                  </a:lnTo>
                  <a:lnTo>
                    <a:pt x="375" y="504"/>
                  </a:lnTo>
                  <a:lnTo>
                    <a:pt x="364" y="500"/>
                  </a:lnTo>
                  <a:lnTo>
                    <a:pt x="352" y="497"/>
                  </a:lnTo>
                  <a:lnTo>
                    <a:pt x="342" y="497"/>
                  </a:lnTo>
                  <a:lnTo>
                    <a:pt x="329" y="497"/>
                  </a:lnTo>
                  <a:lnTo>
                    <a:pt x="307" y="497"/>
                  </a:lnTo>
                  <a:lnTo>
                    <a:pt x="280" y="499"/>
                  </a:lnTo>
                  <a:lnTo>
                    <a:pt x="250" y="499"/>
                  </a:lnTo>
                  <a:lnTo>
                    <a:pt x="224" y="500"/>
                  </a:lnTo>
                  <a:lnTo>
                    <a:pt x="200" y="502"/>
                  </a:lnTo>
                  <a:lnTo>
                    <a:pt x="184" y="502"/>
                  </a:lnTo>
                  <a:lnTo>
                    <a:pt x="177" y="502"/>
                  </a:lnTo>
                  <a:lnTo>
                    <a:pt x="175" y="504"/>
                  </a:lnTo>
                  <a:lnTo>
                    <a:pt x="170" y="505"/>
                  </a:lnTo>
                  <a:lnTo>
                    <a:pt x="164" y="509"/>
                  </a:lnTo>
                  <a:lnTo>
                    <a:pt x="155" y="510"/>
                  </a:lnTo>
                  <a:lnTo>
                    <a:pt x="144" y="512"/>
                  </a:lnTo>
                  <a:lnTo>
                    <a:pt x="132" y="512"/>
                  </a:lnTo>
                  <a:lnTo>
                    <a:pt x="120" y="509"/>
                  </a:lnTo>
                  <a:lnTo>
                    <a:pt x="107" y="502"/>
                  </a:lnTo>
                  <a:lnTo>
                    <a:pt x="95" y="494"/>
                  </a:lnTo>
                  <a:lnTo>
                    <a:pt x="87" y="485"/>
                  </a:lnTo>
                  <a:lnTo>
                    <a:pt x="80" y="479"/>
                  </a:lnTo>
                  <a:lnTo>
                    <a:pt x="75" y="475"/>
                  </a:lnTo>
                  <a:lnTo>
                    <a:pt x="70" y="472"/>
                  </a:lnTo>
                  <a:lnTo>
                    <a:pt x="65" y="470"/>
                  </a:lnTo>
                  <a:lnTo>
                    <a:pt x="60" y="470"/>
                  </a:lnTo>
                  <a:lnTo>
                    <a:pt x="53" y="474"/>
                  </a:lnTo>
                  <a:lnTo>
                    <a:pt x="47" y="480"/>
                  </a:lnTo>
                  <a:lnTo>
                    <a:pt x="50" y="489"/>
                  </a:lnTo>
                  <a:lnTo>
                    <a:pt x="55" y="500"/>
                  </a:lnTo>
                  <a:lnTo>
                    <a:pt x="53" y="515"/>
                  </a:lnTo>
                  <a:lnTo>
                    <a:pt x="50" y="535"/>
                  </a:lnTo>
                  <a:lnTo>
                    <a:pt x="48" y="557"/>
                  </a:lnTo>
                  <a:lnTo>
                    <a:pt x="50" y="577"/>
                  </a:lnTo>
                  <a:lnTo>
                    <a:pt x="50" y="592"/>
                  </a:lnTo>
                  <a:lnTo>
                    <a:pt x="47" y="606"/>
                  </a:lnTo>
                  <a:lnTo>
                    <a:pt x="40" y="621"/>
                  </a:lnTo>
                  <a:lnTo>
                    <a:pt x="33" y="634"/>
                  </a:lnTo>
                  <a:lnTo>
                    <a:pt x="30" y="639"/>
                  </a:lnTo>
                  <a:lnTo>
                    <a:pt x="0" y="662"/>
                  </a:lnTo>
                  <a:lnTo>
                    <a:pt x="3" y="666"/>
                  </a:lnTo>
                  <a:lnTo>
                    <a:pt x="8" y="669"/>
                  </a:lnTo>
                  <a:lnTo>
                    <a:pt x="13" y="674"/>
                  </a:lnTo>
                  <a:lnTo>
                    <a:pt x="18" y="677"/>
                  </a:lnTo>
                  <a:lnTo>
                    <a:pt x="32" y="684"/>
                  </a:lnTo>
                  <a:lnTo>
                    <a:pt x="43" y="687"/>
                  </a:lnTo>
                  <a:lnTo>
                    <a:pt x="55" y="687"/>
                  </a:lnTo>
                  <a:lnTo>
                    <a:pt x="67" y="686"/>
                  </a:lnTo>
                  <a:lnTo>
                    <a:pt x="77" y="684"/>
                  </a:lnTo>
                  <a:lnTo>
                    <a:pt x="83" y="681"/>
                  </a:lnTo>
                  <a:lnTo>
                    <a:pt x="88" y="679"/>
                  </a:lnTo>
                  <a:lnTo>
                    <a:pt x="90" y="677"/>
                  </a:lnTo>
                  <a:lnTo>
                    <a:pt x="97" y="677"/>
                  </a:lnTo>
                  <a:lnTo>
                    <a:pt x="114" y="677"/>
                  </a:lnTo>
                  <a:lnTo>
                    <a:pt x="137" y="676"/>
                  </a:lnTo>
                  <a:lnTo>
                    <a:pt x="164" y="674"/>
                  </a:lnTo>
                  <a:lnTo>
                    <a:pt x="194" y="674"/>
                  </a:lnTo>
                  <a:lnTo>
                    <a:pt x="220" y="672"/>
                  </a:lnTo>
                  <a:lnTo>
                    <a:pt x="242" y="672"/>
                  </a:lnTo>
                  <a:lnTo>
                    <a:pt x="255" y="672"/>
                  </a:lnTo>
                  <a:lnTo>
                    <a:pt x="265" y="674"/>
                  </a:lnTo>
                  <a:lnTo>
                    <a:pt x="275" y="676"/>
                  </a:lnTo>
                  <a:lnTo>
                    <a:pt x="289" y="679"/>
                  </a:lnTo>
                  <a:lnTo>
                    <a:pt x="302" y="682"/>
                  </a:lnTo>
                  <a:lnTo>
                    <a:pt x="315" y="687"/>
                  </a:lnTo>
                  <a:lnTo>
                    <a:pt x="330" y="691"/>
                  </a:lnTo>
                  <a:lnTo>
                    <a:pt x="344" y="694"/>
                  </a:lnTo>
                  <a:lnTo>
                    <a:pt x="359" y="697"/>
                  </a:lnTo>
                  <a:lnTo>
                    <a:pt x="374" y="699"/>
                  </a:lnTo>
                  <a:lnTo>
                    <a:pt x="392" y="701"/>
                  </a:lnTo>
                  <a:lnTo>
                    <a:pt x="412" y="701"/>
                  </a:lnTo>
                  <a:lnTo>
                    <a:pt x="430" y="702"/>
                  </a:lnTo>
                  <a:lnTo>
                    <a:pt x="450" y="702"/>
                  </a:lnTo>
                  <a:lnTo>
                    <a:pt x="467" y="701"/>
                  </a:lnTo>
                  <a:lnTo>
                    <a:pt x="480" y="701"/>
                  </a:lnTo>
                  <a:lnTo>
                    <a:pt x="492" y="697"/>
                  </a:lnTo>
                  <a:lnTo>
                    <a:pt x="500" y="696"/>
                  </a:lnTo>
                  <a:lnTo>
                    <a:pt x="507" y="696"/>
                  </a:lnTo>
                  <a:lnTo>
                    <a:pt x="514" y="699"/>
                  </a:lnTo>
                  <a:lnTo>
                    <a:pt x="520" y="706"/>
                  </a:lnTo>
                  <a:lnTo>
                    <a:pt x="527" y="712"/>
                  </a:lnTo>
                  <a:lnTo>
                    <a:pt x="534" y="719"/>
                  </a:lnTo>
                  <a:lnTo>
                    <a:pt x="540" y="727"/>
                  </a:lnTo>
                  <a:lnTo>
                    <a:pt x="549" y="734"/>
                  </a:lnTo>
                  <a:lnTo>
                    <a:pt x="559" y="741"/>
                  </a:lnTo>
                  <a:lnTo>
                    <a:pt x="569" y="742"/>
                  </a:lnTo>
                  <a:lnTo>
                    <a:pt x="579" y="744"/>
                  </a:lnTo>
                  <a:lnTo>
                    <a:pt x="590" y="742"/>
                  </a:lnTo>
                  <a:lnTo>
                    <a:pt x="600" y="739"/>
                  </a:lnTo>
                  <a:lnTo>
                    <a:pt x="610" y="736"/>
                  </a:lnTo>
                  <a:lnTo>
                    <a:pt x="619" y="731"/>
                  </a:lnTo>
                  <a:lnTo>
                    <a:pt x="625" y="726"/>
                  </a:lnTo>
                  <a:lnTo>
                    <a:pt x="632" y="719"/>
                  </a:lnTo>
                  <a:lnTo>
                    <a:pt x="639" y="707"/>
                  </a:lnTo>
                  <a:lnTo>
                    <a:pt x="649" y="694"/>
                  </a:lnTo>
                  <a:lnTo>
                    <a:pt x="661" y="677"/>
                  </a:lnTo>
                  <a:lnTo>
                    <a:pt x="672" y="659"/>
                  </a:lnTo>
                  <a:lnTo>
                    <a:pt x="687" y="637"/>
                  </a:lnTo>
                  <a:lnTo>
                    <a:pt x="704" y="614"/>
                  </a:lnTo>
                  <a:lnTo>
                    <a:pt x="721" y="587"/>
                  </a:lnTo>
                  <a:lnTo>
                    <a:pt x="737" y="564"/>
                  </a:lnTo>
                  <a:lnTo>
                    <a:pt x="754" y="544"/>
                  </a:lnTo>
                  <a:lnTo>
                    <a:pt x="769" y="530"/>
                  </a:lnTo>
                  <a:lnTo>
                    <a:pt x="786" y="519"/>
                  </a:lnTo>
                  <a:lnTo>
                    <a:pt x="799" y="512"/>
                  </a:lnTo>
                  <a:lnTo>
                    <a:pt x="812" y="504"/>
                  </a:lnTo>
                  <a:lnTo>
                    <a:pt x="826" y="499"/>
                  </a:lnTo>
                  <a:lnTo>
                    <a:pt x="839" y="492"/>
                  </a:lnTo>
                  <a:lnTo>
                    <a:pt x="847" y="489"/>
                  </a:lnTo>
                  <a:lnTo>
                    <a:pt x="862" y="484"/>
                  </a:lnTo>
                  <a:lnTo>
                    <a:pt x="879" y="479"/>
                  </a:lnTo>
                  <a:lnTo>
                    <a:pt x="901" y="472"/>
                  </a:lnTo>
                  <a:lnTo>
                    <a:pt x="926" y="465"/>
                  </a:lnTo>
                  <a:lnTo>
                    <a:pt x="952" y="459"/>
                  </a:lnTo>
                  <a:lnTo>
                    <a:pt x="981" y="452"/>
                  </a:lnTo>
                  <a:lnTo>
                    <a:pt x="1009" y="444"/>
                  </a:lnTo>
                  <a:lnTo>
                    <a:pt x="1039" y="437"/>
                  </a:lnTo>
                  <a:lnTo>
                    <a:pt x="1069" y="430"/>
                  </a:lnTo>
                  <a:lnTo>
                    <a:pt x="1097" y="424"/>
                  </a:lnTo>
                  <a:lnTo>
                    <a:pt x="1126" y="417"/>
                  </a:lnTo>
                  <a:lnTo>
                    <a:pt x="1151" y="410"/>
                  </a:lnTo>
                  <a:lnTo>
                    <a:pt x="1174" y="405"/>
                  </a:lnTo>
                  <a:lnTo>
                    <a:pt x="1194" y="400"/>
                  </a:lnTo>
                  <a:lnTo>
                    <a:pt x="1209" y="397"/>
                  </a:lnTo>
                  <a:lnTo>
                    <a:pt x="1236" y="390"/>
                  </a:lnTo>
                  <a:lnTo>
                    <a:pt x="1263" y="385"/>
                  </a:lnTo>
                  <a:lnTo>
                    <a:pt x="1289" y="382"/>
                  </a:lnTo>
                  <a:lnTo>
                    <a:pt x="1313" y="379"/>
                  </a:lnTo>
                  <a:lnTo>
                    <a:pt x="1336" y="375"/>
                  </a:lnTo>
                  <a:lnTo>
                    <a:pt x="1354" y="370"/>
                  </a:lnTo>
                  <a:lnTo>
                    <a:pt x="1371" y="365"/>
                  </a:lnTo>
                  <a:lnTo>
                    <a:pt x="1384" y="359"/>
                  </a:lnTo>
                  <a:lnTo>
                    <a:pt x="1394" y="354"/>
                  </a:lnTo>
                  <a:lnTo>
                    <a:pt x="1411" y="345"/>
                  </a:lnTo>
                  <a:lnTo>
                    <a:pt x="1434" y="334"/>
                  </a:lnTo>
                  <a:lnTo>
                    <a:pt x="1463" y="320"/>
                  </a:lnTo>
                  <a:lnTo>
                    <a:pt x="1496" y="307"/>
                  </a:lnTo>
                  <a:lnTo>
                    <a:pt x="1533" y="290"/>
                  </a:lnTo>
                  <a:lnTo>
                    <a:pt x="1571" y="274"/>
                  </a:lnTo>
                  <a:lnTo>
                    <a:pt x="1611" y="255"/>
                  </a:lnTo>
                  <a:lnTo>
                    <a:pt x="1649" y="239"/>
                  </a:lnTo>
                  <a:lnTo>
                    <a:pt x="1688" y="222"/>
                  </a:lnTo>
                  <a:lnTo>
                    <a:pt x="1723" y="207"/>
                  </a:lnTo>
                  <a:lnTo>
                    <a:pt x="1756" y="192"/>
                  </a:lnTo>
                  <a:lnTo>
                    <a:pt x="1783" y="180"/>
                  </a:lnTo>
                  <a:lnTo>
                    <a:pt x="1805" y="170"/>
                  </a:lnTo>
                  <a:lnTo>
                    <a:pt x="1820" y="164"/>
                  </a:lnTo>
                  <a:lnTo>
                    <a:pt x="1826" y="160"/>
                  </a:lnTo>
                  <a:lnTo>
                    <a:pt x="1836" y="152"/>
                  </a:lnTo>
                  <a:lnTo>
                    <a:pt x="1841" y="142"/>
                  </a:lnTo>
                  <a:lnTo>
                    <a:pt x="1845" y="130"/>
                  </a:lnTo>
                  <a:lnTo>
                    <a:pt x="1846" y="117"/>
                  </a:lnTo>
                  <a:lnTo>
                    <a:pt x="1848" y="100"/>
                  </a:lnTo>
                  <a:lnTo>
                    <a:pt x="1851" y="78"/>
                  </a:lnTo>
                  <a:lnTo>
                    <a:pt x="1858" y="57"/>
                  </a:lnTo>
                  <a:lnTo>
                    <a:pt x="1865" y="37"/>
                  </a:lnTo>
                  <a:lnTo>
                    <a:pt x="1868" y="27"/>
                  </a:lnTo>
                  <a:lnTo>
                    <a:pt x="1873" y="18"/>
                  </a:lnTo>
                  <a:lnTo>
                    <a:pt x="1876" y="8"/>
                  </a:lnTo>
                  <a:lnTo>
                    <a:pt x="1881" y="0"/>
                  </a:lnTo>
                  <a:lnTo>
                    <a:pt x="1861" y="10"/>
                  </a:lnTo>
                  <a:lnTo>
                    <a:pt x="1836" y="20"/>
                  </a:lnTo>
                  <a:lnTo>
                    <a:pt x="1808" y="32"/>
                  </a:lnTo>
                  <a:lnTo>
                    <a:pt x="1778" y="45"/>
                  </a:lnTo>
                  <a:lnTo>
                    <a:pt x="1746" y="58"/>
                  </a:lnTo>
                  <a:lnTo>
                    <a:pt x="1714" y="73"/>
                  </a:lnTo>
                  <a:lnTo>
                    <a:pt x="1681" y="88"/>
                  </a:lnTo>
                  <a:lnTo>
                    <a:pt x="1648" y="102"/>
                  </a:lnTo>
                  <a:lnTo>
                    <a:pt x="1616" y="117"/>
                  </a:lnTo>
                  <a:lnTo>
                    <a:pt x="1586" y="130"/>
                  </a:lnTo>
                  <a:lnTo>
                    <a:pt x="1558" y="142"/>
                  </a:lnTo>
                  <a:lnTo>
                    <a:pt x="1533" y="154"/>
                  </a:lnTo>
                  <a:lnTo>
                    <a:pt x="1511" y="164"/>
                  </a:lnTo>
                  <a:lnTo>
                    <a:pt x="1493" y="174"/>
                  </a:lnTo>
                  <a:lnTo>
                    <a:pt x="1479" y="179"/>
                  </a:lnTo>
                  <a:lnTo>
                    <a:pt x="1473" y="184"/>
                  </a:lnTo>
                  <a:lnTo>
                    <a:pt x="1459" y="190"/>
                  </a:lnTo>
                  <a:lnTo>
                    <a:pt x="1443" y="195"/>
                  </a:lnTo>
                  <a:lnTo>
                    <a:pt x="1423" y="199"/>
                  </a:lnTo>
                  <a:lnTo>
                    <a:pt x="1401" y="202"/>
                  </a:lnTo>
                  <a:lnTo>
                    <a:pt x="1376" y="205"/>
                  </a:lnTo>
                  <a:lnTo>
                    <a:pt x="1351" y="210"/>
                  </a:lnTo>
                  <a:lnTo>
                    <a:pt x="1324" y="215"/>
                  </a:lnTo>
                  <a:lnTo>
                    <a:pt x="1298" y="222"/>
                  </a:lnTo>
                  <a:close/>
                </a:path>
              </a:pathLst>
            </a:custGeom>
            <a:solidFill>
              <a:srgbClr val="ffffff">
                <a:alpha val="20000"/>
              </a:srgbClr>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30" name=""/>
            <p:cNvSpPr/>
            <p:nvPr/>
          </p:nvSpPr>
          <p:spPr>
            <a:xfrm>
              <a:off x="2813040" y="1346040"/>
              <a:ext cx="4348080" cy="3579840"/>
            </a:xfrm>
            <a:custGeom>
              <a:avLst/>
              <a:gdLst/>
              <a:ahLst/>
              <a:rect l="l" t="t" r="r" b="b"/>
              <a:pathLst>
                <a:path w="3185" h="2678">
                  <a:moveTo>
                    <a:pt x="380" y="90"/>
                  </a:moveTo>
                  <a:lnTo>
                    <a:pt x="683" y="28"/>
                  </a:lnTo>
                  <a:lnTo>
                    <a:pt x="693" y="0"/>
                  </a:lnTo>
                  <a:lnTo>
                    <a:pt x="695" y="0"/>
                  </a:lnTo>
                  <a:lnTo>
                    <a:pt x="698" y="0"/>
                  </a:lnTo>
                  <a:lnTo>
                    <a:pt x="704" y="0"/>
                  </a:lnTo>
                  <a:lnTo>
                    <a:pt x="712" y="0"/>
                  </a:lnTo>
                  <a:lnTo>
                    <a:pt x="720" y="0"/>
                  </a:lnTo>
                  <a:lnTo>
                    <a:pt x="734" y="2"/>
                  </a:lnTo>
                  <a:lnTo>
                    <a:pt x="747" y="5"/>
                  </a:lnTo>
                  <a:lnTo>
                    <a:pt x="764" y="10"/>
                  </a:lnTo>
                  <a:lnTo>
                    <a:pt x="782" y="15"/>
                  </a:lnTo>
                  <a:lnTo>
                    <a:pt x="799" y="20"/>
                  </a:lnTo>
                  <a:lnTo>
                    <a:pt x="817" y="23"/>
                  </a:lnTo>
                  <a:lnTo>
                    <a:pt x="832" y="28"/>
                  </a:lnTo>
                  <a:lnTo>
                    <a:pt x="847" y="32"/>
                  </a:lnTo>
                  <a:lnTo>
                    <a:pt x="862" y="35"/>
                  </a:lnTo>
                  <a:lnTo>
                    <a:pt x="874" y="40"/>
                  </a:lnTo>
                  <a:lnTo>
                    <a:pt x="884" y="43"/>
                  </a:lnTo>
                  <a:lnTo>
                    <a:pt x="894" y="48"/>
                  </a:lnTo>
                  <a:lnTo>
                    <a:pt x="907" y="57"/>
                  </a:lnTo>
                  <a:lnTo>
                    <a:pt x="924" y="68"/>
                  </a:lnTo>
                  <a:lnTo>
                    <a:pt x="942" y="82"/>
                  </a:lnTo>
                  <a:lnTo>
                    <a:pt x="962" y="97"/>
                  </a:lnTo>
                  <a:lnTo>
                    <a:pt x="985" y="112"/>
                  </a:lnTo>
                  <a:lnTo>
                    <a:pt x="1009" y="127"/>
                  </a:lnTo>
                  <a:lnTo>
                    <a:pt x="1035" y="142"/>
                  </a:lnTo>
                  <a:lnTo>
                    <a:pt x="1060" y="155"/>
                  </a:lnTo>
                  <a:lnTo>
                    <a:pt x="1080" y="168"/>
                  </a:lnTo>
                  <a:lnTo>
                    <a:pt x="1099" y="180"/>
                  </a:lnTo>
                  <a:lnTo>
                    <a:pt x="1114" y="190"/>
                  </a:lnTo>
                  <a:lnTo>
                    <a:pt x="1124" y="197"/>
                  </a:lnTo>
                  <a:lnTo>
                    <a:pt x="1132" y="203"/>
                  </a:lnTo>
                  <a:lnTo>
                    <a:pt x="1137" y="207"/>
                  </a:lnTo>
                  <a:lnTo>
                    <a:pt x="1139" y="208"/>
                  </a:lnTo>
                  <a:lnTo>
                    <a:pt x="1142" y="210"/>
                  </a:lnTo>
                  <a:lnTo>
                    <a:pt x="1150" y="215"/>
                  </a:lnTo>
                  <a:lnTo>
                    <a:pt x="1162" y="223"/>
                  </a:lnTo>
                  <a:lnTo>
                    <a:pt x="1177" y="233"/>
                  </a:lnTo>
                  <a:lnTo>
                    <a:pt x="1192" y="243"/>
                  </a:lnTo>
                  <a:lnTo>
                    <a:pt x="1205" y="255"/>
                  </a:lnTo>
                  <a:lnTo>
                    <a:pt x="1217" y="265"/>
                  </a:lnTo>
                  <a:lnTo>
                    <a:pt x="1225" y="275"/>
                  </a:lnTo>
                  <a:lnTo>
                    <a:pt x="1234" y="285"/>
                  </a:lnTo>
                  <a:lnTo>
                    <a:pt x="1245" y="297"/>
                  </a:lnTo>
                  <a:lnTo>
                    <a:pt x="1259" y="310"/>
                  </a:lnTo>
                  <a:lnTo>
                    <a:pt x="1276" y="325"/>
                  </a:lnTo>
                  <a:lnTo>
                    <a:pt x="1292" y="340"/>
                  </a:lnTo>
                  <a:lnTo>
                    <a:pt x="1309" y="354"/>
                  </a:lnTo>
                  <a:lnTo>
                    <a:pt x="1324" y="365"/>
                  </a:lnTo>
                  <a:lnTo>
                    <a:pt x="1334" y="375"/>
                  </a:lnTo>
                  <a:lnTo>
                    <a:pt x="1346" y="385"/>
                  </a:lnTo>
                  <a:lnTo>
                    <a:pt x="1362" y="397"/>
                  </a:lnTo>
                  <a:lnTo>
                    <a:pt x="1381" y="410"/>
                  </a:lnTo>
                  <a:lnTo>
                    <a:pt x="1401" y="424"/>
                  </a:lnTo>
                  <a:lnTo>
                    <a:pt x="1421" y="437"/>
                  </a:lnTo>
                  <a:lnTo>
                    <a:pt x="1436" y="445"/>
                  </a:lnTo>
                  <a:lnTo>
                    <a:pt x="1447" y="454"/>
                  </a:lnTo>
                  <a:lnTo>
                    <a:pt x="1451" y="455"/>
                  </a:lnTo>
                  <a:lnTo>
                    <a:pt x="1489" y="509"/>
                  </a:lnTo>
                  <a:lnTo>
                    <a:pt x="1497" y="509"/>
                  </a:lnTo>
                  <a:lnTo>
                    <a:pt x="1517" y="509"/>
                  </a:lnTo>
                  <a:lnTo>
                    <a:pt x="1546" y="509"/>
                  </a:lnTo>
                  <a:lnTo>
                    <a:pt x="1581" y="509"/>
                  </a:lnTo>
                  <a:lnTo>
                    <a:pt x="1617" y="510"/>
                  </a:lnTo>
                  <a:lnTo>
                    <a:pt x="1651" y="514"/>
                  </a:lnTo>
                  <a:lnTo>
                    <a:pt x="1677" y="520"/>
                  </a:lnTo>
                  <a:lnTo>
                    <a:pt x="1694" y="527"/>
                  </a:lnTo>
                  <a:lnTo>
                    <a:pt x="1696" y="527"/>
                  </a:lnTo>
                  <a:lnTo>
                    <a:pt x="1702" y="525"/>
                  </a:lnTo>
                  <a:lnTo>
                    <a:pt x="1712" y="522"/>
                  </a:lnTo>
                  <a:lnTo>
                    <a:pt x="1722" y="520"/>
                  </a:lnTo>
                  <a:lnTo>
                    <a:pt x="1736" y="519"/>
                  </a:lnTo>
                  <a:lnTo>
                    <a:pt x="1747" y="515"/>
                  </a:lnTo>
                  <a:lnTo>
                    <a:pt x="1759" y="514"/>
                  </a:lnTo>
                  <a:lnTo>
                    <a:pt x="1769" y="514"/>
                  </a:lnTo>
                  <a:lnTo>
                    <a:pt x="1782" y="515"/>
                  </a:lnTo>
                  <a:lnTo>
                    <a:pt x="1801" y="519"/>
                  </a:lnTo>
                  <a:lnTo>
                    <a:pt x="1823" y="522"/>
                  </a:lnTo>
                  <a:lnTo>
                    <a:pt x="1848" y="527"/>
                  </a:lnTo>
                  <a:lnTo>
                    <a:pt x="1869" y="534"/>
                  </a:lnTo>
                  <a:lnTo>
                    <a:pt x="1889" y="537"/>
                  </a:lnTo>
                  <a:lnTo>
                    <a:pt x="1903" y="540"/>
                  </a:lnTo>
                  <a:lnTo>
                    <a:pt x="1908" y="542"/>
                  </a:lnTo>
                  <a:lnTo>
                    <a:pt x="1926" y="604"/>
                  </a:lnTo>
                  <a:lnTo>
                    <a:pt x="2044" y="604"/>
                  </a:lnTo>
                  <a:lnTo>
                    <a:pt x="2064" y="689"/>
                  </a:lnTo>
                  <a:lnTo>
                    <a:pt x="2071" y="692"/>
                  </a:lnTo>
                  <a:lnTo>
                    <a:pt x="2083" y="704"/>
                  </a:lnTo>
                  <a:lnTo>
                    <a:pt x="2093" y="722"/>
                  </a:lnTo>
                  <a:lnTo>
                    <a:pt x="2093" y="746"/>
                  </a:lnTo>
                  <a:lnTo>
                    <a:pt x="2116" y="784"/>
                  </a:lnTo>
                  <a:lnTo>
                    <a:pt x="2154" y="769"/>
                  </a:lnTo>
                  <a:lnTo>
                    <a:pt x="2158" y="774"/>
                  </a:lnTo>
                  <a:lnTo>
                    <a:pt x="2164" y="786"/>
                  </a:lnTo>
                  <a:lnTo>
                    <a:pt x="2169" y="801"/>
                  </a:lnTo>
                  <a:lnTo>
                    <a:pt x="2173" y="812"/>
                  </a:lnTo>
                  <a:lnTo>
                    <a:pt x="2176" y="824"/>
                  </a:lnTo>
                  <a:lnTo>
                    <a:pt x="2183" y="834"/>
                  </a:lnTo>
                  <a:lnTo>
                    <a:pt x="2189" y="842"/>
                  </a:lnTo>
                  <a:lnTo>
                    <a:pt x="2193" y="846"/>
                  </a:lnTo>
                  <a:lnTo>
                    <a:pt x="2201" y="822"/>
                  </a:lnTo>
                  <a:lnTo>
                    <a:pt x="2226" y="869"/>
                  </a:lnTo>
                  <a:lnTo>
                    <a:pt x="2228" y="869"/>
                  </a:lnTo>
                  <a:lnTo>
                    <a:pt x="2234" y="871"/>
                  </a:lnTo>
                  <a:lnTo>
                    <a:pt x="2244" y="874"/>
                  </a:lnTo>
                  <a:lnTo>
                    <a:pt x="2254" y="877"/>
                  </a:lnTo>
                  <a:lnTo>
                    <a:pt x="2266" y="882"/>
                  </a:lnTo>
                  <a:lnTo>
                    <a:pt x="2276" y="887"/>
                  </a:lnTo>
                  <a:lnTo>
                    <a:pt x="2284" y="894"/>
                  </a:lnTo>
                  <a:lnTo>
                    <a:pt x="2288" y="902"/>
                  </a:lnTo>
                  <a:lnTo>
                    <a:pt x="2289" y="921"/>
                  </a:lnTo>
                  <a:lnTo>
                    <a:pt x="2293" y="937"/>
                  </a:lnTo>
                  <a:lnTo>
                    <a:pt x="2296" y="952"/>
                  </a:lnTo>
                  <a:lnTo>
                    <a:pt x="2306" y="964"/>
                  </a:lnTo>
                  <a:lnTo>
                    <a:pt x="2316" y="979"/>
                  </a:lnTo>
                  <a:lnTo>
                    <a:pt x="2321" y="996"/>
                  </a:lnTo>
                  <a:lnTo>
                    <a:pt x="2318" y="1011"/>
                  </a:lnTo>
                  <a:lnTo>
                    <a:pt x="2311" y="1017"/>
                  </a:lnTo>
                  <a:lnTo>
                    <a:pt x="2303" y="1019"/>
                  </a:lnTo>
                  <a:lnTo>
                    <a:pt x="2299" y="1024"/>
                  </a:lnTo>
                  <a:lnTo>
                    <a:pt x="2301" y="1032"/>
                  </a:lnTo>
                  <a:lnTo>
                    <a:pt x="2306" y="1046"/>
                  </a:lnTo>
                  <a:lnTo>
                    <a:pt x="2313" y="1061"/>
                  </a:lnTo>
                  <a:lnTo>
                    <a:pt x="2319" y="1076"/>
                  </a:lnTo>
                  <a:lnTo>
                    <a:pt x="2324" y="1092"/>
                  </a:lnTo>
                  <a:lnTo>
                    <a:pt x="2329" y="1107"/>
                  </a:lnTo>
                  <a:lnTo>
                    <a:pt x="2336" y="1117"/>
                  </a:lnTo>
                  <a:lnTo>
                    <a:pt x="2344" y="1121"/>
                  </a:lnTo>
                  <a:lnTo>
                    <a:pt x="2351" y="1121"/>
                  </a:lnTo>
                  <a:lnTo>
                    <a:pt x="2354" y="1121"/>
                  </a:lnTo>
                  <a:lnTo>
                    <a:pt x="2356" y="1129"/>
                  </a:lnTo>
                  <a:lnTo>
                    <a:pt x="2365" y="1149"/>
                  </a:lnTo>
                  <a:lnTo>
                    <a:pt x="2375" y="1174"/>
                  </a:lnTo>
                  <a:lnTo>
                    <a:pt x="2388" y="1192"/>
                  </a:lnTo>
                  <a:lnTo>
                    <a:pt x="2395" y="1201"/>
                  </a:lnTo>
                  <a:lnTo>
                    <a:pt x="2400" y="1209"/>
                  </a:lnTo>
                  <a:lnTo>
                    <a:pt x="2405" y="1217"/>
                  </a:lnTo>
                  <a:lnTo>
                    <a:pt x="2411" y="1227"/>
                  </a:lnTo>
                  <a:lnTo>
                    <a:pt x="2416" y="1236"/>
                  </a:lnTo>
                  <a:lnTo>
                    <a:pt x="2425" y="1244"/>
                  </a:lnTo>
                  <a:lnTo>
                    <a:pt x="2433" y="1253"/>
                  </a:lnTo>
                  <a:lnTo>
                    <a:pt x="2445" y="1259"/>
                  </a:lnTo>
                  <a:lnTo>
                    <a:pt x="2456" y="1263"/>
                  </a:lnTo>
                  <a:lnTo>
                    <a:pt x="2468" y="1263"/>
                  </a:lnTo>
                  <a:lnTo>
                    <a:pt x="2478" y="1263"/>
                  </a:lnTo>
                  <a:lnTo>
                    <a:pt x="2486" y="1259"/>
                  </a:lnTo>
                  <a:lnTo>
                    <a:pt x="2493" y="1256"/>
                  </a:lnTo>
                  <a:lnTo>
                    <a:pt x="2498" y="1253"/>
                  </a:lnTo>
                  <a:lnTo>
                    <a:pt x="2500" y="1251"/>
                  </a:lnTo>
                  <a:lnTo>
                    <a:pt x="2501" y="1249"/>
                  </a:lnTo>
                  <a:lnTo>
                    <a:pt x="2520" y="1259"/>
                  </a:lnTo>
                  <a:lnTo>
                    <a:pt x="2501" y="1293"/>
                  </a:lnTo>
                  <a:lnTo>
                    <a:pt x="2501" y="1294"/>
                  </a:lnTo>
                  <a:lnTo>
                    <a:pt x="2501" y="1299"/>
                  </a:lnTo>
                  <a:lnTo>
                    <a:pt x="2503" y="1304"/>
                  </a:lnTo>
                  <a:lnTo>
                    <a:pt x="2511" y="1306"/>
                  </a:lnTo>
                  <a:lnTo>
                    <a:pt x="2521" y="1314"/>
                  </a:lnTo>
                  <a:lnTo>
                    <a:pt x="2531" y="1329"/>
                  </a:lnTo>
                  <a:lnTo>
                    <a:pt x="2536" y="1346"/>
                  </a:lnTo>
                  <a:lnTo>
                    <a:pt x="2540" y="1354"/>
                  </a:lnTo>
                  <a:lnTo>
                    <a:pt x="2541" y="1356"/>
                  </a:lnTo>
                  <a:lnTo>
                    <a:pt x="2546" y="1361"/>
                  </a:lnTo>
                  <a:lnTo>
                    <a:pt x="2553" y="1368"/>
                  </a:lnTo>
                  <a:lnTo>
                    <a:pt x="2561" y="1378"/>
                  </a:lnTo>
                  <a:lnTo>
                    <a:pt x="2571" y="1388"/>
                  </a:lnTo>
                  <a:lnTo>
                    <a:pt x="2583" y="1401"/>
                  </a:lnTo>
                  <a:lnTo>
                    <a:pt x="2595" y="1414"/>
                  </a:lnTo>
                  <a:lnTo>
                    <a:pt x="2606" y="1428"/>
                  </a:lnTo>
                  <a:lnTo>
                    <a:pt x="2618" y="1443"/>
                  </a:lnTo>
                  <a:lnTo>
                    <a:pt x="2631" y="1458"/>
                  </a:lnTo>
                  <a:lnTo>
                    <a:pt x="2645" y="1473"/>
                  </a:lnTo>
                  <a:lnTo>
                    <a:pt x="2658" y="1488"/>
                  </a:lnTo>
                  <a:lnTo>
                    <a:pt x="2670" y="1501"/>
                  </a:lnTo>
                  <a:lnTo>
                    <a:pt x="2680" y="1511"/>
                  </a:lnTo>
                  <a:lnTo>
                    <a:pt x="2688" y="1521"/>
                  </a:lnTo>
                  <a:lnTo>
                    <a:pt x="2691" y="1528"/>
                  </a:lnTo>
                  <a:lnTo>
                    <a:pt x="2701" y="1533"/>
                  </a:lnTo>
                  <a:lnTo>
                    <a:pt x="2723" y="1538"/>
                  </a:lnTo>
                  <a:lnTo>
                    <a:pt x="2753" y="1543"/>
                  </a:lnTo>
                  <a:lnTo>
                    <a:pt x="2790" y="1546"/>
                  </a:lnTo>
                  <a:lnTo>
                    <a:pt x="2828" y="1549"/>
                  </a:lnTo>
                  <a:lnTo>
                    <a:pt x="2863" y="1551"/>
                  </a:lnTo>
                  <a:lnTo>
                    <a:pt x="2891" y="1554"/>
                  </a:lnTo>
                  <a:lnTo>
                    <a:pt x="2910" y="1556"/>
                  </a:lnTo>
                  <a:lnTo>
                    <a:pt x="2925" y="1558"/>
                  </a:lnTo>
                  <a:lnTo>
                    <a:pt x="2945" y="1559"/>
                  </a:lnTo>
                  <a:lnTo>
                    <a:pt x="2968" y="1561"/>
                  </a:lnTo>
                  <a:lnTo>
                    <a:pt x="2992" y="1563"/>
                  </a:lnTo>
                  <a:lnTo>
                    <a:pt x="3013" y="1566"/>
                  </a:lnTo>
                  <a:lnTo>
                    <a:pt x="3033" y="1568"/>
                  </a:lnTo>
                  <a:lnTo>
                    <a:pt x="3048" y="1569"/>
                  </a:lnTo>
                  <a:lnTo>
                    <a:pt x="3057" y="1571"/>
                  </a:lnTo>
                  <a:lnTo>
                    <a:pt x="3070" y="1569"/>
                  </a:lnTo>
                  <a:lnTo>
                    <a:pt x="3083" y="1563"/>
                  </a:lnTo>
                  <a:lnTo>
                    <a:pt x="3095" y="1554"/>
                  </a:lnTo>
                  <a:lnTo>
                    <a:pt x="3100" y="1551"/>
                  </a:lnTo>
                  <a:lnTo>
                    <a:pt x="3102" y="1553"/>
                  </a:lnTo>
                  <a:lnTo>
                    <a:pt x="3105" y="1556"/>
                  </a:lnTo>
                  <a:lnTo>
                    <a:pt x="3112" y="1561"/>
                  </a:lnTo>
                  <a:lnTo>
                    <a:pt x="3120" y="1568"/>
                  </a:lnTo>
                  <a:lnTo>
                    <a:pt x="3130" y="1576"/>
                  </a:lnTo>
                  <a:lnTo>
                    <a:pt x="3140" y="1586"/>
                  </a:lnTo>
                  <a:lnTo>
                    <a:pt x="3152" y="1598"/>
                  </a:lnTo>
                  <a:lnTo>
                    <a:pt x="3162" y="1609"/>
                  </a:lnTo>
                  <a:lnTo>
                    <a:pt x="3172" y="1624"/>
                  </a:lnTo>
                  <a:lnTo>
                    <a:pt x="3180" y="1638"/>
                  </a:lnTo>
                  <a:lnTo>
                    <a:pt x="3183" y="1653"/>
                  </a:lnTo>
                  <a:lnTo>
                    <a:pt x="3185" y="1668"/>
                  </a:lnTo>
                  <a:lnTo>
                    <a:pt x="3185" y="1678"/>
                  </a:lnTo>
                  <a:lnTo>
                    <a:pt x="3183" y="1688"/>
                  </a:lnTo>
                  <a:lnTo>
                    <a:pt x="3180" y="1696"/>
                  </a:lnTo>
                  <a:lnTo>
                    <a:pt x="3175" y="1704"/>
                  </a:lnTo>
                  <a:lnTo>
                    <a:pt x="3168" y="1724"/>
                  </a:lnTo>
                  <a:lnTo>
                    <a:pt x="3168" y="1748"/>
                  </a:lnTo>
                  <a:lnTo>
                    <a:pt x="3168" y="1771"/>
                  </a:lnTo>
                  <a:lnTo>
                    <a:pt x="3167" y="1795"/>
                  </a:lnTo>
                  <a:lnTo>
                    <a:pt x="3162" y="1815"/>
                  </a:lnTo>
                  <a:lnTo>
                    <a:pt x="3153" y="1835"/>
                  </a:lnTo>
                  <a:lnTo>
                    <a:pt x="3145" y="1851"/>
                  </a:lnTo>
                  <a:lnTo>
                    <a:pt x="3138" y="1870"/>
                  </a:lnTo>
                  <a:lnTo>
                    <a:pt x="3132" y="1890"/>
                  </a:lnTo>
                  <a:lnTo>
                    <a:pt x="3125" y="1913"/>
                  </a:lnTo>
                  <a:lnTo>
                    <a:pt x="3120" y="1933"/>
                  </a:lnTo>
                  <a:lnTo>
                    <a:pt x="3118" y="1951"/>
                  </a:lnTo>
                  <a:lnTo>
                    <a:pt x="3117" y="1965"/>
                  </a:lnTo>
                  <a:lnTo>
                    <a:pt x="3115" y="1976"/>
                  </a:lnTo>
                  <a:lnTo>
                    <a:pt x="3108" y="1986"/>
                  </a:lnTo>
                  <a:lnTo>
                    <a:pt x="3100" y="1993"/>
                  </a:lnTo>
                  <a:lnTo>
                    <a:pt x="3093" y="1996"/>
                  </a:lnTo>
                  <a:lnTo>
                    <a:pt x="3078" y="2003"/>
                  </a:lnTo>
                  <a:lnTo>
                    <a:pt x="3057" y="2013"/>
                  </a:lnTo>
                  <a:lnTo>
                    <a:pt x="3028" y="2026"/>
                  </a:lnTo>
                  <a:lnTo>
                    <a:pt x="2997" y="2040"/>
                  </a:lnTo>
                  <a:lnTo>
                    <a:pt x="2962" y="2056"/>
                  </a:lnTo>
                  <a:lnTo>
                    <a:pt x="2923" y="2073"/>
                  </a:lnTo>
                  <a:lnTo>
                    <a:pt x="2885" y="2090"/>
                  </a:lnTo>
                  <a:lnTo>
                    <a:pt x="2845" y="2108"/>
                  </a:lnTo>
                  <a:lnTo>
                    <a:pt x="2806" y="2125"/>
                  </a:lnTo>
                  <a:lnTo>
                    <a:pt x="2770" y="2141"/>
                  </a:lnTo>
                  <a:lnTo>
                    <a:pt x="2736" y="2155"/>
                  </a:lnTo>
                  <a:lnTo>
                    <a:pt x="2708" y="2168"/>
                  </a:lnTo>
                  <a:lnTo>
                    <a:pt x="2685" y="2180"/>
                  </a:lnTo>
                  <a:lnTo>
                    <a:pt x="2668" y="2188"/>
                  </a:lnTo>
                  <a:lnTo>
                    <a:pt x="2658" y="2193"/>
                  </a:lnTo>
                  <a:lnTo>
                    <a:pt x="2645" y="2200"/>
                  </a:lnTo>
                  <a:lnTo>
                    <a:pt x="2628" y="2205"/>
                  </a:lnTo>
                  <a:lnTo>
                    <a:pt x="2608" y="2208"/>
                  </a:lnTo>
                  <a:lnTo>
                    <a:pt x="2586" y="2211"/>
                  </a:lnTo>
                  <a:lnTo>
                    <a:pt x="2561" y="2215"/>
                  </a:lnTo>
                  <a:lnTo>
                    <a:pt x="2535" y="2220"/>
                  </a:lnTo>
                  <a:lnTo>
                    <a:pt x="2508" y="2225"/>
                  </a:lnTo>
                  <a:lnTo>
                    <a:pt x="2481" y="2231"/>
                  </a:lnTo>
                  <a:lnTo>
                    <a:pt x="2466" y="2235"/>
                  </a:lnTo>
                  <a:lnTo>
                    <a:pt x="2446" y="2240"/>
                  </a:lnTo>
                  <a:lnTo>
                    <a:pt x="2425" y="2245"/>
                  </a:lnTo>
                  <a:lnTo>
                    <a:pt x="2398" y="2252"/>
                  </a:lnTo>
                  <a:lnTo>
                    <a:pt x="2371" y="2258"/>
                  </a:lnTo>
                  <a:lnTo>
                    <a:pt x="2343" y="2265"/>
                  </a:lnTo>
                  <a:lnTo>
                    <a:pt x="2313" y="2272"/>
                  </a:lnTo>
                  <a:lnTo>
                    <a:pt x="2283" y="2278"/>
                  </a:lnTo>
                  <a:lnTo>
                    <a:pt x="2253" y="2285"/>
                  </a:lnTo>
                  <a:lnTo>
                    <a:pt x="2224" y="2293"/>
                  </a:lnTo>
                  <a:lnTo>
                    <a:pt x="2198" y="2300"/>
                  </a:lnTo>
                  <a:lnTo>
                    <a:pt x="2173" y="2307"/>
                  </a:lnTo>
                  <a:lnTo>
                    <a:pt x="2151" y="2312"/>
                  </a:lnTo>
                  <a:lnTo>
                    <a:pt x="2134" y="2318"/>
                  </a:lnTo>
                  <a:lnTo>
                    <a:pt x="2119" y="2323"/>
                  </a:lnTo>
                  <a:lnTo>
                    <a:pt x="2111" y="2327"/>
                  </a:lnTo>
                  <a:lnTo>
                    <a:pt x="2098" y="2333"/>
                  </a:lnTo>
                  <a:lnTo>
                    <a:pt x="2086" y="2338"/>
                  </a:lnTo>
                  <a:lnTo>
                    <a:pt x="2071" y="2347"/>
                  </a:lnTo>
                  <a:lnTo>
                    <a:pt x="2058" y="2353"/>
                  </a:lnTo>
                  <a:lnTo>
                    <a:pt x="2043" y="2365"/>
                  </a:lnTo>
                  <a:lnTo>
                    <a:pt x="2028" y="2378"/>
                  </a:lnTo>
                  <a:lnTo>
                    <a:pt x="2011" y="2398"/>
                  </a:lnTo>
                  <a:lnTo>
                    <a:pt x="1993" y="2422"/>
                  </a:lnTo>
                  <a:lnTo>
                    <a:pt x="1976" y="2447"/>
                  </a:lnTo>
                  <a:lnTo>
                    <a:pt x="1961" y="2470"/>
                  </a:lnTo>
                  <a:lnTo>
                    <a:pt x="1946" y="2492"/>
                  </a:lnTo>
                  <a:lnTo>
                    <a:pt x="1933" y="2512"/>
                  </a:lnTo>
                  <a:lnTo>
                    <a:pt x="1923" y="2528"/>
                  </a:lnTo>
                  <a:lnTo>
                    <a:pt x="1913" y="2542"/>
                  </a:lnTo>
                  <a:lnTo>
                    <a:pt x="1904" y="2552"/>
                  </a:lnTo>
                  <a:lnTo>
                    <a:pt x="1898" y="2558"/>
                  </a:lnTo>
                  <a:lnTo>
                    <a:pt x="1891" y="2563"/>
                  </a:lnTo>
                  <a:lnTo>
                    <a:pt x="1884" y="2568"/>
                  </a:lnTo>
                  <a:lnTo>
                    <a:pt x="1874" y="2573"/>
                  </a:lnTo>
                  <a:lnTo>
                    <a:pt x="1864" y="2575"/>
                  </a:lnTo>
                  <a:lnTo>
                    <a:pt x="1853" y="2577"/>
                  </a:lnTo>
                  <a:lnTo>
                    <a:pt x="1843" y="2577"/>
                  </a:lnTo>
                  <a:lnTo>
                    <a:pt x="1833" y="2573"/>
                  </a:lnTo>
                  <a:lnTo>
                    <a:pt x="1823" y="2568"/>
                  </a:lnTo>
                  <a:lnTo>
                    <a:pt x="1814" y="2562"/>
                  </a:lnTo>
                  <a:lnTo>
                    <a:pt x="1806" y="2553"/>
                  </a:lnTo>
                  <a:lnTo>
                    <a:pt x="1799" y="2547"/>
                  </a:lnTo>
                  <a:lnTo>
                    <a:pt x="1794" y="2538"/>
                  </a:lnTo>
                  <a:lnTo>
                    <a:pt x="1787" y="2533"/>
                  </a:lnTo>
                  <a:lnTo>
                    <a:pt x="1781" y="2530"/>
                  </a:lnTo>
                  <a:lnTo>
                    <a:pt x="1772" y="2528"/>
                  </a:lnTo>
                  <a:lnTo>
                    <a:pt x="1764" y="2530"/>
                  </a:lnTo>
                  <a:lnTo>
                    <a:pt x="1752" y="2533"/>
                  </a:lnTo>
                  <a:lnTo>
                    <a:pt x="1739" y="2535"/>
                  </a:lnTo>
                  <a:lnTo>
                    <a:pt x="1722" y="2535"/>
                  </a:lnTo>
                  <a:lnTo>
                    <a:pt x="1704" y="2535"/>
                  </a:lnTo>
                  <a:lnTo>
                    <a:pt x="1684" y="2535"/>
                  </a:lnTo>
                  <a:lnTo>
                    <a:pt x="1666" y="2533"/>
                  </a:lnTo>
                  <a:lnTo>
                    <a:pt x="1647" y="2532"/>
                  </a:lnTo>
                  <a:lnTo>
                    <a:pt x="1632" y="2530"/>
                  </a:lnTo>
                  <a:lnTo>
                    <a:pt x="1617" y="2528"/>
                  </a:lnTo>
                  <a:lnTo>
                    <a:pt x="1602" y="2525"/>
                  </a:lnTo>
                  <a:lnTo>
                    <a:pt x="1589" y="2520"/>
                  </a:lnTo>
                  <a:lnTo>
                    <a:pt x="1574" y="2517"/>
                  </a:lnTo>
                  <a:lnTo>
                    <a:pt x="1561" y="2513"/>
                  </a:lnTo>
                  <a:lnTo>
                    <a:pt x="1549" y="2510"/>
                  </a:lnTo>
                  <a:lnTo>
                    <a:pt x="1537" y="2507"/>
                  </a:lnTo>
                  <a:lnTo>
                    <a:pt x="1527" y="2507"/>
                  </a:lnTo>
                  <a:lnTo>
                    <a:pt x="1514" y="2507"/>
                  </a:lnTo>
                  <a:lnTo>
                    <a:pt x="1492" y="2507"/>
                  </a:lnTo>
                  <a:lnTo>
                    <a:pt x="1466" y="2508"/>
                  </a:lnTo>
                  <a:lnTo>
                    <a:pt x="1436" y="2508"/>
                  </a:lnTo>
                  <a:lnTo>
                    <a:pt x="1409" y="2510"/>
                  </a:lnTo>
                  <a:lnTo>
                    <a:pt x="1386" y="2512"/>
                  </a:lnTo>
                  <a:lnTo>
                    <a:pt x="1369" y="2512"/>
                  </a:lnTo>
                  <a:lnTo>
                    <a:pt x="1362" y="2512"/>
                  </a:lnTo>
                  <a:lnTo>
                    <a:pt x="1361" y="2513"/>
                  </a:lnTo>
                  <a:lnTo>
                    <a:pt x="1356" y="2515"/>
                  </a:lnTo>
                  <a:lnTo>
                    <a:pt x="1349" y="2518"/>
                  </a:lnTo>
                  <a:lnTo>
                    <a:pt x="1339" y="2520"/>
                  </a:lnTo>
                  <a:lnTo>
                    <a:pt x="1329" y="2522"/>
                  </a:lnTo>
                  <a:lnTo>
                    <a:pt x="1317" y="2522"/>
                  </a:lnTo>
                  <a:lnTo>
                    <a:pt x="1304" y="2518"/>
                  </a:lnTo>
                  <a:lnTo>
                    <a:pt x="1292" y="2512"/>
                  </a:lnTo>
                  <a:lnTo>
                    <a:pt x="1281" y="2503"/>
                  </a:lnTo>
                  <a:lnTo>
                    <a:pt x="1272" y="2497"/>
                  </a:lnTo>
                  <a:lnTo>
                    <a:pt x="1266" y="2490"/>
                  </a:lnTo>
                  <a:lnTo>
                    <a:pt x="1261" y="2485"/>
                  </a:lnTo>
                  <a:lnTo>
                    <a:pt x="1256" y="2482"/>
                  </a:lnTo>
                  <a:lnTo>
                    <a:pt x="1250" y="2480"/>
                  </a:lnTo>
                  <a:lnTo>
                    <a:pt x="1245" y="2480"/>
                  </a:lnTo>
                  <a:lnTo>
                    <a:pt x="1239" y="2483"/>
                  </a:lnTo>
                  <a:lnTo>
                    <a:pt x="1232" y="2490"/>
                  </a:lnTo>
                  <a:lnTo>
                    <a:pt x="1235" y="2498"/>
                  </a:lnTo>
                  <a:lnTo>
                    <a:pt x="1240" y="2510"/>
                  </a:lnTo>
                  <a:lnTo>
                    <a:pt x="1239" y="2525"/>
                  </a:lnTo>
                  <a:lnTo>
                    <a:pt x="1234" y="2545"/>
                  </a:lnTo>
                  <a:lnTo>
                    <a:pt x="1232" y="2567"/>
                  </a:lnTo>
                  <a:lnTo>
                    <a:pt x="1234" y="2587"/>
                  </a:lnTo>
                  <a:lnTo>
                    <a:pt x="1234" y="2602"/>
                  </a:lnTo>
                  <a:lnTo>
                    <a:pt x="1230" y="2615"/>
                  </a:lnTo>
                  <a:lnTo>
                    <a:pt x="1225" y="2630"/>
                  </a:lnTo>
                  <a:lnTo>
                    <a:pt x="1219" y="2643"/>
                  </a:lnTo>
                  <a:lnTo>
                    <a:pt x="1215" y="2648"/>
                  </a:lnTo>
                  <a:lnTo>
                    <a:pt x="1177" y="2678"/>
                  </a:lnTo>
                  <a:lnTo>
                    <a:pt x="1175" y="2672"/>
                  </a:lnTo>
                  <a:lnTo>
                    <a:pt x="1170" y="2657"/>
                  </a:lnTo>
                  <a:lnTo>
                    <a:pt x="1167" y="2640"/>
                  </a:lnTo>
                  <a:lnTo>
                    <a:pt x="1167" y="2625"/>
                  </a:lnTo>
                  <a:lnTo>
                    <a:pt x="1167" y="2613"/>
                  </a:lnTo>
                  <a:lnTo>
                    <a:pt x="1164" y="2598"/>
                  </a:lnTo>
                  <a:lnTo>
                    <a:pt x="1154" y="2583"/>
                  </a:lnTo>
                  <a:lnTo>
                    <a:pt x="1144" y="2568"/>
                  </a:lnTo>
                  <a:lnTo>
                    <a:pt x="1134" y="2555"/>
                  </a:lnTo>
                  <a:lnTo>
                    <a:pt x="1124" y="2543"/>
                  </a:lnTo>
                  <a:lnTo>
                    <a:pt x="1115" y="2532"/>
                  </a:lnTo>
                  <a:lnTo>
                    <a:pt x="1110" y="2522"/>
                  </a:lnTo>
                  <a:lnTo>
                    <a:pt x="1107" y="2508"/>
                  </a:lnTo>
                  <a:lnTo>
                    <a:pt x="1104" y="2492"/>
                  </a:lnTo>
                  <a:lnTo>
                    <a:pt x="1095" y="2475"/>
                  </a:lnTo>
                  <a:lnTo>
                    <a:pt x="1082" y="2458"/>
                  </a:lnTo>
                  <a:lnTo>
                    <a:pt x="1072" y="2450"/>
                  </a:lnTo>
                  <a:lnTo>
                    <a:pt x="1059" y="2437"/>
                  </a:lnTo>
                  <a:lnTo>
                    <a:pt x="1044" y="2423"/>
                  </a:lnTo>
                  <a:lnTo>
                    <a:pt x="1029" y="2405"/>
                  </a:lnTo>
                  <a:lnTo>
                    <a:pt x="1014" y="2387"/>
                  </a:lnTo>
                  <a:lnTo>
                    <a:pt x="999" y="2368"/>
                  </a:lnTo>
                  <a:lnTo>
                    <a:pt x="987" y="2350"/>
                  </a:lnTo>
                  <a:lnTo>
                    <a:pt x="979" y="2332"/>
                  </a:lnTo>
                  <a:lnTo>
                    <a:pt x="964" y="2302"/>
                  </a:lnTo>
                  <a:lnTo>
                    <a:pt x="949" y="2280"/>
                  </a:lnTo>
                  <a:lnTo>
                    <a:pt x="937" y="2263"/>
                  </a:lnTo>
                  <a:lnTo>
                    <a:pt x="930" y="2245"/>
                  </a:lnTo>
                  <a:lnTo>
                    <a:pt x="927" y="2231"/>
                  </a:lnTo>
                  <a:lnTo>
                    <a:pt x="920" y="2211"/>
                  </a:lnTo>
                  <a:lnTo>
                    <a:pt x="910" y="2190"/>
                  </a:lnTo>
                  <a:lnTo>
                    <a:pt x="900" y="2166"/>
                  </a:lnTo>
                  <a:lnTo>
                    <a:pt x="890" y="2143"/>
                  </a:lnTo>
                  <a:lnTo>
                    <a:pt x="880" y="2123"/>
                  </a:lnTo>
                  <a:lnTo>
                    <a:pt x="870" y="2108"/>
                  </a:lnTo>
                  <a:lnTo>
                    <a:pt x="864" y="2098"/>
                  </a:lnTo>
                  <a:lnTo>
                    <a:pt x="854" y="2085"/>
                  </a:lnTo>
                  <a:lnTo>
                    <a:pt x="845" y="2071"/>
                  </a:lnTo>
                  <a:lnTo>
                    <a:pt x="834" y="2056"/>
                  </a:lnTo>
                  <a:lnTo>
                    <a:pt x="822" y="2041"/>
                  </a:lnTo>
                  <a:lnTo>
                    <a:pt x="814" y="2033"/>
                  </a:lnTo>
                  <a:lnTo>
                    <a:pt x="802" y="2025"/>
                  </a:lnTo>
                  <a:lnTo>
                    <a:pt x="790" y="2018"/>
                  </a:lnTo>
                  <a:lnTo>
                    <a:pt x="779" y="2010"/>
                  </a:lnTo>
                  <a:lnTo>
                    <a:pt x="765" y="2003"/>
                  </a:lnTo>
                  <a:lnTo>
                    <a:pt x="752" y="1998"/>
                  </a:lnTo>
                  <a:lnTo>
                    <a:pt x="740" y="1995"/>
                  </a:lnTo>
                  <a:lnTo>
                    <a:pt x="730" y="1993"/>
                  </a:lnTo>
                  <a:lnTo>
                    <a:pt x="722" y="1991"/>
                  </a:lnTo>
                  <a:lnTo>
                    <a:pt x="717" y="1988"/>
                  </a:lnTo>
                  <a:lnTo>
                    <a:pt x="710" y="1983"/>
                  </a:lnTo>
                  <a:lnTo>
                    <a:pt x="705" y="1975"/>
                  </a:lnTo>
                  <a:lnTo>
                    <a:pt x="700" y="1966"/>
                  </a:lnTo>
                  <a:lnTo>
                    <a:pt x="693" y="1953"/>
                  </a:lnTo>
                  <a:lnTo>
                    <a:pt x="685" y="1940"/>
                  </a:lnTo>
                  <a:lnTo>
                    <a:pt x="673" y="1923"/>
                  </a:lnTo>
                  <a:lnTo>
                    <a:pt x="662" y="1905"/>
                  </a:lnTo>
                  <a:lnTo>
                    <a:pt x="652" y="1886"/>
                  </a:lnTo>
                  <a:lnTo>
                    <a:pt x="642" y="1868"/>
                  </a:lnTo>
                  <a:lnTo>
                    <a:pt x="635" y="1851"/>
                  </a:lnTo>
                  <a:lnTo>
                    <a:pt x="628" y="1833"/>
                  </a:lnTo>
                  <a:lnTo>
                    <a:pt x="623" y="1818"/>
                  </a:lnTo>
                  <a:lnTo>
                    <a:pt x="620" y="1803"/>
                  </a:lnTo>
                  <a:lnTo>
                    <a:pt x="617" y="1790"/>
                  </a:lnTo>
                  <a:lnTo>
                    <a:pt x="612" y="1765"/>
                  </a:lnTo>
                  <a:lnTo>
                    <a:pt x="603" y="1741"/>
                  </a:lnTo>
                  <a:lnTo>
                    <a:pt x="597" y="1724"/>
                  </a:lnTo>
                  <a:lnTo>
                    <a:pt x="593" y="1718"/>
                  </a:lnTo>
                  <a:lnTo>
                    <a:pt x="600" y="1706"/>
                  </a:lnTo>
                  <a:lnTo>
                    <a:pt x="610" y="1676"/>
                  </a:lnTo>
                  <a:lnTo>
                    <a:pt x="617" y="1636"/>
                  </a:lnTo>
                  <a:lnTo>
                    <a:pt x="607" y="1594"/>
                  </a:lnTo>
                  <a:lnTo>
                    <a:pt x="590" y="1559"/>
                  </a:lnTo>
                  <a:lnTo>
                    <a:pt x="582" y="1531"/>
                  </a:lnTo>
                  <a:lnTo>
                    <a:pt x="573" y="1503"/>
                  </a:lnTo>
                  <a:lnTo>
                    <a:pt x="560" y="1471"/>
                  </a:lnTo>
                  <a:lnTo>
                    <a:pt x="552" y="1454"/>
                  </a:lnTo>
                  <a:lnTo>
                    <a:pt x="547" y="1439"/>
                  </a:lnTo>
                  <a:lnTo>
                    <a:pt x="542" y="1426"/>
                  </a:lnTo>
                  <a:lnTo>
                    <a:pt x="537" y="1413"/>
                  </a:lnTo>
                  <a:lnTo>
                    <a:pt x="532" y="1401"/>
                  </a:lnTo>
                  <a:lnTo>
                    <a:pt x="525" y="1393"/>
                  </a:lnTo>
                  <a:lnTo>
                    <a:pt x="518" y="1383"/>
                  </a:lnTo>
                  <a:lnTo>
                    <a:pt x="508" y="1376"/>
                  </a:lnTo>
                  <a:lnTo>
                    <a:pt x="497" y="1369"/>
                  </a:lnTo>
                  <a:lnTo>
                    <a:pt x="487" y="1361"/>
                  </a:lnTo>
                  <a:lnTo>
                    <a:pt x="475" y="1354"/>
                  </a:lnTo>
                  <a:lnTo>
                    <a:pt x="463" y="1346"/>
                  </a:lnTo>
                  <a:lnTo>
                    <a:pt x="452" y="1338"/>
                  </a:lnTo>
                  <a:lnTo>
                    <a:pt x="440" y="1329"/>
                  </a:lnTo>
                  <a:lnTo>
                    <a:pt x="427" y="1323"/>
                  </a:lnTo>
                  <a:lnTo>
                    <a:pt x="413" y="1316"/>
                  </a:lnTo>
                  <a:lnTo>
                    <a:pt x="392" y="1303"/>
                  </a:lnTo>
                  <a:lnTo>
                    <a:pt x="382" y="1286"/>
                  </a:lnTo>
                  <a:lnTo>
                    <a:pt x="375" y="1268"/>
                  </a:lnTo>
                  <a:lnTo>
                    <a:pt x="365" y="1249"/>
                  </a:lnTo>
                  <a:lnTo>
                    <a:pt x="355" y="1232"/>
                  </a:lnTo>
                  <a:lnTo>
                    <a:pt x="348" y="1219"/>
                  </a:lnTo>
                  <a:lnTo>
                    <a:pt x="347" y="1209"/>
                  </a:lnTo>
                  <a:lnTo>
                    <a:pt x="347" y="1206"/>
                  </a:lnTo>
                  <a:lnTo>
                    <a:pt x="348" y="1206"/>
                  </a:lnTo>
                  <a:lnTo>
                    <a:pt x="353" y="1204"/>
                  </a:lnTo>
                  <a:lnTo>
                    <a:pt x="360" y="1201"/>
                  </a:lnTo>
                  <a:lnTo>
                    <a:pt x="367" y="1194"/>
                  </a:lnTo>
                  <a:lnTo>
                    <a:pt x="370" y="1187"/>
                  </a:lnTo>
                  <a:lnTo>
                    <a:pt x="370" y="1176"/>
                  </a:lnTo>
                  <a:lnTo>
                    <a:pt x="365" y="1162"/>
                  </a:lnTo>
                  <a:lnTo>
                    <a:pt x="352" y="1144"/>
                  </a:lnTo>
                  <a:lnTo>
                    <a:pt x="330" y="1122"/>
                  </a:lnTo>
                  <a:lnTo>
                    <a:pt x="327" y="1122"/>
                  </a:lnTo>
                  <a:lnTo>
                    <a:pt x="330" y="1126"/>
                  </a:lnTo>
                  <a:lnTo>
                    <a:pt x="327" y="1112"/>
                  </a:lnTo>
                  <a:lnTo>
                    <a:pt x="320" y="1091"/>
                  </a:lnTo>
                  <a:lnTo>
                    <a:pt x="315" y="1076"/>
                  </a:lnTo>
                  <a:lnTo>
                    <a:pt x="308" y="1066"/>
                  </a:lnTo>
                  <a:lnTo>
                    <a:pt x="293" y="1054"/>
                  </a:lnTo>
                  <a:lnTo>
                    <a:pt x="283" y="1039"/>
                  </a:lnTo>
                  <a:lnTo>
                    <a:pt x="285" y="1024"/>
                  </a:lnTo>
                  <a:lnTo>
                    <a:pt x="287" y="1011"/>
                  </a:lnTo>
                  <a:lnTo>
                    <a:pt x="275" y="997"/>
                  </a:lnTo>
                  <a:lnTo>
                    <a:pt x="257" y="986"/>
                  </a:lnTo>
                  <a:lnTo>
                    <a:pt x="243" y="971"/>
                  </a:lnTo>
                  <a:lnTo>
                    <a:pt x="235" y="954"/>
                  </a:lnTo>
                  <a:lnTo>
                    <a:pt x="232" y="936"/>
                  </a:lnTo>
                  <a:lnTo>
                    <a:pt x="228" y="916"/>
                  </a:lnTo>
                  <a:lnTo>
                    <a:pt x="218" y="889"/>
                  </a:lnTo>
                  <a:lnTo>
                    <a:pt x="205" y="862"/>
                  </a:lnTo>
                  <a:lnTo>
                    <a:pt x="185" y="836"/>
                  </a:lnTo>
                  <a:lnTo>
                    <a:pt x="172" y="814"/>
                  </a:lnTo>
                  <a:lnTo>
                    <a:pt x="168" y="796"/>
                  </a:lnTo>
                  <a:lnTo>
                    <a:pt x="167" y="782"/>
                  </a:lnTo>
                  <a:lnTo>
                    <a:pt x="157" y="774"/>
                  </a:lnTo>
                  <a:lnTo>
                    <a:pt x="145" y="766"/>
                  </a:lnTo>
                  <a:lnTo>
                    <a:pt x="140" y="754"/>
                  </a:lnTo>
                  <a:lnTo>
                    <a:pt x="133" y="739"/>
                  </a:lnTo>
                  <a:lnTo>
                    <a:pt x="118" y="722"/>
                  </a:lnTo>
                  <a:lnTo>
                    <a:pt x="100" y="700"/>
                  </a:lnTo>
                  <a:lnTo>
                    <a:pt x="86" y="674"/>
                  </a:lnTo>
                  <a:lnTo>
                    <a:pt x="78" y="652"/>
                  </a:lnTo>
                  <a:lnTo>
                    <a:pt x="75" y="642"/>
                  </a:lnTo>
                  <a:lnTo>
                    <a:pt x="70" y="642"/>
                  </a:lnTo>
                  <a:lnTo>
                    <a:pt x="60" y="642"/>
                  </a:lnTo>
                  <a:lnTo>
                    <a:pt x="45" y="642"/>
                  </a:lnTo>
                  <a:lnTo>
                    <a:pt x="33" y="642"/>
                  </a:lnTo>
                  <a:lnTo>
                    <a:pt x="21" y="642"/>
                  </a:lnTo>
                  <a:lnTo>
                    <a:pt x="11" y="644"/>
                  </a:lnTo>
                  <a:lnTo>
                    <a:pt x="3" y="645"/>
                  </a:lnTo>
                  <a:lnTo>
                    <a:pt x="0" y="645"/>
                  </a:lnTo>
                  <a:lnTo>
                    <a:pt x="1" y="642"/>
                  </a:lnTo>
                  <a:lnTo>
                    <a:pt x="5" y="632"/>
                  </a:lnTo>
                  <a:lnTo>
                    <a:pt x="8" y="620"/>
                  </a:lnTo>
                  <a:lnTo>
                    <a:pt x="13" y="609"/>
                  </a:lnTo>
                  <a:lnTo>
                    <a:pt x="20" y="592"/>
                  </a:lnTo>
                  <a:lnTo>
                    <a:pt x="28" y="569"/>
                  </a:lnTo>
                  <a:lnTo>
                    <a:pt x="35" y="542"/>
                  </a:lnTo>
                  <a:lnTo>
                    <a:pt x="38" y="517"/>
                  </a:lnTo>
                  <a:lnTo>
                    <a:pt x="40" y="500"/>
                  </a:lnTo>
                  <a:lnTo>
                    <a:pt x="43" y="489"/>
                  </a:lnTo>
                  <a:lnTo>
                    <a:pt x="50" y="480"/>
                  </a:lnTo>
                  <a:lnTo>
                    <a:pt x="56" y="470"/>
                  </a:lnTo>
                  <a:lnTo>
                    <a:pt x="61" y="457"/>
                  </a:lnTo>
                  <a:lnTo>
                    <a:pt x="65" y="442"/>
                  </a:lnTo>
                  <a:lnTo>
                    <a:pt x="66" y="429"/>
                  </a:lnTo>
                  <a:lnTo>
                    <a:pt x="66" y="424"/>
                  </a:lnTo>
                  <a:lnTo>
                    <a:pt x="232" y="465"/>
                  </a:lnTo>
                  <a:lnTo>
                    <a:pt x="235" y="464"/>
                  </a:lnTo>
                  <a:lnTo>
                    <a:pt x="243" y="457"/>
                  </a:lnTo>
                  <a:lnTo>
                    <a:pt x="257" y="450"/>
                  </a:lnTo>
                  <a:lnTo>
                    <a:pt x="270" y="439"/>
                  </a:lnTo>
                  <a:lnTo>
                    <a:pt x="285" y="429"/>
                  </a:lnTo>
                  <a:lnTo>
                    <a:pt x="298" y="417"/>
                  </a:lnTo>
                  <a:lnTo>
                    <a:pt x="308" y="407"/>
                  </a:lnTo>
                  <a:lnTo>
                    <a:pt x="313" y="399"/>
                  </a:lnTo>
                  <a:lnTo>
                    <a:pt x="318" y="384"/>
                  </a:lnTo>
                  <a:lnTo>
                    <a:pt x="325" y="369"/>
                  </a:lnTo>
                  <a:lnTo>
                    <a:pt x="330" y="357"/>
                  </a:lnTo>
                  <a:lnTo>
                    <a:pt x="332" y="352"/>
                  </a:lnTo>
                  <a:lnTo>
                    <a:pt x="335" y="352"/>
                  </a:lnTo>
                  <a:lnTo>
                    <a:pt x="342" y="352"/>
                  </a:lnTo>
                  <a:lnTo>
                    <a:pt x="353" y="352"/>
                  </a:lnTo>
                  <a:lnTo>
                    <a:pt x="367" y="350"/>
                  </a:lnTo>
                  <a:lnTo>
                    <a:pt x="382" y="350"/>
                  </a:lnTo>
                  <a:lnTo>
                    <a:pt x="398" y="347"/>
                  </a:lnTo>
                  <a:lnTo>
                    <a:pt x="413" y="345"/>
                  </a:lnTo>
                  <a:lnTo>
                    <a:pt x="427" y="342"/>
                  </a:lnTo>
                  <a:lnTo>
                    <a:pt x="438" y="337"/>
                  </a:lnTo>
                  <a:lnTo>
                    <a:pt x="447" y="329"/>
                  </a:lnTo>
                  <a:lnTo>
                    <a:pt x="455" y="319"/>
                  </a:lnTo>
                  <a:lnTo>
                    <a:pt x="462" y="309"/>
                  </a:lnTo>
                  <a:lnTo>
                    <a:pt x="468" y="299"/>
                  </a:lnTo>
                  <a:lnTo>
                    <a:pt x="475" y="290"/>
                  </a:lnTo>
                  <a:lnTo>
                    <a:pt x="483" y="284"/>
                  </a:lnTo>
                  <a:lnTo>
                    <a:pt x="493" y="280"/>
                  </a:lnTo>
                  <a:lnTo>
                    <a:pt x="508" y="275"/>
                  </a:lnTo>
                  <a:lnTo>
                    <a:pt x="513" y="269"/>
                  </a:lnTo>
                  <a:lnTo>
                    <a:pt x="513" y="264"/>
                  </a:lnTo>
                  <a:lnTo>
                    <a:pt x="512" y="262"/>
                  </a:lnTo>
                  <a:lnTo>
                    <a:pt x="380" y="90"/>
                  </a:lnTo>
                  <a:close/>
                </a:path>
              </a:pathLst>
            </a:custGeom>
            <a:solidFill>
              <a:srgbClr val="b2b2b2">
                <a:alpha val="30000"/>
              </a:srgbClr>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531" name="PlaceHolder 1"/>
          <p:cNvSpPr>
            <a:spLocks noGrp="1"/>
          </p:cNvSpPr>
          <p:nvPr>
            <p:ph/>
          </p:nvPr>
        </p:nvSpPr>
        <p:spPr>
          <a:xfrm>
            <a:off x="914040" y="1371240"/>
            <a:ext cx="7086600" cy="4876920"/>
          </a:xfrm>
          <a:prstGeom prst="rect">
            <a:avLst/>
          </a:prstGeom>
          <a:noFill/>
          <a:ln w="0">
            <a:noFill/>
          </a:ln>
        </p:spPr>
        <p:txBody>
          <a:bodyPr lIns="90000" rIns="90000" tIns="46800" bIns="46800" anchor="t">
            <a:normAutofit fontScale="96000"/>
          </a:bodyPr>
          <a:p>
            <a:pPr marL="327600" indent="-327600" algn="r" rtl="1">
              <a:lnSpc>
                <a:spcPct val="100000"/>
              </a:lnSpc>
              <a:spcBef>
                <a:spcPts val="601"/>
              </a:spcBef>
              <a:buClr>
                <a:srgbClr val="333399"/>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ar-SA" sz="2400" spc="-1" strike="noStrike">
                <a:solidFill>
                  <a:srgbClr val="333399"/>
                </a:solidFill>
                <a:latin typeface="Times New Roman"/>
                <a:cs typeface="Arabic Transparent"/>
              </a:rPr>
              <a:t>ثقافة تقنية النانو يجب التركيز عليها فى الموسسات العلمية بشكل عام ابتدا من المراحل الاولى فى التعليم.</a:t>
            </a:r>
            <a:endParaRPr b="0" lang="en-US" sz="2400" spc="-1" strike="noStrike">
              <a:solidFill>
                <a:srgbClr val="000000"/>
              </a:solidFill>
              <a:latin typeface="Arial"/>
            </a:endParaRPr>
          </a:p>
          <a:p>
            <a:pPr marL="327600" indent="0" algn="r" rtl="1">
              <a:lnSpc>
                <a:spcPct val="10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400" spc="-1" strike="noStrike">
              <a:solidFill>
                <a:srgbClr val="000000"/>
              </a:solidFill>
              <a:latin typeface="Arial"/>
            </a:endParaRPr>
          </a:p>
          <a:p>
            <a:pPr marL="327600" indent="-327600" algn="r" rtl="1">
              <a:lnSpc>
                <a:spcPct val="100000"/>
              </a:lnSpc>
              <a:spcBef>
                <a:spcPts val="601"/>
              </a:spcBef>
              <a:buClr>
                <a:srgbClr val="333399"/>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ar-SA" sz="2400" spc="-1" strike="noStrike">
                <a:solidFill>
                  <a:srgbClr val="333399"/>
                </a:solidFill>
                <a:latin typeface="Times New Roman"/>
                <a:cs typeface="Arabic Transparent"/>
              </a:rPr>
              <a:t>التركيز وبشكل اكبر على البحث العلمى فى مجال تقنية النانو وعلاقتها بالعلوم التطبيقية (طب؛ زراعة ؛صناعة ...).</a:t>
            </a:r>
            <a:endParaRPr b="0" lang="en-US" sz="2400" spc="-1" strike="noStrike">
              <a:solidFill>
                <a:srgbClr val="000000"/>
              </a:solidFill>
              <a:latin typeface="Arial"/>
            </a:endParaRPr>
          </a:p>
          <a:p>
            <a:pPr marL="327600" indent="0" algn="r" rtl="1">
              <a:lnSpc>
                <a:spcPct val="10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400" spc="-1" strike="noStrike">
              <a:solidFill>
                <a:srgbClr val="000000"/>
              </a:solidFill>
              <a:latin typeface="Arial"/>
            </a:endParaRPr>
          </a:p>
          <a:p>
            <a:pPr marL="327600" indent="-327600" algn="r" rtl="1">
              <a:lnSpc>
                <a:spcPct val="100000"/>
              </a:lnSpc>
              <a:spcBef>
                <a:spcPts val="601"/>
              </a:spcBef>
              <a:buClr>
                <a:srgbClr val="333399"/>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ar-SA" sz="2400" spc="-1" strike="noStrike">
                <a:solidFill>
                  <a:srgbClr val="333399"/>
                </a:solidFill>
                <a:latin typeface="Times New Roman"/>
                <a:cs typeface="Arabic Transparent"/>
              </a:rPr>
              <a:t>الاهتمام وتوسيع البنى التحتية لتقنية النانو.</a:t>
            </a:r>
            <a:endParaRPr b="0" lang="en-US" sz="2400" spc="-1" strike="noStrike">
              <a:solidFill>
                <a:srgbClr val="000000"/>
              </a:solidFill>
              <a:latin typeface="Arial"/>
            </a:endParaRPr>
          </a:p>
          <a:p>
            <a:pPr marL="327600" indent="0" algn="r" rtl="1">
              <a:lnSpc>
                <a:spcPct val="10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400" spc="-1" strike="noStrike">
              <a:solidFill>
                <a:srgbClr val="000000"/>
              </a:solidFill>
              <a:latin typeface="Arial"/>
            </a:endParaRPr>
          </a:p>
          <a:p>
            <a:pPr marL="327600" indent="-327600" algn="r" rtl="1">
              <a:lnSpc>
                <a:spcPct val="100000"/>
              </a:lnSpc>
              <a:spcBef>
                <a:spcPts val="601"/>
              </a:spcBef>
              <a:buClr>
                <a:srgbClr val="333399"/>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ar-SA" sz="2400" spc="-1" strike="noStrike">
                <a:solidFill>
                  <a:srgbClr val="333399"/>
                </a:solidFill>
                <a:latin typeface="Times New Roman"/>
                <a:cs typeface="Arabic Transparent"/>
              </a:rPr>
              <a:t>على الرغم من الفوائد الكثيرة فى تقنية النانو فى الطب؛الا انه يجب التركيز وبشكل لا يقل اهمية على متابعة الاعراض الجانبية والمخاطر المحتملة على الجلد وجميع اعضاء الجسم البشرى.</a:t>
            </a:r>
            <a:endParaRPr b="0" lang="en-US" sz="2400" spc="-1" strike="noStrike">
              <a:solidFill>
                <a:srgbClr val="000000"/>
              </a:solidFill>
              <a:latin typeface="Arial"/>
            </a:endParaRPr>
          </a:p>
        </p:txBody>
      </p:sp>
      <p:sp>
        <p:nvSpPr>
          <p:cNvPr id="532" name=""/>
          <p:cNvSpPr/>
          <p:nvPr/>
        </p:nvSpPr>
        <p:spPr>
          <a:xfrm>
            <a:off x="609480" y="6629400"/>
            <a:ext cx="8534520" cy="228600"/>
          </a:xfrm>
          <a:prstGeom prst="rect">
            <a:avLst/>
          </a:prstGeom>
          <a:solidFill>
            <a:srgbClr val="bbe0e3"/>
          </a:solidFill>
          <a:ln cap="sq"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99"/>
                </a:solidFill>
                <a:latin typeface="Albertus Medium"/>
              </a:rPr>
              <a:t>www.skinandallergy.org</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0" lang="en-US" sz="1000" spc="-1" strike="noStrike">
                <a:solidFill>
                  <a:srgbClr val="333399"/>
                </a:solidFill>
                <a:latin typeface="Albertus Medium"/>
              </a:rPr>
              <a:t>www.panarabderm.org</a:t>
            </a:r>
            <a:endParaRPr b="0" lang="en-US" sz="10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33" name="" descr=""/>
          <p:cNvPicPr/>
          <p:nvPr/>
        </p:nvPicPr>
        <p:blipFill>
          <a:blip r:embed="rId2"/>
          <a:stretch/>
        </p:blipFill>
        <p:spPr>
          <a:xfrm>
            <a:off x="8153280" y="74520"/>
            <a:ext cx="922320" cy="992160"/>
          </a:xfrm>
          <a:prstGeom prst="rect">
            <a:avLst/>
          </a:prstGeom>
          <a:ln w="0">
            <a:noFill/>
          </a:ln>
        </p:spPr>
      </p:pic>
      <p:sp>
        <p:nvSpPr>
          <p:cNvPr id="534" name=""/>
          <p:cNvSpPr/>
          <p:nvPr/>
        </p:nvSpPr>
        <p:spPr>
          <a:xfrm>
            <a:off x="1295280" y="1066680"/>
            <a:ext cx="6193080" cy="1800"/>
          </a:xfrm>
          <a:prstGeom prst="line">
            <a:avLst/>
          </a:prstGeom>
          <a:ln cap="sq" w="12600">
            <a:solidFill>
              <a:srgbClr val="b2b2b2"/>
            </a:solidFill>
            <a:miter/>
          </a:ln>
        </p:spPr>
        <p:style>
          <a:lnRef idx="0"/>
          <a:fillRef idx="0"/>
          <a:effectRef idx="0"/>
          <a:fontRef idx="minor"/>
        </p:style>
        <p:txBody>
          <a:bodyPr lIns="90000" rIns="90000" tIns="-45000" bIns="-45000" anchor="t">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535" name="" descr=""/>
          <p:cNvPicPr/>
          <p:nvPr/>
        </p:nvPicPr>
        <p:blipFill>
          <a:blip r:embed="rId3"/>
          <a:stretch/>
        </p:blipFill>
        <p:spPr>
          <a:xfrm>
            <a:off x="0" y="0"/>
            <a:ext cx="600120" cy="6858000"/>
          </a:xfrm>
          <a:prstGeom prst="rect">
            <a:avLst/>
          </a:prstGeom>
          <a:ln w="0">
            <a:noFill/>
          </a:ln>
        </p:spPr>
      </p:pic>
      <p:sp>
        <p:nvSpPr>
          <p:cNvPr id="536" name=""/>
          <p:cNvSpPr/>
          <p:nvPr/>
        </p:nvSpPr>
        <p:spPr>
          <a:xfrm>
            <a:off x="0" y="457200"/>
            <a:ext cx="914400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333399"/>
                </a:solidFill>
                <a:latin typeface="Albertus Medium"/>
              </a:rPr>
              <a:t>References</a:t>
            </a:r>
            <a:endParaRPr b="0" lang="en-US" sz="3600" spc="-1" strike="noStrike">
              <a:solidFill>
                <a:srgbClr val="000000"/>
              </a:solidFill>
              <a:latin typeface="Arial"/>
            </a:endParaRPr>
          </a:p>
        </p:txBody>
      </p:sp>
      <p:grpSp>
        <p:nvGrpSpPr>
          <p:cNvPr id="537" name=""/>
          <p:cNvGrpSpPr/>
          <p:nvPr/>
        </p:nvGrpSpPr>
        <p:grpSpPr>
          <a:xfrm>
            <a:off x="2639880" y="1346040"/>
            <a:ext cx="4521240" cy="3986280"/>
            <a:chOff x="2639880" y="1346040"/>
            <a:chExt cx="4521240" cy="3986280"/>
          </a:xfrm>
        </p:grpSpPr>
        <p:sp>
          <p:nvSpPr>
            <p:cNvPr id="538" name=""/>
            <p:cNvSpPr/>
            <p:nvPr/>
          </p:nvSpPr>
          <p:spPr>
            <a:xfrm>
              <a:off x="2639880" y="2319480"/>
              <a:ext cx="1721160" cy="3012840"/>
            </a:xfrm>
            <a:custGeom>
              <a:avLst/>
              <a:gdLst/>
              <a:ahLst/>
              <a:rect l="l" t="t" r="r" b="b"/>
              <a:pathLst>
                <a:path w="1261" h="2255">
                  <a:moveTo>
                    <a:pt x="1257" y="2027"/>
                  </a:moveTo>
                  <a:lnTo>
                    <a:pt x="1257" y="2015"/>
                  </a:lnTo>
                  <a:lnTo>
                    <a:pt x="1252" y="2000"/>
                  </a:lnTo>
                  <a:lnTo>
                    <a:pt x="1244" y="1985"/>
                  </a:lnTo>
                  <a:lnTo>
                    <a:pt x="1232" y="1970"/>
                  </a:lnTo>
                  <a:lnTo>
                    <a:pt x="1222" y="1956"/>
                  </a:lnTo>
                  <a:lnTo>
                    <a:pt x="1212" y="1945"/>
                  </a:lnTo>
                  <a:lnTo>
                    <a:pt x="1204" y="1933"/>
                  </a:lnTo>
                  <a:lnTo>
                    <a:pt x="1199" y="1921"/>
                  </a:lnTo>
                  <a:lnTo>
                    <a:pt x="1197" y="1910"/>
                  </a:lnTo>
                  <a:lnTo>
                    <a:pt x="1192" y="1893"/>
                  </a:lnTo>
                  <a:lnTo>
                    <a:pt x="1186" y="1876"/>
                  </a:lnTo>
                  <a:lnTo>
                    <a:pt x="1171" y="1860"/>
                  </a:lnTo>
                  <a:lnTo>
                    <a:pt x="1161" y="1851"/>
                  </a:lnTo>
                  <a:lnTo>
                    <a:pt x="1147" y="1838"/>
                  </a:lnTo>
                  <a:lnTo>
                    <a:pt x="1132" y="1823"/>
                  </a:lnTo>
                  <a:lnTo>
                    <a:pt x="1117" y="1806"/>
                  </a:lnTo>
                  <a:lnTo>
                    <a:pt x="1102" y="1788"/>
                  </a:lnTo>
                  <a:lnTo>
                    <a:pt x="1087" y="1770"/>
                  </a:lnTo>
                  <a:lnTo>
                    <a:pt x="1076" y="1750"/>
                  </a:lnTo>
                  <a:lnTo>
                    <a:pt x="1067" y="1731"/>
                  </a:lnTo>
                  <a:lnTo>
                    <a:pt x="1052" y="1703"/>
                  </a:lnTo>
                  <a:lnTo>
                    <a:pt x="1037" y="1681"/>
                  </a:lnTo>
                  <a:lnTo>
                    <a:pt x="1026" y="1665"/>
                  </a:lnTo>
                  <a:lnTo>
                    <a:pt x="1019" y="1646"/>
                  </a:lnTo>
                  <a:lnTo>
                    <a:pt x="1016" y="1633"/>
                  </a:lnTo>
                  <a:lnTo>
                    <a:pt x="1009" y="1613"/>
                  </a:lnTo>
                  <a:lnTo>
                    <a:pt x="999" y="1591"/>
                  </a:lnTo>
                  <a:lnTo>
                    <a:pt x="989" y="1568"/>
                  </a:lnTo>
                  <a:lnTo>
                    <a:pt x="979" y="1545"/>
                  </a:lnTo>
                  <a:lnTo>
                    <a:pt x="969" y="1525"/>
                  </a:lnTo>
                  <a:lnTo>
                    <a:pt x="959" y="1508"/>
                  </a:lnTo>
                  <a:lnTo>
                    <a:pt x="952" y="1499"/>
                  </a:lnTo>
                  <a:lnTo>
                    <a:pt x="942" y="1486"/>
                  </a:lnTo>
                  <a:lnTo>
                    <a:pt x="934" y="1473"/>
                  </a:lnTo>
                  <a:lnTo>
                    <a:pt x="922" y="1458"/>
                  </a:lnTo>
                  <a:lnTo>
                    <a:pt x="911" y="1443"/>
                  </a:lnTo>
                  <a:lnTo>
                    <a:pt x="902" y="1434"/>
                  </a:lnTo>
                  <a:lnTo>
                    <a:pt x="891" y="1426"/>
                  </a:lnTo>
                  <a:lnTo>
                    <a:pt x="879" y="1419"/>
                  </a:lnTo>
                  <a:lnTo>
                    <a:pt x="867" y="1411"/>
                  </a:lnTo>
                  <a:lnTo>
                    <a:pt x="854" y="1404"/>
                  </a:lnTo>
                  <a:lnTo>
                    <a:pt x="842" y="1399"/>
                  </a:lnTo>
                  <a:lnTo>
                    <a:pt x="831" y="1396"/>
                  </a:lnTo>
                  <a:lnTo>
                    <a:pt x="820" y="1394"/>
                  </a:lnTo>
                  <a:lnTo>
                    <a:pt x="812" y="1393"/>
                  </a:lnTo>
                  <a:lnTo>
                    <a:pt x="805" y="1389"/>
                  </a:lnTo>
                  <a:lnTo>
                    <a:pt x="800" y="1384"/>
                  </a:lnTo>
                  <a:lnTo>
                    <a:pt x="794" y="1376"/>
                  </a:lnTo>
                  <a:lnTo>
                    <a:pt x="789" y="1368"/>
                  </a:lnTo>
                  <a:lnTo>
                    <a:pt x="782" y="1354"/>
                  </a:lnTo>
                  <a:lnTo>
                    <a:pt x="774" y="1341"/>
                  </a:lnTo>
                  <a:lnTo>
                    <a:pt x="762" y="1324"/>
                  </a:lnTo>
                  <a:lnTo>
                    <a:pt x="750" y="1306"/>
                  </a:lnTo>
                  <a:lnTo>
                    <a:pt x="740" y="1288"/>
                  </a:lnTo>
                  <a:lnTo>
                    <a:pt x="732" y="1269"/>
                  </a:lnTo>
                  <a:lnTo>
                    <a:pt x="724" y="1253"/>
                  </a:lnTo>
                  <a:lnTo>
                    <a:pt x="717" y="1234"/>
                  </a:lnTo>
                  <a:lnTo>
                    <a:pt x="712" y="1219"/>
                  </a:lnTo>
                  <a:lnTo>
                    <a:pt x="709" y="1204"/>
                  </a:lnTo>
                  <a:lnTo>
                    <a:pt x="705" y="1191"/>
                  </a:lnTo>
                  <a:lnTo>
                    <a:pt x="700" y="1166"/>
                  </a:lnTo>
                  <a:lnTo>
                    <a:pt x="692" y="1143"/>
                  </a:lnTo>
                  <a:lnTo>
                    <a:pt x="685" y="1126"/>
                  </a:lnTo>
                  <a:lnTo>
                    <a:pt x="682" y="1119"/>
                  </a:lnTo>
                  <a:lnTo>
                    <a:pt x="689" y="1108"/>
                  </a:lnTo>
                  <a:lnTo>
                    <a:pt x="700" y="1078"/>
                  </a:lnTo>
                  <a:lnTo>
                    <a:pt x="707" y="1038"/>
                  </a:lnTo>
                  <a:lnTo>
                    <a:pt x="697" y="996"/>
                  </a:lnTo>
                  <a:lnTo>
                    <a:pt x="680" y="961"/>
                  </a:lnTo>
                  <a:lnTo>
                    <a:pt x="670" y="932"/>
                  </a:lnTo>
                  <a:lnTo>
                    <a:pt x="662" y="904"/>
                  </a:lnTo>
                  <a:lnTo>
                    <a:pt x="649" y="872"/>
                  </a:lnTo>
                  <a:lnTo>
                    <a:pt x="640" y="856"/>
                  </a:lnTo>
                  <a:lnTo>
                    <a:pt x="635" y="839"/>
                  </a:lnTo>
                  <a:lnTo>
                    <a:pt x="630" y="826"/>
                  </a:lnTo>
                  <a:lnTo>
                    <a:pt x="625" y="814"/>
                  </a:lnTo>
                  <a:lnTo>
                    <a:pt x="620" y="802"/>
                  </a:lnTo>
                  <a:lnTo>
                    <a:pt x="614" y="792"/>
                  </a:lnTo>
                  <a:lnTo>
                    <a:pt x="607" y="784"/>
                  </a:lnTo>
                  <a:lnTo>
                    <a:pt x="597" y="777"/>
                  </a:lnTo>
                  <a:lnTo>
                    <a:pt x="587" y="771"/>
                  </a:lnTo>
                  <a:lnTo>
                    <a:pt x="575" y="762"/>
                  </a:lnTo>
                  <a:lnTo>
                    <a:pt x="565" y="754"/>
                  </a:lnTo>
                  <a:lnTo>
                    <a:pt x="554" y="744"/>
                  </a:lnTo>
                  <a:lnTo>
                    <a:pt x="542" y="736"/>
                  </a:lnTo>
                  <a:lnTo>
                    <a:pt x="529" y="729"/>
                  </a:lnTo>
                  <a:lnTo>
                    <a:pt x="515" y="721"/>
                  </a:lnTo>
                  <a:lnTo>
                    <a:pt x="502" y="716"/>
                  </a:lnTo>
                  <a:lnTo>
                    <a:pt x="480" y="702"/>
                  </a:lnTo>
                  <a:lnTo>
                    <a:pt x="470" y="686"/>
                  </a:lnTo>
                  <a:lnTo>
                    <a:pt x="464" y="667"/>
                  </a:lnTo>
                  <a:lnTo>
                    <a:pt x="454" y="649"/>
                  </a:lnTo>
                  <a:lnTo>
                    <a:pt x="444" y="634"/>
                  </a:lnTo>
                  <a:lnTo>
                    <a:pt x="437" y="621"/>
                  </a:lnTo>
                  <a:lnTo>
                    <a:pt x="435" y="611"/>
                  </a:lnTo>
                  <a:lnTo>
                    <a:pt x="435" y="607"/>
                  </a:lnTo>
                  <a:lnTo>
                    <a:pt x="437" y="607"/>
                  </a:lnTo>
                  <a:lnTo>
                    <a:pt x="442" y="606"/>
                  </a:lnTo>
                  <a:lnTo>
                    <a:pt x="449" y="602"/>
                  </a:lnTo>
                  <a:lnTo>
                    <a:pt x="455" y="596"/>
                  </a:lnTo>
                  <a:lnTo>
                    <a:pt x="459" y="589"/>
                  </a:lnTo>
                  <a:lnTo>
                    <a:pt x="459" y="577"/>
                  </a:lnTo>
                  <a:lnTo>
                    <a:pt x="454" y="564"/>
                  </a:lnTo>
                  <a:lnTo>
                    <a:pt x="440" y="546"/>
                  </a:lnTo>
                  <a:lnTo>
                    <a:pt x="434" y="539"/>
                  </a:lnTo>
                  <a:lnTo>
                    <a:pt x="429" y="532"/>
                  </a:lnTo>
                  <a:lnTo>
                    <a:pt x="424" y="529"/>
                  </a:lnTo>
                  <a:lnTo>
                    <a:pt x="420" y="526"/>
                  </a:lnTo>
                  <a:lnTo>
                    <a:pt x="419" y="527"/>
                  </a:lnTo>
                  <a:lnTo>
                    <a:pt x="415" y="526"/>
                  </a:lnTo>
                  <a:lnTo>
                    <a:pt x="415" y="522"/>
                  </a:lnTo>
                  <a:lnTo>
                    <a:pt x="420" y="526"/>
                  </a:lnTo>
                  <a:lnTo>
                    <a:pt x="420" y="524"/>
                  </a:lnTo>
                  <a:lnTo>
                    <a:pt x="419" y="521"/>
                  </a:lnTo>
                  <a:lnTo>
                    <a:pt x="419" y="517"/>
                  </a:lnTo>
                  <a:lnTo>
                    <a:pt x="417" y="512"/>
                  </a:lnTo>
                  <a:lnTo>
                    <a:pt x="409" y="490"/>
                  </a:lnTo>
                  <a:lnTo>
                    <a:pt x="405" y="477"/>
                  </a:lnTo>
                  <a:lnTo>
                    <a:pt x="399" y="467"/>
                  </a:lnTo>
                  <a:lnTo>
                    <a:pt x="384" y="455"/>
                  </a:lnTo>
                  <a:lnTo>
                    <a:pt x="372" y="440"/>
                  </a:lnTo>
                  <a:lnTo>
                    <a:pt x="374" y="425"/>
                  </a:lnTo>
                  <a:lnTo>
                    <a:pt x="375" y="412"/>
                  </a:lnTo>
                  <a:lnTo>
                    <a:pt x="364" y="399"/>
                  </a:lnTo>
                  <a:lnTo>
                    <a:pt x="345" y="387"/>
                  </a:lnTo>
                  <a:lnTo>
                    <a:pt x="332" y="372"/>
                  </a:lnTo>
                  <a:lnTo>
                    <a:pt x="325" y="355"/>
                  </a:lnTo>
                  <a:lnTo>
                    <a:pt x="322" y="337"/>
                  </a:lnTo>
                  <a:lnTo>
                    <a:pt x="319" y="317"/>
                  </a:lnTo>
                  <a:lnTo>
                    <a:pt x="309" y="290"/>
                  </a:lnTo>
                  <a:lnTo>
                    <a:pt x="294" y="264"/>
                  </a:lnTo>
                  <a:lnTo>
                    <a:pt x="273" y="237"/>
                  </a:lnTo>
                  <a:lnTo>
                    <a:pt x="260" y="215"/>
                  </a:lnTo>
                  <a:lnTo>
                    <a:pt x="257" y="197"/>
                  </a:lnTo>
                  <a:lnTo>
                    <a:pt x="255" y="184"/>
                  </a:lnTo>
                  <a:lnTo>
                    <a:pt x="245" y="175"/>
                  </a:lnTo>
                  <a:lnTo>
                    <a:pt x="233" y="167"/>
                  </a:lnTo>
                  <a:lnTo>
                    <a:pt x="228" y="154"/>
                  </a:lnTo>
                  <a:lnTo>
                    <a:pt x="222" y="140"/>
                  </a:lnTo>
                  <a:lnTo>
                    <a:pt x="207" y="124"/>
                  </a:lnTo>
                  <a:lnTo>
                    <a:pt x="188" y="100"/>
                  </a:lnTo>
                  <a:lnTo>
                    <a:pt x="175" y="74"/>
                  </a:lnTo>
                  <a:lnTo>
                    <a:pt x="168" y="52"/>
                  </a:lnTo>
                  <a:lnTo>
                    <a:pt x="165" y="42"/>
                  </a:lnTo>
                  <a:lnTo>
                    <a:pt x="160" y="42"/>
                  </a:lnTo>
                  <a:lnTo>
                    <a:pt x="148" y="42"/>
                  </a:lnTo>
                  <a:lnTo>
                    <a:pt x="133" y="42"/>
                  </a:lnTo>
                  <a:lnTo>
                    <a:pt x="122" y="42"/>
                  </a:lnTo>
                  <a:lnTo>
                    <a:pt x="110" y="42"/>
                  </a:lnTo>
                  <a:lnTo>
                    <a:pt x="100" y="44"/>
                  </a:lnTo>
                  <a:lnTo>
                    <a:pt x="92" y="47"/>
                  </a:lnTo>
                  <a:lnTo>
                    <a:pt x="88" y="47"/>
                  </a:lnTo>
                  <a:lnTo>
                    <a:pt x="90" y="44"/>
                  </a:lnTo>
                  <a:lnTo>
                    <a:pt x="93" y="34"/>
                  </a:lnTo>
                  <a:lnTo>
                    <a:pt x="98" y="20"/>
                  </a:lnTo>
                  <a:lnTo>
                    <a:pt x="103" y="8"/>
                  </a:lnTo>
                  <a:lnTo>
                    <a:pt x="103" y="8"/>
                  </a:lnTo>
                  <a:lnTo>
                    <a:pt x="103" y="8"/>
                  </a:lnTo>
                  <a:lnTo>
                    <a:pt x="103" y="8"/>
                  </a:lnTo>
                  <a:lnTo>
                    <a:pt x="103" y="8"/>
                  </a:lnTo>
                  <a:lnTo>
                    <a:pt x="67" y="0"/>
                  </a:lnTo>
                  <a:lnTo>
                    <a:pt x="67" y="5"/>
                  </a:lnTo>
                  <a:lnTo>
                    <a:pt x="65" y="19"/>
                  </a:lnTo>
                  <a:lnTo>
                    <a:pt x="62" y="34"/>
                  </a:lnTo>
                  <a:lnTo>
                    <a:pt x="57" y="47"/>
                  </a:lnTo>
                  <a:lnTo>
                    <a:pt x="50" y="57"/>
                  </a:lnTo>
                  <a:lnTo>
                    <a:pt x="45" y="65"/>
                  </a:lnTo>
                  <a:lnTo>
                    <a:pt x="40" y="79"/>
                  </a:lnTo>
                  <a:lnTo>
                    <a:pt x="38" y="95"/>
                  </a:lnTo>
                  <a:lnTo>
                    <a:pt x="35" y="119"/>
                  </a:lnTo>
                  <a:lnTo>
                    <a:pt x="28" y="145"/>
                  </a:lnTo>
                  <a:lnTo>
                    <a:pt x="20" y="169"/>
                  </a:lnTo>
                  <a:lnTo>
                    <a:pt x="15" y="185"/>
                  </a:lnTo>
                  <a:lnTo>
                    <a:pt x="10" y="197"/>
                  </a:lnTo>
                  <a:lnTo>
                    <a:pt x="5" y="209"/>
                  </a:lnTo>
                  <a:lnTo>
                    <a:pt x="2" y="220"/>
                  </a:lnTo>
                  <a:lnTo>
                    <a:pt x="0" y="224"/>
                  </a:lnTo>
                  <a:lnTo>
                    <a:pt x="3" y="224"/>
                  </a:lnTo>
                  <a:lnTo>
                    <a:pt x="12" y="220"/>
                  </a:lnTo>
                  <a:lnTo>
                    <a:pt x="23" y="219"/>
                  </a:lnTo>
                  <a:lnTo>
                    <a:pt x="33" y="219"/>
                  </a:lnTo>
                  <a:lnTo>
                    <a:pt x="47" y="219"/>
                  </a:lnTo>
                  <a:lnTo>
                    <a:pt x="60" y="219"/>
                  </a:lnTo>
                  <a:lnTo>
                    <a:pt x="72" y="219"/>
                  </a:lnTo>
                  <a:lnTo>
                    <a:pt x="77" y="219"/>
                  </a:lnTo>
                  <a:lnTo>
                    <a:pt x="80" y="229"/>
                  </a:lnTo>
                  <a:lnTo>
                    <a:pt x="87" y="250"/>
                  </a:lnTo>
                  <a:lnTo>
                    <a:pt x="100" y="277"/>
                  </a:lnTo>
                  <a:lnTo>
                    <a:pt x="118" y="299"/>
                  </a:lnTo>
                  <a:lnTo>
                    <a:pt x="133" y="315"/>
                  </a:lnTo>
                  <a:lnTo>
                    <a:pt x="140" y="330"/>
                  </a:lnTo>
                  <a:lnTo>
                    <a:pt x="145" y="342"/>
                  </a:lnTo>
                  <a:lnTo>
                    <a:pt x="157" y="352"/>
                  </a:lnTo>
                  <a:lnTo>
                    <a:pt x="167" y="360"/>
                  </a:lnTo>
                  <a:lnTo>
                    <a:pt x="168" y="374"/>
                  </a:lnTo>
                  <a:lnTo>
                    <a:pt x="172" y="390"/>
                  </a:lnTo>
                  <a:lnTo>
                    <a:pt x="185" y="414"/>
                  </a:lnTo>
                  <a:lnTo>
                    <a:pt x="205" y="440"/>
                  </a:lnTo>
                  <a:lnTo>
                    <a:pt x="220" y="467"/>
                  </a:lnTo>
                  <a:lnTo>
                    <a:pt x="230" y="492"/>
                  </a:lnTo>
                  <a:lnTo>
                    <a:pt x="233" y="512"/>
                  </a:lnTo>
                  <a:lnTo>
                    <a:pt x="237" y="531"/>
                  </a:lnTo>
                  <a:lnTo>
                    <a:pt x="243" y="547"/>
                  </a:lnTo>
                  <a:lnTo>
                    <a:pt x="257" y="562"/>
                  </a:lnTo>
                  <a:lnTo>
                    <a:pt x="275" y="574"/>
                  </a:lnTo>
                  <a:lnTo>
                    <a:pt x="287" y="587"/>
                  </a:lnTo>
                  <a:lnTo>
                    <a:pt x="285" y="601"/>
                  </a:lnTo>
                  <a:lnTo>
                    <a:pt x="284" y="617"/>
                  </a:lnTo>
                  <a:lnTo>
                    <a:pt x="295" y="632"/>
                  </a:lnTo>
                  <a:lnTo>
                    <a:pt x="310" y="642"/>
                  </a:lnTo>
                  <a:lnTo>
                    <a:pt x="317" y="652"/>
                  </a:lnTo>
                  <a:lnTo>
                    <a:pt x="320" y="666"/>
                  </a:lnTo>
                  <a:lnTo>
                    <a:pt x="329" y="687"/>
                  </a:lnTo>
                  <a:lnTo>
                    <a:pt x="330" y="692"/>
                  </a:lnTo>
                  <a:lnTo>
                    <a:pt x="330" y="696"/>
                  </a:lnTo>
                  <a:lnTo>
                    <a:pt x="332" y="697"/>
                  </a:lnTo>
                  <a:lnTo>
                    <a:pt x="332" y="699"/>
                  </a:lnTo>
                  <a:lnTo>
                    <a:pt x="335" y="702"/>
                  </a:lnTo>
                  <a:lnTo>
                    <a:pt x="340" y="707"/>
                  </a:lnTo>
                  <a:lnTo>
                    <a:pt x="345" y="712"/>
                  </a:lnTo>
                  <a:lnTo>
                    <a:pt x="352" y="721"/>
                  </a:lnTo>
                  <a:lnTo>
                    <a:pt x="365" y="737"/>
                  </a:lnTo>
                  <a:lnTo>
                    <a:pt x="370" y="752"/>
                  </a:lnTo>
                  <a:lnTo>
                    <a:pt x="370" y="762"/>
                  </a:lnTo>
                  <a:lnTo>
                    <a:pt x="367" y="771"/>
                  </a:lnTo>
                  <a:lnTo>
                    <a:pt x="360" y="776"/>
                  </a:lnTo>
                  <a:lnTo>
                    <a:pt x="354" y="781"/>
                  </a:lnTo>
                  <a:lnTo>
                    <a:pt x="349" y="782"/>
                  </a:lnTo>
                  <a:lnTo>
                    <a:pt x="347" y="782"/>
                  </a:lnTo>
                  <a:lnTo>
                    <a:pt x="347" y="786"/>
                  </a:lnTo>
                  <a:lnTo>
                    <a:pt x="350" y="794"/>
                  </a:lnTo>
                  <a:lnTo>
                    <a:pt x="355" y="807"/>
                  </a:lnTo>
                  <a:lnTo>
                    <a:pt x="367" y="824"/>
                  </a:lnTo>
                  <a:lnTo>
                    <a:pt x="377" y="842"/>
                  </a:lnTo>
                  <a:lnTo>
                    <a:pt x="384" y="862"/>
                  </a:lnTo>
                  <a:lnTo>
                    <a:pt x="392" y="877"/>
                  </a:lnTo>
                  <a:lnTo>
                    <a:pt x="414" y="891"/>
                  </a:lnTo>
                  <a:lnTo>
                    <a:pt x="427" y="897"/>
                  </a:lnTo>
                  <a:lnTo>
                    <a:pt x="440" y="904"/>
                  </a:lnTo>
                  <a:lnTo>
                    <a:pt x="454" y="912"/>
                  </a:lnTo>
                  <a:lnTo>
                    <a:pt x="465" y="921"/>
                  </a:lnTo>
                  <a:lnTo>
                    <a:pt x="477" y="929"/>
                  </a:lnTo>
                  <a:lnTo>
                    <a:pt x="487" y="937"/>
                  </a:lnTo>
                  <a:lnTo>
                    <a:pt x="499" y="946"/>
                  </a:lnTo>
                  <a:lnTo>
                    <a:pt x="509" y="952"/>
                  </a:lnTo>
                  <a:lnTo>
                    <a:pt x="519" y="961"/>
                  </a:lnTo>
                  <a:lnTo>
                    <a:pt x="525" y="969"/>
                  </a:lnTo>
                  <a:lnTo>
                    <a:pt x="532" y="979"/>
                  </a:lnTo>
                  <a:lnTo>
                    <a:pt x="537" y="989"/>
                  </a:lnTo>
                  <a:lnTo>
                    <a:pt x="542" y="1002"/>
                  </a:lnTo>
                  <a:lnTo>
                    <a:pt x="547" y="1016"/>
                  </a:lnTo>
                  <a:lnTo>
                    <a:pt x="552" y="1031"/>
                  </a:lnTo>
                  <a:lnTo>
                    <a:pt x="560" y="1048"/>
                  </a:lnTo>
                  <a:lnTo>
                    <a:pt x="574" y="1079"/>
                  </a:lnTo>
                  <a:lnTo>
                    <a:pt x="584" y="1108"/>
                  </a:lnTo>
                  <a:lnTo>
                    <a:pt x="592" y="1136"/>
                  </a:lnTo>
                  <a:lnTo>
                    <a:pt x="609" y="1171"/>
                  </a:lnTo>
                  <a:lnTo>
                    <a:pt x="619" y="1213"/>
                  </a:lnTo>
                  <a:lnTo>
                    <a:pt x="612" y="1253"/>
                  </a:lnTo>
                  <a:lnTo>
                    <a:pt x="600" y="1283"/>
                  </a:lnTo>
                  <a:lnTo>
                    <a:pt x="594" y="1294"/>
                  </a:lnTo>
                  <a:lnTo>
                    <a:pt x="597" y="1301"/>
                  </a:lnTo>
                  <a:lnTo>
                    <a:pt x="604" y="1318"/>
                  </a:lnTo>
                  <a:lnTo>
                    <a:pt x="612" y="1341"/>
                  </a:lnTo>
                  <a:lnTo>
                    <a:pt x="617" y="1366"/>
                  </a:lnTo>
                  <a:lnTo>
                    <a:pt x="620" y="1379"/>
                  </a:lnTo>
                  <a:lnTo>
                    <a:pt x="624" y="1394"/>
                  </a:lnTo>
                  <a:lnTo>
                    <a:pt x="629" y="1409"/>
                  </a:lnTo>
                  <a:lnTo>
                    <a:pt x="635" y="1428"/>
                  </a:lnTo>
                  <a:lnTo>
                    <a:pt x="644" y="1444"/>
                  </a:lnTo>
                  <a:lnTo>
                    <a:pt x="654" y="1463"/>
                  </a:lnTo>
                  <a:lnTo>
                    <a:pt x="664" y="1481"/>
                  </a:lnTo>
                  <a:lnTo>
                    <a:pt x="675" y="1499"/>
                  </a:lnTo>
                  <a:lnTo>
                    <a:pt x="687" y="1516"/>
                  </a:lnTo>
                  <a:lnTo>
                    <a:pt x="695" y="1531"/>
                  </a:lnTo>
                  <a:lnTo>
                    <a:pt x="702" y="1543"/>
                  </a:lnTo>
                  <a:lnTo>
                    <a:pt x="707" y="1553"/>
                  </a:lnTo>
                  <a:lnTo>
                    <a:pt x="712" y="1561"/>
                  </a:lnTo>
                  <a:lnTo>
                    <a:pt x="719" y="1566"/>
                  </a:lnTo>
                  <a:lnTo>
                    <a:pt x="724" y="1570"/>
                  </a:lnTo>
                  <a:lnTo>
                    <a:pt x="732" y="1571"/>
                  </a:lnTo>
                  <a:lnTo>
                    <a:pt x="742" y="1573"/>
                  </a:lnTo>
                  <a:lnTo>
                    <a:pt x="754" y="1576"/>
                  </a:lnTo>
                  <a:lnTo>
                    <a:pt x="765" y="1581"/>
                  </a:lnTo>
                  <a:lnTo>
                    <a:pt x="779" y="1588"/>
                  </a:lnTo>
                  <a:lnTo>
                    <a:pt x="792" y="1595"/>
                  </a:lnTo>
                  <a:lnTo>
                    <a:pt x="804" y="1603"/>
                  </a:lnTo>
                  <a:lnTo>
                    <a:pt x="814" y="1611"/>
                  </a:lnTo>
                  <a:lnTo>
                    <a:pt x="822" y="1618"/>
                  </a:lnTo>
                  <a:lnTo>
                    <a:pt x="834" y="1633"/>
                  </a:lnTo>
                  <a:lnTo>
                    <a:pt x="846" y="1648"/>
                  </a:lnTo>
                  <a:lnTo>
                    <a:pt x="856" y="1663"/>
                  </a:lnTo>
                  <a:lnTo>
                    <a:pt x="866" y="1675"/>
                  </a:lnTo>
                  <a:lnTo>
                    <a:pt x="872" y="1685"/>
                  </a:lnTo>
                  <a:lnTo>
                    <a:pt x="881" y="1700"/>
                  </a:lnTo>
                  <a:lnTo>
                    <a:pt x="891" y="1721"/>
                  </a:lnTo>
                  <a:lnTo>
                    <a:pt x="902" y="1743"/>
                  </a:lnTo>
                  <a:lnTo>
                    <a:pt x="912" y="1768"/>
                  </a:lnTo>
                  <a:lnTo>
                    <a:pt x="921" y="1790"/>
                  </a:lnTo>
                  <a:lnTo>
                    <a:pt x="927" y="1810"/>
                  </a:lnTo>
                  <a:lnTo>
                    <a:pt x="931" y="1823"/>
                  </a:lnTo>
                  <a:lnTo>
                    <a:pt x="937" y="1841"/>
                  </a:lnTo>
                  <a:lnTo>
                    <a:pt x="951" y="1858"/>
                  </a:lnTo>
                  <a:lnTo>
                    <a:pt x="964" y="1878"/>
                  </a:lnTo>
                  <a:lnTo>
                    <a:pt x="979" y="1908"/>
                  </a:lnTo>
                  <a:lnTo>
                    <a:pt x="987" y="1926"/>
                  </a:lnTo>
                  <a:lnTo>
                    <a:pt x="999" y="1945"/>
                  </a:lnTo>
                  <a:lnTo>
                    <a:pt x="1014" y="1965"/>
                  </a:lnTo>
                  <a:lnTo>
                    <a:pt x="1029" y="1981"/>
                  </a:lnTo>
                  <a:lnTo>
                    <a:pt x="1044" y="2000"/>
                  </a:lnTo>
                  <a:lnTo>
                    <a:pt x="1059" y="2015"/>
                  </a:lnTo>
                  <a:lnTo>
                    <a:pt x="1072" y="2027"/>
                  </a:lnTo>
                  <a:lnTo>
                    <a:pt x="1084" y="2037"/>
                  </a:lnTo>
                  <a:lnTo>
                    <a:pt x="1097" y="2052"/>
                  </a:lnTo>
                  <a:lnTo>
                    <a:pt x="1106" y="2068"/>
                  </a:lnTo>
                  <a:lnTo>
                    <a:pt x="1109" y="2085"/>
                  </a:lnTo>
                  <a:lnTo>
                    <a:pt x="1112" y="2098"/>
                  </a:lnTo>
                  <a:lnTo>
                    <a:pt x="1117" y="2108"/>
                  </a:lnTo>
                  <a:lnTo>
                    <a:pt x="1126" y="2120"/>
                  </a:lnTo>
                  <a:lnTo>
                    <a:pt x="1136" y="2132"/>
                  </a:lnTo>
                  <a:lnTo>
                    <a:pt x="1146" y="2145"/>
                  </a:lnTo>
                  <a:lnTo>
                    <a:pt x="1156" y="2160"/>
                  </a:lnTo>
                  <a:lnTo>
                    <a:pt x="1164" y="2175"/>
                  </a:lnTo>
                  <a:lnTo>
                    <a:pt x="1169" y="2190"/>
                  </a:lnTo>
                  <a:lnTo>
                    <a:pt x="1169" y="2202"/>
                  </a:lnTo>
                  <a:lnTo>
                    <a:pt x="1169" y="2217"/>
                  </a:lnTo>
                  <a:lnTo>
                    <a:pt x="1172" y="2233"/>
                  </a:lnTo>
                  <a:lnTo>
                    <a:pt x="1177" y="2248"/>
                  </a:lnTo>
                  <a:lnTo>
                    <a:pt x="1179" y="2255"/>
                  </a:lnTo>
                  <a:lnTo>
                    <a:pt x="1216" y="2227"/>
                  </a:lnTo>
                  <a:lnTo>
                    <a:pt x="1219" y="2222"/>
                  </a:lnTo>
                  <a:lnTo>
                    <a:pt x="1226" y="2208"/>
                  </a:lnTo>
                  <a:lnTo>
                    <a:pt x="1232" y="2192"/>
                  </a:lnTo>
                  <a:lnTo>
                    <a:pt x="1236" y="2178"/>
                  </a:lnTo>
                  <a:lnTo>
                    <a:pt x="1236" y="2165"/>
                  </a:lnTo>
                  <a:lnTo>
                    <a:pt x="1234" y="2145"/>
                  </a:lnTo>
                  <a:lnTo>
                    <a:pt x="1236" y="2123"/>
                  </a:lnTo>
                  <a:lnTo>
                    <a:pt x="1241" y="2103"/>
                  </a:lnTo>
                  <a:lnTo>
                    <a:pt x="1241" y="2087"/>
                  </a:lnTo>
                  <a:lnTo>
                    <a:pt x="1236" y="2077"/>
                  </a:lnTo>
                  <a:lnTo>
                    <a:pt x="1234" y="2067"/>
                  </a:lnTo>
                  <a:lnTo>
                    <a:pt x="1241" y="2060"/>
                  </a:lnTo>
                  <a:lnTo>
                    <a:pt x="1246" y="2057"/>
                  </a:lnTo>
                  <a:lnTo>
                    <a:pt x="1251" y="2057"/>
                  </a:lnTo>
                  <a:lnTo>
                    <a:pt x="1256" y="2058"/>
                  </a:lnTo>
                  <a:lnTo>
                    <a:pt x="1261" y="2062"/>
                  </a:lnTo>
                  <a:lnTo>
                    <a:pt x="1259" y="2052"/>
                  </a:lnTo>
                  <a:lnTo>
                    <a:pt x="1257" y="2043"/>
                  </a:lnTo>
                  <a:lnTo>
                    <a:pt x="1256" y="2033"/>
                  </a:lnTo>
                  <a:lnTo>
                    <a:pt x="1257" y="2027"/>
                  </a:lnTo>
                  <a:close/>
                </a:path>
              </a:pathLst>
            </a:custGeom>
            <a:solidFill>
              <a:srgbClr val="ffffff">
                <a:alpha val="10000"/>
              </a:srgbClr>
            </a:solidFill>
            <a:ln cap="sq" w="9360">
              <a:solidFill>
                <a:srgbClr val="ffffff"/>
              </a:solidFill>
              <a:round/>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39" name=""/>
            <p:cNvSpPr/>
            <p:nvPr/>
          </p:nvSpPr>
          <p:spPr>
            <a:xfrm>
              <a:off x="3086280" y="3249720"/>
              <a:ext cx="4680" cy="4680"/>
            </a:xfrm>
            <a:custGeom>
              <a:avLst/>
              <a:gdLst/>
              <a:ahLst/>
              <a:rect l="l" t="t" r="r" b="b"/>
              <a:pathLst>
                <a:path w="5" h="5">
                  <a:moveTo>
                    <a:pt x="5" y="3"/>
                  </a:moveTo>
                  <a:lnTo>
                    <a:pt x="0" y="0"/>
                  </a:lnTo>
                  <a:lnTo>
                    <a:pt x="2" y="3"/>
                  </a:lnTo>
                  <a:lnTo>
                    <a:pt x="3" y="5"/>
                  </a:lnTo>
                  <a:lnTo>
                    <a:pt x="5" y="3"/>
                  </a:lnTo>
                  <a:lnTo>
                    <a:pt x="5" y="3"/>
                  </a:lnTo>
                  <a:close/>
                </a:path>
              </a:pathLst>
            </a:custGeom>
            <a:solidFill>
              <a:srgbClr val="000000"/>
            </a:solidFill>
            <a:ln w="0">
              <a:noFill/>
            </a:ln>
          </p:spPr>
          <p:style>
            <a:lnRef idx="0"/>
            <a:fillRef idx="0"/>
            <a:effectRef idx="0"/>
            <a:fontRef idx="minor"/>
          </p:style>
          <p:txBody>
            <a:bodyPr wrap="none" lIns="90000" rIns="90000" tIns="-42120" bIns="-421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40" name=""/>
            <p:cNvSpPr/>
            <p:nvPr/>
          </p:nvSpPr>
          <p:spPr>
            <a:xfrm>
              <a:off x="4379760" y="4205160"/>
              <a:ext cx="2567160" cy="993960"/>
            </a:xfrm>
            <a:custGeom>
              <a:avLst/>
              <a:gdLst/>
              <a:ahLst/>
              <a:rect l="l" t="t" r="r" b="b"/>
              <a:pathLst>
                <a:path w="1881" h="744">
                  <a:moveTo>
                    <a:pt x="1298" y="222"/>
                  </a:moveTo>
                  <a:lnTo>
                    <a:pt x="1283" y="225"/>
                  </a:lnTo>
                  <a:lnTo>
                    <a:pt x="1263" y="230"/>
                  </a:lnTo>
                  <a:lnTo>
                    <a:pt x="1239" y="235"/>
                  </a:lnTo>
                  <a:lnTo>
                    <a:pt x="1214" y="242"/>
                  </a:lnTo>
                  <a:lnTo>
                    <a:pt x="1186" y="249"/>
                  </a:lnTo>
                  <a:lnTo>
                    <a:pt x="1157" y="255"/>
                  </a:lnTo>
                  <a:lnTo>
                    <a:pt x="1127" y="262"/>
                  </a:lnTo>
                  <a:lnTo>
                    <a:pt x="1097" y="269"/>
                  </a:lnTo>
                  <a:lnTo>
                    <a:pt x="1067" y="275"/>
                  </a:lnTo>
                  <a:lnTo>
                    <a:pt x="1039" y="284"/>
                  </a:lnTo>
                  <a:lnTo>
                    <a:pt x="1012" y="290"/>
                  </a:lnTo>
                  <a:lnTo>
                    <a:pt x="989" y="297"/>
                  </a:lnTo>
                  <a:lnTo>
                    <a:pt x="967" y="302"/>
                  </a:lnTo>
                  <a:lnTo>
                    <a:pt x="949" y="309"/>
                  </a:lnTo>
                  <a:lnTo>
                    <a:pt x="936" y="314"/>
                  </a:lnTo>
                  <a:lnTo>
                    <a:pt x="927" y="317"/>
                  </a:lnTo>
                  <a:lnTo>
                    <a:pt x="914" y="324"/>
                  </a:lnTo>
                  <a:lnTo>
                    <a:pt x="901" y="329"/>
                  </a:lnTo>
                  <a:lnTo>
                    <a:pt x="887" y="337"/>
                  </a:lnTo>
                  <a:lnTo>
                    <a:pt x="872" y="344"/>
                  </a:lnTo>
                  <a:lnTo>
                    <a:pt x="857" y="355"/>
                  </a:lnTo>
                  <a:lnTo>
                    <a:pt x="842" y="369"/>
                  </a:lnTo>
                  <a:lnTo>
                    <a:pt x="826" y="389"/>
                  </a:lnTo>
                  <a:lnTo>
                    <a:pt x="807" y="412"/>
                  </a:lnTo>
                  <a:lnTo>
                    <a:pt x="791" y="437"/>
                  </a:lnTo>
                  <a:lnTo>
                    <a:pt x="776" y="460"/>
                  </a:lnTo>
                  <a:lnTo>
                    <a:pt x="761" y="482"/>
                  </a:lnTo>
                  <a:lnTo>
                    <a:pt x="747" y="502"/>
                  </a:lnTo>
                  <a:lnTo>
                    <a:pt x="737" y="519"/>
                  </a:lnTo>
                  <a:lnTo>
                    <a:pt x="727" y="532"/>
                  </a:lnTo>
                  <a:lnTo>
                    <a:pt x="719" y="542"/>
                  </a:lnTo>
                  <a:lnTo>
                    <a:pt x="712" y="549"/>
                  </a:lnTo>
                  <a:lnTo>
                    <a:pt x="706" y="554"/>
                  </a:lnTo>
                  <a:lnTo>
                    <a:pt x="699" y="559"/>
                  </a:lnTo>
                  <a:lnTo>
                    <a:pt x="689" y="564"/>
                  </a:lnTo>
                  <a:lnTo>
                    <a:pt x="679" y="565"/>
                  </a:lnTo>
                  <a:lnTo>
                    <a:pt x="667" y="567"/>
                  </a:lnTo>
                  <a:lnTo>
                    <a:pt x="657" y="567"/>
                  </a:lnTo>
                  <a:lnTo>
                    <a:pt x="647" y="564"/>
                  </a:lnTo>
                  <a:lnTo>
                    <a:pt x="637" y="559"/>
                  </a:lnTo>
                  <a:lnTo>
                    <a:pt x="629" y="552"/>
                  </a:lnTo>
                  <a:lnTo>
                    <a:pt x="622" y="544"/>
                  </a:lnTo>
                  <a:lnTo>
                    <a:pt x="615" y="535"/>
                  </a:lnTo>
                  <a:lnTo>
                    <a:pt x="609" y="529"/>
                  </a:lnTo>
                  <a:lnTo>
                    <a:pt x="602" y="524"/>
                  </a:lnTo>
                  <a:lnTo>
                    <a:pt x="595" y="520"/>
                  </a:lnTo>
                  <a:lnTo>
                    <a:pt x="589" y="519"/>
                  </a:lnTo>
                  <a:lnTo>
                    <a:pt x="580" y="520"/>
                  </a:lnTo>
                  <a:lnTo>
                    <a:pt x="569" y="524"/>
                  </a:lnTo>
                  <a:lnTo>
                    <a:pt x="554" y="525"/>
                  </a:lnTo>
                  <a:lnTo>
                    <a:pt x="537" y="525"/>
                  </a:lnTo>
                  <a:lnTo>
                    <a:pt x="519" y="525"/>
                  </a:lnTo>
                  <a:lnTo>
                    <a:pt x="499" y="525"/>
                  </a:lnTo>
                  <a:lnTo>
                    <a:pt x="480" y="524"/>
                  </a:lnTo>
                  <a:lnTo>
                    <a:pt x="462" y="522"/>
                  </a:lnTo>
                  <a:lnTo>
                    <a:pt x="447" y="520"/>
                  </a:lnTo>
                  <a:lnTo>
                    <a:pt x="432" y="519"/>
                  </a:lnTo>
                  <a:lnTo>
                    <a:pt x="417" y="515"/>
                  </a:lnTo>
                  <a:lnTo>
                    <a:pt x="404" y="510"/>
                  </a:lnTo>
                  <a:lnTo>
                    <a:pt x="389" y="507"/>
                  </a:lnTo>
                  <a:lnTo>
                    <a:pt x="375" y="504"/>
                  </a:lnTo>
                  <a:lnTo>
                    <a:pt x="364" y="500"/>
                  </a:lnTo>
                  <a:lnTo>
                    <a:pt x="352" y="497"/>
                  </a:lnTo>
                  <a:lnTo>
                    <a:pt x="342" y="497"/>
                  </a:lnTo>
                  <a:lnTo>
                    <a:pt x="329" y="497"/>
                  </a:lnTo>
                  <a:lnTo>
                    <a:pt x="307" y="497"/>
                  </a:lnTo>
                  <a:lnTo>
                    <a:pt x="280" y="499"/>
                  </a:lnTo>
                  <a:lnTo>
                    <a:pt x="250" y="499"/>
                  </a:lnTo>
                  <a:lnTo>
                    <a:pt x="224" y="500"/>
                  </a:lnTo>
                  <a:lnTo>
                    <a:pt x="200" y="502"/>
                  </a:lnTo>
                  <a:lnTo>
                    <a:pt x="184" y="502"/>
                  </a:lnTo>
                  <a:lnTo>
                    <a:pt x="177" y="502"/>
                  </a:lnTo>
                  <a:lnTo>
                    <a:pt x="175" y="504"/>
                  </a:lnTo>
                  <a:lnTo>
                    <a:pt x="170" y="505"/>
                  </a:lnTo>
                  <a:lnTo>
                    <a:pt x="164" y="509"/>
                  </a:lnTo>
                  <a:lnTo>
                    <a:pt x="155" y="510"/>
                  </a:lnTo>
                  <a:lnTo>
                    <a:pt x="144" y="512"/>
                  </a:lnTo>
                  <a:lnTo>
                    <a:pt x="132" y="512"/>
                  </a:lnTo>
                  <a:lnTo>
                    <a:pt x="120" y="509"/>
                  </a:lnTo>
                  <a:lnTo>
                    <a:pt x="107" y="502"/>
                  </a:lnTo>
                  <a:lnTo>
                    <a:pt x="95" y="494"/>
                  </a:lnTo>
                  <a:lnTo>
                    <a:pt x="87" y="485"/>
                  </a:lnTo>
                  <a:lnTo>
                    <a:pt x="80" y="479"/>
                  </a:lnTo>
                  <a:lnTo>
                    <a:pt x="75" y="475"/>
                  </a:lnTo>
                  <a:lnTo>
                    <a:pt x="70" y="472"/>
                  </a:lnTo>
                  <a:lnTo>
                    <a:pt x="65" y="470"/>
                  </a:lnTo>
                  <a:lnTo>
                    <a:pt x="60" y="470"/>
                  </a:lnTo>
                  <a:lnTo>
                    <a:pt x="53" y="474"/>
                  </a:lnTo>
                  <a:lnTo>
                    <a:pt x="47" y="480"/>
                  </a:lnTo>
                  <a:lnTo>
                    <a:pt x="50" y="489"/>
                  </a:lnTo>
                  <a:lnTo>
                    <a:pt x="55" y="500"/>
                  </a:lnTo>
                  <a:lnTo>
                    <a:pt x="53" y="515"/>
                  </a:lnTo>
                  <a:lnTo>
                    <a:pt x="50" y="535"/>
                  </a:lnTo>
                  <a:lnTo>
                    <a:pt x="48" y="557"/>
                  </a:lnTo>
                  <a:lnTo>
                    <a:pt x="50" y="577"/>
                  </a:lnTo>
                  <a:lnTo>
                    <a:pt x="50" y="592"/>
                  </a:lnTo>
                  <a:lnTo>
                    <a:pt x="47" y="606"/>
                  </a:lnTo>
                  <a:lnTo>
                    <a:pt x="40" y="621"/>
                  </a:lnTo>
                  <a:lnTo>
                    <a:pt x="33" y="634"/>
                  </a:lnTo>
                  <a:lnTo>
                    <a:pt x="30" y="639"/>
                  </a:lnTo>
                  <a:lnTo>
                    <a:pt x="0" y="662"/>
                  </a:lnTo>
                  <a:lnTo>
                    <a:pt x="3" y="666"/>
                  </a:lnTo>
                  <a:lnTo>
                    <a:pt x="8" y="669"/>
                  </a:lnTo>
                  <a:lnTo>
                    <a:pt x="13" y="674"/>
                  </a:lnTo>
                  <a:lnTo>
                    <a:pt x="18" y="677"/>
                  </a:lnTo>
                  <a:lnTo>
                    <a:pt x="32" y="684"/>
                  </a:lnTo>
                  <a:lnTo>
                    <a:pt x="43" y="687"/>
                  </a:lnTo>
                  <a:lnTo>
                    <a:pt x="55" y="687"/>
                  </a:lnTo>
                  <a:lnTo>
                    <a:pt x="67" y="686"/>
                  </a:lnTo>
                  <a:lnTo>
                    <a:pt x="77" y="684"/>
                  </a:lnTo>
                  <a:lnTo>
                    <a:pt x="83" y="681"/>
                  </a:lnTo>
                  <a:lnTo>
                    <a:pt x="88" y="679"/>
                  </a:lnTo>
                  <a:lnTo>
                    <a:pt x="90" y="677"/>
                  </a:lnTo>
                  <a:lnTo>
                    <a:pt x="97" y="677"/>
                  </a:lnTo>
                  <a:lnTo>
                    <a:pt x="114" y="677"/>
                  </a:lnTo>
                  <a:lnTo>
                    <a:pt x="137" y="676"/>
                  </a:lnTo>
                  <a:lnTo>
                    <a:pt x="164" y="674"/>
                  </a:lnTo>
                  <a:lnTo>
                    <a:pt x="194" y="674"/>
                  </a:lnTo>
                  <a:lnTo>
                    <a:pt x="220" y="672"/>
                  </a:lnTo>
                  <a:lnTo>
                    <a:pt x="242" y="672"/>
                  </a:lnTo>
                  <a:lnTo>
                    <a:pt x="255" y="672"/>
                  </a:lnTo>
                  <a:lnTo>
                    <a:pt x="265" y="674"/>
                  </a:lnTo>
                  <a:lnTo>
                    <a:pt x="275" y="676"/>
                  </a:lnTo>
                  <a:lnTo>
                    <a:pt x="289" y="679"/>
                  </a:lnTo>
                  <a:lnTo>
                    <a:pt x="302" y="682"/>
                  </a:lnTo>
                  <a:lnTo>
                    <a:pt x="315" y="687"/>
                  </a:lnTo>
                  <a:lnTo>
                    <a:pt x="330" y="691"/>
                  </a:lnTo>
                  <a:lnTo>
                    <a:pt x="344" y="694"/>
                  </a:lnTo>
                  <a:lnTo>
                    <a:pt x="359" y="697"/>
                  </a:lnTo>
                  <a:lnTo>
                    <a:pt x="374" y="699"/>
                  </a:lnTo>
                  <a:lnTo>
                    <a:pt x="392" y="701"/>
                  </a:lnTo>
                  <a:lnTo>
                    <a:pt x="412" y="701"/>
                  </a:lnTo>
                  <a:lnTo>
                    <a:pt x="430" y="702"/>
                  </a:lnTo>
                  <a:lnTo>
                    <a:pt x="450" y="702"/>
                  </a:lnTo>
                  <a:lnTo>
                    <a:pt x="467" y="701"/>
                  </a:lnTo>
                  <a:lnTo>
                    <a:pt x="480" y="701"/>
                  </a:lnTo>
                  <a:lnTo>
                    <a:pt x="492" y="697"/>
                  </a:lnTo>
                  <a:lnTo>
                    <a:pt x="500" y="696"/>
                  </a:lnTo>
                  <a:lnTo>
                    <a:pt x="507" y="696"/>
                  </a:lnTo>
                  <a:lnTo>
                    <a:pt x="514" y="699"/>
                  </a:lnTo>
                  <a:lnTo>
                    <a:pt x="520" y="706"/>
                  </a:lnTo>
                  <a:lnTo>
                    <a:pt x="527" y="712"/>
                  </a:lnTo>
                  <a:lnTo>
                    <a:pt x="534" y="719"/>
                  </a:lnTo>
                  <a:lnTo>
                    <a:pt x="540" y="727"/>
                  </a:lnTo>
                  <a:lnTo>
                    <a:pt x="549" y="734"/>
                  </a:lnTo>
                  <a:lnTo>
                    <a:pt x="559" y="741"/>
                  </a:lnTo>
                  <a:lnTo>
                    <a:pt x="569" y="742"/>
                  </a:lnTo>
                  <a:lnTo>
                    <a:pt x="579" y="744"/>
                  </a:lnTo>
                  <a:lnTo>
                    <a:pt x="590" y="742"/>
                  </a:lnTo>
                  <a:lnTo>
                    <a:pt x="600" y="739"/>
                  </a:lnTo>
                  <a:lnTo>
                    <a:pt x="610" y="736"/>
                  </a:lnTo>
                  <a:lnTo>
                    <a:pt x="619" y="731"/>
                  </a:lnTo>
                  <a:lnTo>
                    <a:pt x="625" y="726"/>
                  </a:lnTo>
                  <a:lnTo>
                    <a:pt x="632" y="719"/>
                  </a:lnTo>
                  <a:lnTo>
                    <a:pt x="639" y="707"/>
                  </a:lnTo>
                  <a:lnTo>
                    <a:pt x="649" y="694"/>
                  </a:lnTo>
                  <a:lnTo>
                    <a:pt x="661" y="677"/>
                  </a:lnTo>
                  <a:lnTo>
                    <a:pt x="672" y="659"/>
                  </a:lnTo>
                  <a:lnTo>
                    <a:pt x="687" y="637"/>
                  </a:lnTo>
                  <a:lnTo>
                    <a:pt x="704" y="614"/>
                  </a:lnTo>
                  <a:lnTo>
                    <a:pt x="721" y="587"/>
                  </a:lnTo>
                  <a:lnTo>
                    <a:pt x="737" y="564"/>
                  </a:lnTo>
                  <a:lnTo>
                    <a:pt x="754" y="544"/>
                  </a:lnTo>
                  <a:lnTo>
                    <a:pt x="769" y="530"/>
                  </a:lnTo>
                  <a:lnTo>
                    <a:pt x="786" y="519"/>
                  </a:lnTo>
                  <a:lnTo>
                    <a:pt x="799" y="512"/>
                  </a:lnTo>
                  <a:lnTo>
                    <a:pt x="812" y="504"/>
                  </a:lnTo>
                  <a:lnTo>
                    <a:pt x="826" y="499"/>
                  </a:lnTo>
                  <a:lnTo>
                    <a:pt x="839" y="492"/>
                  </a:lnTo>
                  <a:lnTo>
                    <a:pt x="847" y="489"/>
                  </a:lnTo>
                  <a:lnTo>
                    <a:pt x="862" y="484"/>
                  </a:lnTo>
                  <a:lnTo>
                    <a:pt x="879" y="479"/>
                  </a:lnTo>
                  <a:lnTo>
                    <a:pt x="901" y="472"/>
                  </a:lnTo>
                  <a:lnTo>
                    <a:pt x="926" y="465"/>
                  </a:lnTo>
                  <a:lnTo>
                    <a:pt x="952" y="459"/>
                  </a:lnTo>
                  <a:lnTo>
                    <a:pt x="981" y="452"/>
                  </a:lnTo>
                  <a:lnTo>
                    <a:pt x="1009" y="444"/>
                  </a:lnTo>
                  <a:lnTo>
                    <a:pt x="1039" y="437"/>
                  </a:lnTo>
                  <a:lnTo>
                    <a:pt x="1069" y="430"/>
                  </a:lnTo>
                  <a:lnTo>
                    <a:pt x="1097" y="424"/>
                  </a:lnTo>
                  <a:lnTo>
                    <a:pt x="1126" y="417"/>
                  </a:lnTo>
                  <a:lnTo>
                    <a:pt x="1151" y="410"/>
                  </a:lnTo>
                  <a:lnTo>
                    <a:pt x="1174" y="405"/>
                  </a:lnTo>
                  <a:lnTo>
                    <a:pt x="1194" y="400"/>
                  </a:lnTo>
                  <a:lnTo>
                    <a:pt x="1209" y="397"/>
                  </a:lnTo>
                  <a:lnTo>
                    <a:pt x="1236" y="390"/>
                  </a:lnTo>
                  <a:lnTo>
                    <a:pt x="1263" y="385"/>
                  </a:lnTo>
                  <a:lnTo>
                    <a:pt x="1289" y="382"/>
                  </a:lnTo>
                  <a:lnTo>
                    <a:pt x="1313" y="379"/>
                  </a:lnTo>
                  <a:lnTo>
                    <a:pt x="1336" y="375"/>
                  </a:lnTo>
                  <a:lnTo>
                    <a:pt x="1354" y="370"/>
                  </a:lnTo>
                  <a:lnTo>
                    <a:pt x="1371" y="365"/>
                  </a:lnTo>
                  <a:lnTo>
                    <a:pt x="1384" y="359"/>
                  </a:lnTo>
                  <a:lnTo>
                    <a:pt x="1394" y="354"/>
                  </a:lnTo>
                  <a:lnTo>
                    <a:pt x="1411" y="345"/>
                  </a:lnTo>
                  <a:lnTo>
                    <a:pt x="1434" y="334"/>
                  </a:lnTo>
                  <a:lnTo>
                    <a:pt x="1463" y="320"/>
                  </a:lnTo>
                  <a:lnTo>
                    <a:pt x="1496" y="307"/>
                  </a:lnTo>
                  <a:lnTo>
                    <a:pt x="1533" y="290"/>
                  </a:lnTo>
                  <a:lnTo>
                    <a:pt x="1571" y="274"/>
                  </a:lnTo>
                  <a:lnTo>
                    <a:pt x="1611" y="255"/>
                  </a:lnTo>
                  <a:lnTo>
                    <a:pt x="1649" y="239"/>
                  </a:lnTo>
                  <a:lnTo>
                    <a:pt x="1688" y="222"/>
                  </a:lnTo>
                  <a:lnTo>
                    <a:pt x="1723" y="207"/>
                  </a:lnTo>
                  <a:lnTo>
                    <a:pt x="1756" y="192"/>
                  </a:lnTo>
                  <a:lnTo>
                    <a:pt x="1783" y="180"/>
                  </a:lnTo>
                  <a:lnTo>
                    <a:pt x="1805" y="170"/>
                  </a:lnTo>
                  <a:lnTo>
                    <a:pt x="1820" y="164"/>
                  </a:lnTo>
                  <a:lnTo>
                    <a:pt x="1826" y="160"/>
                  </a:lnTo>
                  <a:lnTo>
                    <a:pt x="1836" y="152"/>
                  </a:lnTo>
                  <a:lnTo>
                    <a:pt x="1841" y="142"/>
                  </a:lnTo>
                  <a:lnTo>
                    <a:pt x="1845" y="130"/>
                  </a:lnTo>
                  <a:lnTo>
                    <a:pt x="1846" y="117"/>
                  </a:lnTo>
                  <a:lnTo>
                    <a:pt x="1848" y="100"/>
                  </a:lnTo>
                  <a:lnTo>
                    <a:pt x="1851" y="78"/>
                  </a:lnTo>
                  <a:lnTo>
                    <a:pt x="1858" y="57"/>
                  </a:lnTo>
                  <a:lnTo>
                    <a:pt x="1865" y="37"/>
                  </a:lnTo>
                  <a:lnTo>
                    <a:pt x="1868" y="27"/>
                  </a:lnTo>
                  <a:lnTo>
                    <a:pt x="1873" y="18"/>
                  </a:lnTo>
                  <a:lnTo>
                    <a:pt x="1876" y="8"/>
                  </a:lnTo>
                  <a:lnTo>
                    <a:pt x="1881" y="0"/>
                  </a:lnTo>
                  <a:lnTo>
                    <a:pt x="1861" y="10"/>
                  </a:lnTo>
                  <a:lnTo>
                    <a:pt x="1836" y="20"/>
                  </a:lnTo>
                  <a:lnTo>
                    <a:pt x="1808" y="32"/>
                  </a:lnTo>
                  <a:lnTo>
                    <a:pt x="1778" y="45"/>
                  </a:lnTo>
                  <a:lnTo>
                    <a:pt x="1746" y="58"/>
                  </a:lnTo>
                  <a:lnTo>
                    <a:pt x="1714" y="73"/>
                  </a:lnTo>
                  <a:lnTo>
                    <a:pt x="1681" y="88"/>
                  </a:lnTo>
                  <a:lnTo>
                    <a:pt x="1648" y="102"/>
                  </a:lnTo>
                  <a:lnTo>
                    <a:pt x="1616" y="117"/>
                  </a:lnTo>
                  <a:lnTo>
                    <a:pt x="1586" y="130"/>
                  </a:lnTo>
                  <a:lnTo>
                    <a:pt x="1558" y="142"/>
                  </a:lnTo>
                  <a:lnTo>
                    <a:pt x="1533" y="154"/>
                  </a:lnTo>
                  <a:lnTo>
                    <a:pt x="1511" y="164"/>
                  </a:lnTo>
                  <a:lnTo>
                    <a:pt x="1493" y="174"/>
                  </a:lnTo>
                  <a:lnTo>
                    <a:pt x="1479" y="179"/>
                  </a:lnTo>
                  <a:lnTo>
                    <a:pt x="1473" y="184"/>
                  </a:lnTo>
                  <a:lnTo>
                    <a:pt x="1459" y="190"/>
                  </a:lnTo>
                  <a:lnTo>
                    <a:pt x="1443" y="195"/>
                  </a:lnTo>
                  <a:lnTo>
                    <a:pt x="1423" y="199"/>
                  </a:lnTo>
                  <a:lnTo>
                    <a:pt x="1401" y="202"/>
                  </a:lnTo>
                  <a:lnTo>
                    <a:pt x="1376" y="205"/>
                  </a:lnTo>
                  <a:lnTo>
                    <a:pt x="1351" y="210"/>
                  </a:lnTo>
                  <a:lnTo>
                    <a:pt x="1324" y="215"/>
                  </a:lnTo>
                  <a:lnTo>
                    <a:pt x="1298" y="222"/>
                  </a:lnTo>
                  <a:close/>
                </a:path>
              </a:pathLst>
            </a:custGeom>
            <a:solidFill>
              <a:srgbClr val="ffffff">
                <a:alpha val="20000"/>
              </a:srgbClr>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41" name=""/>
            <p:cNvSpPr/>
            <p:nvPr/>
          </p:nvSpPr>
          <p:spPr>
            <a:xfrm>
              <a:off x="2813040" y="1346040"/>
              <a:ext cx="4348080" cy="3579840"/>
            </a:xfrm>
            <a:custGeom>
              <a:avLst/>
              <a:gdLst/>
              <a:ahLst/>
              <a:rect l="l" t="t" r="r" b="b"/>
              <a:pathLst>
                <a:path w="3185" h="2678">
                  <a:moveTo>
                    <a:pt x="380" y="90"/>
                  </a:moveTo>
                  <a:lnTo>
                    <a:pt x="683" y="28"/>
                  </a:lnTo>
                  <a:lnTo>
                    <a:pt x="693" y="0"/>
                  </a:lnTo>
                  <a:lnTo>
                    <a:pt x="695" y="0"/>
                  </a:lnTo>
                  <a:lnTo>
                    <a:pt x="698" y="0"/>
                  </a:lnTo>
                  <a:lnTo>
                    <a:pt x="704" y="0"/>
                  </a:lnTo>
                  <a:lnTo>
                    <a:pt x="712" y="0"/>
                  </a:lnTo>
                  <a:lnTo>
                    <a:pt x="720" y="0"/>
                  </a:lnTo>
                  <a:lnTo>
                    <a:pt x="734" y="2"/>
                  </a:lnTo>
                  <a:lnTo>
                    <a:pt x="747" y="5"/>
                  </a:lnTo>
                  <a:lnTo>
                    <a:pt x="764" y="10"/>
                  </a:lnTo>
                  <a:lnTo>
                    <a:pt x="782" y="15"/>
                  </a:lnTo>
                  <a:lnTo>
                    <a:pt x="799" y="20"/>
                  </a:lnTo>
                  <a:lnTo>
                    <a:pt x="817" y="23"/>
                  </a:lnTo>
                  <a:lnTo>
                    <a:pt x="832" y="28"/>
                  </a:lnTo>
                  <a:lnTo>
                    <a:pt x="847" y="32"/>
                  </a:lnTo>
                  <a:lnTo>
                    <a:pt x="862" y="35"/>
                  </a:lnTo>
                  <a:lnTo>
                    <a:pt x="874" y="40"/>
                  </a:lnTo>
                  <a:lnTo>
                    <a:pt x="884" y="43"/>
                  </a:lnTo>
                  <a:lnTo>
                    <a:pt x="894" y="48"/>
                  </a:lnTo>
                  <a:lnTo>
                    <a:pt x="907" y="57"/>
                  </a:lnTo>
                  <a:lnTo>
                    <a:pt x="924" y="68"/>
                  </a:lnTo>
                  <a:lnTo>
                    <a:pt x="942" y="82"/>
                  </a:lnTo>
                  <a:lnTo>
                    <a:pt x="962" y="97"/>
                  </a:lnTo>
                  <a:lnTo>
                    <a:pt x="985" y="112"/>
                  </a:lnTo>
                  <a:lnTo>
                    <a:pt x="1009" y="127"/>
                  </a:lnTo>
                  <a:lnTo>
                    <a:pt x="1035" y="142"/>
                  </a:lnTo>
                  <a:lnTo>
                    <a:pt x="1060" y="155"/>
                  </a:lnTo>
                  <a:lnTo>
                    <a:pt x="1080" y="168"/>
                  </a:lnTo>
                  <a:lnTo>
                    <a:pt x="1099" y="180"/>
                  </a:lnTo>
                  <a:lnTo>
                    <a:pt x="1114" y="190"/>
                  </a:lnTo>
                  <a:lnTo>
                    <a:pt x="1124" y="197"/>
                  </a:lnTo>
                  <a:lnTo>
                    <a:pt x="1132" y="203"/>
                  </a:lnTo>
                  <a:lnTo>
                    <a:pt x="1137" y="207"/>
                  </a:lnTo>
                  <a:lnTo>
                    <a:pt x="1139" y="208"/>
                  </a:lnTo>
                  <a:lnTo>
                    <a:pt x="1142" y="210"/>
                  </a:lnTo>
                  <a:lnTo>
                    <a:pt x="1150" y="215"/>
                  </a:lnTo>
                  <a:lnTo>
                    <a:pt x="1162" y="223"/>
                  </a:lnTo>
                  <a:lnTo>
                    <a:pt x="1177" y="233"/>
                  </a:lnTo>
                  <a:lnTo>
                    <a:pt x="1192" y="243"/>
                  </a:lnTo>
                  <a:lnTo>
                    <a:pt x="1205" y="255"/>
                  </a:lnTo>
                  <a:lnTo>
                    <a:pt x="1217" y="265"/>
                  </a:lnTo>
                  <a:lnTo>
                    <a:pt x="1225" y="275"/>
                  </a:lnTo>
                  <a:lnTo>
                    <a:pt x="1234" y="285"/>
                  </a:lnTo>
                  <a:lnTo>
                    <a:pt x="1245" y="297"/>
                  </a:lnTo>
                  <a:lnTo>
                    <a:pt x="1259" y="310"/>
                  </a:lnTo>
                  <a:lnTo>
                    <a:pt x="1276" y="325"/>
                  </a:lnTo>
                  <a:lnTo>
                    <a:pt x="1292" y="340"/>
                  </a:lnTo>
                  <a:lnTo>
                    <a:pt x="1309" y="354"/>
                  </a:lnTo>
                  <a:lnTo>
                    <a:pt x="1324" y="365"/>
                  </a:lnTo>
                  <a:lnTo>
                    <a:pt x="1334" y="375"/>
                  </a:lnTo>
                  <a:lnTo>
                    <a:pt x="1346" y="385"/>
                  </a:lnTo>
                  <a:lnTo>
                    <a:pt x="1362" y="397"/>
                  </a:lnTo>
                  <a:lnTo>
                    <a:pt x="1381" y="410"/>
                  </a:lnTo>
                  <a:lnTo>
                    <a:pt x="1401" y="424"/>
                  </a:lnTo>
                  <a:lnTo>
                    <a:pt x="1421" y="437"/>
                  </a:lnTo>
                  <a:lnTo>
                    <a:pt x="1436" y="445"/>
                  </a:lnTo>
                  <a:lnTo>
                    <a:pt x="1447" y="454"/>
                  </a:lnTo>
                  <a:lnTo>
                    <a:pt x="1451" y="455"/>
                  </a:lnTo>
                  <a:lnTo>
                    <a:pt x="1489" y="509"/>
                  </a:lnTo>
                  <a:lnTo>
                    <a:pt x="1497" y="509"/>
                  </a:lnTo>
                  <a:lnTo>
                    <a:pt x="1517" y="509"/>
                  </a:lnTo>
                  <a:lnTo>
                    <a:pt x="1546" y="509"/>
                  </a:lnTo>
                  <a:lnTo>
                    <a:pt x="1581" y="509"/>
                  </a:lnTo>
                  <a:lnTo>
                    <a:pt x="1617" y="510"/>
                  </a:lnTo>
                  <a:lnTo>
                    <a:pt x="1651" y="514"/>
                  </a:lnTo>
                  <a:lnTo>
                    <a:pt x="1677" y="520"/>
                  </a:lnTo>
                  <a:lnTo>
                    <a:pt x="1694" y="527"/>
                  </a:lnTo>
                  <a:lnTo>
                    <a:pt x="1696" y="527"/>
                  </a:lnTo>
                  <a:lnTo>
                    <a:pt x="1702" y="525"/>
                  </a:lnTo>
                  <a:lnTo>
                    <a:pt x="1712" y="522"/>
                  </a:lnTo>
                  <a:lnTo>
                    <a:pt x="1722" y="520"/>
                  </a:lnTo>
                  <a:lnTo>
                    <a:pt x="1736" y="519"/>
                  </a:lnTo>
                  <a:lnTo>
                    <a:pt x="1747" y="515"/>
                  </a:lnTo>
                  <a:lnTo>
                    <a:pt x="1759" y="514"/>
                  </a:lnTo>
                  <a:lnTo>
                    <a:pt x="1769" y="514"/>
                  </a:lnTo>
                  <a:lnTo>
                    <a:pt x="1782" y="515"/>
                  </a:lnTo>
                  <a:lnTo>
                    <a:pt x="1801" y="519"/>
                  </a:lnTo>
                  <a:lnTo>
                    <a:pt x="1823" y="522"/>
                  </a:lnTo>
                  <a:lnTo>
                    <a:pt x="1848" y="527"/>
                  </a:lnTo>
                  <a:lnTo>
                    <a:pt x="1869" y="534"/>
                  </a:lnTo>
                  <a:lnTo>
                    <a:pt x="1889" y="537"/>
                  </a:lnTo>
                  <a:lnTo>
                    <a:pt x="1903" y="540"/>
                  </a:lnTo>
                  <a:lnTo>
                    <a:pt x="1908" y="542"/>
                  </a:lnTo>
                  <a:lnTo>
                    <a:pt x="1926" y="604"/>
                  </a:lnTo>
                  <a:lnTo>
                    <a:pt x="2044" y="604"/>
                  </a:lnTo>
                  <a:lnTo>
                    <a:pt x="2064" y="689"/>
                  </a:lnTo>
                  <a:lnTo>
                    <a:pt x="2071" y="692"/>
                  </a:lnTo>
                  <a:lnTo>
                    <a:pt x="2083" y="704"/>
                  </a:lnTo>
                  <a:lnTo>
                    <a:pt x="2093" y="722"/>
                  </a:lnTo>
                  <a:lnTo>
                    <a:pt x="2093" y="746"/>
                  </a:lnTo>
                  <a:lnTo>
                    <a:pt x="2116" y="784"/>
                  </a:lnTo>
                  <a:lnTo>
                    <a:pt x="2154" y="769"/>
                  </a:lnTo>
                  <a:lnTo>
                    <a:pt x="2158" y="774"/>
                  </a:lnTo>
                  <a:lnTo>
                    <a:pt x="2164" y="786"/>
                  </a:lnTo>
                  <a:lnTo>
                    <a:pt x="2169" y="801"/>
                  </a:lnTo>
                  <a:lnTo>
                    <a:pt x="2173" y="812"/>
                  </a:lnTo>
                  <a:lnTo>
                    <a:pt x="2176" y="824"/>
                  </a:lnTo>
                  <a:lnTo>
                    <a:pt x="2183" y="834"/>
                  </a:lnTo>
                  <a:lnTo>
                    <a:pt x="2189" y="842"/>
                  </a:lnTo>
                  <a:lnTo>
                    <a:pt x="2193" y="846"/>
                  </a:lnTo>
                  <a:lnTo>
                    <a:pt x="2201" y="822"/>
                  </a:lnTo>
                  <a:lnTo>
                    <a:pt x="2226" y="869"/>
                  </a:lnTo>
                  <a:lnTo>
                    <a:pt x="2228" y="869"/>
                  </a:lnTo>
                  <a:lnTo>
                    <a:pt x="2234" y="871"/>
                  </a:lnTo>
                  <a:lnTo>
                    <a:pt x="2244" y="874"/>
                  </a:lnTo>
                  <a:lnTo>
                    <a:pt x="2254" y="877"/>
                  </a:lnTo>
                  <a:lnTo>
                    <a:pt x="2266" y="882"/>
                  </a:lnTo>
                  <a:lnTo>
                    <a:pt x="2276" y="887"/>
                  </a:lnTo>
                  <a:lnTo>
                    <a:pt x="2284" y="894"/>
                  </a:lnTo>
                  <a:lnTo>
                    <a:pt x="2288" y="902"/>
                  </a:lnTo>
                  <a:lnTo>
                    <a:pt x="2289" y="921"/>
                  </a:lnTo>
                  <a:lnTo>
                    <a:pt x="2293" y="937"/>
                  </a:lnTo>
                  <a:lnTo>
                    <a:pt x="2296" y="952"/>
                  </a:lnTo>
                  <a:lnTo>
                    <a:pt x="2306" y="964"/>
                  </a:lnTo>
                  <a:lnTo>
                    <a:pt x="2316" y="979"/>
                  </a:lnTo>
                  <a:lnTo>
                    <a:pt x="2321" y="996"/>
                  </a:lnTo>
                  <a:lnTo>
                    <a:pt x="2318" y="1011"/>
                  </a:lnTo>
                  <a:lnTo>
                    <a:pt x="2311" y="1017"/>
                  </a:lnTo>
                  <a:lnTo>
                    <a:pt x="2303" y="1019"/>
                  </a:lnTo>
                  <a:lnTo>
                    <a:pt x="2299" y="1024"/>
                  </a:lnTo>
                  <a:lnTo>
                    <a:pt x="2301" y="1032"/>
                  </a:lnTo>
                  <a:lnTo>
                    <a:pt x="2306" y="1046"/>
                  </a:lnTo>
                  <a:lnTo>
                    <a:pt x="2313" y="1061"/>
                  </a:lnTo>
                  <a:lnTo>
                    <a:pt x="2319" y="1076"/>
                  </a:lnTo>
                  <a:lnTo>
                    <a:pt x="2324" y="1092"/>
                  </a:lnTo>
                  <a:lnTo>
                    <a:pt x="2329" y="1107"/>
                  </a:lnTo>
                  <a:lnTo>
                    <a:pt x="2336" y="1117"/>
                  </a:lnTo>
                  <a:lnTo>
                    <a:pt x="2344" y="1121"/>
                  </a:lnTo>
                  <a:lnTo>
                    <a:pt x="2351" y="1121"/>
                  </a:lnTo>
                  <a:lnTo>
                    <a:pt x="2354" y="1121"/>
                  </a:lnTo>
                  <a:lnTo>
                    <a:pt x="2356" y="1129"/>
                  </a:lnTo>
                  <a:lnTo>
                    <a:pt x="2365" y="1149"/>
                  </a:lnTo>
                  <a:lnTo>
                    <a:pt x="2375" y="1174"/>
                  </a:lnTo>
                  <a:lnTo>
                    <a:pt x="2388" y="1192"/>
                  </a:lnTo>
                  <a:lnTo>
                    <a:pt x="2395" y="1201"/>
                  </a:lnTo>
                  <a:lnTo>
                    <a:pt x="2400" y="1209"/>
                  </a:lnTo>
                  <a:lnTo>
                    <a:pt x="2405" y="1217"/>
                  </a:lnTo>
                  <a:lnTo>
                    <a:pt x="2411" y="1227"/>
                  </a:lnTo>
                  <a:lnTo>
                    <a:pt x="2416" y="1236"/>
                  </a:lnTo>
                  <a:lnTo>
                    <a:pt x="2425" y="1244"/>
                  </a:lnTo>
                  <a:lnTo>
                    <a:pt x="2433" y="1253"/>
                  </a:lnTo>
                  <a:lnTo>
                    <a:pt x="2445" y="1259"/>
                  </a:lnTo>
                  <a:lnTo>
                    <a:pt x="2456" y="1263"/>
                  </a:lnTo>
                  <a:lnTo>
                    <a:pt x="2468" y="1263"/>
                  </a:lnTo>
                  <a:lnTo>
                    <a:pt x="2478" y="1263"/>
                  </a:lnTo>
                  <a:lnTo>
                    <a:pt x="2486" y="1259"/>
                  </a:lnTo>
                  <a:lnTo>
                    <a:pt x="2493" y="1256"/>
                  </a:lnTo>
                  <a:lnTo>
                    <a:pt x="2498" y="1253"/>
                  </a:lnTo>
                  <a:lnTo>
                    <a:pt x="2500" y="1251"/>
                  </a:lnTo>
                  <a:lnTo>
                    <a:pt x="2501" y="1249"/>
                  </a:lnTo>
                  <a:lnTo>
                    <a:pt x="2520" y="1259"/>
                  </a:lnTo>
                  <a:lnTo>
                    <a:pt x="2501" y="1293"/>
                  </a:lnTo>
                  <a:lnTo>
                    <a:pt x="2501" y="1294"/>
                  </a:lnTo>
                  <a:lnTo>
                    <a:pt x="2501" y="1299"/>
                  </a:lnTo>
                  <a:lnTo>
                    <a:pt x="2503" y="1304"/>
                  </a:lnTo>
                  <a:lnTo>
                    <a:pt x="2511" y="1306"/>
                  </a:lnTo>
                  <a:lnTo>
                    <a:pt x="2521" y="1314"/>
                  </a:lnTo>
                  <a:lnTo>
                    <a:pt x="2531" y="1329"/>
                  </a:lnTo>
                  <a:lnTo>
                    <a:pt x="2536" y="1346"/>
                  </a:lnTo>
                  <a:lnTo>
                    <a:pt x="2540" y="1354"/>
                  </a:lnTo>
                  <a:lnTo>
                    <a:pt x="2541" y="1356"/>
                  </a:lnTo>
                  <a:lnTo>
                    <a:pt x="2546" y="1361"/>
                  </a:lnTo>
                  <a:lnTo>
                    <a:pt x="2553" y="1368"/>
                  </a:lnTo>
                  <a:lnTo>
                    <a:pt x="2561" y="1378"/>
                  </a:lnTo>
                  <a:lnTo>
                    <a:pt x="2571" y="1388"/>
                  </a:lnTo>
                  <a:lnTo>
                    <a:pt x="2583" y="1401"/>
                  </a:lnTo>
                  <a:lnTo>
                    <a:pt x="2595" y="1414"/>
                  </a:lnTo>
                  <a:lnTo>
                    <a:pt x="2606" y="1428"/>
                  </a:lnTo>
                  <a:lnTo>
                    <a:pt x="2618" y="1443"/>
                  </a:lnTo>
                  <a:lnTo>
                    <a:pt x="2631" y="1458"/>
                  </a:lnTo>
                  <a:lnTo>
                    <a:pt x="2645" y="1473"/>
                  </a:lnTo>
                  <a:lnTo>
                    <a:pt x="2658" y="1488"/>
                  </a:lnTo>
                  <a:lnTo>
                    <a:pt x="2670" y="1501"/>
                  </a:lnTo>
                  <a:lnTo>
                    <a:pt x="2680" y="1511"/>
                  </a:lnTo>
                  <a:lnTo>
                    <a:pt x="2688" y="1521"/>
                  </a:lnTo>
                  <a:lnTo>
                    <a:pt x="2691" y="1528"/>
                  </a:lnTo>
                  <a:lnTo>
                    <a:pt x="2701" y="1533"/>
                  </a:lnTo>
                  <a:lnTo>
                    <a:pt x="2723" y="1538"/>
                  </a:lnTo>
                  <a:lnTo>
                    <a:pt x="2753" y="1543"/>
                  </a:lnTo>
                  <a:lnTo>
                    <a:pt x="2790" y="1546"/>
                  </a:lnTo>
                  <a:lnTo>
                    <a:pt x="2828" y="1549"/>
                  </a:lnTo>
                  <a:lnTo>
                    <a:pt x="2863" y="1551"/>
                  </a:lnTo>
                  <a:lnTo>
                    <a:pt x="2891" y="1554"/>
                  </a:lnTo>
                  <a:lnTo>
                    <a:pt x="2910" y="1556"/>
                  </a:lnTo>
                  <a:lnTo>
                    <a:pt x="2925" y="1558"/>
                  </a:lnTo>
                  <a:lnTo>
                    <a:pt x="2945" y="1559"/>
                  </a:lnTo>
                  <a:lnTo>
                    <a:pt x="2968" y="1561"/>
                  </a:lnTo>
                  <a:lnTo>
                    <a:pt x="2992" y="1563"/>
                  </a:lnTo>
                  <a:lnTo>
                    <a:pt x="3013" y="1566"/>
                  </a:lnTo>
                  <a:lnTo>
                    <a:pt x="3033" y="1568"/>
                  </a:lnTo>
                  <a:lnTo>
                    <a:pt x="3048" y="1569"/>
                  </a:lnTo>
                  <a:lnTo>
                    <a:pt x="3057" y="1571"/>
                  </a:lnTo>
                  <a:lnTo>
                    <a:pt x="3070" y="1569"/>
                  </a:lnTo>
                  <a:lnTo>
                    <a:pt x="3083" y="1563"/>
                  </a:lnTo>
                  <a:lnTo>
                    <a:pt x="3095" y="1554"/>
                  </a:lnTo>
                  <a:lnTo>
                    <a:pt x="3100" y="1551"/>
                  </a:lnTo>
                  <a:lnTo>
                    <a:pt x="3102" y="1553"/>
                  </a:lnTo>
                  <a:lnTo>
                    <a:pt x="3105" y="1556"/>
                  </a:lnTo>
                  <a:lnTo>
                    <a:pt x="3112" y="1561"/>
                  </a:lnTo>
                  <a:lnTo>
                    <a:pt x="3120" y="1568"/>
                  </a:lnTo>
                  <a:lnTo>
                    <a:pt x="3130" y="1576"/>
                  </a:lnTo>
                  <a:lnTo>
                    <a:pt x="3140" y="1586"/>
                  </a:lnTo>
                  <a:lnTo>
                    <a:pt x="3152" y="1598"/>
                  </a:lnTo>
                  <a:lnTo>
                    <a:pt x="3162" y="1609"/>
                  </a:lnTo>
                  <a:lnTo>
                    <a:pt x="3172" y="1624"/>
                  </a:lnTo>
                  <a:lnTo>
                    <a:pt x="3180" y="1638"/>
                  </a:lnTo>
                  <a:lnTo>
                    <a:pt x="3183" y="1653"/>
                  </a:lnTo>
                  <a:lnTo>
                    <a:pt x="3185" y="1668"/>
                  </a:lnTo>
                  <a:lnTo>
                    <a:pt x="3185" y="1678"/>
                  </a:lnTo>
                  <a:lnTo>
                    <a:pt x="3183" y="1688"/>
                  </a:lnTo>
                  <a:lnTo>
                    <a:pt x="3180" y="1696"/>
                  </a:lnTo>
                  <a:lnTo>
                    <a:pt x="3175" y="1704"/>
                  </a:lnTo>
                  <a:lnTo>
                    <a:pt x="3168" y="1724"/>
                  </a:lnTo>
                  <a:lnTo>
                    <a:pt x="3168" y="1748"/>
                  </a:lnTo>
                  <a:lnTo>
                    <a:pt x="3168" y="1771"/>
                  </a:lnTo>
                  <a:lnTo>
                    <a:pt x="3167" y="1795"/>
                  </a:lnTo>
                  <a:lnTo>
                    <a:pt x="3162" y="1815"/>
                  </a:lnTo>
                  <a:lnTo>
                    <a:pt x="3153" y="1835"/>
                  </a:lnTo>
                  <a:lnTo>
                    <a:pt x="3145" y="1851"/>
                  </a:lnTo>
                  <a:lnTo>
                    <a:pt x="3138" y="1870"/>
                  </a:lnTo>
                  <a:lnTo>
                    <a:pt x="3132" y="1890"/>
                  </a:lnTo>
                  <a:lnTo>
                    <a:pt x="3125" y="1913"/>
                  </a:lnTo>
                  <a:lnTo>
                    <a:pt x="3120" y="1933"/>
                  </a:lnTo>
                  <a:lnTo>
                    <a:pt x="3118" y="1951"/>
                  </a:lnTo>
                  <a:lnTo>
                    <a:pt x="3117" y="1965"/>
                  </a:lnTo>
                  <a:lnTo>
                    <a:pt x="3115" y="1976"/>
                  </a:lnTo>
                  <a:lnTo>
                    <a:pt x="3108" y="1986"/>
                  </a:lnTo>
                  <a:lnTo>
                    <a:pt x="3100" y="1993"/>
                  </a:lnTo>
                  <a:lnTo>
                    <a:pt x="3093" y="1996"/>
                  </a:lnTo>
                  <a:lnTo>
                    <a:pt x="3078" y="2003"/>
                  </a:lnTo>
                  <a:lnTo>
                    <a:pt x="3057" y="2013"/>
                  </a:lnTo>
                  <a:lnTo>
                    <a:pt x="3028" y="2026"/>
                  </a:lnTo>
                  <a:lnTo>
                    <a:pt x="2997" y="2040"/>
                  </a:lnTo>
                  <a:lnTo>
                    <a:pt x="2962" y="2056"/>
                  </a:lnTo>
                  <a:lnTo>
                    <a:pt x="2923" y="2073"/>
                  </a:lnTo>
                  <a:lnTo>
                    <a:pt x="2885" y="2090"/>
                  </a:lnTo>
                  <a:lnTo>
                    <a:pt x="2845" y="2108"/>
                  </a:lnTo>
                  <a:lnTo>
                    <a:pt x="2806" y="2125"/>
                  </a:lnTo>
                  <a:lnTo>
                    <a:pt x="2770" y="2141"/>
                  </a:lnTo>
                  <a:lnTo>
                    <a:pt x="2736" y="2155"/>
                  </a:lnTo>
                  <a:lnTo>
                    <a:pt x="2708" y="2168"/>
                  </a:lnTo>
                  <a:lnTo>
                    <a:pt x="2685" y="2180"/>
                  </a:lnTo>
                  <a:lnTo>
                    <a:pt x="2668" y="2188"/>
                  </a:lnTo>
                  <a:lnTo>
                    <a:pt x="2658" y="2193"/>
                  </a:lnTo>
                  <a:lnTo>
                    <a:pt x="2645" y="2200"/>
                  </a:lnTo>
                  <a:lnTo>
                    <a:pt x="2628" y="2205"/>
                  </a:lnTo>
                  <a:lnTo>
                    <a:pt x="2608" y="2208"/>
                  </a:lnTo>
                  <a:lnTo>
                    <a:pt x="2586" y="2211"/>
                  </a:lnTo>
                  <a:lnTo>
                    <a:pt x="2561" y="2215"/>
                  </a:lnTo>
                  <a:lnTo>
                    <a:pt x="2535" y="2220"/>
                  </a:lnTo>
                  <a:lnTo>
                    <a:pt x="2508" y="2225"/>
                  </a:lnTo>
                  <a:lnTo>
                    <a:pt x="2481" y="2231"/>
                  </a:lnTo>
                  <a:lnTo>
                    <a:pt x="2466" y="2235"/>
                  </a:lnTo>
                  <a:lnTo>
                    <a:pt x="2446" y="2240"/>
                  </a:lnTo>
                  <a:lnTo>
                    <a:pt x="2425" y="2245"/>
                  </a:lnTo>
                  <a:lnTo>
                    <a:pt x="2398" y="2252"/>
                  </a:lnTo>
                  <a:lnTo>
                    <a:pt x="2371" y="2258"/>
                  </a:lnTo>
                  <a:lnTo>
                    <a:pt x="2343" y="2265"/>
                  </a:lnTo>
                  <a:lnTo>
                    <a:pt x="2313" y="2272"/>
                  </a:lnTo>
                  <a:lnTo>
                    <a:pt x="2283" y="2278"/>
                  </a:lnTo>
                  <a:lnTo>
                    <a:pt x="2253" y="2285"/>
                  </a:lnTo>
                  <a:lnTo>
                    <a:pt x="2224" y="2293"/>
                  </a:lnTo>
                  <a:lnTo>
                    <a:pt x="2198" y="2300"/>
                  </a:lnTo>
                  <a:lnTo>
                    <a:pt x="2173" y="2307"/>
                  </a:lnTo>
                  <a:lnTo>
                    <a:pt x="2151" y="2312"/>
                  </a:lnTo>
                  <a:lnTo>
                    <a:pt x="2134" y="2318"/>
                  </a:lnTo>
                  <a:lnTo>
                    <a:pt x="2119" y="2323"/>
                  </a:lnTo>
                  <a:lnTo>
                    <a:pt x="2111" y="2327"/>
                  </a:lnTo>
                  <a:lnTo>
                    <a:pt x="2098" y="2333"/>
                  </a:lnTo>
                  <a:lnTo>
                    <a:pt x="2086" y="2338"/>
                  </a:lnTo>
                  <a:lnTo>
                    <a:pt x="2071" y="2347"/>
                  </a:lnTo>
                  <a:lnTo>
                    <a:pt x="2058" y="2353"/>
                  </a:lnTo>
                  <a:lnTo>
                    <a:pt x="2043" y="2365"/>
                  </a:lnTo>
                  <a:lnTo>
                    <a:pt x="2028" y="2378"/>
                  </a:lnTo>
                  <a:lnTo>
                    <a:pt x="2011" y="2398"/>
                  </a:lnTo>
                  <a:lnTo>
                    <a:pt x="1993" y="2422"/>
                  </a:lnTo>
                  <a:lnTo>
                    <a:pt x="1976" y="2447"/>
                  </a:lnTo>
                  <a:lnTo>
                    <a:pt x="1961" y="2470"/>
                  </a:lnTo>
                  <a:lnTo>
                    <a:pt x="1946" y="2492"/>
                  </a:lnTo>
                  <a:lnTo>
                    <a:pt x="1933" y="2512"/>
                  </a:lnTo>
                  <a:lnTo>
                    <a:pt x="1923" y="2528"/>
                  </a:lnTo>
                  <a:lnTo>
                    <a:pt x="1913" y="2542"/>
                  </a:lnTo>
                  <a:lnTo>
                    <a:pt x="1904" y="2552"/>
                  </a:lnTo>
                  <a:lnTo>
                    <a:pt x="1898" y="2558"/>
                  </a:lnTo>
                  <a:lnTo>
                    <a:pt x="1891" y="2563"/>
                  </a:lnTo>
                  <a:lnTo>
                    <a:pt x="1884" y="2568"/>
                  </a:lnTo>
                  <a:lnTo>
                    <a:pt x="1874" y="2573"/>
                  </a:lnTo>
                  <a:lnTo>
                    <a:pt x="1864" y="2575"/>
                  </a:lnTo>
                  <a:lnTo>
                    <a:pt x="1853" y="2577"/>
                  </a:lnTo>
                  <a:lnTo>
                    <a:pt x="1843" y="2577"/>
                  </a:lnTo>
                  <a:lnTo>
                    <a:pt x="1833" y="2573"/>
                  </a:lnTo>
                  <a:lnTo>
                    <a:pt x="1823" y="2568"/>
                  </a:lnTo>
                  <a:lnTo>
                    <a:pt x="1814" y="2562"/>
                  </a:lnTo>
                  <a:lnTo>
                    <a:pt x="1806" y="2553"/>
                  </a:lnTo>
                  <a:lnTo>
                    <a:pt x="1799" y="2547"/>
                  </a:lnTo>
                  <a:lnTo>
                    <a:pt x="1794" y="2538"/>
                  </a:lnTo>
                  <a:lnTo>
                    <a:pt x="1787" y="2533"/>
                  </a:lnTo>
                  <a:lnTo>
                    <a:pt x="1781" y="2530"/>
                  </a:lnTo>
                  <a:lnTo>
                    <a:pt x="1772" y="2528"/>
                  </a:lnTo>
                  <a:lnTo>
                    <a:pt x="1764" y="2530"/>
                  </a:lnTo>
                  <a:lnTo>
                    <a:pt x="1752" y="2533"/>
                  </a:lnTo>
                  <a:lnTo>
                    <a:pt x="1739" y="2535"/>
                  </a:lnTo>
                  <a:lnTo>
                    <a:pt x="1722" y="2535"/>
                  </a:lnTo>
                  <a:lnTo>
                    <a:pt x="1704" y="2535"/>
                  </a:lnTo>
                  <a:lnTo>
                    <a:pt x="1684" y="2535"/>
                  </a:lnTo>
                  <a:lnTo>
                    <a:pt x="1666" y="2533"/>
                  </a:lnTo>
                  <a:lnTo>
                    <a:pt x="1647" y="2532"/>
                  </a:lnTo>
                  <a:lnTo>
                    <a:pt x="1632" y="2530"/>
                  </a:lnTo>
                  <a:lnTo>
                    <a:pt x="1617" y="2528"/>
                  </a:lnTo>
                  <a:lnTo>
                    <a:pt x="1602" y="2525"/>
                  </a:lnTo>
                  <a:lnTo>
                    <a:pt x="1589" y="2520"/>
                  </a:lnTo>
                  <a:lnTo>
                    <a:pt x="1574" y="2517"/>
                  </a:lnTo>
                  <a:lnTo>
                    <a:pt x="1561" y="2513"/>
                  </a:lnTo>
                  <a:lnTo>
                    <a:pt x="1549" y="2510"/>
                  </a:lnTo>
                  <a:lnTo>
                    <a:pt x="1537" y="2507"/>
                  </a:lnTo>
                  <a:lnTo>
                    <a:pt x="1527" y="2507"/>
                  </a:lnTo>
                  <a:lnTo>
                    <a:pt x="1514" y="2507"/>
                  </a:lnTo>
                  <a:lnTo>
                    <a:pt x="1492" y="2507"/>
                  </a:lnTo>
                  <a:lnTo>
                    <a:pt x="1466" y="2508"/>
                  </a:lnTo>
                  <a:lnTo>
                    <a:pt x="1436" y="2508"/>
                  </a:lnTo>
                  <a:lnTo>
                    <a:pt x="1409" y="2510"/>
                  </a:lnTo>
                  <a:lnTo>
                    <a:pt x="1386" y="2512"/>
                  </a:lnTo>
                  <a:lnTo>
                    <a:pt x="1369" y="2512"/>
                  </a:lnTo>
                  <a:lnTo>
                    <a:pt x="1362" y="2512"/>
                  </a:lnTo>
                  <a:lnTo>
                    <a:pt x="1361" y="2513"/>
                  </a:lnTo>
                  <a:lnTo>
                    <a:pt x="1356" y="2515"/>
                  </a:lnTo>
                  <a:lnTo>
                    <a:pt x="1349" y="2518"/>
                  </a:lnTo>
                  <a:lnTo>
                    <a:pt x="1339" y="2520"/>
                  </a:lnTo>
                  <a:lnTo>
                    <a:pt x="1329" y="2522"/>
                  </a:lnTo>
                  <a:lnTo>
                    <a:pt x="1317" y="2522"/>
                  </a:lnTo>
                  <a:lnTo>
                    <a:pt x="1304" y="2518"/>
                  </a:lnTo>
                  <a:lnTo>
                    <a:pt x="1292" y="2512"/>
                  </a:lnTo>
                  <a:lnTo>
                    <a:pt x="1281" y="2503"/>
                  </a:lnTo>
                  <a:lnTo>
                    <a:pt x="1272" y="2497"/>
                  </a:lnTo>
                  <a:lnTo>
                    <a:pt x="1266" y="2490"/>
                  </a:lnTo>
                  <a:lnTo>
                    <a:pt x="1261" y="2485"/>
                  </a:lnTo>
                  <a:lnTo>
                    <a:pt x="1256" y="2482"/>
                  </a:lnTo>
                  <a:lnTo>
                    <a:pt x="1250" y="2480"/>
                  </a:lnTo>
                  <a:lnTo>
                    <a:pt x="1245" y="2480"/>
                  </a:lnTo>
                  <a:lnTo>
                    <a:pt x="1239" y="2483"/>
                  </a:lnTo>
                  <a:lnTo>
                    <a:pt x="1232" y="2490"/>
                  </a:lnTo>
                  <a:lnTo>
                    <a:pt x="1235" y="2498"/>
                  </a:lnTo>
                  <a:lnTo>
                    <a:pt x="1240" y="2510"/>
                  </a:lnTo>
                  <a:lnTo>
                    <a:pt x="1239" y="2525"/>
                  </a:lnTo>
                  <a:lnTo>
                    <a:pt x="1234" y="2545"/>
                  </a:lnTo>
                  <a:lnTo>
                    <a:pt x="1232" y="2567"/>
                  </a:lnTo>
                  <a:lnTo>
                    <a:pt x="1234" y="2587"/>
                  </a:lnTo>
                  <a:lnTo>
                    <a:pt x="1234" y="2602"/>
                  </a:lnTo>
                  <a:lnTo>
                    <a:pt x="1230" y="2615"/>
                  </a:lnTo>
                  <a:lnTo>
                    <a:pt x="1225" y="2630"/>
                  </a:lnTo>
                  <a:lnTo>
                    <a:pt x="1219" y="2643"/>
                  </a:lnTo>
                  <a:lnTo>
                    <a:pt x="1215" y="2648"/>
                  </a:lnTo>
                  <a:lnTo>
                    <a:pt x="1177" y="2678"/>
                  </a:lnTo>
                  <a:lnTo>
                    <a:pt x="1175" y="2672"/>
                  </a:lnTo>
                  <a:lnTo>
                    <a:pt x="1170" y="2657"/>
                  </a:lnTo>
                  <a:lnTo>
                    <a:pt x="1167" y="2640"/>
                  </a:lnTo>
                  <a:lnTo>
                    <a:pt x="1167" y="2625"/>
                  </a:lnTo>
                  <a:lnTo>
                    <a:pt x="1167" y="2613"/>
                  </a:lnTo>
                  <a:lnTo>
                    <a:pt x="1164" y="2598"/>
                  </a:lnTo>
                  <a:lnTo>
                    <a:pt x="1154" y="2583"/>
                  </a:lnTo>
                  <a:lnTo>
                    <a:pt x="1144" y="2568"/>
                  </a:lnTo>
                  <a:lnTo>
                    <a:pt x="1134" y="2555"/>
                  </a:lnTo>
                  <a:lnTo>
                    <a:pt x="1124" y="2543"/>
                  </a:lnTo>
                  <a:lnTo>
                    <a:pt x="1115" y="2532"/>
                  </a:lnTo>
                  <a:lnTo>
                    <a:pt x="1110" y="2522"/>
                  </a:lnTo>
                  <a:lnTo>
                    <a:pt x="1107" y="2508"/>
                  </a:lnTo>
                  <a:lnTo>
                    <a:pt x="1104" y="2492"/>
                  </a:lnTo>
                  <a:lnTo>
                    <a:pt x="1095" y="2475"/>
                  </a:lnTo>
                  <a:lnTo>
                    <a:pt x="1082" y="2458"/>
                  </a:lnTo>
                  <a:lnTo>
                    <a:pt x="1072" y="2450"/>
                  </a:lnTo>
                  <a:lnTo>
                    <a:pt x="1059" y="2437"/>
                  </a:lnTo>
                  <a:lnTo>
                    <a:pt x="1044" y="2423"/>
                  </a:lnTo>
                  <a:lnTo>
                    <a:pt x="1029" y="2405"/>
                  </a:lnTo>
                  <a:lnTo>
                    <a:pt x="1014" y="2387"/>
                  </a:lnTo>
                  <a:lnTo>
                    <a:pt x="999" y="2368"/>
                  </a:lnTo>
                  <a:lnTo>
                    <a:pt x="987" y="2350"/>
                  </a:lnTo>
                  <a:lnTo>
                    <a:pt x="979" y="2332"/>
                  </a:lnTo>
                  <a:lnTo>
                    <a:pt x="964" y="2302"/>
                  </a:lnTo>
                  <a:lnTo>
                    <a:pt x="949" y="2280"/>
                  </a:lnTo>
                  <a:lnTo>
                    <a:pt x="937" y="2263"/>
                  </a:lnTo>
                  <a:lnTo>
                    <a:pt x="930" y="2245"/>
                  </a:lnTo>
                  <a:lnTo>
                    <a:pt x="927" y="2231"/>
                  </a:lnTo>
                  <a:lnTo>
                    <a:pt x="920" y="2211"/>
                  </a:lnTo>
                  <a:lnTo>
                    <a:pt x="910" y="2190"/>
                  </a:lnTo>
                  <a:lnTo>
                    <a:pt x="900" y="2166"/>
                  </a:lnTo>
                  <a:lnTo>
                    <a:pt x="890" y="2143"/>
                  </a:lnTo>
                  <a:lnTo>
                    <a:pt x="880" y="2123"/>
                  </a:lnTo>
                  <a:lnTo>
                    <a:pt x="870" y="2108"/>
                  </a:lnTo>
                  <a:lnTo>
                    <a:pt x="864" y="2098"/>
                  </a:lnTo>
                  <a:lnTo>
                    <a:pt x="854" y="2085"/>
                  </a:lnTo>
                  <a:lnTo>
                    <a:pt x="845" y="2071"/>
                  </a:lnTo>
                  <a:lnTo>
                    <a:pt x="834" y="2056"/>
                  </a:lnTo>
                  <a:lnTo>
                    <a:pt x="822" y="2041"/>
                  </a:lnTo>
                  <a:lnTo>
                    <a:pt x="814" y="2033"/>
                  </a:lnTo>
                  <a:lnTo>
                    <a:pt x="802" y="2025"/>
                  </a:lnTo>
                  <a:lnTo>
                    <a:pt x="790" y="2018"/>
                  </a:lnTo>
                  <a:lnTo>
                    <a:pt x="779" y="2010"/>
                  </a:lnTo>
                  <a:lnTo>
                    <a:pt x="765" y="2003"/>
                  </a:lnTo>
                  <a:lnTo>
                    <a:pt x="752" y="1998"/>
                  </a:lnTo>
                  <a:lnTo>
                    <a:pt x="740" y="1995"/>
                  </a:lnTo>
                  <a:lnTo>
                    <a:pt x="730" y="1993"/>
                  </a:lnTo>
                  <a:lnTo>
                    <a:pt x="722" y="1991"/>
                  </a:lnTo>
                  <a:lnTo>
                    <a:pt x="717" y="1988"/>
                  </a:lnTo>
                  <a:lnTo>
                    <a:pt x="710" y="1983"/>
                  </a:lnTo>
                  <a:lnTo>
                    <a:pt x="705" y="1975"/>
                  </a:lnTo>
                  <a:lnTo>
                    <a:pt x="700" y="1966"/>
                  </a:lnTo>
                  <a:lnTo>
                    <a:pt x="693" y="1953"/>
                  </a:lnTo>
                  <a:lnTo>
                    <a:pt x="685" y="1940"/>
                  </a:lnTo>
                  <a:lnTo>
                    <a:pt x="673" y="1923"/>
                  </a:lnTo>
                  <a:lnTo>
                    <a:pt x="662" y="1905"/>
                  </a:lnTo>
                  <a:lnTo>
                    <a:pt x="652" y="1886"/>
                  </a:lnTo>
                  <a:lnTo>
                    <a:pt x="642" y="1868"/>
                  </a:lnTo>
                  <a:lnTo>
                    <a:pt x="635" y="1851"/>
                  </a:lnTo>
                  <a:lnTo>
                    <a:pt x="628" y="1833"/>
                  </a:lnTo>
                  <a:lnTo>
                    <a:pt x="623" y="1818"/>
                  </a:lnTo>
                  <a:lnTo>
                    <a:pt x="620" y="1803"/>
                  </a:lnTo>
                  <a:lnTo>
                    <a:pt x="617" y="1790"/>
                  </a:lnTo>
                  <a:lnTo>
                    <a:pt x="612" y="1765"/>
                  </a:lnTo>
                  <a:lnTo>
                    <a:pt x="603" y="1741"/>
                  </a:lnTo>
                  <a:lnTo>
                    <a:pt x="597" y="1724"/>
                  </a:lnTo>
                  <a:lnTo>
                    <a:pt x="593" y="1718"/>
                  </a:lnTo>
                  <a:lnTo>
                    <a:pt x="600" y="1706"/>
                  </a:lnTo>
                  <a:lnTo>
                    <a:pt x="610" y="1676"/>
                  </a:lnTo>
                  <a:lnTo>
                    <a:pt x="617" y="1636"/>
                  </a:lnTo>
                  <a:lnTo>
                    <a:pt x="607" y="1594"/>
                  </a:lnTo>
                  <a:lnTo>
                    <a:pt x="590" y="1559"/>
                  </a:lnTo>
                  <a:lnTo>
                    <a:pt x="582" y="1531"/>
                  </a:lnTo>
                  <a:lnTo>
                    <a:pt x="573" y="1503"/>
                  </a:lnTo>
                  <a:lnTo>
                    <a:pt x="560" y="1471"/>
                  </a:lnTo>
                  <a:lnTo>
                    <a:pt x="552" y="1454"/>
                  </a:lnTo>
                  <a:lnTo>
                    <a:pt x="547" y="1439"/>
                  </a:lnTo>
                  <a:lnTo>
                    <a:pt x="542" y="1426"/>
                  </a:lnTo>
                  <a:lnTo>
                    <a:pt x="537" y="1413"/>
                  </a:lnTo>
                  <a:lnTo>
                    <a:pt x="532" y="1401"/>
                  </a:lnTo>
                  <a:lnTo>
                    <a:pt x="525" y="1393"/>
                  </a:lnTo>
                  <a:lnTo>
                    <a:pt x="518" y="1383"/>
                  </a:lnTo>
                  <a:lnTo>
                    <a:pt x="508" y="1376"/>
                  </a:lnTo>
                  <a:lnTo>
                    <a:pt x="497" y="1369"/>
                  </a:lnTo>
                  <a:lnTo>
                    <a:pt x="487" y="1361"/>
                  </a:lnTo>
                  <a:lnTo>
                    <a:pt x="475" y="1354"/>
                  </a:lnTo>
                  <a:lnTo>
                    <a:pt x="463" y="1346"/>
                  </a:lnTo>
                  <a:lnTo>
                    <a:pt x="452" y="1338"/>
                  </a:lnTo>
                  <a:lnTo>
                    <a:pt x="440" y="1329"/>
                  </a:lnTo>
                  <a:lnTo>
                    <a:pt x="427" y="1323"/>
                  </a:lnTo>
                  <a:lnTo>
                    <a:pt x="413" y="1316"/>
                  </a:lnTo>
                  <a:lnTo>
                    <a:pt x="392" y="1303"/>
                  </a:lnTo>
                  <a:lnTo>
                    <a:pt x="382" y="1286"/>
                  </a:lnTo>
                  <a:lnTo>
                    <a:pt x="375" y="1268"/>
                  </a:lnTo>
                  <a:lnTo>
                    <a:pt x="365" y="1249"/>
                  </a:lnTo>
                  <a:lnTo>
                    <a:pt x="355" y="1232"/>
                  </a:lnTo>
                  <a:lnTo>
                    <a:pt x="348" y="1219"/>
                  </a:lnTo>
                  <a:lnTo>
                    <a:pt x="347" y="1209"/>
                  </a:lnTo>
                  <a:lnTo>
                    <a:pt x="347" y="1206"/>
                  </a:lnTo>
                  <a:lnTo>
                    <a:pt x="348" y="1206"/>
                  </a:lnTo>
                  <a:lnTo>
                    <a:pt x="353" y="1204"/>
                  </a:lnTo>
                  <a:lnTo>
                    <a:pt x="360" y="1201"/>
                  </a:lnTo>
                  <a:lnTo>
                    <a:pt x="367" y="1194"/>
                  </a:lnTo>
                  <a:lnTo>
                    <a:pt x="370" y="1187"/>
                  </a:lnTo>
                  <a:lnTo>
                    <a:pt x="370" y="1176"/>
                  </a:lnTo>
                  <a:lnTo>
                    <a:pt x="365" y="1162"/>
                  </a:lnTo>
                  <a:lnTo>
                    <a:pt x="352" y="1144"/>
                  </a:lnTo>
                  <a:lnTo>
                    <a:pt x="330" y="1122"/>
                  </a:lnTo>
                  <a:lnTo>
                    <a:pt x="327" y="1122"/>
                  </a:lnTo>
                  <a:lnTo>
                    <a:pt x="330" y="1126"/>
                  </a:lnTo>
                  <a:lnTo>
                    <a:pt x="327" y="1112"/>
                  </a:lnTo>
                  <a:lnTo>
                    <a:pt x="320" y="1091"/>
                  </a:lnTo>
                  <a:lnTo>
                    <a:pt x="315" y="1076"/>
                  </a:lnTo>
                  <a:lnTo>
                    <a:pt x="308" y="1066"/>
                  </a:lnTo>
                  <a:lnTo>
                    <a:pt x="293" y="1054"/>
                  </a:lnTo>
                  <a:lnTo>
                    <a:pt x="283" y="1039"/>
                  </a:lnTo>
                  <a:lnTo>
                    <a:pt x="285" y="1024"/>
                  </a:lnTo>
                  <a:lnTo>
                    <a:pt x="287" y="1011"/>
                  </a:lnTo>
                  <a:lnTo>
                    <a:pt x="275" y="997"/>
                  </a:lnTo>
                  <a:lnTo>
                    <a:pt x="257" y="986"/>
                  </a:lnTo>
                  <a:lnTo>
                    <a:pt x="243" y="971"/>
                  </a:lnTo>
                  <a:lnTo>
                    <a:pt x="235" y="954"/>
                  </a:lnTo>
                  <a:lnTo>
                    <a:pt x="232" y="936"/>
                  </a:lnTo>
                  <a:lnTo>
                    <a:pt x="228" y="916"/>
                  </a:lnTo>
                  <a:lnTo>
                    <a:pt x="218" y="889"/>
                  </a:lnTo>
                  <a:lnTo>
                    <a:pt x="205" y="862"/>
                  </a:lnTo>
                  <a:lnTo>
                    <a:pt x="185" y="836"/>
                  </a:lnTo>
                  <a:lnTo>
                    <a:pt x="172" y="814"/>
                  </a:lnTo>
                  <a:lnTo>
                    <a:pt x="168" y="796"/>
                  </a:lnTo>
                  <a:lnTo>
                    <a:pt x="167" y="782"/>
                  </a:lnTo>
                  <a:lnTo>
                    <a:pt x="157" y="774"/>
                  </a:lnTo>
                  <a:lnTo>
                    <a:pt x="145" y="766"/>
                  </a:lnTo>
                  <a:lnTo>
                    <a:pt x="140" y="754"/>
                  </a:lnTo>
                  <a:lnTo>
                    <a:pt x="133" y="739"/>
                  </a:lnTo>
                  <a:lnTo>
                    <a:pt x="118" y="722"/>
                  </a:lnTo>
                  <a:lnTo>
                    <a:pt x="100" y="700"/>
                  </a:lnTo>
                  <a:lnTo>
                    <a:pt x="86" y="674"/>
                  </a:lnTo>
                  <a:lnTo>
                    <a:pt x="78" y="652"/>
                  </a:lnTo>
                  <a:lnTo>
                    <a:pt x="75" y="642"/>
                  </a:lnTo>
                  <a:lnTo>
                    <a:pt x="70" y="642"/>
                  </a:lnTo>
                  <a:lnTo>
                    <a:pt x="60" y="642"/>
                  </a:lnTo>
                  <a:lnTo>
                    <a:pt x="45" y="642"/>
                  </a:lnTo>
                  <a:lnTo>
                    <a:pt x="33" y="642"/>
                  </a:lnTo>
                  <a:lnTo>
                    <a:pt x="21" y="642"/>
                  </a:lnTo>
                  <a:lnTo>
                    <a:pt x="11" y="644"/>
                  </a:lnTo>
                  <a:lnTo>
                    <a:pt x="3" y="645"/>
                  </a:lnTo>
                  <a:lnTo>
                    <a:pt x="0" y="645"/>
                  </a:lnTo>
                  <a:lnTo>
                    <a:pt x="1" y="642"/>
                  </a:lnTo>
                  <a:lnTo>
                    <a:pt x="5" y="632"/>
                  </a:lnTo>
                  <a:lnTo>
                    <a:pt x="8" y="620"/>
                  </a:lnTo>
                  <a:lnTo>
                    <a:pt x="13" y="609"/>
                  </a:lnTo>
                  <a:lnTo>
                    <a:pt x="20" y="592"/>
                  </a:lnTo>
                  <a:lnTo>
                    <a:pt x="28" y="569"/>
                  </a:lnTo>
                  <a:lnTo>
                    <a:pt x="35" y="542"/>
                  </a:lnTo>
                  <a:lnTo>
                    <a:pt x="38" y="517"/>
                  </a:lnTo>
                  <a:lnTo>
                    <a:pt x="40" y="500"/>
                  </a:lnTo>
                  <a:lnTo>
                    <a:pt x="43" y="489"/>
                  </a:lnTo>
                  <a:lnTo>
                    <a:pt x="50" y="480"/>
                  </a:lnTo>
                  <a:lnTo>
                    <a:pt x="56" y="470"/>
                  </a:lnTo>
                  <a:lnTo>
                    <a:pt x="61" y="457"/>
                  </a:lnTo>
                  <a:lnTo>
                    <a:pt x="65" y="442"/>
                  </a:lnTo>
                  <a:lnTo>
                    <a:pt x="66" y="429"/>
                  </a:lnTo>
                  <a:lnTo>
                    <a:pt x="66" y="424"/>
                  </a:lnTo>
                  <a:lnTo>
                    <a:pt x="232" y="465"/>
                  </a:lnTo>
                  <a:lnTo>
                    <a:pt x="235" y="464"/>
                  </a:lnTo>
                  <a:lnTo>
                    <a:pt x="243" y="457"/>
                  </a:lnTo>
                  <a:lnTo>
                    <a:pt x="257" y="450"/>
                  </a:lnTo>
                  <a:lnTo>
                    <a:pt x="270" y="439"/>
                  </a:lnTo>
                  <a:lnTo>
                    <a:pt x="285" y="429"/>
                  </a:lnTo>
                  <a:lnTo>
                    <a:pt x="298" y="417"/>
                  </a:lnTo>
                  <a:lnTo>
                    <a:pt x="308" y="407"/>
                  </a:lnTo>
                  <a:lnTo>
                    <a:pt x="313" y="399"/>
                  </a:lnTo>
                  <a:lnTo>
                    <a:pt x="318" y="384"/>
                  </a:lnTo>
                  <a:lnTo>
                    <a:pt x="325" y="369"/>
                  </a:lnTo>
                  <a:lnTo>
                    <a:pt x="330" y="357"/>
                  </a:lnTo>
                  <a:lnTo>
                    <a:pt x="332" y="352"/>
                  </a:lnTo>
                  <a:lnTo>
                    <a:pt x="335" y="352"/>
                  </a:lnTo>
                  <a:lnTo>
                    <a:pt x="342" y="352"/>
                  </a:lnTo>
                  <a:lnTo>
                    <a:pt x="353" y="352"/>
                  </a:lnTo>
                  <a:lnTo>
                    <a:pt x="367" y="350"/>
                  </a:lnTo>
                  <a:lnTo>
                    <a:pt x="382" y="350"/>
                  </a:lnTo>
                  <a:lnTo>
                    <a:pt x="398" y="347"/>
                  </a:lnTo>
                  <a:lnTo>
                    <a:pt x="413" y="345"/>
                  </a:lnTo>
                  <a:lnTo>
                    <a:pt x="427" y="342"/>
                  </a:lnTo>
                  <a:lnTo>
                    <a:pt x="438" y="337"/>
                  </a:lnTo>
                  <a:lnTo>
                    <a:pt x="447" y="329"/>
                  </a:lnTo>
                  <a:lnTo>
                    <a:pt x="455" y="319"/>
                  </a:lnTo>
                  <a:lnTo>
                    <a:pt x="462" y="309"/>
                  </a:lnTo>
                  <a:lnTo>
                    <a:pt x="468" y="299"/>
                  </a:lnTo>
                  <a:lnTo>
                    <a:pt x="475" y="290"/>
                  </a:lnTo>
                  <a:lnTo>
                    <a:pt x="483" y="284"/>
                  </a:lnTo>
                  <a:lnTo>
                    <a:pt x="493" y="280"/>
                  </a:lnTo>
                  <a:lnTo>
                    <a:pt x="508" y="275"/>
                  </a:lnTo>
                  <a:lnTo>
                    <a:pt x="513" y="269"/>
                  </a:lnTo>
                  <a:lnTo>
                    <a:pt x="513" y="264"/>
                  </a:lnTo>
                  <a:lnTo>
                    <a:pt x="512" y="262"/>
                  </a:lnTo>
                  <a:lnTo>
                    <a:pt x="380" y="90"/>
                  </a:lnTo>
                  <a:close/>
                </a:path>
              </a:pathLst>
            </a:custGeom>
            <a:solidFill>
              <a:srgbClr val="b2b2b2">
                <a:alpha val="30000"/>
              </a:srgbClr>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542" name=""/>
          <p:cNvSpPr/>
          <p:nvPr/>
        </p:nvSpPr>
        <p:spPr>
          <a:xfrm>
            <a:off x="1066680" y="1125360"/>
            <a:ext cx="7743960" cy="5113440"/>
          </a:xfrm>
          <a:prstGeom prst="rect">
            <a:avLst/>
          </a:prstGeom>
          <a:noFill/>
          <a:ln w="0">
            <a:noFill/>
          </a:ln>
        </p:spPr>
        <p:style>
          <a:lnRef idx="0"/>
          <a:fillRef idx="0"/>
          <a:effectRef idx="0"/>
          <a:fontRef idx="minor"/>
        </p:style>
        <p:txBody>
          <a:bodyPr anchor="t">
            <a:noAutofit/>
          </a:bodyPr>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99"/>
                </a:solidFill>
                <a:latin typeface="Albertus Medium"/>
              </a:rPr>
              <a:t>http://www.wikipedia.org/</a:t>
            </a:r>
            <a:endParaRPr b="0" lang="en-US" sz="1000" spc="-1" strike="noStrike">
              <a:solidFill>
                <a:srgbClr val="000000"/>
              </a:solidFill>
              <a:latin typeface="Arial"/>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000" spc="-1" strike="noStrike">
              <a:solidFill>
                <a:srgbClr val="000000"/>
              </a:solidFill>
              <a:latin typeface="Arial"/>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99"/>
                </a:solidFill>
                <a:latin typeface="Albertus Medium"/>
              </a:rPr>
              <a:t>Yubing Xie, The Application of Nanotechnology in Stem Cell Research Nanotechnology Now January 22nd, 2008 </a:t>
            </a:r>
            <a:endParaRPr b="0" lang="en-US" sz="1000" spc="-1" strike="noStrike">
              <a:solidFill>
                <a:srgbClr val="000000"/>
              </a:solidFill>
              <a:latin typeface="Arial"/>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000" spc="-1" strike="noStrike">
              <a:solidFill>
                <a:srgbClr val="000000"/>
              </a:solidFill>
              <a:latin typeface="Arial"/>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u="sng">
                <a:solidFill>
                  <a:srgbClr val="ccccff"/>
                </a:solidFill>
                <a:uFillTx/>
                <a:latin typeface="Albertus Medium"/>
                <a:hlinkClick r:id="rId4"/>
              </a:rPr>
              <a:t>Chun YW</a:t>
            </a:r>
            <a:r>
              <a:rPr b="0" lang="en-US" sz="1000" spc="-1" strike="noStrike">
                <a:solidFill>
                  <a:srgbClr val="333399"/>
                </a:solidFill>
                <a:latin typeface="Albertus Medium"/>
              </a:rPr>
              <a:t>, </a:t>
            </a:r>
            <a:r>
              <a:rPr b="0" lang="en-US" sz="1000" spc="-1" strike="noStrike" u="sng">
                <a:solidFill>
                  <a:srgbClr val="ccccff"/>
                </a:solidFill>
                <a:uFillTx/>
                <a:latin typeface="Albertus Medium"/>
                <a:hlinkClick r:id="rId5"/>
              </a:rPr>
              <a:t>Webster TJ</a:t>
            </a:r>
            <a:r>
              <a:rPr b="0" lang="en-US" sz="1000" spc="-1" strike="noStrike">
                <a:solidFill>
                  <a:srgbClr val="333399"/>
                </a:solidFill>
                <a:latin typeface="Albertus Medium"/>
              </a:rPr>
              <a:t>. The Role of Nanomedicine in Growing Tissues. Ann Biomed Eng. 2009 Jun 5</a:t>
            </a:r>
            <a:endParaRPr b="0" lang="en-US" sz="1000" spc="-1" strike="noStrike">
              <a:solidFill>
                <a:srgbClr val="000000"/>
              </a:solidFill>
              <a:latin typeface="Arial"/>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000" spc="-1" strike="noStrike">
              <a:solidFill>
                <a:srgbClr val="000000"/>
              </a:solidFill>
              <a:latin typeface="Arial"/>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99"/>
                </a:solidFill>
                <a:latin typeface="Albertus Medium"/>
              </a:rPr>
              <a:t>Biomimetic design by nature DECEMBER 12, 2005 </a:t>
            </a:r>
            <a:endParaRPr b="0" lang="en-US" sz="1000" spc="-1" strike="noStrike">
              <a:solidFill>
                <a:srgbClr val="000000"/>
              </a:solidFill>
              <a:latin typeface="Arial"/>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000" spc="-1" strike="noStrike">
              <a:solidFill>
                <a:srgbClr val="000000"/>
              </a:solidFill>
              <a:latin typeface="Arial"/>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99"/>
                </a:solidFill>
                <a:latin typeface="Albertus Medium"/>
              </a:rPr>
              <a:t>http://www.core.form-ula.com/2008/04/15/biomimetics-design-by-nature/ </a:t>
            </a:r>
            <a:endParaRPr b="0" lang="en-US" sz="1000" spc="-1" strike="noStrike">
              <a:solidFill>
                <a:srgbClr val="000000"/>
              </a:solidFill>
              <a:latin typeface="Arial"/>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000" spc="-1" strike="noStrike">
              <a:solidFill>
                <a:srgbClr val="000000"/>
              </a:solidFill>
              <a:latin typeface="Arial"/>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99"/>
                </a:solidFill>
                <a:latin typeface="Albertus Medium"/>
              </a:rPr>
              <a:t>W.R Hansen, and K Autumn. Evidence for self-cleaning in gecko setae</a:t>
            </a:r>
            <a:r>
              <a:rPr b="0" lang="en-US" sz="1000" spc="-1" strike="noStrike">
                <a:solidFill>
                  <a:srgbClr val="333399"/>
                </a:solidFill>
                <a:latin typeface="Albertus Medium"/>
              </a:rPr>
              <a:t> </a:t>
            </a:r>
            <a:endParaRPr b="0" lang="en-US" sz="1000" spc="-1" strike="noStrike">
              <a:solidFill>
                <a:srgbClr val="000000"/>
              </a:solidFill>
              <a:latin typeface="Arial"/>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99"/>
                </a:solidFill>
                <a:latin typeface="Albertus Medium"/>
              </a:rPr>
              <a:t>Communicated by Jacob Israelachvili, University of California, Santa Barbara, CA, November 8, 2004 (received for review July 26, 2004 </a:t>
            </a:r>
            <a:endParaRPr b="0" lang="en-US" sz="1000" spc="-1" strike="noStrike">
              <a:solidFill>
                <a:srgbClr val="000000"/>
              </a:solidFill>
              <a:latin typeface="Arial"/>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000" spc="-1" strike="noStrike">
              <a:solidFill>
                <a:srgbClr val="000000"/>
              </a:solidFill>
              <a:latin typeface="Arial"/>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99"/>
                </a:solidFill>
                <a:latin typeface="Albertus Medium"/>
              </a:rPr>
              <a:t>EUROPEAN BUSINESS December, 12 2005 Nano, Nano, On The Wall... </a:t>
            </a:r>
            <a:br>
              <a:rPr sz="1000"/>
            </a:br>
            <a:r>
              <a:rPr b="0" lang="en-US" sz="1000" spc="-1" strike="noStrike">
                <a:solidFill>
                  <a:srgbClr val="333399"/>
                </a:solidFill>
                <a:latin typeface="Albertus Medium"/>
              </a:rPr>
              <a:t>L'Oréal and others are betting big on products with microparticles </a:t>
            </a:r>
            <a:br>
              <a:rPr sz="1000"/>
            </a:br>
            <a:endParaRPr b="0" lang="en-US" sz="1000" spc="-1" strike="noStrike">
              <a:solidFill>
                <a:srgbClr val="000000"/>
              </a:solidFill>
              <a:latin typeface="Arial"/>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99"/>
                </a:solidFill>
                <a:latin typeface="Albertus Medium"/>
              </a:rPr>
              <a:t>Cosmetics Break the Skin Barrier</a:t>
            </a:r>
            <a:endParaRPr b="0" lang="en-US" sz="1000" spc="-1" strike="noStrike">
              <a:solidFill>
                <a:srgbClr val="000000"/>
              </a:solidFill>
              <a:latin typeface="Arial"/>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99"/>
                </a:solidFill>
                <a:latin typeface="Albertus Medium"/>
              </a:rPr>
              <a:t>By CLAUDIA H. DEUTSCH  january 8th 2009</a:t>
            </a:r>
            <a:endParaRPr b="0" lang="en-US" sz="1000" spc="-1" strike="noStrike">
              <a:solidFill>
                <a:srgbClr val="000000"/>
              </a:solidFill>
              <a:latin typeface="Arial"/>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000" spc="-1" strike="noStrike">
              <a:solidFill>
                <a:srgbClr val="000000"/>
              </a:solidFill>
              <a:latin typeface="Arial"/>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99"/>
                </a:solidFill>
                <a:latin typeface="Albertus Medium"/>
              </a:rPr>
              <a:t>Examining the Viability of Patent Pools to the Growing Nanotechnology Patent Thicket </a:t>
            </a:r>
            <a:endParaRPr b="0" lang="en-US" sz="1000" spc="-1" strike="noStrike">
              <a:solidFill>
                <a:srgbClr val="000000"/>
              </a:solidFill>
              <a:latin typeface="Arial"/>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99"/>
                </a:solidFill>
                <a:latin typeface="Albertus Medium"/>
              </a:rPr>
              <a:t>By: Alexander Lee1</a:t>
            </a:r>
            <a:endParaRPr b="0" lang="en-US" sz="1000" spc="-1" strike="noStrike">
              <a:solidFill>
                <a:srgbClr val="000000"/>
              </a:solidFill>
              <a:latin typeface="Arial"/>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000" spc="-1" strike="noStrike">
              <a:solidFill>
                <a:srgbClr val="000000"/>
              </a:solidFill>
              <a:latin typeface="Arial"/>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99"/>
                </a:solidFill>
                <a:latin typeface="Albertus Medium"/>
              </a:rPr>
              <a:t>Adnan Nasir, MD, PhD, FAAD. Nanotechnology and dermatology, presentation at the American Academy of Dermatology, San Antonio, Texas, February 2008.</a:t>
            </a:r>
            <a:endParaRPr b="0" lang="en-US" sz="1000" spc="-1" strike="noStrike">
              <a:solidFill>
                <a:srgbClr val="000000"/>
              </a:solidFill>
              <a:latin typeface="Arial"/>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000" spc="-1" strike="noStrike">
              <a:solidFill>
                <a:srgbClr val="000000"/>
              </a:solidFill>
              <a:latin typeface="Arial"/>
            </a:endParaRPr>
          </a:p>
          <a:p>
            <a:pPr algn="r" rtl="1">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ar-SA" sz="1000" spc="-1" strike="noStrike">
                <a:solidFill>
                  <a:srgbClr val="333399"/>
                </a:solidFill>
                <a:latin typeface="Albertus Medium"/>
              </a:rPr>
              <a:t>السلامة المترتبة من تطبيقات تقنية النانو,مقال علمي</a:t>
            </a:r>
            <a:endParaRPr b="0" lang="en-US" sz="1000" spc="-1" strike="noStrike">
              <a:solidFill>
                <a:srgbClr val="000000"/>
              </a:solidFill>
              <a:latin typeface="Arial"/>
            </a:endParaRPr>
          </a:p>
          <a:p>
            <a:pPr algn="r" rtl="1">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ar-SA" sz="1000" spc="-1" strike="noStrike">
                <a:solidFill>
                  <a:srgbClr val="333399"/>
                </a:solidFill>
                <a:latin typeface="Albertus Medium"/>
              </a:rPr>
              <a:t>د.عبد الوهاب بن صادق استاذ التلوث الميكروبي البيئي, كلية العلوم ج.س</a:t>
            </a:r>
            <a:endParaRPr b="0" lang="en-US" sz="1000" spc="-1" strike="noStrike">
              <a:solidFill>
                <a:srgbClr val="000000"/>
              </a:solidFill>
              <a:latin typeface="Arial"/>
            </a:endParaRPr>
          </a:p>
          <a:p>
            <a:pPr algn="r" rtl="1">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000" spc="-1" strike="noStrike">
              <a:solidFill>
                <a:srgbClr val="000000"/>
              </a:solidFill>
              <a:latin typeface="Arial"/>
            </a:endParaRPr>
          </a:p>
          <a:p>
            <a:pPr algn="r" rtl="1">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ar-SA" sz="1000" spc="-1" strike="noStrike">
                <a:solidFill>
                  <a:srgbClr val="333399"/>
                </a:solidFill>
                <a:latin typeface="Albertus Medium"/>
              </a:rPr>
              <a:t>تقنيات النانو تفتح آفاقا واعدة في قطاعات الطب والاقتصاد ومختلف مناحي الحياة ز</a:t>
            </a:r>
            <a:endParaRPr b="0" lang="en-US" sz="1000" spc="-1" strike="noStrike">
              <a:solidFill>
                <a:srgbClr val="000000"/>
              </a:solidFill>
              <a:latin typeface="Arial"/>
            </a:endParaRPr>
          </a:p>
          <a:p>
            <a:pPr algn="r" rtl="1">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ar-SA" sz="1000" spc="-1" strike="noStrike">
                <a:solidFill>
                  <a:srgbClr val="333399"/>
                </a:solidFill>
                <a:latin typeface="Albertus Medium"/>
              </a:rPr>
              <a:t>جريدة  الشرق الاوسط الاربعاء </a:t>
            </a:r>
            <a:r>
              <a:rPr b="0" lang="ar-SA" sz="1000" spc="-1" strike="noStrike">
                <a:solidFill>
                  <a:srgbClr val="333399"/>
                </a:solidFill>
                <a:latin typeface="Albertus Medium"/>
              </a:rPr>
              <a:t>13</a:t>
            </a:r>
            <a:r>
              <a:rPr b="0" lang="ar-SA" sz="1000" spc="-1" strike="noStrike">
                <a:solidFill>
                  <a:srgbClr val="333399"/>
                </a:solidFill>
                <a:latin typeface="Albertus Medium"/>
              </a:rPr>
              <a:t> صفر </a:t>
            </a:r>
            <a:r>
              <a:rPr b="0" lang="ar-SA" sz="1000" spc="-1" strike="noStrike">
                <a:solidFill>
                  <a:srgbClr val="333399"/>
                </a:solidFill>
                <a:latin typeface="Albertus Medium"/>
              </a:rPr>
              <a:t>1426</a:t>
            </a:r>
            <a:r>
              <a:rPr b="0" lang="ar-SA" sz="1000" spc="-1" strike="noStrike">
                <a:solidFill>
                  <a:srgbClr val="333399"/>
                </a:solidFill>
                <a:latin typeface="Albertus Medium"/>
              </a:rPr>
              <a:t> هـ </a:t>
            </a:r>
            <a:r>
              <a:rPr b="0" lang="ar-SA" sz="1000" spc="-1" strike="noStrike">
                <a:solidFill>
                  <a:srgbClr val="333399"/>
                </a:solidFill>
                <a:latin typeface="Albertus Medium"/>
              </a:rPr>
              <a:t>23</a:t>
            </a:r>
            <a:r>
              <a:rPr b="0" lang="ar-SA" sz="1000" spc="-1" strike="noStrike">
                <a:solidFill>
                  <a:srgbClr val="333399"/>
                </a:solidFill>
                <a:latin typeface="Albertus Medium"/>
              </a:rPr>
              <a:t> مارس </a:t>
            </a:r>
            <a:r>
              <a:rPr b="0" lang="ar-SA" sz="1000" spc="-1" strike="noStrike">
                <a:solidFill>
                  <a:srgbClr val="333399"/>
                </a:solidFill>
                <a:latin typeface="Albertus Medium"/>
              </a:rPr>
              <a:t>2005</a:t>
            </a:r>
            <a:r>
              <a:rPr b="0" lang="ar-SA" sz="1000" spc="-1" strike="noStrike">
                <a:solidFill>
                  <a:srgbClr val="333399"/>
                </a:solidFill>
                <a:latin typeface="Albertus Medium"/>
              </a:rPr>
              <a:t> العدد </a:t>
            </a:r>
            <a:r>
              <a:rPr b="0" lang="ar-SA" sz="1000" spc="-1" strike="noStrike">
                <a:solidFill>
                  <a:srgbClr val="333399"/>
                </a:solidFill>
                <a:latin typeface="Albertus Medium"/>
              </a:rPr>
              <a:t>9612</a:t>
            </a:r>
            <a:endParaRPr b="0" lang="en-US" sz="1000" spc="-1" strike="noStrike">
              <a:solidFill>
                <a:srgbClr val="000000"/>
              </a:solidFill>
              <a:latin typeface="Arial"/>
            </a:endParaRPr>
          </a:p>
          <a:p>
            <a:pPr algn="r" rtl="1">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ar-SA" sz="1000" spc="-1" strike="noStrike">
                <a:solidFill>
                  <a:srgbClr val="333399"/>
                </a:solidFill>
                <a:latin typeface="Albertus Medium"/>
              </a:rPr>
              <a:t> </a:t>
            </a:r>
            <a:endParaRPr b="0" lang="en-US" sz="1000" spc="-1" strike="noStrike">
              <a:solidFill>
                <a:srgbClr val="000000"/>
              </a:solidFill>
              <a:latin typeface="Arial"/>
            </a:endParaRPr>
          </a:p>
          <a:p>
            <a:pPr algn="r" rtl="1">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ar-SA" sz="1000" spc="-1" strike="noStrike">
                <a:solidFill>
                  <a:srgbClr val="333399"/>
                </a:solidFill>
                <a:latin typeface="Albertus Medium"/>
              </a:rPr>
              <a:t>علوم وتقنيات النانو تطبيقاتها, اثارها وإستراتيجية تطويعها في الوطن العربي</a:t>
            </a:r>
            <a:endParaRPr b="0" lang="en-US" sz="1000" spc="-1" strike="noStrike">
              <a:solidFill>
                <a:srgbClr val="000000"/>
              </a:solidFill>
              <a:latin typeface="Arial"/>
            </a:endParaRPr>
          </a:p>
          <a:p>
            <a:pPr algn="r" rtl="1">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ar-SA" sz="1000" spc="-1" strike="noStrike">
                <a:solidFill>
                  <a:srgbClr val="333399"/>
                </a:solidFill>
                <a:latin typeface="Albertus Medium"/>
              </a:rPr>
              <a:t>د. فتحي حمد بن شتوان, المنظمة العربية للتنمية والتعدين</a:t>
            </a:r>
            <a:endParaRPr b="0" lang="en-US" sz="1000" spc="-1" strike="noStrike">
              <a:solidFill>
                <a:srgbClr val="000000"/>
              </a:solidFill>
              <a:latin typeface="Arial"/>
            </a:endParaRPr>
          </a:p>
          <a:p>
            <a:pPr algn="r" rtl="1">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000" spc="-1" strike="noStrike">
              <a:solidFill>
                <a:srgbClr val="000000"/>
              </a:solidFill>
              <a:latin typeface="Arial"/>
            </a:endParaRPr>
          </a:p>
          <a:p>
            <a:pPr algn="r" rtl="1">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ar-SA" sz="1000" spc="-1" strike="noStrike">
                <a:solidFill>
                  <a:srgbClr val="333399"/>
                </a:solidFill>
                <a:latin typeface="Albertus Medium"/>
              </a:rPr>
              <a:t>ثقافة نانونية –ويكيبيديا- الموسوعة الحرة.</a:t>
            </a:r>
            <a:r>
              <a:rPr b="0" lang="en-US" sz="1000" spc="-1" strike="noStrike">
                <a:solidFill>
                  <a:srgbClr val="333399"/>
                </a:solidFill>
                <a:latin typeface="Albertus Medium"/>
              </a:rPr>
              <a:t> </a:t>
            </a:r>
            <a:endParaRPr b="0" lang="en-US" sz="1000" spc="-1" strike="noStrike">
              <a:solidFill>
                <a:srgbClr val="000000"/>
              </a:solidFill>
              <a:latin typeface="Arial"/>
            </a:endParaRPr>
          </a:p>
          <a:p>
            <a:pPr algn="r" rtl="1">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000" spc="-1" strike="noStrike">
              <a:solidFill>
                <a:srgbClr val="000000"/>
              </a:solidFill>
              <a:latin typeface="Arial"/>
            </a:endParaRPr>
          </a:p>
          <a:p>
            <a:pPr algn="ctr" rtl="1">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000" spc="-1" strike="noStrike">
              <a:solidFill>
                <a:srgbClr val="000000"/>
              </a:solidFill>
              <a:latin typeface="Arial"/>
            </a:endParaRPr>
          </a:p>
          <a:p>
            <a:pPr algn="ctr" rtl="1">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000" spc="-1" strike="noStrike">
              <a:solidFill>
                <a:srgbClr val="000000"/>
              </a:solidFill>
              <a:latin typeface="Arial"/>
            </a:endParaRPr>
          </a:p>
        </p:txBody>
      </p:sp>
      <p:sp>
        <p:nvSpPr>
          <p:cNvPr id="543" name=""/>
          <p:cNvSpPr/>
          <p:nvPr/>
        </p:nvSpPr>
        <p:spPr>
          <a:xfrm>
            <a:off x="609480" y="6629400"/>
            <a:ext cx="8534520" cy="228600"/>
          </a:xfrm>
          <a:prstGeom prst="rect">
            <a:avLst/>
          </a:prstGeom>
          <a:solidFill>
            <a:srgbClr val="bbe0e3"/>
          </a:solidFill>
          <a:ln cap="sq"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99"/>
                </a:solidFill>
                <a:latin typeface="Albertus Medium"/>
              </a:rPr>
              <a:t>www.skinandallergy.org</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0" lang="en-US" sz="1000" spc="-1" strike="noStrike">
                <a:solidFill>
                  <a:srgbClr val="333399"/>
                </a:solidFill>
                <a:latin typeface="Albertus Medium"/>
              </a:rPr>
              <a:t>www.panarabderm.org</a:t>
            </a:r>
            <a:endParaRPr b="0" lang="en-US" sz="10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4" name="" descr=""/>
          <p:cNvPicPr/>
          <p:nvPr/>
        </p:nvPicPr>
        <p:blipFill>
          <a:blip r:embed="rId2"/>
          <a:stretch/>
        </p:blipFill>
        <p:spPr>
          <a:xfrm>
            <a:off x="8153280" y="74520"/>
            <a:ext cx="922320" cy="992160"/>
          </a:xfrm>
          <a:prstGeom prst="rect">
            <a:avLst/>
          </a:prstGeom>
          <a:ln w="0">
            <a:noFill/>
          </a:ln>
        </p:spPr>
      </p:pic>
      <p:sp>
        <p:nvSpPr>
          <p:cNvPr id="545" name=""/>
          <p:cNvSpPr/>
          <p:nvPr/>
        </p:nvSpPr>
        <p:spPr>
          <a:xfrm>
            <a:off x="1295280" y="1066680"/>
            <a:ext cx="6193080" cy="1800"/>
          </a:xfrm>
          <a:prstGeom prst="line">
            <a:avLst/>
          </a:prstGeom>
          <a:ln cap="sq" w="12600">
            <a:solidFill>
              <a:srgbClr val="b2b2b2"/>
            </a:solidFill>
            <a:miter/>
          </a:ln>
        </p:spPr>
        <p:style>
          <a:lnRef idx="0"/>
          <a:fillRef idx="0"/>
          <a:effectRef idx="0"/>
          <a:fontRef idx="minor"/>
        </p:style>
        <p:txBody>
          <a:bodyPr lIns="90000" rIns="90000" tIns="-45000" bIns="-45000" anchor="t">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546" name="" descr=""/>
          <p:cNvPicPr/>
          <p:nvPr/>
        </p:nvPicPr>
        <p:blipFill>
          <a:blip r:embed="rId3"/>
          <a:stretch/>
        </p:blipFill>
        <p:spPr>
          <a:xfrm>
            <a:off x="0" y="0"/>
            <a:ext cx="600120" cy="6858000"/>
          </a:xfrm>
          <a:prstGeom prst="rect">
            <a:avLst/>
          </a:prstGeom>
          <a:ln w="0">
            <a:noFill/>
          </a:ln>
        </p:spPr>
      </p:pic>
      <p:sp>
        <p:nvSpPr>
          <p:cNvPr id="547" name=""/>
          <p:cNvSpPr/>
          <p:nvPr/>
        </p:nvSpPr>
        <p:spPr>
          <a:xfrm>
            <a:off x="0" y="457200"/>
            <a:ext cx="914400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333399"/>
                </a:solidFill>
                <a:latin typeface="Albertus Medium"/>
              </a:rPr>
              <a:t>References</a:t>
            </a:r>
            <a:endParaRPr b="0" lang="en-US" sz="3600" spc="-1" strike="noStrike">
              <a:solidFill>
                <a:srgbClr val="000000"/>
              </a:solidFill>
              <a:latin typeface="Arial"/>
            </a:endParaRPr>
          </a:p>
        </p:txBody>
      </p:sp>
      <p:grpSp>
        <p:nvGrpSpPr>
          <p:cNvPr id="548" name=""/>
          <p:cNvGrpSpPr/>
          <p:nvPr/>
        </p:nvGrpSpPr>
        <p:grpSpPr>
          <a:xfrm>
            <a:off x="2639880" y="1346040"/>
            <a:ext cx="4521240" cy="3986280"/>
            <a:chOff x="2639880" y="1346040"/>
            <a:chExt cx="4521240" cy="3986280"/>
          </a:xfrm>
        </p:grpSpPr>
        <p:sp>
          <p:nvSpPr>
            <p:cNvPr id="549" name=""/>
            <p:cNvSpPr/>
            <p:nvPr/>
          </p:nvSpPr>
          <p:spPr>
            <a:xfrm>
              <a:off x="2639880" y="2319480"/>
              <a:ext cx="1721160" cy="3012840"/>
            </a:xfrm>
            <a:custGeom>
              <a:avLst/>
              <a:gdLst/>
              <a:ahLst/>
              <a:rect l="l" t="t" r="r" b="b"/>
              <a:pathLst>
                <a:path w="1261" h="2255">
                  <a:moveTo>
                    <a:pt x="1257" y="2027"/>
                  </a:moveTo>
                  <a:lnTo>
                    <a:pt x="1257" y="2015"/>
                  </a:lnTo>
                  <a:lnTo>
                    <a:pt x="1252" y="2000"/>
                  </a:lnTo>
                  <a:lnTo>
                    <a:pt x="1244" y="1985"/>
                  </a:lnTo>
                  <a:lnTo>
                    <a:pt x="1232" y="1970"/>
                  </a:lnTo>
                  <a:lnTo>
                    <a:pt x="1222" y="1956"/>
                  </a:lnTo>
                  <a:lnTo>
                    <a:pt x="1212" y="1945"/>
                  </a:lnTo>
                  <a:lnTo>
                    <a:pt x="1204" y="1933"/>
                  </a:lnTo>
                  <a:lnTo>
                    <a:pt x="1199" y="1921"/>
                  </a:lnTo>
                  <a:lnTo>
                    <a:pt x="1197" y="1910"/>
                  </a:lnTo>
                  <a:lnTo>
                    <a:pt x="1192" y="1893"/>
                  </a:lnTo>
                  <a:lnTo>
                    <a:pt x="1186" y="1876"/>
                  </a:lnTo>
                  <a:lnTo>
                    <a:pt x="1171" y="1860"/>
                  </a:lnTo>
                  <a:lnTo>
                    <a:pt x="1161" y="1851"/>
                  </a:lnTo>
                  <a:lnTo>
                    <a:pt x="1147" y="1838"/>
                  </a:lnTo>
                  <a:lnTo>
                    <a:pt x="1132" y="1823"/>
                  </a:lnTo>
                  <a:lnTo>
                    <a:pt x="1117" y="1806"/>
                  </a:lnTo>
                  <a:lnTo>
                    <a:pt x="1102" y="1788"/>
                  </a:lnTo>
                  <a:lnTo>
                    <a:pt x="1087" y="1770"/>
                  </a:lnTo>
                  <a:lnTo>
                    <a:pt x="1076" y="1750"/>
                  </a:lnTo>
                  <a:lnTo>
                    <a:pt x="1067" y="1731"/>
                  </a:lnTo>
                  <a:lnTo>
                    <a:pt x="1052" y="1703"/>
                  </a:lnTo>
                  <a:lnTo>
                    <a:pt x="1037" y="1681"/>
                  </a:lnTo>
                  <a:lnTo>
                    <a:pt x="1026" y="1665"/>
                  </a:lnTo>
                  <a:lnTo>
                    <a:pt x="1019" y="1646"/>
                  </a:lnTo>
                  <a:lnTo>
                    <a:pt x="1016" y="1633"/>
                  </a:lnTo>
                  <a:lnTo>
                    <a:pt x="1009" y="1613"/>
                  </a:lnTo>
                  <a:lnTo>
                    <a:pt x="999" y="1591"/>
                  </a:lnTo>
                  <a:lnTo>
                    <a:pt x="989" y="1568"/>
                  </a:lnTo>
                  <a:lnTo>
                    <a:pt x="979" y="1545"/>
                  </a:lnTo>
                  <a:lnTo>
                    <a:pt x="969" y="1525"/>
                  </a:lnTo>
                  <a:lnTo>
                    <a:pt x="959" y="1508"/>
                  </a:lnTo>
                  <a:lnTo>
                    <a:pt x="952" y="1499"/>
                  </a:lnTo>
                  <a:lnTo>
                    <a:pt x="942" y="1486"/>
                  </a:lnTo>
                  <a:lnTo>
                    <a:pt x="934" y="1473"/>
                  </a:lnTo>
                  <a:lnTo>
                    <a:pt x="922" y="1458"/>
                  </a:lnTo>
                  <a:lnTo>
                    <a:pt x="911" y="1443"/>
                  </a:lnTo>
                  <a:lnTo>
                    <a:pt x="902" y="1434"/>
                  </a:lnTo>
                  <a:lnTo>
                    <a:pt x="891" y="1426"/>
                  </a:lnTo>
                  <a:lnTo>
                    <a:pt x="879" y="1419"/>
                  </a:lnTo>
                  <a:lnTo>
                    <a:pt x="867" y="1411"/>
                  </a:lnTo>
                  <a:lnTo>
                    <a:pt x="854" y="1404"/>
                  </a:lnTo>
                  <a:lnTo>
                    <a:pt x="842" y="1399"/>
                  </a:lnTo>
                  <a:lnTo>
                    <a:pt x="831" y="1396"/>
                  </a:lnTo>
                  <a:lnTo>
                    <a:pt x="820" y="1394"/>
                  </a:lnTo>
                  <a:lnTo>
                    <a:pt x="812" y="1393"/>
                  </a:lnTo>
                  <a:lnTo>
                    <a:pt x="805" y="1389"/>
                  </a:lnTo>
                  <a:lnTo>
                    <a:pt x="800" y="1384"/>
                  </a:lnTo>
                  <a:lnTo>
                    <a:pt x="794" y="1376"/>
                  </a:lnTo>
                  <a:lnTo>
                    <a:pt x="789" y="1368"/>
                  </a:lnTo>
                  <a:lnTo>
                    <a:pt x="782" y="1354"/>
                  </a:lnTo>
                  <a:lnTo>
                    <a:pt x="774" y="1341"/>
                  </a:lnTo>
                  <a:lnTo>
                    <a:pt x="762" y="1324"/>
                  </a:lnTo>
                  <a:lnTo>
                    <a:pt x="750" y="1306"/>
                  </a:lnTo>
                  <a:lnTo>
                    <a:pt x="740" y="1288"/>
                  </a:lnTo>
                  <a:lnTo>
                    <a:pt x="732" y="1269"/>
                  </a:lnTo>
                  <a:lnTo>
                    <a:pt x="724" y="1253"/>
                  </a:lnTo>
                  <a:lnTo>
                    <a:pt x="717" y="1234"/>
                  </a:lnTo>
                  <a:lnTo>
                    <a:pt x="712" y="1219"/>
                  </a:lnTo>
                  <a:lnTo>
                    <a:pt x="709" y="1204"/>
                  </a:lnTo>
                  <a:lnTo>
                    <a:pt x="705" y="1191"/>
                  </a:lnTo>
                  <a:lnTo>
                    <a:pt x="700" y="1166"/>
                  </a:lnTo>
                  <a:lnTo>
                    <a:pt x="692" y="1143"/>
                  </a:lnTo>
                  <a:lnTo>
                    <a:pt x="685" y="1126"/>
                  </a:lnTo>
                  <a:lnTo>
                    <a:pt x="682" y="1119"/>
                  </a:lnTo>
                  <a:lnTo>
                    <a:pt x="689" y="1108"/>
                  </a:lnTo>
                  <a:lnTo>
                    <a:pt x="700" y="1078"/>
                  </a:lnTo>
                  <a:lnTo>
                    <a:pt x="707" y="1038"/>
                  </a:lnTo>
                  <a:lnTo>
                    <a:pt x="697" y="996"/>
                  </a:lnTo>
                  <a:lnTo>
                    <a:pt x="680" y="961"/>
                  </a:lnTo>
                  <a:lnTo>
                    <a:pt x="670" y="932"/>
                  </a:lnTo>
                  <a:lnTo>
                    <a:pt x="662" y="904"/>
                  </a:lnTo>
                  <a:lnTo>
                    <a:pt x="649" y="872"/>
                  </a:lnTo>
                  <a:lnTo>
                    <a:pt x="640" y="856"/>
                  </a:lnTo>
                  <a:lnTo>
                    <a:pt x="635" y="839"/>
                  </a:lnTo>
                  <a:lnTo>
                    <a:pt x="630" y="826"/>
                  </a:lnTo>
                  <a:lnTo>
                    <a:pt x="625" y="814"/>
                  </a:lnTo>
                  <a:lnTo>
                    <a:pt x="620" y="802"/>
                  </a:lnTo>
                  <a:lnTo>
                    <a:pt x="614" y="792"/>
                  </a:lnTo>
                  <a:lnTo>
                    <a:pt x="607" y="784"/>
                  </a:lnTo>
                  <a:lnTo>
                    <a:pt x="597" y="777"/>
                  </a:lnTo>
                  <a:lnTo>
                    <a:pt x="587" y="771"/>
                  </a:lnTo>
                  <a:lnTo>
                    <a:pt x="575" y="762"/>
                  </a:lnTo>
                  <a:lnTo>
                    <a:pt x="565" y="754"/>
                  </a:lnTo>
                  <a:lnTo>
                    <a:pt x="554" y="744"/>
                  </a:lnTo>
                  <a:lnTo>
                    <a:pt x="542" y="736"/>
                  </a:lnTo>
                  <a:lnTo>
                    <a:pt x="529" y="729"/>
                  </a:lnTo>
                  <a:lnTo>
                    <a:pt x="515" y="721"/>
                  </a:lnTo>
                  <a:lnTo>
                    <a:pt x="502" y="716"/>
                  </a:lnTo>
                  <a:lnTo>
                    <a:pt x="480" y="702"/>
                  </a:lnTo>
                  <a:lnTo>
                    <a:pt x="470" y="686"/>
                  </a:lnTo>
                  <a:lnTo>
                    <a:pt x="464" y="667"/>
                  </a:lnTo>
                  <a:lnTo>
                    <a:pt x="454" y="649"/>
                  </a:lnTo>
                  <a:lnTo>
                    <a:pt x="444" y="634"/>
                  </a:lnTo>
                  <a:lnTo>
                    <a:pt x="437" y="621"/>
                  </a:lnTo>
                  <a:lnTo>
                    <a:pt x="435" y="611"/>
                  </a:lnTo>
                  <a:lnTo>
                    <a:pt x="435" y="607"/>
                  </a:lnTo>
                  <a:lnTo>
                    <a:pt x="437" y="607"/>
                  </a:lnTo>
                  <a:lnTo>
                    <a:pt x="442" y="606"/>
                  </a:lnTo>
                  <a:lnTo>
                    <a:pt x="449" y="602"/>
                  </a:lnTo>
                  <a:lnTo>
                    <a:pt x="455" y="596"/>
                  </a:lnTo>
                  <a:lnTo>
                    <a:pt x="459" y="589"/>
                  </a:lnTo>
                  <a:lnTo>
                    <a:pt x="459" y="577"/>
                  </a:lnTo>
                  <a:lnTo>
                    <a:pt x="454" y="564"/>
                  </a:lnTo>
                  <a:lnTo>
                    <a:pt x="440" y="546"/>
                  </a:lnTo>
                  <a:lnTo>
                    <a:pt x="434" y="539"/>
                  </a:lnTo>
                  <a:lnTo>
                    <a:pt x="429" y="532"/>
                  </a:lnTo>
                  <a:lnTo>
                    <a:pt x="424" y="529"/>
                  </a:lnTo>
                  <a:lnTo>
                    <a:pt x="420" y="526"/>
                  </a:lnTo>
                  <a:lnTo>
                    <a:pt x="419" y="527"/>
                  </a:lnTo>
                  <a:lnTo>
                    <a:pt x="415" y="526"/>
                  </a:lnTo>
                  <a:lnTo>
                    <a:pt x="415" y="522"/>
                  </a:lnTo>
                  <a:lnTo>
                    <a:pt x="420" y="526"/>
                  </a:lnTo>
                  <a:lnTo>
                    <a:pt x="420" y="524"/>
                  </a:lnTo>
                  <a:lnTo>
                    <a:pt x="419" y="521"/>
                  </a:lnTo>
                  <a:lnTo>
                    <a:pt x="419" y="517"/>
                  </a:lnTo>
                  <a:lnTo>
                    <a:pt x="417" y="512"/>
                  </a:lnTo>
                  <a:lnTo>
                    <a:pt x="409" y="490"/>
                  </a:lnTo>
                  <a:lnTo>
                    <a:pt x="405" y="477"/>
                  </a:lnTo>
                  <a:lnTo>
                    <a:pt x="399" y="467"/>
                  </a:lnTo>
                  <a:lnTo>
                    <a:pt x="384" y="455"/>
                  </a:lnTo>
                  <a:lnTo>
                    <a:pt x="372" y="440"/>
                  </a:lnTo>
                  <a:lnTo>
                    <a:pt x="374" y="425"/>
                  </a:lnTo>
                  <a:lnTo>
                    <a:pt x="375" y="412"/>
                  </a:lnTo>
                  <a:lnTo>
                    <a:pt x="364" y="399"/>
                  </a:lnTo>
                  <a:lnTo>
                    <a:pt x="345" y="387"/>
                  </a:lnTo>
                  <a:lnTo>
                    <a:pt x="332" y="372"/>
                  </a:lnTo>
                  <a:lnTo>
                    <a:pt x="325" y="355"/>
                  </a:lnTo>
                  <a:lnTo>
                    <a:pt x="322" y="337"/>
                  </a:lnTo>
                  <a:lnTo>
                    <a:pt x="319" y="317"/>
                  </a:lnTo>
                  <a:lnTo>
                    <a:pt x="309" y="290"/>
                  </a:lnTo>
                  <a:lnTo>
                    <a:pt x="294" y="264"/>
                  </a:lnTo>
                  <a:lnTo>
                    <a:pt x="273" y="237"/>
                  </a:lnTo>
                  <a:lnTo>
                    <a:pt x="260" y="215"/>
                  </a:lnTo>
                  <a:lnTo>
                    <a:pt x="257" y="197"/>
                  </a:lnTo>
                  <a:lnTo>
                    <a:pt x="255" y="184"/>
                  </a:lnTo>
                  <a:lnTo>
                    <a:pt x="245" y="175"/>
                  </a:lnTo>
                  <a:lnTo>
                    <a:pt x="233" y="167"/>
                  </a:lnTo>
                  <a:lnTo>
                    <a:pt x="228" y="154"/>
                  </a:lnTo>
                  <a:lnTo>
                    <a:pt x="222" y="140"/>
                  </a:lnTo>
                  <a:lnTo>
                    <a:pt x="207" y="124"/>
                  </a:lnTo>
                  <a:lnTo>
                    <a:pt x="188" y="100"/>
                  </a:lnTo>
                  <a:lnTo>
                    <a:pt x="175" y="74"/>
                  </a:lnTo>
                  <a:lnTo>
                    <a:pt x="168" y="52"/>
                  </a:lnTo>
                  <a:lnTo>
                    <a:pt x="165" y="42"/>
                  </a:lnTo>
                  <a:lnTo>
                    <a:pt x="160" y="42"/>
                  </a:lnTo>
                  <a:lnTo>
                    <a:pt x="148" y="42"/>
                  </a:lnTo>
                  <a:lnTo>
                    <a:pt x="133" y="42"/>
                  </a:lnTo>
                  <a:lnTo>
                    <a:pt x="122" y="42"/>
                  </a:lnTo>
                  <a:lnTo>
                    <a:pt x="110" y="42"/>
                  </a:lnTo>
                  <a:lnTo>
                    <a:pt x="100" y="44"/>
                  </a:lnTo>
                  <a:lnTo>
                    <a:pt x="92" y="47"/>
                  </a:lnTo>
                  <a:lnTo>
                    <a:pt x="88" y="47"/>
                  </a:lnTo>
                  <a:lnTo>
                    <a:pt x="90" y="44"/>
                  </a:lnTo>
                  <a:lnTo>
                    <a:pt x="93" y="34"/>
                  </a:lnTo>
                  <a:lnTo>
                    <a:pt x="98" y="20"/>
                  </a:lnTo>
                  <a:lnTo>
                    <a:pt x="103" y="8"/>
                  </a:lnTo>
                  <a:lnTo>
                    <a:pt x="103" y="8"/>
                  </a:lnTo>
                  <a:lnTo>
                    <a:pt x="103" y="8"/>
                  </a:lnTo>
                  <a:lnTo>
                    <a:pt x="103" y="8"/>
                  </a:lnTo>
                  <a:lnTo>
                    <a:pt x="103" y="8"/>
                  </a:lnTo>
                  <a:lnTo>
                    <a:pt x="67" y="0"/>
                  </a:lnTo>
                  <a:lnTo>
                    <a:pt x="67" y="5"/>
                  </a:lnTo>
                  <a:lnTo>
                    <a:pt x="65" y="19"/>
                  </a:lnTo>
                  <a:lnTo>
                    <a:pt x="62" y="34"/>
                  </a:lnTo>
                  <a:lnTo>
                    <a:pt x="57" y="47"/>
                  </a:lnTo>
                  <a:lnTo>
                    <a:pt x="50" y="57"/>
                  </a:lnTo>
                  <a:lnTo>
                    <a:pt x="45" y="65"/>
                  </a:lnTo>
                  <a:lnTo>
                    <a:pt x="40" y="79"/>
                  </a:lnTo>
                  <a:lnTo>
                    <a:pt x="38" y="95"/>
                  </a:lnTo>
                  <a:lnTo>
                    <a:pt x="35" y="119"/>
                  </a:lnTo>
                  <a:lnTo>
                    <a:pt x="28" y="145"/>
                  </a:lnTo>
                  <a:lnTo>
                    <a:pt x="20" y="169"/>
                  </a:lnTo>
                  <a:lnTo>
                    <a:pt x="15" y="185"/>
                  </a:lnTo>
                  <a:lnTo>
                    <a:pt x="10" y="197"/>
                  </a:lnTo>
                  <a:lnTo>
                    <a:pt x="5" y="209"/>
                  </a:lnTo>
                  <a:lnTo>
                    <a:pt x="2" y="220"/>
                  </a:lnTo>
                  <a:lnTo>
                    <a:pt x="0" y="224"/>
                  </a:lnTo>
                  <a:lnTo>
                    <a:pt x="3" y="224"/>
                  </a:lnTo>
                  <a:lnTo>
                    <a:pt x="12" y="220"/>
                  </a:lnTo>
                  <a:lnTo>
                    <a:pt x="23" y="219"/>
                  </a:lnTo>
                  <a:lnTo>
                    <a:pt x="33" y="219"/>
                  </a:lnTo>
                  <a:lnTo>
                    <a:pt x="47" y="219"/>
                  </a:lnTo>
                  <a:lnTo>
                    <a:pt x="60" y="219"/>
                  </a:lnTo>
                  <a:lnTo>
                    <a:pt x="72" y="219"/>
                  </a:lnTo>
                  <a:lnTo>
                    <a:pt x="77" y="219"/>
                  </a:lnTo>
                  <a:lnTo>
                    <a:pt x="80" y="229"/>
                  </a:lnTo>
                  <a:lnTo>
                    <a:pt x="87" y="250"/>
                  </a:lnTo>
                  <a:lnTo>
                    <a:pt x="100" y="277"/>
                  </a:lnTo>
                  <a:lnTo>
                    <a:pt x="118" y="299"/>
                  </a:lnTo>
                  <a:lnTo>
                    <a:pt x="133" y="315"/>
                  </a:lnTo>
                  <a:lnTo>
                    <a:pt x="140" y="330"/>
                  </a:lnTo>
                  <a:lnTo>
                    <a:pt x="145" y="342"/>
                  </a:lnTo>
                  <a:lnTo>
                    <a:pt x="157" y="352"/>
                  </a:lnTo>
                  <a:lnTo>
                    <a:pt x="167" y="360"/>
                  </a:lnTo>
                  <a:lnTo>
                    <a:pt x="168" y="374"/>
                  </a:lnTo>
                  <a:lnTo>
                    <a:pt x="172" y="390"/>
                  </a:lnTo>
                  <a:lnTo>
                    <a:pt x="185" y="414"/>
                  </a:lnTo>
                  <a:lnTo>
                    <a:pt x="205" y="440"/>
                  </a:lnTo>
                  <a:lnTo>
                    <a:pt x="220" y="467"/>
                  </a:lnTo>
                  <a:lnTo>
                    <a:pt x="230" y="492"/>
                  </a:lnTo>
                  <a:lnTo>
                    <a:pt x="233" y="512"/>
                  </a:lnTo>
                  <a:lnTo>
                    <a:pt x="237" y="531"/>
                  </a:lnTo>
                  <a:lnTo>
                    <a:pt x="243" y="547"/>
                  </a:lnTo>
                  <a:lnTo>
                    <a:pt x="257" y="562"/>
                  </a:lnTo>
                  <a:lnTo>
                    <a:pt x="275" y="574"/>
                  </a:lnTo>
                  <a:lnTo>
                    <a:pt x="287" y="587"/>
                  </a:lnTo>
                  <a:lnTo>
                    <a:pt x="285" y="601"/>
                  </a:lnTo>
                  <a:lnTo>
                    <a:pt x="284" y="617"/>
                  </a:lnTo>
                  <a:lnTo>
                    <a:pt x="295" y="632"/>
                  </a:lnTo>
                  <a:lnTo>
                    <a:pt x="310" y="642"/>
                  </a:lnTo>
                  <a:lnTo>
                    <a:pt x="317" y="652"/>
                  </a:lnTo>
                  <a:lnTo>
                    <a:pt x="320" y="666"/>
                  </a:lnTo>
                  <a:lnTo>
                    <a:pt x="329" y="687"/>
                  </a:lnTo>
                  <a:lnTo>
                    <a:pt x="330" y="692"/>
                  </a:lnTo>
                  <a:lnTo>
                    <a:pt x="330" y="696"/>
                  </a:lnTo>
                  <a:lnTo>
                    <a:pt x="332" y="697"/>
                  </a:lnTo>
                  <a:lnTo>
                    <a:pt x="332" y="699"/>
                  </a:lnTo>
                  <a:lnTo>
                    <a:pt x="335" y="702"/>
                  </a:lnTo>
                  <a:lnTo>
                    <a:pt x="340" y="707"/>
                  </a:lnTo>
                  <a:lnTo>
                    <a:pt x="345" y="712"/>
                  </a:lnTo>
                  <a:lnTo>
                    <a:pt x="352" y="721"/>
                  </a:lnTo>
                  <a:lnTo>
                    <a:pt x="365" y="737"/>
                  </a:lnTo>
                  <a:lnTo>
                    <a:pt x="370" y="752"/>
                  </a:lnTo>
                  <a:lnTo>
                    <a:pt x="370" y="762"/>
                  </a:lnTo>
                  <a:lnTo>
                    <a:pt x="367" y="771"/>
                  </a:lnTo>
                  <a:lnTo>
                    <a:pt x="360" y="776"/>
                  </a:lnTo>
                  <a:lnTo>
                    <a:pt x="354" y="781"/>
                  </a:lnTo>
                  <a:lnTo>
                    <a:pt x="349" y="782"/>
                  </a:lnTo>
                  <a:lnTo>
                    <a:pt x="347" y="782"/>
                  </a:lnTo>
                  <a:lnTo>
                    <a:pt x="347" y="786"/>
                  </a:lnTo>
                  <a:lnTo>
                    <a:pt x="350" y="794"/>
                  </a:lnTo>
                  <a:lnTo>
                    <a:pt x="355" y="807"/>
                  </a:lnTo>
                  <a:lnTo>
                    <a:pt x="367" y="824"/>
                  </a:lnTo>
                  <a:lnTo>
                    <a:pt x="377" y="842"/>
                  </a:lnTo>
                  <a:lnTo>
                    <a:pt x="384" y="862"/>
                  </a:lnTo>
                  <a:lnTo>
                    <a:pt x="392" y="877"/>
                  </a:lnTo>
                  <a:lnTo>
                    <a:pt x="414" y="891"/>
                  </a:lnTo>
                  <a:lnTo>
                    <a:pt x="427" y="897"/>
                  </a:lnTo>
                  <a:lnTo>
                    <a:pt x="440" y="904"/>
                  </a:lnTo>
                  <a:lnTo>
                    <a:pt x="454" y="912"/>
                  </a:lnTo>
                  <a:lnTo>
                    <a:pt x="465" y="921"/>
                  </a:lnTo>
                  <a:lnTo>
                    <a:pt x="477" y="929"/>
                  </a:lnTo>
                  <a:lnTo>
                    <a:pt x="487" y="937"/>
                  </a:lnTo>
                  <a:lnTo>
                    <a:pt x="499" y="946"/>
                  </a:lnTo>
                  <a:lnTo>
                    <a:pt x="509" y="952"/>
                  </a:lnTo>
                  <a:lnTo>
                    <a:pt x="519" y="961"/>
                  </a:lnTo>
                  <a:lnTo>
                    <a:pt x="525" y="969"/>
                  </a:lnTo>
                  <a:lnTo>
                    <a:pt x="532" y="979"/>
                  </a:lnTo>
                  <a:lnTo>
                    <a:pt x="537" y="989"/>
                  </a:lnTo>
                  <a:lnTo>
                    <a:pt x="542" y="1002"/>
                  </a:lnTo>
                  <a:lnTo>
                    <a:pt x="547" y="1016"/>
                  </a:lnTo>
                  <a:lnTo>
                    <a:pt x="552" y="1031"/>
                  </a:lnTo>
                  <a:lnTo>
                    <a:pt x="560" y="1048"/>
                  </a:lnTo>
                  <a:lnTo>
                    <a:pt x="574" y="1079"/>
                  </a:lnTo>
                  <a:lnTo>
                    <a:pt x="584" y="1108"/>
                  </a:lnTo>
                  <a:lnTo>
                    <a:pt x="592" y="1136"/>
                  </a:lnTo>
                  <a:lnTo>
                    <a:pt x="609" y="1171"/>
                  </a:lnTo>
                  <a:lnTo>
                    <a:pt x="619" y="1213"/>
                  </a:lnTo>
                  <a:lnTo>
                    <a:pt x="612" y="1253"/>
                  </a:lnTo>
                  <a:lnTo>
                    <a:pt x="600" y="1283"/>
                  </a:lnTo>
                  <a:lnTo>
                    <a:pt x="594" y="1294"/>
                  </a:lnTo>
                  <a:lnTo>
                    <a:pt x="597" y="1301"/>
                  </a:lnTo>
                  <a:lnTo>
                    <a:pt x="604" y="1318"/>
                  </a:lnTo>
                  <a:lnTo>
                    <a:pt x="612" y="1341"/>
                  </a:lnTo>
                  <a:lnTo>
                    <a:pt x="617" y="1366"/>
                  </a:lnTo>
                  <a:lnTo>
                    <a:pt x="620" y="1379"/>
                  </a:lnTo>
                  <a:lnTo>
                    <a:pt x="624" y="1394"/>
                  </a:lnTo>
                  <a:lnTo>
                    <a:pt x="629" y="1409"/>
                  </a:lnTo>
                  <a:lnTo>
                    <a:pt x="635" y="1428"/>
                  </a:lnTo>
                  <a:lnTo>
                    <a:pt x="644" y="1444"/>
                  </a:lnTo>
                  <a:lnTo>
                    <a:pt x="654" y="1463"/>
                  </a:lnTo>
                  <a:lnTo>
                    <a:pt x="664" y="1481"/>
                  </a:lnTo>
                  <a:lnTo>
                    <a:pt x="675" y="1499"/>
                  </a:lnTo>
                  <a:lnTo>
                    <a:pt x="687" y="1516"/>
                  </a:lnTo>
                  <a:lnTo>
                    <a:pt x="695" y="1531"/>
                  </a:lnTo>
                  <a:lnTo>
                    <a:pt x="702" y="1543"/>
                  </a:lnTo>
                  <a:lnTo>
                    <a:pt x="707" y="1553"/>
                  </a:lnTo>
                  <a:lnTo>
                    <a:pt x="712" y="1561"/>
                  </a:lnTo>
                  <a:lnTo>
                    <a:pt x="719" y="1566"/>
                  </a:lnTo>
                  <a:lnTo>
                    <a:pt x="724" y="1570"/>
                  </a:lnTo>
                  <a:lnTo>
                    <a:pt x="732" y="1571"/>
                  </a:lnTo>
                  <a:lnTo>
                    <a:pt x="742" y="1573"/>
                  </a:lnTo>
                  <a:lnTo>
                    <a:pt x="754" y="1576"/>
                  </a:lnTo>
                  <a:lnTo>
                    <a:pt x="765" y="1581"/>
                  </a:lnTo>
                  <a:lnTo>
                    <a:pt x="779" y="1588"/>
                  </a:lnTo>
                  <a:lnTo>
                    <a:pt x="792" y="1595"/>
                  </a:lnTo>
                  <a:lnTo>
                    <a:pt x="804" y="1603"/>
                  </a:lnTo>
                  <a:lnTo>
                    <a:pt x="814" y="1611"/>
                  </a:lnTo>
                  <a:lnTo>
                    <a:pt x="822" y="1618"/>
                  </a:lnTo>
                  <a:lnTo>
                    <a:pt x="834" y="1633"/>
                  </a:lnTo>
                  <a:lnTo>
                    <a:pt x="846" y="1648"/>
                  </a:lnTo>
                  <a:lnTo>
                    <a:pt x="856" y="1663"/>
                  </a:lnTo>
                  <a:lnTo>
                    <a:pt x="866" y="1675"/>
                  </a:lnTo>
                  <a:lnTo>
                    <a:pt x="872" y="1685"/>
                  </a:lnTo>
                  <a:lnTo>
                    <a:pt x="881" y="1700"/>
                  </a:lnTo>
                  <a:lnTo>
                    <a:pt x="891" y="1721"/>
                  </a:lnTo>
                  <a:lnTo>
                    <a:pt x="902" y="1743"/>
                  </a:lnTo>
                  <a:lnTo>
                    <a:pt x="912" y="1768"/>
                  </a:lnTo>
                  <a:lnTo>
                    <a:pt x="921" y="1790"/>
                  </a:lnTo>
                  <a:lnTo>
                    <a:pt x="927" y="1810"/>
                  </a:lnTo>
                  <a:lnTo>
                    <a:pt x="931" y="1823"/>
                  </a:lnTo>
                  <a:lnTo>
                    <a:pt x="937" y="1841"/>
                  </a:lnTo>
                  <a:lnTo>
                    <a:pt x="951" y="1858"/>
                  </a:lnTo>
                  <a:lnTo>
                    <a:pt x="964" y="1878"/>
                  </a:lnTo>
                  <a:lnTo>
                    <a:pt x="979" y="1908"/>
                  </a:lnTo>
                  <a:lnTo>
                    <a:pt x="987" y="1926"/>
                  </a:lnTo>
                  <a:lnTo>
                    <a:pt x="999" y="1945"/>
                  </a:lnTo>
                  <a:lnTo>
                    <a:pt x="1014" y="1965"/>
                  </a:lnTo>
                  <a:lnTo>
                    <a:pt x="1029" y="1981"/>
                  </a:lnTo>
                  <a:lnTo>
                    <a:pt x="1044" y="2000"/>
                  </a:lnTo>
                  <a:lnTo>
                    <a:pt x="1059" y="2015"/>
                  </a:lnTo>
                  <a:lnTo>
                    <a:pt x="1072" y="2027"/>
                  </a:lnTo>
                  <a:lnTo>
                    <a:pt x="1084" y="2037"/>
                  </a:lnTo>
                  <a:lnTo>
                    <a:pt x="1097" y="2052"/>
                  </a:lnTo>
                  <a:lnTo>
                    <a:pt x="1106" y="2068"/>
                  </a:lnTo>
                  <a:lnTo>
                    <a:pt x="1109" y="2085"/>
                  </a:lnTo>
                  <a:lnTo>
                    <a:pt x="1112" y="2098"/>
                  </a:lnTo>
                  <a:lnTo>
                    <a:pt x="1117" y="2108"/>
                  </a:lnTo>
                  <a:lnTo>
                    <a:pt x="1126" y="2120"/>
                  </a:lnTo>
                  <a:lnTo>
                    <a:pt x="1136" y="2132"/>
                  </a:lnTo>
                  <a:lnTo>
                    <a:pt x="1146" y="2145"/>
                  </a:lnTo>
                  <a:lnTo>
                    <a:pt x="1156" y="2160"/>
                  </a:lnTo>
                  <a:lnTo>
                    <a:pt x="1164" y="2175"/>
                  </a:lnTo>
                  <a:lnTo>
                    <a:pt x="1169" y="2190"/>
                  </a:lnTo>
                  <a:lnTo>
                    <a:pt x="1169" y="2202"/>
                  </a:lnTo>
                  <a:lnTo>
                    <a:pt x="1169" y="2217"/>
                  </a:lnTo>
                  <a:lnTo>
                    <a:pt x="1172" y="2233"/>
                  </a:lnTo>
                  <a:lnTo>
                    <a:pt x="1177" y="2248"/>
                  </a:lnTo>
                  <a:lnTo>
                    <a:pt x="1179" y="2255"/>
                  </a:lnTo>
                  <a:lnTo>
                    <a:pt x="1216" y="2227"/>
                  </a:lnTo>
                  <a:lnTo>
                    <a:pt x="1219" y="2222"/>
                  </a:lnTo>
                  <a:lnTo>
                    <a:pt x="1226" y="2208"/>
                  </a:lnTo>
                  <a:lnTo>
                    <a:pt x="1232" y="2192"/>
                  </a:lnTo>
                  <a:lnTo>
                    <a:pt x="1236" y="2178"/>
                  </a:lnTo>
                  <a:lnTo>
                    <a:pt x="1236" y="2165"/>
                  </a:lnTo>
                  <a:lnTo>
                    <a:pt x="1234" y="2145"/>
                  </a:lnTo>
                  <a:lnTo>
                    <a:pt x="1236" y="2123"/>
                  </a:lnTo>
                  <a:lnTo>
                    <a:pt x="1241" y="2103"/>
                  </a:lnTo>
                  <a:lnTo>
                    <a:pt x="1241" y="2087"/>
                  </a:lnTo>
                  <a:lnTo>
                    <a:pt x="1236" y="2077"/>
                  </a:lnTo>
                  <a:lnTo>
                    <a:pt x="1234" y="2067"/>
                  </a:lnTo>
                  <a:lnTo>
                    <a:pt x="1241" y="2060"/>
                  </a:lnTo>
                  <a:lnTo>
                    <a:pt x="1246" y="2057"/>
                  </a:lnTo>
                  <a:lnTo>
                    <a:pt x="1251" y="2057"/>
                  </a:lnTo>
                  <a:lnTo>
                    <a:pt x="1256" y="2058"/>
                  </a:lnTo>
                  <a:lnTo>
                    <a:pt x="1261" y="2062"/>
                  </a:lnTo>
                  <a:lnTo>
                    <a:pt x="1259" y="2052"/>
                  </a:lnTo>
                  <a:lnTo>
                    <a:pt x="1257" y="2043"/>
                  </a:lnTo>
                  <a:lnTo>
                    <a:pt x="1256" y="2033"/>
                  </a:lnTo>
                  <a:lnTo>
                    <a:pt x="1257" y="2027"/>
                  </a:lnTo>
                  <a:close/>
                </a:path>
              </a:pathLst>
            </a:custGeom>
            <a:solidFill>
              <a:srgbClr val="ffffff">
                <a:alpha val="10000"/>
              </a:srgbClr>
            </a:solidFill>
            <a:ln cap="sq" w="9360">
              <a:solidFill>
                <a:srgbClr val="ffffff"/>
              </a:solidFill>
              <a:round/>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50" name=""/>
            <p:cNvSpPr/>
            <p:nvPr/>
          </p:nvSpPr>
          <p:spPr>
            <a:xfrm>
              <a:off x="3086280" y="3249720"/>
              <a:ext cx="4680" cy="4680"/>
            </a:xfrm>
            <a:custGeom>
              <a:avLst/>
              <a:gdLst/>
              <a:ahLst/>
              <a:rect l="l" t="t" r="r" b="b"/>
              <a:pathLst>
                <a:path w="5" h="5">
                  <a:moveTo>
                    <a:pt x="5" y="3"/>
                  </a:moveTo>
                  <a:lnTo>
                    <a:pt x="0" y="0"/>
                  </a:lnTo>
                  <a:lnTo>
                    <a:pt x="2" y="3"/>
                  </a:lnTo>
                  <a:lnTo>
                    <a:pt x="3" y="5"/>
                  </a:lnTo>
                  <a:lnTo>
                    <a:pt x="5" y="3"/>
                  </a:lnTo>
                  <a:lnTo>
                    <a:pt x="5" y="3"/>
                  </a:lnTo>
                  <a:close/>
                </a:path>
              </a:pathLst>
            </a:custGeom>
            <a:solidFill>
              <a:srgbClr val="000000"/>
            </a:solidFill>
            <a:ln w="0">
              <a:noFill/>
            </a:ln>
          </p:spPr>
          <p:style>
            <a:lnRef idx="0"/>
            <a:fillRef idx="0"/>
            <a:effectRef idx="0"/>
            <a:fontRef idx="minor"/>
          </p:style>
          <p:txBody>
            <a:bodyPr wrap="none" lIns="90000" rIns="90000" tIns="-42120" bIns="-421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51" name=""/>
            <p:cNvSpPr/>
            <p:nvPr/>
          </p:nvSpPr>
          <p:spPr>
            <a:xfrm>
              <a:off x="4379760" y="4205160"/>
              <a:ext cx="2567160" cy="993960"/>
            </a:xfrm>
            <a:custGeom>
              <a:avLst/>
              <a:gdLst/>
              <a:ahLst/>
              <a:rect l="l" t="t" r="r" b="b"/>
              <a:pathLst>
                <a:path w="1881" h="744">
                  <a:moveTo>
                    <a:pt x="1298" y="222"/>
                  </a:moveTo>
                  <a:lnTo>
                    <a:pt x="1283" y="225"/>
                  </a:lnTo>
                  <a:lnTo>
                    <a:pt x="1263" y="230"/>
                  </a:lnTo>
                  <a:lnTo>
                    <a:pt x="1239" y="235"/>
                  </a:lnTo>
                  <a:lnTo>
                    <a:pt x="1214" y="242"/>
                  </a:lnTo>
                  <a:lnTo>
                    <a:pt x="1186" y="249"/>
                  </a:lnTo>
                  <a:lnTo>
                    <a:pt x="1157" y="255"/>
                  </a:lnTo>
                  <a:lnTo>
                    <a:pt x="1127" y="262"/>
                  </a:lnTo>
                  <a:lnTo>
                    <a:pt x="1097" y="269"/>
                  </a:lnTo>
                  <a:lnTo>
                    <a:pt x="1067" y="275"/>
                  </a:lnTo>
                  <a:lnTo>
                    <a:pt x="1039" y="284"/>
                  </a:lnTo>
                  <a:lnTo>
                    <a:pt x="1012" y="290"/>
                  </a:lnTo>
                  <a:lnTo>
                    <a:pt x="989" y="297"/>
                  </a:lnTo>
                  <a:lnTo>
                    <a:pt x="967" y="302"/>
                  </a:lnTo>
                  <a:lnTo>
                    <a:pt x="949" y="309"/>
                  </a:lnTo>
                  <a:lnTo>
                    <a:pt x="936" y="314"/>
                  </a:lnTo>
                  <a:lnTo>
                    <a:pt x="927" y="317"/>
                  </a:lnTo>
                  <a:lnTo>
                    <a:pt x="914" y="324"/>
                  </a:lnTo>
                  <a:lnTo>
                    <a:pt x="901" y="329"/>
                  </a:lnTo>
                  <a:lnTo>
                    <a:pt x="887" y="337"/>
                  </a:lnTo>
                  <a:lnTo>
                    <a:pt x="872" y="344"/>
                  </a:lnTo>
                  <a:lnTo>
                    <a:pt x="857" y="355"/>
                  </a:lnTo>
                  <a:lnTo>
                    <a:pt x="842" y="369"/>
                  </a:lnTo>
                  <a:lnTo>
                    <a:pt x="826" y="389"/>
                  </a:lnTo>
                  <a:lnTo>
                    <a:pt x="807" y="412"/>
                  </a:lnTo>
                  <a:lnTo>
                    <a:pt x="791" y="437"/>
                  </a:lnTo>
                  <a:lnTo>
                    <a:pt x="776" y="460"/>
                  </a:lnTo>
                  <a:lnTo>
                    <a:pt x="761" y="482"/>
                  </a:lnTo>
                  <a:lnTo>
                    <a:pt x="747" y="502"/>
                  </a:lnTo>
                  <a:lnTo>
                    <a:pt x="737" y="519"/>
                  </a:lnTo>
                  <a:lnTo>
                    <a:pt x="727" y="532"/>
                  </a:lnTo>
                  <a:lnTo>
                    <a:pt x="719" y="542"/>
                  </a:lnTo>
                  <a:lnTo>
                    <a:pt x="712" y="549"/>
                  </a:lnTo>
                  <a:lnTo>
                    <a:pt x="706" y="554"/>
                  </a:lnTo>
                  <a:lnTo>
                    <a:pt x="699" y="559"/>
                  </a:lnTo>
                  <a:lnTo>
                    <a:pt x="689" y="564"/>
                  </a:lnTo>
                  <a:lnTo>
                    <a:pt x="679" y="565"/>
                  </a:lnTo>
                  <a:lnTo>
                    <a:pt x="667" y="567"/>
                  </a:lnTo>
                  <a:lnTo>
                    <a:pt x="657" y="567"/>
                  </a:lnTo>
                  <a:lnTo>
                    <a:pt x="647" y="564"/>
                  </a:lnTo>
                  <a:lnTo>
                    <a:pt x="637" y="559"/>
                  </a:lnTo>
                  <a:lnTo>
                    <a:pt x="629" y="552"/>
                  </a:lnTo>
                  <a:lnTo>
                    <a:pt x="622" y="544"/>
                  </a:lnTo>
                  <a:lnTo>
                    <a:pt x="615" y="535"/>
                  </a:lnTo>
                  <a:lnTo>
                    <a:pt x="609" y="529"/>
                  </a:lnTo>
                  <a:lnTo>
                    <a:pt x="602" y="524"/>
                  </a:lnTo>
                  <a:lnTo>
                    <a:pt x="595" y="520"/>
                  </a:lnTo>
                  <a:lnTo>
                    <a:pt x="589" y="519"/>
                  </a:lnTo>
                  <a:lnTo>
                    <a:pt x="580" y="520"/>
                  </a:lnTo>
                  <a:lnTo>
                    <a:pt x="569" y="524"/>
                  </a:lnTo>
                  <a:lnTo>
                    <a:pt x="554" y="525"/>
                  </a:lnTo>
                  <a:lnTo>
                    <a:pt x="537" y="525"/>
                  </a:lnTo>
                  <a:lnTo>
                    <a:pt x="519" y="525"/>
                  </a:lnTo>
                  <a:lnTo>
                    <a:pt x="499" y="525"/>
                  </a:lnTo>
                  <a:lnTo>
                    <a:pt x="480" y="524"/>
                  </a:lnTo>
                  <a:lnTo>
                    <a:pt x="462" y="522"/>
                  </a:lnTo>
                  <a:lnTo>
                    <a:pt x="447" y="520"/>
                  </a:lnTo>
                  <a:lnTo>
                    <a:pt x="432" y="519"/>
                  </a:lnTo>
                  <a:lnTo>
                    <a:pt x="417" y="515"/>
                  </a:lnTo>
                  <a:lnTo>
                    <a:pt x="404" y="510"/>
                  </a:lnTo>
                  <a:lnTo>
                    <a:pt x="389" y="507"/>
                  </a:lnTo>
                  <a:lnTo>
                    <a:pt x="375" y="504"/>
                  </a:lnTo>
                  <a:lnTo>
                    <a:pt x="364" y="500"/>
                  </a:lnTo>
                  <a:lnTo>
                    <a:pt x="352" y="497"/>
                  </a:lnTo>
                  <a:lnTo>
                    <a:pt x="342" y="497"/>
                  </a:lnTo>
                  <a:lnTo>
                    <a:pt x="329" y="497"/>
                  </a:lnTo>
                  <a:lnTo>
                    <a:pt x="307" y="497"/>
                  </a:lnTo>
                  <a:lnTo>
                    <a:pt x="280" y="499"/>
                  </a:lnTo>
                  <a:lnTo>
                    <a:pt x="250" y="499"/>
                  </a:lnTo>
                  <a:lnTo>
                    <a:pt x="224" y="500"/>
                  </a:lnTo>
                  <a:lnTo>
                    <a:pt x="200" y="502"/>
                  </a:lnTo>
                  <a:lnTo>
                    <a:pt x="184" y="502"/>
                  </a:lnTo>
                  <a:lnTo>
                    <a:pt x="177" y="502"/>
                  </a:lnTo>
                  <a:lnTo>
                    <a:pt x="175" y="504"/>
                  </a:lnTo>
                  <a:lnTo>
                    <a:pt x="170" y="505"/>
                  </a:lnTo>
                  <a:lnTo>
                    <a:pt x="164" y="509"/>
                  </a:lnTo>
                  <a:lnTo>
                    <a:pt x="155" y="510"/>
                  </a:lnTo>
                  <a:lnTo>
                    <a:pt x="144" y="512"/>
                  </a:lnTo>
                  <a:lnTo>
                    <a:pt x="132" y="512"/>
                  </a:lnTo>
                  <a:lnTo>
                    <a:pt x="120" y="509"/>
                  </a:lnTo>
                  <a:lnTo>
                    <a:pt x="107" y="502"/>
                  </a:lnTo>
                  <a:lnTo>
                    <a:pt x="95" y="494"/>
                  </a:lnTo>
                  <a:lnTo>
                    <a:pt x="87" y="485"/>
                  </a:lnTo>
                  <a:lnTo>
                    <a:pt x="80" y="479"/>
                  </a:lnTo>
                  <a:lnTo>
                    <a:pt x="75" y="475"/>
                  </a:lnTo>
                  <a:lnTo>
                    <a:pt x="70" y="472"/>
                  </a:lnTo>
                  <a:lnTo>
                    <a:pt x="65" y="470"/>
                  </a:lnTo>
                  <a:lnTo>
                    <a:pt x="60" y="470"/>
                  </a:lnTo>
                  <a:lnTo>
                    <a:pt x="53" y="474"/>
                  </a:lnTo>
                  <a:lnTo>
                    <a:pt x="47" y="480"/>
                  </a:lnTo>
                  <a:lnTo>
                    <a:pt x="50" y="489"/>
                  </a:lnTo>
                  <a:lnTo>
                    <a:pt x="55" y="500"/>
                  </a:lnTo>
                  <a:lnTo>
                    <a:pt x="53" y="515"/>
                  </a:lnTo>
                  <a:lnTo>
                    <a:pt x="50" y="535"/>
                  </a:lnTo>
                  <a:lnTo>
                    <a:pt x="48" y="557"/>
                  </a:lnTo>
                  <a:lnTo>
                    <a:pt x="50" y="577"/>
                  </a:lnTo>
                  <a:lnTo>
                    <a:pt x="50" y="592"/>
                  </a:lnTo>
                  <a:lnTo>
                    <a:pt x="47" y="606"/>
                  </a:lnTo>
                  <a:lnTo>
                    <a:pt x="40" y="621"/>
                  </a:lnTo>
                  <a:lnTo>
                    <a:pt x="33" y="634"/>
                  </a:lnTo>
                  <a:lnTo>
                    <a:pt x="30" y="639"/>
                  </a:lnTo>
                  <a:lnTo>
                    <a:pt x="0" y="662"/>
                  </a:lnTo>
                  <a:lnTo>
                    <a:pt x="3" y="666"/>
                  </a:lnTo>
                  <a:lnTo>
                    <a:pt x="8" y="669"/>
                  </a:lnTo>
                  <a:lnTo>
                    <a:pt x="13" y="674"/>
                  </a:lnTo>
                  <a:lnTo>
                    <a:pt x="18" y="677"/>
                  </a:lnTo>
                  <a:lnTo>
                    <a:pt x="32" y="684"/>
                  </a:lnTo>
                  <a:lnTo>
                    <a:pt x="43" y="687"/>
                  </a:lnTo>
                  <a:lnTo>
                    <a:pt x="55" y="687"/>
                  </a:lnTo>
                  <a:lnTo>
                    <a:pt x="67" y="686"/>
                  </a:lnTo>
                  <a:lnTo>
                    <a:pt x="77" y="684"/>
                  </a:lnTo>
                  <a:lnTo>
                    <a:pt x="83" y="681"/>
                  </a:lnTo>
                  <a:lnTo>
                    <a:pt x="88" y="679"/>
                  </a:lnTo>
                  <a:lnTo>
                    <a:pt x="90" y="677"/>
                  </a:lnTo>
                  <a:lnTo>
                    <a:pt x="97" y="677"/>
                  </a:lnTo>
                  <a:lnTo>
                    <a:pt x="114" y="677"/>
                  </a:lnTo>
                  <a:lnTo>
                    <a:pt x="137" y="676"/>
                  </a:lnTo>
                  <a:lnTo>
                    <a:pt x="164" y="674"/>
                  </a:lnTo>
                  <a:lnTo>
                    <a:pt x="194" y="674"/>
                  </a:lnTo>
                  <a:lnTo>
                    <a:pt x="220" y="672"/>
                  </a:lnTo>
                  <a:lnTo>
                    <a:pt x="242" y="672"/>
                  </a:lnTo>
                  <a:lnTo>
                    <a:pt x="255" y="672"/>
                  </a:lnTo>
                  <a:lnTo>
                    <a:pt x="265" y="674"/>
                  </a:lnTo>
                  <a:lnTo>
                    <a:pt x="275" y="676"/>
                  </a:lnTo>
                  <a:lnTo>
                    <a:pt x="289" y="679"/>
                  </a:lnTo>
                  <a:lnTo>
                    <a:pt x="302" y="682"/>
                  </a:lnTo>
                  <a:lnTo>
                    <a:pt x="315" y="687"/>
                  </a:lnTo>
                  <a:lnTo>
                    <a:pt x="330" y="691"/>
                  </a:lnTo>
                  <a:lnTo>
                    <a:pt x="344" y="694"/>
                  </a:lnTo>
                  <a:lnTo>
                    <a:pt x="359" y="697"/>
                  </a:lnTo>
                  <a:lnTo>
                    <a:pt x="374" y="699"/>
                  </a:lnTo>
                  <a:lnTo>
                    <a:pt x="392" y="701"/>
                  </a:lnTo>
                  <a:lnTo>
                    <a:pt x="412" y="701"/>
                  </a:lnTo>
                  <a:lnTo>
                    <a:pt x="430" y="702"/>
                  </a:lnTo>
                  <a:lnTo>
                    <a:pt x="450" y="702"/>
                  </a:lnTo>
                  <a:lnTo>
                    <a:pt x="467" y="701"/>
                  </a:lnTo>
                  <a:lnTo>
                    <a:pt x="480" y="701"/>
                  </a:lnTo>
                  <a:lnTo>
                    <a:pt x="492" y="697"/>
                  </a:lnTo>
                  <a:lnTo>
                    <a:pt x="500" y="696"/>
                  </a:lnTo>
                  <a:lnTo>
                    <a:pt x="507" y="696"/>
                  </a:lnTo>
                  <a:lnTo>
                    <a:pt x="514" y="699"/>
                  </a:lnTo>
                  <a:lnTo>
                    <a:pt x="520" y="706"/>
                  </a:lnTo>
                  <a:lnTo>
                    <a:pt x="527" y="712"/>
                  </a:lnTo>
                  <a:lnTo>
                    <a:pt x="534" y="719"/>
                  </a:lnTo>
                  <a:lnTo>
                    <a:pt x="540" y="727"/>
                  </a:lnTo>
                  <a:lnTo>
                    <a:pt x="549" y="734"/>
                  </a:lnTo>
                  <a:lnTo>
                    <a:pt x="559" y="741"/>
                  </a:lnTo>
                  <a:lnTo>
                    <a:pt x="569" y="742"/>
                  </a:lnTo>
                  <a:lnTo>
                    <a:pt x="579" y="744"/>
                  </a:lnTo>
                  <a:lnTo>
                    <a:pt x="590" y="742"/>
                  </a:lnTo>
                  <a:lnTo>
                    <a:pt x="600" y="739"/>
                  </a:lnTo>
                  <a:lnTo>
                    <a:pt x="610" y="736"/>
                  </a:lnTo>
                  <a:lnTo>
                    <a:pt x="619" y="731"/>
                  </a:lnTo>
                  <a:lnTo>
                    <a:pt x="625" y="726"/>
                  </a:lnTo>
                  <a:lnTo>
                    <a:pt x="632" y="719"/>
                  </a:lnTo>
                  <a:lnTo>
                    <a:pt x="639" y="707"/>
                  </a:lnTo>
                  <a:lnTo>
                    <a:pt x="649" y="694"/>
                  </a:lnTo>
                  <a:lnTo>
                    <a:pt x="661" y="677"/>
                  </a:lnTo>
                  <a:lnTo>
                    <a:pt x="672" y="659"/>
                  </a:lnTo>
                  <a:lnTo>
                    <a:pt x="687" y="637"/>
                  </a:lnTo>
                  <a:lnTo>
                    <a:pt x="704" y="614"/>
                  </a:lnTo>
                  <a:lnTo>
                    <a:pt x="721" y="587"/>
                  </a:lnTo>
                  <a:lnTo>
                    <a:pt x="737" y="564"/>
                  </a:lnTo>
                  <a:lnTo>
                    <a:pt x="754" y="544"/>
                  </a:lnTo>
                  <a:lnTo>
                    <a:pt x="769" y="530"/>
                  </a:lnTo>
                  <a:lnTo>
                    <a:pt x="786" y="519"/>
                  </a:lnTo>
                  <a:lnTo>
                    <a:pt x="799" y="512"/>
                  </a:lnTo>
                  <a:lnTo>
                    <a:pt x="812" y="504"/>
                  </a:lnTo>
                  <a:lnTo>
                    <a:pt x="826" y="499"/>
                  </a:lnTo>
                  <a:lnTo>
                    <a:pt x="839" y="492"/>
                  </a:lnTo>
                  <a:lnTo>
                    <a:pt x="847" y="489"/>
                  </a:lnTo>
                  <a:lnTo>
                    <a:pt x="862" y="484"/>
                  </a:lnTo>
                  <a:lnTo>
                    <a:pt x="879" y="479"/>
                  </a:lnTo>
                  <a:lnTo>
                    <a:pt x="901" y="472"/>
                  </a:lnTo>
                  <a:lnTo>
                    <a:pt x="926" y="465"/>
                  </a:lnTo>
                  <a:lnTo>
                    <a:pt x="952" y="459"/>
                  </a:lnTo>
                  <a:lnTo>
                    <a:pt x="981" y="452"/>
                  </a:lnTo>
                  <a:lnTo>
                    <a:pt x="1009" y="444"/>
                  </a:lnTo>
                  <a:lnTo>
                    <a:pt x="1039" y="437"/>
                  </a:lnTo>
                  <a:lnTo>
                    <a:pt x="1069" y="430"/>
                  </a:lnTo>
                  <a:lnTo>
                    <a:pt x="1097" y="424"/>
                  </a:lnTo>
                  <a:lnTo>
                    <a:pt x="1126" y="417"/>
                  </a:lnTo>
                  <a:lnTo>
                    <a:pt x="1151" y="410"/>
                  </a:lnTo>
                  <a:lnTo>
                    <a:pt x="1174" y="405"/>
                  </a:lnTo>
                  <a:lnTo>
                    <a:pt x="1194" y="400"/>
                  </a:lnTo>
                  <a:lnTo>
                    <a:pt x="1209" y="397"/>
                  </a:lnTo>
                  <a:lnTo>
                    <a:pt x="1236" y="390"/>
                  </a:lnTo>
                  <a:lnTo>
                    <a:pt x="1263" y="385"/>
                  </a:lnTo>
                  <a:lnTo>
                    <a:pt x="1289" y="382"/>
                  </a:lnTo>
                  <a:lnTo>
                    <a:pt x="1313" y="379"/>
                  </a:lnTo>
                  <a:lnTo>
                    <a:pt x="1336" y="375"/>
                  </a:lnTo>
                  <a:lnTo>
                    <a:pt x="1354" y="370"/>
                  </a:lnTo>
                  <a:lnTo>
                    <a:pt x="1371" y="365"/>
                  </a:lnTo>
                  <a:lnTo>
                    <a:pt x="1384" y="359"/>
                  </a:lnTo>
                  <a:lnTo>
                    <a:pt x="1394" y="354"/>
                  </a:lnTo>
                  <a:lnTo>
                    <a:pt x="1411" y="345"/>
                  </a:lnTo>
                  <a:lnTo>
                    <a:pt x="1434" y="334"/>
                  </a:lnTo>
                  <a:lnTo>
                    <a:pt x="1463" y="320"/>
                  </a:lnTo>
                  <a:lnTo>
                    <a:pt x="1496" y="307"/>
                  </a:lnTo>
                  <a:lnTo>
                    <a:pt x="1533" y="290"/>
                  </a:lnTo>
                  <a:lnTo>
                    <a:pt x="1571" y="274"/>
                  </a:lnTo>
                  <a:lnTo>
                    <a:pt x="1611" y="255"/>
                  </a:lnTo>
                  <a:lnTo>
                    <a:pt x="1649" y="239"/>
                  </a:lnTo>
                  <a:lnTo>
                    <a:pt x="1688" y="222"/>
                  </a:lnTo>
                  <a:lnTo>
                    <a:pt x="1723" y="207"/>
                  </a:lnTo>
                  <a:lnTo>
                    <a:pt x="1756" y="192"/>
                  </a:lnTo>
                  <a:lnTo>
                    <a:pt x="1783" y="180"/>
                  </a:lnTo>
                  <a:lnTo>
                    <a:pt x="1805" y="170"/>
                  </a:lnTo>
                  <a:lnTo>
                    <a:pt x="1820" y="164"/>
                  </a:lnTo>
                  <a:lnTo>
                    <a:pt x="1826" y="160"/>
                  </a:lnTo>
                  <a:lnTo>
                    <a:pt x="1836" y="152"/>
                  </a:lnTo>
                  <a:lnTo>
                    <a:pt x="1841" y="142"/>
                  </a:lnTo>
                  <a:lnTo>
                    <a:pt x="1845" y="130"/>
                  </a:lnTo>
                  <a:lnTo>
                    <a:pt x="1846" y="117"/>
                  </a:lnTo>
                  <a:lnTo>
                    <a:pt x="1848" y="100"/>
                  </a:lnTo>
                  <a:lnTo>
                    <a:pt x="1851" y="78"/>
                  </a:lnTo>
                  <a:lnTo>
                    <a:pt x="1858" y="57"/>
                  </a:lnTo>
                  <a:lnTo>
                    <a:pt x="1865" y="37"/>
                  </a:lnTo>
                  <a:lnTo>
                    <a:pt x="1868" y="27"/>
                  </a:lnTo>
                  <a:lnTo>
                    <a:pt x="1873" y="18"/>
                  </a:lnTo>
                  <a:lnTo>
                    <a:pt x="1876" y="8"/>
                  </a:lnTo>
                  <a:lnTo>
                    <a:pt x="1881" y="0"/>
                  </a:lnTo>
                  <a:lnTo>
                    <a:pt x="1861" y="10"/>
                  </a:lnTo>
                  <a:lnTo>
                    <a:pt x="1836" y="20"/>
                  </a:lnTo>
                  <a:lnTo>
                    <a:pt x="1808" y="32"/>
                  </a:lnTo>
                  <a:lnTo>
                    <a:pt x="1778" y="45"/>
                  </a:lnTo>
                  <a:lnTo>
                    <a:pt x="1746" y="58"/>
                  </a:lnTo>
                  <a:lnTo>
                    <a:pt x="1714" y="73"/>
                  </a:lnTo>
                  <a:lnTo>
                    <a:pt x="1681" y="88"/>
                  </a:lnTo>
                  <a:lnTo>
                    <a:pt x="1648" y="102"/>
                  </a:lnTo>
                  <a:lnTo>
                    <a:pt x="1616" y="117"/>
                  </a:lnTo>
                  <a:lnTo>
                    <a:pt x="1586" y="130"/>
                  </a:lnTo>
                  <a:lnTo>
                    <a:pt x="1558" y="142"/>
                  </a:lnTo>
                  <a:lnTo>
                    <a:pt x="1533" y="154"/>
                  </a:lnTo>
                  <a:lnTo>
                    <a:pt x="1511" y="164"/>
                  </a:lnTo>
                  <a:lnTo>
                    <a:pt x="1493" y="174"/>
                  </a:lnTo>
                  <a:lnTo>
                    <a:pt x="1479" y="179"/>
                  </a:lnTo>
                  <a:lnTo>
                    <a:pt x="1473" y="184"/>
                  </a:lnTo>
                  <a:lnTo>
                    <a:pt x="1459" y="190"/>
                  </a:lnTo>
                  <a:lnTo>
                    <a:pt x="1443" y="195"/>
                  </a:lnTo>
                  <a:lnTo>
                    <a:pt x="1423" y="199"/>
                  </a:lnTo>
                  <a:lnTo>
                    <a:pt x="1401" y="202"/>
                  </a:lnTo>
                  <a:lnTo>
                    <a:pt x="1376" y="205"/>
                  </a:lnTo>
                  <a:lnTo>
                    <a:pt x="1351" y="210"/>
                  </a:lnTo>
                  <a:lnTo>
                    <a:pt x="1324" y="215"/>
                  </a:lnTo>
                  <a:lnTo>
                    <a:pt x="1298" y="222"/>
                  </a:lnTo>
                  <a:close/>
                </a:path>
              </a:pathLst>
            </a:custGeom>
            <a:solidFill>
              <a:srgbClr val="ffffff">
                <a:alpha val="20000"/>
              </a:srgbClr>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52" name=""/>
            <p:cNvSpPr/>
            <p:nvPr/>
          </p:nvSpPr>
          <p:spPr>
            <a:xfrm>
              <a:off x="2813040" y="1346040"/>
              <a:ext cx="4348080" cy="3579840"/>
            </a:xfrm>
            <a:custGeom>
              <a:avLst/>
              <a:gdLst/>
              <a:ahLst/>
              <a:rect l="l" t="t" r="r" b="b"/>
              <a:pathLst>
                <a:path w="3185" h="2678">
                  <a:moveTo>
                    <a:pt x="380" y="90"/>
                  </a:moveTo>
                  <a:lnTo>
                    <a:pt x="683" y="28"/>
                  </a:lnTo>
                  <a:lnTo>
                    <a:pt x="693" y="0"/>
                  </a:lnTo>
                  <a:lnTo>
                    <a:pt x="695" y="0"/>
                  </a:lnTo>
                  <a:lnTo>
                    <a:pt x="698" y="0"/>
                  </a:lnTo>
                  <a:lnTo>
                    <a:pt x="704" y="0"/>
                  </a:lnTo>
                  <a:lnTo>
                    <a:pt x="712" y="0"/>
                  </a:lnTo>
                  <a:lnTo>
                    <a:pt x="720" y="0"/>
                  </a:lnTo>
                  <a:lnTo>
                    <a:pt x="734" y="2"/>
                  </a:lnTo>
                  <a:lnTo>
                    <a:pt x="747" y="5"/>
                  </a:lnTo>
                  <a:lnTo>
                    <a:pt x="764" y="10"/>
                  </a:lnTo>
                  <a:lnTo>
                    <a:pt x="782" y="15"/>
                  </a:lnTo>
                  <a:lnTo>
                    <a:pt x="799" y="20"/>
                  </a:lnTo>
                  <a:lnTo>
                    <a:pt x="817" y="23"/>
                  </a:lnTo>
                  <a:lnTo>
                    <a:pt x="832" y="28"/>
                  </a:lnTo>
                  <a:lnTo>
                    <a:pt x="847" y="32"/>
                  </a:lnTo>
                  <a:lnTo>
                    <a:pt x="862" y="35"/>
                  </a:lnTo>
                  <a:lnTo>
                    <a:pt x="874" y="40"/>
                  </a:lnTo>
                  <a:lnTo>
                    <a:pt x="884" y="43"/>
                  </a:lnTo>
                  <a:lnTo>
                    <a:pt x="894" y="48"/>
                  </a:lnTo>
                  <a:lnTo>
                    <a:pt x="907" y="57"/>
                  </a:lnTo>
                  <a:lnTo>
                    <a:pt x="924" y="68"/>
                  </a:lnTo>
                  <a:lnTo>
                    <a:pt x="942" y="82"/>
                  </a:lnTo>
                  <a:lnTo>
                    <a:pt x="962" y="97"/>
                  </a:lnTo>
                  <a:lnTo>
                    <a:pt x="985" y="112"/>
                  </a:lnTo>
                  <a:lnTo>
                    <a:pt x="1009" y="127"/>
                  </a:lnTo>
                  <a:lnTo>
                    <a:pt x="1035" y="142"/>
                  </a:lnTo>
                  <a:lnTo>
                    <a:pt x="1060" y="155"/>
                  </a:lnTo>
                  <a:lnTo>
                    <a:pt x="1080" y="168"/>
                  </a:lnTo>
                  <a:lnTo>
                    <a:pt x="1099" y="180"/>
                  </a:lnTo>
                  <a:lnTo>
                    <a:pt x="1114" y="190"/>
                  </a:lnTo>
                  <a:lnTo>
                    <a:pt x="1124" y="197"/>
                  </a:lnTo>
                  <a:lnTo>
                    <a:pt x="1132" y="203"/>
                  </a:lnTo>
                  <a:lnTo>
                    <a:pt x="1137" y="207"/>
                  </a:lnTo>
                  <a:lnTo>
                    <a:pt x="1139" y="208"/>
                  </a:lnTo>
                  <a:lnTo>
                    <a:pt x="1142" y="210"/>
                  </a:lnTo>
                  <a:lnTo>
                    <a:pt x="1150" y="215"/>
                  </a:lnTo>
                  <a:lnTo>
                    <a:pt x="1162" y="223"/>
                  </a:lnTo>
                  <a:lnTo>
                    <a:pt x="1177" y="233"/>
                  </a:lnTo>
                  <a:lnTo>
                    <a:pt x="1192" y="243"/>
                  </a:lnTo>
                  <a:lnTo>
                    <a:pt x="1205" y="255"/>
                  </a:lnTo>
                  <a:lnTo>
                    <a:pt x="1217" y="265"/>
                  </a:lnTo>
                  <a:lnTo>
                    <a:pt x="1225" y="275"/>
                  </a:lnTo>
                  <a:lnTo>
                    <a:pt x="1234" y="285"/>
                  </a:lnTo>
                  <a:lnTo>
                    <a:pt x="1245" y="297"/>
                  </a:lnTo>
                  <a:lnTo>
                    <a:pt x="1259" y="310"/>
                  </a:lnTo>
                  <a:lnTo>
                    <a:pt x="1276" y="325"/>
                  </a:lnTo>
                  <a:lnTo>
                    <a:pt x="1292" y="340"/>
                  </a:lnTo>
                  <a:lnTo>
                    <a:pt x="1309" y="354"/>
                  </a:lnTo>
                  <a:lnTo>
                    <a:pt x="1324" y="365"/>
                  </a:lnTo>
                  <a:lnTo>
                    <a:pt x="1334" y="375"/>
                  </a:lnTo>
                  <a:lnTo>
                    <a:pt x="1346" y="385"/>
                  </a:lnTo>
                  <a:lnTo>
                    <a:pt x="1362" y="397"/>
                  </a:lnTo>
                  <a:lnTo>
                    <a:pt x="1381" y="410"/>
                  </a:lnTo>
                  <a:lnTo>
                    <a:pt x="1401" y="424"/>
                  </a:lnTo>
                  <a:lnTo>
                    <a:pt x="1421" y="437"/>
                  </a:lnTo>
                  <a:lnTo>
                    <a:pt x="1436" y="445"/>
                  </a:lnTo>
                  <a:lnTo>
                    <a:pt x="1447" y="454"/>
                  </a:lnTo>
                  <a:lnTo>
                    <a:pt x="1451" y="455"/>
                  </a:lnTo>
                  <a:lnTo>
                    <a:pt x="1489" y="509"/>
                  </a:lnTo>
                  <a:lnTo>
                    <a:pt x="1497" y="509"/>
                  </a:lnTo>
                  <a:lnTo>
                    <a:pt x="1517" y="509"/>
                  </a:lnTo>
                  <a:lnTo>
                    <a:pt x="1546" y="509"/>
                  </a:lnTo>
                  <a:lnTo>
                    <a:pt x="1581" y="509"/>
                  </a:lnTo>
                  <a:lnTo>
                    <a:pt x="1617" y="510"/>
                  </a:lnTo>
                  <a:lnTo>
                    <a:pt x="1651" y="514"/>
                  </a:lnTo>
                  <a:lnTo>
                    <a:pt x="1677" y="520"/>
                  </a:lnTo>
                  <a:lnTo>
                    <a:pt x="1694" y="527"/>
                  </a:lnTo>
                  <a:lnTo>
                    <a:pt x="1696" y="527"/>
                  </a:lnTo>
                  <a:lnTo>
                    <a:pt x="1702" y="525"/>
                  </a:lnTo>
                  <a:lnTo>
                    <a:pt x="1712" y="522"/>
                  </a:lnTo>
                  <a:lnTo>
                    <a:pt x="1722" y="520"/>
                  </a:lnTo>
                  <a:lnTo>
                    <a:pt x="1736" y="519"/>
                  </a:lnTo>
                  <a:lnTo>
                    <a:pt x="1747" y="515"/>
                  </a:lnTo>
                  <a:lnTo>
                    <a:pt x="1759" y="514"/>
                  </a:lnTo>
                  <a:lnTo>
                    <a:pt x="1769" y="514"/>
                  </a:lnTo>
                  <a:lnTo>
                    <a:pt x="1782" y="515"/>
                  </a:lnTo>
                  <a:lnTo>
                    <a:pt x="1801" y="519"/>
                  </a:lnTo>
                  <a:lnTo>
                    <a:pt x="1823" y="522"/>
                  </a:lnTo>
                  <a:lnTo>
                    <a:pt x="1848" y="527"/>
                  </a:lnTo>
                  <a:lnTo>
                    <a:pt x="1869" y="534"/>
                  </a:lnTo>
                  <a:lnTo>
                    <a:pt x="1889" y="537"/>
                  </a:lnTo>
                  <a:lnTo>
                    <a:pt x="1903" y="540"/>
                  </a:lnTo>
                  <a:lnTo>
                    <a:pt x="1908" y="542"/>
                  </a:lnTo>
                  <a:lnTo>
                    <a:pt x="1926" y="604"/>
                  </a:lnTo>
                  <a:lnTo>
                    <a:pt x="2044" y="604"/>
                  </a:lnTo>
                  <a:lnTo>
                    <a:pt x="2064" y="689"/>
                  </a:lnTo>
                  <a:lnTo>
                    <a:pt x="2071" y="692"/>
                  </a:lnTo>
                  <a:lnTo>
                    <a:pt x="2083" y="704"/>
                  </a:lnTo>
                  <a:lnTo>
                    <a:pt x="2093" y="722"/>
                  </a:lnTo>
                  <a:lnTo>
                    <a:pt x="2093" y="746"/>
                  </a:lnTo>
                  <a:lnTo>
                    <a:pt x="2116" y="784"/>
                  </a:lnTo>
                  <a:lnTo>
                    <a:pt x="2154" y="769"/>
                  </a:lnTo>
                  <a:lnTo>
                    <a:pt x="2158" y="774"/>
                  </a:lnTo>
                  <a:lnTo>
                    <a:pt x="2164" y="786"/>
                  </a:lnTo>
                  <a:lnTo>
                    <a:pt x="2169" y="801"/>
                  </a:lnTo>
                  <a:lnTo>
                    <a:pt x="2173" y="812"/>
                  </a:lnTo>
                  <a:lnTo>
                    <a:pt x="2176" y="824"/>
                  </a:lnTo>
                  <a:lnTo>
                    <a:pt x="2183" y="834"/>
                  </a:lnTo>
                  <a:lnTo>
                    <a:pt x="2189" y="842"/>
                  </a:lnTo>
                  <a:lnTo>
                    <a:pt x="2193" y="846"/>
                  </a:lnTo>
                  <a:lnTo>
                    <a:pt x="2201" y="822"/>
                  </a:lnTo>
                  <a:lnTo>
                    <a:pt x="2226" y="869"/>
                  </a:lnTo>
                  <a:lnTo>
                    <a:pt x="2228" y="869"/>
                  </a:lnTo>
                  <a:lnTo>
                    <a:pt x="2234" y="871"/>
                  </a:lnTo>
                  <a:lnTo>
                    <a:pt x="2244" y="874"/>
                  </a:lnTo>
                  <a:lnTo>
                    <a:pt x="2254" y="877"/>
                  </a:lnTo>
                  <a:lnTo>
                    <a:pt x="2266" y="882"/>
                  </a:lnTo>
                  <a:lnTo>
                    <a:pt x="2276" y="887"/>
                  </a:lnTo>
                  <a:lnTo>
                    <a:pt x="2284" y="894"/>
                  </a:lnTo>
                  <a:lnTo>
                    <a:pt x="2288" y="902"/>
                  </a:lnTo>
                  <a:lnTo>
                    <a:pt x="2289" y="921"/>
                  </a:lnTo>
                  <a:lnTo>
                    <a:pt x="2293" y="937"/>
                  </a:lnTo>
                  <a:lnTo>
                    <a:pt x="2296" y="952"/>
                  </a:lnTo>
                  <a:lnTo>
                    <a:pt x="2306" y="964"/>
                  </a:lnTo>
                  <a:lnTo>
                    <a:pt x="2316" y="979"/>
                  </a:lnTo>
                  <a:lnTo>
                    <a:pt x="2321" y="996"/>
                  </a:lnTo>
                  <a:lnTo>
                    <a:pt x="2318" y="1011"/>
                  </a:lnTo>
                  <a:lnTo>
                    <a:pt x="2311" y="1017"/>
                  </a:lnTo>
                  <a:lnTo>
                    <a:pt x="2303" y="1019"/>
                  </a:lnTo>
                  <a:lnTo>
                    <a:pt x="2299" y="1024"/>
                  </a:lnTo>
                  <a:lnTo>
                    <a:pt x="2301" y="1032"/>
                  </a:lnTo>
                  <a:lnTo>
                    <a:pt x="2306" y="1046"/>
                  </a:lnTo>
                  <a:lnTo>
                    <a:pt x="2313" y="1061"/>
                  </a:lnTo>
                  <a:lnTo>
                    <a:pt x="2319" y="1076"/>
                  </a:lnTo>
                  <a:lnTo>
                    <a:pt x="2324" y="1092"/>
                  </a:lnTo>
                  <a:lnTo>
                    <a:pt x="2329" y="1107"/>
                  </a:lnTo>
                  <a:lnTo>
                    <a:pt x="2336" y="1117"/>
                  </a:lnTo>
                  <a:lnTo>
                    <a:pt x="2344" y="1121"/>
                  </a:lnTo>
                  <a:lnTo>
                    <a:pt x="2351" y="1121"/>
                  </a:lnTo>
                  <a:lnTo>
                    <a:pt x="2354" y="1121"/>
                  </a:lnTo>
                  <a:lnTo>
                    <a:pt x="2356" y="1129"/>
                  </a:lnTo>
                  <a:lnTo>
                    <a:pt x="2365" y="1149"/>
                  </a:lnTo>
                  <a:lnTo>
                    <a:pt x="2375" y="1174"/>
                  </a:lnTo>
                  <a:lnTo>
                    <a:pt x="2388" y="1192"/>
                  </a:lnTo>
                  <a:lnTo>
                    <a:pt x="2395" y="1201"/>
                  </a:lnTo>
                  <a:lnTo>
                    <a:pt x="2400" y="1209"/>
                  </a:lnTo>
                  <a:lnTo>
                    <a:pt x="2405" y="1217"/>
                  </a:lnTo>
                  <a:lnTo>
                    <a:pt x="2411" y="1227"/>
                  </a:lnTo>
                  <a:lnTo>
                    <a:pt x="2416" y="1236"/>
                  </a:lnTo>
                  <a:lnTo>
                    <a:pt x="2425" y="1244"/>
                  </a:lnTo>
                  <a:lnTo>
                    <a:pt x="2433" y="1253"/>
                  </a:lnTo>
                  <a:lnTo>
                    <a:pt x="2445" y="1259"/>
                  </a:lnTo>
                  <a:lnTo>
                    <a:pt x="2456" y="1263"/>
                  </a:lnTo>
                  <a:lnTo>
                    <a:pt x="2468" y="1263"/>
                  </a:lnTo>
                  <a:lnTo>
                    <a:pt x="2478" y="1263"/>
                  </a:lnTo>
                  <a:lnTo>
                    <a:pt x="2486" y="1259"/>
                  </a:lnTo>
                  <a:lnTo>
                    <a:pt x="2493" y="1256"/>
                  </a:lnTo>
                  <a:lnTo>
                    <a:pt x="2498" y="1253"/>
                  </a:lnTo>
                  <a:lnTo>
                    <a:pt x="2500" y="1251"/>
                  </a:lnTo>
                  <a:lnTo>
                    <a:pt x="2501" y="1249"/>
                  </a:lnTo>
                  <a:lnTo>
                    <a:pt x="2520" y="1259"/>
                  </a:lnTo>
                  <a:lnTo>
                    <a:pt x="2501" y="1293"/>
                  </a:lnTo>
                  <a:lnTo>
                    <a:pt x="2501" y="1294"/>
                  </a:lnTo>
                  <a:lnTo>
                    <a:pt x="2501" y="1299"/>
                  </a:lnTo>
                  <a:lnTo>
                    <a:pt x="2503" y="1304"/>
                  </a:lnTo>
                  <a:lnTo>
                    <a:pt x="2511" y="1306"/>
                  </a:lnTo>
                  <a:lnTo>
                    <a:pt x="2521" y="1314"/>
                  </a:lnTo>
                  <a:lnTo>
                    <a:pt x="2531" y="1329"/>
                  </a:lnTo>
                  <a:lnTo>
                    <a:pt x="2536" y="1346"/>
                  </a:lnTo>
                  <a:lnTo>
                    <a:pt x="2540" y="1354"/>
                  </a:lnTo>
                  <a:lnTo>
                    <a:pt x="2541" y="1356"/>
                  </a:lnTo>
                  <a:lnTo>
                    <a:pt x="2546" y="1361"/>
                  </a:lnTo>
                  <a:lnTo>
                    <a:pt x="2553" y="1368"/>
                  </a:lnTo>
                  <a:lnTo>
                    <a:pt x="2561" y="1378"/>
                  </a:lnTo>
                  <a:lnTo>
                    <a:pt x="2571" y="1388"/>
                  </a:lnTo>
                  <a:lnTo>
                    <a:pt x="2583" y="1401"/>
                  </a:lnTo>
                  <a:lnTo>
                    <a:pt x="2595" y="1414"/>
                  </a:lnTo>
                  <a:lnTo>
                    <a:pt x="2606" y="1428"/>
                  </a:lnTo>
                  <a:lnTo>
                    <a:pt x="2618" y="1443"/>
                  </a:lnTo>
                  <a:lnTo>
                    <a:pt x="2631" y="1458"/>
                  </a:lnTo>
                  <a:lnTo>
                    <a:pt x="2645" y="1473"/>
                  </a:lnTo>
                  <a:lnTo>
                    <a:pt x="2658" y="1488"/>
                  </a:lnTo>
                  <a:lnTo>
                    <a:pt x="2670" y="1501"/>
                  </a:lnTo>
                  <a:lnTo>
                    <a:pt x="2680" y="1511"/>
                  </a:lnTo>
                  <a:lnTo>
                    <a:pt x="2688" y="1521"/>
                  </a:lnTo>
                  <a:lnTo>
                    <a:pt x="2691" y="1528"/>
                  </a:lnTo>
                  <a:lnTo>
                    <a:pt x="2701" y="1533"/>
                  </a:lnTo>
                  <a:lnTo>
                    <a:pt x="2723" y="1538"/>
                  </a:lnTo>
                  <a:lnTo>
                    <a:pt x="2753" y="1543"/>
                  </a:lnTo>
                  <a:lnTo>
                    <a:pt x="2790" y="1546"/>
                  </a:lnTo>
                  <a:lnTo>
                    <a:pt x="2828" y="1549"/>
                  </a:lnTo>
                  <a:lnTo>
                    <a:pt x="2863" y="1551"/>
                  </a:lnTo>
                  <a:lnTo>
                    <a:pt x="2891" y="1554"/>
                  </a:lnTo>
                  <a:lnTo>
                    <a:pt x="2910" y="1556"/>
                  </a:lnTo>
                  <a:lnTo>
                    <a:pt x="2925" y="1558"/>
                  </a:lnTo>
                  <a:lnTo>
                    <a:pt x="2945" y="1559"/>
                  </a:lnTo>
                  <a:lnTo>
                    <a:pt x="2968" y="1561"/>
                  </a:lnTo>
                  <a:lnTo>
                    <a:pt x="2992" y="1563"/>
                  </a:lnTo>
                  <a:lnTo>
                    <a:pt x="3013" y="1566"/>
                  </a:lnTo>
                  <a:lnTo>
                    <a:pt x="3033" y="1568"/>
                  </a:lnTo>
                  <a:lnTo>
                    <a:pt x="3048" y="1569"/>
                  </a:lnTo>
                  <a:lnTo>
                    <a:pt x="3057" y="1571"/>
                  </a:lnTo>
                  <a:lnTo>
                    <a:pt x="3070" y="1569"/>
                  </a:lnTo>
                  <a:lnTo>
                    <a:pt x="3083" y="1563"/>
                  </a:lnTo>
                  <a:lnTo>
                    <a:pt x="3095" y="1554"/>
                  </a:lnTo>
                  <a:lnTo>
                    <a:pt x="3100" y="1551"/>
                  </a:lnTo>
                  <a:lnTo>
                    <a:pt x="3102" y="1553"/>
                  </a:lnTo>
                  <a:lnTo>
                    <a:pt x="3105" y="1556"/>
                  </a:lnTo>
                  <a:lnTo>
                    <a:pt x="3112" y="1561"/>
                  </a:lnTo>
                  <a:lnTo>
                    <a:pt x="3120" y="1568"/>
                  </a:lnTo>
                  <a:lnTo>
                    <a:pt x="3130" y="1576"/>
                  </a:lnTo>
                  <a:lnTo>
                    <a:pt x="3140" y="1586"/>
                  </a:lnTo>
                  <a:lnTo>
                    <a:pt x="3152" y="1598"/>
                  </a:lnTo>
                  <a:lnTo>
                    <a:pt x="3162" y="1609"/>
                  </a:lnTo>
                  <a:lnTo>
                    <a:pt x="3172" y="1624"/>
                  </a:lnTo>
                  <a:lnTo>
                    <a:pt x="3180" y="1638"/>
                  </a:lnTo>
                  <a:lnTo>
                    <a:pt x="3183" y="1653"/>
                  </a:lnTo>
                  <a:lnTo>
                    <a:pt x="3185" y="1668"/>
                  </a:lnTo>
                  <a:lnTo>
                    <a:pt x="3185" y="1678"/>
                  </a:lnTo>
                  <a:lnTo>
                    <a:pt x="3183" y="1688"/>
                  </a:lnTo>
                  <a:lnTo>
                    <a:pt x="3180" y="1696"/>
                  </a:lnTo>
                  <a:lnTo>
                    <a:pt x="3175" y="1704"/>
                  </a:lnTo>
                  <a:lnTo>
                    <a:pt x="3168" y="1724"/>
                  </a:lnTo>
                  <a:lnTo>
                    <a:pt x="3168" y="1748"/>
                  </a:lnTo>
                  <a:lnTo>
                    <a:pt x="3168" y="1771"/>
                  </a:lnTo>
                  <a:lnTo>
                    <a:pt x="3167" y="1795"/>
                  </a:lnTo>
                  <a:lnTo>
                    <a:pt x="3162" y="1815"/>
                  </a:lnTo>
                  <a:lnTo>
                    <a:pt x="3153" y="1835"/>
                  </a:lnTo>
                  <a:lnTo>
                    <a:pt x="3145" y="1851"/>
                  </a:lnTo>
                  <a:lnTo>
                    <a:pt x="3138" y="1870"/>
                  </a:lnTo>
                  <a:lnTo>
                    <a:pt x="3132" y="1890"/>
                  </a:lnTo>
                  <a:lnTo>
                    <a:pt x="3125" y="1913"/>
                  </a:lnTo>
                  <a:lnTo>
                    <a:pt x="3120" y="1933"/>
                  </a:lnTo>
                  <a:lnTo>
                    <a:pt x="3118" y="1951"/>
                  </a:lnTo>
                  <a:lnTo>
                    <a:pt x="3117" y="1965"/>
                  </a:lnTo>
                  <a:lnTo>
                    <a:pt x="3115" y="1976"/>
                  </a:lnTo>
                  <a:lnTo>
                    <a:pt x="3108" y="1986"/>
                  </a:lnTo>
                  <a:lnTo>
                    <a:pt x="3100" y="1993"/>
                  </a:lnTo>
                  <a:lnTo>
                    <a:pt x="3093" y="1996"/>
                  </a:lnTo>
                  <a:lnTo>
                    <a:pt x="3078" y="2003"/>
                  </a:lnTo>
                  <a:lnTo>
                    <a:pt x="3057" y="2013"/>
                  </a:lnTo>
                  <a:lnTo>
                    <a:pt x="3028" y="2026"/>
                  </a:lnTo>
                  <a:lnTo>
                    <a:pt x="2997" y="2040"/>
                  </a:lnTo>
                  <a:lnTo>
                    <a:pt x="2962" y="2056"/>
                  </a:lnTo>
                  <a:lnTo>
                    <a:pt x="2923" y="2073"/>
                  </a:lnTo>
                  <a:lnTo>
                    <a:pt x="2885" y="2090"/>
                  </a:lnTo>
                  <a:lnTo>
                    <a:pt x="2845" y="2108"/>
                  </a:lnTo>
                  <a:lnTo>
                    <a:pt x="2806" y="2125"/>
                  </a:lnTo>
                  <a:lnTo>
                    <a:pt x="2770" y="2141"/>
                  </a:lnTo>
                  <a:lnTo>
                    <a:pt x="2736" y="2155"/>
                  </a:lnTo>
                  <a:lnTo>
                    <a:pt x="2708" y="2168"/>
                  </a:lnTo>
                  <a:lnTo>
                    <a:pt x="2685" y="2180"/>
                  </a:lnTo>
                  <a:lnTo>
                    <a:pt x="2668" y="2188"/>
                  </a:lnTo>
                  <a:lnTo>
                    <a:pt x="2658" y="2193"/>
                  </a:lnTo>
                  <a:lnTo>
                    <a:pt x="2645" y="2200"/>
                  </a:lnTo>
                  <a:lnTo>
                    <a:pt x="2628" y="2205"/>
                  </a:lnTo>
                  <a:lnTo>
                    <a:pt x="2608" y="2208"/>
                  </a:lnTo>
                  <a:lnTo>
                    <a:pt x="2586" y="2211"/>
                  </a:lnTo>
                  <a:lnTo>
                    <a:pt x="2561" y="2215"/>
                  </a:lnTo>
                  <a:lnTo>
                    <a:pt x="2535" y="2220"/>
                  </a:lnTo>
                  <a:lnTo>
                    <a:pt x="2508" y="2225"/>
                  </a:lnTo>
                  <a:lnTo>
                    <a:pt x="2481" y="2231"/>
                  </a:lnTo>
                  <a:lnTo>
                    <a:pt x="2466" y="2235"/>
                  </a:lnTo>
                  <a:lnTo>
                    <a:pt x="2446" y="2240"/>
                  </a:lnTo>
                  <a:lnTo>
                    <a:pt x="2425" y="2245"/>
                  </a:lnTo>
                  <a:lnTo>
                    <a:pt x="2398" y="2252"/>
                  </a:lnTo>
                  <a:lnTo>
                    <a:pt x="2371" y="2258"/>
                  </a:lnTo>
                  <a:lnTo>
                    <a:pt x="2343" y="2265"/>
                  </a:lnTo>
                  <a:lnTo>
                    <a:pt x="2313" y="2272"/>
                  </a:lnTo>
                  <a:lnTo>
                    <a:pt x="2283" y="2278"/>
                  </a:lnTo>
                  <a:lnTo>
                    <a:pt x="2253" y="2285"/>
                  </a:lnTo>
                  <a:lnTo>
                    <a:pt x="2224" y="2293"/>
                  </a:lnTo>
                  <a:lnTo>
                    <a:pt x="2198" y="2300"/>
                  </a:lnTo>
                  <a:lnTo>
                    <a:pt x="2173" y="2307"/>
                  </a:lnTo>
                  <a:lnTo>
                    <a:pt x="2151" y="2312"/>
                  </a:lnTo>
                  <a:lnTo>
                    <a:pt x="2134" y="2318"/>
                  </a:lnTo>
                  <a:lnTo>
                    <a:pt x="2119" y="2323"/>
                  </a:lnTo>
                  <a:lnTo>
                    <a:pt x="2111" y="2327"/>
                  </a:lnTo>
                  <a:lnTo>
                    <a:pt x="2098" y="2333"/>
                  </a:lnTo>
                  <a:lnTo>
                    <a:pt x="2086" y="2338"/>
                  </a:lnTo>
                  <a:lnTo>
                    <a:pt x="2071" y="2347"/>
                  </a:lnTo>
                  <a:lnTo>
                    <a:pt x="2058" y="2353"/>
                  </a:lnTo>
                  <a:lnTo>
                    <a:pt x="2043" y="2365"/>
                  </a:lnTo>
                  <a:lnTo>
                    <a:pt x="2028" y="2378"/>
                  </a:lnTo>
                  <a:lnTo>
                    <a:pt x="2011" y="2398"/>
                  </a:lnTo>
                  <a:lnTo>
                    <a:pt x="1993" y="2422"/>
                  </a:lnTo>
                  <a:lnTo>
                    <a:pt x="1976" y="2447"/>
                  </a:lnTo>
                  <a:lnTo>
                    <a:pt x="1961" y="2470"/>
                  </a:lnTo>
                  <a:lnTo>
                    <a:pt x="1946" y="2492"/>
                  </a:lnTo>
                  <a:lnTo>
                    <a:pt x="1933" y="2512"/>
                  </a:lnTo>
                  <a:lnTo>
                    <a:pt x="1923" y="2528"/>
                  </a:lnTo>
                  <a:lnTo>
                    <a:pt x="1913" y="2542"/>
                  </a:lnTo>
                  <a:lnTo>
                    <a:pt x="1904" y="2552"/>
                  </a:lnTo>
                  <a:lnTo>
                    <a:pt x="1898" y="2558"/>
                  </a:lnTo>
                  <a:lnTo>
                    <a:pt x="1891" y="2563"/>
                  </a:lnTo>
                  <a:lnTo>
                    <a:pt x="1884" y="2568"/>
                  </a:lnTo>
                  <a:lnTo>
                    <a:pt x="1874" y="2573"/>
                  </a:lnTo>
                  <a:lnTo>
                    <a:pt x="1864" y="2575"/>
                  </a:lnTo>
                  <a:lnTo>
                    <a:pt x="1853" y="2577"/>
                  </a:lnTo>
                  <a:lnTo>
                    <a:pt x="1843" y="2577"/>
                  </a:lnTo>
                  <a:lnTo>
                    <a:pt x="1833" y="2573"/>
                  </a:lnTo>
                  <a:lnTo>
                    <a:pt x="1823" y="2568"/>
                  </a:lnTo>
                  <a:lnTo>
                    <a:pt x="1814" y="2562"/>
                  </a:lnTo>
                  <a:lnTo>
                    <a:pt x="1806" y="2553"/>
                  </a:lnTo>
                  <a:lnTo>
                    <a:pt x="1799" y="2547"/>
                  </a:lnTo>
                  <a:lnTo>
                    <a:pt x="1794" y="2538"/>
                  </a:lnTo>
                  <a:lnTo>
                    <a:pt x="1787" y="2533"/>
                  </a:lnTo>
                  <a:lnTo>
                    <a:pt x="1781" y="2530"/>
                  </a:lnTo>
                  <a:lnTo>
                    <a:pt x="1772" y="2528"/>
                  </a:lnTo>
                  <a:lnTo>
                    <a:pt x="1764" y="2530"/>
                  </a:lnTo>
                  <a:lnTo>
                    <a:pt x="1752" y="2533"/>
                  </a:lnTo>
                  <a:lnTo>
                    <a:pt x="1739" y="2535"/>
                  </a:lnTo>
                  <a:lnTo>
                    <a:pt x="1722" y="2535"/>
                  </a:lnTo>
                  <a:lnTo>
                    <a:pt x="1704" y="2535"/>
                  </a:lnTo>
                  <a:lnTo>
                    <a:pt x="1684" y="2535"/>
                  </a:lnTo>
                  <a:lnTo>
                    <a:pt x="1666" y="2533"/>
                  </a:lnTo>
                  <a:lnTo>
                    <a:pt x="1647" y="2532"/>
                  </a:lnTo>
                  <a:lnTo>
                    <a:pt x="1632" y="2530"/>
                  </a:lnTo>
                  <a:lnTo>
                    <a:pt x="1617" y="2528"/>
                  </a:lnTo>
                  <a:lnTo>
                    <a:pt x="1602" y="2525"/>
                  </a:lnTo>
                  <a:lnTo>
                    <a:pt x="1589" y="2520"/>
                  </a:lnTo>
                  <a:lnTo>
                    <a:pt x="1574" y="2517"/>
                  </a:lnTo>
                  <a:lnTo>
                    <a:pt x="1561" y="2513"/>
                  </a:lnTo>
                  <a:lnTo>
                    <a:pt x="1549" y="2510"/>
                  </a:lnTo>
                  <a:lnTo>
                    <a:pt x="1537" y="2507"/>
                  </a:lnTo>
                  <a:lnTo>
                    <a:pt x="1527" y="2507"/>
                  </a:lnTo>
                  <a:lnTo>
                    <a:pt x="1514" y="2507"/>
                  </a:lnTo>
                  <a:lnTo>
                    <a:pt x="1492" y="2507"/>
                  </a:lnTo>
                  <a:lnTo>
                    <a:pt x="1466" y="2508"/>
                  </a:lnTo>
                  <a:lnTo>
                    <a:pt x="1436" y="2508"/>
                  </a:lnTo>
                  <a:lnTo>
                    <a:pt x="1409" y="2510"/>
                  </a:lnTo>
                  <a:lnTo>
                    <a:pt x="1386" y="2512"/>
                  </a:lnTo>
                  <a:lnTo>
                    <a:pt x="1369" y="2512"/>
                  </a:lnTo>
                  <a:lnTo>
                    <a:pt x="1362" y="2512"/>
                  </a:lnTo>
                  <a:lnTo>
                    <a:pt x="1361" y="2513"/>
                  </a:lnTo>
                  <a:lnTo>
                    <a:pt x="1356" y="2515"/>
                  </a:lnTo>
                  <a:lnTo>
                    <a:pt x="1349" y="2518"/>
                  </a:lnTo>
                  <a:lnTo>
                    <a:pt x="1339" y="2520"/>
                  </a:lnTo>
                  <a:lnTo>
                    <a:pt x="1329" y="2522"/>
                  </a:lnTo>
                  <a:lnTo>
                    <a:pt x="1317" y="2522"/>
                  </a:lnTo>
                  <a:lnTo>
                    <a:pt x="1304" y="2518"/>
                  </a:lnTo>
                  <a:lnTo>
                    <a:pt x="1292" y="2512"/>
                  </a:lnTo>
                  <a:lnTo>
                    <a:pt x="1281" y="2503"/>
                  </a:lnTo>
                  <a:lnTo>
                    <a:pt x="1272" y="2497"/>
                  </a:lnTo>
                  <a:lnTo>
                    <a:pt x="1266" y="2490"/>
                  </a:lnTo>
                  <a:lnTo>
                    <a:pt x="1261" y="2485"/>
                  </a:lnTo>
                  <a:lnTo>
                    <a:pt x="1256" y="2482"/>
                  </a:lnTo>
                  <a:lnTo>
                    <a:pt x="1250" y="2480"/>
                  </a:lnTo>
                  <a:lnTo>
                    <a:pt x="1245" y="2480"/>
                  </a:lnTo>
                  <a:lnTo>
                    <a:pt x="1239" y="2483"/>
                  </a:lnTo>
                  <a:lnTo>
                    <a:pt x="1232" y="2490"/>
                  </a:lnTo>
                  <a:lnTo>
                    <a:pt x="1235" y="2498"/>
                  </a:lnTo>
                  <a:lnTo>
                    <a:pt x="1240" y="2510"/>
                  </a:lnTo>
                  <a:lnTo>
                    <a:pt x="1239" y="2525"/>
                  </a:lnTo>
                  <a:lnTo>
                    <a:pt x="1234" y="2545"/>
                  </a:lnTo>
                  <a:lnTo>
                    <a:pt x="1232" y="2567"/>
                  </a:lnTo>
                  <a:lnTo>
                    <a:pt x="1234" y="2587"/>
                  </a:lnTo>
                  <a:lnTo>
                    <a:pt x="1234" y="2602"/>
                  </a:lnTo>
                  <a:lnTo>
                    <a:pt x="1230" y="2615"/>
                  </a:lnTo>
                  <a:lnTo>
                    <a:pt x="1225" y="2630"/>
                  </a:lnTo>
                  <a:lnTo>
                    <a:pt x="1219" y="2643"/>
                  </a:lnTo>
                  <a:lnTo>
                    <a:pt x="1215" y="2648"/>
                  </a:lnTo>
                  <a:lnTo>
                    <a:pt x="1177" y="2678"/>
                  </a:lnTo>
                  <a:lnTo>
                    <a:pt x="1175" y="2672"/>
                  </a:lnTo>
                  <a:lnTo>
                    <a:pt x="1170" y="2657"/>
                  </a:lnTo>
                  <a:lnTo>
                    <a:pt x="1167" y="2640"/>
                  </a:lnTo>
                  <a:lnTo>
                    <a:pt x="1167" y="2625"/>
                  </a:lnTo>
                  <a:lnTo>
                    <a:pt x="1167" y="2613"/>
                  </a:lnTo>
                  <a:lnTo>
                    <a:pt x="1164" y="2598"/>
                  </a:lnTo>
                  <a:lnTo>
                    <a:pt x="1154" y="2583"/>
                  </a:lnTo>
                  <a:lnTo>
                    <a:pt x="1144" y="2568"/>
                  </a:lnTo>
                  <a:lnTo>
                    <a:pt x="1134" y="2555"/>
                  </a:lnTo>
                  <a:lnTo>
                    <a:pt x="1124" y="2543"/>
                  </a:lnTo>
                  <a:lnTo>
                    <a:pt x="1115" y="2532"/>
                  </a:lnTo>
                  <a:lnTo>
                    <a:pt x="1110" y="2522"/>
                  </a:lnTo>
                  <a:lnTo>
                    <a:pt x="1107" y="2508"/>
                  </a:lnTo>
                  <a:lnTo>
                    <a:pt x="1104" y="2492"/>
                  </a:lnTo>
                  <a:lnTo>
                    <a:pt x="1095" y="2475"/>
                  </a:lnTo>
                  <a:lnTo>
                    <a:pt x="1082" y="2458"/>
                  </a:lnTo>
                  <a:lnTo>
                    <a:pt x="1072" y="2450"/>
                  </a:lnTo>
                  <a:lnTo>
                    <a:pt x="1059" y="2437"/>
                  </a:lnTo>
                  <a:lnTo>
                    <a:pt x="1044" y="2423"/>
                  </a:lnTo>
                  <a:lnTo>
                    <a:pt x="1029" y="2405"/>
                  </a:lnTo>
                  <a:lnTo>
                    <a:pt x="1014" y="2387"/>
                  </a:lnTo>
                  <a:lnTo>
                    <a:pt x="999" y="2368"/>
                  </a:lnTo>
                  <a:lnTo>
                    <a:pt x="987" y="2350"/>
                  </a:lnTo>
                  <a:lnTo>
                    <a:pt x="979" y="2332"/>
                  </a:lnTo>
                  <a:lnTo>
                    <a:pt x="964" y="2302"/>
                  </a:lnTo>
                  <a:lnTo>
                    <a:pt x="949" y="2280"/>
                  </a:lnTo>
                  <a:lnTo>
                    <a:pt x="937" y="2263"/>
                  </a:lnTo>
                  <a:lnTo>
                    <a:pt x="930" y="2245"/>
                  </a:lnTo>
                  <a:lnTo>
                    <a:pt x="927" y="2231"/>
                  </a:lnTo>
                  <a:lnTo>
                    <a:pt x="920" y="2211"/>
                  </a:lnTo>
                  <a:lnTo>
                    <a:pt x="910" y="2190"/>
                  </a:lnTo>
                  <a:lnTo>
                    <a:pt x="900" y="2166"/>
                  </a:lnTo>
                  <a:lnTo>
                    <a:pt x="890" y="2143"/>
                  </a:lnTo>
                  <a:lnTo>
                    <a:pt x="880" y="2123"/>
                  </a:lnTo>
                  <a:lnTo>
                    <a:pt x="870" y="2108"/>
                  </a:lnTo>
                  <a:lnTo>
                    <a:pt x="864" y="2098"/>
                  </a:lnTo>
                  <a:lnTo>
                    <a:pt x="854" y="2085"/>
                  </a:lnTo>
                  <a:lnTo>
                    <a:pt x="845" y="2071"/>
                  </a:lnTo>
                  <a:lnTo>
                    <a:pt x="834" y="2056"/>
                  </a:lnTo>
                  <a:lnTo>
                    <a:pt x="822" y="2041"/>
                  </a:lnTo>
                  <a:lnTo>
                    <a:pt x="814" y="2033"/>
                  </a:lnTo>
                  <a:lnTo>
                    <a:pt x="802" y="2025"/>
                  </a:lnTo>
                  <a:lnTo>
                    <a:pt x="790" y="2018"/>
                  </a:lnTo>
                  <a:lnTo>
                    <a:pt x="779" y="2010"/>
                  </a:lnTo>
                  <a:lnTo>
                    <a:pt x="765" y="2003"/>
                  </a:lnTo>
                  <a:lnTo>
                    <a:pt x="752" y="1998"/>
                  </a:lnTo>
                  <a:lnTo>
                    <a:pt x="740" y="1995"/>
                  </a:lnTo>
                  <a:lnTo>
                    <a:pt x="730" y="1993"/>
                  </a:lnTo>
                  <a:lnTo>
                    <a:pt x="722" y="1991"/>
                  </a:lnTo>
                  <a:lnTo>
                    <a:pt x="717" y="1988"/>
                  </a:lnTo>
                  <a:lnTo>
                    <a:pt x="710" y="1983"/>
                  </a:lnTo>
                  <a:lnTo>
                    <a:pt x="705" y="1975"/>
                  </a:lnTo>
                  <a:lnTo>
                    <a:pt x="700" y="1966"/>
                  </a:lnTo>
                  <a:lnTo>
                    <a:pt x="693" y="1953"/>
                  </a:lnTo>
                  <a:lnTo>
                    <a:pt x="685" y="1940"/>
                  </a:lnTo>
                  <a:lnTo>
                    <a:pt x="673" y="1923"/>
                  </a:lnTo>
                  <a:lnTo>
                    <a:pt x="662" y="1905"/>
                  </a:lnTo>
                  <a:lnTo>
                    <a:pt x="652" y="1886"/>
                  </a:lnTo>
                  <a:lnTo>
                    <a:pt x="642" y="1868"/>
                  </a:lnTo>
                  <a:lnTo>
                    <a:pt x="635" y="1851"/>
                  </a:lnTo>
                  <a:lnTo>
                    <a:pt x="628" y="1833"/>
                  </a:lnTo>
                  <a:lnTo>
                    <a:pt x="623" y="1818"/>
                  </a:lnTo>
                  <a:lnTo>
                    <a:pt x="620" y="1803"/>
                  </a:lnTo>
                  <a:lnTo>
                    <a:pt x="617" y="1790"/>
                  </a:lnTo>
                  <a:lnTo>
                    <a:pt x="612" y="1765"/>
                  </a:lnTo>
                  <a:lnTo>
                    <a:pt x="603" y="1741"/>
                  </a:lnTo>
                  <a:lnTo>
                    <a:pt x="597" y="1724"/>
                  </a:lnTo>
                  <a:lnTo>
                    <a:pt x="593" y="1718"/>
                  </a:lnTo>
                  <a:lnTo>
                    <a:pt x="600" y="1706"/>
                  </a:lnTo>
                  <a:lnTo>
                    <a:pt x="610" y="1676"/>
                  </a:lnTo>
                  <a:lnTo>
                    <a:pt x="617" y="1636"/>
                  </a:lnTo>
                  <a:lnTo>
                    <a:pt x="607" y="1594"/>
                  </a:lnTo>
                  <a:lnTo>
                    <a:pt x="590" y="1559"/>
                  </a:lnTo>
                  <a:lnTo>
                    <a:pt x="582" y="1531"/>
                  </a:lnTo>
                  <a:lnTo>
                    <a:pt x="573" y="1503"/>
                  </a:lnTo>
                  <a:lnTo>
                    <a:pt x="560" y="1471"/>
                  </a:lnTo>
                  <a:lnTo>
                    <a:pt x="552" y="1454"/>
                  </a:lnTo>
                  <a:lnTo>
                    <a:pt x="547" y="1439"/>
                  </a:lnTo>
                  <a:lnTo>
                    <a:pt x="542" y="1426"/>
                  </a:lnTo>
                  <a:lnTo>
                    <a:pt x="537" y="1413"/>
                  </a:lnTo>
                  <a:lnTo>
                    <a:pt x="532" y="1401"/>
                  </a:lnTo>
                  <a:lnTo>
                    <a:pt x="525" y="1393"/>
                  </a:lnTo>
                  <a:lnTo>
                    <a:pt x="518" y="1383"/>
                  </a:lnTo>
                  <a:lnTo>
                    <a:pt x="508" y="1376"/>
                  </a:lnTo>
                  <a:lnTo>
                    <a:pt x="497" y="1369"/>
                  </a:lnTo>
                  <a:lnTo>
                    <a:pt x="487" y="1361"/>
                  </a:lnTo>
                  <a:lnTo>
                    <a:pt x="475" y="1354"/>
                  </a:lnTo>
                  <a:lnTo>
                    <a:pt x="463" y="1346"/>
                  </a:lnTo>
                  <a:lnTo>
                    <a:pt x="452" y="1338"/>
                  </a:lnTo>
                  <a:lnTo>
                    <a:pt x="440" y="1329"/>
                  </a:lnTo>
                  <a:lnTo>
                    <a:pt x="427" y="1323"/>
                  </a:lnTo>
                  <a:lnTo>
                    <a:pt x="413" y="1316"/>
                  </a:lnTo>
                  <a:lnTo>
                    <a:pt x="392" y="1303"/>
                  </a:lnTo>
                  <a:lnTo>
                    <a:pt x="382" y="1286"/>
                  </a:lnTo>
                  <a:lnTo>
                    <a:pt x="375" y="1268"/>
                  </a:lnTo>
                  <a:lnTo>
                    <a:pt x="365" y="1249"/>
                  </a:lnTo>
                  <a:lnTo>
                    <a:pt x="355" y="1232"/>
                  </a:lnTo>
                  <a:lnTo>
                    <a:pt x="348" y="1219"/>
                  </a:lnTo>
                  <a:lnTo>
                    <a:pt x="347" y="1209"/>
                  </a:lnTo>
                  <a:lnTo>
                    <a:pt x="347" y="1206"/>
                  </a:lnTo>
                  <a:lnTo>
                    <a:pt x="348" y="1206"/>
                  </a:lnTo>
                  <a:lnTo>
                    <a:pt x="353" y="1204"/>
                  </a:lnTo>
                  <a:lnTo>
                    <a:pt x="360" y="1201"/>
                  </a:lnTo>
                  <a:lnTo>
                    <a:pt x="367" y="1194"/>
                  </a:lnTo>
                  <a:lnTo>
                    <a:pt x="370" y="1187"/>
                  </a:lnTo>
                  <a:lnTo>
                    <a:pt x="370" y="1176"/>
                  </a:lnTo>
                  <a:lnTo>
                    <a:pt x="365" y="1162"/>
                  </a:lnTo>
                  <a:lnTo>
                    <a:pt x="352" y="1144"/>
                  </a:lnTo>
                  <a:lnTo>
                    <a:pt x="330" y="1122"/>
                  </a:lnTo>
                  <a:lnTo>
                    <a:pt x="327" y="1122"/>
                  </a:lnTo>
                  <a:lnTo>
                    <a:pt x="330" y="1126"/>
                  </a:lnTo>
                  <a:lnTo>
                    <a:pt x="327" y="1112"/>
                  </a:lnTo>
                  <a:lnTo>
                    <a:pt x="320" y="1091"/>
                  </a:lnTo>
                  <a:lnTo>
                    <a:pt x="315" y="1076"/>
                  </a:lnTo>
                  <a:lnTo>
                    <a:pt x="308" y="1066"/>
                  </a:lnTo>
                  <a:lnTo>
                    <a:pt x="293" y="1054"/>
                  </a:lnTo>
                  <a:lnTo>
                    <a:pt x="283" y="1039"/>
                  </a:lnTo>
                  <a:lnTo>
                    <a:pt x="285" y="1024"/>
                  </a:lnTo>
                  <a:lnTo>
                    <a:pt x="287" y="1011"/>
                  </a:lnTo>
                  <a:lnTo>
                    <a:pt x="275" y="997"/>
                  </a:lnTo>
                  <a:lnTo>
                    <a:pt x="257" y="986"/>
                  </a:lnTo>
                  <a:lnTo>
                    <a:pt x="243" y="971"/>
                  </a:lnTo>
                  <a:lnTo>
                    <a:pt x="235" y="954"/>
                  </a:lnTo>
                  <a:lnTo>
                    <a:pt x="232" y="936"/>
                  </a:lnTo>
                  <a:lnTo>
                    <a:pt x="228" y="916"/>
                  </a:lnTo>
                  <a:lnTo>
                    <a:pt x="218" y="889"/>
                  </a:lnTo>
                  <a:lnTo>
                    <a:pt x="205" y="862"/>
                  </a:lnTo>
                  <a:lnTo>
                    <a:pt x="185" y="836"/>
                  </a:lnTo>
                  <a:lnTo>
                    <a:pt x="172" y="814"/>
                  </a:lnTo>
                  <a:lnTo>
                    <a:pt x="168" y="796"/>
                  </a:lnTo>
                  <a:lnTo>
                    <a:pt x="167" y="782"/>
                  </a:lnTo>
                  <a:lnTo>
                    <a:pt x="157" y="774"/>
                  </a:lnTo>
                  <a:lnTo>
                    <a:pt x="145" y="766"/>
                  </a:lnTo>
                  <a:lnTo>
                    <a:pt x="140" y="754"/>
                  </a:lnTo>
                  <a:lnTo>
                    <a:pt x="133" y="739"/>
                  </a:lnTo>
                  <a:lnTo>
                    <a:pt x="118" y="722"/>
                  </a:lnTo>
                  <a:lnTo>
                    <a:pt x="100" y="700"/>
                  </a:lnTo>
                  <a:lnTo>
                    <a:pt x="86" y="674"/>
                  </a:lnTo>
                  <a:lnTo>
                    <a:pt x="78" y="652"/>
                  </a:lnTo>
                  <a:lnTo>
                    <a:pt x="75" y="642"/>
                  </a:lnTo>
                  <a:lnTo>
                    <a:pt x="70" y="642"/>
                  </a:lnTo>
                  <a:lnTo>
                    <a:pt x="60" y="642"/>
                  </a:lnTo>
                  <a:lnTo>
                    <a:pt x="45" y="642"/>
                  </a:lnTo>
                  <a:lnTo>
                    <a:pt x="33" y="642"/>
                  </a:lnTo>
                  <a:lnTo>
                    <a:pt x="21" y="642"/>
                  </a:lnTo>
                  <a:lnTo>
                    <a:pt x="11" y="644"/>
                  </a:lnTo>
                  <a:lnTo>
                    <a:pt x="3" y="645"/>
                  </a:lnTo>
                  <a:lnTo>
                    <a:pt x="0" y="645"/>
                  </a:lnTo>
                  <a:lnTo>
                    <a:pt x="1" y="642"/>
                  </a:lnTo>
                  <a:lnTo>
                    <a:pt x="5" y="632"/>
                  </a:lnTo>
                  <a:lnTo>
                    <a:pt x="8" y="620"/>
                  </a:lnTo>
                  <a:lnTo>
                    <a:pt x="13" y="609"/>
                  </a:lnTo>
                  <a:lnTo>
                    <a:pt x="20" y="592"/>
                  </a:lnTo>
                  <a:lnTo>
                    <a:pt x="28" y="569"/>
                  </a:lnTo>
                  <a:lnTo>
                    <a:pt x="35" y="542"/>
                  </a:lnTo>
                  <a:lnTo>
                    <a:pt x="38" y="517"/>
                  </a:lnTo>
                  <a:lnTo>
                    <a:pt x="40" y="500"/>
                  </a:lnTo>
                  <a:lnTo>
                    <a:pt x="43" y="489"/>
                  </a:lnTo>
                  <a:lnTo>
                    <a:pt x="50" y="480"/>
                  </a:lnTo>
                  <a:lnTo>
                    <a:pt x="56" y="470"/>
                  </a:lnTo>
                  <a:lnTo>
                    <a:pt x="61" y="457"/>
                  </a:lnTo>
                  <a:lnTo>
                    <a:pt x="65" y="442"/>
                  </a:lnTo>
                  <a:lnTo>
                    <a:pt x="66" y="429"/>
                  </a:lnTo>
                  <a:lnTo>
                    <a:pt x="66" y="424"/>
                  </a:lnTo>
                  <a:lnTo>
                    <a:pt x="232" y="465"/>
                  </a:lnTo>
                  <a:lnTo>
                    <a:pt x="235" y="464"/>
                  </a:lnTo>
                  <a:lnTo>
                    <a:pt x="243" y="457"/>
                  </a:lnTo>
                  <a:lnTo>
                    <a:pt x="257" y="450"/>
                  </a:lnTo>
                  <a:lnTo>
                    <a:pt x="270" y="439"/>
                  </a:lnTo>
                  <a:lnTo>
                    <a:pt x="285" y="429"/>
                  </a:lnTo>
                  <a:lnTo>
                    <a:pt x="298" y="417"/>
                  </a:lnTo>
                  <a:lnTo>
                    <a:pt x="308" y="407"/>
                  </a:lnTo>
                  <a:lnTo>
                    <a:pt x="313" y="399"/>
                  </a:lnTo>
                  <a:lnTo>
                    <a:pt x="318" y="384"/>
                  </a:lnTo>
                  <a:lnTo>
                    <a:pt x="325" y="369"/>
                  </a:lnTo>
                  <a:lnTo>
                    <a:pt x="330" y="357"/>
                  </a:lnTo>
                  <a:lnTo>
                    <a:pt x="332" y="352"/>
                  </a:lnTo>
                  <a:lnTo>
                    <a:pt x="335" y="352"/>
                  </a:lnTo>
                  <a:lnTo>
                    <a:pt x="342" y="352"/>
                  </a:lnTo>
                  <a:lnTo>
                    <a:pt x="353" y="352"/>
                  </a:lnTo>
                  <a:lnTo>
                    <a:pt x="367" y="350"/>
                  </a:lnTo>
                  <a:lnTo>
                    <a:pt x="382" y="350"/>
                  </a:lnTo>
                  <a:lnTo>
                    <a:pt x="398" y="347"/>
                  </a:lnTo>
                  <a:lnTo>
                    <a:pt x="413" y="345"/>
                  </a:lnTo>
                  <a:lnTo>
                    <a:pt x="427" y="342"/>
                  </a:lnTo>
                  <a:lnTo>
                    <a:pt x="438" y="337"/>
                  </a:lnTo>
                  <a:lnTo>
                    <a:pt x="447" y="329"/>
                  </a:lnTo>
                  <a:lnTo>
                    <a:pt x="455" y="319"/>
                  </a:lnTo>
                  <a:lnTo>
                    <a:pt x="462" y="309"/>
                  </a:lnTo>
                  <a:lnTo>
                    <a:pt x="468" y="299"/>
                  </a:lnTo>
                  <a:lnTo>
                    <a:pt x="475" y="290"/>
                  </a:lnTo>
                  <a:lnTo>
                    <a:pt x="483" y="284"/>
                  </a:lnTo>
                  <a:lnTo>
                    <a:pt x="493" y="280"/>
                  </a:lnTo>
                  <a:lnTo>
                    <a:pt x="508" y="275"/>
                  </a:lnTo>
                  <a:lnTo>
                    <a:pt x="513" y="269"/>
                  </a:lnTo>
                  <a:lnTo>
                    <a:pt x="513" y="264"/>
                  </a:lnTo>
                  <a:lnTo>
                    <a:pt x="512" y="262"/>
                  </a:lnTo>
                  <a:lnTo>
                    <a:pt x="380" y="90"/>
                  </a:lnTo>
                  <a:close/>
                </a:path>
              </a:pathLst>
            </a:custGeom>
            <a:solidFill>
              <a:srgbClr val="b2b2b2">
                <a:alpha val="30000"/>
              </a:srgbClr>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553" name=""/>
          <p:cNvSpPr/>
          <p:nvPr/>
        </p:nvSpPr>
        <p:spPr>
          <a:xfrm>
            <a:off x="1187280" y="1063800"/>
            <a:ext cx="7552080" cy="4956120"/>
          </a:xfrm>
          <a:prstGeom prst="rect">
            <a:avLst/>
          </a:prstGeom>
          <a:noFill/>
          <a:ln w="0">
            <a:noFill/>
          </a:ln>
        </p:spPr>
        <p:style>
          <a:lnRef idx="0"/>
          <a:fillRef idx="0"/>
          <a:effectRef idx="0"/>
          <a:fontRef idx="minor"/>
        </p:style>
        <p:txBody>
          <a:bodyPr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99"/>
                </a:solidFill>
                <a:latin typeface="Albertus Medium"/>
              </a:rPr>
              <a:t>Adnan Nasir, MD Nanomaterial may pose health risk, science news, Dec 4 2008. </a:t>
            </a:r>
            <a:endParaRPr b="0" lang="en-US" sz="1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99"/>
                </a:solidFill>
                <a:latin typeface="Albertus Medium"/>
              </a:rPr>
              <a:t>Theresa Phillips. Nan particles used in biotechnology </a:t>
            </a:r>
            <a:r>
              <a:rPr b="0" lang="en-US" sz="1000" spc="-1" strike="noStrike" u="sng">
                <a:solidFill>
                  <a:srgbClr val="ccccff"/>
                </a:solidFill>
                <a:uFillTx/>
                <a:latin typeface="Albertus Medium"/>
                <a:hlinkClick r:id="rId4"/>
              </a:rPr>
              <a:t>www.about.com</a:t>
            </a:r>
            <a:r>
              <a:rPr b="0" lang="en-US" sz="1000" spc="-1" strike="noStrike">
                <a:solidFill>
                  <a:srgbClr val="333399"/>
                </a:solidFill>
                <a:latin typeface="Albertus Medium"/>
              </a:rPr>
              <a:t> Biotech/Biomedical 2009.</a:t>
            </a:r>
            <a:endParaRPr b="0" lang="en-US" sz="1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99"/>
                </a:solidFill>
                <a:latin typeface="Albertus Medium"/>
              </a:rPr>
              <a:t>Michael Berger Nanotechnology structure of materials with atomic precision,</a:t>
            </a:r>
            <a:endParaRPr b="0" lang="en-US" sz="1000" spc="-1" strike="noStrike">
              <a:solidFill>
                <a:srgbClr val="000000"/>
              </a:solidFill>
              <a:latin typeface="Arial"/>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99"/>
                </a:solidFill>
                <a:latin typeface="Albertus Medium"/>
              </a:rPr>
              <a:t>Nanowerk LLC June 18 2009.</a:t>
            </a:r>
            <a:endParaRPr b="0" lang="en-US" sz="1000" spc="-1" strike="noStrike">
              <a:solidFill>
                <a:srgbClr val="000000"/>
              </a:solidFill>
              <a:latin typeface="Arial"/>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000" spc="-1" strike="noStrike">
              <a:solidFill>
                <a:srgbClr val="000000"/>
              </a:solidFill>
              <a:latin typeface="Arial"/>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99"/>
                </a:solidFill>
                <a:latin typeface="Albertus Medium"/>
              </a:rPr>
              <a:t>Optimizing the benefit of nanotechnology while minimizing and controlling the risk an insider report.</a:t>
            </a:r>
            <a:endParaRPr b="0" lang="en-US" sz="1000" spc="-1" strike="noStrike">
              <a:solidFill>
                <a:srgbClr val="000000"/>
              </a:solidFill>
              <a:latin typeface="Arial"/>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99"/>
                </a:solidFill>
                <a:latin typeface="Albertus Medium"/>
              </a:rPr>
              <a:t>Nanoriskrisk, issue 1 volume 1 June 2006.</a:t>
            </a:r>
            <a:endParaRPr b="0" lang="en-US" sz="1000" spc="-1" strike="noStrike">
              <a:solidFill>
                <a:srgbClr val="000000"/>
              </a:solidFill>
              <a:latin typeface="Arial"/>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000" spc="-1" strike="noStrike">
              <a:solidFill>
                <a:srgbClr val="000000"/>
              </a:solidFill>
              <a:latin typeface="Arial"/>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99"/>
                </a:solidFill>
                <a:latin typeface="Albertus Medium"/>
              </a:rPr>
              <a:t>0.1117/2.1200602.0094 Quantum-dot diodes provide sources for optical coherence tomography the international society for optic engineering.</a:t>
            </a:r>
            <a:endParaRPr b="0" lang="en-US" sz="1000" spc="-1" strike="noStrike">
              <a:solidFill>
                <a:srgbClr val="000000"/>
              </a:solidFill>
              <a:latin typeface="Arial"/>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u="sng">
                <a:solidFill>
                  <a:srgbClr val="ccccff"/>
                </a:solidFill>
                <a:uFillTx/>
                <a:latin typeface="Albertus Medium"/>
                <a:hlinkClick r:id="rId5"/>
              </a:rPr>
              <a:t>Gold Nanotechnology: Past and Future</a:t>
            </a:r>
            <a:r>
              <a:rPr b="0" lang="en-US" sz="1000" spc="-1" strike="noStrike">
                <a:solidFill>
                  <a:srgbClr val="333399"/>
                </a:solidFill>
                <a:latin typeface="Albertus Medium"/>
              </a:rPr>
              <a:t> PaulTech Network, AUG 22, 2008 </a:t>
            </a:r>
            <a:endParaRPr b="0" lang="en-US" sz="1000" spc="-1" strike="noStrike">
              <a:solidFill>
                <a:srgbClr val="000000"/>
              </a:solidFill>
              <a:latin typeface="Arial"/>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000" spc="-1" strike="noStrike">
              <a:solidFill>
                <a:srgbClr val="000000"/>
              </a:solidFill>
              <a:latin typeface="Arial"/>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99"/>
                </a:solidFill>
                <a:latin typeface="Albertus Medium"/>
              </a:rPr>
              <a:t>Nanoscale Materials from the EML / Gold nano rod cir1 UC Berkeley Electron Microscope Lab 12/9/2004 </a:t>
            </a:r>
            <a:endParaRPr b="0" lang="en-US" sz="1000" spc="-1" strike="noStrike">
              <a:solidFill>
                <a:srgbClr val="000000"/>
              </a:solidFill>
              <a:latin typeface="Arial"/>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99"/>
                </a:solidFill>
                <a:latin typeface="Albertus Medium"/>
              </a:rPr>
              <a:t>gvrdolja@nature.berkeley.edu </a:t>
            </a:r>
            <a:endParaRPr b="0" lang="en-US" sz="1000" spc="-1" strike="noStrike">
              <a:solidFill>
                <a:srgbClr val="000000"/>
              </a:solidFill>
              <a:latin typeface="Arial"/>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000" spc="-1" strike="noStrike">
              <a:solidFill>
                <a:srgbClr val="000000"/>
              </a:solidFill>
              <a:latin typeface="Arial"/>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99"/>
                </a:solidFill>
                <a:latin typeface="Albertus Medium"/>
              </a:rPr>
              <a:t>Nanoemulsion vaccines effective against HIV?</a:t>
            </a:r>
            <a:endParaRPr b="0" lang="en-US" sz="1000" spc="-1" strike="noStrike">
              <a:solidFill>
                <a:srgbClr val="000000"/>
              </a:solidFill>
              <a:latin typeface="Arial"/>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99"/>
                </a:solidFill>
                <a:latin typeface="Albertus Medium"/>
              </a:rPr>
              <a:t>Chris Jablonski  February 28th, 2008 , </a:t>
            </a:r>
            <a:endParaRPr b="0" lang="en-US" sz="1000" spc="-1" strike="noStrike">
              <a:solidFill>
                <a:srgbClr val="000000"/>
              </a:solidFill>
              <a:latin typeface="Arial"/>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99"/>
                </a:solidFill>
                <a:latin typeface="Albertus Medium"/>
              </a:rPr>
              <a:t> </a:t>
            </a:r>
            <a:endParaRPr b="0" lang="en-US" sz="1000" spc="-1" strike="noStrike">
              <a:solidFill>
                <a:srgbClr val="000000"/>
              </a:solidFill>
              <a:latin typeface="Arial"/>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99"/>
                </a:solidFill>
                <a:latin typeface="Albertus Medium"/>
              </a:rPr>
              <a:t>Paul JA Borm1 , David Robbins2 , Stephan Haubold3 , Thomas Kuhlbusch4 , Heinz Fissan4 , Ken Donaldson5 , Roel Schins6 , Vicki Stone7 , Wolfgang Kreyling8 , Jurgen Lademann9 , Jean Krutmann6 , David Warheit10 and Eva Oberdorster11 the potential risks of nanomaterials: a review carried out for ECETOC. </a:t>
            </a:r>
            <a:r>
              <a:rPr b="0" i="1" lang="en-US" sz="1000" spc="-1" strike="noStrike">
                <a:solidFill>
                  <a:srgbClr val="333399"/>
                </a:solidFill>
                <a:latin typeface="Albertus Medium"/>
              </a:rPr>
              <a:t>Particle and Fiber Toxicology</a:t>
            </a:r>
            <a:r>
              <a:rPr b="0" lang="en-US" sz="1000" spc="-1" strike="noStrike">
                <a:solidFill>
                  <a:srgbClr val="333399"/>
                </a:solidFill>
                <a:latin typeface="Albertus Medium"/>
              </a:rPr>
              <a:t> 2006, 3:11doi:10.1186/1743-8977-3-11.</a:t>
            </a:r>
            <a:endParaRPr b="0" lang="en-US" sz="1000" spc="-1" strike="noStrike">
              <a:solidFill>
                <a:srgbClr val="000000"/>
              </a:solidFill>
              <a:latin typeface="Arial"/>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1000" spc="-1" strike="noStrike">
                <a:solidFill>
                  <a:srgbClr val="333399"/>
                </a:solidFill>
                <a:latin typeface="Albertus Medium"/>
              </a:rPr>
              <a:t>Nanobiotechnology: From Stem Cell, Tissue Engineering To Cancer Research Yubing Xie</a:t>
            </a:r>
            <a:br>
              <a:rPr sz="1000"/>
            </a:br>
            <a:r>
              <a:rPr b="0" i="1" lang="en-US" sz="1000" spc="-1" strike="noStrike">
                <a:solidFill>
                  <a:srgbClr val="333399"/>
                </a:solidFill>
                <a:latin typeface="Albertus Medium"/>
              </a:rPr>
              <a:t>CNSE Assistant Professor of Nanobioscience</a:t>
            </a:r>
            <a:br>
              <a:rPr sz="1000"/>
            </a:br>
            <a:r>
              <a:rPr b="0" i="1" lang="en-US" sz="1000" spc="-1" strike="noStrike">
                <a:solidFill>
                  <a:srgbClr val="333399"/>
                </a:solidFill>
                <a:latin typeface="Albertus Medium"/>
              </a:rPr>
              <a:t>College of Nanoscale Science &amp; Engineering</a:t>
            </a:r>
            <a:r>
              <a:rPr b="0" lang="en-US" sz="1000" spc="-1" strike="noStrike">
                <a:solidFill>
                  <a:srgbClr val="333399"/>
                </a:solidFill>
                <a:latin typeface="Albertus Medium"/>
              </a:rPr>
              <a:t> </a:t>
            </a:r>
            <a:endParaRPr b="0" lang="en-US" sz="1000" spc="-1" strike="noStrike">
              <a:solidFill>
                <a:srgbClr val="000000"/>
              </a:solidFill>
              <a:latin typeface="Arial"/>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99"/>
                </a:solidFill>
                <a:latin typeface="Albertus Medium"/>
              </a:rPr>
              <a:t>Size-Dependent Proinflammatory Effects of Ultra fine Polystyrene Particles: A Role for Surface Area and Oxidative Stress in the Enhanced Activity of Ultra fines 2000</a:t>
            </a:r>
            <a:endParaRPr b="0" lang="en-US" sz="1000" spc="-1" strike="noStrike">
              <a:solidFill>
                <a:srgbClr val="000000"/>
              </a:solidFill>
              <a:latin typeface="Arial"/>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000" spc="-1" strike="noStrike">
              <a:solidFill>
                <a:srgbClr val="000000"/>
              </a:solidFill>
              <a:latin typeface="Arial"/>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99"/>
                </a:solidFill>
                <a:latin typeface="Albertus Medium"/>
              </a:rPr>
              <a:t>Nanoparticles can damage DNA, increase cancer risk April 17th, 2007 www.Physiorg.com</a:t>
            </a:r>
            <a:endParaRPr b="0" lang="en-US" sz="1000" spc="-1" strike="noStrike">
              <a:solidFill>
                <a:srgbClr val="000000"/>
              </a:solidFill>
              <a:latin typeface="Arial"/>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000" spc="-1" strike="noStrike">
              <a:solidFill>
                <a:srgbClr val="000000"/>
              </a:solidFill>
              <a:latin typeface="Arial"/>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99"/>
                </a:solidFill>
                <a:latin typeface="Albertus Medium"/>
              </a:rPr>
              <a:t>Nanoparticle lung threat blocked http://news.bbc.co.uk/2/hi/health/8091141.stm a research, by the Chinese Academy of Medical Sciences, appears in the Journal of Molecular Cell Biology links polyamidoamine dendrimers used in medicine to lung cancer.</a:t>
            </a:r>
            <a:endParaRPr b="0" lang="en-US" sz="1000" spc="-1" strike="noStrike">
              <a:solidFill>
                <a:srgbClr val="000000"/>
              </a:solidFill>
              <a:latin typeface="Arial"/>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000" spc="-1" strike="noStrike">
              <a:solidFill>
                <a:srgbClr val="000000"/>
              </a:solidFill>
              <a:latin typeface="Arial"/>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99"/>
                </a:solidFill>
                <a:latin typeface="Albertus Medium"/>
              </a:rPr>
              <a:t>Craig A. Poland1, Rodger Duffin1, Ian Kinloch2, Andrew Maynard3, William A. H. Wallace1, Anthony Seaton4, Vicki Stone5, Simon Brown1, William MacNee1 &amp; Ken Donaldson1 Carbon nanotubes introduced into the abdominal cavity of mice show asbestos-like pathogenicity in a pilot study </a:t>
            </a:r>
            <a:r>
              <a:rPr b="0" i="1" lang="en-US" sz="1000" spc="-1" strike="noStrike">
                <a:solidFill>
                  <a:srgbClr val="333399"/>
                </a:solidFill>
                <a:latin typeface="Albertus Medium"/>
              </a:rPr>
              <a:t>Nature Nanotechnology 3</a:t>
            </a:r>
            <a:r>
              <a:rPr b="0" lang="en-US" sz="1000" spc="-1" strike="noStrike">
                <a:solidFill>
                  <a:srgbClr val="333399"/>
                </a:solidFill>
                <a:latin typeface="Albertus Medium"/>
              </a:rPr>
              <a:t>, 423 - 428 (2008) </a:t>
            </a:r>
            <a:endParaRPr b="0" lang="en-US" sz="1000" spc="-1" strike="noStrike">
              <a:solidFill>
                <a:srgbClr val="000000"/>
              </a:solidFill>
              <a:latin typeface="Arial"/>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99"/>
                </a:solidFill>
                <a:latin typeface="Albertus Medium"/>
              </a:rPr>
              <a:t>Standard Researchers Develop New Nanoscale Cancer Detection System for the Human Body. http://www.azonano.com/news.asp?newsid=9267 </a:t>
            </a:r>
            <a:endParaRPr b="0" lang="en-US" sz="1000" spc="-1" strike="noStrike">
              <a:solidFill>
                <a:srgbClr val="000000"/>
              </a:solidFill>
              <a:latin typeface="Arial"/>
            </a:endParaRPr>
          </a:p>
          <a:p>
            <a:pPr rtl="1">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000" spc="-1" strike="noStrike">
              <a:solidFill>
                <a:srgbClr val="000000"/>
              </a:solidFill>
              <a:latin typeface="Arial"/>
            </a:endParaRPr>
          </a:p>
        </p:txBody>
      </p:sp>
      <p:sp>
        <p:nvSpPr>
          <p:cNvPr id="554" name=""/>
          <p:cNvSpPr/>
          <p:nvPr/>
        </p:nvSpPr>
        <p:spPr>
          <a:xfrm>
            <a:off x="609480" y="6629400"/>
            <a:ext cx="8534520" cy="228600"/>
          </a:xfrm>
          <a:prstGeom prst="rect">
            <a:avLst/>
          </a:prstGeom>
          <a:solidFill>
            <a:srgbClr val="bbe0e3"/>
          </a:solidFill>
          <a:ln cap="sq"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99"/>
                </a:solidFill>
                <a:latin typeface="Albertus Medium"/>
              </a:rPr>
              <a:t>www.skinandallergy.org</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0" lang="en-US" sz="1000" spc="-1" strike="noStrike">
                <a:solidFill>
                  <a:srgbClr val="333399"/>
                </a:solidFill>
                <a:latin typeface="Albertus Medium"/>
              </a:rPr>
              <a:t>www.panarabderm.org</a:t>
            </a:r>
            <a:endParaRPr b="0" lang="en-US" sz="1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3" name="" descr=""/>
          <p:cNvPicPr/>
          <p:nvPr/>
        </p:nvPicPr>
        <p:blipFill>
          <a:blip r:embed="rId2"/>
          <a:stretch/>
        </p:blipFill>
        <p:spPr>
          <a:xfrm>
            <a:off x="8153280" y="74520"/>
            <a:ext cx="922320" cy="992160"/>
          </a:xfrm>
          <a:prstGeom prst="rect">
            <a:avLst/>
          </a:prstGeom>
          <a:ln w="0">
            <a:noFill/>
          </a:ln>
        </p:spPr>
      </p:pic>
      <p:sp>
        <p:nvSpPr>
          <p:cNvPr id="84" name=""/>
          <p:cNvSpPr/>
          <p:nvPr/>
        </p:nvSpPr>
        <p:spPr>
          <a:xfrm>
            <a:off x="1295280" y="1066680"/>
            <a:ext cx="6193080" cy="1800"/>
          </a:xfrm>
          <a:prstGeom prst="line">
            <a:avLst/>
          </a:prstGeom>
          <a:ln cap="sq" w="12600">
            <a:solidFill>
              <a:srgbClr val="b2b2b2"/>
            </a:solidFill>
            <a:miter/>
          </a:ln>
        </p:spPr>
        <p:style>
          <a:lnRef idx="0"/>
          <a:fillRef idx="0"/>
          <a:effectRef idx="0"/>
          <a:fontRef idx="minor"/>
        </p:style>
        <p:txBody>
          <a:bodyPr lIns="90000" rIns="90000" tIns="-45000" bIns="-45000" anchor="t">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85" name="" descr=""/>
          <p:cNvPicPr/>
          <p:nvPr/>
        </p:nvPicPr>
        <p:blipFill>
          <a:blip r:embed="rId3"/>
          <a:stretch/>
        </p:blipFill>
        <p:spPr>
          <a:xfrm>
            <a:off x="0" y="0"/>
            <a:ext cx="600120" cy="6858000"/>
          </a:xfrm>
          <a:prstGeom prst="rect">
            <a:avLst/>
          </a:prstGeom>
          <a:ln w="0">
            <a:noFill/>
          </a:ln>
        </p:spPr>
      </p:pic>
      <p:grpSp>
        <p:nvGrpSpPr>
          <p:cNvPr id="86" name=""/>
          <p:cNvGrpSpPr/>
          <p:nvPr/>
        </p:nvGrpSpPr>
        <p:grpSpPr>
          <a:xfrm>
            <a:off x="2639880" y="1803240"/>
            <a:ext cx="4521240" cy="3986280"/>
            <a:chOff x="2639880" y="1803240"/>
            <a:chExt cx="4521240" cy="3986280"/>
          </a:xfrm>
        </p:grpSpPr>
        <p:sp>
          <p:nvSpPr>
            <p:cNvPr id="87" name=""/>
            <p:cNvSpPr/>
            <p:nvPr/>
          </p:nvSpPr>
          <p:spPr>
            <a:xfrm>
              <a:off x="2639880" y="2776680"/>
              <a:ext cx="1721160" cy="3012840"/>
            </a:xfrm>
            <a:custGeom>
              <a:avLst/>
              <a:gdLst/>
              <a:ahLst/>
              <a:rect l="l" t="t" r="r" b="b"/>
              <a:pathLst>
                <a:path w="1261" h="2255">
                  <a:moveTo>
                    <a:pt x="1257" y="2027"/>
                  </a:moveTo>
                  <a:lnTo>
                    <a:pt x="1257" y="2015"/>
                  </a:lnTo>
                  <a:lnTo>
                    <a:pt x="1252" y="2000"/>
                  </a:lnTo>
                  <a:lnTo>
                    <a:pt x="1244" y="1985"/>
                  </a:lnTo>
                  <a:lnTo>
                    <a:pt x="1232" y="1970"/>
                  </a:lnTo>
                  <a:lnTo>
                    <a:pt x="1222" y="1956"/>
                  </a:lnTo>
                  <a:lnTo>
                    <a:pt x="1212" y="1945"/>
                  </a:lnTo>
                  <a:lnTo>
                    <a:pt x="1204" y="1933"/>
                  </a:lnTo>
                  <a:lnTo>
                    <a:pt x="1199" y="1921"/>
                  </a:lnTo>
                  <a:lnTo>
                    <a:pt x="1197" y="1910"/>
                  </a:lnTo>
                  <a:lnTo>
                    <a:pt x="1192" y="1893"/>
                  </a:lnTo>
                  <a:lnTo>
                    <a:pt x="1186" y="1876"/>
                  </a:lnTo>
                  <a:lnTo>
                    <a:pt x="1171" y="1860"/>
                  </a:lnTo>
                  <a:lnTo>
                    <a:pt x="1161" y="1851"/>
                  </a:lnTo>
                  <a:lnTo>
                    <a:pt x="1147" y="1838"/>
                  </a:lnTo>
                  <a:lnTo>
                    <a:pt x="1132" y="1823"/>
                  </a:lnTo>
                  <a:lnTo>
                    <a:pt x="1117" y="1806"/>
                  </a:lnTo>
                  <a:lnTo>
                    <a:pt x="1102" y="1788"/>
                  </a:lnTo>
                  <a:lnTo>
                    <a:pt x="1087" y="1770"/>
                  </a:lnTo>
                  <a:lnTo>
                    <a:pt x="1076" y="1750"/>
                  </a:lnTo>
                  <a:lnTo>
                    <a:pt x="1067" y="1731"/>
                  </a:lnTo>
                  <a:lnTo>
                    <a:pt x="1052" y="1703"/>
                  </a:lnTo>
                  <a:lnTo>
                    <a:pt x="1037" y="1681"/>
                  </a:lnTo>
                  <a:lnTo>
                    <a:pt x="1026" y="1665"/>
                  </a:lnTo>
                  <a:lnTo>
                    <a:pt x="1019" y="1646"/>
                  </a:lnTo>
                  <a:lnTo>
                    <a:pt x="1016" y="1633"/>
                  </a:lnTo>
                  <a:lnTo>
                    <a:pt x="1009" y="1613"/>
                  </a:lnTo>
                  <a:lnTo>
                    <a:pt x="999" y="1591"/>
                  </a:lnTo>
                  <a:lnTo>
                    <a:pt x="989" y="1568"/>
                  </a:lnTo>
                  <a:lnTo>
                    <a:pt x="979" y="1545"/>
                  </a:lnTo>
                  <a:lnTo>
                    <a:pt x="969" y="1525"/>
                  </a:lnTo>
                  <a:lnTo>
                    <a:pt x="959" y="1508"/>
                  </a:lnTo>
                  <a:lnTo>
                    <a:pt x="952" y="1499"/>
                  </a:lnTo>
                  <a:lnTo>
                    <a:pt x="942" y="1486"/>
                  </a:lnTo>
                  <a:lnTo>
                    <a:pt x="934" y="1473"/>
                  </a:lnTo>
                  <a:lnTo>
                    <a:pt x="922" y="1458"/>
                  </a:lnTo>
                  <a:lnTo>
                    <a:pt x="911" y="1443"/>
                  </a:lnTo>
                  <a:lnTo>
                    <a:pt x="902" y="1434"/>
                  </a:lnTo>
                  <a:lnTo>
                    <a:pt x="891" y="1426"/>
                  </a:lnTo>
                  <a:lnTo>
                    <a:pt x="879" y="1419"/>
                  </a:lnTo>
                  <a:lnTo>
                    <a:pt x="867" y="1411"/>
                  </a:lnTo>
                  <a:lnTo>
                    <a:pt x="854" y="1404"/>
                  </a:lnTo>
                  <a:lnTo>
                    <a:pt x="842" y="1399"/>
                  </a:lnTo>
                  <a:lnTo>
                    <a:pt x="831" y="1396"/>
                  </a:lnTo>
                  <a:lnTo>
                    <a:pt x="820" y="1394"/>
                  </a:lnTo>
                  <a:lnTo>
                    <a:pt x="812" y="1393"/>
                  </a:lnTo>
                  <a:lnTo>
                    <a:pt x="805" y="1389"/>
                  </a:lnTo>
                  <a:lnTo>
                    <a:pt x="800" y="1384"/>
                  </a:lnTo>
                  <a:lnTo>
                    <a:pt x="794" y="1376"/>
                  </a:lnTo>
                  <a:lnTo>
                    <a:pt x="789" y="1368"/>
                  </a:lnTo>
                  <a:lnTo>
                    <a:pt x="782" y="1354"/>
                  </a:lnTo>
                  <a:lnTo>
                    <a:pt x="774" y="1341"/>
                  </a:lnTo>
                  <a:lnTo>
                    <a:pt x="762" y="1324"/>
                  </a:lnTo>
                  <a:lnTo>
                    <a:pt x="750" y="1306"/>
                  </a:lnTo>
                  <a:lnTo>
                    <a:pt x="740" y="1288"/>
                  </a:lnTo>
                  <a:lnTo>
                    <a:pt x="732" y="1269"/>
                  </a:lnTo>
                  <a:lnTo>
                    <a:pt x="724" y="1253"/>
                  </a:lnTo>
                  <a:lnTo>
                    <a:pt x="717" y="1234"/>
                  </a:lnTo>
                  <a:lnTo>
                    <a:pt x="712" y="1219"/>
                  </a:lnTo>
                  <a:lnTo>
                    <a:pt x="709" y="1204"/>
                  </a:lnTo>
                  <a:lnTo>
                    <a:pt x="705" y="1191"/>
                  </a:lnTo>
                  <a:lnTo>
                    <a:pt x="700" y="1166"/>
                  </a:lnTo>
                  <a:lnTo>
                    <a:pt x="692" y="1143"/>
                  </a:lnTo>
                  <a:lnTo>
                    <a:pt x="685" y="1126"/>
                  </a:lnTo>
                  <a:lnTo>
                    <a:pt x="682" y="1119"/>
                  </a:lnTo>
                  <a:lnTo>
                    <a:pt x="689" y="1108"/>
                  </a:lnTo>
                  <a:lnTo>
                    <a:pt x="700" y="1078"/>
                  </a:lnTo>
                  <a:lnTo>
                    <a:pt x="707" y="1038"/>
                  </a:lnTo>
                  <a:lnTo>
                    <a:pt x="697" y="996"/>
                  </a:lnTo>
                  <a:lnTo>
                    <a:pt x="680" y="961"/>
                  </a:lnTo>
                  <a:lnTo>
                    <a:pt x="670" y="932"/>
                  </a:lnTo>
                  <a:lnTo>
                    <a:pt x="662" y="904"/>
                  </a:lnTo>
                  <a:lnTo>
                    <a:pt x="649" y="872"/>
                  </a:lnTo>
                  <a:lnTo>
                    <a:pt x="640" y="856"/>
                  </a:lnTo>
                  <a:lnTo>
                    <a:pt x="635" y="839"/>
                  </a:lnTo>
                  <a:lnTo>
                    <a:pt x="630" y="826"/>
                  </a:lnTo>
                  <a:lnTo>
                    <a:pt x="625" y="814"/>
                  </a:lnTo>
                  <a:lnTo>
                    <a:pt x="620" y="802"/>
                  </a:lnTo>
                  <a:lnTo>
                    <a:pt x="614" y="792"/>
                  </a:lnTo>
                  <a:lnTo>
                    <a:pt x="607" y="784"/>
                  </a:lnTo>
                  <a:lnTo>
                    <a:pt x="597" y="777"/>
                  </a:lnTo>
                  <a:lnTo>
                    <a:pt x="587" y="771"/>
                  </a:lnTo>
                  <a:lnTo>
                    <a:pt x="575" y="762"/>
                  </a:lnTo>
                  <a:lnTo>
                    <a:pt x="565" y="754"/>
                  </a:lnTo>
                  <a:lnTo>
                    <a:pt x="554" y="744"/>
                  </a:lnTo>
                  <a:lnTo>
                    <a:pt x="542" y="736"/>
                  </a:lnTo>
                  <a:lnTo>
                    <a:pt x="529" y="729"/>
                  </a:lnTo>
                  <a:lnTo>
                    <a:pt x="515" y="721"/>
                  </a:lnTo>
                  <a:lnTo>
                    <a:pt x="502" y="716"/>
                  </a:lnTo>
                  <a:lnTo>
                    <a:pt x="480" y="702"/>
                  </a:lnTo>
                  <a:lnTo>
                    <a:pt x="470" y="686"/>
                  </a:lnTo>
                  <a:lnTo>
                    <a:pt x="464" y="667"/>
                  </a:lnTo>
                  <a:lnTo>
                    <a:pt x="454" y="649"/>
                  </a:lnTo>
                  <a:lnTo>
                    <a:pt x="444" y="634"/>
                  </a:lnTo>
                  <a:lnTo>
                    <a:pt x="437" y="621"/>
                  </a:lnTo>
                  <a:lnTo>
                    <a:pt x="435" y="611"/>
                  </a:lnTo>
                  <a:lnTo>
                    <a:pt x="435" y="607"/>
                  </a:lnTo>
                  <a:lnTo>
                    <a:pt x="437" y="607"/>
                  </a:lnTo>
                  <a:lnTo>
                    <a:pt x="442" y="606"/>
                  </a:lnTo>
                  <a:lnTo>
                    <a:pt x="449" y="602"/>
                  </a:lnTo>
                  <a:lnTo>
                    <a:pt x="455" y="596"/>
                  </a:lnTo>
                  <a:lnTo>
                    <a:pt x="459" y="589"/>
                  </a:lnTo>
                  <a:lnTo>
                    <a:pt x="459" y="577"/>
                  </a:lnTo>
                  <a:lnTo>
                    <a:pt x="454" y="564"/>
                  </a:lnTo>
                  <a:lnTo>
                    <a:pt x="440" y="546"/>
                  </a:lnTo>
                  <a:lnTo>
                    <a:pt x="434" y="539"/>
                  </a:lnTo>
                  <a:lnTo>
                    <a:pt x="429" y="532"/>
                  </a:lnTo>
                  <a:lnTo>
                    <a:pt x="424" y="529"/>
                  </a:lnTo>
                  <a:lnTo>
                    <a:pt x="420" y="526"/>
                  </a:lnTo>
                  <a:lnTo>
                    <a:pt x="419" y="527"/>
                  </a:lnTo>
                  <a:lnTo>
                    <a:pt x="415" y="526"/>
                  </a:lnTo>
                  <a:lnTo>
                    <a:pt x="415" y="522"/>
                  </a:lnTo>
                  <a:lnTo>
                    <a:pt x="420" y="526"/>
                  </a:lnTo>
                  <a:lnTo>
                    <a:pt x="420" y="524"/>
                  </a:lnTo>
                  <a:lnTo>
                    <a:pt x="419" y="521"/>
                  </a:lnTo>
                  <a:lnTo>
                    <a:pt x="419" y="517"/>
                  </a:lnTo>
                  <a:lnTo>
                    <a:pt x="417" y="512"/>
                  </a:lnTo>
                  <a:lnTo>
                    <a:pt x="409" y="490"/>
                  </a:lnTo>
                  <a:lnTo>
                    <a:pt x="405" y="477"/>
                  </a:lnTo>
                  <a:lnTo>
                    <a:pt x="399" y="467"/>
                  </a:lnTo>
                  <a:lnTo>
                    <a:pt x="384" y="455"/>
                  </a:lnTo>
                  <a:lnTo>
                    <a:pt x="372" y="440"/>
                  </a:lnTo>
                  <a:lnTo>
                    <a:pt x="374" y="425"/>
                  </a:lnTo>
                  <a:lnTo>
                    <a:pt x="375" y="412"/>
                  </a:lnTo>
                  <a:lnTo>
                    <a:pt x="364" y="399"/>
                  </a:lnTo>
                  <a:lnTo>
                    <a:pt x="345" y="387"/>
                  </a:lnTo>
                  <a:lnTo>
                    <a:pt x="332" y="372"/>
                  </a:lnTo>
                  <a:lnTo>
                    <a:pt x="325" y="355"/>
                  </a:lnTo>
                  <a:lnTo>
                    <a:pt x="322" y="337"/>
                  </a:lnTo>
                  <a:lnTo>
                    <a:pt x="319" y="317"/>
                  </a:lnTo>
                  <a:lnTo>
                    <a:pt x="309" y="290"/>
                  </a:lnTo>
                  <a:lnTo>
                    <a:pt x="294" y="264"/>
                  </a:lnTo>
                  <a:lnTo>
                    <a:pt x="273" y="237"/>
                  </a:lnTo>
                  <a:lnTo>
                    <a:pt x="260" y="215"/>
                  </a:lnTo>
                  <a:lnTo>
                    <a:pt x="257" y="197"/>
                  </a:lnTo>
                  <a:lnTo>
                    <a:pt x="255" y="184"/>
                  </a:lnTo>
                  <a:lnTo>
                    <a:pt x="245" y="175"/>
                  </a:lnTo>
                  <a:lnTo>
                    <a:pt x="233" y="167"/>
                  </a:lnTo>
                  <a:lnTo>
                    <a:pt x="228" y="154"/>
                  </a:lnTo>
                  <a:lnTo>
                    <a:pt x="222" y="140"/>
                  </a:lnTo>
                  <a:lnTo>
                    <a:pt x="207" y="124"/>
                  </a:lnTo>
                  <a:lnTo>
                    <a:pt x="188" y="100"/>
                  </a:lnTo>
                  <a:lnTo>
                    <a:pt x="175" y="74"/>
                  </a:lnTo>
                  <a:lnTo>
                    <a:pt x="168" y="52"/>
                  </a:lnTo>
                  <a:lnTo>
                    <a:pt x="165" y="42"/>
                  </a:lnTo>
                  <a:lnTo>
                    <a:pt x="160" y="42"/>
                  </a:lnTo>
                  <a:lnTo>
                    <a:pt x="148" y="42"/>
                  </a:lnTo>
                  <a:lnTo>
                    <a:pt x="133" y="42"/>
                  </a:lnTo>
                  <a:lnTo>
                    <a:pt x="122" y="42"/>
                  </a:lnTo>
                  <a:lnTo>
                    <a:pt x="110" y="42"/>
                  </a:lnTo>
                  <a:lnTo>
                    <a:pt x="100" y="44"/>
                  </a:lnTo>
                  <a:lnTo>
                    <a:pt x="92" y="47"/>
                  </a:lnTo>
                  <a:lnTo>
                    <a:pt x="88" y="47"/>
                  </a:lnTo>
                  <a:lnTo>
                    <a:pt x="90" y="44"/>
                  </a:lnTo>
                  <a:lnTo>
                    <a:pt x="93" y="34"/>
                  </a:lnTo>
                  <a:lnTo>
                    <a:pt x="98" y="20"/>
                  </a:lnTo>
                  <a:lnTo>
                    <a:pt x="103" y="8"/>
                  </a:lnTo>
                  <a:lnTo>
                    <a:pt x="103" y="8"/>
                  </a:lnTo>
                  <a:lnTo>
                    <a:pt x="103" y="8"/>
                  </a:lnTo>
                  <a:lnTo>
                    <a:pt x="103" y="8"/>
                  </a:lnTo>
                  <a:lnTo>
                    <a:pt x="103" y="8"/>
                  </a:lnTo>
                  <a:lnTo>
                    <a:pt x="67" y="0"/>
                  </a:lnTo>
                  <a:lnTo>
                    <a:pt x="67" y="5"/>
                  </a:lnTo>
                  <a:lnTo>
                    <a:pt x="65" y="19"/>
                  </a:lnTo>
                  <a:lnTo>
                    <a:pt x="62" y="34"/>
                  </a:lnTo>
                  <a:lnTo>
                    <a:pt x="57" y="47"/>
                  </a:lnTo>
                  <a:lnTo>
                    <a:pt x="50" y="57"/>
                  </a:lnTo>
                  <a:lnTo>
                    <a:pt x="45" y="65"/>
                  </a:lnTo>
                  <a:lnTo>
                    <a:pt x="40" y="79"/>
                  </a:lnTo>
                  <a:lnTo>
                    <a:pt x="38" y="95"/>
                  </a:lnTo>
                  <a:lnTo>
                    <a:pt x="35" y="119"/>
                  </a:lnTo>
                  <a:lnTo>
                    <a:pt x="28" y="145"/>
                  </a:lnTo>
                  <a:lnTo>
                    <a:pt x="20" y="169"/>
                  </a:lnTo>
                  <a:lnTo>
                    <a:pt x="15" y="185"/>
                  </a:lnTo>
                  <a:lnTo>
                    <a:pt x="10" y="197"/>
                  </a:lnTo>
                  <a:lnTo>
                    <a:pt x="5" y="209"/>
                  </a:lnTo>
                  <a:lnTo>
                    <a:pt x="2" y="220"/>
                  </a:lnTo>
                  <a:lnTo>
                    <a:pt x="0" y="224"/>
                  </a:lnTo>
                  <a:lnTo>
                    <a:pt x="3" y="224"/>
                  </a:lnTo>
                  <a:lnTo>
                    <a:pt x="12" y="220"/>
                  </a:lnTo>
                  <a:lnTo>
                    <a:pt x="23" y="219"/>
                  </a:lnTo>
                  <a:lnTo>
                    <a:pt x="33" y="219"/>
                  </a:lnTo>
                  <a:lnTo>
                    <a:pt x="47" y="219"/>
                  </a:lnTo>
                  <a:lnTo>
                    <a:pt x="60" y="219"/>
                  </a:lnTo>
                  <a:lnTo>
                    <a:pt x="72" y="219"/>
                  </a:lnTo>
                  <a:lnTo>
                    <a:pt x="77" y="219"/>
                  </a:lnTo>
                  <a:lnTo>
                    <a:pt x="80" y="229"/>
                  </a:lnTo>
                  <a:lnTo>
                    <a:pt x="87" y="250"/>
                  </a:lnTo>
                  <a:lnTo>
                    <a:pt x="100" y="277"/>
                  </a:lnTo>
                  <a:lnTo>
                    <a:pt x="118" y="299"/>
                  </a:lnTo>
                  <a:lnTo>
                    <a:pt x="133" y="315"/>
                  </a:lnTo>
                  <a:lnTo>
                    <a:pt x="140" y="330"/>
                  </a:lnTo>
                  <a:lnTo>
                    <a:pt x="145" y="342"/>
                  </a:lnTo>
                  <a:lnTo>
                    <a:pt x="157" y="352"/>
                  </a:lnTo>
                  <a:lnTo>
                    <a:pt x="167" y="360"/>
                  </a:lnTo>
                  <a:lnTo>
                    <a:pt x="168" y="374"/>
                  </a:lnTo>
                  <a:lnTo>
                    <a:pt x="172" y="390"/>
                  </a:lnTo>
                  <a:lnTo>
                    <a:pt x="185" y="414"/>
                  </a:lnTo>
                  <a:lnTo>
                    <a:pt x="205" y="440"/>
                  </a:lnTo>
                  <a:lnTo>
                    <a:pt x="220" y="467"/>
                  </a:lnTo>
                  <a:lnTo>
                    <a:pt x="230" y="492"/>
                  </a:lnTo>
                  <a:lnTo>
                    <a:pt x="233" y="512"/>
                  </a:lnTo>
                  <a:lnTo>
                    <a:pt x="237" y="531"/>
                  </a:lnTo>
                  <a:lnTo>
                    <a:pt x="243" y="547"/>
                  </a:lnTo>
                  <a:lnTo>
                    <a:pt x="257" y="562"/>
                  </a:lnTo>
                  <a:lnTo>
                    <a:pt x="275" y="574"/>
                  </a:lnTo>
                  <a:lnTo>
                    <a:pt x="287" y="587"/>
                  </a:lnTo>
                  <a:lnTo>
                    <a:pt x="285" y="601"/>
                  </a:lnTo>
                  <a:lnTo>
                    <a:pt x="284" y="617"/>
                  </a:lnTo>
                  <a:lnTo>
                    <a:pt x="295" y="632"/>
                  </a:lnTo>
                  <a:lnTo>
                    <a:pt x="310" y="642"/>
                  </a:lnTo>
                  <a:lnTo>
                    <a:pt x="317" y="652"/>
                  </a:lnTo>
                  <a:lnTo>
                    <a:pt x="320" y="666"/>
                  </a:lnTo>
                  <a:lnTo>
                    <a:pt x="329" y="687"/>
                  </a:lnTo>
                  <a:lnTo>
                    <a:pt x="330" y="692"/>
                  </a:lnTo>
                  <a:lnTo>
                    <a:pt x="330" y="696"/>
                  </a:lnTo>
                  <a:lnTo>
                    <a:pt x="332" y="697"/>
                  </a:lnTo>
                  <a:lnTo>
                    <a:pt x="332" y="699"/>
                  </a:lnTo>
                  <a:lnTo>
                    <a:pt x="335" y="702"/>
                  </a:lnTo>
                  <a:lnTo>
                    <a:pt x="340" y="707"/>
                  </a:lnTo>
                  <a:lnTo>
                    <a:pt x="345" y="712"/>
                  </a:lnTo>
                  <a:lnTo>
                    <a:pt x="352" y="721"/>
                  </a:lnTo>
                  <a:lnTo>
                    <a:pt x="365" y="737"/>
                  </a:lnTo>
                  <a:lnTo>
                    <a:pt x="370" y="752"/>
                  </a:lnTo>
                  <a:lnTo>
                    <a:pt x="370" y="762"/>
                  </a:lnTo>
                  <a:lnTo>
                    <a:pt x="367" y="771"/>
                  </a:lnTo>
                  <a:lnTo>
                    <a:pt x="360" y="776"/>
                  </a:lnTo>
                  <a:lnTo>
                    <a:pt x="354" y="781"/>
                  </a:lnTo>
                  <a:lnTo>
                    <a:pt x="349" y="782"/>
                  </a:lnTo>
                  <a:lnTo>
                    <a:pt x="347" y="782"/>
                  </a:lnTo>
                  <a:lnTo>
                    <a:pt x="347" y="786"/>
                  </a:lnTo>
                  <a:lnTo>
                    <a:pt x="350" y="794"/>
                  </a:lnTo>
                  <a:lnTo>
                    <a:pt x="355" y="807"/>
                  </a:lnTo>
                  <a:lnTo>
                    <a:pt x="367" y="824"/>
                  </a:lnTo>
                  <a:lnTo>
                    <a:pt x="377" y="842"/>
                  </a:lnTo>
                  <a:lnTo>
                    <a:pt x="384" y="862"/>
                  </a:lnTo>
                  <a:lnTo>
                    <a:pt x="392" y="877"/>
                  </a:lnTo>
                  <a:lnTo>
                    <a:pt x="414" y="891"/>
                  </a:lnTo>
                  <a:lnTo>
                    <a:pt x="427" y="897"/>
                  </a:lnTo>
                  <a:lnTo>
                    <a:pt x="440" y="904"/>
                  </a:lnTo>
                  <a:lnTo>
                    <a:pt x="454" y="912"/>
                  </a:lnTo>
                  <a:lnTo>
                    <a:pt x="465" y="921"/>
                  </a:lnTo>
                  <a:lnTo>
                    <a:pt x="477" y="929"/>
                  </a:lnTo>
                  <a:lnTo>
                    <a:pt x="487" y="937"/>
                  </a:lnTo>
                  <a:lnTo>
                    <a:pt x="499" y="946"/>
                  </a:lnTo>
                  <a:lnTo>
                    <a:pt x="509" y="952"/>
                  </a:lnTo>
                  <a:lnTo>
                    <a:pt x="519" y="961"/>
                  </a:lnTo>
                  <a:lnTo>
                    <a:pt x="525" y="969"/>
                  </a:lnTo>
                  <a:lnTo>
                    <a:pt x="532" y="979"/>
                  </a:lnTo>
                  <a:lnTo>
                    <a:pt x="537" y="989"/>
                  </a:lnTo>
                  <a:lnTo>
                    <a:pt x="542" y="1002"/>
                  </a:lnTo>
                  <a:lnTo>
                    <a:pt x="547" y="1016"/>
                  </a:lnTo>
                  <a:lnTo>
                    <a:pt x="552" y="1031"/>
                  </a:lnTo>
                  <a:lnTo>
                    <a:pt x="560" y="1048"/>
                  </a:lnTo>
                  <a:lnTo>
                    <a:pt x="574" y="1079"/>
                  </a:lnTo>
                  <a:lnTo>
                    <a:pt x="584" y="1108"/>
                  </a:lnTo>
                  <a:lnTo>
                    <a:pt x="592" y="1136"/>
                  </a:lnTo>
                  <a:lnTo>
                    <a:pt x="609" y="1171"/>
                  </a:lnTo>
                  <a:lnTo>
                    <a:pt x="619" y="1213"/>
                  </a:lnTo>
                  <a:lnTo>
                    <a:pt x="612" y="1253"/>
                  </a:lnTo>
                  <a:lnTo>
                    <a:pt x="600" y="1283"/>
                  </a:lnTo>
                  <a:lnTo>
                    <a:pt x="594" y="1294"/>
                  </a:lnTo>
                  <a:lnTo>
                    <a:pt x="597" y="1301"/>
                  </a:lnTo>
                  <a:lnTo>
                    <a:pt x="604" y="1318"/>
                  </a:lnTo>
                  <a:lnTo>
                    <a:pt x="612" y="1341"/>
                  </a:lnTo>
                  <a:lnTo>
                    <a:pt x="617" y="1366"/>
                  </a:lnTo>
                  <a:lnTo>
                    <a:pt x="620" y="1379"/>
                  </a:lnTo>
                  <a:lnTo>
                    <a:pt x="624" y="1394"/>
                  </a:lnTo>
                  <a:lnTo>
                    <a:pt x="629" y="1409"/>
                  </a:lnTo>
                  <a:lnTo>
                    <a:pt x="635" y="1428"/>
                  </a:lnTo>
                  <a:lnTo>
                    <a:pt x="644" y="1444"/>
                  </a:lnTo>
                  <a:lnTo>
                    <a:pt x="654" y="1463"/>
                  </a:lnTo>
                  <a:lnTo>
                    <a:pt x="664" y="1481"/>
                  </a:lnTo>
                  <a:lnTo>
                    <a:pt x="675" y="1499"/>
                  </a:lnTo>
                  <a:lnTo>
                    <a:pt x="687" y="1516"/>
                  </a:lnTo>
                  <a:lnTo>
                    <a:pt x="695" y="1531"/>
                  </a:lnTo>
                  <a:lnTo>
                    <a:pt x="702" y="1543"/>
                  </a:lnTo>
                  <a:lnTo>
                    <a:pt x="707" y="1553"/>
                  </a:lnTo>
                  <a:lnTo>
                    <a:pt x="712" y="1561"/>
                  </a:lnTo>
                  <a:lnTo>
                    <a:pt x="719" y="1566"/>
                  </a:lnTo>
                  <a:lnTo>
                    <a:pt x="724" y="1570"/>
                  </a:lnTo>
                  <a:lnTo>
                    <a:pt x="732" y="1571"/>
                  </a:lnTo>
                  <a:lnTo>
                    <a:pt x="742" y="1573"/>
                  </a:lnTo>
                  <a:lnTo>
                    <a:pt x="754" y="1576"/>
                  </a:lnTo>
                  <a:lnTo>
                    <a:pt x="765" y="1581"/>
                  </a:lnTo>
                  <a:lnTo>
                    <a:pt x="779" y="1588"/>
                  </a:lnTo>
                  <a:lnTo>
                    <a:pt x="792" y="1595"/>
                  </a:lnTo>
                  <a:lnTo>
                    <a:pt x="804" y="1603"/>
                  </a:lnTo>
                  <a:lnTo>
                    <a:pt x="814" y="1611"/>
                  </a:lnTo>
                  <a:lnTo>
                    <a:pt x="822" y="1618"/>
                  </a:lnTo>
                  <a:lnTo>
                    <a:pt x="834" y="1633"/>
                  </a:lnTo>
                  <a:lnTo>
                    <a:pt x="846" y="1648"/>
                  </a:lnTo>
                  <a:lnTo>
                    <a:pt x="856" y="1663"/>
                  </a:lnTo>
                  <a:lnTo>
                    <a:pt x="866" y="1675"/>
                  </a:lnTo>
                  <a:lnTo>
                    <a:pt x="872" y="1685"/>
                  </a:lnTo>
                  <a:lnTo>
                    <a:pt x="881" y="1700"/>
                  </a:lnTo>
                  <a:lnTo>
                    <a:pt x="891" y="1721"/>
                  </a:lnTo>
                  <a:lnTo>
                    <a:pt x="902" y="1743"/>
                  </a:lnTo>
                  <a:lnTo>
                    <a:pt x="912" y="1768"/>
                  </a:lnTo>
                  <a:lnTo>
                    <a:pt x="921" y="1790"/>
                  </a:lnTo>
                  <a:lnTo>
                    <a:pt x="927" y="1810"/>
                  </a:lnTo>
                  <a:lnTo>
                    <a:pt x="931" y="1823"/>
                  </a:lnTo>
                  <a:lnTo>
                    <a:pt x="937" y="1841"/>
                  </a:lnTo>
                  <a:lnTo>
                    <a:pt x="951" y="1858"/>
                  </a:lnTo>
                  <a:lnTo>
                    <a:pt x="964" y="1878"/>
                  </a:lnTo>
                  <a:lnTo>
                    <a:pt x="979" y="1908"/>
                  </a:lnTo>
                  <a:lnTo>
                    <a:pt x="987" y="1926"/>
                  </a:lnTo>
                  <a:lnTo>
                    <a:pt x="999" y="1945"/>
                  </a:lnTo>
                  <a:lnTo>
                    <a:pt x="1014" y="1965"/>
                  </a:lnTo>
                  <a:lnTo>
                    <a:pt x="1029" y="1981"/>
                  </a:lnTo>
                  <a:lnTo>
                    <a:pt x="1044" y="2000"/>
                  </a:lnTo>
                  <a:lnTo>
                    <a:pt x="1059" y="2015"/>
                  </a:lnTo>
                  <a:lnTo>
                    <a:pt x="1072" y="2027"/>
                  </a:lnTo>
                  <a:lnTo>
                    <a:pt x="1084" y="2037"/>
                  </a:lnTo>
                  <a:lnTo>
                    <a:pt x="1097" y="2052"/>
                  </a:lnTo>
                  <a:lnTo>
                    <a:pt x="1106" y="2068"/>
                  </a:lnTo>
                  <a:lnTo>
                    <a:pt x="1109" y="2085"/>
                  </a:lnTo>
                  <a:lnTo>
                    <a:pt x="1112" y="2098"/>
                  </a:lnTo>
                  <a:lnTo>
                    <a:pt x="1117" y="2108"/>
                  </a:lnTo>
                  <a:lnTo>
                    <a:pt x="1126" y="2120"/>
                  </a:lnTo>
                  <a:lnTo>
                    <a:pt x="1136" y="2132"/>
                  </a:lnTo>
                  <a:lnTo>
                    <a:pt x="1146" y="2145"/>
                  </a:lnTo>
                  <a:lnTo>
                    <a:pt x="1156" y="2160"/>
                  </a:lnTo>
                  <a:lnTo>
                    <a:pt x="1164" y="2175"/>
                  </a:lnTo>
                  <a:lnTo>
                    <a:pt x="1169" y="2190"/>
                  </a:lnTo>
                  <a:lnTo>
                    <a:pt x="1169" y="2202"/>
                  </a:lnTo>
                  <a:lnTo>
                    <a:pt x="1169" y="2217"/>
                  </a:lnTo>
                  <a:lnTo>
                    <a:pt x="1172" y="2233"/>
                  </a:lnTo>
                  <a:lnTo>
                    <a:pt x="1177" y="2248"/>
                  </a:lnTo>
                  <a:lnTo>
                    <a:pt x="1179" y="2255"/>
                  </a:lnTo>
                  <a:lnTo>
                    <a:pt x="1216" y="2227"/>
                  </a:lnTo>
                  <a:lnTo>
                    <a:pt x="1219" y="2222"/>
                  </a:lnTo>
                  <a:lnTo>
                    <a:pt x="1226" y="2208"/>
                  </a:lnTo>
                  <a:lnTo>
                    <a:pt x="1232" y="2192"/>
                  </a:lnTo>
                  <a:lnTo>
                    <a:pt x="1236" y="2178"/>
                  </a:lnTo>
                  <a:lnTo>
                    <a:pt x="1236" y="2165"/>
                  </a:lnTo>
                  <a:lnTo>
                    <a:pt x="1234" y="2145"/>
                  </a:lnTo>
                  <a:lnTo>
                    <a:pt x="1236" y="2123"/>
                  </a:lnTo>
                  <a:lnTo>
                    <a:pt x="1241" y="2103"/>
                  </a:lnTo>
                  <a:lnTo>
                    <a:pt x="1241" y="2087"/>
                  </a:lnTo>
                  <a:lnTo>
                    <a:pt x="1236" y="2077"/>
                  </a:lnTo>
                  <a:lnTo>
                    <a:pt x="1234" y="2067"/>
                  </a:lnTo>
                  <a:lnTo>
                    <a:pt x="1241" y="2060"/>
                  </a:lnTo>
                  <a:lnTo>
                    <a:pt x="1246" y="2057"/>
                  </a:lnTo>
                  <a:lnTo>
                    <a:pt x="1251" y="2057"/>
                  </a:lnTo>
                  <a:lnTo>
                    <a:pt x="1256" y="2058"/>
                  </a:lnTo>
                  <a:lnTo>
                    <a:pt x="1261" y="2062"/>
                  </a:lnTo>
                  <a:lnTo>
                    <a:pt x="1259" y="2052"/>
                  </a:lnTo>
                  <a:lnTo>
                    <a:pt x="1257" y="2043"/>
                  </a:lnTo>
                  <a:lnTo>
                    <a:pt x="1256" y="2033"/>
                  </a:lnTo>
                  <a:lnTo>
                    <a:pt x="1257" y="2027"/>
                  </a:lnTo>
                  <a:close/>
                </a:path>
              </a:pathLst>
            </a:custGeom>
            <a:solidFill>
              <a:srgbClr val="ffffff">
                <a:alpha val="10000"/>
              </a:srgbClr>
            </a:solidFill>
            <a:ln cap="sq" w="9360">
              <a:solidFill>
                <a:srgbClr val="ffffff"/>
              </a:solidFill>
              <a:round/>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3086280" y="3706920"/>
              <a:ext cx="4680" cy="4680"/>
            </a:xfrm>
            <a:custGeom>
              <a:avLst/>
              <a:gdLst/>
              <a:ahLst/>
              <a:rect l="l" t="t" r="r" b="b"/>
              <a:pathLst>
                <a:path w="5" h="5">
                  <a:moveTo>
                    <a:pt x="5" y="3"/>
                  </a:moveTo>
                  <a:lnTo>
                    <a:pt x="0" y="0"/>
                  </a:lnTo>
                  <a:lnTo>
                    <a:pt x="2" y="3"/>
                  </a:lnTo>
                  <a:lnTo>
                    <a:pt x="3" y="5"/>
                  </a:lnTo>
                  <a:lnTo>
                    <a:pt x="5" y="3"/>
                  </a:lnTo>
                  <a:lnTo>
                    <a:pt x="5" y="3"/>
                  </a:lnTo>
                  <a:close/>
                </a:path>
              </a:pathLst>
            </a:custGeom>
            <a:solidFill>
              <a:srgbClr val="000000"/>
            </a:solidFill>
            <a:ln w="0">
              <a:noFill/>
            </a:ln>
          </p:spPr>
          <p:style>
            <a:lnRef idx="0"/>
            <a:fillRef idx="0"/>
            <a:effectRef idx="0"/>
            <a:fontRef idx="minor"/>
          </p:style>
          <p:txBody>
            <a:bodyPr wrap="none" lIns="90000" rIns="90000" tIns="-42120" bIns="-421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9" name=""/>
            <p:cNvSpPr/>
            <p:nvPr/>
          </p:nvSpPr>
          <p:spPr>
            <a:xfrm>
              <a:off x="4379760" y="4662360"/>
              <a:ext cx="2567160" cy="993960"/>
            </a:xfrm>
            <a:custGeom>
              <a:avLst/>
              <a:gdLst/>
              <a:ahLst/>
              <a:rect l="l" t="t" r="r" b="b"/>
              <a:pathLst>
                <a:path w="1881" h="744">
                  <a:moveTo>
                    <a:pt x="1298" y="222"/>
                  </a:moveTo>
                  <a:lnTo>
                    <a:pt x="1283" y="225"/>
                  </a:lnTo>
                  <a:lnTo>
                    <a:pt x="1263" y="230"/>
                  </a:lnTo>
                  <a:lnTo>
                    <a:pt x="1239" y="235"/>
                  </a:lnTo>
                  <a:lnTo>
                    <a:pt x="1214" y="242"/>
                  </a:lnTo>
                  <a:lnTo>
                    <a:pt x="1186" y="249"/>
                  </a:lnTo>
                  <a:lnTo>
                    <a:pt x="1157" y="255"/>
                  </a:lnTo>
                  <a:lnTo>
                    <a:pt x="1127" y="262"/>
                  </a:lnTo>
                  <a:lnTo>
                    <a:pt x="1097" y="269"/>
                  </a:lnTo>
                  <a:lnTo>
                    <a:pt x="1067" y="275"/>
                  </a:lnTo>
                  <a:lnTo>
                    <a:pt x="1039" y="284"/>
                  </a:lnTo>
                  <a:lnTo>
                    <a:pt x="1012" y="290"/>
                  </a:lnTo>
                  <a:lnTo>
                    <a:pt x="989" y="297"/>
                  </a:lnTo>
                  <a:lnTo>
                    <a:pt x="967" y="302"/>
                  </a:lnTo>
                  <a:lnTo>
                    <a:pt x="949" y="309"/>
                  </a:lnTo>
                  <a:lnTo>
                    <a:pt x="936" y="314"/>
                  </a:lnTo>
                  <a:lnTo>
                    <a:pt x="927" y="317"/>
                  </a:lnTo>
                  <a:lnTo>
                    <a:pt x="914" y="324"/>
                  </a:lnTo>
                  <a:lnTo>
                    <a:pt x="901" y="329"/>
                  </a:lnTo>
                  <a:lnTo>
                    <a:pt x="887" y="337"/>
                  </a:lnTo>
                  <a:lnTo>
                    <a:pt x="872" y="344"/>
                  </a:lnTo>
                  <a:lnTo>
                    <a:pt x="857" y="355"/>
                  </a:lnTo>
                  <a:lnTo>
                    <a:pt x="842" y="369"/>
                  </a:lnTo>
                  <a:lnTo>
                    <a:pt x="826" y="389"/>
                  </a:lnTo>
                  <a:lnTo>
                    <a:pt x="807" y="412"/>
                  </a:lnTo>
                  <a:lnTo>
                    <a:pt x="791" y="437"/>
                  </a:lnTo>
                  <a:lnTo>
                    <a:pt x="776" y="460"/>
                  </a:lnTo>
                  <a:lnTo>
                    <a:pt x="761" y="482"/>
                  </a:lnTo>
                  <a:lnTo>
                    <a:pt x="747" y="502"/>
                  </a:lnTo>
                  <a:lnTo>
                    <a:pt x="737" y="519"/>
                  </a:lnTo>
                  <a:lnTo>
                    <a:pt x="727" y="532"/>
                  </a:lnTo>
                  <a:lnTo>
                    <a:pt x="719" y="542"/>
                  </a:lnTo>
                  <a:lnTo>
                    <a:pt x="712" y="549"/>
                  </a:lnTo>
                  <a:lnTo>
                    <a:pt x="706" y="554"/>
                  </a:lnTo>
                  <a:lnTo>
                    <a:pt x="699" y="559"/>
                  </a:lnTo>
                  <a:lnTo>
                    <a:pt x="689" y="564"/>
                  </a:lnTo>
                  <a:lnTo>
                    <a:pt x="679" y="565"/>
                  </a:lnTo>
                  <a:lnTo>
                    <a:pt x="667" y="567"/>
                  </a:lnTo>
                  <a:lnTo>
                    <a:pt x="657" y="567"/>
                  </a:lnTo>
                  <a:lnTo>
                    <a:pt x="647" y="564"/>
                  </a:lnTo>
                  <a:lnTo>
                    <a:pt x="637" y="559"/>
                  </a:lnTo>
                  <a:lnTo>
                    <a:pt x="629" y="552"/>
                  </a:lnTo>
                  <a:lnTo>
                    <a:pt x="622" y="544"/>
                  </a:lnTo>
                  <a:lnTo>
                    <a:pt x="615" y="535"/>
                  </a:lnTo>
                  <a:lnTo>
                    <a:pt x="609" y="529"/>
                  </a:lnTo>
                  <a:lnTo>
                    <a:pt x="602" y="524"/>
                  </a:lnTo>
                  <a:lnTo>
                    <a:pt x="595" y="520"/>
                  </a:lnTo>
                  <a:lnTo>
                    <a:pt x="589" y="519"/>
                  </a:lnTo>
                  <a:lnTo>
                    <a:pt x="580" y="520"/>
                  </a:lnTo>
                  <a:lnTo>
                    <a:pt x="569" y="524"/>
                  </a:lnTo>
                  <a:lnTo>
                    <a:pt x="554" y="525"/>
                  </a:lnTo>
                  <a:lnTo>
                    <a:pt x="537" y="525"/>
                  </a:lnTo>
                  <a:lnTo>
                    <a:pt x="519" y="525"/>
                  </a:lnTo>
                  <a:lnTo>
                    <a:pt x="499" y="525"/>
                  </a:lnTo>
                  <a:lnTo>
                    <a:pt x="480" y="524"/>
                  </a:lnTo>
                  <a:lnTo>
                    <a:pt x="462" y="522"/>
                  </a:lnTo>
                  <a:lnTo>
                    <a:pt x="447" y="520"/>
                  </a:lnTo>
                  <a:lnTo>
                    <a:pt x="432" y="519"/>
                  </a:lnTo>
                  <a:lnTo>
                    <a:pt x="417" y="515"/>
                  </a:lnTo>
                  <a:lnTo>
                    <a:pt x="404" y="510"/>
                  </a:lnTo>
                  <a:lnTo>
                    <a:pt x="389" y="507"/>
                  </a:lnTo>
                  <a:lnTo>
                    <a:pt x="375" y="504"/>
                  </a:lnTo>
                  <a:lnTo>
                    <a:pt x="364" y="500"/>
                  </a:lnTo>
                  <a:lnTo>
                    <a:pt x="352" y="497"/>
                  </a:lnTo>
                  <a:lnTo>
                    <a:pt x="342" y="497"/>
                  </a:lnTo>
                  <a:lnTo>
                    <a:pt x="329" y="497"/>
                  </a:lnTo>
                  <a:lnTo>
                    <a:pt x="307" y="497"/>
                  </a:lnTo>
                  <a:lnTo>
                    <a:pt x="280" y="499"/>
                  </a:lnTo>
                  <a:lnTo>
                    <a:pt x="250" y="499"/>
                  </a:lnTo>
                  <a:lnTo>
                    <a:pt x="224" y="500"/>
                  </a:lnTo>
                  <a:lnTo>
                    <a:pt x="200" y="502"/>
                  </a:lnTo>
                  <a:lnTo>
                    <a:pt x="184" y="502"/>
                  </a:lnTo>
                  <a:lnTo>
                    <a:pt x="177" y="502"/>
                  </a:lnTo>
                  <a:lnTo>
                    <a:pt x="175" y="504"/>
                  </a:lnTo>
                  <a:lnTo>
                    <a:pt x="170" y="505"/>
                  </a:lnTo>
                  <a:lnTo>
                    <a:pt x="164" y="509"/>
                  </a:lnTo>
                  <a:lnTo>
                    <a:pt x="155" y="510"/>
                  </a:lnTo>
                  <a:lnTo>
                    <a:pt x="144" y="512"/>
                  </a:lnTo>
                  <a:lnTo>
                    <a:pt x="132" y="512"/>
                  </a:lnTo>
                  <a:lnTo>
                    <a:pt x="120" y="509"/>
                  </a:lnTo>
                  <a:lnTo>
                    <a:pt x="107" y="502"/>
                  </a:lnTo>
                  <a:lnTo>
                    <a:pt x="95" y="494"/>
                  </a:lnTo>
                  <a:lnTo>
                    <a:pt x="87" y="485"/>
                  </a:lnTo>
                  <a:lnTo>
                    <a:pt x="80" y="479"/>
                  </a:lnTo>
                  <a:lnTo>
                    <a:pt x="75" y="475"/>
                  </a:lnTo>
                  <a:lnTo>
                    <a:pt x="70" y="472"/>
                  </a:lnTo>
                  <a:lnTo>
                    <a:pt x="65" y="470"/>
                  </a:lnTo>
                  <a:lnTo>
                    <a:pt x="60" y="470"/>
                  </a:lnTo>
                  <a:lnTo>
                    <a:pt x="53" y="474"/>
                  </a:lnTo>
                  <a:lnTo>
                    <a:pt x="47" y="480"/>
                  </a:lnTo>
                  <a:lnTo>
                    <a:pt x="50" y="489"/>
                  </a:lnTo>
                  <a:lnTo>
                    <a:pt x="55" y="500"/>
                  </a:lnTo>
                  <a:lnTo>
                    <a:pt x="53" y="515"/>
                  </a:lnTo>
                  <a:lnTo>
                    <a:pt x="50" y="535"/>
                  </a:lnTo>
                  <a:lnTo>
                    <a:pt x="48" y="557"/>
                  </a:lnTo>
                  <a:lnTo>
                    <a:pt x="50" y="577"/>
                  </a:lnTo>
                  <a:lnTo>
                    <a:pt x="50" y="592"/>
                  </a:lnTo>
                  <a:lnTo>
                    <a:pt x="47" y="606"/>
                  </a:lnTo>
                  <a:lnTo>
                    <a:pt x="40" y="621"/>
                  </a:lnTo>
                  <a:lnTo>
                    <a:pt x="33" y="634"/>
                  </a:lnTo>
                  <a:lnTo>
                    <a:pt x="30" y="639"/>
                  </a:lnTo>
                  <a:lnTo>
                    <a:pt x="0" y="662"/>
                  </a:lnTo>
                  <a:lnTo>
                    <a:pt x="3" y="666"/>
                  </a:lnTo>
                  <a:lnTo>
                    <a:pt x="8" y="669"/>
                  </a:lnTo>
                  <a:lnTo>
                    <a:pt x="13" y="674"/>
                  </a:lnTo>
                  <a:lnTo>
                    <a:pt x="18" y="677"/>
                  </a:lnTo>
                  <a:lnTo>
                    <a:pt x="32" y="684"/>
                  </a:lnTo>
                  <a:lnTo>
                    <a:pt x="43" y="687"/>
                  </a:lnTo>
                  <a:lnTo>
                    <a:pt x="55" y="687"/>
                  </a:lnTo>
                  <a:lnTo>
                    <a:pt x="67" y="686"/>
                  </a:lnTo>
                  <a:lnTo>
                    <a:pt x="77" y="684"/>
                  </a:lnTo>
                  <a:lnTo>
                    <a:pt x="83" y="681"/>
                  </a:lnTo>
                  <a:lnTo>
                    <a:pt x="88" y="679"/>
                  </a:lnTo>
                  <a:lnTo>
                    <a:pt x="90" y="677"/>
                  </a:lnTo>
                  <a:lnTo>
                    <a:pt x="97" y="677"/>
                  </a:lnTo>
                  <a:lnTo>
                    <a:pt x="114" y="677"/>
                  </a:lnTo>
                  <a:lnTo>
                    <a:pt x="137" y="676"/>
                  </a:lnTo>
                  <a:lnTo>
                    <a:pt x="164" y="674"/>
                  </a:lnTo>
                  <a:lnTo>
                    <a:pt x="194" y="674"/>
                  </a:lnTo>
                  <a:lnTo>
                    <a:pt x="220" y="672"/>
                  </a:lnTo>
                  <a:lnTo>
                    <a:pt x="242" y="672"/>
                  </a:lnTo>
                  <a:lnTo>
                    <a:pt x="255" y="672"/>
                  </a:lnTo>
                  <a:lnTo>
                    <a:pt x="265" y="674"/>
                  </a:lnTo>
                  <a:lnTo>
                    <a:pt x="275" y="676"/>
                  </a:lnTo>
                  <a:lnTo>
                    <a:pt x="289" y="679"/>
                  </a:lnTo>
                  <a:lnTo>
                    <a:pt x="302" y="682"/>
                  </a:lnTo>
                  <a:lnTo>
                    <a:pt x="315" y="687"/>
                  </a:lnTo>
                  <a:lnTo>
                    <a:pt x="330" y="691"/>
                  </a:lnTo>
                  <a:lnTo>
                    <a:pt x="344" y="694"/>
                  </a:lnTo>
                  <a:lnTo>
                    <a:pt x="359" y="697"/>
                  </a:lnTo>
                  <a:lnTo>
                    <a:pt x="374" y="699"/>
                  </a:lnTo>
                  <a:lnTo>
                    <a:pt x="392" y="701"/>
                  </a:lnTo>
                  <a:lnTo>
                    <a:pt x="412" y="701"/>
                  </a:lnTo>
                  <a:lnTo>
                    <a:pt x="430" y="702"/>
                  </a:lnTo>
                  <a:lnTo>
                    <a:pt x="450" y="702"/>
                  </a:lnTo>
                  <a:lnTo>
                    <a:pt x="467" y="701"/>
                  </a:lnTo>
                  <a:lnTo>
                    <a:pt x="480" y="701"/>
                  </a:lnTo>
                  <a:lnTo>
                    <a:pt x="492" y="697"/>
                  </a:lnTo>
                  <a:lnTo>
                    <a:pt x="500" y="696"/>
                  </a:lnTo>
                  <a:lnTo>
                    <a:pt x="507" y="696"/>
                  </a:lnTo>
                  <a:lnTo>
                    <a:pt x="514" y="699"/>
                  </a:lnTo>
                  <a:lnTo>
                    <a:pt x="520" y="706"/>
                  </a:lnTo>
                  <a:lnTo>
                    <a:pt x="527" y="712"/>
                  </a:lnTo>
                  <a:lnTo>
                    <a:pt x="534" y="719"/>
                  </a:lnTo>
                  <a:lnTo>
                    <a:pt x="540" y="727"/>
                  </a:lnTo>
                  <a:lnTo>
                    <a:pt x="549" y="734"/>
                  </a:lnTo>
                  <a:lnTo>
                    <a:pt x="559" y="741"/>
                  </a:lnTo>
                  <a:lnTo>
                    <a:pt x="569" y="742"/>
                  </a:lnTo>
                  <a:lnTo>
                    <a:pt x="579" y="744"/>
                  </a:lnTo>
                  <a:lnTo>
                    <a:pt x="590" y="742"/>
                  </a:lnTo>
                  <a:lnTo>
                    <a:pt x="600" y="739"/>
                  </a:lnTo>
                  <a:lnTo>
                    <a:pt x="610" y="736"/>
                  </a:lnTo>
                  <a:lnTo>
                    <a:pt x="619" y="731"/>
                  </a:lnTo>
                  <a:lnTo>
                    <a:pt x="625" y="726"/>
                  </a:lnTo>
                  <a:lnTo>
                    <a:pt x="632" y="719"/>
                  </a:lnTo>
                  <a:lnTo>
                    <a:pt x="639" y="707"/>
                  </a:lnTo>
                  <a:lnTo>
                    <a:pt x="649" y="694"/>
                  </a:lnTo>
                  <a:lnTo>
                    <a:pt x="661" y="677"/>
                  </a:lnTo>
                  <a:lnTo>
                    <a:pt x="672" y="659"/>
                  </a:lnTo>
                  <a:lnTo>
                    <a:pt x="687" y="637"/>
                  </a:lnTo>
                  <a:lnTo>
                    <a:pt x="704" y="614"/>
                  </a:lnTo>
                  <a:lnTo>
                    <a:pt x="721" y="587"/>
                  </a:lnTo>
                  <a:lnTo>
                    <a:pt x="737" y="564"/>
                  </a:lnTo>
                  <a:lnTo>
                    <a:pt x="754" y="544"/>
                  </a:lnTo>
                  <a:lnTo>
                    <a:pt x="769" y="530"/>
                  </a:lnTo>
                  <a:lnTo>
                    <a:pt x="786" y="519"/>
                  </a:lnTo>
                  <a:lnTo>
                    <a:pt x="799" y="512"/>
                  </a:lnTo>
                  <a:lnTo>
                    <a:pt x="812" y="504"/>
                  </a:lnTo>
                  <a:lnTo>
                    <a:pt x="826" y="499"/>
                  </a:lnTo>
                  <a:lnTo>
                    <a:pt x="839" y="492"/>
                  </a:lnTo>
                  <a:lnTo>
                    <a:pt x="847" y="489"/>
                  </a:lnTo>
                  <a:lnTo>
                    <a:pt x="862" y="484"/>
                  </a:lnTo>
                  <a:lnTo>
                    <a:pt x="879" y="479"/>
                  </a:lnTo>
                  <a:lnTo>
                    <a:pt x="901" y="472"/>
                  </a:lnTo>
                  <a:lnTo>
                    <a:pt x="926" y="465"/>
                  </a:lnTo>
                  <a:lnTo>
                    <a:pt x="952" y="459"/>
                  </a:lnTo>
                  <a:lnTo>
                    <a:pt x="981" y="452"/>
                  </a:lnTo>
                  <a:lnTo>
                    <a:pt x="1009" y="444"/>
                  </a:lnTo>
                  <a:lnTo>
                    <a:pt x="1039" y="437"/>
                  </a:lnTo>
                  <a:lnTo>
                    <a:pt x="1069" y="430"/>
                  </a:lnTo>
                  <a:lnTo>
                    <a:pt x="1097" y="424"/>
                  </a:lnTo>
                  <a:lnTo>
                    <a:pt x="1126" y="417"/>
                  </a:lnTo>
                  <a:lnTo>
                    <a:pt x="1151" y="410"/>
                  </a:lnTo>
                  <a:lnTo>
                    <a:pt x="1174" y="405"/>
                  </a:lnTo>
                  <a:lnTo>
                    <a:pt x="1194" y="400"/>
                  </a:lnTo>
                  <a:lnTo>
                    <a:pt x="1209" y="397"/>
                  </a:lnTo>
                  <a:lnTo>
                    <a:pt x="1236" y="390"/>
                  </a:lnTo>
                  <a:lnTo>
                    <a:pt x="1263" y="385"/>
                  </a:lnTo>
                  <a:lnTo>
                    <a:pt x="1289" y="382"/>
                  </a:lnTo>
                  <a:lnTo>
                    <a:pt x="1313" y="379"/>
                  </a:lnTo>
                  <a:lnTo>
                    <a:pt x="1336" y="375"/>
                  </a:lnTo>
                  <a:lnTo>
                    <a:pt x="1354" y="370"/>
                  </a:lnTo>
                  <a:lnTo>
                    <a:pt x="1371" y="365"/>
                  </a:lnTo>
                  <a:lnTo>
                    <a:pt x="1384" y="359"/>
                  </a:lnTo>
                  <a:lnTo>
                    <a:pt x="1394" y="354"/>
                  </a:lnTo>
                  <a:lnTo>
                    <a:pt x="1411" y="345"/>
                  </a:lnTo>
                  <a:lnTo>
                    <a:pt x="1434" y="334"/>
                  </a:lnTo>
                  <a:lnTo>
                    <a:pt x="1463" y="320"/>
                  </a:lnTo>
                  <a:lnTo>
                    <a:pt x="1496" y="307"/>
                  </a:lnTo>
                  <a:lnTo>
                    <a:pt x="1533" y="290"/>
                  </a:lnTo>
                  <a:lnTo>
                    <a:pt x="1571" y="274"/>
                  </a:lnTo>
                  <a:lnTo>
                    <a:pt x="1611" y="255"/>
                  </a:lnTo>
                  <a:lnTo>
                    <a:pt x="1649" y="239"/>
                  </a:lnTo>
                  <a:lnTo>
                    <a:pt x="1688" y="222"/>
                  </a:lnTo>
                  <a:lnTo>
                    <a:pt x="1723" y="207"/>
                  </a:lnTo>
                  <a:lnTo>
                    <a:pt x="1756" y="192"/>
                  </a:lnTo>
                  <a:lnTo>
                    <a:pt x="1783" y="180"/>
                  </a:lnTo>
                  <a:lnTo>
                    <a:pt x="1805" y="170"/>
                  </a:lnTo>
                  <a:lnTo>
                    <a:pt x="1820" y="164"/>
                  </a:lnTo>
                  <a:lnTo>
                    <a:pt x="1826" y="160"/>
                  </a:lnTo>
                  <a:lnTo>
                    <a:pt x="1836" y="152"/>
                  </a:lnTo>
                  <a:lnTo>
                    <a:pt x="1841" y="142"/>
                  </a:lnTo>
                  <a:lnTo>
                    <a:pt x="1845" y="130"/>
                  </a:lnTo>
                  <a:lnTo>
                    <a:pt x="1846" y="117"/>
                  </a:lnTo>
                  <a:lnTo>
                    <a:pt x="1848" y="100"/>
                  </a:lnTo>
                  <a:lnTo>
                    <a:pt x="1851" y="78"/>
                  </a:lnTo>
                  <a:lnTo>
                    <a:pt x="1858" y="57"/>
                  </a:lnTo>
                  <a:lnTo>
                    <a:pt x="1865" y="37"/>
                  </a:lnTo>
                  <a:lnTo>
                    <a:pt x="1868" y="27"/>
                  </a:lnTo>
                  <a:lnTo>
                    <a:pt x="1873" y="18"/>
                  </a:lnTo>
                  <a:lnTo>
                    <a:pt x="1876" y="8"/>
                  </a:lnTo>
                  <a:lnTo>
                    <a:pt x="1881" y="0"/>
                  </a:lnTo>
                  <a:lnTo>
                    <a:pt x="1861" y="10"/>
                  </a:lnTo>
                  <a:lnTo>
                    <a:pt x="1836" y="20"/>
                  </a:lnTo>
                  <a:lnTo>
                    <a:pt x="1808" y="32"/>
                  </a:lnTo>
                  <a:lnTo>
                    <a:pt x="1778" y="45"/>
                  </a:lnTo>
                  <a:lnTo>
                    <a:pt x="1746" y="58"/>
                  </a:lnTo>
                  <a:lnTo>
                    <a:pt x="1714" y="73"/>
                  </a:lnTo>
                  <a:lnTo>
                    <a:pt x="1681" y="88"/>
                  </a:lnTo>
                  <a:lnTo>
                    <a:pt x="1648" y="102"/>
                  </a:lnTo>
                  <a:lnTo>
                    <a:pt x="1616" y="117"/>
                  </a:lnTo>
                  <a:lnTo>
                    <a:pt x="1586" y="130"/>
                  </a:lnTo>
                  <a:lnTo>
                    <a:pt x="1558" y="142"/>
                  </a:lnTo>
                  <a:lnTo>
                    <a:pt x="1533" y="154"/>
                  </a:lnTo>
                  <a:lnTo>
                    <a:pt x="1511" y="164"/>
                  </a:lnTo>
                  <a:lnTo>
                    <a:pt x="1493" y="174"/>
                  </a:lnTo>
                  <a:lnTo>
                    <a:pt x="1479" y="179"/>
                  </a:lnTo>
                  <a:lnTo>
                    <a:pt x="1473" y="184"/>
                  </a:lnTo>
                  <a:lnTo>
                    <a:pt x="1459" y="190"/>
                  </a:lnTo>
                  <a:lnTo>
                    <a:pt x="1443" y="195"/>
                  </a:lnTo>
                  <a:lnTo>
                    <a:pt x="1423" y="199"/>
                  </a:lnTo>
                  <a:lnTo>
                    <a:pt x="1401" y="202"/>
                  </a:lnTo>
                  <a:lnTo>
                    <a:pt x="1376" y="205"/>
                  </a:lnTo>
                  <a:lnTo>
                    <a:pt x="1351" y="210"/>
                  </a:lnTo>
                  <a:lnTo>
                    <a:pt x="1324" y="215"/>
                  </a:lnTo>
                  <a:lnTo>
                    <a:pt x="1298" y="222"/>
                  </a:lnTo>
                  <a:close/>
                </a:path>
              </a:pathLst>
            </a:custGeom>
            <a:solidFill>
              <a:srgbClr val="ffffff">
                <a:alpha val="20000"/>
              </a:srgbClr>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0" name=""/>
            <p:cNvSpPr/>
            <p:nvPr/>
          </p:nvSpPr>
          <p:spPr>
            <a:xfrm>
              <a:off x="2813040" y="1803240"/>
              <a:ext cx="4348080" cy="3579840"/>
            </a:xfrm>
            <a:custGeom>
              <a:avLst/>
              <a:gdLst/>
              <a:ahLst/>
              <a:rect l="l" t="t" r="r" b="b"/>
              <a:pathLst>
                <a:path w="3185" h="2678">
                  <a:moveTo>
                    <a:pt x="380" y="90"/>
                  </a:moveTo>
                  <a:lnTo>
                    <a:pt x="683" y="28"/>
                  </a:lnTo>
                  <a:lnTo>
                    <a:pt x="693" y="0"/>
                  </a:lnTo>
                  <a:lnTo>
                    <a:pt x="695" y="0"/>
                  </a:lnTo>
                  <a:lnTo>
                    <a:pt x="698" y="0"/>
                  </a:lnTo>
                  <a:lnTo>
                    <a:pt x="704" y="0"/>
                  </a:lnTo>
                  <a:lnTo>
                    <a:pt x="712" y="0"/>
                  </a:lnTo>
                  <a:lnTo>
                    <a:pt x="720" y="0"/>
                  </a:lnTo>
                  <a:lnTo>
                    <a:pt x="734" y="2"/>
                  </a:lnTo>
                  <a:lnTo>
                    <a:pt x="747" y="5"/>
                  </a:lnTo>
                  <a:lnTo>
                    <a:pt x="764" y="10"/>
                  </a:lnTo>
                  <a:lnTo>
                    <a:pt x="782" y="15"/>
                  </a:lnTo>
                  <a:lnTo>
                    <a:pt x="799" y="20"/>
                  </a:lnTo>
                  <a:lnTo>
                    <a:pt x="817" y="23"/>
                  </a:lnTo>
                  <a:lnTo>
                    <a:pt x="832" y="28"/>
                  </a:lnTo>
                  <a:lnTo>
                    <a:pt x="847" y="32"/>
                  </a:lnTo>
                  <a:lnTo>
                    <a:pt x="862" y="35"/>
                  </a:lnTo>
                  <a:lnTo>
                    <a:pt x="874" y="40"/>
                  </a:lnTo>
                  <a:lnTo>
                    <a:pt x="884" y="43"/>
                  </a:lnTo>
                  <a:lnTo>
                    <a:pt x="894" y="48"/>
                  </a:lnTo>
                  <a:lnTo>
                    <a:pt x="907" y="57"/>
                  </a:lnTo>
                  <a:lnTo>
                    <a:pt x="924" y="68"/>
                  </a:lnTo>
                  <a:lnTo>
                    <a:pt x="942" y="82"/>
                  </a:lnTo>
                  <a:lnTo>
                    <a:pt x="962" y="97"/>
                  </a:lnTo>
                  <a:lnTo>
                    <a:pt x="985" y="112"/>
                  </a:lnTo>
                  <a:lnTo>
                    <a:pt x="1009" y="127"/>
                  </a:lnTo>
                  <a:lnTo>
                    <a:pt x="1035" y="142"/>
                  </a:lnTo>
                  <a:lnTo>
                    <a:pt x="1060" y="155"/>
                  </a:lnTo>
                  <a:lnTo>
                    <a:pt x="1080" y="168"/>
                  </a:lnTo>
                  <a:lnTo>
                    <a:pt x="1099" y="180"/>
                  </a:lnTo>
                  <a:lnTo>
                    <a:pt x="1114" y="190"/>
                  </a:lnTo>
                  <a:lnTo>
                    <a:pt x="1124" y="197"/>
                  </a:lnTo>
                  <a:lnTo>
                    <a:pt x="1132" y="203"/>
                  </a:lnTo>
                  <a:lnTo>
                    <a:pt x="1137" y="207"/>
                  </a:lnTo>
                  <a:lnTo>
                    <a:pt x="1139" y="208"/>
                  </a:lnTo>
                  <a:lnTo>
                    <a:pt x="1142" y="210"/>
                  </a:lnTo>
                  <a:lnTo>
                    <a:pt x="1150" y="215"/>
                  </a:lnTo>
                  <a:lnTo>
                    <a:pt x="1162" y="223"/>
                  </a:lnTo>
                  <a:lnTo>
                    <a:pt x="1177" y="233"/>
                  </a:lnTo>
                  <a:lnTo>
                    <a:pt x="1192" y="243"/>
                  </a:lnTo>
                  <a:lnTo>
                    <a:pt x="1205" y="255"/>
                  </a:lnTo>
                  <a:lnTo>
                    <a:pt x="1217" y="265"/>
                  </a:lnTo>
                  <a:lnTo>
                    <a:pt x="1225" y="275"/>
                  </a:lnTo>
                  <a:lnTo>
                    <a:pt x="1234" y="285"/>
                  </a:lnTo>
                  <a:lnTo>
                    <a:pt x="1245" y="297"/>
                  </a:lnTo>
                  <a:lnTo>
                    <a:pt x="1259" y="310"/>
                  </a:lnTo>
                  <a:lnTo>
                    <a:pt x="1276" y="325"/>
                  </a:lnTo>
                  <a:lnTo>
                    <a:pt x="1292" y="340"/>
                  </a:lnTo>
                  <a:lnTo>
                    <a:pt x="1309" y="354"/>
                  </a:lnTo>
                  <a:lnTo>
                    <a:pt x="1324" y="365"/>
                  </a:lnTo>
                  <a:lnTo>
                    <a:pt x="1334" y="375"/>
                  </a:lnTo>
                  <a:lnTo>
                    <a:pt x="1346" y="385"/>
                  </a:lnTo>
                  <a:lnTo>
                    <a:pt x="1362" y="397"/>
                  </a:lnTo>
                  <a:lnTo>
                    <a:pt x="1381" y="410"/>
                  </a:lnTo>
                  <a:lnTo>
                    <a:pt x="1401" y="424"/>
                  </a:lnTo>
                  <a:lnTo>
                    <a:pt x="1421" y="437"/>
                  </a:lnTo>
                  <a:lnTo>
                    <a:pt x="1436" y="445"/>
                  </a:lnTo>
                  <a:lnTo>
                    <a:pt x="1447" y="454"/>
                  </a:lnTo>
                  <a:lnTo>
                    <a:pt x="1451" y="455"/>
                  </a:lnTo>
                  <a:lnTo>
                    <a:pt x="1489" y="509"/>
                  </a:lnTo>
                  <a:lnTo>
                    <a:pt x="1497" y="509"/>
                  </a:lnTo>
                  <a:lnTo>
                    <a:pt x="1517" y="509"/>
                  </a:lnTo>
                  <a:lnTo>
                    <a:pt x="1546" y="509"/>
                  </a:lnTo>
                  <a:lnTo>
                    <a:pt x="1581" y="509"/>
                  </a:lnTo>
                  <a:lnTo>
                    <a:pt x="1617" y="510"/>
                  </a:lnTo>
                  <a:lnTo>
                    <a:pt x="1651" y="514"/>
                  </a:lnTo>
                  <a:lnTo>
                    <a:pt x="1677" y="520"/>
                  </a:lnTo>
                  <a:lnTo>
                    <a:pt x="1694" y="527"/>
                  </a:lnTo>
                  <a:lnTo>
                    <a:pt x="1696" y="527"/>
                  </a:lnTo>
                  <a:lnTo>
                    <a:pt x="1702" y="525"/>
                  </a:lnTo>
                  <a:lnTo>
                    <a:pt x="1712" y="522"/>
                  </a:lnTo>
                  <a:lnTo>
                    <a:pt x="1722" y="520"/>
                  </a:lnTo>
                  <a:lnTo>
                    <a:pt x="1736" y="519"/>
                  </a:lnTo>
                  <a:lnTo>
                    <a:pt x="1747" y="515"/>
                  </a:lnTo>
                  <a:lnTo>
                    <a:pt x="1759" y="514"/>
                  </a:lnTo>
                  <a:lnTo>
                    <a:pt x="1769" y="514"/>
                  </a:lnTo>
                  <a:lnTo>
                    <a:pt x="1782" y="515"/>
                  </a:lnTo>
                  <a:lnTo>
                    <a:pt x="1801" y="519"/>
                  </a:lnTo>
                  <a:lnTo>
                    <a:pt x="1823" y="522"/>
                  </a:lnTo>
                  <a:lnTo>
                    <a:pt x="1848" y="527"/>
                  </a:lnTo>
                  <a:lnTo>
                    <a:pt x="1869" y="534"/>
                  </a:lnTo>
                  <a:lnTo>
                    <a:pt x="1889" y="537"/>
                  </a:lnTo>
                  <a:lnTo>
                    <a:pt x="1903" y="540"/>
                  </a:lnTo>
                  <a:lnTo>
                    <a:pt x="1908" y="542"/>
                  </a:lnTo>
                  <a:lnTo>
                    <a:pt x="1926" y="604"/>
                  </a:lnTo>
                  <a:lnTo>
                    <a:pt x="2044" y="604"/>
                  </a:lnTo>
                  <a:lnTo>
                    <a:pt x="2064" y="689"/>
                  </a:lnTo>
                  <a:lnTo>
                    <a:pt x="2071" y="692"/>
                  </a:lnTo>
                  <a:lnTo>
                    <a:pt x="2083" y="704"/>
                  </a:lnTo>
                  <a:lnTo>
                    <a:pt x="2093" y="722"/>
                  </a:lnTo>
                  <a:lnTo>
                    <a:pt x="2093" y="746"/>
                  </a:lnTo>
                  <a:lnTo>
                    <a:pt x="2116" y="784"/>
                  </a:lnTo>
                  <a:lnTo>
                    <a:pt x="2154" y="769"/>
                  </a:lnTo>
                  <a:lnTo>
                    <a:pt x="2158" y="774"/>
                  </a:lnTo>
                  <a:lnTo>
                    <a:pt x="2164" y="786"/>
                  </a:lnTo>
                  <a:lnTo>
                    <a:pt x="2169" y="801"/>
                  </a:lnTo>
                  <a:lnTo>
                    <a:pt x="2173" y="812"/>
                  </a:lnTo>
                  <a:lnTo>
                    <a:pt x="2176" y="824"/>
                  </a:lnTo>
                  <a:lnTo>
                    <a:pt x="2183" y="834"/>
                  </a:lnTo>
                  <a:lnTo>
                    <a:pt x="2189" y="842"/>
                  </a:lnTo>
                  <a:lnTo>
                    <a:pt x="2193" y="846"/>
                  </a:lnTo>
                  <a:lnTo>
                    <a:pt x="2201" y="822"/>
                  </a:lnTo>
                  <a:lnTo>
                    <a:pt x="2226" y="869"/>
                  </a:lnTo>
                  <a:lnTo>
                    <a:pt x="2228" y="869"/>
                  </a:lnTo>
                  <a:lnTo>
                    <a:pt x="2234" y="871"/>
                  </a:lnTo>
                  <a:lnTo>
                    <a:pt x="2244" y="874"/>
                  </a:lnTo>
                  <a:lnTo>
                    <a:pt x="2254" y="877"/>
                  </a:lnTo>
                  <a:lnTo>
                    <a:pt x="2266" y="882"/>
                  </a:lnTo>
                  <a:lnTo>
                    <a:pt x="2276" y="887"/>
                  </a:lnTo>
                  <a:lnTo>
                    <a:pt x="2284" y="894"/>
                  </a:lnTo>
                  <a:lnTo>
                    <a:pt x="2288" y="902"/>
                  </a:lnTo>
                  <a:lnTo>
                    <a:pt x="2289" y="921"/>
                  </a:lnTo>
                  <a:lnTo>
                    <a:pt x="2293" y="937"/>
                  </a:lnTo>
                  <a:lnTo>
                    <a:pt x="2296" y="952"/>
                  </a:lnTo>
                  <a:lnTo>
                    <a:pt x="2306" y="964"/>
                  </a:lnTo>
                  <a:lnTo>
                    <a:pt x="2316" y="979"/>
                  </a:lnTo>
                  <a:lnTo>
                    <a:pt x="2321" y="996"/>
                  </a:lnTo>
                  <a:lnTo>
                    <a:pt x="2318" y="1011"/>
                  </a:lnTo>
                  <a:lnTo>
                    <a:pt x="2311" y="1017"/>
                  </a:lnTo>
                  <a:lnTo>
                    <a:pt x="2303" y="1019"/>
                  </a:lnTo>
                  <a:lnTo>
                    <a:pt x="2299" y="1024"/>
                  </a:lnTo>
                  <a:lnTo>
                    <a:pt x="2301" y="1032"/>
                  </a:lnTo>
                  <a:lnTo>
                    <a:pt x="2306" y="1046"/>
                  </a:lnTo>
                  <a:lnTo>
                    <a:pt x="2313" y="1061"/>
                  </a:lnTo>
                  <a:lnTo>
                    <a:pt x="2319" y="1076"/>
                  </a:lnTo>
                  <a:lnTo>
                    <a:pt x="2324" y="1092"/>
                  </a:lnTo>
                  <a:lnTo>
                    <a:pt x="2329" y="1107"/>
                  </a:lnTo>
                  <a:lnTo>
                    <a:pt x="2336" y="1117"/>
                  </a:lnTo>
                  <a:lnTo>
                    <a:pt x="2344" y="1121"/>
                  </a:lnTo>
                  <a:lnTo>
                    <a:pt x="2351" y="1121"/>
                  </a:lnTo>
                  <a:lnTo>
                    <a:pt x="2354" y="1121"/>
                  </a:lnTo>
                  <a:lnTo>
                    <a:pt x="2356" y="1129"/>
                  </a:lnTo>
                  <a:lnTo>
                    <a:pt x="2365" y="1149"/>
                  </a:lnTo>
                  <a:lnTo>
                    <a:pt x="2375" y="1174"/>
                  </a:lnTo>
                  <a:lnTo>
                    <a:pt x="2388" y="1192"/>
                  </a:lnTo>
                  <a:lnTo>
                    <a:pt x="2395" y="1201"/>
                  </a:lnTo>
                  <a:lnTo>
                    <a:pt x="2400" y="1209"/>
                  </a:lnTo>
                  <a:lnTo>
                    <a:pt x="2405" y="1217"/>
                  </a:lnTo>
                  <a:lnTo>
                    <a:pt x="2411" y="1227"/>
                  </a:lnTo>
                  <a:lnTo>
                    <a:pt x="2416" y="1236"/>
                  </a:lnTo>
                  <a:lnTo>
                    <a:pt x="2425" y="1244"/>
                  </a:lnTo>
                  <a:lnTo>
                    <a:pt x="2433" y="1253"/>
                  </a:lnTo>
                  <a:lnTo>
                    <a:pt x="2445" y="1259"/>
                  </a:lnTo>
                  <a:lnTo>
                    <a:pt x="2456" y="1263"/>
                  </a:lnTo>
                  <a:lnTo>
                    <a:pt x="2468" y="1263"/>
                  </a:lnTo>
                  <a:lnTo>
                    <a:pt x="2478" y="1263"/>
                  </a:lnTo>
                  <a:lnTo>
                    <a:pt x="2486" y="1259"/>
                  </a:lnTo>
                  <a:lnTo>
                    <a:pt x="2493" y="1256"/>
                  </a:lnTo>
                  <a:lnTo>
                    <a:pt x="2498" y="1253"/>
                  </a:lnTo>
                  <a:lnTo>
                    <a:pt x="2500" y="1251"/>
                  </a:lnTo>
                  <a:lnTo>
                    <a:pt x="2501" y="1249"/>
                  </a:lnTo>
                  <a:lnTo>
                    <a:pt x="2520" y="1259"/>
                  </a:lnTo>
                  <a:lnTo>
                    <a:pt x="2501" y="1293"/>
                  </a:lnTo>
                  <a:lnTo>
                    <a:pt x="2501" y="1294"/>
                  </a:lnTo>
                  <a:lnTo>
                    <a:pt x="2501" y="1299"/>
                  </a:lnTo>
                  <a:lnTo>
                    <a:pt x="2503" y="1304"/>
                  </a:lnTo>
                  <a:lnTo>
                    <a:pt x="2511" y="1306"/>
                  </a:lnTo>
                  <a:lnTo>
                    <a:pt x="2521" y="1314"/>
                  </a:lnTo>
                  <a:lnTo>
                    <a:pt x="2531" y="1329"/>
                  </a:lnTo>
                  <a:lnTo>
                    <a:pt x="2536" y="1346"/>
                  </a:lnTo>
                  <a:lnTo>
                    <a:pt x="2540" y="1354"/>
                  </a:lnTo>
                  <a:lnTo>
                    <a:pt x="2541" y="1356"/>
                  </a:lnTo>
                  <a:lnTo>
                    <a:pt x="2546" y="1361"/>
                  </a:lnTo>
                  <a:lnTo>
                    <a:pt x="2553" y="1368"/>
                  </a:lnTo>
                  <a:lnTo>
                    <a:pt x="2561" y="1378"/>
                  </a:lnTo>
                  <a:lnTo>
                    <a:pt x="2571" y="1388"/>
                  </a:lnTo>
                  <a:lnTo>
                    <a:pt x="2583" y="1401"/>
                  </a:lnTo>
                  <a:lnTo>
                    <a:pt x="2595" y="1414"/>
                  </a:lnTo>
                  <a:lnTo>
                    <a:pt x="2606" y="1428"/>
                  </a:lnTo>
                  <a:lnTo>
                    <a:pt x="2618" y="1443"/>
                  </a:lnTo>
                  <a:lnTo>
                    <a:pt x="2631" y="1458"/>
                  </a:lnTo>
                  <a:lnTo>
                    <a:pt x="2645" y="1473"/>
                  </a:lnTo>
                  <a:lnTo>
                    <a:pt x="2658" y="1488"/>
                  </a:lnTo>
                  <a:lnTo>
                    <a:pt x="2670" y="1501"/>
                  </a:lnTo>
                  <a:lnTo>
                    <a:pt x="2680" y="1511"/>
                  </a:lnTo>
                  <a:lnTo>
                    <a:pt x="2688" y="1521"/>
                  </a:lnTo>
                  <a:lnTo>
                    <a:pt x="2691" y="1528"/>
                  </a:lnTo>
                  <a:lnTo>
                    <a:pt x="2701" y="1533"/>
                  </a:lnTo>
                  <a:lnTo>
                    <a:pt x="2723" y="1538"/>
                  </a:lnTo>
                  <a:lnTo>
                    <a:pt x="2753" y="1543"/>
                  </a:lnTo>
                  <a:lnTo>
                    <a:pt x="2790" y="1546"/>
                  </a:lnTo>
                  <a:lnTo>
                    <a:pt x="2828" y="1549"/>
                  </a:lnTo>
                  <a:lnTo>
                    <a:pt x="2863" y="1551"/>
                  </a:lnTo>
                  <a:lnTo>
                    <a:pt x="2891" y="1554"/>
                  </a:lnTo>
                  <a:lnTo>
                    <a:pt x="2910" y="1556"/>
                  </a:lnTo>
                  <a:lnTo>
                    <a:pt x="2925" y="1558"/>
                  </a:lnTo>
                  <a:lnTo>
                    <a:pt x="2945" y="1559"/>
                  </a:lnTo>
                  <a:lnTo>
                    <a:pt x="2968" y="1561"/>
                  </a:lnTo>
                  <a:lnTo>
                    <a:pt x="2992" y="1563"/>
                  </a:lnTo>
                  <a:lnTo>
                    <a:pt x="3013" y="1566"/>
                  </a:lnTo>
                  <a:lnTo>
                    <a:pt x="3033" y="1568"/>
                  </a:lnTo>
                  <a:lnTo>
                    <a:pt x="3048" y="1569"/>
                  </a:lnTo>
                  <a:lnTo>
                    <a:pt x="3057" y="1571"/>
                  </a:lnTo>
                  <a:lnTo>
                    <a:pt x="3070" y="1569"/>
                  </a:lnTo>
                  <a:lnTo>
                    <a:pt x="3083" y="1563"/>
                  </a:lnTo>
                  <a:lnTo>
                    <a:pt x="3095" y="1554"/>
                  </a:lnTo>
                  <a:lnTo>
                    <a:pt x="3100" y="1551"/>
                  </a:lnTo>
                  <a:lnTo>
                    <a:pt x="3102" y="1553"/>
                  </a:lnTo>
                  <a:lnTo>
                    <a:pt x="3105" y="1556"/>
                  </a:lnTo>
                  <a:lnTo>
                    <a:pt x="3112" y="1561"/>
                  </a:lnTo>
                  <a:lnTo>
                    <a:pt x="3120" y="1568"/>
                  </a:lnTo>
                  <a:lnTo>
                    <a:pt x="3130" y="1576"/>
                  </a:lnTo>
                  <a:lnTo>
                    <a:pt x="3140" y="1586"/>
                  </a:lnTo>
                  <a:lnTo>
                    <a:pt x="3152" y="1598"/>
                  </a:lnTo>
                  <a:lnTo>
                    <a:pt x="3162" y="1609"/>
                  </a:lnTo>
                  <a:lnTo>
                    <a:pt x="3172" y="1624"/>
                  </a:lnTo>
                  <a:lnTo>
                    <a:pt x="3180" y="1638"/>
                  </a:lnTo>
                  <a:lnTo>
                    <a:pt x="3183" y="1653"/>
                  </a:lnTo>
                  <a:lnTo>
                    <a:pt x="3185" y="1668"/>
                  </a:lnTo>
                  <a:lnTo>
                    <a:pt x="3185" y="1678"/>
                  </a:lnTo>
                  <a:lnTo>
                    <a:pt x="3183" y="1688"/>
                  </a:lnTo>
                  <a:lnTo>
                    <a:pt x="3180" y="1696"/>
                  </a:lnTo>
                  <a:lnTo>
                    <a:pt x="3175" y="1704"/>
                  </a:lnTo>
                  <a:lnTo>
                    <a:pt x="3168" y="1724"/>
                  </a:lnTo>
                  <a:lnTo>
                    <a:pt x="3168" y="1748"/>
                  </a:lnTo>
                  <a:lnTo>
                    <a:pt x="3168" y="1771"/>
                  </a:lnTo>
                  <a:lnTo>
                    <a:pt x="3167" y="1795"/>
                  </a:lnTo>
                  <a:lnTo>
                    <a:pt x="3162" y="1815"/>
                  </a:lnTo>
                  <a:lnTo>
                    <a:pt x="3153" y="1835"/>
                  </a:lnTo>
                  <a:lnTo>
                    <a:pt x="3145" y="1851"/>
                  </a:lnTo>
                  <a:lnTo>
                    <a:pt x="3138" y="1870"/>
                  </a:lnTo>
                  <a:lnTo>
                    <a:pt x="3132" y="1890"/>
                  </a:lnTo>
                  <a:lnTo>
                    <a:pt x="3125" y="1913"/>
                  </a:lnTo>
                  <a:lnTo>
                    <a:pt x="3120" y="1933"/>
                  </a:lnTo>
                  <a:lnTo>
                    <a:pt x="3118" y="1951"/>
                  </a:lnTo>
                  <a:lnTo>
                    <a:pt x="3117" y="1965"/>
                  </a:lnTo>
                  <a:lnTo>
                    <a:pt x="3115" y="1976"/>
                  </a:lnTo>
                  <a:lnTo>
                    <a:pt x="3108" y="1986"/>
                  </a:lnTo>
                  <a:lnTo>
                    <a:pt x="3100" y="1993"/>
                  </a:lnTo>
                  <a:lnTo>
                    <a:pt x="3093" y="1996"/>
                  </a:lnTo>
                  <a:lnTo>
                    <a:pt x="3078" y="2003"/>
                  </a:lnTo>
                  <a:lnTo>
                    <a:pt x="3057" y="2013"/>
                  </a:lnTo>
                  <a:lnTo>
                    <a:pt x="3028" y="2026"/>
                  </a:lnTo>
                  <a:lnTo>
                    <a:pt x="2997" y="2040"/>
                  </a:lnTo>
                  <a:lnTo>
                    <a:pt x="2962" y="2056"/>
                  </a:lnTo>
                  <a:lnTo>
                    <a:pt x="2923" y="2073"/>
                  </a:lnTo>
                  <a:lnTo>
                    <a:pt x="2885" y="2090"/>
                  </a:lnTo>
                  <a:lnTo>
                    <a:pt x="2845" y="2108"/>
                  </a:lnTo>
                  <a:lnTo>
                    <a:pt x="2806" y="2125"/>
                  </a:lnTo>
                  <a:lnTo>
                    <a:pt x="2770" y="2141"/>
                  </a:lnTo>
                  <a:lnTo>
                    <a:pt x="2736" y="2155"/>
                  </a:lnTo>
                  <a:lnTo>
                    <a:pt x="2708" y="2168"/>
                  </a:lnTo>
                  <a:lnTo>
                    <a:pt x="2685" y="2180"/>
                  </a:lnTo>
                  <a:lnTo>
                    <a:pt x="2668" y="2188"/>
                  </a:lnTo>
                  <a:lnTo>
                    <a:pt x="2658" y="2193"/>
                  </a:lnTo>
                  <a:lnTo>
                    <a:pt x="2645" y="2200"/>
                  </a:lnTo>
                  <a:lnTo>
                    <a:pt x="2628" y="2205"/>
                  </a:lnTo>
                  <a:lnTo>
                    <a:pt x="2608" y="2208"/>
                  </a:lnTo>
                  <a:lnTo>
                    <a:pt x="2586" y="2211"/>
                  </a:lnTo>
                  <a:lnTo>
                    <a:pt x="2561" y="2215"/>
                  </a:lnTo>
                  <a:lnTo>
                    <a:pt x="2535" y="2220"/>
                  </a:lnTo>
                  <a:lnTo>
                    <a:pt x="2508" y="2225"/>
                  </a:lnTo>
                  <a:lnTo>
                    <a:pt x="2481" y="2231"/>
                  </a:lnTo>
                  <a:lnTo>
                    <a:pt x="2466" y="2235"/>
                  </a:lnTo>
                  <a:lnTo>
                    <a:pt x="2446" y="2240"/>
                  </a:lnTo>
                  <a:lnTo>
                    <a:pt x="2425" y="2245"/>
                  </a:lnTo>
                  <a:lnTo>
                    <a:pt x="2398" y="2252"/>
                  </a:lnTo>
                  <a:lnTo>
                    <a:pt x="2371" y="2258"/>
                  </a:lnTo>
                  <a:lnTo>
                    <a:pt x="2343" y="2265"/>
                  </a:lnTo>
                  <a:lnTo>
                    <a:pt x="2313" y="2272"/>
                  </a:lnTo>
                  <a:lnTo>
                    <a:pt x="2283" y="2278"/>
                  </a:lnTo>
                  <a:lnTo>
                    <a:pt x="2253" y="2285"/>
                  </a:lnTo>
                  <a:lnTo>
                    <a:pt x="2224" y="2293"/>
                  </a:lnTo>
                  <a:lnTo>
                    <a:pt x="2198" y="2300"/>
                  </a:lnTo>
                  <a:lnTo>
                    <a:pt x="2173" y="2307"/>
                  </a:lnTo>
                  <a:lnTo>
                    <a:pt x="2151" y="2312"/>
                  </a:lnTo>
                  <a:lnTo>
                    <a:pt x="2134" y="2318"/>
                  </a:lnTo>
                  <a:lnTo>
                    <a:pt x="2119" y="2323"/>
                  </a:lnTo>
                  <a:lnTo>
                    <a:pt x="2111" y="2327"/>
                  </a:lnTo>
                  <a:lnTo>
                    <a:pt x="2098" y="2333"/>
                  </a:lnTo>
                  <a:lnTo>
                    <a:pt x="2086" y="2338"/>
                  </a:lnTo>
                  <a:lnTo>
                    <a:pt x="2071" y="2347"/>
                  </a:lnTo>
                  <a:lnTo>
                    <a:pt x="2058" y="2353"/>
                  </a:lnTo>
                  <a:lnTo>
                    <a:pt x="2043" y="2365"/>
                  </a:lnTo>
                  <a:lnTo>
                    <a:pt x="2028" y="2378"/>
                  </a:lnTo>
                  <a:lnTo>
                    <a:pt x="2011" y="2398"/>
                  </a:lnTo>
                  <a:lnTo>
                    <a:pt x="1993" y="2422"/>
                  </a:lnTo>
                  <a:lnTo>
                    <a:pt x="1976" y="2447"/>
                  </a:lnTo>
                  <a:lnTo>
                    <a:pt x="1961" y="2470"/>
                  </a:lnTo>
                  <a:lnTo>
                    <a:pt x="1946" y="2492"/>
                  </a:lnTo>
                  <a:lnTo>
                    <a:pt x="1933" y="2512"/>
                  </a:lnTo>
                  <a:lnTo>
                    <a:pt x="1923" y="2528"/>
                  </a:lnTo>
                  <a:lnTo>
                    <a:pt x="1913" y="2542"/>
                  </a:lnTo>
                  <a:lnTo>
                    <a:pt x="1904" y="2552"/>
                  </a:lnTo>
                  <a:lnTo>
                    <a:pt x="1898" y="2558"/>
                  </a:lnTo>
                  <a:lnTo>
                    <a:pt x="1891" y="2563"/>
                  </a:lnTo>
                  <a:lnTo>
                    <a:pt x="1884" y="2568"/>
                  </a:lnTo>
                  <a:lnTo>
                    <a:pt x="1874" y="2573"/>
                  </a:lnTo>
                  <a:lnTo>
                    <a:pt x="1864" y="2575"/>
                  </a:lnTo>
                  <a:lnTo>
                    <a:pt x="1853" y="2577"/>
                  </a:lnTo>
                  <a:lnTo>
                    <a:pt x="1843" y="2577"/>
                  </a:lnTo>
                  <a:lnTo>
                    <a:pt x="1833" y="2573"/>
                  </a:lnTo>
                  <a:lnTo>
                    <a:pt x="1823" y="2568"/>
                  </a:lnTo>
                  <a:lnTo>
                    <a:pt x="1814" y="2562"/>
                  </a:lnTo>
                  <a:lnTo>
                    <a:pt x="1806" y="2553"/>
                  </a:lnTo>
                  <a:lnTo>
                    <a:pt x="1799" y="2547"/>
                  </a:lnTo>
                  <a:lnTo>
                    <a:pt x="1794" y="2538"/>
                  </a:lnTo>
                  <a:lnTo>
                    <a:pt x="1787" y="2533"/>
                  </a:lnTo>
                  <a:lnTo>
                    <a:pt x="1781" y="2530"/>
                  </a:lnTo>
                  <a:lnTo>
                    <a:pt x="1772" y="2528"/>
                  </a:lnTo>
                  <a:lnTo>
                    <a:pt x="1764" y="2530"/>
                  </a:lnTo>
                  <a:lnTo>
                    <a:pt x="1752" y="2533"/>
                  </a:lnTo>
                  <a:lnTo>
                    <a:pt x="1739" y="2535"/>
                  </a:lnTo>
                  <a:lnTo>
                    <a:pt x="1722" y="2535"/>
                  </a:lnTo>
                  <a:lnTo>
                    <a:pt x="1704" y="2535"/>
                  </a:lnTo>
                  <a:lnTo>
                    <a:pt x="1684" y="2535"/>
                  </a:lnTo>
                  <a:lnTo>
                    <a:pt x="1666" y="2533"/>
                  </a:lnTo>
                  <a:lnTo>
                    <a:pt x="1647" y="2532"/>
                  </a:lnTo>
                  <a:lnTo>
                    <a:pt x="1632" y="2530"/>
                  </a:lnTo>
                  <a:lnTo>
                    <a:pt x="1617" y="2528"/>
                  </a:lnTo>
                  <a:lnTo>
                    <a:pt x="1602" y="2525"/>
                  </a:lnTo>
                  <a:lnTo>
                    <a:pt x="1589" y="2520"/>
                  </a:lnTo>
                  <a:lnTo>
                    <a:pt x="1574" y="2517"/>
                  </a:lnTo>
                  <a:lnTo>
                    <a:pt x="1561" y="2513"/>
                  </a:lnTo>
                  <a:lnTo>
                    <a:pt x="1549" y="2510"/>
                  </a:lnTo>
                  <a:lnTo>
                    <a:pt x="1537" y="2507"/>
                  </a:lnTo>
                  <a:lnTo>
                    <a:pt x="1527" y="2507"/>
                  </a:lnTo>
                  <a:lnTo>
                    <a:pt x="1514" y="2507"/>
                  </a:lnTo>
                  <a:lnTo>
                    <a:pt x="1492" y="2507"/>
                  </a:lnTo>
                  <a:lnTo>
                    <a:pt x="1466" y="2508"/>
                  </a:lnTo>
                  <a:lnTo>
                    <a:pt x="1436" y="2508"/>
                  </a:lnTo>
                  <a:lnTo>
                    <a:pt x="1409" y="2510"/>
                  </a:lnTo>
                  <a:lnTo>
                    <a:pt x="1386" y="2512"/>
                  </a:lnTo>
                  <a:lnTo>
                    <a:pt x="1369" y="2512"/>
                  </a:lnTo>
                  <a:lnTo>
                    <a:pt x="1362" y="2512"/>
                  </a:lnTo>
                  <a:lnTo>
                    <a:pt x="1361" y="2513"/>
                  </a:lnTo>
                  <a:lnTo>
                    <a:pt x="1356" y="2515"/>
                  </a:lnTo>
                  <a:lnTo>
                    <a:pt x="1349" y="2518"/>
                  </a:lnTo>
                  <a:lnTo>
                    <a:pt x="1339" y="2520"/>
                  </a:lnTo>
                  <a:lnTo>
                    <a:pt x="1329" y="2522"/>
                  </a:lnTo>
                  <a:lnTo>
                    <a:pt x="1317" y="2522"/>
                  </a:lnTo>
                  <a:lnTo>
                    <a:pt x="1304" y="2518"/>
                  </a:lnTo>
                  <a:lnTo>
                    <a:pt x="1292" y="2512"/>
                  </a:lnTo>
                  <a:lnTo>
                    <a:pt x="1281" y="2503"/>
                  </a:lnTo>
                  <a:lnTo>
                    <a:pt x="1272" y="2497"/>
                  </a:lnTo>
                  <a:lnTo>
                    <a:pt x="1266" y="2490"/>
                  </a:lnTo>
                  <a:lnTo>
                    <a:pt x="1261" y="2485"/>
                  </a:lnTo>
                  <a:lnTo>
                    <a:pt x="1256" y="2482"/>
                  </a:lnTo>
                  <a:lnTo>
                    <a:pt x="1250" y="2480"/>
                  </a:lnTo>
                  <a:lnTo>
                    <a:pt x="1245" y="2480"/>
                  </a:lnTo>
                  <a:lnTo>
                    <a:pt x="1239" y="2483"/>
                  </a:lnTo>
                  <a:lnTo>
                    <a:pt x="1232" y="2490"/>
                  </a:lnTo>
                  <a:lnTo>
                    <a:pt x="1235" y="2498"/>
                  </a:lnTo>
                  <a:lnTo>
                    <a:pt x="1240" y="2510"/>
                  </a:lnTo>
                  <a:lnTo>
                    <a:pt x="1239" y="2525"/>
                  </a:lnTo>
                  <a:lnTo>
                    <a:pt x="1234" y="2545"/>
                  </a:lnTo>
                  <a:lnTo>
                    <a:pt x="1232" y="2567"/>
                  </a:lnTo>
                  <a:lnTo>
                    <a:pt x="1234" y="2587"/>
                  </a:lnTo>
                  <a:lnTo>
                    <a:pt x="1234" y="2602"/>
                  </a:lnTo>
                  <a:lnTo>
                    <a:pt x="1230" y="2615"/>
                  </a:lnTo>
                  <a:lnTo>
                    <a:pt x="1225" y="2630"/>
                  </a:lnTo>
                  <a:lnTo>
                    <a:pt x="1219" y="2643"/>
                  </a:lnTo>
                  <a:lnTo>
                    <a:pt x="1215" y="2648"/>
                  </a:lnTo>
                  <a:lnTo>
                    <a:pt x="1177" y="2678"/>
                  </a:lnTo>
                  <a:lnTo>
                    <a:pt x="1175" y="2672"/>
                  </a:lnTo>
                  <a:lnTo>
                    <a:pt x="1170" y="2657"/>
                  </a:lnTo>
                  <a:lnTo>
                    <a:pt x="1167" y="2640"/>
                  </a:lnTo>
                  <a:lnTo>
                    <a:pt x="1167" y="2625"/>
                  </a:lnTo>
                  <a:lnTo>
                    <a:pt x="1167" y="2613"/>
                  </a:lnTo>
                  <a:lnTo>
                    <a:pt x="1164" y="2598"/>
                  </a:lnTo>
                  <a:lnTo>
                    <a:pt x="1154" y="2583"/>
                  </a:lnTo>
                  <a:lnTo>
                    <a:pt x="1144" y="2568"/>
                  </a:lnTo>
                  <a:lnTo>
                    <a:pt x="1134" y="2555"/>
                  </a:lnTo>
                  <a:lnTo>
                    <a:pt x="1124" y="2543"/>
                  </a:lnTo>
                  <a:lnTo>
                    <a:pt x="1115" y="2532"/>
                  </a:lnTo>
                  <a:lnTo>
                    <a:pt x="1110" y="2522"/>
                  </a:lnTo>
                  <a:lnTo>
                    <a:pt x="1107" y="2508"/>
                  </a:lnTo>
                  <a:lnTo>
                    <a:pt x="1104" y="2492"/>
                  </a:lnTo>
                  <a:lnTo>
                    <a:pt x="1095" y="2475"/>
                  </a:lnTo>
                  <a:lnTo>
                    <a:pt x="1082" y="2458"/>
                  </a:lnTo>
                  <a:lnTo>
                    <a:pt x="1072" y="2450"/>
                  </a:lnTo>
                  <a:lnTo>
                    <a:pt x="1059" y="2437"/>
                  </a:lnTo>
                  <a:lnTo>
                    <a:pt x="1044" y="2423"/>
                  </a:lnTo>
                  <a:lnTo>
                    <a:pt x="1029" y="2405"/>
                  </a:lnTo>
                  <a:lnTo>
                    <a:pt x="1014" y="2387"/>
                  </a:lnTo>
                  <a:lnTo>
                    <a:pt x="999" y="2368"/>
                  </a:lnTo>
                  <a:lnTo>
                    <a:pt x="987" y="2350"/>
                  </a:lnTo>
                  <a:lnTo>
                    <a:pt x="979" y="2332"/>
                  </a:lnTo>
                  <a:lnTo>
                    <a:pt x="964" y="2302"/>
                  </a:lnTo>
                  <a:lnTo>
                    <a:pt x="949" y="2280"/>
                  </a:lnTo>
                  <a:lnTo>
                    <a:pt x="937" y="2263"/>
                  </a:lnTo>
                  <a:lnTo>
                    <a:pt x="930" y="2245"/>
                  </a:lnTo>
                  <a:lnTo>
                    <a:pt x="927" y="2231"/>
                  </a:lnTo>
                  <a:lnTo>
                    <a:pt x="920" y="2211"/>
                  </a:lnTo>
                  <a:lnTo>
                    <a:pt x="910" y="2190"/>
                  </a:lnTo>
                  <a:lnTo>
                    <a:pt x="900" y="2166"/>
                  </a:lnTo>
                  <a:lnTo>
                    <a:pt x="890" y="2143"/>
                  </a:lnTo>
                  <a:lnTo>
                    <a:pt x="880" y="2123"/>
                  </a:lnTo>
                  <a:lnTo>
                    <a:pt x="870" y="2108"/>
                  </a:lnTo>
                  <a:lnTo>
                    <a:pt x="864" y="2098"/>
                  </a:lnTo>
                  <a:lnTo>
                    <a:pt x="854" y="2085"/>
                  </a:lnTo>
                  <a:lnTo>
                    <a:pt x="845" y="2071"/>
                  </a:lnTo>
                  <a:lnTo>
                    <a:pt x="834" y="2056"/>
                  </a:lnTo>
                  <a:lnTo>
                    <a:pt x="822" y="2041"/>
                  </a:lnTo>
                  <a:lnTo>
                    <a:pt x="814" y="2033"/>
                  </a:lnTo>
                  <a:lnTo>
                    <a:pt x="802" y="2025"/>
                  </a:lnTo>
                  <a:lnTo>
                    <a:pt x="790" y="2018"/>
                  </a:lnTo>
                  <a:lnTo>
                    <a:pt x="779" y="2010"/>
                  </a:lnTo>
                  <a:lnTo>
                    <a:pt x="765" y="2003"/>
                  </a:lnTo>
                  <a:lnTo>
                    <a:pt x="752" y="1998"/>
                  </a:lnTo>
                  <a:lnTo>
                    <a:pt x="740" y="1995"/>
                  </a:lnTo>
                  <a:lnTo>
                    <a:pt x="730" y="1993"/>
                  </a:lnTo>
                  <a:lnTo>
                    <a:pt x="722" y="1991"/>
                  </a:lnTo>
                  <a:lnTo>
                    <a:pt x="717" y="1988"/>
                  </a:lnTo>
                  <a:lnTo>
                    <a:pt x="710" y="1983"/>
                  </a:lnTo>
                  <a:lnTo>
                    <a:pt x="705" y="1975"/>
                  </a:lnTo>
                  <a:lnTo>
                    <a:pt x="700" y="1966"/>
                  </a:lnTo>
                  <a:lnTo>
                    <a:pt x="693" y="1953"/>
                  </a:lnTo>
                  <a:lnTo>
                    <a:pt x="685" y="1940"/>
                  </a:lnTo>
                  <a:lnTo>
                    <a:pt x="673" y="1923"/>
                  </a:lnTo>
                  <a:lnTo>
                    <a:pt x="662" y="1905"/>
                  </a:lnTo>
                  <a:lnTo>
                    <a:pt x="652" y="1886"/>
                  </a:lnTo>
                  <a:lnTo>
                    <a:pt x="642" y="1868"/>
                  </a:lnTo>
                  <a:lnTo>
                    <a:pt x="635" y="1851"/>
                  </a:lnTo>
                  <a:lnTo>
                    <a:pt x="628" y="1833"/>
                  </a:lnTo>
                  <a:lnTo>
                    <a:pt x="623" y="1818"/>
                  </a:lnTo>
                  <a:lnTo>
                    <a:pt x="620" y="1803"/>
                  </a:lnTo>
                  <a:lnTo>
                    <a:pt x="617" y="1790"/>
                  </a:lnTo>
                  <a:lnTo>
                    <a:pt x="612" y="1765"/>
                  </a:lnTo>
                  <a:lnTo>
                    <a:pt x="603" y="1741"/>
                  </a:lnTo>
                  <a:lnTo>
                    <a:pt x="597" y="1724"/>
                  </a:lnTo>
                  <a:lnTo>
                    <a:pt x="593" y="1718"/>
                  </a:lnTo>
                  <a:lnTo>
                    <a:pt x="600" y="1706"/>
                  </a:lnTo>
                  <a:lnTo>
                    <a:pt x="610" y="1676"/>
                  </a:lnTo>
                  <a:lnTo>
                    <a:pt x="617" y="1636"/>
                  </a:lnTo>
                  <a:lnTo>
                    <a:pt x="607" y="1594"/>
                  </a:lnTo>
                  <a:lnTo>
                    <a:pt x="590" y="1559"/>
                  </a:lnTo>
                  <a:lnTo>
                    <a:pt x="582" y="1531"/>
                  </a:lnTo>
                  <a:lnTo>
                    <a:pt x="573" y="1503"/>
                  </a:lnTo>
                  <a:lnTo>
                    <a:pt x="560" y="1471"/>
                  </a:lnTo>
                  <a:lnTo>
                    <a:pt x="552" y="1454"/>
                  </a:lnTo>
                  <a:lnTo>
                    <a:pt x="547" y="1439"/>
                  </a:lnTo>
                  <a:lnTo>
                    <a:pt x="542" y="1426"/>
                  </a:lnTo>
                  <a:lnTo>
                    <a:pt x="537" y="1413"/>
                  </a:lnTo>
                  <a:lnTo>
                    <a:pt x="532" y="1401"/>
                  </a:lnTo>
                  <a:lnTo>
                    <a:pt x="525" y="1393"/>
                  </a:lnTo>
                  <a:lnTo>
                    <a:pt x="518" y="1383"/>
                  </a:lnTo>
                  <a:lnTo>
                    <a:pt x="508" y="1376"/>
                  </a:lnTo>
                  <a:lnTo>
                    <a:pt x="497" y="1369"/>
                  </a:lnTo>
                  <a:lnTo>
                    <a:pt x="487" y="1361"/>
                  </a:lnTo>
                  <a:lnTo>
                    <a:pt x="475" y="1354"/>
                  </a:lnTo>
                  <a:lnTo>
                    <a:pt x="463" y="1346"/>
                  </a:lnTo>
                  <a:lnTo>
                    <a:pt x="452" y="1338"/>
                  </a:lnTo>
                  <a:lnTo>
                    <a:pt x="440" y="1329"/>
                  </a:lnTo>
                  <a:lnTo>
                    <a:pt x="427" y="1323"/>
                  </a:lnTo>
                  <a:lnTo>
                    <a:pt x="413" y="1316"/>
                  </a:lnTo>
                  <a:lnTo>
                    <a:pt x="392" y="1303"/>
                  </a:lnTo>
                  <a:lnTo>
                    <a:pt x="382" y="1286"/>
                  </a:lnTo>
                  <a:lnTo>
                    <a:pt x="375" y="1268"/>
                  </a:lnTo>
                  <a:lnTo>
                    <a:pt x="365" y="1249"/>
                  </a:lnTo>
                  <a:lnTo>
                    <a:pt x="355" y="1232"/>
                  </a:lnTo>
                  <a:lnTo>
                    <a:pt x="348" y="1219"/>
                  </a:lnTo>
                  <a:lnTo>
                    <a:pt x="347" y="1209"/>
                  </a:lnTo>
                  <a:lnTo>
                    <a:pt x="347" y="1206"/>
                  </a:lnTo>
                  <a:lnTo>
                    <a:pt x="348" y="1206"/>
                  </a:lnTo>
                  <a:lnTo>
                    <a:pt x="353" y="1204"/>
                  </a:lnTo>
                  <a:lnTo>
                    <a:pt x="360" y="1201"/>
                  </a:lnTo>
                  <a:lnTo>
                    <a:pt x="367" y="1194"/>
                  </a:lnTo>
                  <a:lnTo>
                    <a:pt x="370" y="1187"/>
                  </a:lnTo>
                  <a:lnTo>
                    <a:pt x="370" y="1176"/>
                  </a:lnTo>
                  <a:lnTo>
                    <a:pt x="365" y="1162"/>
                  </a:lnTo>
                  <a:lnTo>
                    <a:pt x="352" y="1144"/>
                  </a:lnTo>
                  <a:lnTo>
                    <a:pt x="330" y="1122"/>
                  </a:lnTo>
                  <a:lnTo>
                    <a:pt x="327" y="1122"/>
                  </a:lnTo>
                  <a:lnTo>
                    <a:pt x="330" y="1126"/>
                  </a:lnTo>
                  <a:lnTo>
                    <a:pt x="327" y="1112"/>
                  </a:lnTo>
                  <a:lnTo>
                    <a:pt x="320" y="1091"/>
                  </a:lnTo>
                  <a:lnTo>
                    <a:pt x="315" y="1076"/>
                  </a:lnTo>
                  <a:lnTo>
                    <a:pt x="308" y="1066"/>
                  </a:lnTo>
                  <a:lnTo>
                    <a:pt x="293" y="1054"/>
                  </a:lnTo>
                  <a:lnTo>
                    <a:pt x="283" y="1039"/>
                  </a:lnTo>
                  <a:lnTo>
                    <a:pt x="285" y="1024"/>
                  </a:lnTo>
                  <a:lnTo>
                    <a:pt x="287" y="1011"/>
                  </a:lnTo>
                  <a:lnTo>
                    <a:pt x="275" y="997"/>
                  </a:lnTo>
                  <a:lnTo>
                    <a:pt x="257" y="986"/>
                  </a:lnTo>
                  <a:lnTo>
                    <a:pt x="243" y="971"/>
                  </a:lnTo>
                  <a:lnTo>
                    <a:pt x="235" y="954"/>
                  </a:lnTo>
                  <a:lnTo>
                    <a:pt x="232" y="936"/>
                  </a:lnTo>
                  <a:lnTo>
                    <a:pt x="228" y="916"/>
                  </a:lnTo>
                  <a:lnTo>
                    <a:pt x="218" y="889"/>
                  </a:lnTo>
                  <a:lnTo>
                    <a:pt x="205" y="862"/>
                  </a:lnTo>
                  <a:lnTo>
                    <a:pt x="185" y="836"/>
                  </a:lnTo>
                  <a:lnTo>
                    <a:pt x="172" y="814"/>
                  </a:lnTo>
                  <a:lnTo>
                    <a:pt x="168" y="796"/>
                  </a:lnTo>
                  <a:lnTo>
                    <a:pt x="167" y="782"/>
                  </a:lnTo>
                  <a:lnTo>
                    <a:pt x="157" y="774"/>
                  </a:lnTo>
                  <a:lnTo>
                    <a:pt x="145" y="766"/>
                  </a:lnTo>
                  <a:lnTo>
                    <a:pt x="140" y="754"/>
                  </a:lnTo>
                  <a:lnTo>
                    <a:pt x="133" y="739"/>
                  </a:lnTo>
                  <a:lnTo>
                    <a:pt x="118" y="722"/>
                  </a:lnTo>
                  <a:lnTo>
                    <a:pt x="100" y="700"/>
                  </a:lnTo>
                  <a:lnTo>
                    <a:pt x="86" y="674"/>
                  </a:lnTo>
                  <a:lnTo>
                    <a:pt x="78" y="652"/>
                  </a:lnTo>
                  <a:lnTo>
                    <a:pt x="75" y="642"/>
                  </a:lnTo>
                  <a:lnTo>
                    <a:pt x="70" y="642"/>
                  </a:lnTo>
                  <a:lnTo>
                    <a:pt x="60" y="642"/>
                  </a:lnTo>
                  <a:lnTo>
                    <a:pt x="45" y="642"/>
                  </a:lnTo>
                  <a:lnTo>
                    <a:pt x="33" y="642"/>
                  </a:lnTo>
                  <a:lnTo>
                    <a:pt x="21" y="642"/>
                  </a:lnTo>
                  <a:lnTo>
                    <a:pt x="11" y="644"/>
                  </a:lnTo>
                  <a:lnTo>
                    <a:pt x="3" y="645"/>
                  </a:lnTo>
                  <a:lnTo>
                    <a:pt x="0" y="645"/>
                  </a:lnTo>
                  <a:lnTo>
                    <a:pt x="1" y="642"/>
                  </a:lnTo>
                  <a:lnTo>
                    <a:pt x="5" y="632"/>
                  </a:lnTo>
                  <a:lnTo>
                    <a:pt x="8" y="620"/>
                  </a:lnTo>
                  <a:lnTo>
                    <a:pt x="13" y="609"/>
                  </a:lnTo>
                  <a:lnTo>
                    <a:pt x="20" y="592"/>
                  </a:lnTo>
                  <a:lnTo>
                    <a:pt x="28" y="569"/>
                  </a:lnTo>
                  <a:lnTo>
                    <a:pt x="35" y="542"/>
                  </a:lnTo>
                  <a:lnTo>
                    <a:pt x="38" y="517"/>
                  </a:lnTo>
                  <a:lnTo>
                    <a:pt x="40" y="500"/>
                  </a:lnTo>
                  <a:lnTo>
                    <a:pt x="43" y="489"/>
                  </a:lnTo>
                  <a:lnTo>
                    <a:pt x="50" y="480"/>
                  </a:lnTo>
                  <a:lnTo>
                    <a:pt x="56" y="470"/>
                  </a:lnTo>
                  <a:lnTo>
                    <a:pt x="61" y="457"/>
                  </a:lnTo>
                  <a:lnTo>
                    <a:pt x="65" y="442"/>
                  </a:lnTo>
                  <a:lnTo>
                    <a:pt x="66" y="429"/>
                  </a:lnTo>
                  <a:lnTo>
                    <a:pt x="66" y="424"/>
                  </a:lnTo>
                  <a:lnTo>
                    <a:pt x="232" y="465"/>
                  </a:lnTo>
                  <a:lnTo>
                    <a:pt x="235" y="464"/>
                  </a:lnTo>
                  <a:lnTo>
                    <a:pt x="243" y="457"/>
                  </a:lnTo>
                  <a:lnTo>
                    <a:pt x="257" y="450"/>
                  </a:lnTo>
                  <a:lnTo>
                    <a:pt x="270" y="439"/>
                  </a:lnTo>
                  <a:lnTo>
                    <a:pt x="285" y="429"/>
                  </a:lnTo>
                  <a:lnTo>
                    <a:pt x="298" y="417"/>
                  </a:lnTo>
                  <a:lnTo>
                    <a:pt x="308" y="407"/>
                  </a:lnTo>
                  <a:lnTo>
                    <a:pt x="313" y="399"/>
                  </a:lnTo>
                  <a:lnTo>
                    <a:pt x="318" y="384"/>
                  </a:lnTo>
                  <a:lnTo>
                    <a:pt x="325" y="369"/>
                  </a:lnTo>
                  <a:lnTo>
                    <a:pt x="330" y="357"/>
                  </a:lnTo>
                  <a:lnTo>
                    <a:pt x="332" y="352"/>
                  </a:lnTo>
                  <a:lnTo>
                    <a:pt x="335" y="352"/>
                  </a:lnTo>
                  <a:lnTo>
                    <a:pt x="342" y="352"/>
                  </a:lnTo>
                  <a:lnTo>
                    <a:pt x="353" y="352"/>
                  </a:lnTo>
                  <a:lnTo>
                    <a:pt x="367" y="350"/>
                  </a:lnTo>
                  <a:lnTo>
                    <a:pt x="382" y="350"/>
                  </a:lnTo>
                  <a:lnTo>
                    <a:pt x="398" y="347"/>
                  </a:lnTo>
                  <a:lnTo>
                    <a:pt x="413" y="345"/>
                  </a:lnTo>
                  <a:lnTo>
                    <a:pt x="427" y="342"/>
                  </a:lnTo>
                  <a:lnTo>
                    <a:pt x="438" y="337"/>
                  </a:lnTo>
                  <a:lnTo>
                    <a:pt x="447" y="329"/>
                  </a:lnTo>
                  <a:lnTo>
                    <a:pt x="455" y="319"/>
                  </a:lnTo>
                  <a:lnTo>
                    <a:pt x="462" y="309"/>
                  </a:lnTo>
                  <a:lnTo>
                    <a:pt x="468" y="299"/>
                  </a:lnTo>
                  <a:lnTo>
                    <a:pt x="475" y="290"/>
                  </a:lnTo>
                  <a:lnTo>
                    <a:pt x="483" y="284"/>
                  </a:lnTo>
                  <a:lnTo>
                    <a:pt x="493" y="280"/>
                  </a:lnTo>
                  <a:lnTo>
                    <a:pt x="508" y="275"/>
                  </a:lnTo>
                  <a:lnTo>
                    <a:pt x="513" y="269"/>
                  </a:lnTo>
                  <a:lnTo>
                    <a:pt x="513" y="264"/>
                  </a:lnTo>
                  <a:lnTo>
                    <a:pt x="512" y="262"/>
                  </a:lnTo>
                  <a:lnTo>
                    <a:pt x="380" y="90"/>
                  </a:lnTo>
                  <a:close/>
                </a:path>
              </a:pathLst>
            </a:custGeom>
            <a:solidFill>
              <a:srgbClr val="b2b2b2">
                <a:alpha val="30000"/>
              </a:srgbClr>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91" name=""/>
          <p:cNvSpPr/>
          <p:nvPr/>
        </p:nvSpPr>
        <p:spPr>
          <a:xfrm>
            <a:off x="0" y="457200"/>
            <a:ext cx="914400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333399"/>
                </a:solidFill>
                <a:latin typeface="Albertus Medium"/>
              </a:rPr>
              <a:t>Nanotechnology</a:t>
            </a:r>
            <a:endParaRPr b="0" lang="en-US" sz="3600" spc="-1" strike="noStrike">
              <a:solidFill>
                <a:srgbClr val="000000"/>
              </a:solidFill>
              <a:latin typeface="Arial"/>
            </a:endParaRPr>
          </a:p>
        </p:txBody>
      </p:sp>
      <p:sp>
        <p:nvSpPr>
          <p:cNvPr id="92" name="PlaceHolder 1"/>
          <p:cNvSpPr>
            <a:spLocks noGrp="1"/>
          </p:cNvSpPr>
          <p:nvPr>
            <p:ph/>
          </p:nvPr>
        </p:nvSpPr>
        <p:spPr>
          <a:xfrm>
            <a:off x="1295280" y="1600200"/>
            <a:ext cx="7010640" cy="4525920"/>
          </a:xfrm>
          <a:prstGeom prst="rect">
            <a:avLst/>
          </a:prstGeom>
          <a:noFill/>
          <a:ln w="0">
            <a:noFill/>
          </a:ln>
        </p:spPr>
        <p:txBody>
          <a:bodyPr anchor="t">
            <a:normAutofit/>
          </a:bodyPr>
          <a:p>
            <a:pPr marL="341280" indent="-341280">
              <a:lnSpc>
                <a:spcPct val="90000"/>
              </a:lnSpc>
              <a:spcBef>
                <a:spcPts val="601"/>
              </a:spcBef>
              <a:buClr>
                <a:srgbClr val="333399"/>
              </a:buClr>
              <a:buFont typeface="Albertus Medium"/>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333399"/>
                </a:solidFill>
                <a:latin typeface="Albertus Medium"/>
              </a:rPr>
              <a:t>Generally nanotechnology is dealing with functional systems based on the use of sub-units, with</a:t>
            </a:r>
            <a:r>
              <a:rPr b="0" lang="en-US" sz="2400" spc="-1" strike="noStrike">
                <a:solidFill>
                  <a:srgbClr val="333399"/>
                </a:solidFill>
                <a:latin typeface="Albertus Medium"/>
              </a:rPr>
              <a:t> </a:t>
            </a:r>
            <a:r>
              <a:rPr b="0" lang="en-US" sz="2400" spc="-1" strike="noStrike">
                <a:solidFill>
                  <a:srgbClr val="333399"/>
                </a:solidFill>
                <a:latin typeface="Albertus Medium"/>
              </a:rPr>
              <a:t>structures of the size 100 </a:t>
            </a:r>
            <a:r>
              <a:rPr b="0" lang="en-US" sz="2400" spc="-1" strike="noStrike" u="sng">
                <a:solidFill>
                  <a:srgbClr val="ccccff"/>
                </a:solidFill>
                <a:uFillTx/>
                <a:latin typeface="Albertus Medium"/>
                <a:hlinkClick r:id="rId4"/>
              </a:rPr>
              <a:t>nanometers</a:t>
            </a:r>
            <a:r>
              <a:rPr b="0" lang="en-US" sz="2400" spc="-1" strike="noStrike">
                <a:solidFill>
                  <a:srgbClr val="333399"/>
                </a:solidFill>
                <a:latin typeface="Albertus Medium"/>
              </a:rPr>
              <a:t> or smaller, and involves developing materials or devices by controlling shape and size within that</a:t>
            </a:r>
            <a:r>
              <a:rPr b="0" lang="en-US" sz="2400" spc="-1" strike="noStrike">
                <a:solidFill>
                  <a:srgbClr val="333399"/>
                </a:solidFill>
                <a:latin typeface="Albertus Medium"/>
              </a:rPr>
              <a:t> </a:t>
            </a:r>
            <a:r>
              <a:rPr b="0" lang="en-US" sz="2400" spc="-1" strike="noStrike">
                <a:solidFill>
                  <a:srgbClr val="333399"/>
                </a:solidFill>
                <a:latin typeface="Albertus Medium"/>
              </a:rPr>
              <a:t>scale</a:t>
            </a:r>
            <a:r>
              <a:rPr b="0" lang="en-US" sz="2400" spc="-1" strike="noStrike">
                <a:solidFill>
                  <a:srgbClr val="333399"/>
                </a:solidFill>
                <a:latin typeface="Albertus Medium"/>
              </a:rPr>
              <a:t>.</a:t>
            </a:r>
            <a:endParaRPr b="0" lang="en-US" sz="2400" spc="-1" strike="noStrike">
              <a:solidFill>
                <a:srgbClr val="000000"/>
              </a:solidFill>
              <a:latin typeface="Arial"/>
            </a:endParaRPr>
          </a:p>
          <a:p>
            <a:pPr marL="341280" indent="0">
              <a:lnSpc>
                <a:spcPct val="9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400" spc="-1" strike="noStrike">
              <a:solidFill>
                <a:srgbClr val="000000"/>
              </a:solidFill>
              <a:latin typeface="Arial"/>
            </a:endParaRPr>
          </a:p>
          <a:p>
            <a:pPr marL="341280" indent="-341280">
              <a:lnSpc>
                <a:spcPct val="90000"/>
              </a:lnSpc>
              <a:spcBef>
                <a:spcPts val="601"/>
              </a:spcBef>
              <a:buClr>
                <a:srgbClr val="333399"/>
              </a:buClr>
              <a:buFont typeface="Albertus Medium"/>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333399"/>
                </a:solidFill>
                <a:latin typeface="Albertus Medium"/>
              </a:rPr>
              <a:t>Particles of materials at nanoscale change their properties due to their tiny size and large surface area to volume ratio thus, possess unique feature. e.g. </a:t>
            </a:r>
            <a:endParaRPr b="0" lang="en-US" sz="2400" spc="-1" strike="noStrike">
              <a:solidFill>
                <a:srgbClr val="000000"/>
              </a:solidFill>
              <a:latin typeface="Arial"/>
            </a:endParaRPr>
          </a:p>
        </p:txBody>
      </p:sp>
      <p:sp>
        <p:nvSpPr>
          <p:cNvPr id="93" name=""/>
          <p:cNvSpPr/>
          <p:nvPr/>
        </p:nvSpPr>
        <p:spPr>
          <a:xfrm>
            <a:off x="609480" y="6629400"/>
            <a:ext cx="8534520" cy="228600"/>
          </a:xfrm>
          <a:prstGeom prst="rect">
            <a:avLst/>
          </a:prstGeom>
          <a:solidFill>
            <a:srgbClr val="bbe0e3"/>
          </a:solidFill>
          <a:ln cap="sq"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99"/>
                </a:solidFill>
                <a:latin typeface="Albertus Medium"/>
              </a:rPr>
              <a:t>www.skinandallergy.org</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0" lang="en-US" sz="1000" spc="-1" strike="noStrike">
                <a:solidFill>
                  <a:srgbClr val="333399"/>
                </a:solidFill>
                <a:latin typeface="Albertus Medium"/>
              </a:rPr>
              <a:t>www.panarabderm.org</a:t>
            </a:r>
            <a:endParaRPr b="0" lang="en-US" sz="1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4" name="" descr=""/>
          <p:cNvPicPr/>
          <p:nvPr/>
        </p:nvPicPr>
        <p:blipFill>
          <a:blip r:embed="rId2"/>
          <a:stretch/>
        </p:blipFill>
        <p:spPr>
          <a:xfrm>
            <a:off x="8153280" y="74520"/>
            <a:ext cx="922320" cy="992160"/>
          </a:xfrm>
          <a:prstGeom prst="rect">
            <a:avLst/>
          </a:prstGeom>
          <a:ln w="0">
            <a:noFill/>
          </a:ln>
        </p:spPr>
      </p:pic>
      <p:sp>
        <p:nvSpPr>
          <p:cNvPr id="95" name=""/>
          <p:cNvSpPr/>
          <p:nvPr/>
        </p:nvSpPr>
        <p:spPr>
          <a:xfrm>
            <a:off x="1295280" y="1066680"/>
            <a:ext cx="6193080" cy="1800"/>
          </a:xfrm>
          <a:prstGeom prst="line">
            <a:avLst/>
          </a:prstGeom>
          <a:ln cap="sq" w="12600">
            <a:solidFill>
              <a:srgbClr val="b2b2b2"/>
            </a:solidFill>
            <a:miter/>
          </a:ln>
        </p:spPr>
        <p:style>
          <a:lnRef idx="0"/>
          <a:fillRef idx="0"/>
          <a:effectRef idx="0"/>
          <a:fontRef idx="minor"/>
        </p:style>
        <p:txBody>
          <a:bodyPr lIns="90000" rIns="90000" tIns="-45000" bIns="-45000" anchor="t">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96" name="" descr=""/>
          <p:cNvPicPr/>
          <p:nvPr/>
        </p:nvPicPr>
        <p:blipFill>
          <a:blip r:embed="rId3"/>
          <a:stretch/>
        </p:blipFill>
        <p:spPr>
          <a:xfrm>
            <a:off x="0" y="0"/>
            <a:ext cx="600120" cy="6858000"/>
          </a:xfrm>
          <a:prstGeom prst="rect">
            <a:avLst/>
          </a:prstGeom>
          <a:ln w="0">
            <a:noFill/>
          </a:ln>
        </p:spPr>
      </p:pic>
      <p:pic>
        <p:nvPicPr>
          <p:cNvPr id="97" name="" descr=""/>
          <p:cNvPicPr/>
          <p:nvPr/>
        </p:nvPicPr>
        <p:blipFill>
          <a:blip r:embed="rId4"/>
          <a:stretch/>
        </p:blipFill>
        <p:spPr>
          <a:xfrm>
            <a:off x="1403280" y="2127240"/>
            <a:ext cx="6588360" cy="3892680"/>
          </a:xfrm>
          <a:prstGeom prst="rect">
            <a:avLst/>
          </a:prstGeom>
          <a:ln w="0">
            <a:noFill/>
          </a:ln>
        </p:spPr>
      </p:pic>
      <p:sp>
        <p:nvSpPr>
          <p:cNvPr id="98" name=""/>
          <p:cNvSpPr/>
          <p:nvPr/>
        </p:nvSpPr>
        <p:spPr>
          <a:xfrm>
            <a:off x="1476360" y="6066000"/>
            <a:ext cx="644832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333399"/>
                </a:solidFill>
                <a:latin typeface="Albertus Medium"/>
              </a:rPr>
              <a:t>Image courtesy University of Michigan-Ann Arbor </a:t>
            </a:r>
            <a:endParaRPr b="0" lang="en-US" sz="1800" spc="-1" strike="noStrike">
              <a:solidFill>
                <a:srgbClr val="000000"/>
              </a:solidFill>
              <a:latin typeface="Arial"/>
            </a:endParaRPr>
          </a:p>
        </p:txBody>
      </p:sp>
      <p:sp>
        <p:nvSpPr>
          <p:cNvPr id="99" name=""/>
          <p:cNvSpPr/>
          <p:nvPr/>
        </p:nvSpPr>
        <p:spPr>
          <a:xfrm>
            <a:off x="1371600" y="1295280"/>
            <a:ext cx="66294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200" spc="-1" strike="noStrike">
                <a:solidFill>
                  <a:srgbClr val="333399"/>
                </a:solidFill>
                <a:latin typeface="Albertus Medium"/>
              </a:rPr>
              <a:t>Nanosacle: 1/50000 the diameter of human hair, or the width of 10 hydrogen atoms.</a:t>
            </a:r>
            <a:endParaRPr b="0" lang="en-US" sz="2200" spc="-1" strike="noStrike">
              <a:solidFill>
                <a:srgbClr val="000000"/>
              </a:solidFill>
              <a:latin typeface="Arial"/>
            </a:endParaRPr>
          </a:p>
        </p:txBody>
      </p:sp>
      <p:sp>
        <p:nvSpPr>
          <p:cNvPr id="100" name=""/>
          <p:cNvSpPr/>
          <p:nvPr/>
        </p:nvSpPr>
        <p:spPr>
          <a:xfrm>
            <a:off x="0" y="457200"/>
            <a:ext cx="914400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333399"/>
                </a:solidFill>
                <a:latin typeface="Albertus Medium"/>
              </a:rPr>
              <a:t>Nanotechnology</a:t>
            </a:r>
            <a:endParaRPr b="0" lang="en-US" sz="3600" spc="-1" strike="noStrike">
              <a:solidFill>
                <a:srgbClr val="000000"/>
              </a:solidFill>
              <a:latin typeface="Arial"/>
            </a:endParaRPr>
          </a:p>
        </p:txBody>
      </p:sp>
      <p:sp>
        <p:nvSpPr>
          <p:cNvPr id="101" name=""/>
          <p:cNvSpPr/>
          <p:nvPr/>
        </p:nvSpPr>
        <p:spPr>
          <a:xfrm>
            <a:off x="609480" y="6629400"/>
            <a:ext cx="8534520" cy="228600"/>
          </a:xfrm>
          <a:prstGeom prst="rect">
            <a:avLst/>
          </a:prstGeom>
          <a:solidFill>
            <a:srgbClr val="bbe0e3"/>
          </a:solidFill>
          <a:ln cap="sq"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99"/>
                </a:solidFill>
                <a:latin typeface="Albertus Medium"/>
              </a:rPr>
              <a:t>www.skinandallergy.org</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0" lang="en-US" sz="1000" spc="-1" strike="noStrike">
                <a:solidFill>
                  <a:srgbClr val="333399"/>
                </a:solidFill>
                <a:latin typeface="Albertus Medium"/>
              </a:rPr>
              <a:t>www.panarabderm.org</a:t>
            </a:r>
            <a:endParaRPr b="0" lang="en-US" sz="1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2" name="" descr=""/>
          <p:cNvPicPr/>
          <p:nvPr/>
        </p:nvPicPr>
        <p:blipFill>
          <a:blip r:embed="rId2"/>
          <a:stretch/>
        </p:blipFill>
        <p:spPr>
          <a:xfrm>
            <a:off x="8153280" y="74520"/>
            <a:ext cx="922320" cy="992160"/>
          </a:xfrm>
          <a:prstGeom prst="rect">
            <a:avLst/>
          </a:prstGeom>
          <a:ln w="0">
            <a:noFill/>
          </a:ln>
        </p:spPr>
      </p:pic>
      <p:sp>
        <p:nvSpPr>
          <p:cNvPr id="103" name=""/>
          <p:cNvSpPr/>
          <p:nvPr/>
        </p:nvSpPr>
        <p:spPr>
          <a:xfrm>
            <a:off x="1295280" y="1066680"/>
            <a:ext cx="6193080" cy="1800"/>
          </a:xfrm>
          <a:prstGeom prst="line">
            <a:avLst/>
          </a:prstGeom>
          <a:ln cap="sq" w="12600">
            <a:solidFill>
              <a:srgbClr val="b2b2b2"/>
            </a:solidFill>
            <a:miter/>
          </a:ln>
        </p:spPr>
        <p:style>
          <a:lnRef idx="0"/>
          <a:fillRef idx="0"/>
          <a:effectRef idx="0"/>
          <a:fontRef idx="minor"/>
        </p:style>
        <p:txBody>
          <a:bodyPr lIns="90000" rIns="90000" tIns="-45000" bIns="-45000" anchor="t">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04" name="" descr=""/>
          <p:cNvPicPr/>
          <p:nvPr/>
        </p:nvPicPr>
        <p:blipFill>
          <a:blip r:embed="rId3"/>
          <a:stretch/>
        </p:blipFill>
        <p:spPr>
          <a:xfrm>
            <a:off x="0" y="0"/>
            <a:ext cx="600120" cy="6858000"/>
          </a:xfrm>
          <a:prstGeom prst="rect">
            <a:avLst/>
          </a:prstGeom>
          <a:ln w="0">
            <a:noFill/>
          </a:ln>
        </p:spPr>
      </p:pic>
      <p:sp>
        <p:nvSpPr>
          <p:cNvPr id="105" name=""/>
          <p:cNvSpPr/>
          <p:nvPr/>
        </p:nvSpPr>
        <p:spPr>
          <a:xfrm>
            <a:off x="2124000" y="5236920"/>
            <a:ext cx="4962600" cy="1191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333399"/>
                </a:solidFill>
                <a:latin typeface="Albertus Medium"/>
              </a:rPr>
              <a:t>Novel Nano Material that have at least one dimension that does not exceed 100 nanometers </a:t>
            </a:r>
            <a:r>
              <a:rPr b="1" lang="en-US" sz="1800" spc="-1" strike="noStrike">
                <a:solidFill>
                  <a:srgbClr val="333399"/>
                </a:solidFill>
                <a:latin typeface="Albertus Medium"/>
              </a:rPr>
              <a:t>i</a:t>
            </a:r>
            <a:r>
              <a:rPr b="0" lang="en-US" sz="1800" spc="-1" strike="noStrike">
                <a:solidFill>
                  <a:srgbClr val="333399"/>
                </a:solidFill>
                <a:latin typeface="Albertus Medium"/>
              </a:rPr>
              <a:t>n size. Science. 2004;303:348-352.</a:t>
            </a:r>
            <a:endParaRPr b="0" lang="en-US" sz="1800" spc="-1" strike="noStrike">
              <a:solidFill>
                <a:srgbClr val="000000"/>
              </a:solidFill>
              <a:latin typeface="Arial"/>
            </a:endParaRPr>
          </a:p>
        </p:txBody>
      </p:sp>
      <p:pic>
        <p:nvPicPr>
          <p:cNvPr id="106" name="" descr=""/>
          <p:cNvPicPr/>
          <p:nvPr/>
        </p:nvPicPr>
        <p:blipFill>
          <a:blip r:embed="rId4"/>
          <a:stretch/>
        </p:blipFill>
        <p:spPr>
          <a:xfrm>
            <a:off x="2209680" y="1143000"/>
            <a:ext cx="4845240" cy="4032360"/>
          </a:xfrm>
          <a:prstGeom prst="rect">
            <a:avLst/>
          </a:prstGeom>
          <a:ln w="0">
            <a:noFill/>
          </a:ln>
        </p:spPr>
      </p:pic>
      <p:sp>
        <p:nvSpPr>
          <p:cNvPr id="107" name=""/>
          <p:cNvSpPr/>
          <p:nvPr/>
        </p:nvSpPr>
        <p:spPr>
          <a:xfrm>
            <a:off x="0" y="457200"/>
            <a:ext cx="914400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333399"/>
                </a:solidFill>
                <a:latin typeface="Albertus Medium"/>
              </a:rPr>
              <a:t>Nanotechnology</a:t>
            </a:r>
            <a:endParaRPr b="0" lang="en-US" sz="3600" spc="-1" strike="noStrike">
              <a:solidFill>
                <a:srgbClr val="000000"/>
              </a:solidFill>
              <a:latin typeface="Arial"/>
            </a:endParaRPr>
          </a:p>
        </p:txBody>
      </p:sp>
      <p:sp>
        <p:nvSpPr>
          <p:cNvPr id="108" name=""/>
          <p:cNvSpPr/>
          <p:nvPr/>
        </p:nvSpPr>
        <p:spPr>
          <a:xfrm>
            <a:off x="609480" y="6629400"/>
            <a:ext cx="8534520" cy="228600"/>
          </a:xfrm>
          <a:prstGeom prst="rect">
            <a:avLst/>
          </a:prstGeom>
          <a:solidFill>
            <a:srgbClr val="bbe0e3"/>
          </a:solidFill>
          <a:ln cap="sq"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99"/>
                </a:solidFill>
                <a:latin typeface="Albertus Medium"/>
              </a:rPr>
              <a:t>www.skinandallergy.org</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0" lang="en-US" sz="1000" spc="-1" strike="noStrike">
                <a:solidFill>
                  <a:srgbClr val="333399"/>
                </a:solidFill>
                <a:latin typeface="Albertus Medium"/>
              </a:rPr>
              <a:t>www.panarabderm.org</a:t>
            </a:r>
            <a:endParaRPr b="0" lang="en-US" sz="1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9" name="" descr=""/>
          <p:cNvPicPr/>
          <p:nvPr/>
        </p:nvPicPr>
        <p:blipFill>
          <a:blip r:embed="rId2"/>
          <a:stretch/>
        </p:blipFill>
        <p:spPr>
          <a:xfrm>
            <a:off x="8153280" y="74520"/>
            <a:ext cx="922320" cy="992160"/>
          </a:xfrm>
          <a:prstGeom prst="rect">
            <a:avLst/>
          </a:prstGeom>
          <a:ln w="0">
            <a:noFill/>
          </a:ln>
        </p:spPr>
      </p:pic>
      <p:sp>
        <p:nvSpPr>
          <p:cNvPr id="110" name=""/>
          <p:cNvSpPr/>
          <p:nvPr/>
        </p:nvSpPr>
        <p:spPr>
          <a:xfrm>
            <a:off x="1295280" y="1066680"/>
            <a:ext cx="6193080" cy="1800"/>
          </a:xfrm>
          <a:prstGeom prst="line">
            <a:avLst/>
          </a:prstGeom>
          <a:ln cap="sq" w="12600">
            <a:solidFill>
              <a:srgbClr val="b2b2b2"/>
            </a:solidFill>
            <a:miter/>
          </a:ln>
        </p:spPr>
        <p:style>
          <a:lnRef idx="0"/>
          <a:fillRef idx="0"/>
          <a:effectRef idx="0"/>
          <a:fontRef idx="minor"/>
        </p:style>
        <p:txBody>
          <a:bodyPr lIns="90000" rIns="90000" tIns="-45000" bIns="-45000" anchor="t">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11" name="" descr=""/>
          <p:cNvPicPr/>
          <p:nvPr/>
        </p:nvPicPr>
        <p:blipFill>
          <a:blip r:embed="rId3"/>
          <a:stretch/>
        </p:blipFill>
        <p:spPr>
          <a:xfrm>
            <a:off x="0" y="0"/>
            <a:ext cx="600120" cy="6858000"/>
          </a:xfrm>
          <a:prstGeom prst="rect">
            <a:avLst/>
          </a:prstGeom>
          <a:ln w="0">
            <a:noFill/>
          </a:ln>
        </p:spPr>
      </p:pic>
      <p:grpSp>
        <p:nvGrpSpPr>
          <p:cNvPr id="112" name=""/>
          <p:cNvGrpSpPr/>
          <p:nvPr/>
        </p:nvGrpSpPr>
        <p:grpSpPr>
          <a:xfrm>
            <a:off x="2639880" y="1803240"/>
            <a:ext cx="4521240" cy="3986280"/>
            <a:chOff x="2639880" y="1803240"/>
            <a:chExt cx="4521240" cy="3986280"/>
          </a:xfrm>
        </p:grpSpPr>
        <p:sp>
          <p:nvSpPr>
            <p:cNvPr id="113" name=""/>
            <p:cNvSpPr/>
            <p:nvPr/>
          </p:nvSpPr>
          <p:spPr>
            <a:xfrm>
              <a:off x="2639880" y="2776680"/>
              <a:ext cx="1721160" cy="3012840"/>
            </a:xfrm>
            <a:custGeom>
              <a:avLst/>
              <a:gdLst/>
              <a:ahLst/>
              <a:rect l="l" t="t" r="r" b="b"/>
              <a:pathLst>
                <a:path w="1261" h="2255">
                  <a:moveTo>
                    <a:pt x="1257" y="2027"/>
                  </a:moveTo>
                  <a:lnTo>
                    <a:pt x="1257" y="2015"/>
                  </a:lnTo>
                  <a:lnTo>
                    <a:pt x="1252" y="2000"/>
                  </a:lnTo>
                  <a:lnTo>
                    <a:pt x="1244" y="1985"/>
                  </a:lnTo>
                  <a:lnTo>
                    <a:pt x="1232" y="1970"/>
                  </a:lnTo>
                  <a:lnTo>
                    <a:pt x="1222" y="1956"/>
                  </a:lnTo>
                  <a:lnTo>
                    <a:pt x="1212" y="1945"/>
                  </a:lnTo>
                  <a:lnTo>
                    <a:pt x="1204" y="1933"/>
                  </a:lnTo>
                  <a:lnTo>
                    <a:pt x="1199" y="1921"/>
                  </a:lnTo>
                  <a:lnTo>
                    <a:pt x="1197" y="1910"/>
                  </a:lnTo>
                  <a:lnTo>
                    <a:pt x="1192" y="1893"/>
                  </a:lnTo>
                  <a:lnTo>
                    <a:pt x="1186" y="1876"/>
                  </a:lnTo>
                  <a:lnTo>
                    <a:pt x="1171" y="1860"/>
                  </a:lnTo>
                  <a:lnTo>
                    <a:pt x="1161" y="1851"/>
                  </a:lnTo>
                  <a:lnTo>
                    <a:pt x="1147" y="1838"/>
                  </a:lnTo>
                  <a:lnTo>
                    <a:pt x="1132" y="1823"/>
                  </a:lnTo>
                  <a:lnTo>
                    <a:pt x="1117" y="1806"/>
                  </a:lnTo>
                  <a:lnTo>
                    <a:pt x="1102" y="1788"/>
                  </a:lnTo>
                  <a:lnTo>
                    <a:pt x="1087" y="1770"/>
                  </a:lnTo>
                  <a:lnTo>
                    <a:pt x="1076" y="1750"/>
                  </a:lnTo>
                  <a:lnTo>
                    <a:pt x="1067" y="1731"/>
                  </a:lnTo>
                  <a:lnTo>
                    <a:pt x="1052" y="1703"/>
                  </a:lnTo>
                  <a:lnTo>
                    <a:pt x="1037" y="1681"/>
                  </a:lnTo>
                  <a:lnTo>
                    <a:pt x="1026" y="1665"/>
                  </a:lnTo>
                  <a:lnTo>
                    <a:pt x="1019" y="1646"/>
                  </a:lnTo>
                  <a:lnTo>
                    <a:pt x="1016" y="1633"/>
                  </a:lnTo>
                  <a:lnTo>
                    <a:pt x="1009" y="1613"/>
                  </a:lnTo>
                  <a:lnTo>
                    <a:pt x="999" y="1591"/>
                  </a:lnTo>
                  <a:lnTo>
                    <a:pt x="989" y="1568"/>
                  </a:lnTo>
                  <a:lnTo>
                    <a:pt x="979" y="1545"/>
                  </a:lnTo>
                  <a:lnTo>
                    <a:pt x="969" y="1525"/>
                  </a:lnTo>
                  <a:lnTo>
                    <a:pt x="959" y="1508"/>
                  </a:lnTo>
                  <a:lnTo>
                    <a:pt x="952" y="1499"/>
                  </a:lnTo>
                  <a:lnTo>
                    <a:pt x="942" y="1486"/>
                  </a:lnTo>
                  <a:lnTo>
                    <a:pt x="934" y="1473"/>
                  </a:lnTo>
                  <a:lnTo>
                    <a:pt x="922" y="1458"/>
                  </a:lnTo>
                  <a:lnTo>
                    <a:pt x="911" y="1443"/>
                  </a:lnTo>
                  <a:lnTo>
                    <a:pt x="902" y="1434"/>
                  </a:lnTo>
                  <a:lnTo>
                    <a:pt x="891" y="1426"/>
                  </a:lnTo>
                  <a:lnTo>
                    <a:pt x="879" y="1419"/>
                  </a:lnTo>
                  <a:lnTo>
                    <a:pt x="867" y="1411"/>
                  </a:lnTo>
                  <a:lnTo>
                    <a:pt x="854" y="1404"/>
                  </a:lnTo>
                  <a:lnTo>
                    <a:pt x="842" y="1399"/>
                  </a:lnTo>
                  <a:lnTo>
                    <a:pt x="831" y="1396"/>
                  </a:lnTo>
                  <a:lnTo>
                    <a:pt x="820" y="1394"/>
                  </a:lnTo>
                  <a:lnTo>
                    <a:pt x="812" y="1393"/>
                  </a:lnTo>
                  <a:lnTo>
                    <a:pt x="805" y="1389"/>
                  </a:lnTo>
                  <a:lnTo>
                    <a:pt x="800" y="1384"/>
                  </a:lnTo>
                  <a:lnTo>
                    <a:pt x="794" y="1376"/>
                  </a:lnTo>
                  <a:lnTo>
                    <a:pt x="789" y="1368"/>
                  </a:lnTo>
                  <a:lnTo>
                    <a:pt x="782" y="1354"/>
                  </a:lnTo>
                  <a:lnTo>
                    <a:pt x="774" y="1341"/>
                  </a:lnTo>
                  <a:lnTo>
                    <a:pt x="762" y="1324"/>
                  </a:lnTo>
                  <a:lnTo>
                    <a:pt x="750" y="1306"/>
                  </a:lnTo>
                  <a:lnTo>
                    <a:pt x="740" y="1288"/>
                  </a:lnTo>
                  <a:lnTo>
                    <a:pt x="732" y="1269"/>
                  </a:lnTo>
                  <a:lnTo>
                    <a:pt x="724" y="1253"/>
                  </a:lnTo>
                  <a:lnTo>
                    <a:pt x="717" y="1234"/>
                  </a:lnTo>
                  <a:lnTo>
                    <a:pt x="712" y="1219"/>
                  </a:lnTo>
                  <a:lnTo>
                    <a:pt x="709" y="1204"/>
                  </a:lnTo>
                  <a:lnTo>
                    <a:pt x="705" y="1191"/>
                  </a:lnTo>
                  <a:lnTo>
                    <a:pt x="700" y="1166"/>
                  </a:lnTo>
                  <a:lnTo>
                    <a:pt x="692" y="1143"/>
                  </a:lnTo>
                  <a:lnTo>
                    <a:pt x="685" y="1126"/>
                  </a:lnTo>
                  <a:lnTo>
                    <a:pt x="682" y="1119"/>
                  </a:lnTo>
                  <a:lnTo>
                    <a:pt x="689" y="1108"/>
                  </a:lnTo>
                  <a:lnTo>
                    <a:pt x="700" y="1078"/>
                  </a:lnTo>
                  <a:lnTo>
                    <a:pt x="707" y="1038"/>
                  </a:lnTo>
                  <a:lnTo>
                    <a:pt x="697" y="996"/>
                  </a:lnTo>
                  <a:lnTo>
                    <a:pt x="680" y="961"/>
                  </a:lnTo>
                  <a:lnTo>
                    <a:pt x="670" y="932"/>
                  </a:lnTo>
                  <a:lnTo>
                    <a:pt x="662" y="904"/>
                  </a:lnTo>
                  <a:lnTo>
                    <a:pt x="649" y="872"/>
                  </a:lnTo>
                  <a:lnTo>
                    <a:pt x="640" y="856"/>
                  </a:lnTo>
                  <a:lnTo>
                    <a:pt x="635" y="839"/>
                  </a:lnTo>
                  <a:lnTo>
                    <a:pt x="630" y="826"/>
                  </a:lnTo>
                  <a:lnTo>
                    <a:pt x="625" y="814"/>
                  </a:lnTo>
                  <a:lnTo>
                    <a:pt x="620" y="802"/>
                  </a:lnTo>
                  <a:lnTo>
                    <a:pt x="614" y="792"/>
                  </a:lnTo>
                  <a:lnTo>
                    <a:pt x="607" y="784"/>
                  </a:lnTo>
                  <a:lnTo>
                    <a:pt x="597" y="777"/>
                  </a:lnTo>
                  <a:lnTo>
                    <a:pt x="587" y="771"/>
                  </a:lnTo>
                  <a:lnTo>
                    <a:pt x="575" y="762"/>
                  </a:lnTo>
                  <a:lnTo>
                    <a:pt x="565" y="754"/>
                  </a:lnTo>
                  <a:lnTo>
                    <a:pt x="554" y="744"/>
                  </a:lnTo>
                  <a:lnTo>
                    <a:pt x="542" y="736"/>
                  </a:lnTo>
                  <a:lnTo>
                    <a:pt x="529" y="729"/>
                  </a:lnTo>
                  <a:lnTo>
                    <a:pt x="515" y="721"/>
                  </a:lnTo>
                  <a:lnTo>
                    <a:pt x="502" y="716"/>
                  </a:lnTo>
                  <a:lnTo>
                    <a:pt x="480" y="702"/>
                  </a:lnTo>
                  <a:lnTo>
                    <a:pt x="470" y="686"/>
                  </a:lnTo>
                  <a:lnTo>
                    <a:pt x="464" y="667"/>
                  </a:lnTo>
                  <a:lnTo>
                    <a:pt x="454" y="649"/>
                  </a:lnTo>
                  <a:lnTo>
                    <a:pt x="444" y="634"/>
                  </a:lnTo>
                  <a:lnTo>
                    <a:pt x="437" y="621"/>
                  </a:lnTo>
                  <a:lnTo>
                    <a:pt x="435" y="611"/>
                  </a:lnTo>
                  <a:lnTo>
                    <a:pt x="435" y="607"/>
                  </a:lnTo>
                  <a:lnTo>
                    <a:pt x="437" y="607"/>
                  </a:lnTo>
                  <a:lnTo>
                    <a:pt x="442" y="606"/>
                  </a:lnTo>
                  <a:lnTo>
                    <a:pt x="449" y="602"/>
                  </a:lnTo>
                  <a:lnTo>
                    <a:pt x="455" y="596"/>
                  </a:lnTo>
                  <a:lnTo>
                    <a:pt x="459" y="589"/>
                  </a:lnTo>
                  <a:lnTo>
                    <a:pt x="459" y="577"/>
                  </a:lnTo>
                  <a:lnTo>
                    <a:pt x="454" y="564"/>
                  </a:lnTo>
                  <a:lnTo>
                    <a:pt x="440" y="546"/>
                  </a:lnTo>
                  <a:lnTo>
                    <a:pt x="434" y="539"/>
                  </a:lnTo>
                  <a:lnTo>
                    <a:pt x="429" y="532"/>
                  </a:lnTo>
                  <a:lnTo>
                    <a:pt x="424" y="529"/>
                  </a:lnTo>
                  <a:lnTo>
                    <a:pt x="420" y="526"/>
                  </a:lnTo>
                  <a:lnTo>
                    <a:pt x="419" y="527"/>
                  </a:lnTo>
                  <a:lnTo>
                    <a:pt x="415" y="526"/>
                  </a:lnTo>
                  <a:lnTo>
                    <a:pt x="415" y="522"/>
                  </a:lnTo>
                  <a:lnTo>
                    <a:pt x="420" y="526"/>
                  </a:lnTo>
                  <a:lnTo>
                    <a:pt x="420" y="524"/>
                  </a:lnTo>
                  <a:lnTo>
                    <a:pt x="419" y="521"/>
                  </a:lnTo>
                  <a:lnTo>
                    <a:pt x="419" y="517"/>
                  </a:lnTo>
                  <a:lnTo>
                    <a:pt x="417" y="512"/>
                  </a:lnTo>
                  <a:lnTo>
                    <a:pt x="409" y="490"/>
                  </a:lnTo>
                  <a:lnTo>
                    <a:pt x="405" y="477"/>
                  </a:lnTo>
                  <a:lnTo>
                    <a:pt x="399" y="467"/>
                  </a:lnTo>
                  <a:lnTo>
                    <a:pt x="384" y="455"/>
                  </a:lnTo>
                  <a:lnTo>
                    <a:pt x="372" y="440"/>
                  </a:lnTo>
                  <a:lnTo>
                    <a:pt x="374" y="425"/>
                  </a:lnTo>
                  <a:lnTo>
                    <a:pt x="375" y="412"/>
                  </a:lnTo>
                  <a:lnTo>
                    <a:pt x="364" y="399"/>
                  </a:lnTo>
                  <a:lnTo>
                    <a:pt x="345" y="387"/>
                  </a:lnTo>
                  <a:lnTo>
                    <a:pt x="332" y="372"/>
                  </a:lnTo>
                  <a:lnTo>
                    <a:pt x="325" y="355"/>
                  </a:lnTo>
                  <a:lnTo>
                    <a:pt x="322" y="337"/>
                  </a:lnTo>
                  <a:lnTo>
                    <a:pt x="319" y="317"/>
                  </a:lnTo>
                  <a:lnTo>
                    <a:pt x="309" y="290"/>
                  </a:lnTo>
                  <a:lnTo>
                    <a:pt x="294" y="264"/>
                  </a:lnTo>
                  <a:lnTo>
                    <a:pt x="273" y="237"/>
                  </a:lnTo>
                  <a:lnTo>
                    <a:pt x="260" y="215"/>
                  </a:lnTo>
                  <a:lnTo>
                    <a:pt x="257" y="197"/>
                  </a:lnTo>
                  <a:lnTo>
                    <a:pt x="255" y="184"/>
                  </a:lnTo>
                  <a:lnTo>
                    <a:pt x="245" y="175"/>
                  </a:lnTo>
                  <a:lnTo>
                    <a:pt x="233" y="167"/>
                  </a:lnTo>
                  <a:lnTo>
                    <a:pt x="228" y="154"/>
                  </a:lnTo>
                  <a:lnTo>
                    <a:pt x="222" y="140"/>
                  </a:lnTo>
                  <a:lnTo>
                    <a:pt x="207" y="124"/>
                  </a:lnTo>
                  <a:lnTo>
                    <a:pt x="188" y="100"/>
                  </a:lnTo>
                  <a:lnTo>
                    <a:pt x="175" y="74"/>
                  </a:lnTo>
                  <a:lnTo>
                    <a:pt x="168" y="52"/>
                  </a:lnTo>
                  <a:lnTo>
                    <a:pt x="165" y="42"/>
                  </a:lnTo>
                  <a:lnTo>
                    <a:pt x="160" y="42"/>
                  </a:lnTo>
                  <a:lnTo>
                    <a:pt x="148" y="42"/>
                  </a:lnTo>
                  <a:lnTo>
                    <a:pt x="133" y="42"/>
                  </a:lnTo>
                  <a:lnTo>
                    <a:pt x="122" y="42"/>
                  </a:lnTo>
                  <a:lnTo>
                    <a:pt x="110" y="42"/>
                  </a:lnTo>
                  <a:lnTo>
                    <a:pt x="100" y="44"/>
                  </a:lnTo>
                  <a:lnTo>
                    <a:pt x="92" y="47"/>
                  </a:lnTo>
                  <a:lnTo>
                    <a:pt x="88" y="47"/>
                  </a:lnTo>
                  <a:lnTo>
                    <a:pt x="90" y="44"/>
                  </a:lnTo>
                  <a:lnTo>
                    <a:pt x="93" y="34"/>
                  </a:lnTo>
                  <a:lnTo>
                    <a:pt x="98" y="20"/>
                  </a:lnTo>
                  <a:lnTo>
                    <a:pt x="103" y="8"/>
                  </a:lnTo>
                  <a:lnTo>
                    <a:pt x="103" y="8"/>
                  </a:lnTo>
                  <a:lnTo>
                    <a:pt x="103" y="8"/>
                  </a:lnTo>
                  <a:lnTo>
                    <a:pt x="103" y="8"/>
                  </a:lnTo>
                  <a:lnTo>
                    <a:pt x="103" y="8"/>
                  </a:lnTo>
                  <a:lnTo>
                    <a:pt x="67" y="0"/>
                  </a:lnTo>
                  <a:lnTo>
                    <a:pt x="67" y="5"/>
                  </a:lnTo>
                  <a:lnTo>
                    <a:pt x="65" y="19"/>
                  </a:lnTo>
                  <a:lnTo>
                    <a:pt x="62" y="34"/>
                  </a:lnTo>
                  <a:lnTo>
                    <a:pt x="57" y="47"/>
                  </a:lnTo>
                  <a:lnTo>
                    <a:pt x="50" y="57"/>
                  </a:lnTo>
                  <a:lnTo>
                    <a:pt x="45" y="65"/>
                  </a:lnTo>
                  <a:lnTo>
                    <a:pt x="40" y="79"/>
                  </a:lnTo>
                  <a:lnTo>
                    <a:pt x="38" y="95"/>
                  </a:lnTo>
                  <a:lnTo>
                    <a:pt x="35" y="119"/>
                  </a:lnTo>
                  <a:lnTo>
                    <a:pt x="28" y="145"/>
                  </a:lnTo>
                  <a:lnTo>
                    <a:pt x="20" y="169"/>
                  </a:lnTo>
                  <a:lnTo>
                    <a:pt x="15" y="185"/>
                  </a:lnTo>
                  <a:lnTo>
                    <a:pt x="10" y="197"/>
                  </a:lnTo>
                  <a:lnTo>
                    <a:pt x="5" y="209"/>
                  </a:lnTo>
                  <a:lnTo>
                    <a:pt x="2" y="220"/>
                  </a:lnTo>
                  <a:lnTo>
                    <a:pt x="0" y="224"/>
                  </a:lnTo>
                  <a:lnTo>
                    <a:pt x="3" y="224"/>
                  </a:lnTo>
                  <a:lnTo>
                    <a:pt x="12" y="220"/>
                  </a:lnTo>
                  <a:lnTo>
                    <a:pt x="23" y="219"/>
                  </a:lnTo>
                  <a:lnTo>
                    <a:pt x="33" y="219"/>
                  </a:lnTo>
                  <a:lnTo>
                    <a:pt x="47" y="219"/>
                  </a:lnTo>
                  <a:lnTo>
                    <a:pt x="60" y="219"/>
                  </a:lnTo>
                  <a:lnTo>
                    <a:pt x="72" y="219"/>
                  </a:lnTo>
                  <a:lnTo>
                    <a:pt x="77" y="219"/>
                  </a:lnTo>
                  <a:lnTo>
                    <a:pt x="80" y="229"/>
                  </a:lnTo>
                  <a:lnTo>
                    <a:pt x="87" y="250"/>
                  </a:lnTo>
                  <a:lnTo>
                    <a:pt x="100" y="277"/>
                  </a:lnTo>
                  <a:lnTo>
                    <a:pt x="118" y="299"/>
                  </a:lnTo>
                  <a:lnTo>
                    <a:pt x="133" y="315"/>
                  </a:lnTo>
                  <a:lnTo>
                    <a:pt x="140" y="330"/>
                  </a:lnTo>
                  <a:lnTo>
                    <a:pt x="145" y="342"/>
                  </a:lnTo>
                  <a:lnTo>
                    <a:pt x="157" y="352"/>
                  </a:lnTo>
                  <a:lnTo>
                    <a:pt x="167" y="360"/>
                  </a:lnTo>
                  <a:lnTo>
                    <a:pt x="168" y="374"/>
                  </a:lnTo>
                  <a:lnTo>
                    <a:pt x="172" y="390"/>
                  </a:lnTo>
                  <a:lnTo>
                    <a:pt x="185" y="414"/>
                  </a:lnTo>
                  <a:lnTo>
                    <a:pt x="205" y="440"/>
                  </a:lnTo>
                  <a:lnTo>
                    <a:pt x="220" y="467"/>
                  </a:lnTo>
                  <a:lnTo>
                    <a:pt x="230" y="492"/>
                  </a:lnTo>
                  <a:lnTo>
                    <a:pt x="233" y="512"/>
                  </a:lnTo>
                  <a:lnTo>
                    <a:pt x="237" y="531"/>
                  </a:lnTo>
                  <a:lnTo>
                    <a:pt x="243" y="547"/>
                  </a:lnTo>
                  <a:lnTo>
                    <a:pt x="257" y="562"/>
                  </a:lnTo>
                  <a:lnTo>
                    <a:pt x="275" y="574"/>
                  </a:lnTo>
                  <a:lnTo>
                    <a:pt x="287" y="587"/>
                  </a:lnTo>
                  <a:lnTo>
                    <a:pt x="285" y="601"/>
                  </a:lnTo>
                  <a:lnTo>
                    <a:pt x="284" y="617"/>
                  </a:lnTo>
                  <a:lnTo>
                    <a:pt x="295" y="632"/>
                  </a:lnTo>
                  <a:lnTo>
                    <a:pt x="310" y="642"/>
                  </a:lnTo>
                  <a:lnTo>
                    <a:pt x="317" y="652"/>
                  </a:lnTo>
                  <a:lnTo>
                    <a:pt x="320" y="666"/>
                  </a:lnTo>
                  <a:lnTo>
                    <a:pt x="329" y="687"/>
                  </a:lnTo>
                  <a:lnTo>
                    <a:pt x="330" y="692"/>
                  </a:lnTo>
                  <a:lnTo>
                    <a:pt x="330" y="696"/>
                  </a:lnTo>
                  <a:lnTo>
                    <a:pt x="332" y="697"/>
                  </a:lnTo>
                  <a:lnTo>
                    <a:pt x="332" y="699"/>
                  </a:lnTo>
                  <a:lnTo>
                    <a:pt x="335" y="702"/>
                  </a:lnTo>
                  <a:lnTo>
                    <a:pt x="340" y="707"/>
                  </a:lnTo>
                  <a:lnTo>
                    <a:pt x="345" y="712"/>
                  </a:lnTo>
                  <a:lnTo>
                    <a:pt x="352" y="721"/>
                  </a:lnTo>
                  <a:lnTo>
                    <a:pt x="365" y="737"/>
                  </a:lnTo>
                  <a:lnTo>
                    <a:pt x="370" y="752"/>
                  </a:lnTo>
                  <a:lnTo>
                    <a:pt x="370" y="762"/>
                  </a:lnTo>
                  <a:lnTo>
                    <a:pt x="367" y="771"/>
                  </a:lnTo>
                  <a:lnTo>
                    <a:pt x="360" y="776"/>
                  </a:lnTo>
                  <a:lnTo>
                    <a:pt x="354" y="781"/>
                  </a:lnTo>
                  <a:lnTo>
                    <a:pt x="349" y="782"/>
                  </a:lnTo>
                  <a:lnTo>
                    <a:pt x="347" y="782"/>
                  </a:lnTo>
                  <a:lnTo>
                    <a:pt x="347" y="786"/>
                  </a:lnTo>
                  <a:lnTo>
                    <a:pt x="350" y="794"/>
                  </a:lnTo>
                  <a:lnTo>
                    <a:pt x="355" y="807"/>
                  </a:lnTo>
                  <a:lnTo>
                    <a:pt x="367" y="824"/>
                  </a:lnTo>
                  <a:lnTo>
                    <a:pt x="377" y="842"/>
                  </a:lnTo>
                  <a:lnTo>
                    <a:pt x="384" y="862"/>
                  </a:lnTo>
                  <a:lnTo>
                    <a:pt x="392" y="877"/>
                  </a:lnTo>
                  <a:lnTo>
                    <a:pt x="414" y="891"/>
                  </a:lnTo>
                  <a:lnTo>
                    <a:pt x="427" y="897"/>
                  </a:lnTo>
                  <a:lnTo>
                    <a:pt x="440" y="904"/>
                  </a:lnTo>
                  <a:lnTo>
                    <a:pt x="454" y="912"/>
                  </a:lnTo>
                  <a:lnTo>
                    <a:pt x="465" y="921"/>
                  </a:lnTo>
                  <a:lnTo>
                    <a:pt x="477" y="929"/>
                  </a:lnTo>
                  <a:lnTo>
                    <a:pt x="487" y="937"/>
                  </a:lnTo>
                  <a:lnTo>
                    <a:pt x="499" y="946"/>
                  </a:lnTo>
                  <a:lnTo>
                    <a:pt x="509" y="952"/>
                  </a:lnTo>
                  <a:lnTo>
                    <a:pt x="519" y="961"/>
                  </a:lnTo>
                  <a:lnTo>
                    <a:pt x="525" y="969"/>
                  </a:lnTo>
                  <a:lnTo>
                    <a:pt x="532" y="979"/>
                  </a:lnTo>
                  <a:lnTo>
                    <a:pt x="537" y="989"/>
                  </a:lnTo>
                  <a:lnTo>
                    <a:pt x="542" y="1002"/>
                  </a:lnTo>
                  <a:lnTo>
                    <a:pt x="547" y="1016"/>
                  </a:lnTo>
                  <a:lnTo>
                    <a:pt x="552" y="1031"/>
                  </a:lnTo>
                  <a:lnTo>
                    <a:pt x="560" y="1048"/>
                  </a:lnTo>
                  <a:lnTo>
                    <a:pt x="574" y="1079"/>
                  </a:lnTo>
                  <a:lnTo>
                    <a:pt x="584" y="1108"/>
                  </a:lnTo>
                  <a:lnTo>
                    <a:pt x="592" y="1136"/>
                  </a:lnTo>
                  <a:lnTo>
                    <a:pt x="609" y="1171"/>
                  </a:lnTo>
                  <a:lnTo>
                    <a:pt x="619" y="1213"/>
                  </a:lnTo>
                  <a:lnTo>
                    <a:pt x="612" y="1253"/>
                  </a:lnTo>
                  <a:lnTo>
                    <a:pt x="600" y="1283"/>
                  </a:lnTo>
                  <a:lnTo>
                    <a:pt x="594" y="1294"/>
                  </a:lnTo>
                  <a:lnTo>
                    <a:pt x="597" y="1301"/>
                  </a:lnTo>
                  <a:lnTo>
                    <a:pt x="604" y="1318"/>
                  </a:lnTo>
                  <a:lnTo>
                    <a:pt x="612" y="1341"/>
                  </a:lnTo>
                  <a:lnTo>
                    <a:pt x="617" y="1366"/>
                  </a:lnTo>
                  <a:lnTo>
                    <a:pt x="620" y="1379"/>
                  </a:lnTo>
                  <a:lnTo>
                    <a:pt x="624" y="1394"/>
                  </a:lnTo>
                  <a:lnTo>
                    <a:pt x="629" y="1409"/>
                  </a:lnTo>
                  <a:lnTo>
                    <a:pt x="635" y="1428"/>
                  </a:lnTo>
                  <a:lnTo>
                    <a:pt x="644" y="1444"/>
                  </a:lnTo>
                  <a:lnTo>
                    <a:pt x="654" y="1463"/>
                  </a:lnTo>
                  <a:lnTo>
                    <a:pt x="664" y="1481"/>
                  </a:lnTo>
                  <a:lnTo>
                    <a:pt x="675" y="1499"/>
                  </a:lnTo>
                  <a:lnTo>
                    <a:pt x="687" y="1516"/>
                  </a:lnTo>
                  <a:lnTo>
                    <a:pt x="695" y="1531"/>
                  </a:lnTo>
                  <a:lnTo>
                    <a:pt x="702" y="1543"/>
                  </a:lnTo>
                  <a:lnTo>
                    <a:pt x="707" y="1553"/>
                  </a:lnTo>
                  <a:lnTo>
                    <a:pt x="712" y="1561"/>
                  </a:lnTo>
                  <a:lnTo>
                    <a:pt x="719" y="1566"/>
                  </a:lnTo>
                  <a:lnTo>
                    <a:pt x="724" y="1570"/>
                  </a:lnTo>
                  <a:lnTo>
                    <a:pt x="732" y="1571"/>
                  </a:lnTo>
                  <a:lnTo>
                    <a:pt x="742" y="1573"/>
                  </a:lnTo>
                  <a:lnTo>
                    <a:pt x="754" y="1576"/>
                  </a:lnTo>
                  <a:lnTo>
                    <a:pt x="765" y="1581"/>
                  </a:lnTo>
                  <a:lnTo>
                    <a:pt x="779" y="1588"/>
                  </a:lnTo>
                  <a:lnTo>
                    <a:pt x="792" y="1595"/>
                  </a:lnTo>
                  <a:lnTo>
                    <a:pt x="804" y="1603"/>
                  </a:lnTo>
                  <a:lnTo>
                    <a:pt x="814" y="1611"/>
                  </a:lnTo>
                  <a:lnTo>
                    <a:pt x="822" y="1618"/>
                  </a:lnTo>
                  <a:lnTo>
                    <a:pt x="834" y="1633"/>
                  </a:lnTo>
                  <a:lnTo>
                    <a:pt x="846" y="1648"/>
                  </a:lnTo>
                  <a:lnTo>
                    <a:pt x="856" y="1663"/>
                  </a:lnTo>
                  <a:lnTo>
                    <a:pt x="866" y="1675"/>
                  </a:lnTo>
                  <a:lnTo>
                    <a:pt x="872" y="1685"/>
                  </a:lnTo>
                  <a:lnTo>
                    <a:pt x="881" y="1700"/>
                  </a:lnTo>
                  <a:lnTo>
                    <a:pt x="891" y="1721"/>
                  </a:lnTo>
                  <a:lnTo>
                    <a:pt x="902" y="1743"/>
                  </a:lnTo>
                  <a:lnTo>
                    <a:pt x="912" y="1768"/>
                  </a:lnTo>
                  <a:lnTo>
                    <a:pt x="921" y="1790"/>
                  </a:lnTo>
                  <a:lnTo>
                    <a:pt x="927" y="1810"/>
                  </a:lnTo>
                  <a:lnTo>
                    <a:pt x="931" y="1823"/>
                  </a:lnTo>
                  <a:lnTo>
                    <a:pt x="937" y="1841"/>
                  </a:lnTo>
                  <a:lnTo>
                    <a:pt x="951" y="1858"/>
                  </a:lnTo>
                  <a:lnTo>
                    <a:pt x="964" y="1878"/>
                  </a:lnTo>
                  <a:lnTo>
                    <a:pt x="979" y="1908"/>
                  </a:lnTo>
                  <a:lnTo>
                    <a:pt x="987" y="1926"/>
                  </a:lnTo>
                  <a:lnTo>
                    <a:pt x="999" y="1945"/>
                  </a:lnTo>
                  <a:lnTo>
                    <a:pt x="1014" y="1965"/>
                  </a:lnTo>
                  <a:lnTo>
                    <a:pt x="1029" y="1981"/>
                  </a:lnTo>
                  <a:lnTo>
                    <a:pt x="1044" y="2000"/>
                  </a:lnTo>
                  <a:lnTo>
                    <a:pt x="1059" y="2015"/>
                  </a:lnTo>
                  <a:lnTo>
                    <a:pt x="1072" y="2027"/>
                  </a:lnTo>
                  <a:lnTo>
                    <a:pt x="1084" y="2037"/>
                  </a:lnTo>
                  <a:lnTo>
                    <a:pt x="1097" y="2052"/>
                  </a:lnTo>
                  <a:lnTo>
                    <a:pt x="1106" y="2068"/>
                  </a:lnTo>
                  <a:lnTo>
                    <a:pt x="1109" y="2085"/>
                  </a:lnTo>
                  <a:lnTo>
                    <a:pt x="1112" y="2098"/>
                  </a:lnTo>
                  <a:lnTo>
                    <a:pt x="1117" y="2108"/>
                  </a:lnTo>
                  <a:lnTo>
                    <a:pt x="1126" y="2120"/>
                  </a:lnTo>
                  <a:lnTo>
                    <a:pt x="1136" y="2132"/>
                  </a:lnTo>
                  <a:lnTo>
                    <a:pt x="1146" y="2145"/>
                  </a:lnTo>
                  <a:lnTo>
                    <a:pt x="1156" y="2160"/>
                  </a:lnTo>
                  <a:lnTo>
                    <a:pt x="1164" y="2175"/>
                  </a:lnTo>
                  <a:lnTo>
                    <a:pt x="1169" y="2190"/>
                  </a:lnTo>
                  <a:lnTo>
                    <a:pt x="1169" y="2202"/>
                  </a:lnTo>
                  <a:lnTo>
                    <a:pt x="1169" y="2217"/>
                  </a:lnTo>
                  <a:lnTo>
                    <a:pt x="1172" y="2233"/>
                  </a:lnTo>
                  <a:lnTo>
                    <a:pt x="1177" y="2248"/>
                  </a:lnTo>
                  <a:lnTo>
                    <a:pt x="1179" y="2255"/>
                  </a:lnTo>
                  <a:lnTo>
                    <a:pt x="1216" y="2227"/>
                  </a:lnTo>
                  <a:lnTo>
                    <a:pt x="1219" y="2222"/>
                  </a:lnTo>
                  <a:lnTo>
                    <a:pt x="1226" y="2208"/>
                  </a:lnTo>
                  <a:lnTo>
                    <a:pt x="1232" y="2192"/>
                  </a:lnTo>
                  <a:lnTo>
                    <a:pt x="1236" y="2178"/>
                  </a:lnTo>
                  <a:lnTo>
                    <a:pt x="1236" y="2165"/>
                  </a:lnTo>
                  <a:lnTo>
                    <a:pt x="1234" y="2145"/>
                  </a:lnTo>
                  <a:lnTo>
                    <a:pt x="1236" y="2123"/>
                  </a:lnTo>
                  <a:lnTo>
                    <a:pt x="1241" y="2103"/>
                  </a:lnTo>
                  <a:lnTo>
                    <a:pt x="1241" y="2087"/>
                  </a:lnTo>
                  <a:lnTo>
                    <a:pt x="1236" y="2077"/>
                  </a:lnTo>
                  <a:lnTo>
                    <a:pt x="1234" y="2067"/>
                  </a:lnTo>
                  <a:lnTo>
                    <a:pt x="1241" y="2060"/>
                  </a:lnTo>
                  <a:lnTo>
                    <a:pt x="1246" y="2057"/>
                  </a:lnTo>
                  <a:lnTo>
                    <a:pt x="1251" y="2057"/>
                  </a:lnTo>
                  <a:lnTo>
                    <a:pt x="1256" y="2058"/>
                  </a:lnTo>
                  <a:lnTo>
                    <a:pt x="1261" y="2062"/>
                  </a:lnTo>
                  <a:lnTo>
                    <a:pt x="1259" y="2052"/>
                  </a:lnTo>
                  <a:lnTo>
                    <a:pt x="1257" y="2043"/>
                  </a:lnTo>
                  <a:lnTo>
                    <a:pt x="1256" y="2033"/>
                  </a:lnTo>
                  <a:lnTo>
                    <a:pt x="1257" y="2027"/>
                  </a:lnTo>
                  <a:close/>
                </a:path>
              </a:pathLst>
            </a:custGeom>
            <a:solidFill>
              <a:srgbClr val="ffffff">
                <a:alpha val="10000"/>
              </a:srgbClr>
            </a:solidFill>
            <a:ln cap="sq" w="9360">
              <a:solidFill>
                <a:srgbClr val="ffffff"/>
              </a:solidFill>
              <a:round/>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3086280" y="3706920"/>
              <a:ext cx="4680" cy="4680"/>
            </a:xfrm>
            <a:custGeom>
              <a:avLst/>
              <a:gdLst/>
              <a:ahLst/>
              <a:rect l="l" t="t" r="r" b="b"/>
              <a:pathLst>
                <a:path w="5" h="5">
                  <a:moveTo>
                    <a:pt x="5" y="3"/>
                  </a:moveTo>
                  <a:lnTo>
                    <a:pt x="0" y="0"/>
                  </a:lnTo>
                  <a:lnTo>
                    <a:pt x="2" y="3"/>
                  </a:lnTo>
                  <a:lnTo>
                    <a:pt x="3" y="5"/>
                  </a:lnTo>
                  <a:lnTo>
                    <a:pt x="5" y="3"/>
                  </a:lnTo>
                  <a:lnTo>
                    <a:pt x="5" y="3"/>
                  </a:lnTo>
                  <a:close/>
                </a:path>
              </a:pathLst>
            </a:custGeom>
            <a:solidFill>
              <a:srgbClr val="000000"/>
            </a:solidFill>
            <a:ln w="0">
              <a:noFill/>
            </a:ln>
          </p:spPr>
          <p:style>
            <a:lnRef idx="0"/>
            <a:fillRef idx="0"/>
            <a:effectRef idx="0"/>
            <a:fontRef idx="minor"/>
          </p:style>
          <p:txBody>
            <a:bodyPr wrap="none" lIns="90000" rIns="90000" tIns="-42120" bIns="-421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 name=""/>
            <p:cNvSpPr/>
            <p:nvPr/>
          </p:nvSpPr>
          <p:spPr>
            <a:xfrm>
              <a:off x="4379760" y="4662360"/>
              <a:ext cx="2567160" cy="993960"/>
            </a:xfrm>
            <a:custGeom>
              <a:avLst/>
              <a:gdLst/>
              <a:ahLst/>
              <a:rect l="l" t="t" r="r" b="b"/>
              <a:pathLst>
                <a:path w="1881" h="744">
                  <a:moveTo>
                    <a:pt x="1298" y="222"/>
                  </a:moveTo>
                  <a:lnTo>
                    <a:pt x="1283" y="225"/>
                  </a:lnTo>
                  <a:lnTo>
                    <a:pt x="1263" y="230"/>
                  </a:lnTo>
                  <a:lnTo>
                    <a:pt x="1239" y="235"/>
                  </a:lnTo>
                  <a:lnTo>
                    <a:pt x="1214" y="242"/>
                  </a:lnTo>
                  <a:lnTo>
                    <a:pt x="1186" y="249"/>
                  </a:lnTo>
                  <a:lnTo>
                    <a:pt x="1157" y="255"/>
                  </a:lnTo>
                  <a:lnTo>
                    <a:pt x="1127" y="262"/>
                  </a:lnTo>
                  <a:lnTo>
                    <a:pt x="1097" y="269"/>
                  </a:lnTo>
                  <a:lnTo>
                    <a:pt x="1067" y="275"/>
                  </a:lnTo>
                  <a:lnTo>
                    <a:pt x="1039" y="284"/>
                  </a:lnTo>
                  <a:lnTo>
                    <a:pt x="1012" y="290"/>
                  </a:lnTo>
                  <a:lnTo>
                    <a:pt x="989" y="297"/>
                  </a:lnTo>
                  <a:lnTo>
                    <a:pt x="967" y="302"/>
                  </a:lnTo>
                  <a:lnTo>
                    <a:pt x="949" y="309"/>
                  </a:lnTo>
                  <a:lnTo>
                    <a:pt x="936" y="314"/>
                  </a:lnTo>
                  <a:lnTo>
                    <a:pt x="927" y="317"/>
                  </a:lnTo>
                  <a:lnTo>
                    <a:pt x="914" y="324"/>
                  </a:lnTo>
                  <a:lnTo>
                    <a:pt x="901" y="329"/>
                  </a:lnTo>
                  <a:lnTo>
                    <a:pt x="887" y="337"/>
                  </a:lnTo>
                  <a:lnTo>
                    <a:pt x="872" y="344"/>
                  </a:lnTo>
                  <a:lnTo>
                    <a:pt x="857" y="355"/>
                  </a:lnTo>
                  <a:lnTo>
                    <a:pt x="842" y="369"/>
                  </a:lnTo>
                  <a:lnTo>
                    <a:pt x="826" y="389"/>
                  </a:lnTo>
                  <a:lnTo>
                    <a:pt x="807" y="412"/>
                  </a:lnTo>
                  <a:lnTo>
                    <a:pt x="791" y="437"/>
                  </a:lnTo>
                  <a:lnTo>
                    <a:pt x="776" y="460"/>
                  </a:lnTo>
                  <a:lnTo>
                    <a:pt x="761" y="482"/>
                  </a:lnTo>
                  <a:lnTo>
                    <a:pt x="747" y="502"/>
                  </a:lnTo>
                  <a:lnTo>
                    <a:pt x="737" y="519"/>
                  </a:lnTo>
                  <a:lnTo>
                    <a:pt x="727" y="532"/>
                  </a:lnTo>
                  <a:lnTo>
                    <a:pt x="719" y="542"/>
                  </a:lnTo>
                  <a:lnTo>
                    <a:pt x="712" y="549"/>
                  </a:lnTo>
                  <a:lnTo>
                    <a:pt x="706" y="554"/>
                  </a:lnTo>
                  <a:lnTo>
                    <a:pt x="699" y="559"/>
                  </a:lnTo>
                  <a:lnTo>
                    <a:pt x="689" y="564"/>
                  </a:lnTo>
                  <a:lnTo>
                    <a:pt x="679" y="565"/>
                  </a:lnTo>
                  <a:lnTo>
                    <a:pt x="667" y="567"/>
                  </a:lnTo>
                  <a:lnTo>
                    <a:pt x="657" y="567"/>
                  </a:lnTo>
                  <a:lnTo>
                    <a:pt x="647" y="564"/>
                  </a:lnTo>
                  <a:lnTo>
                    <a:pt x="637" y="559"/>
                  </a:lnTo>
                  <a:lnTo>
                    <a:pt x="629" y="552"/>
                  </a:lnTo>
                  <a:lnTo>
                    <a:pt x="622" y="544"/>
                  </a:lnTo>
                  <a:lnTo>
                    <a:pt x="615" y="535"/>
                  </a:lnTo>
                  <a:lnTo>
                    <a:pt x="609" y="529"/>
                  </a:lnTo>
                  <a:lnTo>
                    <a:pt x="602" y="524"/>
                  </a:lnTo>
                  <a:lnTo>
                    <a:pt x="595" y="520"/>
                  </a:lnTo>
                  <a:lnTo>
                    <a:pt x="589" y="519"/>
                  </a:lnTo>
                  <a:lnTo>
                    <a:pt x="580" y="520"/>
                  </a:lnTo>
                  <a:lnTo>
                    <a:pt x="569" y="524"/>
                  </a:lnTo>
                  <a:lnTo>
                    <a:pt x="554" y="525"/>
                  </a:lnTo>
                  <a:lnTo>
                    <a:pt x="537" y="525"/>
                  </a:lnTo>
                  <a:lnTo>
                    <a:pt x="519" y="525"/>
                  </a:lnTo>
                  <a:lnTo>
                    <a:pt x="499" y="525"/>
                  </a:lnTo>
                  <a:lnTo>
                    <a:pt x="480" y="524"/>
                  </a:lnTo>
                  <a:lnTo>
                    <a:pt x="462" y="522"/>
                  </a:lnTo>
                  <a:lnTo>
                    <a:pt x="447" y="520"/>
                  </a:lnTo>
                  <a:lnTo>
                    <a:pt x="432" y="519"/>
                  </a:lnTo>
                  <a:lnTo>
                    <a:pt x="417" y="515"/>
                  </a:lnTo>
                  <a:lnTo>
                    <a:pt x="404" y="510"/>
                  </a:lnTo>
                  <a:lnTo>
                    <a:pt x="389" y="507"/>
                  </a:lnTo>
                  <a:lnTo>
                    <a:pt x="375" y="504"/>
                  </a:lnTo>
                  <a:lnTo>
                    <a:pt x="364" y="500"/>
                  </a:lnTo>
                  <a:lnTo>
                    <a:pt x="352" y="497"/>
                  </a:lnTo>
                  <a:lnTo>
                    <a:pt x="342" y="497"/>
                  </a:lnTo>
                  <a:lnTo>
                    <a:pt x="329" y="497"/>
                  </a:lnTo>
                  <a:lnTo>
                    <a:pt x="307" y="497"/>
                  </a:lnTo>
                  <a:lnTo>
                    <a:pt x="280" y="499"/>
                  </a:lnTo>
                  <a:lnTo>
                    <a:pt x="250" y="499"/>
                  </a:lnTo>
                  <a:lnTo>
                    <a:pt x="224" y="500"/>
                  </a:lnTo>
                  <a:lnTo>
                    <a:pt x="200" y="502"/>
                  </a:lnTo>
                  <a:lnTo>
                    <a:pt x="184" y="502"/>
                  </a:lnTo>
                  <a:lnTo>
                    <a:pt x="177" y="502"/>
                  </a:lnTo>
                  <a:lnTo>
                    <a:pt x="175" y="504"/>
                  </a:lnTo>
                  <a:lnTo>
                    <a:pt x="170" y="505"/>
                  </a:lnTo>
                  <a:lnTo>
                    <a:pt x="164" y="509"/>
                  </a:lnTo>
                  <a:lnTo>
                    <a:pt x="155" y="510"/>
                  </a:lnTo>
                  <a:lnTo>
                    <a:pt x="144" y="512"/>
                  </a:lnTo>
                  <a:lnTo>
                    <a:pt x="132" y="512"/>
                  </a:lnTo>
                  <a:lnTo>
                    <a:pt x="120" y="509"/>
                  </a:lnTo>
                  <a:lnTo>
                    <a:pt x="107" y="502"/>
                  </a:lnTo>
                  <a:lnTo>
                    <a:pt x="95" y="494"/>
                  </a:lnTo>
                  <a:lnTo>
                    <a:pt x="87" y="485"/>
                  </a:lnTo>
                  <a:lnTo>
                    <a:pt x="80" y="479"/>
                  </a:lnTo>
                  <a:lnTo>
                    <a:pt x="75" y="475"/>
                  </a:lnTo>
                  <a:lnTo>
                    <a:pt x="70" y="472"/>
                  </a:lnTo>
                  <a:lnTo>
                    <a:pt x="65" y="470"/>
                  </a:lnTo>
                  <a:lnTo>
                    <a:pt x="60" y="470"/>
                  </a:lnTo>
                  <a:lnTo>
                    <a:pt x="53" y="474"/>
                  </a:lnTo>
                  <a:lnTo>
                    <a:pt x="47" y="480"/>
                  </a:lnTo>
                  <a:lnTo>
                    <a:pt x="50" y="489"/>
                  </a:lnTo>
                  <a:lnTo>
                    <a:pt x="55" y="500"/>
                  </a:lnTo>
                  <a:lnTo>
                    <a:pt x="53" y="515"/>
                  </a:lnTo>
                  <a:lnTo>
                    <a:pt x="50" y="535"/>
                  </a:lnTo>
                  <a:lnTo>
                    <a:pt x="48" y="557"/>
                  </a:lnTo>
                  <a:lnTo>
                    <a:pt x="50" y="577"/>
                  </a:lnTo>
                  <a:lnTo>
                    <a:pt x="50" y="592"/>
                  </a:lnTo>
                  <a:lnTo>
                    <a:pt x="47" y="606"/>
                  </a:lnTo>
                  <a:lnTo>
                    <a:pt x="40" y="621"/>
                  </a:lnTo>
                  <a:lnTo>
                    <a:pt x="33" y="634"/>
                  </a:lnTo>
                  <a:lnTo>
                    <a:pt x="30" y="639"/>
                  </a:lnTo>
                  <a:lnTo>
                    <a:pt x="0" y="662"/>
                  </a:lnTo>
                  <a:lnTo>
                    <a:pt x="3" y="666"/>
                  </a:lnTo>
                  <a:lnTo>
                    <a:pt x="8" y="669"/>
                  </a:lnTo>
                  <a:lnTo>
                    <a:pt x="13" y="674"/>
                  </a:lnTo>
                  <a:lnTo>
                    <a:pt x="18" y="677"/>
                  </a:lnTo>
                  <a:lnTo>
                    <a:pt x="32" y="684"/>
                  </a:lnTo>
                  <a:lnTo>
                    <a:pt x="43" y="687"/>
                  </a:lnTo>
                  <a:lnTo>
                    <a:pt x="55" y="687"/>
                  </a:lnTo>
                  <a:lnTo>
                    <a:pt x="67" y="686"/>
                  </a:lnTo>
                  <a:lnTo>
                    <a:pt x="77" y="684"/>
                  </a:lnTo>
                  <a:lnTo>
                    <a:pt x="83" y="681"/>
                  </a:lnTo>
                  <a:lnTo>
                    <a:pt x="88" y="679"/>
                  </a:lnTo>
                  <a:lnTo>
                    <a:pt x="90" y="677"/>
                  </a:lnTo>
                  <a:lnTo>
                    <a:pt x="97" y="677"/>
                  </a:lnTo>
                  <a:lnTo>
                    <a:pt x="114" y="677"/>
                  </a:lnTo>
                  <a:lnTo>
                    <a:pt x="137" y="676"/>
                  </a:lnTo>
                  <a:lnTo>
                    <a:pt x="164" y="674"/>
                  </a:lnTo>
                  <a:lnTo>
                    <a:pt x="194" y="674"/>
                  </a:lnTo>
                  <a:lnTo>
                    <a:pt x="220" y="672"/>
                  </a:lnTo>
                  <a:lnTo>
                    <a:pt x="242" y="672"/>
                  </a:lnTo>
                  <a:lnTo>
                    <a:pt x="255" y="672"/>
                  </a:lnTo>
                  <a:lnTo>
                    <a:pt x="265" y="674"/>
                  </a:lnTo>
                  <a:lnTo>
                    <a:pt x="275" y="676"/>
                  </a:lnTo>
                  <a:lnTo>
                    <a:pt x="289" y="679"/>
                  </a:lnTo>
                  <a:lnTo>
                    <a:pt x="302" y="682"/>
                  </a:lnTo>
                  <a:lnTo>
                    <a:pt x="315" y="687"/>
                  </a:lnTo>
                  <a:lnTo>
                    <a:pt x="330" y="691"/>
                  </a:lnTo>
                  <a:lnTo>
                    <a:pt x="344" y="694"/>
                  </a:lnTo>
                  <a:lnTo>
                    <a:pt x="359" y="697"/>
                  </a:lnTo>
                  <a:lnTo>
                    <a:pt x="374" y="699"/>
                  </a:lnTo>
                  <a:lnTo>
                    <a:pt x="392" y="701"/>
                  </a:lnTo>
                  <a:lnTo>
                    <a:pt x="412" y="701"/>
                  </a:lnTo>
                  <a:lnTo>
                    <a:pt x="430" y="702"/>
                  </a:lnTo>
                  <a:lnTo>
                    <a:pt x="450" y="702"/>
                  </a:lnTo>
                  <a:lnTo>
                    <a:pt x="467" y="701"/>
                  </a:lnTo>
                  <a:lnTo>
                    <a:pt x="480" y="701"/>
                  </a:lnTo>
                  <a:lnTo>
                    <a:pt x="492" y="697"/>
                  </a:lnTo>
                  <a:lnTo>
                    <a:pt x="500" y="696"/>
                  </a:lnTo>
                  <a:lnTo>
                    <a:pt x="507" y="696"/>
                  </a:lnTo>
                  <a:lnTo>
                    <a:pt x="514" y="699"/>
                  </a:lnTo>
                  <a:lnTo>
                    <a:pt x="520" y="706"/>
                  </a:lnTo>
                  <a:lnTo>
                    <a:pt x="527" y="712"/>
                  </a:lnTo>
                  <a:lnTo>
                    <a:pt x="534" y="719"/>
                  </a:lnTo>
                  <a:lnTo>
                    <a:pt x="540" y="727"/>
                  </a:lnTo>
                  <a:lnTo>
                    <a:pt x="549" y="734"/>
                  </a:lnTo>
                  <a:lnTo>
                    <a:pt x="559" y="741"/>
                  </a:lnTo>
                  <a:lnTo>
                    <a:pt x="569" y="742"/>
                  </a:lnTo>
                  <a:lnTo>
                    <a:pt x="579" y="744"/>
                  </a:lnTo>
                  <a:lnTo>
                    <a:pt x="590" y="742"/>
                  </a:lnTo>
                  <a:lnTo>
                    <a:pt x="600" y="739"/>
                  </a:lnTo>
                  <a:lnTo>
                    <a:pt x="610" y="736"/>
                  </a:lnTo>
                  <a:lnTo>
                    <a:pt x="619" y="731"/>
                  </a:lnTo>
                  <a:lnTo>
                    <a:pt x="625" y="726"/>
                  </a:lnTo>
                  <a:lnTo>
                    <a:pt x="632" y="719"/>
                  </a:lnTo>
                  <a:lnTo>
                    <a:pt x="639" y="707"/>
                  </a:lnTo>
                  <a:lnTo>
                    <a:pt x="649" y="694"/>
                  </a:lnTo>
                  <a:lnTo>
                    <a:pt x="661" y="677"/>
                  </a:lnTo>
                  <a:lnTo>
                    <a:pt x="672" y="659"/>
                  </a:lnTo>
                  <a:lnTo>
                    <a:pt x="687" y="637"/>
                  </a:lnTo>
                  <a:lnTo>
                    <a:pt x="704" y="614"/>
                  </a:lnTo>
                  <a:lnTo>
                    <a:pt x="721" y="587"/>
                  </a:lnTo>
                  <a:lnTo>
                    <a:pt x="737" y="564"/>
                  </a:lnTo>
                  <a:lnTo>
                    <a:pt x="754" y="544"/>
                  </a:lnTo>
                  <a:lnTo>
                    <a:pt x="769" y="530"/>
                  </a:lnTo>
                  <a:lnTo>
                    <a:pt x="786" y="519"/>
                  </a:lnTo>
                  <a:lnTo>
                    <a:pt x="799" y="512"/>
                  </a:lnTo>
                  <a:lnTo>
                    <a:pt x="812" y="504"/>
                  </a:lnTo>
                  <a:lnTo>
                    <a:pt x="826" y="499"/>
                  </a:lnTo>
                  <a:lnTo>
                    <a:pt x="839" y="492"/>
                  </a:lnTo>
                  <a:lnTo>
                    <a:pt x="847" y="489"/>
                  </a:lnTo>
                  <a:lnTo>
                    <a:pt x="862" y="484"/>
                  </a:lnTo>
                  <a:lnTo>
                    <a:pt x="879" y="479"/>
                  </a:lnTo>
                  <a:lnTo>
                    <a:pt x="901" y="472"/>
                  </a:lnTo>
                  <a:lnTo>
                    <a:pt x="926" y="465"/>
                  </a:lnTo>
                  <a:lnTo>
                    <a:pt x="952" y="459"/>
                  </a:lnTo>
                  <a:lnTo>
                    <a:pt x="981" y="452"/>
                  </a:lnTo>
                  <a:lnTo>
                    <a:pt x="1009" y="444"/>
                  </a:lnTo>
                  <a:lnTo>
                    <a:pt x="1039" y="437"/>
                  </a:lnTo>
                  <a:lnTo>
                    <a:pt x="1069" y="430"/>
                  </a:lnTo>
                  <a:lnTo>
                    <a:pt x="1097" y="424"/>
                  </a:lnTo>
                  <a:lnTo>
                    <a:pt x="1126" y="417"/>
                  </a:lnTo>
                  <a:lnTo>
                    <a:pt x="1151" y="410"/>
                  </a:lnTo>
                  <a:lnTo>
                    <a:pt x="1174" y="405"/>
                  </a:lnTo>
                  <a:lnTo>
                    <a:pt x="1194" y="400"/>
                  </a:lnTo>
                  <a:lnTo>
                    <a:pt x="1209" y="397"/>
                  </a:lnTo>
                  <a:lnTo>
                    <a:pt x="1236" y="390"/>
                  </a:lnTo>
                  <a:lnTo>
                    <a:pt x="1263" y="385"/>
                  </a:lnTo>
                  <a:lnTo>
                    <a:pt x="1289" y="382"/>
                  </a:lnTo>
                  <a:lnTo>
                    <a:pt x="1313" y="379"/>
                  </a:lnTo>
                  <a:lnTo>
                    <a:pt x="1336" y="375"/>
                  </a:lnTo>
                  <a:lnTo>
                    <a:pt x="1354" y="370"/>
                  </a:lnTo>
                  <a:lnTo>
                    <a:pt x="1371" y="365"/>
                  </a:lnTo>
                  <a:lnTo>
                    <a:pt x="1384" y="359"/>
                  </a:lnTo>
                  <a:lnTo>
                    <a:pt x="1394" y="354"/>
                  </a:lnTo>
                  <a:lnTo>
                    <a:pt x="1411" y="345"/>
                  </a:lnTo>
                  <a:lnTo>
                    <a:pt x="1434" y="334"/>
                  </a:lnTo>
                  <a:lnTo>
                    <a:pt x="1463" y="320"/>
                  </a:lnTo>
                  <a:lnTo>
                    <a:pt x="1496" y="307"/>
                  </a:lnTo>
                  <a:lnTo>
                    <a:pt x="1533" y="290"/>
                  </a:lnTo>
                  <a:lnTo>
                    <a:pt x="1571" y="274"/>
                  </a:lnTo>
                  <a:lnTo>
                    <a:pt x="1611" y="255"/>
                  </a:lnTo>
                  <a:lnTo>
                    <a:pt x="1649" y="239"/>
                  </a:lnTo>
                  <a:lnTo>
                    <a:pt x="1688" y="222"/>
                  </a:lnTo>
                  <a:lnTo>
                    <a:pt x="1723" y="207"/>
                  </a:lnTo>
                  <a:lnTo>
                    <a:pt x="1756" y="192"/>
                  </a:lnTo>
                  <a:lnTo>
                    <a:pt x="1783" y="180"/>
                  </a:lnTo>
                  <a:lnTo>
                    <a:pt x="1805" y="170"/>
                  </a:lnTo>
                  <a:lnTo>
                    <a:pt x="1820" y="164"/>
                  </a:lnTo>
                  <a:lnTo>
                    <a:pt x="1826" y="160"/>
                  </a:lnTo>
                  <a:lnTo>
                    <a:pt x="1836" y="152"/>
                  </a:lnTo>
                  <a:lnTo>
                    <a:pt x="1841" y="142"/>
                  </a:lnTo>
                  <a:lnTo>
                    <a:pt x="1845" y="130"/>
                  </a:lnTo>
                  <a:lnTo>
                    <a:pt x="1846" y="117"/>
                  </a:lnTo>
                  <a:lnTo>
                    <a:pt x="1848" y="100"/>
                  </a:lnTo>
                  <a:lnTo>
                    <a:pt x="1851" y="78"/>
                  </a:lnTo>
                  <a:lnTo>
                    <a:pt x="1858" y="57"/>
                  </a:lnTo>
                  <a:lnTo>
                    <a:pt x="1865" y="37"/>
                  </a:lnTo>
                  <a:lnTo>
                    <a:pt x="1868" y="27"/>
                  </a:lnTo>
                  <a:lnTo>
                    <a:pt x="1873" y="18"/>
                  </a:lnTo>
                  <a:lnTo>
                    <a:pt x="1876" y="8"/>
                  </a:lnTo>
                  <a:lnTo>
                    <a:pt x="1881" y="0"/>
                  </a:lnTo>
                  <a:lnTo>
                    <a:pt x="1861" y="10"/>
                  </a:lnTo>
                  <a:lnTo>
                    <a:pt x="1836" y="20"/>
                  </a:lnTo>
                  <a:lnTo>
                    <a:pt x="1808" y="32"/>
                  </a:lnTo>
                  <a:lnTo>
                    <a:pt x="1778" y="45"/>
                  </a:lnTo>
                  <a:lnTo>
                    <a:pt x="1746" y="58"/>
                  </a:lnTo>
                  <a:lnTo>
                    <a:pt x="1714" y="73"/>
                  </a:lnTo>
                  <a:lnTo>
                    <a:pt x="1681" y="88"/>
                  </a:lnTo>
                  <a:lnTo>
                    <a:pt x="1648" y="102"/>
                  </a:lnTo>
                  <a:lnTo>
                    <a:pt x="1616" y="117"/>
                  </a:lnTo>
                  <a:lnTo>
                    <a:pt x="1586" y="130"/>
                  </a:lnTo>
                  <a:lnTo>
                    <a:pt x="1558" y="142"/>
                  </a:lnTo>
                  <a:lnTo>
                    <a:pt x="1533" y="154"/>
                  </a:lnTo>
                  <a:lnTo>
                    <a:pt x="1511" y="164"/>
                  </a:lnTo>
                  <a:lnTo>
                    <a:pt x="1493" y="174"/>
                  </a:lnTo>
                  <a:lnTo>
                    <a:pt x="1479" y="179"/>
                  </a:lnTo>
                  <a:lnTo>
                    <a:pt x="1473" y="184"/>
                  </a:lnTo>
                  <a:lnTo>
                    <a:pt x="1459" y="190"/>
                  </a:lnTo>
                  <a:lnTo>
                    <a:pt x="1443" y="195"/>
                  </a:lnTo>
                  <a:lnTo>
                    <a:pt x="1423" y="199"/>
                  </a:lnTo>
                  <a:lnTo>
                    <a:pt x="1401" y="202"/>
                  </a:lnTo>
                  <a:lnTo>
                    <a:pt x="1376" y="205"/>
                  </a:lnTo>
                  <a:lnTo>
                    <a:pt x="1351" y="210"/>
                  </a:lnTo>
                  <a:lnTo>
                    <a:pt x="1324" y="215"/>
                  </a:lnTo>
                  <a:lnTo>
                    <a:pt x="1298" y="222"/>
                  </a:lnTo>
                  <a:close/>
                </a:path>
              </a:pathLst>
            </a:custGeom>
            <a:solidFill>
              <a:srgbClr val="ffffff">
                <a:alpha val="20000"/>
              </a:srgbClr>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6" name=""/>
            <p:cNvSpPr/>
            <p:nvPr/>
          </p:nvSpPr>
          <p:spPr>
            <a:xfrm>
              <a:off x="2813040" y="1803240"/>
              <a:ext cx="4348080" cy="3579840"/>
            </a:xfrm>
            <a:custGeom>
              <a:avLst/>
              <a:gdLst/>
              <a:ahLst/>
              <a:rect l="l" t="t" r="r" b="b"/>
              <a:pathLst>
                <a:path w="3185" h="2678">
                  <a:moveTo>
                    <a:pt x="380" y="90"/>
                  </a:moveTo>
                  <a:lnTo>
                    <a:pt x="683" y="28"/>
                  </a:lnTo>
                  <a:lnTo>
                    <a:pt x="693" y="0"/>
                  </a:lnTo>
                  <a:lnTo>
                    <a:pt x="695" y="0"/>
                  </a:lnTo>
                  <a:lnTo>
                    <a:pt x="698" y="0"/>
                  </a:lnTo>
                  <a:lnTo>
                    <a:pt x="704" y="0"/>
                  </a:lnTo>
                  <a:lnTo>
                    <a:pt x="712" y="0"/>
                  </a:lnTo>
                  <a:lnTo>
                    <a:pt x="720" y="0"/>
                  </a:lnTo>
                  <a:lnTo>
                    <a:pt x="734" y="2"/>
                  </a:lnTo>
                  <a:lnTo>
                    <a:pt x="747" y="5"/>
                  </a:lnTo>
                  <a:lnTo>
                    <a:pt x="764" y="10"/>
                  </a:lnTo>
                  <a:lnTo>
                    <a:pt x="782" y="15"/>
                  </a:lnTo>
                  <a:lnTo>
                    <a:pt x="799" y="20"/>
                  </a:lnTo>
                  <a:lnTo>
                    <a:pt x="817" y="23"/>
                  </a:lnTo>
                  <a:lnTo>
                    <a:pt x="832" y="28"/>
                  </a:lnTo>
                  <a:lnTo>
                    <a:pt x="847" y="32"/>
                  </a:lnTo>
                  <a:lnTo>
                    <a:pt x="862" y="35"/>
                  </a:lnTo>
                  <a:lnTo>
                    <a:pt x="874" y="40"/>
                  </a:lnTo>
                  <a:lnTo>
                    <a:pt x="884" y="43"/>
                  </a:lnTo>
                  <a:lnTo>
                    <a:pt x="894" y="48"/>
                  </a:lnTo>
                  <a:lnTo>
                    <a:pt x="907" y="57"/>
                  </a:lnTo>
                  <a:lnTo>
                    <a:pt x="924" y="68"/>
                  </a:lnTo>
                  <a:lnTo>
                    <a:pt x="942" y="82"/>
                  </a:lnTo>
                  <a:lnTo>
                    <a:pt x="962" y="97"/>
                  </a:lnTo>
                  <a:lnTo>
                    <a:pt x="985" y="112"/>
                  </a:lnTo>
                  <a:lnTo>
                    <a:pt x="1009" y="127"/>
                  </a:lnTo>
                  <a:lnTo>
                    <a:pt x="1035" y="142"/>
                  </a:lnTo>
                  <a:lnTo>
                    <a:pt x="1060" y="155"/>
                  </a:lnTo>
                  <a:lnTo>
                    <a:pt x="1080" y="168"/>
                  </a:lnTo>
                  <a:lnTo>
                    <a:pt x="1099" y="180"/>
                  </a:lnTo>
                  <a:lnTo>
                    <a:pt x="1114" y="190"/>
                  </a:lnTo>
                  <a:lnTo>
                    <a:pt x="1124" y="197"/>
                  </a:lnTo>
                  <a:lnTo>
                    <a:pt x="1132" y="203"/>
                  </a:lnTo>
                  <a:lnTo>
                    <a:pt x="1137" y="207"/>
                  </a:lnTo>
                  <a:lnTo>
                    <a:pt x="1139" y="208"/>
                  </a:lnTo>
                  <a:lnTo>
                    <a:pt x="1142" y="210"/>
                  </a:lnTo>
                  <a:lnTo>
                    <a:pt x="1150" y="215"/>
                  </a:lnTo>
                  <a:lnTo>
                    <a:pt x="1162" y="223"/>
                  </a:lnTo>
                  <a:lnTo>
                    <a:pt x="1177" y="233"/>
                  </a:lnTo>
                  <a:lnTo>
                    <a:pt x="1192" y="243"/>
                  </a:lnTo>
                  <a:lnTo>
                    <a:pt x="1205" y="255"/>
                  </a:lnTo>
                  <a:lnTo>
                    <a:pt x="1217" y="265"/>
                  </a:lnTo>
                  <a:lnTo>
                    <a:pt x="1225" y="275"/>
                  </a:lnTo>
                  <a:lnTo>
                    <a:pt x="1234" y="285"/>
                  </a:lnTo>
                  <a:lnTo>
                    <a:pt x="1245" y="297"/>
                  </a:lnTo>
                  <a:lnTo>
                    <a:pt x="1259" y="310"/>
                  </a:lnTo>
                  <a:lnTo>
                    <a:pt x="1276" y="325"/>
                  </a:lnTo>
                  <a:lnTo>
                    <a:pt x="1292" y="340"/>
                  </a:lnTo>
                  <a:lnTo>
                    <a:pt x="1309" y="354"/>
                  </a:lnTo>
                  <a:lnTo>
                    <a:pt x="1324" y="365"/>
                  </a:lnTo>
                  <a:lnTo>
                    <a:pt x="1334" y="375"/>
                  </a:lnTo>
                  <a:lnTo>
                    <a:pt x="1346" y="385"/>
                  </a:lnTo>
                  <a:lnTo>
                    <a:pt x="1362" y="397"/>
                  </a:lnTo>
                  <a:lnTo>
                    <a:pt x="1381" y="410"/>
                  </a:lnTo>
                  <a:lnTo>
                    <a:pt x="1401" y="424"/>
                  </a:lnTo>
                  <a:lnTo>
                    <a:pt x="1421" y="437"/>
                  </a:lnTo>
                  <a:lnTo>
                    <a:pt x="1436" y="445"/>
                  </a:lnTo>
                  <a:lnTo>
                    <a:pt x="1447" y="454"/>
                  </a:lnTo>
                  <a:lnTo>
                    <a:pt x="1451" y="455"/>
                  </a:lnTo>
                  <a:lnTo>
                    <a:pt x="1489" y="509"/>
                  </a:lnTo>
                  <a:lnTo>
                    <a:pt x="1497" y="509"/>
                  </a:lnTo>
                  <a:lnTo>
                    <a:pt x="1517" y="509"/>
                  </a:lnTo>
                  <a:lnTo>
                    <a:pt x="1546" y="509"/>
                  </a:lnTo>
                  <a:lnTo>
                    <a:pt x="1581" y="509"/>
                  </a:lnTo>
                  <a:lnTo>
                    <a:pt x="1617" y="510"/>
                  </a:lnTo>
                  <a:lnTo>
                    <a:pt x="1651" y="514"/>
                  </a:lnTo>
                  <a:lnTo>
                    <a:pt x="1677" y="520"/>
                  </a:lnTo>
                  <a:lnTo>
                    <a:pt x="1694" y="527"/>
                  </a:lnTo>
                  <a:lnTo>
                    <a:pt x="1696" y="527"/>
                  </a:lnTo>
                  <a:lnTo>
                    <a:pt x="1702" y="525"/>
                  </a:lnTo>
                  <a:lnTo>
                    <a:pt x="1712" y="522"/>
                  </a:lnTo>
                  <a:lnTo>
                    <a:pt x="1722" y="520"/>
                  </a:lnTo>
                  <a:lnTo>
                    <a:pt x="1736" y="519"/>
                  </a:lnTo>
                  <a:lnTo>
                    <a:pt x="1747" y="515"/>
                  </a:lnTo>
                  <a:lnTo>
                    <a:pt x="1759" y="514"/>
                  </a:lnTo>
                  <a:lnTo>
                    <a:pt x="1769" y="514"/>
                  </a:lnTo>
                  <a:lnTo>
                    <a:pt x="1782" y="515"/>
                  </a:lnTo>
                  <a:lnTo>
                    <a:pt x="1801" y="519"/>
                  </a:lnTo>
                  <a:lnTo>
                    <a:pt x="1823" y="522"/>
                  </a:lnTo>
                  <a:lnTo>
                    <a:pt x="1848" y="527"/>
                  </a:lnTo>
                  <a:lnTo>
                    <a:pt x="1869" y="534"/>
                  </a:lnTo>
                  <a:lnTo>
                    <a:pt x="1889" y="537"/>
                  </a:lnTo>
                  <a:lnTo>
                    <a:pt x="1903" y="540"/>
                  </a:lnTo>
                  <a:lnTo>
                    <a:pt x="1908" y="542"/>
                  </a:lnTo>
                  <a:lnTo>
                    <a:pt x="1926" y="604"/>
                  </a:lnTo>
                  <a:lnTo>
                    <a:pt x="2044" y="604"/>
                  </a:lnTo>
                  <a:lnTo>
                    <a:pt x="2064" y="689"/>
                  </a:lnTo>
                  <a:lnTo>
                    <a:pt x="2071" y="692"/>
                  </a:lnTo>
                  <a:lnTo>
                    <a:pt x="2083" y="704"/>
                  </a:lnTo>
                  <a:lnTo>
                    <a:pt x="2093" y="722"/>
                  </a:lnTo>
                  <a:lnTo>
                    <a:pt x="2093" y="746"/>
                  </a:lnTo>
                  <a:lnTo>
                    <a:pt x="2116" y="784"/>
                  </a:lnTo>
                  <a:lnTo>
                    <a:pt x="2154" y="769"/>
                  </a:lnTo>
                  <a:lnTo>
                    <a:pt x="2158" y="774"/>
                  </a:lnTo>
                  <a:lnTo>
                    <a:pt x="2164" y="786"/>
                  </a:lnTo>
                  <a:lnTo>
                    <a:pt x="2169" y="801"/>
                  </a:lnTo>
                  <a:lnTo>
                    <a:pt x="2173" y="812"/>
                  </a:lnTo>
                  <a:lnTo>
                    <a:pt x="2176" y="824"/>
                  </a:lnTo>
                  <a:lnTo>
                    <a:pt x="2183" y="834"/>
                  </a:lnTo>
                  <a:lnTo>
                    <a:pt x="2189" y="842"/>
                  </a:lnTo>
                  <a:lnTo>
                    <a:pt x="2193" y="846"/>
                  </a:lnTo>
                  <a:lnTo>
                    <a:pt x="2201" y="822"/>
                  </a:lnTo>
                  <a:lnTo>
                    <a:pt x="2226" y="869"/>
                  </a:lnTo>
                  <a:lnTo>
                    <a:pt x="2228" y="869"/>
                  </a:lnTo>
                  <a:lnTo>
                    <a:pt x="2234" y="871"/>
                  </a:lnTo>
                  <a:lnTo>
                    <a:pt x="2244" y="874"/>
                  </a:lnTo>
                  <a:lnTo>
                    <a:pt x="2254" y="877"/>
                  </a:lnTo>
                  <a:lnTo>
                    <a:pt x="2266" y="882"/>
                  </a:lnTo>
                  <a:lnTo>
                    <a:pt x="2276" y="887"/>
                  </a:lnTo>
                  <a:lnTo>
                    <a:pt x="2284" y="894"/>
                  </a:lnTo>
                  <a:lnTo>
                    <a:pt x="2288" y="902"/>
                  </a:lnTo>
                  <a:lnTo>
                    <a:pt x="2289" y="921"/>
                  </a:lnTo>
                  <a:lnTo>
                    <a:pt x="2293" y="937"/>
                  </a:lnTo>
                  <a:lnTo>
                    <a:pt x="2296" y="952"/>
                  </a:lnTo>
                  <a:lnTo>
                    <a:pt x="2306" y="964"/>
                  </a:lnTo>
                  <a:lnTo>
                    <a:pt x="2316" y="979"/>
                  </a:lnTo>
                  <a:lnTo>
                    <a:pt x="2321" y="996"/>
                  </a:lnTo>
                  <a:lnTo>
                    <a:pt x="2318" y="1011"/>
                  </a:lnTo>
                  <a:lnTo>
                    <a:pt x="2311" y="1017"/>
                  </a:lnTo>
                  <a:lnTo>
                    <a:pt x="2303" y="1019"/>
                  </a:lnTo>
                  <a:lnTo>
                    <a:pt x="2299" y="1024"/>
                  </a:lnTo>
                  <a:lnTo>
                    <a:pt x="2301" y="1032"/>
                  </a:lnTo>
                  <a:lnTo>
                    <a:pt x="2306" y="1046"/>
                  </a:lnTo>
                  <a:lnTo>
                    <a:pt x="2313" y="1061"/>
                  </a:lnTo>
                  <a:lnTo>
                    <a:pt x="2319" y="1076"/>
                  </a:lnTo>
                  <a:lnTo>
                    <a:pt x="2324" y="1092"/>
                  </a:lnTo>
                  <a:lnTo>
                    <a:pt x="2329" y="1107"/>
                  </a:lnTo>
                  <a:lnTo>
                    <a:pt x="2336" y="1117"/>
                  </a:lnTo>
                  <a:lnTo>
                    <a:pt x="2344" y="1121"/>
                  </a:lnTo>
                  <a:lnTo>
                    <a:pt x="2351" y="1121"/>
                  </a:lnTo>
                  <a:lnTo>
                    <a:pt x="2354" y="1121"/>
                  </a:lnTo>
                  <a:lnTo>
                    <a:pt x="2356" y="1129"/>
                  </a:lnTo>
                  <a:lnTo>
                    <a:pt x="2365" y="1149"/>
                  </a:lnTo>
                  <a:lnTo>
                    <a:pt x="2375" y="1174"/>
                  </a:lnTo>
                  <a:lnTo>
                    <a:pt x="2388" y="1192"/>
                  </a:lnTo>
                  <a:lnTo>
                    <a:pt x="2395" y="1201"/>
                  </a:lnTo>
                  <a:lnTo>
                    <a:pt x="2400" y="1209"/>
                  </a:lnTo>
                  <a:lnTo>
                    <a:pt x="2405" y="1217"/>
                  </a:lnTo>
                  <a:lnTo>
                    <a:pt x="2411" y="1227"/>
                  </a:lnTo>
                  <a:lnTo>
                    <a:pt x="2416" y="1236"/>
                  </a:lnTo>
                  <a:lnTo>
                    <a:pt x="2425" y="1244"/>
                  </a:lnTo>
                  <a:lnTo>
                    <a:pt x="2433" y="1253"/>
                  </a:lnTo>
                  <a:lnTo>
                    <a:pt x="2445" y="1259"/>
                  </a:lnTo>
                  <a:lnTo>
                    <a:pt x="2456" y="1263"/>
                  </a:lnTo>
                  <a:lnTo>
                    <a:pt x="2468" y="1263"/>
                  </a:lnTo>
                  <a:lnTo>
                    <a:pt x="2478" y="1263"/>
                  </a:lnTo>
                  <a:lnTo>
                    <a:pt x="2486" y="1259"/>
                  </a:lnTo>
                  <a:lnTo>
                    <a:pt x="2493" y="1256"/>
                  </a:lnTo>
                  <a:lnTo>
                    <a:pt x="2498" y="1253"/>
                  </a:lnTo>
                  <a:lnTo>
                    <a:pt x="2500" y="1251"/>
                  </a:lnTo>
                  <a:lnTo>
                    <a:pt x="2501" y="1249"/>
                  </a:lnTo>
                  <a:lnTo>
                    <a:pt x="2520" y="1259"/>
                  </a:lnTo>
                  <a:lnTo>
                    <a:pt x="2501" y="1293"/>
                  </a:lnTo>
                  <a:lnTo>
                    <a:pt x="2501" y="1294"/>
                  </a:lnTo>
                  <a:lnTo>
                    <a:pt x="2501" y="1299"/>
                  </a:lnTo>
                  <a:lnTo>
                    <a:pt x="2503" y="1304"/>
                  </a:lnTo>
                  <a:lnTo>
                    <a:pt x="2511" y="1306"/>
                  </a:lnTo>
                  <a:lnTo>
                    <a:pt x="2521" y="1314"/>
                  </a:lnTo>
                  <a:lnTo>
                    <a:pt x="2531" y="1329"/>
                  </a:lnTo>
                  <a:lnTo>
                    <a:pt x="2536" y="1346"/>
                  </a:lnTo>
                  <a:lnTo>
                    <a:pt x="2540" y="1354"/>
                  </a:lnTo>
                  <a:lnTo>
                    <a:pt x="2541" y="1356"/>
                  </a:lnTo>
                  <a:lnTo>
                    <a:pt x="2546" y="1361"/>
                  </a:lnTo>
                  <a:lnTo>
                    <a:pt x="2553" y="1368"/>
                  </a:lnTo>
                  <a:lnTo>
                    <a:pt x="2561" y="1378"/>
                  </a:lnTo>
                  <a:lnTo>
                    <a:pt x="2571" y="1388"/>
                  </a:lnTo>
                  <a:lnTo>
                    <a:pt x="2583" y="1401"/>
                  </a:lnTo>
                  <a:lnTo>
                    <a:pt x="2595" y="1414"/>
                  </a:lnTo>
                  <a:lnTo>
                    <a:pt x="2606" y="1428"/>
                  </a:lnTo>
                  <a:lnTo>
                    <a:pt x="2618" y="1443"/>
                  </a:lnTo>
                  <a:lnTo>
                    <a:pt x="2631" y="1458"/>
                  </a:lnTo>
                  <a:lnTo>
                    <a:pt x="2645" y="1473"/>
                  </a:lnTo>
                  <a:lnTo>
                    <a:pt x="2658" y="1488"/>
                  </a:lnTo>
                  <a:lnTo>
                    <a:pt x="2670" y="1501"/>
                  </a:lnTo>
                  <a:lnTo>
                    <a:pt x="2680" y="1511"/>
                  </a:lnTo>
                  <a:lnTo>
                    <a:pt x="2688" y="1521"/>
                  </a:lnTo>
                  <a:lnTo>
                    <a:pt x="2691" y="1528"/>
                  </a:lnTo>
                  <a:lnTo>
                    <a:pt x="2701" y="1533"/>
                  </a:lnTo>
                  <a:lnTo>
                    <a:pt x="2723" y="1538"/>
                  </a:lnTo>
                  <a:lnTo>
                    <a:pt x="2753" y="1543"/>
                  </a:lnTo>
                  <a:lnTo>
                    <a:pt x="2790" y="1546"/>
                  </a:lnTo>
                  <a:lnTo>
                    <a:pt x="2828" y="1549"/>
                  </a:lnTo>
                  <a:lnTo>
                    <a:pt x="2863" y="1551"/>
                  </a:lnTo>
                  <a:lnTo>
                    <a:pt x="2891" y="1554"/>
                  </a:lnTo>
                  <a:lnTo>
                    <a:pt x="2910" y="1556"/>
                  </a:lnTo>
                  <a:lnTo>
                    <a:pt x="2925" y="1558"/>
                  </a:lnTo>
                  <a:lnTo>
                    <a:pt x="2945" y="1559"/>
                  </a:lnTo>
                  <a:lnTo>
                    <a:pt x="2968" y="1561"/>
                  </a:lnTo>
                  <a:lnTo>
                    <a:pt x="2992" y="1563"/>
                  </a:lnTo>
                  <a:lnTo>
                    <a:pt x="3013" y="1566"/>
                  </a:lnTo>
                  <a:lnTo>
                    <a:pt x="3033" y="1568"/>
                  </a:lnTo>
                  <a:lnTo>
                    <a:pt x="3048" y="1569"/>
                  </a:lnTo>
                  <a:lnTo>
                    <a:pt x="3057" y="1571"/>
                  </a:lnTo>
                  <a:lnTo>
                    <a:pt x="3070" y="1569"/>
                  </a:lnTo>
                  <a:lnTo>
                    <a:pt x="3083" y="1563"/>
                  </a:lnTo>
                  <a:lnTo>
                    <a:pt x="3095" y="1554"/>
                  </a:lnTo>
                  <a:lnTo>
                    <a:pt x="3100" y="1551"/>
                  </a:lnTo>
                  <a:lnTo>
                    <a:pt x="3102" y="1553"/>
                  </a:lnTo>
                  <a:lnTo>
                    <a:pt x="3105" y="1556"/>
                  </a:lnTo>
                  <a:lnTo>
                    <a:pt x="3112" y="1561"/>
                  </a:lnTo>
                  <a:lnTo>
                    <a:pt x="3120" y="1568"/>
                  </a:lnTo>
                  <a:lnTo>
                    <a:pt x="3130" y="1576"/>
                  </a:lnTo>
                  <a:lnTo>
                    <a:pt x="3140" y="1586"/>
                  </a:lnTo>
                  <a:lnTo>
                    <a:pt x="3152" y="1598"/>
                  </a:lnTo>
                  <a:lnTo>
                    <a:pt x="3162" y="1609"/>
                  </a:lnTo>
                  <a:lnTo>
                    <a:pt x="3172" y="1624"/>
                  </a:lnTo>
                  <a:lnTo>
                    <a:pt x="3180" y="1638"/>
                  </a:lnTo>
                  <a:lnTo>
                    <a:pt x="3183" y="1653"/>
                  </a:lnTo>
                  <a:lnTo>
                    <a:pt x="3185" y="1668"/>
                  </a:lnTo>
                  <a:lnTo>
                    <a:pt x="3185" y="1678"/>
                  </a:lnTo>
                  <a:lnTo>
                    <a:pt x="3183" y="1688"/>
                  </a:lnTo>
                  <a:lnTo>
                    <a:pt x="3180" y="1696"/>
                  </a:lnTo>
                  <a:lnTo>
                    <a:pt x="3175" y="1704"/>
                  </a:lnTo>
                  <a:lnTo>
                    <a:pt x="3168" y="1724"/>
                  </a:lnTo>
                  <a:lnTo>
                    <a:pt x="3168" y="1748"/>
                  </a:lnTo>
                  <a:lnTo>
                    <a:pt x="3168" y="1771"/>
                  </a:lnTo>
                  <a:lnTo>
                    <a:pt x="3167" y="1795"/>
                  </a:lnTo>
                  <a:lnTo>
                    <a:pt x="3162" y="1815"/>
                  </a:lnTo>
                  <a:lnTo>
                    <a:pt x="3153" y="1835"/>
                  </a:lnTo>
                  <a:lnTo>
                    <a:pt x="3145" y="1851"/>
                  </a:lnTo>
                  <a:lnTo>
                    <a:pt x="3138" y="1870"/>
                  </a:lnTo>
                  <a:lnTo>
                    <a:pt x="3132" y="1890"/>
                  </a:lnTo>
                  <a:lnTo>
                    <a:pt x="3125" y="1913"/>
                  </a:lnTo>
                  <a:lnTo>
                    <a:pt x="3120" y="1933"/>
                  </a:lnTo>
                  <a:lnTo>
                    <a:pt x="3118" y="1951"/>
                  </a:lnTo>
                  <a:lnTo>
                    <a:pt x="3117" y="1965"/>
                  </a:lnTo>
                  <a:lnTo>
                    <a:pt x="3115" y="1976"/>
                  </a:lnTo>
                  <a:lnTo>
                    <a:pt x="3108" y="1986"/>
                  </a:lnTo>
                  <a:lnTo>
                    <a:pt x="3100" y="1993"/>
                  </a:lnTo>
                  <a:lnTo>
                    <a:pt x="3093" y="1996"/>
                  </a:lnTo>
                  <a:lnTo>
                    <a:pt x="3078" y="2003"/>
                  </a:lnTo>
                  <a:lnTo>
                    <a:pt x="3057" y="2013"/>
                  </a:lnTo>
                  <a:lnTo>
                    <a:pt x="3028" y="2026"/>
                  </a:lnTo>
                  <a:lnTo>
                    <a:pt x="2997" y="2040"/>
                  </a:lnTo>
                  <a:lnTo>
                    <a:pt x="2962" y="2056"/>
                  </a:lnTo>
                  <a:lnTo>
                    <a:pt x="2923" y="2073"/>
                  </a:lnTo>
                  <a:lnTo>
                    <a:pt x="2885" y="2090"/>
                  </a:lnTo>
                  <a:lnTo>
                    <a:pt x="2845" y="2108"/>
                  </a:lnTo>
                  <a:lnTo>
                    <a:pt x="2806" y="2125"/>
                  </a:lnTo>
                  <a:lnTo>
                    <a:pt x="2770" y="2141"/>
                  </a:lnTo>
                  <a:lnTo>
                    <a:pt x="2736" y="2155"/>
                  </a:lnTo>
                  <a:lnTo>
                    <a:pt x="2708" y="2168"/>
                  </a:lnTo>
                  <a:lnTo>
                    <a:pt x="2685" y="2180"/>
                  </a:lnTo>
                  <a:lnTo>
                    <a:pt x="2668" y="2188"/>
                  </a:lnTo>
                  <a:lnTo>
                    <a:pt x="2658" y="2193"/>
                  </a:lnTo>
                  <a:lnTo>
                    <a:pt x="2645" y="2200"/>
                  </a:lnTo>
                  <a:lnTo>
                    <a:pt x="2628" y="2205"/>
                  </a:lnTo>
                  <a:lnTo>
                    <a:pt x="2608" y="2208"/>
                  </a:lnTo>
                  <a:lnTo>
                    <a:pt x="2586" y="2211"/>
                  </a:lnTo>
                  <a:lnTo>
                    <a:pt x="2561" y="2215"/>
                  </a:lnTo>
                  <a:lnTo>
                    <a:pt x="2535" y="2220"/>
                  </a:lnTo>
                  <a:lnTo>
                    <a:pt x="2508" y="2225"/>
                  </a:lnTo>
                  <a:lnTo>
                    <a:pt x="2481" y="2231"/>
                  </a:lnTo>
                  <a:lnTo>
                    <a:pt x="2466" y="2235"/>
                  </a:lnTo>
                  <a:lnTo>
                    <a:pt x="2446" y="2240"/>
                  </a:lnTo>
                  <a:lnTo>
                    <a:pt x="2425" y="2245"/>
                  </a:lnTo>
                  <a:lnTo>
                    <a:pt x="2398" y="2252"/>
                  </a:lnTo>
                  <a:lnTo>
                    <a:pt x="2371" y="2258"/>
                  </a:lnTo>
                  <a:lnTo>
                    <a:pt x="2343" y="2265"/>
                  </a:lnTo>
                  <a:lnTo>
                    <a:pt x="2313" y="2272"/>
                  </a:lnTo>
                  <a:lnTo>
                    <a:pt x="2283" y="2278"/>
                  </a:lnTo>
                  <a:lnTo>
                    <a:pt x="2253" y="2285"/>
                  </a:lnTo>
                  <a:lnTo>
                    <a:pt x="2224" y="2293"/>
                  </a:lnTo>
                  <a:lnTo>
                    <a:pt x="2198" y="2300"/>
                  </a:lnTo>
                  <a:lnTo>
                    <a:pt x="2173" y="2307"/>
                  </a:lnTo>
                  <a:lnTo>
                    <a:pt x="2151" y="2312"/>
                  </a:lnTo>
                  <a:lnTo>
                    <a:pt x="2134" y="2318"/>
                  </a:lnTo>
                  <a:lnTo>
                    <a:pt x="2119" y="2323"/>
                  </a:lnTo>
                  <a:lnTo>
                    <a:pt x="2111" y="2327"/>
                  </a:lnTo>
                  <a:lnTo>
                    <a:pt x="2098" y="2333"/>
                  </a:lnTo>
                  <a:lnTo>
                    <a:pt x="2086" y="2338"/>
                  </a:lnTo>
                  <a:lnTo>
                    <a:pt x="2071" y="2347"/>
                  </a:lnTo>
                  <a:lnTo>
                    <a:pt x="2058" y="2353"/>
                  </a:lnTo>
                  <a:lnTo>
                    <a:pt x="2043" y="2365"/>
                  </a:lnTo>
                  <a:lnTo>
                    <a:pt x="2028" y="2378"/>
                  </a:lnTo>
                  <a:lnTo>
                    <a:pt x="2011" y="2398"/>
                  </a:lnTo>
                  <a:lnTo>
                    <a:pt x="1993" y="2422"/>
                  </a:lnTo>
                  <a:lnTo>
                    <a:pt x="1976" y="2447"/>
                  </a:lnTo>
                  <a:lnTo>
                    <a:pt x="1961" y="2470"/>
                  </a:lnTo>
                  <a:lnTo>
                    <a:pt x="1946" y="2492"/>
                  </a:lnTo>
                  <a:lnTo>
                    <a:pt x="1933" y="2512"/>
                  </a:lnTo>
                  <a:lnTo>
                    <a:pt x="1923" y="2528"/>
                  </a:lnTo>
                  <a:lnTo>
                    <a:pt x="1913" y="2542"/>
                  </a:lnTo>
                  <a:lnTo>
                    <a:pt x="1904" y="2552"/>
                  </a:lnTo>
                  <a:lnTo>
                    <a:pt x="1898" y="2558"/>
                  </a:lnTo>
                  <a:lnTo>
                    <a:pt x="1891" y="2563"/>
                  </a:lnTo>
                  <a:lnTo>
                    <a:pt x="1884" y="2568"/>
                  </a:lnTo>
                  <a:lnTo>
                    <a:pt x="1874" y="2573"/>
                  </a:lnTo>
                  <a:lnTo>
                    <a:pt x="1864" y="2575"/>
                  </a:lnTo>
                  <a:lnTo>
                    <a:pt x="1853" y="2577"/>
                  </a:lnTo>
                  <a:lnTo>
                    <a:pt x="1843" y="2577"/>
                  </a:lnTo>
                  <a:lnTo>
                    <a:pt x="1833" y="2573"/>
                  </a:lnTo>
                  <a:lnTo>
                    <a:pt x="1823" y="2568"/>
                  </a:lnTo>
                  <a:lnTo>
                    <a:pt x="1814" y="2562"/>
                  </a:lnTo>
                  <a:lnTo>
                    <a:pt x="1806" y="2553"/>
                  </a:lnTo>
                  <a:lnTo>
                    <a:pt x="1799" y="2547"/>
                  </a:lnTo>
                  <a:lnTo>
                    <a:pt x="1794" y="2538"/>
                  </a:lnTo>
                  <a:lnTo>
                    <a:pt x="1787" y="2533"/>
                  </a:lnTo>
                  <a:lnTo>
                    <a:pt x="1781" y="2530"/>
                  </a:lnTo>
                  <a:lnTo>
                    <a:pt x="1772" y="2528"/>
                  </a:lnTo>
                  <a:lnTo>
                    <a:pt x="1764" y="2530"/>
                  </a:lnTo>
                  <a:lnTo>
                    <a:pt x="1752" y="2533"/>
                  </a:lnTo>
                  <a:lnTo>
                    <a:pt x="1739" y="2535"/>
                  </a:lnTo>
                  <a:lnTo>
                    <a:pt x="1722" y="2535"/>
                  </a:lnTo>
                  <a:lnTo>
                    <a:pt x="1704" y="2535"/>
                  </a:lnTo>
                  <a:lnTo>
                    <a:pt x="1684" y="2535"/>
                  </a:lnTo>
                  <a:lnTo>
                    <a:pt x="1666" y="2533"/>
                  </a:lnTo>
                  <a:lnTo>
                    <a:pt x="1647" y="2532"/>
                  </a:lnTo>
                  <a:lnTo>
                    <a:pt x="1632" y="2530"/>
                  </a:lnTo>
                  <a:lnTo>
                    <a:pt x="1617" y="2528"/>
                  </a:lnTo>
                  <a:lnTo>
                    <a:pt x="1602" y="2525"/>
                  </a:lnTo>
                  <a:lnTo>
                    <a:pt x="1589" y="2520"/>
                  </a:lnTo>
                  <a:lnTo>
                    <a:pt x="1574" y="2517"/>
                  </a:lnTo>
                  <a:lnTo>
                    <a:pt x="1561" y="2513"/>
                  </a:lnTo>
                  <a:lnTo>
                    <a:pt x="1549" y="2510"/>
                  </a:lnTo>
                  <a:lnTo>
                    <a:pt x="1537" y="2507"/>
                  </a:lnTo>
                  <a:lnTo>
                    <a:pt x="1527" y="2507"/>
                  </a:lnTo>
                  <a:lnTo>
                    <a:pt x="1514" y="2507"/>
                  </a:lnTo>
                  <a:lnTo>
                    <a:pt x="1492" y="2507"/>
                  </a:lnTo>
                  <a:lnTo>
                    <a:pt x="1466" y="2508"/>
                  </a:lnTo>
                  <a:lnTo>
                    <a:pt x="1436" y="2508"/>
                  </a:lnTo>
                  <a:lnTo>
                    <a:pt x="1409" y="2510"/>
                  </a:lnTo>
                  <a:lnTo>
                    <a:pt x="1386" y="2512"/>
                  </a:lnTo>
                  <a:lnTo>
                    <a:pt x="1369" y="2512"/>
                  </a:lnTo>
                  <a:lnTo>
                    <a:pt x="1362" y="2512"/>
                  </a:lnTo>
                  <a:lnTo>
                    <a:pt x="1361" y="2513"/>
                  </a:lnTo>
                  <a:lnTo>
                    <a:pt x="1356" y="2515"/>
                  </a:lnTo>
                  <a:lnTo>
                    <a:pt x="1349" y="2518"/>
                  </a:lnTo>
                  <a:lnTo>
                    <a:pt x="1339" y="2520"/>
                  </a:lnTo>
                  <a:lnTo>
                    <a:pt x="1329" y="2522"/>
                  </a:lnTo>
                  <a:lnTo>
                    <a:pt x="1317" y="2522"/>
                  </a:lnTo>
                  <a:lnTo>
                    <a:pt x="1304" y="2518"/>
                  </a:lnTo>
                  <a:lnTo>
                    <a:pt x="1292" y="2512"/>
                  </a:lnTo>
                  <a:lnTo>
                    <a:pt x="1281" y="2503"/>
                  </a:lnTo>
                  <a:lnTo>
                    <a:pt x="1272" y="2497"/>
                  </a:lnTo>
                  <a:lnTo>
                    <a:pt x="1266" y="2490"/>
                  </a:lnTo>
                  <a:lnTo>
                    <a:pt x="1261" y="2485"/>
                  </a:lnTo>
                  <a:lnTo>
                    <a:pt x="1256" y="2482"/>
                  </a:lnTo>
                  <a:lnTo>
                    <a:pt x="1250" y="2480"/>
                  </a:lnTo>
                  <a:lnTo>
                    <a:pt x="1245" y="2480"/>
                  </a:lnTo>
                  <a:lnTo>
                    <a:pt x="1239" y="2483"/>
                  </a:lnTo>
                  <a:lnTo>
                    <a:pt x="1232" y="2490"/>
                  </a:lnTo>
                  <a:lnTo>
                    <a:pt x="1235" y="2498"/>
                  </a:lnTo>
                  <a:lnTo>
                    <a:pt x="1240" y="2510"/>
                  </a:lnTo>
                  <a:lnTo>
                    <a:pt x="1239" y="2525"/>
                  </a:lnTo>
                  <a:lnTo>
                    <a:pt x="1234" y="2545"/>
                  </a:lnTo>
                  <a:lnTo>
                    <a:pt x="1232" y="2567"/>
                  </a:lnTo>
                  <a:lnTo>
                    <a:pt x="1234" y="2587"/>
                  </a:lnTo>
                  <a:lnTo>
                    <a:pt x="1234" y="2602"/>
                  </a:lnTo>
                  <a:lnTo>
                    <a:pt x="1230" y="2615"/>
                  </a:lnTo>
                  <a:lnTo>
                    <a:pt x="1225" y="2630"/>
                  </a:lnTo>
                  <a:lnTo>
                    <a:pt x="1219" y="2643"/>
                  </a:lnTo>
                  <a:lnTo>
                    <a:pt x="1215" y="2648"/>
                  </a:lnTo>
                  <a:lnTo>
                    <a:pt x="1177" y="2678"/>
                  </a:lnTo>
                  <a:lnTo>
                    <a:pt x="1175" y="2672"/>
                  </a:lnTo>
                  <a:lnTo>
                    <a:pt x="1170" y="2657"/>
                  </a:lnTo>
                  <a:lnTo>
                    <a:pt x="1167" y="2640"/>
                  </a:lnTo>
                  <a:lnTo>
                    <a:pt x="1167" y="2625"/>
                  </a:lnTo>
                  <a:lnTo>
                    <a:pt x="1167" y="2613"/>
                  </a:lnTo>
                  <a:lnTo>
                    <a:pt x="1164" y="2598"/>
                  </a:lnTo>
                  <a:lnTo>
                    <a:pt x="1154" y="2583"/>
                  </a:lnTo>
                  <a:lnTo>
                    <a:pt x="1144" y="2568"/>
                  </a:lnTo>
                  <a:lnTo>
                    <a:pt x="1134" y="2555"/>
                  </a:lnTo>
                  <a:lnTo>
                    <a:pt x="1124" y="2543"/>
                  </a:lnTo>
                  <a:lnTo>
                    <a:pt x="1115" y="2532"/>
                  </a:lnTo>
                  <a:lnTo>
                    <a:pt x="1110" y="2522"/>
                  </a:lnTo>
                  <a:lnTo>
                    <a:pt x="1107" y="2508"/>
                  </a:lnTo>
                  <a:lnTo>
                    <a:pt x="1104" y="2492"/>
                  </a:lnTo>
                  <a:lnTo>
                    <a:pt x="1095" y="2475"/>
                  </a:lnTo>
                  <a:lnTo>
                    <a:pt x="1082" y="2458"/>
                  </a:lnTo>
                  <a:lnTo>
                    <a:pt x="1072" y="2450"/>
                  </a:lnTo>
                  <a:lnTo>
                    <a:pt x="1059" y="2437"/>
                  </a:lnTo>
                  <a:lnTo>
                    <a:pt x="1044" y="2423"/>
                  </a:lnTo>
                  <a:lnTo>
                    <a:pt x="1029" y="2405"/>
                  </a:lnTo>
                  <a:lnTo>
                    <a:pt x="1014" y="2387"/>
                  </a:lnTo>
                  <a:lnTo>
                    <a:pt x="999" y="2368"/>
                  </a:lnTo>
                  <a:lnTo>
                    <a:pt x="987" y="2350"/>
                  </a:lnTo>
                  <a:lnTo>
                    <a:pt x="979" y="2332"/>
                  </a:lnTo>
                  <a:lnTo>
                    <a:pt x="964" y="2302"/>
                  </a:lnTo>
                  <a:lnTo>
                    <a:pt x="949" y="2280"/>
                  </a:lnTo>
                  <a:lnTo>
                    <a:pt x="937" y="2263"/>
                  </a:lnTo>
                  <a:lnTo>
                    <a:pt x="930" y="2245"/>
                  </a:lnTo>
                  <a:lnTo>
                    <a:pt x="927" y="2231"/>
                  </a:lnTo>
                  <a:lnTo>
                    <a:pt x="920" y="2211"/>
                  </a:lnTo>
                  <a:lnTo>
                    <a:pt x="910" y="2190"/>
                  </a:lnTo>
                  <a:lnTo>
                    <a:pt x="900" y="2166"/>
                  </a:lnTo>
                  <a:lnTo>
                    <a:pt x="890" y="2143"/>
                  </a:lnTo>
                  <a:lnTo>
                    <a:pt x="880" y="2123"/>
                  </a:lnTo>
                  <a:lnTo>
                    <a:pt x="870" y="2108"/>
                  </a:lnTo>
                  <a:lnTo>
                    <a:pt x="864" y="2098"/>
                  </a:lnTo>
                  <a:lnTo>
                    <a:pt x="854" y="2085"/>
                  </a:lnTo>
                  <a:lnTo>
                    <a:pt x="845" y="2071"/>
                  </a:lnTo>
                  <a:lnTo>
                    <a:pt x="834" y="2056"/>
                  </a:lnTo>
                  <a:lnTo>
                    <a:pt x="822" y="2041"/>
                  </a:lnTo>
                  <a:lnTo>
                    <a:pt x="814" y="2033"/>
                  </a:lnTo>
                  <a:lnTo>
                    <a:pt x="802" y="2025"/>
                  </a:lnTo>
                  <a:lnTo>
                    <a:pt x="790" y="2018"/>
                  </a:lnTo>
                  <a:lnTo>
                    <a:pt x="779" y="2010"/>
                  </a:lnTo>
                  <a:lnTo>
                    <a:pt x="765" y="2003"/>
                  </a:lnTo>
                  <a:lnTo>
                    <a:pt x="752" y="1998"/>
                  </a:lnTo>
                  <a:lnTo>
                    <a:pt x="740" y="1995"/>
                  </a:lnTo>
                  <a:lnTo>
                    <a:pt x="730" y="1993"/>
                  </a:lnTo>
                  <a:lnTo>
                    <a:pt x="722" y="1991"/>
                  </a:lnTo>
                  <a:lnTo>
                    <a:pt x="717" y="1988"/>
                  </a:lnTo>
                  <a:lnTo>
                    <a:pt x="710" y="1983"/>
                  </a:lnTo>
                  <a:lnTo>
                    <a:pt x="705" y="1975"/>
                  </a:lnTo>
                  <a:lnTo>
                    <a:pt x="700" y="1966"/>
                  </a:lnTo>
                  <a:lnTo>
                    <a:pt x="693" y="1953"/>
                  </a:lnTo>
                  <a:lnTo>
                    <a:pt x="685" y="1940"/>
                  </a:lnTo>
                  <a:lnTo>
                    <a:pt x="673" y="1923"/>
                  </a:lnTo>
                  <a:lnTo>
                    <a:pt x="662" y="1905"/>
                  </a:lnTo>
                  <a:lnTo>
                    <a:pt x="652" y="1886"/>
                  </a:lnTo>
                  <a:lnTo>
                    <a:pt x="642" y="1868"/>
                  </a:lnTo>
                  <a:lnTo>
                    <a:pt x="635" y="1851"/>
                  </a:lnTo>
                  <a:lnTo>
                    <a:pt x="628" y="1833"/>
                  </a:lnTo>
                  <a:lnTo>
                    <a:pt x="623" y="1818"/>
                  </a:lnTo>
                  <a:lnTo>
                    <a:pt x="620" y="1803"/>
                  </a:lnTo>
                  <a:lnTo>
                    <a:pt x="617" y="1790"/>
                  </a:lnTo>
                  <a:lnTo>
                    <a:pt x="612" y="1765"/>
                  </a:lnTo>
                  <a:lnTo>
                    <a:pt x="603" y="1741"/>
                  </a:lnTo>
                  <a:lnTo>
                    <a:pt x="597" y="1724"/>
                  </a:lnTo>
                  <a:lnTo>
                    <a:pt x="593" y="1718"/>
                  </a:lnTo>
                  <a:lnTo>
                    <a:pt x="600" y="1706"/>
                  </a:lnTo>
                  <a:lnTo>
                    <a:pt x="610" y="1676"/>
                  </a:lnTo>
                  <a:lnTo>
                    <a:pt x="617" y="1636"/>
                  </a:lnTo>
                  <a:lnTo>
                    <a:pt x="607" y="1594"/>
                  </a:lnTo>
                  <a:lnTo>
                    <a:pt x="590" y="1559"/>
                  </a:lnTo>
                  <a:lnTo>
                    <a:pt x="582" y="1531"/>
                  </a:lnTo>
                  <a:lnTo>
                    <a:pt x="573" y="1503"/>
                  </a:lnTo>
                  <a:lnTo>
                    <a:pt x="560" y="1471"/>
                  </a:lnTo>
                  <a:lnTo>
                    <a:pt x="552" y="1454"/>
                  </a:lnTo>
                  <a:lnTo>
                    <a:pt x="547" y="1439"/>
                  </a:lnTo>
                  <a:lnTo>
                    <a:pt x="542" y="1426"/>
                  </a:lnTo>
                  <a:lnTo>
                    <a:pt x="537" y="1413"/>
                  </a:lnTo>
                  <a:lnTo>
                    <a:pt x="532" y="1401"/>
                  </a:lnTo>
                  <a:lnTo>
                    <a:pt x="525" y="1393"/>
                  </a:lnTo>
                  <a:lnTo>
                    <a:pt x="518" y="1383"/>
                  </a:lnTo>
                  <a:lnTo>
                    <a:pt x="508" y="1376"/>
                  </a:lnTo>
                  <a:lnTo>
                    <a:pt x="497" y="1369"/>
                  </a:lnTo>
                  <a:lnTo>
                    <a:pt x="487" y="1361"/>
                  </a:lnTo>
                  <a:lnTo>
                    <a:pt x="475" y="1354"/>
                  </a:lnTo>
                  <a:lnTo>
                    <a:pt x="463" y="1346"/>
                  </a:lnTo>
                  <a:lnTo>
                    <a:pt x="452" y="1338"/>
                  </a:lnTo>
                  <a:lnTo>
                    <a:pt x="440" y="1329"/>
                  </a:lnTo>
                  <a:lnTo>
                    <a:pt x="427" y="1323"/>
                  </a:lnTo>
                  <a:lnTo>
                    <a:pt x="413" y="1316"/>
                  </a:lnTo>
                  <a:lnTo>
                    <a:pt x="392" y="1303"/>
                  </a:lnTo>
                  <a:lnTo>
                    <a:pt x="382" y="1286"/>
                  </a:lnTo>
                  <a:lnTo>
                    <a:pt x="375" y="1268"/>
                  </a:lnTo>
                  <a:lnTo>
                    <a:pt x="365" y="1249"/>
                  </a:lnTo>
                  <a:lnTo>
                    <a:pt x="355" y="1232"/>
                  </a:lnTo>
                  <a:lnTo>
                    <a:pt x="348" y="1219"/>
                  </a:lnTo>
                  <a:lnTo>
                    <a:pt x="347" y="1209"/>
                  </a:lnTo>
                  <a:lnTo>
                    <a:pt x="347" y="1206"/>
                  </a:lnTo>
                  <a:lnTo>
                    <a:pt x="348" y="1206"/>
                  </a:lnTo>
                  <a:lnTo>
                    <a:pt x="353" y="1204"/>
                  </a:lnTo>
                  <a:lnTo>
                    <a:pt x="360" y="1201"/>
                  </a:lnTo>
                  <a:lnTo>
                    <a:pt x="367" y="1194"/>
                  </a:lnTo>
                  <a:lnTo>
                    <a:pt x="370" y="1187"/>
                  </a:lnTo>
                  <a:lnTo>
                    <a:pt x="370" y="1176"/>
                  </a:lnTo>
                  <a:lnTo>
                    <a:pt x="365" y="1162"/>
                  </a:lnTo>
                  <a:lnTo>
                    <a:pt x="352" y="1144"/>
                  </a:lnTo>
                  <a:lnTo>
                    <a:pt x="330" y="1122"/>
                  </a:lnTo>
                  <a:lnTo>
                    <a:pt x="327" y="1122"/>
                  </a:lnTo>
                  <a:lnTo>
                    <a:pt x="330" y="1126"/>
                  </a:lnTo>
                  <a:lnTo>
                    <a:pt x="327" y="1112"/>
                  </a:lnTo>
                  <a:lnTo>
                    <a:pt x="320" y="1091"/>
                  </a:lnTo>
                  <a:lnTo>
                    <a:pt x="315" y="1076"/>
                  </a:lnTo>
                  <a:lnTo>
                    <a:pt x="308" y="1066"/>
                  </a:lnTo>
                  <a:lnTo>
                    <a:pt x="293" y="1054"/>
                  </a:lnTo>
                  <a:lnTo>
                    <a:pt x="283" y="1039"/>
                  </a:lnTo>
                  <a:lnTo>
                    <a:pt x="285" y="1024"/>
                  </a:lnTo>
                  <a:lnTo>
                    <a:pt x="287" y="1011"/>
                  </a:lnTo>
                  <a:lnTo>
                    <a:pt x="275" y="997"/>
                  </a:lnTo>
                  <a:lnTo>
                    <a:pt x="257" y="986"/>
                  </a:lnTo>
                  <a:lnTo>
                    <a:pt x="243" y="971"/>
                  </a:lnTo>
                  <a:lnTo>
                    <a:pt x="235" y="954"/>
                  </a:lnTo>
                  <a:lnTo>
                    <a:pt x="232" y="936"/>
                  </a:lnTo>
                  <a:lnTo>
                    <a:pt x="228" y="916"/>
                  </a:lnTo>
                  <a:lnTo>
                    <a:pt x="218" y="889"/>
                  </a:lnTo>
                  <a:lnTo>
                    <a:pt x="205" y="862"/>
                  </a:lnTo>
                  <a:lnTo>
                    <a:pt x="185" y="836"/>
                  </a:lnTo>
                  <a:lnTo>
                    <a:pt x="172" y="814"/>
                  </a:lnTo>
                  <a:lnTo>
                    <a:pt x="168" y="796"/>
                  </a:lnTo>
                  <a:lnTo>
                    <a:pt x="167" y="782"/>
                  </a:lnTo>
                  <a:lnTo>
                    <a:pt x="157" y="774"/>
                  </a:lnTo>
                  <a:lnTo>
                    <a:pt x="145" y="766"/>
                  </a:lnTo>
                  <a:lnTo>
                    <a:pt x="140" y="754"/>
                  </a:lnTo>
                  <a:lnTo>
                    <a:pt x="133" y="739"/>
                  </a:lnTo>
                  <a:lnTo>
                    <a:pt x="118" y="722"/>
                  </a:lnTo>
                  <a:lnTo>
                    <a:pt x="100" y="700"/>
                  </a:lnTo>
                  <a:lnTo>
                    <a:pt x="86" y="674"/>
                  </a:lnTo>
                  <a:lnTo>
                    <a:pt x="78" y="652"/>
                  </a:lnTo>
                  <a:lnTo>
                    <a:pt x="75" y="642"/>
                  </a:lnTo>
                  <a:lnTo>
                    <a:pt x="70" y="642"/>
                  </a:lnTo>
                  <a:lnTo>
                    <a:pt x="60" y="642"/>
                  </a:lnTo>
                  <a:lnTo>
                    <a:pt x="45" y="642"/>
                  </a:lnTo>
                  <a:lnTo>
                    <a:pt x="33" y="642"/>
                  </a:lnTo>
                  <a:lnTo>
                    <a:pt x="21" y="642"/>
                  </a:lnTo>
                  <a:lnTo>
                    <a:pt x="11" y="644"/>
                  </a:lnTo>
                  <a:lnTo>
                    <a:pt x="3" y="645"/>
                  </a:lnTo>
                  <a:lnTo>
                    <a:pt x="0" y="645"/>
                  </a:lnTo>
                  <a:lnTo>
                    <a:pt x="1" y="642"/>
                  </a:lnTo>
                  <a:lnTo>
                    <a:pt x="5" y="632"/>
                  </a:lnTo>
                  <a:lnTo>
                    <a:pt x="8" y="620"/>
                  </a:lnTo>
                  <a:lnTo>
                    <a:pt x="13" y="609"/>
                  </a:lnTo>
                  <a:lnTo>
                    <a:pt x="20" y="592"/>
                  </a:lnTo>
                  <a:lnTo>
                    <a:pt x="28" y="569"/>
                  </a:lnTo>
                  <a:lnTo>
                    <a:pt x="35" y="542"/>
                  </a:lnTo>
                  <a:lnTo>
                    <a:pt x="38" y="517"/>
                  </a:lnTo>
                  <a:lnTo>
                    <a:pt x="40" y="500"/>
                  </a:lnTo>
                  <a:lnTo>
                    <a:pt x="43" y="489"/>
                  </a:lnTo>
                  <a:lnTo>
                    <a:pt x="50" y="480"/>
                  </a:lnTo>
                  <a:lnTo>
                    <a:pt x="56" y="470"/>
                  </a:lnTo>
                  <a:lnTo>
                    <a:pt x="61" y="457"/>
                  </a:lnTo>
                  <a:lnTo>
                    <a:pt x="65" y="442"/>
                  </a:lnTo>
                  <a:lnTo>
                    <a:pt x="66" y="429"/>
                  </a:lnTo>
                  <a:lnTo>
                    <a:pt x="66" y="424"/>
                  </a:lnTo>
                  <a:lnTo>
                    <a:pt x="232" y="465"/>
                  </a:lnTo>
                  <a:lnTo>
                    <a:pt x="235" y="464"/>
                  </a:lnTo>
                  <a:lnTo>
                    <a:pt x="243" y="457"/>
                  </a:lnTo>
                  <a:lnTo>
                    <a:pt x="257" y="450"/>
                  </a:lnTo>
                  <a:lnTo>
                    <a:pt x="270" y="439"/>
                  </a:lnTo>
                  <a:lnTo>
                    <a:pt x="285" y="429"/>
                  </a:lnTo>
                  <a:lnTo>
                    <a:pt x="298" y="417"/>
                  </a:lnTo>
                  <a:lnTo>
                    <a:pt x="308" y="407"/>
                  </a:lnTo>
                  <a:lnTo>
                    <a:pt x="313" y="399"/>
                  </a:lnTo>
                  <a:lnTo>
                    <a:pt x="318" y="384"/>
                  </a:lnTo>
                  <a:lnTo>
                    <a:pt x="325" y="369"/>
                  </a:lnTo>
                  <a:lnTo>
                    <a:pt x="330" y="357"/>
                  </a:lnTo>
                  <a:lnTo>
                    <a:pt x="332" y="352"/>
                  </a:lnTo>
                  <a:lnTo>
                    <a:pt x="335" y="352"/>
                  </a:lnTo>
                  <a:lnTo>
                    <a:pt x="342" y="352"/>
                  </a:lnTo>
                  <a:lnTo>
                    <a:pt x="353" y="352"/>
                  </a:lnTo>
                  <a:lnTo>
                    <a:pt x="367" y="350"/>
                  </a:lnTo>
                  <a:lnTo>
                    <a:pt x="382" y="350"/>
                  </a:lnTo>
                  <a:lnTo>
                    <a:pt x="398" y="347"/>
                  </a:lnTo>
                  <a:lnTo>
                    <a:pt x="413" y="345"/>
                  </a:lnTo>
                  <a:lnTo>
                    <a:pt x="427" y="342"/>
                  </a:lnTo>
                  <a:lnTo>
                    <a:pt x="438" y="337"/>
                  </a:lnTo>
                  <a:lnTo>
                    <a:pt x="447" y="329"/>
                  </a:lnTo>
                  <a:lnTo>
                    <a:pt x="455" y="319"/>
                  </a:lnTo>
                  <a:lnTo>
                    <a:pt x="462" y="309"/>
                  </a:lnTo>
                  <a:lnTo>
                    <a:pt x="468" y="299"/>
                  </a:lnTo>
                  <a:lnTo>
                    <a:pt x="475" y="290"/>
                  </a:lnTo>
                  <a:lnTo>
                    <a:pt x="483" y="284"/>
                  </a:lnTo>
                  <a:lnTo>
                    <a:pt x="493" y="280"/>
                  </a:lnTo>
                  <a:lnTo>
                    <a:pt x="508" y="275"/>
                  </a:lnTo>
                  <a:lnTo>
                    <a:pt x="513" y="269"/>
                  </a:lnTo>
                  <a:lnTo>
                    <a:pt x="513" y="264"/>
                  </a:lnTo>
                  <a:lnTo>
                    <a:pt x="512" y="262"/>
                  </a:lnTo>
                  <a:lnTo>
                    <a:pt x="380" y="90"/>
                  </a:lnTo>
                  <a:close/>
                </a:path>
              </a:pathLst>
            </a:custGeom>
            <a:solidFill>
              <a:srgbClr val="b2b2b2">
                <a:alpha val="30000"/>
              </a:srgbClr>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117" name=""/>
          <p:cNvSpPr/>
          <p:nvPr/>
        </p:nvSpPr>
        <p:spPr>
          <a:xfrm>
            <a:off x="0" y="457200"/>
            <a:ext cx="914400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333399"/>
                </a:solidFill>
                <a:latin typeface="Albertus Medium"/>
              </a:rPr>
              <a:t>Nanotechnology</a:t>
            </a:r>
            <a:endParaRPr b="0" lang="en-US" sz="3600" spc="-1" strike="noStrike">
              <a:solidFill>
                <a:srgbClr val="000000"/>
              </a:solidFill>
              <a:latin typeface="Arial"/>
            </a:endParaRPr>
          </a:p>
        </p:txBody>
      </p:sp>
      <p:sp>
        <p:nvSpPr>
          <p:cNvPr id="118" name="PlaceHolder 1"/>
          <p:cNvSpPr>
            <a:spLocks noGrp="1"/>
          </p:cNvSpPr>
          <p:nvPr>
            <p:ph/>
          </p:nvPr>
        </p:nvSpPr>
        <p:spPr>
          <a:xfrm>
            <a:off x="1294920" y="1412640"/>
            <a:ext cx="7239240" cy="4956120"/>
          </a:xfrm>
          <a:prstGeom prst="rect">
            <a:avLst/>
          </a:prstGeom>
          <a:noFill/>
          <a:ln w="0">
            <a:noFill/>
          </a:ln>
        </p:spPr>
        <p:txBody>
          <a:bodyPr anchor="t">
            <a:normAutofit/>
          </a:bodyPr>
          <a:p>
            <a:pPr marL="341280" indent="-341280">
              <a:lnSpc>
                <a:spcPct val="100000"/>
              </a:lnSpc>
              <a:spcBef>
                <a:spcPts val="601"/>
              </a:spcBef>
              <a:buClr>
                <a:srgbClr val="333399"/>
              </a:buClr>
              <a:buFont typeface="Albertus Medium"/>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333399"/>
                </a:solidFill>
                <a:latin typeface="Albertus Medium"/>
              </a:rPr>
              <a:t>Carbon particles at nanoscale are 100 times stronger than steel and have lighter weight and higher conductivity than copper and can be used safely as drug delivery system. </a:t>
            </a:r>
            <a:endParaRPr b="0" lang="en-US" sz="2400" spc="-1" strike="noStrike">
              <a:solidFill>
                <a:srgbClr val="000000"/>
              </a:solidFill>
              <a:latin typeface="Arial"/>
            </a:endParaRPr>
          </a:p>
          <a:p>
            <a:pPr marL="341280" indent="0">
              <a:lnSpc>
                <a:spcPct val="10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400" spc="-1" strike="noStrike">
              <a:solidFill>
                <a:srgbClr val="000000"/>
              </a:solidFill>
              <a:latin typeface="Arial"/>
            </a:endParaRPr>
          </a:p>
          <a:p>
            <a:pPr marL="341280" indent="-341280">
              <a:lnSpc>
                <a:spcPct val="100000"/>
              </a:lnSpc>
              <a:spcBef>
                <a:spcPts val="601"/>
              </a:spcBef>
              <a:buClr>
                <a:srgbClr val="333399"/>
              </a:buClr>
              <a:buFont typeface="Albertus Medium"/>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333399"/>
                </a:solidFill>
                <a:latin typeface="Albertus Medium"/>
              </a:rPr>
              <a:t>Opaque substances become transparent (Copper), inert material become catalysts (platinum), solid turn into liquid at room temperature (gold), insulators become conductor.</a:t>
            </a:r>
            <a:endParaRPr b="0" lang="en-US" sz="2400" spc="-1" strike="noStrike">
              <a:solidFill>
                <a:srgbClr val="000000"/>
              </a:solidFill>
              <a:latin typeface="Arial"/>
            </a:endParaRPr>
          </a:p>
          <a:p>
            <a:pPr marL="341280" indent="0">
              <a:lnSpc>
                <a:spcPct val="10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000000"/>
              </a:solidFill>
              <a:latin typeface="Arial"/>
            </a:endParaRPr>
          </a:p>
          <a:p>
            <a:pPr marL="341280" indent="0" algn="r" rtl="1">
              <a:lnSpc>
                <a:spcPct val="10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000000"/>
              </a:solidFill>
              <a:latin typeface="Arial"/>
            </a:endParaRPr>
          </a:p>
          <a:p>
            <a:pPr marL="343080" indent="0" algn="r" rtl="1">
              <a:lnSpc>
                <a:spcPct val="10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000000"/>
              </a:solidFill>
              <a:latin typeface="Arial"/>
            </a:endParaRPr>
          </a:p>
        </p:txBody>
      </p:sp>
      <p:sp>
        <p:nvSpPr>
          <p:cNvPr id="119" name=""/>
          <p:cNvSpPr/>
          <p:nvPr/>
        </p:nvSpPr>
        <p:spPr>
          <a:xfrm>
            <a:off x="609480" y="6629400"/>
            <a:ext cx="8534520" cy="228600"/>
          </a:xfrm>
          <a:prstGeom prst="rect">
            <a:avLst/>
          </a:prstGeom>
          <a:solidFill>
            <a:srgbClr val="bbe0e3"/>
          </a:solidFill>
          <a:ln cap="sq"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99"/>
                </a:solidFill>
                <a:latin typeface="Albertus Medium"/>
              </a:rPr>
              <a:t>www.skinandallergy.org</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0" lang="en-US" sz="1000" spc="-1" strike="noStrike">
                <a:solidFill>
                  <a:srgbClr val="333399"/>
                </a:solidFill>
                <a:latin typeface="Albertus Medium"/>
              </a:rPr>
              <a:t>www.panarabderm.org</a:t>
            </a:r>
            <a:endParaRPr b="0" lang="en-US" sz="1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0" name="" descr=""/>
          <p:cNvPicPr/>
          <p:nvPr/>
        </p:nvPicPr>
        <p:blipFill>
          <a:blip r:embed="rId2"/>
          <a:stretch/>
        </p:blipFill>
        <p:spPr>
          <a:xfrm>
            <a:off x="8153280" y="74520"/>
            <a:ext cx="922320" cy="992160"/>
          </a:xfrm>
          <a:prstGeom prst="rect">
            <a:avLst/>
          </a:prstGeom>
          <a:ln w="0">
            <a:noFill/>
          </a:ln>
        </p:spPr>
      </p:pic>
      <p:sp>
        <p:nvSpPr>
          <p:cNvPr id="121" name=""/>
          <p:cNvSpPr/>
          <p:nvPr/>
        </p:nvSpPr>
        <p:spPr>
          <a:xfrm>
            <a:off x="1295280" y="1066680"/>
            <a:ext cx="6193080" cy="1800"/>
          </a:xfrm>
          <a:prstGeom prst="line">
            <a:avLst/>
          </a:prstGeom>
          <a:ln cap="sq" w="12600">
            <a:solidFill>
              <a:srgbClr val="b2b2b2"/>
            </a:solidFill>
            <a:miter/>
          </a:ln>
        </p:spPr>
        <p:style>
          <a:lnRef idx="0"/>
          <a:fillRef idx="0"/>
          <a:effectRef idx="0"/>
          <a:fontRef idx="minor"/>
        </p:style>
        <p:txBody>
          <a:bodyPr lIns="90000" rIns="90000" tIns="-45000" bIns="-45000" anchor="t">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22" name="" descr=""/>
          <p:cNvPicPr/>
          <p:nvPr/>
        </p:nvPicPr>
        <p:blipFill>
          <a:blip r:embed="rId3"/>
          <a:stretch/>
        </p:blipFill>
        <p:spPr>
          <a:xfrm>
            <a:off x="0" y="0"/>
            <a:ext cx="600120" cy="6858000"/>
          </a:xfrm>
          <a:prstGeom prst="rect">
            <a:avLst/>
          </a:prstGeom>
          <a:ln w="0">
            <a:noFill/>
          </a:ln>
        </p:spPr>
      </p:pic>
      <p:grpSp>
        <p:nvGrpSpPr>
          <p:cNvPr id="123" name=""/>
          <p:cNvGrpSpPr/>
          <p:nvPr/>
        </p:nvGrpSpPr>
        <p:grpSpPr>
          <a:xfrm>
            <a:off x="2639880" y="1803240"/>
            <a:ext cx="4521240" cy="3986280"/>
            <a:chOff x="2639880" y="1803240"/>
            <a:chExt cx="4521240" cy="3986280"/>
          </a:xfrm>
        </p:grpSpPr>
        <p:sp>
          <p:nvSpPr>
            <p:cNvPr id="124" name=""/>
            <p:cNvSpPr/>
            <p:nvPr/>
          </p:nvSpPr>
          <p:spPr>
            <a:xfrm>
              <a:off x="2639880" y="2776680"/>
              <a:ext cx="1721160" cy="3012840"/>
            </a:xfrm>
            <a:custGeom>
              <a:avLst/>
              <a:gdLst/>
              <a:ahLst/>
              <a:rect l="l" t="t" r="r" b="b"/>
              <a:pathLst>
                <a:path w="1261" h="2255">
                  <a:moveTo>
                    <a:pt x="1257" y="2027"/>
                  </a:moveTo>
                  <a:lnTo>
                    <a:pt x="1257" y="2015"/>
                  </a:lnTo>
                  <a:lnTo>
                    <a:pt x="1252" y="2000"/>
                  </a:lnTo>
                  <a:lnTo>
                    <a:pt x="1244" y="1985"/>
                  </a:lnTo>
                  <a:lnTo>
                    <a:pt x="1232" y="1970"/>
                  </a:lnTo>
                  <a:lnTo>
                    <a:pt x="1222" y="1956"/>
                  </a:lnTo>
                  <a:lnTo>
                    <a:pt x="1212" y="1945"/>
                  </a:lnTo>
                  <a:lnTo>
                    <a:pt x="1204" y="1933"/>
                  </a:lnTo>
                  <a:lnTo>
                    <a:pt x="1199" y="1921"/>
                  </a:lnTo>
                  <a:lnTo>
                    <a:pt x="1197" y="1910"/>
                  </a:lnTo>
                  <a:lnTo>
                    <a:pt x="1192" y="1893"/>
                  </a:lnTo>
                  <a:lnTo>
                    <a:pt x="1186" y="1876"/>
                  </a:lnTo>
                  <a:lnTo>
                    <a:pt x="1171" y="1860"/>
                  </a:lnTo>
                  <a:lnTo>
                    <a:pt x="1161" y="1851"/>
                  </a:lnTo>
                  <a:lnTo>
                    <a:pt x="1147" y="1838"/>
                  </a:lnTo>
                  <a:lnTo>
                    <a:pt x="1132" y="1823"/>
                  </a:lnTo>
                  <a:lnTo>
                    <a:pt x="1117" y="1806"/>
                  </a:lnTo>
                  <a:lnTo>
                    <a:pt x="1102" y="1788"/>
                  </a:lnTo>
                  <a:lnTo>
                    <a:pt x="1087" y="1770"/>
                  </a:lnTo>
                  <a:lnTo>
                    <a:pt x="1076" y="1750"/>
                  </a:lnTo>
                  <a:lnTo>
                    <a:pt x="1067" y="1731"/>
                  </a:lnTo>
                  <a:lnTo>
                    <a:pt x="1052" y="1703"/>
                  </a:lnTo>
                  <a:lnTo>
                    <a:pt x="1037" y="1681"/>
                  </a:lnTo>
                  <a:lnTo>
                    <a:pt x="1026" y="1665"/>
                  </a:lnTo>
                  <a:lnTo>
                    <a:pt x="1019" y="1646"/>
                  </a:lnTo>
                  <a:lnTo>
                    <a:pt x="1016" y="1633"/>
                  </a:lnTo>
                  <a:lnTo>
                    <a:pt x="1009" y="1613"/>
                  </a:lnTo>
                  <a:lnTo>
                    <a:pt x="999" y="1591"/>
                  </a:lnTo>
                  <a:lnTo>
                    <a:pt x="989" y="1568"/>
                  </a:lnTo>
                  <a:lnTo>
                    <a:pt x="979" y="1545"/>
                  </a:lnTo>
                  <a:lnTo>
                    <a:pt x="969" y="1525"/>
                  </a:lnTo>
                  <a:lnTo>
                    <a:pt x="959" y="1508"/>
                  </a:lnTo>
                  <a:lnTo>
                    <a:pt x="952" y="1499"/>
                  </a:lnTo>
                  <a:lnTo>
                    <a:pt x="942" y="1486"/>
                  </a:lnTo>
                  <a:lnTo>
                    <a:pt x="934" y="1473"/>
                  </a:lnTo>
                  <a:lnTo>
                    <a:pt x="922" y="1458"/>
                  </a:lnTo>
                  <a:lnTo>
                    <a:pt x="911" y="1443"/>
                  </a:lnTo>
                  <a:lnTo>
                    <a:pt x="902" y="1434"/>
                  </a:lnTo>
                  <a:lnTo>
                    <a:pt x="891" y="1426"/>
                  </a:lnTo>
                  <a:lnTo>
                    <a:pt x="879" y="1419"/>
                  </a:lnTo>
                  <a:lnTo>
                    <a:pt x="867" y="1411"/>
                  </a:lnTo>
                  <a:lnTo>
                    <a:pt x="854" y="1404"/>
                  </a:lnTo>
                  <a:lnTo>
                    <a:pt x="842" y="1399"/>
                  </a:lnTo>
                  <a:lnTo>
                    <a:pt x="831" y="1396"/>
                  </a:lnTo>
                  <a:lnTo>
                    <a:pt x="820" y="1394"/>
                  </a:lnTo>
                  <a:lnTo>
                    <a:pt x="812" y="1393"/>
                  </a:lnTo>
                  <a:lnTo>
                    <a:pt x="805" y="1389"/>
                  </a:lnTo>
                  <a:lnTo>
                    <a:pt x="800" y="1384"/>
                  </a:lnTo>
                  <a:lnTo>
                    <a:pt x="794" y="1376"/>
                  </a:lnTo>
                  <a:lnTo>
                    <a:pt x="789" y="1368"/>
                  </a:lnTo>
                  <a:lnTo>
                    <a:pt x="782" y="1354"/>
                  </a:lnTo>
                  <a:lnTo>
                    <a:pt x="774" y="1341"/>
                  </a:lnTo>
                  <a:lnTo>
                    <a:pt x="762" y="1324"/>
                  </a:lnTo>
                  <a:lnTo>
                    <a:pt x="750" y="1306"/>
                  </a:lnTo>
                  <a:lnTo>
                    <a:pt x="740" y="1288"/>
                  </a:lnTo>
                  <a:lnTo>
                    <a:pt x="732" y="1269"/>
                  </a:lnTo>
                  <a:lnTo>
                    <a:pt x="724" y="1253"/>
                  </a:lnTo>
                  <a:lnTo>
                    <a:pt x="717" y="1234"/>
                  </a:lnTo>
                  <a:lnTo>
                    <a:pt x="712" y="1219"/>
                  </a:lnTo>
                  <a:lnTo>
                    <a:pt x="709" y="1204"/>
                  </a:lnTo>
                  <a:lnTo>
                    <a:pt x="705" y="1191"/>
                  </a:lnTo>
                  <a:lnTo>
                    <a:pt x="700" y="1166"/>
                  </a:lnTo>
                  <a:lnTo>
                    <a:pt x="692" y="1143"/>
                  </a:lnTo>
                  <a:lnTo>
                    <a:pt x="685" y="1126"/>
                  </a:lnTo>
                  <a:lnTo>
                    <a:pt x="682" y="1119"/>
                  </a:lnTo>
                  <a:lnTo>
                    <a:pt x="689" y="1108"/>
                  </a:lnTo>
                  <a:lnTo>
                    <a:pt x="700" y="1078"/>
                  </a:lnTo>
                  <a:lnTo>
                    <a:pt x="707" y="1038"/>
                  </a:lnTo>
                  <a:lnTo>
                    <a:pt x="697" y="996"/>
                  </a:lnTo>
                  <a:lnTo>
                    <a:pt x="680" y="961"/>
                  </a:lnTo>
                  <a:lnTo>
                    <a:pt x="670" y="932"/>
                  </a:lnTo>
                  <a:lnTo>
                    <a:pt x="662" y="904"/>
                  </a:lnTo>
                  <a:lnTo>
                    <a:pt x="649" y="872"/>
                  </a:lnTo>
                  <a:lnTo>
                    <a:pt x="640" y="856"/>
                  </a:lnTo>
                  <a:lnTo>
                    <a:pt x="635" y="839"/>
                  </a:lnTo>
                  <a:lnTo>
                    <a:pt x="630" y="826"/>
                  </a:lnTo>
                  <a:lnTo>
                    <a:pt x="625" y="814"/>
                  </a:lnTo>
                  <a:lnTo>
                    <a:pt x="620" y="802"/>
                  </a:lnTo>
                  <a:lnTo>
                    <a:pt x="614" y="792"/>
                  </a:lnTo>
                  <a:lnTo>
                    <a:pt x="607" y="784"/>
                  </a:lnTo>
                  <a:lnTo>
                    <a:pt x="597" y="777"/>
                  </a:lnTo>
                  <a:lnTo>
                    <a:pt x="587" y="771"/>
                  </a:lnTo>
                  <a:lnTo>
                    <a:pt x="575" y="762"/>
                  </a:lnTo>
                  <a:lnTo>
                    <a:pt x="565" y="754"/>
                  </a:lnTo>
                  <a:lnTo>
                    <a:pt x="554" y="744"/>
                  </a:lnTo>
                  <a:lnTo>
                    <a:pt x="542" y="736"/>
                  </a:lnTo>
                  <a:lnTo>
                    <a:pt x="529" y="729"/>
                  </a:lnTo>
                  <a:lnTo>
                    <a:pt x="515" y="721"/>
                  </a:lnTo>
                  <a:lnTo>
                    <a:pt x="502" y="716"/>
                  </a:lnTo>
                  <a:lnTo>
                    <a:pt x="480" y="702"/>
                  </a:lnTo>
                  <a:lnTo>
                    <a:pt x="470" y="686"/>
                  </a:lnTo>
                  <a:lnTo>
                    <a:pt x="464" y="667"/>
                  </a:lnTo>
                  <a:lnTo>
                    <a:pt x="454" y="649"/>
                  </a:lnTo>
                  <a:lnTo>
                    <a:pt x="444" y="634"/>
                  </a:lnTo>
                  <a:lnTo>
                    <a:pt x="437" y="621"/>
                  </a:lnTo>
                  <a:lnTo>
                    <a:pt x="435" y="611"/>
                  </a:lnTo>
                  <a:lnTo>
                    <a:pt x="435" y="607"/>
                  </a:lnTo>
                  <a:lnTo>
                    <a:pt x="437" y="607"/>
                  </a:lnTo>
                  <a:lnTo>
                    <a:pt x="442" y="606"/>
                  </a:lnTo>
                  <a:lnTo>
                    <a:pt x="449" y="602"/>
                  </a:lnTo>
                  <a:lnTo>
                    <a:pt x="455" y="596"/>
                  </a:lnTo>
                  <a:lnTo>
                    <a:pt x="459" y="589"/>
                  </a:lnTo>
                  <a:lnTo>
                    <a:pt x="459" y="577"/>
                  </a:lnTo>
                  <a:lnTo>
                    <a:pt x="454" y="564"/>
                  </a:lnTo>
                  <a:lnTo>
                    <a:pt x="440" y="546"/>
                  </a:lnTo>
                  <a:lnTo>
                    <a:pt x="434" y="539"/>
                  </a:lnTo>
                  <a:lnTo>
                    <a:pt x="429" y="532"/>
                  </a:lnTo>
                  <a:lnTo>
                    <a:pt x="424" y="529"/>
                  </a:lnTo>
                  <a:lnTo>
                    <a:pt x="420" y="526"/>
                  </a:lnTo>
                  <a:lnTo>
                    <a:pt x="419" y="527"/>
                  </a:lnTo>
                  <a:lnTo>
                    <a:pt x="415" y="526"/>
                  </a:lnTo>
                  <a:lnTo>
                    <a:pt x="415" y="522"/>
                  </a:lnTo>
                  <a:lnTo>
                    <a:pt x="420" y="526"/>
                  </a:lnTo>
                  <a:lnTo>
                    <a:pt x="420" y="524"/>
                  </a:lnTo>
                  <a:lnTo>
                    <a:pt x="419" y="521"/>
                  </a:lnTo>
                  <a:lnTo>
                    <a:pt x="419" y="517"/>
                  </a:lnTo>
                  <a:lnTo>
                    <a:pt x="417" y="512"/>
                  </a:lnTo>
                  <a:lnTo>
                    <a:pt x="409" y="490"/>
                  </a:lnTo>
                  <a:lnTo>
                    <a:pt x="405" y="477"/>
                  </a:lnTo>
                  <a:lnTo>
                    <a:pt x="399" y="467"/>
                  </a:lnTo>
                  <a:lnTo>
                    <a:pt x="384" y="455"/>
                  </a:lnTo>
                  <a:lnTo>
                    <a:pt x="372" y="440"/>
                  </a:lnTo>
                  <a:lnTo>
                    <a:pt x="374" y="425"/>
                  </a:lnTo>
                  <a:lnTo>
                    <a:pt x="375" y="412"/>
                  </a:lnTo>
                  <a:lnTo>
                    <a:pt x="364" y="399"/>
                  </a:lnTo>
                  <a:lnTo>
                    <a:pt x="345" y="387"/>
                  </a:lnTo>
                  <a:lnTo>
                    <a:pt x="332" y="372"/>
                  </a:lnTo>
                  <a:lnTo>
                    <a:pt x="325" y="355"/>
                  </a:lnTo>
                  <a:lnTo>
                    <a:pt x="322" y="337"/>
                  </a:lnTo>
                  <a:lnTo>
                    <a:pt x="319" y="317"/>
                  </a:lnTo>
                  <a:lnTo>
                    <a:pt x="309" y="290"/>
                  </a:lnTo>
                  <a:lnTo>
                    <a:pt x="294" y="264"/>
                  </a:lnTo>
                  <a:lnTo>
                    <a:pt x="273" y="237"/>
                  </a:lnTo>
                  <a:lnTo>
                    <a:pt x="260" y="215"/>
                  </a:lnTo>
                  <a:lnTo>
                    <a:pt x="257" y="197"/>
                  </a:lnTo>
                  <a:lnTo>
                    <a:pt x="255" y="184"/>
                  </a:lnTo>
                  <a:lnTo>
                    <a:pt x="245" y="175"/>
                  </a:lnTo>
                  <a:lnTo>
                    <a:pt x="233" y="167"/>
                  </a:lnTo>
                  <a:lnTo>
                    <a:pt x="228" y="154"/>
                  </a:lnTo>
                  <a:lnTo>
                    <a:pt x="222" y="140"/>
                  </a:lnTo>
                  <a:lnTo>
                    <a:pt x="207" y="124"/>
                  </a:lnTo>
                  <a:lnTo>
                    <a:pt x="188" y="100"/>
                  </a:lnTo>
                  <a:lnTo>
                    <a:pt x="175" y="74"/>
                  </a:lnTo>
                  <a:lnTo>
                    <a:pt x="168" y="52"/>
                  </a:lnTo>
                  <a:lnTo>
                    <a:pt x="165" y="42"/>
                  </a:lnTo>
                  <a:lnTo>
                    <a:pt x="160" y="42"/>
                  </a:lnTo>
                  <a:lnTo>
                    <a:pt x="148" y="42"/>
                  </a:lnTo>
                  <a:lnTo>
                    <a:pt x="133" y="42"/>
                  </a:lnTo>
                  <a:lnTo>
                    <a:pt x="122" y="42"/>
                  </a:lnTo>
                  <a:lnTo>
                    <a:pt x="110" y="42"/>
                  </a:lnTo>
                  <a:lnTo>
                    <a:pt x="100" y="44"/>
                  </a:lnTo>
                  <a:lnTo>
                    <a:pt x="92" y="47"/>
                  </a:lnTo>
                  <a:lnTo>
                    <a:pt x="88" y="47"/>
                  </a:lnTo>
                  <a:lnTo>
                    <a:pt x="90" y="44"/>
                  </a:lnTo>
                  <a:lnTo>
                    <a:pt x="93" y="34"/>
                  </a:lnTo>
                  <a:lnTo>
                    <a:pt x="98" y="20"/>
                  </a:lnTo>
                  <a:lnTo>
                    <a:pt x="103" y="8"/>
                  </a:lnTo>
                  <a:lnTo>
                    <a:pt x="103" y="8"/>
                  </a:lnTo>
                  <a:lnTo>
                    <a:pt x="103" y="8"/>
                  </a:lnTo>
                  <a:lnTo>
                    <a:pt x="103" y="8"/>
                  </a:lnTo>
                  <a:lnTo>
                    <a:pt x="103" y="8"/>
                  </a:lnTo>
                  <a:lnTo>
                    <a:pt x="67" y="0"/>
                  </a:lnTo>
                  <a:lnTo>
                    <a:pt x="67" y="5"/>
                  </a:lnTo>
                  <a:lnTo>
                    <a:pt x="65" y="19"/>
                  </a:lnTo>
                  <a:lnTo>
                    <a:pt x="62" y="34"/>
                  </a:lnTo>
                  <a:lnTo>
                    <a:pt x="57" y="47"/>
                  </a:lnTo>
                  <a:lnTo>
                    <a:pt x="50" y="57"/>
                  </a:lnTo>
                  <a:lnTo>
                    <a:pt x="45" y="65"/>
                  </a:lnTo>
                  <a:lnTo>
                    <a:pt x="40" y="79"/>
                  </a:lnTo>
                  <a:lnTo>
                    <a:pt x="38" y="95"/>
                  </a:lnTo>
                  <a:lnTo>
                    <a:pt x="35" y="119"/>
                  </a:lnTo>
                  <a:lnTo>
                    <a:pt x="28" y="145"/>
                  </a:lnTo>
                  <a:lnTo>
                    <a:pt x="20" y="169"/>
                  </a:lnTo>
                  <a:lnTo>
                    <a:pt x="15" y="185"/>
                  </a:lnTo>
                  <a:lnTo>
                    <a:pt x="10" y="197"/>
                  </a:lnTo>
                  <a:lnTo>
                    <a:pt x="5" y="209"/>
                  </a:lnTo>
                  <a:lnTo>
                    <a:pt x="2" y="220"/>
                  </a:lnTo>
                  <a:lnTo>
                    <a:pt x="0" y="224"/>
                  </a:lnTo>
                  <a:lnTo>
                    <a:pt x="3" y="224"/>
                  </a:lnTo>
                  <a:lnTo>
                    <a:pt x="12" y="220"/>
                  </a:lnTo>
                  <a:lnTo>
                    <a:pt x="23" y="219"/>
                  </a:lnTo>
                  <a:lnTo>
                    <a:pt x="33" y="219"/>
                  </a:lnTo>
                  <a:lnTo>
                    <a:pt x="47" y="219"/>
                  </a:lnTo>
                  <a:lnTo>
                    <a:pt x="60" y="219"/>
                  </a:lnTo>
                  <a:lnTo>
                    <a:pt x="72" y="219"/>
                  </a:lnTo>
                  <a:lnTo>
                    <a:pt x="77" y="219"/>
                  </a:lnTo>
                  <a:lnTo>
                    <a:pt x="80" y="229"/>
                  </a:lnTo>
                  <a:lnTo>
                    <a:pt x="87" y="250"/>
                  </a:lnTo>
                  <a:lnTo>
                    <a:pt x="100" y="277"/>
                  </a:lnTo>
                  <a:lnTo>
                    <a:pt x="118" y="299"/>
                  </a:lnTo>
                  <a:lnTo>
                    <a:pt x="133" y="315"/>
                  </a:lnTo>
                  <a:lnTo>
                    <a:pt x="140" y="330"/>
                  </a:lnTo>
                  <a:lnTo>
                    <a:pt x="145" y="342"/>
                  </a:lnTo>
                  <a:lnTo>
                    <a:pt x="157" y="352"/>
                  </a:lnTo>
                  <a:lnTo>
                    <a:pt x="167" y="360"/>
                  </a:lnTo>
                  <a:lnTo>
                    <a:pt x="168" y="374"/>
                  </a:lnTo>
                  <a:lnTo>
                    <a:pt x="172" y="390"/>
                  </a:lnTo>
                  <a:lnTo>
                    <a:pt x="185" y="414"/>
                  </a:lnTo>
                  <a:lnTo>
                    <a:pt x="205" y="440"/>
                  </a:lnTo>
                  <a:lnTo>
                    <a:pt x="220" y="467"/>
                  </a:lnTo>
                  <a:lnTo>
                    <a:pt x="230" y="492"/>
                  </a:lnTo>
                  <a:lnTo>
                    <a:pt x="233" y="512"/>
                  </a:lnTo>
                  <a:lnTo>
                    <a:pt x="237" y="531"/>
                  </a:lnTo>
                  <a:lnTo>
                    <a:pt x="243" y="547"/>
                  </a:lnTo>
                  <a:lnTo>
                    <a:pt x="257" y="562"/>
                  </a:lnTo>
                  <a:lnTo>
                    <a:pt x="275" y="574"/>
                  </a:lnTo>
                  <a:lnTo>
                    <a:pt x="287" y="587"/>
                  </a:lnTo>
                  <a:lnTo>
                    <a:pt x="285" y="601"/>
                  </a:lnTo>
                  <a:lnTo>
                    <a:pt x="284" y="617"/>
                  </a:lnTo>
                  <a:lnTo>
                    <a:pt x="295" y="632"/>
                  </a:lnTo>
                  <a:lnTo>
                    <a:pt x="310" y="642"/>
                  </a:lnTo>
                  <a:lnTo>
                    <a:pt x="317" y="652"/>
                  </a:lnTo>
                  <a:lnTo>
                    <a:pt x="320" y="666"/>
                  </a:lnTo>
                  <a:lnTo>
                    <a:pt x="329" y="687"/>
                  </a:lnTo>
                  <a:lnTo>
                    <a:pt x="330" y="692"/>
                  </a:lnTo>
                  <a:lnTo>
                    <a:pt x="330" y="696"/>
                  </a:lnTo>
                  <a:lnTo>
                    <a:pt x="332" y="697"/>
                  </a:lnTo>
                  <a:lnTo>
                    <a:pt x="332" y="699"/>
                  </a:lnTo>
                  <a:lnTo>
                    <a:pt x="335" y="702"/>
                  </a:lnTo>
                  <a:lnTo>
                    <a:pt x="340" y="707"/>
                  </a:lnTo>
                  <a:lnTo>
                    <a:pt x="345" y="712"/>
                  </a:lnTo>
                  <a:lnTo>
                    <a:pt x="352" y="721"/>
                  </a:lnTo>
                  <a:lnTo>
                    <a:pt x="365" y="737"/>
                  </a:lnTo>
                  <a:lnTo>
                    <a:pt x="370" y="752"/>
                  </a:lnTo>
                  <a:lnTo>
                    <a:pt x="370" y="762"/>
                  </a:lnTo>
                  <a:lnTo>
                    <a:pt x="367" y="771"/>
                  </a:lnTo>
                  <a:lnTo>
                    <a:pt x="360" y="776"/>
                  </a:lnTo>
                  <a:lnTo>
                    <a:pt x="354" y="781"/>
                  </a:lnTo>
                  <a:lnTo>
                    <a:pt x="349" y="782"/>
                  </a:lnTo>
                  <a:lnTo>
                    <a:pt x="347" y="782"/>
                  </a:lnTo>
                  <a:lnTo>
                    <a:pt x="347" y="786"/>
                  </a:lnTo>
                  <a:lnTo>
                    <a:pt x="350" y="794"/>
                  </a:lnTo>
                  <a:lnTo>
                    <a:pt x="355" y="807"/>
                  </a:lnTo>
                  <a:lnTo>
                    <a:pt x="367" y="824"/>
                  </a:lnTo>
                  <a:lnTo>
                    <a:pt x="377" y="842"/>
                  </a:lnTo>
                  <a:lnTo>
                    <a:pt x="384" y="862"/>
                  </a:lnTo>
                  <a:lnTo>
                    <a:pt x="392" y="877"/>
                  </a:lnTo>
                  <a:lnTo>
                    <a:pt x="414" y="891"/>
                  </a:lnTo>
                  <a:lnTo>
                    <a:pt x="427" y="897"/>
                  </a:lnTo>
                  <a:lnTo>
                    <a:pt x="440" y="904"/>
                  </a:lnTo>
                  <a:lnTo>
                    <a:pt x="454" y="912"/>
                  </a:lnTo>
                  <a:lnTo>
                    <a:pt x="465" y="921"/>
                  </a:lnTo>
                  <a:lnTo>
                    <a:pt x="477" y="929"/>
                  </a:lnTo>
                  <a:lnTo>
                    <a:pt x="487" y="937"/>
                  </a:lnTo>
                  <a:lnTo>
                    <a:pt x="499" y="946"/>
                  </a:lnTo>
                  <a:lnTo>
                    <a:pt x="509" y="952"/>
                  </a:lnTo>
                  <a:lnTo>
                    <a:pt x="519" y="961"/>
                  </a:lnTo>
                  <a:lnTo>
                    <a:pt x="525" y="969"/>
                  </a:lnTo>
                  <a:lnTo>
                    <a:pt x="532" y="979"/>
                  </a:lnTo>
                  <a:lnTo>
                    <a:pt x="537" y="989"/>
                  </a:lnTo>
                  <a:lnTo>
                    <a:pt x="542" y="1002"/>
                  </a:lnTo>
                  <a:lnTo>
                    <a:pt x="547" y="1016"/>
                  </a:lnTo>
                  <a:lnTo>
                    <a:pt x="552" y="1031"/>
                  </a:lnTo>
                  <a:lnTo>
                    <a:pt x="560" y="1048"/>
                  </a:lnTo>
                  <a:lnTo>
                    <a:pt x="574" y="1079"/>
                  </a:lnTo>
                  <a:lnTo>
                    <a:pt x="584" y="1108"/>
                  </a:lnTo>
                  <a:lnTo>
                    <a:pt x="592" y="1136"/>
                  </a:lnTo>
                  <a:lnTo>
                    <a:pt x="609" y="1171"/>
                  </a:lnTo>
                  <a:lnTo>
                    <a:pt x="619" y="1213"/>
                  </a:lnTo>
                  <a:lnTo>
                    <a:pt x="612" y="1253"/>
                  </a:lnTo>
                  <a:lnTo>
                    <a:pt x="600" y="1283"/>
                  </a:lnTo>
                  <a:lnTo>
                    <a:pt x="594" y="1294"/>
                  </a:lnTo>
                  <a:lnTo>
                    <a:pt x="597" y="1301"/>
                  </a:lnTo>
                  <a:lnTo>
                    <a:pt x="604" y="1318"/>
                  </a:lnTo>
                  <a:lnTo>
                    <a:pt x="612" y="1341"/>
                  </a:lnTo>
                  <a:lnTo>
                    <a:pt x="617" y="1366"/>
                  </a:lnTo>
                  <a:lnTo>
                    <a:pt x="620" y="1379"/>
                  </a:lnTo>
                  <a:lnTo>
                    <a:pt x="624" y="1394"/>
                  </a:lnTo>
                  <a:lnTo>
                    <a:pt x="629" y="1409"/>
                  </a:lnTo>
                  <a:lnTo>
                    <a:pt x="635" y="1428"/>
                  </a:lnTo>
                  <a:lnTo>
                    <a:pt x="644" y="1444"/>
                  </a:lnTo>
                  <a:lnTo>
                    <a:pt x="654" y="1463"/>
                  </a:lnTo>
                  <a:lnTo>
                    <a:pt x="664" y="1481"/>
                  </a:lnTo>
                  <a:lnTo>
                    <a:pt x="675" y="1499"/>
                  </a:lnTo>
                  <a:lnTo>
                    <a:pt x="687" y="1516"/>
                  </a:lnTo>
                  <a:lnTo>
                    <a:pt x="695" y="1531"/>
                  </a:lnTo>
                  <a:lnTo>
                    <a:pt x="702" y="1543"/>
                  </a:lnTo>
                  <a:lnTo>
                    <a:pt x="707" y="1553"/>
                  </a:lnTo>
                  <a:lnTo>
                    <a:pt x="712" y="1561"/>
                  </a:lnTo>
                  <a:lnTo>
                    <a:pt x="719" y="1566"/>
                  </a:lnTo>
                  <a:lnTo>
                    <a:pt x="724" y="1570"/>
                  </a:lnTo>
                  <a:lnTo>
                    <a:pt x="732" y="1571"/>
                  </a:lnTo>
                  <a:lnTo>
                    <a:pt x="742" y="1573"/>
                  </a:lnTo>
                  <a:lnTo>
                    <a:pt x="754" y="1576"/>
                  </a:lnTo>
                  <a:lnTo>
                    <a:pt x="765" y="1581"/>
                  </a:lnTo>
                  <a:lnTo>
                    <a:pt x="779" y="1588"/>
                  </a:lnTo>
                  <a:lnTo>
                    <a:pt x="792" y="1595"/>
                  </a:lnTo>
                  <a:lnTo>
                    <a:pt x="804" y="1603"/>
                  </a:lnTo>
                  <a:lnTo>
                    <a:pt x="814" y="1611"/>
                  </a:lnTo>
                  <a:lnTo>
                    <a:pt x="822" y="1618"/>
                  </a:lnTo>
                  <a:lnTo>
                    <a:pt x="834" y="1633"/>
                  </a:lnTo>
                  <a:lnTo>
                    <a:pt x="846" y="1648"/>
                  </a:lnTo>
                  <a:lnTo>
                    <a:pt x="856" y="1663"/>
                  </a:lnTo>
                  <a:lnTo>
                    <a:pt x="866" y="1675"/>
                  </a:lnTo>
                  <a:lnTo>
                    <a:pt x="872" y="1685"/>
                  </a:lnTo>
                  <a:lnTo>
                    <a:pt x="881" y="1700"/>
                  </a:lnTo>
                  <a:lnTo>
                    <a:pt x="891" y="1721"/>
                  </a:lnTo>
                  <a:lnTo>
                    <a:pt x="902" y="1743"/>
                  </a:lnTo>
                  <a:lnTo>
                    <a:pt x="912" y="1768"/>
                  </a:lnTo>
                  <a:lnTo>
                    <a:pt x="921" y="1790"/>
                  </a:lnTo>
                  <a:lnTo>
                    <a:pt x="927" y="1810"/>
                  </a:lnTo>
                  <a:lnTo>
                    <a:pt x="931" y="1823"/>
                  </a:lnTo>
                  <a:lnTo>
                    <a:pt x="937" y="1841"/>
                  </a:lnTo>
                  <a:lnTo>
                    <a:pt x="951" y="1858"/>
                  </a:lnTo>
                  <a:lnTo>
                    <a:pt x="964" y="1878"/>
                  </a:lnTo>
                  <a:lnTo>
                    <a:pt x="979" y="1908"/>
                  </a:lnTo>
                  <a:lnTo>
                    <a:pt x="987" y="1926"/>
                  </a:lnTo>
                  <a:lnTo>
                    <a:pt x="999" y="1945"/>
                  </a:lnTo>
                  <a:lnTo>
                    <a:pt x="1014" y="1965"/>
                  </a:lnTo>
                  <a:lnTo>
                    <a:pt x="1029" y="1981"/>
                  </a:lnTo>
                  <a:lnTo>
                    <a:pt x="1044" y="2000"/>
                  </a:lnTo>
                  <a:lnTo>
                    <a:pt x="1059" y="2015"/>
                  </a:lnTo>
                  <a:lnTo>
                    <a:pt x="1072" y="2027"/>
                  </a:lnTo>
                  <a:lnTo>
                    <a:pt x="1084" y="2037"/>
                  </a:lnTo>
                  <a:lnTo>
                    <a:pt x="1097" y="2052"/>
                  </a:lnTo>
                  <a:lnTo>
                    <a:pt x="1106" y="2068"/>
                  </a:lnTo>
                  <a:lnTo>
                    <a:pt x="1109" y="2085"/>
                  </a:lnTo>
                  <a:lnTo>
                    <a:pt x="1112" y="2098"/>
                  </a:lnTo>
                  <a:lnTo>
                    <a:pt x="1117" y="2108"/>
                  </a:lnTo>
                  <a:lnTo>
                    <a:pt x="1126" y="2120"/>
                  </a:lnTo>
                  <a:lnTo>
                    <a:pt x="1136" y="2132"/>
                  </a:lnTo>
                  <a:lnTo>
                    <a:pt x="1146" y="2145"/>
                  </a:lnTo>
                  <a:lnTo>
                    <a:pt x="1156" y="2160"/>
                  </a:lnTo>
                  <a:lnTo>
                    <a:pt x="1164" y="2175"/>
                  </a:lnTo>
                  <a:lnTo>
                    <a:pt x="1169" y="2190"/>
                  </a:lnTo>
                  <a:lnTo>
                    <a:pt x="1169" y="2202"/>
                  </a:lnTo>
                  <a:lnTo>
                    <a:pt x="1169" y="2217"/>
                  </a:lnTo>
                  <a:lnTo>
                    <a:pt x="1172" y="2233"/>
                  </a:lnTo>
                  <a:lnTo>
                    <a:pt x="1177" y="2248"/>
                  </a:lnTo>
                  <a:lnTo>
                    <a:pt x="1179" y="2255"/>
                  </a:lnTo>
                  <a:lnTo>
                    <a:pt x="1216" y="2227"/>
                  </a:lnTo>
                  <a:lnTo>
                    <a:pt x="1219" y="2222"/>
                  </a:lnTo>
                  <a:lnTo>
                    <a:pt x="1226" y="2208"/>
                  </a:lnTo>
                  <a:lnTo>
                    <a:pt x="1232" y="2192"/>
                  </a:lnTo>
                  <a:lnTo>
                    <a:pt x="1236" y="2178"/>
                  </a:lnTo>
                  <a:lnTo>
                    <a:pt x="1236" y="2165"/>
                  </a:lnTo>
                  <a:lnTo>
                    <a:pt x="1234" y="2145"/>
                  </a:lnTo>
                  <a:lnTo>
                    <a:pt x="1236" y="2123"/>
                  </a:lnTo>
                  <a:lnTo>
                    <a:pt x="1241" y="2103"/>
                  </a:lnTo>
                  <a:lnTo>
                    <a:pt x="1241" y="2087"/>
                  </a:lnTo>
                  <a:lnTo>
                    <a:pt x="1236" y="2077"/>
                  </a:lnTo>
                  <a:lnTo>
                    <a:pt x="1234" y="2067"/>
                  </a:lnTo>
                  <a:lnTo>
                    <a:pt x="1241" y="2060"/>
                  </a:lnTo>
                  <a:lnTo>
                    <a:pt x="1246" y="2057"/>
                  </a:lnTo>
                  <a:lnTo>
                    <a:pt x="1251" y="2057"/>
                  </a:lnTo>
                  <a:lnTo>
                    <a:pt x="1256" y="2058"/>
                  </a:lnTo>
                  <a:lnTo>
                    <a:pt x="1261" y="2062"/>
                  </a:lnTo>
                  <a:lnTo>
                    <a:pt x="1259" y="2052"/>
                  </a:lnTo>
                  <a:lnTo>
                    <a:pt x="1257" y="2043"/>
                  </a:lnTo>
                  <a:lnTo>
                    <a:pt x="1256" y="2033"/>
                  </a:lnTo>
                  <a:lnTo>
                    <a:pt x="1257" y="2027"/>
                  </a:lnTo>
                  <a:close/>
                </a:path>
              </a:pathLst>
            </a:custGeom>
            <a:solidFill>
              <a:srgbClr val="ffffff">
                <a:alpha val="10000"/>
              </a:srgbClr>
            </a:solidFill>
            <a:ln cap="sq" w="9360">
              <a:solidFill>
                <a:srgbClr val="ffffff"/>
              </a:solidFill>
              <a:round/>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5" name=""/>
            <p:cNvSpPr/>
            <p:nvPr/>
          </p:nvSpPr>
          <p:spPr>
            <a:xfrm>
              <a:off x="3086280" y="3706920"/>
              <a:ext cx="4680" cy="4680"/>
            </a:xfrm>
            <a:custGeom>
              <a:avLst/>
              <a:gdLst/>
              <a:ahLst/>
              <a:rect l="l" t="t" r="r" b="b"/>
              <a:pathLst>
                <a:path w="5" h="5">
                  <a:moveTo>
                    <a:pt x="5" y="3"/>
                  </a:moveTo>
                  <a:lnTo>
                    <a:pt x="0" y="0"/>
                  </a:lnTo>
                  <a:lnTo>
                    <a:pt x="2" y="3"/>
                  </a:lnTo>
                  <a:lnTo>
                    <a:pt x="3" y="5"/>
                  </a:lnTo>
                  <a:lnTo>
                    <a:pt x="5" y="3"/>
                  </a:lnTo>
                  <a:lnTo>
                    <a:pt x="5" y="3"/>
                  </a:lnTo>
                  <a:close/>
                </a:path>
              </a:pathLst>
            </a:custGeom>
            <a:solidFill>
              <a:srgbClr val="000000"/>
            </a:solidFill>
            <a:ln w="0">
              <a:noFill/>
            </a:ln>
          </p:spPr>
          <p:style>
            <a:lnRef idx="0"/>
            <a:fillRef idx="0"/>
            <a:effectRef idx="0"/>
            <a:fontRef idx="minor"/>
          </p:style>
          <p:txBody>
            <a:bodyPr wrap="none" lIns="90000" rIns="90000" tIns="-42120" bIns="-421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4379760" y="4662360"/>
              <a:ext cx="2567160" cy="993960"/>
            </a:xfrm>
            <a:custGeom>
              <a:avLst/>
              <a:gdLst/>
              <a:ahLst/>
              <a:rect l="l" t="t" r="r" b="b"/>
              <a:pathLst>
                <a:path w="1881" h="744">
                  <a:moveTo>
                    <a:pt x="1298" y="222"/>
                  </a:moveTo>
                  <a:lnTo>
                    <a:pt x="1283" y="225"/>
                  </a:lnTo>
                  <a:lnTo>
                    <a:pt x="1263" y="230"/>
                  </a:lnTo>
                  <a:lnTo>
                    <a:pt x="1239" y="235"/>
                  </a:lnTo>
                  <a:lnTo>
                    <a:pt x="1214" y="242"/>
                  </a:lnTo>
                  <a:lnTo>
                    <a:pt x="1186" y="249"/>
                  </a:lnTo>
                  <a:lnTo>
                    <a:pt x="1157" y="255"/>
                  </a:lnTo>
                  <a:lnTo>
                    <a:pt x="1127" y="262"/>
                  </a:lnTo>
                  <a:lnTo>
                    <a:pt x="1097" y="269"/>
                  </a:lnTo>
                  <a:lnTo>
                    <a:pt x="1067" y="275"/>
                  </a:lnTo>
                  <a:lnTo>
                    <a:pt x="1039" y="284"/>
                  </a:lnTo>
                  <a:lnTo>
                    <a:pt x="1012" y="290"/>
                  </a:lnTo>
                  <a:lnTo>
                    <a:pt x="989" y="297"/>
                  </a:lnTo>
                  <a:lnTo>
                    <a:pt x="967" y="302"/>
                  </a:lnTo>
                  <a:lnTo>
                    <a:pt x="949" y="309"/>
                  </a:lnTo>
                  <a:lnTo>
                    <a:pt x="936" y="314"/>
                  </a:lnTo>
                  <a:lnTo>
                    <a:pt x="927" y="317"/>
                  </a:lnTo>
                  <a:lnTo>
                    <a:pt x="914" y="324"/>
                  </a:lnTo>
                  <a:lnTo>
                    <a:pt x="901" y="329"/>
                  </a:lnTo>
                  <a:lnTo>
                    <a:pt x="887" y="337"/>
                  </a:lnTo>
                  <a:lnTo>
                    <a:pt x="872" y="344"/>
                  </a:lnTo>
                  <a:lnTo>
                    <a:pt x="857" y="355"/>
                  </a:lnTo>
                  <a:lnTo>
                    <a:pt x="842" y="369"/>
                  </a:lnTo>
                  <a:lnTo>
                    <a:pt x="826" y="389"/>
                  </a:lnTo>
                  <a:lnTo>
                    <a:pt x="807" y="412"/>
                  </a:lnTo>
                  <a:lnTo>
                    <a:pt x="791" y="437"/>
                  </a:lnTo>
                  <a:lnTo>
                    <a:pt x="776" y="460"/>
                  </a:lnTo>
                  <a:lnTo>
                    <a:pt x="761" y="482"/>
                  </a:lnTo>
                  <a:lnTo>
                    <a:pt x="747" y="502"/>
                  </a:lnTo>
                  <a:lnTo>
                    <a:pt x="737" y="519"/>
                  </a:lnTo>
                  <a:lnTo>
                    <a:pt x="727" y="532"/>
                  </a:lnTo>
                  <a:lnTo>
                    <a:pt x="719" y="542"/>
                  </a:lnTo>
                  <a:lnTo>
                    <a:pt x="712" y="549"/>
                  </a:lnTo>
                  <a:lnTo>
                    <a:pt x="706" y="554"/>
                  </a:lnTo>
                  <a:lnTo>
                    <a:pt x="699" y="559"/>
                  </a:lnTo>
                  <a:lnTo>
                    <a:pt x="689" y="564"/>
                  </a:lnTo>
                  <a:lnTo>
                    <a:pt x="679" y="565"/>
                  </a:lnTo>
                  <a:lnTo>
                    <a:pt x="667" y="567"/>
                  </a:lnTo>
                  <a:lnTo>
                    <a:pt x="657" y="567"/>
                  </a:lnTo>
                  <a:lnTo>
                    <a:pt x="647" y="564"/>
                  </a:lnTo>
                  <a:lnTo>
                    <a:pt x="637" y="559"/>
                  </a:lnTo>
                  <a:lnTo>
                    <a:pt x="629" y="552"/>
                  </a:lnTo>
                  <a:lnTo>
                    <a:pt x="622" y="544"/>
                  </a:lnTo>
                  <a:lnTo>
                    <a:pt x="615" y="535"/>
                  </a:lnTo>
                  <a:lnTo>
                    <a:pt x="609" y="529"/>
                  </a:lnTo>
                  <a:lnTo>
                    <a:pt x="602" y="524"/>
                  </a:lnTo>
                  <a:lnTo>
                    <a:pt x="595" y="520"/>
                  </a:lnTo>
                  <a:lnTo>
                    <a:pt x="589" y="519"/>
                  </a:lnTo>
                  <a:lnTo>
                    <a:pt x="580" y="520"/>
                  </a:lnTo>
                  <a:lnTo>
                    <a:pt x="569" y="524"/>
                  </a:lnTo>
                  <a:lnTo>
                    <a:pt x="554" y="525"/>
                  </a:lnTo>
                  <a:lnTo>
                    <a:pt x="537" y="525"/>
                  </a:lnTo>
                  <a:lnTo>
                    <a:pt x="519" y="525"/>
                  </a:lnTo>
                  <a:lnTo>
                    <a:pt x="499" y="525"/>
                  </a:lnTo>
                  <a:lnTo>
                    <a:pt x="480" y="524"/>
                  </a:lnTo>
                  <a:lnTo>
                    <a:pt x="462" y="522"/>
                  </a:lnTo>
                  <a:lnTo>
                    <a:pt x="447" y="520"/>
                  </a:lnTo>
                  <a:lnTo>
                    <a:pt x="432" y="519"/>
                  </a:lnTo>
                  <a:lnTo>
                    <a:pt x="417" y="515"/>
                  </a:lnTo>
                  <a:lnTo>
                    <a:pt x="404" y="510"/>
                  </a:lnTo>
                  <a:lnTo>
                    <a:pt x="389" y="507"/>
                  </a:lnTo>
                  <a:lnTo>
                    <a:pt x="375" y="504"/>
                  </a:lnTo>
                  <a:lnTo>
                    <a:pt x="364" y="500"/>
                  </a:lnTo>
                  <a:lnTo>
                    <a:pt x="352" y="497"/>
                  </a:lnTo>
                  <a:lnTo>
                    <a:pt x="342" y="497"/>
                  </a:lnTo>
                  <a:lnTo>
                    <a:pt x="329" y="497"/>
                  </a:lnTo>
                  <a:lnTo>
                    <a:pt x="307" y="497"/>
                  </a:lnTo>
                  <a:lnTo>
                    <a:pt x="280" y="499"/>
                  </a:lnTo>
                  <a:lnTo>
                    <a:pt x="250" y="499"/>
                  </a:lnTo>
                  <a:lnTo>
                    <a:pt x="224" y="500"/>
                  </a:lnTo>
                  <a:lnTo>
                    <a:pt x="200" y="502"/>
                  </a:lnTo>
                  <a:lnTo>
                    <a:pt x="184" y="502"/>
                  </a:lnTo>
                  <a:lnTo>
                    <a:pt x="177" y="502"/>
                  </a:lnTo>
                  <a:lnTo>
                    <a:pt x="175" y="504"/>
                  </a:lnTo>
                  <a:lnTo>
                    <a:pt x="170" y="505"/>
                  </a:lnTo>
                  <a:lnTo>
                    <a:pt x="164" y="509"/>
                  </a:lnTo>
                  <a:lnTo>
                    <a:pt x="155" y="510"/>
                  </a:lnTo>
                  <a:lnTo>
                    <a:pt x="144" y="512"/>
                  </a:lnTo>
                  <a:lnTo>
                    <a:pt x="132" y="512"/>
                  </a:lnTo>
                  <a:lnTo>
                    <a:pt x="120" y="509"/>
                  </a:lnTo>
                  <a:lnTo>
                    <a:pt x="107" y="502"/>
                  </a:lnTo>
                  <a:lnTo>
                    <a:pt x="95" y="494"/>
                  </a:lnTo>
                  <a:lnTo>
                    <a:pt x="87" y="485"/>
                  </a:lnTo>
                  <a:lnTo>
                    <a:pt x="80" y="479"/>
                  </a:lnTo>
                  <a:lnTo>
                    <a:pt x="75" y="475"/>
                  </a:lnTo>
                  <a:lnTo>
                    <a:pt x="70" y="472"/>
                  </a:lnTo>
                  <a:lnTo>
                    <a:pt x="65" y="470"/>
                  </a:lnTo>
                  <a:lnTo>
                    <a:pt x="60" y="470"/>
                  </a:lnTo>
                  <a:lnTo>
                    <a:pt x="53" y="474"/>
                  </a:lnTo>
                  <a:lnTo>
                    <a:pt x="47" y="480"/>
                  </a:lnTo>
                  <a:lnTo>
                    <a:pt x="50" y="489"/>
                  </a:lnTo>
                  <a:lnTo>
                    <a:pt x="55" y="500"/>
                  </a:lnTo>
                  <a:lnTo>
                    <a:pt x="53" y="515"/>
                  </a:lnTo>
                  <a:lnTo>
                    <a:pt x="50" y="535"/>
                  </a:lnTo>
                  <a:lnTo>
                    <a:pt x="48" y="557"/>
                  </a:lnTo>
                  <a:lnTo>
                    <a:pt x="50" y="577"/>
                  </a:lnTo>
                  <a:lnTo>
                    <a:pt x="50" y="592"/>
                  </a:lnTo>
                  <a:lnTo>
                    <a:pt x="47" y="606"/>
                  </a:lnTo>
                  <a:lnTo>
                    <a:pt x="40" y="621"/>
                  </a:lnTo>
                  <a:lnTo>
                    <a:pt x="33" y="634"/>
                  </a:lnTo>
                  <a:lnTo>
                    <a:pt x="30" y="639"/>
                  </a:lnTo>
                  <a:lnTo>
                    <a:pt x="0" y="662"/>
                  </a:lnTo>
                  <a:lnTo>
                    <a:pt x="3" y="666"/>
                  </a:lnTo>
                  <a:lnTo>
                    <a:pt x="8" y="669"/>
                  </a:lnTo>
                  <a:lnTo>
                    <a:pt x="13" y="674"/>
                  </a:lnTo>
                  <a:lnTo>
                    <a:pt x="18" y="677"/>
                  </a:lnTo>
                  <a:lnTo>
                    <a:pt x="32" y="684"/>
                  </a:lnTo>
                  <a:lnTo>
                    <a:pt x="43" y="687"/>
                  </a:lnTo>
                  <a:lnTo>
                    <a:pt x="55" y="687"/>
                  </a:lnTo>
                  <a:lnTo>
                    <a:pt x="67" y="686"/>
                  </a:lnTo>
                  <a:lnTo>
                    <a:pt x="77" y="684"/>
                  </a:lnTo>
                  <a:lnTo>
                    <a:pt x="83" y="681"/>
                  </a:lnTo>
                  <a:lnTo>
                    <a:pt x="88" y="679"/>
                  </a:lnTo>
                  <a:lnTo>
                    <a:pt x="90" y="677"/>
                  </a:lnTo>
                  <a:lnTo>
                    <a:pt x="97" y="677"/>
                  </a:lnTo>
                  <a:lnTo>
                    <a:pt x="114" y="677"/>
                  </a:lnTo>
                  <a:lnTo>
                    <a:pt x="137" y="676"/>
                  </a:lnTo>
                  <a:lnTo>
                    <a:pt x="164" y="674"/>
                  </a:lnTo>
                  <a:lnTo>
                    <a:pt x="194" y="674"/>
                  </a:lnTo>
                  <a:lnTo>
                    <a:pt x="220" y="672"/>
                  </a:lnTo>
                  <a:lnTo>
                    <a:pt x="242" y="672"/>
                  </a:lnTo>
                  <a:lnTo>
                    <a:pt x="255" y="672"/>
                  </a:lnTo>
                  <a:lnTo>
                    <a:pt x="265" y="674"/>
                  </a:lnTo>
                  <a:lnTo>
                    <a:pt x="275" y="676"/>
                  </a:lnTo>
                  <a:lnTo>
                    <a:pt x="289" y="679"/>
                  </a:lnTo>
                  <a:lnTo>
                    <a:pt x="302" y="682"/>
                  </a:lnTo>
                  <a:lnTo>
                    <a:pt x="315" y="687"/>
                  </a:lnTo>
                  <a:lnTo>
                    <a:pt x="330" y="691"/>
                  </a:lnTo>
                  <a:lnTo>
                    <a:pt x="344" y="694"/>
                  </a:lnTo>
                  <a:lnTo>
                    <a:pt x="359" y="697"/>
                  </a:lnTo>
                  <a:lnTo>
                    <a:pt x="374" y="699"/>
                  </a:lnTo>
                  <a:lnTo>
                    <a:pt x="392" y="701"/>
                  </a:lnTo>
                  <a:lnTo>
                    <a:pt x="412" y="701"/>
                  </a:lnTo>
                  <a:lnTo>
                    <a:pt x="430" y="702"/>
                  </a:lnTo>
                  <a:lnTo>
                    <a:pt x="450" y="702"/>
                  </a:lnTo>
                  <a:lnTo>
                    <a:pt x="467" y="701"/>
                  </a:lnTo>
                  <a:lnTo>
                    <a:pt x="480" y="701"/>
                  </a:lnTo>
                  <a:lnTo>
                    <a:pt x="492" y="697"/>
                  </a:lnTo>
                  <a:lnTo>
                    <a:pt x="500" y="696"/>
                  </a:lnTo>
                  <a:lnTo>
                    <a:pt x="507" y="696"/>
                  </a:lnTo>
                  <a:lnTo>
                    <a:pt x="514" y="699"/>
                  </a:lnTo>
                  <a:lnTo>
                    <a:pt x="520" y="706"/>
                  </a:lnTo>
                  <a:lnTo>
                    <a:pt x="527" y="712"/>
                  </a:lnTo>
                  <a:lnTo>
                    <a:pt x="534" y="719"/>
                  </a:lnTo>
                  <a:lnTo>
                    <a:pt x="540" y="727"/>
                  </a:lnTo>
                  <a:lnTo>
                    <a:pt x="549" y="734"/>
                  </a:lnTo>
                  <a:lnTo>
                    <a:pt x="559" y="741"/>
                  </a:lnTo>
                  <a:lnTo>
                    <a:pt x="569" y="742"/>
                  </a:lnTo>
                  <a:lnTo>
                    <a:pt x="579" y="744"/>
                  </a:lnTo>
                  <a:lnTo>
                    <a:pt x="590" y="742"/>
                  </a:lnTo>
                  <a:lnTo>
                    <a:pt x="600" y="739"/>
                  </a:lnTo>
                  <a:lnTo>
                    <a:pt x="610" y="736"/>
                  </a:lnTo>
                  <a:lnTo>
                    <a:pt x="619" y="731"/>
                  </a:lnTo>
                  <a:lnTo>
                    <a:pt x="625" y="726"/>
                  </a:lnTo>
                  <a:lnTo>
                    <a:pt x="632" y="719"/>
                  </a:lnTo>
                  <a:lnTo>
                    <a:pt x="639" y="707"/>
                  </a:lnTo>
                  <a:lnTo>
                    <a:pt x="649" y="694"/>
                  </a:lnTo>
                  <a:lnTo>
                    <a:pt x="661" y="677"/>
                  </a:lnTo>
                  <a:lnTo>
                    <a:pt x="672" y="659"/>
                  </a:lnTo>
                  <a:lnTo>
                    <a:pt x="687" y="637"/>
                  </a:lnTo>
                  <a:lnTo>
                    <a:pt x="704" y="614"/>
                  </a:lnTo>
                  <a:lnTo>
                    <a:pt x="721" y="587"/>
                  </a:lnTo>
                  <a:lnTo>
                    <a:pt x="737" y="564"/>
                  </a:lnTo>
                  <a:lnTo>
                    <a:pt x="754" y="544"/>
                  </a:lnTo>
                  <a:lnTo>
                    <a:pt x="769" y="530"/>
                  </a:lnTo>
                  <a:lnTo>
                    <a:pt x="786" y="519"/>
                  </a:lnTo>
                  <a:lnTo>
                    <a:pt x="799" y="512"/>
                  </a:lnTo>
                  <a:lnTo>
                    <a:pt x="812" y="504"/>
                  </a:lnTo>
                  <a:lnTo>
                    <a:pt x="826" y="499"/>
                  </a:lnTo>
                  <a:lnTo>
                    <a:pt x="839" y="492"/>
                  </a:lnTo>
                  <a:lnTo>
                    <a:pt x="847" y="489"/>
                  </a:lnTo>
                  <a:lnTo>
                    <a:pt x="862" y="484"/>
                  </a:lnTo>
                  <a:lnTo>
                    <a:pt x="879" y="479"/>
                  </a:lnTo>
                  <a:lnTo>
                    <a:pt x="901" y="472"/>
                  </a:lnTo>
                  <a:lnTo>
                    <a:pt x="926" y="465"/>
                  </a:lnTo>
                  <a:lnTo>
                    <a:pt x="952" y="459"/>
                  </a:lnTo>
                  <a:lnTo>
                    <a:pt x="981" y="452"/>
                  </a:lnTo>
                  <a:lnTo>
                    <a:pt x="1009" y="444"/>
                  </a:lnTo>
                  <a:lnTo>
                    <a:pt x="1039" y="437"/>
                  </a:lnTo>
                  <a:lnTo>
                    <a:pt x="1069" y="430"/>
                  </a:lnTo>
                  <a:lnTo>
                    <a:pt x="1097" y="424"/>
                  </a:lnTo>
                  <a:lnTo>
                    <a:pt x="1126" y="417"/>
                  </a:lnTo>
                  <a:lnTo>
                    <a:pt x="1151" y="410"/>
                  </a:lnTo>
                  <a:lnTo>
                    <a:pt x="1174" y="405"/>
                  </a:lnTo>
                  <a:lnTo>
                    <a:pt x="1194" y="400"/>
                  </a:lnTo>
                  <a:lnTo>
                    <a:pt x="1209" y="397"/>
                  </a:lnTo>
                  <a:lnTo>
                    <a:pt x="1236" y="390"/>
                  </a:lnTo>
                  <a:lnTo>
                    <a:pt x="1263" y="385"/>
                  </a:lnTo>
                  <a:lnTo>
                    <a:pt x="1289" y="382"/>
                  </a:lnTo>
                  <a:lnTo>
                    <a:pt x="1313" y="379"/>
                  </a:lnTo>
                  <a:lnTo>
                    <a:pt x="1336" y="375"/>
                  </a:lnTo>
                  <a:lnTo>
                    <a:pt x="1354" y="370"/>
                  </a:lnTo>
                  <a:lnTo>
                    <a:pt x="1371" y="365"/>
                  </a:lnTo>
                  <a:lnTo>
                    <a:pt x="1384" y="359"/>
                  </a:lnTo>
                  <a:lnTo>
                    <a:pt x="1394" y="354"/>
                  </a:lnTo>
                  <a:lnTo>
                    <a:pt x="1411" y="345"/>
                  </a:lnTo>
                  <a:lnTo>
                    <a:pt x="1434" y="334"/>
                  </a:lnTo>
                  <a:lnTo>
                    <a:pt x="1463" y="320"/>
                  </a:lnTo>
                  <a:lnTo>
                    <a:pt x="1496" y="307"/>
                  </a:lnTo>
                  <a:lnTo>
                    <a:pt x="1533" y="290"/>
                  </a:lnTo>
                  <a:lnTo>
                    <a:pt x="1571" y="274"/>
                  </a:lnTo>
                  <a:lnTo>
                    <a:pt x="1611" y="255"/>
                  </a:lnTo>
                  <a:lnTo>
                    <a:pt x="1649" y="239"/>
                  </a:lnTo>
                  <a:lnTo>
                    <a:pt x="1688" y="222"/>
                  </a:lnTo>
                  <a:lnTo>
                    <a:pt x="1723" y="207"/>
                  </a:lnTo>
                  <a:lnTo>
                    <a:pt x="1756" y="192"/>
                  </a:lnTo>
                  <a:lnTo>
                    <a:pt x="1783" y="180"/>
                  </a:lnTo>
                  <a:lnTo>
                    <a:pt x="1805" y="170"/>
                  </a:lnTo>
                  <a:lnTo>
                    <a:pt x="1820" y="164"/>
                  </a:lnTo>
                  <a:lnTo>
                    <a:pt x="1826" y="160"/>
                  </a:lnTo>
                  <a:lnTo>
                    <a:pt x="1836" y="152"/>
                  </a:lnTo>
                  <a:lnTo>
                    <a:pt x="1841" y="142"/>
                  </a:lnTo>
                  <a:lnTo>
                    <a:pt x="1845" y="130"/>
                  </a:lnTo>
                  <a:lnTo>
                    <a:pt x="1846" y="117"/>
                  </a:lnTo>
                  <a:lnTo>
                    <a:pt x="1848" y="100"/>
                  </a:lnTo>
                  <a:lnTo>
                    <a:pt x="1851" y="78"/>
                  </a:lnTo>
                  <a:lnTo>
                    <a:pt x="1858" y="57"/>
                  </a:lnTo>
                  <a:lnTo>
                    <a:pt x="1865" y="37"/>
                  </a:lnTo>
                  <a:lnTo>
                    <a:pt x="1868" y="27"/>
                  </a:lnTo>
                  <a:lnTo>
                    <a:pt x="1873" y="18"/>
                  </a:lnTo>
                  <a:lnTo>
                    <a:pt x="1876" y="8"/>
                  </a:lnTo>
                  <a:lnTo>
                    <a:pt x="1881" y="0"/>
                  </a:lnTo>
                  <a:lnTo>
                    <a:pt x="1861" y="10"/>
                  </a:lnTo>
                  <a:lnTo>
                    <a:pt x="1836" y="20"/>
                  </a:lnTo>
                  <a:lnTo>
                    <a:pt x="1808" y="32"/>
                  </a:lnTo>
                  <a:lnTo>
                    <a:pt x="1778" y="45"/>
                  </a:lnTo>
                  <a:lnTo>
                    <a:pt x="1746" y="58"/>
                  </a:lnTo>
                  <a:lnTo>
                    <a:pt x="1714" y="73"/>
                  </a:lnTo>
                  <a:lnTo>
                    <a:pt x="1681" y="88"/>
                  </a:lnTo>
                  <a:lnTo>
                    <a:pt x="1648" y="102"/>
                  </a:lnTo>
                  <a:lnTo>
                    <a:pt x="1616" y="117"/>
                  </a:lnTo>
                  <a:lnTo>
                    <a:pt x="1586" y="130"/>
                  </a:lnTo>
                  <a:lnTo>
                    <a:pt x="1558" y="142"/>
                  </a:lnTo>
                  <a:lnTo>
                    <a:pt x="1533" y="154"/>
                  </a:lnTo>
                  <a:lnTo>
                    <a:pt x="1511" y="164"/>
                  </a:lnTo>
                  <a:lnTo>
                    <a:pt x="1493" y="174"/>
                  </a:lnTo>
                  <a:lnTo>
                    <a:pt x="1479" y="179"/>
                  </a:lnTo>
                  <a:lnTo>
                    <a:pt x="1473" y="184"/>
                  </a:lnTo>
                  <a:lnTo>
                    <a:pt x="1459" y="190"/>
                  </a:lnTo>
                  <a:lnTo>
                    <a:pt x="1443" y="195"/>
                  </a:lnTo>
                  <a:lnTo>
                    <a:pt x="1423" y="199"/>
                  </a:lnTo>
                  <a:lnTo>
                    <a:pt x="1401" y="202"/>
                  </a:lnTo>
                  <a:lnTo>
                    <a:pt x="1376" y="205"/>
                  </a:lnTo>
                  <a:lnTo>
                    <a:pt x="1351" y="210"/>
                  </a:lnTo>
                  <a:lnTo>
                    <a:pt x="1324" y="215"/>
                  </a:lnTo>
                  <a:lnTo>
                    <a:pt x="1298" y="222"/>
                  </a:lnTo>
                  <a:close/>
                </a:path>
              </a:pathLst>
            </a:custGeom>
            <a:solidFill>
              <a:srgbClr val="ffffff">
                <a:alpha val="20000"/>
              </a:srgbClr>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7" name=""/>
            <p:cNvSpPr/>
            <p:nvPr/>
          </p:nvSpPr>
          <p:spPr>
            <a:xfrm>
              <a:off x="2813040" y="1803240"/>
              <a:ext cx="4348080" cy="3579840"/>
            </a:xfrm>
            <a:custGeom>
              <a:avLst/>
              <a:gdLst/>
              <a:ahLst/>
              <a:rect l="l" t="t" r="r" b="b"/>
              <a:pathLst>
                <a:path w="3185" h="2678">
                  <a:moveTo>
                    <a:pt x="380" y="90"/>
                  </a:moveTo>
                  <a:lnTo>
                    <a:pt x="683" y="28"/>
                  </a:lnTo>
                  <a:lnTo>
                    <a:pt x="693" y="0"/>
                  </a:lnTo>
                  <a:lnTo>
                    <a:pt x="695" y="0"/>
                  </a:lnTo>
                  <a:lnTo>
                    <a:pt x="698" y="0"/>
                  </a:lnTo>
                  <a:lnTo>
                    <a:pt x="704" y="0"/>
                  </a:lnTo>
                  <a:lnTo>
                    <a:pt x="712" y="0"/>
                  </a:lnTo>
                  <a:lnTo>
                    <a:pt x="720" y="0"/>
                  </a:lnTo>
                  <a:lnTo>
                    <a:pt x="734" y="2"/>
                  </a:lnTo>
                  <a:lnTo>
                    <a:pt x="747" y="5"/>
                  </a:lnTo>
                  <a:lnTo>
                    <a:pt x="764" y="10"/>
                  </a:lnTo>
                  <a:lnTo>
                    <a:pt x="782" y="15"/>
                  </a:lnTo>
                  <a:lnTo>
                    <a:pt x="799" y="20"/>
                  </a:lnTo>
                  <a:lnTo>
                    <a:pt x="817" y="23"/>
                  </a:lnTo>
                  <a:lnTo>
                    <a:pt x="832" y="28"/>
                  </a:lnTo>
                  <a:lnTo>
                    <a:pt x="847" y="32"/>
                  </a:lnTo>
                  <a:lnTo>
                    <a:pt x="862" y="35"/>
                  </a:lnTo>
                  <a:lnTo>
                    <a:pt x="874" y="40"/>
                  </a:lnTo>
                  <a:lnTo>
                    <a:pt x="884" y="43"/>
                  </a:lnTo>
                  <a:lnTo>
                    <a:pt x="894" y="48"/>
                  </a:lnTo>
                  <a:lnTo>
                    <a:pt x="907" y="57"/>
                  </a:lnTo>
                  <a:lnTo>
                    <a:pt x="924" y="68"/>
                  </a:lnTo>
                  <a:lnTo>
                    <a:pt x="942" y="82"/>
                  </a:lnTo>
                  <a:lnTo>
                    <a:pt x="962" y="97"/>
                  </a:lnTo>
                  <a:lnTo>
                    <a:pt x="985" y="112"/>
                  </a:lnTo>
                  <a:lnTo>
                    <a:pt x="1009" y="127"/>
                  </a:lnTo>
                  <a:lnTo>
                    <a:pt x="1035" y="142"/>
                  </a:lnTo>
                  <a:lnTo>
                    <a:pt x="1060" y="155"/>
                  </a:lnTo>
                  <a:lnTo>
                    <a:pt x="1080" y="168"/>
                  </a:lnTo>
                  <a:lnTo>
                    <a:pt x="1099" y="180"/>
                  </a:lnTo>
                  <a:lnTo>
                    <a:pt x="1114" y="190"/>
                  </a:lnTo>
                  <a:lnTo>
                    <a:pt x="1124" y="197"/>
                  </a:lnTo>
                  <a:lnTo>
                    <a:pt x="1132" y="203"/>
                  </a:lnTo>
                  <a:lnTo>
                    <a:pt x="1137" y="207"/>
                  </a:lnTo>
                  <a:lnTo>
                    <a:pt x="1139" y="208"/>
                  </a:lnTo>
                  <a:lnTo>
                    <a:pt x="1142" y="210"/>
                  </a:lnTo>
                  <a:lnTo>
                    <a:pt x="1150" y="215"/>
                  </a:lnTo>
                  <a:lnTo>
                    <a:pt x="1162" y="223"/>
                  </a:lnTo>
                  <a:lnTo>
                    <a:pt x="1177" y="233"/>
                  </a:lnTo>
                  <a:lnTo>
                    <a:pt x="1192" y="243"/>
                  </a:lnTo>
                  <a:lnTo>
                    <a:pt x="1205" y="255"/>
                  </a:lnTo>
                  <a:lnTo>
                    <a:pt x="1217" y="265"/>
                  </a:lnTo>
                  <a:lnTo>
                    <a:pt x="1225" y="275"/>
                  </a:lnTo>
                  <a:lnTo>
                    <a:pt x="1234" y="285"/>
                  </a:lnTo>
                  <a:lnTo>
                    <a:pt x="1245" y="297"/>
                  </a:lnTo>
                  <a:lnTo>
                    <a:pt x="1259" y="310"/>
                  </a:lnTo>
                  <a:lnTo>
                    <a:pt x="1276" y="325"/>
                  </a:lnTo>
                  <a:lnTo>
                    <a:pt x="1292" y="340"/>
                  </a:lnTo>
                  <a:lnTo>
                    <a:pt x="1309" y="354"/>
                  </a:lnTo>
                  <a:lnTo>
                    <a:pt x="1324" y="365"/>
                  </a:lnTo>
                  <a:lnTo>
                    <a:pt x="1334" y="375"/>
                  </a:lnTo>
                  <a:lnTo>
                    <a:pt x="1346" y="385"/>
                  </a:lnTo>
                  <a:lnTo>
                    <a:pt x="1362" y="397"/>
                  </a:lnTo>
                  <a:lnTo>
                    <a:pt x="1381" y="410"/>
                  </a:lnTo>
                  <a:lnTo>
                    <a:pt x="1401" y="424"/>
                  </a:lnTo>
                  <a:lnTo>
                    <a:pt x="1421" y="437"/>
                  </a:lnTo>
                  <a:lnTo>
                    <a:pt x="1436" y="445"/>
                  </a:lnTo>
                  <a:lnTo>
                    <a:pt x="1447" y="454"/>
                  </a:lnTo>
                  <a:lnTo>
                    <a:pt x="1451" y="455"/>
                  </a:lnTo>
                  <a:lnTo>
                    <a:pt x="1489" y="509"/>
                  </a:lnTo>
                  <a:lnTo>
                    <a:pt x="1497" y="509"/>
                  </a:lnTo>
                  <a:lnTo>
                    <a:pt x="1517" y="509"/>
                  </a:lnTo>
                  <a:lnTo>
                    <a:pt x="1546" y="509"/>
                  </a:lnTo>
                  <a:lnTo>
                    <a:pt x="1581" y="509"/>
                  </a:lnTo>
                  <a:lnTo>
                    <a:pt x="1617" y="510"/>
                  </a:lnTo>
                  <a:lnTo>
                    <a:pt x="1651" y="514"/>
                  </a:lnTo>
                  <a:lnTo>
                    <a:pt x="1677" y="520"/>
                  </a:lnTo>
                  <a:lnTo>
                    <a:pt x="1694" y="527"/>
                  </a:lnTo>
                  <a:lnTo>
                    <a:pt x="1696" y="527"/>
                  </a:lnTo>
                  <a:lnTo>
                    <a:pt x="1702" y="525"/>
                  </a:lnTo>
                  <a:lnTo>
                    <a:pt x="1712" y="522"/>
                  </a:lnTo>
                  <a:lnTo>
                    <a:pt x="1722" y="520"/>
                  </a:lnTo>
                  <a:lnTo>
                    <a:pt x="1736" y="519"/>
                  </a:lnTo>
                  <a:lnTo>
                    <a:pt x="1747" y="515"/>
                  </a:lnTo>
                  <a:lnTo>
                    <a:pt x="1759" y="514"/>
                  </a:lnTo>
                  <a:lnTo>
                    <a:pt x="1769" y="514"/>
                  </a:lnTo>
                  <a:lnTo>
                    <a:pt x="1782" y="515"/>
                  </a:lnTo>
                  <a:lnTo>
                    <a:pt x="1801" y="519"/>
                  </a:lnTo>
                  <a:lnTo>
                    <a:pt x="1823" y="522"/>
                  </a:lnTo>
                  <a:lnTo>
                    <a:pt x="1848" y="527"/>
                  </a:lnTo>
                  <a:lnTo>
                    <a:pt x="1869" y="534"/>
                  </a:lnTo>
                  <a:lnTo>
                    <a:pt x="1889" y="537"/>
                  </a:lnTo>
                  <a:lnTo>
                    <a:pt x="1903" y="540"/>
                  </a:lnTo>
                  <a:lnTo>
                    <a:pt x="1908" y="542"/>
                  </a:lnTo>
                  <a:lnTo>
                    <a:pt x="1926" y="604"/>
                  </a:lnTo>
                  <a:lnTo>
                    <a:pt x="2044" y="604"/>
                  </a:lnTo>
                  <a:lnTo>
                    <a:pt x="2064" y="689"/>
                  </a:lnTo>
                  <a:lnTo>
                    <a:pt x="2071" y="692"/>
                  </a:lnTo>
                  <a:lnTo>
                    <a:pt x="2083" y="704"/>
                  </a:lnTo>
                  <a:lnTo>
                    <a:pt x="2093" y="722"/>
                  </a:lnTo>
                  <a:lnTo>
                    <a:pt x="2093" y="746"/>
                  </a:lnTo>
                  <a:lnTo>
                    <a:pt x="2116" y="784"/>
                  </a:lnTo>
                  <a:lnTo>
                    <a:pt x="2154" y="769"/>
                  </a:lnTo>
                  <a:lnTo>
                    <a:pt x="2158" y="774"/>
                  </a:lnTo>
                  <a:lnTo>
                    <a:pt x="2164" y="786"/>
                  </a:lnTo>
                  <a:lnTo>
                    <a:pt x="2169" y="801"/>
                  </a:lnTo>
                  <a:lnTo>
                    <a:pt x="2173" y="812"/>
                  </a:lnTo>
                  <a:lnTo>
                    <a:pt x="2176" y="824"/>
                  </a:lnTo>
                  <a:lnTo>
                    <a:pt x="2183" y="834"/>
                  </a:lnTo>
                  <a:lnTo>
                    <a:pt x="2189" y="842"/>
                  </a:lnTo>
                  <a:lnTo>
                    <a:pt x="2193" y="846"/>
                  </a:lnTo>
                  <a:lnTo>
                    <a:pt x="2201" y="822"/>
                  </a:lnTo>
                  <a:lnTo>
                    <a:pt x="2226" y="869"/>
                  </a:lnTo>
                  <a:lnTo>
                    <a:pt x="2228" y="869"/>
                  </a:lnTo>
                  <a:lnTo>
                    <a:pt x="2234" y="871"/>
                  </a:lnTo>
                  <a:lnTo>
                    <a:pt x="2244" y="874"/>
                  </a:lnTo>
                  <a:lnTo>
                    <a:pt x="2254" y="877"/>
                  </a:lnTo>
                  <a:lnTo>
                    <a:pt x="2266" y="882"/>
                  </a:lnTo>
                  <a:lnTo>
                    <a:pt x="2276" y="887"/>
                  </a:lnTo>
                  <a:lnTo>
                    <a:pt x="2284" y="894"/>
                  </a:lnTo>
                  <a:lnTo>
                    <a:pt x="2288" y="902"/>
                  </a:lnTo>
                  <a:lnTo>
                    <a:pt x="2289" y="921"/>
                  </a:lnTo>
                  <a:lnTo>
                    <a:pt x="2293" y="937"/>
                  </a:lnTo>
                  <a:lnTo>
                    <a:pt x="2296" y="952"/>
                  </a:lnTo>
                  <a:lnTo>
                    <a:pt x="2306" y="964"/>
                  </a:lnTo>
                  <a:lnTo>
                    <a:pt x="2316" y="979"/>
                  </a:lnTo>
                  <a:lnTo>
                    <a:pt x="2321" y="996"/>
                  </a:lnTo>
                  <a:lnTo>
                    <a:pt x="2318" y="1011"/>
                  </a:lnTo>
                  <a:lnTo>
                    <a:pt x="2311" y="1017"/>
                  </a:lnTo>
                  <a:lnTo>
                    <a:pt x="2303" y="1019"/>
                  </a:lnTo>
                  <a:lnTo>
                    <a:pt x="2299" y="1024"/>
                  </a:lnTo>
                  <a:lnTo>
                    <a:pt x="2301" y="1032"/>
                  </a:lnTo>
                  <a:lnTo>
                    <a:pt x="2306" y="1046"/>
                  </a:lnTo>
                  <a:lnTo>
                    <a:pt x="2313" y="1061"/>
                  </a:lnTo>
                  <a:lnTo>
                    <a:pt x="2319" y="1076"/>
                  </a:lnTo>
                  <a:lnTo>
                    <a:pt x="2324" y="1092"/>
                  </a:lnTo>
                  <a:lnTo>
                    <a:pt x="2329" y="1107"/>
                  </a:lnTo>
                  <a:lnTo>
                    <a:pt x="2336" y="1117"/>
                  </a:lnTo>
                  <a:lnTo>
                    <a:pt x="2344" y="1121"/>
                  </a:lnTo>
                  <a:lnTo>
                    <a:pt x="2351" y="1121"/>
                  </a:lnTo>
                  <a:lnTo>
                    <a:pt x="2354" y="1121"/>
                  </a:lnTo>
                  <a:lnTo>
                    <a:pt x="2356" y="1129"/>
                  </a:lnTo>
                  <a:lnTo>
                    <a:pt x="2365" y="1149"/>
                  </a:lnTo>
                  <a:lnTo>
                    <a:pt x="2375" y="1174"/>
                  </a:lnTo>
                  <a:lnTo>
                    <a:pt x="2388" y="1192"/>
                  </a:lnTo>
                  <a:lnTo>
                    <a:pt x="2395" y="1201"/>
                  </a:lnTo>
                  <a:lnTo>
                    <a:pt x="2400" y="1209"/>
                  </a:lnTo>
                  <a:lnTo>
                    <a:pt x="2405" y="1217"/>
                  </a:lnTo>
                  <a:lnTo>
                    <a:pt x="2411" y="1227"/>
                  </a:lnTo>
                  <a:lnTo>
                    <a:pt x="2416" y="1236"/>
                  </a:lnTo>
                  <a:lnTo>
                    <a:pt x="2425" y="1244"/>
                  </a:lnTo>
                  <a:lnTo>
                    <a:pt x="2433" y="1253"/>
                  </a:lnTo>
                  <a:lnTo>
                    <a:pt x="2445" y="1259"/>
                  </a:lnTo>
                  <a:lnTo>
                    <a:pt x="2456" y="1263"/>
                  </a:lnTo>
                  <a:lnTo>
                    <a:pt x="2468" y="1263"/>
                  </a:lnTo>
                  <a:lnTo>
                    <a:pt x="2478" y="1263"/>
                  </a:lnTo>
                  <a:lnTo>
                    <a:pt x="2486" y="1259"/>
                  </a:lnTo>
                  <a:lnTo>
                    <a:pt x="2493" y="1256"/>
                  </a:lnTo>
                  <a:lnTo>
                    <a:pt x="2498" y="1253"/>
                  </a:lnTo>
                  <a:lnTo>
                    <a:pt x="2500" y="1251"/>
                  </a:lnTo>
                  <a:lnTo>
                    <a:pt x="2501" y="1249"/>
                  </a:lnTo>
                  <a:lnTo>
                    <a:pt x="2520" y="1259"/>
                  </a:lnTo>
                  <a:lnTo>
                    <a:pt x="2501" y="1293"/>
                  </a:lnTo>
                  <a:lnTo>
                    <a:pt x="2501" y="1294"/>
                  </a:lnTo>
                  <a:lnTo>
                    <a:pt x="2501" y="1299"/>
                  </a:lnTo>
                  <a:lnTo>
                    <a:pt x="2503" y="1304"/>
                  </a:lnTo>
                  <a:lnTo>
                    <a:pt x="2511" y="1306"/>
                  </a:lnTo>
                  <a:lnTo>
                    <a:pt x="2521" y="1314"/>
                  </a:lnTo>
                  <a:lnTo>
                    <a:pt x="2531" y="1329"/>
                  </a:lnTo>
                  <a:lnTo>
                    <a:pt x="2536" y="1346"/>
                  </a:lnTo>
                  <a:lnTo>
                    <a:pt x="2540" y="1354"/>
                  </a:lnTo>
                  <a:lnTo>
                    <a:pt x="2541" y="1356"/>
                  </a:lnTo>
                  <a:lnTo>
                    <a:pt x="2546" y="1361"/>
                  </a:lnTo>
                  <a:lnTo>
                    <a:pt x="2553" y="1368"/>
                  </a:lnTo>
                  <a:lnTo>
                    <a:pt x="2561" y="1378"/>
                  </a:lnTo>
                  <a:lnTo>
                    <a:pt x="2571" y="1388"/>
                  </a:lnTo>
                  <a:lnTo>
                    <a:pt x="2583" y="1401"/>
                  </a:lnTo>
                  <a:lnTo>
                    <a:pt x="2595" y="1414"/>
                  </a:lnTo>
                  <a:lnTo>
                    <a:pt x="2606" y="1428"/>
                  </a:lnTo>
                  <a:lnTo>
                    <a:pt x="2618" y="1443"/>
                  </a:lnTo>
                  <a:lnTo>
                    <a:pt x="2631" y="1458"/>
                  </a:lnTo>
                  <a:lnTo>
                    <a:pt x="2645" y="1473"/>
                  </a:lnTo>
                  <a:lnTo>
                    <a:pt x="2658" y="1488"/>
                  </a:lnTo>
                  <a:lnTo>
                    <a:pt x="2670" y="1501"/>
                  </a:lnTo>
                  <a:lnTo>
                    <a:pt x="2680" y="1511"/>
                  </a:lnTo>
                  <a:lnTo>
                    <a:pt x="2688" y="1521"/>
                  </a:lnTo>
                  <a:lnTo>
                    <a:pt x="2691" y="1528"/>
                  </a:lnTo>
                  <a:lnTo>
                    <a:pt x="2701" y="1533"/>
                  </a:lnTo>
                  <a:lnTo>
                    <a:pt x="2723" y="1538"/>
                  </a:lnTo>
                  <a:lnTo>
                    <a:pt x="2753" y="1543"/>
                  </a:lnTo>
                  <a:lnTo>
                    <a:pt x="2790" y="1546"/>
                  </a:lnTo>
                  <a:lnTo>
                    <a:pt x="2828" y="1549"/>
                  </a:lnTo>
                  <a:lnTo>
                    <a:pt x="2863" y="1551"/>
                  </a:lnTo>
                  <a:lnTo>
                    <a:pt x="2891" y="1554"/>
                  </a:lnTo>
                  <a:lnTo>
                    <a:pt x="2910" y="1556"/>
                  </a:lnTo>
                  <a:lnTo>
                    <a:pt x="2925" y="1558"/>
                  </a:lnTo>
                  <a:lnTo>
                    <a:pt x="2945" y="1559"/>
                  </a:lnTo>
                  <a:lnTo>
                    <a:pt x="2968" y="1561"/>
                  </a:lnTo>
                  <a:lnTo>
                    <a:pt x="2992" y="1563"/>
                  </a:lnTo>
                  <a:lnTo>
                    <a:pt x="3013" y="1566"/>
                  </a:lnTo>
                  <a:lnTo>
                    <a:pt x="3033" y="1568"/>
                  </a:lnTo>
                  <a:lnTo>
                    <a:pt x="3048" y="1569"/>
                  </a:lnTo>
                  <a:lnTo>
                    <a:pt x="3057" y="1571"/>
                  </a:lnTo>
                  <a:lnTo>
                    <a:pt x="3070" y="1569"/>
                  </a:lnTo>
                  <a:lnTo>
                    <a:pt x="3083" y="1563"/>
                  </a:lnTo>
                  <a:lnTo>
                    <a:pt x="3095" y="1554"/>
                  </a:lnTo>
                  <a:lnTo>
                    <a:pt x="3100" y="1551"/>
                  </a:lnTo>
                  <a:lnTo>
                    <a:pt x="3102" y="1553"/>
                  </a:lnTo>
                  <a:lnTo>
                    <a:pt x="3105" y="1556"/>
                  </a:lnTo>
                  <a:lnTo>
                    <a:pt x="3112" y="1561"/>
                  </a:lnTo>
                  <a:lnTo>
                    <a:pt x="3120" y="1568"/>
                  </a:lnTo>
                  <a:lnTo>
                    <a:pt x="3130" y="1576"/>
                  </a:lnTo>
                  <a:lnTo>
                    <a:pt x="3140" y="1586"/>
                  </a:lnTo>
                  <a:lnTo>
                    <a:pt x="3152" y="1598"/>
                  </a:lnTo>
                  <a:lnTo>
                    <a:pt x="3162" y="1609"/>
                  </a:lnTo>
                  <a:lnTo>
                    <a:pt x="3172" y="1624"/>
                  </a:lnTo>
                  <a:lnTo>
                    <a:pt x="3180" y="1638"/>
                  </a:lnTo>
                  <a:lnTo>
                    <a:pt x="3183" y="1653"/>
                  </a:lnTo>
                  <a:lnTo>
                    <a:pt x="3185" y="1668"/>
                  </a:lnTo>
                  <a:lnTo>
                    <a:pt x="3185" y="1678"/>
                  </a:lnTo>
                  <a:lnTo>
                    <a:pt x="3183" y="1688"/>
                  </a:lnTo>
                  <a:lnTo>
                    <a:pt x="3180" y="1696"/>
                  </a:lnTo>
                  <a:lnTo>
                    <a:pt x="3175" y="1704"/>
                  </a:lnTo>
                  <a:lnTo>
                    <a:pt x="3168" y="1724"/>
                  </a:lnTo>
                  <a:lnTo>
                    <a:pt x="3168" y="1748"/>
                  </a:lnTo>
                  <a:lnTo>
                    <a:pt x="3168" y="1771"/>
                  </a:lnTo>
                  <a:lnTo>
                    <a:pt x="3167" y="1795"/>
                  </a:lnTo>
                  <a:lnTo>
                    <a:pt x="3162" y="1815"/>
                  </a:lnTo>
                  <a:lnTo>
                    <a:pt x="3153" y="1835"/>
                  </a:lnTo>
                  <a:lnTo>
                    <a:pt x="3145" y="1851"/>
                  </a:lnTo>
                  <a:lnTo>
                    <a:pt x="3138" y="1870"/>
                  </a:lnTo>
                  <a:lnTo>
                    <a:pt x="3132" y="1890"/>
                  </a:lnTo>
                  <a:lnTo>
                    <a:pt x="3125" y="1913"/>
                  </a:lnTo>
                  <a:lnTo>
                    <a:pt x="3120" y="1933"/>
                  </a:lnTo>
                  <a:lnTo>
                    <a:pt x="3118" y="1951"/>
                  </a:lnTo>
                  <a:lnTo>
                    <a:pt x="3117" y="1965"/>
                  </a:lnTo>
                  <a:lnTo>
                    <a:pt x="3115" y="1976"/>
                  </a:lnTo>
                  <a:lnTo>
                    <a:pt x="3108" y="1986"/>
                  </a:lnTo>
                  <a:lnTo>
                    <a:pt x="3100" y="1993"/>
                  </a:lnTo>
                  <a:lnTo>
                    <a:pt x="3093" y="1996"/>
                  </a:lnTo>
                  <a:lnTo>
                    <a:pt x="3078" y="2003"/>
                  </a:lnTo>
                  <a:lnTo>
                    <a:pt x="3057" y="2013"/>
                  </a:lnTo>
                  <a:lnTo>
                    <a:pt x="3028" y="2026"/>
                  </a:lnTo>
                  <a:lnTo>
                    <a:pt x="2997" y="2040"/>
                  </a:lnTo>
                  <a:lnTo>
                    <a:pt x="2962" y="2056"/>
                  </a:lnTo>
                  <a:lnTo>
                    <a:pt x="2923" y="2073"/>
                  </a:lnTo>
                  <a:lnTo>
                    <a:pt x="2885" y="2090"/>
                  </a:lnTo>
                  <a:lnTo>
                    <a:pt x="2845" y="2108"/>
                  </a:lnTo>
                  <a:lnTo>
                    <a:pt x="2806" y="2125"/>
                  </a:lnTo>
                  <a:lnTo>
                    <a:pt x="2770" y="2141"/>
                  </a:lnTo>
                  <a:lnTo>
                    <a:pt x="2736" y="2155"/>
                  </a:lnTo>
                  <a:lnTo>
                    <a:pt x="2708" y="2168"/>
                  </a:lnTo>
                  <a:lnTo>
                    <a:pt x="2685" y="2180"/>
                  </a:lnTo>
                  <a:lnTo>
                    <a:pt x="2668" y="2188"/>
                  </a:lnTo>
                  <a:lnTo>
                    <a:pt x="2658" y="2193"/>
                  </a:lnTo>
                  <a:lnTo>
                    <a:pt x="2645" y="2200"/>
                  </a:lnTo>
                  <a:lnTo>
                    <a:pt x="2628" y="2205"/>
                  </a:lnTo>
                  <a:lnTo>
                    <a:pt x="2608" y="2208"/>
                  </a:lnTo>
                  <a:lnTo>
                    <a:pt x="2586" y="2211"/>
                  </a:lnTo>
                  <a:lnTo>
                    <a:pt x="2561" y="2215"/>
                  </a:lnTo>
                  <a:lnTo>
                    <a:pt x="2535" y="2220"/>
                  </a:lnTo>
                  <a:lnTo>
                    <a:pt x="2508" y="2225"/>
                  </a:lnTo>
                  <a:lnTo>
                    <a:pt x="2481" y="2231"/>
                  </a:lnTo>
                  <a:lnTo>
                    <a:pt x="2466" y="2235"/>
                  </a:lnTo>
                  <a:lnTo>
                    <a:pt x="2446" y="2240"/>
                  </a:lnTo>
                  <a:lnTo>
                    <a:pt x="2425" y="2245"/>
                  </a:lnTo>
                  <a:lnTo>
                    <a:pt x="2398" y="2252"/>
                  </a:lnTo>
                  <a:lnTo>
                    <a:pt x="2371" y="2258"/>
                  </a:lnTo>
                  <a:lnTo>
                    <a:pt x="2343" y="2265"/>
                  </a:lnTo>
                  <a:lnTo>
                    <a:pt x="2313" y="2272"/>
                  </a:lnTo>
                  <a:lnTo>
                    <a:pt x="2283" y="2278"/>
                  </a:lnTo>
                  <a:lnTo>
                    <a:pt x="2253" y="2285"/>
                  </a:lnTo>
                  <a:lnTo>
                    <a:pt x="2224" y="2293"/>
                  </a:lnTo>
                  <a:lnTo>
                    <a:pt x="2198" y="2300"/>
                  </a:lnTo>
                  <a:lnTo>
                    <a:pt x="2173" y="2307"/>
                  </a:lnTo>
                  <a:lnTo>
                    <a:pt x="2151" y="2312"/>
                  </a:lnTo>
                  <a:lnTo>
                    <a:pt x="2134" y="2318"/>
                  </a:lnTo>
                  <a:lnTo>
                    <a:pt x="2119" y="2323"/>
                  </a:lnTo>
                  <a:lnTo>
                    <a:pt x="2111" y="2327"/>
                  </a:lnTo>
                  <a:lnTo>
                    <a:pt x="2098" y="2333"/>
                  </a:lnTo>
                  <a:lnTo>
                    <a:pt x="2086" y="2338"/>
                  </a:lnTo>
                  <a:lnTo>
                    <a:pt x="2071" y="2347"/>
                  </a:lnTo>
                  <a:lnTo>
                    <a:pt x="2058" y="2353"/>
                  </a:lnTo>
                  <a:lnTo>
                    <a:pt x="2043" y="2365"/>
                  </a:lnTo>
                  <a:lnTo>
                    <a:pt x="2028" y="2378"/>
                  </a:lnTo>
                  <a:lnTo>
                    <a:pt x="2011" y="2398"/>
                  </a:lnTo>
                  <a:lnTo>
                    <a:pt x="1993" y="2422"/>
                  </a:lnTo>
                  <a:lnTo>
                    <a:pt x="1976" y="2447"/>
                  </a:lnTo>
                  <a:lnTo>
                    <a:pt x="1961" y="2470"/>
                  </a:lnTo>
                  <a:lnTo>
                    <a:pt x="1946" y="2492"/>
                  </a:lnTo>
                  <a:lnTo>
                    <a:pt x="1933" y="2512"/>
                  </a:lnTo>
                  <a:lnTo>
                    <a:pt x="1923" y="2528"/>
                  </a:lnTo>
                  <a:lnTo>
                    <a:pt x="1913" y="2542"/>
                  </a:lnTo>
                  <a:lnTo>
                    <a:pt x="1904" y="2552"/>
                  </a:lnTo>
                  <a:lnTo>
                    <a:pt x="1898" y="2558"/>
                  </a:lnTo>
                  <a:lnTo>
                    <a:pt x="1891" y="2563"/>
                  </a:lnTo>
                  <a:lnTo>
                    <a:pt x="1884" y="2568"/>
                  </a:lnTo>
                  <a:lnTo>
                    <a:pt x="1874" y="2573"/>
                  </a:lnTo>
                  <a:lnTo>
                    <a:pt x="1864" y="2575"/>
                  </a:lnTo>
                  <a:lnTo>
                    <a:pt x="1853" y="2577"/>
                  </a:lnTo>
                  <a:lnTo>
                    <a:pt x="1843" y="2577"/>
                  </a:lnTo>
                  <a:lnTo>
                    <a:pt x="1833" y="2573"/>
                  </a:lnTo>
                  <a:lnTo>
                    <a:pt x="1823" y="2568"/>
                  </a:lnTo>
                  <a:lnTo>
                    <a:pt x="1814" y="2562"/>
                  </a:lnTo>
                  <a:lnTo>
                    <a:pt x="1806" y="2553"/>
                  </a:lnTo>
                  <a:lnTo>
                    <a:pt x="1799" y="2547"/>
                  </a:lnTo>
                  <a:lnTo>
                    <a:pt x="1794" y="2538"/>
                  </a:lnTo>
                  <a:lnTo>
                    <a:pt x="1787" y="2533"/>
                  </a:lnTo>
                  <a:lnTo>
                    <a:pt x="1781" y="2530"/>
                  </a:lnTo>
                  <a:lnTo>
                    <a:pt x="1772" y="2528"/>
                  </a:lnTo>
                  <a:lnTo>
                    <a:pt x="1764" y="2530"/>
                  </a:lnTo>
                  <a:lnTo>
                    <a:pt x="1752" y="2533"/>
                  </a:lnTo>
                  <a:lnTo>
                    <a:pt x="1739" y="2535"/>
                  </a:lnTo>
                  <a:lnTo>
                    <a:pt x="1722" y="2535"/>
                  </a:lnTo>
                  <a:lnTo>
                    <a:pt x="1704" y="2535"/>
                  </a:lnTo>
                  <a:lnTo>
                    <a:pt x="1684" y="2535"/>
                  </a:lnTo>
                  <a:lnTo>
                    <a:pt x="1666" y="2533"/>
                  </a:lnTo>
                  <a:lnTo>
                    <a:pt x="1647" y="2532"/>
                  </a:lnTo>
                  <a:lnTo>
                    <a:pt x="1632" y="2530"/>
                  </a:lnTo>
                  <a:lnTo>
                    <a:pt x="1617" y="2528"/>
                  </a:lnTo>
                  <a:lnTo>
                    <a:pt x="1602" y="2525"/>
                  </a:lnTo>
                  <a:lnTo>
                    <a:pt x="1589" y="2520"/>
                  </a:lnTo>
                  <a:lnTo>
                    <a:pt x="1574" y="2517"/>
                  </a:lnTo>
                  <a:lnTo>
                    <a:pt x="1561" y="2513"/>
                  </a:lnTo>
                  <a:lnTo>
                    <a:pt x="1549" y="2510"/>
                  </a:lnTo>
                  <a:lnTo>
                    <a:pt x="1537" y="2507"/>
                  </a:lnTo>
                  <a:lnTo>
                    <a:pt x="1527" y="2507"/>
                  </a:lnTo>
                  <a:lnTo>
                    <a:pt x="1514" y="2507"/>
                  </a:lnTo>
                  <a:lnTo>
                    <a:pt x="1492" y="2507"/>
                  </a:lnTo>
                  <a:lnTo>
                    <a:pt x="1466" y="2508"/>
                  </a:lnTo>
                  <a:lnTo>
                    <a:pt x="1436" y="2508"/>
                  </a:lnTo>
                  <a:lnTo>
                    <a:pt x="1409" y="2510"/>
                  </a:lnTo>
                  <a:lnTo>
                    <a:pt x="1386" y="2512"/>
                  </a:lnTo>
                  <a:lnTo>
                    <a:pt x="1369" y="2512"/>
                  </a:lnTo>
                  <a:lnTo>
                    <a:pt x="1362" y="2512"/>
                  </a:lnTo>
                  <a:lnTo>
                    <a:pt x="1361" y="2513"/>
                  </a:lnTo>
                  <a:lnTo>
                    <a:pt x="1356" y="2515"/>
                  </a:lnTo>
                  <a:lnTo>
                    <a:pt x="1349" y="2518"/>
                  </a:lnTo>
                  <a:lnTo>
                    <a:pt x="1339" y="2520"/>
                  </a:lnTo>
                  <a:lnTo>
                    <a:pt x="1329" y="2522"/>
                  </a:lnTo>
                  <a:lnTo>
                    <a:pt x="1317" y="2522"/>
                  </a:lnTo>
                  <a:lnTo>
                    <a:pt x="1304" y="2518"/>
                  </a:lnTo>
                  <a:lnTo>
                    <a:pt x="1292" y="2512"/>
                  </a:lnTo>
                  <a:lnTo>
                    <a:pt x="1281" y="2503"/>
                  </a:lnTo>
                  <a:lnTo>
                    <a:pt x="1272" y="2497"/>
                  </a:lnTo>
                  <a:lnTo>
                    <a:pt x="1266" y="2490"/>
                  </a:lnTo>
                  <a:lnTo>
                    <a:pt x="1261" y="2485"/>
                  </a:lnTo>
                  <a:lnTo>
                    <a:pt x="1256" y="2482"/>
                  </a:lnTo>
                  <a:lnTo>
                    <a:pt x="1250" y="2480"/>
                  </a:lnTo>
                  <a:lnTo>
                    <a:pt x="1245" y="2480"/>
                  </a:lnTo>
                  <a:lnTo>
                    <a:pt x="1239" y="2483"/>
                  </a:lnTo>
                  <a:lnTo>
                    <a:pt x="1232" y="2490"/>
                  </a:lnTo>
                  <a:lnTo>
                    <a:pt x="1235" y="2498"/>
                  </a:lnTo>
                  <a:lnTo>
                    <a:pt x="1240" y="2510"/>
                  </a:lnTo>
                  <a:lnTo>
                    <a:pt x="1239" y="2525"/>
                  </a:lnTo>
                  <a:lnTo>
                    <a:pt x="1234" y="2545"/>
                  </a:lnTo>
                  <a:lnTo>
                    <a:pt x="1232" y="2567"/>
                  </a:lnTo>
                  <a:lnTo>
                    <a:pt x="1234" y="2587"/>
                  </a:lnTo>
                  <a:lnTo>
                    <a:pt x="1234" y="2602"/>
                  </a:lnTo>
                  <a:lnTo>
                    <a:pt x="1230" y="2615"/>
                  </a:lnTo>
                  <a:lnTo>
                    <a:pt x="1225" y="2630"/>
                  </a:lnTo>
                  <a:lnTo>
                    <a:pt x="1219" y="2643"/>
                  </a:lnTo>
                  <a:lnTo>
                    <a:pt x="1215" y="2648"/>
                  </a:lnTo>
                  <a:lnTo>
                    <a:pt x="1177" y="2678"/>
                  </a:lnTo>
                  <a:lnTo>
                    <a:pt x="1175" y="2672"/>
                  </a:lnTo>
                  <a:lnTo>
                    <a:pt x="1170" y="2657"/>
                  </a:lnTo>
                  <a:lnTo>
                    <a:pt x="1167" y="2640"/>
                  </a:lnTo>
                  <a:lnTo>
                    <a:pt x="1167" y="2625"/>
                  </a:lnTo>
                  <a:lnTo>
                    <a:pt x="1167" y="2613"/>
                  </a:lnTo>
                  <a:lnTo>
                    <a:pt x="1164" y="2598"/>
                  </a:lnTo>
                  <a:lnTo>
                    <a:pt x="1154" y="2583"/>
                  </a:lnTo>
                  <a:lnTo>
                    <a:pt x="1144" y="2568"/>
                  </a:lnTo>
                  <a:lnTo>
                    <a:pt x="1134" y="2555"/>
                  </a:lnTo>
                  <a:lnTo>
                    <a:pt x="1124" y="2543"/>
                  </a:lnTo>
                  <a:lnTo>
                    <a:pt x="1115" y="2532"/>
                  </a:lnTo>
                  <a:lnTo>
                    <a:pt x="1110" y="2522"/>
                  </a:lnTo>
                  <a:lnTo>
                    <a:pt x="1107" y="2508"/>
                  </a:lnTo>
                  <a:lnTo>
                    <a:pt x="1104" y="2492"/>
                  </a:lnTo>
                  <a:lnTo>
                    <a:pt x="1095" y="2475"/>
                  </a:lnTo>
                  <a:lnTo>
                    <a:pt x="1082" y="2458"/>
                  </a:lnTo>
                  <a:lnTo>
                    <a:pt x="1072" y="2450"/>
                  </a:lnTo>
                  <a:lnTo>
                    <a:pt x="1059" y="2437"/>
                  </a:lnTo>
                  <a:lnTo>
                    <a:pt x="1044" y="2423"/>
                  </a:lnTo>
                  <a:lnTo>
                    <a:pt x="1029" y="2405"/>
                  </a:lnTo>
                  <a:lnTo>
                    <a:pt x="1014" y="2387"/>
                  </a:lnTo>
                  <a:lnTo>
                    <a:pt x="999" y="2368"/>
                  </a:lnTo>
                  <a:lnTo>
                    <a:pt x="987" y="2350"/>
                  </a:lnTo>
                  <a:lnTo>
                    <a:pt x="979" y="2332"/>
                  </a:lnTo>
                  <a:lnTo>
                    <a:pt x="964" y="2302"/>
                  </a:lnTo>
                  <a:lnTo>
                    <a:pt x="949" y="2280"/>
                  </a:lnTo>
                  <a:lnTo>
                    <a:pt x="937" y="2263"/>
                  </a:lnTo>
                  <a:lnTo>
                    <a:pt x="930" y="2245"/>
                  </a:lnTo>
                  <a:lnTo>
                    <a:pt x="927" y="2231"/>
                  </a:lnTo>
                  <a:lnTo>
                    <a:pt x="920" y="2211"/>
                  </a:lnTo>
                  <a:lnTo>
                    <a:pt x="910" y="2190"/>
                  </a:lnTo>
                  <a:lnTo>
                    <a:pt x="900" y="2166"/>
                  </a:lnTo>
                  <a:lnTo>
                    <a:pt x="890" y="2143"/>
                  </a:lnTo>
                  <a:lnTo>
                    <a:pt x="880" y="2123"/>
                  </a:lnTo>
                  <a:lnTo>
                    <a:pt x="870" y="2108"/>
                  </a:lnTo>
                  <a:lnTo>
                    <a:pt x="864" y="2098"/>
                  </a:lnTo>
                  <a:lnTo>
                    <a:pt x="854" y="2085"/>
                  </a:lnTo>
                  <a:lnTo>
                    <a:pt x="845" y="2071"/>
                  </a:lnTo>
                  <a:lnTo>
                    <a:pt x="834" y="2056"/>
                  </a:lnTo>
                  <a:lnTo>
                    <a:pt x="822" y="2041"/>
                  </a:lnTo>
                  <a:lnTo>
                    <a:pt x="814" y="2033"/>
                  </a:lnTo>
                  <a:lnTo>
                    <a:pt x="802" y="2025"/>
                  </a:lnTo>
                  <a:lnTo>
                    <a:pt x="790" y="2018"/>
                  </a:lnTo>
                  <a:lnTo>
                    <a:pt x="779" y="2010"/>
                  </a:lnTo>
                  <a:lnTo>
                    <a:pt x="765" y="2003"/>
                  </a:lnTo>
                  <a:lnTo>
                    <a:pt x="752" y="1998"/>
                  </a:lnTo>
                  <a:lnTo>
                    <a:pt x="740" y="1995"/>
                  </a:lnTo>
                  <a:lnTo>
                    <a:pt x="730" y="1993"/>
                  </a:lnTo>
                  <a:lnTo>
                    <a:pt x="722" y="1991"/>
                  </a:lnTo>
                  <a:lnTo>
                    <a:pt x="717" y="1988"/>
                  </a:lnTo>
                  <a:lnTo>
                    <a:pt x="710" y="1983"/>
                  </a:lnTo>
                  <a:lnTo>
                    <a:pt x="705" y="1975"/>
                  </a:lnTo>
                  <a:lnTo>
                    <a:pt x="700" y="1966"/>
                  </a:lnTo>
                  <a:lnTo>
                    <a:pt x="693" y="1953"/>
                  </a:lnTo>
                  <a:lnTo>
                    <a:pt x="685" y="1940"/>
                  </a:lnTo>
                  <a:lnTo>
                    <a:pt x="673" y="1923"/>
                  </a:lnTo>
                  <a:lnTo>
                    <a:pt x="662" y="1905"/>
                  </a:lnTo>
                  <a:lnTo>
                    <a:pt x="652" y="1886"/>
                  </a:lnTo>
                  <a:lnTo>
                    <a:pt x="642" y="1868"/>
                  </a:lnTo>
                  <a:lnTo>
                    <a:pt x="635" y="1851"/>
                  </a:lnTo>
                  <a:lnTo>
                    <a:pt x="628" y="1833"/>
                  </a:lnTo>
                  <a:lnTo>
                    <a:pt x="623" y="1818"/>
                  </a:lnTo>
                  <a:lnTo>
                    <a:pt x="620" y="1803"/>
                  </a:lnTo>
                  <a:lnTo>
                    <a:pt x="617" y="1790"/>
                  </a:lnTo>
                  <a:lnTo>
                    <a:pt x="612" y="1765"/>
                  </a:lnTo>
                  <a:lnTo>
                    <a:pt x="603" y="1741"/>
                  </a:lnTo>
                  <a:lnTo>
                    <a:pt x="597" y="1724"/>
                  </a:lnTo>
                  <a:lnTo>
                    <a:pt x="593" y="1718"/>
                  </a:lnTo>
                  <a:lnTo>
                    <a:pt x="600" y="1706"/>
                  </a:lnTo>
                  <a:lnTo>
                    <a:pt x="610" y="1676"/>
                  </a:lnTo>
                  <a:lnTo>
                    <a:pt x="617" y="1636"/>
                  </a:lnTo>
                  <a:lnTo>
                    <a:pt x="607" y="1594"/>
                  </a:lnTo>
                  <a:lnTo>
                    <a:pt x="590" y="1559"/>
                  </a:lnTo>
                  <a:lnTo>
                    <a:pt x="582" y="1531"/>
                  </a:lnTo>
                  <a:lnTo>
                    <a:pt x="573" y="1503"/>
                  </a:lnTo>
                  <a:lnTo>
                    <a:pt x="560" y="1471"/>
                  </a:lnTo>
                  <a:lnTo>
                    <a:pt x="552" y="1454"/>
                  </a:lnTo>
                  <a:lnTo>
                    <a:pt x="547" y="1439"/>
                  </a:lnTo>
                  <a:lnTo>
                    <a:pt x="542" y="1426"/>
                  </a:lnTo>
                  <a:lnTo>
                    <a:pt x="537" y="1413"/>
                  </a:lnTo>
                  <a:lnTo>
                    <a:pt x="532" y="1401"/>
                  </a:lnTo>
                  <a:lnTo>
                    <a:pt x="525" y="1393"/>
                  </a:lnTo>
                  <a:lnTo>
                    <a:pt x="518" y="1383"/>
                  </a:lnTo>
                  <a:lnTo>
                    <a:pt x="508" y="1376"/>
                  </a:lnTo>
                  <a:lnTo>
                    <a:pt x="497" y="1369"/>
                  </a:lnTo>
                  <a:lnTo>
                    <a:pt x="487" y="1361"/>
                  </a:lnTo>
                  <a:lnTo>
                    <a:pt x="475" y="1354"/>
                  </a:lnTo>
                  <a:lnTo>
                    <a:pt x="463" y="1346"/>
                  </a:lnTo>
                  <a:lnTo>
                    <a:pt x="452" y="1338"/>
                  </a:lnTo>
                  <a:lnTo>
                    <a:pt x="440" y="1329"/>
                  </a:lnTo>
                  <a:lnTo>
                    <a:pt x="427" y="1323"/>
                  </a:lnTo>
                  <a:lnTo>
                    <a:pt x="413" y="1316"/>
                  </a:lnTo>
                  <a:lnTo>
                    <a:pt x="392" y="1303"/>
                  </a:lnTo>
                  <a:lnTo>
                    <a:pt x="382" y="1286"/>
                  </a:lnTo>
                  <a:lnTo>
                    <a:pt x="375" y="1268"/>
                  </a:lnTo>
                  <a:lnTo>
                    <a:pt x="365" y="1249"/>
                  </a:lnTo>
                  <a:lnTo>
                    <a:pt x="355" y="1232"/>
                  </a:lnTo>
                  <a:lnTo>
                    <a:pt x="348" y="1219"/>
                  </a:lnTo>
                  <a:lnTo>
                    <a:pt x="347" y="1209"/>
                  </a:lnTo>
                  <a:lnTo>
                    <a:pt x="347" y="1206"/>
                  </a:lnTo>
                  <a:lnTo>
                    <a:pt x="348" y="1206"/>
                  </a:lnTo>
                  <a:lnTo>
                    <a:pt x="353" y="1204"/>
                  </a:lnTo>
                  <a:lnTo>
                    <a:pt x="360" y="1201"/>
                  </a:lnTo>
                  <a:lnTo>
                    <a:pt x="367" y="1194"/>
                  </a:lnTo>
                  <a:lnTo>
                    <a:pt x="370" y="1187"/>
                  </a:lnTo>
                  <a:lnTo>
                    <a:pt x="370" y="1176"/>
                  </a:lnTo>
                  <a:lnTo>
                    <a:pt x="365" y="1162"/>
                  </a:lnTo>
                  <a:lnTo>
                    <a:pt x="352" y="1144"/>
                  </a:lnTo>
                  <a:lnTo>
                    <a:pt x="330" y="1122"/>
                  </a:lnTo>
                  <a:lnTo>
                    <a:pt x="327" y="1122"/>
                  </a:lnTo>
                  <a:lnTo>
                    <a:pt x="330" y="1126"/>
                  </a:lnTo>
                  <a:lnTo>
                    <a:pt x="327" y="1112"/>
                  </a:lnTo>
                  <a:lnTo>
                    <a:pt x="320" y="1091"/>
                  </a:lnTo>
                  <a:lnTo>
                    <a:pt x="315" y="1076"/>
                  </a:lnTo>
                  <a:lnTo>
                    <a:pt x="308" y="1066"/>
                  </a:lnTo>
                  <a:lnTo>
                    <a:pt x="293" y="1054"/>
                  </a:lnTo>
                  <a:lnTo>
                    <a:pt x="283" y="1039"/>
                  </a:lnTo>
                  <a:lnTo>
                    <a:pt x="285" y="1024"/>
                  </a:lnTo>
                  <a:lnTo>
                    <a:pt x="287" y="1011"/>
                  </a:lnTo>
                  <a:lnTo>
                    <a:pt x="275" y="997"/>
                  </a:lnTo>
                  <a:lnTo>
                    <a:pt x="257" y="986"/>
                  </a:lnTo>
                  <a:lnTo>
                    <a:pt x="243" y="971"/>
                  </a:lnTo>
                  <a:lnTo>
                    <a:pt x="235" y="954"/>
                  </a:lnTo>
                  <a:lnTo>
                    <a:pt x="232" y="936"/>
                  </a:lnTo>
                  <a:lnTo>
                    <a:pt x="228" y="916"/>
                  </a:lnTo>
                  <a:lnTo>
                    <a:pt x="218" y="889"/>
                  </a:lnTo>
                  <a:lnTo>
                    <a:pt x="205" y="862"/>
                  </a:lnTo>
                  <a:lnTo>
                    <a:pt x="185" y="836"/>
                  </a:lnTo>
                  <a:lnTo>
                    <a:pt x="172" y="814"/>
                  </a:lnTo>
                  <a:lnTo>
                    <a:pt x="168" y="796"/>
                  </a:lnTo>
                  <a:lnTo>
                    <a:pt x="167" y="782"/>
                  </a:lnTo>
                  <a:lnTo>
                    <a:pt x="157" y="774"/>
                  </a:lnTo>
                  <a:lnTo>
                    <a:pt x="145" y="766"/>
                  </a:lnTo>
                  <a:lnTo>
                    <a:pt x="140" y="754"/>
                  </a:lnTo>
                  <a:lnTo>
                    <a:pt x="133" y="739"/>
                  </a:lnTo>
                  <a:lnTo>
                    <a:pt x="118" y="722"/>
                  </a:lnTo>
                  <a:lnTo>
                    <a:pt x="100" y="700"/>
                  </a:lnTo>
                  <a:lnTo>
                    <a:pt x="86" y="674"/>
                  </a:lnTo>
                  <a:lnTo>
                    <a:pt x="78" y="652"/>
                  </a:lnTo>
                  <a:lnTo>
                    <a:pt x="75" y="642"/>
                  </a:lnTo>
                  <a:lnTo>
                    <a:pt x="70" y="642"/>
                  </a:lnTo>
                  <a:lnTo>
                    <a:pt x="60" y="642"/>
                  </a:lnTo>
                  <a:lnTo>
                    <a:pt x="45" y="642"/>
                  </a:lnTo>
                  <a:lnTo>
                    <a:pt x="33" y="642"/>
                  </a:lnTo>
                  <a:lnTo>
                    <a:pt x="21" y="642"/>
                  </a:lnTo>
                  <a:lnTo>
                    <a:pt x="11" y="644"/>
                  </a:lnTo>
                  <a:lnTo>
                    <a:pt x="3" y="645"/>
                  </a:lnTo>
                  <a:lnTo>
                    <a:pt x="0" y="645"/>
                  </a:lnTo>
                  <a:lnTo>
                    <a:pt x="1" y="642"/>
                  </a:lnTo>
                  <a:lnTo>
                    <a:pt x="5" y="632"/>
                  </a:lnTo>
                  <a:lnTo>
                    <a:pt x="8" y="620"/>
                  </a:lnTo>
                  <a:lnTo>
                    <a:pt x="13" y="609"/>
                  </a:lnTo>
                  <a:lnTo>
                    <a:pt x="20" y="592"/>
                  </a:lnTo>
                  <a:lnTo>
                    <a:pt x="28" y="569"/>
                  </a:lnTo>
                  <a:lnTo>
                    <a:pt x="35" y="542"/>
                  </a:lnTo>
                  <a:lnTo>
                    <a:pt x="38" y="517"/>
                  </a:lnTo>
                  <a:lnTo>
                    <a:pt x="40" y="500"/>
                  </a:lnTo>
                  <a:lnTo>
                    <a:pt x="43" y="489"/>
                  </a:lnTo>
                  <a:lnTo>
                    <a:pt x="50" y="480"/>
                  </a:lnTo>
                  <a:lnTo>
                    <a:pt x="56" y="470"/>
                  </a:lnTo>
                  <a:lnTo>
                    <a:pt x="61" y="457"/>
                  </a:lnTo>
                  <a:lnTo>
                    <a:pt x="65" y="442"/>
                  </a:lnTo>
                  <a:lnTo>
                    <a:pt x="66" y="429"/>
                  </a:lnTo>
                  <a:lnTo>
                    <a:pt x="66" y="424"/>
                  </a:lnTo>
                  <a:lnTo>
                    <a:pt x="232" y="465"/>
                  </a:lnTo>
                  <a:lnTo>
                    <a:pt x="235" y="464"/>
                  </a:lnTo>
                  <a:lnTo>
                    <a:pt x="243" y="457"/>
                  </a:lnTo>
                  <a:lnTo>
                    <a:pt x="257" y="450"/>
                  </a:lnTo>
                  <a:lnTo>
                    <a:pt x="270" y="439"/>
                  </a:lnTo>
                  <a:lnTo>
                    <a:pt x="285" y="429"/>
                  </a:lnTo>
                  <a:lnTo>
                    <a:pt x="298" y="417"/>
                  </a:lnTo>
                  <a:lnTo>
                    <a:pt x="308" y="407"/>
                  </a:lnTo>
                  <a:lnTo>
                    <a:pt x="313" y="399"/>
                  </a:lnTo>
                  <a:lnTo>
                    <a:pt x="318" y="384"/>
                  </a:lnTo>
                  <a:lnTo>
                    <a:pt x="325" y="369"/>
                  </a:lnTo>
                  <a:lnTo>
                    <a:pt x="330" y="357"/>
                  </a:lnTo>
                  <a:lnTo>
                    <a:pt x="332" y="352"/>
                  </a:lnTo>
                  <a:lnTo>
                    <a:pt x="335" y="352"/>
                  </a:lnTo>
                  <a:lnTo>
                    <a:pt x="342" y="352"/>
                  </a:lnTo>
                  <a:lnTo>
                    <a:pt x="353" y="352"/>
                  </a:lnTo>
                  <a:lnTo>
                    <a:pt x="367" y="350"/>
                  </a:lnTo>
                  <a:lnTo>
                    <a:pt x="382" y="350"/>
                  </a:lnTo>
                  <a:lnTo>
                    <a:pt x="398" y="347"/>
                  </a:lnTo>
                  <a:lnTo>
                    <a:pt x="413" y="345"/>
                  </a:lnTo>
                  <a:lnTo>
                    <a:pt x="427" y="342"/>
                  </a:lnTo>
                  <a:lnTo>
                    <a:pt x="438" y="337"/>
                  </a:lnTo>
                  <a:lnTo>
                    <a:pt x="447" y="329"/>
                  </a:lnTo>
                  <a:lnTo>
                    <a:pt x="455" y="319"/>
                  </a:lnTo>
                  <a:lnTo>
                    <a:pt x="462" y="309"/>
                  </a:lnTo>
                  <a:lnTo>
                    <a:pt x="468" y="299"/>
                  </a:lnTo>
                  <a:lnTo>
                    <a:pt x="475" y="290"/>
                  </a:lnTo>
                  <a:lnTo>
                    <a:pt x="483" y="284"/>
                  </a:lnTo>
                  <a:lnTo>
                    <a:pt x="493" y="280"/>
                  </a:lnTo>
                  <a:lnTo>
                    <a:pt x="508" y="275"/>
                  </a:lnTo>
                  <a:lnTo>
                    <a:pt x="513" y="269"/>
                  </a:lnTo>
                  <a:lnTo>
                    <a:pt x="513" y="264"/>
                  </a:lnTo>
                  <a:lnTo>
                    <a:pt x="512" y="262"/>
                  </a:lnTo>
                  <a:lnTo>
                    <a:pt x="380" y="90"/>
                  </a:lnTo>
                  <a:close/>
                </a:path>
              </a:pathLst>
            </a:custGeom>
            <a:solidFill>
              <a:srgbClr val="b2b2b2">
                <a:alpha val="30000"/>
              </a:srgbClr>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128" name=""/>
          <p:cNvSpPr/>
          <p:nvPr/>
        </p:nvSpPr>
        <p:spPr>
          <a:xfrm>
            <a:off x="0" y="457200"/>
            <a:ext cx="914400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333399"/>
                </a:solidFill>
                <a:latin typeface="Albertus Medium"/>
              </a:rPr>
              <a:t>History of Nanotechnology</a:t>
            </a:r>
            <a:endParaRPr b="0" lang="en-US" sz="3600" spc="-1" strike="noStrike">
              <a:solidFill>
                <a:srgbClr val="000000"/>
              </a:solidFill>
              <a:latin typeface="Arial"/>
            </a:endParaRPr>
          </a:p>
        </p:txBody>
      </p:sp>
      <p:sp>
        <p:nvSpPr>
          <p:cNvPr id="129" name="PlaceHolder 1"/>
          <p:cNvSpPr>
            <a:spLocks noGrp="1"/>
          </p:cNvSpPr>
          <p:nvPr>
            <p:ph/>
          </p:nvPr>
        </p:nvSpPr>
        <p:spPr>
          <a:xfrm>
            <a:off x="1218960" y="1600200"/>
            <a:ext cx="6933960" cy="4525920"/>
          </a:xfrm>
          <a:prstGeom prst="rect">
            <a:avLst/>
          </a:prstGeom>
          <a:noFill/>
          <a:ln w="0">
            <a:noFill/>
          </a:ln>
        </p:spPr>
        <p:txBody>
          <a:bodyPr lIns="90000" rIns="90000" tIns="46800" bIns="46800" anchor="t">
            <a:normAutofit/>
          </a:bodyPr>
          <a:p>
            <a:pPr marL="341280" indent="-341280">
              <a:lnSpc>
                <a:spcPct val="80000"/>
              </a:lnSpc>
              <a:spcBef>
                <a:spcPts val="601"/>
              </a:spcBef>
              <a:buClr>
                <a:srgbClr val="333399"/>
              </a:buClr>
              <a:buFont typeface="Albertus Medium"/>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u="sng">
                <a:solidFill>
                  <a:srgbClr val="ccccff"/>
                </a:solidFill>
                <a:uFillTx/>
                <a:latin typeface="Albertus Medium"/>
                <a:hlinkClick r:id="rId4"/>
              </a:rPr>
              <a:t>December 29</a:t>
            </a:r>
            <a:r>
              <a:rPr b="0" lang="en-US" sz="2400" spc="-1" strike="noStrike">
                <a:solidFill>
                  <a:srgbClr val="333399"/>
                </a:solidFill>
                <a:latin typeface="Albertus Medium"/>
              </a:rPr>
              <a:t>, </a:t>
            </a:r>
            <a:r>
              <a:rPr b="0" lang="en-US" sz="2400" spc="-1" strike="noStrike" u="sng">
                <a:solidFill>
                  <a:srgbClr val="ccccff"/>
                </a:solidFill>
                <a:uFillTx/>
                <a:latin typeface="Albertus Medium"/>
                <a:hlinkClick r:id="rId5"/>
              </a:rPr>
              <a:t>1959</a:t>
            </a:r>
            <a:r>
              <a:rPr b="0" lang="en-US" sz="2400" spc="-1" strike="noStrike">
                <a:solidFill>
                  <a:srgbClr val="333399"/>
                </a:solidFill>
                <a:latin typeface="Albertus Medium"/>
              </a:rPr>
              <a:t>. Feynman described in his talk </a:t>
            </a:r>
            <a:r>
              <a:rPr b="0" lang="en-US" sz="2400" spc="-1" strike="noStrike" u="sng">
                <a:solidFill>
                  <a:srgbClr val="ccccff"/>
                </a:solidFill>
                <a:uFillTx/>
                <a:latin typeface="Albertus Medium"/>
                <a:hlinkClick r:id="rId6"/>
              </a:rPr>
              <a:t>There's Plenty of Room at the Bottom</a:t>
            </a:r>
            <a:r>
              <a:rPr b="0" lang="en-US" sz="2400" spc="-1" strike="noStrike">
                <a:solidFill>
                  <a:srgbClr val="333399"/>
                </a:solidFill>
                <a:latin typeface="Albertus Medium"/>
              </a:rPr>
              <a:t>  a process by which the ability to manipulate individual atoms and molecules might be developed, using one set of precise tools to build and operate another proportionally smaller set, so on down to the needed scale.</a:t>
            </a:r>
            <a:endParaRPr b="0" lang="en-US" sz="2400" spc="-1" strike="noStrike">
              <a:solidFill>
                <a:srgbClr val="000000"/>
              </a:solidFill>
              <a:latin typeface="Arial"/>
            </a:endParaRPr>
          </a:p>
          <a:p>
            <a:pPr marL="341280" indent="0">
              <a:lnSpc>
                <a:spcPct val="8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400" spc="-1" strike="noStrike">
              <a:solidFill>
                <a:srgbClr val="000000"/>
              </a:solidFill>
              <a:latin typeface="Arial"/>
            </a:endParaRPr>
          </a:p>
          <a:p>
            <a:pPr marL="341280" indent="-341280">
              <a:lnSpc>
                <a:spcPct val="80000"/>
              </a:lnSpc>
              <a:spcBef>
                <a:spcPts val="601"/>
              </a:spcBef>
              <a:buClr>
                <a:srgbClr val="333399"/>
              </a:buClr>
              <a:buFont typeface="Albertus Medium"/>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333399"/>
                </a:solidFill>
                <a:latin typeface="Albertus Medium"/>
              </a:rPr>
              <a:t>Later The term </a:t>
            </a:r>
            <a:r>
              <a:rPr b="0" lang="ar-SA" sz="2400" spc="-1" strike="noStrike">
                <a:solidFill>
                  <a:srgbClr val="333399"/>
                </a:solidFill>
                <a:latin typeface="Albertus Medium"/>
              </a:rPr>
              <a:t>"</a:t>
            </a:r>
            <a:r>
              <a:rPr b="0" lang="en-US" sz="2400" spc="-1" strike="noStrike">
                <a:solidFill>
                  <a:srgbClr val="333399"/>
                </a:solidFill>
                <a:latin typeface="Albertus Medium"/>
              </a:rPr>
              <a:t>nanotechnology</a:t>
            </a:r>
            <a:r>
              <a:rPr b="0" lang="ar-SA" sz="2400" spc="-1" strike="noStrike">
                <a:solidFill>
                  <a:srgbClr val="333399"/>
                </a:solidFill>
                <a:latin typeface="Albertus Medium"/>
              </a:rPr>
              <a:t>" </a:t>
            </a:r>
            <a:r>
              <a:rPr b="0" lang="en-US" sz="2400" spc="-1" strike="noStrike">
                <a:solidFill>
                  <a:srgbClr val="333399"/>
                </a:solidFill>
                <a:latin typeface="Albertus Medium"/>
              </a:rPr>
              <a:t>was defined by </a:t>
            </a:r>
            <a:r>
              <a:rPr b="0" lang="en-US" sz="2400" spc="-1" strike="noStrike" u="sng">
                <a:solidFill>
                  <a:srgbClr val="ccccff"/>
                </a:solidFill>
                <a:uFillTx/>
                <a:latin typeface="Albertus Medium"/>
                <a:hlinkClick r:id="rId7"/>
              </a:rPr>
              <a:t>Tokyo Science University</a:t>
            </a:r>
            <a:r>
              <a:rPr b="0" lang="en-US" sz="2400" spc="-1" strike="noStrike">
                <a:solidFill>
                  <a:srgbClr val="333399"/>
                </a:solidFill>
                <a:latin typeface="Albertus Medium"/>
              </a:rPr>
              <a:t> Professor </a:t>
            </a:r>
            <a:r>
              <a:rPr b="0" lang="en-US" sz="2400" spc="-1" strike="noStrike" u="sng">
                <a:solidFill>
                  <a:srgbClr val="ccccff"/>
                </a:solidFill>
                <a:uFillTx/>
                <a:latin typeface="Albertus Medium"/>
                <a:hlinkClick r:id="rId8"/>
              </a:rPr>
              <a:t>Norio Taniguchi</a:t>
            </a:r>
            <a:r>
              <a:rPr b="0" lang="en-US" sz="2400" spc="-1" strike="noStrike">
                <a:solidFill>
                  <a:srgbClr val="333399"/>
                </a:solidFill>
                <a:latin typeface="Albertus Medium"/>
              </a:rPr>
              <a:t> in a 1974.</a:t>
            </a:r>
            <a:endParaRPr b="0" lang="en-US" sz="2400" spc="-1" strike="noStrike">
              <a:solidFill>
                <a:srgbClr val="000000"/>
              </a:solidFill>
              <a:latin typeface="Arial"/>
            </a:endParaRPr>
          </a:p>
          <a:p>
            <a:pPr marL="341280" indent="0">
              <a:lnSpc>
                <a:spcPct val="8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000000"/>
              </a:solidFill>
              <a:latin typeface="Arial"/>
            </a:endParaRPr>
          </a:p>
          <a:p>
            <a:pPr marL="341280" indent="0">
              <a:lnSpc>
                <a:spcPct val="8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000000"/>
              </a:solidFill>
              <a:latin typeface="Arial"/>
            </a:endParaRPr>
          </a:p>
        </p:txBody>
      </p:sp>
      <p:sp>
        <p:nvSpPr>
          <p:cNvPr id="130" name=""/>
          <p:cNvSpPr/>
          <p:nvPr/>
        </p:nvSpPr>
        <p:spPr>
          <a:xfrm>
            <a:off x="609480" y="6629400"/>
            <a:ext cx="8534520" cy="228600"/>
          </a:xfrm>
          <a:prstGeom prst="rect">
            <a:avLst/>
          </a:prstGeom>
          <a:solidFill>
            <a:srgbClr val="bbe0e3"/>
          </a:solidFill>
          <a:ln cap="sq"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333399"/>
                </a:solidFill>
                <a:latin typeface="Albertus Medium"/>
              </a:rPr>
              <a:t>www.skinandallergy.org</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1" lang="en-US" sz="1000" spc="-1" strike="noStrike">
                <a:solidFill>
                  <a:srgbClr val="333399"/>
                </a:solidFill>
                <a:latin typeface="Albertus Medium"/>
              </a:rPr>
              <a:t>                </a:t>
            </a:r>
            <a:r>
              <a:rPr b="0" lang="en-US" sz="1000" spc="-1" strike="noStrike">
                <a:solidFill>
                  <a:srgbClr val="333399"/>
                </a:solidFill>
                <a:latin typeface="Albertus Medium"/>
              </a:rPr>
              <a:t>www.panarabderm.org</a:t>
            </a:r>
            <a:endParaRPr b="0" lang="en-US" sz="1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14T08:48:59Z</dcterms:created>
  <dc:creator>ATEEQM</dc:creator>
  <dc:description/>
  <dc:language>en-US</dc:language>
  <cp:lastModifiedBy>User</cp:lastModifiedBy>
  <dcterms:modified xsi:type="dcterms:W3CDTF">2009-10-21T19:47:34Z</dcterms:modified>
  <cp:revision>76</cp:revision>
  <dc:subject/>
  <dc:title>Slide 1</dc:title>
</cp:coreProperties>
</file>