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71024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8F7CC-4651-407A-86EB-8382B0D32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53EBF-D7E0-480D-9194-F3943B11D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50DBA-E699-43B3-980E-76CFF429A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42BBB-095B-4373-863A-04B8E2009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A6E36-84EE-4122-8A90-8C432D5C9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42E7C-1FB1-412F-ABAC-299735A65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A3B1D-6033-4F66-BE31-2F7B00BFD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43531-5C37-44B5-9A23-4C81A983A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C9235-F891-46DE-84EB-81B421A04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A97F0-05A9-4127-946C-0168B37F0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E328-F47B-4005-9582-A57C6BD5F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EB4D-6C7A-46A0-A7C6-3FAF4C2AD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129F6-CCC9-4CF6-9ED7-21985CB97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17D97-F5A0-4302-AD4F-F52FE8F0F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7DB7B-7479-4620-BA4B-FC716E06D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A9202-D23B-45F7-B68C-A696243A8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D8EC5-DA44-46EF-91BE-13039DDB8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10C0F7-9DE9-4A55-9D9A-4EEA4E96C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26E000-BF10-4ABC-82ED-0CA622D9C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894B09-5366-4F29-8A50-A2475B391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BB3B5C-616C-47C2-9541-9F246F6645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D1BAD1-EC5C-4E75-B001-DC6858C7D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74D8C-276C-4D4F-A07A-1C00749E1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4DF948-04EA-4EE9-88D0-067A56299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DF83A7-ED01-463B-8EAD-80D98B895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81FE9B-F82E-4468-88C7-C49B84D17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E60FD0-7987-4661-9A03-D0766EF04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7EA9DCF-A7B5-4D3B-AFC7-97BBC862F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2D4DFE-9D62-499F-A92F-1FD6C53AAF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12E9E66-1E95-4855-A19A-7371A4017E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200194-44D4-4558-9FA8-00EE787CA4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1EFC93-096B-40B0-A47B-D2BEE2772A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23A28F-4C8D-4736-A253-D59A2EC3D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A613E-034D-40FC-9E79-24CEBEC1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F11A16-17F0-4F99-B4CA-8EA6EC3E2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21EF2D-BC17-4B24-B9F9-E25FB7C159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EC21EC-1A4F-4C61-8D91-A4878EDCF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F60D78-F1E6-4B39-BB55-C6D80B577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96A0D2-62FA-4E4C-AE88-11C1D030D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B8C37B-E9B9-4AB0-A8D3-87968C29D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D1D143-0FA3-444C-855F-CDADD1873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77847D0-7024-488C-B905-C0D415DAC0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245582C-B755-4761-8D90-DB75F87F78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3586878-C3E2-49D2-A8C0-6E16965323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FAC0-DE14-4DF5-AB46-FC9C388DD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A78474-4590-4329-B98A-2183DBC483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4D13D8-F47B-4336-B5AA-8A0B61165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FA486C-57D5-4269-827C-B84432840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B88390-188A-4BC7-8B79-2B7A99F66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0AB3C2-4A3F-4019-833D-3D9671EE4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846110E-1C14-4201-8B58-E20B03E98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016F51-3ACA-46F0-BAE2-64EDA6D75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CBE6E6-E2AA-46C6-86A5-E874D0892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202169-E428-4E07-B1F4-3855F7A90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B606BCF-5478-44A0-A986-101B9A15C2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C82F8-5094-4A1B-817A-4D1863B0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C70AD28-9566-4E6F-8253-24FECDA3E1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9A251F-D8A9-4BF5-A5AB-9ACB3D75A7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7E90C-4B40-4C4D-AC01-6B2790CF4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4A1E7E-1F2C-4C9A-BB0D-303D56E405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3D77F-D0CD-43BE-9266-F68813DC5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921DE-9933-497E-A713-DA3D7A8B0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29C2D3-404F-4A05-82D6-1C104BD761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A0A4B-6B46-42AB-95C4-6EBAE59E0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92530-D96D-419F-81B3-1EC0B0592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46D9E-8D82-4D2B-8E0F-EE0C484BB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6EFC-50EB-4884-96D3-B0D133A25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A448F2-06C9-404D-8F5A-466CD261A5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569012-4774-44AD-93DA-7B87CB76B0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238932-41A0-492E-AE96-620989350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E6147E5-8E32-4310-91FF-D61EA7F2DB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F7B5107-0EE0-4108-A70B-883F1F05AB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1906E7-3547-49F0-9560-6692F5390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195450-1234-4144-8D2F-3C0E0EA4A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389D8D-4E79-4694-AB77-CB94456EAD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600D0B-BEB0-4ABC-9FCB-159C53614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B74F78-7D5A-4628-A6E1-366016A11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F7CE8-D90A-4D33-B6C9-C38CBCD8B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59C0A79-8658-47EB-880E-106C996610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BEAD2DA-2F11-4C0A-8D31-A17B9FF3F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58FB532-25B3-48FB-BBD6-DE0AF9651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076E3B2-4751-437A-A267-D17482118D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76A6E27-8ED7-48E0-98FD-7D09978EF0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36C49D-4A94-4B41-A9AC-BA910DADEA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B8F24-78C7-447C-8A33-810D00F13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B1B1F9-8635-41FC-8D20-18D24A56DC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532BB-9EFC-407F-952B-8CE52F5D9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14E2F3-368F-48AF-86EF-40CF3534D4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44D2-3951-4B7C-A320-574E38763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2885D0-1910-4600-B139-B9DD97A725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24FBF5-3FB8-4573-884A-F516774A4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B83963-8CFE-4DB9-B4C9-588659EE76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42F5B-9216-40B7-8B5A-B0CF7BBC8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AF8BB2-E7B8-44D0-B424-453D9CAAC6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3EDB3B-AD2A-4227-B0D4-3DA32B66A8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286D05-DE68-4A87-A45B-82756A84BBF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FA44-8E66-4D2F-8EA1-BA32E7041EE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46A8-37C1-4C8A-87D2-C500154F5DA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6DCA-51DF-4C50-800F-483CFE27FAA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E6EE-9B03-441F-B218-429B63788C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85FB-CB8F-4681-9623-2EBC9D283E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63F5-445A-4755-9C6B-7AB39997AAA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5D71-CD9F-40C5-B17B-36E8CFB3E8C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1970-438C-4ECA-8AC4-CE8FA6FD425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sunnah.com/muslim/1/16"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unnah.com/bukhari/2/1" TargetMode="External"/><Relationship Id="rId2" Type="http://schemas.openxmlformats.org/officeDocument/2006/relationships/hyperlink" Target="http://sunnah.com/muslim/1/21"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unnah.com/bukhari/81/5"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ritannica.com/topic/isnad"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2971800"/>
            <a:ext cx="6476760" cy="1828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entury Gothic"/>
              </a:rPr>
              <a:t>TRANSLATING HADITH</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401560" y="6019560"/>
            <a:ext cx="670572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Dr. Nasrin Altuwairesh</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Islamic Translation/ 1437-38</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ctions</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7000"/>
          </a:bodyPr>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w Cen MT"/>
                <a:cs typeface="Arial"/>
              </a:rPr>
              <a:t>عَنْ عَبْدِ اللَّهِ بْنِ عُمَرَ ـ رضى الله عنهما ـ قَالَ كَانَ رَسُولُ اللَّهِ صلى الله عليه وسلم يَعْتَكِفُ الْعَشْرَ الأَوَاخِرَ مِنْ رَمَضَانَ‏ (متفق عليه)</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arrated Ibn `Umar (May Allah be pleased with them), who said: The Messenger of Allah (peace and blessings of Allah be upon him) used to perform I`tikaf (seclusion for prayers) in the last ten days of Ramadan. [Agreed upon]</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68"/>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pproval/Disapproval</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w Cen MT"/>
                <a:cs typeface="Arial"/>
              </a:rPr>
              <a:t>عنْ أَبِي عَبْدِ اللَّهِ جَابِرِ بْنِ عَبْدِ اللَّهِ الْأَنْصَارِيِّ رَضِيَ اللَّهُ عَنْهُمَا: "أَنَّ رَجُلًا سَأَلَ رَسُولَ اللَّهِ صلى الله عليه و سلم فَقَالَ: أَرَأَيْت إذَا صَلَّيْت الْمَكْتُوبَاتِ، وَصُمْت رَمَضَانَ، وَأَحْلَلْت الْحَلَالَ، وَحَرَّمْت الْحَرَامَ، وَلَمْ أَزِدْ عَلَى ذَلِكَ شَيْئًا؛ أَأَدْخُلُ الْجَنَّةَ؟ قَالَ: نَعَمْ". (رواه مسلم)</a:t>
            </a:r>
            <a:endParaRPr b="0" lang="en-US" sz="40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pproval/Disapproval</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 the authority of Abu Abdullah Jabir bin Abdullah al-Ansaree (may Allah be pleased with them) who said: A man asked the Messenger of Allah (peace and blessings of Allah be upon him) and said, “Do you think that if I perform the obligatory prayers, fast in Ramadan, treat as lawful that which is lawful, and treat as forbidden that which is forbidden, and do not increase upon that [in voluntary good deeds], then I shall enter Paradise?” He (peace and blessings of Allah be upon him) replied, “Yes.” </a:t>
            </a:r>
            <a:r>
              <a:rPr b="0" lang="en-US" sz="2400" spc="-1" strike="noStrike" u="sng">
                <a:solidFill>
                  <a:srgbClr val="f7b615"/>
                </a:solidFill>
                <a:uFillTx/>
                <a:latin typeface="Arial"/>
                <a:ea typeface="Arial"/>
                <a:hlinkClick r:id="rId1"/>
              </a:rPr>
              <a:t>[Muslim]</a:t>
            </a:r>
            <a:r>
              <a:rPr b="0" lang="en-US" sz="2400" spc="-1" strike="noStrike">
                <a:solidFill>
                  <a:srgbClr val="000000"/>
                </a:solidFill>
                <a:latin typeface="Arial"/>
                <a:ea typeface="Arial"/>
              </a:rPr>
              <a:t> </a:t>
            </a:r>
            <a:endParaRPr b="0" lang="en-US" sz="2400" spc="-1" strike="noStrike">
              <a:solidFill>
                <a:srgbClr val="000000"/>
              </a:solidFill>
              <a:latin typeface="Tw Cen MT"/>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72"/>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عَنْ أَبِي عَبْدِ الرَّحْمَنِ عَبْدِ اللَّهِ بْنِ عُمَرَ بْنِ الْخَطَّابِ رَضِيَ اللَّهُ عَنْهُمَا قَالَ: سَمِعْت رَسُولَ اللَّهِ صلى الله عليه و سلم يَقُولُ: ( بُنِيَ الْإِسْلَامُ عَلَى خَمْسٍ: شَهَادَةِ أَنْ لَا إلَهَ إلَّا اللَّهُ وَأَنَّ مُحَمَّدًا رَسُولُ اللَّهِ، وَإِقَامِ الصَّلَاةِ، وَإِيتَاءِ الزَّكَاةِ، وَحَجِّ الْبَيْتِ، وَصَوْمِ رَمَضَانَ) رواه البخاري ومسلم</a:t>
            </a:r>
            <a:r>
              <a:rPr b="0" lang="ar-SA" sz="3600" spc="-1" strike="noStrike">
                <a:solidFill>
                  <a:srgbClr val="000000"/>
                </a:solidFill>
                <a:latin typeface="Arial"/>
                <a:ea typeface="Arial"/>
              </a:rPr>
              <a:t>.</a:t>
            </a:r>
            <a:endParaRPr b="0" lang="en-US" sz="36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7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 the authority of Abi Abdulrahman Abdullah ibn Omar (may Allah be pleased with them), who said: I heard the Messenger of Allah (peace and blessings of Allah be upon him)</a:t>
            </a:r>
            <a:r>
              <a:rPr b="0" lang="ar-SA" sz="2900" spc="-1" strike="noStrike">
                <a:solidFill>
                  <a:srgbClr val="000000"/>
                </a:solidFill>
                <a:latin typeface="Tw Cen MT"/>
                <a:ea typeface="Arial"/>
              </a:rPr>
              <a:t> </a:t>
            </a:r>
            <a:r>
              <a:rPr b="0" lang="en-US" sz="2900" spc="-1" strike="noStrike">
                <a:solidFill>
                  <a:srgbClr val="000000"/>
                </a:solidFill>
                <a:latin typeface="Tw Cen MT"/>
              </a:rPr>
              <a:t>say, "Islam has been built on five [pillars]: testifying that there is no deity worthy of worship except Allah and that Muhammad is the Messenger of Allah, establishing the salah (prayer), paying the zakat (obligatory charity), making the hajj (pilgrimage) to the House, and fasting in Ramadhan." [</a:t>
            </a:r>
            <a:r>
              <a:rPr b="0" lang="en-US" sz="2900" spc="-1" strike="noStrike" u="sng">
                <a:solidFill>
                  <a:srgbClr val="f7b615"/>
                </a:solidFill>
                <a:uFillTx/>
                <a:latin typeface="Tw Cen MT"/>
                <a:hlinkClick r:id="rId1"/>
              </a:rPr>
              <a:t>Bukhari</a:t>
            </a:r>
            <a:r>
              <a:rPr b="0" lang="en-US" sz="2900" spc="-1" strike="noStrike">
                <a:solidFill>
                  <a:srgbClr val="000000"/>
                </a:solidFill>
                <a:latin typeface="Tw Cen MT"/>
              </a:rPr>
              <a:t> &amp; </a:t>
            </a:r>
            <a:r>
              <a:rPr b="0" lang="en-US" sz="2900" spc="-1" strike="noStrike" u="sng">
                <a:solidFill>
                  <a:srgbClr val="f7b615"/>
                </a:solidFill>
                <a:uFillTx/>
                <a:latin typeface="Tw Cen MT"/>
                <a:hlinkClick r:id="rId2"/>
              </a:rPr>
              <a:t>Muslim</a:t>
            </a:r>
            <a:r>
              <a:rPr b="0" lang="en-US" sz="2900" spc="-1" strike="noStrike">
                <a:solidFill>
                  <a:srgbClr val="000000"/>
                </a:solidFill>
                <a:latin typeface="Tw Cen MT"/>
              </a:rPr>
              <a: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76"/>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43080" indent="-343080" algn="r" rtl="1">
              <a:lnSpc>
                <a:spcPct val="115000"/>
              </a:lnSpc>
              <a:spcAft>
                <a:spcPts val="1001"/>
              </a:spcAft>
              <a:buClr>
                <a:srgbClr val="dd8047"/>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egoe UI"/>
              </a:rPr>
              <a:t>عَنْ أَبِي هُرَيْرَةَ ـ رضى الله عنه ـ عَنِ النَّبِيِّ صلى الله عليه وسلم قَالَ ‏ "‏ </a:t>
            </a:r>
            <a:r>
              <a:rPr b="1" lang="ar-SA" sz="2800" spc="-1" strike="noStrike">
                <a:solidFill>
                  <a:srgbClr val="000000"/>
                </a:solidFill>
                <a:latin typeface="Calibri"/>
                <a:cs typeface="Segoe UI"/>
              </a:rPr>
              <a:t>تُنْكَحُ</a:t>
            </a:r>
            <a:r>
              <a:rPr b="0" lang="ar-SA" sz="2800" spc="-1" strike="noStrike">
                <a:solidFill>
                  <a:srgbClr val="000000"/>
                </a:solidFill>
                <a:latin typeface="Calibri"/>
                <a:ea typeface="Segoe UI"/>
              </a:rPr>
              <a:t> </a:t>
            </a:r>
            <a:r>
              <a:rPr b="1" lang="ar-SA" sz="2800" spc="-1" strike="noStrike">
                <a:solidFill>
                  <a:srgbClr val="000000"/>
                </a:solidFill>
                <a:latin typeface="Calibri"/>
                <a:cs typeface="Segoe UI"/>
              </a:rPr>
              <a:t>الْمَرْأَةُ</a:t>
            </a:r>
            <a:r>
              <a:rPr b="0" lang="ar-SA" sz="2800" spc="-1" strike="noStrike">
                <a:solidFill>
                  <a:srgbClr val="000000"/>
                </a:solidFill>
                <a:latin typeface="Calibri"/>
                <a:ea typeface="Segoe UI"/>
              </a:rPr>
              <a:t> </a:t>
            </a:r>
            <a:r>
              <a:rPr b="1" lang="ar-SA" sz="2800" spc="-1" strike="noStrike">
                <a:solidFill>
                  <a:srgbClr val="000000"/>
                </a:solidFill>
                <a:latin typeface="Calibri"/>
                <a:cs typeface="Segoe UI"/>
              </a:rPr>
              <a:t>لأَرْبَعٍ</a:t>
            </a:r>
            <a:r>
              <a:rPr b="0" lang="ar-SA" sz="2800" spc="-1" strike="noStrike">
                <a:solidFill>
                  <a:srgbClr val="000000"/>
                </a:solidFill>
                <a:latin typeface="Calibri"/>
                <a:ea typeface="Segoe UI"/>
              </a:rPr>
              <a:t> لِمَالِهَا وَلِحَسَبِهَا وَجَمَالِهَا وَلِدِينِهَا، فَاظْفَرْ بِذَاتِ الدِّينِ   تَرِبَتْ يَدَاكَ ‏"‏‏. (رواه البخاري)</a:t>
            </a:r>
            <a:endParaRPr b="0" lang="en-US" sz="2800" spc="-1" strike="noStrike">
              <a:solidFill>
                <a:srgbClr val="000000"/>
              </a:solidFill>
              <a:latin typeface="Tw Cen MT"/>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rrated Abi Hurraira (may Allah be pleased with him), who said: the Prophet (may peace and blessings of Allah be upon him) said: “A woman is married for four reasons: for her wealth, her family chain, her beauty and her religion, so marry a woman for her religion and you will be blessed.” [Reported by Albukhari]</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78"/>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نْ ابْن عُمَرَ رَضِيَ اللَّهُ عَنْهُمَا قَالَ: أَخَذَ رَسُولُ اللَّهِ صلى الله عليه و سلم بِمَنْكِبِي، وَقَالَ: "كُنْ فِي الدُّنْيَا كَأَنَّك غَرِيبٌ أَوْ عَابِرُ سَبِيلٍ". وَكَانَ ابْنُ عُمَرَ رَضِيَ اللَّهُ عَنْهُمَا يَقُولُ: إذَا أَمْسَيْتَ فَلَا تَنْتَظِرْ الصَّبَاحَ، وَإِذَا أَصْبَحْتَ فَلَا تَنْتَظِرْ الْمَسَاءَ، وَخُذْ مِنْ صِحَّتِك لِمَرَضِك، وَمِنْ حَيَاتِك لِمَوْتِك. </a:t>
            </a:r>
            <a:br>
              <a:rPr sz="2900"/>
            </a:br>
            <a:r>
              <a:rPr b="0" lang="ar-SA" sz="2900" spc="-1" strike="noStrike">
                <a:solidFill>
                  <a:srgbClr val="000000"/>
                </a:solidFill>
                <a:latin typeface="Tw Cen MT"/>
                <a:ea typeface="Arial"/>
              </a:rPr>
              <a:t>[رَوَاهُ الْبُخَارِ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80"/>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n the authority of Abdullah ibn Umar (may Allah be pleased with him), who said: </a:t>
            </a:r>
            <a:r>
              <a:rPr b="0" lang="en-US" sz="2400" spc="-1" strike="noStrike">
                <a:solidFill>
                  <a:srgbClr val="000000"/>
                </a:solidFill>
                <a:latin typeface="Arial"/>
                <a:ea typeface="Arial"/>
              </a:rPr>
              <a:t>The Messenger of Allah (peace and blessings of Allah be upon him) took me by the shoulder and said, “Be in this world as though you were a stranger or a wayfarer.” And Ibn Umar (may Allah be pleased with him) used to say, “In the evening do not expect [to live until] the morning, and in the morning do not expect [to live until] the evening. Take [advantage of] your health before times of sickness, and [take advantage of] your life before your death.” </a:t>
            </a:r>
            <a:r>
              <a:rPr b="0" lang="en-US" sz="2400" spc="-1" strike="noStrike" u="sng">
                <a:solidFill>
                  <a:srgbClr val="f7b615"/>
                </a:solidFill>
                <a:uFillTx/>
                <a:latin typeface="Arial"/>
                <a:ea typeface="Arial"/>
                <a:hlinkClick r:id="rId1"/>
              </a:rPr>
              <a:t>[Al-Bukhari]</a:t>
            </a:r>
            <a:endParaRPr b="0" lang="en-US" sz="2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82"/>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0000"/>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عَنْ أَمِيرِ الْمُؤْمِنِينَ أَبِي حَفْصٍ عُمَرَ بْنِ الْخَطَّابِ رَضِيَ اللهُ عَنْهُ قَالَ: سَمِعْتُ رَسُولَ اللَّهِ صلى الله عليه وسلم يَقُولُ: " إنَّمَا الْأَعْمَالُ بِالنِّيَّاتِ، وَإِنَّمَا لِكُلِّ امْرِئٍ مَا نَوَى، فَمَنْ كَانَتْ هِجْرَتُهُ إلَى اللَّهِ وَرَسُولِهِ فَهِجْرَتُهُ إلَى اللَّهِ وَرَسُولِهِ، وَمَنْ كَانَتْ هِجْرَتُهُ لِدُنْيَا يُصِيبُهَا أَوْ امْرَأَةٍ يَنْكِحُهَا فَهِجْرَتُهُ إلَى مَا هَاجَرَ إلَيْهِ". رَوَاهُ إِمَامَا الْمُحَدِّثِينَ أَبُو عَبْدِ اللهِ مُحَمَّدُ بنُ إِسْمَاعِيل الْبُخَارِيُّ ، وَأَبُو الْحُسَيْنِ مُسْلِمٌ بنُ الْحَجَّاج النَّيْسَابُورِيُّ رَضِيَ اللهُ عَنْهُمَا فِي "صَحِيحَيْهِمَا" اللذَينِ هُمَا أَصَحُّ الْكُتُبِ الْمُصَنَّفَةِ</a:t>
            </a:r>
            <a:r>
              <a:rPr b="0" lang="ar-SA" sz="3200" spc="-1" strike="noStrike">
                <a:solidFill>
                  <a:srgbClr val="000000"/>
                </a:solidFill>
                <a:latin typeface="Arial"/>
                <a:ea typeface="Arial"/>
              </a:rPr>
              <a:t>.</a:t>
            </a:r>
            <a:endParaRPr b="0" lang="en-US" sz="3200" spc="-1" strike="noStrike">
              <a:solidFill>
                <a:srgbClr val="000000"/>
              </a:solidFill>
              <a:latin typeface="Tw Cen MT"/>
            </a:endParaRPr>
          </a:p>
          <a:p>
            <a:pPr algn="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84"/>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Words:</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n the authority of the Leader of the believers, Abu Hafs 'Umar bin al-Khattab (may Allah be pleased with him) who sai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 heard the Messenger of Allah (peace and blessings of Allah be upon him) say: "Actions are (judged) by motives (niyyah), so each man will have what he intended. Thus, he whose migration (hijrah) was to Allah and His Messenger, his migration is to Allah and His Messenger; but he whose migration was for some worldly thing he might gain, or for a wife he might marry, his migration is to that for which he migrated." [Related by the two Imams of the scholars of Hadith, Abu Abdullah Muhammad bin Ismael Albukhari and Abu Alhussain Muslim bin Alhajaj Alnisaboori , in their two Sahihs which are the most authentic of compiled book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86"/>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Definition</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adith is defined as </a:t>
            </a:r>
            <a:endParaRPr b="0" lang="en-US" sz="40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
            </a:r>
            <a:r>
              <a:rPr b="0" lang="en-US" sz="4000" spc="-1" strike="noStrike">
                <a:solidFill>
                  <a:srgbClr val="000000"/>
                </a:solidFill>
                <a:latin typeface="Arial"/>
                <a:ea typeface="Arial"/>
              </a:rPr>
              <a:t>the report of </a:t>
            </a:r>
            <a:r>
              <a:rPr b="0" lang="en-US" sz="4000" spc="-1" strike="noStrike">
                <a:solidFill>
                  <a:srgbClr val="ff0000"/>
                </a:solidFill>
                <a:latin typeface="Arial"/>
                <a:ea typeface="Arial"/>
              </a:rPr>
              <a:t>the words (</a:t>
            </a:r>
            <a:r>
              <a:rPr b="0" lang="ar-SA" sz="4000" spc="-1" strike="noStrike">
                <a:solidFill>
                  <a:srgbClr val="ff0000"/>
                </a:solidFill>
                <a:latin typeface="Arial"/>
                <a:cs typeface="Arial"/>
              </a:rPr>
              <a:t>أقوال</a:t>
            </a:r>
            <a:r>
              <a:rPr b="0" lang="en-US" sz="4000" spc="-1" strike="noStrike">
                <a:solidFill>
                  <a:srgbClr val="ff0000"/>
                </a:solidFill>
                <a:latin typeface="Arial"/>
                <a:ea typeface="Arial"/>
              </a:rPr>
              <a:t>), actions (</a:t>
            </a:r>
            <a:r>
              <a:rPr b="0" lang="ar-SA" sz="4000" spc="-1" strike="noStrike">
                <a:solidFill>
                  <a:srgbClr val="ff0000"/>
                </a:solidFill>
                <a:latin typeface="Arial"/>
                <a:cs typeface="Arial"/>
              </a:rPr>
              <a:t>أفعال</a:t>
            </a:r>
            <a:r>
              <a:rPr b="0" lang="en-US" sz="4000" spc="-1" strike="noStrike">
                <a:solidFill>
                  <a:srgbClr val="ff0000"/>
                </a:solidFill>
                <a:latin typeface="Arial"/>
                <a:ea typeface="Arial"/>
              </a:rPr>
              <a:t>), </a:t>
            </a:r>
            <a:r>
              <a:rPr b="0" lang="en-US" sz="4000" spc="-1" strike="noStrike">
                <a:solidFill>
                  <a:srgbClr val="000000"/>
                </a:solidFill>
                <a:latin typeface="Arial"/>
                <a:ea typeface="Arial"/>
              </a:rPr>
              <a:t>or </a:t>
            </a:r>
            <a:r>
              <a:rPr b="0" lang="en-US" sz="4000" spc="-1" strike="noStrike">
                <a:solidFill>
                  <a:srgbClr val="ff0000"/>
                </a:solidFill>
                <a:latin typeface="Arial"/>
                <a:ea typeface="Arial"/>
              </a:rPr>
              <a:t>approval/ disapproval (</a:t>
            </a:r>
            <a:r>
              <a:rPr b="0" lang="ar-SA" sz="4000" spc="-1" strike="noStrike">
                <a:solidFill>
                  <a:srgbClr val="ff0000"/>
                </a:solidFill>
                <a:latin typeface="Arial"/>
                <a:cs typeface="Arial"/>
              </a:rPr>
              <a:t>تقرير</a:t>
            </a:r>
            <a:r>
              <a:rPr b="0" lang="en-US" sz="4000" spc="-1" strike="noStrike">
                <a:solidFill>
                  <a:srgbClr val="ff0000"/>
                </a:solidFill>
                <a:latin typeface="Arial"/>
                <a:ea typeface="Arial"/>
              </a:rPr>
              <a:t>) </a:t>
            </a:r>
            <a:r>
              <a:rPr b="0" lang="en-US" sz="4000" spc="-1" strike="noStrike">
                <a:solidFill>
                  <a:srgbClr val="000000"/>
                </a:solidFill>
                <a:latin typeface="Arial"/>
                <a:ea typeface="Arial"/>
              </a:rPr>
              <a:t>of the Prophet (peace be upon him)”</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Qudsi</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w Cen MT"/>
                <a:cs typeface="Arial"/>
              </a:rPr>
              <a:t>عَنْ أَبِي ذَرٍّ ‏- رضى الله عنه ‏- عَنْ اَلنَّبِيِّ ‏-صَلَّى اَللَّهُ عَلَيْهِ وَسَلَّمَ‏-‏- فِيمَا يَرْوِي‏ عَنْ رَبِّهِ‏- قَالَ: { يَا عِبَادِي! إِنِّي حَرَّمْتُ اَلظُّلْمَ عَلَى نَفْسِي, وَجَعَلْتُهُ بَيْنَكُمْ مُحَرَّمًا, فَلَا تَظَّالَمُوا } أَخْرَجَهُ مُسْلِمٌ</a:t>
            </a:r>
            <a:r>
              <a:rPr b="0" lang="ar-SA" sz="4800" spc="-1" strike="noStrike">
                <a:solidFill>
                  <a:srgbClr val="000000"/>
                </a:solidFill>
                <a:latin typeface="Tw Cen MT"/>
                <a:ea typeface="Arial"/>
              </a:rPr>
              <a:t>.</a:t>
            </a:r>
            <a:endParaRPr b="0" lang="en-US" sz="4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Qudsi</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 the authority of Abi Dharr (may Allah be pleased with him) from the Prophet (peace and blessings of Allah be upon him) is that among what he relates from his Lord is that He sai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 My servants! I have forbidden oppression for Myself and have made it forbidden amongst you, so do not oppress one another) [Related by Muslim].</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ponents of Hadith:</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Isnad</a:t>
            </a:r>
            <a:r>
              <a:rPr b="0" lang="en-US" sz="2800" spc="-1" strike="noStrike">
                <a:solidFill>
                  <a:srgbClr val="000000"/>
                </a:solidFill>
                <a:latin typeface="Tw Cen MT"/>
              </a:rPr>
              <a:t> (leaning): a chain of narrators or transmitters reporting the hadith</a:t>
            </a:r>
            <a:endParaRPr b="0" lang="en-US" sz="28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formula introducing such a Hadith would speak in the first person: “It was related to me by A, on the authority of B, on the authority of C, on the authority of D, from E (here a companion of Muhammad) that the Prophet said….” This chain of names constituted the </a:t>
            </a:r>
            <a:r>
              <a:rPr b="0" lang="en-US" sz="2800" spc="-1" strike="noStrike" u="sng">
                <a:solidFill>
                  <a:srgbClr val="f7b615"/>
                </a:solidFill>
                <a:uFillTx/>
                <a:latin typeface="Tw Cen MT"/>
                <a:hlinkClick r:id="rId1"/>
              </a:rPr>
              <a:t>isnād</a:t>
            </a:r>
            <a:r>
              <a:rPr b="0" lang="en-US" sz="2800" spc="-1" strike="noStrike">
                <a:solidFill>
                  <a:srgbClr val="000000"/>
                </a:solidFill>
                <a:latin typeface="Tw Cen MT"/>
              </a:rPr>
              <a:t> on which the saying or event depended for its authenticity.</a:t>
            </a:r>
            <a:endParaRPr b="0" lang="en-US" sz="28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Matn</a:t>
            </a:r>
            <a:r>
              <a:rPr b="0" lang="en-US" sz="2800" spc="-1" strike="noStrike">
                <a:solidFill>
                  <a:srgbClr val="000000"/>
                </a:solidFill>
                <a:latin typeface="Tw Cen MT"/>
              </a:rPr>
              <a:t> (gist): the text/ narrative itself</a:t>
            </a:r>
            <a:endParaRPr b="0" lang="en-US" sz="2800" spc="-1" strike="noStrike">
              <a:solidFill>
                <a:srgbClr val="000000"/>
              </a:solidFill>
              <a:latin typeface="Tw Cen MT"/>
            </a:endParaRPr>
          </a:p>
          <a:p>
            <a:pPr marL="280440" indent="-2804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w Cen MT"/>
              </a:rPr>
              <a:t>Takhreej</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assification of Hadith:</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sahih</a:t>
            </a:r>
            <a:r>
              <a:rPr b="0" lang="en-US" sz="4000" spc="-1" strike="noStrike">
                <a:solidFill>
                  <a:srgbClr val="000000"/>
                </a:solidFill>
                <a:latin typeface="Arial"/>
                <a:ea typeface="Arial"/>
              </a:rPr>
              <a:t> (“sound, authentic")</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hasan</a:t>
            </a:r>
            <a:r>
              <a:rPr b="0" lang="en-US" sz="4000" spc="-1" strike="noStrike">
                <a:solidFill>
                  <a:srgbClr val="000000"/>
                </a:solidFill>
                <a:latin typeface="Arial"/>
                <a:ea typeface="Arial"/>
              </a:rPr>
              <a:t> ("good")  </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da'if</a:t>
            </a:r>
            <a:r>
              <a:rPr b="0" lang="en-US" sz="4000" spc="-1" strike="noStrike">
                <a:solidFill>
                  <a:srgbClr val="000000"/>
                </a:solidFill>
                <a:latin typeface="Arial"/>
                <a:ea typeface="Arial"/>
              </a:rPr>
              <a:t> ("weak")</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Forged/ Fabricated Hadith (</a:t>
            </a:r>
            <a:r>
              <a:rPr b="0" lang="ar-SA" sz="4000" spc="-1" strike="noStrike">
                <a:solidFill>
                  <a:srgbClr val="000000"/>
                </a:solidFill>
                <a:latin typeface="Arial"/>
                <a:cs typeface="Arial"/>
              </a:rPr>
              <a:t>موضوع</a:t>
            </a:r>
            <a:r>
              <a:rPr b="0" lang="en-US" sz="4000" spc="-1" strike="noStrike">
                <a:solidFill>
                  <a:srgbClr val="000000"/>
                </a:solidFill>
                <a:latin typeface="Arial"/>
                <a:ea typeface="Arial"/>
              </a:rPr>
              <a:t>)</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adith Qudsi (Divine/Sacred/ Holy Hadith)</a:t>
            </a:r>
            <a:endParaRPr b="0" lang="en-US" sz="4000" spc="-1" strike="noStrike">
              <a:solidFill>
                <a:srgbClr val="000000"/>
              </a:solidFill>
              <a:latin typeface="Tw Cen MT"/>
            </a:endParaRPr>
          </a:p>
          <a:p>
            <a:pPr marL="306000" indent="-3060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56"/>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357">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dith Qudsi</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What is the difference between Hadith Qudsi and Quran?</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nslation of </a:t>
            </a:r>
            <a:r>
              <a:rPr b="0" i="1" lang="en-US" sz="4400" spc="-1" strike="noStrike">
                <a:solidFill>
                  <a:srgbClr val="775f55"/>
                </a:solidFill>
                <a:latin typeface="Tw Cen MT"/>
              </a:rPr>
              <a:t>Isnad</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rial"/>
              </a:rPr>
              <a:t>عن أبي هريرة رضي الله عنه أنه قال: قال رسول الله  صلى الله عليه وسلم</a:t>
            </a:r>
            <a:r>
              <a:rPr b="0" lang="ar-SA" sz="4800" spc="-1" strike="noStrike">
                <a:solidFill>
                  <a:srgbClr val="000000"/>
                </a:solidFill>
                <a:latin typeface="Arial"/>
                <a:ea typeface="Arial"/>
              </a:rPr>
              <a:t> </a:t>
            </a:r>
            <a:r>
              <a:rPr b="0" lang="ar-SA" sz="4800" spc="-1" strike="noStrike">
                <a:solidFill>
                  <a:srgbClr val="000000"/>
                </a:solidFill>
                <a:latin typeface="Arial"/>
                <a:ea typeface="Arial"/>
              </a:rPr>
              <a:t>......</a:t>
            </a:r>
            <a:endParaRPr b="0" lang="en-US" sz="4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6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3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nslation of </a:t>
            </a:r>
            <a:r>
              <a:rPr b="0" i="1" lang="en-US" sz="4400" spc="-1" strike="noStrike">
                <a:solidFill>
                  <a:srgbClr val="775f55"/>
                </a:solidFill>
                <a:latin typeface="Tw Cen MT"/>
              </a:rPr>
              <a:t>Isnad</a:t>
            </a:r>
            <a:r>
              <a:rPr b="0" lang="en-US" sz="4400" spc="-1" strike="noStrike">
                <a:solidFill>
                  <a:srgbClr val="775f55"/>
                </a:solidFill>
                <a:latin typeface="Tw Cen MT"/>
              </a:rPr>
              <a:t>:</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On the authority of </a:t>
            </a:r>
            <a:r>
              <a:rPr b="1" lang="en-US" sz="3600" spc="-1" strike="noStrike">
                <a:solidFill>
                  <a:srgbClr val="000000"/>
                </a:solidFill>
                <a:latin typeface="Arial"/>
                <a:ea typeface="Arial"/>
              </a:rPr>
              <a:t>OR </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Narrated</a:t>
            </a:r>
            <a:r>
              <a:rPr b="0" lang="en-US" sz="3600" spc="-1" strike="noStrike">
                <a:solidFill>
                  <a:srgbClr val="000000"/>
                </a:solidFill>
                <a:latin typeface="Arial"/>
                <a:ea typeface="Arial"/>
              </a:rPr>
              <a:t> Abi Hurarah (may Allah be pleased with him) who said: the Messenger of Allah (peace and blessings of Allah be upon him) said: ….</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nslating </a:t>
            </a:r>
            <a:r>
              <a:rPr b="0" i="1" lang="en-US" sz="4400" spc="-1" strike="noStrike">
                <a:solidFill>
                  <a:srgbClr val="775f55"/>
                </a:solidFill>
                <a:latin typeface="Tw Cen MT"/>
              </a:rPr>
              <a:t>takhreej :</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arrated/ related/reported by Al-Bukhari (</a:t>
            </a:r>
            <a:r>
              <a:rPr b="0" lang="ar-SA" sz="3600" spc="-1" strike="noStrike">
                <a:solidFill>
                  <a:srgbClr val="000000"/>
                </a:solidFill>
                <a:latin typeface="Arial"/>
                <a:cs typeface="Arial"/>
              </a:rPr>
              <a:t>رواه البخاري</a:t>
            </a:r>
            <a:r>
              <a:rPr b="0" lang="en-US" sz="3600" spc="-1" strike="noStrike">
                <a:solidFill>
                  <a:srgbClr val="000000"/>
                </a:solidFill>
                <a:latin typeface="Arial"/>
                <a:ea typeface="Arial"/>
              </a:rPr>
              <a:t>)</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ukhari, Muslim, etc.]</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greed upon (</a:t>
            </a:r>
            <a:r>
              <a:rPr b="0" lang="ar-SA" sz="3600" spc="-1" strike="noStrike">
                <a:solidFill>
                  <a:srgbClr val="000000"/>
                </a:solidFill>
                <a:latin typeface="Arial"/>
                <a:cs typeface="Arial"/>
              </a:rPr>
              <a:t>متفق عليه</a:t>
            </a:r>
            <a:r>
              <a:rPr b="0" lang="en-US" sz="3600" spc="-1" strike="noStrike">
                <a:solidFill>
                  <a:srgbClr val="000000"/>
                </a:solidFill>
                <a:latin typeface="Arial"/>
                <a:ea typeface="Arial"/>
              </a:rPr>
              <a:t>)</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وفي رواية أخرى</a:t>
            </a:r>
            <a:r>
              <a:rPr b="0" lang="ar-SA" sz="3600" spc="-1" strike="noStrike">
                <a:solidFill>
                  <a:srgbClr val="000000"/>
                </a:solidFill>
                <a:latin typeface="Arial"/>
                <a:ea typeface="Arial"/>
              </a:rPr>
              <a:t>:</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n another narration,</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other narration reads/ states,</a:t>
            </a: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marL="743040" indent="-743040">
              <a:buClr>
                <a:srgbClr val="775f55"/>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phet’s Action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lgn="r" rtl="1">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عن الْمُغِيرَةَ بْنَ شُعْبَةَ، يَقُولُ كَانَ النَّبِيُّ صلى الله عليه وسلم يُصَلِّي حَتَّى تَرِمَ ـ أَوْ تَنْتَفِخَ ـ قَدَمَاهُ فَيُقَالُ لَهُ، فَيَقُولُ ‏ "‏ أَفَلاَ أَكُونُ عَبْدًا شَكُورًا ‏"‏‏.‏ (رواه البخاري)</a:t>
            </a:r>
            <a:endParaRPr b="0" lang="en-US" sz="2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rrated Al-Mughira bin Shu`ba who said: The Prophet used to pray so much that his feet used to become edematous or swollen, and when he was asked as to why he prays so much, he would say, "Shall I not be a thankful slave (to Allah)?“. [Related by Albukhari]</a:t>
            </a:r>
            <a:endParaRPr b="0" lang="en-US" sz="2800" spc="-1" strike="noStrike">
              <a:solidFill>
                <a:srgbClr val="000000"/>
              </a:solidFill>
              <a:latin typeface="Tw Cen MT"/>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66"/>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367">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6T08:41:17Z</dcterms:created>
  <dc:creator>acer</dc:creator>
  <dc:description/>
  <dc:language>en-US</dc:language>
  <cp:lastModifiedBy>Nasrin Salama Altuwairesh</cp:lastModifiedBy>
  <cp:lastPrinted>2015-10-24T19:20:46Z</cp:lastPrinted>
  <dcterms:modified xsi:type="dcterms:W3CDTF">2016-11-29T07:00:11Z</dcterms:modified>
  <cp:revision>88</cp:revision>
  <dc:subject/>
  <dc:title>Translating Hadith</dc:title>
</cp:coreProperties>
</file>