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6BC-8C09-4807-8EE7-AD0E0D82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D10-40D6-441E-8EB1-2853161B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B62-304D-4EE0-914B-4AE904C1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B039-67F3-468A-828F-5386E319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5A27-FB24-4BFD-8229-24C3E369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E38C-1123-41A9-A08E-51F4D48A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E24E-68CA-4B61-BBB5-D5B499F5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DD5C-55CF-4A09-8534-8830EBB3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6F2E-DAD5-4970-9E51-A9C4CBD7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5594-A759-4A60-BFE8-609759BE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F9EA-C045-472E-B637-3E84616C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76F-DDDA-40DC-8EF5-F14B528B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6E55-FA4C-43A6-AE4A-F73B207F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D33F-EE25-4881-A7F0-D215B7E4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A29A-993A-4E48-B2F2-1EEC2EC3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2E4D-AA0E-45A3-9144-B8D64099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3EDC-CEEC-4352-A2D3-691ABDA5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3EC93-B9F4-43A0-80BC-92F38EA7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05422-1908-4C7C-A4D1-B92B713D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BA2C5-F4E1-4D97-BDB7-4C2A307F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5E871-20E4-4377-81FD-48E40CC4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EBBF0-982C-4F34-8A62-A3A5B1A2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78C-A1D6-4E0A-8BA2-5E6F77F3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FEED9-FFC3-4569-8B53-EC2F17CD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0E2C6-8B5B-4484-B44C-04D2864F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4ECA9-3459-4AA6-9FF3-A26CC0CB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4C51C-995F-457A-8667-80953E04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F6FA3-DFC2-44F8-A1FE-CD01A14A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E9E05-578A-4241-9CFA-D78FD0DB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A23DC-26F4-4A9A-9E0D-30B7D3A6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12A84-2866-45C5-BAE3-BEBBF2C8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89E0B-CF02-4E65-8C72-75D10A07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AFE90-16E4-4F6A-8C0E-1A4611B9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E9E9-1B27-400B-98A6-6D96B394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9F4AA-76A6-48E0-9645-0B5E8EE6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6117F-E19D-4E0E-9499-0FF9F45B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49834-D5F1-4365-9E20-70837D88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BCEE8-3F40-4EAE-AF08-6D93A563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3A534-005B-4AFE-87C0-7B9C1278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CD18A-16EA-4DA5-97F2-0F1BB011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32296-966C-4C10-9EBF-5EEEF4A9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5DA9C-DC74-4526-8D27-E4C8A832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6E2F2-C724-44D3-B5C2-096962BE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83D7A-D1C9-4C79-91F0-6B9342DC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274E-7886-4E2A-B83E-A1C32CCD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35FE2-FBA5-4426-A37C-21DC39BB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FF4C5-A6D5-4916-A513-0992DE3A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A9AB2-BE35-4322-984E-C151DCCC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D389E-E40A-4A58-BB25-C8695856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06F71-DC53-4189-9D0D-603881D6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3203B-51AC-4650-B4F0-663315EC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C69D2-C1E7-456B-9305-72172ED0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15275-AF46-46B0-84FE-525ADE73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C0B38-DDF0-451F-B57C-ECD3BD4E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7D5FF-342A-47E3-A490-722B3564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A1EF-F400-4F70-B3AB-0422C8C1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E7C14-C3BC-4FF7-AE08-C6D33FDC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F141EB-18B3-46E7-B961-27329BE0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A38856-6936-4AF9-851E-921AEEF8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D59668-EB8B-4A71-85BD-947F1908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0270C4-F1E6-47DE-9C1B-0ADBC724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E5474B-A04F-4C0E-A8AE-E071D0C6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CEE9ED-E1B8-4A83-B8A4-EA2E2A82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641A8-A702-48A0-A4B7-E7FF8DE2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949BFB-C815-4A70-A4BD-C65D2390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389C81-1CE0-4B63-9190-8F3DAF2A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A51-996F-4EF6-A372-5F74F8DC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A86A5E-5A22-45F7-B99D-24FE82F5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ED6C8D-A857-42B8-8BDB-12D88462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967B3A-7D8B-499A-93C2-624F9F4F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FEF2D-8134-4882-AFF2-3238E1F2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46371-E6D8-42B3-9540-1419EAA0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D5F70-7931-44DA-A396-2BA4CD6E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18813-0AFB-4BD7-88CE-F7655332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B5D4C-19FD-4791-86E6-E3138B83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7EBFE-4474-495B-B4FA-400D49B5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5EC29-0BC5-4FBC-B5A7-4AA48A44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E8AF-5A56-4BBD-8E19-0EC9209A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AF803-B801-440A-AE58-67BB1FDE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271D7-7CCC-481F-AFEB-05E1A2FA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D3FD2-3497-4CC7-A1E8-AB23EAA1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23DC2-2D06-464F-A685-AECA89AE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8CC58-EBB6-4E9A-8FB2-38D7095B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D6A-CCAC-4F2C-88D2-F3AB4A58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DFB8-E7A4-444E-AAE1-9EB1DF3AFA65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2442-DF07-481C-89A4-DEFEB439CF29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EBD5-F8AF-4C18-A980-B88A1AF75FAA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1E03-B9DE-4ED8-9C83-7574192BC265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6305-4216-4963-90EA-EA8943736CF7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C77A-E4FD-4D68-91E1-D8E1E30E88A4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201E-8CB4-4C6A-8D27-FBA309AB35CB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09480" y="457164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DR. NASRIN ALTUWAIRESH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437-38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7534c"/>
                </a:solidFill>
                <a:latin typeface="Book Antiqua"/>
              </a:rPr>
              <a:t>TRANSLATING THEOLOGY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TERMINOLOG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64b3c"/>
                </a:solidFill>
                <a:latin typeface="Century Gothic"/>
              </a:rPr>
              <a:t>Theology: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4b3c"/>
                </a:solidFill>
                <a:latin typeface="Century Gothic"/>
              </a:rPr>
              <a:t>the study of God and religious belief OR the study of religion (</a:t>
            </a:r>
            <a:r>
              <a:rPr b="0" lang="ar-SA" sz="3200" spc="-1" strike="noStrike">
                <a:solidFill>
                  <a:srgbClr val="564b3c"/>
                </a:solidFill>
                <a:latin typeface="Century Gothic"/>
                <a:cs typeface="Tahoma"/>
              </a:rPr>
              <a:t>علم الأديان</a:t>
            </a:r>
            <a:r>
              <a:rPr b="0" lang="en-US" sz="3200" spc="-1" strike="noStrike">
                <a:solidFill>
                  <a:srgbClr val="564b3c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TERMINOLOG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2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Creed (</a:t>
            </a:r>
            <a:r>
              <a:rPr b="1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مذهب – عقيدة- اعتقاد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2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564b3c"/>
                </a:solidFill>
                <a:uFillTx/>
                <a:latin typeface="Century Gothic"/>
              </a:rPr>
              <a:t>Example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64b3c"/>
                </a:solidFill>
                <a:latin typeface="Century Gothic"/>
              </a:rPr>
              <a:t>The Amish live by a strict creed that rejects many of the values and practices of modern society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TERMINOLOG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2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64b3c"/>
                </a:solidFill>
                <a:uFillTx/>
                <a:latin typeface="Century Gothic"/>
              </a:rPr>
              <a:t>Monotheism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(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التوحيد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): oneness of God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2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64b3c"/>
                </a:solidFill>
                <a:uFillTx/>
                <a:latin typeface="Century Gothic"/>
              </a:rPr>
              <a:t>Polytheism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(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الشرك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): associating partners with God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2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64b3c"/>
                </a:solidFill>
                <a:uFillTx/>
                <a:latin typeface="Century Gothic"/>
              </a:rPr>
              <a:t>Paganism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(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الوثنية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2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64b3c"/>
                </a:solidFill>
                <a:uFillTx/>
                <a:latin typeface="Century Gothic"/>
              </a:rPr>
              <a:t>Atheism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(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الإلحاد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TERMINOLOG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564b3c"/>
                </a:solidFill>
                <a:uFillTx/>
                <a:latin typeface="Century Gothic"/>
              </a:rPr>
              <a:t>The six articles of faith (</a:t>
            </a:r>
            <a:r>
              <a:rPr b="1" lang="ar-SA" sz="2200" spc="-1" strike="noStrike" u="sng">
                <a:solidFill>
                  <a:srgbClr val="564b3c"/>
                </a:solidFill>
                <a:uFillTx/>
                <a:latin typeface="Century Gothic"/>
                <a:cs typeface="Tahoma"/>
              </a:rPr>
              <a:t>أركان الإيمان</a:t>
            </a:r>
            <a:r>
              <a:rPr b="1" lang="en-US" sz="2200" spc="-1" strike="noStrike" u="sng">
                <a:solidFill>
                  <a:srgbClr val="564b3c"/>
                </a:solidFill>
                <a:uFillTx/>
                <a:latin typeface="Century Gothic"/>
              </a:rPr>
              <a:t>):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80000"/>
              </a:lnSpc>
              <a:spcBef>
                <a:spcPts val="476"/>
              </a:spcBef>
              <a:buClr>
                <a:srgbClr val="cf54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en-US" sz="1900" spc="-1" strike="noStrike">
                <a:solidFill>
                  <a:srgbClr val="564b3c"/>
                </a:solidFill>
                <a:latin typeface="Century Gothic"/>
              </a:rPr>
              <a:t>belief in God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80000"/>
              </a:lnSpc>
              <a:spcBef>
                <a:spcPts val="476"/>
              </a:spcBef>
              <a:buClr>
                <a:srgbClr val="cf54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64b3c"/>
                </a:solidFill>
                <a:latin typeface="Century Gothic"/>
              </a:rPr>
              <a:t>belief in His angels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80000"/>
              </a:lnSpc>
              <a:spcBef>
                <a:spcPts val="476"/>
              </a:spcBef>
              <a:buClr>
                <a:srgbClr val="cf54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64b3c"/>
                </a:solidFill>
                <a:latin typeface="Century Gothic"/>
              </a:rPr>
              <a:t>belief in His books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80000"/>
              </a:lnSpc>
              <a:spcBef>
                <a:spcPts val="476"/>
              </a:spcBef>
              <a:buClr>
                <a:srgbClr val="cf54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en-US" sz="1900" spc="-1" strike="noStrike">
                <a:solidFill>
                  <a:srgbClr val="564b3c"/>
                </a:solidFill>
                <a:latin typeface="Century Gothic"/>
              </a:rPr>
              <a:t>belief in His messengers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80000"/>
              </a:lnSpc>
              <a:spcBef>
                <a:spcPts val="476"/>
              </a:spcBef>
              <a:buClr>
                <a:srgbClr val="cf54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64b3c"/>
                </a:solidFill>
                <a:latin typeface="Century Gothic"/>
              </a:rPr>
              <a:t>belief in the Last Day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80000"/>
              </a:lnSpc>
              <a:spcBef>
                <a:spcPts val="476"/>
              </a:spcBef>
              <a:buClr>
                <a:srgbClr val="cf54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64b3c"/>
                </a:solidFill>
                <a:latin typeface="Century Gothic"/>
              </a:rPr>
              <a:t>belief in divine destiny/ evil and good fate/ pre-destination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180000"/>
              </a:lnSpc>
              <a:spcBef>
                <a:spcPts val="476"/>
              </a:spcBef>
              <a:buClr>
                <a:srgbClr val="cf54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TERMINOLOG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Metaphysical- transcendental (</a:t>
            </a:r>
            <a:r>
              <a:rPr b="1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غيبي</a:t>
            </a: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)</a:t>
            </a:r>
            <a:r>
              <a:rPr b="1" lang="ar-SA" sz="2400" spc="-1" strike="noStrike">
                <a:solidFill>
                  <a:srgbClr val="564b3c"/>
                </a:solidFill>
                <a:latin typeface="Century Gothic"/>
                <a:ea typeface="Tahoma"/>
              </a:rPr>
              <a:t>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799"/>
              </a:spcBef>
              <a:buClr>
                <a:srgbClr val="84805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4b3c"/>
                </a:solidFill>
                <a:latin typeface="Century Gothic"/>
              </a:rPr>
              <a:t>Monotheism (</a:t>
            </a:r>
            <a:r>
              <a:rPr b="0" lang="ar-SA" sz="3200" spc="-1" strike="noStrike">
                <a:solidFill>
                  <a:srgbClr val="564b3c"/>
                </a:solidFill>
                <a:latin typeface="Century Gothic"/>
                <a:cs typeface="Tahoma"/>
              </a:rPr>
              <a:t>التوحيد</a:t>
            </a:r>
            <a:r>
              <a:rPr b="0" lang="en-US" sz="3200" spc="-1" strike="noStrike">
                <a:solidFill>
                  <a:srgbClr val="564b3c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799"/>
              </a:spcBef>
              <a:buClr>
                <a:srgbClr val="84805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4b3c"/>
                </a:solidFill>
                <a:latin typeface="Century Gothic"/>
              </a:rPr>
              <a:t>Resurrection (</a:t>
            </a:r>
            <a:r>
              <a:rPr b="0" lang="ar-SA" sz="3200" spc="-1" strike="noStrike">
                <a:solidFill>
                  <a:srgbClr val="564b3c"/>
                </a:solidFill>
                <a:latin typeface="Century Gothic"/>
                <a:cs typeface="Tahoma"/>
              </a:rPr>
              <a:t>البعث</a:t>
            </a:r>
            <a:r>
              <a:rPr b="0" lang="en-US" sz="3200" spc="-1" strike="noStrike">
                <a:solidFill>
                  <a:srgbClr val="564b3c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799"/>
              </a:spcBef>
              <a:buClr>
                <a:srgbClr val="84805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4b3c"/>
                </a:solidFill>
                <a:latin typeface="Century Gothic"/>
              </a:rPr>
              <a:t>Prophethood (</a:t>
            </a:r>
            <a:r>
              <a:rPr b="0" lang="ar-SA" sz="3200" spc="-1" strike="noStrike">
                <a:solidFill>
                  <a:srgbClr val="564b3c"/>
                </a:solidFill>
                <a:latin typeface="Century Gothic"/>
                <a:cs typeface="Tahoma"/>
              </a:rPr>
              <a:t>النبوة</a:t>
            </a:r>
            <a:r>
              <a:rPr b="0" lang="en-US" sz="3200" spc="-1" strike="noStrike">
                <a:solidFill>
                  <a:srgbClr val="564b3c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lvl="1" marL="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Muslims believe in everything unseen that has been mentioned in the Quran and Sunnah without any distortion (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تحريف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), denial (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تعطيل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), likening (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تشبيه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), or asking how(</a:t>
            </a:r>
            <a:r>
              <a:rPr b="0" lang="ar-SA" sz="2400" spc="-1" strike="noStrike">
                <a:solidFill>
                  <a:srgbClr val="564b3c"/>
                </a:solidFill>
                <a:latin typeface="Century Gothic"/>
                <a:cs typeface="Tahoma"/>
              </a:rPr>
              <a:t>تكييف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TERMINOLOGY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564b3c"/>
                </a:solidFill>
                <a:uFillTx/>
                <a:latin typeface="Century Gothic"/>
              </a:rPr>
              <a:t>The 3 aspects/ categories of monotheism: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901"/>
              </a:spcBef>
              <a:buClr>
                <a:srgbClr val="84805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Unity of Lordship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901"/>
              </a:spcBef>
              <a:buClr>
                <a:srgbClr val="84805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Unity of Worship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901"/>
              </a:spcBef>
              <a:buClr>
                <a:srgbClr val="848058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Unity of Names and Attributes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4T05:37:34Z</dcterms:created>
  <dc:creator>Nasrin Salama Altuwairesh</dc:creator>
  <dc:description/>
  <dc:language>en-US</dc:language>
  <cp:lastModifiedBy>Nasrin Salama Altuwairesh</cp:lastModifiedBy>
  <dcterms:modified xsi:type="dcterms:W3CDTF">2016-12-12T05:50:34Z</dcterms:modified>
  <cp:revision>18</cp:revision>
  <dc:subject/>
  <dc:title>translating Theology</dc:title>
</cp:coreProperties>
</file>