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473-813E-4FE3-9470-77C4FE67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AED-4F0C-4A76-93CC-C48C5959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435-7F23-4EDB-93C5-DDF230ED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007-1088-4062-9D8B-6FA315AA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73D7-B881-48F2-8DA1-565214BA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0C43-CFC7-4204-B879-64CB139B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4001-AF3A-448E-B5E5-B3737651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196B-D37C-4628-81B4-22A3A78A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A3B1-71B9-4FFA-89F3-85AD5891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3559-C3E2-47B0-B245-3BB5FB81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4A51-075E-4BF3-80C6-56E8650E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479-773F-47F9-85A7-CC892385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FA74-0BF4-44C5-9343-5EB54DA9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066E-928A-4C31-BFFC-F0B30052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7B82-E1EC-43FC-824F-1BA9E0B9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F506-0BAF-4A1E-AF42-93F9FDEF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A359-8890-4392-B3DA-0969F76D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3DFA4-2853-4D05-9FAE-7C21620A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1AC24-DC5E-45A3-9E5A-0D5602D5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63F4B-5760-44A1-B440-72791A0A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1E714-9369-4D6B-8FAF-A4C9065B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ED781-4230-405B-916C-2886A47C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96C-5948-4A19-99B1-4ED870B6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8A661-FE6E-4761-B9A6-91A63E70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29BC4-4561-449B-AE99-0A87ED00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80CD5-6E8E-456A-9FE0-5A0DE5B1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0C7D7-8225-422A-8D69-02858AE7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2798B-0E21-41B6-BE6F-55F0733F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00AE9-71D9-4BB0-BBAE-807B7D16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B7B9B-3BCF-4988-AB75-12055E9E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21D6D-C384-4E8D-8278-67285B44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D7CF7-ECAA-4852-85CE-E14B449D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808E9-1E9E-4BFA-802A-BD1E71F1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EF3-2A92-4E08-85EC-1CB411B5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2CBCA-1706-4FBA-9558-F754CE4C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E726E-B217-4CD4-8CF8-FFD3463C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511C5-16EA-4B6E-94AE-32B3A103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C40FD-54D6-4EC7-9D3E-CF539B1F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4B39C-D2F6-4420-9F4E-70802F4F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89644-34BA-4574-A302-0C32ABE0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108DD-9679-44F4-B318-F7B5A33E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1D14B-9D06-4A16-A8E8-D598709F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2EAC3-90AC-4560-96F3-D27280EB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B569C-CC64-4695-A82D-51438F17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0D92-B8F5-4086-AF61-89D26537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E3EC1-1B3D-494B-96CF-67EC9886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50683-5C63-4CA8-827C-C6F6CFFE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F8244-80CA-436A-AA0D-F73B8766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10E9A-1F22-46FF-AAEC-A07DCA7B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C747E-C283-4FDB-95D5-DB67055E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B7E55-8094-43C8-8EB1-DB5C4544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DBFF7-5866-4661-8D3C-DC1C7A98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E5651-D85F-445A-BD9A-3DE929B0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A1001-C004-4727-8F57-229C3723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227E3-7CD2-4D14-98B7-601F01FA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DC4-F164-4007-B65A-1162CD9F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BDF3E-6F87-4A2B-A3BA-1A05EE2E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B7BD50-CA13-47FF-835D-0AA44589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E227B6-F9CC-44EA-AC1B-59CCA8A2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14DD67-512F-480B-A387-EE935CD8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538719-D6F0-421E-A9A7-82360DB1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081A4A-697C-4EF3-A02F-DBC0D41B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A46FBD-2DB3-4307-AA3D-BDCBF7E6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B908F5-FBBD-4BD2-A44B-86954C91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013C1-7286-44EF-A22E-11615FA7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1690C7-CBF6-4BAB-884D-0F950207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2E9A-5436-4587-864B-59D98418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9F8509-8A8A-489A-905E-8F1FA127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118ABD-6D97-4548-AE7B-65419731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A071E-57B8-4BB3-9F67-9E9204EE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B51A4-DC0A-4ED0-8C9A-5DCB94D6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8972D-A055-406B-B18A-AB3D2099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79B13-9EC5-43D3-AC21-4D7392E0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F40BC-956B-4357-B9BD-EE5BFB42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4D780-42C1-47BA-861F-0DB61136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F7859-B5B7-4030-9092-EFA0B540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819E2-074C-496C-BC23-3A5E35BE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EE3-35B1-4860-882E-CAA480C0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F11A7-5274-4301-8CB1-DD826AA3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AE2A6-3B8E-4A8D-B247-B2824F87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4A18C-417E-49A2-82B9-283E533F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EDFC7-DD6C-45A0-A8A7-B6F0AA06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A43B2-2A23-4187-94ED-7EFFABCA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3009-E75A-482F-B61C-3D833F36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78BE-0996-4620-99D2-CEB7C07F81DC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500B-B656-4A10-8C62-8C08FA20E092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D7FC-9BAD-4853-BDCF-62611CAFA86B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2EB5-B5B7-4CC0-AB81-1F731E01CB89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E606-7FA1-41DA-908B-E5662EB28B1E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90CB-2E2A-42C2-9E54-B1CCCD8AA90F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66EB-AC86-4F0B-94CC-B5BD5C9340C7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09480" y="457164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DR. NASRIN ALTUWAIRESH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437-38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534c"/>
                </a:solidFill>
                <a:latin typeface="Book Antiqua"/>
              </a:rPr>
              <a:t>TRANSLATING THEOLOGY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TERMINOLOG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64b3c"/>
                </a:solidFill>
                <a:latin typeface="Century Gothic"/>
              </a:rPr>
              <a:t>Theology: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Century Gothic"/>
              </a:rPr>
              <a:t>the study of God and religious belief OR the study of religion (</a:t>
            </a:r>
            <a:r>
              <a:rPr b="0" lang="ar-SA" sz="3200" spc="-1" strike="noStrike">
                <a:solidFill>
                  <a:srgbClr val="564b3c"/>
                </a:solidFill>
                <a:latin typeface="Century Gothic"/>
                <a:cs typeface="Tahoma"/>
              </a:rPr>
              <a:t>علم الأديان</a:t>
            </a:r>
            <a:r>
              <a:rPr b="0" lang="en-US" sz="3200" spc="-1" strike="noStrike">
                <a:solidFill>
                  <a:srgbClr val="564b3c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TERMINOLOG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2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Creed (</a:t>
            </a:r>
            <a:r>
              <a:rPr b="1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مذهب – عقيدة- اعتقاد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2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564b3c"/>
                </a:solidFill>
                <a:uFillTx/>
                <a:latin typeface="Century Gothic"/>
              </a:rPr>
              <a:t>Example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The Amish live by a strict creed that rejects many of the values and practices of modern societ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TERMINOLOG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2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64b3c"/>
                </a:solidFill>
                <a:uFillTx/>
                <a:latin typeface="Century Gothic"/>
              </a:rPr>
              <a:t>Monotheism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(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التوحيد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): oneness of God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2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64b3c"/>
                </a:solidFill>
                <a:uFillTx/>
                <a:latin typeface="Century Gothic"/>
              </a:rPr>
              <a:t>Polytheism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(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الشرك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): associating partners with God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2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64b3c"/>
                </a:solidFill>
                <a:uFillTx/>
                <a:latin typeface="Century Gothic"/>
              </a:rPr>
              <a:t>Paganism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(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الوثنية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2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64b3c"/>
                </a:solidFill>
                <a:uFillTx/>
                <a:latin typeface="Century Gothic"/>
              </a:rPr>
              <a:t>Atheism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(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الإلحاد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TERMINOLOG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564b3c"/>
                </a:solidFill>
                <a:uFillTx/>
                <a:latin typeface="Century Gothic"/>
              </a:rPr>
              <a:t>The six articles of faith (</a:t>
            </a:r>
            <a:r>
              <a:rPr b="1" lang="ar-SA" sz="2200" spc="-1" strike="noStrike" u="sng">
                <a:solidFill>
                  <a:srgbClr val="564b3c"/>
                </a:solidFill>
                <a:uFillTx/>
                <a:latin typeface="Century Gothic"/>
                <a:cs typeface="Tahoma"/>
              </a:rPr>
              <a:t>أركان الإيمان</a:t>
            </a:r>
            <a:r>
              <a:rPr b="1" lang="en-US" sz="2200" spc="-1" strike="noStrike" u="sng">
                <a:solidFill>
                  <a:srgbClr val="564b3c"/>
                </a:solidFill>
                <a:uFillTx/>
                <a:latin typeface="Century Gothic"/>
              </a:rPr>
              <a:t>)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80000"/>
              </a:lnSpc>
              <a:spcBef>
                <a:spcPts val="476"/>
              </a:spcBef>
              <a:buClr>
                <a:srgbClr val="cf54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en-US" sz="1900" spc="-1" strike="noStrike">
                <a:solidFill>
                  <a:srgbClr val="564b3c"/>
                </a:solidFill>
                <a:latin typeface="Century Gothic"/>
              </a:rPr>
              <a:t>belief in God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80000"/>
              </a:lnSpc>
              <a:spcBef>
                <a:spcPts val="476"/>
              </a:spcBef>
              <a:buClr>
                <a:srgbClr val="cf54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64b3c"/>
                </a:solidFill>
                <a:latin typeface="Century Gothic"/>
              </a:rPr>
              <a:t>belief in His angels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80000"/>
              </a:lnSpc>
              <a:spcBef>
                <a:spcPts val="476"/>
              </a:spcBef>
              <a:buClr>
                <a:srgbClr val="cf54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64b3c"/>
                </a:solidFill>
                <a:latin typeface="Century Gothic"/>
              </a:rPr>
              <a:t>belief in His books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80000"/>
              </a:lnSpc>
              <a:spcBef>
                <a:spcPts val="476"/>
              </a:spcBef>
              <a:buClr>
                <a:srgbClr val="cf54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en-US" sz="1900" spc="-1" strike="noStrike">
                <a:solidFill>
                  <a:srgbClr val="564b3c"/>
                </a:solidFill>
                <a:latin typeface="Century Gothic"/>
              </a:rPr>
              <a:t>belief in His messengers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80000"/>
              </a:lnSpc>
              <a:spcBef>
                <a:spcPts val="476"/>
              </a:spcBef>
              <a:buClr>
                <a:srgbClr val="cf54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64b3c"/>
                </a:solidFill>
                <a:latin typeface="Century Gothic"/>
              </a:rPr>
              <a:t>belief in the Last Day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80000"/>
              </a:lnSpc>
              <a:spcBef>
                <a:spcPts val="476"/>
              </a:spcBef>
              <a:buClr>
                <a:srgbClr val="cf54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64b3c"/>
                </a:solidFill>
                <a:latin typeface="Century Gothic"/>
              </a:rPr>
              <a:t>belief in divine destiny/ evil and good fate/ pre-destination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80000"/>
              </a:lnSpc>
              <a:spcBef>
                <a:spcPts val="476"/>
              </a:spcBef>
              <a:buClr>
                <a:srgbClr val="cf54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TERMINOLOG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Metaphysical- transcendental (</a:t>
            </a:r>
            <a:r>
              <a:rPr b="1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غيبي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)</a:t>
            </a:r>
            <a:r>
              <a:rPr b="1" lang="ar-SA" sz="2400" spc="-1" strike="noStrike">
                <a:solidFill>
                  <a:srgbClr val="564b3c"/>
                </a:solidFill>
                <a:latin typeface="Century Gothic"/>
                <a:ea typeface="Tahoma"/>
              </a:rPr>
              <a:t>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799"/>
              </a:spcBef>
              <a:buClr>
                <a:srgbClr val="84805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Century Gothic"/>
              </a:rPr>
              <a:t>Monotheism (</a:t>
            </a:r>
            <a:r>
              <a:rPr b="0" lang="ar-SA" sz="3200" spc="-1" strike="noStrike">
                <a:solidFill>
                  <a:srgbClr val="564b3c"/>
                </a:solidFill>
                <a:latin typeface="Century Gothic"/>
                <a:cs typeface="Tahoma"/>
              </a:rPr>
              <a:t>التوحيد</a:t>
            </a:r>
            <a:r>
              <a:rPr b="0" lang="en-US" sz="3200" spc="-1" strike="noStrike">
                <a:solidFill>
                  <a:srgbClr val="564b3c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799"/>
              </a:spcBef>
              <a:buClr>
                <a:srgbClr val="84805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Century Gothic"/>
              </a:rPr>
              <a:t>Resurrection (</a:t>
            </a:r>
            <a:r>
              <a:rPr b="0" lang="ar-SA" sz="3200" spc="-1" strike="noStrike">
                <a:solidFill>
                  <a:srgbClr val="564b3c"/>
                </a:solidFill>
                <a:latin typeface="Century Gothic"/>
                <a:cs typeface="Tahoma"/>
              </a:rPr>
              <a:t>البعث</a:t>
            </a:r>
            <a:r>
              <a:rPr b="0" lang="en-US" sz="3200" spc="-1" strike="noStrike">
                <a:solidFill>
                  <a:srgbClr val="564b3c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799"/>
              </a:spcBef>
              <a:buClr>
                <a:srgbClr val="84805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Century Gothic"/>
              </a:rPr>
              <a:t>Prophethood (</a:t>
            </a:r>
            <a:r>
              <a:rPr b="0" lang="ar-SA" sz="3200" spc="-1" strike="noStrike">
                <a:solidFill>
                  <a:srgbClr val="564b3c"/>
                </a:solidFill>
                <a:latin typeface="Century Gothic"/>
                <a:cs typeface="Tahoma"/>
              </a:rPr>
              <a:t>النبوة</a:t>
            </a:r>
            <a:r>
              <a:rPr b="0" lang="en-US" sz="3200" spc="-1" strike="noStrike">
                <a:solidFill>
                  <a:srgbClr val="564b3c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lvl="1" marL="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Muslims believe in everything unseen that has been mentioned in the Quran and Sunnah without any distortion (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حريف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), denial (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عطيل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), likening (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شبيه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), or asking how(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كييف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TERMINOLOG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564b3c"/>
                </a:solidFill>
                <a:uFillTx/>
                <a:latin typeface="Century Gothic"/>
              </a:rPr>
              <a:t>The 3 aspects/ categories of monotheism: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901"/>
              </a:spcBef>
              <a:buClr>
                <a:srgbClr val="84805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Unity of Lordship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901"/>
              </a:spcBef>
              <a:buClr>
                <a:srgbClr val="84805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Unity of Worship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901"/>
              </a:spcBef>
              <a:buClr>
                <a:srgbClr val="84805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Unity of Names and Attributes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4T05:37:34Z</dcterms:created>
  <dc:creator>Nasrin Salama Altuwairesh</dc:creator>
  <dc:description/>
  <dc:language>en-US</dc:language>
  <cp:lastModifiedBy>Nasrin Salama Altuwairesh</cp:lastModifiedBy>
  <dcterms:modified xsi:type="dcterms:W3CDTF">2016-12-12T05:50:34Z</dcterms:modified>
  <cp:revision>18</cp:revision>
  <dc:subject/>
  <dc:title>translating Theology</dc:title>
</cp:coreProperties>
</file>