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52F-0289-43DD-8D91-584E7A31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FFD-53A9-4D94-B3DD-34983D69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866-C40C-45E2-AD04-7F130CFA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BAB2-521A-48B5-A585-0F95DBC7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32AD-4A4B-455F-8904-87E6ADEB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863-E94F-46D7-BA46-9DD22A6E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2D91-0326-4A32-AB7F-133DD4F0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D14-58A6-4F66-A75A-4BAD2549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F14-9BDB-42A8-8AD2-FE07E0D6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7425-F744-4AFC-8BE7-84C34355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FCD-4365-4F22-B181-8CDEABBD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811-9463-410B-8BB5-A1D3B83A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762C-2731-43EB-9461-A90043676B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187280" y="1628640"/>
            <a:ext cx="7239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Zohair Alaseri, 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RCPc, Emergency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RCPc, Critical Care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tensivest and Emergency Medicine Consul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rector, Department of Emergency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ing Khalid Universit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hairman Disaster Committe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ing Saud University Hospitals, Riyadh, KS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Ink 2"/>
          <p:cNvSpPr/>
          <p:nvPr/>
        </p:nvSpPr>
        <p:spPr>
          <a:xfrm>
            <a:off x="2557440" y="6188040"/>
            <a:ext cx="644400" cy="428760"/>
          </a:xfrm>
          <a:custGeom>
            <a:avLst/>
            <a:gdLst/>
            <a:ahLst/>
            <a:rect l="l" t="t" r="r" b="b"/>
            <a:pathLst>
              <a:path w="1787" h="1191">
                <a:moveTo>
                  <a:pt x="10368" y="17413"/>
                </a:moveTo>
                <a:cubicBezTo>
                  <a:pt x="10283" y="17413"/>
                  <a:pt x="10216" y="17414"/>
                  <a:pt x="10145" y="17438"/>
                </a:cubicBezTo>
                <a:cubicBezTo>
                  <a:pt x="10107" y="17451"/>
                  <a:pt x="10117" y="17459"/>
                  <a:pt x="10096" y="17487"/>
                </a:cubicBezTo>
                <a:cubicBezTo>
                  <a:pt x="10069" y="17523"/>
                  <a:pt x="10034" y="17572"/>
                  <a:pt x="10021" y="17611"/>
                </a:cubicBezTo>
                <a:cubicBezTo>
                  <a:pt x="10021" y="17619"/>
                  <a:pt x="10021" y="17628"/>
                  <a:pt x="10021" y="17636"/>
                </a:cubicBezTo>
                <a:cubicBezTo>
                  <a:pt x="10056" y="17662"/>
                  <a:pt x="10084" y="17703"/>
                  <a:pt x="10120" y="17711"/>
                </a:cubicBezTo>
                <a:cubicBezTo>
                  <a:pt x="10175" y="17723"/>
                  <a:pt x="10222" y="17708"/>
                  <a:pt x="10269" y="17686"/>
                </a:cubicBezTo>
                <a:cubicBezTo>
                  <a:pt x="10362" y="17642"/>
                  <a:pt x="10310" y="17674"/>
                  <a:pt x="10344" y="17611"/>
                </a:cubicBezTo>
                <a:cubicBezTo>
                  <a:pt x="10366" y="17570"/>
                  <a:pt x="10368" y="17562"/>
                  <a:pt x="10368" y="17512"/>
                </a:cubicBezTo>
                <a:cubicBezTo>
                  <a:pt x="10368" y="17479"/>
                  <a:pt x="10368" y="17446"/>
                  <a:pt x="10368" y="17413"/>
                </a:cubicBezTo>
                <a:cubicBezTo>
                  <a:pt x="10458" y="17431"/>
                  <a:pt x="10516" y="17493"/>
                  <a:pt x="10542" y="17587"/>
                </a:cubicBezTo>
                <a:cubicBezTo>
                  <a:pt x="10556" y="17639"/>
                  <a:pt x="10550" y="17714"/>
                  <a:pt x="10592" y="17735"/>
                </a:cubicBezTo>
                <a:cubicBezTo>
                  <a:pt x="10624" y="17751"/>
                  <a:pt x="10616" y="17740"/>
                  <a:pt x="10616" y="17785"/>
                </a:cubicBezTo>
                <a:cubicBezTo>
                  <a:pt x="10577" y="17771"/>
                  <a:pt x="10592" y="17735"/>
                  <a:pt x="10592" y="17686"/>
                </a:cubicBezTo>
              </a:path>
              <a:path w="1787" h="1191">
                <a:moveTo>
                  <a:pt x="10716" y="17314"/>
                </a:moveTo>
                <a:cubicBezTo>
                  <a:pt x="10716" y="17446"/>
                  <a:pt x="10760" y="17475"/>
                  <a:pt x="10790" y="17587"/>
                </a:cubicBezTo>
                <a:cubicBezTo>
                  <a:pt x="10815" y="17680"/>
                  <a:pt x="10764" y="17770"/>
                  <a:pt x="10815" y="17859"/>
                </a:cubicBezTo>
                <a:cubicBezTo>
                  <a:pt x="10823" y="17867"/>
                  <a:pt x="10832" y="17876"/>
                  <a:pt x="10840" y="17884"/>
                </a:cubicBezTo>
                <a:cubicBezTo>
                  <a:pt x="10840" y="17823"/>
                  <a:pt x="10792" y="17449"/>
                  <a:pt x="10864" y="17413"/>
                </a:cubicBezTo>
                <a:cubicBezTo>
                  <a:pt x="10897" y="17396"/>
                  <a:pt x="10907" y="17388"/>
                  <a:pt x="10964" y="17388"/>
                </a:cubicBezTo>
                <a:cubicBezTo>
                  <a:pt x="11019" y="17388"/>
                  <a:pt x="11056" y="17391"/>
                  <a:pt x="11088" y="17438"/>
                </a:cubicBezTo>
                <a:cubicBezTo>
                  <a:pt x="11100" y="17456"/>
                  <a:pt x="11110" y="17562"/>
                  <a:pt x="11112" y="17587"/>
                </a:cubicBezTo>
                <a:cubicBezTo>
                  <a:pt x="11116" y="17648"/>
                  <a:pt x="11122" y="17684"/>
                  <a:pt x="11137" y="17735"/>
                </a:cubicBezTo>
                <a:cubicBezTo>
                  <a:pt x="11137" y="17743"/>
                  <a:pt x="11137" y="17752"/>
                  <a:pt x="11137" y="17760"/>
                </a:cubicBezTo>
              </a:path>
              <a:path w="1787" h="1191">
                <a:moveTo>
                  <a:pt x="11559" y="17438"/>
                </a:moveTo>
                <a:cubicBezTo>
                  <a:pt x="11533" y="17429"/>
                  <a:pt x="11500" y="17394"/>
                  <a:pt x="11485" y="17388"/>
                </a:cubicBezTo>
                <a:cubicBezTo>
                  <a:pt x="11451" y="17373"/>
                  <a:pt x="11426" y="17363"/>
                  <a:pt x="11385" y="17363"/>
                </a:cubicBezTo>
                <a:cubicBezTo>
                  <a:pt x="11347" y="17363"/>
                  <a:pt x="11320" y="17475"/>
                  <a:pt x="11311" y="17512"/>
                </a:cubicBezTo>
                <a:cubicBezTo>
                  <a:pt x="11295" y="17575"/>
                  <a:pt x="11296" y="17716"/>
                  <a:pt x="11336" y="17760"/>
                </a:cubicBezTo>
                <a:cubicBezTo>
                  <a:pt x="11373" y="17801"/>
                  <a:pt x="11388" y="17794"/>
                  <a:pt x="11385" y="17785"/>
                </a:cubicBezTo>
                <a:cubicBezTo>
                  <a:pt x="11374" y="17757"/>
                  <a:pt x="11401" y="17715"/>
                  <a:pt x="11410" y="17711"/>
                </a:cubicBezTo>
                <a:cubicBezTo>
                  <a:pt x="11447" y="17693"/>
                  <a:pt x="11454" y="17681"/>
                  <a:pt x="11509" y="17661"/>
                </a:cubicBezTo>
                <a:cubicBezTo>
                  <a:pt x="11550" y="17646"/>
                  <a:pt x="11581" y="17645"/>
                  <a:pt x="11609" y="17611"/>
                </a:cubicBezTo>
                <a:cubicBezTo>
                  <a:pt x="11647" y="17566"/>
                  <a:pt x="11589" y="17397"/>
                  <a:pt x="11584" y="17363"/>
                </a:cubicBezTo>
                <a:cubicBezTo>
                  <a:pt x="11552" y="17151"/>
                  <a:pt x="11595" y="16930"/>
                  <a:pt x="11559" y="16718"/>
                </a:cubicBezTo>
                <a:cubicBezTo>
                  <a:pt x="11559" y="16686"/>
                  <a:pt x="11559" y="16686"/>
                  <a:pt x="11559" y="16743"/>
                </a:cubicBezTo>
              </a:path>
              <a:path w="1787" h="1191">
                <a:moveTo>
                  <a:pt x="11658" y="17611"/>
                </a:moveTo>
                <a:cubicBezTo>
                  <a:pt x="11678" y="17662"/>
                  <a:pt x="11739" y="17709"/>
                  <a:pt x="11757" y="17760"/>
                </a:cubicBezTo>
                <a:cubicBezTo>
                  <a:pt x="11782" y="17831"/>
                  <a:pt x="11775" y="17787"/>
                  <a:pt x="11807" y="17835"/>
                </a:cubicBezTo>
              </a:path>
            </a:pathLst>
          </a:custGeom>
          <a:noFill/>
          <a:ln cap="rnd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Ink 3"/>
          <p:cNvSpPr/>
          <p:nvPr/>
        </p:nvSpPr>
        <p:spPr>
          <a:xfrm>
            <a:off x="3825720" y="6249960"/>
            <a:ext cx="662040" cy="446040"/>
          </a:xfrm>
          <a:custGeom>
            <a:avLst/>
            <a:gdLst/>
            <a:ahLst/>
            <a:rect l="l" t="t" r="r" b="b"/>
            <a:pathLst>
              <a:path w="1837" h="1241">
                <a:moveTo>
                  <a:pt x="13543" y="16867"/>
                </a:moveTo>
                <a:cubicBezTo>
                  <a:pt x="13543" y="16953"/>
                  <a:pt x="13456" y="17858"/>
                  <a:pt x="13593" y="17884"/>
                </a:cubicBezTo>
                <a:cubicBezTo>
                  <a:pt x="13675" y="17900"/>
                  <a:pt x="13782" y="17884"/>
                  <a:pt x="13866" y="17884"/>
                </a:cubicBezTo>
              </a:path>
              <a:path w="1837" h="1241">
                <a:moveTo>
                  <a:pt x="14064" y="17413"/>
                </a:moveTo>
                <a:cubicBezTo>
                  <a:pt x="14064" y="17537"/>
                  <a:pt x="14064" y="17661"/>
                  <a:pt x="14064" y="17785"/>
                </a:cubicBezTo>
                <a:cubicBezTo>
                  <a:pt x="14102" y="17798"/>
                  <a:pt x="14089" y="17814"/>
                  <a:pt x="14089" y="17859"/>
                </a:cubicBezTo>
                <a:cubicBezTo>
                  <a:pt x="14089" y="17884"/>
                  <a:pt x="14089" y="17892"/>
                  <a:pt x="14089" y="17909"/>
                </a:cubicBezTo>
              </a:path>
              <a:path w="1837" h="1241">
                <a:moveTo>
                  <a:pt x="14412" y="16892"/>
                </a:moveTo>
                <a:cubicBezTo>
                  <a:pt x="14412" y="17289"/>
                  <a:pt x="14412" y="17686"/>
                  <a:pt x="14412" y="18083"/>
                </a:cubicBezTo>
                <a:cubicBezTo>
                  <a:pt x="14412" y="18149"/>
                  <a:pt x="14412" y="18000"/>
                  <a:pt x="14412" y="17934"/>
                </a:cubicBezTo>
              </a:path>
              <a:path w="1837" h="1241">
                <a:moveTo>
                  <a:pt x="14412" y="16892"/>
                </a:moveTo>
                <a:cubicBezTo>
                  <a:pt x="14544" y="16892"/>
                  <a:pt x="14676" y="16892"/>
                  <a:pt x="14808" y="16892"/>
                </a:cubicBezTo>
              </a:path>
              <a:path w="1837" h="1241">
                <a:moveTo>
                  <a:pt x="14362" y="17661"/>
                </a:moveTo>
                <a:cubicBezTo>
                  <a:pt x="14430" y="17661"/>
                  <a:pt x="14716" y="17689"/>
                  <a:pt x="14734" y="17636"/>
                </a:cubicBezTo>
              </a:path>
              <a:path w="1837" h="1241">
                <a:moveTo>
                  <a:pt x="14932" y="16917"/>
                </a:moveTo>
                <a:cubicBezTo>
                  <a:pt x="14932" y="17007"/>
                  <a:pt x="14931" y="17088"/>
                  <a:pt x="14957" y="17165"/>
                </a:cubicBezTo>
                <a:cubicBezTo>
                  <a:pt x="14994" y="17275"/>
                  <a:pt x="14917" y="17407"/>
                  <a:pt x="14982" y="17512"/>
                </a:cubicBezTo>
                <a:cubicBezTo>
                  <a:pt x="15013" y="17562"/>
                  <a:pt x="15007" y="17600"/>
                  <a:pt x="15007" y="17661"/>
                </a:cubicBezTo>
                <a:cubicBezTo>
                  <a:pt x="15007" y="17810"/>
                  <a:pt x="15007" y="17958"/>
                  <a:pt x="15007" y="18107"/>
                </a:cubicBezTo>
                <a:cubicBezTo>
                  <a:pt x="15081" y="18107"/>
                  <a:pt x="15144" y="18115"/>
                  <a:pt x="15205" y="18083"/>
                </a:cubicBezTo>
                <a:cubicBezTo>
                  <a:pt x="15272" y="18048"/>
                  <a:pt x="15303" y="18018"/>
                  <a:pt x="15379" y="18008"/>
                </a:cubicBezTo>
              </a:path>
              <a:path w="1837" h="1241">
                <a:moveTo>
                  <a:pt x="15081" y="17636"/>
                </a:moveTo>
                <a:cubicBezTo>
                  <a:pt x="15116" y="17610"/>
                  <a:pt x="15112" y="17611"/>
                  <a:pt x="15156" y="17611"/>
                </a:cubicBezTo>
                <a:cubicBezTo>
                  <a:pt x="15168" y="17575"/>
                  <a:pt x="15186" y="17587"/>
                  <a:pt x="15230" y="17587"/>
                </a:cubicBezTo>
                <a:cubicBezTo>
                  <a:pt x="15255" y="17587"/>
                  <a:pt x="15263" y="17587"/>
                  <a:pt x="15280" y="17587"/>
                </a:cubicBezTo>
                <a:cubicBezTo>
                  <a:pt x="15295" y="17540"/>
                  <a:pt x="15313" y="17584"/>
                  <a:pt x="15329" y="17537"/>
                </a:cubicBezTo>
              </a:path>
              <a:path w="1837" h="1241">
                <a:moveTo>
                  <a:pt x="14883" y="16942"/>
                </a:moveTo>
                <a:cubicBezTo>
                  <a:pt x="15040" y="16942"/>
                  <a:pt x="15197" y="16942"/>
                  <a:pt x="15354" y="16942"/>
                </a:cubicBezTo>
              </a:path>
            </a:pathLst>
          </a:custGeom>
          <a:noFill/>
          <a:ln cap="rnd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Ink 4"/>
          <p:cNvSpPr/>
          <p:nvPr/>
        </p:nvSpPr>
        <p:spPr>
          <a:xfrm>
            <a:off x="4924440" y="6392880"/>
            <a:ext cx="285840" cy="330120"/>
          </a:xfrm>
          <a:custGeom>
            <a:avLst/>
            <a:gdLst/>
            <a:ahLst/>
            <a:rect l="l" t="t" r="r" b="b"/>
            <a:pathLst>
              <a:path w="795" h="919">
                <a:moveTo>
                  <a:pt x="16644" y="17363"/>
                </a:moveTo>
                <a:cubicBezTo>
                  <a:pt x="16614" y="17333"/>
                  <a:pt x="16594" y="17273"/>
                  <a:pt x="16594" y="17314"/>
                </a:cubicBezTo>
                <a:cubicBezTo>
                  <a:pt x="16594" y="17620"/>
                  <a:pt x="16594" y="18438"/>
                  <a:pt x="16594" y="18132"/>
                </a:cubicBezTo>
              </a:path>
              <a:path w="795" h="919">
                <a:moveTo>
                  <a:pt x="17363" y="17264"/>
                </a:moveTo>
                <a:cubicBezTo>
                  <a:pt x="17294" y="17264"/>
                  <a:pt x="17246" y="17259"/>
                  <a:pt x="17190" y="17289"/>
                </a:cubicBezTo>
                <a:cubicBezTo>
                  <a:pt x="17125" y="17324"/>
                  <a:pt x="17073" y="17310"/>
                  <a:pt x="17041" y="17388"/>
                </a:cubicBezTo>
                <a:cubicBezTo>
                  <a:pt x="17023" y="17432"/>
                  <a:pt x="17043" y="17527"/>
                  <a:pt x="17066" y="17562"/>
                </a:cubicBezTo>
                <a:cubicBezTo>
                  <a:pt x="17107" y="17626"/>
                  <a:pt x="17215" y="17630"/>
                  <a:pt x="17264" y="17686"/>
                </a:cubicBezTo>
                <a:cubicBezTo>
                  <a:pt x="17300" y="17728"/>
                  <a:pt x="17312" y="17739"/>
                  <a:pt x="17338" y="17785"/>
                </a:cubicBezTo>
                <a:cubicBezTo>
                  <a:pt x="17363" y="17830"/>
                  <a:pt x="17374" y="17891"/>
                  <a:pt x="17388" y="17934"/>
                </a:cubicBezTo>
                <a:cubicBezTo>
                  <a:pt x="17399" y="17967"/>
                  <a:pt x="17388" y="18023"/>
                  <a:pt x="17388" y="18058"/>
                </a:cubicBezTo>
                <a:cubicBezTo>
                  <a:pt x="17247" y="18058"/>
                  <a:pt x="17107" y="18058"/>
                  <a:pt x="16966" y="18058"/>
                </a:cubicBezTo>
              </a:path>
            </a:pathLst>
          </a:custGeom>
          <a:noFill/>
          <a:ln cap="rnd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nk 5"/>
          <p:cNvSpPr/>
          <p:nvPr/>
        </p:nvSpPr>
        <p:spPr>
          <a:xfrm>
            <a:off x="5710320" y="6392880"/>
            <a:ext cx="250920" cy="420840"/>
          </a:xfrm>
          <a:custGeom>
            <a:avLst/>
            <a:gdLst/>
            <a:ahLst/>
            <a:rect l="l" t="t" r="r" b="b"/>
            <a:pathLst>
              <a:path w="696" h="1167">
                <a:moveTo>
                  <a:pt x="18777" y="17264"/>
                </a:moveTo>
                <a:cubicBezTo>
                  <a:pt x="18777" y="17644"/>
                  <a:pt x="18777" y="18025"/>
                  <a:pt x="18777" y="18405"/>
                </a:cubicBezTo>
                <a:cubicBezTo>
                  <a:pt x="18777" y="18464"/>
                  <a:pt x="18777" y="18227"/>
                  <a:pt x="18777" y="18207"/>
                </a:cubicBezTo>
              </a:path>
              <a:path w="696" h="1167">
                <a:moveTo>
                  <a:pt x="18777" y="17487"/>
                </a:moveTo>
                <a:cubicBezTo>
                  <a:pt x="18899" y="17568"/>
                  <a:pt x="18943" y="17666"/>
                  <a:pt x="19025" y="17810"/>
                </a:cubicBezTo>
                <a:cubicBezTo>
                  <a:pt x="19117" y="17970"/>
                  <a:pt x="19228" y="18118"/>
                  <a:pt x="19348" y="18256"/>
                </a:cubicBezTo>
                <a:cubicBezTo>
                  <a:pt x="19380" y="18293"/>
                  <a:pt x="19403" y="18277"/>
                  <a:pt x="19447" y="18281"/>
                </a:cubicBezTo>
                <a:cubicBezTo>
                  <a:pt x="19482" y="18177"/>
                  <a:pt x="19472" y="18072"/>
                  <a:pt x="19472" y="17959"/>
                </a:cubicBezTo>
                <a:cubicBezTo>
                  <a:pt x="19472" y="17736"/>
                  <a:pt x="19472" y="17512"/>
                  <a:pt x="19472" y="17289"/>
                </a:cubicBezTo>
              </a:path>
            </a:pathLst>
          </a:custGeom>
          <a:noFill/>
          <a:ln cap="rnd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nk 6"/>
          <p:cNvSpPr/>
          <p:nvPr/>
        </p:nvSpPr>
        <p:spPr>
          <a:xfrm>
            <a:off x="6121440" y="6410160"/>
            <a:ext cx="785880" cy="447840"/>
          </a:xfrm>
          <a:custGeom>
            <a:avLst/>
            <a:gdLst/>
            <a:ahLst/>
            <a:rect l="l" t="t" r="r" b="b"/>
            <a:pathLst>
              <a:path w="2184" h="1241">
                <a:moveTo>
                  <a:pt x="20141" y="17413"/>
                </a:moveTo>
                <a:cubicBezTo>
                  <a:pt x="20082" y="17413"/>
                  <a:pt x="20042" y="17404"/>
                  <a:pt x="20017" y="17438"/>
                </a:cubicBezTo>
                <a:cubicBezTo>
                  <a:pt x="19980" y="17487"/>
                  <a:pt x="19969" y="17551"/>
                  <a:pt x="19943" y="17611"/>
                </a:cubicBezTo>
                <a:cubicBezTo>
                  <a:pt x="19914" y="17679"/>
                  <a:pt x="19918" y="17736"/>
                  <a:pt x="19918" y="17810"/>
                </a:cubicBezTo>
                <a:cubicBezTo>
                  <a:pt x="19918" y="17896"/>
                  <a:pt x="19906" y="17980"/>
                  <a:pt x="19943" y="18058"/>
                </a:cubicBezTo>
                <a:cubicBezTo>
                  <a:pt x="19988" y="18152"/>
                  <a:pt x="19980" y="18072"/>
                  <a:pt x="20042" y="18107"/>
                </a:cubicBezTo>
                <a:cubicBezTo>
                  <a:pt x="20093" y="18136"/>
                  <a:pt x="20129" y="18132"/>
                  <a:pt x="20191" y="18132"/>
                </a:cubicBezTo>
                <a:cubicBezTo>
                  <a:pt x="20249" y="18132"/>
                  <a:pt x="20307" y="18132"/>
                  <a:pt x="20365" y="18132"/>
                </a:cubicBezTo>
                <a:cubicBezTo>
                  <a:pt x="20365" y="17996"/>
                  <a:pt x="20373" y="17863"/>
                  <a:pt x="20340" y="17735"/>
                </a:cubicBezTo>
                <a:cubicBezTo>
                  <a:pt x="20332" y="17702"/>
                  <a:pt x="20307" y="17639"/>
                  <a:pt x="20290" y="17611"/>
                </a:cubicBezTo>
                <a:cubicBezTo>
                  <a:pt x="20269" y="17576"/>
                  <a:pt x="20231" y="17557"/>
                  <a:pt x="20216" y="17537"/>
                </a:cubicBezTo>
                <a:cubicBezTo>
                  <a:pt x="20194" y="17508"/>
                  <a:pt x="20150" y="17504"/>
                  <a:pt x="20141" y="17487"/>
                </a:cubicBezTo>
                <a:cubicBezTo>
                  <a:pt x="20141" y="17462"/>
                  <a:pt x="20141" y="17454"/>
                  <a:pt x="20117" y="17462"/>
                </a:cubicBezTo>
              </a:path>
              <a:path w="2184" h="1241">
                <a:moveTo>
                  <a:pt x="20613" y="17487"/>
                </a:moveTo>
                <a:cubicBezTo>
                  <a:pt x="20696" y="17700"/>
                  <a:pt x="20767" y="17917"/>
                  <a:pt x="20836" y="18132"/>
                </a:cubicBezTo>
                <a:cubicBezTo>
                  <a:pt x="20862" y="18212"/>
                  <a:pt x="20875" y="18240"/>
                  <a:pt x="20910" y="18306"/>
                </a:cubicBezTo>
                <a:cubicBezTo>
                  <a:pt x="20910" y="18219"/>
                  <a:pt x="20926" y="18187"/>
                  <a:pt x="20960" y="18107"/>
                </a:cubicBezTo>
                <a:cubicBezTo>
                  <a:pt x="21007" y="17995"/>
                  <a:pt x="21057" y="17870"/>
                  <a:pt x="21084" y="17760"/>
                </a:cubicBezTo>
                <a:cubicBezTo>
                  <a:pt x="21084" y="17752"/>
                  <a:pt x="21084" y="17743"/>
                  <a:pt x="21084" y="17735"/>
                </a:cubicBezTo>
                <a:cubicBezTo>
                  <a:pt x="21210" y="17805"/>
                  <a:pt x="21265" y="17967"/>
                  <a:pt x="21357" y="18107"/>
                </a:cubicBezTo>
                <a:cubicBezTo>
                  <a:pt x="21442" y="18236"/>
                  <a:pt x="21577" y="18451"/>
                  <a:pt x="21679" y="18554"/>
                </a:cubicBezTo>
                <a:cubicBezTo>
                  <a:pt x="21798" y="18264"/>
                  <a:pt x="21874" y="17958"/>
                  <a:pt x="21977" y="17661"/>
                </a:cubicBezTo>
                <a:cubicBezTo>
                  <a:pt x="22015" y="17552"/>
                  <a:pt x="22063" y="17423"/>
                  <a:pt x="22101" y="17314"/>
                </a:cubicBezTo>
              </a:path>
            </a:pathLst>
          </a:custGeom>
          <a:noFill/>
          <a:ln cap="rnd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7"/>
          <p:cNvSpPr/>
          <p:nvPr/>
        </p:nvSpPr>
        <p:spPr>
          <a:xfrm>
            <a:off x="1679400" y="5568840"/>
            <a:ext cx="1086120" cy="451080"/>
          </a:xfrm>
          <a:custGeom>
            <a:avLst/>
            <a:gdLst/>
            <a:ahLst/>
            <a:rect l="l" t="t" r="r" b="b"/>
            <a:pathLst>
              <a:path w="3017" h="1251">
                <a:moveTo>
                  <a:pt x="814" y="3453"/>
                </a:moveTo>
                <a:cubicBezTo>
                  <a:pt x="814" y="3671"/>
                  <a:pt x="814" y="3890"/>
                  <a:pt x="814" y="4108"/>
                </a:cubicBezTo>
              </a:path>
              <a:path w="3017" h="1251">
                <a:moveTo>
                  <a:pt x="833" y="3790"/>
                </a:moveTo>
                <a:cubicBezTo>
                  <a:pt x="1025" y="3790"/>
                  <a:pt x="1217" y="3790"/>
                  <a:pt x="1409" y="3790"/>
                </a:cubicBezTo>
              </a:path>
              <a:path w="3017" h="1251">
                <a:moveTo>
                  <a:pt x="1290" y="3473"/>
                </a:moveTo>
                <a:cubicBezTo>
                  <a:pt x="1290" y="3552"/>
                  <a:pt x="1327" y="4029"/>
                  <a:pt x="1270" y="4048"/>
                </a:cubicBezTo>
              </a:path>
              <a:path w="3017" h="1251">
                <a:moveTo>
                  <a:pt x="1607" y="3929"/>
                </a:moveTo>
                <a:cubicBezTo>
                  <a:pt x="1660" y="3929"/>
                  <a:pt x="1713" y="3929"/>
                  <a:pt x="1766" y="3929"/>
                </a:cubicBezTo>
                <a:cubicBezTo>
                  <a:pt x="1766" y="3888"/>
                  <a:pt x="1773" y="3861"/>
                  <a:pt x="1746" y="3830"/>
                </a:cubicBezTo>
                <a:cubicBezTo>
                  <a:pt x="1730" y="3812"/>
                  <a:pt x="1673" y="3779"/>
                  <a:pt x="1667" y="3770"/>
                </a:cubicBezTo>
                <a:cubicBezTo>
                  <a:pt x="1645" y="3737"/>
                  <a:pt x="1685" y="3731"/>
                  <a:pt x="1627" y="3731"/>
                </a:cubicBezTo>
                <a:cubicBezTo>
                  <a:pt x="1620" y="3731"/>
                  <a:pt x="1614" y="3731"/>
                  <a:pt x="1607" y="3731"/>
                </a:cubicBezTo>
                <a:cubicBezTo>
                  <a:pt x="1607" y="3823"/>
                  <a:pt x="1607" y="3916"/>
                  <a:pt x="1607" y="4008"/>
                </a:cubicBezTo>
                <a:cubicBezTo>
                  <a:pt x="1693" y="4008"/>
                  <a:pt x="1779" y="4008"/>
                  <a:pt x="1865" y="4008"/>
                </a:cubicBezTo>
              </a:path>
              <a:path w="3017" h="1251">
                <a:moveTo>
                  <a:pt x="1945" y="3473"/>
                </a:moveTo>
                <a:cubicBezTo>
                  <a:pt x="1945" y="3557"/>
                  <a:pt x="1949" y="3638"/>
                  <a:pt x="1965" y="3711"/>
                </a:cubicBezTo>
                <a:cubicBezTo>
                  <a:pt x="1983" y="3795"/>
                  <a:pt x="1965" y="3903"/>
                  <a:pt x="1965" y="3989"/>
                </a:cubicBezTo>
              </a:path>
              <a:path w="3017" h="1251">
                <a:moveTo>
                  <a:pt x="2123" y="3850"/>
                </a:moveTo>
                <a:cubicBezTo>
                  <a:pt x="2133" y="3879"/>
                  <a:pt x="2171" y="3899"/>
                  <a:pt x="2183" y="3929"/>
                </a:cubicBezTo>
                <a:cubicBezTo>
                  <a:pt x="2197" y="3965"/>
                  <a:pt x="2200" y="4015"/>
                  <a:pt x="2222" y="4048"/>
                </a:cubicBezTo>
                <a:cubicBezTo>
                  <a:pt x="2240" y="4076"/>
                  <a:pt x="2269" y="4116"/>
                  <a:pt x="2282" y="4147"/>
                </a:cubicBezTo>
                <a:cubicBezTo>
                  <a:pt x="2288" y="4161"/>
                  <a:pt x="2282" y="4192"/>
                  <a:pt x="2282" y="4207"/>
                </a:cubicBezTo>
                <a:cubicBezTo>
                  <a:pt x="2262" y="4167"/>
                  <a:pt x="2256" y="4154"/>
                  <a:pt x="2242" y="4128"/>
                </a:cubicBezTo>
              </a:path>
              <a:path w="3017" h="1251">
                <a:moveTo>
                  <a:pt x="2103" y="3810"/>
                </a:moveTo>
                <a:cubicBezTo>
                  <a:pt x="2114" y="3778"/>
                  <a:pt x="2141" y="3773"/>
                  <a:pt x="2183" y="3770"/>
                </a:cubicBezTo>
                <a:cubicBezTo>
                  <a:pt x="2253" y="3764"/>
                  <a:pt x="2341" y="3770"/>
                  <a:pt x="2381" y="3790"/>
                </a:cubicBezTo>
                <a:cubicBezTo>
                  <a:pt x="2415" y="3807"/>
                  <a:pt x="2408" y="3770"/>
                  <a:pt x="2421" y="3810"/>
                </a:cubicBezTo>
                <a:cubicBezTo>
                  <a:pt x="2411" y="3840"/>
                  <a:pt x="2397" y="3830"/>
                  <a:pt x="2361" y="3830"/>
                </a:cubicBezTo>
                <a:cubicBezTo>
                  <a:pt x="2307" y="3830"/>
                  <a:pt x="2151" y="3830"/>
                  <a:pt x="2163" y="3830"/>
                </a:cubicBezTo>
                <a:cubicBezTo>
                  <a:pt x="2187" y="3812"/>
                  <a:pt x="2212" y="3792"/>
                  <a:pt x="2242" y="3790"/>
                </a:cubicBezTo>
                <a:cubicBezTo>
                  <a:pt x="2313" y="3785"/>
                  <a:pt x="2400" y="3789"/>
                  <a:pt x="2441" y="3810"/>
                </a:cubicBezTo>
                <a:cubicBezTo>
                  <a:pt x="2462" y="3821"/>
                  <a:pt x="2477" y="3822"/>
                  <a:pt x="2480" y="3850"/>
                </a:cubicBezTo>
                <a:cubicBezTo>
                  <a:pt x="2487" y="3906"/>
                  <a:pt x="2461" y="3868"/>
                  <a:pt x="2441" y="3909"/>
                </a:cubicBezTo>
                <a:cubicBezTo>
                  <a:pt x="2431" y="3930"/>
                  <a:pt x="2429" y="3946"/>
                  <a:pt x="2401" y="3949"/>
                </a:cubicBezTo>
                <a:cubicBezTo>
                  <a:pt x="2369" y="3953"/>
                  <a:pt x="2358" y="3969"/>
                  <a:pt x="2322" y="3969"/>
                </a:cubicBezTo>
                <a:cubicBezTo>
                  <a:pt x="2269" y="3969"/>
                  <a:pt x="2216" y="3969"/>
                  <a:pt x="2163" y="3969"/>
                </a:cubicBezTo>
              </a:path>
              <a:path w="3017" h="1251">
                <a:moveTo>
                  <a:pt x="2699" y="3711"/>
                </a:moveTo>
                <a:cubicBezTo>
                  <a:pt x="2731" y="3722"/>
                  <a:pt x="2719" y="3749"/>
                  <a:pt x="2719" y="3790"/>
                </a:cubicBezTo>
                <a:cubicBezTo>
                  <a:pt x="2719" y="3840"/>
                  <a:pt x="2738" y="3873"/>
                  <a:pt x="2738" y="3929"/>
                </a:cubicBezTo>
                <a:cubicBezTo>
                  <a:pt x="2738" y="3938"/>
                  <a:pt x="2738" y="4023"/>
                  <a:pt x="2738" y="3969"/>
                </a:cubicBezTo>
                <a:cubicBezTo>
                  <a:pt x="2738" y="3949"/>
                  <a:pt x="2738" y="3942"/>
                  <a:pt x="2738" y="3929"/>
                </a:cubicBezTo>
              </a:path>
              <a:path w="3017" h="1251">
                <a:moveTo>
                  <a:pt x="2719" y="3612"/>
                </a:moveTo>
                <a:cubicBezTo>
                  <a:pt x="2754" y="3632"/>
                  <a:pt x="2783" y="3631"/>
                  <a:pt x="2818" y="3651"/>
                </a:cubicBezTo>
                <a:cubicBezTo>
                  <a:pt x="2850" y="3667"/>
                  <a:pt x="2855" y="3674"/>
                  <a:pt x="2877" y="3671"/>
                </a:cubicBezTo>
              </a:path>
              <a:path w="3017" h="1251">
                <a:moveTo>
                  <a:pt x="3056" y="3631"/>
                </a:moveTo>
                <a:cubicBezTo>
                  <a:pt x="3062" y="3655"/>
                  <a:pt x="3066" y="3708"/>
                  <a:pt x="3076" y="3731"/>
                </a:cubicBezTo>
                <a:cubicBezTo>
                  <a:pt x="3090" y="3764"/>
                  <a:pt x="3096" y="3769"/>
                  <a:pt x="3096" y="3810"/>
                </a:cubicBezTo>
                <a:cubicBezTo>
                  <a:pt x="3096" y="3856"/>
                  <a:pt x="3096" y="4008"/>
                  <a:pt x="3096" y="3989"/>
                </a:cubicBezTo>
                <a:cubicBezTo>
                  <a:pt x="3096" y="3911"/>
                  <a:pt x="3094" y="3838"/>
                  <a:pt x="3115" y="3770"/>
                </a:cubicBezTo>
                <a:cubicBezTo>
                  <a:pt x="3126" y="3736"/>
                  <a:pt x="3127" y="3707"/>
                  <a:pt x="3135" y="3691"/>
                </a:cubicBezTo>
                <a:cubicBezTo>
                  <a:pt x="3145" y="3670"/>
                  <a:pt x="3147" y="3654"/>
                  <a:pt x="3175" y="3651"/>
                </a:cubicBezTo>
                <a:cubicBezTo>
                  <a:pt x="3194" y="3649"/>
                  <a:pt x="3216" y="3651"/>
                  <a:pt x="3235" y="3651"/>
                </a:cubicBezTo>
                <a:cubicBezTo>
                  <a:pt x="3235" y="3764"/>
                  <a:pt x="3235" y="3876"/>
                  <a:pt x="3235" y="3989"/>
                </a:cubicBezTo>
              </a:path>
              <a:path w="3017" h="1251">
                <a:moveTo>
                  <a:pt x="3612" y="3750"/>
                </a:moveTo>
                <a:cubicBezTo>
                  <a:pt x="3539" y="3750"/>
                  <a:pt x="3466" y="3750"/>
                  <a:pt x="3393" y="3750"/>
                </a:cubicBezTo>
                <a:cubicBezTo>
                  <a:pt x="3397" y="3717"/>
                  <a:pt x="3408" y="3702"/>
                  <a:pt x="3413" y="3671"/>
                </a:cubicBezTo>
                <a:cubicBezTo>
                  <a:pt x="3419" y="3636"/>
                  <a:pt x="3416" y="3633"/>
                  <a:pt x="3433" y="3612"/>
                </a:cubicBezTo>
                <a:cubicBezTo>
                  <a:pt x="3452" y="3589"/>
                  <a:pt x="3447" y="3565"/>
                  <a:pt x="3473" y="3552"/>
                </a:cubicBezTo>
                <a:cubicBezTo>
                  <a:pt x="3518" y="3529"/>
                  <a:pt x="3633" y="3557"/>
                  <a:pt x="3651" y="3572"/>
                </a:cubicBezTo>
                <a:cubicBezTo>
                  <a:pt x="3667" y="3585"/>
                  <a:pt x="3694" y="3614"/>
                  <a:pt x="3711" y="3631"/>
                </a:cubicBezTo>
                <a:cubicBezTo>
                  <a:pt x="3734" y="3654"/>
                  <a:pt x="3743" y="3659"/>
                  <a:pt x="3750" y="3691"/>
                </a:cubicBezTo>
                <a:cubicBezTo>
                  <a:pt x="3757" y="3720"/>
                  <a:pt x="3767" y="3768"/>
                  <a:pt x="3770" y="3790"/>
                </a:cubicBezTo>
                <a:cubicBezTo>
                  <a:pt x="3788" y="3917"/>
                  <a:pt x="3721" y="4115"/>
                  <a:pt x="3790" y="4227"/>
                </a:cubicBezTo>
                <a:cubicBezTo>
                  <a:pt x="3805" y="4251"/>
                  <a:pt x="3808" y="4248"/>
                  <a:pt x="3810" y="4286"/>
                </a:cubicBezTo>
                <a:cubicBezTo>
                  <a:pt x="3812" y="4325"/>
                  <a:pt x="3825" y="4356"/>
                  <a:pt x="3830" y="4385"/>
                </a:cubicBezTo>
                <a:cubicBezTo>
                  <a:pt x="3839" y="4438"/>
                  <a:pt x="3854" y="4676"/>
                  <a:pt x="3810" y="4703"/>
                </a:cubicBezTo>
                <a:cubicBezTo>
                  <a:pt x="3678" y="4783"/>
                  <a:pt x="3220" y="4703"/>
                  <a:pt x="3056" y="4703"/>
                </a:cubicBezTo>
              </a:path>
            </a:pathLst>
          </a:custGeom>
          <a:noFill/>
          <a:ln cap="rnd" w="190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8"/>
          <p:cNvSpPr/>
          <p:nvPr/>
        </p:nvSpPr>
        <p:spPr>
          <a:xfrm>
            <a:off x="3279600" y="5583240"/>
            <a:ext cx="1292400" cy="222120"/>
          </a:xfrm>
          <a:custGeom>
            <a:avLst/>
            <a:gdLst/>
            <a:ahLst/>
            <a:rect l="l" t="t" r="r" b="b"/>
            <a:pathLst>
              <a:path w="3592" h="617">
                <a:moveTo>
                  <a:pt x="5259" y="3552"/>
                </a:moveTo>
                <a:cubicBezTo>
                  <a:pt x="5259" y="3601"/>
                  <a:pt x="5257" y="3626"/>
                  <a:pt x="5278" y="3671"/>
                </a:cubicBezTo>
                <a:cubicBezTo>
                  <a:pt x="5307" y="3733"/>
                  <a:pt x="5347" y="3789"/>
                  <a:pt x="5378" y="3850"/>
                </a:cubicBezTo>
                <a:cubicBezTo>
                  <a:pt x="5400" y="3894"/>
                  <a:pt x="5425" y="3942"/>
                  <a:pt x="5437" y="3989"/>
                </a:cubicBezTo>
                <a:cubicBezTo>
                  <a:pt x="5448" y="4033"/>
                  <a:pt x="5452" y="4112"/>
                  <a:pt x="5417" y="4088"/>
                </a:cubicBezTo>
              </a:path>
              <a:path w="3592" h="617">
                <a:moveTo>
                  <a:pt x="5278" y="3552"/>
                </a:moveTo>
                <a:cubicBezTo>
                  <a:pt x="5311" y="3541"/>
                  <a:pt x="5290" y="3502"/>
                  <a:pt x="5338" y="3492"/>
                </a:cubicBezTo>
                <a:cubicBezTo>
                  <a:pt x="5413" y="3476"/>
                  <a:pt x="5552" y="3490"/>
                  <a:pt x="5596" y="3512"/>
                </a:cubicBezTo>
                <a:cubicBezTo>
                  <a:pt x="5641" y="3534"/>
                  <a:pt x="5667" y="3495"/>
                  <a:pt x="5695" y="3532"/>
                </a:cubicBezTo>
                <a:cubicBezTo>
                  <a:pt x="5718" y="3563"/>
                  <a:pt x="5715" y="3573"/>
                  <a:pt x="5715" y="3612"/>
                </a:cubicBezTo>
                <a:cubicBezTo>
                  <a:pt x="5715" y="3640"/>
                  <a:pt x="5691" y="3639"/>
                  <a:pt x="5675" y="3651"/>
                </a:cubicBezTo>
                <a:cubicBezTo>
                  <a:pt x="5645" y="3674"/>
                  <a:pt x="5635" y="3671"/>
                  <a:pt x="5596" y="3671"/>
                </a:cubicBezTo>
                <a:cubicBezTo>
                  <a:pt x="5567" y="3671"/>
                  <a:pt x="5538" y="3676"/>
                  <a:pt x="5517" y="3691"/>
                </a:cubicBezTo>
                <a:cubicBezTo>
                  <a:pt x="5485" y="3712"/>
                  <a:pt x="5477" y="3711"/>
                  <a:pt x="5437" y="3711"/>
                </a:cubicBezTo>
                <a:cubicBezTo>
                  <a:pt x="5411" y="3711"/>
                  <a:pt x="5263" y="3711"/>
                  <a:pt x="5358" y="3711"/>
                </a:cubicBezTo>
              </a:path>
              <a:path w="3592" h="617">
                <a:moveTo>
                  <a:pt x="6032" y="3731"/>
                </a:moveTo>
                <a:cubicBezTo>
                  <a:pt x="6026" y="3731"/>
                  <a:pt x="6019" y="3731"/>
                  <a:pt x="6013" y="3731"/>
                </a:cubicBezTo>
                <a:cubicBezTo>
                  <a:pt x="6020" y="3708"/>
                  <a:pt x="6039" y="3695"/>
                  <a:pt x="6072" y="3691"/>
                </a:cubicBezTo>
                <a:cubicBezTo>
                  <a:pt x="6117" y="3686"/>
                  <a:pt x="6166" y="3691"/>
                  <a:pt x="6211" y="3691"/>
                </a:cubicBezTo>
                <a:cubicBezTo>
                  <a:pt x="6222" y="3723"/>
                  <a:pt x="6220" y="3699"/>
                  <a:pt x="6231" y="3731"/>
                </a:cubicBezTo>
                <a:cubicBezTo>
                  <a:pt x="6261" y="3741"/>
                  <a:pt x="6251" y="3754"/>
                  <a:pt x="6251" y="3790"/>
                </a:cubicBezTo>
                <a:cubicBezTo>
                  <a:pt x="6251" y="3883"/>
                  <a:pt x="6251" y="4121"/>
                  <a:pt x="6251" y="4028"/>
                </a:cubicBezTo>
              </a:path>
              <a:path w="3592" h="617">
                <a:moveTo>
                  <a:pt x="6191" y="3850"/>
                </a:moveTo>
                <a:cubicBezTo>
                  <a:pt x="6141" y="3850"/>
                  <a:pt x="6114" y="3856"/>
                  <a:pt x="6072" y="3870"/>
                </a:cubicBezTo>
                <a:cubicBezTo>
                  <a:pt x="6045" y="3879"/>
                  <a:pt x="6048" y="3900"/>
                  <a:pt x="6032" y="3909"/>
                </a:cubicBezTo>
                <a:cubicBezTo>
                  <a:pt x="6006" y="3923"/>
                  <a:pt x="6013" y="3931"/>
                  <a:pt x="6013" y="3969"/>
                </a:cubicBezTo>
                <a:cubicBezTo>
                  <a:pt x="6072" y="3969"/>
                  <a:pt x="6121" y="3965"/>
                  <a:pt x="6152" y="3949"/>
                </a:cubicBezTo>
                <a:cubicBezTo>
                  <a:pt x="6168" y="3941"/>
                  <a:pt x="6214" y="3931"/>
                  <a:pt x="6231" y="3929"/>
                </a:cubicBezTo>
                <a:cubicBezTo>
                  <a:pt x="6238" y="3929"/>
                  <a:pt x="6244" y="3929"/>
                  <a:pt x="6251" y="3929"/>
                </a:cubicBezTo>
              </a:path>
              <a:path w="3592" h="617">
                <a:moveTo>
                  <a:pt x="6548" y="3532"/>
                </a:moveTo>
                <a:cubicBezTo>
                  <a:pt x="6548" y="3704"/>
                  <a:pt x="6548" y="3876"/>
                  <a:pt x="6548" y="4048"/>
                </a:cubicBezTo>
                <a:cubicBezTo>
                  <a:pt x="6578" y="4058"/>
                  <a:pt x="6565" y="4068"/>
                  <a:pt x="6608" y="4068"/>
                </a:cubicBezTo>
                <a:cubicBezTo>
                  <a:pt x="6687" y="4068"/>
                  <a:pt x="6767" y="4068"/>
                  <a:pt x="6846" y="4068"/>
                </a:cubicBezTo>
                <a:cubicBezTo>
                  <a:pt x="6817" y="4058"/>
                  <a:pt x="6826" y="4055"/>
                  <a:pt x="6787" y="4028"/>
                </a:cubicBezTo>
              </a:path>
              <a:path w="3592" h="617">
                <a:moveTo>
                  <a:pt x="6529" y="3770"/>
                </a:moveTo>
                <a:cubicBezTo>
                  <a:pt x="6522" y="3763"/>
                  <a:pt x="6516" y="3757"/>
                  <a:pt x="6509" y="3750"/>
                </a:cubicBezTo>
                <a:cubicBezTo>
                  <a:pt x="6608" y="3750"/>
                  <a:pt x="6707" y="3750"/>
                  <a:pt x="6806" y="3750"/>
                </a:cubicBezTo>
              </a:path>
              <a:path w="3592" h="617">
                <a:moveTo>
                  <a:pt x="7124" y="3711"/>
                </a:moveTo>
                <a:cubicBezTo>
                  <a:pt x="7124" y="3823"/>
                  <a:pt x="7124" y="3936"/>
                  <a:pt x="7124" y="4048"/>
                </a:cubicBezTo>
                <a:cubicBezTo>
                  <a:pt x="7124" y="4028"/>
                  <a:pt x="7124" y="4021"/>
                  <a:pt x="7124" y="4008"/>
                </a:cubicBezTo>
              </a:path>
              <a:path w="3592" h="617">
                <a:moveTo>
                  <a:pt x="7084" y="3552"/>
                </a:moveTo>
                <a:cubicBezTo>
                  <a:pt x="7091" y="3552"/>
                  <a:pt x="7097" y="3552"/>
                  <a:pt x="7104" y="3552"/>
                </a:cubicBezTo>
              </a:path>
              <a:path w="3592" h="617">
                <a:moveTo>
                  <a:pt x="7402" y="3870"/>
                </a:moveTo>
                <a:cubicBezTo>
                  <a:pt x="7474" y="3870"/>
                  <a:pt x="7604" y="3891"/>
                  <a:pt x="7660" y="3850"/>
                </a:cubicBezTo>
                <a:cubicBezTo>
                  <a:pt x="7694" y="3825"/>
                  <a:pt x="7699" y="3834"/>
                  <a:pt x="7699" y="3790"/>
                </a:cubicBezTo>
                <a:cubicBezTo>
                  <a:pt x="7699" y="3754"/>
                  <a:pt x="7685" y="3723"/>
                  <a:pt x="7680" y="3711"/>
                </a:cubicBezTo>
                <a:cubicBezTo>
                  <a:pt x="7672" y="3692"/>
                  <a:pt x="7650" y="3656"/>
                  <a:pt x="7640" y="3651"/>
                </a:cubicBezTo>
                <a:cubicBezTo>
                  <a:pt x="7614" y="3638"/>
                  <a:pt x="7620" y="3631"/>
                  <a:pt x="7580" y="3631"/>
                </a:cubicBezTo>
                <a:cubicBezTo>
                  <a:pt x="7526" y="3631"/>
                  <a:pt x="7488" y="3637"/>
                  <a:pt x="7461" y="3651"/>
                </a:cubicBezTo>
                <a:cubicBezTo>
                  <a:pt x="7439" y="3662"/>
                  <a:pt x="7426" y="3676"/>
                  <a:pt x="7422" y="3711"/>
                </a:cubicBezTo>
                <a:cubicBezTo>
                  <a:pt x="7418" y="3753"/>
                  <a:pt x="7431" y="3770"/>
                  <a:pt x="7441" y="3810"/>
                </a:cubicBezTo>
                <a:cubicBezTo>
                  <a:pt x="7449" y="3846"/>
                  <a:pt x="7474" y="3862"/>
                  <a:pt x="7501" y="3889"/>
                </a:cubicBezTo>
                <a:cubicBezTo>
                  <a:pt x="7521" y="3909"/>
                  <a:pt x="7541" y="3927"/>
                  <a:pt x="7560" y="3929"/>
                </a:cubicBezTo>
                <a:cubicBezTo>
                  <a:pt x="7602" y="3934"/>
                  <a:pt x="7640" y="3941"/>
                  <a:pt x="7660" y="3949"/>
                </a:cubicBezTo>
                <a:cubicBezTo>
                  <a:pt x="7713" y="3972"/>
                  <a:pt x="7813" y="3941"/>
                  <a:pt x="7838" y="3929"/>
                </a:cubicBezTo>
                <a:cubicBezTo>
                  <a:pt x="7880" y="3908"/>
                  <a:pt x="7885" y="3971"/>
                  <a:pt x="7858" y="3889"/>
                </a:cubicBezTo>
              </a:path>
              <a:path w="3592" h="617">
                <a:moveTo>
                  <a:pt x="7878" y="3691"/>
                </a:moveTo>
                <a:cubicBezTo>
                  <a:pt x="7886" y="3722"/>
                  <a:pt x="7898" y="3735"/>
                  <a:pt x="7898" y="3770"/>
                </a:cubicBezTo>
                <a:cubicBezTo>
                  <a:pt x="7898" y="3844"/>
                  <a:pt x="7904" y="3906"/>
                  <a:pt x="7918" y="3969"/>
                </a:cubicBezTo>
                <a:cubicBezTo>
                  <a:pt x="7923" y="3991"/>
                  <a:pt x="7918" y="4025"/>
                  <a:pt x="7918" y="4048"/>
                </a:cubicBezTo>
                <a:cubicBezTo>
                  <a:pt x="7918" y="3961"/>
                  <a:pt x="7910" y="3846"/>
                  <a:pt x="7938" y="3790"/>
                </a:cubicBezTo>
                <a:cubicBezTo>
                  <a:pt x="7959" y="3749"/>
                  <a:pt x="7922" y="3711"/>
                  <a:pt x="7957" y="3671"/>
                </a:cubicBezTo>
                <a:cubicBezTo>
                  <a:pt x="7973" y="3653"/>
                  <a:pt x="7987" y="3617"/>
                  <a:pt x="7997" y="3612"/>
                </a:cubicBezTo>
                <a:cubicBezTo>
                  <a:pt x="8009" y="3606"/>
                  <a:pt x="8043" y="3612"/>
                  <a:pt x="8057" y="3612"/>
                </a:cubicBezTo>
                <a:cubicBezTo>
                  <a:pt x="8057" y="3679"/>
                  <a:pt x="8057" y="3751"/>
                  <a:pt x="8076" y="3790"/>
                </a:cubicBezTo>
                <a:cubicBezTo>
                  <a:pt x="8099" y="3839"/>
                  <a:pt x="8076" y="4059"/>
                  <a:pt x="8076" y="4048"/>
                </a:cubicBezTo>
                <a:cubicBezTo>
                  <a:pt x="8076" y="4028"/>
                  <a:pt x="8076" y="4021"/>
                  <a:pt x="8076" y="4008"/>
                </a:cubicBezTo>
              </a:path>
              <a:path w="3592" h="617">
                <a:moveTo>
                  <a:pt x="8195" y="3492"/>
                </a:moveTo>
                <a:cubicBezTo>
                  <a:pt x="8202" y="3492"/>
                  <a:pt x="8208" y="3492"/>
                  <a:pt x="8215" y="3492"/>
                </a:cubicBezTo>
                <a:cubicBezTo>
                  <a:pt x="8215" y="3572"/>
                  <a:pt x="8215" y="3651"/>
                  <a:pt x="8215" y="3731"/>
                </a:cubicBezTo>
                <a:cubicBezTo>
                  <a:pt x="8242" y="3749"/>
                  <a:pt x="8235" y="3770"/>
                  <a:pt x="8235" y="3810"/>
                </a:cubicBezTo>
                <a:cubicBezTo>
                  <a:pt x="8235" y="3896"/>
                  <a:pt x="8235" y="3982"/>
                  <a:pt x="8235" y="4068"/>
                </a:cubicBezTo>
                <a:cubicBezTo>
                  <a:pt x="8245" y="4038"/>
                  <a:pt x="8259" y="4048"/>
                  <a:pt x="8295" y="4048"/>
                </a:cubicBezTo>
                <a:cubicBezTo>
                  <a:pt x="8341" y="4048"/>
                  <a:pt x="8388" y="4048"/>
                  <a:pt x="8434" y="4048"/>
                </a:cubicBezTo>
              </a:path>
              <a:path w="3592" h="617">
                <a:moveTo>
                  <a:pt x="8215" y="3750"/>
                </a:moveTo>
                <a:cubicBezTo>
                  <a:pt x="8245" y="3728"/>
                  <a:pt x="8257" y="3731"/>
                  <a:pt x="8295" y="3731"/>
                </a:cubicBezTo>
                <a:cubicBezTo>
                  <a:pt x="8337" y="3731"/>
                  <a:pt x="8403" y="3745"/>
                  <a:pt x="8414" y="3711"/>
                </a:cubicBezTo>
              </a:path>
              <a:path w="3592" h="617">
                <a:moveTo>
                  <a:pt x="8791" y="3612"/>
                </a:moveTo>
                <a:cubicBezTo>
                  <a:pt x="8845" y="3612"/>
                  <a:pt x="8760" y="3612"/>
                  <a:pt x="8751" y="3612"/>
                </a:cubicBezTo>
                <a:cubicBezTo>
                  <a:pt x="8700" y="3612"/>
                  <a:pt x="8717" y="3634"/>
                  <a:pt x="8692" y="3651"/>
                </a:cubicBezTo>
                <a:cubicBezTo>
                  <a:pt x="8667" y="3668"/>
                  <a:pt x="8672" y="3670"/>
                  <a:pt x="8672" y="3711"/>
                </a:cubicBezTo>
                <a:cubicBezTo>
                  <a:pt x="8672" y="3756"/>
                  <a:pt x="8682" y="3770"/>
                  <a:pt x="8692" y="3790"/>
                </a:cubicBezTo>
                <a:cubicBezTo>
                  <a:pt x="8703" y="3811"/>
                  <a:pt x="8703" y="3826"/>
                  <a:pt x="8731" y="3830"/>
                </a:cubicBezTo>
                <a:cubicBezTo>
                  <a:pt x="8767" y="3835"/>
                  <a:pt x="8769" y="3834"/>
                  <a:pt x="8791" y="3850"/>
                </a:cubicBezTo>
                <a:cubicBezTo>
                  <a:pt x="8813" y="3867"/>
                  <a:pt x="8817" y="3903"/>
                  <a:pt x="8830" y="3909"/>
                </a:cubicBezTo>
                <a:cubicBezTo>
                  <a:pt x="8850" y="3909"/>
                  <a:pt x="8857" y="3909"/>
                  <a:pt x="8850" y="3929"/>
                </a:cubicBezTo>
                <a:cubicBezTo>
                  <a:pt x="8840" y="3959"/>
                  <a:pt x="8827" y="3949"/>
                  <a:pt x="8791" y="3949"/>
                </a:cubicBezTo>
                <a:cubicBezTo>
                  <a:pt x="8742" y="3949"/>
                  <a:pt x="8605" y="3931"/>
                  <a:pt x="8592" y="3969"/>
                </a:cubicBezTo>
              </a:path>
            </a:pathLst>
          </a:custGeom>
          <a:noFill/>
          <a:ln cap="rnd" w="190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9"/>
          <p:cNvSpPr/>
          <p:nvPr/>
        </p:nvSpPr>
        <p:spPr>
          <a:xfrm>
            <a:off x="5021280" y="5562720"/>
            <a:ext cx="258840" cy="242640"/>
          </a:xfrm>
          <a:custGeom>
            <a:avLst/>
            <a:gdLst/>
            <a:ahLst/>
            <a:rect l="l" t="t" r="r" b="b"/>
            <a:pathLst>
              <a:path w="716" h="676">
                <a:moveTo>
                  <a:pt x="10100" y="3691"/>
                </a:moveTo>
                <a:cubicBezTo>
                  <a:pt x="10100" y="3671"/>
                  <a:pt x="10100" y="3664"/>
                  <a:pt x="10100" y="3651"/>
                </a:cubicBezTo>
                <a:cubicBezTo>
                  <a:pt x="10100" y="3792"/>
                  <a:pt x="10078" y="3962"/>
                  <a:pt x="10120" y="4088"/>
                </a:cubicBezTo>
                <a:cubicBezTo>
                  <a:pt x="10127" y="4110"/>
                  <a:pt x="10130" y="4079"/>
                  <a:pt x="10140" y="4048"/>
                </a:cubicBezTo>
                <a:cubicBezTo>
                  <a:pt x="10140" y="4041"/>
                  <a:pt x="10140" y="4035"/>
                  <a:pt x="10140" y="4028"/>
                </a:cubicBezTo>
              </a:path>
              <a:path w="716" h="676">
                <a:moveTo>
                  <a:pt x="10140" y="3433"/>
                </a:moveTo>
                <a:lnTo>
                  <a:pt x="10140" y="3433"/>
                </a:lnTo>
              </a:path>
              <a:path w="716" h="676">
                <a:moveTo>
                  <a:pt x="10755" y="3612"/>
                </a:moveTo>
                <a:cubicBezTo>
                  <a:pt x="10720" y="3612"/>
                  <a:pt x="10716" y="3607"/>
                  <a:pt x="10696" y="3592"/>
                </a:cubicBezTo>
                <a:cubicBezTo>
                  <a:pt x="10665" y="3569"/>
                  <a:pt x="10655" y="3572"/>
                  <a:pt x="10616" y="3572"/>
                </a:cubicBezTo>
                <a:cubicBezTo>
                  <a:pt x="10613" y="3572"/>
                  <a:pt x="10537" y="3592"/>
                  <a:pt x="10537" y="3592"/>
                </a:cubicBezTo>
                <a:cubicBezTo>
                  <a:pt x="10530" y="3600"/>
                  <a:pt x="10524" y="3645"/>
                  <a:pt x="10517" y="3651"/>
                </a:cubicBezTo>
                <a:cubicBezTo>
                  <a:pt x="10494" y="3669"/>
                  <a:pt x="10497" y="3669"/>
                  <a:pt x="10497" y="3711"/>
                </a:cubicBezTo>
                <a:cubicBezTo>
                  <a:pt x="10497" y="3724"/>
                  <a:pt x="10510" y="3778"/>
                  <a:pt x="10517" y="3790"/>
                </a:cubicBezTo>
                <a:cubicBezTo>
                  <a:pt x="10530" y="3814"/>
                  <a:pt x="10561" y="3826"/>
                  <a:pt x="10577" y="3850"/>
                </a:cubicBezTo>
                <a:cubicBezTo>
                  <a:pt x="10591" y="3871"/>
                  <a:pt x="10633" y="3887"/>
                  <a:pt x="10656" y="3889"/>
                </a:cubicBezTo>
                <a:cubicBezTo>
                  <a:pt x="10706" y="3892"/>
                  <a:pt x="10725" y="3924"/>
                  <a:pt x="10775" y="3929"/>
                </a:cubicBezTo>
                <a:cubicBezTo>
                  <a:pt x="10795" y="3929"/>
                  <a:pt x="10802" y="3929"/>
                  <a:pt x="10815" y="3929"/>
                </a:cubicBezTo>
                <a:cubicBezTo>
                  <a:pt x="10815" y="3971"/>
                  <a:pt x="10817" y="3969"/>
                  <a:pt x="10775" y="3969"/>
                </a:cubicBezTo>
                <a:cubicBezTo>
                  <a:pt x="10689" y="3969"/>
                  <a:pt x="10603" y="3969"/>
                  <a:pt x="10517" y="3969"/>
                </a:cubicBezTo>
              </a:path>
            </a:pathLst>
          </a:custGeom>
          <a:noFill/>
          <a:ln cap="rnd" w="190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10"/>
          <p:cNvSpPr/>
          <p:nvPr/>
        </p:nvSpPr>
        <p:spPr>
          <a:xfrm>
            <a:off x="5522760" y="5468760"/>
            <a:ext cx="1292400" cy="343080"/>
          </a:xfrm>
          <a:custGeom>
            <a:avLst/>
            <a:gdLst/>
            <a:ahLst/>
            <a:rect l="l" t="t" r="r" b="b"/>
            <a:pathLst>
              <a:path w="3592" h="954">
                <a:moveTo>
                  <a:pt x="11648" y="3671"/>
                </a:moveTo>
                <a:cubicBezTo>
                  <a:pt x="11639" y="3645"/>
                  <a:pt x="11617" y="3647"/>
                  <a:pt x="11609" y="3631"/>
                </a:cubicBezTo>
                <a:cubicBezTo>
                  <a:pt x="11596" y="3604"/>
                  <a:pt x="11586" y="3612"/>
                  <a:pt x="11549" y="3612"/>
                </a:cubicBezTo>
                <a:cubicBezTo>
                  <a:pt x="11520" y="3612"/>
                  <a:pt x="11521" y="3634"/>
                  <a:pt x="11509" y="3651"/>
                </a:cubicBezTo>
                <a:cubicBezTo>
                  <a:pt x="11487" y="3681"/>
                  <a:pt x="11490" y="3693"/>
                  <a:pt x="11490" y="3731"/>
                </a:cubicBezTo>
                <a:cubicBezTo>
                  <a:pt x="11490" y="3777"/>
                  <a:pt x="11478" y="3835"/>
                  <a:pt x="11509" y="3870"/>
                </a:cubicBezTo>
                <a:cubicBezTo>
                  <a:pt x="11552" y="3918"/>
                  <a:pt x="11558" y="3887"/>
                  <a:pt x="11609" y="3909"/>
                </a:cubicBezTo>
                <a:cubicBezTo>
                  <a:pt x="11642" y="3923"/>
                  <a:pt x="11647" y="3929"/>
                  <a:pt x="11688" y="3929"/>
                </a:cubicBezTo>
                <a:cubicBezTo>
                  <a:pt x="11722" y="3929"/>
                  <a:pt x="11828" y="3947"/>
                  <a:pt x="11847" y="3909"/>
                </a:cubicBezTo>
                <a:cubicBezTo>
                  <a:pt x="11866" y="3871"/>
                  <a:pt x="11836" y="3818"/>
                  <a:pt x="11827" y="3790"/>
                </a:cubicBezTo>
                <a:cubicBezTo>
                  <a:pt x="11823" y="3777"/>
                  <a:pt x="11809" y="3741"/>
                  <a:pt x="11787" y="3731"/>
                </a:cubicBezTo>
                <a:cubicBezTo>
                  <a:pt x="11763" y="3719"/>
                  <a:pt x="11765" y="3695"/>
                  <a:pt x="11728" y="3691"/>
                </a:cubicBezTo>
                <a:cubicBezTo>
                  <a:pt x="11695" y="3687"/>
                  <a:pt x="11713" y="3671"/>
                  <a:pt x="11668" y="3671"/>
                </a:cubicBezTo>
                <a:cubicBezTo>
                  <a:pt x="11648" y="3671"/>
                  <a:pt x="11641" y="3671"/>
                  <a:pt x="11648" y="3691"/>
                </a:cubicBezTo>
              </a:path>
              <a:path w="3592" h="954">
                <a:moveTo>
                  <a:pt x="12005" y="3671"/>
                </a:moveTo>
                <a:cubicBezTo>
                  <a:pt x="12005" y="3645"/>
                  <a:pt x="11998" y="3589"/>
                  <a:pt x="11986" y="3612"/>
                </a:cubicBezTo>
                <a:cubicBezTo>
                  <a:pt x="11967" y="3650"/>
                  <a:pt x="11995" y="3701"/>
                  <a:pt x="12005" y="3731"/>
                </a:cubicBezTo>
                <a:cubicBezTo>
                  <a:pt x="12014" y="3759"/>
                  <a:pt x="12040" y="3780"/>
                  <a:pt x="12045" y="3790"/>
                </a:cubicBezTo>
                <a:cubicBezTo>
                  <a:pt x="12059" y="3818"/>
                  <a:pt x="12061" y="3812"/>
                  <a:pt x="12085" y="3830"/>
                </a:cubicBezTo>
                <a:cubicBezTo>
                  <a:pt x="12123" y="3858"/>
                  <a:pt x="12155" y="3850"/>
                  <a:pt x="12204" y="3850"/>
                </a:cubicBezTo>
                <a:cubicBezTo>
                  <a:pt x="12244" y="3850"/>
                  <a:pt x="12283" y="3850"/>
                  <a:pt x="12323" y="3850"/>
                </a:cubicBezTo>
                <a:cubicBezTo>
                  <a:pt x="12323" y="3771"/>
                  <a:pt x="12326" y="3698"/>
                  <a:pt x="12303" y="3631"/>
                </a:cubicBezTo>
                <a:cubicBezTo>
                  <a:pt x="12292" y="3597"/>
                  <a:pt x="12303" y="3581"/>
                  <a:pt x="12303" y="3631"/>
                </a:cubicBezTo>
                <a:cubicBezTo>
                  <a:pt x="12303" y="3668"/>
                  <a:pt x="12319" y="3678"/>
                  <a:pt x="12323" y="3711"/>
                </a:cubicBezTo>
                <a:cubicBezTo>
                  <a:pt x="12326" y="3737"/>
                  <a:pt x="12322" y="3754"/>
                  <a:pt x="12343" y="3770"/>
                </a:cubicBezTo>
                <a:cubicBezTo>
                  <a:pt x="12352" y="3777"/>
                  <a:pt x="12396" y="3789"/>
                  <a:pt x="12402" y="3790"/>
                </a:cubicBezTo>
                <a:cubicBezTo>
                  <a:pt x="12443" y="3795"/>
                  <a:pt x="12557" y="3805"/>
                  <a:pt x="12561" y="3770"/>
                </a:cubicBezTo>
                <a:cubicBezTo>
                  <a:pt x="12561" y="3763"/>
                  <a:pt x="12561" y="3757"/>
                  <a:pt x="12561" y="3750"/>
                </a:cubicBezTo>
              </a:path>
              <a:path w="3592" h="954">
                <a:moveTo>
                  <a:pt x="12541" y="3612"/>
                </a:moveTo>
                <a:cubicBezTo>
                  <a:pt x="12541" y="3644"/>
                  <a:pt x="12547" y="3665"/>
                  <a:pt x="12561" y="3691"/>
                </a:cubicBezTo>
                <a:cubicBezTo>
                  <a:pt x="12576" y="3719"/>
                  <a:pt x="12614" y="3739"/>
                  <a:pt x="12621" y="3770"/>
                </a:cubicBezTo>
                <a:cubicBezTo>
                  <a:pt x="12626" y="3791"/>
                  <a:pt x="12621" y="3931"/>
                  <a:pt x="12621" y="3889"/>
                </a:cubicBezTo>
                <a:cubicBezTo>
                  <a:pt x="12621" y="3808"/>
                  <a:pt x="12615" y="3703"/>
                  <a:pt x="12640" y="3651"/>
                </a:cubicBezTo>
                <a:cubicBezTo>
                  <a:pt x="12652" y="3627"/>
                  <a:pt x="12688" y="3631"/>
                  <a:pt x="12700" y="3612"/>
                </a:cubicBezTo>
                <a:cubicBezTo>
                  <a:pt x="12717" y="3587"/>
                  <a:pt x="12719" y="3592"/>
                  <a:pt x="12760" y="3592"/>
                </a:cubicBezTo>
                <a:cubicBezTo>
                  <a:pt x="12780" y="3592"/>
                  <a:pt x="12799" y="3592"/>
                  <a:pt x="12819" y="3592"/>
                </a:cubicBezTo>
              </a:path>
              <a:path w="3592" h="954">
                <a:moveTo>
                  <a:pt x="13355" y="3552"/>
                </a:moveTo>
                <a:cubicBezTo>
                  <a:pt x="13336" y="3527"/>
                  <a:pt x="13331" y="3496"/>
                  <a:pt x="13315" y="3473"/>
                </a:cubicBezTo>
                <a:cubicBezTo>
                  <a:pt x="13296" y="3444"/>
                  <a:pt x="13300" y="3441"/>
                  <a:pt x="13275" y="3433"/>
                </a:cubicBezTo>
                <a:cubicBezTo>
                  <a:pt x="13258" y="3463"/>
                  <a:pt x="13240" y="3498"/>
                  <a:pt x="13236" y="3532"/>
                </a:cubicBezTo>
                <a:cubicBezTo>
                  <a:pt x="13220" y="3680"/>
                  <a:pt x="13236" y="3840"/>
                  <a:pt x="13236" y="3989"/>
                </a:cubicBezTo>
                <a:cubicBezTo>
                  <a:pt x="13284" y="3989"/>
                  <a:pt x="13316" y="4000"/>
                  <a:pt x="13355" y="4008"/>
                </a:cubicBezTo>
                <a:cubicBezTo>
                  <a:pt x="13421" y="4021"/>
                  <a:pt x="13505" y="4008"/>
                  <a:pt x="13573" y="4008"/>
                </a:cubicBezTo>
              </a:path>
              <a:path w="3592" h="954">
                <a:moveTo>
                  <a:pt x="13752" y="3750"/>
                </a:moveTo>
                <a:cubicBezTo>
                  <a:pt x="13752" y="3796"/>
                  <a:pt x="13752" y="3951"/>
                  <a:pt x="13752" y="3929"/>
                </a:cubicBezTo>
                <a:cubicBezTo>
                  <a:pt x="13752" y="3909"/>
                  <a:pt x="13752" y="3902"/>
                  <a:pt x="13752" y="3889"/>
                </a:cubicBezTo>
              </a:path>
              <a:path w="3592" h="954">
                <a:moveTo>
                  <a:pt x="13732" y="3572"/>
                </a:moveTo>
                <a:cubicBezTo>
                  <a:pt x="13761" y="3594"/>
                  <a:pt x="13763" y="3585"/>
                  <a:pt x="13772" y="3612"/>
                </a:cubicBezTo>
              </a:path>
              <a:path w="3592" h="954">
                <a:moveTo>
                  <a:pt x="14010" y="3175"/>
                </a:moveTo>
                <a:cubicBezTo>
                  <a:pt x="13990" y="3175"/>
                  <a:pt x="13983" y="3175"/>
                  <a:pt x="13970" y="3175"/>
                </a:cubicBezTo>
                <a:cubicBezTo>
                  <a:pt x="13959" y="3207"/>
                  <a:pt x="13961" y="3183"/>
                  <a:pt x="13950" y="3215"/>
                </a:cubicBezTo>
                <a:cubicBezTo>
                  <a:pt x="13907" y="3229"/>
                  <a:pt x="13949" y="3240"/>
                  <a:pt x="13930" y="3274"/>
                </a:cubicBezTo>
                <a:cubicBezTo>
                  <a:pt x="13909" y="3311"/>
                  <a:pt x="13910" y="3325"/>
                  <a:pt x="13910" y="3373"/>
                </a:cubicBezTo>
                <a:cubicBezTo>
                  <a:pt x="13910" y="3431"/>
                  <a:pt x="13904" y="3484"/>
                  <a:pt x="13930" y="3532"/>
                </a:cubicBezTo>
                <a:cubicBezTo>
                  <a:pt x="13938" y="3547"/>
                  <a:pt x="13959" y="3624"/>
                  <a:pt x="13970" y="3631"/>
                </a:cubicBezTo>
                <a:cubicBezTo>
                  <a:pt x="13977" y="3631"/>
                  <a:pt x="13983" y="3631"/>
                  <a:pt x="13990" y="3631"/>
                </a:cubicBezTo>
                <a:cubicBezTo>
                  <a:pt x="13990" y="3684"/>
                  <a:pt x="13996" y="3690"/>
                  <a:pt x="14010" y="3731"/>
                </a:cubicBezTo>
                <a:cubicBezTo>
                  <a:pt x="14017" y="3752"/>
                  <a:pt x="14010" y="3788"/>
                  <a:pt x="14010" y="3810"/>
                </a:cubicBezTo>
                <a:cubicBezTo>
                  <a:pt x="14020" y="3816"/>
                  <a:pt x="14058" y="3848"/>
                  <a:pt x="14069" y="3870"/>
                </a:cubicBezTo>
                <a:cubicBezTo>
                  <a:pt x="14096" y="3924"/>
                  <a:pt x="14069" y="4066"/>
                  <a:pt x="14069" y="4128"/>
                </a:cubicBezTo>
                <a:cubicBezTo>
                  <a:pt x="14038" y="4128"/>
                  <a:pt x="14014" y="4140"/>
                  <a:pt x="14010" y="4108"/>
                </a:cubicBezTo>
                <a:cubicBezTo>
                  <a:pt x="14010" y="4101"/>
                  <a:pt x="14010" y="4095"/>
                  <a:pt x="14010" y="4088"/>
                </a:cubicBezTo>
                <a:cubicBezTo>
                  <a:pt x="13986" y="4080"/>
                  <a:pt x="13976" y="4054"/>
                  <a:pt x="13950" y="4028"/>
                </a:cubicBezTo>
              </a:path>
              <a:path w="3592" h="954">
                <a:moveTo>
                  <a:pt x="13950" y="3870"/>
                </a:moveTo>
                <a:cubicBezTo>
                  <a:pt x="14016" y="3870"/>
                  <a:pt x="14118" y="3889"/>
                  <a:pt x="14168" y="3850"/>
                </a:cubicBezTo>
              </a:path>
              <a:path w="3592" h="954">
                <a:moveTo>
                  <a:pt x="14367" y="3830"/>
                </a:moveTo>
                <a:cubicBezTo>
                  <a:pt x="14396" y="3830"/>
                  <a:pt x="14425" y="3824"/>
                  <a:pt x="14446" y="3810"/>
                </a:cubicBezTo>
                <a:cubicBezTo>
                  <a:pt x="14481" y="3787"/>
                  <a:pt x="14486" y="3793"/>
                  <a:pt x="14486" y="3750"/>
                </a:cubicBezTo>
                <a:cubicBezTo>
                  <a:pt x="14486" y="3710"/>
                  <a:pt x="14477" y="3703"/>
                  <a:pt x="14466" y="3671"/>
                </a:cubicBezTo>
                <a:cubicBezTo>
                  <a:pt x="14462" y="3658"/>
                  <a:pt x="14448" y="3623"/>
                  <a:pt x="14426" y="3612"/>
                </a:cubicBezTo>
                <a:cubicBezTo>
                  <a:pt x="14400" y="3599"/>
                  <a:pt x="14416" y="3602"/>
                  <a:pt x="14387" y="3592"/>
                </a:cubicBezTo>
                <a:cubicBezTo>
                  <a:pt x="14360" y="3613"/>
                  <a:pt x="14330" y="3612"/>
                  <a:pt x="14327" y="3651"/>
                </a:cubicBezTo>
                <a:cubicBezTo>
                  <a:pt x="14324" y="3694"/>
                  <a:pt x="14319" y="3738"/>
                  <a:pt x="14347" y="3770"/>
                </a:cubicBezTo>
                <a:cubicBezTo>
                  <a:pt x="14367" y="3793"/>
                  <a:pt x="14384" y="3809"/>
                  <a:pt x="14387" y="3830"/>
                </a:cubicBezTo>
                <a:cubicBezTo>
                  <a:pt x="14390" y="3851"/>
                  <a:pt x="14405" y="3867"/>
                  <a:pt x="14426" y="3870"/>
                </a:cubicBezTo>
                <a:cubicBezTo>
                  <a:pt x="14473" y="3876"/>
                  <a:pt x="14614" y="3884"/>
                  <a:pt x="14625" y="3850"/>
                </a:cubicBezTo>
              </a:path>
              <a:path w="3592" h="954">
                <a:moveTo>
                  <a:pt x="14903" y="3492"/>
                </a:moveTo>
                <a:cubicBezTo>
                  <a:pt x="14890" y="3509"/>
                  <a:pt x="14871" y="3548"/>
                  <a:pt x="14863" y="3552"/>
                </a:cubicBezTo>
                <a:cubicBezTo>
                  <a:pt x="14835" y="3566"/>
                  <a:pt x="14843" y="3573"/>
                  <a:pt x="14843" y="3612"/>
                </a:cubicBezTo>
                <a:cubicBezTo>
                  <a:pt x="14843" y="3643"/>
                  <a:pt x="14875" y="3634"/>
                  <a:pt x="14883" y="3651"/>
                </a:cubicBezTo>
                <a:cubicBezTo>
                  <a:pt x="14892" y="3669"/>
                  <a:pt x="14921" y="3688"/>
                  <a:pt x="14942" y="3691"/>
                </a:cubicBezTo>
                <a:cubicBezTo>
                  <a:pt x="14967" y="3694"/>
                  <a:pt x="14994" y="3695"/>
                  <a:pt x="15002" y="3711"/>
                </a:cubicBezTo>
                <a:cubicBezTo>
                  <a:pt x="15002" y="3734"/>
                  <a:pt x="15004" y="3742"/>
                  <a:pt x="15022" y="3750"/>
                </a:cubicBezTo>
                <a:cubicBezTo>
                  <a:pt x="15012" y="3780"/>
                  <a:pt x="15004" y="3773"/>
                  <a:pt x="14982" y="3790"/>
                </a:cubicBezTo>
                <a:cubicBezTo>
                  <a:pt x="14970" y="3799"/>
                  <a:pt x="14905" y="3846"/>
                  <a:pt x="14903" y="3850"/>
                </a:cubicBezTo>
                <a:cubicBezTo>
                  <a:pt x="14890" y="3870"/>
                  <a:pt x="14880" y="3885"/>
                  <a:pt x="14843" y="3889"/>
                </a:cubicBezTo>
                <a:cubicBezTo>
                  <a:pt x="14812" y="3892"/>
                  <a:pt x="14768" y="3900"/>
                  <a:pt x="14764" y="3870"/>
                </a:cubicBezTo>
                <a:cubicBezTo>
                  <a:pt x="14764" y="3850"/>
                  <a:pt x="14764" y="3843"/>
                  <a:pt x="14764" y="3830"/>
                </a:cubicBezTo>
              </a:path>
              <a:path w="3592" h="954">
                <a:moveTo>
                  <a:pt x="15042" y="3433"/>
                </a:moveTo>
                <a:cubicBezTo>
                  <a:pt x="15063" y="3440"/>
                  <a:pt x="15078" y="3448"/>
                  <a:pt x="15081" y="3473"/>
                </a:cubicBezTo>
                <a:cubicBezTo>
                  <a:pt x="15089" y="3535"/>
                  <a:pt x="15071" y="3556"/>
                  <a:pt x="15042" y="3612"/>
                </a:cubicBezTo>
                <a:cubicBezTo>
                  <a:pt x="15018" y="3659"/>
                  <a:pt x="15003" y="3678"/>
                  <a:pt x="14962" y="3691"/>
                </a:cubicBezTo>
              </a:path>
            </a:pathLst>
          </a:custGeom>
          <a:noFill/>
          <a:ln cap="rnd" w="190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11"/>
          <p:cNvSpPr/>
          <p:nvPr/>
        </p:nvSpPr>
        <p:spPr>
          <a:xfrm>
            <a:off x="7029360" y="5554800"/>
            <a:ext cx="1428840" cy="379440"/>
          </a:xfrm>
          <a:custGeom>
            <a:avLst/>
            <a:gdLst/>
            <a:ahLst/>
            <a:rect l="l" t="t" r="r" b="b"/>
            <a:pathLst>
              <a:path w="3969" h="1053">
                <a:moveTo>
                  <a:pt x="15677" y="3731"/>
                </a:moveTo>
                <a:cubicBezTo>
                  <a:pt x="15690" y="3770"/>
                  <a:pt x="15694" y="3813"/>
                  <a:pt x="15716" y="3850"/>
                </a:cubicBezTo>
                <a:cubicBezTo>
                  <a:pt x="15749" y="3906"/>
                  <a:pt x="15794" y="3990"/>
                  <a:pt x="15815" y="4048"/>
                </a:cubicBezTo>
                <a:cubicBezTo>
                  <a:pt x="15831" y="4093"/>
                  <a:pt x="15851" y="4141"/>
                  <a:pt x="15875" y="4167"/>
                </a:cubicBezTo>
                <a:cubicBezTo>
                  <a:pt x="15895" y="4167"/>
                  <a:pt x="15902" y="4167"/>
                  <a:pt x="15895" y="4187"/>
                </a:cubicBezTo>
                <a:cubicBezTo>
                  <a:pt x="15921" y="4171"/>
                  <a:pt x="15951" y="4159"/>
                  <a:pt x="15974" y="4128"/>
                </a:cubicBezTo>
                <a:cubicBezTo>
                  <a:pt x="16007" y="4084"/>
                  <a:pt x="16016" y="4053"/>
                  <a:pt x="16034" y="4008"/>
                </a:cubicBezTo>
                <a:cubicBezTo>
                  <a:pt x="16036" y="4003"/>
                  <a:pt x="16045" y="3953"/>
                  <a:pt x="16054" y="3929"/>
                </a:cubicBezTo>
                <a:cubicBezTo>
                  <a:pt x="16056" y="3924"/>
                  <a:pt x="16087" y="3895"/>
                  <a:pt x="16093" y="3889"/>
                </a:cubicBezTo>
                <a:cubicBezTo>
                  <a:pt x="16125" y="3932"/>
                  <a:pt x="16154" y="3968"/>
                  <a:pt x="16192" y="4008"/>
                </a:cubicBezTo>
                <a:cubicBezTo>
                  <a:pt x="16224" y="4042"/>
                  <a:pt x="16298" y="4117"/>
                  <a:pt x="16351" y="4128"/>
                </a:cubicBezTo>
                <a:cubicBezTo>
                  <a:pt x="16422" y="4143"/>
                  <a:pt x="16476" y="4149"/>
                  <a:pt x="16550" y="4167"/>
                </a:cubicBezTo>
                <a:cubicBezTo>
                  <a:pt x="16608" y="4181"/>
                  <a:pt x="16691" y="4201"/>
                  <a:pt x="16748" y="4167"/>
                </a:cubicBezTo>
                <a:cubicBezTo>
                  <a:pt x="16781" y="4147"/>
                  <a:pt x="16854" y="4061"/>
                  <a:pt x="16867" y="4028"/>
                </a:cubicBezTo>
                <a:cubicBezTo>
                  <a:pt x="16897" y="3950"/>
                  <a:pt x="16862" y="3785"/>
                  <a:pt x="16847" y="3711"/>
                </a:cubicBezTo>
                <a:cubicBezTo>
                  <a:pt x="16827" y="3612"/>
                  <a:pt x="16828" y="3537"/>
                  <a:pt x="16768" y="3453"/>
                </a:cubicBezTo>
                <a:cubicBezTo>
                  <a:pt x="16754" y="3434"/>
                  <a:pt x="16755" y="3404"/>
                  <a:pt x="16748" y="3433"/>
                </a:cubicBezTo>
                <a:cubicBezTo>
                  <a:pt x="16748" y="3440"/>
                  <a:pt x="16748" y="3446"/>
                  <a:pt x="16748" y="3453"/>
                </a:cubicBezTo>
              </a:path>
              <a:path w="3969" h="1053">
                <a:moveTo>
                  <a:pt x="17502" y="3770"/>
                </a:moveTo>
                <a:cubicBezTo>
                  <a:pt x="17458" y="3735"/>
                  <a:pt x="17438" y="3731"/>
                  <a:pt x="17383" y="3731"/>
                </a:cubicBezTo>
                <a:cubicBezTo>
                  <a:pt x="17330" y="3731"/>
                  <a:pt x="17277" y="3731"/>
                  <a:pt x="17224" y="3731"/>
                </a:cubicBezTo>
                <a:cubicBezTo>
                  <a:pt x="17224" y="3804"/>
                  <a:pt x="17222" y="3885"/>
                  <a:pt x="17244" y="3929"/>
                </a:cubicBezTo>
                <a:cubicBezTo>
                  <a:pt x="17262" y="3966"/>
                  <a:pt x="17271" y="3968"/>
                  <a:pt x="17304" y="3989"/>
                </a:cubicBezTo>
                <a:cubicBezTo>
                  <a:pt x="17337" y="4010"/>
                  <a:pt x="17321" y="4034"/>
                  <a:pt x="17363" y="4048"/>
                </a:cubicBezTo>
                <a:cubicBezTo>
                  <a:pt x="17433" y="4071"/>
                  <a:pt x="17562" y="4048"/>
                  <a:pt x="17621" y="4028"/>
                </a:cubicBezTo>
                <a:cubicBezTo>
                  <a:pt x="17647" y="4019"/>
                  <a:pt x="17671" y="3994"/>
                  <a:pt x="17681" y="3989"/>
                </a:cubicBezTo>
                <a:cubicBezTo>
                  <a:pt x="17709" y="3976"/>
                  <a:pt x="17701" y="3967"/>
                  <a:pt x="17701" y="3929"/>
                </a:cubicBezTo>
                <a:cubicBezTo>
                  <a:pt x="17701" y="3916"/>
                  <a:pt x="17701" y="3902"/>
                  <a:pt x="17701" y="3889"/>
                </a:cubicBezTo>
                <a:cubicBezTo>
                  <a:pt x="17641" y="3869"/>
                  <a:pt x="17667" y="3847"/>
                  <a:pt x="17621" y="3790"/>
                </a:cubicBezTo>
                <a:cubicBezTo>
                  <a:pt x="17591" y="3753"/>
                  <a:pt x="17523" y="3728"/>
                  <a:pt x="17502" y="3691"/>
                </a:cubicBezTo>
                <a:cubicBezTo>
                  <a:pt x="17502" y="3684"/>
                  <a:pt x="17502" y="3678"/>
                  <a:pt x="17502" y="3671"/>
                </a:cubicBezTo>
              </a:path>
              <a:path w="3969" h="1053">
                <a:moveTo>
                  <a:pt x="17899" y="3731"/>
                </a:moveTo>
                <a:cubicBezTo>
                  <a:pt x="17899" y="3778"/>
                  <a:pt x="17911" y="3813"/>
                  <a:pt x="17919" y="3850"/>
                </a:cubicBezTo>
                <a:cubicBezTo>
                  <a:pt x="17933" y="3916"/>
                  <a:pt x="17918" y="3985"/>
                  <a:pt x="17939" y="4028"/>
                </a:cubicBezTo>
                <a:cubicBezTo>
                  <a:pt x="17942" y="4034"/>
                  <a:pt x="17939" y="4124"/>
                  <a:pt x="17939" y="4068"/>
                </a:cubicBezTo>
                <a:cubicBezTo>
                  <a:pt x="17939" y="3980"/>
                  <a:pt x="17934" y="3868"/>
                  <a:pt x="17959" y="3810"/>
                </a:cubicBezTo>
                <a:cubicBezTo>
                  <a:pt x="17976" y="3771"/>
                  <a:pt x="17985" y="3771"/>
                  <a:pt x="18018" y="3750"/>
                </a:cubicBezTo>
                <a:cubicBezTo>
                  <a:pt x="18057" y="3725"/>
                  <a:pt x="18087" y="3731"/>
                  <a:pt x="18137" y="3731"/>
                </a:cubicBezTo>
                <a:cubicBezTo>
                  <a:pt x="18182" y="3731"/>
                  <a:pt x="18212" y="3711"/>
                  <a:pt x="18256" y="3711"/>
                </a:cubicBezTo>
              </a:path>
              <a:path w="3969" h="1053">
                <a:moveTo>
                  <a:pt x="18534" y="3433"/>
                </a:moveTo>
                <a:cubicBezTo>
                  <a:pt x="18534" y="3379"/>
                  <a:pt x="18534" y="3500"/>
                  <a:pt x="18534" y="3512"/>
                </a:cubicBezTo>
                <a:cubicBezTo>
                  <a:pt x="18534" y="3744"/>
                  <a:pt x="18534" y="4399"/>
                  <a:pt x="18534" y="4167"/>
                </a:cubicBezTo>
                <a:cubicBezTo>
                  <a:pt x="18534" y="4160"/>
                  <a:pt x="18534" y="4154"/>
                  <a:pt x="18534" y="4147"/>
                </a:cubicBezTo>
              </a:path>
              <a:path w="3969" h="1053">
                <a:moveTo>
                  <a:pt x="18812" y="3651"/>
                </a:moveTo>
                <a:cubicBezTo>
                  <a:pt x="18776" y="3660"/>
                  <a:pt x="18753" y="3703"/>
                  <a:pt x="18732" y="3731"/>
                </a:cubicBezTo>
                <a:cubicBezTo>
                  <a:pt x="18706" y="3766"/>
                  <a:pt x="18666" y="3815"/>
                  <a:pt x="18653" y="3850"/>
                </a:cubicBezTo>
                <a:cubicBezTo>
                  <a:pt x="18636" y="3896"/>
                  <a:pt x="18611" y="3867"/>
                  <a:pt x="18594" y="3889"/>
                </a:cubicBezTo>
                <a:cubicBezTo>
                  <a:pt x="18563" y="3929"/>
                  <a:pt x="18589" y="3896"/>
                  <a:pt x="18633" y="3909"/>
                </a:cubicBezTo>
                <a:cubicBezTo>
                  <a:pt x="18725" y="3936"/>
                  <a:pt x="18814" y="3966"/>
                  <a:pt x="18911" y="3989"/>
                </a:cubicBezTo>
                <a:cubicBezTo>
                  <a:pt x="19003" y="4010"/>
                  <a:pt x="19100" y="4041"/>
                  <a:pt x="19189" y="4068"/>
                </a:cubicBezTo>
                <a:cubicBezTo>
                  <a:pt x="19225" y="4079"/>
                  <a:pt x="19251" y="4101"/>
                  <a:pt x="19288" y="4108"/>
                </a:cubicBezTo>
              </a:path>
              <a:path w="3969" h="1053">
                <a:moveTo>
                  <a:pt x="19506" y="4008"/>
                </a:moveTo>
                <a:cubicBezTo>
                  <a:pt x="19524" y="3991"/>
                  <a:pt x="19515" y="3976"/>
                  <a:pt x="19546" y="3969"/>
                </a:cubicBezTo>
                <a:cubicBezTo>
                  <a:pt x="19576" y="3963"/>
                  <a:pt x="19613" y="3969"/>
                  <a:pt x="19645" y="3969"/>
                </a:cubicBezTo>
                <a:cubicBezTo>
                  <a:pt x="19645" y="4029"/>
                  <a:pt x="19651" y="4079"/>
                  <a:pt x="19625" y="4128"/>
                </a:cubicBezTo>
                <a:cubicBezTo>
                  <a:pt x="19612" y="4153"/>
                  <a:pt x="19609" y="4205"/>
                  <a:pt x="19586" y="4227"/>
                </a:cubicBezTo>
                <a:cubicBezTo>
                  <a:pt x="19541" y="4269"/>
                  <a:pt x="19512" y="4326"/>
                  <a:pt x="19447" y="4366"/>
                </a:cubicBezTo>
                <a:cubicBezTo>
                  <a:pt x="19262" y="4480"/>
                  <a:pt x="18939" y="4448"/>
                  <a:pt x="18732" y="4465"/>
                </a:cubicBezTo>
              </a:path>
            </a:pathLst>
          </a:custGeom>
          <a:noFill/>
          <a:ln cap="rnd" w="190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68360" y="1916280"/>
          <a:ext cx="8064360" cy="381132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les of Trauma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4f0fc"/>
                    </a:solidFill>
                  </a:tcPr>
                </a:tc>
              </a:tr>
              <a:tr h="32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zed team approac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or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 of the most serious inju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before diagnosi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orough examin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t reassess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itor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161"/>
          <p:cNvSpPr/>
          <p:nvPr/>
        </p:nvSpPr>
        <p:spPr>
          <a:xfrm>
            <a:off x="180000" y="10515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2"/>
          <p:cNvSpPr/>
          <p:nvPr/>
        </p:nvSpPr>
        <p:spPr>
          <a:xfrm>
            <a:off x="611280" y="5732640"/>
            <a:ext cx="758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 well-planned, organized approach to such patients provides optimal mana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4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65"/>
          <p:cNvSpPr txBox="1"/>
          <p:nvPr/>
        </p:nvSpPr>
        <p:spPr>
          <a:xfrm rot="5400000">
            <a:off x="7414920" y="1628640"/>
            <a:ext cx="1800360" cy="165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250920" y="2518920"/>
            <a:ext cx="88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uma Team Leader (TT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33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s and controls the resuscitation and provides the leadershi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33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33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be a senior member of the team with previous experience in trauma ca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274120" y="198828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0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99760" y="233208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uma Management Outcomes Associated With Nonsurgeon Versus Surgeon Trauma Team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nnifer M. Ahmed From the Faculty of Medicine, Dalhousie U. Ca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 the effectiveness of surgeon and nonsurgeon trauma team 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thod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trospective study was conducted using data from a Canadian trauma registry datab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clusion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differences were found in the outcome of trauma patients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[Ann Emerg Med. 2007;50:7-12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552040" y="78516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20" y="9277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10"/>
          <p:cNvSpPr txBox="1"/>
          <p:nvPr/>
        </p:nvSpPr>
        <p:spPr>
          <a:xfrm rot="5400000">
            <a:off x="-178920" y="178200"/>
            <a:ext cx="857160" cy="500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31400" y="1643040"/>
            <a:ext cx="52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 Team Leader (TT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88960" y="1988640"/>
            <a:ext cx="76550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Main Responsibilitie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ing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ing needed procedures and diagnostic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ing fluid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the patient's progr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s 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ing therapeutic and the transportation deci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pecialty consultations and coordinates thei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880" y="2060640"/>
            <a:ext cx="1505160" cy="18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u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T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345760" y="134064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11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3456000"/>
            <a:ext cx="8229600" cy="34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ff33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s the overall responsibility for patients during their stay in the emergency depart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ff33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ould not be so involved with procedu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6120" y="3068640"/>
            <a:ext cx="47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uma Team Leader (TT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2274120" y="198828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14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468360" y="4581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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kely to reduce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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kely to expedite a life/limb saving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-1080" y="3573360"/>
            <a:ext cx="83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is the point of Trauma Code Activatio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345760" y="134064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9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WordArt 10"/>
          <p:cNvSpPr txBox="1"/>
          <p:nvPr/>
        </p:nvSpPr>
        <p:spPr>
          <a:xfrm>
            <a:off x="250920" y="2565360"/>
            <a:ext cx="43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noFill/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uma Code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noFill/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WordArt 11"/>
          <p:cNvSpPr txBox="1"/>
          <p:nvPr/>
        </p:nvSpPr>
        <p:spPr>
          <a:xfrm rot="5400000">
            <a:off x="5391360" y="310608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2345760" y="134064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250920" y="2565360"/>
            <a:ext cx="43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noFill/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uma Code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noFill/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WordArt 9"/>
          <p:cNvSpPr txBox="1"/>
          <p:nvPr/>
        </p:nvSpPr>
        <p:spPr>
          <a:xfrm rot="5400000">
            <a:off x="5391360" y="310608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95280" y="4365720"/>
            <a:ext cx="712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 Activation Protocol contain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determined guideli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an interdisciplinary team approach to the initial care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121760" y="83592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5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WordArt 6"/>
          <p:cNvSpPr txBox="1"/>
          <p:nvPr/>
        </p:nvSpPr>
        <p:spPr>
          <a:xfrm>
            <a:off x="2411280" y="1413000"/>
            <a:ext cx="43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noFill/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uma Code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noFill/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WordArt 7"/>
          <p:cNvSpPr txBox="1"/>
          <p:nvPr/>
        </p:nvSpPr>
        <p:spPr>
          <a:xfrm rot="5400000">
            <a:off x="5391360" y="310608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179280" y="3114720"/>
            <a:ext cx="8713800" cy="38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ide clearly delineated roles and responsibilities for members of the Trauma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tablish and utilize Advanced Trauma Life Support principles as the standard of care for the trauma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sure rapid, efficient, systematic evaluation and treatment of the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1800" y="234936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mary objectiv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121760" y="83592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5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2411280" y="1413000"/>
            <a:ext cx="43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noFill/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uma Code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noFill/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9" name="WordArt 7"/>
          <p:cNvSpPr txBox="1"/>
          <p:nvPr/>
        </p:nvSpPr>
        <p:spPr>
          <a:xfrm rot="5400000">
            <a:off x="5391360" y="310608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611280" y="2637000"/>
            <a:ext cx="7488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hould be initiated by the ED Consultant upon a report of a pending arrival or upon arrival of the trauma patient meeting the COD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upgrade or downgraded at any time as the patient’s condition dic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3600" y="234936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121760" y="83592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5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2411280" y="1413000"/>
            <a:ext cx="43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noFill/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uma Code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noFill/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WordArt 7"/>
          <p:cNvSpPr txBox="1"/>
          <p:nvPr/>
        </p:nvSpPr>
        <p:spPr>
          <a:xfrm rot="5400000">
            <a:off x="5391360" y="310608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680" y="2205000"/>
            <a:ext cx="37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ure: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1908000" y="2745360"/>
            <a:ext cx="62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am Leade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aestheti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eneral Surg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d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mergency Phys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ritical Care Physicia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Nurses. (Three if no RT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diographe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rib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270792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se patients benefit from skillful resuscitation; they are healthy, young individuals who, if salvaged, have a normal life expectanc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8720" y="14130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1121760" y="83592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5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6"/>
          <p:cNvSpPr txBox="1"/>
          <p:nvPr/>
        </p:nvSpPr>
        <p:spPr>
          <a:xfrm>
            <a:off x="2411280" y="1413000"/>
            <a:ext cx="43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noFill/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uma Code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noFill/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WordArt 7"/>
          <p:cNvSpPr txBox="1"/>
          <p:nvPr/>
        </p:nvSpPr>
        <p:spPr>
          <a:xfrm rot="5400000">
            <a:off x="5391360" y="310608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3600" y="278136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324000" y="3282480"/>
            <a:ext cx="395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T Scanner &amp; Theatr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110880" y="3789360"/>
            <a:ext cx="78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ain areas need early notification of the trauma vict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21760" y="83592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2411280" y="1413000"/>
            <a:ext cx="43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noFill/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uma Code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noFill/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WordArt 7"/>
          <p:cNvSpPr txBox="1"/>
          <p:nvPr/>
        </p:nvSpPr>
        <p:spPr>
          <a:xfrm rot="5400000">
            <a:off x="5391360" y="310608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3600" y="213372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792000" y="384228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uld immediately start with the trauma series of X-rays, in the order Cervical Spine, Chest and Pelvis, unless directed otherwise by the team leade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uld also act as liaison to the CT scanning departmen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55960" y="299736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gra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121760" y="83592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5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WordArt 6"/>
          <p:cNvSpPr txBox="1"/>
          <p:nvPr/>
        </p:nvSpPr>
        <p:spPr>
          <a:xfrm>
            <a:off x="2411280" y="1413000"/>
            <a:ext cx="43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noFill/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uma Code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noFill/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3" name="WordArt 7"/>
          <p:cNvSpPr txBox="1"/>
          <p:nvPr/>
        </p:nvSpPr>
        <p:spPr>
          <a:xfrm rot="5400000">
            <a:off x="5391360" y="310608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3600" y="278136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50920" y="4365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scribe is responsible for the ful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cord of the trauma cal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181080" y="35002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Oval 4"/>
          <p:cNvSpPr/>
          <p:nvPr/>
        </p:nvSpPr>
        <p:spPr>
          <a:xfrm>
            <a:off x="3492360" y="1197000"/>
            <a:ext cx="79236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132000" y="1916280"/>
            <a:ext cx="151308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203640" y="3645000"/>
            <a:ext cx="216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4284720" y="3645000"/>
            <a:ext cx="216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 rot="18737400">
            <a:off x="4974120" y="1802520"/>
            <a:ext cx="179280" cy="14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 rot="3048000">
            <a:off x="2592360" y="1808280"/>
            <a:ext cx="216000" cy="14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7"/>
          <p:cNvSpPr/>
          <p:nvPr/>
        </p:nvSpPr>
        <p:spPr>
          <a:xfrm>
            <a:off x="3419640" y="6237360"/>
            <a:ext cx="576000" cy="40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8"/>
          <p:cNvSpPr/>
          <p:nvPr/>
        </p:nvSpPr>
        <p:spPr>
          <a:xfrm>
            <a:off x="2411280" y="5950080"/>
            <a:ext cx="576360" cy="40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9"/>
          <p:cNvSpPr/>
          <p:nvPr/>
        </p:nvSpPr>
        <p:spPr>
          <a:xfrm>
            <a:off x="4932360" y="1844640"/>
            <a:ext cx="576360" cy="40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0"/>
          <p:cNvSpPr/>
          <p:nvPr/>
        </p:nvSpPr>
        <p:spPr>
          <a:xfrm>
            <a:off x="2124000" y="3357720"/>
            <a:ext cx="576360" cy="40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1"/>
          <p:cNvSpPr/>
          <p:nvPr/>
        </p:nvSpPr>
        <p:spPr>
          <a:xfrm>
            <a:off x="1619280" y="2133720"/>
            <a:ext cx="576360" cy="40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2"/>
          <p:cNvSpPr/>
          <p:nvPr/>
        </p:nvSpPr>
        <p:spPr>
          <a:xfrm>
            <a:off x="2627280" y="907920"/>
            <a:ext cx="576360" cy="40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3"/>
          <p:cNvSpPr/>
          <p:nvPr/>
        </p:nvSpPr>
        <p:spPr>
          <a:xfrm>
            <a:off x="5508720" y="3141720"/>
            <a:ext cx="576000" cy="40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4"/>
          <p:cNvSpPr/>
          <p:nvPr/>
        </p:nvSpPr>
        <p:spPr>
          <a:xfrm>
            <a:off x="3564000" y="476280"/>
            <a:ext cx="576360" cy="40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5"/>
          <p:cNvSpPr/>
          <p:nvPr/>
        </p:nvSpPr>
        <p:spPr>
          <a:xfrm>
            <a:off x="7236000" y="4653000"/>
            <a:ext cx="576000" cy="40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6"/>
          <p:cNvSpPr/>
          <p:nvPr/>
        </p:nvSpPr>
        <p:spPr>
          <a:xfrm>
            <a:off x="108000" y="6165720"/>
            <a:ext cx="576360" cy="40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 flipH="1">
            <a:off x="179280" y="5805360"/>
            <a:ext cx="8569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9"/>
          <p:cNvSpPr/>
          <p:nvPr/>
        </p:nvSpPr>
        <p:spPr>
          <a:xfrm>
            <a:off x="5724360" y="6093000"/>
            <a:ext cx="1079640" cy="40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Su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5796000" y="189000"/>
            <a:ext cx="12970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4788000" y="1052640"/>
            <a:ext cx="1152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6948360" y="1989000"/>
            <a:ext cx="144000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sh C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250920" y="549360"/>
            <a:ext cx="165708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ubation C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ifficult 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179280" y="3716280"/>
            <a:ext cx="125892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8"/>
          <p:cNvSpPr/>
          <p:nvPr/>
        </p:nvSpPr>
        <p:spPr>
          <a:xfrm>
            <a:off x="179280" y="189000"/>
            <a:ext cx="0" cy="561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9"/>
          <p:cNvSpPr/>
          <p:nvPr/>
        </p:nvSpPr>
        <p:spPr>
          <a:xfrm>
            <a:off x="8748720" y="189000"/>
            <a:ext cx="0" cy="561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0"/>
          <p:cNvSpPr/>
          <p:nvPr/>
        </p:nvSpPr>
        <p:spPr>
          <a:xfrm flipH="1">
            <a:off x="179280" y="189000"/>
            <a:ext cx="8569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ies in Management and Resuscit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7"/>
          <p:cNvSpPr/>
          <p:nvPr/>
        </p:nvSpPr>
        <p:spPr>
          <a:xfrm>
            <a:off x="2880" y="2923560"/>
            <a:ext cx="35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gh-Priority Are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643280" y="2276640"/>
          <a:ext cx="4500720" cy="182880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irway/breath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hock/external hemorrhag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Impending cerebral hernia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ervical sp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6" name="Rectangle 164"/>
          <p:cNvSpPr/>
          <p:nvPr/>
        </p:nvSpPr>
        <p:spPr>
          <a:xfrm>
            <a:off x="2880" y="5299920"/>
            <a:ext cx="34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w-Priority Are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43280" y="4578480"/>
          <a:ext cx="4500720" cy="228600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Neurologi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Abdomin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Cardia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Musculoskele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Soft tissue injur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8" name="Rectangle 210"/>
          <p:cNvSpPr/>
          <p:nvPr/>
        </p:nvSpPr>
        <p:spPr>
          <a:xfrm>
            <a:off x="720" y="14835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11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213"/>
          <p:cNvSpPr txBox="1"/>
          <p:nvPr/>
        </p:nvSpPr>
        <p:spPr>
          <a:xfrm rot="5400000">
            <a:off x="-275040" y="274320"/>
            <a:ext cx="1320840" cy="771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5400" spc="1" strike="noStrike">
              <a:ln w="1260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68360" y="2635920"/>
            <a:ext cx="839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L should give consideration to the worst possible injury and act accordingly until the diagnosis is confirmed or exclud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0"/>
          <p:cNvSpPr/>
          <p:nvPr/>
        </p:nvSpPr>
        <p:spPr>
          <a:xfrm>
            <a:off x="1117080" y="1052640"/>
            <a:ext cx="617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ption of the Most Serious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32"/>
          <p:cNvSpPr txBox="1"/>
          <p:nvPr/>
        </p:nvSpPr>
        <p:spPr>
          <a:xfrm rot="5400000">
            <a:off x="-202680" y="202320"/>
            <a:ext cx="1176480" cy="771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Rectangle 34"/>
          <p:cNvSpPr/>
          <p:nvPr/>
        </p:nvSpPr>
        <p:spPr>
          <a:xfrm>
            <a:off x="720" y="14835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rgency of the situation in trauma cases often demands treatment based on an initial brief assessment without substantiation by radiographic or laboratory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720" y="14835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2050200" y="90792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before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11"/>
          <p:cNvSpPr txBox="1"/>
          <p:nvPr/>
        </p:nvSpPr>
        <p:spPr>
          <a:xfrm rot="5400000">
            <a:off x="-77400" y="76680"/>
            <a:ext cx="1197000" cy="1042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sence of one injury is no guarantee that a second or third injury does not ex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missed injuries occur in severely injured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720" y="14835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2340360" y="1052640"/>
            <a:ext cx="426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rough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10"/>
          <p:cNvSpPr txBox="1"/>
          <p:nvPr/>
        </p:nvSpPr>
        <p:spPr>
          <a:xfrm rot="5400000">
            <a:off x="-278280" y="277560"/>
            <a:ext cx="1327320" cy="771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66ff33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5400" spc="1" strike="noStrike">
              <a:ln w="12600">
                <a:solidFill>
                  <a:srgbClr val="ffff00"/>
                </a:solidFill>
                <a:miter/>
              </a:ln>
              <a:solidFill>
                <a:srgbClr val="66ff33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24000" y="1916280"/>
            <a:ext cx="851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tient's status is dynam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xicated pat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ampl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layed presentation like duodenal injuries and lung cont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t examinations can help detect early changes in the physical findings and thus lead to prompt corrective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20" y="14835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2340000" y="981000"/>
            <a:ext cx="469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t Re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2"/>
          <p:cNvSpPr txBox="1"/>
          <p:nvPr/>
        </p:nvSpPr>
        <p:spPr>
          <a:xfrm rot="5400000">
            <a:off x="-185040" y="184680"/>
            <a:ext cx="1341360" cy="97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/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pulse oxime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-tidal carbon dioxide (CO2) monitoring when applic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ise knowledge of the type and amount of fluid the patient has received is needed in determining subsequent fluid ord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ain laboratory tests should also be obtained serial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720" y="14835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979640" y="1484280"/>
            <a:ext cx="4697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11"/>
          <p:cNvSpPr txBox="1"/>
          <p:nvPr/>
        </p:nvSpPr>
        <p:spPr>
          <a:xfrm rot="5400000">
            <a:off x="-213120" y="212400"/>
            <a:ext cx="1197000" cy="771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isease of the y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ading cause of death in those 1 to 37 years o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ity of trauma deaths occur 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reaching the hospital or within 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rs of arriv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68720" y="14130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0" y="164304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scular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oice of Resuscitation Flu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 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nsfus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y crossmatched blood may take 30 to 45 minutes to obt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-specific blood is a safe alternative and is usually ready in 5 to 15 minu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7"/>
          <p:cNvSpPr txBox="1"/>
          <p:nvPr/>
        </p:nvSpPr>
        <p:spPr>
          <a:xfrm rot="5400000">
            <a:off x="6644160" y="1716840"/>
            <a:ext cx="2639880" cy="1311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ff00"/>
                  </a:solidFill>
                  <a:prstDash val="sysDot"/>
                  <a:miter/>
                </a:ln>
                <a:solidFill>
                  <a:srgbClr val="66ff33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6600" spc="1" strike="noStrike">
              <a:ln w="12600">
                <a:solidFill>
                  <a:srgbClr val="00ff00"/>
                </a:solidFill>
                <a:prstDash val="sysDot"/>
                <a:miter/>
              </a:ln>
              <a:solidFill>
                <a:srgbClr val="66ff33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720" y="8355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228600" y="438660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n-CA" sz="2400" spc="-1" strike="noStrike">
                <a:solidFill>
                  <a:srgbClr val="ffffcc"/>
                </a:solidFill>
                <a:latin typeface="Times New Roman"/>
              </a:rPr>
              <a:t>The overall goal of all resuscitation procedures is to improve oxygenation and perfusion of body t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81600" y="1143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Per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1746360" y="189000"/>
            <a:ext cx="5347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Times New Roman"/>
              </a:rPr>
              <a:t>Indices of Successful Resus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5"/>
          <p:cNvGrpSpPr/>
          <p:nvPr/>
        </p:nvGrpSpPr>
        <p:grpSpPr>
          <a:xfrm>
            <a:off x="0" y="685800"/>
            <a:ext cx="6629400" cy="3048120"/>
            <a:chOff x="0" y="685800"/>
            <a:chExt cx="6629400" cy="3048120"/>
          </a:xfrm>
        </p:grpSpPr>
        <p:sp>
          <p:nvSpPr>
            <p:cNvPr id="244" name="Pyr1"/>
            <p:cNvSpPr/>
            <p:nvPr/>
          </p:nvSpPr>
          <p:spPr>
            <a:xfrm>
              <a:off x="2579760" y="685800"/>
              <a:ext cx="1486080" cy="675360"/>
            </a:xfrm>
            <a:custGeom>
              <a:avLst/>
              <a:gdLst>
                <a:gd name="textAreaLeft" fmla="*/ 371520 w 1486080"/>
                <a:gd name="textAreaRight" fmla="*/ 1114560 w 1486080"/>
                <a:gd name="textAreaTop" fmla="*/ 369000 h 675360"/>
                <a:gd name="textAreaBottom" fmla="*/ 644040 h 67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Pyr2"/>
            <p:cNvSpPr/>
            <p:nvPr/>
          </p:nvSpPr>
          <p:spPr>
            <a:xfrm>
              <a:off x="1719360" y="1361160"/>
              <a:ext cx="3198960" cy="7923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Times New Roman"/>
                </a:rPr>
                <a:t>End-tidal CO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Pyr3"/>
            <p:cNvSpPr/>
            <p:nvPr/>
          </p:nvSpPr>
          <p:spPr>
            <a:xfrm>
              <a:off x="868320" y="2153880"/>
              <a:ext cx="4900680" cy="7916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Times New Roman"/>
                  <a:ea typeface="Arial"/>
                </a:rPr>
                <a:t>Indirect Fick eq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Pyr4"/>
            <p:cNvSpPr/>
            <p:nvPr/>
          </p:nvSpPr>
          <p:spPr>
            <a:xfrm>
              <a:off x="0" y="2941560"/>
              <a:ext cx="6629400" cy="7923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Times New Roman"/>
                </a:rPr>
                <a:t>Central Venous Oxygen Satu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0"/>
          <p:cNvGrpSpPr/>
          <p:nvPr/>
        </p:nvGrpSpPr>
        <p:grpSpPr>
          <a:xfrm>
            <a:off x="2361960" y="3733920"/>
            <a:ext cx="6553080" cy="3124080"/>
            <a:chOff x="2361960" y="3733920"/>
            <a:chExt cx="6553080" cy="3124080"/>
          </a:xfrm>
        </p:grpSpPr>
        <p:sp>
          <p:nvSpPr>
            <p:cNvPr id="249" name="Pyr1"/>
            <p:cNvSpPr/>
            <p:nvPr/>
          </p:nvSpPr>
          <p:spPr>
            <a:xfrm rot="10800000">
              <a:off x="4896360" y="6165720"/>
              <a:ext cx="1468800" cy="692280"/>
            </a:xfrm>
            <a:custGeom>
              <a:avLst/>
              <a:gdLst>
                <a:gd name="textAreaLeft" fmla="*/ 367200 w 1468800"/>
                <a:gd name="textAreaRight" fmla="*/ 1101600 w 1468800"/>
                <a:gd name="textAreaTop" fmla="*/ 378360 h 692280"/>
                <a:gd name="textAreaBottom" fmla="*/ 660240 h 6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yr2"/>
            <p:cNvSpPr/>
            <p:nvPr/>
          </p:nvSpPr>
          <p:spPr>
            <a:xfrm rot="10800000">
              <a:off x="4053600" y="5353560"/>
              <a:ext cx="3161880" cy="812160"/>
            </a:xfrm>
            <a:custGeom>
              <a:avLst/>
              <a:gdLst>
                <a:gd name="textAreaLeft" fmla="*/ 847440 w 3161880"/>
                <a:gd name="textAreaRight" fmla="*/ 2314440 w 3161880"/>
                <a:gd name="textAreaTop" fmla="*/ 19080 h 812160"/>
                <a:gd name="textAreaBottom" fmla="*/ 793080 h 8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7" y="0"/>
                  </a:moveTo>
                  <a:lnTo>
                    <a:pt x="15812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5787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yr3"/>
            <p:cNvSpPr/>
            <p:nvPr/>
          </p:nvSpPr>
          <p:spPr>
            <a:xfrm rot="10800000">
              <a:off x="3212640" y="4542120"/>
              <a:ext cx="4844160" cy="811080"/>
            </a:xfrm>
            <a:custGeom>
              <a:avLst/>
              <a:gdLst>
                <a:gd name="textAreaLeft" fmla="*/ 1186200 w 4844160"/>
                <a:gd name="textAreaRight" fmla="*/ 3657960 w 4844160"/>
                <a:gd name="textAreaTop" fmla="*/ 19080 h 811080"/>
                <a:gd name="textAreaBottom" fmla="*/ 792000 h 81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68" y="0"/>
                  </a:moveTo>
                  <a:lnTo>
                    <a:pt x="17831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3768" y="0"/>
                  </a:lnTo>
                  <a:close/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yr4"/>
            <p:cNvSpPr/>
            <p:nvPr/>
          </p:nvSpPr>
          <p:spPr>
            <a:xfrm rot="10800000">
              <a:off x="2361960" y="3733920"/>
              <a:ext cx="6553080" cy="8121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15"/>
          <p:cNvSpPr/>
          <p:nvPr/>
        </p:nvSpPr>
        <p:spPr>
          <a:xfrm>
            <a:off x="3354840" y="39909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ctate Cl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259600" y="6172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3958560" y="472428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Lactate 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4494960" y="54864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Clinical Ex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2666880" y="914400"/>
            <a:ext cx="1036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Times New Roman"/>
                <a:ea typeface="Arial"/>
              </a:rPr>
              <a:t>V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7155000" y="2200320"/>
            <a:ext cx="90936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U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شكل بيضاوي 22"/>
          <p:cNvSpPr/>
          <p:nvPr/>
        </p:nvSpPr>
        <p:spPr>
          <a:xfrm>
            <a:off x="8572680" y="0"/>
            <a:ext cx="571320" cy="714240"/>
          </a:xfrm>
          <a:prstGeom prst="ellips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ses of missed injuries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auma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verity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e brain injury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ditions that complicate the complete clinical evaluation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ed consciousness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in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uma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dation-intubation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oxication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rror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dequate physical examin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curate interpretation of diagnostic investiga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dequate surgical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6"/>
          <p:cNvSpPr txBox="1"/>
          <p:nvPr/>
        </p:nvSpPr>
        <p:spPr>
          <a:xfrm>
            <a:off x="0" y="0"/>
            <a:ext cx="255600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66ff33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Be Careful</a:t>
            </a:r>
            <a:endParaRPr b="0" lang="en-US" sz="4400" spc="1" strike="noStrike">
              <a:ln w="12600">
                <a:solidFill>
                  <a:srgbClr val="66ff33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6210360"/>
            <a:ext cx="9144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 trauma as an Institutional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0" y="1052640"/>
            <a:ext cx="8920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800" tIns="0" bIns="0" anchor="t">
            <a:noAutofit/>
          </a:bodyPr>
          <a:p>
            <a:pPr lvl="1" marL="743040" indent="-2858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t specific, measurable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erstand your ow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y support in your instit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ruit a multidisciplinary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 severe trauma program deliverables and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roadly communicate severe trauma improvemen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sure your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971640" y="0"/>
            <a:ext cx="6933960" cy="91440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  <a:effectLst>
            <a:outerShdw dist="40186" dir="4303641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ritical success factors for establishing trauma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s an institutional priority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0" y="177840"/>
            <a:ext cx="314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8213760" y="26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4"/>
          <p:cNvSpPr txBox="1"/>
          <p:nvPr/>
        </p:nvSpPr>
        <p:spPr>
          <a:xfrm rot="5400000">
            <a:off x="3059280" y="2925360"/>
            <a:ext cx="2808000" cy="223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?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9" name="Ink 2"/>
          <p:cNvSpPr/>
          <p:nvPr/>
        </p:nvSpPr>
        <p:spPr>
          <a:xfrm>
            <a:off x="2557440" y="1268280"/>
            <a:ext cx="644400" cy="428760"/>
          </a:xfrm>
          <a:custGeom>
            <a:avLst/>
            <a:gdLst/>
            <a:ahLst/>
            <a:rect l="l" t="t" r="r" b="b"/>
            <a:pathLst>
              <a:path w="1787" h="1191">
                <a:moveTo>
                  <a:pt x="10368" y="17413"/>
                </a:moveTo>
                <a:cubicBezTo>
                  <a:pt x="10283" y="17413"/>
                  <a:pt x="10216" y="17414"/>
                  <a:pt x="10145" y="17438"/>
                </a:cubicBezTo>
                <a:cubicBezTo>
                  <a:pt x="10107" y="17451"/>
                  <a:pt x="10117" y="17459"/>
                  <a:pt x="10096" y="17487"/>
                </a:cubicBezTo>
                <a:cubicBezTo>
                  <a:pt x="10069" y="17523"/>
                  <a:pt x="10034" y="17572"/>
                  <a:pt x="10021" y="17611"/>
                </a:cubicBezTo>
                <a:cubicBezTo>
                  <a:pt x="10021" y="17619"/>
                  <a:pt x="10021" y="17628"/>
                  <a:pt x="10021" y="17636"/>
                </a:cubicBezTo>
                <a:cubicBezTo>
                  <a:pt x="10056" y="17662"/>
                  <a:pt x="10084" y="17703"/>
                  <a:pt x="10120" y="17711"/>
                </a:cubicBezTo>
                <a:cubicBezTo>
                  <a:pt x="10175" y="17723"/>
                  <a:pt x="10222" y="17708"/>
                  <a:pt x="10269" y="17686"/>
                </a:cubicBezTo>
                <a:cubicBezTo>
                  <a:pt x="10362" y="17642"/>
                  <a:pt x="10310" y="17674"/>
                  <a:pt x="10344" y="17611"/>
                </a:cubicBezTo>
                <a:cubicBezTo>
                  <a:pt x="10366" y="17570"/>
                  <a:pt x="10368" y="17562"/>
                  <a:pt x="10368" y="17512"/>
                </a:cubicBezTo>
                <a:cubicBezTo>
                  <a:pt x="10368" y="17479"/>
                  <a:pt x="10368" y="17446"/>
                  <a:pt x="10368" y="17413"/>
                </a:cubicBezTo>
                <a:cubicBezTo>
                  <a:pt x="10458" y="17431"/>
                  <a:pt x="10516" y="17493"/>
                  <a:pt x="10542" y="17587"/>
                </a:cubicBezTo>
                <a:cubicBezTo>
                  <a:pt x="10556" y="17639"/>
                  <a:pt x="10550" y="17714"/>
                  <a:pt x="10592" y="17735"/>
                </a:cubicBezTo>
                <a:cubicBezTo>
                  <a:pt x="10624" y="17751"/>
                  <a:pt x="10616" y="17740"/>
                  <a:pt x="10616" y="17785"/>
                </a:cubicBezTo>
                <a:cubicBezTo>
                  <a:pt x="10577" y="17771"/>
                  <a:pt x="10592" y="17735"/>
                  <a:pt x="10592" y="17686"/>
                </a:cubicBezTo>
              </a:path>
              <a:path w="1787" h="1191">
                <a:moveTo>
                  <a:pt x="10716" y="17314"/>
                </a:moveTo>
                <a:cubicBezTo>
                  <a:pt x="10716" y="17446"/>
                  <a:pt x="10760" y="17475"/>
                  <a:pt x="10790" y="17587"/>
                </a:cubicBezTo>
                <a:cubicBezTo>
                  <a:pt x="10815" y="17680"/>
                  <a:pt x="10764" y="17770"/>
                  <a:pt x="10815" y="17859"/>
                </a:cubicBezTo>
                <a:cubicBezTo>
                  <a:pt x="10823" y="17867"/>
                  <a:pt x="10832" y="17876"/>
                  <a:pt x="10840" y="17884"/>
                </a:cubicBezTo>
                <a:cubicBezTo>
                  <a:pt x="10840" y="17823"/>
                  <a:pt x="10792" y="17449"/>
                  <a:pt x="10864" y="17413"/>
                </a:cubicBezTo>
                <a:cubicBezTo>
                  <a:pt x="10897" y="17396"/>
                  <a:pt x="10907" y="17388"/>
                  <a:pt x="10964" y="17388"/>
                </a:cubicBezTo>
                <a:cubicBezTo>
                  <a:pt x="11019" y="17388"/>
                  <a:pt x="11056" y="17391"/>
                  <a:pt x="11088" y="17438"/>
                </a:cubicBezTo>
                <a:cubicBezTo>
                  <a:pt x="11100" y="17456"/>
                  <a:pt x="11110" y="17562"/>
                  <a:pt x="11112" y="17587"/>
                </a:cubicBezTo>
                <a:cubicBezTo>
                  <a:pt x="11116" y="17648"/>
                  <a:pt x="11122" y="17684"/>
                  <a:pt x="11137" y="17735"/>
                </a:cubicBezTo>
                <a:cubicBezTo>
                  <a:pt x="11137" y="17743"/>
                  <a:pt x="11137" y="17752"/>
                  <a:pt x="11137" y="17760"/>
                </a:cubicBezTo>
              </a:path>
              <a:path w="1787" h="1191">
                <a:moveTo>
                  <a:pt x="11559" y="17438"/>
                </a:moveTo>
                <a:cubicBezTo>
                  <a:pt x="11533" y="17429"/>
                  <a:pt x="11500" y="17394"/>
                  <a:pt x="11485" y="17388"/>
                </a:cubicBezTo>
                <a:cubicBezTo>
                  <a:pt x="11451" y="17373"/>
                  <a:pt x="11426" y="17363"/>
                  <a:pt x="11385" y="17363"/>
                </a:cubicBezTo>
                <a:cubicBezTo>
                  <a:pt x="11347" y="17363"/>
                  <a:pt x="11320" y="17475"/>
                  <a:pt x="11311" y="17512"/>
                </a:cubicBezTo>
                <a:cubicBezTo>
                  <a:pt x="11295" y="17575"/>
                  <a:pt x="11296" y="17716"/>
                  <a:pt x="11336" y="17760"/>
                </a:cubicBezTo>
                <a:cubicBezTo>
                  <a:pt x="11373" y="17801"/>
                  <a:pt x="11388" y="17794"/>
                  <a:pt x="11385" y="17785"/>
                </a:cubicBezTo>
                <a:cubicBezTo>
                  <a:pt x="11374" y="17757"/>
                  <a:pt x="11401" y="17715"/>
                  <a:pt x="11410" y="17711"/>
                </a:cubicBezTo>
                <a:cubicBezTo>
                  <a:pt x="11447" y="17693"/>
                  <a:pt x="11454" y="17681"/>
                  <a:pt x="11509" y="17661"/>
                </a:cubicBezTo>
                <a:cubicBezTo>
                  <a:pt x="11550" y="17646"/>
                  <a:pt x="11581" y="17645"/>
                  <a:pt x="11609" y="17611"/>
                </a:cubicBezTo>
                <a:cubicBezTo>
                  <a:pt x="11647" y="17566"/>
                  <a:pt x="11589" y="17397"/>
                  <a:pt x="11584" y="17363"/>
                </a:cubicBezTo>
                <a:cubicBezTo>
                  <a:pt x="11552" y="17151"/>
                  <a:pt x="11595" y="16930"/>
                  <a:pt x="11559" y="16718"/>
                </a:cubicBezTo>
                <a:cubicBezTo>
                  <a:pt x="11559" y="16686"/>
                  <a:pt x="11559" y="16686"/>
                  <a:pt x="11559" y="16743"/>
                </a:cubicBezTo>
              </a:path>
              <a:path w="1787" h="1191">
                <a:moveTo>
                  <a:pt x="11658" y="17611"/>
                </a:moveTo>
                <a:cubicBezTo>
                  <a:pt x="11678" y="17662"/>
                  <a:pt x="11739" y="17709"/>
                  <a:pt x="11757" y="17760"/>
                </a:cubicBezTo>
                <a:cubicBezTo>
                  <a:pt x="11782" y="17831"/>
                  <a:pt x="11775" y="17787"/>
                  <a:pt x="11807" y="17835"/>
                </a:cubicBezTo>
              </a:path>
            </a:pathLst>
          </a:custGeom>
          <a:noFill/>
          <a:ln cap="rnd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Ink 3"/>
          <p:cNvSpPr/>
          <p:nvPr/>
        </p:nvSpPr>
        <p:spPr>
          <a:xfrm>
            <a:off x="3825720" y="1330200"/>
            <a:ext cx="662040" cy="446040"/>
          </a:xfrm>
          <a:custGeom>
            <a:avLst/>
            <a:gdLst/>
            <a:ahLst/>
            <a:rect l="l" t="t" r="r" b="b"/>
            <a:pathLst>
              <a:path w="1837" h="1241">
                <a:moveTo>
                  <a:pt x="13543" y="16867"/>
                </a:moveTo>
                <a:cubicBezTo>
                  <a:pt x="13543" y="16953"/>
                  <a:pt x="13456" y="17858"/>
                  <a:pt x="13593" y="17884"/>
                </a:cubicBezTo>
                <a:cubicBezTo>
                  <a:pt x="13675" y="17900"/>
                  <a:pt x="13782" y="17884"/>
                  <a:pt x="13866" y="17884"/>
                </a:cubicBezTo>
              </a:path>
              <a:path w="1837" h="1241">
                <a:moveTo>
                  <a:pt x="14064" y="17413"/>
                </a:moveTo>
                <a:cubicBezTo>
                  <a:pt x="14064" y="17537"/>
                  <a:pt x="14064" y="17661"/>
                  <a:pt x="14064" y="17785"/>
                </a:cubicBezTo>
                <a:cubicBezTo>
                  <a:pt x="14102" y="17798"/>
                  <a:pt x="14089" y="17814"/>
                  <a:pt x="14089" y="17859"/>
                </a:cubicBezTo>
                <a:cubicBezTo>
                  <a:pt x="14089" y="17884"/>
                  <a:pt x="14089" y="17892"/>
                  <a:pt x="14089" y="17909"/>
                </a:cubicBezTo>
              </a:path>
              <a:path w="1837" h="1241">
                <a:moveTo>
                  <a:pt x="14412" y="16892"/>
                </a:moveTo>
                <a:cubicBezTo>
                  <a:pt x="14412" y="17289"/>
                  <a:pt x="14412" y="17686"/>
                  <a:pt x="14412" y="18083"/>
                </a:cubicBezTo>
                <a:cubicBezTo>
                  <a:pt x="14412" y="18149"/>
                  <a:pt x="14412" y="18000"/>
                  <a:pt x="14412" y="17934"/>
                </a:cubicBezTo>
              </a:path>
              <a:path w="1837" h="1241">
                <a:moveTo>
                  <a:pt x="14412" y="16892"/>
                </a:moveTo>
                <a:cubicBezTo>
                  <a:pt x="14544" y="16892"/>
                  <a:pt x="14676" y="16892"/>
                  <a:pt x="14808" y="16892"/>
                </a:cubicBezTo>
              </a:path>
              <a:path w="1837" h="1241">
                <a:moveTo>
                  <a:pt x="14362" y="17661"/>
                </a:moveTo>
                <a:cubicBezTo>
                  <a:pt x="14430" y="17661"/>
                  <a:pt x="14716" y="17689"/>
                  <a:pt x="14734" y="17636"/>
                </a:cubicBezTo>
              </a:path>
              <a:path w="1837" h="1241">
                <a:moveTo>
                  <a:pt x="14932" y="16917"/>
                </a:moveTo>
                <a:cubicBezTo>
                  <a:pt x="14932" y="17007"/>
                  <a:pt x="14931" y="17088"/>
                  <a:pt x="14957" y="17165"/>
                </a:cubicBezTo>
                <a:cubicBezTo>
                  <a:pt x="14994" y="17275"/>
                  <a:pt x="14917" y="17407"/>
                  <a:pt x="14982" y="17512"/>
                </a:cubicBezTo>
                <a:cubicBezTo>
                  <a:pt x="15013" y="17562"/>
                  <a:pt x="15007" y="17600"/>
                  <a:pt x="15007" y="17661"/>
                </a:cubicBezTo>
                <a:cubicBezTo>
                  <a:pt x="15007" y="17810"/>
                  <a:pt x="15007" y="17958"/>
                  <a:pt x="15007" y="18107"/>
                </a:cubicBezTo>
                <a:cubicBezTo>
                  <a:pt x="15081" y="18107"/>
                  <a:pt x="15144" y="18115"/>
                  <a:pt x="15205" y="18083"/>
                </a:cubicBezTo>
                <a:cubicBezTo>
                  <a:pt x="15272" y="18048"/>
                  <a:pt x="15303" y="18018"/>
                  <a:pt x="15379" y="18008"/>
                </a:cubicBezTo>
              </a:path>
              <a:path w="1837" h="1241">
                <a:moveTo>
                  <a:pt x="15081" y="17636"/>
                </a:moveTo>
                <a:cubicBezTo>
                  <a:pt x="15116" y="17610"/>
                  <a:pt x="15112" y="17611"/>
                  <a:pt x="15156" y="17611"/>
                </a:cubicBezTo>
                <a:cubicBezTo>
                  <a:pt x="15168" y="17575"/>
                  <a:pt x="15186" y="17587"/>
                  <a:pt x="15230" y="17587"/>
                </a:cubicBezTo>
                <a:cubicBezTo>
                  <a:pt x="15255" y="17587"/>
                  <a:pt x="15263" y="17587"/>
                  <a:pt x="15280" y="17587"/>
                </a:cubicBezTo>
                <a:cubicBezTo>
                  <a:pt x="15295" y="17540"/>
                  <a:pt x="15313" y="17584"/>
                  <a:pt x="15329" y="17537"/>
                </a:cubicBezTo>
              </a:path>
              <a:path w="1837" h="1241">
                <a:moveTo>
                  <a:pt x="14883" y="16942"/>
                </a:moveTo>
                <a:cubicBezTo>
                  <a:pt x="15040" y="16942"/>
                  <a:pt x="15197" y="16942"/>
                  <a:pt x="15354" y="16942"/>
                </a:cubicBezTo>
              </a:path>
            </a:pathLst>
          </a:custGeom>
          <a:noFill/>
          <a:ln cap="rnd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Ink 4"/>
          <p:cNvSpPr/>
          <p:nvPr/>
        </p:nvSpPr>
        <p:spPr>
          <a:xfrm>
            <a:off x="4924440" y="1473120"/>
            <a:ext cx="285840" cy="330120"/>
          </a:xfrm>
          <a:custGeom>
            <a:avLst/>
            <a:gdLst/>
            <a:ahLst/>
            <a:rect l="l" t="t" r="r" b="b"/>
            <a:pathLst>
              <a:path w="795" h="919">
                <a:moveTo>
                  <a:pt x="16644" y="17363"/>
                </a:moveTo>
                <a:cubicBezTo>
                  <a:pt x="16614" y="17333"/>
                  <a:pt x="16594" y="17273"/>
                  <a:pt x="16594" y="17314"/>
                </a:cubicBezTo>
                <a:cubicBezTo>
                  <a:pt x="16594" y="17620"/>
                  <a:pt x="16594" y="18438"/>
                  <a:pt x="16594" y="18132"/>
                </a:cubicBezTo>
              </a:path>
              <a:path w="795" h="919">
                <a:moveTo>
                  <a:pt x="17363" y="17264"/>
                </a:moveTo>
                <a:cubicBezTo>
                  <a:pt x="17294" y="17264"/>
                  <a:pt x="17246" y="17259"/>
                  <a:pt x="17190" y="17289"/>
                </a:cubicBezTo>
                <a:cubicBezTo>
                  <a:pt x="17125" y="17324"/>
                  <a:pt x="17073" y="17310"/>
                  <a:pt x="17041" y="17388"/>
                </a:cubicBezTo>
                <a:cubicBezTo>
                  <a:pt x="17023" y="17432"/>
                  <a:pt x="17043" y="17527"/>
                  <a:pt x="17066" y="17562"/>
                </a:cubicBezTo>
                <a:cubicBezTo>
                  <a:pt x="17107" y="17626"/>
                  <a:pt x="17215" y="17630"/>
                  <a:pt x="17264" y="17686"/>
                </a:cubicBezTo>
                <a:cubicBezTo>
                  <a:pt x="17300" y="17728"/>
                  <a:pt x="17312" y="17739"/>
                  <a:pt x="17338" y="17785"/>
                </a:cubicBezTo>
                <a:cubicBezTo>
                  <a:pt x="17363" y="17830"/>
                  <a:pt x="17374" y="17891"/>
                  <a:pt x="17388" y="17934"/>
                </a:cubicBezTo>
                <a:cubicBezTo>
                  <a:pt x="17399" y="17967"/>
                  <a:pt x="17388" y="18023"/>
                  <a:pt x="17388" y="18058"/>
                </a:cubicBezTo>
                <a:cubicBezTo>
                  <a:pt x="17247" y="18058"/>
                  <a:pt x="17107" y="18058"/>
                  <a:pt x="16966" y="18058"/>
                </a:cubicBezTo>
              </a:path>
            </a:pathLst>
          </a:custGeom>
          <a:noFill/>
          <a:ln cap="rnd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Ink 5"/>
          <p:cNvSpPr/>
          <p:nvPr/>
        </p:nvSpPr>
        <p:spPr>
          <a:xfrm>
            <a:off x="5710320" y="1473120"/>
            <a:ext cx="250920" cy="420840"/>
          </a:xfrm>
          <a:custGeom>
            <a:avLst/>
            <a:gdLst/>
            <a:ahLst/>
            <a:rect l="l" t="t" r="r" b="b"/>
            <a:pathLst>
              <a:path w="696" h="1167">
                <a:moveTo>
                  <a:pt x="18777" y="17264"/>
                </a:moveTo>
                <a:cubicBezTo>
                  <a:pt x="18777" y="17644"/>
                  <a:pt x="18777" y="18025"/>
                  <a:pt x="18777" y="18405"/>
                </a:cubicBezTo>
                <a:cubicBezTo>
                  <a:pt x="18777" y="18464"/>
                  <a:pt x="18777" y="18227"/>
                  <a:pt x="18777" y="18207"/>
                </a:cubicBezTo>
              </a:path>
              <a:path w="696" h="1167">
                <a:moveTo>
                  <a:pt x="18777" y="17487"/>
                </a:moveTo>
                <a:cubicBezTo>
                  <a:pt x="18899" y="17568"/>
                  <a:pt x="18943" y="17666"/>
                  <a:pt x="19025" y="17810"/>
                </a:cubicBezTo>
                <a:cubicBezTo>
                  <a:pt x="19117" y="17970"/>
                  <a:pt x="19228" y="18118"/>
                  <a:pt x="19348" y="18256"/>
                </a:cubicBezTo>
                <a:cubicBezTo>
                  <a:pt x="19380" y="18293"/>
                  <a:pt x="19403" y="18277"/>
                  <a:pt x="19447" y="18281"/>
                </a:cubicBezTo>
                <a:cubicBezTo>
                  <a:pt x="19482" y="18177"/>
                  <a:pt x="19472" y="18072"/>
                  <a:pt x="19472" y="17959"/>
                </a:cubicBezTo>
                <a:cubicBezTo>
                  <a:pt x="19472" y="17736"/>
                  <a:pt x="19472" y="17512"/>
                  <a:pt x="19472" y="17289"/>
                </a:cubicBezTo>
              </a:path>
            </a:pathLst>
          </a:custGeom>
          <a:noFill/>
          <a:ln cap="rnd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Ink 6"/>
          <p:cNvSpPr/>
          <p:nvPr/>
        </p:nvSpPr>
        <p:spPr>
          <a:xfrm>
            <a:off x="6121440" y="1490760"/>
            <a:ext cx="785880" cy="447480"/>
          </a:xfrm>
          <a:custGeom>
            <a:avLst/>
            <a:gdLst/>
            <a:ahLst/>
            <a:rect l="l" t="t" r="r" b="b"/>
            <a:pathLst>
              <a:path w="2184" h="1241">
                <a:moveTo>
                  <a:pt x="20141" y="17413"/>
                </a:moveTo>
                <a:cubicBezTo>
                  <a:pt x="20082" y="17413"/>
                  <a:pt x="20042" y="17404"/>
                  <a:pt x="20017" y="17438"/>
                </a:cubicBezTo>
                <a:cubicBezTo>
                  <a:pt x="19980" y="17487"/>
                  <a:pt x="19969" y="17551"/>
                  <a:pt x="19943" y="17611"/>
                </a:cubicBezTo>
                <a:cubicBezTo>
                  <a:pt x="19914" y="17679"/>
                  <a:pt x="19918" y="17736"/>
                  <a:pt x="19918" y="17810"/>
                </a:cubicBezTo>
                <a:cubicBezTo>
                  <a:pt x="19918" y="17896"/>
                  <a:pt x="19906" y="17980"/>
                  <a:pt x="19943" y="18058"/>
                </a:cubicBezTo>
                <a:cubicBezTo>
                  <a:pt x="19988" y="18152"/>
                  <a:pt x="19980" y="18072"/>
                  <a:pt x="20042" y="18107"/>
                </a:cubicBezTo>
                <a:cubicBezTo>
                  <a:pt x="20093" y="18136"/>
                  <a:pt x="20129" y="18132"/>
                  <a:pt x="20191" y="18132"/>
                </a:cubicBezTo>
                <a:cubicBezTo>
                  <a:pt x="20249" y="18132"/>
                  <a:pt x="20307" y="18132"/>
                  <a:pt x="20365" y="18132"/>
                </a:cubicBezTo>
                <a:cubicBezTo>
                  <a:pt x="20365" y="17996"/>
                  <a:pt x="20373" y="17863"/>
                  <a:pt x="20340" y="17735"/>
                </a:cubicBezTo>
                <a:cubicBezTo>
                  <a:pt x="20332" y="17702"/>
                  <a:pt x="20307" y="17639"/>
                  <a:pt x="20290" y="17611"/>
                </a:cubicBezTo>
                <a:cubicBezTo>
                  <a:pt x="20269" y="17576"/>
                  <a:pt x="20231" y="17557"/>
                  <a:pt x="20216" y="17537"/>
                </a:cubicBezTo>
                <a:cubicBezTo>
                  <a:pt x="20194" y="17508"/>
                  <a:pt x="20150" y="17504"/>
                  <a:pt x="20141" y="17487"/>
                </a:cubicBezTo>
                <a:cubicBezTo>
                  <a:pt x="20141" y="17462"/>
                  <a:pt x="20141" y="17454"/>
                  <a:pt x="20117" y="17462"/>
                </a:cubicBezTo>
              </a:path>
              <a:path w="2184" h="1241">
                <a:moveTo>
                  <a:pt x="20613" y="17487"/>
                </a:moveTo>
                <a:cubicBezTo>
                  <a:pt x="20696" y="17700"/>
                  <a:pt x="20767" y="17917"/>
                  <a:pt x="20836" y="18132"/>
                </a:cubicBezTo>
                <a:cubicBezTo>
                  <a:pt x="20862" y="18212"/>
                  <a:pt x="20875" y="18240"/>
                  <a:pt x="20910" y="18306"/>
                </a:cubicBezTo>
                <a:cubicBezTo>
                  <a:pt x="20910" y="18219"/>
                  <a:pt x="20926" y="18187"/>
                  <a:pt x="20960" y="18107"/>
                </a:cubicBezTo>
                <a:cubicBezTo>
                  <a:pt x="21007" y="17995"/>
                  <a:pt x="21057" y="17870"/>
                  <a:pt x="21084" y="17760"/>
                </a:cubicBezTo>
                <a:cubicBezTo>
                  <a:pt x="21084" y="17752"/>
                  <a:pt x="21084" y="17743"/>
                  <a:pt x="21084" y="17735"/>
                </a:cubicBezTo>
                <a:cubicBezTo>
                  <a:pt x="21210" y="17805"/>
                  <a:pt x="21265" y="17967"/>
                  <a:pt x="21357" y="18107"/>
                </a:cubicBezTo>
                <a:cubicBezTo>
                  <a:pt x="21442" y="18236"/>
                  <a:pt x="21577" y="18451"/>
                  <a:pt x="21679" y="18554"/>
                </a:cubicBezTo>
                <a:cubicBezTo>
                  <a:pt x="21798" y="18264"/>
                  <a:pt x="21874" y="17958"/>
                  <a:pt x="21977" y="17661"/>
                </a:cubicBezTo>
                <a:cubicBezTo>
                  <a:pt x="22015" y="17552"/>
                  <a:pt x="22063" y="17423"/>
                  <a:pt x="22101" y="17314"/>
                </a:cubicBezTo>
              </a:path>
            </a:pathLst>
          </a:custGeom>
          <a:noFill/>
          <a:ln cap="rnd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Ink 7"/>
          <p:cNvSpPr/>
          <p:nvPr/>
        </p:nvSpPr>
        <p:spPr>
          <a:xfrm>
            <a:off x="1679400" y="649440"/>
            <a:ext cx="1086120" cy="450720"/>
          </a:xfrm>
          <a:custGeom>
            <a:avLst/>
            <a:gdLst/>
            <a:ahLst/>
            <a:rect l="l" t="t" r="r" b="b"/>
            <a:pathLst>
              <a:path w="3017" h="1251">
                <a:moveTo>
                  <a:pt x="814" y="3453"/>
                </a:moveTo>
                <a:cubicBezTo>
                  <a:pt x="814" y="3671"/>
                  <a:pt x="814" y="3890"/>
                  <a:pt x="814" y="4108"/>
                </a:cubicBezTo>
              </a:path>
              <a:path w="3017" h="1251">
                <a:moveTo>
                  <a:pt x="833" y="3790"/>
                </a:moveTo>
                <a:cubicBezTo>
                  <a:pt x="1025" y="3790"/>
                  <a:pt x="1217" y="3790"/>
                  <a:pt x="1409" y="3790"/>
                </a:cubicBezTo>
              </a:path>
              <a:path w="3017" h="1251">
                <a:moveTo>
                  <a:pt x="1290" y="3473"/>
                </a:moveTo>
                <a:cubicBezTo>
                  <a:pt x="1290" y="3552"/>
                  <a:pt x="1327" y="4029"/>
                  <a:pt x="1270" y="4048"/>
                </a:cubicBezTo>
              </a:path>
              <a:path w="3017" h="1251">
                <a:moveTo>
                  <a:pt x="1607" y="3929"/>
                </a:moveTo>
                <a:cubicBezTo>
                  <a:pt x="1660" y="3929"/>
                  <a:pt x="1713" y="3929"/>
                  <a:pt x="1766" y="3929"/>
                </a:cubicBezTo>
                <a:cubicBezTo>
                  <a:pt x="1766" y="3888"/>
                  <a:pt x="1773" y="3861"/>
                  <a:pt x="1746" y="3830"/>
                </a:cubicBezTo>
                <a:cubicBezTo>
                  <a:pt x="1730" y="3812"/>
                  <a:pt x="1673" y="3779"/>
                  <a:pt x="1667" y="3770"/>
                </a:cubicBezTo>
                <a:cubicBezTo>
                  <a:pt x="1645" y="3737"/>
                  <a:pt x="1685" y="3731"/>
                  <a:pt x="1627" y="3731"/>
                </a:cubicBezTo>
                <a:cubicBezTo>
                  <a:pt x="1620" y="3731"/>
                  <a:pt x="1614" y="3731"/>
                  <a:pt x="1607" y="3731"/>
                </a:cubicBezTo>
                <a:cubicBezTo>
                  <a:pt x="1607" y="3823"/>
                  <a:pt x="1607" y="3916"/>
                  <a:pt x="1607" y="4008"/>
                </a:cubicBezTo>
                <a:cubicBezTo>
                  <a:pt x="1693" y="4008"/>
                  <a:pt x="1779" y="4008"/>
                  <a:pt x="1865" y="4008"/>
                </a:cubicBezTo>
              </a:path>
              <a:path w="3017" h="1251">
                <a:moveTo>
                  <a:pt x="1945" y="3473"/>
                </a:moveTo>
                <a:cubicBezTo>
                  <a:pt x="1945" y="3557"/>
                  <a:pt x="1949" y="3638"/>
                  <a:pt x="1965" y="3711"/>
                </a:cubicBezTo>
                <a:cubicBezTo>
                  <a:pt x="1983" y="3795"/>
                  <a:pt x="1965" y="3903"/>
                  <a:pt x="1965" y="3989"/>
                </a:cubicBezTo>
              </a:path>
              <a:path w="3017" h="1251">
                <a:moveTo>
                  <a:pt x="2123" y="3850"/>
                </a:moveTo>
                <a:cubicBezTo>
                  <a:pt x="2133" y="3879"/>
                  <a:pt x="2171" y="3899"/>
                  <a:pt x="2183" y="3929"/>
                </a:cubicBezTo>
                <a:cubicBezTo>
                  <a:pt x="2197" y="3965"/>
                  <a:pt x="2200" y="4015"/>
                  <a:pt x="2222" y="4048"/>
                </a:cubicBezTo>
                <a:cubicBezTo>
                  <a:pt x="2240" y="4076"/>
                  <a:pt x="2269" y="4116"/>
                  <a:pt x="2282" y="4147"/>
                </a:cubicBezTo>
                <a:cubicBezTo>
                  <a:pt x="2288" y="4161"/>
                  <a:pt x="2282" y="4192"/>
                  <a:pt x="2282" y="4207"/>
                </a:cubicBezTo>
                <a:cubicBezTo>
                  <a:pt x="2262" y="4167"/>
                  <a:pt x="2256" y="4154"/>
                  <a:pt x="2242" y="4128"/>
                </a:cubicBezTo>
              </a:path>
              <a:path w="3017" h="1251">
                <a:moveTo>
                  <a:pt x="2103" y="3810"/>
                </a:moveTo>
                <a:cubicBezTo>
                  <a:pt x="2114" y="3778"/>
                  <a:pt x="2141" y="3773"/>
                  <a:pt x="2183" y="3770"/>
                </a:cubicBezTo>
                <a:cubicBezTo>
                  <a:pt x="2253" y="3764"/>
                  <a:pt x="2341" y="3770"/>
                  <a:pt x="2381" y="3790"/>
                </a:cubicBezTo>
                <a:cubicBezTo>
                  <a:pt x="2415" y="3807"/>
                  <a:pt x="2408" y="3770"/>
                  <a:pt x="2421" y="3810"/>
                </a:cubicBezTo>
                <a:cubicBezTo>
                  <a:pt x="2411" y="3840"/>
                  <a:pt x="2397" y="3830"/>
                  <a:pt x="2361" y="3830"/>
                </a:cubicBezTo>
                <a:cubicBezTo>
                  <a:pt x="2307" y="3830"/>
                  <a:pt x="2151" y="3830"/>
                  <a:pt x="2163" y="3830"/>
                </a:cubicBezTo>
                <a:cubicBezTo>
                  <a:pt x="2187" y="3812"/>
                  <a:pt x="2212" y="3792"/>
                  <a:pt x="2242" y="3790"/>
                </a:cubicBezTo>
                <a:cubicBezTo>
                  <a:pt x="2313" y="3785"/>
                  <a:pt x="2400" y="3789"/>
                  <a:pt x="2441" y="3810"/>
                </a:cubicBezTo>
                <a:cubicBezTo>
                  <a:pt x="2462" y="3821"/>
                  <a:pt x="2477" y="3822"/>
                  <a:pt x="2480" y="3850"/>
                </a:cubicBezTo>
                <a:cubicBezTo>
                  <a:pt x="2487" y="3906"/>
                  <a:pt x="2461" y="3868"/>
                  <a:pt x="2441" y="3909"/>
                </a:cubicBezTo>
                <a:cubicBezTo>
                  <a:pt x="2431" y="3930"/>
                  <a:pt x="2429" y="3946"/>
                  <a:pt x="2401" y="3949"/>
                </a:cubicBezTo>
                <a:cubicBezTo>
                  <a:pt x="2369" y="3953"/>
                  <a:pt x="2358" y="3969"/>
                  <a:pt x="2322" y="3969"/>
                </a:cubicBezTo>
                <a:cubicBezTo>
                  <a:pt x="2269" y="3969"/>
                  <a:pt x="2216" y="3969"/>
                  <a:pt x="2163" y="3969"/>
                </a:cubicBezTo>
              </a:path>
              <a:path w="3017" h="1251">
                <a:moveTo>
                  <a:pt x="2699" y="3711"/>
                </a:moveTo>
                <a:cubicBezTo>
                  <a:pt x="2731" y="3722"/>
                  <a:pt x="2719" y="3749"/>
                  <a:pt x="2719" y="3790"/>
                </a:cubicBezTo>
                <a:cubicBezTo>
                  <a:pt x="2719" y="3840"/>
                  <a:pt x="2738" y="3873"/>
                  <a:pt x="2738" y="3929"/>
                </a:cubicBezTo>
                <a:cubicBezTo>
                  <a:pt x="2738" y="3938"/>
                  <a:pt x="2738" y="4023"/>
                  <a:pt x="2738" y="3969"/>
                </a:cubicBezTo>
                <a:cubicBezTo>
                  <a:pt x="2738" y="3949"/>
                  <a:pt x="2738" y="3942"/>
                  <a:pt x="2738" y="3929"/>
                </a:cubicBezTo>
              </a:path>
              <a:path w="3017" h="1251">
                <a:moveTo>
                  <a:pt x="2719" y="3612"/>
                </a:moveTo>
                <a:cubicBezTo>
                  <a:pt x="2754" y="3632"/>
                  <a:pt x="2783" y="3631"/>
                  <a:pt x="2818" y="3651"/>
                </a:cubicBezTo>
                <a:cubicBezTo>
                  <a:pt x="2850" y="3667"/>
                  <a:pt x="2855" y="3674"/>
                  <a:pt x="2877" y="3671"/>
                </a:cubicBezTo>
              </a:path>
              <a:path w="3017" h="1251">
                <a:moveTo>
                  <a:pt x="3056" y="3631"/>
                </a:moveTo>
                <a:cubicBezTo>
                  <a:pt x="3062" y="3655"/>
                  <a:pt x="3066" y="3708"/>
                  <a:pt x="3076" y="3731"/>
                </a:cubicBezTo>
                <a:cubicBezTo>
                  <a:pt x="3090" y="3764"/>
                  <a:pt x="3096" y="3769"/>
                  <a:pt x="3096" y="3810"/>
                </a:cubicBezTo>
                <a:cubicBezTo>
                  <a:pt x="3096" y="3856"/>
                  <a:pt x="3096" y="4008"/>
                  <a:pt x="3096" y="3989"/>
                </a:cubicBezTo>
                <a:cubicBezTo>
                  <a:pt x="3096" y="3911"/>
                  <a:pt x="3094" y="3838"/>
                  <a:pt x="3115" y="3770"/>
                </a:cubicBezTo>
                <a:cubicBezTo>
                  <a:pt x="3126" y="3736"/>
                  <a:pt x="3127" y="3707"/>
                  <a:pt x="3135" y="3691"/>
                </a:cubicBezTo>
                <a:cubicBezTo>
                  <a:pt x="3145" y="3670"/>
                  <a:pt x="3147" y="3654"/>
                  <a:pt x="3175" y="3651"/>
                </a:cubicBezTo>
                <a:cubicBezTo>
                  <a:pt x="3194" y="3649"/>
                  <a:pt x="3216" y="3651"/>
                  <a:pt x="3235" y="3651"/>
                </a:cubicBezTo>
                <a:cubicBezTo>
                  <a:pt x="3235" y="3764"/>
                  <a:pt x="3235" y="3876"/>
                  <a:pt x="3235" y="3989"/>
                </a:cubicBezTo>
              </a:path>
              <a:path w="3017" h="1251">
                <a:moveTo>
                  <a:pt x="3612" y="3750"/>
                </a:moveTo>
                <a:cubicBezTo>
                  <a:pt x="3539" y="3750"/>
                  <a:pt x="3466" y="3750"/>
                  <a:pt x="3393" y="3750"/>
                </a:cubicBezTo>
                <a:cubicBezTo>
                  <a:pt x="3397" y="3717"/>
                  <a:pt x="3408" y="3702"/>
                  <a:pt x="3413" y="3671"/>
                </a:cubicBezTo>
                <a:cubicBezTo>
                  <a:pt x="3419" y="3636"/>
                  <a:pt x="3416" y="3633"/>
                  <a:pt x="3433" y="3612"/>
                </a:cubicBezTo>
                <a:cubicBezTo>
                  <a:pt x="3452" y="3589"/>
                  <a:pt x="3447" y="3565"/>
                  <a:pt x="3473" y="3552"/>
                </a:cubicBezTo>
                <a:cubicBezTo>
                  <a:pt x="3518" y="3529"/>
                  <a:pt x="3633" y="3557"/>
                  <a:pt x="3651" y="3572"/>
                </a:cubicBezTo>
                <a:cubicBezTo>
                  <a:pt x="3667" y="3585"/>
                  <a:pt x="3694" y="3614"/>
                  <a:pt x="3711" y="3631"/>
                </a:cubicBezTo>
                <a:cubicBezTo>
                  <a:pt x="3734" y="3654"/>
                  <a:pt x="3743" y="3659"/>
                  <a:pt x="3750" y="3691"/>
                </a:cubicBezTo>
                <a:cubicBezTo>
                  <a:pt x="3757" y="3720"/>
                  <a:pt x="3767" y="3768"/>
                  <a:pt x="3770" y="3790"/>
                </a:cubicBezTo>
                <a:cubicBezTo>
                  <a:pt x="3788" y="3917"/>
                  <a:pt x="3721" y="4115"/>
                  <a:pt x="3790" y="4227"/>
                </a:cubicBezTo>
                <a:cubicBezTo>
                  <a:pt x="3805" y="4251"/>
                  <a:pt x="3808" y="4248"/>
                  <a:pt x="3810" y="4286"/>
                </a:cubicBezTo>
                <a:cubicBezTo>
                  <a:pt x="3812" y="4325"/>
                  <a:pt x="3825" y="4356"/>
                  <a:pt x="3830" y="4385"/>
                </a:cubicBezTo>
                <a:cubicBezTo>
                  <a:pt x="3839" y="4438"/>
                  <a:pt x="3854" y="4676"/>
                  <a:pt x="3810" y="4703"/>
                </a:cubicBezTo>
                <a:cubicBezTo>
                  <a:pt x="3678" y="4783"/>
                  <a:pt x="3220" y="4703"/>
                  <a:pt x="3056" y="4703"/>
                </a:cubicBezTo>
              </a:path>
            </a:pathLst>
          </a:custGeom>
          <a:noFill/>
          <a:ln cap="rnd" w="190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Ink 8"/>
          <p:cNvSpPr/>
          <p:nvPr/>
        </p:nvSpPr>
        <p:spPr>
          <a:xfrm>
            <a:off x="3279600" y="663480"/>
            <a:ext cx="1292400" cy="222480"/>
          </a:xfrm>
          <a:custGeom>
            <a:avLst/>
            <a:gdLst/>
            <a:ahLst/>
            <a:rect l="l" t="t" r="r" b="b"/>
            <a:pathLst>
              <a:path w="3592" h="617">
                <a:moveTo>
                  <a:pt x="5259" y="3552"/>
                </a:moveTo>
                <a:cubicBezTo>
                  <a:pt x="5259" y="3601"/>
                  <a:pt x="5257" y="3626"/>
                  <a:pt x="5278" y="3671"/>
                </a:cubicBezTo>
                <a:cubicBezTo>
                  <a:pt x="5307" y="3733"/>
                  <a:pt x="5347" y="3789"/>
                  <a:pt x="5378" y="3850"/>
                </a:cubicBezTo>
                <a:cubicBezTo>
                  <a:pt x="5400" y="3894"/>
                  <a:pt x="5425" y="3942"/>
                  <a:pt x="5437" y="3989"/>
                </a:cubicBezTo>
                <a:cubicBezTo>
                  <a:pt x="5448" y="4033"/>
                  <a:pt x="5452" y="4112"/>
                  <a:pt x="5417" y="4088"/>
                </a:cubicBezTo>
              </a:path>
              <a:path w="3592" h="617">
                <a:moveTo>
                  <a:pt x="5278" y="3552"/>
                </a:moveTo>
                <a:cubicBezTo>
                  <a:pt x="5311" y="3541"/>
                  <a:pt x="5290" y="3502"/>
                  <a:pt x="5338" y="3492"/>
                </a:cubicBezTo>
                <a:cubicBezTo>
                  <a:pt x="5413" y="3476"/>
                  <a:pt x="5552" y="3490"/>
                  <a:pt x="5596" y="3512"/>
                </a:cubicBezTo>
                <a:cubicBezTo>
                  <a:pt x="5641" y="3534"/>
                  <a:pt x="5667" y="3495"/>
                  <a:pt x="5695" y="3532"/>
                </a:cubicBezTo>
                <a:cubicBezTo>
                  <a:pt x="5718" y="3563"/>
                  <a:pt x="5715" y="3573"/>
                  <a:pt x="5715" y="3612"/>
                </a:cubicBezTo>
                <a:cubicBezTo>
                  <a:pt x="5715" y="3640"/>
                  <a:pt x="5691" y="3639"/>
                  <a:pt x="5675" y="3651"/>
                </a:cubicBezTo>
                <a:cubicBezTo>
                  <a:pt x="5645" y="3674"/>
                  <a:pt x="5635" y="3671"/>
                  <a:pt x="5596" y="3671"/>
                </a:cubicBezTo>
                <a:cubicBezTo>
                  <a:pt x="5567" y="3671"/>
                  <a:pt x="5538" y="3676"/>
                  <a:pt x="5517" y="3691"/>
                </a:cubicBezTo>
                <a:cubicBezTo>
                  <a:pt x="5485" y="3712"/>
                  <a:pt x="5477" y="3711"/>
                  <a:pt x="5437" y="3711"/>
                </a:cubicBezTo>
                <a:cubicBezTo>
                  <a:pt x="5411" y="3711"/>
                  <a:pt x="5263" y="3711"/>
                  <a:pt x="5358" y="3711"/>
                </a:cubicBezTo>
              </a:path>
              <a:path w="3592" h="617">
                <a:moveTo>
                  <a:pt x="6032" y="3731"/>
                </a:moveTo>
                <a:cubicBezTo>
                  <a:pt x="6026" y="3731"/>
                  <a:pt x="6019" y="3731"/>
                  <a:pt x="6013" y="3731"/>
                </a:cubicBezTo>
                <a:cubicBezTo>
                  <a:pt x="6020" y="3708"/>
                  <a:pt x="6039" y="3695"/>
                  <a:pt x="6072" y="3691"/>
                </a:cubicBezTo>
                <a:cubicBezTo>
                  <a:pt x="6117" y="3686"/>
                  <a:pt x="6166" y="3691"/>
                  <a:pt x="6211" y="3691"/>
                </a:cubicBezTo>
                <a:cubicBezTo>
                  <a:pt x="6222" y="3723"/>
                  <a:pt x="6220" y="3699"/>
                  <a:pt x="6231" y="3731"/>
                </a:cubicBezTo>
                <a:cubicBezTo>
                  <a:pt x="6261" y="3741"/>
                  <a:pt x="6251" y="3754"/>
                  <a:pt x="6251" y="3790"/>
                </a:cubicBezTo>
                <a:cubicBezTo>
                  <a:pt x="6251" y="3883"/>
                  <a:pt x="6251" y="4121"/>
                  <a:pt x="6251" y="4028"/>
                </a:cubicBezTo>
              </a:path>
              <a:path w="3592" h="617">
                <a:moveTo>
                  <a:pt x="6191" y="3850"/>
                </a:moveTo>
                <a:cubicBezTo>
                  <a:pt x="6141" y="3850"/>
                  <a:pt x="6114" y="3856"/>
                  <a:pt x="6072" y="3870"/>
                </a:cubicBezTo>
                <a:cubicBezTo>
                  <a:pt x="6045" y="3879"/>
                  <a:pt x="6048" y="3900"/>
                  <a:pt x="6032" y="3909"/>
                </a:cubicBezTo>
                <a:cubicBezTo>
                  <a:pt x="6006" y="3923"/>
                  <a:pt x="6013" y="3931"/>
                  <a:pt x="6013" y="3969"/>
                </a:cubicBezTo>
                <a:cubicBezTo>
                  <a:pt x="6072" y="3969"/>
                  <a:pt x="6121" y="3965"/>
                  <a:pt x="6152" y="3949"/>
                </a:cubicBezTo>
                <a:cubicBezTo>
                  <a:pt x="6168" y="3941"/>
                  <a:pt x="6214" y="3931"/>
                  <a:pt x="6231" y="3929"/>
                </a:cubicBezTo>
                <a:cubicBezTo>
                  <a:pt x="6238" y="3929"/>
                  <a:pt x="6244" y="3929"/>
                  <a:pt x="6251" y="3929"/>
                </a:cubicBezTo>
              </a:path>
              <a:path w="3592" h="617">
                <a:moveTo>
                  <a:pt x="6548" y="3532"/>
                </a:moveTo>
                <a:cubicBezTo>
                  <a:pt x="6548" y="3704"/>
                  <a:pt x="6548" y="3876"/>
                  <a:pt x="6548" y="4048"/>
                </a:cubicBezTo>
                <a:cubicBezTo>
                  <a:pt x="6578" y="4058"/>
                  <a:pt x="6565" y="4068"/>
                  <a:pt x="6608" y="4068"/>
                </a:cubicBezTo>
                <a:cubicBezTo>
                  <a:pt x="6687" y="4068"/>
                  <a:pt x="6767" y="4068"/>
                  <a:pt x="6846" y="4068"/>
                </a:cubicBezTo>
                <a:cubicBezTo>
                  <a:pt x="6817" y="4058"/>
                  <a:pt x="6826" y="4055"/>
                  <a:pt x="6787" y="4028"/>
                </a:cubicBezTo>
              </a:path>
              <a:path w="3592" h="617">
                <a:moveTo>
                  <a:pt x="6529" y="3770"/>
                </a:moveTo>
                <a:cubicBezTo>
                  <a:pt x="6522" y="3763"/>
                  <a:pt x="6516" y="3757"/>
                  <a:pt x="6509" y="3750"/>
                </a:cubicBezTo>
                <a:cubicBezTo>
                  <a:pt x="6608" y="3750"/>
                  <a:pt x="6707" y="3750"/>
                  <a:pt x="6806" y="3750"/>
                </a:cubicBezTo>
              </a:path>
              <a:path w="3592" h="617">
                <a:moveTo>
                  <a:pt x="7124" y="3711"/>
                </a:moveTo>
                <a:cubicBezTo>
                  <a:pt x="7124" y="3823"/>
                  <a:pt x="7124" y="3936"/>
                  <a:pt x="7124" y="4048"/>
                </a:cubicBezTo>
                <a:cubicBezTo>
                  <a:pt x="7124" y="4028"/>
                  <a:pt x="7124" y="4021"/>
                  <a:pt x="7124" y="4008"/>
                </a:cubicBezTo>
              </a:path>
              <a:path w="3592" h="617">
                <a:moveTo>
                  <a:pt x="7084" y="3552"/>
                </a:moveTo>
                <a:cubicBezTo>
                  <a:pt x="7091" y="3552"/>
                  <a:pt x="7097" y="3552"/>
                  <a:pt x="7104" y="3552"/>
                </a:cubicBezTo>
              </a:path>
              <a:path w="3592" h="617">
                <a:moveTo>
                  <a:pt x="7402" y="3870"/>
                </a:moveTo>
                <a:cubicBezTo>
                  <a:pt x="7474" y="3870"/>
                  <a:pt x="7604" y="3891"/>
                  <a:pt x="7660" y="3850"/>
                </a:cubicBezTo>
                <a:cubicBezTo>
                  <a:pt x="7694" y="3825"/>
                  <a:pt x="7699" y="3834"/>
                  <a:pt x="7699" y="3790"/>
                </a:cubicBezTo>
                <a:cubicBezTo>
                  <a:pt x="7699" y="3754"/>
                  <a:pt x="7685" y="3723"/>
                  <a:pt x="7680" y="3711"/>
                </a:cubicBezTo>
                <a:cubicBezTo>
                  <a:pt x="7672" y="3692"/>
                  <a:pt x="7650" y="3656"/>
                  <a:pt x="7640" y="3651"/>
                </a:cubicBezTo>
                <a:cubicBezTo>
                  <a:pt x="7614" y="3638"/>
                  <a:pt x="7620" y="3631"/>
                  <a:pt x="7580" y="3631"/>
                </a:cubicBezTo>
                <a:cubicBezTo>
                  <a:pt x="7526" y="3631"/>
                  <a:pt x="7488" y="3637"/>
                  <a:pt x="7461" y="3651"/>
                </a:cubicBezTo>
                <a:cubicBezTo>
                  <a:pt x="7439" y="3662"/>
                  <a:pt x="7426" y="3676"/>
                  <a:pt x="7422" y="3711"/>
                </a:cubicBezTo>
                <a:cubicBezTo>
                  <a:pt x="7418" y="3753"/>
                  <a:pt x="7431" y="3770"/>
                  <a:pt x="7441" y="3810"/>
                </a:cubicBezTo>
                <a:cubicBezTo>
                  <a:pt x="7449" y="3846"/>
                  <a:pt x="7474" y="3862"/>
                  <a:pt x="7501" y="3889"/>
                </a:cubicBezTo>
                <a:cubicBezTo>
                  <a:pt x="7521" y="3909"/>
                  <a:pt x="7541" y="3927"/>
                  <a:pt x="7560" y="3929"/>
                </a:cubicBezTo>
                <a:cubicBezTo>
                  <a:pt x="7602" y="3934"/>
                  <a:pt x="7640" y="3941"/>
                  <a:pt x="7660" y="3949"/>
                </a:cubicBezTo>
                <a:cubicBezTo>
                  <a:pt x="7713" y="3972"/>
                  <a:pt x="7813" y="3941"/>
                  <a:pt x="7838" y="3929"/>
                </a:cubicBezTo>
                <a:cubicBezTo>
                  <a:pt x="7880" y="3908"/>
                  <a:pt x="7885" y="3971"/>
                  <a:pt x="7858" y="3889"/>
                </a:cubicBezTo>
              </a:path>
              <a:path w="3592" h="617">
                <a:moveTo>
                  <a:pt x="7878" y="3691"/>
                </a:moveTo>
                <a:cubicBezTo>
                  <a:pt x="7886" y="3722"/>
                  <a:pt x="7898" y="3735"/>
                  <a:pt x="7898" y="3770"/>
                </a:cubicBezTo>
                <a:cubicBezTo>
                  <a:pt x="7898" y="3844"/>
                  <a:pt x="7904" y="3906"/>
                  <a:pt x="7918" y="3969"/>
                </a:cubicBezTo>
                <a:cubicBezTo>
                  <a:pt x="7923" y="3991"/>
                  <a:pt x="7918" y="4025"/>
                  <a:pt x="7918" y="4048"/>
                </a:cubicBezTo>
                <a:cubicBezTo>
                  <a:pt x="7918" y="3961"/>
                  <a:pt x="7910" y="3846"/>
                  <a:pt x="7938" y="3790"/>
                </a:cubicBezTo>
                <a:cubicBezTo>
                  <a:pt x="7959" y="3749"/>
                  <a:pt x="7922" y="3711"/>
                  <a:pt x="7957" y="3671"/>
                </a:cubicBezTo>
                <a:cubicBezTo>
                  <a:pt x="7973" y="3653"/>
                  <a:pt x="7987" y="3617"/>
                  <a:pt x="7997" y="3612"/>
                </a:cubicBezTo>
                <a:cubicBezTo>
                  <a:pt x="8009" y="3606"/>
                  <a:pt x="8043" y="3612"/>
                  <a:pt x="8057" y="3612"/>
                </a:cubicBezTo>
                <a:cubicBezTo>
                  <a:pt x="8057" y="3679"/>
                  <a:pt x="8057" y="3751"/>
                  <a:pt x="8076" y="3790"/>
                </a:cubicBezTo>
                <a:cubicBezTo>
                  <a:pt x="8099" y="3839"/>
                  <a:pt x="8076" y="4059"/>
                  <a:pt x="8076" y="4048"/>
                </a:cubicBezTo>
                <a:cubicBezTo>
                  <a:pt x="8076" y="4028"/>
                  <a:pt x="8076" y="4021"/>
                  <a:pt x="8076" y="4008"/>
                </a:cubicBezTo>
              </a:path>
              <a:path w="3592" h="617">
                <a:moveTo>
                  <a:pt x="8195" y="3492"/>
                </a:moveTo>
                <a:cubicBezTo>
                  <a:pt x="8202" y="3492"/>
                  <a:pt x="8208" y="3492"/>
                  <a:pt x="8215" y="3492"/>
                </a:cubicBezTo>
                <a:cubicBezTo>
                  <a:pt x="8215" y="3572"/>
                  <a:pt x="8215" y="3651"/>
                  <a:pt x="8215" y="3731"/>
                </a:cubicBezTo>
                <a:cubicBezTo>
                  <a:pt x="8242" y="3749"/>
                  <a:pt x="8235" y="3770"/>
                  <a:pt x="8235" y="3810"/>
                </a:cubicBezTo>
                <a:cubicBezTo>
                  <a:pt x="8235" y="3896"/>
                  <a:pt x="8235" y="3982"/>
                  <a:pt x="8235" y="4068"/>
                </a:cubicBezTo>
                <a:cubicBezTo>
                  <a:pt x="8245" y="4038"/>
                  <a:pt x="8259" y="4048"/>
                  <a:pt x="8295" y="4048"/>
                </a:cubicBezTo>
                <a:cubicBezTo>
                  <a:pt x="8341" y="4048"/>
                  <a:pt x="8388" y="4048"/>
                  <a:pt x="8434" y="4048"/>
                </a:cubicBezTo>
              </a:path>
              <a:path w="3592" h="617">
                <a:moveTo>
                  <a:pt x="8215" y="3750"/>
                </a:moveTo>
                <a:cubicBezTo>
                  <a:pt x="8245" y="3728"/>
                  <a:pt x="8257" y="3731"/>
                  <a:pt x="8295" y="3731"/>
                </a:cubicBezTo>
                <a:cubicBezTo>
                  <a:pt x="8337" y="3731"/>
                  <a:pt x="8403" y="3745"/>
                  <a:pt x="8414" y="3711"/>
                </a:cubicBezTo>
              </a:path>
              <a:path w="3592" h="617">
                <a:moveTo>
                  <a:pt x="8791" y="3612"/>
                </a:moveTo>
                <a:cubicBezTo>
                  <a:pt x="8845" y="3612"/>
                  <a:pt x="8760" y="3612"/>
                  <a:pt x="8751" y="3612"/>
                </a:cubicBezTo>
                <a:cubicBezTo>
                  <a:pt x="8700" y="3612"/>
                  <a:pt x="8717" y="3634"/>
                  <a:pt x="8692" y="3651"/>
                </a:cubicBezTo>
                <a:cubicBezTo>
                  <a:pt x="8667" y="3668"/>
                  <a:pt x="8672" y="3670"/>
                  <a:pt x="8672" y="3711"/>
                </a:cubicBezTo>
                <a:cubicBezTo>
                  <a:pt x="8672" y="3756"/>
                  <a:pt x="8682" y="3770"/>
                  <a:pt x="8692" y="3790"/>
                </a:cubicBezTo>
                <a:cubicBezTo>
                  <a:pt x="8703" y="3811"/>
                  <a:pt x="8703" y="3826"/>
                  <a:pt x="8731" y="3830"/>
                </a:cubicBezTo>
                <a:cubicBezTo>
                  <a:pt x="8767" y="3835"/>
                  <a:pt x="8769" y="3834"/>
                  <a:pt x="8791" y="3850"/>
                </a:cubicBezTo>
                <a:cubicBezTo>
                  <a:pt x="8813" y="3867"/>
                  <a:pt x="8817" y="3903"/>
                  <a:pt x="8830" y="3909"/>
                </a:cubicBezTo>
                <a:cubicBezTo>
                  <a:pt x="8850" y="3909"/>
                  <a:pt x="8857" y="3909"/>
                  <a:pt x="8850" y="3929"/>
                </a:cubicBezTo>
                <a:cubicBezTo>
                  <a:pt x="8840" y="3959"/>
                  <a:pt x="8827" y="3949"/>
                  <a:pt x="8791" y="3949"/>
                </a:cubicBezTo>
                <a:cubicBezTo>
                  <a:pt x="8742" y="3949"/>
                  <a:pt x="8605" y="3931"/>
                  <a:pt x="8592" y="3969"/>
                </a:cubicBezTo>
              </a:path>
            </a:pathLst>
          </a:custGeom>
          <a:noFill/>
          <a:ln cap="rnd" w="190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Ink 9"/>
          <p:cNvSpPr/>
          <p:nvPr/>
        </p:nvSpPr>
        <p:spPr>
          <a:xfrm>
            <a:off x="5021280" y="642960"/>
            <a:ext cx="258840" cy="243000"/>
          </a:xfrm>
          <a:custGeom>
            <a:avLst/>
            <a:gdLst/>
            <a:ahLst/>
            <a:rect l="l" t="t" r="r" b="b"/>
            <a:pathLst>
              <a:path w="716" h="676">
                <a:moveTo>
                  <a:pt x="10100" y="3691"/>
                </a:moveTo>
                <a:cubicBezTo>
                  <a:pt x="10100" y="3671"/>
                  <a:pt x="10100" y="3664"/>
                  <a:pt x="10100" y="3651"/>
                </a:cubicBezTo>
                <a:cubicBezTo>
                  <a:pt x="10100" y="3792"/>
                  <a:pt x="10078" y="3962"/>
                  <a:pt x="10120" y="4088"/>
                </a:cubicBezTo>
                <a:cubicBezTo>
                  <a:pt x="10127" y="4110"/>
                  <a:pt x="10130" y="4079"/>
                  <a:pt x="10140" y="4048"/>
                </a:cubicBezTo>
                <a:cubicBezTo>
                  <a:pt x="10140" y="4041"/>
                  <a:pt x="10140" y="4035"/>
                  <a:pt x="10140" y="4028"/>
                </a:cubicBezTo>
              </a:path>
              <a:path w="716" h="676">
                <a:moveTo>
                  <a:pt x="10140" y="3433"/>
                </a:moveTo>
                <a:lnTo>
                  <a:pt x="10140" y="3433"/>
                </a:lnTo>
              </a:path>
              <a:path w="716" h="676">
                <a:moveTo>
                  <a:pt x="10755" y="3612"/>
                </a:moveTo>
                <a:cubicBezTo>
                  <a:pt x="10720" y="3612"/>
                  <a:pt x="10716" y="3607"/>
                  <a:pt x="10696" y="3592"/>
                </a:cubicBezTo>
                <a:cubicBezTo>
                  <a:pt x="10665" y="3569"/>
                  <a:pt x="10655" y="3572"/>
                  <a:pt x="10616" y="3572"/>
                </a:cubicBezTo>
                <a:cubicBezTo>
                  <a:pt x="10613" y="3572"/>
                  <a:pt x="10537" y="3592"/>
                  <a:pt x="10537" y="3592"/>
                </a:cubicBezTo>
                <a:cubicBezTo>
                  <a:pt x="10530" y="3600"/>
                  <a:pt x="10524" y="3645"/>
                  <a:pt x="10517" y="3651"/>
                </a:cubicBezTo>
                <a:cubicBezTo>
                  <a:pt x="10494" y="3669"/>
                  <a:pt x="10497" y="3669"/>
                  <a:pt x="10497" y="3711"/>
                </a:cubicBezTo>
                <a:cubicBezTo>
                  <a:pt x="10497" y="3724"/>
                  <a:pt x="10510" y="3778"/>
                  <a:pt x="10517" y="3790"/>
                </a:cubicBezTo>
                <a:cubicBezTo>
                  <a:pt x="10530" y="3814"/>
                  <a:pt x="10561" y="3826"/>
                  <a:pt x="10577" y="3850"/>
                </a:cubicBezTo>
                <a:cubicBezTo>
                  <a:pt x="10591" y="3871"/>
                  <a:pt x="10633" y="3887"/>
                  <a:pt x="10656" y="3889"/>
                </a:cubicBezTo>
                <a:cubicBezTo>
                  <a:pt x="10706" y="3892"/>
                  <a:pt x="10725" y="3924"/>
                  <a:pt x="10775" y="3929"/>
                </a:cubicBezTo>
                <a:cubicBezTo>
                  <a:pt x="10795" y="3929"/>
                  <a:pt x="10802" y="3929"/>
                  <a:pt x="10815" y="3929"/>
                </a:cubicBezTo>
                <a:cubicBezTo>
                  <a:pt x="10815" y="3971"/>
                  <a:pt x="10817" y="3969"/>
                  <a:pt x="10775" y="3969"/>
                </a:cubicBezTo>
                <a:cubicBezTo>
                  <a:pt x="10689" y="3969"/>
                  <a:pt x="10603" y="3969"/>
                  <a:pt x="10517" y="3969"/>
                </a:cubicBezTo>
              </a:path>
            </a:pathLst>
          </a:custGeom>
          <a:noFill/>
          <a:ln cap="rnd" w="190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Ink 10"/>
          <p:cNvSpPr/>
          <p:nvPr/>
        </p:nvSpPr>
        <p:spPr>
          <a:xfrm>
            <a:off x="5522760" y="549360"/>
            <a:ext cx="1292400" cy="342720"/>
          </a:xfrm>
          <a:custGeom>
            <a:avLst/>
            <a:gdLst/>
            <a:ahLst/>
            <a:rect l="l" t="t" r="r" b="b"/>
            <a:pathLst>
              <a:path w="3592" h="954">
                <a:moveTo>
                  <a:pt x="11648" y="3671"/>
                </a:moveTo>
                <a:cubicBezTo>
                  <a:pt x="11639" y="3645"/>
                  <a:pt x="11617" y="3647"/>
                  <a:pt x="11609" y="3631"/>
                </a:cubicBezTo>
                <a:cubicBezTo>
                  <a:pt x="11596" y="3604"/>
                  <a:pt x="11586" y="3612"/>
                  <a:pt x="11549" y="3612"/>
                </a:cubicBezTo>
                <a:cubicBezTo>
                  <a:pt x="11520" y="3612"/>
                  <a:pt x="11521" y="3634"/>
                  <a:pt x="11509" y="3651"/>
                </a:cubicBezTo>
                <a:cubicBezTo>
                  <a:pt x="11487" y="3681"/>
                  <a:pt x="11490" y="3693"/>
                  <a:pt x="11490" y="3731"/>
                </a:cubicBezTo>
                <a:cubicBezTo>
                  <a:pt x="11490" y="3777"/>
                  <a:pt x="11478" y="3835"/>
                  <a:pt x="11509" y="3870"/>
                </a:cubicBezTo>
                <a:cubicBezTo>
                  <a:pt x="11552" y="3918"/>
                  <a:pt x="11558" y="3887"/>
                  <a:pt x="11609" y="3909"/>
                </a:cubicBezTo>
                <a:cubicBezTo>
                  <a:pt x="11642" y="3923"/>
                  <a:pt x="11647" y="3929"/>
                  <a:pt x="11688" y="3929"/>
                </a:cubicBezTo>
                <a:cubicBezTo>
                  <a:pt x="11722" y="3929"/>
                  <a:pt x="11828" y="3947"/>
                  <a:pt x="11847" y="3909"/>
                </a:cubicBezTo>
                <a:cubicBezTo>
                  <a:pt x="11866" y="3871"/>
                  <a:pt x="11836" y="3818"/>
                  <a:pt x="11827" y="3790"/>
                </a:cubicBezTo>
                <a:cubicBezTo>
                  <a:pt x="11823" y="3777"/>
                  <a:pt x="11809" y="3741"/>
                  <a:pt x="11787" y="3731"/>
                </a:cubicBezTo>
                <a:cubicBezTo>
                  <a:pt x="11763" y="3719"/>
                  <a:pt x="11765" y="3695"/>
                  <a:pt x="11728" y="3691"/>
                </a:cubicBezTo>
                <a:cubicBezTo>
                  <a:pt x="11695" y="3687"/>
                  <a:pt x="11713" y="3671"/>
                  <a:pt x="11668" y="3671"/>
                </a:cubicBezTo>
                <a:cubicBezTo>
                  <a:pt x="11648" y="3671"/>
                  <a:pt x="11641" y="3671"/>
                  <a:pt x="11648" y="3691"/>
                </a:cubicBezTo>
              </a:path>
              <a:path w="3592" h="954">
                <a:moveTo>
                  <a:pt x="12005" y="3671"/>
                </a:moveTo>
                <a:cubicBezTo>
                  <a:pt x="12005" y="3645"/>
                  <a:pt x="11998" y="3589"/>
                  <a:pt x="11986" y="3612"/>
                </a:cubicBezTo>
                <a:cubicBezTo>
                  <a:pt x="11967" y="3650"/>
                  <a:pt x="11995" y="3701"/>
                  <a:pt x="12005" y="3731"/>
                </a:cubicBezTo>
                <a:cubicBezTo>
                  <a:pt x="12014" y="3759"/>
                  <a:pt x="12040" y="3780"/>
                  <a:pt x="12045" y="3790"/>
                </a:cubicBezTo>
                <a:cubicBezTo>
                  <a:pt x="12059" y="3818"/>
                  <a:pt x="12061" y="3812"/>
                  <a:pt x="12085" y="3830"/>
                </a:cubicBezTo>
                <a:cubicBezTo>
                  <a:pt x="12123" y="3858"/>
                  <a:pt x="12155" y="3850"/>
                  <a:pt x="12204" y="3850"/>
                </a:cubicBezTo>
                <a:cubicBezTo>
                  <a:pt x="12244" y="3850"/>
                  <a:pt x="12283" y="3850"/>
                  <a:pt x="12323" y="3850"/>
                </a:cubicBezTo>
                <a:cubicBezTo>
                  <a:pt x="12323" y="3771"/>
                  <a:pt x="12326" y="3698"/>
                  <a:pt x="12303" y="3631"/>
                </a:cubicBezTo>
                <a:cubicBezTo>
                  <a:pt x="12292" y="3597"/>
                  <a:pt x="12303" y="3581"/>
                  <a:pt x="12303" y="3631"/>
                </a:cubicBezTo>
                <a:cubicBezTo>
                  <a:pt x="12303" y="3668"/>
                  <a:pt x="12319" y="3678"/>
                  <a:pt x="12323" y="3711"/>
                </a:cubicBezTo>
                <a:cubicBezTo>
                  <a:pt x="12326" y="3737"/>
                  <a:pt x="12322" y="3754"/>
                  <a:pt x="12343" y="3770"/>
                </a:cubicBezTo>
                <a:cubicBezTo>
                  <a:pt x="12352" y="3777"/>
                  <a:pt x="12396" y="3789"/>
                  <a:pt x="12402" y="3790"/>
                </a:cubicBezTo>
                <a:cubicBezTo>
                  <a:pt x="12443" y="3795"/>
                  <a:pt x="12557" y="3805"/>
                  <a:pt x="12561" y="3770"/>
                </a:cubicBezTo>
                <a:cubicBezTo>
                  <a:pt x="12561" y="3763"/>
                  <a:pt x="12561" y="3757"/>
                  <a:pt x="12561" y="3750"/>
                </a:cubicBezTo>
              </a:path>
              <a:path w="3592" h="954">
                <a:moveTo>
                  <a:pt x="12541" y="3612"/>
                </a:moveTo>
                <a:cubicBezTo>
                  <a:pt x="12541" y="3644"/>
                  <a:pt x="12547" y="3665"/>
                  <a:pt x="12561" y="3691"/>
                </a:cubicBezTo>
                <a:cubicBezTo>
                  <a:pt x="12576" y="3719"/>
                  <a:pt x="12614" y="3739"/>
                  <a:pt x="12621" y="3770"/>
                </a:cubicBezTo>
                <a:cubicBezTo>
                  <a:pt x="12626" y="3791"/>
                  <a:pt x="12621" y="3931"/>
                  <a:pt x="12621" y="3889"/>
                </a:cubicBezTo>
                <a:cubicBezTo>
                  <a:pt x="12621" y="3808"/>
                  <a:pt x="12615" y="3703"/>
                  <a:pt x="12640" y="3651"/>
                </a:cubicBezTo>
                <a:cubicBezTo>
                  <a:pt x="12652" y="3627"/>
                  <a:pt x="12688" y="3631"/>
                  <a:pt x="12700" y="3612"/>
                </a:cubicBezTo>
                <a:cubicBezTo>
                  <a:pt x="12717" y="3587"/>
                  <a:pt x="12719" y="3592"/>
                  <a:pt x="12760" y="3592"/>
                </a:cubicBezTo>
                <a:cubicBezTo>
                  <a:pt x="12780" y="3592"/>
                  <a:pt x="12799" y="3592"/>
                  <a:pt x="12819" y="3592"/>
                </a:cubicBezTo>
              </a:path>
              <a:path w="3592" h="954">
                <a:moveTo>
                  <a:pt x="13355" y="3552"/>
                </a:moveTo>
                <a:cubicBezTo>
                  <a:pt x="13336" y="3527"/>
                  <a:pt x="13331" y="3496"/>
                  <a:pt x="13315" y="3473"/>
                </a:cubicBezTo>
                <a:cubicBezTo>
                  <a:pt x="13296" y="3444"/>
                  <a:pt x="13300" y="3441"/>
                  <a:pt x="13275" y="3433"/>
                </a:cubicBezTo>
                <a:cubicBezTo>
                  <a:pt x="13258" y="3463"/>
                  <a:pt x="13240" y="3498"/>
                  <a:pt x="13236" y="3532"/>
                </a:cubicBezTo>
                <a:cubicBezTo>
                  <a:pt x="13220" y="3680"/>
                  <a:pt x="13236" y="3840"/>
                  <a:pt x="13236" y="3989"/>
                </a:cubicBezTo>
                <a:cubicBezTo>
                  <a:pt x="13284" y="3989"/>
                  <a:pt x="13316" y="4000"/>
                  <a:pt x="13355" y="4008"/>
                </a:cubicBezTo>
                <a:cubicBezTo>
                  <a:pt x="13421" y="4021"/>
                  <a:pt x="13505" y="4008"/>
                  <a:pt x="13573" y="4008"/>
                </a:cubicBezTo>
              </a:path>
              <a:path w="3592" h="954">
                <a:moveTo>
                  <a:pt x="13752" y="3750"/>
                </a:moveTo>
                <a:cubicBezTo>
                  <a:pt x="13752" y="3796"/>
                  <a:pt x="13752" y="3951"/>
                  <a:pt x="13752" y="3929"/>
                </a:cubicBezTo>
                <a:cubicBezTo>
                  <a:pt x="13752" y="3909"/>
                  <a:pt x="13752" y="3902"/>
                  <a:pt x="13752" y="3889"/>
                </a:cubicBezTo>
              </a:path>
              <a:path w="3592" h="954">
                <a:moveTo>
                  <a:pt x="13732" y="3572"/>
                </a:moveTo>
                <a:cubicBezTo>
                  <a:pt x="13761" y="3594"/>
                  <a:pt x="13763" y="3585"/>
                  <a:pt x="13772" y="3612"/>
                </a:cubicBezTo>
              </a:path>
              <a:path w="3592" h="954">
                <a:moveTo>
                  <a:pt x="14010" y="3175"/>
                </a:moveTo>
                <a:cubicBezTo>
                  <a:pt x="13990" y="3175"/>
                  <a:pt x="13983" y="3175"/>
                  <a:pt x="13970" y="3175"/>
                </a:cubicBezTo>
                <a:cubicBezTo>
                  <a:pt x="13959" y="3207"/>
                  <a:pt x="13961" y="3183"/>
                  <a:pt x="13950" y="3215"/>
                </a:cubicBezTo>
                <a:cubicBezTo>
                  <a:pt x="13907" y="3229"/>
                  <a:pt x="13949" y="3240"/>
                  <a:pt x="13930" y="3274"/>
                </a:cubicBezTo>
                <a:cubicBezTo>
                  <a:pt x="13909" y="3311"/>
                  <a:pt x="13910" y="3325"/>
                  <a:pt x="13910" y="3373"/>
                </a:cubicBezTo>
                <a:cubicBezTo>
                  <a:pt x="13910" y="3431"/>
                  <a:pt x="13904" y="3484"/>
                  <a:pt x="13930" y="3532"/>
                </a:cubicBezTo>
                <a:cubicBezTo>
                  <a:pt x="13938" y="3547"/>
                  <a:pt x="13959" y="3624"/>
                  <a:pt x="13970" y="3631"/>
                </a:cubicBezTo>
                <a:cubicBezTo>
                  <a:pt x="13977" y="3631"/>
                  <a:pt x="13983" y="3631"/>
                  <a:pt x="13990" y="3631"/>
                </a:cubicBezTo>
                <a:cubicBezTo>
                  <a:pt x="13990" y="3684"/>
                  <a:pt x="13996" y="3690"/>
                  <a:pt x="14010" y="3731"/>
                </a:cubicBezTo>
                <a:cubicBezTo>
                  <a:pt x="14017" y="3752"/>
                  <a:pt x="14010" y="3788"/>
                  <a:pt x="14010" y="3810"/>
                </a:cubicBezTo>
                <a:cubicBezTo>
                  <a:pt x="14020" y="3816"/>
                  <a:pt x="14058" y="3848"/>
                  <a:pt x="14069" y="3870"/>
                </a:cubicBezTo>
                <a:cubicBezTo>
                  <a:pt x="14096" y="3924"/>
                  <a:pt x="14069" y="4066"/>
                  <a:pt x="14069" y="4128"/>
                </a:cubicBezTo>
                <a:cubicBezTo>
                  <a:pt x="14038" y="4128"/>
                  <a:pt x="14014" y="4140"/>
                  <a:pt x="14010" y="4108"/>
                </a:cubicBezTo>
                <a:cubicBezTo>
                  <a:pt x="14010" y="4101"/>
                  <a:pt x="14010" y="4095"/>
                  <a:pt x="14010" y="4088"/>
                </a:cubicBezTo>
                <a:cubicBezTo>
                  <a:pt x="13986" y="4080"/>
                  <a:pt x="13976" y="4054"/>
                  <a:pt x="13950" y="4028"/>
                </a:cubicBezTo>
              </a:path>
              <a:path w="3592" h="954">
                <a:moveTo>
                  <a:pt x="13950" y="3870"/>
                </a:moveTo>
                <a:cubicBezTo>
                  <a:pt x="14016" y="3870"/>
                  <a:pt x="14118" y="3889"/>
                  <a:pt x="14168" y="3850"/>
                </a:cubicBezTo>
              </a:path>
              <a:path w="3592" h="954">
                <a:moveTo>
                  <a:pt x="14367" y="3830"/>
                </a:moveTo>
                <a:cubicBezTo>
                  <a:pt x="14396" y="3830"/>
                  <a:pt x="14425" y="3824"/>
                  <a:pt x="14446" y="3810"/>
                </a:cubicBezTo>
                <a:cubicBezTo>
                  <a:pt x="14481" y="3787"/>
                  <a:pt x="14486" y="3793"/>
                  <a:pt x="14486" y="3750"/>
                </a:cubicBezTo>
                <a:cubicBezTo>
                  <a:pt x="14486" y="3710"/>
                  <a:pt x="14477" y="3703"/>
                  <a:pt x="14466" y="3671"/>
                </a:cubicBezTo>
                <a:cubicBezTo>
                  <a:pt x="14462" y="3658"/>
                  <a:pt x="14448" y="3623"/>
                  <a:pt x="14426" y="3612"/>
                </a:cubicBezTo>
                <a:cubicBezTo>
                  <a:pt x="14400" y="3599"/>
                  <a:pt x="14416" y="3602"/>
                  <a:pt x="14387" y="3592"/>
                </a:cubicBezTo>
                <a:cubicBezTo>
                  <a:pt x="14360" y="3613"/>
                  <a:pt x="14330" y="3612"/>
                  <a:pt x="14327" y="3651"/>
                </a:cubicBezTo>
                <a:cubicBezTo>
                  <a:pt x="14324" y="3694"/>
                  <a:pt x="14319" y="3738"/>
                  <a:pt x="14347" y="3770"/>
                </a:cubicBezTo>
                <a:cubicBezTo>
                  <a:pt x="14367" y="3793"/>
                  <a:pt x="14384" y="3809"/>
                  <a:pt x="14387" y="3830"/>
                </a:cubicBezTo>
                <a:cubicBezTo>
                  <a:pt x="14390" y="3851"/>
                  <a:pt x="14405" y="3867"/>
                  <a:pt x="14426" y="3870"/>
                </a:cubicBezTo>
                <a:cubicBezTo>
                  <a:pt x="14473" y="3876"/>
                  <a:pt x="14614" y="3884"/>
                  <a:pt x="14625" y="3850"/>
                </a:cubicBezTo>
              </a:path>
              <a:path w="3592" h="954">
                <a:moveTo>
                  <a:pt x="14903" y="3492"/>
                </a:moveTo>
                <a:cubicBezTo>
                  <a:pt x="14890" y="3509"/>
                  <a:pt x="14871" y="3548"/>
                  <a:pt x="14863" y="3552"/>
                </a:cubicBezTo>
                <a:cubicBezTo>
                  <a:pt x="14835" y="3566"/>
                  <a:pt x="14843" y="3573"/>
                  <a:pt x="14843" y="3612"/>
                </a:cubicBezTo>
                <a:cubicBezTo>
                  <a:pt x="14843" y="3643"/>
                  <a:pt x="14875" y="3634"/>
                  <a:pt x="14883" y="3651"/>
                </a:cubicBezTo>
                <a:cubicBezTo>
                  <a:pt x="14892" y="3669"/>
                  <a:pt x="14921" y="3688"/>
                  <a:pt x="14942" y="3691"/>
                </a:cubicBezTo>
                <a:cubicBezTo>
                  <a:pt x="14967" y="3694"/>
                  <a:pt x="14994" y="3695"/>
                  <a:pt x="15002" y="3711"/>
                </a:cubicBezTo>
                <a:cubicBezTo>
                  <a:pt x="15002" y="3734"/>
                  <a:pt x="15004" y="3742"/>
                  <a:pt x="15022" y="3750"/>
                </a:cubicBezTo>
                <a:cubicBezTo>
                  <a:pt x="15012" y="3780"/>
                  <a:pt x="15004" y="3773"/>
                  <a:pt x="14982" y="3790"/>
                </a:cubicBezTo>
                <a:cubicBezTo>
                  <a:pt x="14970" y="3799"/>
                  <a:pt x="14905" y="3846"/>
                  <a:pt x="14903" y="3850"/>
                </a:cubicBezTo>
                <a:cubicBezTo>
                  <a:pt x="14890" y="3870"/>
                  <a:pt x="14880" y="3885"/>
                  <a:pt x="14843" y="3889"/>
                </a:cubicBezTo>
                <a:cubicBezTo>
                  <a:pt x="14812" y="3892"/>
                  <a:pt x="14768" y="3900"/>
                  <a:pt x="14764" y="3870"/>
                </a:cubicBezTo>
                <a:cubicBezTo>
                  <a:pt x="14764" y="3850"/>
                  <a:pt x="14764" y="3843"/>
                  <a:pt x="14764" y="3830"/>
                </a:cubicBezTo>
              </a:path>
              <a:path w="3592" h="954">
                <a:moveTo>
                  <a:pt x="15042" y="3433"/>
                </a:moveTo>
                <a:cubicBezTo>
                  <a:pt x="15063" y="3440"/>
                  <a:pt x="15078" y="3448"/>
                  <a:pt x="15081" y="3473"/>
                </a:cubicBezTo>
                <a:cubicBezTo>
                  <a:pt x="15089" y="3535"/>
                  <a:pt x="15071" y="3556"/>
                  <a:pt x="15042" y="3612"/>
                </a:cubicBezTo>
                <a:cubicBezTo>
                  <a:pt x="15018" y="3659"/>
                  <a:pt x="15003" y="3678"/>
                  <a:pt x="14962" y="3691"/>
                </a:cubicBezTo>
              </a:path>
            </a:pathLst>
          </a:custGeom>
          <a:noFill/>
          <a:ln cap="rnd" w="190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Ink 11"/>
          <p:cNvSpPr/>
          <p:nvPr/>
        </p:nvSpPr>
        <p:spPr>
          <a:xfrm>
            <a:off x="7029360" y="635040"/>
            <a:ext cx="1428840" cy="379440"/>
          </a:xfrm>
          <a:custGeom>
            <a:avLst/>
            <a:gdLst/>
            <a:ahLst/>
            <a:rect l="l" t="t" r="r" b="b"/>
            <a:pathLst>
              <a:path w="3969" h="1053">
                <a:moveTo>
                  <a:pt x="15677" y="3731"/>
                </a:moveTo>
                <a:cubicBezTo>
                  <a:pt x="15690" y="3770"/>
                  <a:pt x="15694" y="3813"/>
                  <a:pt x="15716" y="3850"/>
                </a:cubicBezTo>
                <a:cubicBezTo>
                  <a:pt x="15749" y="3906"/>
                  <a:pt x="15794" y="3990"/>
                  <a:pt x="15815" y="4048"/>
                </a:cubicBezTo>
                <a:cubicBezTo>
                  <a:pt x="15831" y="4093"/>
                  <a:pt x="15851" y="4141"/>
                  <a:pt x="15875" y="4167"/>
                </a:cubicBezTo>
                <a:cubicBezTo>
                  <a:pt x="15895" y="4167"/>
                  <a:pt x="15902" y="4167"/>
                  <a:pt x="15895" y="4187"/>
                </a:cubicBezTo>
                <a:cubicBezTo>
                  <a:pt x="15921" y="4171"/>
                  <a:pt x="15951" y="4159"/>
                  <a:pt x="15974" y="4128"/>
                </a:cubicBezTo>
                <a:cubicBezTo>
                  <a:pt x="16007" y="4084"/>
                  <a:pt x="16016" y="4053"/>
                  <a:pt x="16034" y="4008"/>
                </a:cubicBezTo>
                <a:cubicBezTo>
                  <a:pt x="16036" y="4003"/>
                  <a:pt x="16045" y="3953"/>
                  <a:pt x="16054" y="3929"/>
                </a:cubicBezTo>
                <a:cubicBezTo>
                  <a:pt x="16056" y="3924"/>
                  <a:pt x="16087" y="3895"/>
                  <a:pt x="16093" y="3889"/>
                </a:cubicBezTo>
                <a:cubicBezTo>
                  <a:pt x="16125" y="3932"/>
                  <a:pt x="16154" y="3968"/>
                  <a:pt x="16192" y="4008"/>
                </a:cubicBezTo>
                <a:cubicBezTo>
                  <a:pt x="16224" y="4042"/>
                  <a:pt x="16298" y="4117"/>
                  <a:pt x="16351" y="4128"/>
                </a:cubicBezTo>
                <a:cubicBezTo>
                  <a:pt x="16422" y="4143"/>
                  <a:pt x="16476" y="4149"/>
                  <a:pt x="16550" y="4167"/>
                </a:cubicBezTo>
                <a:cubicBezTo>
                  <a:pt x="16608" y="4181"/>
                  <a:pt x="16691" y="4201"/>
                  <a:pt x="16748" y="4167"/>
                </a:cubicBezTo>
                <a:cubicBezTo>
                  <a:pt x="16781" y="4147"/>
                  <a:pt x="16854" y="4061"/>
                  <a:pt x="16867" y="4028"/>
                </a:cubicBezTo>
                <a:cubicBezTo>
                  <a:pt x="16897" y="3950"/>
                  <a:pt x="16862" y="3785"/>
                  <a:pt x="16847" y="3711"/>
                </a:cubicBezTo>
                <a:cubicBezTo>
                  <a:pt x="16827" y="3612"/>
                  <a:pt x="16828" y="3537"/>
                  <a:pt x="16768" y="3453"/>
                </a:cubicBezTo>
                <a:cubicBezTo>
                  <a:pt x="16754" y="3434"/>
                  <a:pt x="16755" y="3404"/>
                  <a:pt x="16748" y="3433"/>
                </a:cubicBezTo>
                <a:cubicBezTo>
                  <a:pt x="16748" y="3440"/>
                  <a:pt x="16748" y="3446"/>
                  <a:pt x="16748" y="3453"/>
                </a:cubicBezTo>
              </a:path>
              <a:path w="3969" h="1053">
                <a:moveTo>
                  <a:pt x="17502" y="3770"/>
                </a:moveTo>
                <a:cubicBezTo>
                  <a:pt x="17458" y="3735"/>
                  <a:pt x="17438" y="3731"/>
                  <a:pt x="17383" y="3731"/>
                </a:cubicBezTo>
                <a:cubicBezTo>
                  <a:pt x="17330" y="3731"/>
                  <a:pt x="17277" y="3731"/>
                  <a:pt x="17224" y="3731"/>
                </a:cubicBezTo>
                <a:cubicBezTo>
                  <a:pt x="17224" y="3804"/>
                  <a:pt x="17222" y="3885"/>
                  <a:pt x="17244" y="3929"/>
                </a:cubicBezTo>
                <a:cubicBezTo>
                  <a:pt x="17262" y="3966"/>
                  <a:pt x="17271" y="3968"/>
                  <a:pt x="17304" y="3989"/>
                </a:cubicBezTo>
                <a:cubicBezTo>
                  <a:pt x="17337" y="4010"/>
                  <a:pt x="17321" y="4034"/>
                  <a:pt x="17363" y="4048"/>
                </a:cubicBezTo>
                <a:cubicBezTo>
                  <a:pt x="17433" y="4071"/>
                  <a:pt x="17562" y="4048"/>
                  <a:pt x="17621" y="4028"/>
                </a:cubicBezTo>
                <a:cubicBezTo>
                  <a:pt x="17647" y="4019"/>
                  <a:pt x="17671" y="3994"/>
                  <a:pt x="17681" y="3989"/>
                </a:cubicBezTo>
                <a:cubicBezTo>
                  <a:pt x="17709" y="3976"/>
                  <a:pt x="17701" y="3967"/>
                  <a:pt x="17701" y="3929"/>
                </a:cubicBezTo>
                <a:cubicBezTo>
                  <a:pt x="17701" y="3916"/>
                  <a:pt x="17701" y="3902"/>
                  <a:pt x="17701" y="3889"/>
                </a:cubicBezTo>
                <a:cubicBezTo>
                  <a:pt x="17641" y="3869"/>
                  <a:pt x="17667" y="3847"/>
                  <a:pt x="17621" y="3790"/>
                </a:cubicBezTo>
                <a:cubicBezTo>
                  <a:pt x="17591" y="3753"/>
                  <a:pt x="17523" y="3728"/>
                  <a:pt x="17502" y="3691"/>
                </a:cubicBezTo>
                <a:cubicBezTo>
                  <a:pt x="17502" y="3684"/>
                  <a:pt x="17502" y="3678"/>
                  <a:pt x="17502" y="3671"/>
                </a:cubicBezTo>
              </a:path>
              <a:path w="3969" h="1053">
                <a:moveTo>
                  <a:pt x="17899" y="3731"/>
                </a:moveTo>
                <a:cubicBezTo>
                  <a:pt x="17899" y="3778"/>
                  <a:pt x="17911" y="3813"/>
                  <a:pt x="17919" y="3850"/>
                </a:cubicBezTo>
                <a:cubicBezTo>
                  <a:pt x="17933" y="3916"/>
                  <a:pt x="17918" y="3985"/>
                  <a:pt x="17939" y="4028"/>
                </a:cubicBezTo>
                <a:cubicBezTo>
                  <a:pt x="17942" y="4034"/>
                  <a:pt x="17939" y="4124"/>
                  <a:pt x="17939" y="4068"/>
                </a:cubicBezTo>
                <a:cubicBezTo>
                  <a:pt x="17939" y="3980"/>
                  <a:pt x="17934" y="3868"/>
                  <a:pt x="17959" y="3810"/>
                </a:cubicBezTo>
                <a:cubicBezTo>
                  <a:pt x="17976" y="3771"/>
                  <a:pt x="17985" y="3771"/>
                  <a:pt x="18018" y="3750"/>
                </a:cubicBezTo>
                <a:cubicBezTo>
                  <a:pt x="18057" y="3725"/>
                  <a:pt x="18087" y="3731"/>
                  <a:pt x="18137" y="3731"/>
                </a:cubicBezTo>
                <a:cubicBezTo>
                  <a:pt x="18182" y="3731"/>
                  <a:pt x="18212" y="3711"/>
                  <a:pt x="18256" y="3711"/>
                </a:cubicBezTo>
              </a:path>
              <a:path w="3969" h="1053">
                <a:moveTo>
                  <a:pt x="18534" y="3433"/>
                </a:moveTo>
                <a:cubicBezTo>
                  <a:pt x="18534" y="3379"/>
                  <a:pt x="18534" y="3500"/>
                  <a:pt x="18534" y="3512"/>
                </a:cubicBezTo>
                <a:cubicBezTo>
                  <a:pt x="18534" y="3744"/>
                  <a:pt x="18534" y="4399"/>
                  <a:pt x="18534" y="4167"/>
                </a:cubicBezTo>
                <a:cubicBezTo>
                  <a:pt x="18534" y="4160"/>
                  <a:pt x="18534" y="4154"/>
                  <a:pt x="18534" y="4147"/>
                </a:cubicBezTo>
              </a:path>
              <a:path w="3969" h="1053">
                <a:moveTo>
                  <a:pt x="18812" y="3651"/>
                </a:moveTo>
                <a:cubicBezTo>
                  <a:pt x="18776" y="3660"/>
                  <a:pt x="18753" y="3703"/>
                  <a:pt x="18732" y="3731"/>
                </a:cubicBezTo>
                <a:cubicBezTo>
                  <a:pt x="18706" y="3766"/>
                  <a:pt x="18666" y="3815"/>
                  <a:pt x="18653" y="3850"/>
                </a:cubicBezTo>
                <a:cubicBezTo>
                  <a:pt x="18636" y="3896"/>
                  <a:pt x="18611" y="3867"/>
                  <a:pt x="18594" y="3889"/>
                </a:cubicBezTo>
                <a:cubicBezTo>
                  <a:pt x="18563" y="3929"/>
                  <a:pt x="18589" y="3896"/>
                  <a:pt x="18633" y="3909"/>
                </a:cubicBezTo>
                <a:cubicBezTo>
                  <a:pt x="18725" y="3936"/>
                  <a:pt x="18814" y="3966"/>
                  <a:pt x="18911" y="3989"/>
                </a:cubicBezTo>
                <a:cubicBezTo>
                  <a:pt x="19003" y="4010"/>
                  <a:pt x="19100" y="4041"/>
                  <a:pt x="19189" y="4068"/>
                </a:cubicBezTo>
                <a:cubicBezTo>
                  <a:pt x="19225" y="4079"/>
                  <a:pt x="19251" y="4101"/>
                  <a:pt x="19288" y="4108"/>
                </a:cubicBezTo>
              </a:path>
              <a:path w="3969" h="1053">
                <a:moveTo>
                  <a:pt x="19506" y="4008"/>
                </a:moveTo>
                <a:cubicBezTo>
                  <a:pt x="19524" y="3991"/>
                  <a:pt x="19515" y="3976"/>
                  <a:pt x="19546" y="3969"/>
                </a:cubicBezTo>
                <a:cubicBezTo>
                  <a:pt x="19576" y="3963"/>
                  <a:pt x="19613" y="3969"/>
                  <a:pt x="19645" y="3969"/>
                </a:cubicBezTo>
                <a:cubicBezTo>
                  <a:pt x="19645" y="4029"/>
                  <a:pt x="19651" y="4079"/>
                  <a:pt x="19625" y="4128"/>
                </a:cubicBezTo>
                <a:cubicBezTo>
                  <a:pt x="19612" y="4153"/>
                  <a:pt x="19609" y="4205"/>
                  <a:pt x="19586" y="4227"/>
                </a:cubicBezTo>
                <a:cubicBezTo>
                  <a:pt x="19541" y="4269"/>
                  <a:pt x="19512" y="4326"/>
                  <a:pt x="19447" y="4366"/>
                </a:cubicBezTo>
                <a:cubicBezTo>
                  <a:pt x="19262" y="4480"/>
                  <a:pt x="18939" y="4448"/>
                  <a:pt x="18732" y="4465"/>
                </a:cubicBezTo>
              </a:path>
            </a:pathLst>
          </a:custGeom>
          <a:noFill/>
          <a:ln cap="rnd" w="190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403280" y="1844640"/>
            <a:ext cx="682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nt trauma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ypo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ed ment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agnostic and Therapeu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le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1403280" y="5516640"/>
            <a:ext cx="6840720" cy="1368360"/>
          </a:xfrm>
          <a:prstGeom prst="ellipse">
            <a:avLst/>
          </a:prstGeom>
          <a:noFill/>
          <a:ln w="5724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68720" y="14130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oad 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und judg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chnical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ership capabiliti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68360" y="5300640"/>
            <a:ext cx="8058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Often what happens in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itial phase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 of resuscitation period ofte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termines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 the outcome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8"/>
          <p:cNvSpPr txBox="1"/>
          <p:nvPr/>
        </p:nvSpPr>
        <p:spPr>
          <a:xfrm rot="5400000">
            <a:off x="5391360" y="292500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170280" y="1341360"/>
            <a:ext cx="58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nagement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rporate regional planning with designated trauma cen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improvement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 rot="5400000">
            <a:off x="-2925360" y="310608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System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duce the preventable trauma death 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per field tri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sures that injured patients are taken to the closest facility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pa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elivering definitive c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 rot="5400000">
            <a:off x="-2925360" y="310608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144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chanism of Inju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 of the mechanism greatly enhances the management of trauma pati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57"/>
          <p:cNvSpPr/>
          <p:nvPr/>
        </p:nvSpPr>
        <p:spPr>
          <a:xfrm>
            <a:off x="902880" y="4653000"/>
            <a:ext cx="40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ample: Supin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58"/>
          <p:cNvSpPr/>
          <p:nvPr/>
        </p:nvSpPr>
        <p:spPr>
          <a:xfrm>
            <a:off x="1837440" y="5516640"/>
            <a:ext cx="56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xial skeletal inju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artery thrombosis from intimal t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61"/>
          <p:cNvSpPr txBox="1"/>
          <p:nvPr/>
        </p:nvSpPr>
        <p:spPr>
          <a:xfrm rot="5400000">
            <a:off x="-2946960" y="2946960"/>
            <a:ext cx="6597720" cy="70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ticipation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hospital Ph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s at the scene of the trau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rehospit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 of additional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transpor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 not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on of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2:07:02Z</dcterms:created>
  <dc:creator>Dr.Sami</dc:creator>
  <dc:description/>
  <dc:language>en-US</dc:language>
  <cp:lastModifiedBy>admin</cp:lastModifiedBy>
  <dcterms:modified xsi:type="dcterms:W3CDTF">2014-05-18T07:43:17Z</dcterms:modified>
  <cp:revision>15</cp:revision>
  <dc:subject/>
  <dc:title>Slide 1</dc:title>
</cp:coreProperties>
</file>