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FF7-E911-45FC-B6E0-C64E2CE9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7C5-EB81-42DA-BA16-4C67DD7F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1BC-E066-4956-BD3F-5A326E91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1EF-9ADD-48FB-831A-BCF5DA8E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E4238-2368-428C-AE32-A2C365BA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F3E3E-57D4-4E63-9106-76F47C22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44398-4B94-4AA5-930A-33DC496E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5DEB0-1404-41DC-8B22-F4254CDA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89B63-E54A-42CE-A555-201CCB5B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06FE2-0C07-46B6-824B-6BAAA15F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D5131-907F-4A2B-8E54-F8F4DDF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A5F-8AFC-403B-8F84-A01ACA13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68111-0FE7-4FAC-91F5-63B32DB5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1F899-4D45-4928-884B-603CC1CF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AB59E-1348-461A-93E7-0A8C2D8D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82B0B-A764-4C26-87B6-CEDAA67A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60E21-A55C-4CAA-8995-B67ED6B7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E8A-3BAB-448B-8C55-96D7B3B0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C11-9841-4900-AEDF-84C30006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479-B547-40BD-96E5-08C5BC0B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765-E1AA-4C50-BB1B-53245E30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086-5A6A-451F-A7F0-A094E2E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339-A18B-466A-ADA3-A58E913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B9B-A63C-4B07-AAF8-FD1B9B90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8DA5-B4B9-4F5D-8D16-BE70089A4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C140-5A48-499E-A77E-1175E9D88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6880" y="549360"/>
            <a:ext cx="878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54348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09720"/>
            <a:ext cx="9144000" cy="65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olonna MT"/>
                <a:ea typeface="Arial Unicode MS"/>
              </a:rPr>
              <a:t>Systematic Review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Colonna MT"/>
                <a:ea typeface="Arial Unicode MS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lonna MT"/>
                <a:ea typeface="Arial Unicode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olonna MT"/>
                <a:ea typeface="Arial Unicode MS"/>
              </a:rPr>
              <a:t>Pharmacological and Behavio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lonna MT"/>
                <a:ea typeface="Arial Unicode MS"/>
              </a:rPr>
              <a:t>Treatment for Trichotilloman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Comic Sans MS"/>
              </a:rPr>
              <a:t>BIOL PSYCHIATRY 2007;62:839–846</a:t>
            </a:r>
            <a:r>
              <a:rPr b="1" lang="en-US" sz="1800" spc="-1" strike="noStrike">
                <a:solidFill>
                  <a:srgbClr val="65c8ff"/>
                </a:solidFill>
                <a:latin typeface="Comic Sans MS"/>
              </a:rPr>
              <a:t>               </a:t>
            </a: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KAUH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D2DF4-B88A-4386-BB2C-A049A5F162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Excluded studies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open-label SSRI studies examining fluoxetine,fluvoxamine , and citalopram were excluded from this review because they lacked a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5c8ff"/>
                </a:solidFill>
                <a:latin typeface="Comic Sans MS"/>
              </a:rPr>
              <a:t>placebo comparison group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linded clinical ratings of outc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behavioral therapy trial that compared HRT with negative practice (no clinical rat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962-649F-42D3-A28F-B676F35179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Results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c8ff"/>
                </a:solidFill>
                <a:latin typeface="Lucida Fax"/>
              </a:rPr>
              <a:t>Outcome 1</a:t>
            </a:r>
            <a:r>
              <a:rPr b="0" lang="ar-SA" sz="3200" spc="-1" strike="noStrike">
                <a:solidFill>
                  <a:srgbClr val="65c8ff"/>
                </a:solidFill>
                <a:latin typeface="Lucida Fax"/>
              </a:rPr>
              <a:t>: </a:t>
            </a:r>
            <a:r>
              <a:rPr b="0" lang="en-US" sz="3200" spc="-1" strike="noStrike">
                <a:solidFill>
                  <a:srgbClr val="65c8ff"/>
                </a:solidFill>
                <a:latin typeface="Lucida Fax"/>
              </a:rPr>
              <a:t>Selective Serotonin Reuptake Inhibitors Versus Control Condi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studies ,72 pts ,used : fluoxetine , sertralin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ignificant difference between control &amp;SSRI gro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B8B-4AB0-4F70-86A8-C709A7C9EA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5c8ff"/>
                </a:solidFill>
                <a:latin typeface="Lucida Fax"/>
              </a:rPr>
              <a:t>Outcome 2: Clomipramine Versus Control Condition</a:t>
            </a:r>
            <a:r>
              <a:rPr b="0" lang="ar-SA" sz="2800" spc="-1" strike="noStrike">
                <a:solidFill>
                  <a:srgbClr val="65c8ff"/>
                </a:solidFill>
                <a:latin typeface="Lucida Fax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wo studies ,24 pts ,used for 5 weeks up to 250 mg Vs desipramine 250 mg for 5 weeks (active contr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one:11 pts, 9weeks clomipramie Vs placeb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gnificant treatment effect favoring clomipramine compared with the control cond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EB4-6177-491A-8D50-4403310AF4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Outcome 3</a:t>
            </a:r>
            <a:r>
              <a:rPr b="0" lang="ar-SA" sz="3600" spc="-1" strike="noStrike">
                <a:solidFill>
                  <a:srgbClr val="65c8ff"/>
                </a:solidFill>
                <a:latin typeface="Lucida Fax"/>
              </a:rPr>
              <a:t>: </a:t>
            </a: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Habit</a:t>
            </a:r>
            <a:r>
              <a:rPr b="0" lang="ar-SA" sz="3600" spc="-1" strike="noStrike">
                <a:solidFill>
                  <a:srgbClr val="65c8ff"/>
                </a:solidFill>
                <a:latin typeface="Lucida Fax"/>
              </a:rPr>
              <a:t>-</a:t>
            </a: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Reversal Therapy Versus Control Condi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trails ,59 pt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5c8ff"/>
                </a:solidFill>
                <a:latin typeface="Tahoma"/>
                <a:ea typeface="Tahoma"/>
              </a:rPr>
              <a:t>Woods et al</a:t>
            </a:r>
            <a:r>
              <a:rPr b="0" i="1" lang="en-US" sz="2800" spc="-1" strike="noStrike">
                <a:solidFill>
                  <a:srgbClr val="ffffff"/>
                </a:solidFill>
                <a:latin typeface="Garamond-LightItalic"/>
                <a:ea typeface="Garamond-LightItalic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Garamond-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 pts, the control (waiting li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65c8ff"/>
                </a:solidFill>
                <a:latin typeface="Tahoma"/>
              </a:rPr>
              <a:t>Van Minnen et </a:t>
            </a:r>
            <a:r>
              <a:rPr b="0" i="1" lang="en-US" sz="2800" spc="-1" strike="noStrike">
                <a:solidFill>
                  <a:srgbClr val="65c8ff"/>
                </a:solidFill>
                <a:latin typeface="Comic Sans MS"/>
              </a:rPr>
              <a:t>al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 pts ,6 sessions biweek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5c8ff"/>
                </a:solidFill>
                <a:latin typeface="Tahoma"/>
              </a:rPr>
              <a:t>Ninan et 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ared five completers of HRT who received nine weekly sessions with five completers who received double-blind placeb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at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D64-A48D-4BB4-A041-63445C297D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all meta-analysis demonstrated a </a:t>
            </a:r>
            <a:r>
              <a:rPr b="0" lang="en-US" sz="2800" spc="-1" strike="noStrike">
                <a:solidFill>
                  <a:srgbClr val="65c8ff"/>
                </a:solidFill>
                <a:latin typeface="Comic Sans MS"/>
              </a:rPr>
              <a:t>significant benefit of HR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ared with wait-list/placebo control cond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inded rating of hair loss was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the primary outcome in this systematic revie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andomized controlled studies w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cluded from this meta-analysis because the therapy studied failed to meet criteria of H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AB6-FB65-49BA-AF88-3004B047DF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c8ff"/>
                </a:solidFill>
                <a:latin typeface="Lucida Fax"/>
              </a:rPr>
              <a:t>Outcome 4: Habit-Reversal Therapy Versus Selective Serotonin Reuptake Inhibi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study,11 pts ,used fluoxetine for 12 weeks ,V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pts with HRT for 6 sessions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outcome measure of this study, the MGH-HS, a subject self-report measure rather than a rating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inded clinic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r and significant treatment ef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FB8-D6A8-4404-90E9-4FE65F38E4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Outcome 5</a:t>
            </a:r>
            <a:r>
              <a:rPr b="0" lang="ar-SA" sz="3600" spc="-1" strike="noStrike">
                <a:solidFill>
                  <a:srgbClr val="65c8ff"/>
                </a:solidFill>
                <a:latin typeface="Lucida Fax"/>
              </a:rPr>
              <a:t>: </a:t>
            </a: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Habit</a:t>
            </a:r>
            <a:r>
              <a:rPr b="0" lang="ar-SA" sz="3600" spc="-1" strike="noStrike">
                <a:solidFill>
                  <a:srgbClr val="65c8ff"/>
                </a:solidFill>
                <a:latin typeface="Lucida Fax"/>
              </a:rPr>
              <a:t>-</a:t>
            </a: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Reversal Therapy Versus Clomipram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one stud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 pts of clomipramine for 9 week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5c8ff"/>
                </a:solidFill>
                <a:latin typeface="Comic Sans MS"/>
              </a:rPr>
              <a:t>V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pts of HRT who received 9 sessions week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udy found a statistic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ificant benefit of HRT compared with clomipra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ES _x0001_ -1.74, 95% CI =_x0001_-3.23,-.2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639-0DDA-45BF-9E84-ECEF569DDD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c8ff"/>
                </a:solidFill>
                <a:latin typeface="Lucida Fax"/>
              </a:rPr>
              <a:t>Outcome 6</a:t>
            </a:r>
            <a:r>
              <a:rPr b="0" lang="ar-SA" sz="3200" spc="-1" strike="noStrike">
                <a:solidFill>
                  <a:srgbClr val="65c8ff"/>
                </a:solidFill>
                <a:latin typeface="Lucida Fax"/>
              </a:rPr>
              <a:t>: </a:t>
            </a:r>
            <a:r>
              <a:rPr b="0" lang="en-US" sz="3200" spc="-1" strike="noStrike">
                <a:solidFill>
                  <a:srgbClr val="65c8ff"/>
                </a:solidFill>
                <a:latin typeface="Lucida Fax"/>
              </a:rPr>
              <a:t>Clomipramine Versus Selective SerotoninReuptake Inhibi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was one scientific abstract presented on this subject in 19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-week, double-blind, randomized study in 12 trichotillomania patients comparing 10 weeks of </a:t>
            </a:r>
            <a:r>
              <a:rPr b="0" lang="en-US" sz="2800" spc="-1" strike="noStrike">
                <a:solidFill>
                  <a:srgbClr val="65c8ff"/>
                </a:solidFill>
                <a:latin typeface="Comic Sans MS"/>
              </a:rPr>
              <a:t>clomipram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an dosage 200 +\- 15 mg) with 10 weeks of </a:t>
            </a:r>
            <a:r>
              <a:rPr b="0" lang="en-US" sz="2800" spc="-1" strike="noStrike">
                <a:solidFill>
                  <a:srgbClr val="65c8ff"/>
                </a:solidFill>
                <a:latin typeface="Comic Sans MS"/>
              </a:rPr>
              <a:t>fluoxet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an dosage 75 +\- 5 mg) with a 4-week placeb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ignificant difference 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98F-1FDE-40D3-8944-F015B02F82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6C1-B4DD-45C8-B94C-4A261E34A3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Discussion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RT,when practiced by experienced clinicia, is the most effective intervention for trichotilloman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RT demonstrated superiority in individual study trials when compared with the two most prevalent pharmacological interventions for trichotillomania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65c8ff"/>
                </a:solidFill>
                <a:latin typeface="Tahoma"/>
              </a:rPr>
              <a:t>clomipramine and SS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D76-9F3C-4212-B896-646D69DB45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INTRODUCTION</a:t>
            </a: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Colonna MT"/>
              </a:rPr>
              <a:t>Trichotilloman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TTM) is a psychiatric condition characterized by compulsive hair pull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spite often being quite impairing and affecting approximately .6% to 1% of the population , trichotillomania has been rather sparsely stud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2DF-91B9-4700-8C65-4CB6C7ABB5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hough recent studies suggest SSRI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ne ,in this review considered clomipramine more effective may be due to additional NA activity </a:t>
            </a:r>
            <a:r>
              <a:rPr b="0" lang="en-US" sz="3200" spc="-1" strike="noStrike">
                <a:solidFill>
                  <a:srgbClr val="65c8ff"/>
                </a:solidFill>
                <a:latin typeface="Comic Sans MS"/>
              </a:rPr>
              <a:t>BUT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itial benefit from it may not maintained with long term therap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E0E-A9B6-4B26-900B-BCAD43AF6F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Limitation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5c8ff"/>
                </a:solidFill>
                <a:latin typeface="Comic Sans MS"/>
              </a:rPr>
              <a:t>single clinical rating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ment wa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d consistently to assess severity and improvement of trichotillomania symp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orbid OC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ou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795-6CD5-4BC7-A278-876D698B4F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5c8ff"/>
                </a:solidFill>
                <a:latin typeface="Comic Sans MS"/>
              </a:rPr>
              <a:t>SSR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type &amp; length of usag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3200" spc="-1" strike="noStrike">
                <a:solidFill>
                  <a:srgbClr val="65c8ff"/>
                </a:solidFill>
                <a:latin typeface="Comic Sans MS"/>
              </a:rPr>
              <a:t>HR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does HRT  demonstrate efficacy when comparedwith control conditions that account for the nonspecific effects of therapy such as time spent with the therapist (i.e., supportive psychotherapy and psychoeducation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AE9-0469-43C6-B0B6-40DC74FFAF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ther modalities :antipsychotics ! As monotherapy or augmenta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146-FFDB-4CCC-B975-8D076395F5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6B1-F538-449A-82E9-FE1233CE19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lonna MT"/>
              </a:rPr>
              <a:t>MODALITIES OF TREATMENT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harmacotherapy with  (SSRI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harmacotherapy with clomipram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bit-reversal therapy (HR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C58-3A60-4B4D-AF06-DD01B30530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AIM OF THIS REVIEW</a:t>
            </a: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evaluate the evidence supporting 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5c8ff"/>
                </a:solidFill>
                <a:latin typeface="Comic Sans MS"/>
              </a:rPr>
              <a:t>efficac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these three interventions compared with placebo and to comp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fficacy of these treatment       modalities with each 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064-6DC3-4548-8053-60E3C48A7D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lonna MT"/>
              </a:rPr>
              <a:t>Criteria for Considering Studies for This Review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olonna MT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ndomized, controlled, clinical t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shed in scientific literature with blinded assessment of clinical outco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lonna MT"/>
              </a:rPr>
              <a:t>Types of Participant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lder than age 16 and have a primary psychiatric diagnosis of trichotillomania or chronic hair pulling by DSM-IV crite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132-75F0-43DA-B3F4-6A0665D1B2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Habit</a:t>
            </a:r>
            <a:r>
              <a:rPr b="1" lang="ar-SA" sz="4400" spc="-1" strike="noStrike">
                <a:solidFill>
                  <a:srgbClr val="ffffff"/>
                </a:solidFill>
                <a:latin typeface="Colonna MT"/>
              </a:rPr>
              <a:t>-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reversal therapy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f-monitori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wareness Traini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imulus Contro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imulus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ponse Intervention or Competing Response Intervention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F36-0463-48A2-95B6-EF042F7F9F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eptable control interventions for pharmacological interventions in this review were either placebo or an active control cond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Colonna MT"/>
              </a:rPr>
              <a:t>ACTIVE CONTROLS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ry outcome is :improvement in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nical scale measuring trichotillomania sever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CAB-AE6C-43A0-80B3-D23C60965D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tional Institute of Mental Health Trichotillomania Severity Scale or Trichotillomania Impairment Sca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Clinical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Global Impressions Improvement Sca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ssachusetts General Hospital Hairpulling Scale (MGH-H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1D3-894D-40C6-BAE8-E34C9827C4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Selection of studies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Garamond-Light"/>
              </a:rPr>
              <a:t>1)randomized clinical trials with a control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Garamond-Light"/>
              </a:rPr>
              <a:t>2) blinded assessment of clinical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Garamond-Light"/>
              </a:rPr>
              <a:t>3) patient population with a primary psychiat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Garamond-Light"/>
              </a:rPr>
              <a:t>diagnosis of trichotillomania or chronic hair pull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Garamond-Light"/>
              </a:rPr>
              <a:t>4) comparison of SSRI, clomipramine, and habit-reversal therapy to each other or a control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B29-1B1D-4E02-A11C-E3D94D8FA1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0:57:14Z</dcterms:created>
  <dc:creator>Acer</dc:creator>
  <dc:description/>
  <dc:language>en-US</dc:language>
  <cp:lastModifiedBy>Acer</cp:lastModifiedBy>
  <dcterms:modified xsi:type="dcterms:W3CDTF">2009-03-01T08:10:02Z</dcterms:modified>
  <cp:revision>3</cp:revision>
  <dc:subject/>
  <dc:title>الشريحة 1</dc:title>
</cp:coreProperties>
</file>