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DFC-404B-4C13-9729-4A7A91EC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CD4-D6A8-4E24-A66B-B007141A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B13C-B6D7-4449-B69E-4B4A591D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4A9-5FE8-4D93-B0E6-AF6D218D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60AC9-0424-4379-B9B9-090338CE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03128-EB49-4D06-828A-C650F4EA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81ED7-DCFA-43D2-94E8-06942A4E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CEEA5-7D56-4534-A3C4-96A53F44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27FE8-D49F-4CD3-9ED9-5F30E087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0EF72-BB85-4232-830C-43C2A9AC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9D946-97DB-4291-A2E9-4EAA5F69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2488-EA3B-4FFB-AA2B-74A53C7F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4B2BF-8D44-4283-8E05-F33EBA06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61D20-315C-4B73-9AB6-FDB923C9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E2961-A4BB-44B6-844B-52F3FD4D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48366-31FD-4804-B706-7C818652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CFC8B-2C17-489B-B1E7-1FCA4EC9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094-21AA-444F-BC1E-B6E5FB88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D1DD-468F-4AA8-A13F-09FE0599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122-BA2C-43E4-9078-A8FDD13E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C45-433F-4EB7-97D9-E865375B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8DD-187E-45A0-82BF-FF530201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7F4-36B3-4DE2-A1E9-2F0CA41D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81B-79F5-45EC-B40B-7C441ABD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C1E4-3A07-4564-B7A9-B8A5A58F2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768B-499A-46C1-A162-6EDB412F5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6880" y="549360"/>
            <a:ext cx="878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543480" y="136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09720"/>
            <a:ext cx="9144000" cy="65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Colonna MT"/>
                <a:ea typeface="Arial Unicode MS"/>
              </a:rPr>
              <a:t>Systematic Review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Colonna MT"/>
                <a:ea typeface="Arial Unicode MS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lonna MT"/>
                <a:ea typeface="Arial Unicode MS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Colonna MT"/>
                <a:ea typeface="Arial Unicode MS"/>
              </a:rPr>
              <a:t>Pharmacological and Behavio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lonna MT"/>
                <a:ea typeface="Arial Unicode MS"/>
              </a:rPr>
              <a:t>Treatment for Trichotilloman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Comic Sans MS"/>
              </a:rPr>
              <a:t>BIOL PSYCHIATRY 2007;62:839–846</a:t>
            </a:r>
            <a:r>
              <a:rPr b="1" lang="en-US" sz="1800" spc="-1" strike="noStrike">
                <a:solidFill>
                  <a:srgbClr val="65c8ff"/>
                </a:solidFill>
                <a:latin typeface="Comic Sans MS"/>
              </a:rPr>
              <a:t>               </a:t>
            </a:r>
            <a:r>
              <a:rPr b="1" lang="en-US" sz="2800" spc="-1" strike="noStrike">
                <a:solidFill>
                  <a:srgbClr val="666699"/>
                </a:solidFill>
                <a:latin typeface="Comic Sans MS"/>
              </a:rPr>
              <a:t>KAUH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AD070-C606-4108-8304-3CF414C71E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Excluded studies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open-label SSRI studies examining fluoxetine,fluvoxamine , and citalopram were excluded from this review because they lacked a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5c8ff"/>
                </a:solidFill>
                <a:latin typeface="Comic Sans MS"/>
              </a:rPr>
              <a:t>placebo comparison group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linded clinical ratings of outc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behavioral therapy trial that compared HRT with negative practice (no clinical rat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EF2-6289-464B-8CE0-AE7075CCF9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Results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c8ff"/>
                </a:solidFill>
                <a:latin typeface="Lucida Fax"/>
              </a:rPr>
              <a:t>Outcome 1</a:t>
            </a:r>
            <a:r>
              <a:rPr b="0" lang="ar-SA" sz="3200" spc="-1" strike="noStrike">
                <a:solidFill>
                  <a:srgbClr val="65c8ff"/>
                </a:solidFill>
                <a:latin typeface="Lucida Fax"/>
              </a:rPr>
              <a:t>: </a:t>
            </a:r>
            <a:r>
              <a:rPr b="0" lang="en-US" sz="3200" spc="-1" strike="noStrike">
                <a:solidFill>
                  <a:srgbClr val="65c8ff"/>
                </a:solidFill>
                <a:latin typeface="Lucida Fax"/>
              </a:rPr>
              <a:t>Selective Serotonin Reuptake Inhibitors Versus Control Condi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 studies ,72 pts ,used : fluoxetine , sertralin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ignificant difference between control &amp;SSRI gro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160-E2CD-40B0-ACFC-03E47B40E2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5c8ff"/>
                </a:solidFill>
                <a:latin typeface="Lucida Fax"/>
              </a:rPr>
              <a:t>Outcome 2: Clomipramine Versus Control Condition</a:t>
            </a:r>
            <a:r>
              <a:rPr b="0" lang="ar-SA" sz="2800" spc="-1" strike="noStrike">
                <a:solidFill>
                  <a:srgbClr val="65c8ff"/>
                </a:solidFill>
                <a:latin typeface="Lucida Fax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wo studies ,24 pts ,used for 5 weeks up to 250 mg Vs desipramine 250 mg for 5 weeks (active contro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other one:11 pts, 9weeks clomipramie Vs placeb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gnificant treatment effect favoring clomipramine compared with the control cond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667-FAA0-40FE-9D90-599167BF4C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Outcome 3</a:t>
            </a:r>
            <a:r>
              <a:rPr b="0" lang="ar-SA" sz="3600" spc="-1" strike="noStrike">
                <a:solidFill>
                  <a:srgbClr val="65c8ff"/>
                </a:solidFill>
                <a:latin typeface="Lucida Fax"/>
              </a:rPr>
              <a:t>: </a:t>
            </a: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Habit</a:t>
            </a:r>
            <a:r>
              <a:rPr b="0" lang="ar-SA" sz="3600" spc="-1" strike="noStrike">
                <a:solidFill>
                  <a:srgbClr val="65c8ff"/>
                </a:solidFill>
                <a:latin typeface="Lucida Fax"/>
              </a:rPr>
              <a:t>-</a:t>
            </a: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Reversal Therapy Versus Control Condi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 trails ,59 pts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5c8ff"/>
                </a:solidFill>
                <a:latin typeface="Tahoma"/>
                <a:ea typeface="Tahoma"/>
              </a:rPr>
              <a:t>Woods et al</a:t>
            </a:r>
            <a:r>
              <a:rPr b="0" i="1" lang="en-US" sz="2800" spc="-1" strike="noStrike">
                <a:solidFill>
                  <a:srgbClr val="ffffff"/>
                </a:solidFill>
                <a:latin typeface="Garamond-LightItalic"/>
                <a:ea typeface="Garamond-LightItalic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Garamond-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 pts, the control (waiting li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65c8ff"/>
                </a:solidFill>
                <a:latin typeface="Tahoma"/>
              </a:rPr>
              <a:t>Van Minnen et </a:t>
            </a:r>
            <a:r>
              <a:rPr b="0" i="1" lang="en-US" sz="2800" spc="-1" strike="noStrike">
                <a:solidFill>
                  <a:srgbClr val="65c8ff"/>
                </a:solidFill>
                <a:latin typeface="Comic Sans MS"/>
              </a:rPr>
              <a:t>al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4 pts ,6 sessions biweek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5c8ff"/>
                </a:solidFill>
                <a:latin typeface="Tahoma"/>
              </a:rPr>
              <a:t>Ninan et 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ared five completers of HRT who received nine weekly sessions with five completers who received double-blind placeb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at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C41-6C89-4247-B866-BB31B39643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all meta-analysis demonstrated a </a:t>
            </a:r>
            <a:r>
              <a:rPr b="0" lang="en-US" sz="2800" spc="-1" strike="noStrike">
                <a:solidFill>
                  <a:srgbClr val="65c8ff"/>
                </a:solidFill>
                <a:latin typeface="Comic Sans MS"/>
              </a:rPr>
              <a:t>significant benefit of HR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ared with wait-list/placebo control condi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inded rating of hair loss was 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 the primary outcome in this systematic revie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andomized controlled studies w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cluded from this meta-analysis because the therapy studied failed to meet criteria of H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6B9-F551-469C-85C8-92598D85B8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c8ff"/>
                </a:solidFill>
                <a:latin typeface="Lucida Fax"/>
              </a:rPr>
              <a:t>Outcome 4: Habit-Reversal Therapy Versus Selective Serotonin Reuptake Inhibi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study,11 pts ,used fluoxetine for 12 weeks ,V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4 pts with HRT for 6 sessions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outcome measure of this study, the MGH-HS, a subject self-report measure rather than a rating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inded clinici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rger and significant treatment ef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EA6-3A12-4651-BC3A-8E2B0E98EB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Outcome 5</a:t>
            </a:r>
            <a:r>
              <a:rPr b="0" lang="ar-SA" sz="3600" spc="-1" strike="noStrike">
                <a:solidFill>
                  <a:srgbClr val="65c8ff"/>
                </a:solidFill>
                <a:latin typeface="Lucida Fax"/>
              </a:rPr>
              <a:t>: </a:t>
            </a: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Habit</a:t>
            </a:r>
            <a:r>
              <a:rPr b="0" lang="ar-SA" sz="3600" spc="-1" strike="noStrike">
                <a:solidFill>
                  <a:srgbClr val="65c8ff"/>
                </a:solidFill>
                <a:latin typeface="Lucida Fax"/>
              </a:rPr>
              <a:t>-</a:t>
            </a:r>
            <a:r>
              <a:rPr b="0" lang="en-US" sz="3600" spc="-1" strike="noStrike">
                <a:solidFill>
                  <a:srgbClr val="65c8ff"/>
                </a:solidFill>
                <a:latin typeface="Lucida Fax"/>
              </a:rPr>
              <a:t>Reversal Therapy Versus Clomipram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ly one study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6 pts of clomipramine for 9 week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5c8ff"/>
                </a:solidFill>
                <a:latin typeface="Comic Sans MS"/>
              </a:rPr>
              <a:t>V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 pts of HRT who received 9 sessions week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udy found a statistic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ificant benefit of HRT compared with clomipram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ES _x0001_ -1.74, 95% CI =_x0001_-3.23,-.2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405-C45F-4D2A-A04F-6F74883083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c8ff"/>
                </a:solidFill>
                <a:latin typeface="Lucida Fax"/>
              </a:rPr>
              <a:t>Outcome 6</a:t>
            </a:r>
            <a:r>
              <a:rPr b="0" lang="ar-SA" sz="3200" spc="-1" strike="noStrike">
                <a:solidFill>
                  <a:srgbClr val="65c8ff"/>
                </a:solidFill>
                <a:latin typeface="Lucida Fax"/>
              </a:rPr>
              <a:t>: </a:t>
            </a:r>
            <a:r>
              <a:rPr b="0" lang="en-US" sz="3200" spc="-1" strike="noStrike">
                <a:solidFill>
                  <a:srgbClr val="65c8ff"/>
                </a:solidFill>
                <a:latin typeface="Lucida Fax"/>
              </a:rPr>
              <a:t>Clomipramine Versus Selective SerotoninReuptake Inhibi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was one scientific abstract presented on this subject in 19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-week, double-blind, randomized study in 12 trichotillomania patients comparing 10 weeks of </a:t>
            </a:r>
            <a:r>
              <a:rPr b="0" lang="en-US" sz="2800" spc="-1" strike="noStrike">
                <a:solidFill>
                  <a:srgbClr val="65c8ff"/>
                </a:solidFill>
                <a:latin typeface="Comic Sans MS"/>
              </a:rPr>
              <a:t>clomipramin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an dosage 200 +\- 15 mg) with 10 weeks of </a:t>
            </a:r>
            <a:r>
              <a:rPr b="0" lang="en-US" sz="2800" spc="-1" strike="noStrike">
                <a:solidFill>
                  <a:srgbClr val="65c8ff"/>
                </a:solidFill>
                <a:latin typeface="Comic Sans MS"/>
              </a:rPr>
              <a:t>fluoxet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mean dosage 75 +\- 5 mg) with a 4-week placeb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ignificant difference 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1A1-6446-47A7-8D69-B9F6A45A6C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5A4-6FFF-4F3C-8450-6045CBB508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Discussion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RT,when practiced by experienced clinicia, is the most effective intervention for trichotilloman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RT demonstrated superiority in individual study trials when compared with the two most prevalent pharmacological interventions for trichotillomania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65c8ff"/>
                </a:solidFill>
                <a:latin typeface="Tahoma"/>
              </a:rPr>
              <a:t>clomipramine and SS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6EA-2137-4DEA-9CB0-994A395652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INTRODUCTION</a:t>
            </a: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Colonna MT"/>
              </a:rPr>
              <a:t>Trichotilloman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TTM) is a psychiatric condition characterized by compulsive hair pulling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spite often being quite impairing and affecting approximately .6% to 1% of the population , trichotillomania has been rather sparsely stud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646-E42D-4AB6-BCBF-E5F169CABA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though recent studies suggest SSRI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ine ,in this review considered clomipramine more effective may be due to additional NA activity </a:t>
            </a:r>
            <a:r>
              <a:rPr b="0" lang="en-US" sz="3200" spc="-1" strike="noStrike">
                <a:solidFill>
                  <a:srgbClr val="65c8ff"/>
                </a:solidFill>
                <a:latin typeface="Comic Sans MS"/>
              </a:rPr>
              <a:t>BUT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itial benefit from it may not maintained with long term therap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C53-6932-417C-AD56-08E918FA5C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Limitation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5c8ff"/>
                </a:solidFill>
                <a:latin typeface="Comic Sans MS"/>
              </a:rPr>
              <a:t>single clinical rating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rument wa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d consistently to assess severity and improvement of trichotillomania symp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orbid OC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ou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12F-2EFA-467F-9B08-093BFAAA90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5c8ff"/>
                </a:solidFill>
                <a:latin typeface="Comic Sans MS"/>
              </a:rPr>
              <a:t>SSR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type &amp; length of usag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3200" spc="-1" strike="noStrike">
                <a:solidFill>
                  <a:srgbClr val="65c8ff"/>
                </a:solidFill>
                <a:latin typeface="Comic Sans MS"/>
              </a:rPr>
              <a:t>HR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does HRT  demonstrate efficacy when comparedwith control conditions that account for the nonspecific effects of therapy such as time spent with the therapist (i.e., supportive psychotherapy and psychoeducation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FFB-868C-49D6-B302-8145C1D65C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ther modalities :antipsychotics ! As monotherapy or augmentatio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CEA-8439-4220-A588-4567EF54D6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D52-1C8A-46EC-8F03-F346BB590F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lonna MT"/>
              </a:rPr>
              <a:t>MODALITIES OF TREATMENT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harmacotherapy with  (SSRI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harmacotherapy with clomipram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bit-reversal therapy (HRT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DFC-A938-4CBF-B1CB-3F1FA80AA9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AIM OF THIS REVIEW</a:t>
            </a:r>
            <a:r>
              <a:rPr b="0" lang="en-US" sz="4400" spc="-1" strike="noStrike">
                <a:solidFill>
                  <a:srgbClr val="ffffff"/>
                </a:solidFill>
                <a:latin typeface="Colonna MT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evaluate the evidence supporting 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65c8ff"/>
                </a:solidFill>
                <a:latin typeface="Comic Sans MS"/>
              </a:rPr>
              <a:t>efficac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these three interventions compared with placebo and to comp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efficacy of these treatment       modalities with each 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311-D472-4C1F-B8A6-B92DB71604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lonna MT"/>
              </a:rPr>
              <a:t>Criteria for Considering Studies for This Review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olonna MT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ndomized, controlled, clinical tr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shed in scientific literature with blinded assessment of clinical outco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olonna MT"/>
              </a:rPr>
              <a:t>Types of Participant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lder than age 16 and have a primary psychiatric diagnosis of trichotillomania or chronic hair pulling by DSM-IV criter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BC4-5037-47B3-A27D-8F08DEA8D3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Habit</a:t>
            </a:r>
            <a:r>
              <a:rPr b="1" lang="ar-SA" sz="4400" spc="-1" strike="noStrike">
                <a:solidFill>
                  <a:srgbClr val="ffffff"/>
                </a:solidFill>
                <a:latin typeface="Colonna MT"/>
              </a:rPr>
              <a:t>-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reversal therapy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lf-monitori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wareness Training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imulus Control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imulus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sponse Intervention or Competing Response Intervention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D19-29C3-4FD6-AA87-14C41BD564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eptable control interventions for pharmacological interventions in this review were either placebo or an active control cond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Colonna MT"/>
              </a:rPr>
              <a:t>ACTIVE CONTROLS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ry outcome is :improvement in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nical scale measuring trichotillomania sever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2DC-9F66-4ECD-8861-3C9DAE8CE3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tional Institute of Mental Health Trichotillomania Severity Scale or Trichotillomania Impairment Sca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Clinical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omic Sans MS"/>
              </a:rPr>
              <a:t>Global Impressions Improvement Sca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ssachusetts General Hospital Hairpulling Scale (MGH-H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027-0E8C-4519-AF62-DDDEC864E3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Selection of studies</a:t>
            </a:r>
            <a:r>
              <a:rPr b="1" lang="en-US" sz="4400" spc="-1" strike="noStrike">
                <a:solidFill>
                  <a:srgbClr val="ffffff"/>
                </a:solidFill>
                <a:latin typeface="Colonna MT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Garamond-Light"/>
              </a:rPr>
              <a:t>1)randomized clinical trials with a control gro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Garamond-Light"/>
              </a:rPr>
              <a:t>2) blinded assessment of clinical outc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Garamond-Light"/>
              </a:rPr>
              <a:t>3) patient population with a primary psychiat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Garamond-Light"/>
              </a:rPr>
              <a:t>diagnosis of trichotillomania or chronic hair pull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Garamond-Light"/>
              </a:rPr>
              <a:t>4) comparison of SSRI, clomipramine, and habit-reversal therapy to each other or a control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B47-CDDE-4367-8F34-8CDA8CD0F1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0:57:14Z</dcterms:created>
  <dc:creator>Acer</dc:creator>
  <dc:description/>
  <dc:language>en-US</dc:language>
  <cp:lastModifiedBy>Acer</cp:lastModifiedBy>
  <dcterms:modified xsi:type="dcterms:W3CDTF">2009-03-01T08:10:02Z</dcterms:modified>
  <cp:revision>3</cp:revision>
  <dc:subject/>
  <dc:title>الشريحة 1</dc:title>
</cp:coreProperties>
</file>