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1D8D-C436-4385-B755-AC400C73241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EFA7-3103-4F29-82E2-03F25D052E64}"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2480" y="744480"/>
            <a:ext cx="4964040" cy="3722760"/>
          </a:xfrm>
          <a:prstGeom prst="rect">
            <a:avLst/>
          </a:prstGeom>
          <a:ln w="0">
            <a:noFill/>
          </a:ln>
        </p:spPr>
      </p:sp>
      <p:sp>
        <p:nvSpPr>
          <p:cNvPr id="4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46C8-F130-411C-A6AE-306232C27AF0}"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852480" y="744480"/>
            <a:ext cx="4964040" cy="3722760"/>
          </a:xfrm>
          <a:prstGeom prst="rect">
            <a:avLst/>
          </a:prstGeom>
          <a:ln w="0">
            <a:noFill/>
          </a:ln>
        </p:spPr>
      </p:sp>
      <p:sp>
        <p:nvSpPr>
          <p:cNvPr id="4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1D68-32C0-4407-8E3F-236AE4AE481B}"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2480" y="744480"/>
            <a:ext cx="4964040" cy="3722760"/>
          </a:xfrm>
          <a:prstGeom prst="rect">
            <a:avLst/>
          </a:prstGeom>
          <a:ln w="0">
            <a:noFill/>
          </a:ln>
        </p:spPr>
      </p:sp>
      <p:sp>
        <p:nvSpPr>
          <p:cNvPr id="4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45BF-4C42-4A54-AF3E-7727A1ED459B}"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852480" y="744480"/>
            <a:ext cx="4964040" cy="3722760"/>
          </a:xfrm>
          <a:prstGeom prst="rect">
            <a:avLst/>
          </a:prstGeom>
          <a:ln w="0">
            <a:noFill/>
          </a:ln>
        </p:spPr>
      </p:sp>
      <p:sp>
        <p:nvSpPr>
          <p:cNvPr id="4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AD07-D3C9-4E02-AF50-88CC2D8F518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852480" y="744480"/>
            <a:ext cx="4964040" cy="3722760"/>
          </a:xfrm>
          <a:prstGeom prst="rect">
            <a:avLst/>
          </a:prstGeom>
          <a:ln w="0">
            <a:noFill/>
          </a:ln>
        </p:spPr>
      </p:sp>
      <p:sp>
        <p:nvSpPr>
          <p:cNvPr id="4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350E-26A5-4FA9-8711-A77AD5C582A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852480" y="744480"/>
            <a:ext cx="4964040" cy="3722760"/>
          </a:xfrm>
          <a:prstGeom prst="rect">
            <a:avLst/>
          </a:prstGeom>
          <a:ln w="0">
            <a:noFill/>
          </a:ln>
        </p:spPr>
      </p:sp>
      <p:sp>
        <p:nvSpPr>
          <p:cNvPr id="4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3544-7950-4DA6-9AE3-D6ECCBD0946B}"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852480" y="744480"/>
            <a:ext cx="4964040" cy="3722760"/>
          </a:xfrm>
          <a:prstGeom prst="rect">
            <a:avLst/>
          </a:prstGeom>
          <a:ln w="0">
            <a:noFill/>
          </a:ln>
        </p:spPr>
      </p:sp>
      <p:sp>
        <p:nvSpPr>
          <p:cNvPr id="4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C91D-871C-4032-8902-F5B9200305E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852480" y="744480"/>
            <a:ext cx="4964040" cy="3722760"/>
          </a:xfrm>
          <a:prstGeom prst="rect">
            <a:avLst/>
          </a:prstGeom>
          <a:ln w="0">
            <a:noFill/>
          </a:ln>
        </p:spPr>
      </p:sp>
      <p:sp>
        <p:nvSpPr>
          <p:cNvPr id="4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C56D-F62C-4DDE-90BD-88811C1F24F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2480" y="744480"/>
            <a:ext cx="4964040" cy="3722760"/>
          </a:xfrm>
          <a:prstGeom prst="rect">
            <a:avLst/>
          </a:prstGeom>
          <a:ln w="0">
            <a:noFill/>
          </a:ln>
        </p:spPr>
      </p:sp>
      <p:sp>
        <p:nvSpPr>
          <p:cNvPr id="41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DA8D-94F9-4F5E-9389-04402ED4966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852480" y="744480"/>
            <a:ext cx="4964040" cy="3722760"/>
          </a:xfrm>
          <a:prstGeom prst="rect">
            <a:avLst/>
          </a:prstGeom>
          <a:ln w="0">
            <a:noFill/>
          </a:ln>
        </p:spPr>
      </p:sp>
      <p:sp>
        <p:nvSpPr>
          <p:cNvPr id="41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58DE-C9C1-4682-9734-B3D987C742EC}"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852480" y="744480"/>
            <a:ext cx="4964040" cy="3722760"/>
          </a:xfrm>
          <a:prstGeom prst="rect">
            <a:avLst/>
          </a:prstGeom>
          <a:ln w="0">
            <a:noFill/>
          </a:ln>
        </p:spPr>
      </p:sp>
      <p:sp>
        <p:nvSpPr>
          <p:cNvPr id="4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DEF2-B2B9-4204-877F-4E89BDF599B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852480" y="744480"/>
            <a:ext cx="4964040" cy="3722760"/>
          </a:xfrm>
          <a:prstGeom prst="rect">
            <a:avLst/>
          </a:prstGeom>
          <a:ln w="0">
            <a:noFill/>
          </a:ln>
        </p:spPr>
      </p:sp>
      <p:sp>
        <p:nvSpPr>
          <p:cNvPr id="42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319D-8092-49A0-B078-B6F0E741BEEB}"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2480" y="744480"/>
            <a:ext cx="4964040" cy="3722760"/>
          </a:xfrm>
          <a:prstGeom prst="rect">
            <a:avLst/>
          </a:prstGeom>
          <a:ln w="0">
            <a:noFill/>
          </a:ln>
        </p:spPr>
      </p:sp>
      <p:sp>
        <p:nvSpPr>
          <p:cNvPr id="42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95CF-4B56-42D9-B145-CC4CDC85DEBC}"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852480" y="744480"/>
            <a:ext cx="4964040" cy="3722760"/>
          </a:xfrm>
          <a:prstGeom prst="rect">
            <a:avLst/>
          </a:prstGeom>
          <a:ln w="0">
            <a:noFill/>
          </a:ln>
        </p:spPr>
      </p:sp>
      <p:sp>
        <p:nvSpPr>
          <p:cNvPr id="4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255B-B989-48BC-9766-1D076C059FA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852480" y="744480"/>
            <a:ext cx="4964040" cy="3722760"/>
          </a:xfrm>
          <a:prstGeom prst="rect">
            <a:avLst/>
          </a:prstGeom>
          <a:ln w="0">
            <a:noFill/>
          </a:ln>
        </p:spPr>
      </p:sp>
      <p:sp>
        <p:nvSpPr>
          <p:cNvPr id="4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7A2C-B60A-42F0-A154-042A9C708F2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852480" y="744480"/>
            <a:ext cx="4964040" cy="3722760"/>
          </a:xfrm>
          <a:prstGeom prst="rect">
            <a:avLst/>
          </a:prstGeom>
          <a:ln w="0">
            <a:noFill/>
          </a:ln>
        </p:spPr>
      </p:sp>
      <p:sp>
        <p:nvSpPr>
          <p:cNvPr id="4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CD564-655A-44E3-8748-DC328F2EC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1DA4F-486D-4823-9607-8F6630C44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B623A-BFD5-4D9C-8A8E-FEB916B10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0A03-DAEC-40AC-BC91-3657549F0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FF7B6-F4C4-4541-8451-13C20914E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20909-4514-4780-A62B-896E904E6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C4BA6-EFA4-4659-8E6B-D1C4F99AE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27E21-CB59-40A3-B39D-19C4F6B5A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7B75E-A5A0-4FB0-9BAD-4D311C766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F4181-F06D-4D96-8671-179CC4C37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FC9EA-70A7-4A94-A066-A6035018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20B4-61EE-4427-9D67-DC55C2259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D7126-CCAF-4A67-BD03-DEAD791C9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23E15-3112-462B-81C0-8319E3CE4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3CDFB-84FD-4DC9-A4EE-2CC60BC72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5A2CC-0BA5-4899-B5DB-D0A166D10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8FA31-9858-4B6E-B30D-5E962BB45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45BC2F-F5B8-4788-A54E-84225E214D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B73757-7371-4030-928F-059A7C95C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4322F3-E62E-4A03-8EBE-9D62372DF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E5A64F-C195-4D7D-B225-1D8EBFDAC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60F1E5-7CD4-4BF3-BD62-9C6A75CC0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437F3-0EA7-4E8D-AD96-6FE2B7FC1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3310F0-5FD9-4B56-9184-820091F54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E11B7C-4650-4A23-B5E5-7D68B1039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BC0EFF-A454-4170-A8F7-97C43EBDC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C332FF-C1ED-4D86-BAF9-A300B5A7F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AF60CB-4DF0-4931-A6E4-0C013A1BB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B5C9C01-2720-499C-B2F1-B5F413A55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4CA931-DB2D-4355-A09F-A4741AE60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A9CFD-A3B6-4AE6-BEA1-2FC5189D2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4BF93-F74B-4280-B5D5-23EEC447B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05D1A-D1C3-4B16-9B92-F6933F918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7302-FFB7-4D90-92C6-8F22715D8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AECB4-1D3D-4D77-A6CE-F8E97FAF4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EFCB78-43A5-4517-B9BD-A70FD4363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85658-64B1-46D0-B883-7AADB3740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8D096-C70A-4FCA-97C1-5DEEFEDF4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35984-69B2-44A5-B3C5-97A73F521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E5DE7-FB51-4D28-B524-39575AFFF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E1952-7223-474E-8C33-3DCB1B71E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3D02BF-A9B1-4B65-9E9B-71F3FEF23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05533-839E-4002-B681-5E19335099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0C2028-04D4-4DCC-8E4A-E9C400F6E2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6DCE-0A0B-4ECB-9DF6-032D7CC2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752D4F-7FC0-4AB7-8AF2-9F82DC898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9C1F12-89C5-4B7B-A470-AC4BF0475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93E194-E538-4519-8368-806166824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8968B2-9644-4673-BA36-0B8B18BBB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D2C90E-5534-4015-A605-DEEA1C319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818F22-D4A9-4BCB-BC92-F5C084BE6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721E16-C7EF-4525-9A88-6863A8693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7944E0-FF8A-427C-8C71-E6B26B048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9210B5-568C-412B-A04D-311A4205E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111BF9-D31E-4937-9E36-3B64415DC7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4A62E-C869-4967-B422-FE82F052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3E7DDA5-03E5-4AAF-AE2D-E5458ABBF2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E8DD4B1-BFF7-4AB6-87D1-A0151AE4EA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89887C-B294-4763-8B7A-6C95D8682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7C906DF-EBC6-4AFD-8AD0-45D39B134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C7AE3D-897B-4979-9651-312284D826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4B210B-313D-4427-B8A3-4980556AB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ABA735A-9F83-4C1A-89CF-76C93B9A2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6A4EE7-37A0-488C-8638-FF219CB8E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DC5BFB-D1EF-4B36-BBA0-BF523880F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0A7AF0-BB5A-44F7-986E-F1C6C5CAE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5C9E-6ABA-4E14-812F-6C877AA3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3DEFF5-90F4-499E-A6EC-E4E358F71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FAEEDA0-446B-4C60-BB7C-D8588871F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1C08EE3-A6A2-4AA2-9F6C-32E90B4C10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547DDA-9890-4CD3-941F-931020ED3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00BAAB-9019-4135-B217-89F803E2F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ADC3F0D-6860-4291-99AC-9B420BB4E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FB7336-DFCA-4A6E-9942-3F644FC17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336E20-3458-4CE8-8CB7-02BDDAF97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53496E-B140-480E-A14F-52FE85F87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60E033-299A-4A28-B911-56FDF4C64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E800-1F57-4DAD-ACC1-6D3DEC738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C3CCE8-CCEE-4C2F-8B4D-6D649C8C4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23C1DA-37A4-4BA1-805F-D0DC3939F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94C2C3-502B-4079-B30D-4DC314D805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7131534-EC2C-4026-B2BC-F4C2E2C10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8BABC9D-39BB-4414-9797-D753391D13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770B-273F-41FC-B169-B83C92913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7CA5-0E13-4C5C-87DB-4A3F473C9A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 name="رابط مستقيم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مستطيل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شكل بيضاوي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شكل بيضاوي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شكل بيضاوي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شكل بيضاوي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شكل بيضاوي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556E-DAF8-42BD-929C-47E64E787C5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5E1A-56FF-4459-9600-07E33DB85CA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شكل بيضاوي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شكل بيضاوي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شكل بيضاوي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رابط مستقيم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النـــــادى فتحـــــــى د.أ</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87B8-8928-4EDE-B10B-39450C81D60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5991-21ED-4F4E-939A-24F48F850CF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6" name="رابط مستقيم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9" name="مستطيل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شكل بيضاوي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64B3-2811-46E2-9CF0-4E709D47C0D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4" name="شكل بيضاوي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مستطيل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8" name="رابط مستقيم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D9DE-74A6-4F7C-8E12-CF7AAE840B7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entury Schoolbook"/>
                <a:ea typeface="Times New Roman"/>
              </a:rPr>
              <a:t>                     طرق الإرشاد النفسي   </a:t>
            </a: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p:txBody>
      </p:sp>
      <p:sp>
        <p:nvSpPr>
          <p:cNvPr id="359" name="عنصر نائب للتاريخ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Arial"/>
              </a:rPr>
              <a:t>النـــــادى فتحـــــــى د.أ</a:t>
            </a:r>
            <a:endParaRPr b="0" lang="en-US" sz="1200" spc="-1" strike="noStrike">
              <a:solidFill>
                <a:srgbClr val="000000"/>
              </a:solidFill>
              <a:latin typeface="Arial"/>
            </a:endParaRPr>
          </a:p>
        </p:txBody>
      </p:sp>
      <p:sp>
        <p:nvSpPr>
          <p:cNvPr id="360" name="عنصر نائب لرقم الشريحة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F3DA-4CE8-4134-BFA1-9B142F7E8F4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عنصر نائب للتذييل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Arial"/>
              </a:rPr>
              <a:t>القيادة الاستراتيجية للإدارة الوسطى</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533520" y="-4572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الارشاد الموجه :</a:t>
            </a:r>
            <a:r>
              <a:rPr b="1" lang="en-US" sz="3600" spc="-1" strike="noStrike">
                <a:solidFill>
                  <a:srgbClr val="4d6b89"/>
                </a:solidFill>
                <a:latin typeface="Arial"/>
              </a:rPr>
              <a:t>Directive Counseling</a:t>
            </a:r>
            <a:r>
              <a:rPr b="1" lang="en-US" sz="3600" spc="-1" strike="noStrike">
                <a:solidFill>
                  <a:srgbClr val="4d6b89"/>
                </a:solidFill>
                <a:latin typeface="Arial"/>
              </a:rPr>
              <a:t> </a:t>
            </a:r>
            <a:r>
              <a:rPr b="1" lang="ar-SA" sz="3600" spc="-1" strike="noStrike">
                <a:solidFill>
                  <a:srgbClr val="4d6b89"/>
                </a:solidFill>
                <a:latin typeface="Arial"/>
              </a:rPr>
              <a:t>           </a:t>
            </a:r>
            <a:endParaRPr b="0" lang="en-US" sz="36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2800" spc="-1" strike="noStrike">
                <a:solidFill>
                  <a:srgbClr val="000000"/>
                </a:solidFill>
                <a:latin typeface="Arial"/>
              </a:rPr>
              <a:t>ممركز حول المرشد:</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هدف إلى إحداث تغيير عن طريق التعليم والتنمية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ستغرق وقتا أقل نسبيا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دم المرشد مساعدات مباشرة ويساعد في حل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شكلات.</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دم المرشد ما يراه لازما للمسترشد.</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مد المسترشد أكثر على المرشد في تحديد وحل مشكلته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سم الخطط اللازمة لحلها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بر أن المسترشد ذاتي في نظرته ومتحيز إلى نفسه، ولذلك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المرشد اقدر منه على الرؤية الموضوعية المطلوبة وأقدر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نه على الرؤية الموضوعية المطلوبة وأقدر على تقديم المساعدة.</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ود المرشد عملية الارشاد بماله من مركز </a:t>
            </a:r>
            <a:r>
              <a:rPr b="0" lang="en-US" sz="2800" spc="-1" strike="noStrike">
                <a:solidFill>
                  <a:srgbClr val="000000"/>
                </a:solidFill>
                <a:latin typeface="Arial"/>
              </a:rPr>
              <a:t>Power</a:t>
            </a:r>
            <a:r>
              <a:rPr b="0" lang="ar-SA" sz="2800" spc="-1" strike="noStrike">
                <a:solidFill>
                  <a:srgbClr val="000000"/>
                </a:solidFill>
                <a:latin typeface="Arial"/>
              </a:rPr>
              <a:t> وما لديه من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خبرة وعلم. </a:t>
            </a:r>
            <a:endParaRPr b="0" lang="en-US" sz="2800" spc="-1" strike="noStrike">
              <a:solidFill>
                <a:srgbClr val="000000"/>
              </a:solidFill>
              <a:latin typeface="Arial"/>
            </a:endParaRPr>
          </a:p>
        </p:txBody>
      </p:sp>
      <p:pic>
        <p:nvPicPr>
          <p:cNvPr id="393" name="Picture 3" descr="TartParts"/>
          <p:cNvPicPr/>
          <p:nvPr/>
        </p:nvPicPr>
        <p:blipFill>
          <a:blip r:embed="rId1"/>
          <a:stretch/>
        </p:blipFill>
        <p:spPr>
          <a:xfrm>
            <a:off x="-166680" y="1150920"/>
            <a:ext cx="3747960" cy="22780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بر المرشد نفسه مسئول مسؤولية كاملة عن كل العملية الارشادية.</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دعم الاعتمادية والتبعية لدى المسترشد ( أهم عيوبه).</a:t>
            </a:r>
            <a:endParaRPr b="0" lang="en-US" sz="2800" spc="-1" strike="noStrike">
              <a:solidFill>
                <a:srgbClr val="000000"/>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d6b89"/>
                </a:solidFill>
                <a:latin typeface="Arial"/>
              </a:rPr>
              <a:t>- الارشاد غير الموجه: </a:t>
            </a:r>
            <a:endParaRPr b="0" lang="en-US" sz="40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6b89"/>
                </a:solidFill>
                <a:latin typeface="Arial"/>
              </a:rPr>
              <a:t>Nondirective Counseling</a:t>
            </a:r>
            <a:r>
              <a:rPr b="1" lang="en-US" sz="3600" spc="-1" strike="noStrike">
                <a:solidFill>
                  <a:srgbClr val="4d6b89"/>
                </a:solidFill>
                <a:latin typeface="Arial"/>
              </a:rPr>
              <a:t>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ممركز حول المسترش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ستغرق وقتا أطو نسبي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م مساعدة المسترشد كي يحل مشكلته بنفسه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دم المرشد المعلومات للعميل حيث يطلبها فقط.</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فيه المسترشد كيف يعمل مستقلا ويعتمد على نفسه ف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ل مشكلته ورسم الخطط اللازمة لحل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بر أن المسترشد لديه قوى ودوافع للتغيير والنمو تؤهل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توافق مع بيئته، وهو وحده الذي يعرف كيف يستخدمها،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أنه ليس هناك من يعرف مصلحته مثله.</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وجه المسترشد جلسات الارشاد حسب ما يراه مناسبا لحل المشكلة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حترم المرشد التقرير الذاتي للمسترشد الذي يحدد مشكلت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نفسه ولا يهتم بالاختبارات والمقاييس أو وسيلة ارشادية إلا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ناء على طلب المسترشد.</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ضجر من المسترشد طاقات كامنة قد يكون المسترشد ليس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لى دراية به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يح للمسترشد فرصة تجريب بعض من افكاره التي كان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خشى أن تظهر في العلن.</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وم المرشد بتقييم سلوكه ويتخذ قراراته دون تدخل تعسف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ن المرشد.</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هتم بنمو شخصيته المسترشد كفرد ومساعدته على فهم نفس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تحديد مشكلاتها وحلها.</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ع العبء الأكبر في حل المشكلات على عاتق المسترش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على مسئولته.</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ثر إنسانية واحتراما لخصوصية المسترشد.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4419720" y="1557360"/>
            <a:ext cx="4114800" cy="43862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9900"/>
                </a:solidFill>
                <a:latin typeface="Arial"/>
              </a:rPr>
              <a:t>الارشاد السلوكي :</a:t>
            </a:r>
            <a:endParaRPr b="0" lang="en-US" sz="36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العقلاني الانفعالي </a:t>
            </a:r>
            <a:endParaRPr b="0" lang="en-US" sz="2800" spc="-1" strike="noStrike">
              <a:solidFill>
                <a:srgbClr val="000000"/>
              </a:solidFill>
              <a:latin typeface="Arial"/>
            </a:endParaRPr>
          </a:p>
          <a:p>
            <a:pPr lvl="1" marL="457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سلـــــــــــوكي:</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واقع</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لعب</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قراءة</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ارشاد بالعمل</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ارشاد بالدين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Rectangle 4"/>
          <p:cNvSpPr/>
          <p:nvPr/>
        </p:nvSpPr>
        <p:spPr>
          <a:xfrm>
            <a:off x="1219320" y="476280"/>
            <a:ext cx="6781680" cy="8953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e8637"/>
                </a:solidFill>
                <a:latin typeface="Impact"/>
              </a:rPr>
              <a:t>طرق الارشاد النفسي</a:t>
            </a:r>
            <a:r>
              <a:rPr b="1" lang="ar-SA" sz="4800" spc="-1" strike="noStrike">
                <a:solidFill>
                  <a:srgbClr val="fe8637"/>
                </a:solidFill>
                <a:latin typeface="Impact"/>
              </a:rPr>
              <a:t>:</a:t>
            </a:r>
            <a:endParaRPr b="0" lang="en-US" sz="4800" spc="-1" strike="noStrike">
              <a:solidFill>
                <a:srgbClr val="000000"/>
              </a:solidFill>
              <a:latin typeface="Arial"/>
            </a:endParaRPr>
          </a:p>
        </p:txBody>
      </p:sp>
      <p:sp>
        <p:nvSpPr>
          <p:cNvPr id="399" name="Rectangle 5"/>
          <p:cNvSpPr/>
          <p:nvPr/>
        </p:nvSpPr>
        <p:spPr>
          <a:xfrm>
            <a:off x="1447920" y="4267080"/>
            <a:ext cx="2133360" cy="17528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ح للمؤسس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عقابية بالذات</a:t>
            </a:r>
            <a:endParaRPr b="0" lang="en-US" sz="2800" spc="-1" strike="noStrike">
              <a:solidFill>
                <a:srgbClr val="000000"/>
              </a:solidFill>
              <a:latin typeface="Arial"/>
            </a:endParaRPr>
          </a:p>
        </p:txBody>
      </p:sp>
      <p:sp>
        <p:nvSpPr>
          <p:cNvPr id="400" name="AutoShape 6"/>
          <p:cNvSpPr/>
          <p:nvPr/>
        </p:nvSpPr>
        <p:spPr>
          <a:xfrm>
            <a:off x="3581280" y="4038480"/>
            <a:ext cx="1905120" cy="221004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990720" y="228600"/>
            <a:ext cx="7200720" cy="64764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d6b89"/>
                </a:solidFill>
                <a:latin typeface="Impact"/>
              </a:rPr>
              <a:t>طرق تناول العمليات الارشادية</a:t>
            </a:r>
            <a:endParaRPr b="0" lang="en-US" sz="4400" spc="-1" strike="noStrike">
              <a:solidFill>
                <a:srgbClr val="000000"/>
              </a:solidFill>
              <a:latin typeface="Arial"/>
            </a:endParaRPr>
          </a:p>
        </p:txBody>
      </p:sp>
      <p:sp>
        <p:nvSpPr>
          <p:cNvPr id="402" name="AutoShape 4"/>
          <p:cNvSpPr/>
          <p:nvPr/>
        </p:nvSpPr>
        <p:spPr>
          <a:xfrm>
            <a:off x="533520" y="1219320"/>
            <a:ext cx="8194680" cy="5400720"/>
          </a:xfrm>
          <a:prstGeom prst="foldedCorner">
            <a:avLst>
              <a:gd name="adj" fmla="val 32212"/>
            </a:avLst>
          </a:prstGeom>
          <a:gradFill rotWithShape="0">
            <a:gsLst>
              <a:gs pos="0">
                <a:srgbClr val="ffccff"/>
              </a:gs>
              <a:gs pos="100000">
                <a:srgbClr val="fff6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Rectangle 5"/>
          <p:cNvSpPr/>
          <p:nvPr/>
        </p:nvSpPr>
        <p:spPr>
          <a:xfrm>
            <a:off x="4572000" y="167652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لأفراد</a:t>
            </a:r>
            <a:endParaRPr b="0" lang="en-US" sz="3600" spc="-1" strike="noStrike">
              <a:solidFill>
                <a:srgbClr val="000000"/>
              </a:solidFill>
              <a:latin typeface="Arial"/>
            </a:endParaRPr>
          </a:p>
        </p:txBody>
      </p:sp>
      <p:sp>
        <p:nvSpPr>
          <p:cNvPr id="404" name="Rectangle 6"/>
          <p:cNvSpPr/>
          <p:nvPr/>
        </p:nvSpPr>
        <p:spPr>
          <a:xfrm>
            <a:off x="1143000" y="167652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ريقة إدارة الجلسة</a:t>
            </a:r>
            <a:endParaRPr b="0" lang="en-US" sz="3200" spc="-1" strike="noStrike">
              <a:solidFill>
                <a:srgbClr val="000000"/>
              </a:solidFill>
              <a:latin typeface="Arial"/>
            </a:endParaRPr>
          </a:p>
        </p:txBody>
      </p:sp>
      <p:sp>
        <p:nvSpPr>
          <p:cNvPr id="405" name="Rectangle 7"/>
          <p:cNvSpPr/>
          <p:nvPr/>
        </p:nvSpPr>
        <p:spPr>
          <a:xfrm>
            <a:off x="4572000" y="274320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ردي</a:t>
            </a:r>
            <a:endParaRPr b="0" lang="en-US" sz="3600" spc="-1" strike="noStrike">
              <a:solidFill>
                <a:srgbClr val="000000"/>
              </a:solidFill>
              <a:latin typeface="Arial"/>
            </a:endParaRPr>
          </a:p>
        </p:txBody>
      </p:sp>
      <p:sp>
        <p:nvSpPr>
          <p:cNvPr id="406" name="Rectangle 8"/>
          <p:cNvSpPr/>
          <p:nvPr/>
        </p:nvSpPr>
        <p:spPr>
          <a:xfrm>
            <a:off x="4572000" y="3809880"/>
            <a:ext cx="3429000" cy="106704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ماعي</a:t>
            </a:r>
            <a:endParaRPr b="0" lang="en-US" sz="3600" spc="-1" strike="noStrike">
              <a:solidFill>
                <a:srgbClr val="000000"/>
              </a:solidFill>
              <a:latin typeface="Arial"/>
            </a:endParaRPr>
          </a:p>
        </p:txBody>
      </p:sp>
      <p:sp>
        <p:nvSpPr>
          <p:cNvPr id="407" name="Rectangle 9"/>
          <p:cNvSpPr/>
          <p:nvPr/>
        </p:nvSpPr>
        <p:spPr>
          <a:xfrm>
            <a:off x="1143000" y="3809880"/>
            <a:ext cx="3429000" cy="106704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غير موجهة</a:t>
            </a:r>
            <a:endParaRPr b="0" lang="en-US" sz="3600" spc="-1" strike="noStrike">
              <a:solidFill>
                <a:srgbClr val="000000"/>
              </a:solidFill>
              <a:latin typeface="Arial"/>
            </a:endParaRPr>
          </a:p>
        </p:txBody>
      </p:sp>
      <p:sp>
        <p:nvSpPr>
          <p:cNvPr id="408" name="Rectangle 10"/>
          <p:cNvSpPr/>
          <p:nvPr/>
        </p:nvSpPr>
        <p:spPr>
          <a:xfrm>
            <a:off x="1143000" y="274320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وجهة</a:t>
            </a:r>
            <a:endParaRPr b="0" lang="en-US" sz="3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1752480" y="1371600"/>
            <a:ext cx="4953240" cy="4876920"/>
          </a:xfrm>
          <a:prstGeom prst="rect">
            <a:avLst/>
          </a:prstGeom>
          <a:solidFill>
            <a:srgbClr val="d2611c"/>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182880" rIns="182880" tIns="46800" bIns="46800" anchor="ctr" anchorCtr="1">
            <a:noAutofit/>
          </a:bodyPr>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مهن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زواج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أسر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للأطفال</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تربو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للنزلاء والمؤسسات العقابية</a:t>
            </a:r>
            <a:r>
              <a:rPr b="0" lang="ar-SA" sz="3200" spc="-1" strike="noStrike">
                <a:solidFill>
                  <a:srgbClr val="ffffff"/>
                </a:solidFill>
                <a:latin typeface="Arial"/>
              </a:rPr>
              <a:t> </a:t>
            </a:r>
            <a:endParaRPr b="0" lang="en-US" sz="3200" spc="-1" strike="noStrike">
              <a:solidFill>
                <a:srgbClr val="000000"/>
              </a:solidFill>
              <a:latin typeface="Arial"/>
            </a:endParaRPr>
          </a:p>
        </p:txBody>
      </p:sp>
      <p:sp>
        <p:nvSpPr>
          <p:cNvPr id="410" name="Rectangle 3"/>
          <p:cNvSpPr/>
          <p:nvPr/>
        </p:nvSpPr>
        <p:spPr>
          <a:xfrm>
            <a:off x="1066680" y="260280"/>
            <a:ext cx="7201080" cy="64764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d6b89"/>
                </a:solidFill>
                <a:latin typeface="Impact"/>
              </a:rPr>
              <a:t>      </a:t>
            </a:r>
            <a:r>
              <a:rPr b="1" lang="ar-SA" sz="4400" spc="-1" strike="noStrike">
                <a:solidFill>
                  <a:srgbClr val="4d6b89"/>
                </a:solidFill>
                <a:latin typeface="Impact"/>
              </a:rPr>
              <a:t>مجالات الارشـــــــــــــــــــــــــاد</a:t>
            </a:r>
            <a:endParaRPr b="0" lang="en-US" sz="4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09"/>
                                        </p:tgtEl>
                                        <p:attrNameLst>
                                          <p:attrName>style.visibility</p:attrName>
                                        </p:attrNameLst>
                                      </p:cBhvr>
                                      <p:to>
                                        <p:strVal val="visible"/>
                                      </p:to>
                                    </p:set>
                                    <p:animEffect filter="box(in)" transition="in">
                                      <p:cBhvr additive="repl">
                                        <p:cTn id="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دش"/>
          <p:cNvPicPr/>
          <p:nvPr/>
        </p:nvPicPr>
        <p:blipFill>
          <a:blip r:embed="rId1"/>
          <a:stretch/>
        </p:blipFill>
        <p:spPr>
          <a:xfrm>
            <a:off x="971640" y="765000"/>
            <a:ext cx="7164360" cy="5373720"/>
          </a:xfrm>
          <a:prstGeom prst="rect">
            <a:avLst/>
          </a:prstGeom>
          <a:ln w="0">
            <a:noFill/>
          </a:ln>
        </p:spPr>
      </p:pic>
      <p:sp>
        <p:nvSpPr>
          <p:cNvPr id="412" name="Text Box 5"/>
          <p:cNvSpPr/>
          <p:nvPr/>
        </p:nvSpPr>
        <p:spPr>
          <a:xfrm>
            <a:off x="1116000" y="1773360"/>
            <a:ext cx="3816360" cy="3780360"/>
          </a:xfrm>
          <a:prstGeom prst="rect">
            <a:avLst/>
          </a:prstGeom>
          <a:noFill/>
          <a:ln w="0">
            <a:noFill/>
          </a:ln>
          <a:effectLst>
            <a:outerShdw dist="91658" dir="3382340" blurRad="0" rotWithShape="0">
              <a:srgbClr val="fff39d"/>
            </a:outerShdw>
          </a:effectLst>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cs typeface="MCS Taybah E_I normal."/>
              </a:rPr>
              <a:t>أشكر لكم  </a:t>
            </a:r>
            <a:endParaRPr b="0" lang="en-US" sz="4800" spc="-1" strike="noStrike">
              <a:solidFill>
                <a:srgbClr val="000000"/>
              </a:solidFill>
              <a:latin typeface="Arial"/>
            </a:endParaRPr>
          </a:p>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cs typeface="MCS Taybah E_I normal."/>
              </a:rPr>
              <a:t>الحضور</a:t>
            </a:r>
            <a:endParaRPr b="0" lang="en-US" sz="4800" spc="-1" strike="noStrike">
              <a:solidFill>
                <a:srgbClr val="000000"/>
              </a:solidFill>
              <a:latin typeface="Arial"/>
            </a:endParaRPr>
          </a:p>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ea typeface="MCS Taybah E_I normal."/>
              </a:rPr>
              <a:t> وحسن الاستماع</a:t>
            </a:r>
            <a:endParaRPr b="0" lang="en-US" sz="4800" spc="-1" strike="noStrike">
              <a:solidFill>
                <a:srgbClr val="000000"/>
              </a:solidFill>
              <a:latin typeface="Arial"/>
            </a:endParaRPr>
          </a:p>
        </p:txBody>
      </p:sp>
    </p:spTree>
  </p:cSld>
  <p:transition>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5">
                                  <p:stCondLst>
                                    <p:cond delay="0"/>
                                  </p:stCondLst>
                                  <p:iterate type="wd">
                                    <p:tmAbs val="750"/>
                                  </p:iterate>
                                  <p:childTnLst>
                                    <p:set>
                                      <p:cBhvr>
                                        <p:cTn id="13" dur="1" fill="hold">
                                          <p:stCondLst>
                                            <p:cond delay="0"/>
                                          </p:stCondLst>
                                        </p:cTn>
                                        <p:tgtEl>
                                          <p:spTgt spid="412"/>
                                        </p:tgtEl>
                                        <p:attrNameLst>
                                          <p:attrName>style.visibility</p:attrName>
                                        </p:attrNameLst>
                                      </p:cBhvr>
                                      <p:to>
                                        <p:strVal val="visible"/>
                                      </p:to>
                                    </p:set>
                                    <p:anim calcmode="lin" valueType="num">
                                      <p:cBhvr additive="repl">
                                        <p:cTn id="14" dur="750" fill="hold"/>
                                        <p:tgtEl>
                                          <p:spTgt spid="412"/>
                                        </p:tgtEl>
                                        <p:attrNameLst>
                                          <p:attrName>ppt_w</p:attrName>
                                        </p:attrNameLst>
                                      </p:cBhvr>
                                      <p:tavLst>
                                        <p:tav tm="0">
                                          <p:val>
                                            <p:fltVal val="0"/>
                                          </p:val>
                                        </p:tav>
                                        <p:tav tm="100000">
                                          <p:val>
                                            <p:strVal val="#ppt_w"/>
                                          </p:val>
                                        </p:tav>
                                      </p:tavLst>
                                    </p:anim>
                                    <p:anim calcmode="lin" valueType="num">
                                      <p:cBhvr additive="repl">
                                        <p:cTn id="15" dur="750" fill="hold"/>
                                        <p:tgtEl>
                                          <p:spTgt spid="412"/>
                                        </p:tgtEl>
                                        <p:attrNameLst>
                                          <p:attrName>ppt_h</p:attrName>
                                        </p:attrNameLst>
                                      </p:cBhvr>
                                      <p:tavLst>
                                        <p:tav tm="0">
                                          <p:val>
                                            <p:fltVal val="0"/>
                                          </p:val>
                                        </p:tav>
                                        <p:tav tm="100000">
                                          <p:val>
                                            <p:strVal val="#ppt_h"/>
                                          </p:val>
                                        </p:tav>
                                      </p:tavLst>
                                    </p:anim>
                                    <p:anim calcmode="lin" valueType="num">
                                      <p:cBhvr additive="repl">
                                        <p:cTn id="16" dur="75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17" dur="75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33520" y="7632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a:solidFill>
                  <a:srgbClr val="4d6b89"/>
                </a:solidFill>
                <a:latin typeface="Arial"/>
              </a:rPr>
              <a:t>تعدد طرق الارشاد النفسي:</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تعدد طرق الارشاد النفسي وذلك ونظرا لأن كل طريق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رشادية تنطلق من تصور نظري مسبق للشخصية ولتحديد ماهية لأعراف وكيفية تشخصيها ومعايير هذا التشخيص</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سيكوباتولوجيا) لهذا يجب على المرشد ألا يتعصب أو ينحاز لإطار نظري دون آخر او لطريقة ارشادية دون أخرى. ولكن يجب أن يكون على خبرة ودراية كافية لتحديد أفضل أو انسب طريقة تبعا لمعايير التشخيص التي انطلقت منها، لأن الاضطرابات والأعراض التي تظهر على الحالة، يجب أن تكون هي الهادي ( النبراس) الذي على أساسه يتم اختيار الطريقة الارشادية.</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363" name="AutoShape 3"/>
          <p:cNvSpPr/>
          <p:nvPr/>
        </p:nvSpPr>
        <p:spPr>
          <a:xfrm>
            <a:off x="3962520" y="5562720"/>
            <a:ext cx="1676160" cy="1295280"/>
          </a:xfrm>
          <a:prstGeom prst="down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533520" y="11034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a:solidFill>
                  <a:srgbClr val="4d6b89"/>
                </a:solidFill>
                <a:latin typeface="Arial"/>
              </a:rPr>
              <a:t>مثال:</a:t>
            </a: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لدينا عميل لديه ميول اكتئابية وقد تبين من الفحص ان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هذه الميول الاكتئابية مسبباتها الرئيسية معرفية لذا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يجب اختيار المهارات والفنيات الارشادية التي تنتمي إلى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رشاد المعرفي السلوكي لأنه في هذه الحالة سوف تكون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فنيات الارشادية متفقة مع مسببات الأعراض.</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33520" y="8380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u="sng">
                <a:solidFill>
                  <a:srgbClr val="4d6b89"/>
                </a:solidFill>
                <a:uFillTx/>
                <a:latin typeface="Arial"/>
              </a:rPr>
              <a:t>تعريفه</a:t>
            </a:r>
            <a:r>
              <a:rPr b="0" lang="ar-SA" sz="3600" spc="-1" strike="noStrike">
                <a:solidFill>
                  <a:srgbClr val="4d6b89"/>
                </a:solidFill>
                <a:latin typeface="Arial"/>
              </a:rPr>
              <a:t> : هو ارشاد عميل واحد وجها لوجه.ب</a:t>
            </a: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4d6b89"/>
                </a:solidFill>
                <a:uFillTx/>
                <a:latin typeface="Arial"/>
              </a:rPr>
              <a:t> مزاياه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0" lang="ar-SA" sz="3600" spc="-1" strike="noStrike">
                <a:solidFill>
                  <a:srgbClr val="000000"/>
                </a:solidFill>
                <a:latin typeface="Arial"/>
              </a:rPr>
              <a:t>- يرتكز الاهتمام على المسترشد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يرتكز الاهتمام على المشكلات الخاصة.</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يتيح فرصة الخصوصية والعلاقة الارشادية القوي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بين المرشد والمسترشد.</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أكثر فعالية وخاصة مع المشكلات الانفعالية الحاد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زمن الجلسة الارشادية مابين ( </a:t>
            </a:r>
            <a:r>
              <a:rPr b="0" lang="ar-SA" sz="3600" spc="-1" strike="noStrike">
                <a:solidFill>
                  <a:srgbClr val="000000"/>
                </a:solidFill>
                <a:latin typeface="Arial"/>
              </a:rPr>
              <a:t>35</a:t>
            </a:r>
            <a:r>
              <a:rPr b="0" lang="ar-SA" sz="3600" spc="-1" strike="noStrike">
                <a:solidFill>
                  <a:srgbClr val="000000"/>
                </a:solidFill>
                <a:latin typeface="Arial"/>
              </a:rPr>
              <a:t> - </a:t>
            </a:r>
            <a:r>
              <a:rPr b="0" lang="ar-SA" sz="3600" spc="-1" strike="noStrike">
                <a:solidFill>
                  <a:srgbClr val="000000"/>
                </a:solidFill>
                <a:latin typeface="Arial"/>
              </a:rPr>
              <a:t>45</a:t>
            </a:r>
            <a:r>
              <a:rPr b="0" lang="ar-SA" sz="3600" spc="-1" strike="noStrike">
                <a:solidFill>
                  <a:srgbClr val="000000"/>
                </a:solidFill>
                <a:latin typeface="Arial"/>
              </a:rPr>
              <a:t> دقيقة )</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Rectangle 3"/>
          <p:cNvSpPr/>
          <p:nvPr/>
        </p:nvSpPr>
        <p:spPr>
          <a:xfrm>
            <a:off x="1187280" y="117360"/>
            <a:ext cx="678204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e8637"/>
                </a:solidFill>
                <a:latin typeface="Impact"/>
              </a:rPr>
              <a:t>الارشــــــــــــــــــاد الفردي</a:t>
            </a:r>
            <a:r>
              <a:rPr b="1" lang="ar-SA" sz="4800" spc="-1" strike="noStrike">
                <a:solidFill>
                  <a:srgbClr val="fe8637"/>
                </a:solidFill>
                <a:latin typeface="Impact"/>
              </a:rPr>
              <a:t> </a:t>
            </a:r>
            <a:endParaRPr b="0" lang="en-US" sz="4800" spc="-1" strike="noStrike">
              <a:solidFill>
                <a:srgbClr val="000000"/>
              </a:solidFill>
              <a:latin typeface="Arial"/>
            </a:endParaRPr>
          </a:p>
        </p:txBody>
      </p:sp>
      <p:sp>
        <p:nvSpPr>
          <p:cNvPr id="367" name="Line 7"/>
          <p:cNvSpPr/>
          <p:nvPr/>
        </p:nvSpPr>
        <p:spPr>
          <a:xfrm>
            <a:off x="396252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Rectangle 9"/>
          <p:cNvSpPr/>
          <p:nvPr/>
        </p:nvSpPr>
        <p:spPr>
          <a:xfrm>
            <a:off x="1295280" y="1981080"/>
            <a:ext cx="6400800" cy="533520"/>
          </a:xfrm>
          <a:prstGeom prst="rect">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شد                                 مسترشد</a:t>
            </a:r>
            <a:endParaRPr b="0" lang="en-US" sz="3200" spc="-1" strike="noStrike">
              <a:solidFill>
                <a:srgbClr val="000000"/>
              </a:solidFill>
              <a:latin typeface="Arial"/>
            </a:endParaRPr>
          </a:p>
        </p:txBody>
      </p:sp>
      <p:sp>
        <p:nvSpPr>
          <p:cNvPr id="369" name="Line 10"/>
          <p:cNvSpPr/>
          <p:nvPr/>
        </p:nvSpPr>
        <p:spPr>
          <a:xfrm flipH="1">
            <a:off x="2895120" y="2286000"/>
            <a:ext cx="34290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Line 11"/>
          <p:cNvSpPr/>
          <p:nvPr/>
        </p:nvSpPr>
        <p:spPr>
          <a:xfrm flipH="1">
            <a:off x="4114800" y="2133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Line 12"/>
          <p:cNvSpPr/>
          <p:nvPr/>
        </p:nvSpPr>
        <p:spPr>
          <a:xfrm>
            <a:off x="411480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33520" y="11034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عيـــــــــــــــوبه:</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بدو الموقف فيه اصطناعيا .</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نقصه وجود المناخ الاجتماعي.</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 فيه المسترشد أكثر مما يعطي . وينظر إلى ما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 ه من المسترشد أكثر مما يعطي وينظر إلى ما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ه من المرشد على أنه مأخوذ من سلط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بمعنى قد يزيد الاعتماد لدى المسترشد )</a:t>
            </a:r>
            <a:endParaRPr b="0" lang="en-US" sz="3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533520" y="-7632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الارشــــــــــاد الجمـــــــــاعي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Counseling</a:t>
            </a:r>
            <a:r>
              <a:rPr b="0" lang="en-US" sz="3600" spc="-1" strike="noStrike">
                <a:solidFill>
                  <a:srgbClr val="000000"/>
                </a:solidFill>
                <a:latin typeface="Arial"/>
              </a:rPr>
              <a:t>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تعريفه : هو ارشاد عدد من العملاء في وقت واحد.</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لجماعة الارشادية : قد تكون</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  متجانسة = كل المجموعة تعاني من نفس نوع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لاضطرابات + كلها ذكور فقط أو إناث فقط.</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 غير متجانسة = تعاني المجموعة من أكثر من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ضطراب ( حالات فوبيا + حالات اكتئاب)</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533520" y="49356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Diagram 32"/>
          <p:cNvGrpSpPr/>
          <p:nvPr/>
        </p:nvGrpSpPr>
        <p:grpSpPr>
          <a:xfrm>
            <a:off x="2847960" y="495000"/>
            <a:ext cx="3905280" cy="4341960"/>
            <a:chOff x="2847960" y="495000"/>
            <a:chExt cx="3905280" cy="4341960"/>
          </a:xfrm>
        </p:grpSpPr>
        <p:sp>
          <p:nvSpPr>
            <p:cNvPr id="376" name="_s1028"/>
            <p:cNvSpPr/>
            <p:nvPr/>
          </p:nvSpPr>
          <p:spPr>
            <a:xfrm flipH="1" flipV="1">
              <a:off x="3860640" y="2122200"/>
              <a:ext cx="47016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77" name="_s1029"/>
            <p:cNvSpPr/>
            <p:nvPr/>
          </p:nvSpPr>
          <p:spPr>
            <a:xfrm>
              <a:off x="2847960" y="130788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2</a:t>
              </a:r>
              <a:endParaRPr b="0" lang="en-US" sz="2400" spc="-1" strike="noStrike">
                <a:solidFill>
                  <a:srgbClr val="000000"/>
                </a:solidFill>
                <a:latin typeface="Arial"/>
              </a:endParaRPr>
            </a:p>
          </p:txBody>
        </p:sp>
        <p:sp>
          <p:nvSpPr>
            <p:cNvPr id="378" name="_s1030"/>
            <p:cNvSpPr/>
            <p:nvPr/>
          </p:nvSpPr>
          <p:spPr>
            <a:xfrm flipH="1">
              <a:off x="3860640" y="2936520"/>
              <a:ext cx="470160" cy="271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79" name="_s1031"/>
            <p:cNvSpPr/>
            <p:nvPr/>
          </p:nvSpPr>
          <p:spPr>
            <a:xfrm>
              <a:off x="2847960" y="293652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 </a:t>
              </a:r>
              <a:r>
                <a:rPr b="1" lang="ar-SA" sz="2400" spc="-1" strike="noStrike">
                  <a:solidFill>
                    <a:srgbClr val="000000"/>
                  </a:solidFill>
                  <a:latin typeface="Arial"/>
                </a:rPr>
                <a:t>3</a:t>
              </a:r>
              <a:endParaRPr b="0" lang="en-US" sz="2400" spc="-1" strike="noStrike">
                <a:solidFill>
                  <a:srgbClr val="000000"/>
                </a:solidFill>
                <a:latin typeface="Arial"/>
              </a:endParaRPr>
            </a:p>
          </p:txBody>
        </p:sp>
        <p:sp>
          <p:nvSpPr>
            <p:cNvPr id="380" name="_s1032"/>
            <p:cNvSpPr/>
            <p:nvPr/>
          </p:nvSpPr>
          <p:spPr>
            <a:xfrm>
              <a:off x="4800600" y="320832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1" name="_s1033"/>
            <p:cNvSpPr/>
            <p:nvPr/>
          </p:nvSpPr>
          <p:spPr>
            <a:xfrm>
              <a:off x="4257720" y="375120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 </a:t>
              </a:r>
              <a:r>
                <a:rPr b="1" lang="ar-SA" sz="2400" spc="-1" strike="noStrike">
                  <a:solidFill>
                    <a:srgbClr val="000000"/>
                  </a:solidFill>
                  <a:latin typeface="Arial"/>
                </a:rPr>
                <a:t>4</a:t>
              </a:r>
              <a:endParaRPr b="0" lang="en-US" sz="2400" spc="-1" strike="noStrike">
                <a:solidFill>
                  <a:srgbClr val="000000"/>
                </a:solidFill>
                <a:latin typeface="Arial"/>
              </a:endParaRPr>
            </a:p>
          </p:txBody>
        </p:sp>
        <p:sp>
          <p:nvSpPr>
            <p:cNvPr id="382" name="_s1034"/>
            <p:cNvSpPr/>
            <p:nvPr/>
          </p:nvSpPr>
          <p:spPr>
            <a:xfrm>
              <a:off x="5270400" y="2936520"/>
              <a:ext cx="470160" cy="271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3" name="_s1035"/>
            <p:cNvSpPr/>
            <p:nvPr/>
          </p:nvSpPr>
          <p:spPr>
            <a:xfrm>
              <a:off x="5667480" y="293652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5</a:t>
              </a:r>
              <a:endParaRPr b="0" lang="en-US" sz="2400" spc="-1" strike="noStrike">
                <a:solidFill>
                  <a:srgbClr val="000000"/>
                </a:solidFill>
                <a:latin typeface="Arial"/>
              </a:endParaRPr>
            </a:p>
          </p:txBody>
        </p:sp>
        <p:sp>
          <p:nvSpPr>
            <p:cNvPr id="384" name="_s1036"/>
            <p:cNvSpPr/>
            <p:nvPr/>
          </p:nvSpPr>
          <p:spPr>
            <a:xfrm flipV="1">
              <a:off x="5270400" y="2124000"/>
              <a:ext cx="47016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5" name="_s1037"/>
            <p:cNvSpPr/>
            <p:nvPr/>
          </p:nvSpPr>
          <p:spPr>
            <a:xfrm>
              <a:off x="5667480" y="130968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6</a:t>
              </a:r>
              <a:endParaRPr b="0" lang="en-US" sz="2400" spc="-1" strike="noStrike">
                <a:solidFill>
                  <a:srgbClr val="000000"/>
                </a:solidFill>
                <a:latin typeface="Arial"/>
              </a:endParaRPr>
            </a:p>
          </p:txBody>
        </p:sp>
        <p:sp>
          <p:nvSpPr>
            <p:cNvPr id="386" name="_s1038"/>
            <p:cNvSpPr/>
            <p:nvPr/>
          </p:nvSpPr>
          <p:spPr>
            <a:xfrm flipV="1">
              <a:off x="4800600" y="158112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7" name="_s1039"/>
            <p:cNvSpPr/>
            <p:nvPr/>
          </p:nvSpPr>
          <p:spPr>
            <a:xfrm>
              <a:off x="4257720" y="49500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سترشد</a:t>
              </a:r>
              <a:endParaRPr b="0" lang="en-US" sz="2400" spc="-1" strike="noStrike">
                <a:solidFill>
                  <a:srgbClr val="000000"/>
                </a:solidFill>
                <a:latin typeface="Arial"/>
              </a:endParaRPr>
            </a:p>
          </p:txBody>
        </p:sp>
        <p:sp>
          <p:nvSpPr>
            <p:cNvPr id="388" name="_s1040"/>
            <p:cNvSpPr/>
            <p:nvPr/>
          </p:nvSpPr>
          <p:spPr>
            <a:xfrm>
              <a:off x="4257720" y="212400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رشد</a:t>
              </a:r>
              <a:endParaRPr b="0" lang="en-US" sz="2400" spc="-1" strike="noStrike">
                <a:solidFill>
                  <a:srgbClr val="000000"/>
                </a:solidFill>
                <a:latin typeface="Arial"/>
              </a:endParaRPr>
            </a:p>
          </p:txBody>
        </p:sp>
      </p:grpSp>
      <p:sp>
        <p:nvSpPr>
          <p:cNvPr id="389" name="Rectangle 48"/>
          <p:cNvSpPr/>
          <p:nvPr/>
        </p:nvSpPr>
        <p:spPr>
          <a:xfrm>
            <a:off x="685800" y="5486400"/>
            <a:ext cx="2819520" cy="68580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من الجلسة </a:t>
            </a:r>
            <a:r>
              <a:rPr b="0" lang="ar-SA" sz="2400" spc="-1" strike="noStrike">
                <a:solidFill>
                  <a:srgbClr val="000000"/>
                </a:solidFill>
                <a:latin typeface="Arial"/>
              </a:rPr>
              <a:t>90</a:t>
            </a:r>
            <a:r>
              <a:rPr b="0" lang="ar-SA" sz="2400" spc="-1" strike="noStrike">
                <a:solidFill>
                  <a:srgbClr val="000000"/>
                </a:solidFill>
                <a:latin typeface="Arial"/>
              </a:rPr>
              <a:t> دقيقة</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533520" y="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مزايا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رتكز الاهتمام على كل أعضاء الجماعة الارشادي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ركيز على المشكلات العام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ثر فعالية في حالة المشكلات العامة والمشترك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يح فرصة التفاعل الاجتماعي مع الآخرين ويستغل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قوى الارشادية في الجماعة وتأثيرها على الأفراد.</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بدو شبه طبيعي في موقفه.</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تعلم من خلال عمليات الإرشاد ”كبروفة للسلوك المتعلم“</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أخذ فيه العميل ويعطي، وكذلك يتقبل الحلول الجماعي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اعتبارها صادرة من موقف جماعي مشترك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منه + من رفاقه )</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533520" y="-4572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عيــــــوبــــه</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ا يصلح مع المشكلات الانفعالية الحاد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يتعرض فيه بعض أعضاء الجماعة للإهمال.</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دور المرشد أصعب وأكثر تعقيد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حتاج المرشد إلى فترة تدريب وإعداد طويلة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ل فيه التفاعل بين المرشد والمسترشد.</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يتم إزاحة بعض المشكلات التي يعاني منها أفرا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جماعة خارج الموقف الارشادي على أفراد من داخل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وقف الارشادي مما يصعب ويعقد عمليات الجماعة.</a:t>
            </a:r>
            <a:endParaRPr b="0" lang="en-US" sz="3200" spc="-1" strike="noStrike">
              <a:solidFill>
                <a:srgbClr val="000000"/>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d6b89"/>
                </a:solidFill>
                <a:latin typeface="Arial"/>
              </a:rPr>
              <a:t>مثال: مسترشد في حالة عدوانية مع أبيه لذلك كان كثير المجادلة مع أحد أفراد الجماعة الارشادية يكبره بعشر سنوات.</a:t>
            </a:r>
            <a:endParaRPr b="0" lang="en-US" sz="4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58:17Z</dcterms:created>
  <dc:creator>A7</dc:creator>
  <dc:description/>
  <dc:language>en-US</dc:language>
  <cp:lastModifiedBy>مرحبا</cp:lastModifiedBy>
  <dcterms:modified xsi:type="dcterms:W3CDTF">2014-04-28T20:37:16Z</dcterms:modified>
  <cp:revision>3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010900251033</vt:lpwstr>
  </property>
</Properties>
</file>