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type.wav" ContentType="audio/x-wav"/>
  <Override PartName="/ppt/media/image1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4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ftr" idx="4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 type="sldNum" idx="4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A4C1-0F65-4262-92BD-5CD6AF267F4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9179-FB1A-4E9D-A352-6B116A0F92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125-5E5E-4819-B4E8-813EFFD8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CB6-E8C5-47D3-945F-9B128AF1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203DE-BAB2-4834-8B32-AB0C433F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EBEED-A1AD-4C04-84ED-3A8A873F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924D9-1DDB-400A-8312-D940863A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69E5F-DFD1-454C-80EA-AE8FD91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8A6DE-FFFA-4014-B9F6-845A0A20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65BBB-1A5E-4666-BF37-4F48E61D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B4388-083C-4C28-A9AB-398BAF49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B9CDE-3B28-4320-A5DA-0A97BCC3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C3DBB-9676-4955-AF4B-D4988672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2975C-E400-4EE9-9254-1C4B2FB9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9E8-712C-4319-84AE-3FB5C229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054D4-DA37-4B0A-9761-FBCB448A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C44A0-F37A-4AFE-A1E7-A15E6D2F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09DC4-7A05-4C24-9E29-46504CBE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3A0B5-1802-4F3E-9B26-9152F4D7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96076-FEBF-492E-AD84-9BA9CE56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A9FB4-EBCF-4D46-93CD-CDCACD4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9BD0C-F922-4A7C-8387-F86F83C2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2F959-910C-4CED-B8F5-4717435D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F9A99-9617-4725-AF09-7E13EBA6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EA872-364A-40EF-AD8A-D4C4CA7C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C42-5621-4FE4-BD6A-99BACD92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6FD17-4BE8-42AB-A1E1-7191628E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493B1-894F-41F6-8625-E6FAC439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85A6E-B5C9-4424-A37D-DD896438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F5FDB-C075-44E1-B327-042F1B46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639A4-A453-4756-9442-6C1881EA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858E1-1309-4A86-A3D7-8E0DD218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AB318-C9B0-4016-A946-4270BE20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B217B-795E-4E98-B07D-165E1E86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DA513-C419-4B58-9A8B-5B502449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6EA47-AEF8-4DA9-8F3A-5B66C82E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1307-E1CA-4172-A787-3E224BD7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CADCE-AD0F-48AE-BFF7-BEDA1BAB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A877D-399C-43C2-9131-EB34A7BC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9EF0B-A6E7-4F80-857B-039AD340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4D8F1-DDEB-4687-86F6-C1614155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6CDEA-1EB3-45F8-A1BB-28A0C80C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BE643-95B0-4CEE-A430-8A925F8D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63DD0-474A-47FC-9F58-AF5C5F09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1A492-7B34-4460-8DC3-60DB3773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5CE53-CE97-4E66-A844-F1D6A001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171E1-5EA9-4AF7-87B5-8B12EB9F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FBF2-126D-49FE-8691-D4432B30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471D8-2924-4CD7-97D2-644F7B92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EEC3E-4155-43B7-92DB-1C6F7C4B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84099-64B9-45FF-BE0D-EF245EE1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70F63-3AA4-4419-A8B3-BB5A43A8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863A9-A1BC-4550-848E-2F225794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E302A-68BE-415E-9AB6-3298CABD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F9323-F3A5-46BC-A973-3565113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EE86C-79D2-4B68-9781-DF59DF09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59743-A430-441D-87BB-A6CE433C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20CA5-2710-4569-8A82-3ACFEC34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C25A-FFFA-428A-95EC-3354ADE5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EE4B8-A958-489C-9510-559CDD6E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6C8F7-93A6-4F83-9230-90A3BC3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B7ADA-4E0F-4C2B-BFC7-339C9527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3155E-1BF5-4005-8A05-8B9274C1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B55F1-B50E-444D-A7C3-E1CC0479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62751-2201-49CF-BB7C-693E20F3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2B03E-5299-4072-BD0E-FEBE36C3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30E2-B889-4A37-ABF9-E5BD852B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AC6D-E35D-45D3-B977-1F04A82D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7675-EEEC-457B-9330-33FE930D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EC8F-9718-46D3-A121-96E506D0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55B-3136-4B95-9604-7FA993AA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F222-5975-42C5-A057-E374B5F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F304-6DBE-4191-93F1-B56C91E4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819E-DDF7-40FB-8317-E72CB60D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8EA7-FE4A-41C4-86A5-5A7A4105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FE02-B402-41EC-97C7-7D6238E3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DC811-4203-4FDA-8D4F-258DB2AC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2737-DEC7-4282-9B73-763C9C9F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DCF7-12CF-4A10-97C1-85BC461C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4150-9D52-4BA7-AB97-87B552AE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E1AB-1C11-477D-B8AF-6C90C90F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D58-1E42-4FCE-936D-9002B9C5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952C-CFE6-406B-88B7-CD229F4C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A9F1-EEA2-456C-BBF4-B1AA96B6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6485E-6D53-4F7E-AD39-0890B4C9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A394C-A8AA-41A6-B5A9-7B09272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1A54F-2DA8-4E6F-A57C-229A5371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0D5F-BAC9-4A54-BA2F-0562948D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D2DD6-BEF4-4756-A2DF-ED80F9C9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4801-20EE-49B4-9747-650C4819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60870-23BA-48C8-9EEC-BE04B1FF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4345F-65B5-4197-9CBC-87742178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97D-174A-4A8B-B8BC-069937EA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34461-E4AF-4BE2-81F9-ECAADBCD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A08A0-52A8-487B-9F97-0523CCBD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023D-0C5F-4F3D-8931-860AD4FA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6D751-CE8B-488B-9A39-0F174A8E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6A211-14B1-48D1-BF35-5C4CC5ED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67A4-FDB7-4E65-B1A9-FC103CE3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EBAD-D6BA-41A9-9CA6-15AFDC31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DCC33-74F6-4A1F-99EE-B568FA38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53717-F388-41CF-9EC6-1A88C41B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D7FD8-7BBF-42F1-891D-BA018D73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F17-2B96-4B05-ADC5-295CBEE5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52B3-5FD3-4AFF-9813-2B3D0339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5277-CE55-449F-AB23-79151F43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445A7-22E3-4B58-9153-BB8B75F2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8649E-747B-4F13-8AF8-0A114832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81E00-4002-48E2-99A1-44838A53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C528B-87DA-4464-95B3-25857BB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9DB81-2553-40D1-8FE4-7B9D663C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80A0B-4F0C-4C53-9EEA-8583EB2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A86C3-CFDB-4463-81B5-B84A23E3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AD33-1324-40AD-AC19-7F210ADA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31A-E53E-43D5-AAC2-8F6A0074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81DDC-7E64-4540-83F1-2760F6BA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4AF1E-B990-4EE7-B6B2-D2B654A4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3E0E2-8B87-4191-9C6E-0D85C846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99F93-CF01-41C5-8EEE-C26438EC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5C0FF-5588-4358-AB9B-7CB71F5A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F3456-B9F7-43FF-9C74-BCBE75CB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5B962-F960-4F70-98E2-E4ED0EF3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4B1F7-9201-4DCC-85C5-7EC1DA95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C9FEF-2955-4F37-9634-574949D6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A8A35-774F-4E12-9DB7-A90ECB3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D3F-2900-40B9-AA47-A042A854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1B25-FB45-4618-8AD8-38CB02FD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72164-D250-4280-B3FF-08E8D7E4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6434F-9485-4C01-B14B-E8EB4D23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CBB1E-516C-4C1D-8E30-1D3CC750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69325-EA6F-4A5E-8AE5-89827B90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65C15-E8BD-4CF9-BEA4-73EE532B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AE0E7-E3C7-44FC-9CD1-011EACA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D1F90-54F6-4616-9D3B-BB49E0EA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24818-A5B7-4F03-8B8B-ED9FA8C4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8C56C-769F-4881-B6FB-F72C5685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A9B-B388-478C-B624-66FA515B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11205-B9E8-4DF5-A130-4176B21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E9D68-8D4A-447F-97C6-8E5340B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B23A1-A02C-4F2E-9F0B-CB1CA2E6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93007-58D1-431A-9B2D-06D8CC1B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90453-B494-49F9-AA31-47FAA5C1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71FE7-A6F6-4EBE-8C21-EBA6A7AE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8F91F-C44C-4DD8-A1BC-6C0ACE74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3A1ED-697A-412F-9526-4B12E403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4737F-7AE7-4B5E-B2DE-9DCE978C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57C9D-A0FD-49D7-8B60-4FB2D489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FBF-13F5-4404-955F-E6A52650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4BEA0-08AD-44B5-9959-E3EBF036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3D15D-CBA3-4BFC-9E15-3B8DF06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6990B-DD5C-4A50-BF31-76E3882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9423-6C1D-4764-92FE-8DE3F4D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1F4EB-3EB9-488D-A918-59593096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5BE86-9646-41F6-9BFB-CD0B64E1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8921F-7559-4109-85BB-40D2C1D5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651BE-54D0-42E5-A577-AEBE60FC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DBB4F-F1FD-48FC-913F-6C034238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0CFAE-A163-47E0-BA48-48F3A660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FB79-4C1F-46A1-8927-3A0527187320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16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مستطيل ذو زاوية واحدة مستديرة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C29E-8C6B-4B76-92D5-6D7F9283E262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63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92EC-482A-49CB-8B25-82C83D30C74D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08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EA1A-0567-4788-B50C-CF28CE64C1F6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53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4494-089E-4E34-A73B-717747DA0E9A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مستطيل مستدير الزوايا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B4C6-DF82-482D-B330-91C5E5AB7100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D5D6-0135-4841-8DEC-446BD41C7E11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1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مستطيل مستدير الزوايا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45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4F2E-6040-483F-9DEF-CB4E1EC954E4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0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DF96-593A-44BF-8F33-C1A984954342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35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ABAB-5054-4239-AACA-B228A576BF9B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80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CB88-D621-44DC-AA16-925D2C87C8BA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25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B0F8-BB59-404F-A737-7DA704F4E24F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71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7CE1-F162-4621-9436-DD132B505737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صورة 8" descr="mj.bmp"/>
          <p:cNvPicPr/>
          <p:nvPr/>
        </p:nvPicPr>
        <p:blipFill>
          <a:blip r:embed="rId1"/>
          <a:stretch/>
        </p:blipFill>
        <p:spPr>
          <a:xfrm>
            <a:off x="500040" y="1857240"/>
            <a:ext cx="8143920" cy="4286520"/>
          </a:xfrm>
          <a:prstGeom prst="rect">
            <a:avLst/>
          </a:prstGeom>
          <a:ln w="0">
            <a:noFill/>
          </a:ln>
        </p:spPr>
      </p:pic>
      <p:pic>
        <p:nvPicPr>
          <p:cNvPr id="604" name="عنوان فرعي 2" descr=""/>
          <p:cNvPicPr/>
          <p:nvPr/>
        </p:nvPicPr>
        <p:blipFill>
          <a:blip r:embed="rId2"/>
          <a:stretch/>
        </p:blipFill>
        <p:spPr>
          <a:xfrm>
            <a:off x="1852560" y="2577960"/>
            <a:ext cx="5224680" cy="2853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2"/>
          <p:cNvSpPr/>
          <p:nvPr/>
        </p:nvSpPr>
        <p:spPr>
          <a:xfrm>
            <a:off x="5651640" y="549360"/>
            <a:ext cx="30034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2e1791"/>
                </a:solidFill>
                <a:latin typeface="Lucida Sans Unicode"/>
                <a:cs typeface="Times New Roman"/>
              </a:rPr>
              <a:t>المملكة العربية السعود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2e1791"/>
                </a:solidFill>
                <a:latin typeface="Lucida Sans Unicode"/>
                <a:cs typeface="Times New Roman"/>
              </a:rPr>
              <a:t>وزارة التعلي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2e1791"/>
                </a:solidFill>
                <a:latin typeface="Lucida Sans Unicode"/>
                <a:cs typeface="Times New Roman"/>
              </a:rPr>
              <a:t>جامعة الملك سعود - كلية الترب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2e1791"/>
                </a:solidFill>
                <a:latin typeface="Lucida Sans Unicode"/>
                <a:cs typeface="Times New Roman"/>
              </a:rPr>
              <a:t>قسم مناهج وطرق تدريس التربية البد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صورة 0" descr="شعار الجامعة.jpg"/>
          <p:cNvPicPr/>
          <p:nvPr/>
        </p:nvPicPr>
        <p:blipFill>
          <a:blip r:embed="rId3"/>
          <a:stretch/>
        </p:blipFill>
        <p:spPr>
          <a:xfrm>
            <a:off x="428760" y="428760"/>
            <a:ext cx="1296720" cy="1296720"/>
          </a:xfrm>
          <a:prstGeom prst="rect">
            <a:avLst/>
          </a:prstGeom>
          <a:ln w="0">
            <a:noFill/>
          </a:ln>
        </p:spPr>
      </p:pic>
      <p:sp>
        <p:nvSpPr>
          <p:cNvPr id="607" name="مربع نص 3"/>
          <p:cNvSpPr/>
          <p:nvPr/>
        </p:nvSpPr>
        <p:spPr>
          <a:xfrm>
            <a:off x="2571840" y="52149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d0d0d"/>
                </a:solidFill>
                <a:latin typeface="Arabic Typesetting"/>
              </a:rPr>
              <a:t>إعداد الطالب / عبدالله ناصر السلي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d0d0d"/>
                </a:solidFill>
                <a:latin typeface="Arabic Typesetting"/>
              </a:rPr>
              <a:t>الرقم الجامعي :</a:t>
            </a:r>
            <a:r>
              <a:rPr b="1" lang="ar-SA" sz="1600" spc="-1" strike="noStrike">
                <a:solidFill>
                  <a:srgbClr val="0d0d0d"/>
                </a:solidFill>
                <a:latin typeface="Arabic Typesetting"/>
              </a:rPr>
              <a:t>4339105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d0d0d"/>
                </a:solidFill>
                <a:latin typeface="Arabic Typesetting"/>
              </a:rPr>
              <a:t>إشراف الدكتور / راشد محمد الجسا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4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68360" y="1268280"/>
            <a:ext cx="7991280" cy="472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Verdana"/>
                <a:cs typeface="PT Bold Heading"/>
              </a:rPr>
              <a:t>الخطوة الاولى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ar-SA" sz="3600" spc="-1" strike="noStrike">
                <a:solidFill>
                  <a:srgbClr val="067009"/>
                </a:solidFill>
                <a:latin typeface="Verdana"/>
                <a:cs typeface="Arial"/>
              </a:rPr>
              <a:t>تحديد وتقدير الحاجات لاشتقاق الأهداف العام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ial"/>
              </a:rPr>
              <a:t>وتصاغ هذه الأهداف على شكل مهارات ومعارف واتجاهات يكسبها الطالب لتلبية حاجة محدده . فهي عبارة عن دراسة تجري لتحديد الطبيعة الحقيقة لمشكلة المؤسسة وإمكانية حلها وكيف حلها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عنصر نائب للمحتوى 2"/>
          <p:cNvSpPr/>
          <p:nvPr/>
        </p:nvSpPr>
        <p:spPr>
          <a:xfrm>
            <a:off x="539640" y="1268280"/>
            <a:ext cx="8280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onstantia"/>
                <a:cs typeface="PT Bold Heading"/>
              </a:rPr>
              <a:t>الخطوة الثانية :</a:t>
            </a: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3600" spc="-1" strike="noStrike">
                <a:solidFill>
                  <a:srgbClr val="067009"/>
                </a:solidFill>
                <a:latin typeface="Constantia"/>
                <a:cs typeface="Majalla UI"/>
              </a:rPr>
              <a:t>تحديد الأهداف العا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جراء تحليل للهدف العام سواء في مجال العمل او المنهاج , وتعد الاهداف التعليمية العامة غامضة وللقيام بتحليل الهدف العام الغامض يجب ان يتضمن الوصف الكامل للهدف العام ما يل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Constantia"/>
                <a:cs typeface="Majalla UI"/>
              </a:rPr>
              <a:t>عبارة عما سيكون المتعلمون قادرين على فع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Constantia"/>
                <a:cs typeface="Majalla UI"/>
              </a:rPr>
              <a:t>وصف البيئة ( بيئة البرمجية) التي سيتم فيها تطبيق المهار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Constantia"/>
                <a:cs typeface="Majalla UI"/>
              </a:rPr>
              <a:t>وصف للأدوات التي ستتوافر للمتعلم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Constantia"/>
                <a:cs typeface="Majalla UI"/>
              </a:rPr>
              <a:t>عبارة (جملة) تحدد المتعلم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  <a:cs typeface="PT Bold Heading"/>
              </a:rPr>
              <a:t>معايير وضع الاهداف العامة :</a:t>
            </a:r>
            <a:r>
              <a:rPr b="1" lang="ar-SA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539280" y="1628280"/>
            <a:ext cx="8013960" cy="475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أن تكون الأهداف مقبولة من المسئولين عن المؤسس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الواقعية بمعنى هل يحل تطوير التعليم هذه المشكل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ثبات المحتوى لفترة كافية تبرر تطور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توفر العدد الكافي من المتعلمين ووقت كافي لأنها تطوير التعليم لهذا الهدف العا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أن تكون المصادر متوفر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الخبرة الكافية للمصمم التعليمي</a:t>
            </a:r>
            <a:r>
              <a:rPr b="0" lang="ar-SA" sz="2800" spc="-1" strike="noStrike">
                <a:solidFill>
                  <a:srgbClr val="067009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8352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  <a:cs typeface="PT Bold Heading"/>
              </a:rPr>
              <a:t>أهمية الاهداف التعليمية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11280" y="1341000"/>
            <a:ext cx="82087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تساعد المصمم على اختيار المحتوى التعليمي وجميع مكونات الخط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تساعد المعلم او المبرمج على اختيار المادة التعليمية وطرق تدريسها وتقويمها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تساعد المؤسسة التربوية على معرفة مدى نجاح عمليتي التعلم والتعلي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تساعد المتعلم على تنظيم جهوده ووقته لتحقيق الاهداف المحدد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تعد الاهداف التعليمية محور تطوير المصمم التعليمي , واعلام للمؤسسة التربوية , ودليل لبرامج الاختبارات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  <a:cs typeface="PT Bold Heading"/>
              </a:rPr>
              <a:t>مصادر اشتقاق الاهداف التعليمية 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0" y="191592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حاجات المجتمع في ضوء فلسفته وعقيدت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خبراء والمتخصصون كلا في مجال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انون التربية والتعليم يعد الخطوط العريض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للمنهاج ,والكتاب المدرسي, ودليل المعلم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الانترنت من اهم مصادر الاهدا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وبخاصة للمبرمجين التربويين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040" y="1155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  <a:cs typeface="PT Bold Heading"/>
              </a:rPr>
              <a:t>تصنيف الأهداف التعليمية العامة 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914040" y="1267920"/>
            <a:ext cx="776124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4000"/>
          </a:bodyPr>
          <a:p>
            <a:pPr marL="222480" indent="-222480" algn="just" rtl="1">
              <a:lnSpc>
                <a:spcPct val="9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e1791"/>
                </a:solidFill>
                <a:latin typeface="Arial"/>
                <a:cs typeface="Arial"/>
              </a:rPr>
              <a:t>الاهداف المعرفية ( العقلية) , وتعرف بأنها المجال الانساني البيئي المتفاعل الذي يكتسب في الفرد المعرفة والمهارات او العمليات العقلية مثل : التذكر الفهم , التطبيق , التحليل , والتركيب والتقوي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just" rtl="1">
              <a:lnSpc>
                <a:spcPct val="9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just" rtl="1">
              <a:lnSpc>
                <a:spcPct val="9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e1791"/>
                </a:solidFill>
                <a:latin typeface="Arial"/>
                <a:cs typeface="Arial"/>
              </a:rPr>
              <a:t>الاهداف الوجدانية ( العاطفية الانفعالية ) وتعرف بأنها المجال الذي يكتسب فيها المتعلم الميول والاتجاهات والرغب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just" rtl="1">
              <a:lnSpc>
                <a:spcPct val="9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just" rtl="1">
              <a:lnSpc>
                <a:spcPct val="9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e1791"/>
                </a:solidFill>
                <a:latin typeface="Arial"/>
                <a:cs typeface="Arial"/>
              </a:rPr>
              <a:t>الاهداف النفس حركية ( المهارات الحركية ) وتعرف بأنها المجال الذي يكتسب فيها المتعلم  المهارات الحركية كالكتابة والطبع والسباحة والرسم وتشغيل الآلات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2760" y="764640"/>
            <a:ext cx="749160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Verdana"/>
                <a:cs typeface="PT Bold Heading"/>
              </a:rPr>
              <a:t>الخطوة الثالثة :</a:t>
            </a:r>
            <a:r>
              <a:rPr b="1" lang="ar-SA" sz="3600" spc="-1" strike="noStrike">
                <a:solidFill>
                  <a:srgbClr val="ff8d3e"/>
                </a:solidFill>
                <a:latin typeface="Verdana"/>
                <a:ea typeface="Arial"/>
              </a:rPr>
              <a:t> </a:t>
            </a:r>
            <a:r>
              <a:rPr b="1" lang="ar-SA" sz="3600" spc="-1" strike="noStrike">
                <a:solidFill>
                  <a:srgbClr val="067009"/>
                </a:solidFill>
                <a:latin typeface="Verdana"/>
                <a:cs typeface="Arial"/>
              </a:rPr>
              <a:t>تحليل الأهداف التعليمية</a:t>
            </a:r>
            <a:br>
              <a:rPr sz="58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5280" y="234936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8000"/>
          </a:bodyPr>
          <a:p>
            <a:pPr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Arial"/>
              </a:rPr>
              <a:t>     ويتضمن تحليل الهدف العام خطوتين 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اولى تصنيف عبارة الهدف العام حسب نوع التعلم الذي سيحدث 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ثانية تحديد الخطوات الرئيسة وتتابعها عند الاداء من الطالب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492360" y="1844280"/>
            <a:ext cx="5276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10920" y="1197000"/>
            <a:ext cx="7885080" cy="1665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43000"/>
          </a:bodyPr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كلما كان الهدف العام اصغر كان من السهل تحليله بدقة وأفضل اسلوب في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   التحليل :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rial"/>
              </a:rPr>
              <a:t>هو الوصف تماما للهدف بطريقة الخطوات مما سيفعله المتعلم اثناء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تأدية للهدف العام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ل خطوة يمكن ان تتضمن سلوكا ملاحظا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r" rtl="1">
              <a:lnSpc>
                <a:spcPct val="80000"/>
              </a:lnSpc>
              <a:spcBef>
                <a:spcPts val="249"/>
              </a:spcBef>
              <a:buClr>
                <a:srgbClr val="b9128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rial"/>
              </a:rPr>
              <a:t>تحليل المعلومات اللفظية : 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rial"/>
              </a:rPr>
              <a:t>يشير فقط الى تلميحات يمكن ان يستخدمها المتعلم                                لاستدعاء المعلومة ولا يوجد تتابع خطوات لذاتها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ea typeface="Arial"/>
              </a:rPr>
              <a:t>      </a:t>
            </a:r>
            <a:r>
              <a:rPr b="1" lang="ar-SA" sz="2000" spc="-1" strike="noStrike">
                <a:solidFill>
                  <a:srgbClr val="067009"/>
                </a:solidFill>
                <a:latin typeface="Arial"/>
                <a:cs typeface="Arial"/>
              </a:rPr>
              <a:t>فلا يوجد فيها اجراء عقلي او نفس حركي سوى طرح السؤال واستدعاء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67009"/>
                </a:solidFill>
                <a:latin typeface="Arial"/>
                <a:ea typeface="Arial"/>
              </a:rPr>
              <a:t>      الاستجابة مثال كم عدد لاعبي كرة القدم 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  <a:ea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buClr>
                <a:srgbClr val="b9128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rial"/>
              </a:rPr>
              <a:t>تحليل في مجال المهارة العقلي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buClr>
                <a:srgbClr val="b9128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rial"/>
              </a:rPr>
              <a:t>تحليل في مجال المهارة النفس حركي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buClr>
                <a:srgbClr val="b9128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rial"/>
              </a:rPr>
              <a:t>تحليل في مجال الاتجاهات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500040" y="33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تحليل الهدف العا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92200" y="2205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عد القيام بتحليل الهدف العام الذي تكون فيه الخطوات واضح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ومحدده ننتقل بعدها الى تحليل المهارات المعقدة التي تتضمن اكث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من مجال تعلم وذلك من خلال وصف المنحنى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buClr>
                <a:srgbClr val="ff33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منحنى الهرمي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ويستخدم هذا المنحنى لتحليل الاهداف العام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في مجال المهارات العقلية والنفس حركية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ويتكون هذا الاسلوب بإثارة السؤال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هل يستطيع المتعلم تحديد مهارة فرعية مهمة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او اكثر قبل البدء بالتعلم.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468360" y="62064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رابعة </a:t>
            </a:r>
            <a:r>
              <a:rPr b="1" lang="ar-SA" sz="3600" spc="-1" strike="noStrike">
                <a:solidFill>
                  <a:srgbClr val="ff3300"/>
                </a:solidFill>
                <a:latin typeface="Calibri"/>
                <a:ea typeface="PT Bold Heading"/>
              </a:rPr>
              <a:t>:</a:t>
            </a:r>
            <a:r>
              <a:rPr b="1" lang="ar-SA" sz="3600" spc="-1" strike="noStrike">
                <a:solidFill>
                  <a:srgbClr val="ff3300"/>
                </a:solidFill>
                <a:latin typeface="Calibri"/>
                <a:ea typeface="Majalla UI"/>
              </a:rPr>
              <a:t> </a:t>
            </a:r>
            <a:r>
              <a:rPr b="1" lang="ar-SA" sz="3200" spc="-1" strike="noStrike">
                <a:solidFill>
                  <a:srgbClr val="ff3300"/>
                </a:solidFill>
                <a:latin typeface="Calibri"/>
                <a:cs typeface="Majalla UI"/>
              </a:rPr>
              <a:t>تحديد المهارات الفرعية والسلوك المدخلي ( القبلي , التمهيدي )</a:t>
            </a:r>
            <a:r>
              <a:rPr b="0" lang="ar-SA" sz="3200" spc="-1" strike="noStrike">
                <a:solidFill>
                  <a:srgbClr val="ff3300"/>
                </a:solidFill>
                <a:latin typeface="Calibri"/>
                <a:ea typeface="Majalla U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85360" y="1268280"/>
            <a:ext cx="7993080" cy="237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53000"/>
          </a:bodyPr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وصف الهدف العام في الاعلى وبعد ذلك تظهر الخطوات في مربعات او مستطيلات في قمة التسلسل الهرمي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تظهر المهارات الفرعية العقلية في مربعات مرتبطة مع يعظها محدده بخطوط من اعلى المربعات  ومن اسفلها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ترتبط مهارات المعلومات اللفظية والاتجاهات بالمهارات العقلية والنفس حركية بواسطة خطوط افقية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تشير الاسهم بانسيابية المهارات الى اعلى نحو الهدف العا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ذا وجد خطين لا يتقاطعان نستخدم قوسا منحني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جب ان تتضمن عبارات المهارات الفرعية جميعها افعالا تشير الى ما يجب ان يكون الطالب قادرا على فعله وتجنب تضمين الاسماء فق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ذا كانت احدى الخطوات في تحليل الهدف العام سؤال يتم تمثيلية داخل معين (قرا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راجعة التحليل عدة مرات للتأكد من تحديد جميع المهارات الفرعية اللازمة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بالإمكان القيام بإجراء خطوات تحليله ثانية معكوسة من المهارة الاكثر تعقيدا الى الاسهل او الادن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توجيهات عند عمل مخطط تحليل هرمي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0567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70c0"/>
                </a:solidFill>
                <a:latin typeface="Verdana"/>
                <a:cs typeface="Times New Roman"/>
              </a:rPr>
              <a:t>محتويات  العرض 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609" name="Rectangle 3"/>
          <p:cNvGrpSpPr/>
          <p:nvPr/>
        </p:nvGrpSpPr>
        <p:grpSpPr>
          <a:xfrm>
            <a:off x="1109520" y="5151600"/>
            <a:ext cx="7328160" cy="1272960"/>
            <a:chOff x="1109520" y="5151600"/>
            <a:chExt cx="7328160" cy="1272960"/>
          </a:xfrm>
        </p:grpSpPr>
        <p:pic>
          <p:nvPicPr>
            <p:cNvPr id="610" name="Rectangle 3" descr=""/>
            <p:cNvPicPr/>
            <p:nvPr/>
          </p:nvPicPr>
          <p:blipFill>
            <a:blip r:embed="rId1"/>
            <a:stretch/>
          </p:blipFill>
          <p:spPr>
            <a:xfrm>
              <a:off x="1109520" y="5151600"/>
              <a:ext cx="73281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1428840" y="5429160"/>
              <a:ext cx="6696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91440" bIns="46800" anchor="t">
              <a:noAutofit/>
            </a:bodyPr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كونات احد نماذج تصميم التعليم (نموذج ديك وكيري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Rectangle 3"/>
          <p:cNvGrpSpPr/>
          <p:nvPr/>
        </p:nvGrpSpPr>
        <p:grpSpPr>
          <a:xfrm>
            <a:off x="1109520" y="1932120"/>
            <a:ext cx="7345440" cy="2365200"/>
            <a:chOff x="1109520" y="1932120"/>
            <a:chExt cx="7345440" cy="2365200"/>
          </a:xfrm>
        </p:grpSpPr>
        <p:pic>
          <p:nvPicPr>
            <p:cNvPr id="613" name="Rectangle 3" descr=""/>
            <p:cNvPicPr/>
            <p:nvPr/>
          </p:nvPicPr>
          <p:blipFill>
            <a:blip r:embed="rId2"/>
            <a:stretch/>
          </p:blipFill>
          <p:spPr>
            <a:xfrm>
              <a:off x="1109520" y="1932120"/>
              <a:ext cx="734544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1428840" y="2214720"/>
              <a:ext cx="6715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91440" bIns="46800" anchor="t">
              <a:noAutofit/>
            </a:bodyPr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تعريف تصميم التعلي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Rectangle 3"/>
          <p:cNvGrpSpPr/>
          <p:nvPr/>
        </p:nvGrpSpPr>
        <p:grpSpPr>
          <a:xfrm>
            <a:off x="1109520" y="4078440"/>
            <a:ext cx="7272360" cy="2365200"/>
            <a:chOff x="1109520" y="4078440"/>
            <a:chExt cx="7272360" cy="2365200"/>
          </a:xfrm>
        </p:grpSpPr>
        <p:pic>
          <p:nvPicPr>
            <p:cNvPr id="616" name="Rectangle 3" descr=""/>
            <p:cNvPicPr/>
            <p:nvPr/>
          </p:nvPicPr>
          <p:blipFill>
            <a:blip r:embed="rId3"/>
            <a:stretch/>
          </p:blipFill>
          <p:spPr>
            <a:xfrm>
              <a:off x="1109520" y="4078440"/>
              <a:ext cx="727236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1428840" y="4357800"/>
              <a:ext cx="66434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91440" bIns="46800" anchor="t">
              <a:noAutofit/>
            </a:bodyPr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كونات الخطة التعليم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Picture 4" descr="images (2).jpg"/>
          <p:cNvPicPr/>
          <p:nvPr/>
        </p:nvPicPr>
        <p:blipFill>
          <a:blip r:embed="rId4"/>
          <a:stretch/>
        </p:blipFill>
        <p:spPr>
          <a:xfrm>
            <a:off x="208080" y="420840"/>
            <a:ext cx="2547720" cy="1682640"/>
          </a:xfrm>
          <a:prstGeom prst="rect">
            <a:avLst/>
          </a:prstGeom>
          <a:ln w="0">
            <a:noFill/>
          </a:ln>
        </p:spPr>
      </p:pic>
      <p:grpSp>
        <p:nvGrpSpPr>
          <p:cNvPr id="619" name="Rectangle 3"/>
          <p:cNvGrpSpPr/>
          <p:nvPr/>
        </p:nvGrpSpPr>
        <p:grpSpPr>
          <a:xfrm>
            <a:off x="1182600" y="3078000"/>
            <a:ext cx="7272360" cy="2365560"/>
            <a:chOff x="1182600" y="3078000"/>
            <a:chExt cx="7272360" cy="2365560"/>
          </a:xfrm>
        </p:grpSpPr>
        <p:pic>
          <p:nvPicPr>
            <p:cNvPr id="620" name="Rectangle 3" descr=""/>
            <p:cNvPicPr/>
            <p:nvPr/>
          </p:nvPicPr>
          <p:blipFill>
            <a:blip r:embed="rId5"/>
            <a:stretch/>
          </p:blipFill>
          <p:spPr>
            <a:xfrm>
              <a:off x="1182600" y="3078000"/>
              <a:ext cx="727236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500120" y="3357720"/>
              <a:ext cx="66438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91440" bIns="46800" anchor="t">
              <a:noAutofit/>
            </a:bodyPr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كونات التصميم التعليم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  <p:sndAc>
      <p:stSnd>
        <p:snd r:embed="rId6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040" y="177300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17520" y="1341000"/>
            <a:ext cx="8502480" cy="136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7000"/>
          </a:bodyPr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يستخدم في تحليل هدف عام في مجال المعلومات اللفظية ,      ويمكن تحديد المهارات الفرعية من عبارة الهدف العام, مثال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 تحدد البلاد العربية مع عواصمها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684360" y="83664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52560" indent="-952560" algn="r" rtl="1">
              <a:buClr>
                <a:srgbClr val="ff3300"/>
              </a:buClr>
              <a:buFont typeface="Arial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3300"/>
                </a:solidFill>
                <a:uFillTx/>
                <a:latin typeface="Arial"/>
                <a:cs typeface="Majalla UI"/>
              </a:rPr>
              <a:t>التحليل العنقودي :</a:t>
            </a:r>
            <a:r>
              <a:rPr b="1" lang="ar-SA" sz="9100" spc="-1" strike="noStrike">
                <a:solidFill>
                  <a:srgbClr val="067009"/>
                </a:solidFill>
                <a:latin typeface="Arial"/>
                <a:ea typeface="Majalla UI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6700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1403280" y="25653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buClr>
                <a:srgbClr val="ff33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  <a:ea typeface="Majalla UI"/>
              </a:rPr>
              <a:t>   </a:t>
            </a:r>
            <a:r>
              <a:rPr b="1" lang="ar-SA" sz="3600" spc="-1" strike="noStrike" u="sng">
                <a:solidFill>
                  <a:srgbClr val="ff3300"/>
                </a:solidFill>
                <a:uFillTx/>
                <a:latin typeface="Arial"/>
                <a:cs typeface="Majalla UI"/>
              </a:rPr>
              <a:t>اساليب التحليل التعليمي لأهداف الاتجاه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ea typeface="Majalla UI"/>
              </a:rPr>
              <a:t> </a:t>
            </a:r>
            <a:r>
              <a:rPr b="1" lang="ar-SA" sz="3600" spc="-1" strike="noStrike" u="sng">
                <a:solidFill>
                  <a:srgbClr val="ff3300"/>
                </a:solidFill>
                <a:uFillTx/>
                <a:latin typeface="Arial"/>
                <a:ea typeface="Majalla UI"/>
              </a:rPr>
              <a:t>:</a:t>
            </a:r>
            <a:r>
              <a:rPr b="1" lang="ar-SA" sz="1800" spc="-1" strike="noStrike">
                <a:solidFill>
                  <a:srgbClr val="067009"/>
                </a:solidFill>
                <a:latin typeface="Arial"/>
                <a:ea typeface="Majalla UI"/>
              </a:rPr>
              <a:t> </a:t>
            </a:r>
            <a:br>
              <a:rPr sz="1800"/>
            </a:br>
            <a:r>
              <a:rPr b="1" lang="ar-SA" sz="1800" spc="-1" strike="noStrike">
                <a:solidFill>
                  <a:srgbClr val="06700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755640" y="3284640"/>
            <a:ext cx="7777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9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يسأل المصمم : </a:t>
            </a:r>
            <a:r>
              <a:rPr b="1" lang="ar-SA" sz="2600" spc="-1" strike="noStrike">
                <a:solidFill>
                  <a:srgbClr val="00b0f0"/>
                </a:solidFill>
                <a:latin typeface="Constantia"/>
                <a:cs typeface="Majalla UI"/>
              </a:rPr>
              <a:t>ماذا يجب ان يفعل المتعلم عند اظهار هذا الاتجاه 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9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وتكون الاجابة هي مهارة حركية او عقل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9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يسال المصمم : </a:t>
            </a:r>
            <a:r>
              <a:rPr b="1" lang="ar-SA" sz="2600" spc="-1" strike="noStrike">
                <a:solidFill>
                  <a:srgbClr val="00b0f0"/>
                </a:solidFill>
                <a:latin typeface="Constantia"/>
                <a:cs typeface="Majalla UI"/>
              </a:rPr>
              <a:t>لماذا يجب ان يقوم المتعلم باختيار معين 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9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وتكون الاجابة معلومات لفظ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574560" y="1263240"/>
            <a:ext cx="8245440" cy="4902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4000"/>
          </a:bodyPr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 عملية التحليل التعليمي تؤدي الى تحليل تجمع من المهارات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الفرعية في مجالات مختلفة لهدف عام 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وهذا يعني انه بالإمكان وضع جميع الاساليب معا في مخطط واح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س/ لماذا تعد عملية التحليل العلمي مهمة جدا لتصميم التعليم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ج/ - لان هذه العملية تستعمل لتحديد تلك المهارات التي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يحتاجها الطالب فعلا لتحقيق الهدف النهائ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- كما تساعده في استثناء واستبعاد المهارات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غير الضروري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السلوك المدخلي : هو السلوك الذي يجب ان يتقنه المتعلمون قبل البدء في التعلم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(تحت الخط المنقط في مخطط التحليل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25092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52560" indent="-952560" algn="r" rtl="1">
              <a:buClr>
                <a:srgbClr val="ff3300"/>
              </a:buClr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3300"/>
                </a:solidFill>
                <a:uFillTx/>
                <a:latin typeface="Arial"/>
                <a:cs typeface="Majalla UI"/>
              </a:rPr>
              <a:t>توحيد اساليب التحليل التعليمي :</a:t>
            </a:r>
            <a:r>
              <a:rPr b="1" lang="ar-SA" sz="9100" spc="-1" strike="noStrike">
                <a:solidFill>
                  <a:srgbClr val="067009"/>
                </a:solidFill>
                <a:latin typeface="Arial"/>
                <a:ea typeface="Majalla UI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6700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341000" y="1844280"/>
            <a:ext cx="6915240" cy="37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b9128f"/>
                </a:solidFill>
                <a:uFillTx/>
                <a:latin typeface="Arial"/>
                <a:cs typeface="Arial"/>
              </a:rPr>
              <a:t>اولاً : تحليل المتعلم ( الفئة المستهدفة الموجه لها التعليم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المعلومات التي يحتاجها المعلم عن الفئة المستهدفة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سلوكيات القبلية (المدخلي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عرفة السابقة عن الموضو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اتجاهات نحو المحتوى ونظام التوزيع المحتم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دافعية للدراسة ( الدراسية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ستويات الدراسية ومستويات القدر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فضيلات تعليمية عام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اتجاه نحو مؤسسة التدري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خصائص المجموع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68436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خامسة 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تحليل المتعلمين وبيئاتهم</a:t>
            </a:r>
            <a:r>
              <a:rPr b="0" lang="ar-SA" sz="5000" spc="-1" strike="noStrike">
                <a:solidFill>
                  <a:srgbClr val="323232"/>
                </a:solidFill>
                <a:latin typeface="Calibri"/>
                <a:ea typeface="Traditional Arabic"/>
              </a:rPr>
              <a:t> </a:t>
            </a:r>
            <a:br>
              <a:rPr sz="32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6" descr="ANd9GcQooiZD3ErO0Pzl2bvC9rlwLWdc8q0FTblPyttLkVE6q732g_xcdQ"/>
          <p:cNvPicPr/>
          <p:nvPr/>
        </p:nvPicPr>
        <p:blipFill>
          <a:blip r:embed="rId1"/>
          <a:stretch/>
        </p:blipFill>
        <p:spPr>
          <a:xfrm>
            <a:off x="676440" y="3925800"/>
            <a:ext cx="3000240" cy="2225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684000" y="83628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95360" indent="-49536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b9128f"/>
                </a:solidFill>
                <a:uFillTx/>
                <a:latin typeface="Arial"/>
                <a:cs typeface="Arial"/>
              </a:rPr>
              <a:t>ثانيا: </a:t>
            </a:r>
            <a:r>
              <a:rPr b="1" lang="ar-SA" sz="2800" spc="-1" strike="noStrike" u="sng">
                <a:solidFill>
                  <a:srgbClr val="b9128f"/>
                </a:solidFill>
                <a:uFillTx/>
                <a:latin typeface="Verdana"/>
                <a:cs typeface="Arial"/>
              </a:rPr>
              <a:t>بيئات التعلم /الاداء / موقع العم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790560" y="1557360"/>
            <a:ext cx="8353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يجب ان يهتم المصمم بخصائص الموقف المعرفي والمهارى واللفظي , وان يكون على دراية بالإداريين والمشرفين من حيث دعمهم للمتعلمين عند استخدام المهارة الجديدة , وكذلك معرفة ما يجب توافره في البيئة من اجهزة ومواد وأدوات.... الخ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أيضا فهم البيئة الاجتماعية التي ستطبق فيها المهارة بأشكال مختلفة فردي , تعاوني , جماعي ... وينبغي ان تحاكي البيئة الافتراضية للبرمجية بيئة العمل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31720" y="148428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7000"/>
          </a:bodyPr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يعرف الهدف السلوكي </a:t>
            </a:r>
            <a:r>
              <a:rPr b="1" lang="ar-SA" sz="2400" spc="-1" strike="noStrike">
                <a:solidFill>
                  <a:srgbClr val="b45f07"/>
                </a:solidFill>
                <a:latin typeface="Arial"/>
                <a:ea typeface="Arial"/>
              </a:rPr>
              <a:t>: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Arial"/>
              </a:rPr>
              <a:t>بأنه جملة او عبارة محددة تصف ما يتوقع من الطال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rial"/>
              </a:rPr>
              <a:t> ان يفعله بعد مروره في الخبره او الانتهاء من الدرس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هدف السلوكي قابل للقياس و الملاحظ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يفيد الهدف السلوكي في توجيه العملية التعليمية وتزيد فاعليتها , وكأداة اتصال في اعلام كل من الاباء والطلبة والإداريين ما يحاول ان ينجزه المعلم وتساعدهم في التركيز على مخرجات التعلم والتعرف على مدى تحقيق المخرجات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يتكون الهدف السلوكي من ثلاث مكونات : فعل الاداء او السلوك الذي يتوقع من الطالب , الظروف او الحالات التي يطلب من الطالب ان يظهر فيها السلوك المرغوب , المحك او المعيار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اهداف السلوكية الخاصة تشتق عادة من الاهداف العام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539640" y="423720"/>
            <a:ext cx="8229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سادسة 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تحليل صياغة الاهداف السلوك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84360" y="1915920"/>
            <a:ext cx="8084880" cy="43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تبر الاختبارات جزاء اساسيا من الخطة التعليمية , من اجل تعيين درجات لطلاب لإثارة دافعيتهم وتحديد ما يعرفونه لتزويدهم بالتغذية الراجعة المناسبة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شتق فقرة الاختبار من الاهداف السلوكية وبما ان هناك اربعة انواع من الاهداف فهناك اربعة مستويات من الاسئلة وهي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539640" y="4762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سابعة 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تطوير الاختبار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501480" y="1916280"/>
          <a:ext cx="8247240" cy="2469960"/>
        </p:xfrm>
        <a:graphic>
          <a:graphicData uri="http://schemas.openxmlformats.org/drawingml/2006/table">
            <a:tbl>
              <a:tblPr/>
              <a:tblGrid>
                <a:gridCol w="5821560"/>
                <a:gridCol w="1962000"/>
                <a:gridCol w="463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أنواع الاختبارات والتقديرا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نوع الهد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اختبار من متعدد , إكما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المعرف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اختبار من متعدد , اكمال ,مقال ، ناتج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مهارات عقلي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قائمة فحص , النجاح في تنفيذ مهارة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مهارات حركي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ملاحظة السلوك . استبانة عن السلوك ,تقديرات متنوعة للمعارف المرتبطة بالاتجاهات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اتجاها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  <p:sndAc>
      <p:stSnd>
        <p:snd r:embed="rId1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000" y="1412640"/>
            <a:ext cx="8064360" cy="43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b9128f"/>
                </a:solidFill>
                <a:uFillTx/>
                <a:latin typeface="Arial"/>
                <a:cs typeface="Arial"/>
              </a:rPr>
              <a:t>هناك بعض الافكار يجب مراعاتها قبل تطوير الاستراتيجية وهي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كتاب المدرسي بما يحتويه من مقدمه , وفهرس , وفقرات , ودليل معلم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ختيار وسط الاتصال فمن خلال الحاسب تعرض المحتوى بعدة وسائط متعددة تفاعلي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يفضل تعليم الاتجاهات عن طريق القدوة من خلال الوسائط المرئي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تتابع التعليمي وذلك من خلال التحليل التعليمي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تجميع التعليمي من خلال جمع المعلومات  ودراستها على اساس الهدف تلو الهدف بحيث تتخلله النشاطات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يعتمد حجم التجميع على مستوى : عمر المتعلم ,طبيعة المادة , نوع التعلم , مدى امكانية تغيير النشاط وكذالك مقدار الوقت اللازم لتضمين جميع الحوادث في الاستراتيجية التعليمي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1403280" y="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ثامنة 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تطوير الاستراتيجية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90560" y="765000"/>
            <a:ext cx="7742160" cy="532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 u="sng">
                <a:solidFill>
                  <a:srgbClr val="ff0000"/>
                </a:solidFill>
                <a:uFillTx/>
                <a:latin typeface="Verdana"/>
                <a:cs typeface="Arial"/>
              </a:rPr>
              <a:t>مكونات الاستراتيجية التعليمية </a:t>
            </a:r>
            <a:r>
              <a:rPr b="0" lang="ar-SA" sz="3300" spc="-1" strike="noStrike" u="sng">
                <a:solidFill>
                  <a:srgbClr val="ff0000"/>
                </a:solidFill>
                <a:uFillTx/>
                <a:latin typeface="Verdana"/>
                <a:ea typeface="Arial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45f07"/>
                </a:solidFill>
                <a:latin typeface="Arial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- نشاطات ما قبل التعليم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وهي اثارة دافعية المتعلم وإعلامه بالأهداف , والتأكد من ان لديهم معارف المتطلبات السابقة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- المعلومات و الامثلة ( عرض المعلومات  )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ويقصد بها تحديد المفاهيم والقوانين والمبادئ واستخدام الامثل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- مشاركة المتعلم وتتمثل في الممارسة , والتغذية الراجعة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- اجراء الاختبارات : وتشتمل على عدة تساؤلات هل لديك اختبار قبلي يقيس المهارات الواجب تدريسها ؟ متى ستجري الاختبار البعدي وكيف ؟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- نشاطات المتابعة : وتتضمن تقديم العلاج نتيجة لانجازات الاختبار البعدي , ونقل التعلم بدرجة عالية اذا كانت بيئة التعلم شبيهه ببيئة العمل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0" y="191592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ند اختيارك او انتاجك للمواد التعليمية يجب التأكد من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تناول ما يتعلق بالدافعي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تضمن المحتوى المناس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يكون التتابع فيها صحيحا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تكون جميع المعلومات المطلوبة متوافر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تتوافر فيها تمارين الممارسة ( التطبيق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تتضمن تغذية راجعه كافي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تكون الاختبارات المتوافرة مناسب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تتضمن تعليمات متابعة كافية عن المعالجة والعمل المتقد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زويد المتعلمين بالإرشادات الكافية لنقلهم من نشاط الى اخر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يتم تقديم دعم عملية نقل التعل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53172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تاسعة 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تطوير المواد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107172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2e1791"/>
                </a:solidFill>
                <a:latin typeface="Arial Black"/>
                <a:cs typeface="PT Bold Heading"/>
              </a:rPr>
              <a:t>تعريف تصميم التعليم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00040" y="235728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6000"/>
          </a:bodyPr>
          <a:p>
            <a:pPr marL="227520" indent="-22752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just" rtl="1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طة مفصلة للمادة المراد تصميمها ( برمجية تعليمية مثلا ) تتضمن وصفا وإجراءات لجميع مكونات النظام التعليمي مع الاخذ بالحسبان خصائص المتعلم والتفاعل فيما بينها، والتغذية الراجعة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just" rtl="1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Arial"/>
                <a:cs typeface="Arial"/>
              </a:rPr>
              <a:t>او خطوات عملية علمية منتظمة منطقية تتبع لتصميم التعليم وتنفيذه وتقويمه وتطويره وفق خصائص المتعلمين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4" name="Picture 7" descr="http://faculty.ksu.edu.sa/Foz/PublishingImages/imagesCA7NRN7K.jpg"/>
          <p:cNvPicPr/>
          <p:nvPr/>
        </p:nvPicPr>
        <p:blipFill>
          <a:blip r:embed="rId1"/>
          <a:stretch/>
        </p:blipFill>
        <p:spPr>
          <a:xfrm>
            <a:off x="-109440" y="628560"/>
            <a:ext cx="3047760" cy="203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typ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329840" y="1125360"/>
            <a:ext cx="7418520" cy="439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 algn="r" rtl="1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 algn="just" rtl="1">
              <a:lnSpc>
                <a:spcPct val="13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Arial"/>
                <a:cs typeface="Arial"/>
              </a:rPr>
              <a:t>المواد التعليمية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وتتضمن معلومات ومواد متعلقة بالأهداف وأيضا مواد إثرائية وعلاجية وأي مواد او إرشادات تحقق الاهداف 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 algn="just" rtl="1">
              <a:lnSpc>
                <a:spcPct val="13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Arial"/>
                <a:cs typeface="Arial"/>
              </a:rPr>
              <a:t>الاختبارات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تلازم الاختبارات كل المواد التعليمية مثل الاختبارات القبلية والبعدية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 algn="just" rtl="1">
              <a:lnSpc>
                <a:spcPct val="13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Arial"/>
                <a:cs typeface="Arial"/>
              </a:rPr>
              <a:t>دليل المعلم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وهو وصف يزود المعلم بنظرة شاملة عن المواد وكيفية تتابعها وأي مواد اخرى تسهل  استعمال الحقيبة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-144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مكونات الحقيبة التعليم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0" y="1412640"/>
            <a:ext cx="8004240" cy="43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6000"/>
          </a:bodyPr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راجع الاستراتيجية التعليمية لكل هدف في التدري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حديد نوع المواد التعليمية المتوافرة حاليا  والاستعانة بالخبراء في هذا المجال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فكر في كيفية امكانية تعديل المواد المتوافر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حدد ان كانت المواد الجديدة تحتاج الى تصميم 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في كل درس فكر بأفضل الوسائط لعرض المواد ومراقبة الممارس والتغذية الراجعة والتقوي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حدد شكلية وإجراءات العرض لكل هدف او عنقود من الهد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كتب المواد التعليمية بناء على الاستراتيجيات التعليمي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درس كل درس مكتمل من حيث الوضوح وانسياب الافكا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كتب تعليمات مرفقه الى الطلبة عن هذا النشاط المطلوب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باستعمال المواد المطورة في اول مسودة اولية ,تصبح جاهزة للبداء في نشاطات التقوي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مكن ان تأخذ ملاحظات في اثناء تطوير العروض والنشاطات التعليمي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Rectangle 4"/>
          <p:cNvSpPr/>
          <p:nvPr/>
        </p:nvSpPr>
        <p:spPr>
          <a:xfrm>
            <a:off x="528480" y="54936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خطوات في تطوير التعلي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7848720" cy="24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endParaRPr b="1" lang="en-US" sz="5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39280" y="2060640"/>
            <a:ext cx="7993080" cy="172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406080" indent="-406080" algn="just" rtl="1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3300"/>
                </a:solidFill>
                <a:latin typeface="Arial"/>
                <a:cs typeface="Arial"/>
              </a:rPr>
              <a:t>ويعرف التقويم البنائي :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ctr" rtl="1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جمع البيانات والمعلومات التي يمكن ان تستخدم في تحس فعالية التعليم اثناء تطويره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755640" y="549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عاشرة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التقويم البنائي(التكويني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0" y="98064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470520" indent="-47052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9128f"/>
                </a:solidFill>
                <a:latin typeface="Verdana"/>
                <a:cs typeface="PT Bold Heading"/>
              </a:rPr>
              <a:t>مراحل التقويم البنائي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  <a:cs typeface="Arial"/>
              </a:rPr>
              <a:t>المرحلة الاولى 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1" lang="ar-SA" sz="2400" spc="-1" strike="noStrike">
                <a:solidFill>
                  <a:srgbClr val="b45f07"/>
                </a:solidFill>
                <a:latin typeface="Verdana"/>
                <a:cs typeface="Arial"/>
              </a:rPr>
              <a:t>تقويم واحد – الى – واح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الهدف منها هو تحديد الاخطاء الاكثر وضوحا وحذفها ، والحصول على مؤشرات اولية عن الاداء ورد فعل المتعلمين عن المحتوى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  <a:cs typeface="Arial"/>
              </a:rPr>
              <a:t>المرحلة الثانية 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1" lang="ar-SA" sz="2400" spc="-1" strike="noStrike">
                <a:solidFill>
                  <a:srgbClr val="b45f07"/>
                </a:solidFill>
                <a:latin typeface="Verdana"/>
                <a:cs typeface="Arial"/>
              </a:rPr>
              <a:t>تقويم المجموعات الصغير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ولهذه المرحلة غرضان هما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تحديد نشاطات التغيرات التي تمت بعد تقويم واحد- الى – واحد وتحديد أي مشكلة تواجه المتعلم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تحديد ما اذا كان المتعلمون يستطيعون دراسة التعليم دون معلم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75564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94920" y="549360"/>
            <a:ext cx="7597800" cy="496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9128f"/>
                </a:solidFill>
                <a:latin typeface="Verdana"/>
                <a:cs typeface="PT Bold Heading"/>
              </a:rPr>
              <a:t>مراحل التقويم البنائي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المرحلة الثالثة :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تم دراسة البرمجية دراسة ذاتية في صف افتراضي (عدد كبير من المتعلمين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قريبا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الهدف من التجربة الميدانية هو ان تكشف كمصمم أي مشكلات باقية في التعليم وتغيرها او تحذفها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3300"/>
                </a:solidFill>
                <a:latin typeface="Arial"/>
                <a:cs typeface="Arial"/>
              </a:rPr>
              <a:t>المحقات والقرارات التي تتخذ خلال التقويم هي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وضوح : ويعني وضوح الرسالة ، الترابط ، الاجراءا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تأثيري : ويقصد به التأثير في المتعلم من حيث اتجاهاته نحو التعليم وتحصيله للأهداف الخاص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جدوى : ما مدى جدوى التعليم اذا توافرت المصادر ( الوقت – البيئـة ) وتتعلق باعتبارات خاصة بالإدارة او قدرة المتعلم والوسط التعليمي والبيئة التعليمية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just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75564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3"/>
          <p:cNvSpPr/>
          <p:nvPr/>
        </p:nvSpPr>
        <p:spPr>
          <a:xfrm>
            <a:off x="75564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حادي عشر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التقويم الختام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790200" y="1844280"/>
            <a:ext cx="7526520" cy="25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396000" indent="-39600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ويعرف بأنه : تصميم دراسات تقويمية وعملية جمع البيانات والمعلومات بخصوص اتخاذ قرارات عن مدى اكتساب اهداف التعليم او الاستمرار في استخدامه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000" indent="-39600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000" indent="-39600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  <a:cs typeface="Arial"/>
              </a:rPr>
              <a:t>اطوار التقويم الختامي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000" indent="-39600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طور تقدير الخبير والغرض منه تحديد ان كان التعليم المستعمل له القدرة على تلبية الحاجات التعليمي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000" indent="-39600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طور التجربة الميدانية  والغرض منه  تقويم التعليم المنشود مع افراد العينة المستهدفة في الموقف التعليمي المحدد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4" descr="نتيجة بحث الصور عن تصميم التعليم"/>
          <p:cNvPicPr/>
          <p:nvPr/>
        </p:nvPicPr>
        <p:blipFill>
          <a:blip r:embed="rId1"/>
          <a:stretch/>
        </p:blipFill>
        <p:spPr>
          <a:xfrm>
            <a:off x="357120" y="428760"/>
            <a:ext cx="2143080" cy="14191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571840" y="356760"/>
            <a:ext cx="4835520" cy="785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  <a:cs typeface="PT Bold Heading"/>
              </a:rPr>
              <a:t>المراج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00040" y="1714680"/>
            <a:ext cx="8183520" cy="32860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 fontScale="73000"/>
          </a:bodyPr>
          <a:p>
            <a:pPr marL="193320" indent="-193320" algn="just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نت جاستفسون،وروبرت برانش.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 )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ستعراض نماذج التطوير التعليم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، ط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، ترجمة بدر الصالح ، مكتبة العبيكان ، الرياض،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42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هـ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حمد عطية خميس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: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كنولوجيا إنتاج مصادر التعل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، ط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، القاهرة، دار السحاب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سكندر كمال , وغزازي محمد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قدمة في التكنولوجيا التعليم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مكتبة الفلاح,الكويت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حيلة,محمد محمود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كنولوجيا التعليم بين النظرية والتطبيق .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دار المسيرة:عما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زيتون,حسن حسين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صيم التدريس رؤية منظومية عالم الكتب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,بيروت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عدوان, زيد و الحوامدة, محمد(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صميم التدريس بين النظرية والتطبيق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قطامي ,يوسف وأبو جابر ,ماجد وقطامي ,نايفة.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ساسيات تصميم التدريس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عمان:دار الفكر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just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2" name="type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250" autoRev="1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6748-BEF2-44A1-9BF9-FC5812E0B38E}" type="slidenum">
              <a:rPr b="0" lang="ar-SA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رسم تخطيطي 4" descr=""/>
          <p:cNvPicPr/>
          <p:nvPr/>
        </p:nvPicPr>
        <p:blipFill>
          <a:blip r:embed="rId1"/>
          <a:stretch/>
        </p:blipFill>
        <p:spPr>
          <a:xfrm>
            <a:off x="353880" y="682560"/>
            <a:ext cx="8223480" cy="5492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57120" y="1052640"/>
            <a:ext cx="8175600" cy="489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2e1791"/>
                </a:solidFill>
                <a:latin typeface="Verdana"/>
                <a:cs typeface="PT Bold Heading"/>
              </a:rPr>
              <a:t>مكونات الخطة التعليمي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أهداف التعليمية العام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اهداف الخاصة لكل هدف عا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فقرات الاختبار لكل هدف خا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نشاطات التعليمية لكل هدف خاص او مجموعة عنقودية من الاهداف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  - نوع النشاط التعليمي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  - المحتوى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  - الادوات والأساليب.</a:t>
            </a: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Picture 4" descr="نتيجة بحث الصور عن تصميم التعليم"/>
          <p:cNvPicPr/>
          <p:nvPr/>
        </p:nvPicPr>
        <p:blipFill>
          <a:blip r:embed="rId1"/>
          <a:stretch/>
        </p:blipFill>
        <p:spPr>
          <a:xfrm>
            <a:off x="262080" y="476280"/>
            <a:ext cx="2627280" cy="260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Freeform 14"/>
          <p:cNvGrpSpPr/>
          <p:nvPr/>
        </p:nvGrpSpPr>
        <p:grpSpPr>
          <a:xfrm>
            <a:off x="4705200" y="1616040"/>
            <a:ext cx="2378160" cy="2485800"/>
            <a:chOff x="4705200" y="1616040"/>
            <a:chExt cx="2378160" cy="2485800"/>
          </a:xfrm>
        </p:grpSpPr>
        <p:pic>
          <p:nvPicPr>
            <p:cNvPr id="630" name="Freeform 14" descr=""/>
            <p:cNvPicPr/>
            <p:nvPr/>
          </p:nvPicPr>
          <p:blipFill>
            <a:blip r:embed="rId1"/>
            <a:stretch/>
          </p:blipFill>
          <p:spPr>
            <a:xfrm>
              <a:off x="5849640" y="1616040"/>
              <a:ext cx="12142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4705200" y="1637640"/>
              <a:ext cx="2378160" cy="24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9320" rIns="780480" tIns="-461880" bIns="163188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rial"/>
                </a:rPr>
                <a:t>التحلي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Freeform 15"/>
          <p:cNvGrpSpPr/>
          <p:nvPr/>
        </p:nvGrpSpPr>
        <p:grpSpPr>
          <a:xfrm>
            <a:off x="4748040" y="3340080"/>
            <a:ext cx="2494080" cy="2768760"/>
            <a:chOff x="4748040" y="3340080"/>
            <a:chExt cx="2494080" cy="2768760"/>
          </a:xfrm>
        </p:grpSpPr>
        <p:pic>
          <p:nvPicPr>
            <p:cNvPr id="633" name="Freeform 15" descr=""/>
            <p:cNvPicPr/>
            <p:nvPr/>
          </p:nvPicPr>
          <p:blipFill>
            <a:blip r:embed="rId2"/>
            <a:stretch/>
          </p:blipFill>
          <p:spPr>
            <a:xfrm>
              <a:off x="5928840" y="4266720"/>
              <a:ext cx="1313280" cy="16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4748040" y="3340080"/>
              <a:ext cx="2451240" cy="27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49200" rIns="321120" tIns="1298520" bIns="5911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rial"/>
                </a:rPr>
                <a:t>التصمي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Freeform 16"/>
          <p:cNvGrpSpPr/>
          <p:nvPr/>
        </p:nvGrpSpPr>
        <p:grpSpPr>
          <a:xfrm>
            <a:off x="3279600" y="4145040"/>
            <a:ext cx="2895840" cy="2487240"/>
            <a:chOff x="3279600" y="4145040"/>
            <a:chExt cx="2895840" cy="2487240"/>
          </a:xfrm>
        </p:grpSpPr>
        <p:pic>
          <p:nvPicPr>
            <p:cNvPr id="636" name="Freeform 16" descr=""/>
            <p:cNvPicPr/>
            <p:nvPr/>
          </p:nvPicPr>
          <p:blipFill>
            <a:blip r:embed="rId3"/>
            <a:stretch/>
          </p:blipFill>
          <p:spPr>
            <a:xfrm>
              <a:off x="3827160" y="5336640"/>
              <a:ext cx="18003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79600" y="4145040"/>
              <a:ext cx="2895840" cy="24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14320" rIns="1714320" tIns="2209320" bIns="-89568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rial"/>
                </a:rPr>
                <a:t>التطوير</a:t>
              </a:r>
              <a:r>
                <a:rPr b="1" lang="ar-SA" sz="4000" spc="-1" strike="noStrike">
                  <a:solidFill>
                    <a:srgbClr val="ffffff"/>
                  </a:solidFill>
                  <a:latin typeface="Verdana"/>
                  <a:ea typeface="Tahom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Freeform 17"/>
          <p:cNvGrpSpPr/>
          <p:nvPr/>
        </p:nvGrpSpPr>
        <p:grpSpPr>
          <a:xfrm>
            <a:off x="2206800" y="3340080"/>
            <a:ext cx="2493720" cy="2768760"/>
            <a:chOff x="2206800" y="3340080"/>
            <a:chExt cx="2493720" cy="2768760"/>
          </a:xfrm>
        </p:grpSpPr>
        <p:pic>
          <p:nvPicPr>
            <p:cNvPr id="639" name="Freeform 17" descr=""/>
            <p:cNvPicPr/>
            <p:nvPr/>
          </p:nvPicPr>
          <p:blipFill>
            <a:blip r:embed="rId4"/>
            <a:stretch/>
          </p:blipFill>
          <p:spPr>
            <a:xfrm>
              <a:off x="2206800" y="4266720"/>
              <a:ext cx="1310400" cy="16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2252520" y="3340080"/>
              <a:ext cx="2448000" cy="27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2560" rIns="3050280" tIns="1297440" bIns="5900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rial"/>
                </a:rPr>
                <a:t>التطبي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Freeform 18"/>
          <p:cNvGrpSpPr/>
          <p:nvPr/>
        </p:nvGrpSpPr>
        <p:grpSpPr>
          <a:xfrm>
            <a:off x="2365200" y="1616040"/>
            <a:ext cx="2378160" cy="2485800"/>
            <a:chOff x="2365200" y="1616040"/>
            <a:chExt cx="2378160" cy="2485800"/>
          </a:xfrm>
        </p:grpSpPr>
        <p:pic>
          <p:nvPicPr>
            <p:cNvPr id="642" name="Freeform 18" descr=""/>
            <p:cNvPicPr/>
            <p:nvPr/>
          </p:nvPicPr>
          <p:blipFill>
            <a:blip r:embed="rId5"/>
            <a:stretch/>
          </p:blipFill>
          <p:spPr>
            <a:xfrm>
              <a:off x="2381040" y="1616040"/>
              <a:ext cx="12142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2365200" y="1637640"/>
              <a:ext cx="2378160" cy="24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0480" rIns="2479320" tIns="-461880" bIns="163188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1" lang="ar-SA" sz="3200" spc="-1" strike="noStrike">
                  <a:solidFill>
                    <a:srgbClr val="ffffff"/>
                  </a:solidFill>
                  <a:latin typeface="Arial"/>
                </a:rPr>
                <a:t>التقوي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Circular Arrow 19"/>
          <p:cNvGrpSpPr/>
          <p:nvPr/>
        </p:nvGrpSpPr>
        <p:grpSpPr>
          <a:xfrm>
            <a:off x="4748040" y="1560600"/>
            <a:ext cx="2573280" cy="1888560"/>
            <a:chOff x="4748040" y="1560600"/>
            <a:chExt cx="2573280" cy="1888560"/>
          </a:xfrm>
        </p:grpSpPr>
        <p:pic>
          <p:nvPicPr>
            <p:cNvPr id="645" name="Circular Arrow 19" descr=""/>
            <p:cNvPicPr/>
            <p:nvPr/>
          </p:nvPicPr>
          <p:blipFill>
            <a:blip r:embed="rId6"/>
            <a:stretch/>
          </p:blipFill>
          <p:spPr>
            <a:xfrm>
              <a:off x="5749920" y="1560600"/>
              <a:ext cx="157140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4748040" y="1901520"/>
              <a:ext cx="2106360" cy="15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Circular Arrow 20"/>
          <p:cNvGrpSpPr/>
          <p:nvPr/>
        </p:nvGrpSpPr>
        <p:grpSpPr>
          <a:xfrm>
            <a:off x="6095880" y="3309840"/>
            <a:ext cx="1255680" cy="2895480"/>
            <a:chOff x="6095880" y="3309840"/>
            <a:chExt cx="1255680" cy="2895480"/>
          </a:xfrm>
        </p:grpSpPr>
        <p:pic>
          <p:nvPicPr>
            <p:cNvPr id="648" name="Circular Arrow 20" descr=""/>
            <p:cNvPicPr/>
            <p:nvPr/>
          </p:nvPicPr>
          <p:blipFill>
            <a:blip r:embed="rId7"/>
            <a:stretch/>
          </p:blipFill>
          <p:spPr>
            <a:xfrm>
              <a:off x="6980040" y="4011120"/>
              <a:ext cx="371520" cy="21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6095880" y="3309840"/>
              <a:ext cx="1020960" cy="26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Circular Arrow 21"/>
          <p:cNvGrpSpPr/>
          <p:nvPr/>
        </p:nvGrpSpPr>
        <p:grpSpPr>
          <a:xfrm>
            <a:off x="3286080" y="5877000"/>
            <a:ext cx="2955960" cy="865080"/>
            <a:chOff x="3286080" y="5877000"/>
            <a:chExt cx="2955960" cy="865080"/>
          </a:xfrm>
        </p:grpSpPr>
        <p:pic>
          <p:nvPicPr>
            <p:cNvPr id="651" name="Circular Arrow 21" descr=""/>
            <p:cNvPicPr/>
            <p:nvPr/>
          </p:nvPicPr>
          <p:blipFill>
            <a:blip r:embed="rId8"/>
            <a:stretch/>
          </p:blipFill>
          <p:spPr>
            <a:xfrm>
              <a:off x="3529080" y="6567480"/>
              <a:ext cx="253152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3286080" y="5877000"/>
              <a:ext cx="29559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Circular Arrow 22"/>
          <p:cNvGrpSpPr/>
          <p:nvPr/>
        </p:nvGrpSpPr>
        <p:grpSpPr>
          <a:xfrm>
            <a:off x="1994040" y="3352680"/>
            <a:ext cx="1431720" cy="2846520"/>
            <a:chOff x="1994040" y="3352680"/>
            <a:chExt cx="1431720" cy="2846520"/>
          </a:xfrm>
        </p:grpSpPr>
        <p:pic>
          <p:nvPicPr>
            <p:cNvPr id="654" name="Circular Arrow 22" descr=""/>
            <p:cNvPicPr/>
            <p:nvPr/>
          </p:nvPicPr>
          <p:blipFill>
            <a:blip r:embed="rId9"/>
            <a:stretch/>
          </p:blipFill>
          <p:spPr>
            <a:xfrm>
              <a:off x="1994040" y="4075200"/>
              <a:ext cx="47088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2291040" y="3352680"/>
              <a:ext cx="1134720" cy="257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Circular Arrow 23"/>
          <p:cNvGrpSpPr/>
          <p:nvPr/>
        </p:nvGrpSpPr>
        <p:grpSpPr>
          <a:xfrm>
            <a:off x="2262240" y="1328760"/>
            <a:ext cx="2480760" cy="2096640"/>
            <a:chOff x="2262240" y="1328760"/>
            <a:chExt cx="2480760" cy="2096640"/>
          </a:xfrm>
        </p:grpSpPr>
        <p:pic>
          <p:nvPicPr>
            <p:cNvPr id="657" name="Circular Arrow 23" descr=""/>
            <p:cNvPicPr/>
            <p:nvPr/>
          </p:nvPicPr>
          <p:blipFill>
            <a:blip r:embed="rId10"/>
            <a:stretch/>
          </p:blipFill>
          <p:spPr>
            <a:xfrm>
              <a:off x="2262240" y="1328760"/>
              <a:ext cx="1491840" cy="10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2667600" y="1774440"/>
              <a:ext cx="207540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000160" y="356760"/>
            <a:ext cx="5500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PT Bold Heading"/>
              </a:rPr>
              <a:t>مراحل التصميم التعليمي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1" name="type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" dur="250" autoRev="1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صورة 4" descr="بوان.bmp"/>
          <p:cNvPicPr/>
          <p:nvPr/>
        </p:nvPicPr>
        <p:blipFill>
          <a:blip r:embed="rId1"/>
          <a:stretch/>
        </p:blipFill>
        <p:spPr>
          <a:xfrm>
            <a:off x="357120" y="500040"/>
            <a:ext cx="8501040" cy="57150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4"/>
          <p:cNvSpPr/>
          <p:nvPr/>
        </p:nvSpPr>
        <p:spPr>
          <a:xfrm>
            <a:off x="684360" y="40464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2071800" y="2786040"/>
            <a:ext cx="4643280" cy="13129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2e1791"/>
                </a:solidFill>
                <a:latin typeface="Arial"/>
                <a:cs typeface="PT Bold Heading"/>
              </a:rPr>
              <a:t>نماذج تصميم التعل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684360" y="40464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428760" y="500040"/>
            <a:ext cx="8215200" cy="228744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e1791"/>
                </a:solidFill>
                <a:latin typeface="Arial"/>
                <a:cs typeface="PT Bold Heading"/>
              </a:rPr>
              <a:t>مكونات احد نماذج تصميم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e1791"/>
                </a:solidFill>
                <a:latin typeface="Arial"/>
                <a:ea typeface="Majalla UI"/>
              </a:rPr>
              <a:t> </a:t>
            </a:r>
            <a:r>
              <a:rPr b="1" lang="ar-SA" sz="4800" spc="-1" strike="noStrike">
                <a:solidFill>
                  <a:srgbClr val="067009"/>
                </a:solidFill>
                <a:latin typeface="Arial"/>
                <a:ea typeface="Majalla UI"/>
              </a:rPr>
              <a:t>(نموذج ديك وكيري </a:t>
            </a:r>
            <a:r>
              <a:rPr b="1" lang="en-US" sz="4800" spc="-1" strike="noStrike">
                <a:solidFill>
                  <a:srgbClr val="067009"/>
                </a:solidFill>
                <a:latin typeface="Arial"/>
                <a:ea typeface="Majalla UI"/>
              </a:rPr>
              <a:t>(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500040" y="2092320"/>
            <a:ext cx="79200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راحل النموذج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قدير الاحتياجات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التحليل التعليمي ، وتحليل المتعلمين والسياق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كتابة أهداف الأداء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طوير أدوات التقدير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طوير الإستراتيجية التعليمي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طوير واختيار المواد التعليمي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صميم التقويم التكويني وتنفيذ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صميم التقويم الإجمالي وتنفيذه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Rectangle 2" descr=""/>
          <p:cNvPicPr/>
          <p:nvPr/>
        </p:nvPicPr>
        <p:blipFill>
          <a:blip r:embed="rId1"/>
          <a:stretch/>
        </p:blipFill>
        <p:spPr>
          <a:xfrm>
            <a:off x="1042920" y="-6480"/>
            <a:ext cx="3211560" cy="81756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34"/>
          <p:cNvSpPr/>
          <p:nvPr/>
        </p:nvSpPr>
        <p:spPr>
          <a:xfrm>
            <a:off x="3135240" y="76032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تحديد الأهداف السلوك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35"/>
          <p:cNvSpPr/>
          <p:nvPr/>
        </p:nvSpPr>
        <p:spPr>
          <a:xfrm>
            <a:off x="4216320" y="1623960"/>
            <a:ext cx="1656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مه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36"/>
          <p:cNvSpPr/>
          <p:nvPr/>
        </p:nvSpPr>
        <p:spPr>
          <a:xfrm>
            <a:off x="6303960" y="1623960"/>
            <a:ext cx="1655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معر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37"/>
          <p:cNvSpPr/>
          <p:nvPr/>
        </p:nvSpPr>
        <p:spPr>
          <a:xfrm>
            <a:off x="2055960" y="1623960"/>
            <a:ext cx="1655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وجدا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8"/>
          <p:cNvSpPr/>
          <p:nvPr/>
        </p:nvSpPr>
        <p:spPr>
          <a:xfrm>
            <a:off x="5008680" y="13352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9"/>
          <p:cNvSpPr/>
          <p:nvPr/>
        </p:nvSpPr>
        <p:spPr>
          <a:xfrm>
            <a:off x="6377040" y="1335240"/>
            <a:ext cx="86364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40"/>
          <p:cNvSpPr/>
          <p:nvPr/>
        </p:nvSpPr>
        <p:spPr>
          <a:xfrm flipH="1">
            <a:off x="2703240" y="1335240"/>
            <a:ext cx="43164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41"/>
          <p:cNvSpPr/>
          <p:nvPr/>
        </p:nvSpPr>
        <p:spPr>
          <a:xfrm>
            <a:off x="3352680" y="2416320"/>
            <a:ext cx="33130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اختيار موضوع الد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2"/>
          <p:cNvSpPr/>
          <p:nvPr/>
        </p:nvSpPr>
        <p:spPr>
          <a:xfrm flipH="1">
            <a:off x="6663960" y="2200320"/>
            <a:ext cx="36036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3"/>
          <p:cNvSpPr/>
          <p:nvPr/>
        </p:nvSpPr>
        <p:spPr>
          <a:xfrm>
            <a:off x="2847960" y="2127240"/>
            <a:ext cx="504720" cy="649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44"/>
          <p:cNvSpPr/>
          <p:nvPr/>
        </p:nvSpPr>
        <p:spPr>
          <a:xfrm>
            <a:off x="3352680" y="327960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التقدير المبدئي للتلمي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45"/>
          <p:cNvSpPr/>
          <p:nvPr/>
        </p:nvSpPr>
        <p:spPr>
          <a:xfrm>
            <a:off x="5008680" y="29923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46"/>
          <p:cNvSpPr/>
          <p:nvPr/>
        </p:nvSpPr>
        <p:spPr>
          <a:xfrm>
            <a:off x="3352680" y="407196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وضع استراتيجية التدري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7"/>
          <p:cNvSpPr/>
          <p:nvPr/>
        </p:nvSpPr>
        <p:spPr>
          <a:xfrm>
            <a:off x="5008680" y="37846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8"/>
          <p:cNvSpPr/>
          <p:nvPr/>
        </p:nvSpPr>
        <p:spPr>
          <a:xfrm>
            <a:off x="5079960" y="46483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9"/>
          <p:cNvSpPr/>
          <p:nvPr/>
        </p:nvSpPr>
        <p:spPr>
          <a:xfrm>
            <a:off x="4863960" y="46483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50"/>
          <p:cNvSpPr/>
          <p:nvPr/>
        </p:nvSpPr>
        <p:spPr>
          <a:xfrm>
            <a:off x="471600" y="4935600"/>
            <a:ext cx="8497800" cy="13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1"/>
          <p:cNvSpPr/>
          <p:nvPr/>
        </p:nvSpPr>
        <p:spPr>
          <a:xfrm>
            <a:off x="7456320" y="5008680"/>
            <a:ext cx="1360800" cy="12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ختي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خب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تعلي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52"/>
          <p:cNvSpPr/>
          <p:nvPr/>
        </p:nvSpPr>
        <p:spPr>
          <a:xfrm>
            <a:off x="5792760" y="5008680"/>
            <a:ext cx="1360440" cy="12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ختي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واستخد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أجه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53"/>
          <p:cNvSpPr/>
          <p:nvPr/>
        </p:nvSpPr>
        <p:spPr>
          <a:xfrm>
            <a:off x="3879720" y="5008680"/>
            <a:ext cx="1360440" cy="12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عدا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امكا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تعلي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4"/>
          <p:cNvSpPr/>
          <p:nvPr/>
        </p:nvSpPr>
        <p:spPr>
          <a:xfrm>
            <a:off x="2136600" y="5008680"/>
            <a:ext cx="1360800" cy="12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تنويع أنما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تجمع التلام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55"/>
          <p:cNvSpPr/>
          <p:nvPr/>
        </p:nvSpPr>
        <p:spPr>
          <a:xfrm>
            <a:off x="550800" y="5008680"/>
            <a:ext cx="1360440" cy="12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تحديد د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مدر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والتلم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57"/>
          <p:cNvSpPr/>
          <p:nvPr/>
        </p:nvSpPr>
        <p:spPr>
          <a:xfrm>
            <a:off x="1928880" y="6286680"/>
            <a:ext cx="4824360" cy="40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تقي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76"/>
          <p:cNvGrpSpPr/>
          <p:nvPr/>
        </p:nvGrpSpPr>
        <p:grpSpPr>
          <a:xfrm>
            <a:off x="316080" y="833400"/>
            <a:ext cx="2818800" cy="5710320"/>
            <a:chOff x="316080" y="833400"/>
            <a:chExt cx="2818800" cy="5710320"/>
          </a:xfrm>
        </p:grpSpPr>
        <p:sp>
          <p:nvSpPr>
            <p:cNvPr id="691" name="Freeform 60"/>
            <p:cNvSpPr/>
            <p:nvPr/>
          </p:nvSpPr>
          <p:spPr>
            <a:xfrm>
              <a:off x="316080" y="6541920"/>
              <a:ext cx="1653840" cy="18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1"/>
            <p:cNvSpPr/>
            <p:nvPr/>
          </p:nvSpPr>
          <p:spPr>
            <a:xfrm>
              <a:off x="402840" y="880920"/>
              <a:ext cx="1440" cy="56181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2"/>
            <p:cNvSpPr/>
            <p:nvPr/>
          </p:nvSpPr>
          <p:spPr>
            <a:xfrm>
              <a:off x="402840" y="833400"/>
              <a:ext cx="2732040" cy="468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77"/>
          <p:cNvGrpSpPr/>
          <p:nvPr/>
        </p:nvGrpSpPr>
        <p:grpSpPr>
          <a:xfrm>
            <a:off x="6735600" y="6305400"/>
            <a:ext cx="1728720" cy="214200"/>
            <a:chOff x="6735600" y="6305400"/>
            <a:chExt cx="1728720" cy="214200"/>
          </a:xfrm>
        </p:grpSpPr>
        <p:sp>
          <p:nvSpPr>
            <p:cNvPr id="695" name="Line 63"/>
            <p:cNvSpPr/>
            <p:nvPr/>
          </p:nvSpPr>
          <p:spPr>
            <a:xfrm flipH="1">
              <a:off x="6808680" y="6305400"/>
              <a:ext cx="792000" cy="7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64"/>
            <p:cNvSpPr/>
            <p:nvPr/>
          </p:nvSpPr>
          <p:spPr>
            <a:xfrm flipH="1">
              <a:off x="6735600" y="6305400"/>
              <a:ext cx="1728720" cy="21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69"/>
          <p:cNvGrpSpPr/>
          <p:nvPr/>
        </p:nvGrpSpPr>
        <p:grpSpPr>
          <a:xfrm>
            <a:off x="1479240" y="1049400"/>
            <a:ext cx="1873440" cy="1655640"/>
            <a:chOff x="1479240" y="1049400"/>
            <a:chExt cx="1873440" cy="1655640"/>
          </a:xfrm>
        </p:grpSpPr>
        <p:sp>
          <p:nvSpPr>
            <p:cNvPr id="698" name="Line 65"/>
            <p:cNvSpPr/>
            <p:nvPr/>
          </p:nvSpPr>
          <p:spPr>
            <a:xfrm flipH="1">
              <a:off x="1479240" y="1049400"/>
              <a:ext cx="165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66"/>
            <p:cNvSpPr/>
            <p:nvPr/>
          </p:nvSpPr>
          <p:spPr>
            <a:xfrm>
              <a:off x="1479600" y="1049400"/>
              <a:ext cx="0" cy="863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67"/>
            <p:cNvSpPr/>
            <p:nvPr/>
          </p:nvSpPr>
          <p:spPr>
            <a:xfrm>
              <a:off x="1479600" y="191268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68"/>
            <p:cNvSpPr/>
            <p:nvPr/>
          </p:nvSpPr>
          <p:spPr>
            <a:xfrm>
              <a:off x="1479600" y="2705040"/>
              <a:ext cx="187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70"/>
          <p:cNvGrpSpPr/>
          <p:nvPr/>
        </p:nvGrpSpPr>
        <p:grpSpPr>
          <a:xfrm>
            <a:off x="6448320" y="1049040"/>
            <a:ext cx="1873440" cy="1655640"/>
            <a:chOff x="6448320" y="1049040"/>
            <a:chExt cx="1873440" cy="1655640"/>
          </a:xfrm>
        </p:grpSpPr>
        <p:sp>
          <p:nvSpPr>
            <p:cNvPr id="703" name="Line 71"/>
            <p:cNvSpPr/>
            <p:nvPr/>
          </p:nvSpPr>
          <p:spPr>
            <a:xfrm>
              <a:off x="6665760" y="2704680"/>
              <a:ext cx="165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72"/>
            <p:cNvSpPr/>
            <p:nvPr/>
          </p:nvSpPr>
          <p:spPr>
            <a:xfrm flipV="1">
              <a:off x="8321760" y="1841400"/>
              <a:ext cx="0" cy="863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73"/>
            <p:cNvSpPr/>
            <p:nvPr/>
          </p:nvSpPr>
          <p:spPr>
            <a:xfrm flipV="1">
              <a:off x="8321760" y="104940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74"/>
            <p:cNvSpPr/>
            <p:nvPr/>
          </p:nvSpPr>
          <p:spPr>
            <a:xfrm flipH="1">
              <a:off x="6448320" y="104904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Line 75"/>
          <p:cNvSpPr/>
          <p:nvPr/>
        </p:nvSpPr>
        <p:spPr>
          <a:xfrm>
            <a:off x="4935600" y="22003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2" name="type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6:35:52Z</dcterms:created>
  <dc:creator>pc</dc:creator>
  <dc:description/>
  <dc:language>en-US</dc:language>
  <cp:lastModifiedBy>Nistiz PC76</cp:lastModifiedBy>
  <dcterms:modified xsi:type="dcterms:W3CDTF">2015-02-14T11:10:12Z</dcterms:modified>
  <cp:revision>125</cp:revision>
  <dc:subject/>
  <dc:title>الشريحة 1</dc:title>
</cp:coreProperties>
</file>