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type.wav" ContentType="audio/x-wav"/>
  <Override PartName="/ppt/media/image1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4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ftr" idx="4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 type="sldNum" idx="4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1927-51F1-4A36-81A6-35F39D1442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E243-EF31-4930-A0D2-BED11817AD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17E-1FB7-4B65-833A-CB23A297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BF2-C302-42FA-9268-1F01E8D7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C5B8C-D474-4E69-AAF7-46B03126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229E1-B8EA-4D0F-986E-1B85B8BD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07CD7-666B-472D-9359-3E766A9F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BC3E6-0F5A-4B18-8958-252C63B8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886CB-D10D-471F-8934-95A8B5E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4A520-3C42-454B-8C3C-6532626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9201F-5CC1-470F-9DC1-73D523DE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4CB6E-5469-4A19-B753-246C9EA1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E3496-4C89-4DFF-8BEC-D66C3D56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5D41A-DDF3-44DF-BC03-BADCC60B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887-7AC4-493E-8119-5C648EDF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31460-B881-4653-91C3-8EF6892B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58BA5-7FB1-41E5-AD14-EAC748F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170D9-CFBB-4700-82C0-267088E8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E5CAE-8F55-4831-8C51-E9EC119B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4B497-F087-4D40-A4FD-30038C72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ADCAA-44B6-418A-97A6-68B35F5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020C0-B71D-4F7D-BB07-8BA603C8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C8320-50B6-4FAB-BCC9-C2E7D5C2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1C44F-A4D9-4236-A38C-8DE58C41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92542-B4DC-4D92-99AC-9961EAF0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FF1-FE3F-4FF7-A0A2-F876CE4B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E242C-9FAF-484C-880E-4FC2AFC3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760C9-D511-4082-9EFE-06B61071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E4E02-1D88-41CE-8EA3-CC7052AF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DD243-AC0B-4F75-915C-232B084E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1F55D-B87C-4CA0-9518-3BC5135F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33E3B-F05D-4309-9807-FF4A5E36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71F88-C431-457E-957C-94FDF8BA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8F39E-3725-4C74-A985-1D7B016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41FF8-2D8F-4423-A158-7447D76F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5741C-3411-4573-ADAB-AD4299EA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8D28-7C4B-4FF1-9BEE-928BA1A5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AA2C1-907F-4684-8890-35DE2AEA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CFD14-F173-4662-8E6D-461FB71E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51C96-C0B3-47D0-846E-E24F8608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45A61-35BA-4788-9E6F-3DE5004D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C273E-4563-4889-A46B-1DA0BE1E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A964B-6DC4-4852-BACE-520F09A5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DF549-C892-4966-86D1-C4E5D853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B0192-F14C-4EFF-8A1C-4BD77612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D94E8-61B1-416E-9CCB-CDBEAB01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C153F-09FB-46F5-980B-270D07CF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EBC3-0336-4629-9C73-471F9046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B514E-5B24-4F92-8CDD-5C6B3DCE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EFF45-5799-425B-B1CA-F0C6AE46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F2D4D-C1F2-40B4-8F0F-0FCC429D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41D74-B888-4FB5-A86A-3E65A66D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67047-B30B-4BD9-892E-37B38E4B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8D1F1-0F5D-4597-B181-EF4FB383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81AAE-CE16-44C3-B5EE-2ABC35E1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DF881-E302-458E-B9ED-6FFAE5A4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A7F4E-DD99-40F7-83D7-B5417D99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5A219-985C-4B34-87F1-CC207C52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C08B-FA28-4C76-9895-58BA3C7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8EF97-73E4-4446-BC57-5B77B19E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9D789-20F8-4D93-B4F2-51A9DC0D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2380D-DA5B-430A-911B-7843437F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C343E-1A03-4D2C-B7AF-0446F52B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38CEA-91B0-4BA4-9C89-E4BCF7C3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E41BE-750A-405D-89FB-41E3E576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1EABB-1A41-4BF1-935B-1AC8A359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5CDE-EE04-486B-A55D-B1BD5D5B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E239-AB7B-4411-8BE4-E59EFB64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CBAF-177E-4894-A337-5837130E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CF5E-9212-4BA4-B87C-3AA1F961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1EA-A334-499B-8A3A-34FD48F7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3B6D-CA21-467A-AEF4-6A076429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3278-20E0-489D-BB75-1D63B0AE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EA1F-EA37-46D5-A3E9-7C4ABE60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7011-D5CF-4D5B-AFBD-75C55BEB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1199-BC3C-4075-8203-420A0773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861B-62E8-40BD-AAB8-A05E0495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CFC5-F2C9-4861-A25B-C58EAE07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0A5A-8EC6-470D-9959-33762340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C465C-E427-4A5D-96EA-681515DC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DDCA-893C-4858-ADD1-201D7604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8F2-16BC-42BC-9B17-992BA720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1865-817A-4FF7-AA4F-5424E39F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1F8B-97A3-4E57-83EB-DEF8A38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9892-5C71-4A2F-904C-8290C42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753F-6336-4892-98F2-E3C6E68E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75CFC-E1C4-4026-8B2D-C5AEA4D1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9E5D-EDA0-40AF-B627-ABDB058D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8AA6-4E93-4106-83E2-8F6CFFB2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2DB0-DE76-4505-A200-DA8BA69F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4359E-8EA6-4F3F-A7FC-5DEDABF4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82F2-0CEE-401A-A0B3-6C1CD103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161-E1EA-4993-AA60-BF5E2481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CC53-7355-43CC-BAF4-EA85B825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1C4F-1D20-428E-89A4-54F13A30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EAC1-A1FB-49A3-8C6D-B3DBC69F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7B51-9FF4-4717-812B-77B708A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4F27-D228-45F3-902A-E04BCC3A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5A8F-8273-4351-9B16-DF7F313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F879-8B8F-4B2A-B3C9-ED104953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339D-7C57-489C-97F3-0E92E5A2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13BD-13CD-411E-A6D6-B1E73EF5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25732-5430-4B0F-8439-94FFFD42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102-46D2-44E4-826C-B3D39B7D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AD67E-3816-4E1D-8278-B520C45B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4A18F-1EF8-494F-BBAD-2462B4C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5DB0-2399-4B32-90EC-7613D2EE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71A3-C176-4039-9E2D-C24AE1D1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F52A3-BE50-4495-89C2-A9A50576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AC6B-01B7-48A1-AA81-38300C5E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D72F-D83F-4AF4-BD00-29B639C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FF20-EAA0-4CF3-8FDB-065B115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BE20-9CE2-4BBE-AAED-ADB265E9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998BD-50D8-4E7B-8450-3F9C177B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FD9-1B7E-46BF-B971-6977AAAA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DBEB-A1A2-47F3-8568-5D5304E3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9A3A-9607-4FD8-999F-834031F7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8B3B5-2747-41B8-9061-F94149FD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08B65-D707-42C1-838C-06FF351D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D21F3-C216-49F8-9098-800B4DF2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89E78-1191-4A30-9FFD-16416B56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48859-7D1B-4D5F-A49F-7EF43674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A2BF6-DAE7-4E56-9945-B4FE834D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E1D5A-DA3D-48AA-A90F-01E4343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0077C-50A5-4100-90CD-ECB15B0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636-7447-4BE8-9C8F-22904841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A6740-F64A-432B-870E-8243A33B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60DCA-DA4C-4010-BD9F-1D39C70E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477A-14DA-42E8-AD71-349C5741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18AD6-2A7C-4109-99F4-E1339086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CC394-1916-480B-8097-E131B6A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8ADF-6507-4114-8B3D-A802F2EB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4B762-AC82-48BA-BB82-DBD87DC9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4E46-16A8-4FBC-B890-17FE20F6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EEE0A-C1E4-4C72-8F6B-01408A95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CC3BA-1013-4674-AB2A-B7B17702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6BD-1072-441E-A61A-089AA6EB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2C4FB-1E7D-43CB-A495-0DEF7F30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1B599-1B5D-42A8-AEB9-BC0FA23D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1867-AE25-41D0-BEF5-DB4142F9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2A9C-D1A2-42AF-8582-F85391CD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15121-8F00-4F8A-BF53-CC3B43FC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A15A6-A7A5-4653-97A7-00C9B5EE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87510-0767-4154-8E03-93651DD5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F70E8-FF6A-4730-BB6B-4C6ACF24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6802D-DF8C-41B7-A421-BE4D64C6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56F5-1346-4EB3-93D0-D8E879C9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9C5-8C57-451F-BAAF-57DD99DA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10966-C770-4EE0-A640-7C750B1E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1F08C-61AE-423D-9891-CE78002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7F84E-FE8C-495F-9159-DFEBDF56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8D2A7-6BE9-4472-A309-EBC0A279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A9463-6FD6-4655-B4DB-B451559A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8F0A7-D9FD-49AD-8F1D-CD71E498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4F1CC-5826-4FE2-96B1-1ADE3573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7EBCF-73F3-424B-97BD-BB006E20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55DFA-823C-4406-8404-6A05189A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4B133-D423-4038-A5E5-0A03750F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A422-C5C8-4089-A3C9-18011DC929B6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16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مستطيل ذو زاوية واحدة مستديرة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81C1-EAB3-4479-813E-F343F1BE0EB0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63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4C55-C9AB-4336-B3B4-0D0B4060B6F1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08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D10E-5A57-4D74-A2E0-4E267111C4B5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53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694D-49FA-43C9-A876-48CCC1B85FF2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مستطيل مستدير الزوايا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FE5C-7AF7-4893-8788-E61138C8CC2D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71E5-E246-47FA-AAD8-7131C4CAB9BC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1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مستطيل مستدير الزوايا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45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CC35-713D-40CB-9B95-72B044F14099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0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C70C-2BF6-44EF-8EE6-CC920C3C47EF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35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E136-EB3F-4589-B430-92EF106855A1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80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540D-32D8-4CB9-8829-00A00B09994F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25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مستطيل مستدير الزوايا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7C0C-26C3-4D97-9274-C2474DB1AFCE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مستطيل مستدير الزوايا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مستطيل مستدير الزوايا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71" name="مستطيل مستدير الزوايا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A8F8-460B-4279-9778-9480D51828C5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صورة 8" descr="mj.bmp"/>
          <p:cNvPicPr/>
          <p:nvPr/>
        </p:nvPicPr>
        <p:blipFill>
          <a:blip r:embed="rId1"/>
          <a:stretch/>
        </p:blipFill>
        <p:spPr>
          <a:xfrm>
            <a:off x="500040" y="1857240"/>
            <a:ext cx="8143920" cy="4286520"/>
          </a:xfrm>
          <a:prstGeom prst="rect">
            <a:avLst/>
          </a:prstGeom>
          <a:ln w="0">
            <a:noFill/>
          </a:ln>
        </p:spPr>
      </p:pic>
      <p:pic>
        <p:nvPicPr>
          <p:cNvPr id="604" name="عنوان فرعي 2" descr=""/>
          <p:cNvPicPr/>
          <p:nvPr/>
        </p:nvPicPr>
        <p:blipFill>
          <a:blip r:embed="rId2"/>
          <a:stretch/>
        </p:blipFill>
        <p:spPr>
          <a:xfrm>
            <a:off x="1852560" y="2577960"/>
            <a:ext cx="5224680" cy="2853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2"/>
          <p:cNvSpPr/>
          <p:nvPr/>
        </p:nvSpPr>
        <p:spPr>
          <a:xfrm>
            <a:off x="5651640" y="549360"/>
            <a:ext cx="30034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2e1791"/>
                </a:solidFill>
                <a:latin typeface="Lucida Sans Unicode"/>
                <a:cs typeface="Times New Roman"/>
              </a:rPr>
              <a:t>المملكة العربية السعود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2e1791"/>
                </a:solidFill>
                <a:latin typeface="Lucida Sans Unicode"/>
                <a:cs typeface="Times New Roman"/>
              </a:rPr>
              <a:t>وزارة التعلي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2e1791"/>
                </a:solidFill>
                <a:latin typeface="Lucida Sans Unicode"/>
                <a:cs typeface="Times New Roman"/>
              </a:rPr>
              <a:t>جامعة الملك سعود - كلية التر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2e1791"/>
                </a:solidFill>
                <a:latin typeface="Lucida Sans Unicode"/>
                <a:cs typeface="Times New Roman"/>
              </a:rPr>
              <a:t>قسم مناهج وطرق تدريس التربية البد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صورة 0" descr="شعار الجامعة.jpg"/>
          <p:cNvPicPr/>
          <p:nvPr/>
        </p:nvPicPr>
        <p:blipFill>
          <a:blip r:embed="rId3"/>
          <a:stretch/>
        </p:blipFill>
        <p:spPr>
          <a:xfrm>
            <a:off x="428760" y="428760"/>
            <a:ext cx="1296720" cy="1296720"/>
          </a:xfrm>
          <a:prstGeom prst="rect">
            <a:avLst/>
          </a:prstGeom>
          <a:ln w="0">
            <a:noFill/>
          </a:ln>
        </p:spPr>
      </p:pic>
      <p:sp>
        <p:nvSpPr>
          <p:cNvPr id="607" name="مربع نص 3"/>
          <p:cNvSpPr/>
          <p:nvPr/>
        </p:nvSpPr>
        <p:spPr>
          <a:xfrm>
            <a:off x="2571840" y="52149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d0d0d"/>
                </a:solidFill>
                <a:latin typeface="Arabic Typesetting"/>
              </a:rPr>
              <a:t>إعداد الطالب / عبدالله ناصر السلي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d0d0d"/>
                </a:solidFill>
                <a:latin typeface="Arabic Typesetting"/>
              </a:rPr>
              <a:t>الرقم الجامعي :</a:t>
            </a:r>
            <a:r>
              <a:rPr b="1" lang="ar-SA" sz="1600" spc="-1" strike="noStrike">
                <a:solidFill>
                  <a:srgbClr val="0d0d0d"/>
                </a:solidFill>
                <a:latin typeface="Arabic Typesetting"/>
              </a:rPr>
              <a:t>4339105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d0d0d"/>
                </a:solidFill>
                <a:latin typeface="Arabic Typesetting"/>
              </a:rPr>
              <a:t>إشراف الدكتور / راشد محمد الجسا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4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68360" y="1268280"/>
            <a:ext cx="7991280" cy="472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Verdana"/>
                <a:cs typeface="PT Bold Heading"/>
              </a:rPr>
              <a:t>الخطوة الاولى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ar-SA" sz="3600" spc="-1" strike="noStrike">
                <a:solidFill>
                  <a:srgbClr val="067009"/>
                </a:solidFill>
                <a:latin typeface="Verdana"/>
                <a:cs typeface="Arial"/>
              </a:rPr>
              <a:t>تحديد وتقدير الحاجات لاشتقاق الأهداف العام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ial"/>
              </a:rPr>
              <a:t>وتصاغ هذه الأهداف على شكل مهارات ومعارف واتجاهات يكسبها الطالب لتلبية حاجة محدده . فهي عبارة عن دراسة تجري لتحديد الطبيعة الحقيقة لمشكلة المؤسسة وإمكانية حلها وكيف حلها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عنصر نائب للمحتوى 2"/>
          <p:cNvSpPr/>
          <p:nvPr/>
        </p:nvSpPr>
        <p:spPr>
          <a:xfrm>
            <a:off x="539640" y="1268280"/>
            <a:ext cx="8280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onstantia"/>
                <a:cs typeface="PT Bold Heading"/>
              </a:rPr>
              <a:t>الخطوة الثانية :</a:t>
            </a:r>
            <a:r>
              <a:rPr b="1" lang="ar-SA" sz="3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r>
              <a:rPr b="1" lang="ar-SA" sz="3600" spc="-1" strike="noStrike">
                <a:solidFill>
                  <a:srgbClr val="067009"/>
                </a:solidFill>
                <a:latin typeface="Constantia"/>
                <a:cs typeface="Majalla UI"/>
              </a:rPr>
              <a:t>تحديد الأهداف العا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اجراء تحليل للهدف العام سواء في مجال العمل او المنهاج , وتعد الاهداف التعليمية العامة غامضة وللقيام بتحليل الهدف العام الغامض يجب ان يتضمن الوصف الكامل للهدف العام ما يل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Constantia"/>
                <a:cs typeface="Majalla UI"/>
              </a:rPr>
              <a:t>عبارة عما سيكون المتعلمون قادرين على فعل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Constantia"/>
                <a:cs typeface="Majalla UI"/>
              </a:rPr>
              <a:t>وصف البيئة ( بيئة البرمجية) التي سيتم فيها تطبيق المهار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Constantia"/>
                <a:cs typeface="Majalla UI"/>
              </a:rPr>
              <a:t>وصف للأدوات التي ستتوافر للمتعل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3300"/>
                </a:solidFill>
                <a:latin typeface="Constantia"/>
                <a:cs typeface="Majalla UI"/>
              </a:rPr>
              <a:t>عبارة (جملة) تحدد المتعلم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  <a:cs typeface="PT Bold Heading"/>
              </a:rPr>
              <a:t>معايير وضع الاهداف العامة :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39280" y="1628280"/>
            <a:ext cx="8013960" cy="475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أن تكون الأهداف مقبولة من المسئولين عن المؤسس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الواقعية بمعنى هل يحل تطوير التعليم هذه المشكل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ثبات المحتوى لفترة كافية تبرر تطور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وفر العدد الكافي من المتعلمين ووقت كافي لأنها تطوير التعليم لهذا الهدف العا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أن تكون المصادر متوفر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الخبرة الكافية للمصمم التعليمي</a:t>
            </a:r>
            <a:r>
              <a:rPr b="0" lang="ar-SA" sz="2800" spc="-1" strike="noStrike">
                <a:solidFill>
                  <a:srgbClr val="067009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8352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  <a:cs typeface="PT Bold Heading"/>
              </a:rPr>
              <a:t>أهمية الاهداف التعليمية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11280" y="1341000"/>
            <a:ext cx="82087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ساعد المصمم على اختيار المحتوى التعليمي وجميع مكونات الخط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ساعد المعلم او المبرمج على اختيار المادة التعليمية وطرق تدريسها وتقويمها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ساعد المؤسسة التربوية على معرفة مدى نجاح عمليتي التعلم والتعلي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67009"/>
                </a:solidFill>
                <a:latin typeface="Arial"/>
                <a:cs typeface="Arial"/>
              </a:rPr>
              <a:t>تساعد المتعلم على تنظيم جهوده ووقته لتحقيق الاهداف المحدد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0640" indent="-440640" algn="just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تعد الاهداف التعليمية محور تطوير المصمم التعليمي , واعلام للمؤسسة التربوية , ودليل لبرامج الاختبارات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  <a:cs typeface="PT Bold Heading"/>
              </a:rPr>
              <a:t>مصادر اشتقاق الاهداف التعليمية 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حاجات المجتمع في ضوء فلسفته وعقيدت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خبراء والمتخصصون كلا في مجال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انون التربية والتعليم يعد الخطوط العريض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للمنهاج ,والكتاب المدرسي, ودليل المعلم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الانترنت من اهم مصادر الاهدا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وبخاصة للمبرمجين التربويين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040" y="115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  <a:cs typeface="PT Bold Heading"/>
              </a:rPr>
              <a:t>تصنيف الأهداف التعليمية العامة 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914040" y="1267920"/>
            <a:ext cx="776124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4000"/>
          </a:bodyPr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e1791"/>
                </a:solidFill>
                <a:latin typeface="Arial"/>
                <a:cs typeface="Arial"/>
              </a:rPr>
              <a:t>الاهداف المعرفية ( العقلية) , وتعرف بأنها المجال الانساني البيئي المتفاعل الذي يكتسب في الفرد المعرفة والمهارات او العمليات العقلية مثل : التذكر الفهم , التطبيق , التحليل , والتركيب والتقوي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e1791"/>
                </a:solidFill>
                <a:latin typeface="Arial"/>
                <a:cs typeface="Arial"/>
              </a:rPr>
              <a:t>الاهداف الوجدانية ( العاطفية الانفعالية ) وتعرف بأنها المجال الذي يكتسب فيها المتعلم الميول والاتجاهات والرغب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just" rtl="1">
              <a:lnSpc>
                <a:spcPct val="9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e1791"/>
                </a:solidFill>
                <a:latin typeface="Arial"/>
                <a:cs typeface="Arial"/>
              </a:rPr>
              <a:t>الاهداف النفس حركية ( المهارات الحركية ) وتعرف بأنها المجال الذي يكتسب فيها المتعلم  المهارات الحركية كالكتابة والطبع والسباحة والرسم وتشغيل الآلات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2760" y="764640"/>
            <a:ext cx="74916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Verdana"/>
                <a:cs typeface="PT Bold Heading"/>
              </a:rPr>
              <a:t>الخطوة الثالثة :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  <a:ea typeface="Arial"/>
              </a:rPr>
              <a:t> </a:t>
            </a:r>
            <a:r>
              <a:rPr b="1" lang="ar-SA" sz="3600" spc="-1" strike="noStrike">
                <a:solidFill>
                  <a:srgbClr val="067009"/>
                </a:solidFill>
                <a:latin typeface="Verdana"/>
                <a:cs typeface="Arial"/>
              </a:rPr>
              <a:t>تحليل الأهداف التعليمية</a:t>
            </a:r>
            <a:br>
              <a:rPr sz="58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5280" y="234936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     ويتضمن تحليل الهدف العام خطوتين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اولى تصنيف عبارة الهدف العام حسب نوع التعلم الذي سيحدث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2e1791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الثانية تحديد الخطوات الرئيسة وتتابعها عند الاداء من الطالب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492360" y="1844280"/>
            <a:ext cx="5276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610920" y="1197000"/>
            <a:ext cx="7885080" cy="1665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43000"/>
          </a:bodyPr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كلما كان الهدف العام اصغر كان من السهل تحليله بدقة وأفضل اسلوب في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   التحليل :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rial"/>
              </a:rPr>
              <a:t>هو الوصف تماما للهدف بطريقة الخطوات مما سيفعله المتعلم اثناء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تأدية للهدف العام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ل خطوة يمكن ان تتضمن سلوكا ملاحظا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r" rtl="1">
              <a:lnSpc>
                <a:spcPct val="80000"/>
              </a:lnSpc>
              <a:spcBef>
                <a:spcPts val="249"/>
              </a:spcBef>
              <a:buClr>
                <a:srgbClr val="b9128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rial"/>
              </a:rPr>
              <a:t>تحليل المعلومات اللفظية : 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Arial"/>
              </a:rPr>
              <a:t>يشير فقط الى تلميحات يمكن ان يستخدمها المتعلم                                لاستدعاء المعلومة ولا يوجد تتابع خطوات لذاتها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ea typeface="Arial"/>
              </a:rPr>
              <a:t>      </a:t>
            </a:r>
            <a:r>
              <a:rPr b="1" lang="ar-SA" sz="2000" spc="-1" strike="noStrike">
                <a:solidFill>
                  <a:srgbClr val="067009"/>
                </a:solidFill>
                <a:latin typeface="Arial"/>
                <a:cs typeface="Arial"/>
              </a:rPr>
              <a:t>فلا يوجد فيها اجراء عقلي او نفس حركي سوى طرح السؤال واستدعاء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67009"/>
                </a:solidFill>
                <a:latin typeface="Arial"/>
                <a:ea typeface="Arial"/>
              </a:rPr>
              <a:t>      الاستجابة مثال كم عدد لاعبي كرة القدم 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  <a:ea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b9128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rial"/>
              </a:rPr>
              <a:t>تحليل في مجال المهارة العقلي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b9128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rial"/>
              </a:rPr>
              <a:t>تحليل في مجال المهارة النفس حركي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13760" indent="-113760" algn="just" rtl="1">
              <a:lnSpc>
                <a:spcPct val="80000"/>
              </a:lnSpc>
              <a:spcBef>
                <a:spcPts val="249"/>
              </a:spcBef>
              <a:buClr>
                <a:srgbClr val="b9128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rial"/>
              </a:rPr>
              <a:t>تحليل في مجال الاتجاهات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500040" y="33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تحليل الهدف العا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92200" y="2205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عد القيام بتحليل الهدف العام الذي تكون فيه الخطوات واضح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ومحدده ننتقل بعدها الى تحليل المهارات المعقدة التي تتضمن اكث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من مجال تعلم وذلك من خلال وصف المنحنى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buClr>
                <a:srgbClr val="ff33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المنحنى الهرمي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ويستخدم هذا المنحنى لتحليل الاهداف العام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في مجال المهارات العقلية والنفس حركي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ويتكون هذا الاسلوب بإثارة السؤال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هل يستطيع المتعلم تحديد مهارة فرعية مهمة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او اكثر قبل البدء بالتعلم.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468360" y="620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رابعة </a:t>
            </a:r>
            <a:r>
              <a:rPr b="1" lang="ar-SA" sz="3600" spc="-1" strike="noStrike">
                <a:solidFill>
                  <a:srgbClr val="ff3300"/>
                </a:solidFill>
                <a:latin typeface="Calibri"/>
                <a:ea typeface="PT Bold Heading"/>
              </a:rPr>
              <a:t>:</a:t>
            </a:r>
            <a:r>
              <a:rPr b="1" lang="ar-SA" sz="3600" spc="-1" strike="noStrike">
                <a:solidFill>
                  <a:srgbClr val="ff3300"/>
                </a:solidFill>
                <a:latin typeface="Calibri"/>
                <a:ea typeface="Majalla UI"/>
              </a:rPr>
              <a:t> </a:t>
            </a:r>
            <a:r>
              <a:rPr b="1" lang="ar-SA" sz="3200" spc="-1" strike="noStrike">
                <a:solidFill>
                  <a:srgbClr val="ff3300"/>
                </a:solidFill>
                <a:latin typeface="Calibri"/>
                <a:cs typeface="Majalla UI"/>
              </a:rPr>
              <a:t>تحديد المهارات الفرعية والسلوك المدخلي ( القبلي , التمهيدي )</a:t>
            </a:r>
            <a:r>
              <a:rPr b="0" lang="ar-SA" sz="3200" spc="-1" strike="noStrike">
                <a:solidFill>
                  <a:srgbClr val="ff3300"/>
                </a:solidFill>
                <a:latin typeface="Calibri"/>
                <a:ea typeface="Majalla U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85360" y="1268280"/>
            <a:ext cx="7993080" cy="237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53000"/>
          </a:bodyPr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وصف الهدف العام في الاعلى وبعد ذلك تظهر الخطوات في مربعات او مستطيلات في قمة التسلسل الهرمي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تظهر المهارات الفرعية العقلية في مربعات مرتبطة مع يعظها محدده بخطوط من اعلى المربعات  ومن اسفلها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ترتبط مهارات المعلومات اللفظية والاتجاهات بالمهارات العقلية والنفس حركية بواسطة خطوط افقية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تشير الاسهم بانسيابية المهارات الى اعلى نحو الهدف العا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ذا وجد خطين لا يتقاطعان نستخدم قوسا منحني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جب ان تتضمن عبارات المهارات الفرعية جميعها افعالا تشير الى ما يجب ان يكون الطالب قادرا على فعله وتجنب تضمين الاسماء فق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ذا كانت احدى الخطوات في تحليل الهدف العام سؤال يتم تمثيلية داخل معين (قرا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راجعة التحليل عدة مرات للتأكد من تحديد جميع المهارات الفرعية اللازمة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بالإمكان القيام بإجراء خطوات تحليله ثانية معكوسة من المهارة الاكثر تعقيدا الى الاسهل او الادن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توجيهات عند عمل مخطط تحليل هرمي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0567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70c0"/>
                </a:solidFill>
                <a:latin typeface="Verdana"/>
                <a:cs typeface="Times New Roman"/>
              </a:rPr>
              <a:t>محتويات  العرض 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609" name="Rectangle 3"/>
          <p:cNvGrpSpPr/>
          <p:nvPr/>
        </p:nvGrpSpPr>
        <p:grpSpPr>
          <a:xfrm>
            <a:off x="1109520" y="5151600"/>
            <a:ext cx="7328160" cy="1272960"/>
            <a:chOff x="1109520" y="5151600"/>
            <a:chExt cx="7328160" cy="1272960"/>
          </a:xfrm>
        </p:grpSpPr>
        <p:pic>
          <p:nvPicPr>
            <p:cNvPr id="610" name="Rectangle 3" descr=""/>
            <p:cNvPicPr/>
            <p:nvPr/>
          </p:nvPicPr>
          <p:blipFill>
            <a:blip r:embed="rId1"/>
            <a:stretch/>
          </p:blipFill>
          <p:spPr>
            <a:xfrm>
              <a:off x="1109520" y="5151600"/>
              <a:ext cx="732816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1428840" y="5429160"/>
              <a:ext cx="6696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91440" bIns="46800" anchor="t">
              <a:noAutofit/>
            </a:bodyPr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كونات احد نماذج تصميم التعليم (نموذج ديك وكيري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Rectangle 3"/>
          <p:cNvGrpSpPr/>
          <p:nvPr/>
        </p:nvGrpSpPr>
        <p:grpSpPr>
          <a:xfrm>
            <a:off x="1109520" y="1932120"/>
            <a:ext cx="7345440" cy="2365200"/>
            <a:chOff x="1109520" y="1932120"/>
            <a:chExt cx="7345440" cy="2365200"/>
          </a:xfrm>
        </p:grpSpPr>
        <p:pic>
          <p:nvPicPr>
            <p:cNvPr id="6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09520" y="1932120"/>
              <a:ext cx="734544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1428840" y="2214720"/>
              <a:ext cx="6715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91440" bIns="46800" anchor="t">
              <a:noAutofit/>
            </a:bodyPr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تعريف تصميم التعلي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Rectangle 3"/>
          <p:cNvGrpSpPr/>
          <p:nvPr/>
        </p:nvGrpSpPr>
        <p:grpSpPr>
          <a:xfrm>
            <a:off x="1109520" y="4078440"/>
            <a:ext cx="7272360" cy="2365200"/>
            <a:chOff x="1109520" y="4078440"/>
            <a:chExt cx="7272360" cy="2365200"/>
          </a:xfrm>
        </p:grpSpPr>
        <p:pic>
          <p:nvPicPr>
            <p:cNvPr id="616" name="Rectangle 3" descr=""/>
            <p:cNvPicPr/>
            <p:nvPr/>
          </p:nvPicPr>
          <p:blipFill>
            <a:blip r:embed="rId3"/>
            <a:stretch/>
          </p:blipFill>
          <p:spPr>
            <a:xfrm>
              <a:off x="1109520" y="4078440"/>
              <a:ext cx="727236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1428840" y="4357800"/>
              <a:ext cx="66434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91440" bIns="46800" anchor="t">
              <a:noAutofit/>
            </a:bodyPr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كونات الخطة التعليم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Picture 4" descr="images (2).jpg"/>
          <p:cNvPicPr/>
          <p:nvPr/>
        </p:nvPicPr>
        <p:blipFill>
          <a:blip r:embed="rId4"/>
          <a:stretch/>
        </p:blipFill>
        <p:spPr>
          <a:xfrm>
            <a:off x="208080" y="420840"/>
            <a:ext cx="2547720" cy="1682640"/>
          </a:xfrm>
          <a:prstGeom prst="rect">
            <a:avLst/>
          </a:prstGeom>
          <a:ln w="0">
            <a:noFill/>
          </a:ln>
        </p:spPr>
      </p:pic>
      <p:grpSp>
        <p:nvGrpSpPr>
          <p:cNvPr id="619" name="Rectangle 3"/>
          <p:cNvGrpSpPr/>
          <p:nvPr/>
        </p:nvGrpSpPr>
        <p:grpSpPr>
          <a:xfrm>
            <a:off x="1182600" y="3078000"/>
            <a:ext cx="7272360" cy="2365560"/>
            <a:chOff x="1182600" y="3078000"/>
            <a:chExt cx="7272360" cy="2365560"/>
          </a:xfrm>
        </p:grpSpPr>
        <p:pic>
          <p:nvPicPr>
            <p:cNvPr id="620" name="Rectangle 3" descr=""/>
            <p:cNvPicPr/>
            <p:nvPr/>
          </p:nvPicPr>
          <p:blipFill>
            <a:blip r:embed="rId5"/>
            <a:stretch/>
          </p:blipFill>
          <p:spPr>
            <a:xfrm>
              <a:off x="1182600" y="3078000"/>
              <a:ext cx="72723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500120" y="3357720"/>
              <a:ext cx="66438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91440" bIns="46800" anchor="t">
              <a:noAutofit/>
            </a:bodyPr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مكونات التصميم التعليم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264960" algn="r" rtl="1">
                <a:lnSpc>
                  <a:spcPct val="80000"/>
                </a:lnSpc>
                <a:spcBef>
                  <a:spcPts val="249"/>
                </a:spcBef>
                <a:buClr>
                  <a:srgbClr val="f07f09"/>
                </a:buClr>
                <a:buSzPct val="8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  <p:sndAc>
      <p:stSnd>
        <p:snd r:embed="rId6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040" y="177300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17520" y="1341000"/>
            <a:ext cx="8502480" cy="136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7000"/>
          </a:bodyPr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يستخدم في تحليل هدف عام في مجال المعلومات اللفظية ,      ويمكن تحديد المهارات الفرعية من عبارة الهدف العام, مثال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 تحدد البلاد العربية مع عواصمها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684360" y="83664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52560" indent="-952560" algn="r" rtl="1">
              <a:buClr>
                <a:srgbClr val="ff3300"/>
              </a:buClr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  <a:cs typeface="Majalla UI"/>
              </a:rPr>
              <a:t>التحليل العنقودي :</a:t>
            </a:r>
            <a:r>
              <a:rPr b="1" lang="ar-SA" sz="9100" spc="-1" strike="noStrike">
                <a:solidFill>
                  <a:srgbClr val="067009"/>
                </a:solidFill>
                <a:latin typeface="Arial"/>
                <a:ea typeface="Majalla UI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6700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1403280" y="25653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buClr>
                <a:srgbClr val="ff33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  <a:ea typeface="Majalla UI"/>
              </a:rPr>
              <a:t>   </a:t>
            </a: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  <a:cs typeface="Majalla UI"/>
              </a:rPr>
              <a:t>اساليب التحليل التعليمي لأهداف الاتجاه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Majalla UI"/>
              </a:rPr>
              <a:t> </a:t>
            </a: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  <a:ea typeface="Majalla UI"/>
              </a:rPr>
              <a:t>:</a:t>
            </a:r>
            <a:r>
              <a:rPr b="1" lang="ar-SA" sz="1800" spc="-1" strike="noStrike">
                <a:solidFill>
                  <a:srgbClr val="067009"/>
                </a:solidFill>
                <a:latin typeface="Arial"/>
                <a:ea typeface="Majalla UI"/>
              </a:rPr>
              <a:t> </a:t>
            </a:r>
            <a:br>
              <a:rPr sz="1800"/>
            </a:br>
            <a:r>
              <a:rPr b="1" lang="ar-SA" sz="1800" spc="-1" strike="noStrike">
                <a:solidFill>
                  <a:srgbClr val="06700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755640" y="3284640"/>
            <a:ext cx="7777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9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يسأل المصمم : </a:t>
            </a:r>
            <a:r>
              <a:rPr b="1" lang="ar-SA" sz="2600" spc="-1" strike="noStrike">
                <a:solidFill>
                  <a:srgbClr val="00b0f0"/>
                </a:solidFill>
                <a:latin typeface="Constantia"/>
                <a:cs typeface="Majalla UI"/>
              </a:rPr>
              <a:t>ماذا يجب ان يفعل المتعلم عند اظهار هذا الاتجاه 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9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وتكون الاجابة هي مهارة حركية او عقل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9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يسال المصمم : </a:t>
            </a:r>
            <a:r>
              <a:rPr b="1" lang="ar-SA" sz="2600" spc="-1" strike="noStrike">
                <a:solidFill>
                  <a:srgbClr val="00b0f0"/>
                </a:solidFill>
                <a:latin typeface="Constantia"/>
                <a:cs typeface="Majalla UI"/>
              </a:rPr>
              <a:t>لماذا يجب ان يقوم المتعلم باختيار معين 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9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cs typeface="Majalla UI"/>
              </a:rPr>
              <a:t>وتكون الاجابة معلومات لفظ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574560" y="1263240"/>
            <a:ext cx="8245440" cy="4902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4000"/>
          </a:bodyPr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 عملية التحليل التعليمي تؤدي الى تحليل تجمع من المهارات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الفرعية في مجالات مختلفة لهدف عام 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وهذا يعني انه بالإمكان وضع جميع الاساليب معا في مخطط واح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س/ لماذا تعد عملية التحليل العلمي مهمة جدا لتصميم التعليم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ج/ - لان هذه العملية تستعمل لتحديد تلك المهارات التي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يحتاجها الطالب فعلا لتحقيق الهدف النهائ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- كما تساعده في استثناء واستبعاد المهارات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غير الضروري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السلوك المدخلي : هو السلوك الذي يجب ان يتقنه المتعلمون قبل البدء في التعلم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2480" indent="-22248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(تحت الخط المنقط في مخطط التحليل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25092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52560" indent="-952560" algn="r" rtl="1">
              <a:buClr>
                <a:srgbClr val="ff3300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  <a:cs typeface="Majalla UI"/>
              </a:rPr>
              <a:t>توحيد اساليب التحليل التعليمي :</a:t>
            </a:r>
            <a:r>
              <a:rPr b="1" lang="ar-SA" sz="9100" spc="-1" strike="noStrike">
                <a:solidFill>
                  <a:srgbClr val="067009"/>
                </a:solidFill>
                <a:latin typeface="Arial"/>
                <a:ea typeface="Majalla UI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6700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341000" y="1844280"/>
            <a:ext cx="6915240" cy="37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b9128f"/>
                </a:solidFill>
                <a:uFillTx/>
                <a:latin typeface="Arial"/>
                <a:cs typeface="Arial"/>
              </a:rPr>
              <a:t>اولاً : تحليل المتعلم ( الفئة المستهدفة الموجه لها التعليم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المعلومات التي يحتاجها المعلم عن الفئة المستهدفة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سلوكيات القبلية (المدخلي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عرفة السابقة عن الموضو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اتجاهات نحو المحتوى ونظام التوزيع المحتم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دافعية للدراسة ( الدراسية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ستويات الدراسية ومستويات القدر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فضيلات تعليمية عام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اتجاه نحو مؤسسة التدري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 algn="r" rtl="1">
              <a:lnSpc>
                <a:spcPct val="7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 2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خصائص المجموع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68436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خامس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حليل المتعلمين وبيئاتهم</a:t>
            </a:r>
            <a:r>
              <a:rPr b="0" lang="ar-SA" sz="5000" spc="-1" strike="noStrike">
                <a:solidFill>
                  <a:srgbClr val="323232"/>
                </a:solidFill>
                <a:latin typeface="Calibri"/>
                <a:ea typeface="Traditional Arabic"/>
              </a:rPr>
              <a:t> </a:t>
            </a:r>
            <a:br>
              <a:rPr sz="32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6" descr="ANd9GcQooiZD3ErO0Pzl2bvC9rlwLWdc8q0FTblPyttLkVE6q732g_xcdQ"/>
          <p:cNvPicPr/>
          <p:nvPr/>
        </p:nvPicPr>
        <p:blipFill>
          <a:blip r:embed="rId1"/>
          <a:stretch/>
        </p:blipFill>
        <p:spPr>
          <a:xfrm>
            <a:off x="676440" y="3925800"/>
            <a:ext cx="3000240" cy="2225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84000" y="83628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95360" indent="-49536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b9128f"/>
                </a:solidFill>
                <a:uFillTx/>
                <a:latin typeface="Arial"/>
                <a:cs typeface="Arial"/>
              </a:rPr>
              <a:t>ثانيا: </a:t>
            </a:r>
            <a:r>
              <a:rPr b="1" lang="ar-SA" sz="2800" spc="-1" strike="noStrike" u="sng">
                <a:solidFill>
                  <a:srgbClr val="b9128f"/>
                </a:solidFill>
                <a:uFillTx/>
                <a:latin typeface="Verdana"/>
                <a:cs typeface="Arial"/>
              </a:rPr>
              <a:t>بيئات التعلم /الاداء / موقع العم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790560" y="1557360"/>
            <a:ext cx="8353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يجب ان يهتم المصمم بخصائص الموقف المعرفي والمهارى واللفظي , وان يكون على دراية بالإداريين والمشرفين من حيث دعمهم للمتعلمين عند استخدام المهارة الجديدة , وكذلك معرفة ما يجب توافره في البيئة من اجهزة ومواد وأدوات.... الخ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وأيضا فهم البيئة الاجتماعية التي ستطبق فيها المهارة بأشكال مختلفة فردي , تعاوني , جماعي ... وينبغي ان تحاكي البيئة الافتراضية للبرمجية بيئة العم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531720" y="148428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7000"/>
          </a:bodyPr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عرف الهدف السلوكي </a:t>
            </a:r>
            <a:r>
              <a:rPr b="1" lang="ar-SA" sz="2400" spc="-1" strike="noStrike">
                <a:solidFill>
                  <a:srgbClr val="b45f07"/>
                </a:solidFill>
                <a:latin typeface="Arial"/>
                <a:ea typeface="Arial"/>
              </a:rPr>
              <a:t>: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Arial"/>
              </a:rPr>
              <a:t>بأنه جملة او عبارة محددة تصف ما يتوقع من الطال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rial"/>
              </a:rPr>
              <a:t> ان يفعله بعد مروره في الخبره او الانتهاء من الدرس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هدف السلوكي قابل للقياس و الملاحظ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ويفيد الهدف السلوكي في توجيه العملية التعليمية وتزيد فاعليتها , وكأداة اتصال في اعلام كل من الاباء والطلبة والإداريين ما يحاول ان ينجزه المعلم وتساعدهم في التركيز على مخرجات التعلم والتعرف على مدى تحقيق المخرجات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تكون الهدف السلوكي من ثلاث مكونات : فعل الاداء او السلوك الذي يتوقع من الطالب , الظروف او الحالات التي يطلب من الطالب ان يظهر فيها السلوك المرغوب , المحك او المعيار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30920" indent="-430920" algn="just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اهداف السلوكية الخاصة تشتق عادة من الاهداف العام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539640" y="423720"/>
            <a:ext cx="822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سادس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حليل صياغة الاهداف السلوك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84360" y="1915920"/>
            <a:ext cx="8084880" cy="43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عتبر الاختبارات جزاء اساسيا من الخطة التعليمية , من اجل تعيين درجات لطلاب لإثارة دافعيتهم وتحديد ما يعرفونه لتزويدهم بالتغذية الراجعة المناسبة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تشتق فقرة الاختبار من الاهداف السلوكية وبما ان هناك اربعة انواع من الاهداف فهناك اربعة مستويات من الاسئلة وهي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539640" y="4762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سابع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طوير الاختبار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501480" y="1916280"/>
          <a:ext cx="8247240" cy="2469960"/>
        </p:xfrm>
        <a:graphic>
          <a:graphicData uri="http://schemas.openxmlformats.org/drawingml/2006/table">
            <a:tbl>
              <a:tblPr/>
              <a:tblGrid>
                <a:gridCol w="5821560"/>
                <a:gridCol w="1962000"/>
                <a:gridCol w="463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أنواع الاختبارات والتقديرا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نوع الهد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PT Bold Heading"/>
                        </a:rPr>
                        <a:t>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اختبار من متعدد , إكما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المعرف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اختبار من متعدد , اكمال ,مقال ، ناتج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مهارات عقلي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قائمة فحص , النجاح في تنفيذ مهارة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مهارات حركية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just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ملاحظة السلوك . استبانة عن السلوك ,تقديرات متنوعة للمعارف المرتبطة بالاتجاهات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cs typeface="Majalla UI"/>
                        </a:rPr>
                        <a:t>اتجاها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Arial"/>
                          <a:ea typeface="Majalla U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  <p:sndAc>
      <p:stSnd>
        <p:snd r:embed="rId1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000" y="141264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b9128f"/>
                </a:solidFill>
                <a:uFillTx/>
                <a:latin typeface="Arial"/>
                <a:cs typeface="Arial"/>
              </a:rPr>
              <a:t>هناك بعض الافكار يجب مراعاتها قبل تطوير الاستراتيجية وهي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كتاب المدرسي بما يحتويه من مقدمه , وفهرس , وفقرات , ودليل معلم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ختيار وسط الاتصال فمن خلال الحاسب تعرض المحتوى بعدة وسائط متعددة تفاعلي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فضل تعليم الاتجاهات عن طريق القدوة من خلال الوسائط المرئي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تتابع التعليمي وذلك من خلال التحليل التعليمي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تجميع التعليمي من خلال جمع المعلومات  ودراستها على اساس الهدف تلو الهدف بحيث تتخلله النشاطات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عتمد حجم التجميع على مستوى : عمر المتعلم ,طبيعة المادة , نوع التعلم , مدى امكانية تغيير النشاط وكذالك مقدار الوقت اللازم لتضمين جميع الحوادث في الاستراتيجية التعليمي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1403280" y="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ثامن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طوير الاستراتيجية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90560" y="765000"/>
            <a:ext cx="7742160" cy="532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 u="sng">
                <a:solidFill>
                  <a:srgbClr val="ff0000"/>
                </a:solidFill>
                <a:uFillTx/>
                <a:latin typeface="Verdana"/>
                <a:cs typeface="Arial"/>
              </a:rPr>
              <a:t>مكونات الاستراتيجية التعليمية </a:t>
            </a:r>
            <a:r>
              <a:rPr b="0" lang="ar-SA" sz="3300" spc="-1" strike="noStrike" u="sng">
                <a:solidFill>
                  <a:srgbClr val="ff0000"/>
                </a:solidFill>
                <a:uFillTx/>
                <a:latin typeface="Verdana"/>
                <a:ea typeface="Arial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b45f07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نشاطات ما قبل التعليم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 وهي اثارة دافعية المتعلم وإعلامه بالأهداف , والتأكد من ان لديهم معارف المتطلبات السابق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المعلومات و الامثلة ( عرض المعلومات  )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  ويقصد بها تحديد المفاهيم والقوانين والمبادئ واستخدام الامثل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مشاركة المتعلم وتتمثل في الممارسة , والتغذية الراجع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اجراء الاختبارات : وتشتمل على عدة تساؤلات هل لديك اختبار قبلي يقيس المهارات الواجب تدريسها ؟ متى ستجري الاختبار البعدي وكيف ؟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- نشاطات المتابعة : وتتضمن تقديم العلاج نتيجة لانجازات الاختبار البعدي , ونقل التعلم بدرجة عالية اذا كانت بيئة التعلم شبيهه ببيئة العمل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0" y="191592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ند اختيارك او انتاجك للمواد التعليمية يجب التأكد من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تناول ما يتعلق بالدافعي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تضمن المحتوى المناس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يكون التتابع فيها صحيحا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كون جميع المعلومات المطلوبة متوافر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توافر فيها تمارين الممارسة ( التطبيق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تضمن تغذية راجعه كافي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كون الاختبارات المتوافرة مناسب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ن تتضمن تعليمات متابعة كافية عن المعالجة والعمل المتقد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تزويد المتعلمين بالإرشادات الكافية لنقلهم من نشاط الى اخر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 algn="r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يتم تقديم دعم عملية نقل التعل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53172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تاسعة 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تطوير المواد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10717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2e1791"/>
                </a:solidFill>
                <a:latin typeface="Arial Black"/>
                <a:cs typeface="PT Bold Heading"/>
              </a:rPr>
              <a:t>تعريف تصميم التعلي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00040" y="235728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6000"/>
          </a:bodyPr>
          <a:p>
            <a:pPr marL="227520" indent="-22752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just" rtl="1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خطة مفصلة للمادة المراد تصميمها ( برمجية تعليمية مثلا ) تتضمن وصفا وإجراءات لجميع مكونات النظام التعليمي مع الاخذ بالحسبان خصائص المتعلم والتفاعل فيما بينها، والتغذية الراجعة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just" rtl="1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Arial"/>
                <a:cs typeface="Arial"/>
              </a:rPr>
              <a:t>او خطوات عملية علمية منتظمة منطقية تتبع لتصميم التعليم وتنفيذه وتقويمه وتطويره وفق خصائص المتعلمين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4" name="Picture 7" descr="http://faculty.ksu.edu.sa/Foz/PublishingImages/imagesCA7NRN7K.jpg"/>
          <p:cNvPicPr/>
          <p:nvPr/>
        </p:nvPicPr>
        <p:blipFill>
          <a:blip r:embed="rId1"/>
          <a:stretch/>
        </p:blipFill>
        <p:spPr>
          <a:xfrm>
            <a:off x="-109440" y="628560"/>
            <a:ext cx="3047760" cy="203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329840" y="1125360"/>
            <a:ext cx="7418520" cy="439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 algn="r" rtl="1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just" rtl="1">
              <a:lnSpc>
                <a:spcPct val="13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Arial"/>
                <a:cs typeface="Arial"/>
              </a:rPr>
              <a:t>المواد التعليمية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وتتضمن معلومات ومواد متعلقة بالأهداف وأيضا مواد إثرائية وعلاجية وأي مواد او إرشادات تحقق الاهداف 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just" rtl="1">
              <a:lnSpc>
                <a:spcPct val="13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Arial"/>
                <a:cs typeface="Arial"/>
              </a:rPr>
              <a:t>الاختبارات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تلازم الاختبارات كل المواد التعليمية مثل الاختبارات القبلية والبعدي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just" rtl="1">
              <a:lnSpc>
                <a:spcPct val="13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Arial"/>
                <a:cs typeface="Arial"/>
              </a:rPr>
              <a:t>دليل المعلم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وهو وصف يزود المعلم بنظرة شاملة عن المواد وكيفية تتابعها وأي مواد اخرى تسهل  استعمال الحقيبة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-14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مكونات الحقيبة التعلي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0" y="1412640"/>
            <a:ext cx="8004240" cy="43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6000"/>
          </a:bodyPr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راجع الاستراتيجية التعليمية لكل هدف في التدري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حديد نوع المواد التعليمية المتوافرة حاليا  والاستعانة بالخبراء في هذا المجال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فكر في كيفية امكانية تعديل المواد المتوافر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حدد ان كانت المواد الجديدة تحتاج الى تصميم 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في كل درس فكر بأفضل الوسائط لعرض المواد ومراقبة الممارس والتغذية الراجعة والتقوي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حدد شكلية وإجراءات العرض لكل هدف او عنقود من الهد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كتب المواد التعليمية بناء على الاستراتيجيات التعليمي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درس كل درس مكتمل من حيث الوضوح وانسياب الافكا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كتب تعليمات مرفقه الى الطلبة عن هذا النشاط المطلوب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باستعمال المواد المطورة في اول مسودة اولية ,تصبح جاهزة للبداء في نشاطات التقوي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27520" indent="-227520" algn="r" rtl="1">
              <a:lnSpc>
                <a:spcPct val="80000"/>
              </a:lnSpc>
              <a:spcBef>
                <a:spcPts val="249"/>
              </a:spcBef>
              <a:buClr>
                <a:srgbClr val="66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مكن ان تأخذ ملاحظات في اثناء تطوير العروض والنشاطات التعليمي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tangle 4"/>
          <p:cNvSpPr/>
          <p:nvPr/>
        </p:nvSpPr>
        <p:spPr>
          <a:xfrm>
            <a:off x="528480" y="54936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PT Bold Heading"/>
              </a:rPr>
              <a:t>خطوات في تطوير التعلي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7848720" cy="24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endParaRPr b="1" lang="en-US" sz="5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39280" y="206064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406080" indent="-406080" algn="just" rtl="1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3300"/>
                </a:solidFill>
                <a:latin typeface="Arial"/>
                <a:cs typeface="Arial"/>
              </a:rPr>
              <a:t>ويعرف التقويم البنائي :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just" rtl="1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06080" indent="-406080" algn="ctr" rtl="1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Arial"/>
              </a:rPr>
              <a:t>جمع البيانات والمعلومات التي يمكن ان تستخدم في تحس فعالية التعليم اثناء تطويره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755640" y="549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عاشرة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التقويم البنائي(التكويني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0" y="98064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470520" indent="-47052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9128f"/>
                </a:solidFill>
                <a:latin typeface="Verdana"/>
                <a:cs typeface="PT Bold Heading"/>
              </a:rPr>
              <a:t>مراحل التقويم البنائي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  <a:cs typeface="Arial"/>
              </a:rPr>
              <a:t>المرحلة الاولى 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ar-SA" sz="2400" spc="-1" strike="noStrike">
                <a:solidFill>
                  <a:srgbClr val="b45f07"/>
                </a:solidFill>
                <a:latin typeface="Verdana"/>
                <a:cs typeface="Arial"/>
              </a:rPr>
              <a:t>تقويم واحد – الى – واح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الهدف منها هو تحديد الاخطاء الاكثر وضوحا وحذفها ، والحصول على مؤشرات اولية عن الاداء ورد فعل المتعلمين عن المحتوى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  <a:cs typeface="Arial"/>
              </a:rPr>
              <a:t>المرحلة الثانية :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ar-SA" sz="2400" spc="-1" strike="noStrike">
                <a:solidFill>
                  <a:srgbClr val="b45f07"/>
                </a:solidFill>
                <a:latin typeface="Verdana"/>
                <a:cs typeface="Arial"/>
              </a:rPr>
              <a:t>تقويم المجموعات الصغير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ولهذه المرحلة غرضان هما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تحديد نشاطات التغيرات التي تمت بعد تقويم واحد- الى – واحد وتحديد أي مشكلة تواجه المتعلم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70520" indent="-47052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تحديد ما اذا كان المتعلمون يستطيعون دراسة التعليم دون معلم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75564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endParaRPr b="1" lang="en-US" sz="5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94920" y="549360"/>
            <a:ext cx="7597800" cy="496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9128f"/>
                </a:solidFill>
                <a:latin typeface="Verdana"/>
                <a:cs typeface="PT Bold Heading"/>
              </a:rPr>
              <a:t>مراحل التقويم البنائي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ar-SA" sz="20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المرحلة الثالثة :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تم دراسة البرمجية دراسة ذاتية في صف افتراضي (عدد كبير من المتعلمين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قريبا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والهدف من التجربة الميدانية هو ان تكشف كمصمم أي مشكلات باقية في التعليم وتغيرها او تحذفها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Arial"/>
                <a:cs typeface="Arial"/>
              </a:rPr>
              <a:t>المحقات والقرارات التي تتخذ خلال التقويم هي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وضوح : ويعني وضوح الرسالة ، الترابط ، الاجراءا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تأثيري : ويقصد به التأثير في المتعلم من حيث اتجاهاته نحو التعليم وتحصيله للأهداف الخاص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r" rtl="1">
              <a:lnSpc>
                <a:spcPct val="80000"/>
              </a:lnSpc>
              <a:spcBef>
                <a:spcPts val="249"/>
              </a:spcBef>
              <a:buClr>
                <a:srgbClr val="0670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جدوى : ما مدى جدوى التعليم اذا توافرت المصادر ( الوقت – البيئـة ) وتتعلق باعتبارات خاصة بالإدارة او قدرة المتعلم والوسط التعليمي والبيئة التعليمية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80240" indent="-480240" algn="just" rtl="1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75564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3"/>
          <p:cNvSpPr/>
          <p:nvPr/>
        </p:nvSpPr>
        <p:spPr>
          <a:xfrm>
            <a:off x="75564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  <a:cs typeface="PT Bold Heading"/>
              </a:rPr>
              <a:t>الخطوة الحادي عشر:</a:t>
            </a:r>
            <a:r>
              <a:rPr b="1" lang="ar-SA" sz="3600" spc="-1" strike="noStrike">
                <a:solidFill>
                  <a:srgbClr val="323232"/>
                </a:solidFill>
                <a:latin typeface="Calibri"/>
                <a:ea typeface="Majalla UI"/>
              </a:rPr>
              <a:t> التقويم الختام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790200" y="1844280"/>
            <a:ext cx="7526520" cy="25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ويعرف بأنه : تصميم دراسات تقويمية وعملية جمع البيانات والمعلومات بخصوص اتخاذ قرارات عن مدى اكتساب اهداف التعليم او الاستمرار في استخدامه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Verdana"/>
                <a:cs typeface="Arial"/>
              </a:rPr>
              <a:t>اطوار التقويم الختامي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طور تقدير الخبير والغرض منه تحديد ان كان التعليم المستعمل له القدرة على تلبية الحاجات التعليمية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6000" indent="-396000" algn="just" rtl="1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  <a:cs typeface="Arial"/>
              </a:rPr>
              <a:t>طور التجربة الميدانية  والغرض منه  تقويم التعليم المنشود مع افراد العينة المستهدفة في الموقف التعليمي المحدد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4" descr="نتيجة بحث الصور عن تصميم التعليم"/>
          <p:cNvPicPr/>
          <p:nvPr/>
        </p:nvPicPr>
        <p:blipFill>
          <a:blip r:embed="rId1"/>
          <a:stretch/>
        </p:blipFill>
        <p:spPr>
          <a:xfrm>
            <a:off x="357120" y="428760"/>
            <a:ext cx="2143080" cy="14191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571840" y="356760"/>
            <a:ext cx="4835520" cy="785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  <a:cs typeface="PT Bold Heading"/>
              </a:rPr>
              <a:t>المراج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00040" y="1714680"/>
            <a:ext cx="8183520" cy="32860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 fontScale="73000"/>
          </a:bodyPr>
          <a:p>
            <a:pPr marL="193320" indent="-193320" algn="just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كنت جاستفسون،وروبرت برانش.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 )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ستعراض نماذج التطوير التعليم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، ط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، ترجمة بدر الصالح ، مكتبة العبيكان ، الرياض،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42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هـ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حمد عطية خميس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كنولوجيا إنتاج مصادر التعل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، ط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، القاهرة، دار السحاب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سكندر كمال , وغزازي محمد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قدمة في التكنولوجيا التعليم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مكتبة الفلاح,الكويت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حيلة,محمد محمود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كنولوجيا التعليم بين النظرية والتطبيق .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دار المسيرة:عما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زيتون,حسن حسين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صيم التدريس رؤية منظومية عالم الكتب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,بيروت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عدوان, زيد و الحوامدة, محمد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صميم التدريس بين النظرية والتطبيق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r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قطامي ,يوسف وأبو جابر ,ماجد وقطامي ,نايفة.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أساسيات تصميم التدريس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.عمان:دار الفكر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3320" indent="-193320" algn="just" rtl="1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2" name="type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E87C-436D-49BE-ABBD-4275E1ED538D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رسم تخطيطي 4" descr=""/>
          <p:cNvPicPr/>
          <p:nvPr/>
        </p:nvPicPr>
        <p:blipFill>
          <a:blip r:embed="rId1"/>
          <a:stretch/>
        </p:blipFill>
        <p:spPr>
          <a:xfrm>
            <a:off x="353880" y="682560"/>
            <a:ext cx="8223480" cy="5492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57120" y="1052640"/>
            <a:ext cx="8175600" cy="489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2e1791"/>
                </a:solidFill>
                <a:latin typeface="Verdana"/>
                <a:cs typeface="PT Bold Heading"/>
              </a:rPr>
              <a:t>مكونات الخطة التعليم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أهداف التعليمية العام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اهداف الخاصة لكل هدف عا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فقرات الاختبار لكل هدف خا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النشاطات التعليمية لكل هدف خاص او مجموعة عنقودية من الاهداف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  - نوع النشاط التعليمي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  - المحتو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   - الادوات والأساليب.</a:t>
            </a: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Picture 4" descr="نتيجة بحث الصور عن تصميم التعليم"/>
          <p:cNvPicPr/>
          <p:nvPr/>
        </p:nvPicPr>
        <p:blipFill>
          <a:blip r:embed="rId1"/>
          <a:stretch/>
        </p:blipFill>
        <p:spPr>
          <a:xfrm>
            <a:off x="262080" y="476280"/>
            <a:ext cx="2627280" cy="260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Freeform 14"/>
          <p:cNvGrpSpPr/>
          <p:nvPr/>
        </p:nvGrpSpPr>
        <p:grpSpPr>
          <a:xfrm>
            <a:off x="4705200" y="1616040"/>
            <a:ext cx="2378160" cy="2485800"/>
            <a:chOff x="4705200" y="1616040"/>
            <a:chExt cx="2378160" cy="2485800"/>
          </a:xfrm>
        </p:grpSpPr>
        <p:pic>
          <p:nvPicPr>
            <p:cNvPr id="630" name="Freeform 14" descr=""/>
            <p:cNvPicPr/>
            <p:nvPr/>
          </p:nvPicPr>
          <p:blipFill>
            <a:blip r:embed="rId1"/>
            <a:stretch/>
          </p:blipFill>
          <p:spPr>
            <a:xfrm>
              <a:off x="5849640" y="1616040"/>
              <a:ext cx="12142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4705200" y="1637640"/>
              <a:ext cx="2378160" cy="24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9320" rIns="780480" tIns="-461880" bIns="163188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rial"/>
                </a:rPr>
                <a:t>التحلي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Freeform 15"/>
          <p:cNvGrpSpPr/>
          <p:nvPr/>
        </p:nvGrpSpPr>
        <p:grpSpPr>
          <a:xfrm>
            <a:off x="4748040" y="3340080"/>
            <a:ext cx="2494080" cy="2768760"/>
            <a:chOff x="4748040" y="3340080"/>
            <a:chExt cx="2494080" cy="2768760"/>
          </a:xfrm>
        </p:grpSpPr>
        <p:pic>
          <p:nvPicPr>
            <p:cNvPr id="633" name="Freeform 15" descr=""/>
            <p:cNvPicPr/>
            <p:nvPr/>
          </p:nvPicPr>
          <p:blipFill>
            <a:blip r:embed="rId2"/>
            <a:stretch/>
          </p:blipFill>
          <p:spPr>
            <a:xfrm>
              <a:off x="5928840" y="4266720"/>
              <a:ext cx="131328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4748040" y="3340080"/>
              <a:ext cx="2451240" cy="27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49200" rIns="321120" tIns="1298520" bIns="5911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rial"/>
                </a:rPr>
                <a:t>التصم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Freeform 16"/>
          <p:cNvGrpSpPr/>
          <p:nvPr/>
        </p:nvGrpSpPr>
        <p:grpSpPr>
          <a:xfrm>
            <a:off x="3279600" y="4145040"/>
            <a:ext cx="2895840" cy="2487240"/>
            <a:chOff x="3279600" y="4145040"/>
            <a:chExt cx="2895840" cy="2487240"/>
          </a:xfrm>
        </p:grpSpPr>
        <p:pic>
          <p:nvPicPr>
            <p:cNvPr id="636" name="Freeform 16" descr=""/>
            <p:cNvPicPr/>
            <p:nvPr/>
          </p:nvPicPr>
          <p:blipFill>
            <a:blip r:embed="rId3"/>
            <a:stretch/>
          </p:blipFill>
          <p:spPr>
            <a:xfrm>
              <a:off x="3827160" y="5336640"/>
              <a:ext cx="180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79600" y="4145040"/>
              <a:ext cx="2895840" cy="24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14320" rIns="1714320" tIns="2209320" bIns="-89568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rial"/>
                </a:rPr>
                <a:t>التطوير</a:t>
              </a:r>
              <a:r>
                <a:rPr b="1" lang="ar-SA" sz="4000" spc="-1" strike="noStrike">
                  <a:solidFill>
                    <a:srgbClr val="ffffff"/>
                  </a:solidFill>
                  <a:latin typeface="Verdana"/>
                  <a:ea typeface="Tahom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Freeform 17"/>
          <p:cNvGrpSpPr/>
          <p:nvPr/>
        </p:nvGrpSpPr>
        <p:grpSpPr>
          <a:xfrm>
            <a:off x="2206800" y="3340080"/>
            <a:ext cx="2493720" cy="2768760"/>
            <a:chOff x="2206800" y="3340080"/>
            <a:chExt cx="2493720" cy="2768760"/>
          </a:xfrm>
        </p:grpSpPr>
        <p:pic>
          <p:nvPicPr>
            <p:cNvPr id="639" name="Freeform 17" descr=""/>
            <p:cNvPicPr/>
            <p:nvPr/>
          </p:nvPicPr>
          <p:blipFill>
            <a:blip r:embed="rId4"/>
            <a:stretch/>
          </p:blipFill>
          <p:spPr>
            <a:xfrm>
              <a:off x="2206800" y="4266720"/>
              <a:ext cx="131040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2252520" y="3340080"/>
              <a:ext cx="2448000" cy="27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2560" rIns="3050280" tIns="1297440" bIns="5900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rial"/>
                </a:rPr>
                <a:t>التطبي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Freeform 18"/>
          <p:cNvGrpSpPr/>
          <p:nvPr/>
        </p:nvGrpSpPr>
        <p:grpSpPr>
          <a:xfrm>
            <a:off x="2365200" y="1616040"/>
            <a:ext cx="2378160" cy="2485800"/>
            <a:chOff x="2365200" y="1616040"/>
            <a:chExt cx="2378160" cy="2485800"/>
          </a:xfrm>
        </p:grpSpPr>
        <p:pic>
          <p:nvPicPr>
            <p:cNvPr id="642" name="Freeform 18" descr=""/>
            <p:cNvPicPr/>
            <p:nvPr/>
          </p:nvPicPr>
          <p:blipFill>
            <a:blip r:embed="rId5"/>
            <a:stretch/>
          </p:blipFill>
          <p:spPr>
            <a:xfrm>
              <a:off x="2381040" y="1616040"/>
              <a:ext cx="12142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2365200" y="1637640"/>
              <a:ext cx="2378160" cy="24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0480" rIns="2479320" tIns="-461880" bIns="163188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1" lang="ar-SA" sz="3200" spc="-1" strike="noStrike">
                  <a:solidFill>
                    <a:srgbClr val="ffffff"/>
                  </a:solidFill>
                  <a:latin typeface="Arial"/>
                </a:rPr>
                <a:t>التقوي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Circular Arrow 19"/>
          <p:cNvGrpSpPr/>
          <p:nvPr/>
        </p:nvGrpSpPr>
        <p:grpSpPr>
          <a:xfrm>
            <a:off x="4748040" y="1560600"/>
            <a:ext cx="2573280" cy="1888560"/>
            <a:chOff x="4748040" y="1560600"/>
            <a:chExt cx="2573280" cy="1888560"/>
          </a:xfrm>
        </p:grpSpPr>
        <p:pic>
          <p:nvPicPr>
            <p:cNvPr id="645" name="Circular Arrow 19" descr=""/>
            <p:cNvPicPr/>
            <p:nvPr/>
          </p:nvPicPr>
          <p:blipFill>
            <a:blip r:embed="rId6"/>
            <a:stretch/>
          </p:blipFill>
          <p:spPr>
            <a:xfrm>
              <a:off x="5749920" y="1560600"/>
              <a:ext cx="157140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748040" y="1901520"/>
              <a:ext cx="2106360" cy="15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Circular Arrow 20"/>
          <p:cNvGrpSpPr/>
          <p:nvPr/>
        </p:nvGrpSpPr>
        <p:grpSpPr>
          <a:xfrm>
            <a:off x="6095880" y="3309840"/>
            <a:ext cx="1255680" cy="2895480"/>
            <a:chOff x="6095880" y="3309840"/>
            <a:chExt cx="1255680" cy="2895480"/>
          </a:xfrm>
        </p:grpSpPr>
        <p:pic>
          <p:nvPicPr>
            <p:cNvPr id="648" name="Circular Arrow 20" descr=""/>
            <p:cNvPicPr/>
            <p:nvPr/>
          </p:nvPicPr>
          <p:blipFill>
            <a:blip r:embed="rId7"/>
            <a:stretch/>
          </p:blipFill>
          <p:spPr>
            <a:xfrm>
              <a:off x="6980040" y="4011120"/>
              <a:ext cx="371520" cy="21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6095880" y="3309840"/>
              <a:ext cx="1020960" cy="26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Circular Arrow 21"/>
          <p:cNvGrpSpPr/>
          <p:nvPr/>
        </p:nvGrpSpPr>
        <p:grpSpPr>
          <a:xfrm>
            <a:off x="3286080" y="5877000"/>
            <a:ext cx="2955960" cy="865080"/>
            <a:chOff x="3286080" y="5877000"/>
            <a:chExt cx="2955960" cy="865080"/>
          </a:xfrm>
        </p:grpSpPr>
        <p:pic>
          <p:nvPicPr>
            <p:cNvPr id="651" name="Circular Arrow 21" descr=""/>
            <p:cNvPicPr/>
            <p:nvPr/>
          </p:nvPicPr>
          <p:blipFill>
            <a:blip r:embed="rId8"/>
            <a:stretch/>
          </p:blipFill>
          <p:spPr>
            <a:xfrm>
              <a:off x="3529080" y="6567480"/>
              <a:ext cx="253152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3286080" y="5877000"/>
              <a:ext cx="29559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Circular Arrow 22"/>
          <p:cNvGrpSpPr/>
          <p:nvPr/>
        </p:nvGrpSpPr>
        <p:grpSpPr>
          <a:xfrm>
            <a:off x="1994040" y="3352680"/>
            <a:ext cx="1431720" cy="2846520"/>
            <a:chOff x="1994040" y="3352680"/>
            <a:chExt cx="1431720" cy="2846520"/>
          </a:xfrm>
        </p:grpSpPr>
        <p:pic>
          <p:nvPicPr>
            <p:cNvPr id="654" name="Circular Arrow 22" descr=""/>
            <p:cNvPicPr/>
            <p:nvPr/>
          </p:nvPicPr>
          <p:blipFill>
            <a:blip r:embed="rId9"/>
            <a:stretch/>
          </p:blipFill>
          <p:spPr>
            <a:xfrm>
              <a:off x="1994040" y="4075200"/>
              <a:ext cx="47088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2291040" y="3352680"/>
              <a:ext cx="1134720" cy="25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Circular Arrow 23"/>
          <p:cNvGrpSpPr/>
          <p:nvPr/>
        </p:nvGrpSpPr>
        <p:grpSpPr>
          <a:xfrm>
            <a:off x="2262240" y="1328760"/>
            <a:ext cx="2480760" cy="2096640"/>
            <a:chOff x="2262240" y="1328760"/>
            <a:chExt cx="2480760" cy="2096640"/>
          </a:xfrm>
        </p:grpSpPr>
        <p:pic>
          <p:nvPicPr>
            <p:cNvPr id="657" name="Circular Arrow 23" descr=""/>
            <p:cNvPicPr/>
            <p:nvPr/>
          </p:nvPicPr>
          <p:blipFill>
            <a:blip r:embed="rId10"/>
            <a:stretch/>
          </p:blipFill>
          <p:spPr>
            <a:xfrm>
              <a:off x="2262240" y="1328760"/>
              <a:ext cx="1491840" cy="10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2667600" y="1774440"/>
              <a:ext cx="207540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000160" y="356760"/>
            <a:ext cx="5500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PT Bold Heading"/>
              </a:rPr>
              <a:t>مراحل التصميم التعليمي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split dir="out" orient="vert"/>
    <p:sndAc>
      <p:stSnd>
        <p:snd r:embed="rId11" name="type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" dur="250" autoRev="1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" dur="250" autoRev="1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صورة 4" descr="بوان.bmp"/>
          <p:cNvPicPr/>
          <p:nvPr/>
        </p:nvPicPr>
        <p:blipFill>
          <a:blip r:embed="rId1"/>
          <a:stretch/>
        </p:blipFill>
        <p:spPr>
          <a:xfrm>
            <a:off x="357120" y="500040"/>
            <a:ext cx="8501040" cy="57150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4"/>
          <p:cNvSpPr/>
          <p:nvPr/>
        </p:nvSpPr>
        <p:spPr>
          <a:xfrm>
            <a:off x="684360" y="40464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2071800" y="2786040"/>
            <a:ext cx="4643280" cy="13129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2e1791"/>
                </a:solidFill>
                <a:latin typeface="Arial"/>
                <a:cs typeface="PT Bold Heading"/>
              </a:rPr>
              <a:t>نماذج تصميم التعل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684360" y="40464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428760" y="500040"/>
            <a:ext cx="8215200" cy="228744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e1791"/>
                </a:solidFill>
                <a:latin typeface="Arial"/>
                <a:cs typeface="PT Bold Heading"/>
              </a:rPr>
              <a:t>مكونات احد نماذج تصميم التعلي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e1791"/>
                </a:solidFill>
                <a:latin typeface="Arial"/>
                <a:ea typeface="Majalla UI"/>
              </a:rPr>
              <a:t> </a:t>
            </a:r>
            <a:r>
              <a:rPr b="1" lang="ar-SA" sz="4800" spc="-1" strike="noStrike">
                <a:solidFill>
                  <a:srgbClr val="067009"/>
                </a:solidFill>
                <a:latin typeface="Arial"/>
                <a:ea typeface="Majalla UI"/>
              </a:rPr>
              <a:t>(نموذج ديك وكيري </a:t>
            </a:r>
            <a:r>
              <a:rPr b="1" lang="en-US" sz="4800" spc="-1" strike="noStrike">
                <a:solidFill>
                  <a:srgbClr val="067009"/>
                </a:solidFill>
                <a:latin typeface="Arial"/>
                <a:ea typeface="Majalla UI"/>
              </a:rPr>
              <a:t>(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500040" y="2092320"/>
            <a:ext cx="7920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راحل النموذج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قدير الاحتياجات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التحليل التعليمي ، وتحليل المتعلمين والسياق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كتابة أهداف الأداء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طوير أدوات التقد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طوير الإستراتيجية التعليمي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طوير واختيار المواد التعليمي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صميم التقويم التكويني وتنفيذ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ـ تصميم التقويم الإجمالي وتنفيذ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type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Rectangle 2" descr=""/>
          <p:cNvPicPr/>
          <p:nvPr/>
        </p:nvPicPr>
        <p:blipFill>
          <a:blip r:embed="rId1"/>
          <a:stretch/>
        </p:blipFill>
        <p:spPr>
          <a:xfrm>
            <a:off x="1042920" y="-6480"/>
            <a:ext cx="3211560" cy="81756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34"/>
          <p:cNvSpPr/>
          <p:nvPr/>
        </p:nvSpPr>
        <p:spPr>
          <a:xfrm>
            <a:off x="3135240" y="76032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تحديد الأهداف السلوك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35"/>
          <p:cNvSpPr/>
          <p:nvPr/>
        </p:nvSpPr>
        <p:spPr>
          <a:xfrm>
            <a:off x="4216320" y="1623960"/>
            <a:ext cx="1656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مه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36"/>
          <p:cNvSpPr/>
          <p:nvPr/>
        </p:nvSpPr>
        <p:spPr>
          <a:xfrm>
            <a:off x="6303960" y="1623960"/>
            <a:ext cx="1655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معر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7"/>
          <p:cNvSpPr/>
          <p:nvPr/>
        </p:nvSpPr>
        <p:spPr>
          <a:xfrm>
            <a:off x="2055960" y="1623960"/>
            <a:ext cx="1655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وجدا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8"/>
          <p:cNvSpPr/>
          <p:nvPr/>
        </p:nvSpPr>
        <p:spPr>
          <a:xfrm>
            <a:off x="5008680" y="13352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9"/>
          <p:cNvSpPr/>
          <p:nvPr/>
        </p:nvSpPr>
        <p:spPr>
          <a:xfrm>
            <a:off x="6377040" y="1335240"/>
            <a:ext cx="86364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0"/>
          <p:cNvSpPr/>
          <p:nvPr/>
        </p:nvSpPr>
        <p:spPr>
          <a:xfrm flipH="1">
            <a:off x="2703240" y="1335240"/>
            <a:ext cx="43164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41"/>
          <p:cNvSpPr/>
          <p:nvPr/>
        </p:nvSpPr>
        <p:spPr>
          <a:xfrm>
            <a:off x="3352680" y="2416320"/>
            <a:ext cx="3313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اختيار موضوع الد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2"/>
          <p:cNvSpPr/>
          <p:nvPr/>
        </p:nvSpPr>
        <p:spPr>
          <a:xfrm flipH="1">
            <a:off x="6663960" y="2200320"/>
            <a:ext cx="36036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3"/>
          <p:cNvSpPr/>
          <p:nvPr/>
        </p:nvSpPr>
        <p:spPr>
          <a:xfrm>
            <a:off x="2847960" y="2127240"/>
            <a:ext cx="504720" cy="649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44"/>
          <p:cNvSpPr/>
          <p:nvPr/>
        </p:nvSpPr>
        <p:spPr>
          <a:xfrm>
            <a:off x="3352680" y="327960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التقدير المبدئي للتلمي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5"/>
          <p:cNvSpPr/>
          <p:nvPr/>
        </p:nvSpPr>
        <p:spPr>
          <a:xfrm>
            <a:off x="5008680" y="29923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46"/>
          <p:cNvSpPr/>
          <p:nvPr/>
        </p:nvSpPr>
        <p:spPr>
          <a:xfrm>
            <a:off x="3352680" y="407196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3399"/>
                </a:solidFill>
                <a:latin typeface="Verdana"/>
                <a:cs typeface="Akhbar MT"/>
              </a:rPr>
              <a:t>وضع استراتيجية التدري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7"/>
          <p:cNvSpPr/>
          <p:nvPr/>
        </p:nvSpPr>
        <p:spPr>
          <a:xfrm>
            <a:off x="5008680" y="37846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8"/>
          <p:cNvSpPr/>
          <p:nvPr/>
        </p:nvSpPr>
        <p:spPr>
          <a:xfrm>
            <a:off x="5079960" y="46483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9"/>
          <p:cNvSpPr/>
          <p:nvPr/>
        </p:nvSpPr>
        <p:spPr>
          <a:xfrm>
            <a:off x="4863960" y="46483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50"/>
          <p:cNvSpPr/>
          <p:nvPr/>
        </p:nvSpPr>
        <p:spPr>
          <a:xfrm>
            <a:off x="471600" y="4935600"/>
            <a:ext cx="8497800" cy="13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1"/>
          <p:cNvSpPr/>
          <p:nvPr/>
        </p:nvSpPr>
        <p:spPr>
          <a:xfrm>
            <a:off x="7456320" y="5008680"/>
            <a:ext cx="136080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ختي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خب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52"/>
          <p:cNvSpPr/>
          <p:nvPr/>
        </p:nvSpPr>
        <p:spPr>
          <a:xfrm>
            <a:off x="5792760" y="5008680"/>
            <a:ext cx="136044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ختي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واستخد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أجه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53"/>
          <p:cNvSpPr/>
          <p:nvPr/>
        </p:nvSpPr>
        <p:spPr>
          <a:xfrm>
            <a:off x="3879720" y="5008680"/>
            <a:ext cx="136044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عد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امكا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4"/>
          <p:cNvSpPr/>
          <p:nvPr/>
        </p:nvSpPr>
        <p:spPr>
          <a:xfrm>
            <a:off x="2136600" y="5008680"/>
            <a:ext cx="136080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تنويع أنما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تجمع التلام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55"/>
          <p:cNvSpPr/>
          <p:nvPr/>
        </p:nvSpPr>
        <p:spPr>
          <a:xfrm>
            <a:off x="550800" y="5008680"/>
            <a:ext cx="1360440" cy="12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تحديد د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مدر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والتلمي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57"/>
          <p:cNvSpPr/>
          <p:nvPr/>
        </p:nvSpPr>
        <p:spPr>
          <a:xfrm>
            <a:off x="1928880" y="6286680"/>
            <a:ext cx="4824360" cy="40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3399"/>
                </a:solidFill>
                <a:latin typeface="Verdana"/>
                <a:cs typeface="Akhbar MT"/>
              </a:rPr>
              <a:t>التقي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76"/>
          <p:cNvGrpSpPr/>
          <p:nvPr/>
        </p:nvGrpSpPr>
        <p:grpSpPr>
          <a:xfrm>
            <a:off x="316080" y="833400"/>
            <a:ext cx="2818800" cy="5710320"/>
            <a:chOff x="316080" y="833400"/>
            <a:chExt cx="2818800" cy="5710320"/>
          </a:xfrm>
        </p:grpSpPr>
        <p:sp>
          <p:nvSpPr>
            <p:cNvPr id="691" name="Freeform 60"/>
            <p:cNvSpPr/>
            <p:nvPr/>
          </p:nvSpPr>
          <p:spPr>
            <a:xfrm>
              <a:off x="316080" y="6541920"/>
              <a:ext cx="1653840" cy="18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1"/>
            <p:cNvSpPr/>
            <p:nvPr/>
          </p:nvSpPr>
          <p:spPr>
            <a:xfrm>
              <a:off x="402840" y="880920"/>
              <a:ext cx="1440" cy="56181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2"/>
            <p:cNvSpPr/>
            <p:nvPr/>
          </p:nvSpPr>
          <p:spPr>
            <a:xfrm>
              <a:off x="402840" y="833400"/>
              <a:ext cx="2732040" cy="468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77"/>
          <p:cNvGrpSpPr/>
          <p:nvPr/>
        </p:nvGrpSpPr>
        <p:grpSpPr>
          <a:xfrm>
            <a:off x="6735600" y="6305400"/>
            <a:ext cx="1728720" cy="214200"/>
            <a:chOff x="6735600" y="6305400"/>
            <a:chExt cx="1728720" cy="214200"/>
          </a:xfrm>
        </p:grpSpPr>
        <p:sp>
          <p:nvSpPr>
            <p:cNvPr id="695" name="Line 63"/>
            <p:cNvSpPr/>
            <p:nvPr/>
          </p:nvSpPr>
          <p:spPr>
            <a:xfrm flipH="1">
              <a:off x="6808680" y="6305400"/>
              <a:ext cx="792000" cy="7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64"/>
            <p:cNvSpPr/>
            <p:nvPr/>
          </p:nvSpPr>
          <p:spPr>
            <a:xfrm flipH="1">
              <a:off x="6735600" y="6305400"/>
              <a:ext cx="1728720" cy="21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9"/>
          <p:cNvGrpSpPr/>
          <p:nvPr/>
        </p:nvGrpSpPr>
        <p:grpSpPr>
          <a:xfrm>
            <a:off x="1479240" y="1049400"/>
            <a:ext cx="1873440" cy="1655640"/>
            <a:chOff x="1479240" y="1049400"/>
            <a:chExt cx="1873440" cy="1655640"/>
          </a:xfrm>
        </p:grpSpPr>
        <p:sp>
          <p:nvSpPr>
            <p:cNvPr id="698" name="Line 65"/>
            <p:cNvSpPr/>
            <p:nvPr/>
          </p:nvSpPr>
          <p:spPr>
            <a:xfrm flipH="1">
              <a:off x="1479240" y="1049400"/>
              <a:ext cx="165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66"/>
            <p:cNvSpPr/>
            <p:nvPr/>
          </p:nvSpPr>
          <p:spPr>
            <a:xfrm>
              <a:off x="1479600" y="1049400"/>
              <a:ext cx="0" cy="863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67"/>
            <p:cNvSpPr/>
            <p:nvPr/>
          </p:nvSpPr>
          <p:spPr>
            <a:xfrm>
              <a:off x="1479600" y="191268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68"/>
            <p:cNvSpPr/>
            <p:nvPr/>
          </p:nvSpPr>
          <p:spPr>
            <a:xfrm>
              <a:off x="1479600" y="2705040"/>
              <a:ext cx="187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70"/>
          <p:cNvGrpSpPr/>
          <p:nvPr/>
        </p:nvGrpSpPr>
        <p:grpSpPr>
          <a:xfrm>
            <a:off x="6448320" y="1049040"/>
            <a:ext cx="1873440" cy="1655640"/>
            <a:chOff x="6448320" y="1049040"/>
            <a:chExt cx="1873440" cy="1655640"/>
          </a:xfrm>
        </p:grpSpPr>
        <p:sp>
          <p:nvSpPr>
            <p:cNvPr id="703" name="Line 71"/>
            <p:cNvSpPr/>
            <p:nvPr/>
          </p:nvSpPr>
          <p:spPr>
            <a:xfrm>
              <a:off x="6665760" y="2704680"/>
              <a:ext cx="165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72"/>
            <p:cNvSpPr/>
            <p:nvPr/>
          </p:nvSpPr>
          <p:spPr>
            <a:xfrm flipV="1">
              <a:off x="8321760" y="1841400"/>
              <a:ext cx="0" cy="863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73"/>
            <p:cNvSpPr/>
            <p:nvPr/>
          </p:nvSpPr>
          <p:spPr>
            <a:xfrm flipV="1">
              <a:off x="8321760" y="104940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74"/>
            <p:cNvSpPr/>
            <p:nvPr/>
          </p:nvSpPr>
          <p:spPr>
            <a:xfrm flipH="1">
              <a:off x="6448320" y="104904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Line 75"/>
          <p:cNvSpPr/>
          <p:nvPr/>
        </p:nvSpPr>
        <p:spPr>
          <a:xfrm>
            <a:off x="4935600" y="22003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type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6:35:52Z</dcterms:created>
  <dc:creator>pc</dc:creator>
  <dc:description/>
  <dc:language>en-US</dc:language>
  <cp:lastModifiedBy>Nistiz PC76</cp:lastModifiedBy>
  <dcterms:modified xsi:type="dcterms:W3CDTF">2015-02-14T11:10:12Z</dcterms:modified>
  <cp:revision>125</cp:revision>
  <dc:subject/>
  <dc:title>الشريحة 1</dc:title>
</cp:coreProperties>
</file>