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37ED-8282-4CC7-80B5-32FA278E23B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ABD8-57C9-403F-8A19-63B73E09AA1F}"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385F7-BFEA-4A3C-9D05-C60F184A0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3AD37-33DA-4191-AE0C-0D179D4D7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3D04AC-2F55-455A-B0F6-332CA2EEE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BCB64-85D0-41C2-8FB9-8D8451105A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CA5B81-B36D-4E77-A05A-E1B4985AA1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4E0F38-3FED-45D0-8F7B-A80B622084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B57B5B-279F-485A-B604-5E83D3BB6A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B7A339-CD11-42F8-B098-BCB7E1E5E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4B0C47-CA7D-4CAE-BA59-9386DF329A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92F3FF-8DBF-4D5A-B956-77E6689B57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6C30BD-036C-4DFF-AFB4-914A47C8D8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EADBFF-F9ED-4D7D-8F45-51DD8F4798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62DF8-347A-4876-B5E2-26E78FC97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75F9B8-C0B5-4388-B5B9-18482022FD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5AFFAD-FF58-4994-966E-E1CE47791B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FBC396-126F-42B4-A3F0-AEE602FE16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F9B129-FA12-4F17-A219-8944C81018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97D6B1-091F-4A11-9322-BBEA8A3BDB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9A5965-5D47-4126-8BB8-CBDEB5545F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0FB704-A266-4AC7-9236-AE14FD36D2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EA57EC-E4E0-4BDC-A642-E8BBB9F999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1DFD1F-487D-4878-A127-0DC93EBFA5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4DB2A9-38D8-4EC6-AA87-17AC9C2843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83CD9-5FD0-447B-8500-416E0FCBC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11231C-B927-4D08-B875-4561465B52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CDF12-E0D1-42C8-A1CF-D2F762C1E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F4430-150B-433F-B41A-1A91F4597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E71BB-B6C0-4853-9405-A0E6F50B6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FC138-B7E6-4BA7-813E-7F6853AF8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CDC2C-989B-465C-A469-A8A350A80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5D4A5-EF61-49F5-BF15-CA7DDD96C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156F2-9359-4943-A41A-02823C916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E0E6-7B15-45D7-BD52-08B2CDF4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85D4D-E765-4B78-8DAB-FA07D3900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6FE48-04F1-4108-A392-F250943EB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65585-84DB-48B1-AFA0-42425DEBE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AEE4B-D4AC-4B9F-B78A-F39CBE6C8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DC8C8-FD05-41AB-8512-C7F5229CA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4A8849-0A5E-47B6-9EF3-A3452ECD1C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CCB95-F1F1-4F93-9BC0-64C07C9D4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8F7FD9-BFEE-4743-B153-30EAC74C0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2264C-2C24-43E2-BD99-5A461230D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DCE05-F89D-4A6B-BD07-FC435178A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7FAF5-C7AE-42E4-B478-7239B6B2C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364B0-7EC4-4307-AD32-2E0C9F78FE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BF302-3A47-4624-94BA-1E963067F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D74E3-684F-4B5A-8AC4-F2B9A2A5A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037B6-D8D7-488D-87C2-8D9E44326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B1200-91EC-4619-86F6-A4C1471E4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91BAEC-4BD0-4CEB-86B0-24866644A7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A1F6E3-A098-464D-A13D-92BC47560F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A8EE7-7A4E-44CF-A645-26211967A6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5D39C6-55AB-4279-B82E-DF05E8815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C17F4-7684-4CA3-A5A2-678C3CAAC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C7F07-DA73-4C09-98A6-36BC1AB6D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0B93B-E81C-41CA-A1AF-AD8AC4053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32E4E7-E3A7-4A43-98E9-9C5311FD08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2EBE2-5AFD-4BB1-984F-88328406A2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6455C-A97C-49EA-AECB-34E4C86DC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AE5BA-696F-409F-971E-3886BB96C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72ED7-E35A-4012-A9E0-3D84A79CD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FD1B08-A983-4E8F-B4ED-AC7245243A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723F16-190C-49CD-B83C-CD58EE35F9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7DBDF1-C6C6-4EA0-A8A7-A9B7950CD3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5E2929-11A1-4B8F-963A-C031A82FB4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BB2B7-1A09-45E7-92D0-19EFBD55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9E346-452A-4794-88AF-F0379ED6A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24972E-3CAB-4B7F-A40C-CAF07E929D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B6860F-7BCA-4B69-AED9-FF10DAE472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0DA1F1-6B61-4E98-AFA0-10CF338BC5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C04EA9-FA41-432A-A88C-C806F6648E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FFDA64-A89D-40A6-B89F-BBF901841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219D75-A884-46E1-9571-3F5E5530C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52976-6343-47DC-9B40-143A43B70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6A4474-C951-4D17-BD4D-860A7B904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4C767C-E3D5-47DE-8B2E-1E393F69DB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B7C2C-305C-46DC-BB90-68E056EA5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BEEA51-09AB-44A8-97CA-9823CD1E05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400187-2291-4760-A5BA-CC2DDFC2C7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89B6DA-4841-4B25-8076-5BCAAE33B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4EA2D-E848-49C5-8700-41252555DB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10271-FB3A-4795-B47F-D87D7B5716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988374-012F-47A4-836E-247BC312A0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7CF5E-EE41-46ED-BC1B-3B3DD9CBC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78391-05DA-4901-A3AE-CC9317B4F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EBE00-27E2-4213-9CF0-68B272B0F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ED72D-62AE-49A9-9809-99018C2CE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C2B7-609C-441D-B694-5A12207C0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5C2EA6-4378-4021-8A0C-6C0DF2A6A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3C91D9-9448-4306-9B18-B3EDF95D69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B3A62E-80F6-4DEC-ADBC-5F98CEC2B2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6D7386-CEFB-4474-BAC2-5C8B478D66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76AABD-2222-4D97-83F0-A44D8F043F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FB6E57-C2AC-433A-9C47-CA5799E1AD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595CEC-7C9C-4CFA-9161-3DE4DF87C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50BFCB-58D0-4587-B049-71721D9100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B6F3E4-75C2-49F9-B043-BAB61C7E21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F30F3-23DD-48F4-9BD8-F60897BF7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FBD05-18A3-4C10-B267-58E11AB9C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BAB3D-1B1F-4007-9BDD-3A499F975D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9916B-453C-4082-98DF-A152ACF97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A6351-42B1-42FD-8575-C8DEDA46EE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8C5515-E5E0-451F-8D4D-06C1A22909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6A18DA-823A-4C81-BBDA-A1C2F7A4A9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8A4259-2CAF-4093-B381-B2F5827048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BC6F44-8CBC-4361-BD35-F89D313F27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D54369-9A04-4706-BED3-D98F6908A3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581745-CE5D-4F93-AFD0-DF92ABDA0F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95B228-7954-4BAC-BC4C-ADB991F89A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66D4-447A-40CC-A14C-FAEF86C5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026550-DC45-4699-B77E-67D53E4F8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86D574-A414-4173-9F9A-02359D8C3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1265CA-33E6-4862-8C64-D34843D301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D3405F-75C7-49A7-AA75-F0C0CA0D53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24DFD-BD97-4C8A-B325-EA27C3D32F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C4F30B-523A-4D7E-BD6E-4EF9BA6DAE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ADF826-852A-46BB-A513-D14829CE9F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11736D-EC68-4D9D-A236-B399D41792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CC03F1-1435-47AC-8E5C-0E2F32E77F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262672-2F78-4E0A-9698-A3131B847D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B1B4-B691-4ADA-8DD9-58F36F34B8B3}" type="datetime">
              <a:rPr b="0" lang="en-GB"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1A34-6FE5-400F-966D-ECEAE159ACF3}"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56D5-7ACA-4C5F-8983-80DB1562AB28}"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853D-57BE-444C-BB8B-C25228140CB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0F88-13E0-47CF-AAFA-68F90BC9CAAB}"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FE14-5CE9-4DF0-89FF-E124E859465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303D-065A-4F32-95B2-3EA1E330BCED}" type="datetime">
              <a:rPr b="0" lang="en-GB" sz="900" spc="-1" strike="noStrike">
                <a:solidFill>
                  <a:srgbClr val="ffffff"/>
                </a:solidFill>
                <a:latin typeface="Times New Roman"/>
              </a:rPr>
              <a:t>30/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26B4-D242-4C99-8C4D-926A799AA286}"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9C15-D213-470B-BE3C-31E6D0B5AE3A}"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327F-C775-41ED-AF76-9A1ABB8A988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938A-7BDD-424A-910C-1259876CEB05}"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37FF-C7DB-4F8F-BC2C-8F444D1C212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EF3A-D8CD-4288-9084-3EAAABFA0110}"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EAB4-5480-4657-82C4-B97BD227FA4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78E9-D91E-4007-B2B1-29AC3C1817C5}"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E9CC-0F68-43E3-B8DF-53A10FACD71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3254-5FAF-4504-9653-DBE4C176AA4B}"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D046-E6F3-4897-82E1-F23A69ED317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1CEF-00B7-4D5E-9EB0-CB44870121CF}"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E0F1-4B51-4C65-A993-481161C5D22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