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2B4-AF75-4F47-B05F-2233458F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6F6-601A-4177-AD2E-9DF0E6A3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26F-E241-4625-8012-CE0A20C8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83A-1F1E-47AA-806C-9C5705C5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3BD7E-C00A-474A-878C-E903C983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E3C48-EBED-473E-AB29-A64BC11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31973-C4C4-429C-B8A8-CB6560A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888E9-874B-4F3F-AB65-1976477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6A369-309E-494F-BC87-3974D63E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96AA-80C1-43F0-9B7A-712DDBA6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1865C-7907-41AA-979D-C55885F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9AB-29F8-48E5-A686-AA92BB88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9DCC5-3CE2-48FE-B6F4-467EA2C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373BF-5E86-4515-B773-C5655DE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1EFFB-9607-40D6-95C3-FA3FB199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8158-9C9A-4586-9B72-1549647C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624D0-0D2F-4959-84D2-E61DED8C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125-BFE7-446F-B782-C7D057F4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362-7087-49F5-97DD-615A504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D73-9381-4229-BC42-020978E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18F-97AC-4123-BEA5-257866C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5B5-C7E7-4E57-9854-D781BE3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0AB-F1A6-4C22-972C-C17F31E5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F2F-2412-4286-B8AF-5936E6CC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9264-CEAA-4C70-9AC6-FDD4FF0AC6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F4EA-CC92-4597-8C75-E37847F5B65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581120" y="291960"/>
            <a:ext cx="5981760" cy="138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1292400" y="3125880"/>
            <a:ext cx="65592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897200" y="291960"/>
            <a:ext cx="5348160" cy="138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365120" y="3160800"/>
            <a:ext cx="6413760" cy="1601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6413400" cy="176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4"/>
          <a:stretch/>
        </p:blipFill>
        <p:spPr>
          <a:xfrm>
            <a:off x="-252360" y="1916280"/>
            <a:ext cx="90914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Diagram 5"/>
          <p:cNvGrpSpPr/>
          <p:nvPr/>
        </p:nvGrpSpPr>
        <p:grpSpPr>
          <a:xfrm>
            <a:off x="90720" y="2520"/>
            <a:ext cx="8968320" cy="6597360"/>
            <a:chOff x="90720" y="2520"/>
            <a:chExt cx="8968320" cy="65973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2783520" y="2358720"/>
              <a:ext cx="89928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750240" y="97128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تنشيط الانزيمات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محلله للبروتينات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(الحض الاميني التربتوفان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المسارالاول لتخليق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هرمون الاوكسين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2342880" y="3615120"/>
              <a:ext cx="1117440" cy="194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90720" y="314604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أخير الشيخوخه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2056"/>
            <p:cNvSpPr/>
            <p:nvPr/>
          </p:nvSpPr>
          <p:spPr>
            <a:xfrm flipH="1">
              <a:off x="3582000" y="4195440"/>
              <a:ext cx="494640" cy="77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1949040" y="488700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زياده الضغط الاسموز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 في افجوه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 امما يؤدي الى زياده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Arial"/>
                </a:rPr>
                <a:t>الضغط على الجدار الخلوي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2058"/>
            <p:cNvSpPr/>
            <p:nvPr/>
          </p:nvSpPr>
          <p:spPr>
            <a:xfrm>
              <a:off x="5066280" y="4195440"/>
              <a:ext cx="498240" cy="77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4921920" y="4884120"/>
              <a:ext cx="2285640" cy="1713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نشيط تضاعف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 الاحماض النوويه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(الانقسام الميتوزي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>
              <a:off x="5682600" y="3618000"/>
              <a:ext cx="1117440" cy="188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6773400" y="314100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حليل الغذاء المخزن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 في الاندوسبيرم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 flipV="1">
              <a:off x="5464080" y="2358720"/>
              <a:ext cx="89532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2063"/>
            <p:cNvSpPr/>
            <p:nvPr/>
          </p:nvSpPr>
          <p:spPr>
            <a:xfrm>
              <a:off x="6109920" y="968400"/>
              <a:ext cx="2285640" cy="17132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تنشيط النموات القزميه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2064"/>
            <p:cNvSpPr/>
            <p:nvPr/>
          </p:nvSpPr>
          <p:spPr>
            <a:xfrm flipV="1">
              <a:off x="4571640" y="1712880"/>
              <a:ext cx="0" cy="86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2065"/>
            <p:cNvSpPr/>
            <p:nvPr/>
          </p:nvSpPr>
          <p:spPr>
            <a:xfrm>
              <a:off x="3430080" y="2520"/>
              <a:ext cx="2285640" cy="17128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-1" strike="noStrike">
                  <a:solidFill>
                    <a:srgbClr val="ffffff"/>
                  </a:solidFill>
                  <a:latin typeface="Arial"/>
                </a:rPr>
                <a:t>كسر الكمون لدى البذور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2066"/>
            <p:cNvSpPr/>
            <p:nvPr/>
          </p:nvSpPr>
          <p:spPr>
            <a:xfrm>
              <a:off x="3430080" y="2573280"/>
              <a:ext cx="2285640" cy="17128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التاثيرات الفسيولوجيه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لهرمون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GA3</a:t>
              </a:r>
              <a:r>
                <a:rPr b="1" lang="ar-SA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سيتوكنينات</a:t>
            </a:r>
            <a:r>
              <a:rPr b="0" lang="ar-S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</a:rPr>
              <a:t>ينتج في جذورثم تنتقل عبر الخشب إلى الأجزاء العلوية وتعتبر بطيئة الإنتقال مقارنة مقارنة بالأوكسينات والجبرلين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Diagram 5"/>
          <p:cNvGrpSpPr/>
          <p:nvPr/>
        </p:nvGrpSpPr>
        <p:grpSpPr>
          <a:xfrm>
            <a:off x="2249640" y="163440"/>
            <a:ext cx="4585320" cy="6066000"/>
            <a:chOff x="2249640" y="163440"/>
            <a:chExt cx="4585320" cy="6066000"/>
          </a:xfrm>
        </p:grpSpPr>
        <p:sp>
          <p:nvSpPr>
            <p:cNvPr id="112" name="_s3076"/>
            <p:cNvSpPr/>
            <p:nvPr/>
          </p:nvSpPr>
          <p:spPr>
            <a:xfrm flipH="1" flipV="1">
              <a:off x="3407400" y="2924640"/>
              <a:ext cx="5691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3077"/>
            <p:cNvSpPr/>
            <p:nvPr/>
          </p:nvSpPr>
          <p:spPr>
            <a:xfrm>
              <a:off x="2249640" y="185436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تنشيط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الانزيمات التي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تعمل على مرونه الجدر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3078"/>
            <p:cNvSpPr/>
            <p:nvPr/>
          </p:nvSpPr>
          <p:spPr>
            <a:xfrm flipH="1">
              <a:off x="3842640" y="4086720"/>
              <a:ext cx="349920" cy="66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3079"/>
            <p:cNvSpPr/>
            <p:nvPr/>
          </p:nvSpPr>
          <p:spPr>
            <a:xfrm>
              <a:off x="2898000" y="459612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300" spc="-1" strike="noStrike">
                  <a:solidFill>
                    <a:srgbClr val="000000"/>
                  </a:solidFill>
                  <a:latin typeface="Arial"/>
                </a:rPr>
                <a:t>تأخير الشيخوخة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في الأوراق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3080"/>
            <p:cNvSpPr/>
            <p:nvPr/>
          </p:nvSpPr>
          <p:spPr>
            <a:xfrm>
              <a:off x="4890600" y="4086720"/>
              <a:ext cx="351720" cy="663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3081"/>
            <p:cNvSpPr/>
            <p:nvPr/>
          </p:nvSpPr>
          <p:spPr>
            <a:xfrm>
              <a:off x="4997160" y="459612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زوال السياده القميه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_s3082"/>
            <p:cNvSpPr/>
            <p:nvPr/>
          </p:nvSpPr>
          <p:spPr>
            <a:xfrm flipV="1">
              <a:off x="5105880" y="2921760"/>
              <a:ext cx="567720" cy="255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_s3083"/>
            <p:cNvSpPr/>
            <p:nvPr/>
          </p:nvSpPr>
          <p:spPr>
            <a:xfrm>
              <a:off x="5645520" y="1856880"/>
              <a:ext cx="1189440" cy="1632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rial"/>
                </a:rPr>
                <a:t>تنشيط تضاعف 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rial"/>
                </a:rPr>
                <a:t>الاحماض النوويه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_s3084"/>
            <p:cNvSpPr/>
            <p:nvPr/>
          </p:nvSpPr>
          <p:spPr>
            <a:xfrm flipV="1">
              <a:off x="4541400" y="1794240"/>
              <a:ext cx="0" cy="820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3085"/>
            <p:cNvSpPr/>
            <p:nvPr/>
          </p:nvSpPr>
          <p:spPr>
            <a:xfrm>
              <a:off x="3947400" y="163440"/>
              <a:ext cx="1189440" cy="1633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تنشيط انزيم الإنفرتي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الذي يحلل السكر إلى جلكو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وفركتوز وبالتالي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Arial"/>
                </a:rPr>
                <a:t>زيادة الضغط الإسموزي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3086"/>
            <p:cNvSpPr/>
            <p:nvPr/>
          </p:nvSpPr>
          <p:spPr>
            <a:xfrm>
              <a:off x="3947400" y="2614680"/>
              <a:ext cx="1189440" cy="16329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التأثيرات الفسيولوجيه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300" spc="-1" strike="noStrike">
                  <a:solidFill>
                    <a:srgbClr val="000000"/>
                  </a:solidFill>
                  <a:latin typeface="Arial"/>
                </a:rPr>
                <a:t> للسيتوكينيات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8:55:44Z</dcterms:created>
  <dc:creator>aja</dc:creator>
  <dc:description/>
  <dc:language>en-US</dc:language>
  <cp:lastModifiedBy>aja</cp:lastModifiedBy>
  <dcterms:modified xsi:type="dcterms:W3CDTF">2009-01-03T09:29:58Z</dcterms:modified>
  <cp:revision>3</cp:revision>
  <dc:subject/>
  <dc:title>الشريحة 1</dc:title>
</cp:coreProperties>
</file>