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BF5-B241-42DD-977F-42524FB2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AFB-3564-4F81-B8FC-DCD773F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AB7-B5D1-4912-B352-903F7C6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976-44DE-44C1-92BD-405F31F8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E2C2-8F76-472D-B3CC-996ED31E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F7A01-511D-49B4-A8B9-2E836C0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A511-26B1-41B4-873C-DA59BEB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52B2-8039-45E9-9A2B-48673762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D0995-D34D-4F04-8D06-250A0CE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161E5-436C-4B71-888A-F0AEC99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A9F1-BAEA-4096-A322-855F098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E2E-EE4B-4697-9DEA-F2AC5617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AB013-B74E-40D4-8FDD-E9831252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49FAE-EE13-4AA8-8385-006CB14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D6D25-6341-401E-94E0-C7D47535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5AD9-8321-419C-A0F0-C0486B77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EF928-48BB-4C69-932C-B82C9518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F89-877A-4F19-81F3-B6CC8FA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CED-E438-401C-9B33-EEA3CA4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DAD-C561-4BBF-B6A7-7084745A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93B-A9CB-481A-BDB8-0C9F1E1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BEB-7F35-4985-9EC7-CA6A634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3FA-652B-4E49-B7D2-358061B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9BD-1656-433A-B5EC-1732946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DF0-65D9-4582-A926-0EB179B1B1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06F-20C2-44B9-B46C-A1FA7CBB79E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581120" y="291960"/>
            <a:ext cx="5981760" cy="138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292400" y="3125880"/>
            <a:ext cx="65592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897200" y="291960"/>
            <a:ext cx="5348160" cy="138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365120" y="3160800"/>
            <a:ext cx="6413760" cy="160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6413400" cy="176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-252360" y="1916280"/>
            <a:ext cx="90914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90720" y="2520"/>
            <a:ext cx="8968320" cy="6597360"/>
            <a:chOff x="90720" y="2520"/>
            <a:chExt cx="8968320" cy="65973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2783520" y="2358720"/>
              <a:ext cx="89928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750240" y="97128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تنشيط الانزيمات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محلله للبروتينات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(الحض الاميني التربتوفان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المسارالاول لتخليق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هرمون الاوكسين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2342880" y="3615120"/>
              <a:ext cx="1117440" cy="19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90720" y="314604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أخير الشيخوخه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2056"/>
            <p:cNvSpPr/>
            <p:nvPr/>
          </p:nvSpPr>
          <p:spPr>
            <a:xfrm flipH="1">
              <a:off x="3582000" y="4195440"/>
              <a:ext cx="49464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1949040" y="488700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ه الضغط الاسموز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 في افجوه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امما يؤدي الى زياده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ضغط على الجدار الخلو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2058"/>
            <p:cNvSpPr/>
            <p:nvPr/>
          </p:nvSpPr>
          <p:spPr>
            <a:xfrm>
              <a:off x="5066280" y="4195440"/>
              <a:ext cx="49824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4921920" y="4884120"/>
              <a:ext cx="2285640" cy="1713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نشيط تضاعف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الاحماض النوويه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(الانقسام الميتوزي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>
              <a:off x="5682600" y="3618000"/>
              <a:ext cx="1117440" cy="188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6773400" y="314100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حليل الغذاء المخزن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في الاندوسبيرم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 flipV="1">
              <a:off x="5464080" y="2358720"/>
              <a:ext cx="89532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2063"/>
            <p:cNvSpPr/>
            <p:nvPr/>
          </p:nvSpPr>
          <p:spPr>
            <a:xfrm>
              <a:off x="6109920" y="968400"/>
              <a:ext cx="2285640" cy="1713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نشيط النموات القزميه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2064"/>
            <p:cNvSpPr/>
            <p:nvPr/>
          </p:nvSpPr>
          <p:spPr>
            <a:xfrm flipV="1">
              <a:off x="4571640" y="1712880"/>
              <a:ext cx="0" cy="86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2065"/>
            <p:cNvSpPr/>
            <p:nvPr/>
          </p:nvSpPr>
          <p:spPr>
            <a:xfrm>
              <a:off x="3430080" y="252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fffff"/>
                  </a:solidFill>
                  <a:latin typeface="Arial"/>
                </a:rPr>
                <a:t>كسر الكمون لدى البذور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2066"/>
            <p:cNvSpPr/>
            <p:nvPr/>
          </p:nvSpPr>
          <p:spPr>
            <a:xfrm>
              <a:off x="3430080" y="2573280"/>
              <a:ext cx="2285640" cy="1712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التاثيرات الفسيولوجيه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لهرمون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GA3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سيتوكنينات</a:t>
            </a:r>
            <a:r>
              <a:rPr b="0" lang="ar-S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ينتج في جذورثم تنتقل عبر الخشب إلى الأجزاء العلوية وتعتبر بطيئة الإنتقال مقارنة مقارنة بالأوكسينات والجبر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Diagram 5"/>
          <p:cNvGrpSpPr/>
          <p:nvPr/>
        </p:nvGrpSpPr>
        <p:grpSpPr>
          <a:xfrm>
            <a:off x="2249640" y="163440"/>
            <a:ext cx="4585320" cy="6066000"/>
            <a:chOff x="2249640" y="163440"/>
            <a:chExt cx="4585320" cy="6066000"/>
          </a:xfrm>
        </p:grpSpPr>
        <p:sp>
          <p:nvSpPr>
            <p:cNvPr id="112" name="_s3076"/>
            <p:cNvSpPr/>
            <p:nvPr/>
          </p:nvSpPr>
          <p:spPr>
            <a:xfrm flipH="1" flipV="1">
              <a:off x="3407400" y="2924640"/>
              <a:ext cx="5691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3077"/>
            <p:cNvSpPr/>
            <p:nvPr/>
          </p:nvSpPr>
          <p:spPr>
            <a:xfrm>
              <a:off x="2249640" y="185436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تنشيط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الانزيمات التي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تعمل على مرونه الجدر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3078"/>
            <p:cNvSpPr/>
            <p:nvPr/>
          </p:nvSpPr>
          <p:spPr>
            <a:xfrm flipH="1">
              <a:off x="3842640" y="4086720"/>
              <a:ext cx="349920" cy="66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3079"/>
            <p:cNvSpPr/>
            <p:nvPr/>
          </p:nvSpPr>
          <p:spPr>
            <a:xfrm>
              <a:off x="2898000" y="459612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300" spc="-1" strike="noStrike">
                  <a:solidFill>
                    <a:srgbClr val="000000"/>
                  </a:solidFill>
                  <a:latin typeface="Arial"/>
                </a:rPr>
                <a:t>تأخير الشيخوخة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في الأوراق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3080"/>
            <p:cNvSpPr/>
            <p:nvPr/>
          </p:nvSpPr>
          <p:spPr>
            <a:xfrm>
              <a:off x="4890600" y="4086720"/>
              <a:ext cx="351720" cy="663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3081"/>
            <p:cNvSpPr/>
            <p:nvPr/>
          </p:nvSpPr>
          <p:spPr>
            <a:xfrm>
              <a:off x="4997160" y="459612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زوال السياده القم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_s3082"/>
            <p:cNvSpPr/>
            <p:nvPr/>
          </p:nvSpPr>
          <p:spPr>
            <a:xfrm flipV="1">
              <a:off x="5105880" y="2921760"/>
              <a:ext cx="567720" cy="255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_s3083"/>
            <p:cNvSpPr/>
            <p:nvPr/>
          </p:nvSpPr>
          <p:spPr>
            <a:xfrm>
              <a:off x="5645520" y="1856880"/>
              <a:ext cx="1189440" cy="1632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rial"/>
                </a:rPr>
                <a:t>تنشيط تضاعف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rial"/>
                </a:rPr>
                <a:t>الاحماض النوو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_s3084"/>
            <p:cNvSpPr/>
            <p:nvPr/>
          </p:nvSpPr>
          <p:spPr>
            <a:xfrm flipV="1">
              <a:off x="4541400" y="1794240"/>
              <a:ext cx="0" cy="82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3085"/>
            <p:cNvSpPr/>
            <p:nvPr/>
          </p:nvSpPr>
          <p:spPr>
            <a:xfrm>
              <a:off x="3947400" y="16344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تنشيط انزيم الإنفرتي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الذي يحلل السكر إلى جلكو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وفركتوز وبالتالي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زيادة الضغط الإسموزي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3086"/>
            <p:cNvSpPr/>
            <p:nvPr/>
          </p:nvSpPr>
          <p:spPr>
            <a:xfrm>
              <a:off x="3947400" y="2614680"/>
              <a:ext cx="1189440" cy="16329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التأثيرات الفسيولوج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 للسيتوكينيات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8:55:44Z</dcterms:created>
  <dc:creator>aja</dc:creator>
  <dc:description/>
  <dc:language>en-US</dc:language>
  <cp:lastModifiedBy>aja</cp:lastModifiedBy>
  <dcterms:modified xsi:type="dcterms:W3CDTF">2009-01-03T09:29:58Z</dcterms:modified>
  <cp:revision>3</cp:revision>
  <dc:subject/>
  <dc:title>الشريحة 1</dc:title>
</cp:coreProperties>
</file>